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0288588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ABB-B45C-4BE1-8D8B-063D18CD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876-7AC2-45DE-90DC-EF0EB625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AE4-1273-4230-9105-763CC468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0225-3C38-4CE0-B59F-7B505AC3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97F-29AB-444A-8F49-CE728A22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82E-AFB3-4095-A8B6-0E7434D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D15-C2FF-4327-B87E-2ED664F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154-4327-4584-BFEF-549A1212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828-5E3B-49E9-904E-AAFE0705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63E-E8C6-4D4C-80E0-8C96DCAD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8F2-BFC4-47C6-81F1-50B1400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9E4-8247-4C9F-BA31-BC647103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530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2713-DAC1-4768-8836-534B825FD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nh.org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914040"/>
            <a:ext cx="933444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"/>
              </a:rPr>
              <a:t>Use of Information Technology for Precision Performance Measurement and Focused Quality Improvement</a:t>
            </a: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2971800"/>
            <a:ext cx="9448560" cy="143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vid W. Baker, MD M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ef, General Internal Medic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inberg School of Medicine, Northwester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29080" y="50734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AHRQ Annual Conference September 9</a:t>
            </a:r>
            <a:r>
              <a:rPr b="1" lang="en-US" sz="2800" spc="-1" strike="noStrike" baseline="30000">
                <a:solidFill>
                  <a:srgbClr val="fafd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, 200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57480" y="5335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PQUAL Study Team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560" y="1676160"/>
            <a:ext cx="8610480" cy="3429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ve Baker, Steve Persell, Janu Khandekar, Russell Robertson, Tom Gavagan, Nancy Dola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ren Kaiser, Dale Sanders, Tom Smith, Steve Smith, Sue Levi, et al from ENH I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on Thomp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isha Friesem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48440" y="4952880"/>
            <a:ext cx="1682640" cy="1623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Evanston Northwestern Healthca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28880" y="5410080"/>
            <a:ext cx="49147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7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PQUAL—Component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7480" y="1557360"/>
            <a:ext cx="7891200" cy="4843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dit and feedback to physicia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int of care alerts for quality measures which are not satis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easy review and ord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documentation of medical and patient reasons for not ord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ical and patient reasons sent to care manager and member of quality committ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hly feedback on individual patients not receiving essential medication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3280" y="457200"/>
            <a:ext cx="6286320" cy="944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Quality Measures (18)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8520" y="1465200"/>
            <a:ext cx="4190760" cy="505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platelet therap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pid lower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a blocker-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/ARB-CHD+D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a blocker-LV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E/ARB-LVS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icoagulation-AFI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pertension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81320" y="1432080"/>
            <a:ext cx="5143320" cy="4983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be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A1c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DL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 pressure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phropathy screen/tr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pirin primary prev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ventive c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mm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vical cancer scre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on cancer scre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neumonia vaccin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≥65 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steoporosis screen/tr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1980720"/>
            <a:ext cx="9258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Best Practice Alert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9760" y="2133360"/>
            <a:ext cx="9258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Physician Sees Patient Who Needs Testing or Treatment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36296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362960" cy="6919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019240" y="2666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19240" y="380988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19240" y="4648320"/>
            <a:ext cx="3812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33640" y="514836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4680" y="0"/>
            <a:ext cx="10362960" cy="6919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029880" y="55627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0280" y="685800"/>
            <a:ext cx="8743680" cy="900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Problem 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1676160"/>
            <a:ext cx="8381880" cy="446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We want to routinely measure quality of care for </a:t>
            </a:r>
            <a:r>
              <a:rPr b="1" lang="en-US" sz="2800" spc="-1" strike="noStrike" u="sng">
                <a:solidFill>
                  <a:srgbClr val="ffffef"/>
                </a:solidFill>
                <a:uFillTx/>
                <a:latin typeface="Arial"/>
                <a:ea typeface="Times New Roman"/>
              </a:rPr>
              <a:t>dozens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of measures in outpatient practice and use this information to improve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Cost of chart abstraction problem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Administrative (claims) data inaccu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Need to capture </a:t>
            </a:r>
            <a:r>
              <a:rPr b="1" i="1" lang="en-US" sz="2800" spc="-1" strike="noStrike" u="sng">
                <a:solidFill>
                  <a:srgbClr val="ffffef"/>
                </a:solidFill>
                <a:uFillTx/>
                <a:latin typeface="Arial"/>
                <a:ea typeface="Times New Roman"/>
              </a:rPr>
              <a:t>medical</a:t>
            </a:r>
            <a:r>
              <a:rPr b="1" i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and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ffffef"/>
                </a:solidFill>
                <a:uFillTx/>
                <a:latin typeface="Arial"/>
                <a:ea typeface="Times New Roman"/>
              </a:rPr>
              <a:t>patient 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reasons for not achieving a quality meas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219640" y="1676520"/>
            <a:ext cx="61920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314440" y="2819520"/>
            <a:ext cx="3600720" cy="53316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4876920"/>
            <a:ext cx="3600360" cy="685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6960" y="1995120"/>
            <a:ext cx="82296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hysician Sees Patient Who Cannot Afford Medic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7191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24160" y="512460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58280" cy="7210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686640" y="5348160"/>
            <a:ext cx="533160" cy="0"/>
          </a:xfrm>
          <a:prstGeom prst="line">
            <a:avLst/>
          </a:prstGeom>
          <a:ln w="47520">
            <a:solidFill>
              <a:srgbClr val="0034d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58280" cy="7210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86640" y="5348160"/>
            <a:ext cx="533160" cy="0"/>
          </a:xfrm>
          <a:prstGeom prst="line">
            <a:avLst/>
          </a:prstGeom>
          <a:ln w="47520">
            <a:solidFill>
              <a:srgbClr val="0034dc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86680" y="536256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10344240" cy="7397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986680" y="548640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57120" y="2071440"/>
            <a:ext cx="7833960" cy="21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ach week, care manager receives list of patients who refuse or cannot afford a recommended test or procedure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→ outreach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3400" y="2037960"/>
            <a:ext cx="874872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hysician Sees Patient Who S/he Thinks Has Contraindication to Medication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43080" y="-228600"/>
            <a:ext cx="1097316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48040" y="449568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533160"/>
            <a:ext cx="874368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he Solution?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04480" y="1600200"/>
            <a:ext cx="8153640" cy="457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57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EHR systems have the </a:t>
            </a:r>
            <a:r>
              <a:rPr b="1" i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potential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 to routinely measure quality with a high accura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Denominator (if diagnoses entered…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Numerator (e.g., satisfied measure): meds, screening tests, blood pressure, et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1576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  <a:ea typeface="Times New Roman"/>
              </a:rPr>
              <a:t>Exceptions: diagnoses, allergies, lab abnormal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1349"/>
              </a:spcBef>
              <a:buClr>
                <a:srgbClr val="faf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Times New Roman"/>
              </a:rPr>
              <a:t>But most EHRS do not have adequate tools to routinely capture medical and patient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343080" y="-228600"/>
            <a:ext cx="1097316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48040" y="4495680"/>
            <a:ext cx="533520" cy="0"/>
          </a:xfrm>
          <a:prstGeom prst="line">
            <a:avLst/>
          </a:prstGeom>
          <a:ln w="4752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2040" y="2057400"/>
            <a:ext cx="7315200" cy="228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Each week, physician reviewer receives list of patients who had a medical exception entered and reviews the chart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0120" y="1599840"/>
            <a:ext cx="9344160" cy="2514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Display of Medical and Patient Reasons for Not Meeting Goals for Chronic Condit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28880" y="4343400"/>
            <a:ext cx="4724280" cy="1219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8160" y="1890360"/>
            <a:ext cx="830592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4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Preserving Physician Judgment:</a:t>
            </a:r>
            <a:br>
              <a:rPr sz="4000"/>
            </a:br>
            <a:br>
              <a:rPr sz="1400"/>
            </a:b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emoving Patients from QI Registries with “Global Exeptions”</a:t>
            </a:r>
            <a:endParaRPr b="0" lang="en-US" sz="3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343080" y="-228600"/>
            <a:ext cx="1097316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4440" y="5181480"/>
            <a:ext cx="5486400" cy="68580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320" y="1752120"/>
            <a:ext cx="9343800" cy="2514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Improving Quality for the Unseen Patient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7800" y="456840"/>
            <a:ext cx="8381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Arial"/>
              </a:rPr>
              <a:t>Monthly List of Patients Sent to MD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09720" y="1614600"/>
            <a:ext cx="676296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r: Marcus Welby, M. 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MR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DO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, JA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391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/1/5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antiplatelet drug for CH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AN, D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9966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/4/37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beta blocker for prior 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ACE/ARB for CHD with D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ITH, ZORRO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978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/3/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 antiplatelet drug for CH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3600" y="22856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Preliminary Results from First Three Months of UPQUAL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102870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7429680" y="1219320"/>
            <a:ext cx="0" cy="4724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609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6240" y="63244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9084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dc"/>
                </a:solidFill>
                <a:latin typeface="Arial"/>
              </a:rPr>
              <a:t>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44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90440" y="-127080"/>
            <a:ext cx="10667880" cy="729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24360" y="0"/>
            <a:ext cx="2819520" cy="533520"/>
          </a:xfrm>
          <a:prstGeom prst="rect">
            <a:avLst/>
          </a:prstGeom>
          <a:solidFill>
            <a:srgbClr val="e9edef"/>
          </a:solidFill>
          <a:ln w="12600">
            <a:solidFill>
              <a:srgbClr val="e9e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360" y="0"/>
            <a:ext cx="944892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4dc"/>
                </a:solidFill>
                <a:latin typeface="Arial"/>
              </a:rPr>
              <a:t>EHR Facilitates Quality Measur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0" y="0"/>
          <a:ext cx="102870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2870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429680" y="1371600"/>
            <a:ext cx="0" cy="46483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160" y="64184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2040" y="63244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(mo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52960" y="6324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n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76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4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Summary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1520" y="196704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quality measurement can be built into physician work 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ptions to quality measures can be used to drive focused QI activ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te quality measurement can inform the care of an entire panel of patients (both seen and unsee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1120" y="2130120"/>
            <a:ext cx="874404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ccuracy of Quality Measurement Using Only EHRS Data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ompared to Physician Review</a:t>
            </a:r>
            <a:endParaRPr b="0" lang="en-US" sz="4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440" y="51814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ersell SD, et al, Arch Intern Med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aker DW et al, Ann Intern Med 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7960" y="1755720"/>
          <a:ext cx="9507240" cy="4782960"/>
        </p:xfrm>
        <a:graphic>
          <a:graphicData uri="http://schemas.openxmlformats.org/drawingml/2006/table">
            <a:tbl>
              <a:tblPr/>
              <a:tblGrid>
                <a:gridCol w="4106880"/>
                <a:gridCol w="2057400"/>
                <a:gridCol w="1869840"/>
                <a:gridCol w="1473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Quality mea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Automate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After MD review 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Percent chang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1. Antiplatelet dru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afd00"/>
                          </a:solidFill>
                          <a:latin typeface="Arial"/>
                          <a:ea typeface="Times New Roman"/>
                        </a:rPr>
                        <a:t>+ 1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2. Lipid lowering dru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9933"/>
                          </a:solidFill>
                          <a:latin typeface="Arial"/>
                          <a:ea typeface="Times New Roman"/>
                        </a:rPr>
                        <a:t>+ 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3. Beta blocker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afd00"/>
                          </a:solidFill>
                          <a:latin typeface="Arial"/>
                          <a:ea typeface="Times New Roman"/>
                        </a:rPr>
                        <a:t>+ 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4. BP measured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+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5. Lipid measuremen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afd00"/>
                          </a:solidFill>
                          <a:latin typeface="Arial"/>
                          <a:ea typeface="Times New Roman"/>
                        </a:rPr>
                        <a:t>+ 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6. LDL contro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+ 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7. ACE inhibitor</a:t>
                      </a: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ef"/>
                          </a:solidFill>
                          <a:latin typeface="Arial"/>
                          <a:ea typeface="Times New Roman"/>
                        </a:rPr>
                        <a:t>+ 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28880" y="358920"/>
            <a:ext cx="8380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Automated Measurement v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Hybrid Measur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0" y="685800"/>
            <a:ext cx="874404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76240" y="1750680"/>
            <a:ext cx="8672400" cy="434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Overall, good agreement between quality measured by EHR data compared to MD no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Several factors limit accuracy of EHR meas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Many pts did not actually have HF, C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Medications were not always documented, but especially problematic for aspir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Exclusion criteria less well capt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024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Implications for QI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61480" y="1523880"/>
            <a:ext cx="84870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buClr>
                <a:srgbClr val="fafd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As quality of care improves and specificity of “failure to comply” declin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fffe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Differences in performance more likely due to differences in documentation than to true differences in quality of c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fffe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Point-of-care alerts for individual patients are usually </a:t>
            </a:r>
            <a:r>
              <a:rPr b="1" lang="en-US" sz="2800" spc="-1" strike="noStrike" u="sng">
                <a:solidFill>
                  <a:srgbClr val="ffffef"/>
                </a:solidFill>
                <a:uFillTx/>
                <a:latin typeface="Arial"/>
              </a:rPr>
              <a:t>incorrect</a:t>
            </a: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: MDs ignore aler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1049"/>
              </a:spcBef>
              <a:buClr>
                <a:srgbClr val="ffffe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f"/>
                </a:solidFill>
                <a:latin typeface="Arial"/>
              </a:rPr>
              <a:t>List of patients need outreach are mostly wrong: outreach expensive, ineffic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bb6"/>
            </a:gs>
            <a:gs pos="100000">
              <a:srgbClr val="00092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7480" y="45720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UPQUAL</a:t>
            </a:r>
            <a:br>
              <a:rPr sz="4000"/>
            </a:b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U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ilizing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recision Performance Measurement to Improve </a:t>
            </a:r>
            <a:r>
              <a:rPr b="1" lang="en-US" sz="3200" spc="-1" strike="noStrike" u="sng">
                <a:solidFill>
                  <a:srgbClr val="fafd00"/>
                </a:solidFill>
                <a:uFillTx/>
                <a:latin typeface="Arial"/>
              </a:rPr>
              <a:t>Qual</a:t>
            </a: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ity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d by the Agency for Healthca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earch and Quality: 1R18HS017163</a:t>
            </a:r>
            <a:endParaRPr b="0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0280" y="2895120"/>
            <a:ext cx="6705720" cy="3429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 multi-component quality improvement intervention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 to achieve ultra-high level of performance through more accurate performance measur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quality measurement system to drive focused quality improve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0:05:34Z</dcterms:created>
  <dc:creator>Mark V. Williams, M.D.</dc:creator>
  <dc:description/>
  <cp:keywords/>
  <dc:language>en-US</dc:language>
  <cp:lastModifiedBy>rac</cp:lastModifiedBy>
  <cp:lastPrinted>2001-06-01T03:22:33Z</cp:lastPrinted>
  <dcterms:modified xsi:type="dcterms:W3CDTF">2008-10-02T19:52:30Z</dcterms:modified>
  <cp:revision>26212</cp:revision>
  <dc:subject/>
  <dc:title>Literacy and Cost</dc:title>
</cp:coreProperties>
</file>