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E5C67C-3CF3-4305-9430-F05050304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39C5A1B-D912-4AC1-A191-FF4B0A21F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440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1BD04C-6DA5-40E9-8B0C-FF00CC2AFA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958AFF-1ABB-4FDC-8264-8ED5AB9274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5761830-017C-4E7E-AFF9-31A810170A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40715C-07CF-4A80-B398-2816F24863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76A6E9-A675-4BEE-AA3F-14325A5F15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8E6331-E183-4570-818C-6AB6809D2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801448-FB02-4FAC-8B0F-7FFD8B16A9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E909F5-A139-4349-A97C-EC51B019B0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BD024D-8320-4662-9170-0DD6A330F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B8E7C0-CB2E-46E3-BEF4-FD2812FAE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967D0C-169B-4F5C-8959-FB75176EA0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278BAC4-A711-48E3-9C97-0DBDB59F98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FBD17E6-75C0-4767-8E28-309099212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9F3998-5A6C-4402-AA57-37E65C4A99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C5EBC2-4915-48EB-86D8-D36B0CDBE4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EB18E0-43B7-47F4-BF89-15EE74F9F7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F344B-87A9-4F84-A6F8-DC7FC58FA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68DC-47B1-4688-A9CE-A5C0E6262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7A911-E8C6-4E73-9288-1B45A481C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D248-4E96-4907-B85D-A392D7F88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050D-F649-4761-8B70-C6DB8C447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1B3B-E7FB-4803-B28B-AC63B8547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3E46-76EC-447D-BC74-3C4DE03A9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D055-8A53-4A70-BFA0-64630C8B3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55480" y="4572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DBBCC-3E96-45A5-AAD5-A17E193E3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8466-C429-4196-8DFE-F464F4955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BDEF-5CF8-4375-981E-4C6AA3E46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A0D1-2839-4700-B1C5-581C0357C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AD27-C929-4662-91C3-BE0C0601A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4" name="Line 6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" name="Picture 8" descr="HCUP Logo_lg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9"/>
          <p:cNvGrpSpPr/>
          <p:nvPr/>
        </p:nvGrpSpPr>
        <p:grpSpPr>
          <a:xfrm>
            <a:off x="0" y="79200"/>
            <a:ext cx="1218960" cy="1154520"/>
            <a:chOff x="0" y="79200"/>
            <a:chExt cx="1218960" cy="1154520"/>
          </a:xfrm>
        </p:grpSpPr>
        <p:pic>
          <p:nvPicPr>
            <p:cNvPr id="8" name="Picture 10" descr="AHRQ Logo lg"/>
            <p:cNvPicPr/>
            <p:nvPr/>
          </p:nvPicPr>
          <p:blipFill>
            <a:blip r:embed="rId3"/>
            <a:stretch/>
          </p:blipFill>
          <p:spPr>
            <a:xfrm>
              <a:off x="86400" y="79200"/>
              <a:ext cx="112212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 Box 11"/>
            <p:cNvSpPr/>
            <p:nvPr/>
          </p:nvSpPr>
          <p:spPr>
            <a:xfrm>
              <a:off x="0" y="702360"/>
              <a:ext cx="12189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86400" y="702360"/>
              <a:ext cx="1110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Group 7"/>
          <p:cNvGrpSpPr/>
          <p:nvPr/>
        </p:nvGrpSpPr>
        <p:grpSpPr>
          <a:xfrm>
            <a:off x="574560" y="246240"/>
            <a:ext cx="8056800" cy="2268360"/>
            <a:chOff x="574560" y="246240"/>
            <a:chExt cx="8056800" cy="2268360"/>
          </a:xfrm>
        </p:grpSpPr>
        <p:sp>
          <p:nvSpPr>
            <p:cNvPr id="51" name="Rectangle 8"/>
            <p:cNvSpPr/>
            <p:nvPr/>
          </p:nvSpPr>
          <p:spPr>
            <a:xfrm>
              <a:off x="574560" y="318960"/>
              <a:ext cx="8056800" cy="2051280"/>
            </a:xfrm>
            <a:prstGeom prst="rect">
              <a:avLst/>
            </a:prstGeom>
            <a:gradFill rotWithShape="0">
              <a:gsLst>
                <a:gs pos="0">
                  <a:srgbClr val="002f76"/>
                </a:gs>
                <a:gs pos="100000">
                  <a:srgbClr val="0066ff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666720" y="246240"/>
              <a:ext cx="2354400" cy="22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0"/>
            <p:cNvSpPr/>
            <p:nvPr/>
          </p:nvSpPr>
          <p:spPr>
            <a:xfrm>
              <a:off x="3043080" y="15559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>
              <a:off x="3036960" y="318960"/>
              <a:ext cx="0" cy="205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>
              <a:off x="3041640" y="1898640"/>
              <a:ext cx="558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914560" y="142920"/>
            <a:ext cx="3333960" cy="18381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4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roxanne.andrews@ahrq.hhs.gov" TargetMode="External"/><Relationship Id="rId2" Type="http://schemas.openxmlformats.org/officeDocument/2006/relationships/hyperlink" Target="mailto:anne.elixhauser@ahrq.hhs.gov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dding Clinical Data to Administrative Data: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AHRQ-sponsored Pilot &amp; Planning Projects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4038480"/>
            <a:ext cx="670572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HRQ Te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xanne Andrews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ne Elixhauser, Ph.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eptember 9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56CD-1591-4CF3-BB38-92AE353F7F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55480" y="228600"/>
            <a:ext cx="6087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ecruit Hospital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88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the business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 of adding clinical data to admin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for participation, e.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quality feedba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75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spital quality feedback repor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hospital read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ic la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INC c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L-7 trans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ruitment Very Successful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676520"/>
          <a:ext cx="7993080" cy="449568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afd00"/>
                          </a:solidFill>
                          <a:latin typeface="Arial"/>
                        </a:rPr>
                        <a:t>Number of Hospitals Expec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act Requirem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neso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-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27432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gin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432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185A-F4F9-421B-836D-CDD13FC915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34200" y="6172200"/>
            <a:ext cx="69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fhin.net/FHIN/HITinitiatives/AHRQaddingClinDat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1E15-A469-4051-9720-8AF59D4A9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0" t="9724" r="0" b="5556"/>
          <a:stretch/>
        </p:blipFill>
        <p:spPr>
          <a:xfrm>
            <a:off x="0" y="-45720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510360" y="6248520"/>
            <a:ext cx="48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mnhospitals.org/index/ahrq-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698A-0092-460D-B5D4-34702E476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581280" y="6172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vhi.org/hybriddata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14E1-BE49-4D1D-A755-8EC511E59B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087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evelop Data Collection Method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881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data elements to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 data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ing data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standard data submission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INC coding of lab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methods for transmitt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L7 to be used by some Minnesota hospi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L7 fields to be used in Virgi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 hospitals on how to submi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 of Lab Tests to be Included: Chemistry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bu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ne Phosphat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irubin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-Reactive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e Kinase (CP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37256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e Kinase M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t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-BN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oponin 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ea Nitrogen (BU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 of Lab Tests to be Included: Other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053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LOO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O2 Satu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pCO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erial p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Ex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arbo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2880" y="1676520"/>
            <a:ext cx="3649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EMA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moglob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ophil B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Thromboplasti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telet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hrombi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 Information To Be Collected on Lab Tes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307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INC code for lab tes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 value (lab resu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 unit of mea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/time of obser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BF17-D8C5-4036-B2A3-2A6CB2AB73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articipate in Peer Learning Network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7993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thly conference calls with other pilot and planning state data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and the Veteran’s Administration have joined to share their knowledge on similar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39F-9939-4F75-887E-66AA5D936A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5480" y="456840"/>
            <a:ext cx="60879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utlin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4000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ionale for AHRQ contracts to add clinical data to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000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view of AHRQ-sponsored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000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-year activities of pilot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2A6-9831-4A26-98BD-7A18D4C73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haring Lessons Learned with Other Organization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69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im Information on HCUP-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summ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to project websi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hcup-us.ahrq.gov/reports/clinicaldata.j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1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C106-995B-47DB-B8A1-321CA972AB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834200" y="617220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Arial"/>
              </a:rPr>
              <a:t>http://www.hcup-us.ahrq.gov/reports/clinicaldata.j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8F2-B46F-45DA-8025-EAA4D46D46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uture Activitie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690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mplete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 clinical data and link with administrativ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e multi-hospital data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ess data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data to produce hospital-level reports on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hospitals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1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nal Les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report from each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nthesis of lessons across sites by Thomson Reuters &amp; National Academy for State Health Polic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SH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ontact information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7078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xanne Andr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roxanne.andrews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1-427-14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e Elixha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nne.elixhauser@ahrq.hhs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1-427-14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BF1-7149-4255-A063-6D68A09726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480" y="304920"/>
            <a:ext cx="60879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imitations of Administrative Data for Quality Measuremen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clinically importan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to ICD-9-CM diagnosis 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o not include present on admission (POA) indicator for diagn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 for hospital-specific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for risk adjustment to predict individual patient’s risk of 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 about penalizing providers with the sickest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8DB-8707-4659-BA81-D674E9F391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ationale for Adding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Clinical Data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-sponsored study showed adding a few clinical data elements significantly improves quality assessment using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, cost-effective, addi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 values (numeric) on 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otentially) vital sig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75C8-947B-49CC-B106-AB3583AE13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HRQ Contracts to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dd Clinical Data to Statewide Administrative Data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mpstart the enhancement of administrati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data capacities for statewide data organizations participating in HC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cited proposals for two types of contrac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depth pilo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add or link hospital clinical information to administrative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pt. 2007 – Sept. 20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1036800" indent="-45720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ning contra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organizations not yet ready to engage in pilo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ut seek to enhance their administrative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509840" indent="-41940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pt. 2007 – Mar. 2009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55480" y="4572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wards to Statewide Data Organization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ilo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lorid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er for Health Information and Policy Analysis, Agency for Health Care Administ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Minneso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 Assoc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irgin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ealth Informa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ashing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er for Health Statistics, State Department of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35F9-C25F-4532-AF64-E4D488ECC6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5480" y="304920"/>
            <a:ext cx="608796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bjectives of Pilot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feasibility of linking clinical and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6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reproducible approac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6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stage for integrating clinical and administrative data streams in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DE4-9131-4ED6-87B5-68F157F9CB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5480" y="228240"/>
            <a:ext cx="60879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oject Requirement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and select clinical data elements to add to administrativ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 clinical data from electronic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nically transfer data from at least five hospitals to the data o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data into a multi-hospital data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 with stakeho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21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age in peer-to-peer learning, information sharing,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304920" y="6400800"/>
            <a:ext cx="57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CB74-4C29-4032-891D-21C12450E1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55480" y="228600"/>
            <a:ext cx="6087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irst Year’s Activitie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8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Final Implemen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ruit hospi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data collection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 data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5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peer learning network &amp; disseminate 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0:58:31Z</dcterms:created>
  <dc:creator>AHRQ</dc:creator>
  <dc:description/>
  <dc:language>en-US</dc:language>
  <cp:lastModifiedBy>rac</cp:lastModifiedBy>
  <dcterms:modified xsi:type="dcterms:W3CDTF">2008-10-02T19:12:47Z</dcterms:modified>
  <cp:revision>73</cp:revision>
  <dc:subject/>
  <dc:title>Slide 1</dc:title>
</cp:coreProperties>
</file>