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A975F8-C3EE-49C0-A020-91F38F979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BFC326-9474-469E-96CB-F920B604B4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09F966-6D52-4E53-8EA6-9EA29B09E0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AA4D3A-FF94-4941-BF02-AC007148E8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DD5899-D7A0-4FE4-9CDE-46442F8127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ED43C4-CC30-4713-9681-E30002365A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E0FEA0-F48B-416F-8954-4D8E619BB3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B52F1E-727C-4266-9159-1E89E1CD46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AB7D1E-C23D-49B5-B744-B815EDE79E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7D2E07-A9BE-4B4D-9DDA-8E9B193772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B9C5F5-6D90-4013-B0CD-5F200FCC46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04DEEA-88CA-428B-961E-D078704CFC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FDB368-F132-4978-BCCF-573342CB78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B5B08A-B9A4-4477-A04E-2A57FAEA1F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E19FFE-B6B7-4557-845A-13FE8464FF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DF058B-5F1C-448E-874E-F72AC9B026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ECAE5C-1194-4F9A-AB48-5E0D378CE2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D8B2FE-B870-4F50-B54E-E71912A9EF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5744-D743-4056-BA77-E8CDE896A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51DB-E480-42CA-9602-668918085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BC07-B415-47FE-9A44-F058FCEA9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560D-E7D0-43F8-A545-34B8A0FF5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488F-4029-4C40-AA35-65A48ED39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0406-C837-4E1D-928A-9066401F5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B2EC-4654-4A9D-93FC-F6C44EAAA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8FD3-7DDA-4B14-B8B7-FC50D7963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6E6D-5265-46A5-A2C2-6DF759804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7C30-FCD3-46A5-936E-F7A177B84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E211-87DF-418D-AB8F-AFFA7127E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6127-316C-4FAB-B500-8F9195C8C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04920" y="6400440"/>
            <a:ext cx="574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E4DE-B4C5-4B45-A517-437053220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0" y="1278000"/>
            <a:ext cx="9143640" cy="73440"/>
            <a:chOff x="0" y="1278000"/>
            <a:chExt cx="9143640" cy="73440"/>
          </a:xfrm>
        </p:grpSpPr>
        <p:sp>
          <p:nvSpPr>
            <p:cNvPr id="4" name="Line 6"/>
            <p:cNvSpPr/>
            <p:nvPr/>
          </p:nvSpPr>
          <p:spPr>
            <a:xfrm>
              <a:off x="6480" y="1351440"/>
              <a:ext cx="91371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0" y="1278000"/>
              <a:ext cx="91371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" name="Picture 8" descr="HCUP Logo_lg"/>
          <p:cNvPicPr/>
          <p:nvPr/>
        </p:nvPicPr>
        <p:blipFill>
          <a:blip r:embed="rId2"/>
          <a:stretch/>
        </p:blipFill>
        <p:spPr>
          <a:xfrm>
            <a:off x="7742160" y="63360"/>
            <a:ext cx="1295640" cy="11480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9"/>
          <p:cNvGrpSpPr/>
          <p:nvPr/>
        </p:nvGrpSpPr>
        <p:grpSpPr>
          <a:xfrm>
            <a:off x="0" y="79200"/>
            <a:ext cx="1218960" cy="1154520"/>
            <a:chOff x="0" y="79200"/>
            <a:chExt cx="1218960" cy="1154520"/>
          </a:xfrm>
        </p:grpSpPr>
        <p:pic>
          <p:nvPicPr>
            <p:cNvPr id="8" name="Picture 10" descr="AHRQ Logo lg"/>
            <p:cNvPicPr/>
            <p:nvPr/>
          </p:nvPicPr>
          <p:blipFill>
            <a:blip r:embed="rId3"/>
            <a:stretch/>
          </p:blipFill>
          <p:spPr>
            <a:xfrm>
              <a:off x="86400" y="79200"/>
              <a:ext cx="11221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11"/>
            <p:cNvSpPr/>
            <p:nvPr/>
          </p:nvSpPr>
          <p:spPr>
            <a:xfrm>
              <a:off x="0" y="702360"/>
              <a:ext cx="12189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86400" y="702360"/>
              <a:ext cx="1110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8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Group 7"/>
          <p:cNvGrpSpPr/>
          <p:nvPr/>
        </p:nvGrpSpPr>
        <p:grpSpPr>
          <a:xfrm>
            <a:off x="574560" y="246240"/>
            <a:ext cx="8056800" cy="2268360"/>
            <a:chOff x="574560" y="246240"/>
            <a:chExt cx="8056800" cy="2268360"/>
          </a:xfrm>
        </p:grpSpPr>
        <p:sp>
          <p:nvSpPr>
            <p:cNvPr id="51" name="Rectangle 8"/>
            <p:cNvSpPr/>
            <p:nvPr/>
          </p:nvSpPr>
          <p:spPr>
            <a:xfrm>
              <a:off x="574560" y="318960"/>
              <a:ext cx="8056800" cy="2051280"/>
            </a:xfrm>
            <a:prstGeom prst="rect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666720" y="246240"/>
              <a:ext cx="2354400" cy="22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0"/>
            <p:cNvSpPr/>
            <p:nvPr/>
          </p:nvSpPr>
          <p:spPr>
            <a:xfrm>
              <a:off x="3043080" y="1555920"/>
              <a:ext cx="55846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gency for Healthcare Research and Qua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ccff"/>
                  </a:solidFill>
                  <a:latin typeface="Arial"/>
                </a:rPr>
                <a:t>Advancing Excellence in Health Care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 </a:t>
              </a:r>
              <a:r>
                <a:rPr b="0" lang="en-US" sz="1800" spc="-1" strike="noStrike">
                  <a:solidFill>
                    <a:srgbClr val="99ccff"/>
                  </a:solidFill>
                  <a:latin typeface="Arial"/>
                  <a:ea typeface="Arial"/>
                </a:rPr>
                <a:t>www.ahrq.go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3036960" y="318960"/>
              <a:ext cx="0" cy="205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>
              <a:off x="3041640" y="1898640"/>
              <a:ext cx="558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914560" y="142920"/>
            <a:ext cx="3333960" cy="1838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4"/>
          <p:cNvSpPr/>
          <p:nvPr/>
        </p:nvSpPr>
        <p:spPr>
          <a:xfrm>
            <a:off x="79088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roxanne.andrews@ahrq.hhs.gov" TargetMode="External"/><Relationship Id="rId2" Type="http://schemas.openxmlformats.org/officeDocument/2006/relationships/hyperlink" Target="mailto:anne.elixhauser@ahrq.hhs.go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dding Clinical Data to Administrative Data: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AHRQ-sponsored Pilot &amp; Planning Projects 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4038480"/>
            <a:ext cx="670572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HRQ Tea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xanne Andrews, Ph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ne Elixhauser, Ph.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eptember 9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AD27-4B4C-439E-9FCE-B815EF41E0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55480" y="228600"/>
            <a:ext cx="60879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Recruit Hospital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88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the business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tages of adding clinical data to admin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 for participation, e.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ta quality feedbac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pital quality feedback repo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31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hospital read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ic la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INC co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L-7 trans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cruitment Very Successful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1676520"/>
          <a:ext cx="7993080" cy="449568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Pro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Number of Hospitals Expec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27432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act Requir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432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27432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432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27432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neso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432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-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27432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rgin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432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EC03-3433-43C3-AF7C-ED7B5E1F8F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834200" y="6172200"/>
            <a:ext cx="69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http://www.fhin.net/FHIN/HITinitiatives/AHRQaddingClinData.s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3FE3-BD1A-42BD-B4E9-4E135675B2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0" t="9724" r="0" b="5556"/>
          <a:stretch/>
        </p:blipFill>
        <p:spPr>
          <a:xfrm>
            <a:off x="0" y="-45720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510360" y="6248520"/>
            <a:ext cx="48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http://www.mnhospitals.org/index/ahrq-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11DA-570E-4F9D-83CF-E49BCD9878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581280" y="6172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http://www.vhi.org/hybriddata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B9F3-58A9-40BD-B476-7E58C57208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0879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evelop Data Collection Method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88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 data elements to be col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 data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ing data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standard data submission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INC coding of lab n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methods for transmitt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L7 to be used by some Minnesota hospi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L7 fields to be used in Virgi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 hospitals on how to submi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 of Lab Tests to be Included: Chemistry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bu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ne Phosphat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y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carbo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irubin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N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-Reactive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e Kinase (CP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37256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e Kinase 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-BN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ea Nitrogen (BU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 of Lab Tests to be Included: Other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053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LOO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4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erial O2 Satur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erial pCO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erial p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erial p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Ex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carbo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2880" y="1676520"/>
            <a:ext cx="3649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MA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4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glob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trophil B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Thromboplasti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telet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hrombi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 Information To Be Collected on Lab Test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307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31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INC code for lab te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1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 value (lab resu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1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 unit of mea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1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e/time of obse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D644-D329-44DE-81B4-5E54B9CFB9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articipate in Peer Learning Network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79930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thly conference calls with other pilot and planning state data organ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3501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3501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fornia and the Veteran’s Administration have joined to share their knowledge on similar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ED26-7C53-48C4-99C8-1F9F3CF27C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55480" y="456840"/>
            <a:ext cx="6087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Outlin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AHRQ contracts to add clinical data to administrat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4000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 of AHRQ-sponsored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4000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-year activities of pilot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5BD3-938B-4891-AE57-F8577FB852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haring Lessons Learned with Other Organizations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690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im Information on HCUP-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summ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to project web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hcup-us.ahrq.gov/reports/clinicaldata.j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1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D98B-3D46-4F81-ABD9-17246B67C0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834200" y="617220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http://www.hcup-us.ahrq.gov/reports/clinicaldata.j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336A-B078-4ACD-80FA-590908DC8A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Future Activities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690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e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ct clinical data and link with administrativ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e multi-hospital data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 data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data to produce hospital-level reports on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hospitals feed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1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nal Les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report from each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nthesis of lessons across sites by Thomson Reuters &amp; National Academy for State Health Polic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SH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ontact information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7078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xanne Andr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roxanne.andrews@ahrq.hhs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1-427-14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e Elixha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anne.elixhauser@ahrq.hhs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1-427-14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545E-E65F-4DF9-A0BE-CC9C1CC50C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55480" y="304920"/>
            <a:ext cx="608796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Limitations of Administrative Data for Quality Measurement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clinically importan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to ICD-9-CM diagnosis 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do not include present on admission (POA) indicator for diagn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for hospital-specific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dequate for risk adjustment to predict individual patient’s risk of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 about penalizing providers with the sickest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58E8-20D1-4851-9CA5-C5C50334ED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ationale for Adding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Clinical Data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-sponsored study showed adding a few clinical data elements significantly improves quality assessment using administrativ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, cost-effective, addi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 values (numeric) on ad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otentially) vital sig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11DF-4029-45D6-89C6-0AF3B267DB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HRQ Contracts to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dd Clinical Data to Statewide Administrative Data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6800" indent="-4572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mpstart the enhancement of administrativ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6800" indent="-4572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and data capacities for statewide data organizations participating in HC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cited proposals for two types of contra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6800" indent="-4572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depth pilo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09840" indent="-41940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add or link hospital clinical information to administrative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509840" indent="-41940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pt. 2007 – Sept. 200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36800" indent="-4572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ning contra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09840" indent="-41940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organizations not yet ready to engage in pilot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509840" indent="-41940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t seek to enhance their administrative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509840" indent="-41940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pt. 2007 – Mar. 200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wards to Statewide Data Organizations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69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i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lorid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er for Health Information and Policy Analysis, Agency for Health Care Administ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innesot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spital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Virgin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alth Informatio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ashingt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er for Health Statistics, State Department of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49CC-4238-49CB-83EE-15AB5AF737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55480" y="304920"/>
            <a:ext cx="608796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Objectives of Pilot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feasibility of linking clinical and administrat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6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reproducible approa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6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the stage for integrating clinical and administrative data streams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3B52-51E2-4B07-AB52-66A6B1880F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55480" y="228240"/>
            <a:ext cx="6087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oject Requirement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93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nd select clinical data elements to add to administrativ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 clinical data from electronic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ally transfer data from at least five hospitals to the data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data into a multi-hospital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e with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age in peer-to-peer learning, information sharing, disse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842C-C208-4E81-A333-D6FCFFF7A8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55480" y="228600"/>
            <a:ext cx="60879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irst Year’s Activitie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881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Final Implementa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ruit hospi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data collection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data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e in peer learning network &amp; disseminate lessons lea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0:58:31Z</dcterms:created>
  <dc:creator>AHRQ</dc:creator>
  <dc:description/>
  <dc:language>en-US</dc:language>
  <cp:lastModifiedBy>rac</cp:lastModifiedBy>
  <dcterms:modified xsi:type="dcterms:W3CDTF">2008-10-02T19:12:47Z</dcterms:modified>
  <cp:revision>73</cp:revision>
  <dc:subject/>
  <dc:title>Slide 1</dc:title>
</cp:coreProperties>
</file>