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2BC922-3974-44ED-B9C6-C70748EC2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2080" y="4416120"/>
            <a:ext cx="51436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98560" y="4452840"/>
            <a:ext cx="4968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d afternoon, Everybod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lcome to this session.  I’m delighted to have you joining us to talk about a topic that has been concerning both researchers and healthcare executives, as well as some funding organization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OM report “Crossing the Chasm” calls attention to the importance of organizational contributions to the delivery of care. The problems come from poor systems . . . Not ba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seems to hold potentials for providing evidence on which areas need improvement, and what health care organizations can do to improve the quality of 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fortunately, many have observed gaps between researchers and healthcare executives which impede the generation of useful research findings as well as the utilization of existing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ssion will feature presentations and discussion on what the key issues are and what we can do to bridge the g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three speakers ar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sor Jef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. David Nere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s. Beth Feldp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briefly introduce each of th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like you to hold your questions and comments at the end after all of our speakers have a chance to delivery their presen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to our 3 speakers for helping us understand the issues surrounding how to make research more relevant to health care organiz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three speakers are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sor Jef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. David Neren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s. Beth Feldp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briefly introduce each of the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like you to hold your questions and comments at the end after all of our speakers have a chance to delivery their presen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2038-69DA-4992-8E17-85B986BE6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0463-C547-40C8-B4EF-B8A89543C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6AE67-CC1B-405D-966E-9725E6E1B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29AE-E291-4294-9EBB-28CF18E7E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55480" y="4572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9EC5-789E-4496-9EEA-381C9F419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FE1B-406F-4F25-9CA4-EF47A0412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7061-BE3C-48C1-8FE3-BE748EBBE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4C63-9D04-4989-9E6E-30D9ABB03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55480" y="4572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5275-9D7A-4FD4-AF90-EE9D670E2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D42A0-EEED-47F3-BAB7-94AB12A16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E460-06BE-4633-B9A2-628BAF893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1961-EF6D-4E11-87F0-96DC7999E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-279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5960" indent="-182880">
              <a:lnSpc>
                <a:spcPct val="90000"/>
              </a:lnSpc>
              <a:spcBef>
                <a:spcPts val="104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04920" y="6400440"/>
            <a:ext cx="5745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8379-C605-4316-9194-F53FDDB985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1278000"/>
            <a:ext cx="9143640" cy="73440"/>
            <a:chOff x="0" y="1278000"/>
            <a:chExt cx="9143640" cy="73440"/>
          </a:xfrm>
        </p:grpSpPr>
        <p:sp>
          <p:nvSpPr>
            <p:cNvPr id="4" name=""/>
            <p:cNvSpPr/>
            <p:nvPr/>
          </p:nvSpPr>
          <p:spPr>
            <a:xfrm>
              <a:off x="6480" y="1351440"/>
              <a:ext cx="91371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278000"/>
              <a:ext cx="91371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742160" y="63360"/>
            <a:ext cx="1295640" cy="114804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0" y="79200"/>
            <a:ext cx="1218960" cy="1154520"/>
            <a:chOff x="0" y="79200"/>
            <a:chExt cx="1218960" cy="115452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86400" y="79200"/>
              <a:ext cx="112212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0" y="702360"/>
              <a:ext cx="12189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66ccff"/>
                  </a:solidFill>
                  <a:latin typeface="Arial"/>
                </a:rPr>
                <a:t>Advancing Excellence in Health Ca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400" y="702360"/>
              <a:ext cx="1110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9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74560" y="246240"/>
            <a:ext cx="8056800" cy="2268360"/>
            <a:chOff x="574560" y="246240"/>
            <a:chExt cx="8056800" cy="2268360"/>
          </a:xfrm>
        </p:grpSpPr>
        <p:sp>
          <p:nvSpPr>
            <p:cNvPr id="52" name=""/>
            <p:cNvSpPr/>
            <p:nvPr/>
          </p:nvSpPr>
          <p:spPr>
            <a:xfrm>
              <a:off x="574560" y="318960"/>
              <a:ext cx="8056800" cy="20512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3" name=""/>
            <p:cNvGraphicFramePr/>
            <p:nvPr/>
          </p:nvGraphicFramePr>
          <p:xfrm>
            <a:off x="666720" y="246240"/>
            <a:ext cx="2354400" cy="2268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720" y="246240"/>
                      <a:ext cx="2354400" cy="22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" name=""/>
            <p:cNvSpPr/>
            <p:nvPr/>
          </p:nvSpPr>
          <p:spPr>
            <a:xfrm>
              <a:off x="3043080" y="1555920"/>
              <a:ext cx="558468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Agency for Healthcare Research and Qua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ccff"/>
                  </a:solidFill>
                  <a:latin typeface="Arial"/>
                </a:rPr>
                <a:t>Advancing Excellence in Health Care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 </a:t>
              </a:r>
              <a:r>
                <a:rPr b="0" lang="en-US" sz="1800" spc="-1" strike="noStrike">
                  <a:solidFill>
                    <a:srgbClr val="99ccff"/>
                  </a:solidFill>
                  <a:latin typeface="Arial"/>
                  <a:ea typeface="Arial"/>
                </a:rPr>
                <a:t>www.ahrq.go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36960" y="318960"/>
              <a:ext cx="0" cy="2051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1640" y="1898640"/>
              <a:ext cx="558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8" name=""/>
          <p:cNvGraphicFramePr/>
          <p:nvPr/>
        </p:nvGraphicFramePr>
        <p:xfrm>
          <a:off x="2914560" y="142920"/>
          <a:ext cx="3333960" cy="18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4560" y="142920"/>
                    <a:ext cx="333396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79088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6520" y="2590920"/>
            <a:ext cx="86788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Enhancing Organizational Research in Health Care Quality 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18680" y="4038480"/>
            <a:ext cx="849636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akers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ff Alexander, PhD, University of Michiga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vid Nerenz, PhD, Henry Ford Health System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h Feldpush, MPH, American Hospital Associ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87960" cy="7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What is this about?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6520" indent="-2365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IOM report “Crossing the Chasm” (2001)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lls for improving healthcare organizations in order to improve quality of care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ut there seems to be a “chasm” between researchers and healthcare executives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is session features presentations and discussion on what the key issues are and what we can do to bridge the gap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87960" cy="7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Speakers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Jeff Alexander, Ph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University of Michigan 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avid Nerenz, Ph.D.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Henry Ford Health System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eth Feldpush, M.P.H.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merican Hospital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087960" cy="7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We can we do to go from here to there?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3352680"/>
            <a:ext cx="3733920" cy="2600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7880" y="6172200"/>
            <a:ext cx="43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 Broken and Abandoned Brid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3581280" cy="2686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V="1">
            <a:off x="2895480" y="2514600"/>
            <a:ext cx="2133720" cy="5335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57200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 Golden Brid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87960" cy="7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Discussion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ff Alexander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ll organizations are alike, therefore need “middle ground between individually tailoring approaches and one size fits all formulas”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stion --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What is that middle ground?</a:t>
            </a:r>
            <a:br>
              <a:rPr sz="2400"/>
            </a:b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Nerenz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Researchers are concerned about cause-effec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relationship that can be generalizabl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anagers look for implementable solutions to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daily problems or directions for their organization.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And they have to fit the local context of individual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organization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stion --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ow can these two be reconciled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Building the Bridge to the Other Side – A Different Research Paradigm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(David Nerenz)</a:t>
            </a:r>
            <a:endParaRPr b="1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linician researchers – those who actually do patient care should be those who design, test, and refine health care delivery innovation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search in clinic and inpatient unit “laboratories” – example – Mayo Clinic’s SPARC unit.  Research done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in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organizations, not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about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rganization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search on truly new things to determine whether they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can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work, rather than on big, already-implemented things to determine whether they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do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work (or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did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work!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cus on managers’ problems rather than policy-makers’ problems – e.g., reducing medical errors, reducing no-shows, enhancing interpreter services, reducing inefficiency and duplication…. (industrial engineering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mall, bite-size problems rather than large, mega-problems (not, “Do EMRs enhance quality of care?”, but 100 specific questions on how to create or enhance an effect of a specific EMR system on quality of ca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0000"/>
              </a:lnSpc>
              <a:spcBef>
                <a:spcPts val="78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xplicit study attention paid to local context effects and interactions rather than use of randomization designs and regression models to eliminate them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87960" cy="7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Discussion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Question: 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paradigm proposed by David sound a bit too pessimistic?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ld it seem to reduce research into OR (Operational Research) type of studies or narrow our efforts to just doing small-scaled demonstration project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87960" cy="7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Discussion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A seems to have assumed a role of middleman in bridging the gap between researchers and managers – dig out research evidence, synthesize them, and translate into practical how-to-guide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stion --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Who else should or can take this role as well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HA hospital survey so far represents the largest hospital sample.  But the focus is primarily on hospital structural characteristics, services, utilization, and financial information. 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Question --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ow likely for AHA to develop other surveys to look at process, or leadership and culture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2514600"/>
            <a:ext cx="608832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Thank You!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0:58:31Z</dcterms:created>
  <dc:creator>AHRQ</dc:creator>
  <dc:description/>
  <dc:language>en-US</dc:language>
  <cp:lastModifiedBy>JJiang</cp:lastModifiedBy>
  <dcterms:modified xsi:type="dcterms:W3CDTF">2008-09-08T15:01:51Z</dcterms:modified>
  <cp:revision>80</cp:revision>
  <dc:subject/>
  <dc:title>Slide 1</dc:title>
</cp:coreProperties>
</file>