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2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3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4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D20CAD6-0BEA-4CCD-86FC-7C08F0B0C1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92080" y="4416120"/>
            <a:ext cx="514368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98560" y="4452840"/>
            <a:ext cx="4968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od afternoon, Everybody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lcome to this session.  I’m delighted to have you joining us to talk about a topic that has been concerning both researchers and healthcare executives, as well as some funding organizations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OM report “Crossing the Chasm” calls attention to the importance of organizational contributions to the delivery of care. The problems come from poor systems . . . Not bad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arch seems to hold potentials for providing evidence on which areas need improvement, and what health care organizations can do to improve the quality of c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fortunately, many have observed gaps between researchers and healthcare executives which impede the generation of useful research findings as well as the utilization of existing evid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ession will feature presentations and discussion on what the key issues are and what we can do to bridge the ga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three speakers are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fessor Jeff Alex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. David Neren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s. Beth Feldpu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me briefly introduce each of the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ould like you to hold your questions and comments at the end after all of our speakers have a chance to delivery their present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 to our 3 speakers for helping us understand the issues surrounding how to make research more relevant to health care organiz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three speakers are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fessor Jeff Alex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. David Neren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s. Beth Feldpu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me briefly introduce each of the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ould like you to hold your questions and comments at the end after all of our speakers have a chance to delivery their present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F3BE3-E831-4529-AB24-02B27DE5EA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1F167-9F50-4FB1-B7AE-B7003D0632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269C6-E68B-4CA8-BF04-D2DF484C14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2FAE7-0CBD-4705-8658-ABC6536B08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455480" y="457200"/>
            <a:ext cx="608796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FC9E6-FFB4-4177-942C-0E294ED55A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DBBD5-1BAF-4E5C-829D-58DEEDD157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D1520-5DB2-4B55-9550-672EFD7911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8E8A8-2FD6-40E7-9BBB-410B88947B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455480" y="457200"/>
            <a:ext cx="608796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3BB4C-98F0-4C71-B7DE-7DB841A830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9FF25-1DC5-4592-BEEC-11338AEBDB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3A8AF-08E5-4732-A929-BA449E8D86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B984F-6F8E-45F3-AF73-D831DEB112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371880" indent="-3718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0840" indent="-3171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52000" indent="-2793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425960" indent="-182880">
              <a:lnSpc>
                <a:spcPct val="90000"/>
              </a:lnSpc>
              <a:spcBef>
                <a:spcPts val="104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700640" indent="-1828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700640" indent="-1828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700640" indent="-1828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04920" y="6400440"/>
            <a:ext cx="5745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5BCB6-9418-4B48-9DB0-46B353EB045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1278000"/>
            <a:ext cx="9143640" cy="73440"/>
            <a:chOff x="0" y="1278000"/>
            <a:chExt cx="9143640" cy="73440"/>
          </a:xfrm>
        </p:grpSpPr>
        <p:sp>
          <p:nvSpPr>
            <p:cNvPr id="4" name=""/>
            <p:cNvSpPr/>
            <p:nvPr/>
          </p:nvSpPr>
          <p:spPr>
            <a:xfrm>
              <a:off x="6480" y="1351440"/>
              <a:ext cx="913716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278000"/>
              <a:ext cx="913716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742160" y="63360"/>
            <a:ext cx="1295640" cy="1148040"/>
          </a:xfrm>
          <a:prstGeom prst="rect">
            <a:avLst/>
          </a:prstGeom>
          <a:ln w="0">
            <a:noFill/>
          </a:ln>
        </p:spPr>
      </p:pic>
      <p:grpSp>
        <p:nvGrpSpPr>
          <p:cNvPr id="7" name=""/>
          <p:cNvGrpSpPr/>
          <p:nvPr/>
        </p:nvGrpSpPr>
        <p:grpSpPr>
          <a:xfrm>
            <a:off x="0" y="79200"/>
            <a:ext cx="1218960" cy="1154520"/>
            <a:chOff x="0" y="79200"/>
            <a:chExt cx="1218960" cy="1154520"/>
          </a:xfrm>
        </p:grpSpPr>
        <p:pic>
          <p:nvPicPr>
            <p:cNvPr id="8" name="" descr=""/>
            <p:cNvPicPr/>
            <p:nvPr/>
          </p:nvPicPr>
          <p:blipFill>
            <a:blip r:embed="rId3"/>
            <a:stretch/>
          </p:blipFill>
          <p:spPr>
            <a:xfrm>
              <a:off x="86400" y="79200"/>
              <a:ext cx="112212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0" y="702360"/>
              <a:ext cx="121896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66ccff"/>
                  </a:solidFill>
                  <a:latin typeface="Arial"/>
                </a:rPr>
                <a:t>Advancing Excellence in Health Car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6400" y="702360"/>
              <a:ext cx="1110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49" name=""/>
            <p:cNvSpPr/>
            <p:nvPr/>
          </p:nvSpPr>
          <p:spPr>
            <a:xfrm>
              <a:off x="5400" y="388620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86712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74560" y="246240"/>
            <a:ext cx="8056800" cy="2268360"/>
            <a:chOff x="574560" y="246240"/>
            <a:chExt cx="8056800" cy="2268360"/>
          </a:xfrm>
        </p:grpSpPr>
        <p:sp>
          <p:nvSpPr>
            <p:cNvPr id="52" name=""/>
            <p:cNvSpPr/>
            <p:nvPr/>
          </p:nvSpPr>
          <p:spPr>
            <a:xfrm>
              <a:off x="574560" y="318960"/>
              <a:ext cx="8056800" cy="2051280"/>
            </a:xfrm>
            <a:prstGeom prst="rect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2f75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3" name=""/>
            <p:cNvGraphicFramePr/>
            <p:nvPr/>
          </p:nvGraphicFramePr>
          <p:xfrm>
            <a:off x="666720" y="246240"/>
            <a:ext cx="2354400" cy="22683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66720" y="246240"/>
                      <a:ext cx="2354400" cy="226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5" name=""/>
            <p:cNvSpPr/>
            <p:nvPr/>
          </p:nvSpPr>
          <p:spPr>
            <a:xfrm>
              <a:off x="3043080" y="1555920"/>
              <a:ext cx="5584680" cy="6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Agency for Healthcare Research and Qualit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99ccff"/>
                  </a:solidFill>
                  <a:latin typeface="Arial"/>
                </a:rPr>
                <a:t>Advancing Excellence in Health Care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• </a:t>
              </a:r>
              <a:r>
                <a:rPr b="0" lang="en-US" sz="1800" spc="-1" strike="noStrike">
                  <a:solidFill>
                    <a:srgbClr val="99ccff"/>
                  </a:solidFill>
                  <a:latin typeface="Arial"/>
                  <a:ea typeface="Arial"/>
                </a:rPr>
                <a:t>www.ahrq.gov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36960" y="318960"/>
              <a:ext cx="0" cy="2051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041640" y="1898640"/>
              <a:ext cx="558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8" name=""/>
          <p:cNvGraphicFramePr/>
          <p:nvPr/>
        </p:nvGraphicFramePr>
        <p:xfrm>
          <a:off x="2914560" y="142920"/>
          <a:ext cx="3333960" cy="1838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14560" y="142920"/>
                    <a:ext cx="3333960" cy="18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7908840" y="5827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76040" algn="ctr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82520" algn="ctr">
              <a:lnSpc>
                <a:spcPct val="90000"/>
              </a:lnSpc>
              <a:spcBef>
                <a:spcPts val="751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8400" algn="ctr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36520" y="2590920"/>
            <a:ext cx="86788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Enhancing Organizational Research in Health Care Quality </a:t>
            </a: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18680" y="4038480"/>
            <a:ext cx="849636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peakers</a:t>
            </a: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ff Alexander, PhD, University of Michigan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vid Nerenz, PhD, Henry Ford Health System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th Feldpush, MPH, American Hospital Associ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6087960" cy="76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What is this about?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6520" indent="-236520"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IOM report “Crossing the Chasm” (2001)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alls for improving healthcare organizations in order to improve quality of care. 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But there seems to be a “chasm” between researchers and healthcare executives. 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is session features presentations and discussion on what the key issues are and what we can do to bridge the gap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6087960" cy="76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Speakers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Jeff Alexander, Ph.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University of Michigan 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avid Nerenz, Ph.D. 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Henry Ford Health System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Beth Feldpush, M.P.H. 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merican Hospital Associ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087960" cy="76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We can we do to go from here to there?</a:t>
            </a: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7200" y="3352680"/>
            <a:ext cx="3733920" cy="2600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27880" y="6172200"/>
            <a:ext cx="43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A Broken and Abandoned Brid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105520" y="1752480"/>
            <a:ext cx="3581280" cy="26863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 flipV="1">
            <a:off x="2895480" y="2514600"/>
            <a:ext cx="2133720" cy="5335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867280" y="457200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A Golden Brid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6087960" cy="76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Discussion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ff Alexander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all organizations are alike, therefore need “middle ground between individually tailoring approaches and one size fits all formulas”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Question --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What is that middle ground?</a:t>
            </a:r>
            <a:br>
              <a:rPr sz="2400"/>
            </a:b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vid Nerenz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Researchers are concerned about cause-effec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relationship that can be generalizable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Managers look for implementable solutions to thei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daily problems or directions for their organization. 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And they have to fit the local context of individual    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organizations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Question --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How can these two be reconciled?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Building the Bridge to the Other Side – A Different Research Paradigm 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(David Nerenz)</a:t>
            </a:r>
            <a:endParaRPr b="1" i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60440" indent="-460440">
              <a:lnSpc>
                <a:spcPct val="80000"/>
              </a:lnSpc>
              <a:spcBef>
                <a:spcPts val="788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Clinician researchers – those who actually do patient care should be those who design, test, and refine health care delivery innovations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80000"/>
              </a:lnSpc>
              <a:spcBef>
                <a:spcPts val="788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Research in clinic and inpatient unit “laboratories” – example – Mayo Clinic’s SPARC unit.  Research done </a:t>
            </a:r>
            <a:r>
              <a:rPr b="0" lang="en-US" sz="2100" spc="-1" strike="noStrike" u="sng">
                <a:solidFill>
                  <a:srgbClr val="ffffff"/>
                </a:solidFill>
                <a:uFillTx/>
                <a:latin typeface="Arial"/>
              </a:rPr>
              <a:t>in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organizations, not </a:t>
            </a:r>
            <a:r>
              <a:rPr b="0" lang="en-US" sz="2100" spc="-1" strike="noStrike" u="sng">
                <a:solidFill>
                  <a:srgbClr val="ffffff"/>
                </a:solidFill>
                <a:uFillTx/>
                <a:latin typeface="Arial"/>
              </a:rPr>
              <a:t>about 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organizations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80000"/>
              </a:lnSpc>
              <a:spcBef>
                <a:spcPts val="788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Research on truly new things to determine whether they </a:t>
            </a:r>
            <a:r>
              <a:rPr b="0" lang="en-US" sz="2100" spc="-1" strike="noStrike" u="sng">
                <a:solidFill>
                  <a:srgbClr val="ffffff"/>
                </a:solidFill>
                <a:uFillTx/>
                <a:latin typeface="Arial"/>
              </a:rPr>
              <a:t>can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work, rather than on big, already-implemented things to determine whether they </a:t>
            </a:r>
            <a:r>
              <a:rPr b="0" lang="en-US" sz="2100" spc="-1" strike="noStrike" u="sng">
                <a:solidFill>
                  <a:srgbClr val="ffffff"/>
                </a:solidFill>
                <a:uFillTx/>
                <a:latin typeface="Arial"/>
              </a:rPr>
              <a:t>do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work (or </a:t>
            </a:r>
            <a:r>
              <a:rPr b="0" lang="en-US" sz="2100" spc="-1" strike="noStrike" u="sng">
                <a:solidFill>
                  <a:srgbClr val="ffffff"/>
                </a:solidFill>
                <a:uFillTx/>
                <a:latin typeface="Arial"/>
              </a:rPr>
              <a:t>did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work!)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80000"/>
              </a:lnSpc>
              <a:spcBef>
                <a:spcPts val="788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Focus on managers’ problems rather than policy-makers’ problems – e.g., reducing medical errors, reducing no-shows, enhancing interpreter services, reducing inefficiency and duplication…. (industrial engineering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80000"/>
              </a:lnSpc>
              <a:spcBef>
                <a:spcPts val="788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Small, bite-size problems rather than large, mega-problems (not, “Do EMRs enhance quality of care?”, but 100 specific questions on how to create or enhance an effect of a specific EMR system on quality of care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80000"/>
              </a:lnSpc>
              <a:spcBef>
                <a:spcPts val="788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Explicit study attention paid to local context effects and interactions rather than use of randomization designs and regression models to eliminate them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044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6087960" cy="76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Discussion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Question: </a:t>
            </a:r>
            <a:br>
              <a:rPr sz="2800"/>
            </a:br>
            <a:br>
              <a:rPr sz="28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es the paradigm proposed by David sound a bit too pessimistic? 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uld it seem to reduce research into OR (Operational Research) type of studies or narrow our efforts to just doing small-scaled demonstration projects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6087960" cy="76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Discussion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HA seems to have assumed a role of middleman in bridging the gap between researchers and managers – dig out research evidence, synthesize them, and translate into practical how-to-guide. 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Question --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Who else should or can take this role as well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HA hospital survey so far represents the largest hospital sample.  But the focus is primarily on hospital structural characteristics, services, utilization, and financial information. 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Question --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How likely for AHA to develop other surveys to look at process, or leadership and culture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880" y="2514600"/>
            <a:ext cx="608832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Thank You!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0:58:31Z</dcterms:created>
  <dc:creator>AHRQ</dc:creator>
  <dc:description/>
  <dc:language>en-US</dc:language>
  <cp:lastModifiedBy>JJiang</cp:lastModifiedBy>
  <dcterms:modified xsi:type="dcterms:W3CDTF">2008-09-08T15:01:51Z</dcterms:modified>
  <cp:revision>80</cp:revision>
  <dc:subject/>
  <dc:title>Slide 1</dc:title>
</cp:coreProperties>
</file>