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13FA1-ADA7-47D9-AA4F-498693643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ed by the Agency for Healthcare Research and Quality (AHRQ), is another model of field-based research which includes 15 large partnerships.  These partnerships link many of the Nation’s largest health care systems with top health services researchers to produce user-driven, evidenced-based findings and tool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rguments that demands for high quality care and lower costs in health care can only be achieved if the management of health care organizations engages in practices that have a strong evidentiary base - that is, where the relationships between management practice and positive outcomes have been subjected to careful empirical study and confirma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analysis focused on two groups of questions from the interviews: current and future challenges facing hospitals as they relate to hospital quality, costs, and efficiency, and potential solutions to those challenges. Hospital CEOs were asked to identify the five most important factors contributing to quality, cost, and efficiency, the degree of control exercised over these factors by hospital staff, and whether these factors operated independently of each other. Respondents were also asked to provide specific examples where changes in these factors had a positive or negative effect on quality, cost, or efficienc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appropriate staffing volume and mix to enhance quality while reducing cost was one of the few areas explicitly identified by respondents where they thought health services research could provide useabl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eliminate local and national practice variation by practicing only evidence-based medicine instead of allowing physicians to maintain past practice patterns simply because “they have always been doing it that way.” Although interviewees generally felt that evidence-based protocols are widely available, the more difficult part of the process was effectively implementing the protocol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sked about the five most important contributors to cost, quality, and efficiency, most of the CEOs suggest that it would not be beneficial to focus on one or even two as levers for change. Most often, the CEO respondents indicate that changes must occur in all four or five of the areas mentioned because they are designed to be mutually reinforcing.  These observations suggest that researchers need to take a more systematic and complex view of hospitals and other healthcare organizations. Instead of isolating individual aspects of performance and contributing factors, researchers should explore alternative conceptual models that are more aligned with how hospital leaders view their organizations and the interplay of various organizational/management factor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DA04D-5799-4097-846F-6BFB518F5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51730-1922-4D0C-927D-91A31EE83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EB8CB-9DBD-4B46-AF54-5F5B3D9E9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90845-1EF0-4D49-B532-BEF761284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0DAAF-DC8F-480C-9588-FA0F645EBD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CEE6F-39C0-4698-B30F-A05459E17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EC6F4-BEC6-4AAB-AA2F-A9B388A6F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183B5-D86B-4785-9268-125B4BA17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EAD5E-581F-4BA6-AE7C-F91C9ABAC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D01AF-2327-4DE3-87EA-B8A97B2072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628F3-D1D8-42C2-80D2-823B497A8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EEA57-8562-428F-93B6-3F39438B7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B8156-4263-4279-B594-BF620AE42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0D719-9993-46AB-B663-A91FDBA49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6AD4A-48FB-43EA-ABA0-F12B56866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66D91-3E49-446D-83E6-B87A428D28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447511-EBD0-4A98-84DE-33CF21D455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B69A1-CE3A-4935-9D88-2BC297436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92F29-8140-4FA6-B964-239FFD4AC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9DE40-E2A9-4CEC-9CCD-222E6B7F2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0ABF2-4BA2-4663-A545-939CB441B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9C9F-22E3-49C2-B170-C7400F164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901D-99B0-4643-AE3F-226014051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249EA-4BD0-44FC-B03C-8628B5A6E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6D0C-BC50-4CDF-ABC5-4421CD4019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5BB9-525F-49CB-A1CD-B5CC7A742E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Increasing the Relevance of Health Care Organizational Research</a:t>
            </a:r>
            <a:endParaRPr b="0" lang="en-US" sz="4000" spc="-1" strike="noStrike">
              <a:solidFill>
                <a:srgbClr val="e5ffff"/>
              </a:solidFill>
              <a:latin typeface="Tahoma"/>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ff Alexander, Ph.D.</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HRQ Annual Meeting</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 8, 200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pportunities</a:t>
            </a: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can systems of accountability be designed to ensure adequate coordination across organizational boundaries and providers of care ?</a:t>
            </a:r>
            <a:endParaRPr b="0" lang="en-US" sz="2800" spc="-1" strike="noStrike">
              <a:solidFill>
                <a:srgbClr val="ffffff"/>
              </a:solidFill>
              <a:latin typeface="Tahoma"/>
            </a:endParaRPr>
          </a:p>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can clinical teams be organized and led to achieve better results for patients?</a:t>
            </a:r>
            <a:endParaRPr b="0" lang="en-US" sz="2800" spc="-1" strike="noStrike">
              <a:solidFill>
                <a:srgbClr val="ffffff"/>
              </a:solidFill>
              <a:latin typeface="Tahoma"/>
            </a:endParaRPr>
          </a:p>
          <a:p>
            <a:pPr marL="609480" indent="-60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re the organizational and behavior responses to different incentive programs such as P4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pportunities</a:t>
            </a: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can organizations promote the diffusion, implementation and sustainability of new, evidence based practices?</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new care models effective in terms of improving quality, and efficient in terms of reducing costs (patient centered medical ho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reats and Barriers</a:t>
            </a: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ing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ulating our problems in isolation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ufficient interdisciplinary researc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ditional structures and incentive systems in universities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d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Data Issues</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Existing data does not address many of the problems managers regard as important</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ucture not process</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mary data collection</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all sample sizes </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ceived lack of generalizability of findings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flipH="1">
            <a:off x="5867280" y="1905120"/>
            <a:ext cx="3276720" cy="3733560"/>
          </a:xfrm>
          <a:custGeom>
            <a:avLst/>
            <a:gdLst>
              <a:gd name="textAreaLeft" fmla="*/ 438840 w 3276720"/>
              <a:gd name="textAreaRight" fmla="*/ 2837880 w 3276720"/>
              <a:gd name="textAreaTop" fmla="*/ 668520 h 3733560"/>
              <a:gd name="textAreaBottom" fmla="*/ 2631240 h 3733560"/>
            </a:gdLst>
            <a:ahLst/>
            <a:rect l="textAreaLeft" t="textAreaTop" r="textAreaRight" b="textAreaBottom"/>
            <a:pathLst>
              <a:path w="21600" h="21600">
                <a:moveTo>
                  <a:pt x="21600" y="0"/>
                </a:moveTo>
                <a:arcTo wR="21600" hR="7735" stAng="-5400000" swAng="-5400000"/>
                <a:lnTo>
                  <a:pt x="0" y="11355"/>
                </a:lnTo>
                <a:arcTo wR="21600" hR="7735" stAng="10800000" swAng="-2721972"/>
                <a:lnTo>
                  <a:pt x="14400" y="21158"/>
                </a:lnTo>
                <a:lnTo>
                  <a:pt x="21600" y="17280"/>
                </a:lnTo>
                <a:lnTo>
                  <a:pt x="14400" y="12518"/>
                </a:lnTo>
                <a:lnTo>
                  <a:pt x="14400" y="15028"/>
                </a:lnTo>
                <a:arcTo wR="21600" hR="7735" stAng="8078028" swAng="2426405"/>
                <a:lnTo>
                  <a:pt x="600" y="9545"/>
                </a:lnTo>
                <a:arcTo wR="21600" hR="7735" stAng="-10504434" swAng="5104434"/>
                <a:close/>
              </a:path>
              <a:path fill="darkenLess" w="21600" h="21600">
                <a:moveTo>
                  <a:pt x="21600" y="0"/>
                </a:moveTo>
                <a:arcTo wR="21600" hR="7735" stAng="-5400000" swAng="-5400000"/>
                <a:lnTo>
                  <a:pt x="0" y="7735"/>
                </a:lnTo>
                <a:arcTo wR="21600" hR="7735" stAng="10800000" swAng="-295566"/>
                <a:lnTo>
                  <a:pt x="600" y="9545"/>
                </a:lnTo>
                <a:arcTo wR="21600" hR="7735" stAng="-10504434" swAng="5104434"/>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0" y="1828800"/>
            <a:ext cx="2971800" cy="3733920"/>
          </a:xfrm>
          <a:custGeom>
            <a:avLst/>
            <a:gdLst>
              <a:gd name="textAreaLeft" fmla="*/ 398160 w 2971800"/>
              <a:gd name="textAreaRight" fmla="*/ 2573640 w 2971800"/>
              <a:gd name="textAreaTop" fmla="*/ 668520 h 3733920"/>
              <a:gd name="textAreaBottom" fmla="*/ 2631600 h 3733920"/>
            </a:gdLst>
            <a:ahLst/>
            <a:rect l="textAreaLeft" t="textAreaTop" r="textAreaRight" b="textAreaBottom"/>
            <a:pathLst>
              <a:path w="21600" h="21600">
                <a:moveTo>
                  <a:pt x="21600" y="0"/>
                </a:moveTo>
                <a:arcTo wR="21600" hR="7735" stAng="-5400000" swAng="-5400000"/>
                <a:lnTo>
                  <a:pt x="0" y="11355"/>
                </a:lnTo>
                <a:arcTo wR="21600" hR="7735" stAng="10800000" swAng="-2721972"/>
                <a:lnTo>
                  <a:pt x="14400" y="21158"/>
                </a:lnTo>
                <a:lnTo>
                  <a:pt x="21600" y="17280"/>
                </a:lnTo>
                <a:lnTo>
                  <a:pt x="14400" y="12518"/>
                </a:lnTo>
                <a:lnTo>
                  <a:pt x="14400" y="15028"/>
                </a:lnTo>
                <a:arcTo wR="21600" hR="7735" stAng="8078028" swAng="2426405"/>
                <a:lnTo>
                  <a:pt x="600" y="9545"/>
                </a:lnTo>
                <a:arcTo wR="21600" hR="7735" stAng="-10504434" swAng="5104434"/>
                <a:close/>
              </a:path>
              <a:path fill="darkenLess" w="21600" h="21600">
                <a:moveTo>
                  <a:pt x="21600" y="0"/>
                </a:moveTo>
                <a:arcTo wR="21600" hR="7735" stAng="-5400000" swAng="-5400000"/>
                <a:lnTo>
                  <a:pt x="0" y="7735"/>
                </a:lnTo>
                <a:arcTo wR="21600" hR="7735" stAng="10800000" swAng="-295566"/>
                <a:lnTo>
                  <a:pt x="600" y="9545"/>
                </a:lnTo>
                <a:arcTo wR="21600" hR="7735" stAng="-10504434" swAng="5104434"/>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762120" y="838080"/>
            <a:ext cx="3429000" cy="20574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IDENCE-BASED PRACTICE</a:t>
            </a:r>
            <a:endParaRPr b="0" lang="en-US" sz="1800" spc="-1" strike="noStrike">
              <a:solidFill>
                <a:srgbClr val="ffffff"/>
              </a:solidFill>
              <a:latin typeface="Arial"/>
            </a:endParaRPr>
          </a:p>
        </p:txBody>
      </p:sp>
      <p:sp>
        <p:nvSpPr>
          <p:cNvPr id="118" name=""/>
          <p:cNvSpPr/>
          <p:nvPr/>
        </p:nvSpPr>
        <p:spPr>
          <a:xfrm>
            <a:off x="4876920" y="914400"/>
            <a:ext cx="3429000" cy="20574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VIDENCE-BASE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ARCH-TEST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ECTIVE PRACTICES</a:t>
            </a:r>
            <a:endParaRPr b="0" lang="en-US" sz="1800" spc="-1" strike="noStrike">
              <a:solidFill>
                <a:srgbClr val="ffffff"/>
              </a:solidFill>
              <a:latin typeface="Arial"/>
            </a:endParaRPr>
          </a:p>
        </p:txBody>
      </p:sp>
      <p:sp>
        <p:nvSpPr>
          <p:cNvPr id="119" name=""/>
          <p:cNvSpPr/>
          <p:nvPr/>
        </p:nvSpPr>
        <p:spPr>
          <a:xfrm>
            <a:off x="2819520" y="3886200"/>
            <a:ext cx="3581280" cy="2438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ORMED HEALTH SERVIC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CISION-MAKING</a:t>
            </a:r>
            <a:endParaRPr b="0" lang="en-US" sz="1800" spc="-1" strike="noStrike">
              <a:solidFill>
                <a:srgbClr val="ffffff"/>
              </a:solidFill>
              <a:latin typeface="Arial"/>
            </a:endParaRPr>
          </a:p>
        </p:txBody>
      </p:sp>
      <p:sp>
        <p:nvSpPr>
          <p:cNvPr id="120" name=""/>
          <p:cNvSpPr/>
          <p:nvPr/>
        </p:nvSpPr>
        <p:spPr>
          <a:xfrm>
            <a:off x="1219320" y="2666880"/>
            <a:ext cx="2590560" cy="1465560"/>
          </a:xfrm>
          <a:prstGeom prst="rect">
            <a:avLst/>
          </a:prstGeom>
          <a:solidFill>
            <a:srgbClr val="2b548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improve capacity of providers to use research to best deliver care to consumers/patients?</a:t>
            </a:r>
            <a:endParaRPr b="0" lang="en-US" sz="1800" spc="-1" strike="noStrike">
              <a:solidFill>
                <a:srgbClr val="ffffff"/>
              </a:solidFill>
              <a:latin typeface="Arial"/>
            </a:endParaRPr>
          </a:p>
        </p:txBody>
      </p:sp>
      <p:sp>
        <p:nvSpPr>
          <p:cNvPr id="121" name=""/>
          <p:cNvSpPr/>
          <p:nvPr/>
        </p:nvSpPr>
        <p:spPr>
          <a:xfrm>
            <a:off x="5334120" y="2743200"/>
            <a:ext cx="2514600" cy="1465560"/>
          </a:xfrm>
          <a:prstGeom prst="rect">
            <a:avLst/>
          </a:prstGeom>
          <a:solidFill>
            <a:srgbClr val="2b5481"/>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do we improve uptake of practices demonstrated to improve consumer/ patient outcomes?</a:t>
            </a:r>
            <a:endParaRPr b="0" lang="en-US" sz="1800" spc="-1" strike="noStrike">
              <a:solidFill>
                <a:srgbClr val="ffffff"/>
              </a:solidFill>
              <a:latin typeface="Arial"/>
            </a:endParaRPr>
          </a:p>
        </p:txBody>
      </p:sp>
      <p:sp>
        <p:nvSpPr>
          <p:cNvPr id="122" name=""/>
          <p:cNvSpPr/>
          <p:nvPr/>
        </p:nvSpPr>
        <p:spPr>
          <a:xfrm>
            <a:off x="990720" y="44956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ffffff"/>
              </a:solidFill>
              <a:latin typeface="Arial"/>
            </a:endParaRPr>
          </a:p>
        </p:txBody>
      </p:sp>
      <p:sp>
        <p:nvSpPr>
          <p:cNvPr id="123" name=""/>
          <p:cNvSpPr/>
          <p:nvPr/>
        </p:nvSpPr>
        <p:spPr>
          <a:xfrm>
            <a:off x="6478200" y="4495680"/>
            <a:ext cx="17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7"/>
                                        </p:tgtEl>
                                        <p:attrNameLst>
                                          <p:attrName>style.visibility</p:attrName>
                                        </p:attrNameLst>
                                      </p:cBhvr>
                                      <p:to>
                                        <p:strVal val="visible"/>
                                      </p:to>
                                    </p:set>
                                    <p:animEffect filter="checkerboard(across)"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20"/>
                                        </p:tgtEl>
                                        <p:attrNameLst>
                                          <p:attrName>style.visibility</p:attrName>
                                        </p:attrNameLst>
                                      </p:cBhvr>
                                      <p:to>
                                        <p:strVal val="visible"/>
                                      </p:to>
                                    </p:set>
                                    <p:animEffect filter="checkerboard(across)" transition="in">
                                      <p:cBhvr additive="repl">
                                        <p:cTn id="12" dur="500"/>
                                        <p:tgtEl>
                                          <p:spTgt spid="12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8"/>
                                        </p:tgtEl>
                                        <p:attrNameLst>
                                          <p:attrName>style.visibility</p:attrName>
                                        </p:attrNameLst>
                                      </p:cBhvr>
                                      <p:to>
                                        <p:strVal val="visible"/>
                                      </p:to>
                                    </p:set>
                                    <p:animEffect filter="checkerboard(across)" transition="in">
                                      <p:cBhvr additive="repl">
                                        <p:cTn id="17" dur="500"/>
                                        <p:tgtEl>
                                          <p:spTgt spid="11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21"/>
                                        </p:tgtEl>
                                        <p:attrNameLst>
                                          <p:attrName>style.visibility</p:attrName>
                                        </p:attrNameLst>
                                      </p:cBhvr>
                                      <p:to>
                                        <p:strVal val="visible"/>
                                      </p:to>
                                    </p:set>
                                    <p:animEffect filter="checkerboard(across)" transition="in">
                                      <p:cBhvr additive="repl">
                                        <p:cTn id="22" dur="500"/>
                                        <p:tgtEl>
                                          <p:spTgt spid="12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6"/>
                                        </p:tgtEl>
                                        <p:attrNameLst>
                                          <p:attrName>style.visibility</p:attrName>
                                        </p:attrNameLst>
                                      </p:cBhvr>
                                      <p:to>
                                        <p:strVal val="visible"/>
                                      </p:to>
                                    </p:set>
                                    <p:animEffect filter="box(in)" transition="in">
                                      <p:cBhvr additive="repl">
                                        <p:cTn id="27" dur="500"/>
                                        <p:tgtEl>
                                          <p:spTgt spid="116"/>
                                        </p:tgtEl>
                                      </p:cBhvr>
                                    </p:animEffect>
                                  </p:childTnLst>
                                </p:cTn>
                              </p:par>
                              <p:par>
                                <p:cTn id="28" nodeType="withEffect" fill="hold" presetClass="entr" presetID="4" presetSubtype="16">
                                  <p:stCondLst>
                                    <p:cond delay="0"/>
                                  </p:stCondLst>
                                  <p:childTnLst>
                                    <p:set>
                                      <p:cBhvr>
                                        <p:cTn id="29" dur="1" fill="hold">
                                          <p:stCondLst>
                                            <p:cond delay="0"/>
                                          </p:stCondLst>
                                        </p:cTn>
                                        <p:tgtEl>
                                          <p:spTgt spid="122"/>
                                        </p:tgtEl>
                                        <p:attrNameLst>
                                          <p:attrName>style.visibility</p:attrName>
                                        </p:attrNameLst>
                                      </p:cBhvr>
                                      <p:to>
                                        <p:strVal val="visible"/>
                                      </p:to>
                                    </p:set>
                                    <p:animEffect filter="box(in)" transition="in">
                                      <p:cBhvr additive="repl">
                                        <p:cTn id="30" dur="500"/>
                                        <p:tgtEl>
                                          <p:spTgt spid="122"/>
                                        </p:tgtEl>
                                      </p:cBhvr>
                                    </p:animEffect>
                                  </p:childTnLst>
                                </p:cTn>
                              </p:par>
                              <p:par>
                                <p:cTn id="31" nodeType="withEffect" fill="hold" presetClass="entr" presetID="4" presetSubtype="16">
                                  <p:stCondLst>
                                    <p:cond delay="0"/>
                                  </p:stCondLst>
                                  <p:childTnLst>
                                    <p:set>
                                      <p:cBhvr>
                                        <p:cTn id="32" dur="1" fill="hold">
                                          <p:stCondLst>
                                            <p:cond delay="0"/>
                                          </p:stCondLst>
                                        </p:cTn>
                                        <p:tgtEl>
                                          <p:spTgt spid="123"/>
                                        </p:tgtEl>
                                        <p:attrNameLst>
                                          <p:attrName>style.visibility</p:attrName>
                                        </p:attrNameLst>
                                      </p:cBhvr>
                                      <p:to>
                                        <p:strVal val="visible"/>
                                      </p:to>
                                    </p:set>
                                    <p:animEffect filter="box(in)" transition="in">
                                      <p:cBhvr additive="repl">
                                        <p:cTn id="33" dur="500"/>
                                        <p:tgtEl>
                                          <p:spTgt spid="123"/>
                                        </p:tgtEl>
                                      </p:cBhvr>
                                    </p:animEffect>
                                  </p:childTnLst>
                                </p:cTn>
                              </p:par>
                              <p:par>
                                <p:cTn id="34" nodeType="withEffect" fill="hold" presetClass="entr" presetID="4" presetSubtype="16">
                                  <p:stCondLst>
                                    <p:cond delay="0"/>
                                  </p:stCondLst>
                                  <p:childTnLst>
                                    <p:set>
                                      <p:cBhvr>
                                        <p:cTn id="35" dur="1" fill="hold">
                                          <p:stCondLst>
                                            <p:cond delay="0"/>
                                          </p:stCondLst>
                                        </p:cTn>
                                        <p:tgtEl>
                                          <p:spTgt spid="115"/>
                                        </p:tgtEl>
                                        <p:attrNameLst>
                                          <p:attrName>style.visibility</p:attrName>
                                        </p:attrNameLst>
                                      </p:cBhvr>
                                      <p:to>
                                        <p:strVal val="visible"/>
                                      </p:to>
                                    </p:set>
                                    <p:animEffect filter="box(in)" transition="in">
                                      <p:cBhvr additive="repl">
                                        <p:cTn id="36" dur="500"/>
                                        <p:tgtEl>
                                          <p:spTgt spid="11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19"/>
                                        </p:tgtEl>
                                        <p:attrNameLst>
                                          <p:attrName>style.visibility</p:attrName>
                                        </p:attrNameLst>
                                      </p:cBhvr>
                                      <p:to>
                                        <p:strVal val="visible"/>
                                      </p:to>
                                    </p:set>
                                    <p:animEffect filter="checkerboard(across)" transition="in">
                                      <p:cBhvr additive="repl">
                                        <p:cTn id="41"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2 Models that Work</a:t>
            </a:r>
            <a:endParaRPr b="0" lang="en-US" sz="4400" spc="-1" strike="noStrike">
              <a:solidFill>
                <a:srgbClr val="e5ffff"/>
              </a:solidFill>
              <a:latin typeface="Tahoma"/>
            </a:endParaRPr>
          </a:p>
        </p:txBody>
      </p:sp>
      <p:sp>
        <p:nvSpPr>
          <p:cNvPr id="12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ter for Health Management Research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lerating Change and Transformation in Organizations and Networks (AC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blem</a:t>
            </a: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idence-Based Management (EBM) is the systematic application of the best available evidence, particularly well-conducted management research, to the evaluation of managerial strategies for improving the performance of health services organizat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gap exists between this ideal and the current state of the art in evidence-based management</a:t>
            </a:r>
            <a:r>
              <a:rPr b="0" lang="en-US" sz="3200" spc="-1" strike="noStrike">
                <a:solidFill>
                  <a:srgbClr val="ffffff"/>
                </a:solidFill>
                <a:latin typeface="Tahoma"/>
              </a:rPr>
              <a:t> </a:t>
            </a:r>
            <a:endParaRPr b="0" lang="en-US" sz="32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les are often inaccessible </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on research, not practice implications </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popular’ management books and journals confuse the issue</a:t>
            </a:r>
            <a:endParaRPr b="0" lang="en-US" sz="2800" spc="-1" strike="noStrike">
              <a:solidFill>
                <a:srgbClr val="ffffff"/>
              </a:solidFill>
              <a:latin typeface="Tahoma"/>
            </a:endParaRPr>
          </a:p>
          <a:p>
            <a:pPr lvl="1" marL="735480" indent="-2829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timeframe makes info obsole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HRQ Study</a:t>
            </a: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new data/variables should be added to the HCUP data to increase capacity for organization and management research?</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views with hospital and health system leaders</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views with leading researchers</a:t>
            </a:r>
            <a:endParaRPr b="0" lang="en-US" sz="3200" spc="-1" strike="noStrike">
              <a:solidFill>
                <a:srgbClr val="ffffff"/>
              </a:solidFill>
              <a:latin typeface="Tahoma"/>
            </a:endParaRPr>
          </a:p>
          <a:p>
            <a:pPr marL="329040" indent="-3290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ical review of the literature</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indings</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research evidence is not consistent with the problems and decision-making conditions faced by those who might utilize this evidence.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results of this study reveal not just gaps, but a chasm between what healthcare executives are concerned about in their daily practices and what health service research could have offered</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ntent</a:t>
            </a:r>
            <a:endParaRPr b="0" lang="en-US" sz="4400" spc="-1" strike="noStrike">
              <a:solidFill>
                <a:srgbClr val="e5ffff"/>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Evidence is lacking in a number of areas that are of top priorities to managers</a:t>
            </a:r>
            <a:r>
              <a:rPr b="0" lang="en-US" sz="3200" spc="-1" strike="noStrike">
                <a:solidFill>
                  <a:srgbClr val="ffffff"/>
                </a:solidFill>
                <a:latin typeface="Tahoma"/>
              </a:rPr>
              <a:t> </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fe staffing level and optimal skill mix </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ting practice variation</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t and quality effects of different IT systems </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st-benefit of medical technology</a:t>
            </a: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constitutes effective organizational culture and leadershi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Approach</a:t>
            </a:r>
            <a:endParaRPr b="0" lang="en-US" sz="4400" spc="-1" strike="noStrike">
              <a:solidFill>
                <a:srgbClr val="e5ffff"/>
              </a:solidFill>
              <a:latin typeface="Tahoma"/>
            </a:endParaRPr>
          </a:p>
        </p:txBody>
      </p:sp>
      <p:sp>
        <p:nvSpPr>
          <p:cNvPr id="1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ital CEOs view cost, quality, and efficiency as inextricably linked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ital CEOs think about organizational factors systemically, not individually </a:t>
            </a:r>
            <a:endParaRPr b="0" lang="en-US" sz="3200" spc="-1" strike="noStrike">
              <a:solidFill>
                <a:srgbClr val="ffffff"/>
              </a:solidFill>
              <a:latin typeface="Tahoma"/>
            </a:endParaRPr>
          </a:p>
          <a:p>
            <a:pPr marL="335880" indent="-3358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spital CEOs emphasized process related factors rather than structural drivers of cost, quality, and efficienc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Are We Asking the Right Questions?</a:t>
            </a:r>
            <a:endParaRPr b="0" lang="en-US" sz="4000" spc="-1" strike="noStrike">
              <a:solidFill>
                <a:srgbClr val="e5ffff"/>
              </a:solidFill>
              <a:latin typeface="Tahoma"/>
            </a:endParaRPr>
          </a:p>
        </p:txBody>
      </p:sp>
      <p:sp>
        <p:nvSpPr>
          <p:cNvPr id="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organizations are not alik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ddle ground between individually tailoring approaches and one size fits all formulas</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itional effects of strategies, innovations, or change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Meeting Customer Needs</a:t>
            </a:r>
            <a:endParaRPr b="0" lang="en-US" sz="44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Practice leaders do not consider health services research a part of their information armamentarium</a:t>
            </a:r>
            <a:r>
              <a:rPr b="0" lang="en-US" sz="2800" spc="-1" strike="noStrike">
                <a:solidFill>
                  <a:srgbClr val="ffffff"/>
                </a:solidFill>
                <a:latin typeface="Tahoma"/>
              </a:rPr>
              <a:t> </a:t>
            </a:r>
            <a:endParaRPr b="0" lang="en-US" sz="28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d understanding of the cognitive maps that managers use in both defining problems and developing solutions </a:t>
            </a:r>
            <a:endParaRPr b="0" lang="en-US" sz="24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the decision-making constraints faced by managers? What criteria form the basis for selecting among alternative strategies? How are particular solutions adapted to fit different circumstances? </a:t>
            </a:r>
            <a:endParaRPr b="0" lang="en-US" sz="2400" spc="-1" strike="noStrike">
              <a:solidFill>
                <a:srgbClr val="ffffff"/>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5T17:48:02Z</dcterms:created>
  <dc:creator>School of Public Health</dc:creator>
  <dc:description/>
  <dc:language>en-US</dc:language>
  <cp:lastModifiedBy>School of Public Health</cp:lastModifiedBy>
  <dcterms:modified xsi:type="dcterms:W3CDTF">2008-09-01T19:30:43Z</dcterms:modified>
  <cp:revision>21</cp:revision>
  <dc:subject/>
  <dc:title>Increasing the Relevance of Research to Health Care Managers </dc:title>
</cp:coreProperties>
</file>