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E90C-FD09-4DB1-87ED-E600819D0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B7B5-CF1E-4E4C-B339-AA548F71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9849-8B05-4B95-BBBE-6B128008E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5FAB-48B0-4F6D-BAF1-597E9F77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726F-1A12-4A41-B715-F68789827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C892-AE3D-4A18-8A63-A4FF0A38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CC7-E9C9-470E-89F4-BCC474E6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4F9-3FD0-4A24-BC98-8D04198A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5EA-AA0C-41CD-9BC9-616E2941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847-6963-42E5-80DA-48148D82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4725-C0FA-464E-838F-CA79761E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DD9-7819-4036-9A86-1316951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8CF-FF04-4C26-9489-1B13FFE5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5C8-2A16-4C13-89F2-40E0F3B0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DD8-131A-440E-AAA4-7087670B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49B-640A-4798-A899-3F5B78D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A79-81FD-4C0F-BD4A-8D3F8D9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068-B43F-4AD9-A862-2DAE172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BC4-A1F6-4701-B0D3-6AFF4863B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90600"/>
            <a:ext cx="7924680" cy="306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Conversational IT for Better, Safer, Pediatric Care 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G. Adams, M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te Professor of Pediatr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or of Child Health Informat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ston Medical Center/Boston University School of Medici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dams@bu.edu</a:t>
            </a:r>
            <a:endParaRPr b="0" lang="en-US" sz="20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LC-Asthma – Results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difference in ER visits, hospitalizations, or spirome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6% decrease in daytime symptom-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5% increase in symptom-free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7% fewer missed school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effect in heavier u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113080" y="6324480"/>
            <a:ext cx="381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baba"/>
                </a:solidFill>
                <a:latin typeface="Tahoma"/>
              </a:rPr>
              <a:t>Preliminary, unpublished find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The Healthy Eating and Activity </a:t>
            </a:r>
            <a:br>
              <a:rPr sz="3200"/>
            </a:b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Today (HEAT) Program:</a:t>
            </a:r>
            <a:br>
              <a:rPr sz="3200"/>
            </a:b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Telephony-based Self Care for </a:t>
            </a:r>
            <a:br>
              <a:rPr sz="3200"/>
            </a:br>
            <a:r>
              <a:rPr b="0" lang="en-US" sz="3200" spc="-1" strike="noStrike">
                <a:solidFill>
                  <a:srgbClr val="fddf03"/>
                </a:solidFill>
                <a:latin typeface="Tahoma"/>
              </a:rPr>
              <a:t>Overweight Children</a:t>
            </a:r>
            <a:endParaRPr b="0" lang="en-US" sz="32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HEAT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evidence-based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ffic Light Diet (TLC, Epstein et 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Media Awareness to Reduce Television (SMART, Robinson et al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-12 yr old children in early stages of overweight ( BM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&lt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5 above 95 %’i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’s parent participates with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CP supports family’s eff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heoretical Foundation for </a:t>
            </a:r>
            <a:br>
              <a:rPr sz="3600"/>
            </a:b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HEAT Content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754280"/>
          <a:ext cx="8458200" cy="4495680"/>
        </p:xfrm>
        <a:graphic>
          <a:graphicData uri="http://schemas.openxmlformats.org/drawingml/2006/table">
            <a:tbl>
              <a:tblPr/>
              <a:tblGrid>
                <a:gridCol w="4267440"/>
                <a:gridCol w="4190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ory/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eting and positive praise or encouragement for sticking with the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inforcement to build adherence to the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llow-up on challenge / goal set in the previous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ntingency management, re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al topic related to weight management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spcAft>
                          <a:spcPts val="281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ilding behavioral cap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sessment related to the topic of th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lf-monitoring / self-awar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llenge / goal setting related either to the previous challenge or to the topic of the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uilding self-efficacy / goal s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lementation int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mmary statement / closing to wrap up what was discus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5639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752480" y="762120"/>
            <a:ext cx="717228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he Personal Health Partner (PHP)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visit conversation with pa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diatric primary care and medication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C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assigned at time of call)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ment (w/ EHR Integ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ment, Counseling, and Ac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6419880" y="403848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2362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f03"/>
                </a:solidFill>
                <a:latin typeface="Tahoma"/>
              </a:rPr>
              <a:t>PHP</a:t>
            </a:r>
            <a:br>
              <a:rPr sz="2800"/>
            </a:br>
            <a:r>
              <a:rPr b="0" lang="en-US" sz="2800" spc="-1" strike="noStrike">
                <a:solidFill>
                  <a:srgbClr val="fddf03"/>
                </a:solidFill>
                <a:latin typeface="Tahoma"/>
              </a:rPr>
              <a:t>System</a:t>
            </a:r>
            <a:br>
              <a:rPr sz="2800"/>
            </a:br>
            <a:r>
              <a:rPr b="0" lang="en-US" sz="2800" spc="-1" strike="noStrike">
                <a:solidFill>
                  <a:srgbClr val="fddf03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fddf03"/>
              </a:solidFill>
              <a:latin typeface="Tahoma"/>
            </a:endParaRPr>
          </a:p>
        </p:txBody>
      </p:sp>
      <p:pic>
        <p:nvPicPr>
          <p:cNvPr id="82" name="Picture 5" descr="phone"/>
          <p:cNvPicPr/>
          <p:nvPr/>
        </p:nvPicPr>
        <p:blipFill>
          <a:blip r:embed="rId1"/>
          <a:stretch/>
        </p:blipFill>
        <p:spPr>
          <a:xfrm>
            <a:off x="1295280" y="776160"/>
            <a:ext cx="1044720" cy="1067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990720" y="609480"/>
            <a:ext cx="1981080" cy="19051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414800" y="349200"/>
            <a:ext cx="11361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nywhe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154160" y="2971800"/>
            <a:ext cx="1905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Gateway Server (Envox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computr3"/>
          <p:cNvSpPr/>
          <p:nvPr/>
        </p:nvSpPr>
        <p:spPr>
          <a:xfrm>
            <a:off x="3178080" y="2895480"/>
            <a:ext cx="871560" cy="642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722760" y="3962520"/>
            <a:ext cx="1066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XML Application Server (Tomcat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257800" y="320040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(SQL Serve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230480" y="4038480"/>
            <a:ext cx="1752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Recognition (ASR) and Text-to-Speech (TTS) (Loquendo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14"/>
          <p:cNvSpPr/>
          <p:nvPr/>
        </p:nvSpPr>
        <p:spPr>
          <a:xfrm>
            <a:off x="2678040" y="480060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15"/>
          <p:cNvSpPr/>
          <p:nvPr/>
        </p:nvSpPr>
        <p:spPr>
          <a:xfrm flipV="1">
            <a:off x="7543800" y="2362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16"/>
          <p:cNvSpPr/>
          <p:nvPr/>
        </p:nvSpPr>
        <p:spPr>
          <a:xfrm flipV="1">
            <a:off x="2754360" y="3657240"/>
            <a:ext cx="304920" cy="22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4114800" y="3629160"/>
            <a:ext cx="228600" cy="22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66680" y="2743200"/>
            <a:ext cx="7021800" cy="35053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26"/>
          <p:cNvSpPr/>
          <p:nvPr/>
        </p:nvSpPr>
        <p:spPr>
          <a:xfrm>
            <a:off x="4419720" y="472428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4844160" y="2590920"/>
            <a:ext cx="99612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514600" y="1828800"/>
            <a:ext cx="1066680" cy="990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Line 31"/>
          <p:cNvSpPr/>
          <p:nvPr/>
        </p:nvSpPr>
        <p:spPr>
          <a:xfrm>
            <a:off x="8344080" y="1704960"/>
            <a:ext cx="1141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6411960" y="685800"/>
            <a:ext cx="2362320" cy="1828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ower"/>
          <p:cNvSpPr/>
          <p:nvPr/>
        </p:nvSpPr>
        <p:spPr>
          <a:xfrm>
            <a:off x="5791320" y="365760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7162920" y="19051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linici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49"/>
          <p:cNvSpPr/>
          <p:nvPr/>
        </p:nvSpPr>
        <p:spPr>
          <a:xfrm>
            <a:off x="6492240" y="533520"/>
            <a:ext cx="21146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rimary Care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1575360" y="1981080"/>
            <a:ext cx="8132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ar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54" descr="j0195384"/>
          <p:cNvPicPr/>
          <p:nvPr/>
        </p:nvPicPr>
        <p:blipFill>
          <a:blip r:embed="rId2"/>
          <a:stretch/>
        </p:blipFill>
        <p:spPr>
          <a:xfrm>
            <a:off x="7238880" y="1066680"/>
            <a:ext cx="7509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Line 57"/>
          <p:cNvSpPr/>
          <p:nvPr/>
        </p:nvSpPr>
        <p:spPr>
          <a:xfrm>
            <a:off x="5029200" y="434340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6792840" y="297180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EHR (Logicia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62"/>
          <p:cNvSpPr/>
          <p:nvPr/>
        </p:nvSpPr>
        <p:spPr>
          <a:xfrm>
            <a:off x="6993000" y="3444840"/>
            <a:ext cx="457200" cy="9144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5715000" y="4995720"/>
            <a:ext cx="1981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vXML Script Development Software (Envox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computr3"/>
          <p:cNvSpPr/>
          <p:nvPr/>
        </p:nvSpPr>
        <p:spPr>
          <a:xfrm>
            <a:off x="6019920" y="5452920"/>
            <a:ext cx="871560" cy="6429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65"/>
          <p:cNvSpPr/>
          <p:nvPr/>
        </p:nvSpPr>
        <p:spPr>
          <a:xfrm>
            <a:off x="5029200" y="5562720"/>
            <a:ext cx="685800" cy="2286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Hypotheses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P use will be associated with more comprehensive vis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P counseling will improve parent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28240" indent="-224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28240" indent="-224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28240" indent="-224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P will improve efficiency by pre-populating RHCM form in E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5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tudyDesignvFinal"/>
          <p:cNvPicPr/>
          <p:nvPr/>
        </p:nvPicPr>
        <p:blipFill>
          <a:blip r:embed="rId1"/>
          <a:stretch/>
        </p:blipFill>
        <p:spPr>
          <a:xfrm>
            <a:off x="1752480" y="285840"/>
            <a:ext cx="7162920" cy="6343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228600" y="48708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f03"/>
                </a:solidFill>
                <a:latin typeface="Tahoma"/>
                <a:ea typeface="Times New Roman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df03"/>
                </a:solidFill>
                <a:latin typeface="Tahoma"/>
                <a:ea typeface="Times New Roman"/>
              </a:rPr>
              <a:t>Study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PHP Assessment Samples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447920"/>
          <a:ext cx="8534160" cy="4894200"/>
        </p:xfrm>
        <a:graphic>
          <a:graphicData uri="http://schemas.openxmlformats.org/drawingml/2006/table">
            <a:tbl>
              <a:tblPr/>
              <a:tblGrid>
                <a:gridCol w="2361960"/>
                <a:gridCol w="2819520"/>
                <a:gridCol w="335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al Smo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er is smo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 local/national quit 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iled Scre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cuss concerns with PCP, offer EI phone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nal 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sitive screen (PHQ2), no current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ll/find parent PCP, discuss feelings with pediatri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B 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 risk, due for scree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mind clinician to do 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Reconcil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active or undocumented med in EHR Me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 (physician notified via E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n prescription m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ing medication to vi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sing err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cuss dosing with clini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thma reliever used as contro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ring medication to visit and discuss use with clini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809880" cy="6019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-165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00" y="437112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Oval 6"/>
          <p:cNvSpPr/>
          <p:nvPr/>
        </p:nvSpPr>
        <p:spPr>
          <a:xfrm>
            <a:off x="257040" y="4900680"/>
            <a:ext cx="34290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962520" y="1525680"/>
            <a:ext cx="5029200" cy="2894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Demonstration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PHP: Year 1 Activities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ript development (questions, triggers, counseling, activ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script data model and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HR data and user interf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group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2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A Critical Role for Patient-Centered HIT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mits of clinician-centered H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need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pond to individu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age patients outside clinical set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ccess to personal medical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ower patients to be active participants in decisions and daily mana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unique constraints for child-centered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Conversational IT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20574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ech-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dire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p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g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Why </a:t>
            </a: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elephony</a:t>
            </a: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20574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rsa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biquit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b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hree Child-centered Conversational Systems</a:t>
            </a:r>
            <a:endParaRPr b="0" lang="en-US" sz="4000" spc="-1" strike="noStrike">
              <a:solidFill>
                <a:srgbClr val="fddf03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LC-Asth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Eating and Activity Today (HEA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Health Partner (PH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LC-Asthma: An Integrated Information System for Child-centered Monitoring and Case Management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8284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age-specific child scripts (Grades K-1, 2-3, 4-6, 7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rotating mod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parate scripts for 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u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 and te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ert nurse case mana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df03"/>
                </a:solidFill>
                <a:latin typeface="Tahoma"/>
              </a:rPr>
              <a:t>TLC-Asthma Scripts</a:t>
            </a:r>
            <a:r>
              <a:rPr b="0" lang="en-US" sz="4400" spc="-1" strike="noStrike">
                <a:solidFill>
                  <a:srgbClr val="fddf03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ddf0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df03"/>
                </a:solidFill>
                <a:latin typeface="Tahoma"/>
              </a:rPr>
              <a:t>TLC-Asthma Alert Summary*</a:t>
            </a:r>
            <a:endParaRPr b="0" lang="en-US" sz="3600" spc="-1" strike="noStrike">
              <a:solidFill>
                <a:srgbClr val="fddf03"/>
              </a:solidFill>
              <a:latin typeface="Tahoma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1295280"/>
          <a:ext cx="6705720" cy="4862520"/>
        </p:xfrm>
        <a:graphic>
          <a:graphicData uri="http://schemas.openxmlformats.org/drawingml/2006/table">
            <a:tbl>
              <a:tblPr/>
              <a:tblGrid>
                <a:gridCol w="3814920"/>
                <a:gridCol w="1336680"/>
                <a:gridCol w="1554120"/>
              </a:tblGrid>
              <a:tr h="6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#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#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ld seriously 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istent asthma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7(3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(2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ssed school due to asth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(1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(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ds refi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(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ation knowledge de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6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(1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x does not match sympto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cessive reliever med.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5(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(2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sistent trigger exp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ak flow monitoring 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3(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 action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(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07"/>
          <p:cNvSpPr/>
          <p:nvPr/>
        </p:nvSpPr>
        <p:spPr>
          <a:xfrm>
            <a:off x="2286000" y="624852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6 month intervention, 79 intervention famil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5:44:00Z</dcterms:created>
  <dc:creator>biadams</dc:creator>
  <dc:description/>
  <dc:language>en-US</dc:language>
  <cp:lastModifiedBy>william.hyde</cp:lastModifiedBy>
  <dcterms:modified xsi:type="dcterms:W3CDTF">2009-01-02T14:05:11Z</dcterms:modified>
  <cp:revision>125</cp:revision>
  <dc:subject/>
  <dc:title>PowerPoint Presentation</dc:title>
</cp:coreProperties>
</file>