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df0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9E7F-3B52-48FB-8E8B-B55EA0751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9371-8D81-4D1E-80C9-FDF8DD6D1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5AD7-B376-4D8D-9105-6039B7D54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9FF6-760D-4EC2-9073-DBC1CB867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F6D9-7A57-49D7-8B58-4D0149ED2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0DD8-0313-4E69-9745-2D99F0F5F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457-5631-46C4-8783-A2ABCAFF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7E3-4835-40C3-873D-AA04991F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9BF-B0AF-4DA6-BF43-3A217FF7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674-D73D-45E0-AF52-B5567C22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A21-15C7-4806-9C8C-5DC11D4C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DAD-0F1D-4C08-A457-7E012109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7BF-D076-46C1-BE97-3AEE3A6E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E6B-AFBE-4559-97FC-0BFF6469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DAB-EEFF-45B4-B466-1388FD14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6B7-1324-4E77-ABE4-8D83DCB9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CE1-1AA3-4D29-980D-72652D8E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2A7-F4B3-499C-96F7-F94E1643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df0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DC53-EC81-4EF3-90DE-E17A53573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90600"/>
            <a:ext cx="7924680" cy="306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Conversational IT for Better, Safer, Pediatric Care 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lliam G. Adams, M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ociate Professor of Pediatr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rector of Child Health Informat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ston Medical Center/Boston University School of Medici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dams@bu.edu</a:t>
            </a:r>
            <a:endParaRPr b="0" lang="en-US" sz="2000" spc="-1" strike="noStrike">
              <a:solidFill>
                <a:srgbClr val="fddf0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TLC-Asthma – Results</a:t>
            </a:r>
            <a:endParaRPr b="0" lang="en-US" sz="40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difference in ER visits, hospitalizations, or spirome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6% decrease in daytime symptom-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% increase in symptom-free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7% fewer missed school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effect in heavier us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113080" y="6324480"/>
            <a:ext cx="38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baba"/>
                </a:solidFill>
                <a:latin typeface="Tahoma"/>
              </a:rPr>
              <a:t>Preliminary, unpublished find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df03"/>
                </a:solidFill>
                <a:latin typeface="Tahoma"/>
              </a:rPr>
              <a:t>The Healthy Eating and Activity </a:t>
            </a:r>
            <a:br>
              <a:rPr sz="3200"/>
            </a:br>
            <a:r>
              <a:rPr b="0" lang="en-US" sz="3200" spc="-1" strike="noStrike">
                <a:solidFill>
                  <a:srgbClr val="fddf03"/>
                </a:solidFill>
                <a:latin typeface="Tahoma"/>
              </a:rPr>
              <a:t>Today (HEAT) Program:</a:t>
            </a:r>
            <a:br>
              <a:rPr sz="3200"/>
            </a:br>
            <a:r>
              <a:rPr b="0" lang="en-US" sz="3200" spc="-1" strike="noStrike">
                <a:solidFill>
                  <a:srgbClr val="fddf03"/>
                </a:solidFill>
                <a:latin typeface="Tahoma"/>
              </a:rPr>
              <a:t>Telephony-based Self Care for </a:t>
            </a:r>
            <a:br>
              <a:rPr sz="3200"/>
            </a:br>
            <a:r>
              <a:rPr b="0" lang="en-US" sz="3200" spc="-1" strike="noStrike">
                <a:solidFill>
                  <a:srgbClr val="fddf03"/>
                </a:solidFill>
                <a:latin typeface="Tahoma"/>
              </a:rPr>
              <a:t>Overweight Children</a:t>
            </a:r>
            <a:endParaRPr b="0" lang="en-US" sz="3200" spc="-1" strike="noStrike">
              <a:solidFill>
                <a:srgbClr val="fddf0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df03"/>
                </a:solidFill>
                <a:latin typeface="Tahoma"/>
              </a:rPr>
              <a:t>HEAT</a:t>
            </a: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evidence-based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ffic Light Diet (TLC, Epstein et 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Media Awareness to Reduce Television (SMART, Robinson et al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-12 yr old children in early stages of overweight ( BM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&lt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5 above 95 %’i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’s parent participates with chi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P supports family’s eff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Theoretical Foundation for </a:t>
            </a:r>
            <a:br>
              <a:rPr sz="3600"/>
            </a:b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HEAT Content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80880" y="1754280"/>
          <a:ext cx="8458200" cy="4495680"/>
        </p:xfrm>
        <a:graphic>
          <a:graphicData uri="http://schemas.openxmlformats.org/drawingml/2006/table">
            <a:tbl>
              <a:tblPr/>
              <a:tblGrid>
                <a:gridCol w="4267440"/>
                <a:gridCol w="4190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ory/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eting and positive praise or encouragement for sticking with the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inforcement to build adherence to the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llow-up on challenge / goal set in the previous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ingency management, rew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al topic related to weight management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28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ilding behavioral cap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essment related to the topic of th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lf-monitoring / self-awar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llenge / goal setting related either to the previous challenge or to the topic of the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ilding self-efficacy / goal s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lementation int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mmary statement / closing to wrap up what was discu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5639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1752480" y="762120"/>
            <a:ext cx="71722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The Personal Health Partner (PHP)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-visit conversation with pa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diatric primary care and medication saf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CT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assigned at time of call)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ssment (w/ EHR Integr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ssment, Counseling, and Ac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6419880" y="403848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2362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f03"/>
                </a:solidFill>
                <a:latin typeface="Tahoma"/>
              </a:rPr>
              <a:t>PHP</a:t>
            </a:r>
            <a:br>
              <a:rPr sz="2800"/>
            </a:br>
            <a:r>
              <a:rPr b="0" lang="en-US" sz="2800" spc="-1" strike="noStrike">
                <a:solidFill>
                  <a:srgbClr val="fddf03"/>
                </a:solidFill>
                <a:latin typeface="Tahoma"/>
              </a:rPr>
              <a:t>System</a:t>
            </a:r>
            <a:br>
              <a:rPr sz="2800"/>
            </a:br>
            <a:r>
              <a:rPr b="0" lang="en-US" sz="2800" spc="-1" strike="noStrike">
                <a:solidFill>
                  <a:srgbClr val="fddf03"/>
                </a:solidFill>
                <a:latin typeface="Tahoma"/>
              </a:rPr>
              <a:t>Architecture</a:t>
            </a:r>
            <a:endParaRPr b="0" lang="en-US" sz="2800" spc="-1" strike="noStrike">
              <a:solidFill>
                <a:srgbClr val="fddf03"/>
              </a:solidFill>
              <a:latin typeface="Tahoma"/>
            </a:endParaRPr>
          </a:p>
        </p:txBody>
      </p:sp>
      <p:pic>
        <p:nvPicPr>
          <p:cNvPr id="82" name="Picture 5" descr="phone"/>
          <p:cNvPicPr/>
          <p:nvPr/>
        </p:nvPicPr>
        <p:blipFill>
          <a:blip r:embed="rId1"/>
          <a:stretch/>
        </p:blipFill>
        <p:spPr>
          <a:xfrm>
            <a:off x="1295280" y="776160"/>
            <a:ext cx="1044720" cy="10670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990720" y="609480"/>
            <a:ext cx="1981080" cy="19051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414800" y="349200"/>
            <a:ext cx="113616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nywhe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154160" y="2971800"/>
            <a:ext cx="1905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Gateway Server (Envox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computr3"/>
          <p:cNvSpPr/>
          <p:nvPr/>
        </p:nvSpPr>
        <p:spPr>
          <a:xfrm>
            <a:off x="3178080" y="2895480"/>
            <a:ext cx="871560" cy="6429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722760" y="3962520"/>
            <a:ext cx="1066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XML Application Server (Tomcat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257800" y="320040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(SQL Serve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230480" y="4038480"/>
            <a:ext cx="1752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Recognition (ASR) and Text-to-Speech (TTS) (Loquendo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2678040" y="4800600"/>
            <a:ext cx="45720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7543800" y="2362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2754360" y="3657240"/>
            <a:ext cx="304920" cy="228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4114800" y="3629160"/>
            <a:ext cx="228600" cy="228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1066680" y="2743200"/>
            <a:ext cx="7021800" cy="35053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26"/>
          <p:cNvSpPr/>
          <p:nvPr/>
        </p:nvSpPr>
        <p:spPr>
          <a:xfrm>
            <a:off x="4419720" y="4724280"/>
            <a:ext cx="45720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4844160" y="2590920"/>
            <a:ext cx="996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2514600" y="1828800"/>
            <a:ext cx="1066680" cy="9907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Line 31"/>
          <p:cNvSpPr/>
          <p:nvPr/>
        </p:nvSpPr>
        <p:spPr>
          <a:xfrm>
            <a:off x="8344080" y="1704960"/>
            <a:ext cx="11412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6411960" y="685800"/>
            <a:ext cx="2362320" cy="182880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ower"/>
          <p:cNvSpPr/>
          <p:nvPr/>
        </p:nvSpPr>
        <p:spPr>
          <a:xfrm>
            <a:off x="5791320" y="3657600"/>
            <a:ext cx="45720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7162920" y="19051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linici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49"/>
          <p:cNvSpPr/>
          <p:nvPr/>
        </p:nvSpPr>
        <p:spPr>
          <a:xfrm>
            <a:off x="6492240" y="533520"/>
            <a:ext cx="21146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ry Care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51"/>
          <p:cNvSpPr/>
          <p:nvPr/>
        </p:nvSpPr>
        <p:spPr>
          <a:xfrm>
            <a:off x="1575360" y="1981080"/>
            <a:ext cx="8132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ar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54" descr="j0195384"/>
          <p:cNvPicPr/>
          <p:nvPr/>
        </p:nvPicPr>
        <p:blipFill>
          <a:blip r:embed="rId2"/>
          <a:stretch/>
        </p:blipFill>
        <p:spPr>
          <a:xfrm>
            <a:off x="7238880" y="1066680"/>
            <a:ext cx="75096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Line 57"/>
          <p:cNvSpPr/>
          <p:nvPr/>
        </p:nvSpPr>
        <p:spPr>
          <a:xfrm>
            <a:off x="5029200" y="434340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1"/>
          <p:cNvSpPr/>
          <p:nvPr/>
        </p:nvSpPr>
        <p:spPr>
          <a:xfrm>
            <a:off x="6792840" y="29718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HR (Logicia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62"/>
          <p:cNvSpPr/>
          <p:nvPr/>
        </p:nvSpPr>
        <p:spPr>
          <a:xfrm>
            <a:off x="6993000" y="3444840"/>
            <a:ext cx="45720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63"/>
          <p:cNvSpPr/>
          <p:nvPr/>
        </p:nvSpPr>
        <p:spPr>
          <a:xfrm>
            <a:off x="5715000" y="499572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XML Script Development Software (Envox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computr3"/>
          <p:cNvSpPr/>
          <p:nvPr/>
        </p:nvSpPr>
        <p:spPr>
          <a:xfrm>
            <a:off x="6019920" y="5452920"/>
            <a:ext cx="871560" cy="6429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65"/>
          <p:cNvSpPr/>
          <p:nvPr/>
        </p:nvSpPr>
        <p:spPr>
          <a:xfrm>
            <a:off x="5029200" y="5562720"/>
            <a:ext cx="685800" cy="228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Hypotheses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P use will be associated with more comprehensive vis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P counseling will improve parent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28240" indent="-224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28240" indent="-224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28240" indent="-224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P will improve efficiency by pre-populating RHCM form in EH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5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StudyDesignvFinal"/>
          <p:cNvPicPr/>
          <p:nvPr/>
        </p:nvPicPr>
        <p:blipFill>
          <a:blip r:embed="rId1"/>
          <a:stretch/>
        </p:blipFill>
        <p:spPr>
          <a:xfrm>
            <a:off x="1752480" y="285840"/>
            <a:ext cx="7162920" cy="6343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228600" y="487080"/>
            <a:ext cx="152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f03"/>
                </a:solidFill>
                <a:latin typeface="Tahoma"/>
                <a:ea typeface="Times New Roman"/>
              </a:rPr>
              <a:t>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f03"/>
                </a:solidFill>
                <a:latin typeface="Tahoma"/>
                <a:ea typeface="Times New Roman"/>
              </a:rPr>
              <a:t>Study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PHP Assessment Samples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920" y="1447920"/>
          <a:ext cx="8534160" cy="4894200"/>
        </p:xfrm>
        <a:graphic>
          <a:graphicData uri="http://schemas.openxmlformats.org/drawingml/2006/table">
            <a:tbl>
              <a:tblPr/>
              <a:tblGrid>
                <a:gridCol w="2361960"/>
                <a:gridCol w="2819520"/>
                <a:gridCol w="335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ental Smo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ler is smo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l local/national quit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ld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iled Scre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cuss concerns with PCP, offer EI phone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nal De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sitive screen (PHQ2), no current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l/find parent PCP, discuss feelings with pediatric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B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 risk, due for scre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mind clinician to do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ation Reconcil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active or undocumented med in EHR Me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 (physician notified via E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ation 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n prescription m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ing medication to vi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sing err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cuss dosing with clinic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hma reliever used as contro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ing medication to visit and discuss use with clinic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809880" cy="6019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-165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800" y="43711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Oval 6"/>
          <p:cNvSpPr/>
          <p:nvPr/>
        </p:nvSpPr>
        <p:spPr>
          <a:xfrm>
            <a:off x="257040" y="4900680"/>
            <a:ext cx="34290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962520" y="1525680"/>
            <a:ext cx="5029200" cy="289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Demonstration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PHP: Year 1 Activities</a:t>
            </a:r>
            <a:endParaRPr b="0" lang="en-US" sz="40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ript development (questions, triggers, counseling, activ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script data model and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HR data and user interf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 group 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2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A Critical Role for Patient-Centered HIT</a:t>
            </a:r>
            <a:endParaRPr b="0" lang="en-US" sz="40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s of clinician-centered H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ing need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ond to individu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age patients outside clinical set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access to personal medical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ower patients to be active participants in decisions and daily mana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 unique constraints for child-centered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Conversational IT</a:t>
            </a:r>
            <a:endParaRPr b="0" lang="en-US" sz="40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95120" y="20574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ech-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direc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g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df03"/>
                </a:solidFill>
                <a:latin typeface="Tahoma"/>
              </a:rPr>
              <a:t>Why </a:t>
            </a: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Telephony</a:t>
            </a:r>
            <a:r>
              <a:rPr b="0" lang="en-US" sz="4400" spc="-1" strike="noStrike">
                <a:solidFill>
                  <a:srgbClr val="fddf03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120" y="20574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sa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biquit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b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Three Child-centered Conversational Systems</a:t>
            </a:r>
            <a:endParaRPr b="0" lang="en-US" sz="40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LC-Asth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 Eating and Activity Today (HEA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al Health Partner (PH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TLC-Asthma: An Integrated Information System for Child-centered Monitoring and Case Management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52480" y="18284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 age-specific child scripts (Grades K-1, 2-3, 4-6, 7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rotating mod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arate scripts for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u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 and te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rt nurse case mana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TLC-Asthma Scripts</a:t>
            </a:r>
            <a:r>
              <a:rPr b="0" lang="en-US" sz="4400" spc="-1" strike="noStrike">
                <a:solidFill>
                  <a:srgbClr val="fddf03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TLC-Asthma Alert Summary*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43000" y="1295280"/>
          <a:ext cx="6705720" cy="4862520"/>
        </p:xfrm>
        <a:graphic>
          <a:graphicData uri="http://schemas.openxmlformats.org/drawingml/2006/table">
            <a:tbl>
              <a:tblPr/>
              <a:tblGrid>
                <a:gridCol w="3814920"/>
                <a:gridCol w="1336680"/>
                <a:gridCol w="1554120"/>
              </a:tblGrid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#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#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ld seriously 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istent asthma 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7(3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(2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ssed school due to asth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ation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(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(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ds ref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ation knowledge de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(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(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x does not match 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(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(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cessive reliever med.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5(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(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istent trigger exp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ak flow monitoring prob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(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(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action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07"/>
          <p:cNvSpPr/>
          <p:nvPr/>
        </p:nvSpPr>
        <p:spPr>
          <a:xfrm>
            <a:off x="2286000" y="6248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6 month intervention, 79 intervention famil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5:44:00Z</dcterms:created>
  <dc:creator>biadams</dc:creator>
  <dc:description/>
  <dc:language>en-US</dc:language>
  <cp:lastModifiedBy>william.hyde</cp:lastModifiedBy>
  <dcterms:modified xsi:type="dcterms:W3CDTF">2009-01-02T14:05:11Z</dcterms:modified>
  <cp:revision>125</cp:revision>
  <dc:subject/>
  <dc:title>PowerPoint Presentation</dc:title>
</cp:coreProperties>
</file>