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2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Freeform 45"/>
            <p:cNvSpPr/>
            <p:nvPr/>
          </p:nvSpPr>
          <p:spPr>
            <a:xfrm>
              <a:off x="8021520" y="6294240"/>
              <a:ext cx="270360" cy="26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7729200" y="6219720"/>
              <a:ext cx="313560" cy="34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7812360" y="6312600"/>
              <a:ext cx="11412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7786080" y="6355800"/>
              <a:ext cx="11412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7694640" y="6514920"/>
              <a:ext cx="125280" cy="5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285040" y="6294240"/>
              <a:ext cx="2527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8651520" y="6449760"/>
              <a:ext cx="187560" cy="13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8528400" y="6274440"/>
              <a:ext cx="288360" cy="30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7808760" y="5986440"/>
            <a:ext cx="908280" cy="446040"/>
          </a:xfrm>
          <a:prstGeom prst="pie">
            <a:avLst/>
          </a:prstGeom>
          <a:gradFill rotWithShape="0">
            <a:gsLst>
              <a:gs pos="0">
                <a:srgbClr val="3939ff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" name="Object 62"/>
          <p:cNvGraphicFramePr/>
          <p:nvPr/>
        </p:nvGraphicFramePr>
        <p:xfrm>
          <a:off x="33480" y="76320"/>
          <a:ext cx="1224000" cy="119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" name="Object 6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" y="76320"/>
                    <a:ext cx="1224000" cy="11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838080" y="5638680"/>
            <a:ext cx="1590120" cy="848880"/>
            <a:chOff x="838080" y="5638680"/>
            <a:chExt cx="1590120" cy="848880"/>
          </a:xfrm>
        </p:grpSpPr>
        <p:grpSp>
          <p:nvGrpSpPr>
            <p:cNvPr id="54" name="Group 52"/>
            <p:cNvGrpSpPr/>
            <p:nvPr/>
          </p:nvGrpSpPr>
          <p:grpSpPr>
            <a:xfrm>
              <a:off x="844200" y="5640840"/>
              <a:ext cx="1584000" cy="846720"/>
              <a:chOff x="844200" y="5640840"/>
              <a:chExt cx="1584000" cy="84672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995760" y="5640840"/>
                <a:ext cx="1251720" cy="62496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1292760" y="6073200"/>
                <a:ext cx="376920" cy="3830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892800" y="5968800"/>
                <a:ext cx="435600" cy="4874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1007280" y="6099480"/>
                <a:ext cx="156240" cy="385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967320" y="6159960"/>
                <a:ext cx="161640" cy="4716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844200" y="6383520"/>
                <a:ext cx="173160" cy="730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1658160" y="6073200"/>
                <a:ext cx="349560" cy="38664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2169000" y="6292080"/>
                <a:ext cx="259200" cy="19548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1994040" y="6046920"/>
                <a:ext cx="398520" cy="429120"/>
              </a:xfrm>
              <a:prstGeom prst="pie">
                <a:avLst/>
              </a:pr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989640" y="5638680"/>
              <a:ext cx="1253520" cy="627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838080" y="5936040"/>
              <a:ext cx="1583280" cy="520200"/>
              <a:chOff x="838080" y="5936040"/>
              <a:chExt cx="1583280" cy="52020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1290240" y="6043680"/>
                <a:ext cx="374040" cy="37620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881640" y="5936040"/>
                <a:ext cx="440280" cy="48060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1001160" y="6069240"/>
                <a:ext cx="151920" cy="3384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964800" y="6127560"/>
                <a:ext cx="156600" cy="4752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838080" y="6348600"/>
                <a:ext cx="173160" cy="7308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1655280" y="6043680"/>
                <a:ext cx="349560" cy="37980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2162160" y="6261120"/>
                <a:ext cx="259200" cy="19512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1988640" y="6018120"/>
                <a:ext cx="397800" cy="425880"/>
              </a:xfrm>
              <a:prstGeom prst="pi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Line 73"/>
            <p:cNvSpPr/>
            <p:nvPr/>
          </p:nvSpPr>
          <p:spPr>
            <a:xfrm>
              <a:off x="6840" y="33084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32893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" name="Object 83"/>
          <p:cNvGraphicFramePr/>
          <p:nvPr/>
        </p:nvGraphicFramePr>
        <p:xfrm>
          <a:off x="3505320" y="195120"/>
          <a:ext cx="2133360" cy="209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8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95120"/>
                    <a:ext cx="213336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106"/>
          <p:cNvGraphicFramePr/>
          <p:nvPr/>
        </p:nvGraphicFramePr>
        <p:xfrm>
          <a:off x="6858000" y="5257800"/>
          <a:ext cx="1585800" cy="135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10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5257800"/>
                    <a:ext cx="1585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361960"/>
            <a:ext cx="779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AHRQ QI Composit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7720" y="3885840"/>
            <a:ext cx="72392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Annual Conference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Reporting and PP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8" name="Chart 2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058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Reporting and PP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1905120"/>
          <a:ext cx="7543800" cy="3962160"/>
        </p:xfrm>
        <a:graphic>
          <a:graphicData uri="http://schemas.openxmlformats.org/drawingml/2006/table">
            <a:tbl>
              <a:tblPr/>
              <a:tblGrid>
                <a:gridCol w="1460520"/>
                <a:gridCol w="1703160"/>
                <a:gridCol w="1460520"/>
                <a:gridCol w="1459080"/>
                <a:gridCol w="1460520"/>
              </a:tblGrid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(PPV)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(PPV)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3"/>
          <p:cNvSpPr/>
          <p:nvPr/>
        </p:nvSpPr>
        <p:spPr>
          <a:xfrm>
            <a:off x="838080" y="6172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 With var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Reporting and PP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good is good enoug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of improving quality as measured by overall population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elast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Q for change in sig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rate and 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hip between PPV and PPV var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a composite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s are combinations of two or more components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measures may be outcome (mortality, morbidity, proxy), process, structure, patient experience, cost or conjunctive (and/or) combinations of each 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a composi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of a compo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statistical precision through increasing the effective sample siz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taneous consideration of more than one component mea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95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al when more then one component is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95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know in advance which component is most import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rpose of a composi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echanisms of performance improvement to achieve the goal of the composite (e.g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post-operative mortality, adverse event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ward eff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9520" indent="-4651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improvement, pay-for-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 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9520" indent="-4651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reporting, selective contrac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HRQ QI Compo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composite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for selecte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for selected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for selected indic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iatric patient safety for selected indic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with the composite work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s available on AHRQ QI web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HRQ QI Compo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ca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reliability-adjusted observed-to-expected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ggreg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pproach is a weighted average of these rat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igh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user defined, but generally the proportion of numerator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or for specific pop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ational Quality Foru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85800" y="1752480"/>
            <a:ext cx="7467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e Measure Evaluation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Member comments due September 11, 2008 by 6:00 PM 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ce, scientific acceptability, usability, fea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22320" indent="-465120">
              <a:lnSpc>
                <a:spcPct val="100000"/>
              </a:lnSpc>
              <a:spcBef>
                <a:spcPts val="5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NQF-endorsed or assessed to have met the individual measure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Reporting and PP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543800" cy="3886200"/>
        </p:xfrm>
        <a:graphic>
          <a:graphicData uri="http://schemas.openxmlformats.org/drawingml/2006/table">
            <a:tbl>
              <a:tblPr/>
              <a:tblGrid>
                <a:gridCol w="1809720"/>
                <a:gridCol w="2113200"/>
                <a:gridCol w="1811160"/>
                <a:gridCol w="1809720"/>
              </a:tblGrid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6897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Reporting and PP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1905120"/>
          <a:ext cx="7543800" cy="3962160"/>
        </p:xfrm>
        <a:graphic>
          <a:graphicData uri="http://schemas.openxmlformats.org/drawingml/2006/table">
            <a:tbl>
              <a:tblPr/>
              <a:tblGrid>
                <a:gridCol w="1460520"/>
                <a:gridCol w="1703160"/>
                <a:gridCol w="1460520"/>
                <a:gridCol w="1459080"/>
                <a:gridCol w="1460520"/>
              </a:tblGrid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i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Battelle</dc:creator>
  <dc:description>2/25/2005</dc:description>
  <dc:language>en-US</dc:language>
  <cp:lastModifiedBy>1_Mary</cp:lastModifiedBy>
  <cp:lastPrinted>2003-01-21T20:19:23Z</cp:lastPrinted>
  <dcterms:modified xsi:type="dcterms:W3CDTF">2009-01-02T00:09:00Z</dcterms:modified>
  <cp:revision>311</cp:revision>
  <dc:subject/>
  <dc:title>AHRQ Slide Template</dc:title>
</cp:coreProperties>
</file>