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omplexpatientFOA@ahrq.hhs.go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Mary.Barton@ahrq.hhs.gov" TargetMode="External"/><Relationship Id="rId2" Type="http://schemas.openxmlformats.org/officeDocument/2006/relationships/hyperlink" Target="mailto:Therese.Miller@ahrq.hhs.gov" TargetMode="External"/><Relationship Id="rId3" Type="http://schemas.openxmlformats.org/officeDocument/2006/relationships/hyperlink" Target="mailto:carl.ohata@ahrq.hhs.gov" TargetMode="External"/><Relationship Id="rId4" Type="http://schemas.openxmlformats.org/officeDocument/2006/relationships/hyperlink" Target="mailto:carl.ohata@ahrq.hhs.gov" TargetMode="External"/><Relationship Id="rId5" Type="http://schemas.openxmlformats.org/officeDocument/2006/relationships/hyperlink" Target="mailto:carl.ohata@ahrq.hhs.gov" TargetMode="External"/><Relationship Id="rId6" Type="http://schemas.openxmlformats.org/officeDocument/2006/relationships/hyperlink" Target="mailto:Sherry.Cochran@ahrq.hhs.gov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ptimizing Prevention &amp; Healthcare Management for the Complex Pati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4114800"/>
            <a:ext cx="772164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 Opportunity Announcement (FO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renc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15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ventive Serv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-451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 of interest for this F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: those provided to asymptomatic individuals to prevent the onset of a targeted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-384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: those used to identify and treat persons who have already developed risk factors or preclinical disease but in whom the condition has not become clinically ap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colonoscopy, mammograms, Pap smears, counseling regarding obesity or smoking cessation, and aspirin use to prevent MI in men or stroke in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6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ypes of Pro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9560" y="1600200"/>
            <a:ext cx="8669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many types of projects and approaches may be responsive to this FOA, AHRQ has particular interest in three types of proj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miologic descriptions based on secondary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epidemiologic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7760" y="41904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pidemiologic Descriptions based on Secondary Analysi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cu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published information describing epidemiology of the condition, 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update due to developments in treatment that have altered condition’s epidem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be at least two, preferably three, different conditions, ideally in comb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be the natural course of diseases and the cumulative burden of therapies for the condition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budget in range: $100,000 to $150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than 1 year of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alytic Epidemiologic Stud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993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cohorts with sufficient clinical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 at leas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ronic disease or preventiv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200" indent="-364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study population’s health status with regard t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least two addi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-morbi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innovative statistical techniques to determine the relative positive and negative impacts of prevention/therapy in a population with co-morbid illness compared to an otherwise healthy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budget: $200,000 to $250,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 to 2 years in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eling Studi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one of the following frame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pecific co-morbidity cluster, build approach to chronic disease interventions in those diseases and prevention i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from a particular preventive service or a chronic disease intervention, show how appropriateness frame altered by various constellations of co-morbid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either framework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del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or m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ronic conditions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or m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eventive or chronic disease interventi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to model 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77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eling Studies, continu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 conditions of intere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 guidelines that will be utilized for selecting therapeutic interventions to be mode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services to be mode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use decision or cost-effectiveness analysis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s should be sufficiently comprehensive to model the impact of the co-morbid condition on issues of competing morbidity and/or mortality and on benefits and harms of th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budget: $200,000 to $250,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18 months and 2 years in d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l Study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 next steps in translating research into information that can improve healthcare decisions made by clinicians and their patients with multiple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to describe if and how current treatment guidelines and quality of care measures may need to be adjusted as a result of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to select a mental health issue as one of the chroni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include priority populations including racial and ethnic groups when related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t within the total cost of $300,000 and project period of 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ghlights of the Research Design and Methods Se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98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selected project type and methodolog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lude timeline with specific miles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ative should describe the dataset, data collection plans (if any) and a well-developed analysi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ing 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s of the mode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nderlying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ussion of how the natural history of the index condition and the co-morbid conditions will be included in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data sour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 anticipated limitations or cautions in generalizing resul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uss potential next steps—how expected results will inform future research and how results could be adapted and integrated into treatment guidelines for complex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nding Consider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merit of the proposed project as determined by peer revie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fu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veness to FOA goals and objecti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 to program prior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tic balance including geographic and institutional divers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tfolio balance within AHRQ and DH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onsiveness of the Application to the FO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6000" y="1676160"/>
            <a:ext cx="8026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be next steps in translating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t within the total cost of $300,000 and project period of 2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-type specific requirements 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onditions and interventions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 secti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on of model structure and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 that fail to meet these requirements will be returned without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erence Call 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9920" y="1447560"/>
            <a:ext cx="8974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the F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aske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for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view Criteri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g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4190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udy Populations and Prot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of ge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of minority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of AHRQ priority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Human Subjects from Research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s for inclusion/ex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s (discuss any exem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chanism of Suppor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&amp; Funds Avail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520" y="1523880"/>
            <a:ext cx="8602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 21 Exploratory/Developmental gra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encourage new exploratory and developmental research projects by providing support for the early and conceptual stages of these projec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-time solici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jected $3.7 million in total costs in FY 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5-20 gra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ticipated that size and duration will v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p to 24 months in d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tal costs are limited to $300,000 over a 2-year period, with no more than $200,000 in total costs allowed in any single ye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HRQ plans to offer additional funding through limited competition to further the dissemination of important find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4190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Does Not Accep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 Budge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uses ONLY the detailed Research &amp; Related Budget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the PHS 398 Modular Budget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 submitted in modular budget format will be returned without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F424(R&amp;R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pplication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 submitted electron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see FOA for instructions on how to obtain electronic forms and register your institution and 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igible Institu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9560" y="1523880"/>
            <a:ext cx="83995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submit an application if your organization has one of the following characteristic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or non-profit private institution such as non-profit health care organizations, universities, colleges, and faith-based or community-based organiz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local or State government or eligible agency of the Federal govern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n/Native American Tribal Government or Tribally Designated Organiz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ign institutions are eligible to apply 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confirm that population disease or severity estimates are derived from U.S. data or match those observed in the U.S.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profit organizations are not eligible to lea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-profit organizations may participate in projects as members of consortia or as subcontra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ncipal Investigator (PI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560" y="121932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shoul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n experienced senior level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e a considerable portion of time to the project.  If &lt; 20% the application must include an explicit jus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from underserved racial and ethnic groups and individuals with disabilities are en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 should describe PI responsibilities and backgro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a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025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ing Date: October 28, 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er of Intent Receipt Date: November 2, 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ubmission Date: November 28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Review Date: ~ March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st Anticipated Start Date: ~ June 20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equently Asked 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e Hospitals Allowed to Apply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nd non-profit health care institutions, including hospitals, are eligible to a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-profit organizations may be included as consortia members or subcontractors in an application submitted by an eligible lead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igible Institu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9560" y="1371240"/>
            <a:ext cx="8399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submit an application if your organization has one of the following characteristic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or non-profit private institution such as non-profit health care organizations, universities, colleges, and faith-based or community-based organiz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local or State government or eligible agency of the Federal govern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n/Native American Tribal Government or Tribally Designated Organiz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ign institutions are eligible to apply 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confirm that population disease or severity estimates are derived from U.S. data or match those observed in the U.S.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-profit organizations are not eligible to lea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-profit organizations may participate in projects as members of consortia or as subcontrac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4190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es AHRQ Accept Modular Budget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uses ONLY the detailed Research &amp; Related Budget.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use a Modular Budget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 submitted in modular budget format will be returned without revi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There be Co-PI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requires that the lead institution designate one and only one individual as the project’s principal investigato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re the Page Limit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6360" y="1752120"/>
            <a:ext cx="79912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pages for research plan, and Human Subject Inclusions and Prote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 Ai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 and 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Studies/Progres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and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included in page limi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ndix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4953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round Rules for Open For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6160" y="1599840"/>
            <a:ext cx="83660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ference call operator will put you in a queue based on cal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ase keep your questions br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try to keep responses br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that are very specific to a particular institution or situation will not be addressed – these can be discussed individually with a Project Officer from AHRQ at a lat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o not get an opportunity to ask a question, please e-mail your question to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complexpatientFOA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Conta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6160" y="1447920"/>
            <a:ext cx="8907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additional technical assistance, please contact an AHRQ staff person who will be glad to provide technical assist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tific/Research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Barton: 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y.Barton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se Miller: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Therese.Miller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er Review Issu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l Ohata: 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Carl.Ohata@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ahrq.hhs.gov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/Grant Management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rry Cochran: 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Sherry.Cochran@ahrq.hhs.gov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FA-HS-08-003 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920" y="1523520"/>
            <a:ext cx="88041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FOA solicits applications to expand the understanding of how to optimize decisions about preventive care and management of chronic diseases in complex patients especially in primary care. 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s of FO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ability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orit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idence-based services (testing and treatment) for patients with multiple co-morbidities (including physical and mental conditions) an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 timing and frequency) recommended preventive and care management guidelines for these pati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rify how co-existing chronic condition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dify the safety or effect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roven treatments for chronic diseases and recommended preventive interven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vidence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disea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al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omplex and frail pati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bjective of FO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foundation for further studies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the impact of guideline adapt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the barriers and facilitators to impleme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tools to implement tailored intervention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implications for patient-centered health care of personalized approaches to prevention and 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ition: Complex Pati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patien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 with two or more chronic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each condition may influence the care of the other condition(s) thr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life expectanc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 between drug therapi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/Or direct contraindications to therapy for one condition by other conditions themselv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, for the purposes of this FOA, demographic characteristics such as lack of insurance or pov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4953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ition: Chronic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condi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and mental illnesses or impair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ersistent or recurring health consequences lasting for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cases contribute to increased risk of early mortalit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asthma, chronic obstructive pulmonary disease, diabetes, hypertension, coronary artery disease, congestive heart failure, inflammatory bowel disease, autoimmune disease, arthritis, depression, and chronic or relapsing malignan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4953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ition: Comorbi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morbid conditions: Chronic diseases in addition to the index condition (i.e., the one to which a therapeutic chronic disease intervention is targe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7-11-05T21:02:12Z</dcterms:modified>
  <cp:revision>105</cp:revision>
  <dc:subject/>
  <dc:title>AHRQ Slide Template 2004</dc:title>
</cp:coreProperties>
</file>