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885600" y="698400"/>
            <a:ext cx="52131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C783EE-7F03-4ED3-99F2-91CAB45D7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5960" y="698400"/>
            <a:ext cx="521316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the activities of the CERTs program as it exists now.  If you were to become a research center, you would join a network of friends.  Federal agencies are involved in the various research centers.  The coordinating center works with the research centers; AHRQ, FDA, private industry, and foundations all have active roles within this particular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910584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584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152280"/>
            <a:ext cx="8229600" cy="2360880"/>
            <a:chOff x="1028880" y="152280"/>
            <a:chExt cx="8229600" cy="2360880"/>
          </a:xfrm>
        </p:grpSpPr>
        <p:sp>
          <p:nvSpPr>
            <p:cNvPr id="51" name=""/>
            <p:cNvSpPr/>
            <p:nvPr/>
          </p:nvSpPr>
          <p:spPr>
            <a:xfrm>
              <a:off x="1028880" y="228600"/>
              <a:ext cx="82296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181160" y="152280"/>
            <a:ext cx="240516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1160" y="152280"/>
                      <a:ext cx="240516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551400" y="15145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4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48160" y="187164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8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0" name=""/>
          <p:cNvGraphicFramePr/>
          <p:nvPr/>
        </p:nvGraphicFramePr>
        <p:xfrm>
          <a:off x="346716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20570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“Centers for Education &amp; Research on Therapeutics” (CERTs)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quest for Applications (RFA)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71120" y="3962160"/>
            <a:ext cx="8744040" cy="48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for Applications (RF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-05-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 Assistance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5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rapeutic Med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sumers and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a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echnical Assistance Workshop and Conference Call: January 5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etter of Intent Receipt Date:  February 11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pplication Receipt Date:  March 11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eer Review Date: Ma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arliest Anticipated Start Date: Jul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cy for Healthcare Quality (AHRQ) Mi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the outcomes and quality of health c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its co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atient saf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en access to effect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9760" y="1294920"/>
            <a:ext cx="9086760" cy="48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demonstration program funded by the Agency for Healthcare Research and Quality (AHRQ), in partnership with the Food and Drug Administration (F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research and education on therapeutic products (drugs, medical devices and biologics) already marketed in th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s provide research support for other Department of Health and Human Services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 Overview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90867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Drug Modernization Act (FDAMA) of 1997 and AHRQ reauthorization of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state of the art clinical and laboratory re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, Biologics, and  Medical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research centers, coordinating center, and steering committ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ve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government involvement but no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ing resour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private partne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800,000 per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29000" y="2514600"/>
            <a:ext cx="28288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71840" y="4572000"/>
            <a:ext cx="1886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57880" y="2819520"/>
            <a:ext cx="4028760" cy="2286000"/>
          </a:xfrm>
          <a:custGeom>
            <a:avLst/>
            <a:gdLst/>
            <a:ahLst/>
            <a:rect l="l" t="t" r="r" b="b"/>
            <a:pathLst>
              <a:path w="2256" h="1488">
                <a:moveTo>
                  <a:pt x="0" y="1488"/>
                </a:moveTo>
                <a:lnTo>
                  <a:pt x="2256" y="1488"/>
                </a:lnTo>
                <a:lnTo>
                  <a:pt x="2256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523880"/>
            <a:ext cx="2828880" cy="60984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48040" y="3505320"/>
            <a:ext cx="24004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05320"/>
            <a:ext cx="24004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8120" y="3505320"/>
            <a:ext cx="20574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1840" y="5715000"/>
            <a:ext cx="1886040" cy="76212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3320" y="1508040"/>
            <a:ext cx="30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Industry Foundation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7280" y="259092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1600" y="48006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3040" y="5943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1560" y="358128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86760" y="3454560"/>
            <a:ext cx="24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356544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57880" y="4114800"/>
            <a:ext cx="1542960" cy="213372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57880" y="4114800"/>
            <a:ext cx="102852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528"/>
                </a:lnTo>
                <a:lnTo>
                  <a:pt x="5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00360" y="4114800"/>
            <a:ext cx="77148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528"/>
                </a:moveTo>
                <a:lnTo>
                  <a:pt x="0" y="52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360" y="2819520"/>
            <a:ext cx="162864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0084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201080" y="3809880"/>
            <a:ext cx="257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6280" y="2133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600360" y="5334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29120" y="3124080"/>
            <a:ext cx="0" cy="144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7880" y="3124080"/>
            <a:ext cx="171360" cy="2895840"/>
          </a:xfrm>
          <a:custGeom>
            <a:avLst/>
            <a:gdLst/>
            <a:ahLst/>
            <a:rect l="l" t="t" r="r" b="b"/>
            <a:pathLst>
              <a:path w="240" h="1824">
                <a:moveTo>
                  <a:pt x="0" y="1824"/>
                </a:moveTo>
                <a:lnTo>
                  <a:pt x="240" y="182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7880" y="1828800"/>
            <a:ext cx="42876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240" y="0"/>
                </a:lnTo>
                <a:lnTo>
                  <a:pt x="240" y="10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72080" y="3733920"/>
            <a:ext cx="10285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71720" y="3962520"/>
            <a:ext cx="9428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60" y="152280"/>
            <a:ext cx="93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ers for Education and Research on Therapeu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333440"/>
            <a:ext cx="10108800" cy="19080"/>
            <a:chOff x="0" y="1333440"/>
            <a:chExt cx="10108800" cy="19080"/>
          </a:xfrm>
        </p:grpSpPr>
        <p:sp>
          <p:nvSpPr>
            <p:cNvPr id="142" name=""/>
            <p:cNvSpPr/>
            <p:nvPr/>
          </p:nvSpPr>
          <p:spPr>
            <a:xfrm>
              <a:off x="7200" y="1352520"/>
              <a:ext cx="101016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333440"/>
              <a:ext cx="101016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ision and Mi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5280" y="2154240"/>
            <a:ext cx="895824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a trusted national resource for people seeking to improve health through the best use of medical therap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nduct research and provide education that will advance the optimal use of drugs, medical devices, and biologica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Fu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our CE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3.2 mill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800,000 total cost per CERTs research center per y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 year fu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pose of the new RF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xpand the work of the existing CERTs program to eleven ce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existing gaps through specific the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egrate new and existing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velop additional research and educational strategies and translate knowledge into 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velop additional program outcome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therapeutic themes determined to be complementary to AHRQ, FDA and DH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rove geographic d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er Descri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rastructure rather than large scal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s Department of Health and Human Services (DHHS) agency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exibility to modify project to support programmatic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able/quantifiable program goals based on patient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utreach to improve both local and national health outcomes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BLevee</cp:lastModifiedBy>
  <cp:lastPrinted>2003-01-21T20:19:23Z</cp:lastPrinted>
  <dcterms:modified xsi:type="dcterms:W3CDTF">2005-01-25T22:24:27Z</dcterms:modified>
  <cp:revision>94</cp:revision>
  <dc:subject/>
  <dc:title>AHRQ Slide Template 2004</dc:title>
</cp:coreProperties>
</file>