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288588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Img"/>
          </p:nvPr>
        </p:nvSpPr>
        <p:spPr>
          <a:xfrm>
            <a:off x="885600" y="698400"/>
            <a:ext cx="52131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9960" y="88830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21048E-AE15-45F3-92CD-BE2F6B6FF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85960" y="698400"/>
            <a:ext cx="521316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of the activities of the CERTs program as it exists now.  If you were to become a research center, you would join a network of friends.  Federal agencies are involved in the various research centers.  The coordinating center works with the research centers; AHRQ, FDA, private industry, and foundations all have active roles within this particular progra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9105840" y="5791320"/>
          <a:ext cx="107172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5840" y="5791320"/>
                    <a:ext cx="1071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" name=""/>
          <p:cNvGrpSpPr/>
          <p:nvPr/>
        </p:nvGrpSpPr>
        <p:grpSpPr>
          <a:xfrm>
            <a:off x="14400" y="19080"/>
            <a:ext cx="1409760" cy="1295280"/>
            <a:chOff x="14400" y="19080"/>
            <a:chExt cx="1409760" cy="1295280"/>
          </a:xfrm>
        </p:grpSpPr>
        <p:sp>
          <p:nvSpPr>
            <p:cNvPr id="5" name=""/>
            <p:cNvSpPr/>
            <p:nvPr/>
          </p:nvSpPr>
          <p:spPr>
            <a:xfrm>
              <a:off x="14400" y="19080"/>
              <a:ext cx="1409760" cy="12952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43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3320" y="704880"/>
              <a:ext cx="12110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2000" y="704880"/>
              <a:ext cx="1104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9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" name=""/>
          <p:cNvGraphicFramePr/>
          <p:nvPr/>
        </p:nvGraphicFramePr>
        <p:xfrm>
          <a:off x="57240" y="76320"/>
          <a:ext cx="1333440" cy="73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240" y="76320"/>
                    <a:ext cx="13334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28880" y="152280"/>
            <a:ext cx="8229600" cy="2360880"/>
            <a:chOff x="1028880" y="152280"/>
            <a:chExt cx="8229600" cy="2360880"/>
          </a:xfrm>
        </p:grpSpPr>
        <p:sp>
          <p:nvSpPr>
            <p:cNvPr id="51" name=""/>
            <p:cNvSpPr/>
            <p:nvPr/>
          </p:nvSpPr>
          <p:spPr>
            <a:xfrm>
              <a:off x="1028880" y="228600"/>
              <a:ext cx="8229600" cy="213372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1181160" y="152280"/>
            <a:ext cx="2405160" cy="236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81160" y="152280"/>
                      <a:ext cx="2405160" cy="23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3551400" y="151452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480" y="228600"/>
              <a:ext cx="0" cy="213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48160" y="1871640"/>
              <a:ext cx="571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0" y="3867120"/>
            <a:ext cx="8985240" cy="19080"/>
            <a:chOff x="0" y="3867120"/>
            <a:chExt cx="8985240" cy="19080"/>
          </a:xfrm>
        </p:grpSpPr>
        <p:sp>
          <p:nvSpPr>
            <p:cNvPr id="58" name=""/>
            <p:cNvSpPr/>
            <p:nvPr/>
          </p:nvSpPr>
          <p:spPr>
            <a:xfrm>
              <a:off x="6480" y="388620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86712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0" name=""/>
          <p:cNvGraphicFramePr/>
          <p:nvPr/>
        </p:nvGraphicFramePr>
        <p:xfrm>
          <a:off x="3467160" y="142920"/>
          <a:ext cx="333360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67160" y="142920"/>
                    <a:ext cx="33336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1120" y="2057040"/>
            <a:ext cx="8744040" cy="19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“Centers for Education &amp; Research on Therapeutics” (CERTs)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quest for Applications (RFA)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71120" y="3962160"/>
            <a:ext cx="8744040" cy="48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for Applications (RF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S-05-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cal Assistance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uary 5,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m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erapeutic Medical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ental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nsumers and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The Eld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Da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echnical Assistance Workshop and Conference Call: January 5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etter of Intent Receipt Date:  February 11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pplication Receipt Date:  March 11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Peer Review Date: May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arliest Anticipated Start Date: July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cy for Healthcare Quality (AHRQ) Mi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the outcomes and quality of health c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its co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atient saf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en access to effecti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9760" y="1294920"/>
            <a:ext cx="9086760" cy="484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demonstration program funded by the Agency for Healthcare Research and Quality (AHRQ), in partnership with the Food and Drug Administration (F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research and education on therapeutic products (drugs, medical devices and biologics) already marketed in the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nters provide research support for other Department of Health and Human Services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RTs Overview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908676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and Drug Modernization Act (FDAMA) of 1997 and AHRQ reauthorization of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 state of the art clinical and laboratory re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, Biologics, and  Medical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 research centers, coordinating center, and steering committe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ve agre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for government involvement but not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ing resour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private partner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800,000 per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29000" y="2514600"/>
            <a:ext cx="282888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71840" y="4572000"/>
            <a:ext cx="18860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57880" y="2819520"/>
            <a:ext cx="4028760" cy="2286000"/>
          </a:xfrm>
          <a:custGeom>
            <a:avLst/>
            <a:gdLst/>
            <a:ahLst/>
            <a:rect l="l" t="t" r="r" b="b"/>
            <a:pathLst>
              <a:path w="2256" h="1488">
                <a:moveTo>
                  <a:pt x="0" y="1488"/>
                </a:moveTo>
                <a:lnTo>
                  <a:pt x="2256" y="1488"/>
                </a:lnTo>
                <a:lnTo>
                  <a:pt x="2256" y="0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1523880"/>
            <a:ext cx="2828880" cy="60984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48040" y="3505320"/>
            <a:ext cx="240048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505320"/>
            <a:ext cx="240048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58120" y="3505320"/>
            <a:ext cx="2057400" cy="60948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71840" y="5715000"/>
            <a:ext cx="1886040" cy="762120"/>
          </a:xfrm>
          <a:prstGeom prst="rect">
            <a:avLst/>
          </a:prstGeom>
          <a:solidFill>
            <a:srgbClr val="91c8ff"/>
          </a:solidFill>
          <a:ln w="9360">
            <a:solidFill>
              <a:srgbClr val="91c8ff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43320" y="1508040"/>
            <a:ext cx="30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 Industry Foundations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27280" y="259092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ering Committ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81600" y="48006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AHR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73040" y="5943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1560" y="358128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86760" y="3454560"/>
            <a:ext cx="24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Federal Ag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85920" y="356544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ordinating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57880" y="4114800"/>
            <a:ext cx="1542960" cy="2133720"/>
          </a:xfrm>
          <a:custGeom>
            <a:avLst/>
            <a:gdLst/>
            <a:ahLst/>
            <a:rect l="l" t="t" r="r" b="b"/>
            <a:pathLst>
              <a:path w="816" h="1248">
                <a:moveTo>
                  <a:pt x="0" y="1248"/>
                </a:moveTo>
                <a:lnTo>
                  <a:pt x="816" y="1248"/>
                </a:lnTo>
                <a:lnTo>
                  <a:pt x="816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57880" y="4114800"/>
            <a:ext cx="1028520" cy="8380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lnTo>
                  <a:pt x="528" y="528"/>
                </a:lnTo>
                <a:lnTo>
                  <a:pt x="528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00360" y="4114800"/>
            <a:ext cx="771480" cy="83808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288" y="528"/>
                </a:moveTo>
                <a:lnTo>
                  <a:pt x="0" y="52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0360" y="2819520"/>
            <a:ext cx="1628640" cy="68580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432"/>
                </a:move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31237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00840" y="31237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201080" y="3809880"/>
            <a:ext cx="2570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86280" y="21337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600360" y="5334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029120" y="3124080"/>
            <a:ext cx="0" cy="1447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57880" y="3124080"/>
            <a:ext cx="171360" cy="2895840"/>
          </a:xfrm>
          <a:custGeom>
            <a:avLst/>
            <a:gdLst/>
            <a:ahLst/>
            <a:rect l="l" t="t" r="r" b="b"/>
            <a:pathLst>
              <a:path w="240" h="1824">
                <a:moveTo>
                  <a:pt x="0" y="1824"/>
                </a:moveTo>
                <a:lnTo>
                  <a:pt x="240" y="1824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7880" y="1828800"/>
            <a:ext cx="42876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240" y="0"/>
                </a:lnTo>
                <a:lnTo>
                  <a:pt x="240" y="1056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72080" y="3733920"/>
            <a:ext cx="10285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71720" y="3962520"/>
            <a:ext cx="9428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8760" y="152280"/>
            <a:ext cx="93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nters for Education and Research on Therapeu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1333440"/>
            <a:ext cx="10108800" cy="19080"/>
            <a:chOff x="0" y="1333440"/>
            <a:chExt cx="10108800" cy="19080"/>
          </a:xfrm>
        </p:grpSpPr>
        <p:sp>
          <p:nvSpPr>
            <p:cNvPr id="142" name=""/>
            <p:cNvSpPr/>
            <p:nvPr/>
          </p:nvSpPr>
          <p:spPr>
            <a:xfrm>
              <a:off x="7200" y="1352520"/>
              <a:ext cx="101016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333440"/>
              <a:ext cx="101016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ision and Mi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5280" y="2154240"/>
            <a:ext cx="895824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i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be a trusted national resource for people seeking to improve health through the best use of medical therap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conduct research and provide education that will advance the optimal use of drugs, medical devices, and biological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w Fun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our CE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$3.2 mill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$800,000 total cost per CERTs research center per ye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5 year fun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pose of the new RF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xpand the work of the existing CERTs program to eleven cen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ddress existing gaps through specific the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ntegrate new and existing ce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evelop additional research and educational strategies and translate knowledge into 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Develop additional program outcome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ddress therapeutic themes determined to be complementary to AHRQ, FDA and DH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mprove geographic d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enter Descrip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frastructure rather than large scal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pports Department of Health and Human Services (DHHS) agency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exibility to modify project to support programmatic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able/quantifiable program goals based on patient outco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utreach to improve both local and national health outcomes through partner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BLevee</cp:lastModifiedBy>
  <cp:lastPrinted>2003-01-21T20:19:23Z</cp:lastPrinted>
  <dcterms:modified xsi:type="dcterms:W3CDTF">2005-01-25T22:24:27Z</dcterms:modified>
  <cp:revision>94</cp:revision>
  <dc:subject/>
  <dc:title>AHRQ Slide Template 2004</dc:title>
</cp:coreProperties>
</file>