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74320" y="698400"/>
            <a:ext cx="463572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49960" y="888300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1E1D41C-013B-4903-9B38-6FB883EFAA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sultation with the FDA, AHRQ administers the Centers for Education and Research on Therapeutics 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ER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program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s is a national demonstration program whose mission is to conduct research and provide education that advances the optimal use of drugs, biologicals, and medical devic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, CERTs also provides clinical information to practitioners, pharmacy benefit managers, insurers, governmental agencies, patients, and consum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erts.hhs.gov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 of the activities of the CERTs program as it exists now.  If you were to become a research center, you would join a network of friends.  Federal agencies are involved in the various research centers.  The coordinating center works with the research centers; AHRQ, FDA, private industry, and foundations all have active roles within this particular program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5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7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rants.nih.gov/grants/guide/rfa-files/RFA-HS-07-004.html" TargetMode="External"/><Relationship Id="rId2" Type="http://schemas.openxmlformats.org/officeDocument/2006/relationships/hyperlink" Target="http://grants.nih.gov/grants/guide/rfa-files/RFA-HS-07-008.html" TargetMode="External"/><Relationship Id="rId3" Type="http://schemas.openxmlformats.org/officeDocument/2006/relationships/hyperlink" Target="http://grants.nih.gov/grants/guide/notice-files/NOT-HS-07-005.html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rants.nih.gov/grants/guide/notice-files/NOT-HS-07-025.html" TargetMode="External"/><Relationship Id="rId2" Type="http://schemas.openxmlformats.org/officeDocument/2006/relationships/hyperlink" Target="http://grants.nih.gov/grants/guide/notice-files/NOT-HS-07-030.html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“Centers for Education &amp; Research on Therapeutics” (CERTs)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Funding Opportunity Announcemen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4419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As RFA-HS-07-004 and RFA-HS-07-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chnical Assistance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9,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50120" y="5985000"/>
            <a:ext cx="54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0950-A4DA-44B6-874D-0C0670529853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jected Funding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 Research Centers: $8 mill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$1,000,000 total cost per RC/y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dicated funding for one RC on Health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 year funding anticip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Coordinating Center: $400 thous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 year funding anticip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arate, ongoing funding of 4 RCs intially funded in 2006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owa – 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utgers – Mental H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nell – 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D Anderson/Baylor – Patient Adherence/Consumer Edu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50120" y="5985000"/>
            <a:ext cx="54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4E00-EEF9-438F-B6DC-4190931E1DC3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enter Descrip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Infrastructure rather than large scale stud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Supports Department of Health and Human Services (DHHS) agency mis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Flexibility to modify project to support programmatic nee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Identifiable/quantifiable program goals based on patient outcom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Outreach to improve both local and national health outcomes through partnershi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50120" y="5985000"/>
            <a:ext cx="54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3CE0-4241-47EF-B519-4A076C4097D0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Key Da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ter of Intent Receipt Date:  November 10,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ing date: November 14,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 Submission/Receipt Date:  December 14,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er Review Date: Approx March 1,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iest Anticipated Start Date: July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50120" y="5985000"/>
            <a:ext cx="54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D2FC-E804-45DD-BAD2-B61FE4F39E32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34308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HRQ’s Miss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267080" cy="3314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14400" y="5105520"/>
            <a:ext cx="7315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 the quality, safety, efficiency and effectiveness of health care for all America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50120" y="5985000"/>
            <a:ext cx="54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56AA-3A33-450E-95AF-50F9E04B0B03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ERTs Progra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545840"/>
            <a:ext cx="7777080" cy="49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ded and administered as a cooperative agreement program by AHRQ in consultation with the F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Ts is a national demonstration program whose mission is to conduct research and provide education that advances the optimal use of drugs, biologicals, and medical devic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es therapeutic interests of AHRQ, FDA, CMS, and other Federal partners involved with therapeu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50120" y="5985000"/>
            <a:ext cx="54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A309-0E48-4D66-AE6B-9D8291E036FA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ERTs Overview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7732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horized under Food and Drug Modernization Act (FDAMA) of 1997 and AHRQ reauthorization of 199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operative agreements - permits sharing of resources, substantial government involvement but without level of control seen in contra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verages AHRQ funding with additional public- private partnership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ly 11 research centers, 1 coordinating center, and 1 steering committe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9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50120" y="5985000"/>
            <a:ext cx="54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F300-20AC-4221-A73C-941D99FFF158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8120" y="2514600"/>
            <a:ext cx="2514600" cy="609480"/>
          </a:xfrm>
          <a:prstGeom prst="rect">
            <a:avLst/>
          </a:prstGeom>
          <a:solidFill>
            <a:srgbClr val="91c8ff"/>
          </a:solidFill>
          <a:ln w="9360">
            <a:solidFill>
              <a:srgbClr val="91c8ff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4572000"/>
            <a:ext cx="167652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91c8ff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2819520"/>
            <a:ext cx="3581280" cy="2286000"/>
          </a:xfrm>
          <a:custGeom>
            <a:avLst/>
            <a:gdLst/>
            <a:ahLst/>
            <a:rect l="l" t="t" r="r" b="b"/>
            <a:pathLst>
              <a:path w="2256" h="1488">
                <a:moveTo>
                  <a:pt x="0" y="1488"/>
                </a:moveTo>
                <a:lnTo>
                  <a:pt x="2256" y="1488"/>
                </a:lnTo>
                <a:lnTo>
                  <a:pt x="2256" y="0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1523880"/>
            <a:ext cx="2514600" cy="609840"/>
          </a:xfrm>
          <a:prstGeom prst="rect">
            <a:avLst/>
          </a:prstGeom>
          <a:solidFill>
            <a:srgbClr val="91c8ff"/>
          </a:solidFill>
          <a:ln w="9360">
            <a:solidFill>
              <a:srgbClr val="91c8ff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21000" y="3505320"/>
            <a:ext cx="2133720" cy="609480"/>
          </a:xfrm>
          <a:prstGeom prst="rect">
            <a:avLst/>
          </a:prstGeom>
          <a:solidFill>
            <a:srgbClr val="91c8ff"/>
          </a:solidFill>
          <a:ln w="9360">
            <a:solidFill>
              <a:srgbClr val="91c8ff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505320"/>
            <a:ext cx="2133360" cy="609480"/>
          </a:xfrm>
          <a:prstGeom prst="rect">
            <a:avLst/>
          </a:prstGeom>
          <a:solidFill>
            <a:srgbClr val="91c8ff"/>
          </a:solidFill>
          <a:ln w="9360">
            <a:solidFill>
              <a:srgbClr val="91c8ff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29400" y="3505320"/>
            <a:ext cx="1828800" cy="609480"/>
          </a:xfrm>
          <a:prstGeom prst="rect">
            <a:avLst/>
          </a:prstGeom>
          <a:solidFill>
            <a:srgbClr val="91c8ff"/>
          </a:solidFill>
          <a:ln w="9360">
            <a:solidFill>
              <a:srgbClr val="91c8ff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5715000"/>
            <a:ext cx="1676520" cy="762120"/>
          </a:xfrm>
          <a:prstGeom prst="rect">
            <a:avLst/>
          </a:prstGeom>
          <a:solidFill>
            <a:srgbClr val="91c8ff"/>
          </a:solidFill>
          <a:ln w="9360">
            <a:solidFill>
              <a:srgbClr val="91c8ff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15080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Industry Foundations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34880" y="2590920"/>
            <a:ext cx="24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ring Committ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39600" y="48006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R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21320" y="5943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94800" y="3581280"/>
            <a:ext cx="21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Ce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345456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ederal Agenc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34290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ing Ce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4114800"/>
            <a:ext cx="1371600" cy="2133720"/>
          </a:xfrm>
          <a:custGeom>
            <a:avLst/>
            <a:gdLst/>
            <a:ahLst/>
            <a:rect l="l" t="t" r="r" b="b"/>
            <a:pathLst>
              <a:path w="816" h="1248">
                <a:moveTo>
                  <a:pt x="0" y="1248"/>
                </a:moveTo>
                <a:lnTo>
                  <a:pt x="816" y="1248"/>
                </a:lnTo>
                <a:lnTo>
                  <a:pt x="816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4114800"/>
            <a:ext cx="914400" cy="83808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528"/>
                </a:lnTo>
                <a:lnTo>
                  <a:pt x="528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4114800"/>
            <a:ext cx="685800" cy="838080"/>
          </a:xfrm>
          <a:custGeom>
            <a:avLst/>
            <a:gdLst/>
            <a:ahLst/>
            <a:rect l="l" t="t" r="r" b="b"/>
            <a:pathLst>
              <a:path w="288" h="528">
                <a:moveTo>
                  <a:pt x="288" y="528"/>
                </a:moveTo>
                <a:lnTo>
                  <a:pt x="0" y="52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819520"/>
            <a:ext cx="1447920" cy="685800"/>
          </a:xfrm>
          <a:custGeom>
            <a:avLst/>
            <a:gdLst/>
            <a:ahLst/>
            <a:rect l="l" t="t" r="r" b="b"/>
            <a:pathLst>
              <a:path w="720" h="432">
                <a:moveTo>
                  <a:pt x="0" y="432"/>
                </a:moveTo>
                <a:lnTo>
                  <a:pt x="0" y="0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876920" y="312372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334120" y="312372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400440" y="3809880"/>
            <a:ext cx="2286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21337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200400" y="53341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581280" y="3124080"/>
            <a:ext cx="0" cy="1447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124080"/>
            <a:ext cx="152280" cy="2895840"/>
          </a:xfrm>
          <a:custGeom>
            <a:avLst/>
            <a:gdLst/>
            <a:ahLst/>
            <a:rect l="l" t="t" r="r" b="b"/>
            <a:pathLst>
              <a:path w="240" h="1824">
                <a:moveTo>
                  <a:pt x="0" y="1824"/>
                </a:moveTo>
                <a:lnTo>
                  <a:pt x="240" y="1824"/>
                </a:lnTo>
                <a:lnTo>
                  <a:pt x="24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828800"/>
            <a:ext cx="380880" cy="1676520"/>
          </a:xfrm>
          <a:custGeom>
            <a:avLst/>
            <a:gdLst/>
            <a:ahLst/>
            <a:rect l="l" t="t" r="r" b="b"/>
            <a:pathLst>
              <a:path w="240" h="1056">
                <a:moveTo>
                  <a:pt x="0" y="0"/>
                </a:moveTo>
                <a:lnTo>
                  <a:pt x="240" y="0"/>
                </a:lnTo>
                <a:lnTo>
                  <a:pt x="240" y="1056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733920"/>
            <a:ext cx="9144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352320" y="3962520"/>
            <a:ext cx="8384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28600"/>
            <a:ext cx="838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enters for Education 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earch on Therapeut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0" y="1333440"/>
            <a:ext cx="8985240" cy="19080"/>
            <a:chOff x="0" y="1333440"/>
            <a:chExt cx="8985240" cy="19080"/>
          </a:xfrm>
        </p:grpSpPr>
        <p:sp>
          <p:nvSpPr>
            <p:cNvPr id="134" name=""/>
            <p:cNvSpPr/>
            <p:nvPr/>
          </p:nvSpPr>
          <p:spPr>
            <a:xfrm>
              <a:off x="6480" y="135252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133344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8250120" y="5985000"/>
            <a:ext cx="54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B52B-1F35-4D0F-B5D0-7570667CEF77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ERTs Vision and Miss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1599840"/>
            <a:ext cx="7963200" cy="401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35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i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be a trusted national resource for people seeking to improve health through the best use of medical therap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35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conduct research and provide education that will advance the optimal use of drugs, medical devices, and biological produ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50120" y="5985000"/>
            <a:ext cx="54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74E5-FED9-4106-B7AF-B0AC5E6C09AC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A Announc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RTs Research Cen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grants.nih.gov/grants/guide/rfa-files/RFA-HS-07-004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RTs Coordinating Cen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http://grants.nih.gov/grants/guide/rfa-files/RFA-HS-07-008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dendum for Health 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http://grants.nih.gov/grants/guide/notice-files/NOT-HS-07-005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A Announc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RTs Technical Assistance C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grants.nih.gov/grants/guide/notice-files/NOT-HS-07-025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dget Submission Instruction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http://grants.nih.gov/grants/guide/notice-files/NOT-HS-07-030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IT Research Center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4536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to those eligible to apply to RC &amp; CC FOAs + currently funded C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s: To develop, demonstrate, &amp; disseminate evidence and educational/ translational materials on the role and use of HIT tools in safe and effective therapeutics u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 potential areas for study listed in FO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cott R. Smith, Ph.D.</dc:creator>
  <dc:description/>
  <cp:keywords/>
  <dc:language>en-US</dc:language>
  <cp:lastModifiedBy>ATrontel</cp:lastModifiedBy>
  <cp:lastPrinted>2003-01-21T20:19:23Z</cp:lastPrinted>
  <dcterms:modified xsi:type="dcterms:W3CDTF">2006-11-08T18:51:29Z</dcterms:modified>
  <cp:revision>115</cp:revision>
  <dc:subject/>
  <dc:title>CERTs &amp; Pharmaceutical Outcomes</dc:title>
</cp:coreProperties>
</file>