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74320" y="698400"/>
            <a:ext cx="463572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62AD6B-97FB-490E-BF27-13FD9469E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sultation with the FDA, AHRQ administers the Centers for Education and Research on Therapeutics 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R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progra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s is a national demonstration program whose mission is to conduct research and provide education that advances the optimal use of drugs, biologicals, and medical devic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CERTs also provides clinical information to practitioners, pharmacy benefit managers, insurers, governmental agencies, patients, and consum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erts.hhs.gov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f the activities of the CERTs program as it exists now.  If you were to become a research center, you would join a network of friends.  Federal agencies are involved in the various research centers.  The coordinating center works with the research centers; AHRQ, FDA, private industry, and foundations all have active roles within this particular progra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nts.nih.gov/grants/guide/rfa-files/RFA-HS-07-004.html" TargetMode="External"/><Relationship Id="rId2" Type="http://schemas.openxmlformats.org/officeDocument/2006/relationships/hyperlink" Target="http://grants.nih.gov/grants/guide/rfa-files/RFA-HS-07-008.html" TargetMode="External"/><Relationship Id="rId3" Type="http://schemas.openxmlformats.org/officeDocument/2006/relationships/hyperlink" Target="http://grants.nih.gov/grants/guide/notice-files/NOT-HS-07-005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rants.nih.gov/grants/guide/notice-files/NOT-HS-07-025.html" TargetMode="External"/><Relationship Id="rId2" Type="http://schemas.openxmlformats.org/officeDocument/2006/relationships/hyperlink" Target="http://grants.nih.gov/grants/guide/notice-files/NOT-HS-07-030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“Centers for Education &amp; Research on Therapeutics” (CERTs)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Funding Opportunity Announcemen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4419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As RFA-HS-07-004 and RFA-HS-07-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9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41FC-9E15-4E3D-86A1-B724FBD24F48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ed Funding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Research Centers: $8 m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1,000,000 total cost per RC/y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dicated funding for one RC on Health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year funding anticip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Coordinating Center: $400 thous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year funding anticip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e, ongoing funding of 4 RCs intially funded in 200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owa – 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tgers – Ment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nell –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D Anderson/Baylor – Patient Adherence/Consumer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0A82-8A78-4E20-A5E1-76B7990FA1D0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er Descrip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nfrastructure rather than large scale stud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upports Department of Health and Human Services (DHHS) agency mi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lexibility to modify project to support programmatic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dentifiable/quantifiable program goals based on patient outcom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Outreach to improve both local and national health outcomes through partner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EA05-7A30-4859-AB43-4F66A9EDDF98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Da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 of Intent Receipt Date:  November 10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date: November 14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Submission/Receipt Date:  December 14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 Review Date: Approx March 1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iest Anticipated Start Date: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4EE0-DD97-474D-A084-C7FB8A59FDBF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34308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26708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510552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 the quality, safety, efficiency and effectiveness of health care for all America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60A8-DA6A-435F-9DE8-792C67EF00AB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RTs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545840"/>
            <a:ext cx="7777080" cy="49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ed and administered as a cooperative agreement program by AHRQ in consultation with the F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s is a national demonstration program whose mission is to conduct research and provide education that advances the optimal use of drugs, biologicals, and medical devi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es therapeutic interests of AHRQ, FDA, CMS, and other Federal partners involved with therapeu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A431-3B93-42CF-AB2D-A72B93728571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RTs Overview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ized under Food and Drug Modernization Act (FDAMA) of 1997 and AHRQ reauthorization of 1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operative agreements - permits sharing of resources, substantial government involvement but without level of control seen in contra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verages AHRQ funding with additional public- private partnership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ly 11 research centers, 1 coordinating center, and 1 steering committ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27F-AC87-464C-855F-87A95D4EA478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2514600"/>
            <a:ext cx="251460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572000"/>
            <a:ext cx="16765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2819520"/>
            <a:ext cx="3581280" cy="2286000"/>
          </a:xfrm>
          <a:custGeom>
            <a:avLst/>
            <a:gdLst/>
            <a:ahLst/>
            <a:rect l="l" t="t" r="r" b="b"/>
            <a:pathLst>
              <a:path w="2256" h="1488">
                <a:moveTo>
                  <a:pt x="0" y="1488"/>
                </a:moveTo>
                <a:lnTo>
                  <a:pt x="2256" y="1488"/>
                </a:lnTo>
                <a:lnTo>
                  <a:pt x="2256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523880"/>
            <a:ext cx="2514600" cy="60984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1000" y="3505320"/>
            <a:ext cx="213372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505320"/>
            <a:ext cx="213336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505320"/>
            <a:ext cx="182880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5715000"/>
            <a:ext cx="1676520" cy="76212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15080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dustry Foundations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34880" y="259092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39600" y="48006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1320" y="5943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4800" y="358128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345456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ederal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4290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ng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4114800"/>
            <a:ext cx="1371600" cy="2133720"/>
          </a:xfrm>
          <a:custGeom>
            <a:avLst/>
            <a:gdLst/>
            <a:ahLst/>
            <a:rect l="l" t="t" r="r" b="b"/>
            <a:pathLst>
              <a:path w="816" h="1248">
                <a:moveTo>
                  <a:pt x="0" y="1248"/>
                </a:moveTo>
                <a:lnTo>
                  <a:pt x="816" y="1248"/>
                </a:lnTo>
                <a:lnTo>
                  <a:pt x="81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114800"/>
            <a:ext cx="91440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528"/>
                </a:lnTo>
                <a:lnTo>
                  <a:pt x="5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114800"/>
            <a:ext cx="68580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288" y="528"/>
                </a:moveTo>
                <a:lnTo>
                  <a:pt x="0" y="52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19520"/>
            <a:ext cx="144792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33412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38098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133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00400" y="5334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81280" y="3124080"/>
            <a:ext cx="0" cy="144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124080"/>
            <a:ext cx="152280" cy="2895840"/>
          </a:xfrm>
          <a:custGeom>
            <a:avLst/>
            <a:gdLst/>
            <a:ahLst/>
            <a:rect l="l" t="t" r="r" b="b"/>
            <a:pathLst>
              <a:path w="240" h="1824">
                <a:moveTo>
                  <a:pt x="0" y="1824"/>
                </a:moveTo>
                <a:lnTo>
                  <a:pt x="240" y="182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82880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240" y="0"/>
                </a:lnTo>
                <a:lnTo>
                  <a:pt x="240" y="10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352320" y="3962520"/>
            <a:ext cx="838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28600"/>
            <a:ext cx="838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ters for Education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earch on Therapeu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134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5F21-2E71-4B55-AD9F-90A4B6D65882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RTs Vision and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1599840"/>
            <a:ext cx="7963200" cy="401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a trusted national resource for people seeking to improve health through the best use of medical therap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onduct research and provide education that will advance the optimal use of drugs, medical devices, and biologica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C5E-8DD9-4CAB-AFB7-85E52854D569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A Announc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RTs Research Cen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grants.nih.gov/grants/guide/rfa-files/RFA-HS-07-004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RTs Coordinating Ce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grants.nih.gov/grants/guide/rfa-files/RFA-HS-07-008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endum for Health 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grants.nih.gov/grants/guide/notice-files/NOT-HS-07-005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A Announc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RTs Technical Assistance C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grants.nih.gov/grants/guide/notice-files/NOT-HS-07-025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dget Submission Instruc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grants.nih.gov/grants/guide/notice-files/NOT-HS-07-030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IT Research Cent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to those eligible to apply to RC &amp; CC FOAs + currently funded C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: To develop, demonstrate, &amp; disseminate evidence and educational/ translational materials on the role and use of HIT tools in safe and effective therapeutics 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potential areas for study listed in F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cott R. Smith, Ph.D.</dc:creator>
  <dc:description/>
  <cp:keywords/>
  <dc:language>en-US</dc:language>
  <cp:lastModifiedBy>ATrontel</cp:lastModifiedBy>
  <cp:lastPrinted>2003-01-21T20:19:23Z</cp:lastPrinted>
  <dcterms:modified xsi:type="dcterms:W3CDTF">2006-11-08T18:51:29Z</dcterms:modified>
  <cp:revision>115</cp:revision>
  <dc:subject/>
  <dc:title>CERTs &amp; Pharmaceutical Outcomes</dc:title>
</cp:coreProperties>
</file>