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F0045-5D28-4CE7-A88D-4695B26AE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– A H R Q – Agency for Healthcare Research and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ing Excellence in Health Care – website address: www.ahrq.g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: A Web-Based Tool for Quality and Utilization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t our Web site at: www.monahrq.ahrq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echnical assistance and to get on the MONAHRQ mailing list, email: monahrq@ahrq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5BD3A-59F4-4F6C-BEB0-89D5F31BEE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Key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fferences between MONAHRQ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0/1.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NAHRQ 2.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AHRQ Quality Indicators and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load inpatient discharge data and/or CMS Hospital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Web page navigation an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Host User customization op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CE76F-10CE-4D9D-8943-875E603B6E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Key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fferences between MONAHRQ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0/1.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NAHRQ 2.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AHRQ Quality Indicators and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load inpatient discharge data and/or CMS Hospital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Web page navigation an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Host User customization op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7E292-7FAB-425A-BF58-EC76A10FA2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Ho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website page title, State Health Care Information Portal; navigational tabs at bottom top of the page; four additional portals; each contains a separate category, each with a picture, text and active link to a categ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1590B-94D6-4A1B-850C-4D18DC321C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Ho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New Hospital Quality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website page title, State Health Care Information Portal; navigational tabs at the top of the page; four additional portals; each contains a separate category, each with a picture, text and active link to a categ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EEF35-D5EB-4340-B8E3-A488F3DEA3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Search Pages – Select Health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Step 1: Select health 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list of health topics to choose from; navigation buttons at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2CF24-E6B4-4FBC-98BD-045C418947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Search Pages – Select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Step 2: Select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list of quality indicators to choose from; navigation buttons at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2DDDE-0538-4801-8791-6517ADBBBD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Search Pages – Select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Step 3: Select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option to choose a region or all hospitals; shows an option to select up to four hospitals. Navigation buttons at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1B4AB-EE49-44A9-8A20-9F6D1FF61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New Search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Select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Select health topic and click “Get Report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the option to select hospitals from the entire dataset, by ZIP Code, or from specific regions; shows the option to choose a health top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3D4EF-3073-4143-97A5-30B51789B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Key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fferences between MONAHRQ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0/1.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NAHRQ 2.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AHRQ Quality Indicators and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load inpatient discharge data and/or CMS Hospital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Web page navigation an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Host User customization op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9D7DA-2135-4D72-B6E5-EBDA761D4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Classificati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is classification table for chosen indicators and hospitals by health top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8BC1D-26CF-4B67-9EAF-CF6E888AD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New Classificati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Consumer path: red/yellow/green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Professional path: numbers with confidence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3: Two-way sc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is classification table for indicators in chosen health top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263B3-9FEA-4124-A2F9-A1BD365002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New Classificati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Consumer path: red/yellow/green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Professional path: numbers with confidence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3: Two-way sc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is classification table for indicators in chosen health top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0EA63-8059-485D-AE6D-D58DF7FAC6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Bar Ch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of bar graphs for selected indic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53EB8-9C1E-4CA0-A5A9-DF4A30BF5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New Bar Ch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Bars are sorted with better values on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Brown bars denote Mean Test by input file and nationw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of bar graphs for selected indic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0828A-C8B8-41FD-81FD-7247920AE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46BD3-78AE-4CA2-9118-3F2B49DE9F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website page title, State Health Care Information Portal; navigational tabs at the top of the page; four additional portals; each contains a separate category, each with a picture, text and active link to a categ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AHRQ Quality Indicators in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 shows the AHRQ Inpatient QIs, Patient Safety QIs, Neonatal QIs, Pediatric QIs, and Prevention QIs included in MONAHRQ 1.0/1.1 versus MONAHRQ 2.0. Indicators are either included, some included, or not included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2BA86-F38D-4DAA-8AD7-290A308FBF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Hospital Compare Measures in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 shows the CMS Process Measures (Inpatient), CMS Outcome Measures (30-Day Mortality and Readmissions), CMS Structural Measures, and HCAHPS Measures included in MONAHRQ 1.0/1.1 versus MONAHRQ 2.0. Measures are either included, some included, or not included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36D7C1-0DC8-46D4-B9FB-9CC44F607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AHRQ Quality Indicators in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 shows the AHRQ Inpatient QIs, Patient Safety QIs, Neonatal QIs, Pediatric QIs, and Prevention QIs included in MONAHRQ 1.0/1.1 versus MONAHRQ 2.0. Indicators are either included, some included, or not included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FF912-23B1-4C47-8528-238545811B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Hospital Compare Measure Results and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AHRQ 2.0 model: Calculate your own measure results and/or Load precalculated measure results; flow chart moves from left to right detailing the step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You download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You load you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A: You download CMS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B: You load CMS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C: You link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You calculate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You generate a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You host your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4C43D-4FD4-4DE9-87DC-08A16D05A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Hospital Compare Measure Results and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AHRQ 2.0 model: Calculate your own measure results and/or Load precalculated measure results; flow chart moves from left to right detailing the step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You download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You load you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A: You download CMS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B: You load CMS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C: You link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You calculate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You generate a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You host your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6D015-5AA2-4823-9FB6-BD98C934B9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MONAHRQ 2.0 allows users to load their own inpatient discharge data and/or CMS Hospital Compare D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MONAHRQ 2.0 application; yellow circle around the options for Inpatient Discharge Data and Hospital Compare Data under the Task Men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FC453-7921-4784-B0B6-896D82DE30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– Load CMS Hospital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Download the CMS Hospital Compare Data file from the MONAHRQ download site (http://www.monahrq.ahrq.go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Browse for the CMS Hospital Compare Data file and select “Load Data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MONAHRQ 2.0 application; Hospital Compare Data screen; yellow circle around the buttons for Browse and Load D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069EA-3BF0-4FEA-A5AE-682E662FB2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68EC-59DC-4E65-AF8D-013CD70C4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C1A8-0670-4318-8885-EE4578827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F02B-5A77-4A1D-9491-6B56AE9C8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413C-2690-48B0-9C61-A744AB421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E7C4-2AC6-4FED-B05F-4BE759F96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6ABB-CF8D-49D3-A60D-BAE6920A5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D975-C8B8-43A3-A05A-7E43ABA45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AD9A-E289-4F20-8B77-0FBA927CE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2CCA-BFD4-490E-9C5E-AB5B1C99C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7649-9FE7-4F7F-BD78-A5A0A6B47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11BC-B789-4051-9819-C764802B2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842D-8310-44C9-9EC8-EDAAA2B3E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A424-E8B0-4288-B4C2-0780637C59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4" name="Line 6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" name="Picture 8" descr="HCUP Logo_lg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9"/>
          <p:cNvGrpSpPr/>
          <p:nvPr/>
        </p:nvGrpSpPr>
        <p:grpSpPr>
          <a:xfrm>
            <a:off x="0" y="79200"/>
            <a:ext cx="1218960" cy="1154520"/>
            <a:chOff x="0" y="79200"/>
            <a:chExt cx="1218960" cy="1154520"/>
          </a:xfrm>
        </p:grpSpPr>
        <p:pic>
          <p:nvPicPr>
            <p:cNvPr id="8" name="Picture 10" descr="AHRQ Logo lg"/>
            <p:cNvPicPr/>
            <p:nvPr/>
          </p:nvPicPr>
          <p:blipFill>
            <a:blip r:embed="rId3"/>
            <a:stretch/>
          </p:blipFill>
          <p:spPr>
            <a:xfrm>
              <a:off x="86400" y="79200"/>
              <a:ext cx="1122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1"/>
            <p:cNvSpPr/>
            <p:nvPr/>
          </p:nvSpPr>
          <p:spPr>
            <a:xfrm>
              <a:off x="0" y="702360"/>
              <a:ext cx="12189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86400" y="702360"/>
              <a:ext cx="11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Group 7"/>
          <p:cNvGrpSpPr/>
          <p:nvPr/>
        </p:nvGrpSpPr>
        <p:grpSpPr>
          <a:xfrm>
            <a:off x="574560" y="246240"/>
            <a:ext cx="8056800" cy="2268360"/>
            <a:chOff x="574560" y="246240"/>
            <a:chExt cx="8056800" cy="2268360"/>
          </a:xfrm>
        </p:grpSpPr>
        <p:sp>
          <p:nvSpPr>
            <p:cNvPr id="51" name="Rectangle 8"/>
            <p:cNvSpPr/>
            <p:nvPr/>
          </p:nvSpPr>
          <p:spPr>
            <a:xfrm>
              <a:off x="574560" y="318960"/>
              <a:ext cx="8056800" cy="2051280"/>
            </a:xfrm>
            <a:prstGeom prst="rect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" name="Object 9"/>
            <p:cNvGraphicFramePr/>
            <p:nvPr/>
          </p:nvGraphicFramePr>
          <p:xfrm>
            <a:off x="666720" y="246240"/>
            <a:ext cx="2354400" cy="226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720" y="246240"/>
                      <a:ext cx="2354400" cy="22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Text Box 10"/>
            <p:cNvSpPr/>
            <p:nvPr/>
          </p:nvSpPr>
          <p:spPr>
            <a:xfrm>
              <a:off x="3043080" y="15559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>
              <a:off x="3036960" y="318960"/>
              <a:ext cx="0" cy="20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3041640" y="1898640"/>
              <a:ext cx="558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" name="Object 13"/>
          <p:cNvGraphicFramePr/>
          <p:nvPr/>
        </p:nvGraphicFramePr>
        <p:xfrm>
          <a:off x="2914560" y="142920"/>
          <a:ext cx="333396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4560" y="142920"/>
                    <a:ext cx="33339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14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onahrq.ahrq.gov/" TargetMode="External"/><Relationship Id="rId3" Type="http://schemas.openxmlformats.org/officeDocument/2006/relationships/hyperlink" Target="mailto:monahrq@ahrq.gov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50840" y="32940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aring versions 1.0 and 2.0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Picture 5" descr="pres-logo.PNG"/>
          <p:cNvPicPr/>
          <p:nvPr/>
        </p:nvPicPr>
        <p:blipFill>
          <a:blip r:embed="rId1"/>
          <a:stretch/>
        </p:blipFill>
        <p:spPr>
          <a:xfrm>
            <a:off x="2004840" y="1898640"/>
            <a:ext cx="5378760" cy="1862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57200" y="5486400"/>
            <a:ext cx="8305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sit our Website at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monahrq.ahrq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technical assistance or to join the MONAHRQ mailing list, email: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monahrq@ahrq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tle 1"/>
          <p:cNvSpPr/>
          <p:nvPr/>
        </p:nvSpPr>
        <p:spPr>
          <a:xfrm>
            <a:off x="1441440" y="403200"/>
            <a:ext cx="61596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Linking Hospitals in MONAHRQ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601640" y="1379520"/>
            <a:ext cx="674244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Rounded Rectangle 5"/>
          <p:cNvSpPr/>
          <p:nvPr/>
        </p:nvSpPr>
        <p:spPr>
          <a:xfrm>
            <a:off x="482760" y="4572000"/>
            <a:ext cx="2970000" cy="1092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walk your local hospitals to hospitals in the Hospital Compare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887400" y="1376280"/>
            <a:ext cx="6505560" cy="51260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15924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electing Measures to Report in MONAHRQ 2.0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ounded Rectangle 3"/>
          <p:cNvSpPr/>
          <p:nvPr/>
        </p:nvSpPr>
        <p:spPr>
          <a:xfrm>
            <a:off x="5827680" y="4286160"/>
            <a:ext cx="2879640" cy="9684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which measures to include in your reporting Web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ounded Rectangle 4"/>
          <p:cNvSpPr/>
          <p:nvPr/>
        </p:nvSpPr>
        <p:spPr>
          <a:xfrm>
            <a:off x="5827680" y="2978280"/>
            <a:ext cx="2879640" cy="12952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ospital Compare measures and AHRQ Quality Indicators go into the same health top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1"/>
          <p:cNvSpPr/>
          <p:nvPr/>
        </p:nvSpPr>
        <p:spPr>
          <a:xfrm>
            <a:off x="1666800" y="379440"/>
            <a:ext cx="5332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omparing MONAHRQ Versions 1.0 and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625760" y="1560600"/>
            <a:ext cx="57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0 can report more measur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611360" y="1990800"/>
            <a:ext cx="70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AHRQ Quality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S Hospital Compare inpatient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CAHPS patient satisfaction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1627200" y="3119400"/>
            <a:ext cx="71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0 has updated Web page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res-logo.PNG"/>
          <p:cNvPicPr/>
          <p:nvPr/>
        </p:nvPicPr>
        <p:blipFill>
          <a:blip r:embed="rId1"/>
          <a:stretch/>
        </p:blipFill>
        <p:spPr>
          <a:xfrm>
            <a:off x="5589720" y="5427720"/>
            <a:ext cx="3330360" cy="1152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5076720" y="5386320"/>
            <a:ext cx="3848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Input Your Data. </a:t>
            </a:r>
            <a:br>
              <a:rPr sz="16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Output Your Websi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633680" y="3532320"/>
            <a:ext cx="70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ospital quality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2097000" y="4154400"/>
            <a:ext cx="702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New search and navi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New classification 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Updated bar ch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tle 1"/>
          <p:cNvSpPr/>
          <p:nvPr/>
        </p:nvSpPr>
        <p:spPr>
          <a:xfrm>
            <a:off x="1519200" y="380880"/>
            <a:ext cx="60688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Updated Website Design for MONAHRQ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727360" y="170352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NAHRQ  Redesign Go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2184480" y="2181240"/>
            <a:ext cx="66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te best practices in repor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d to specific input from our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rcRect l="0" t="512" r="2048" b="0"/>
          <a:stretch/>
        </p:blipFill>
        <p:spPr>
          <a:xfrm>
            <a:off x="1500120" y="3255840"/>
            <a:ext cx="2927520" cy="198936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  <p:pic>
        <p:nvPicPr>
          <p:cNvPr id="231" name="Picture 9" descr=""/>
          <p:cNvPicPr/>
          <p:nvPr/>
        </p:nvPicPr>
        <p:blipFill>
          <a:blip r:embed="rId2"/>
          <a:srcRect l="2648" t="7149" r="5194" b="5007"/>
          <a:stretch/>
        </p:blipFill>
        <p:spPr>
          <a:xfrm>
            <a:off x="4710240" y="3263760"/>
            <a:ext cx="2921040" cy="1965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  <p:sp>
        <p:nvSpPr>
          <p:cNvPr id="232" name="Text Box 8"/>
          <p:cNvSpPr/>
          <p:nvPr/>
        </p:nvSpPr>
        <p:spPr>
          <a:xfrm>
            <a:off x="2256480" y="5289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Arial"/>
              </a:rPr>
              <a:t>MONAHRQ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5370840" y="528624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Arial"/>
              </a:rPr>
              <a:t>MONAHRQ 2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Home Pag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1"/>
          <a:srcRect l="0" t="512" r="2048" b="0"/>
          <a:stretch/>
        </p:blipFill>
        <p:spPr>
          <a:xfrm>
            <a:off x="1455840" y="1414440"/>
            <a:ext cx="61894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"/>
          <p:cNvPicPr/>
          <p:nvPr/>
        </p:nvPicPr>
        <p:blipFill>
          <a:blip r:embed="rId1"/>
          <a:srcRect l="2649" t="7148" r="5200" b="4998"/>
          <a:stretch/>
        </p:blipFill>
        <p:spPr>
          <a:xfrm>
            <a:off x="239760" y="1379520"/>
            <a:ext cx="7931160" cy="50608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55480" y="38844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Home Pag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ounded Rectangle 9"/>
          <p:cNvSpPr/>
          <p:nvPr/>
        </p:nvSpPr>
        <p:spPr>
          <a:xfrm>
            <a:off x="6946920" y="1380960"/>
            <a:ext cx="1986120" cy="546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endlier lo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ounded Rectangle 10"/>
          <p:cNvSpPr/>
          <p:nvPr/>
        </p:nvSpPr>
        <p:spPr>
          <a:xfrm>
            <a:off x="6946920" y="1943280"/>
            <a:ext cx="1986120" cy="545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6946920" y="2503440"/>
            <a:ext cx="1986120" cy="7747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meaningful pictur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Search Page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rcRect l="7471" t="3563" r="9914" b="0"/>
          <a:stretch/>
        </p:blipFill>
        <p:spPr>
          <a:xfrm>
            <a:off x="1614600" y="1357200"/>
            <a:ext cx="5895720" cy="5160960"/>
          </a:xfrm>
          <a:prstGeom prst="rect">
            <a:avLst/>
          </a:prstGeom>
          <a:ln w="0">
            <a:noFill/>
          </a:ln>
        </p:spPr>
      </p:pic>
      <p:sp>
        <p:nvSpPr>
          <p:cNvPr id="243" name="Rounded Rectangle 5"/>
          <p:cNvSpPr/>
          <p:nvPr/>
        </p:nvSpPr>
        <p:spPr>
          <a:xfrm>
            <a:off x="6411960" y="1527120"/>
            <a:ext cx="2195640" cy="768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: Select health top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rcRect l="7681" t="3696" r="9375" b="0"/>
          <a:stretch/>
        </p:blipFill>
        <p:spPr>
          <a:xfrm>
            <a:off x="1612800" y="1359000"/>
            <a:ext cx="5910480" cy="51465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Search Page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Rounded Rectangle 6"/>
          <p:cNvSpPr/>
          <p:nvPr/>
        </p:nvSpPr>
        <p:spPr>
          <a:xfrm>
            <a:off x="6307200" y="1639800"/>
            <a:ext cx="2195280" cy="7686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: Select  quality indic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"/>
          <p:cNvPicPr/>
          <p:nvPr/>
        </p:nvPicPr>
        <p:blipFill>
          <a:blip r:embed="rId1"/>
          <a:srcRect l="5533" t="31757" r="6729" b="9636"/>
          <a:stretch/>
        </p:blipFill>
        <p:spPr>
          <a:xfrm>
            <a:off x="779400" y="1359000"/>
            <a:ext cx="7486560" cy="375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Search Page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Rounded Rectangle 5"/>
          <p:cNvSpPr/>
          <p:nvPr/>
        </p:nvSpPr>
        <p:spPr>
          <a:xfrm>
            <a:off x="6485040" y="1897200"/>
            <a:ext cx="2195280" cy="768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: Select hospi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rcRect l="3001" t="27174" r="5065" b="9705"/>
          <a:stretch/>
        </p:blipFill>
        <p:spPr>
          <a:xfrm>
            <a:off x="270000" y="1386000"/>
            <a:ext cx="8619840" cy="5103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Search Pag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Rounded Rectangle 11"/>
          <p:cNvSpPr/>
          <p:nvPr/>
        </p:nvSpPr>
        <p:spPr>
          <a:xfrm>
            <a:off x="6710400" y="1362240"/>
            <a:ext cx="2305080" cy="466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page sear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ounded Rectangle 12"/>
          <p:cNvSpPr/>
          <p:nvPr/>
        </p:nvSpPr>
        <p:spPr>
          <a:xfrm>
            <a:off x="6724800" y="2335320"/>
            <a:ext cx="2305080" cy="6188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hospital search op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ounded Rectangle 13"/>
          <p:cNvSpPr/>
          <p:nvPr/>
        </p:nvSpPr>
        <p:spPr>
          <a:xfrm>
            <a:off x="6710400" y="1828800"/>
            <a:ext cx="2305080" cy="5065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yered 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1666800" y="406440"/>
            <a:ext cx="5332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omparing MONAHRQ Versions 1.0 and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596960" y="1587600"/>
            <a:ext cx="57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ersion 2.0 can report more measur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582560" y="2017800"/>
            <a:ext cx="70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ore AHRQ Quality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MS Hospital Compare inpatient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CAHPS patient satisfaction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598760" y="314640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ion 2.0 has updated Web page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res-logo.PNG"/>
          <p:cNvPicPr/>
          <p:nvPr/>
        </p:nvPicPr>
        <p:blipFill>
          <a:blip r:embed="rId1"/>
          <a:stretch/>
        </p:blipFill>
        <p:spPr>
          <a:xfrm>
            <a:off x="5589720" y="5427720"/>
            <a:ext cx="333036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076720" y="5386320"/>
            <a:ext cx="3848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Input Your Data. </a:t>
            </a:r>
            <a:br>
              <a:rPr sz="16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Output Your Websi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606680" y="3573360"/>
            <a:ext cx="70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pital quality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070000" y="4195800"/>
            <a:ext cx="702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search and navi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classification 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dated bar ch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2440" y="457200"/>
            <a:ext cx="64548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</a:t>
            </a:r>
            <a:br>
              <a:rPr sz="2800"/>
            </a:b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lassification Tabl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1"/>
          <a:srcRect l="1875" t="60759" r="17472" b="14253"/>
          <a:stretch/>
        </p:blipFill>
        <p:spPr>
          <a:xfrm>
            <a:off x="130320" y="1542960"/>
            <a:ext cx="8862840" cy="2632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9" descr=""/>
          <p:cNvPicPr/>
          <p:nvPr/>
        </p:nvPicPr>
        <p:blipFill>
          <a:blip r:embed="rId1"/>
          <a:srcRect l="3625" t="7835" r="6894" b="2707"/>
          <a:stretch/>
        </p:blipFill>
        <p:spPr>
          <a:xfrm>
            <a:off x="860400" y="1360440"/>
            <a:ext cx="7175520" cy="5359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60440" y="457200"/>
            <a:ext cx="457704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Classification Tabl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Rounded Rectangle 16"/>
          <p:cNvSpPr/>
          <p:nvPr/>
        </p:nvSpPr>
        <p:spPr>
          <a:xfrm>
            <a:off x="6692760" y="2273400"/>
            <a:ext cx="2298960" cy="453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bed sub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ounded Rectangle 26"/>
          <p:cNvSpPr/>
          <p:nvPr/>
        </p:nvSpPr>
        <p:spPr>
          <a:xfrm>
            <a:off x="230040" y="5378400"/>
            <a:ext cx="2268720" cy="900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 down for rates and confidence interv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ounded Rectangle 27"/>
          <p:cNvSpPr/>
          <p:nvPr/>
        </p:nvSpPr>
        <p:spPr>
          <a:xfrm>
            <a:off x="6686640" y="1849320"/>
            <a:ext cx="2305080" cy="4302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rtable colum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ounded Rectangle 28"/>
          <p:cNvSpPr/>
          <p:nvPr/>
        </p:nvSpPr>
        <p:spPr>
          <a:xfrm>
            <a:off x="6686640" y="1384200"/>
            <a:ext cx="2298600" cy="4716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d ic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ounded Rectangle 32"/>
          <p:cNvSpPr/>
          <p:nvPr/>
        </p:nvSpPr>
        <p:spPr>
          <a:xfrm>
            <a:off x="6692760" y="3178080"/>
            <a:ext cx="2298960" cy="698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national or local benchma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735120" y="6278400"/>
            <a:ext cx="1639800" cy="427320"/>
          </a:xfrm>
          <a:prstGeom prst="ellipse">
            <a:avLst/>
          </a:prstGeom>
          <a:noFill/>
          <a:ln w="3816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6692760" y="2724120"/>
            <a:ext cx="2298960" cy="453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p popup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24000" y="457200"/>
            <a:ext cx="486432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Classification Tabl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rcRect l="3625" t="18287" r="6614" b="8583"/>
          <a:stretch/>
        </p:blipFill>
        <p:spPr>
          <a:xfrm>
            <a:off x="190440" y="1371600"/>
            <a:ext cx="8790120" cy="5349960"/>
          </a:xfrm>
          <a:prstGeom prst="rect">
            <a:avLst/>
          </a:prstGeom>
          <a:ln w="0">
            <a:noFill/>
          </a:ln>
        </p:spPr>
      </p:pic>
      <p:sp>
        <p:nvSpPr>
          <p:cNvPr id="268" name="Rounded Rectangle 3"/>
          <p:cNvSpPr/>
          <p:nvPr/>
        </p:nvSpPr>
        <p:spPr>
          <a:xfrm>
            <a:off x="6746760" y="1417680"/>
            <a:ext cx="2298960" cy="615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loser look at the classification 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38276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Bar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rcRect l="0" t="16138" r="35217" b="17036"/>
          <a:stretch/>
        </p:blipFill>
        <p:spPr>
          <a:xfrm>
            <a:off x="992160" y="1376280"/>
            <a:ext cx="7278840" cy="469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0" descr=""/>
          <p:cNvPicPr/>
          <p:nvPr/>
        </p:nvPicPr>
        <p:blipFill>
          <a:blip r:embed="rId1"/>
          <a:srcRect l="8807" t="42343" r="13087" b="-4370"/>
          <a:stretch/>
        </p:blipFill>
        <p:spPr>
          <a:xfrm>
            <a:off x="522360" y="1359000"/>
            <a:ext cx="8172360" cy="5175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8240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Bar Char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ounded Rectangle 10"/>
          <p:cNvSpPr/>
          <p:nvPr/>
        </p:nvSpPr>
        <p:spPr>
          <a:xfrm>
            <a:off x="6151680" y="4599000"/>
            <a:ext cx="2698560" cy="482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dered, labeled b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11"/>
          <p:cNvSpPr/>
          <p:nvPr/>
        </p:nvSpPr>
        <p:spPr>
          <a:xfrm>
            <a:off x="6146640" y="5653080"/>
            <a:ext cx="2698920" cy="6415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chmark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ast col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8"/>
          <p:cNvSpPr/>
          <p:nvPr/>
        </p:nvSpPr>
        <p:spPr>
          <a:xfrm>
            <a:off x="6146640" y="5070600"/>
            <a:ext cx="2703600" cy="579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ows indica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vs. wor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9"/>
          <p:cNvSpPr/>
          <p:nvPr/>
        </p:nvSpPr>
        <p:spPr>
          <a:xfrm>
            <a:off x="6149880" y="4162320"/>
            <a:ext cx="2698920" cy="435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76280" y="1501560"/>
            <a:ext cx="754848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r more information, to download version 2.0, or to visit a live demo site:</a:t>
            </a: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76280" y="2754360"/>
            <a:ext cx="78357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r technical assistance or to join the MONAHRQ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ailing list emai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1320" y="2227320"/>
            <a:ext cx="533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monahrq.ahrq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2281320" y="3243240"/>
            <a:ext cx="53211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monahrq@ahrq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2957400" y="4896000"/>
            <a:ext cx="6107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nput Your Data.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Output Your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pres-logo.PNG"/>
          <p:cNvPicPr/>
          <p:nvPr/>
        </p:nvPicPr>
        <p:blipFill>
          <a:blip r:embed="rId1"/>
          <a:stretch/>
        </p:blipFill>
        <p:spPr>
          <a:xfrm>
            <a:off x="3848040" y="4659480"/>
            <a:ext cx="4991040" cy="17269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2"/>
          <p:cNvSpPr/>
          <p:nvPr/>
        </p:nvSpPr>
        <p:spPr>
          <a:xfrm>
            <a:off x="1428840" y="380880"/>
            <a:ext cx="60879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Questions about MONAHRQ 2.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676520" y="353880"/>
            <a:ext cx="58197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re Measur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AHRQ Quali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197000" y="1515960"/>
            <a:ext cx="4754520" cy="326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52440" y="1581120"/>
          <a:ext cx="4616640" cy="3089160"/>
        </p:xfrm>
        <a:graphic>
          <a:graphicData uri="http://schemas.openxmlformats.org/drawingml/2006/table">
            <a:tbl>
              <a:tblPr/>
              <a:tblGrid>
                <a:gridCol w="2882880"/>
                <a:gridCol w="887400"/>
                <a:gridCol w="846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Inpatient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Patient Safety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Neonatal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Pediatric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Prevention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15"/>
          <p:cNvSpPr/>
          <p:nvPr/>
        </p:nvSpPr>
        <p:spPr>
          <a:xfrm>
            <a:off x="6168960" y="2693880"/>
            <a:ext cx="201636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6189840" y="3608280"/>
            <a:ext cx="1954080" cy="4780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6189840" y="2714760"/>
            <a:ext cx="1954080" cy="91440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6627240" y="275904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6651720" y="32162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Some 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194160" y="369396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  –    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Not 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traight Connector 21"/>
          <p:cNvSpPr/>
          <p:nvPr/>
        </p:nvSpPr>
        <p:spPr>
          <a:xfrm flipV="1">
            <a:off x="6189840" y="3171960"/>
            <a:ext cx="1954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6271560" y="27939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6249600" y="3228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938160" y="6168960"/>
            <a:ext cx="71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or a full list of measures included in MONAHRQ 2.0, see Table 5, “Measure Details,” in the MONAHRQ 2.0 Host User Guide, available at  </a:t>
            </a:r>
            <a:r>
              <a:rPr b="0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monahrq.ahrq.gov/download.shtml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1096920" y="1370160"/>
            <a:ext cx="4965840" cy="49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65320" y="1422360"/>
          <a:ext cx="4841640" cy="4805280"/>
        </p:xfrm>
        <a:graphic>
          <a:graphicData uri="http://schemas.openxmlformats.org/drawingml/2006/table">
            <a:tbl>
              <a:tblPr/>
              <a:tblGrid>
                <a:gridCol w="3041640"/>
                <a:gridCol w="900000"/>
                <a:gridCol w="9000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CAHPS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16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MS inpatient process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urge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eart att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eart fail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neumo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hildren’s asth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64044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MS inpatient outcome measu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(30-day mortality and readmiss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eart att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eart fail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neumo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lvl="1"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MS structural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0920" y="338040"/>
            <a:ext cx="6580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re Measures:</a:t>
            </a:r>
            <a:br>
              <a:rPr sz="2800"/>
            </a:b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HCAHPS and Hospital Compar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6251400" y="2046240"/>
            <a:ext cx="201636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6272280" y="2960640"/>
            <a:ext cx="1954080" cy="47772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6272280" y="2081160"/>
            <a:ext cx="1954080" cy="91440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6315120" y="2155680"/>
            <a:ext cx="16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6735240" y="256860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Some 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5"/>
          <p:cNvSpPr/>
          <p:nvPr/>
        </p:nvSpPr>
        <p:spPr>
          <a:xfrm>
            <a:off x="6278400" y="304632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  –    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Not 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traight Connector 36"/>
          <p:cNvSpPr/>
          <p:nvPr/>
        </p:nvSpPr>
        <p:spPr>
          <a:xfrm flipV="1">
            <a:off x="6272280" y="2538000"/>
            <a:ext cx="1954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5418000" y="1854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31"/>
          <p:cNvSpPr/>
          <p:nvPr/>
        </p:nvSpPr>
        <p:spPr>
          <a:xfrm>
            <a:off x="5415120" y="25923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2"/>
          <p:cNvSpPr/>
          <p:nvPr/>
        </p:nvSpPr>
        <p:spPr>
          <a:xfrm>
            <a:off x="6326280" y="2579760"/>
            <a:ext cx="3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1004760" y="6319800"/>
            <a:ext cx="71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or a full list of measures included in MONAHRQ 2.0, see Table 5, “Measure Details,” in the MONAHRQ 2.0 Host User Guide, available at  </a:t>
            </a:r>
            <a:r>
              <a:rPr b="0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monahrq.ahrq.gov/download.shtml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8"/>
          <p:cNvSpPr/>
          <p:nvPr/>
        </p:nvSpPr>
        <p:spPr>
          <a:xfrm>
            <a:off x="1471680" y="1450800"/>
            <a:ext cx="4957560" cy="28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676520" y="366840"/>
            <a:ext cx="57211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re Data Load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Load Data or Measure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69960" y="1533600"/>
          <a:ext cx="4775400" cy="2673360"/>
        </p:xfrm>
        <a:graphic>
          <a:graphicData uri="http://schemas.openxmlformats.org/drawingml/2006/table">
            <a:tbl>
              <a:tblPr/>
              <a:tblGrid>
                <a:gridCol w="2882880"/>
                <a:gridCol w="935280"/>
                <a:gridCol w="957240"/>
              </a:tblGrid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 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ad data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all version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ad measure result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Quality Indica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14440" indent="-514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ospital Compare inpatient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CAHPS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21"/>
          <p:cNvSpPr/>
          <p:nvPr/>
        </p:nvSpPr>
        <p:spPr>
          <a:xfrm>
            <a:off x="6583320" y="2703600"/>
            <a:ext cx="161784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6603840" y="2681280"/>
            <a:ext cx="1582920" cy="91440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977160" y="276876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 Narrow"/>
              </a:rPr>
              <a:t>Sup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6611760" y="3182760"/>
            <a:ext cx="19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 Narrow"/>
              </a:rPr>
              <a:t> –    </a:t>
            </a:r>
            <a:r>
              <a:rPr b="0" lang="en-US" sz="1600" spc="-1" strike="noStrike">
                <a:solidFill>
                  <a:srgbClr val="00279f"/>
                </a:solidFill>
                <a:latin typeface="Arial Narrow"/>
              </a:rPr>
              <a:t>Not sup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traight Connector 25"/>
          <p:cNvSpPr/>
          <p:nvPr/>
        </p:nvSpPr>
        <p:spPr>
          <a:xfrm>
            <a:off x="6603840" y="3138480"/>
            <a:ext cx="15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4151160" y="4570560"/>
            <a:ext cx="29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Load measur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542960" y="456408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Load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4175280" y="4970520"/>
            <a:ext cx="29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easures were calculated outside of MONAHR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515960" y="4981680"/>
            <a:ext cx="24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ONAHRQ directly calculates the measur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6630480" y="27716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4210200" y="5567400"/>
            <a:ext cx="26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ONAHRQ derives local benchma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1371600" y="476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 Data Load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ounded Rectangle 39"/>
          <p:cNvSpPr/>
          <p:nvPr/>
        </p:nvSpPr>
        <p:spPr>
          <a:xfrm>
            <a:off x="257040" y="3238560"/>
            <a:ext cx="153216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1:  Download MONAHR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ounded Rectangle 40"/>
          <p:cNvSpPr/>
          <p:nvPr/>
        </p:nvSpPr>
        <p:spPr>
          <a:xfrm>
            <a:off x="2001960" y="3238560"/>
            <a:ext cx="151740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2a:   Load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ounded Rectangle 41"/>
          <p:cNvSpPr/>
          <p:nvPr/>
        </p:nvSpPr>
        <p:spPr>
          <a:xfrm>
            <a:off x="5554800" y="3238560"/>
            <a:ext cx="160812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4:  Calculat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ounded Rectangle 43"/>
          <p:cNvSpPr/>
          <p:nvPr/>
        </p:nvSpPr>
        <p:spPr>
          <a:xfrm>
            <a:off x="7383600" y="3238560"/>
            <a:ext cx="153180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5:  Generate your Web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178128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ounded Rectangle 54"/>
          <p:cNvSpPr/>
          <p:nvPr/>
        </p:nvSpPr>
        <p:spPr>
          <a:xfrm>
            <a:off x="3726000" y="3238560"/>
            <a:ext cx="160812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2b:  Specify hospi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ounded Rectangle 55"/>
          <p:cNvSpPr/>
          <p:nvPr/>
        </p:nvSpPr>
        <p:spPr>
          <a:xfrm>
            <a:off x="1733400" y="1363680"/>
            <a:ext cx="52372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Load your own hospital discharge data 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5"/>
          <p:cNvSpPr/>
          <p:nvPr/>
        </p:nvSpPr>
        <p:spPr>
          <a:xfrm>
            <a:off x="35053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5"/>
          <p:cNvSpPr/>
          <p:nvPr/>
        </p:nvSpPr>
        <p:spPr>
          <a:xfrm>
            <a:off x="53341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25"/>
          <p:cNvSpPr/>
          <p:nvPr/>
        </p:nvSpPr>
        <p:spPr>
          <a:xfrm>
            <a:off x="71629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ounded Rectangle 60"/>
          <p:cNvSpPr/>
          <p:nvPr/>
        </p:nvSpPr>
        <p:spPr>
          <a:xfrm>
            <a:off x="2057400" y="1967040"/>
            <a:ext cx="1447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load your lo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le 62"/>
          <p:cNvSpPr/>
          <p:nvPr/>
        </p:nvSpPr>
        <p:spPr>
          <a:xfrm>
            <a:off x="3762360" y="1967040"/>
            <a:ext cx="1447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specify local hospital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ounded Rectangle 63"/>
          <p:cNvSpPr/>
          <p:nvPr/>
        </p:nvSpPr>
        <p:spPr>
          <a:xfrm>
            <a:off x="5486400" y="1967040"/>
            <a:ext cx="16002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AHRQ analyzes your  lo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Down Arrow 65"/>
          <p:cNvSpPr/>
          <p:nvPr/>
        </p:nvSpPr>
        <p:spPr>
          <a:xfrm>
            <a:off x="270036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Down Arrow 67"/>
          <p:cNvSpPr/>
          <p:nvPr/>
        </p:nvSpPr>
        <p:spPr>
          <a:xfrm>
            <a:off x="445284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Down Arrow 68"/>
          <p:cNvSpPr/>
          <p:nvPr/>
        </p:nvSpPr>
        <p:spPr>
          <a:xfrm>
            <a:off x="628164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371600" y="476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Data Load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ounded Rectangle 39"/>
          <p:cNvSpPr/>
          <p:nvPr/>
        </p:nvSpPr>
        <p:spPr>
          <a:xfrm>
            <a:off x="257040" y="3238560"/>
            <a:ext cx="153216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1:  Download MONAHR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ounded Rectangle 40"/>
          <p:cNvSpPr/>
          <p:nvPr/>
        </p:nvSpPr>
        <p:spPr>
          <a:xfrm>
            <a:off x="2001960" y="3238560"/>
            <a:ext cx="151740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2a:   Load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ounded Rectangle 41"/>
          <p:cNvSpPr/>
          <p:nvPr/>
        </p:nvSpPr>
        <p:spPr>
          <a:xfrm>
            <a:off x="5554800" y="3238560"/>
            <a:ext cx="160812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4:  Calculat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ed Rectangle 43"/>
          <p:cNvSpPr/>
          <p:nvPr/>
        </p:nvSpPr>
        <p:spPr>
          <a:xfrm>
            <a:off x="7383600" y="3238560"/>
            <a:ext cx="153180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5:  Generate your Web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25"/>
          <p:cNvSpPr/>
          <p:nvPr/>
        </p:nvSpPr>
        <p:spPr>
          <a:xfrm>
            <a:off x="178128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ounded Rectangle 48"/>
          <p:cNvSpPr/>
          <p:nvPr/>
        </p:nvSpPr>
        <p:spPr>
          <a:xfrm>
            <a:off x="257040" y="4572000"/>
            <a:ext cx="1524240" cy="83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You download the Hospital Compare 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ounded Rectangle 53"/>
          <p:cNvSpPr/>
          <p:nvPr/>
        </p:nvSpPr>
        <p:spPr>
          <a:xfrm>
            <a:off x="2071800" y="4572000"/>
            <a:ext cx="1447560" cy="83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You load the Hospital Compare 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54"/>
          <p:cNvSpPr/>
          <p:nvPr/>
        </p:nvSpPr>
        <p:spPr>
          <a:xfrm>
            <a:off x="3726000" y="3238560"/>
            <a:ext cx="160812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2b:  Specify hospi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55"/>
          <p:cNvSpPr/>
          <p:nvPr/>
        </p:nvSpPr>
        <p:spPr>
          <a:xfrm>
            <a:off x="1733400" y="1363680"/>
            <a:ext cx="52372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Load your own hospital discharge data 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56"/>
          <p:cNvSpPr/>
          <p:nvPr/>
        </p:nvSpPr>
        <p:spPr>
          <a:xfrm>
            <a:off x="3838680" y="4572000"/>
            <a:ext cx="1371600" cy="83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You link hospit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35053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25"/>
          <p:cNvSpPr/>
          <p:nvPr/>
        </p:nvSpPr>
        <p:spPr>
          <a:xfrm>
            <a:off x="53341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5"/>
          <p:cNvSpPr/>
          <p:nvPr/>
        </p:nvSpPr>
        <p:spPr>
          <a:xfrm>
            <a:off x="71629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ed Rectangle 60"/>
          <p:cNvSpPr/>
          <p:nvPr/>
        </p:nvSpPr>
        <p:spPr>
          <a:xfrm>
            <a:off x="2057400" y="1967040"/>
            <a:ext cx="1447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load your lo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ed Rectangle 62"/>
          <p:cNvSpPr/>
          <p:nvPr/>
        </p:nvSpPr>
        <p:spPr>
          <a:xfrm>
            <a:off x="3762360" y="1967040"/>
            <a:ext cx="1447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specify local hospital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ounded Rectangle 63"/>
          <p:cNvSpPr/>
          <p:nvPr/>
        </p:nvSpPr>
        <p:spPr>
          <a:xfrm>
            <a:off x="5486400" y="1967040"/>
            <a:ext cx="16002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AHRQ analyzes your  lo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ounded Rectangle 64"/>
          <p:cNvSpPr/>
          <p:nvPr/>
        </p:nvSpPr>
        <p:spPr>
          <a:xfrm>
            <a:off x="860400" y="5589720"/>
            <a:ext cx="761544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and/or load pre-calculated results from Hospital Comp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Down Arrow 65"/>
          <p:cNvSpPr/>
          <p:nvPr/>
        </p:nvSpPr>
        <p:spPr>
          <a:xfrm>
            <a:off x="270036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ounded Rectangle 66"/>
          <p:cNvSpPr/>
          <p:nvPr/>
        </p:nvSpPr>
        <p:spPr>
          <a:xfrm>
            <a:off x="5562720" y="4560840"/>
            <a:ext cx="1587240" cy="849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MONAHRQ calculates local benchma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Down Arrow 67"/>
          <p:cNvSpPr/>
          <p:nvPr/>
        </p:nvSpPr>
        <p:spPr>
          <a:xfrm>
            <a:off x="445284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Down Arrow 68"/>
          <p:cNvSpPr/>
          <p:nvPr/>
        </p:nvSpPr>
        <p:spPr>
          <a:xfrm>
            <a:off x="628164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Down Arrow 69"/>
          <p:cNvSpPr/>
          <p:nvPr/>
        </p:nvSpPr>
        <p:spPr>
          <a:xfrm flipV="1">
            <a:off x="2695680" y="4218840"/>
            <a:ext cx="118800" cy="343080"/>
          </a:xfrm>
          <a:prstGeom prst="downArrow">
            <a:avLst>
              <a:gd name="adj1" fmla="val 19528"/>
              <a:gd name="adj2" fmla="val 50137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Down Arrow 70"/>
          <p:cNvSpPr/>
          <p:nvPr/>
        </p:nvSpPr>
        <p:spPr>
          <a:xfrm flipV="1">
            <a:off x="4432320" y="4218840"/>
            <a:ext cx="119160" cy="343080"/>
          </a:xfrm>
          <a:prstGeom prst="downArrow">
            <a:avLst>
              <a:gd name="adj1" fmla="val 19528"/>
              <a:gd name="adj2" fmla="val 49985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Down Arrow 71"/>
          <p:cNvSpPr/>
          <p:nvPr/>
        </p:nvSpPr>
        <p:spPr>
          <a:xfrm flipV="1">
            <a:off x="6297480" y="4218120"/>
            <a:ext cx="117720" cy="342720"/>
          </a:xfrm>
          <a:prstGeom prst="downArrow">
            <a:avLst>
              <a:gd name="adj1" fmla="val 19528"/>
              <a:gd name="adj2" fmla="val 49870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Down Arrow 72"/>
          <p:cNvSpPr/>
          <p:nvPr/>
        </p:nvSpPr>
        <p:spPr>
          <a:xfrm flipV="1" rot="5400000">
            <a:off x="1851120" y="4867560"/>
            <a:ext cx="153720" cy="293760"/>
          </a:xfrm>
          <a:prstGeom prst="downArrow">
            <a:avLst>
              <a:gd name="adj1" fmla="val 19528"/>
              <a:gd name="adj2" fmla="val 50102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55480" y="38844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Loading Data in MONAHRQ 2.0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555920" y="1373040"/>
            <a:ext cx="5976720" cy="502776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6"/>
          <p:cNvSpPr/>
          <p:nvPr/>
        </p:nvSpPr>
        <p:spPr>
          <a:xfrm>
            <a:off x="5834160" y="3808440"/>
            <a:ext cx="2790720" cy="2714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AHRQ 2.0 lets you loa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hospital discharge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 Compare inpatient measures (including HCAHPS patient satisfaction measu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1424160" y="1698480"/>
            <a:ext cx="1490400" cy="4017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1433520" y="2509920"/>
            <a:ext cx="1490760" cy="40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1090440" y="1379520"/>
            <a:ext cx="6351840" cy="4952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Loading Hospital Compare Data in MONAHRQ 2.0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Rounded Rectangle 9"/>
          <p:cNvSpPr/>
          <p:nvPr/>
        </p:nvSpPr>
        <p:spPr>
          <a:xfrm>
            <a:off x="770040" y="3176640"/>
            <a:ext cx="3122640" cy="1245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download a formatted Hospital Compare file from the MONAHRQ Website a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nahrq.ahrq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ounded Rectangle 10"/>
          <p:cNvSpPr/>
          <p:nvPr/>
        </p:nvSpPr>
        <p:spPr>
          <a:xfrm>
            <a:off x="5772240" y="2970360"/>
            <a:ext cx="2647800" cy="10969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browse for your Hospital Compare file and select “Load Data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889600" y="2502000"/>
            <a:ext cx="1490760" cy="401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3429000" y="2773440"/>
            <a:ext cx="1490760" cy="40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7"/>
          <p:cNvSpPr/>
          <p:nvPr/>
        </p:nvSpPr>
        <p:spPr>
          <a:xfrm>
            <a:off x="758880" y="4422600"/>
            <a:ext cx="3133800" cy="9684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es downloaded from other sources may not load correctly into MONAHR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0:58:31Z</dcterms:created>
  <dc:creator>AHRQ</dc:creator>
  <dc:description/>
  <dc:language>en-US</dc:language>
  <cp:lastModifiedBy>Hickey, Kathy (Healthcare USA)</cp:lastModifiedBy>
  <dcterms:modified xsi:type="dcterms:W3CDTF">2011-06-06T20:49:09Z</dcterms:modified>
  <cp:revision>528</cp:revision>
  <dc:subject/>
  <dc:title>Slide 1</dc:title>
</cp:coreProperties>
</file>