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2"/>
          </p:nvPr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85480" y="698040"/>
            <a:ext cx="4653000" cy="348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3"/>
          </p:nvPr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4"/>
          </p:nvPr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867FF9-4BBF-470D-BE60-7EDFEB9D8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Logo – A H R Q – Agency for Healthcare Research and 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cing Excellence in Health Care – website address: www.ahrq.gov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: A Web-Based Tool for Quality and Utilization Re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t our Web site at: www.monahrq.ahrq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echnical assistance and to get on the MONAHRQ mailing list, email: monahrq@ahrq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DE902A-3FC7-4AD7-9C40-E7923F7677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logo in upper left hand corner; HCUP logo in upper right hand co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title: Key Differenc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differences between MONAHRQ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1.0/1.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NAHRQ 2.0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AHRQ Quality Indicators and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load inpatient discharge data and/or CMS Hospital Compar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Web page navigation and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Host User customization op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68A75D-C280-4CAF-A4ED-9B7331D37C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logo in upper left hand corner; HCUP logo in upper right hand co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title: Key Differenc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differences between MONAHRQ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1.0/1.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NAHRQ 2.0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AHRQ Quality Indicators and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load inpatient discharge data and/or CMS Hospital Compar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Web page navigation and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Host User customization op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0C059E-0C88-4A8A-BDEC-1B41700FAE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logo in upper left hand corner; HCUP logo in upper right hand co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title: MONAHRQ 1.0/1.1 Home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website screenshot; shows website page title, State Health Care Information Portal; navigational tabs at bottom top of the page; four additional portals; each contains a separate category, each with a picture, text and active link to a categ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4AA014-ECF1-4B8B-B041-524E0DA6B3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logo in upper left hand corner; HCUP logo in upper right hand co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title: MONAHRQ 2.0 Home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explanation circle: New Hospital Quality p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website screenshot; shows website page title, State Health Care Information Portal; navigational tabs at the top of the page; four additional portals; each contains a separate category, each with a picture, text and active link to a categ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7FF389-4F62-4755-8F10-8C988F9718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logo in upper left hand corner; HCUP logo in upper right hand co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title: MONAHRQ 1.0/1.1 Search Pages – Select Health Top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explanation circle: Step 1: Select health top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website screenshot; shows list of health topics to choose from; navigation buttons at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8444AB-0068-4862-AA38-6C7E7B44B1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logo in upper left hand corner; HCUP logo in upper right hand co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title: MONAHRQ 1.0/1.1 Search Pages – Select Indic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explanation circle: Step 2: Select indic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website screenshot; shows list of quality indicators to choose from; navigation buttons at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10A04D-DF9A-4AD4-8F75-9900C95B51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logo in upper left hand corner; HCUP logo in upper right hand co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title: MONAHRQ 1.0/1.1 Search Pages – Select Hospi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explanation circle: Step 3: Select hospi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website screenshot; shows option to choose a region or all hospitals; shows an option to select up to four hospitals. Navigation buttons at botto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2D293E-FDB9-400A-A683-128F299B98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logo in upper left hand corner; HCUP logo in upper right hand co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title: MONAHRQ 2.0 New Search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explanation circle 1: Select hospi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explanation circle 2: Select health topic and click “Get Report”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website screenshot; shows the option to select hospitals from the entire dataset, by ZIP Code, or from specific regions; shows the option to choose a health topi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419200-052D-4084-AFFB-9879AE43DD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logo in upper left hand corner; HCUP logo in upper right hand co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title: Key Differenc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differences between MONAHRQ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1.0/1.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NAHRQ 2.0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AHRQ Quality Indicators and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load inpatient discharge data and/or CMS Hospital Compar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Web page navigation and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Host User customization op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0D6CC9-94B0-43FA-A9E9-07C2D2D10C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logo in upper left hand corner; HCUP logo in upper right hand co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title: MONAHRQ 1.0/1.1 Classificatio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website screenshot; main image is classification table for chosen indicators and hospitals by health topi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F7B6C3-9D52-40A4-AC5F-1C41A6C8D7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logo in upper left hand corner; HCUP logo in upper right hand co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title: MONAHRQ 2.0 New Classificatio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explanation circle 1: Consumer path: red/yellow/green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explanation circle 2: Professional path: numbers with confidence interv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explanation circle 3: Two-way sc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website screenshot; main image is classification table for indicators in chosen health topi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6379A8-C7F9-4CCC-985E-6B624B1B9C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logo in upper left hand corner; HCUP logo in upper right hand co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title: MONAHRQ 2.0 New Classificatio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explanation circle 1: Consumer path: red/yellow/green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explanation circle 2: Professional path: numbers with confidence interv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explanation circle 3: Two-way sc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website screenshot; main image is classification table for indicators in chosen health topi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90C2F8-1643-4A98-B57F-90F2B6604E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logo in upper left hand corner; HCUP logo in upper right hand co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title: MONAHRQ 1.0/1.1 Bar Ch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website screenshot; main image of bar graphs for selected indicat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456016-52C6-4E50-B0BB-55EA4D5B24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logo in upper left hand corner; HCUP logo in upper right hand co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title: MONAHRQ 2.0 New Bar Ch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explanation circle 1: Bars are sorted with better values on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explanation circle 2: Brown bars denote Mean Test by input file and nationw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website screenshot; main image of bar graphs for selected indicat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E13F4A-8AD3-415C-9079-F177DDF8A4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A440A5-3A90-4B11-8FDD-9636E31D0F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logo in upper left hand corner; HCUP logo in upper right hand co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website screenshot; shows website page title, State Health Care Information Portal; navigational tabs at the top of the page; four additional portals; each contains a separate category, each with a picture, text and active link to a categ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logo in upper left hand corner; HCUP logo in upper right hand co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title: AHRQ Quality Indicators in MONAHR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x shows the AHRQ Inpatient QIs, Patient Safety QIs, Neonatal QIs, Pediatric QIs, and Prevention QIs included in MONAHRQ 1.0/1.1 versus MONAHRQ 2.0. Indicators are either included, some included, or not included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42B11A-992D-4D85-A045-369CC33087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logo in upper left hand corner; HCUP logo in upper right hand co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title: Hospital Compare Measures in MONAHR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x shows the CMS Process Measures (Inpatient), CMS Outcome Measures (30-Day Mortality and Readmissions), CMS Structural Measures, and HCAHPS Measures included in MONAHRQ 1.0/1.1 versus MONAHRQ 2.0. Measures are either included, some included, or not included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38A7AF-A96E-4F6D-BD86-D3902B887C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logo in upper left hand corner; HCUP logo in upper right hand co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title: AHRQ Quality Indicators in MONAHR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x shows the AHRQ Inpatient QIs, Patient Safety QIs, Neonatal QIs, Pediatric QIs, and Prevention QIs included in MONAHRQ 1.0/1.1 versus MONAHRQ 2.0. Indicators are either included, some included, or not included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289AC7-D4FF-4693-92BC-67FCBCFFC8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logo in upper left hand corner; HCUP logo in upper right hand co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title: Hospital Compare Measure Results and MONAHR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AHRQ 2.0 model: Calculate your own measure results and/or Load precalculated measure results; flow chart moves from left to right detailing the step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You download MONAHR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 You load you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-A: You download CMS measure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-B: You load CMS measure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-C: You link hospi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: You calculate measure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4: You generate a Web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5: You host your Web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7AA040-F566-489F-A3DF-78401B9E27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logo in upper left hand corner; HCUP logo in upper right hand co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title: Hospital Compare Measure Results and MONAHR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AHRQ 2.0 model: Calculate your own measure results and/or Load precalculated measure results; flow chart moves from left to right detailing the step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You download MONAHR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 You load you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-A: You download CMS measure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-B: You load CMS measure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-C: You link hospi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: You calculate measure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4: You generate a Web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5: You host your Web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14D763-F3A6-4081-8E53-32600C37B9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logo in upper left hand corner; HCUP logo in upper right hand co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title: MONAHRQ 2.0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explanation circle: MONAHRQ 2.0 allows users to load their own inpatient discharge data and/or CMS Hospital Compare Dat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reen shot of MONAHRQ 2.0 application; yellow circle around the options for Inpatient Discharge Data and Hospital Compare Data under the Task Men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D1E656-5A1D-4663-A591-97151090A3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logo in upper left hand corner; HCUP logo in upper right hand co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title: MONAHRQ 2.0 – Load CMS Hospital Compar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explanation circle 1: Download the CMS Hospital Compare Data file from the MONAHRQ download site (http://www.monahrq.ahrq.gov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explanation circle 2: Browse for the CMS Hospital Compare Data file and select “Load Data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reen shot of MONAHRQ 2.0 application; Hospital Compare Data screen; yellow circle around the buttons for Browse and Load Dat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DF623E-FA28-43DC-8132-B9B8B4CED5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56F1C-55C9-4DCC-A87D-FF8F4D174C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AEF18-F21E-4725-83FC-40D22C0CA8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73269-50F6-4E43-8436-84A70E2231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3C0D6-F6CF-42D7-96E5-91B23C6ACA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455480" y="457200"/>
            <a:ext cx="608796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CF795-939B-4000-AE20-5A19975E76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E3BC2-2FD0-4960-8108-D2010AF602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8A1B9-B710-43EB-9656-F3B9DEF1DE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F3F6A-2912-4116-B07B-7BA8C93C53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455480" y="457200"/>
            <a:ext cx="608796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A29CF-F6C3-486D-A969-537625D52C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035BD-9C8B-40AD-A662-0A98B66144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3DE52-4E2B-40B8-A591-BC04732E57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9E0DB-82D8-473F-A97D-D1B20BAE7F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371880" indent="-3718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0840" indent="-3171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52000" indent="-279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25960" indent="-182880">
              <a:lnSpc>
                <a:spcPct val="90000"/>
              </a:lnSpc>
              <a:spcBef>
                <a:spcPts val="104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700640" indent="-1828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700640" indent="-1828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700640" indent="-1828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04920" y="6400440"/>
            <a:ext cx="5745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EF54-5E39-4BC8-A564-E8E0AC5900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" name="Group 5"/>
          <p:cNvGrpSpPr/>
          <p:nvPr/>
        </p:nvGrpSpPr>
        <p:grpSpPr>
          <a:xfrm>
            <a:off x="0" y="1278000"/>
            <a:ext cx="9143640" cy="73440"/>
            <a:chOff x="0" y="1278000"/>
            <a:chExt cx="9143640" cy="73440"/>
          </a:xfrm>
        </p:grpSpPr>
        <p:sp>
          <p:nvSpPr>
            <p:cNvPr id="4" name="Line 6"/>
            <p:cNvSpPr/>
            <p:nvPr/>
          </p:nvSpPr>
          <p:spPr>
            <a:xfrm>
              <a:off x="6480" y="1351440"/>
              <a:ext cx="913716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Line 7"/>
            <p:cNvSpPr/>
            <p:nvPr/>
          </p:nvSpPr>
          <p:spPr>
            <a:xfrm>
              <a:off x="0" y="1278000"/>
              <a:ext cx="913716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" name="Picture 8" descr="HCUP Logo_lg"/>
          <p:cNvPicPr/>
          <p:nvPr/>
        </p:nvPicPr>
        <p:blipFill>
          <a:blip r:embed="rId2"/>
          <a:stretch/>
        </p:blipFill>
        <p:spPr>
          <a:xfrm>
            <a:off x="7742160" y="63360"/>
            <a:ext cx="1295640" cy="1148040"/>
          </a:xfrm>
          <a:prstGeom prst="rect">
            <a:avLst/>
          </a:prstGeom>
          <a:ln w="0">
            <a:noFill/>
          </a:ln>
        </p:spPr>
      </p:pic>
      <p:grpSp>
        <p:nvGrpSpPr>
          <p:cNvPr id="7" name="Group 9"/>
          <p:cNvGrpSpPr/>
          <p:nvPr/>
        </p:nvGrpSpPr>
        <p:grpSpPr>
          <a:xfrm>
            <a:off x="0" y="79200"/>
            <a:ext cx="1218960" cy="1154520"/>
            <a:chOff x="0" y="79200"/>
            <a:chExt cx="1218960" cy="1154520"/>
          </a:xfrm>
        </p:grpSpPr>
        <p:pic>
          <p:nvPicPr>
            <p:cNvPr id="8" name="Picture 10" descr="AHRQ Logo lg"/>
            <p:cNvPicPr/>
            <p:nvPr/>
          </p:nvPicPr>
          <p:blipFill>
            <a:blip r:embed="rId3"/>
            <a:stretch/>
          </p:blipFill>
          <p:spPr>
            <a:xfrm>
              <a:off x="86400" y="79200"/>
              <a:ext cx="112212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 Box 11"/>
            <p:cNvSpPr/>
            <p:nvPr/>
          </p:nvSpPr>
          <p:spPr>
            <a:xfrm>
              <a:off x="0" y="702360"/>
              <a:ext cx="12189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66ccff"/>
                  </a:solidFill>
                  <a:latin typeface="Arial"/>
                </a:rPr>
                <a:t>Advancing Excellence in Health Car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Line 12"/>
            <p:cNvSpPr/>
            <p:nvPr/>
          </p:nvSpPr>
          <p:spPr>
            <a:xfrm>
              <a:off x="86400" y="702360"/>
              <a:ext cx="1110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4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8" name="Line 5"/>
            <p:cNvSpPr/>
            <p:nvPr/>
          </p:nvSpPr>
          <p:spPr>
            <a:xfrm>
              <a:off x="6840" y="38862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8671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" name="Group 7"/>
          <p:cNvGrpSpPr/>
          <p:nvPr/>
        </p:nvGrpSpPr>
        <p:grpSpPr>
          <a:xfrm>
            <a:off x="574560" y="246240"/>
            <a:ext cx="8056800" cy="2268360"/>
            <a:chOff x="574560" y="246240"/>
            <a:chExt cx="8056800" cy="2268360"/>
          </a:xfrm>
        </p:grpSpPr>
        <p:sp>
          <p:nvSpPr>
            <p:cNvPr id="51" name="Rectangle 8"/>
            <p:cNvSpPr/>
            <p:nvPr/>
          </p:nvSpPr>
          <p:spPr>
            <a:xfrm>
              <a:off x="574560" y="318960"/>
              <a:ext cx="8056800" cy="2051280"/>
            </a:xfrm>
            <a:prstGeom prst="rect">
              <a:avLst/>
            </a:prstGeom>
            <a:gradFill rotWithShape="0">
              <a:gsLst>
                <a:gs pos="0">
                  <a:srgbClr val="002f76"/>
                </a:gs>
                <a:gs pos="100000">
                  <a:srgbClr val="0066ff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2" name="Object 9"/>
            <p:cNvGraphicFramePr/>
            <p:nvPr/>
          </p:nvGraphicFramePr>
          <p:xfrm>
            <a:off x="666720" y="246240"/>
            <a:ext cx="2354400" cy="2268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3" name="Object 9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66720" y="246240"/>
                      <a:ext cx="2354400" cy="22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" name="Text Box 10"/>
            <p:cNvSpPr/>
            <p:nvPr/>
          </p:nvSpPr>
          <p:spPr>
            <a:xfrm>
              <a:off x="3043080" y="1555920"/>
              <a:ext cx="558468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Agency for Healthcare Research and Quali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99ccff"/>
                  </a:solidFill>
                  <a:latin typeface="Arial"/>
                </a:rPr>
                <a:t>Advancing Excellence in Health Care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• </a:t>
              </a:r>
              <a:r>
                <a:rPr b="0" lang="en-US" sz="1800" spc="-1" strike="noStrike">
                  <a:solidFill>
                    <a:srgbClr val="99ccff"/>
                  </a:solidFill>
                  <a:latin typeface="Arial"/>
                  <a:ea typeface="Arial"/>
                </a:rPr>
                <a:t>www.ahrq.go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11"/>
            <p:cNvSpPr/>
            <p:nvPr/>
          </p:nvSpPr>
          <p:spPr>
            <a:xfrm>
              <a:off x="3036960" y="318960"/>
              <a:ext cx="0" cy="2051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3041640" y="1898640"/>
              <a:ext cx="558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7" name="Object 13"/>
          <p:cNvGraphicFramePr/>
          <p:nvPr/>
        </p:nvGraphicFramePr>
        <p:xfrm>
          <a:off x="2914560" y="142920"/>
          <a:ext cx="3333960" cy="1838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14560" y="142920"/>
                    <a:ext cx="3333960" cy="18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Text Box 14"/>
          <p:cNvSpPr/>
          <p:nvPr/>
        </p:nvSpPr>
        <p:spPr>
          <a:xfrm>
            <a:off x="7908840" y="5827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371880" indent="-3718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0840" indent="-3171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52000" indent="-279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25960" indent="-182880">
              <a:lnSpc>
                <a:spcPct val="90000"/>
              </a:lnSpc>
              <a:spcBef>
                <a:spcPts val="104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700640" indent="-1828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700640" indent="-1828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700640" indent="-1828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monahrq.ahrq.gov/" TargetMode="External"/><Relationship Id="rId3" Type="http://schemas.openxmlformats.org/officeDocument/2006/relationships/hyperlink" Target="mailto:monahrq@ahrq.gov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150840" y="32940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paring versions 1.0 and 2.0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6" name="Picture 5" descr="pres-logo.PNG"/>
          <p:cNvPicPr/>
          <p:nvPr/>
        </p:nvPicPr>
        <p:blipFill>
          <a:blip r:embed="rId1"/>
          <a:stretch/>
        </p:blipFill>
        <p:spPr>
          <a:xfrm>
            <a:off x="2004840" y="1898640"/>
            <a:ext cx="5378760" cy="18622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457200" y="5486400"/>
            <a:ext cx="83059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isit our Website at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www.monahrq.ahrq.go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technical assistance or to join the MONAHRQ mailing list, email: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fafd00"/>
                </a:solidFill>
                <a:uFillTx/>
                <a:latin typeface="Arial"/>
                <a:hlinkClick r:id="rId3"/>
              </a:rPr>
              <a:t>monahrq@ahrq.go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itle 1"/>
          <p:cNvSpPr/>
          <p:nvPr/>
        </p:nvSpPr>
        <p:spPr>
          <a:xfrm>
            <a:off x="1441440" y="403200"/>
            <a:ext cx="615960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Linking Hospitals in MONAHRQ 2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1601640" y="1379520"/>
            <a:ext cx="6742440" cy="5257800"/>
          </a:xfrm>
          <a:prstGeom prst="rect">
            <a:avLst/>
          </a:prstGeom>
          <a:ln w="0">
            <a:noFill/>
          </a:ln>
        </p:spPr>
      </p:pic>
      <p:sp>
        <p:nvSpPr>
          <p:cNvPr id="214" name="Rounded Rectangle 5"/>
          <p:cNvSpPr/>
          <p:nvPr/>
        </p:nvSpPr>
        <p:spPr>
          <a:xfrm>
            <a:off x="482760" y="4572000"/>
            <a:ext cx="2970000" cy="109224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5724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osswalk your local hospitals to hospitals in the Hospital Compare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887400" y="1376280"/>
            <a:ext cx="6505560" cy="51260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15924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Selecting Measures to Report in MONAHRQ 2.0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Rounded Rectangle 3"/>
          <p:cNvSpPr/>
          <p:nvPr/>
        </p:nvSpPr>
        <p:spPr>
          <a:xfrm>
            <a:off x="5827680" y="4286160"/>
            <a:ext cx="2879640" cy="96840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5724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e which measures to include in your reporting Webs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ounded Rectangle 4"/>
          <p:cNvSpPr/>
          <p:nvPr/>
        </p:nvSpPr>
        <p:spPr>
          <a:xfrm>
            <a:off x="5827680" y="2978280"/>
            <a:ext cx="2879640" cy="129528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5724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th Hospital Compare measures and AHRQ Quality Indicators go into the same health topi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itle 1"/>
          <p:cNvSpPr/>
          <p:nvPr/>
        </p:nvSpPr>
        <p:spPr>
          <a:xfrm>
            <a:off x="1666800" y="379440"/>
            <a:ext cx="533232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Comparing MONAHRQ Versions 1.0 and 2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Box 2"/>
          <p:cNvSpPr/>
          <p:nvPr/>
        </p:nvSpPr>
        <p:spPr>
          <a:xfrm>
            <a:off x="1625760" y="1560600"/>
            <a:ext cx="57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199"/>
              </a:spcAft>
              <a:buClr>
                <a:srgbClr val="ffff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0 can report more measures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1611360" y="1990800"/>
            <a:ext cx="702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ffff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re AHRQ Quality Indica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MS Hospital Compare inpatient meas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CAHPS patient satisfaction meas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Box 2"/>
          <p:cNvSpPr/>
          <p:nvPr/>
        </p:nvSpPr>
        <p:spPr>
          <a:xfrm>
            <a:off x="1627200" y="3119400"/>
            <a:ext cx="71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2.0 has updated Web page desig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5" descr="pres-logo.PNG"/>
          <p:cNvPicPr/>
          <p:nvPr/>
        </p:nvPicPr>
        <p:blipFill>
          <a:blip r:embed="rId1"/>
          <a:stretch/>
        </p:blipFill>
        <p:spPr>
          <a:xfrm>
            <a:off x="5589720" y="5427720"/>
            <a:ext cx="3330360" cy="115236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2"/>
          <p:cNvSpPr/>
          <p:nvPr/>
        </p:nvSpPr>
        <p:spPr>
          <a:xfrm>
            <a:off x="5076720" y="5386320"/>
            <a:ext cx="3848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Input Your Data. </a:t>
            </a:r>
            <a:br>
              <a:rPr sz="1600"/>
            </a:b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Output Your Websit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1633680" y="3532320"/>
            <a:ext cx="70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ffff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Home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Hospital quality pa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Box 2"/>
          <p:cNvSpPr/>
          <p:nvPr/>
        </p:nvSpPr>
        <p:spPr>
          <a:xfrm>
            <a:off x="2097000" y="4154400"/>
            <a:ext cx="702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4960" indent="-347760">
              <a:lnSpc>
                <a:spcPct val="100000"/>
              </a:lnSpc>
              <a:buClr>
                <a:srgbClr val="ffff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New search and navig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buClr>
                <a:srgbClr val="ffff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New classification t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buClr>
                <a:srgbClr val="ffff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Arial"/>
              </a:rPr>
              <a:t>Updated bar cha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itle 1"/>
          <p:cNvSpPr/>
          <p:nvPr/>
        </p:nvSpPr>
        <p:spPr>
          <a:xfrm>
            <a:off x="1519200" y="380880"/>
            <a:ext cx="6068880" cy="8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Updated Website Design for MONAHRQ 2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2727360" y="1703520"/>
            <a:ext cx="36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MONAHRQ  Redesign Go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Box 2"/>
          <p:cNvSpPr/>
          <p:nvPr/>
        </p:nvSpPr>
        <p:spPr>
          <a:xfrm>
            <a:off x="2184480" y="2181240"/>
            <a:ext cx="667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orporate best practices in repor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pond to specific input from our us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8" descr=""/>
          <p:cNvPicPr/>
          <p:nvPr/>
        </p:nvPicPr>
        <p:blipFill>
          <a:blip r:embed="rId1"/>
          <a:srcRect l="0" t="512" r="2048" b="0"/>
          <a:stretch/>
        </p:blipFill>
        <p:spPr>
          <a:xfrm>
            <a:off x="1500120" y="3255840"/>
            <a:ext cx="2927520" cy="198936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  <p:pic>
        <p:nvPicPr>
          <p:cNvPr id="231" name="Picture 9" descr=""/>
          <p:cNvPicPr/>
          <p:nvPr/>
        </p:nvPicPr>
        <p:blipFill>
          <a:blip r:embed="rId2"/>
          <a:srcRect l="2648" t="7149" r="5194" b="5007"/>
          <a:stretch/>
        </p:blipFill>
        <p:spPr>
          <a:xfrm>
            <a:off x="4710240" y="3263760"/>
            <a:ext cx="2921040" cy="196560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  <p:sp>
        <p:nvSpPr>
          <p:cNvPr id="232" name="Text Box 8"/>
          <p:cNvSpPr/>
          <p:nvPr/>
        </p:nvSpPr>
        <p:spPr>
          <a:xfrm>
            <a:off x="2256480" y="5289480"/>
            <a:ext cx="141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Arial"/>
              </a:rPr>
              <a:t>MONAHRQ 1.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5370840" y="5286240"/>
            <a:ext cx="141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Arial"/>
              </a:rPr>
              <a:t>MONAHRQ 2.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55480" y="37476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MONAHRQ 1.0/1.1 Home Page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35" name="Picture 8" descr=""/>
          <p:cNvPicPr/>
          <p:nvPr/>
        </p:nvPicPr>
        <p:blipFill>
          <a:blip r:embed="rId1"/>
          <a:srcRect l="0" t="512" r="2048" b="0"/>
          <a:stretch/>
        </p:blipFill>
        <p:spPr>
          <a:xfrm>
            <a:off x="1455840" y="1414440"/>
            <a:ext cx="6189480" cy="4714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9" descr=""/>
          <p:cNvPicPr/>
          <p:nvPr/>
        </p:nvPicPr>
        <p:blipFill>
          <a:blip r:embed="rId1"/>
          <a:srcRect l="2649" t="7148" r="5200" b="4998"/>
          <a:stretch/>
        </p:blipFill>
        <p:spPr>
          <a:xfrm>
            <a:off x="239760" y="1379520"/>
            <a:ext cx="7931160" cy="50608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55480" y="388440"/>
            <a:ext cx="6087960" cy="76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MONAHRQ 2.0 Home Page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Rounded Rectangle 9"/>
          <p:cNvSpPr/>
          <p:nvPr/>
        </p:nvSpPr>
        <p:spPr>
          <a:xfrm>
            <a:off x="6946920" y="1380960"/>
            <a:ext cx="1986120" cy="5461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5724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iendlier lo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ounded Rectangle 10"/>
          <p:cNvSpPr/>
          <p:nvPr/>
        </p:nvSpPr>
        <p:spPr>
          <a:xfrm>
            <a:off x="6946920" y="1943280"/>
            <a:ext cx="1986120" cy="5457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5724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ss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ounded Rectangle 11"/>
          <p:cNvSpPr/>
          <p:nvPr/>
        </p:nvSpPr>
        <p:spPr>
          <a:xfrm>
            <a:off x="6946920" y="2503440"/>
            <a:ext cx="1986120" cy="7747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5724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re meaningful pictur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55480" y="37476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MONAHRQ 1.0/1.1 Search Pages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42" name="Picture 9" descr=""/>
          <p:cNvPicPr/>
          <p:nvPr/>
        </p:nvPicPr>
        <p:blipFill>
          <a:blip r:embed="rId1"/>
          <a:srcRect l="7471" t="3563" r="9914" b="0"/>
          <a:stretch/>
        </p:blipFill>
        <p:spPr>
          <a:xfrm>
            <a:off x="1614600" y="1357200"/>
            <a:ext cx="5895720" cy="5160960"/>
          </a:xfrm>
          <a:prstGeom prst="rect">
            <a:avLst/>
          </a:prstGeom>
          <a:ln w="0">
            <a:noFill/>
          </a:ln>
        </p:spPr>
      </p:pic>
      <p:sp>
        <p:nvSpPr>
          <p:cNvPr id="243" name="Rounded Rectangle 5"/>
          <p:cNvSpPr/>
          <p:nvPr/>
        </p:nvSpPr>
        <p:spPr>
          <a:xfrm>
            <a:off x="6411960" y="1527120"/>
            <a:ext cx="2195640" cy="76824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5724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1: Select health top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5" descr=""/>
          <p:cNvPicPr/>
          <p:nvPr/>
        </p:nvPicPr>
        <p:blipFill>
          <a:blip r:embed="rId1"/>
          <a:srcRect l="7681" t="3696" r="9375" b="0"/>
          <a:stretch/>
        </p:blipFill>
        <p:spPr>
          <a:xfrm>
            <a:off x="1612800" y="1359000"/>
            <a:ext cx="5910480" cy="514656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55480" y="37476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MONAHRQ 1.0/1.1 Search Pages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Rounded Rectangle 6"/>
          <p:cNvSpPr/>
          <p:nvPr/>
        </p:nvSpPr>
        <p:spPr>
          <a:xfrm>
            <a:off x="6307200" y="1639800"/>
            <a:ext cx="2195280" cy="76860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5724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2: Select  quality indicato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5" descr=""/>
          <p:cNvPicPr/>
          <p:nvPr/>
        </p:nvPicPr>
        <p:blipFill>
          <a:blip r:embed="rId1"/>
          <a:srcRect l="5533" t="31757" r="6729" b="9636"/>
          <a:stretch/>
        </p:blipFill>
        <p:spPr>
          <a:xfrm>
            <a:off x="779400" y="1359000"/>
            <a:ext cx="7486560" cy="37512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55480" y="37476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MONAHRQ 1.0/1.1 Search Pages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Rounded Rectangle 5"/>
          <p:cNvSpPr/>
          <p:nvPr/>
        </p:nvSpPr>
        <p:spPr>
          <a:xfrm>
            <a:off x="6485040" y="1897200"/>
            <a:ext cx="2195280" cy="76824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5724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3: Select hospita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"/>
          <p:cNvPicPr/>
          <p:nvPr/>
        </p:nvPicPr>
        <p:blipFill>
          <a:blip r:embed="rId1"/>
          <a:srcRect l="3001" t="27174" r="5065" b="9705"/>
          <a:stretch/>
        </p:blipFill>
        <p:spPr>
          <a:xfrm>
            <a:off x="270000" y="1386000"/>
            <a:ext cx="8619840" cy="51037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55480" y="37476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MONAHRQ 2.0 Search Page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Rounded Rectangle 11"/>
          <p:cNvSpPr/>
          <p:nvPr/>
        </p:nvSpPr>
        <p:spPr>
          <a:xfrm>
            <a:off x="6710400" y="1362240"/>
            <a:ext cx="2305080" cy="4665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5724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gle page searc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ounded Rectangle 12"/>
          <p:cNvSpPr/>
          <p:nvPr/>
        </p:nvSpPr>
        <p:spPr>
          <a:xfrm>
            <a:off x="6724800" y="2335320"/>
            <a:ext cx="2305080" cy="61884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5724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re hospital search op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ounded Rectangle 13"/>
          <p:cNvSpPr/>
          <p:nvPr/>
        </p:nvSpPr>
        <p:spPr>
          <a:xfrm>
            <a:off x="6710400" y="1828800"/>
            <a:ext cx="2305080" cy="5065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5724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yered inform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tle 1"/>
          <p:cNvSpPr/>
          <p:nvPr/>
        </p:nvSpPr>
        <p:spPr>
          <a:xfrm>
            <a:off x="1666800" y="406440"/>
            <a:ext cx="533232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Comparing MONAHRQ Versions 1.0 and 2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1596960" y="1587600"/>
            <a:ext cx="577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199"/>
              </a:spcAft>
              <a:buClr>
                <a:srgbClr val="ffff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ersion 2.0 can report more measure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1582560" y="2017800"/>
            <a:ext cx="702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ffff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More AHRQ Quality Indica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CMS Hospital Compare inpatient meas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HCAHPS patient satisfaction meas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1598760" y="3146400"/>
            <a:ext cx="68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sion 2.0 has updated Web page desig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pres-logo.PNG"/>
          <p:cNvPicPr/>
          <p:nvPr/>
        </p:nvPicPr>
        <p:blipFill>
          <a:blip r:embed="rId1"/>
          <a:stretch/>
        </p:blipFill>
        <p:spPr>
          <a:xfrm>
            <a:off x="5589720" y="5427720"/>
            <a:ext cx="3330360" cy="11523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"/>
          <p:cNvSpPr/>
          <p:nvPr/>
        </p:nvSpPr>
        <p:spPr>
          <a:xfrm>
            <a:off x="5076720" y="5386320"/>
            <a:ext cx="3848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Input Your Data. </a:t>
            </a:r>
            <a:br>
              <a:rPr sz="1600"/>
            </a:b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Output Your Websit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1606680" y="3573360"/>
            <a:ext cx="70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ffff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me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spital quality pa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2070000" y="4195800"/>
            <a:ext cx="702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4960" indent="-347760">
              <a:lnSpc>
                <a:spcPct val="100000"/>
              </a:lnSpc>
              <a:buClr>
                <a:srgbClr val="ffff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w search and navig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buClr>
                <a:srgbClr val="ffff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w classification t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04960" indent="-347760">
              <a:lnSpc>
                <a:spcPct val="100000"/>
              </a:lnSpc>
              <a:buClr>
                <a:srgbClr val="ffff00"/>
              </a:buClr>
              <a:buSzPct val="1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pdated bar char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52440" y="457200"/>
            <a:ext cx="645480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MONAHRQ 1.0/1.1 </a:t>
            </a:r>
            <a:br>
              <a:rPr sz="2800"/>
            </a:b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Classification Table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56" name="Picture 8" descr=""/>
          <p:cNvPicPr/>
          <p:nvPr/>
        </p:nvPicPr>
        <p:blipFill>
          <a:blip r:embed="rId1"/>
          <a:srcRect l="1875" t="60759" r="17472" b="14253"/>
          <a:stretch/>
        </p:blipFill>
        <p:spPr>
          <a:xfrm>
            <a:off x="130320" y="1542960"/>
            <a:ext cx="8862840" cy="26323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9" descr=""/>
          <p:cNvPicPr/>
          <p:nvPr/>
        </p:nvPicPr>
        <p:blipFill>
          <a:blip r:embed="rId1"/>
          <a:srcRect l="3625" t="7835" r="6894" b="2707"/>
          <a:stretch/>
        </p:blipFill>
        <p:spPr>
          <a:xfrm>
            <a:off x="860400" y="1360440"/>
            <a:ext cx="7175520" cy="53593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60440" y="457200"/>
            <a:ext cx="457704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MONAHRQ 2.0 Classification Table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Rounded Rectangle 16"/>
          <p:cNvSpPr/>
          <p:nvPr/>
        </p:nvSpPr>
        <p:spPr>
          <a:xfrm>
            <a:off x="6692760" y="2273400"/>
            <a:ext cx="2298960" cy="4539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5724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bed subgrou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ounded Rectangle 26"/>
          <p:cNvSpPr/>
          <p:nvPr/>
        </p:nvSpPr>
        <p:spPr>
          <a:xfrm>
            <a:off x="230040" y="5378400"/>
            <a:ext cx="2268720" cy="90000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5724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ill down for rates and confidence interva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ounded Rectangle 27"/>
          <p:cNvSpPr/>
          <p:nvPr/>
        </p:nvSpPr>
        <p:spPr>
          <a:xfrm>
            <a:off x="6686640" y="1849320"/>
            <a:ext cx="2305080" cy="43020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5724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rtable colum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ounded Rectangle 28"/>
          <p:cNvSpPr/>
          <p:nvPr/>
        </p:nvSpPr>
        <p:spPr>
          <a:xfrm>
            <a:off x="6686640" y="1384200"/>
            <a:ext cx="2298600" cy="47160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5724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d ic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ounded Rectangle 32"/>
          <p:cNvSpPr/>
          <p:nvPr/>
        </p:nvSpPr>
        <p:spPr>
          <a:xfrm>
            <a:off x="6692760" y="3178080"/>
            <a:ext cx="2298960" cy="6987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5724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e national or local benchmark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Oval 8"/>
          <p:cNvSpPr/>
          <p:nvPr/>
        </p:nvSpPr>
        <p:spPr>
          <a:xfrm>
            <a:off x="735120" y="6278400"/>
            <a:ext cx="1639800" cy="427320"/>
          </a:xfrm>
          <a:prstGeom prst="ellipse">
            <a:avLst/>
          </a:prstGeom>
          <a:noFill/>
          <a:ln w="3816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ounded Rectangle 9"/>
          <p:cNvSpPr/>
          <p:nvPr/>
        </p:nvSpPr>
        <p:spPr>
          <a:xfrm>
            <a:off x="6692760" y="2724120"/>
            <a:ext cx="2298960" cy="4539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5724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lp popup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24000" y="457200"/>
            <a:ext cx="486432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MONAHRQ 2.0 Classification Table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1"/>
          <a:srcRect l="3625" t="18287" r="6614" b="8583"/>
          <a:stretch/>
        </p:blipFill>
        <p:spPr>
          <a:xfrm>
            <a:off x="190440" y="1371600"/>
            <a:ext cx="8790120" cy="5349960"/>
          </a:xfrm>
          <a:prstGeom prst="rect">
            <a:avLst/>
          </a:prstGeom>
          <a:ln w="0">
            <a:noFill/>
          </a:ln>
        </p:spPr>
      </p:pic>
      <p:sp>
        <p:nvSpPr>
          <p:cNvPr id="268" name="Rounded Rectangle 3"/>
          <p:cNvSpPr/>
          <p:nvPr/>
        </p:nvSpPr>
        <p:spPr>
          <a:xfrm>
            <a:off x="6746760" y="1417680"/>
            <a:ext cx="2298960" cy="6159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5724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closer look at the classification t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1382760" y="374760"/>
            <a:ext cx="60879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MONAHRQ 1.0/1.1 Bar Ch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6" descr=""/>
          <p:cNvPicPr/>
          <p:nvPr/>
        </p:nvPicPr>
        <p:blipFill>
          <a:blip r:embed="rId1"/>
          <a:srcRect l="0" t="16138" r="35217" b="17036"/>
          <a:stretch/>
        </p:blipFill>
        <p:spPr>
          <a:xfrm>
            <a:off x="992160" y="1376280"/>
            <a:ext cx="7278840" cy="469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10" descr=""/>
          <p:cNvPicPr/>
          <p:nvPr/>
        </p:nvPicPr>
        <p:blipFill>
          <a:blip r:embed="rId1"/>
          <a:srcRect l="8807" t="42343" r="13087" b="-4370"/>
          <a:stretch/>
        </p:blipFill>
        <p:spPr>
          <a:xfrm>
            <a:off x="522360" y="1359000"/>
            <a:ext cx="8172360" cy="517500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82400" y="37476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MONAHRQ 2.0 Bar Charts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Rounded Rectangle 10"/>
          <p:cNvSpPr/>
          <p:nvPr/>
        </p:nvSpPr>
        <p:spPr>
          <a:xfrm>
            <a:off x="6151680" y="4599000"/>
            <a:ext cx="2698560" cy="4827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5724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dered, labeled ba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ounded Rectangle 11"/>
          <p:cNvSpPr/>
          <p:nvPr/>
        </p:nvSpPr>
        <p:spPr>
          <a:xfrm>
            <a:off x="6146640" y="5653080"/>
            <a:ext cx="2698920" cy="6415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5724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chmarks i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ast col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ounded Rectangle 8"/>
          <p:cNvSpPr/>
          <p:nvPr/>
        </p:nvSpPr>
        <p:spPr>
          <a:xfrm>
            <a:off x="6146640" y="5070600"/>
            <a:ext cx="2703600" cy="57924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5724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rows indicat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tter vs. wor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ounded Rectangle 9"/>
          <p:cNvSpPr/>
          <p:nvPr/>
        </p:nvSpPr>
        <p:spPr>
          <a:xfrm>
            <a:off x="6149880" y="4162320"/>
            <a:ext cx="2698920" cy="43524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5724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ss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76280" y="1501560"/>
            <a:ext cx="754848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12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For more information, to download version 2.0, or to visit a live demo site:</a:t>
            </a:r>
            <a:br>
              <a:rPr sz="2000"/>
            </a:br>
            <a:endParaRPr b="1" i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476280" y="2754360"/>
            <a:ext cx="78357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For technical assistance or to join the MONAHRQ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mailing list emai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1320" y="2227320"/>
            <a:ext cx="5332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monahrq.ahrq.go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2"/>
          <p:cNvSpPr/>
          <p:nvPr/>
        </p:nvSpPr>
        <p:spPr>
          <a:xfrm>
            <a:off x="2281320" y="3243240"/>
            <a:ext cx="53211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monahrq@ahrq.go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2957400" y="4896000"/>
            <a:ext cx="6107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Input Your Data. </a:t>
            </a:r>
            <a:br>
              <a:rPr sz="2000"/>
            </a:b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Output Your Webs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5" descr="pres-logo.PNG"/>
          <p:cNvPicPr/>
          <p:nvPr/>
        </p:nvPicPr>
        <p:blipFill>
          <a:blip r:embed="rId1"/>
          <a:stretch/>
        </p:blipFill>
        <p:spPr>
          <a:xfrm>
            <a:off x="3848040" y="4659480"/>
            <a:ext cx="4991040" cy="172692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2"/>
          <p:cNvSpPr/>
          <p:nvPr/>
        </p:nvSpPr>
        <p:spPr>
          <a:xfrm>
            <a:off x="1428840" y="380880"/>
            <a:ext cx="608796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Questions about MONAHRQ 2.0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676520" y="353880"/>
            <a:ext cx="5819760" cy="8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More Measur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AHRQ Quality Indic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1197000" y="1515960"/>
            <a:ext cx="4754520" cy="326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252440" y="1581120"/>
          <a:ext cx="4616640" cy="3089160"/>
        </p:xfrm>
        <a:graphic>
          <a:graphicData uri="http://schemas.openxmlformats.org/drawingml/2006/table">
            <a:tbl>
              <a:tblPr/>
              <a:tblGrid>
                <a:gridCol w="2882880"/>
                <a:gridCol w="887400"/>
                <a:gridCol w="84636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su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/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0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1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436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AHRQ Inpatient Q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Wingdings"/>
                          <a:ea typeface="Wingdings"/>
                        </a:rPr>
                        <a:t>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514440" indent="-5144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AHRQ Patient Safety Q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Wingdings"/>
                          <a:ea typeface="Wingdings"/>
                        </a:rPr>
                        <a:t>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</a:tr>
              <a:tr h="436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AHRQ Neonatal Q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–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Wingdings"/>
                          <a:ea typeface="Wingdings"/>
                        </a:rPr>
                        <a:t>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</a:tr>
              <a:tr h="438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AHRQ Pediatric Q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–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–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</a:tr>
              <a:tr h="436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AHRQ Prevention Q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</a:tr>
            </a:tbl>
          </a:graphicData>
        </a:graphic>
      </p:graphicFrame>
      <p:sp>
        <p:nvSpPr>
          <p:cNvPr id="119" name="Rectangle 15"/>
          <p:cNvSpPr/>
          <p:nvPr/>
        </p:nvSpPr>
        <p:spPr>
          <a:xfrm>
            <a:off x="6168960" y="2693880"/>
            <a:ext cx="2016360" cy="14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6189840" y="3608280"/>
            <a:ext cx="1954080" cy="478080"/>
          </a:xfrm>
          <a:prstGeom prst="rect">
            <a:avLst/>
          </a:prstGeom>
          <a:solidFill>
            <a:srgbClr val="cc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17"/>
          <p:cNvSpPr/>
          <p:nvPr/>
        </p:nvSpPr>
        <p:spPr>
          <a:xfrm>
            <a:off x="6189840" y="2714760"/>
            <a:ext cx="1954080" cy="914400"/>
          </a:xfrm>
          <a:prstGeom prst="rect">
            <a:avLst/>
          </a:prstGeom>
          <a:solidFill>
            <a:srgbClr val="cc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18"/>
          <p:cNvSpPr/>
          <p:nvPr/>
        </p:nvSpPr>
        <p:spPr>
          <a:xfrm>
            <a:off x="6627240" y="275904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Arial"/>
              </a:rPr>
              <a:t>Inclu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9"/>
          <p:cNvSpPr/>
          <p:nvPr/>
        </p:nvSpPr>
        <p:spPr>
          <a:xfrm>
            <a:off x="6651720" y="3216240"/>
            <a:ext cx="152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Arial"/>
              </a:rPr>
              <a:t>Some inclu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6194160" y="3693960"/>
            <a:ext cx="176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Arial"/>
              </a:rPr>
              <a:t>  –    </a:t>
            </a:r>
            <a:r>
              <a:rPr b="0" lang="en-US" sz="1600" spc="-1" strike="noStrike">
                <a:solidFill>
                  <a:srgbClr val="00279f"/>
                </a:solidFill>
                <a:latin typeface="Arial"/>
              </a:rPr>
              <a:t>Not inclu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Straight Connector 21"/>
          <p:cNvSpPr/>
          <p:nvPr/>
        </p:nvSpPr>
        <p:spPr>
          <a:xfrm flipV="1">
            <a:off x="6189840" y="3171960"/>
            <a:ext cx="19540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24"/>
          <p:cNvSpPr/>
          <p:nvPr/>
        </p:nvSpPr>
        <p:spPr>
          <a:xfrm>
            <a:off x="6271560" y="279396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25"/>
          <p:cNvSpPr/>
          <p:nvPr/>
        </p:nvSpPr>
        <p:spPr>
          <a:xfrm>
            <a:off x="6249600" y="32288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Wingdings"/>
                <a:ea typeface="Wingdings"/>
              </a:rPr>
              <a:t>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13"/>
          <p:cNvSpPr/>
          <p:nvPr/>
        </p:nvSpPr>
        <p:spPr>
          <a:xfrm>
            <a:off x="938160" y="6168960"/>
            <a:ext cx="716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For a full list of measures included in MONAHRQ 2.0, see Table 5, “Measure Details,” in the MONAHRQ 2.0 Host User Guide, available at  </a:t>
            </a:r>
            <a:r>
              <a:rPr b="0" i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monahrq.ahrq.gov/download.shtml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2"/>
          <p:cNvSpPr/>
          <p:nvPr/>
        </p:nvSpPr>
        <p:spPr>
          <a:xfrm>
            <a:off x="1096920" y="1370160"/>
            <a:ext cx="4965840" cy="49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165320" y="1422360"/>
          <a:ext cx="4841640" cy="4805280"/>
        </p:xfrm>
        <a:graphic>
          <a:graphicData uri="http://schemas.openxmlformats.org/drawingml/2006/table">
            <a:tbl>
              <a:tblPr/>
              <a:tblGrid>
                <a:gridCol w="3041640"/>
                <a:gridCol w="900000"/>
                <a:gridCol w="9000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su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/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6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HCAHPS measu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–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</a:tr>
              <a:tr h="371160">
                <a:tc grid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CMS inpatient process measu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Surgeri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–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Heart atta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–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Heart failu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–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</a:tr>
              <a:tr h="336240"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Pneumon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–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Children’s asthm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–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</a:tr>
              <a:tr h="640440">
                <a:tc grid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CMS inpatient outcome measur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(30-day mortality and readmission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Heart atta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–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Heart failu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–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Pneumon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–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9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 lvl="1" marL="6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CMS structural measu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–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–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</a:tr>
            </a:tbl>
          </a:graphicData>
        </a:graphic>
      </p:graphicFrame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40920" y="338040"/>
            <a:ext cx="6580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More Measures:</a:t>
            </a:r>
            <a:br>
              <a:rPr sz="2800"/>
            </a:b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HCAHPS and Hospital Compare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6251400" y="2046240"/>
            <a:ext cx="2016360" cy="14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26"/>
          <p:cNvSpPr/>
          <p:nvPr/>
        </p:nvSpPr>
        <p:spPr>
          <a:xfrm>
            <a:off x="6272280" y="2960640"/>
            <a:ext cx="1954080" cy="477720"/>
          </a:xfrm>
          <a:prstGeom prst="rect">
            <a:avLst/>
          </a:prstGeom>
          <a:solidFill>
            <a:srgbClr val="cc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27"/>
          <p:cNvSpPr/>
          <p:nvPr/>
        </p:nvSpPr>
        <p:spPr>
          <a:xfrm>
            <a:off x="6272280" y="2081160"/>
            <a:ext cx="1954080" cy="914400"/>
          </a:xfrm>
          <a:prstGeom prst="rect">
            <a:avLst/>
          </a:prstGeom>
          <a:solidFill>
            <a:srgbClr val="cc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29"/>
          <p:cNvSpPr/>
          <p:nvPr/>
        </p:nvSpPr>
        <p:spPr>
          <a:xfrm>
            <a:off x="6315120" y="2155680"/>
            <a:ext cx="16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279f"/>
                </a:solidFill>
                <a:latin typeface="Wingdings"/>
                <a:ea typeface="Wingdings"/>
              </a:rPr>
              <a:t></a:t>
            </a:r>
            <a:r>
              <a:rPr b="0" lang="en-US" sz="1600" spc="-1" strike="noStrike">
                <a:solidFill>
                  <a:srgbClr val="00279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279f"/>
                </a:solidFill>
                <a:latin typeface="Arial"/>
              </a:rPr>
              <a:t>Inclu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33"/>
          <p:cNvSpPr/>
          <p:nvPr/>
        </p:nvSpPr>
        <p:spPr>
          <a:xfrm>
            <a:off x="6735240" y="2568600"/>
            <a:ext cx="152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Arial"/>
              </a:rPr>
              <a:t>Some inclu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35"/>
          <p:cNvSpPr/>
          <p:nvPr/>
        </p:nvSpPr>
        <p:spPr>
          <a:xfrm>
            <a:off x="6278400" y="3046320"/>
            <a:ext cx="176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Arial"/>
              </a:rPr>
              <a:t>  –    </a:t>
            </a:r>
            <a:r>
              <a:rPr b="0" lang="en-US" sz="1600" spc="-1" strike="noStrike">
                <a:solidFill>
                  <a:srgbClr val="00279f"/>
                </a:solidFill>
                <a:latin typeface="Arial"/>
              </a:rPr>
              <a:t>Not inclu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Straight Connector 36"/>
          <p:cNvSpPr/>
          <p:nvPr/>
        </p:nvSpPr>
        <p:spPr>
          <a:xfrm flipV="1">
            <a:off x="6272280" y="2538000"/>
            <a:ext cx="19540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Box 28"/>
          <p:cNvSpPr/>
          <p:nvPr/>
        </p:nvSpPr>
        <p:spPr>
          <a:xfrm>
            <a:off x="5418000" y="1854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31"/>
          <p:cNvSpPr/>
          <p:nvPr/>
        </p:nvSpPr>
        <p:spPr>
          <a:xfrm>
            <a:off x="5415120" y="259236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32"/>
          <p:cNvSpPr/>
          <p:nvPr/>
        </p:nvSpPr>
        <p:spPr>
          <a:xfrm>
            <a:off x="6326280" y="2579760"/>
            <a:ext cx="3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Wingdings"/>
                <a:ea typeface="Wingdings"/>
              </a:rPr>
              <a:t>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Box 17"/>
          <p:cNvSpPr/>
          <p:nvPr/>
        </p:nvSpPr>
        <p:spPr>
          <a:xfrm>
            <a:off x="1004760" y="6319800"/>
            <a:ext cx="716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For a full list of measures included in MONAHRQ 2.0, see Table 5, “Measure Details,” in the MONAHRQ 2.0 Host User Guide, available at  </a:t>
            </a:r>
            <a:r>
              <a:rPr b="0" i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monahrq.ahrq.gov/download.shtml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8"/>
          <p:cNvSpPr/>
          <p:nvPr/>
        </p:nvSpPr>
        <p:spPr>
          <a:xfrm>
            <a:off x="1471680" y="1450800"/>
            <a:ext cx="4957560" cy="28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1676520" y="366840"/>
            <a:ext cx="572112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More Data Load Op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Load Data or Measure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569960" y="1533600"/>
          <a:ext cx="4775400" cy="2673360"/>
        </p:xfrm>
        <a:graphic>
          <a:graphicData uri="http://schemas.openxmlformats.org/drawingml/2006/table">
            <a:tbl>
              <a:tblPr/>
              <a:tblGrid>
                <a:gridCol w="2882880"/>
                <a:gridCol w="935280"/>
                <a:gridCol w="957240"/>
              </a:tblGrid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sure s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ad data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all version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oad measure results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2.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436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AHRQ Quality Indicato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514440" indent="-514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–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Hospital Compare inpatient measu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–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f0"/>
                    </a:solidFill>
                  </a:tcPr>
                </a:tc>
              </a:tr>
              <a:tr h="436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HCAHPS measu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–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0" lang="en-US" sz="1800" spc="-1" strike="noStrike">
                          <a:solidFill>
                            <a:srgbClr val="00279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f"/>
                    </a:solidFill>
                  </a:tcPr>
                </a:tc>
              </a:tr>
            </a:tbl>
          </a:graphicData>
        </a:graphic>
      </p:graphicFrame>
      <p:sp>
        <p:nvSpPr>
          <p:cNvPr id="146" name="Rectangle 21"/>
          <p:cNvSpPr/>
          <p:nvPr/>
        </p:nvSpPr>
        <p:spPr>
          <a:xfrm>
            <a:off x="6583320" y="2703600"/>
            <a:ext cx="1617840" cy="90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22"/>
          <p:cNvSpPr/>
          <p:nvPr/>
        </p:nvSpPr>
        <p:spPr>
          <a:xfrm>
            <a:off x="6603840" y="2681280"/>
            <a:ext cx="1582920" cy="914400"/>
          </a:xfrm>
          <a:prstGeom prst="rect">
            <a:avLst/>
          </a:prstGeom>
          <a:solidFill>
            <a:srgbClr val="cc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6977160" y="276876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Arial Narrow"/>
              </a:rPr>
              <a:t>Sup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6611760" y="3182760"/>
            <a:ext cx="19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 Narrow"/>
              </a:rPr>
              <a:t> –    </a:t>
            </a:r>
            <a:r>
              <a:rPr b="0" lang="en-US" sz="1600" spc="-1" strike="noStrike">
                <a:solidFill>
                  <a:srgbClr val="00279f"/>
                </a:solidFill>
                <a:latin typeface="Arial Narrow"/>
              </a:rPr>
              <a:t>Not suppor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Straight Connector 25"/>
          <p:cNvSpPr/>
          <p:nvPr/>
        </p:nvSpPr>
        <p:spPr>
          <a:xfrm>
            <a:off x="6603840" y="3138480"/>
            <a:ext cx="158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4151160" y="4570560"/>
            <a:ext cx="29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Load measure resul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2"/>
          <p:cNvSpPr/>
          <p:nvPr/>
        </p:nvSpPr>
        <p:spPr>
          <a:xfrm>
            <a:off x="1542960" y="456408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Load dat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Box 2"/>
          <p:cNvSpPr/>
          <p:nvPr/>
        </p:nvSpPr>
        <p:spPr>
          <a:xfrm>
            <a:off x="4175280" y="4970520"/>
            <a:ext cx="290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buClr>
                <a:srgbClr val="ffff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Measures were calculated outside of MONAHRQ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1515960" y="4981680"/>
            <a:ext cx="24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buClr>
                <a:srgbClr val="ffff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MONAHRQ directly calculates the measure resul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17"/>
          <p:cNvSpPr/>
          <p:nvPr/>
        </p:nvSpPr>
        <p:spPr>
          <a:xfrm>
            <a:off x="6630480" y="277164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Box 2"/>
          <p:cNvSpPr/>
          <p:nvPr/>
        </p:nvSpPr>
        <p:spPr>
          <a:xfrm>
            <a:off x="4210200" y="5567400"/>
            <a:ext cx="260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buClr>
                <a:srgbClr val="ffff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MONAHRQ derives local benchmark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3"/>
          <p:cNvSpPr/>
          <p:nvPr/>
        </p:nvSpPr>
        <p:spPr>
          <a:xfrm>
            <a:off x="1371600" y="47628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MONAHRQ 1.0 Data Load O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ounded Rectangle 39"/>
          <p:cNvSpPr/>
          <p:nvPr/>
        </p:nvSpPr>
        <p:spPr>
          <a:xfrm>
            <a:off x="257040" y="3238560"/>
            <a:ext cx="1532160" cy="952560"/>
          </a:xfrm>
          <a:prstGeom prst="roundRect">
            <a:avLst>
              <a:gd name="adj" fmla="val 16667"/>
            </a:avLst>
          </a:prstGeom>
          <a:solidFill>
            <a:srgbClr val="0000b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ep 1:  Download MONAHRQ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ounded Rectangle 40"/>
          <p:cNvSpPr/>
          <p:nvPr/>
        </p:nvSpPr>
        <p:spPr>
          <a:xfrm>
            <a:off x="2001960" y="3238560"/>
            <a:ext cx="1517400" cy="952560"/>
          </a:xfrm>
          <a:prstGeom prst="roundRect">
            <a:avLst>
              <a:gd name="adj" fmla="val 16667"/>
            </a:avLst>
          </a:prstGeom>
          <a:solidFill>
            <a:srgbClr val="0000b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ep 2a:   Load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ounded Rectangle 41"/>
          <p:cNvSpPr/>
          <p:nvPr/>
        </p:nvSpPr>
        <p:spPr>
          <a:xfrm>
            <a:off x="5554800" y="3238560"/>
            <a:ext cx="1608120" cy="952560"/>
          </a:xfrm>
          <a:prstGeom prst="roundRect">
            <a:avLst>
              <a:gd name="adj" fmla="val 16667"/>
            </a:avLst>
          </a:prstGeom>
          <a:solidFill>
            <a:srgbClr val="0000b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ep 4:  Calculate resul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ounded Rectangle 43"/>
          <p:cNvSpPr/>
          <p:nvPr/>
        </p:nvSpPr>
        <p:spPr>
          <a:xfrm>
            <a:off x="7383600" y="3238560"/>
            <a:ext cx="1531800" cy="952560"/>
          </a:xfrm>
          <a:prstGeom prst="roundRect">
            <a:avLst>
              <a:gd name="adj" fmla="val 16667"/>
            </a:avLst>
          </a:prstGeom>
          <a:solidFill>
            <a:srgbClr val="0000b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ep 5:  Generate your Webs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25"/>
          <p:cNvSpPr/>
          <p:nvPr/>
        </p:nvSpPr>
        <p:spPr>
          <a:xfrm>
            <a:off x="1781280" y="3657600"/>
            <a:ext cx="257040" cy="304920"/>
          </a:xfrm>
          <a:prstGeom prst="rightArrow">
            <a:avLst>
              <a:gd name="adj1" fmla="val 50000"/>
              <a:gd name="adj2" fmla="val 4166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ounded Rectangle 54"/>
          <p:cNvSpPr/>
          <p:nvPr/>
        </p:nvSpPr>
        <p:spPr>
          <a:xfrm>
            <a:off x="3726000" y="3238560"/>
            <a:ext cx="1608120" cy="952560"/>
          </a:xfrm>
          <a:prstGeom prst="roundRect">
            <a:avLst>
              <a:gd name="adj" fmla="val 16667"/>
            </a:avLst>
          </a:prstGeom>
          <a:solidFill>
            <a:srgbClr val="0000b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ep 2b:  Specify hospita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ounded Rectangle 55"/>
          <p:cNvSpPr/>
          <p:nvPr/>
        </p:nvSpPr>
        <p:spPr>
          <a:xfrm>
            <a:off x="1733400" y="1363680"/>
            <a:ext cx="5237280" cy="609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Load your own hospital discharge data …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25"/>
          <p:cNvSpPr/>
          <p:nvPr/>
        </p:nvSpPr>
        <p:spPr>
          <a:xfrm>
            <a:off x="3505320" y="3657600"/>
            <a:ext cx="257040" cy="304920"/>
          </a:xfrm>
          <a:prstGeom prst="rightArrow">
            <a:avLst>
              <a:gd name="adj1" fmla="val 50000"/>
              <a:gd name="adj2" fmla="val 4166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25"/>
          <p:cNvSpPr/>
          <p:nvPr/>
        </p:nvSpPr>
        <p:spPr>
          <a:xfrm>
            <a:off x="5334120" y="3657600"/>
            <a:ext cx="257040" cy="304920"/>
          </a:xfrm>
          <a:prstGeom prst="rightArrow">
            <a:avLst>
              <a:gd name="adj1" fmla="val 50000"/>
              <a:gd name="adj2" fmla="val 4166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25"/>
          <p:cNvSpPr/>
          <p:nvPr/>
        </p:nvSpPr>
        <p:spPr>
          <a:xfrm>
            <a:off x="7162920" y="3657600"/>
            <a:ext cx="257040" cy="304920"/>
          </a:xfrm>
          <a:prstGeom prst="rightArrow">
            <a:avLst>
              <a:gd name="adj1" fmla="val 50000"/>
              <a:gd name="adj2" fmla="val 4166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ounded Rectangle 60"/>
          <p:cNvSpPr/>
          <p:nvPr/>
        </p:nvSpPr>
        <p:spPr>
          <a:xfrm>
            <a:off x="2057400" y="1967040"/>
            <a:ext cx="1447920" cy="914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 load your local d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ounded Rectangle 62"/>
          <p:cNvSpPr/>
          <p:nvPr/>
        </p:nvSpPr>
        <p:spPr>
          <a:xfrm>
            <a:off x="3762360" y="1967040"/>
            <a:ext cx="1447920" cy="914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 specify local hospital inform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ounded Rectangle 63"/>
          <p:cNvSpPr/>
          <p:nvPr/>
        </p:nvSpPr>
        <p:spPr>
          <a:xfrm>
            <a:off x="5486400" y="1967040"/>
            <a:ext cx="1600200" cy="914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NAHRQ analyzes your  local d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Down Arrow 65"/>
          <p:cNvSpPr/>
          <p:nvPr/>
        </p:nvSpPr>
        <p:spPr>
          <a:xfrm>
            <a:off x="2700360" y="2881440"/>
            <a:ext cx="119160" cy="342720"/>
          </a:xfrm>
          <a:prstGeom prst="downArrow">
            <a:avLst>
              <a:gd name="adj1" fmla="val 19528"/>
              <a:gd name="adj2" fmla="val 49933"/>
            </a:avLst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Down Arrow 67"/>
          <p:cNvSpPr/>
          <p:nvPr/>
        </p:nvSpPr>
        <p:spPr>
          <a:xfrm>
            <a:off x="4452840" y="2881440"/>
            <a:ext cx="119160" cy="342720"/>
          </a:xfrm>
          <a:prstGeom prst="downArrow">
            <a:avLst>
              <a:gd name="adj1" fmla="val 19528"/>
              <a:gd name="adj2" fmla="val 49933"/>
            </a:avLst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Down Arrow 68"/>
          <p:cNvSpPr/>
          <p:nvPr/>
        </p:nvSpPr>
        <p:spPr>
          <a:xfrm>
            <a:off x="6281640" y="2881440"/>
            <a:ext cx="119160" cy="342720"/>
          </a:xfrm>
          <a:prstGeom prst="downArrow">
            <a:avLst>
              <a:gd name="adj1" fmla="val 19528"/>
              <a:gd name="adj2" fmla="val 49933"/>
            </a:avLst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3"/>
          <p:cNvSpPr/>
          <p:nvPr/>
        </p:nvSpPr>
        <p:spPr>
          <a:xfrm>
            <a:off x="1371600" y="47628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MONAHRQ 2.0 Data Load O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ounded Rectangle 39"/>
          <p:cNvSpPr/>
          <p:nvPr/>
        </p:nvSpPr>
        <p:spPr>
          <a:xfrm>
            <a:off x="257040" y="3238560"/>
            <a:ext cx="1532160" cy="952560"/>
          </a:xfrm>
          <a:prstGeom prst="roundRect">
            <a:avLst>
              <a:gd name="adj" fmla="val 16667"/>
            </a:avLst>
          </a:prstGeom>
          <a:solidFill>
            <a:srgbClr val="0000b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ep 1:  Download MONAHRQ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ounded Rectangle 40"/>
          <p:cNvSpPr/>
          <p:nvPr/>
        </p:nvSpPr>
        <p:spPr>
          <a:xfrm>
            <a:off x="2001960" y="3238560"/>
            <a:ext cx="1517400" cy="952560"/>
          </a:xfrm>
          <a:prstGeom prst="roundRect">
            <a:avLst>
              <a:gd name="adj" fmla="val 16667"/>
            </a:avLst>
          </a:prstGeom>
          <a:solidFill>
            <a:srgbClr val="0000b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ep 2a:   Load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ounded Rectangle 41"/>
          <p:cNvSpPr/>
          <p:nvPr/>
        </p:nvSpPr>
        <p:spPr>
          <a:xfrm>
            <a:off x="5554800" y="3238560"/>
            <a:ext cx="1608120" cy="952560"/>
          </a:xfrm>
          <a:prstGeom prst="roundRect">
            <a:avLst>
              <a:gd name="adj" fmla="val 16667"/>
            </a:avLst>
          </a:prstGeom>
          <a:solidFill>
            <a:srgbClr val="0000b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ep 4:  Calculate resul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ounded Rectangle 43"/>
          <p:cNvSpPr/>
          <p:nvPr/>
        </p:nvSpPr>
        <p:spPr>
          <a:xfrm>
            <a:off x="7383600" y="3238560"/>
            <a:ext cx="1531800" cy="952560"/>
          </a:xfrm>
          <a:prstGeom prst="roundRect">
            <a:avLst>
              <a:gd name="adj" fmla="val 16667"/>
            </a:avLst>
          </a:prstGeom>
          <a:solidFill>
            <a:srgbClr val="0000b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ep 5:  Generate your Webs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25"/>
          <p:cNvSpPr/>
          <p:nvPr/>
        </p:nvSpPr>
        <p:spPr>
          <a:xfrm>
            <a:off x="1781280" y="3657600"/>
            <a:ext cx="257040" cy="304920"/>
          </a:xfrm>
          <a:prstGeom prst="rightArrow">
            <a:avLst>
              <a:gd name="adj1" fmla="val 50000"/>
              <a:gd name="adj2" fmla="val 4166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ounded Rectangle 48"/>
          <p:cNvSpPr/>
          <p:nvPr/>
        </p:nvSpPr>
        <p:spPr>
          <a:xfrm>
            <a:off x="257040" y="4572000"/>
            <a:ext cx="1524240" cy="838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You download the Hospital Compare 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ounded Rectangle 53"/>
          <p:cNvSpPr/>
          <p:nvPr/>
        </p:nvSpPr>
        <p:spPr>
          <a:xfrm>
            <a:off x="2071800" y="4572000"/>
            <a:ext cx="1447560" cy="838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You load the Hospital Compare 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ounded Rectangle 54"/>
          <p:cNvSpPr/>
          <p:nvPr/>
        </p:nvSpPr>
        <p:spPr>
          <a:xfrm>
            <a:off x="3726000" y="3238560"/>
            <a:ext cx="1608120" cy="952560"/>
          </a:xfrm>
          <a:prstGeom prst="roundRect">
            <a:avLst>
              <a:gd name="adj" fmla="val 16667"/>
            </a:avLst>
          </a:prstGeom>
          <a:solidFill>
            <a:srgbClr val="0000b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ep 2b:  Specify hospita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ounded Rectangle 55"/>
          <p:cNvSpPr/>
          <p:nvPr/>
        </p:nvSpPr>
        <p:spPr>
          <a:xfrm>
            <a:off x="1733400" y="1363680"/>
            <a:ext cx="5237280" cy="609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Load your own hospital discharge data …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ounded Rectangle 56"/>
          <p:cNvSpPr/>
          <p:nvPr/>
        </p:nvSpPr>
        <p:spPr>
          <a:xfrm>
            <a:off x="3838680" y="4572000"/>
            <a:ext cx="1371600" cy="838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You link hospita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25"/>
          <p:cNvSpPr/>
          <p:nvPr/>
        </p:nvSpPr>
        <p:spPr>
          <a:xfrm>
            <a:off x="3505320" y="3657600"/>
            <a:ext cx="257040" cy="304920"/>
          </a:xfrm>
          <a:prstGeom prst="rightArrow">
            <a:avLst>
              <a:gd name="adj1" fmla="val 50000"/>
              <a:gd name="adj2" fmla="val 4166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25"/>
          <p:cNvSpPr/>
          <p:nvPr/>
        </p:nvSpPr>
        <p:spPr>
          <a:xfrm>
            <a:off x="5334120" y="3657600"/>
            <a:ext cx="257040" cy="304920"/>
          </a:xfrm>
          <a:prstGeom prst="rightArrow">
            <a:avLst>
              <a:gd name="adj1" fmla="val 50000"/>
              <a:gd name="adj2" fmla="val 4166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25"/>
          <p:cNvSpPr/>
          <p:nvPr/>
        </p:nvSpPr>
        <p:spPr>
          <a:xfrm>
            <a:off x="7162920" y="3657600"/>
            <a:ext cx="257040" cy="304920"/>
          </a:xfrm>
          <a:prstGeom prst="rightArrow">
            <a:avLst>
              <a:gd name="adj1" fmla="val 50000"/>
              <a:gd name="adj2" fmla="val 4166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ounded Rectangle 60"/>
          <p:cNvSpPr/>
          <p:nvPr/>
        </p:nvSpPr>
        <p:spPr>
          <a:xfrm>
            <a:off x="2057400" y="1967040"/>
            <a:ext cx="1447920" cy="914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 load your local d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ounded Rectangle 62"/>
          <p:cNvSpPr/>
          <p:nvPr/>
        </p:nvSpPr>
        <p:spPr>
          <a:xfrm>
            <a:off x="3762360" y="1967040"/>
            <a:ext cx="1447920" cy="914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 specify local hospital inform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ounded Rectangle 63"/>
          <p:cNvSpPr/>
          <p:nvPr/>
        </p:nvSpPr>
        <p:spPr>
          <a:xfrm>
            <a:off x="5486400" y="1967040"/>
            <a:ext cx="1600200" cy="914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NAHRQ analyzes your  local da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ounded Rectangle 64"/>
          <p:cNvSpPr/>
          <p:nvPr/>
        </p:nvSpPr>
        <p:spPr>
          <a:xfrm>
            <a:off x="860400" y="5589720"/>
            <a:ext cx="7615440" cy="533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… 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and/or load pre-calculated results from Hospital Comp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Down Arrow 65"/>
          <p:cNvSpPr/>
          <p:nvPr/>
        </p:nvSpPr>
        <p:spPr>
          <a:xfrm>
            <a:off x="2700360" y="2881440"/>
            <a:ext cx="119160" cy="342720"/>
          </a:xfrm>
          <a:prstGeom prst="downArrow">
            <a:avLst>
              <a:gd name="adj1" fmla="val 19528"/>
              <a:gd name="adj2" fmla="val 49933"/>
            </a:avLst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ounded Rectangle 66"/>
          <p:cNvSpPr/>
          <p:nvPr/>
        </p:nvSpPr>
        <p:spPr>
          <a:xfrm>
            <a:off x="5562720" y="4560840"/>
            <a:ext cx="1587240" cy="849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MONAHRQ calculates local benchmar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Down Arrow 67"/>
          <p:cNvSpPr/>
          <p:nvPr/>
        </p:nvSpPr>
        <p:spPr>
          <a:xfrm>
            <a:off x="4452840" y="2881440"/>
            <a:ext cx="119160" cy="342720"/>
          </a:xfrm>
          <a:prstGeom prst="downArrow">
            <a:avLst>
              <a:gd name="adj1" fmla="val 19528"/>
              <a:gd name="adj2" fmla="val 49933"/>
            </a:avLst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Down Arrow 68"/>
          <p:cNvSpPr/>
          <p:nvPr/>
        </p:nvSpPr>
        <p:spPr>
          <a:xfrm>
            <a:off x="6281640" y="2881440"/>
            <a:ext cx="119160" cy="342720"/>
          </a:xfrm>
          <a:prstGeom prst="downArrow">
            <a:avLst>
              <a:gd name="adj1" fmla="val 19528"/>
              <a:gd name="adj2" fmla="val 49933"/>
            </a:avLst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Down Arrow 69"/>
          <p:cNvSpPr/>
          <p:nvPr/>
        </p:nvSpPr>
        <p:spPr>
          <a:xfrm flipV="1">
            <a:off x="2695680" y="4218840"/>
            <a:ext cx="118800" cy="343080"/>
          </a:xfrm>
          <a:prstGeom prst="downArrow">
            <a:avLst>
              <a:gd name="adj1" fmla="val 19528"/>
              <a:gd name="adj2" fmla="val 50137"/>
            </a:avLst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Down Arrow 70"/>
          <p:cNvSpPr/>
          <p:nvPr/>
        </p:nvSpPr>
        <p:spPr>
          <a:xfrm flipV="1">
            <a:off x="4432320" y="4218840"/>
            <a:ext cx="119160" cy="343080"/>
          </a:xfrm>
          <a:prstGeom prst="downArrow">
            <a:avLst>
              <a:gd name="adj1" fmla="val 19528"/>
              <a:gd name="adj2" fmla="val 49985"/>
            </a:avLst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Down Arrow 71"/>
          <p:cNvSpPr/>
          <p:nvPr/>
        </p:nvSpPr>
        <p:spPr>
          <a:xfrm flipV="1">
            <a:off x="6297480" y="4218120"/>
            <a:ext cx="117720" cy="342720"/>
          </a:xfrm>
          <a:prstGeom prst="downArrow">
            <a:avLst>
              <a:gd name="adj1" fmla="val 19528"/>
              <a:gd name="adj2" fmla="val 49870"/>
            </a:avLst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Down Arrow 72"/>
          <p:cNvSpPr/>
          <p:nvPr/>
        </p:nvSpPr>
        <p:spPr>
          <a:xfrm flipV="1" rot="5400000">
            <a:off x="1851120" y="4867560"/>
            <a:ext cx="153720" cy="293760"/>
          </a:xfrm>
          <a:prstGeom prst="downArrow">
            <a:avLst>
              <a:gd name="adj1" fmla="val 19528"/>
              <a:gd name="adj2" fmla="val 50102"/>
            </a:avLst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55480" y="388440"/>
            <a:ext cx="6087960" cy="76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Loading Data in MONAHRQ 2.0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1555920" y="1373040"/>
            <a:ext cx="5976720" cy="5027760"/>
          </a:xfrm>
          <a:prstGeom prst="rect">
            <a:avLst/>
          </a:prstGeom>
          <a:ln w="0">
            <a:noFill/>
          </a:ln>
        </p:spPr>
      </p:pic>
      <p:sp>
        <p:nvSpPr>
          <p:cNvPr id="202" name="Rounded Rectangle 6"/>
          <p:cNvSpPr/>
          <p:nvPr/>
        </p:nvSpPr>
        <p:spPr>
          <a:xfrm>
            <a:off x="5834160" y="3808440"/>
            <a:ext cx="2790720" cy="27147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5724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AHRQ 2.0 lets you load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hospital discharge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pital Compare inpatient measures (including HCAHPS patient satisfaction measu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Oval 7"/>
          <p:cNvSpPr/>
          <p:nvPr/>
        </p:nvSpPr>
        <p:spPr>
          <a:xfrm>
            <a:off x="1424160" y="1698480"/>
            <a:ext cx="1490400" cy="4017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Oval 8"/>
          <p:cNvSpPr/>
          <p:nvPr/>
        </p:nvSpPr>
        <p:spPr>
          <a:xfrm>
            <a:off x="1433520" y="2509920"/>
            <a:ext cx="1490760" cy="403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8" descr=""/>
          <p:cNvPicPr/>
          <p:nvPr/>
        </p:nvPicPr>
        <p:blipFill>
          <a:blip r:embed="rId1"/>
          <a:stretch/>
        </p:blipFill>
        <p:spPr>
          <a:xfrm>
            <a:off x="1090440" y="1379520"/>
            <a:ext cx="6351840" cy="49528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Loading Hospital Compare Data in MONAHRQ 2.0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Rounded Rectangle 9"/>
          <p:cNvSpPr/>
          <p:nvPr/>
        </p:nvSpPr>
        <p:spPr>
          <a:xfrm>
            <a:off x="770040" y="3176640"/>
            <a:ext cx="3122640" cy="12459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5724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, download a formatted Hospital Compare file from the MONAHRQ Website at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onahrq.ahrq.go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ounded Rectangle 10"/>
          <p:cNvSpPr/>
          <p:nvPr/>
        </p:nvSpPr>
        <p:spPr>
          <a:xfrm>
            <a:off x="5772240" y="2970360"/>
            <a:ext cx="2647800" cy="10969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5724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n browse for your Hospital Compare file and select “Load Data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5889600" y="2502000"/>
            <a:ext cx="1490760" cy="4014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Oval 12"/>
          <p:cNvSpPr/>
          <p:nvPr/>
        </p:nvSpPr>
        <p:spPr>
          <a:xfrm>
            <a:off x="3429000" y="2773440"/>
            <a:ext cx="1490760" cy="403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ounded Rectangle 7"/>
          <p:cNvSpPr/>
          <p:nvPr/>
        </p:nvSpPr>
        <p:spPr>
          <a:xfrm>
            <a:off x="758880" y="4422600"/>
            <a:ext cx="3133800" cy="96840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5724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iles downloaded from other sources may not load correctly into MONAHRQ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0:58:31Z</dcterms:created>
  <dc:creator>AHRQ</dc:creator>
  <dc:description/>
  <dc:language>en-US</dc:language>
  <cp:lastModifiedBy>Hickey, Kathy (Healthcare USA)</cp:lastModifiedBy>
  <dcterms:modified xsi:type="dcterms:W3CDTF">2011-06-06T20:49:09Z</dcterms:modified>
  <cp:revision>528</cp:revision>
  <dc:subject/>
  <dc:title>Slide 1</dc:title>
</cp:coreProperties>
</file>