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3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inger Carls" initials="G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39.xml><?xml version="1.0" encoding="utf-8"?>
<p:cmLst xmlns:p="http://schemas.openxmlformats.org/presentationml/2006/main">
  <p:cm authorId="0" dt="2010-08-20T16:24:05.913000000" idx="1">
    <p:pos x="10" y="10"/>
    <p:text>Need to add Mary McIntyre's information her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8FE0-1864-4AF1-AA68-A0E5EEE8C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EAF-BBDB-4E04-B13D-6F0826EF0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330D-0957-4D45-B090-1B4CDB0893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5A47-D946-48AC-A354-18BB26257F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3648-69DE-42BD-8E97-613B719FBE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4044-9AAA-42CF-998C-6F7461B50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7C1C-F2E7-48B8-A85B-45494471FD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1B6A-191D-4469-862B-46232B8B3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D469-EB4D-49E4-9D6A-988B9405B7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9910-7474-4693-94E4-08350E2EF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8079-5E62-431D-A836-2686F0147A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0A6D-9281-4E9D-B4C2-E7DA85EC32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C3A8-C433-48FF-90DA-40B7D3692E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DB1C-3B7E-482E-A09D-A2AD3F9C5A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B0E4-BE5A-42A4-BB4D-B5E4E0431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B41E-6351-475A-8EB0-327EAFDB87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5820-83AF-41F5-9C3D-3E9C9FE1ED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9AA0-30E6-4A8E-ACE6-C48F568C88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4E79-80D4-4636-8E44-2D292D97C0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7325-C8F6-4558-8938-C298A15B6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2E30-4691-42AA-97E6-0FCC7BB5A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07A7-0128-4550-BCA1-3F266946D2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D19E-912A-4D15-93C1-1B9F98203A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4869-29E1-4B7A-9FEA-E2EB246CBC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303E-1D7C-42F4-8884-46CE0D3D9A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FD01-A5D1-4100-930F-B2030D64BB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598C-2573-480E-BAB3-EAA20581F4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F50-CC1A-4D68-BD5A-D96C28EC2D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4814-92A0-444C-ACBB-0AEED3649C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BD37-2D1F-4130-95FA-4ECE57C1C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0D0D-CEBA-4E2E-87AF-8A676CAB0C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469-591D-45DA-8B3D-1077A25A3F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D6B3-414B-4C3C-B2C0-7CF54083CD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14B3-9832-4855-840B-6EDA8ACF9E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C3C2-E240-4906-9A2A-CD03C2DE6D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4E22-2ED8-4E42-AB79-EF9FC800FD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7882-FD1A-4A31-8F30-0F338B2A55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AA9-D694-4059-AE3F-9879A6DF48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683B-0D0A-44E8-A5E9-62BFC47874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441C-BB44-46C1-BD6A-E10A72E2F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C3EE-EC6B-448E-997D-BACDC4AD8D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3C9C-1B39-40F0-B0E5-2A3F017FF5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FDF5-0789-4051-ADC8-CC7FF36F60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7450-1212-42FB-A9D9-63BC8019C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2FA8-6F68-4A3C-B8C2-E3719BB479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3089-24BE-4FFB-A6DA-6CCBC0D2D8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E938-0B55-414C-9064-4B4C3CD709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7017-8B49-42F2-9D83-F58A22C408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DF7-6FB6-4675-90BC-71F3743174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EDD4-63B3-41CD-A472-B2287E1571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A566-DCDC-4091-95F3-34CA6E989B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BA84-C1B7-46F6-A79C-AF3EA84B36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FE2D-2081-4A74-A41D-31005F57A1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EAF-FB93-4FD5-A779-3CB5D836C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1775-2A7C-4261-90A2-F262DB9B73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E0A9-06CE-4275-A467-73A2B4BAD8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5C4E-B433-4983-B8FF-39472BECD6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8EB-0BD0-4154-AF1B-28FCC08043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1910-7140-44E1-A433-77E4FBD8B5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9101-00FB-407F-826E-525AB365A7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F2B5-4F33-47B9-BAEF-876CD29D27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B7C6-5284-4150-8362-AE0390859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8E3-5644-46CA-91C1-0023DDE849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CE3-9E23-4877-8EB9-AC8E332016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869D-F7D4-49C0-910F-09A5E20FFC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AFCC-CA11-4DCE-A64A-F766D89D8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1916-2450-414E-9AD0-BEFA90B6DE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E02E-2249-45D3-9F6F-4C69EA0327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9466-E862-45EB-A0E5-8EDC4DB1FA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D69-E185-4BDA-A3BA-6BFD4BF0BB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30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315720" y="4225680"/>
            <a:ext cx="628164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A14-D21F-473D-9CE6-E710DA9271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C133-C2F8-4170-972E-D632BF1671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CDB-A897-496D-AD0C-95B532E6A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DDA1-27FD-4478-B03E-1B315B1315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B0A4-2E65-4D25-99A0-1B760BBD2A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A26A-1194-4638-9592-5212D61793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6C9A-4C5C-4B9C-A1E1-3217FCB831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D0BA-FAC8-4488-888E-4C06CE92C3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B4F0-78E6-4D5F-AD24-BDE46036F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D6CB-0BED-4C33-A68A-FFD920FF2B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914F-71B5-4B78-8CB7-2F48DC0933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E33E-226A-4AFF-B14C-676A98701F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3F05-1D03-4BCA-B211-ABA62D8F6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4798-23EE-46E4-A98C-3465CC461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3890A-70BF-4DBF-B983-CB820FBE9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EC1D-F118-40D3-BCA5-9A8D319F4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B0F6-B8C5-4B90-AA72-772BDB251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9C97-DA49-4217-BCE8-15382DE7B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E4B7B-9FFE-4712-8753-63E23B711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8132-9EB0-453E-9B44-BA2F47C68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7660-9CC1-432D-9123-F7A6255AB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EDCB-D090-4FAD-9F2A-2D6E28F65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FF2C-1313-43CC-9C66-2B49BBDFE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D124-523F-4EB9-BA09-559C00833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Object 7" descr=""/>
          <p:cNvPicPr/>
          <p:nvPr/>
        </p:nvPicPr>
        <p:blipFill>
          <a:blip r:embed="rId2"/>
          <a:stretch/>
        </p:blipFill>
        <p:spPr>
          <a:xfrm>
            <a:off x="142920" y="317520"/>
            <a:ext cx="1428840" cy="67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BB78-B236-445C-BC49-B7BE90C8F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" name="Object 7" descr=""/>
          <p:cNvPicPr/>
          <p:nvPr/>
        </p:nvPicPr>
        <p:blipFill>
          <a:blip r:embed="rId2"/>
          <a:stretch/>
        </p:blipFill>
        <p:spPr>
          <a:xfrm>
            <a:off x="990720" y="380880"/>
            <a:ext cx="7162560" cy="1695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quality_tools@ahrq.hhs.gov" TargetMode="External"/><Relationship Id="rId2" Type="http://schemas.openxmlformats.org/officeDocument/2006/relationships/hyperlink" Target="http://statesnapshots.ahrq.gov/asthma/" TargetMode="External"/><Relationship Id="rId3" Type="http://schemas.openxmlformats.org/officeDocument/2006/relationships/hyperlink" Target="http://statesnapshots.ahrq.gov/asthma/" TargetMode="External"/><Relationship Id="rId4" Type="http://schemas.openxmlformats.org/officeDocument/2006/relationships/hyperlink" Target="http://statesnapshots.ahrq.gov/asthma/" TargetMode="External"/><Relationship Id="rId5" Type="http://schemas.openxmlformats.org/officeDocument/2006/relationships/hyperlink" Target="http://www.ahrq.gov/qual/kt/" TargetMode="External"/><Relationship Id="rId6" Type="http://schemas.openxmlformats.org/officeDocument/2006/relationships/hyperlink" Target="http://www.ahrq.gov/qual/kt/" TargetMode="External"/><Relationship Id="rId7" Type="http://schemas.openxmlformats.org/officeDocument/2006/relationships/hyperlink" Target="http://www.ahrq.gov/qual/kt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urn-on-Investment Calculator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and Demonst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4280" y="4100040"/>
            <a:ext cx="661536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sanna Coffey, Ph.D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inger Carls, Ph.D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izabeth Stranges, M.S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UESDAY, September 14, 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*Thomson Reut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3FDA-ABC0-4BFB-81A2-1AEB50F1E8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F57-8D40-4571-93AA-6DDAC25806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685800" y="232416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formation Behind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CE42-89B2-4019-B9F4-36B5324648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C7B9-EFF9-4E3B-B026-F7BAE8AB47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1220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terature Review Inclusion Criter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04920" y="1600200"/>
          <a:ext cx="8534160" cy="4419720"/>
        </p:xfrm>
        <a:graphic>
          <a:graphicData uri="http://schemas.openxmlformats.org/drawingml/2006/table">
            <a:tbl>
              <a:tblPr/>
              <a:tblGrid>
                <a:gridCol w="1885680"/>
                <a:gridCol w="3397320"/>
                <a:gridCol w="32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In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Ex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, adults under 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65 and o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ted St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U.S. sett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f-management of asthma or physician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inical trials comparing medications, summer ca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 of stu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vidual interven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-analysis, editori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frame of out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long-term effects of intervention 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short-term effects of intervention (&lt;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ar publish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5-2007 (Marc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fore ‘95; after March ‘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ization, outpatient visit, ED visit, total costs, cost of medications, cost of ancillary services, or productivity losses (missed work or school da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with no utilization outcomes (e.g., only changes in quality of life, knowledge of asthm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2DCF-3D77-4A0B-9DC3-2E555E2485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7EFD-A9F1-4C56-966F-9A6D2A2EA2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21052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Evidence Built Into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culator (52 Unique Studies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04920" y="1447920"/>
          <a:ext cx="8610480" cy="4103640"/>
        </p:xfrm>
        <a:graphic>
          <a:graphicData uri="http://schemas.openxmlformats.org/drawingml/2006/table">
            <a:tbl>
              <a:tblPr/>
              <a:tblGrid>
                <a:gridCol w="1722240"/>
                <a:gridCol w="789120"/>
                <a:gridCol w="873000"/>
                <a:gridCol w="849240"/>
                <a:gridCol w="932040"/>
                <a:gridCol w="790560"/>
                <a:gridCol w="931680"/>
                <a:gridCol w="789120"/>
                <a:gridCol w="933480"/>
              </a:tblGrid>
              <a:tr h="34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ge groups inclu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 Children and Ad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97"/>
          <p:cNvSpPr/>
          <p:nvPr/>
        </p:nvSpPr>
        <p:spPr>
          <a:xfrm>
            <a:off x="380880" y="579132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Notes: Total studies can be less than sum of row because some studies reported results for both adults and children.  Patients include both treatment and control grou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374F-8542-4858-BD1C-6F54184536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63F8-6933-40FF-9608-FBA934AC3E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45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bservat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ach study outcome (child/adult, hospital/etc.)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pendent variabl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in mea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ory variables/indicator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measure (e.g., hospital,  ED, productiv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group (children, adults, bo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most patients in the study were Medicaid/SCH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patients’ asthma severity (persistent, intermittent, or 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design used (randomized, all controlled, uncontroll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intervention primarily focused on physicians (not pat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outcome measured after 2 ye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 and sample size squ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gress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eighted linear, clustered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predicted from coeffic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FCF2-7EE3-4EC4-AA01-46B1F27197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2FE1-51E1-40F0-A3AD-D07EC4FB3A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 Observ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6 studies met inclusion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2 of them had usable fin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3 findings for emergency departm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 findings for hospital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7 findings for outpati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findings for 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findings for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cost of ancillary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findings for total medical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total indirect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1B2A-32DE-4A23-B4B4-B0E624F7B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595D-1FBF-4072-95F0-2C42A8BA46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eline Costs &amp; Utiliz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406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includes baseline estimates for costs and utilization specific to the population selected (national or Stat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-sponsored health insurance (privately insu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government employees &amp; depe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 lists these and other sources used in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86A4-D9B1-42CD-915D-9D9E278C50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0505-8D9A-4932-AE5C-5F2585CB79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85800" y="2895480"/>
            <a:ext cx="7696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16BA-5D82-4DE3-ABEA-AC86808C11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437-F88F-421B-8BD6-50E4115C6D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vidence for some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7) repor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gram cost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= $395 dollar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. = $81 automated general educational mai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. = $989 program for highest cos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10) reported asthm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tion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does not plan updates at t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4" descr="MCBD04896_0000[1]"/>
          <p:cNvPicPr/>
          <p:nvPr/>
        </p:nvPicPr>
        <p:blipFill>
          <a:blip r:embed="rId1"/>
          <a:stretch/>
        </p:blipFill>
        <p:spPr>
          <a:xfrm>
            <a:off x="7696080" y="205740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MCj03980550000[1]"/>
          <p:cNvPicPr/>
          <p:nvPr/>
        </p:nvPicPr>
        <p:blipFill>
          <a:blip r:embed="rId2"/>
          <a:stretch/>
        </p:blipFill>
        <p:spPr>
          <a:xfrm>
            <a:off x="4191120" y="5562720"/>
            <a:ext cx="757080" cy="761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MCj02933160000[1]"/>
          <p:cNvPicPr/>
          <p:nvPr/>
        </p:nvPicPr>
        <p:blipFill>
          <a:blip r:embed="rId3"/>
          <a:stretch/>
        </p:blipFill>
        <p:spPr>
          <a:xfrm>
            <a:off x="3200400" y="5638680"/>
            <a:ext cx="3906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CF6E-E814-4AF9-A69D-DCCAA2D260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3CA5-541F-41BB-8B86-61F28E17C5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 &amp; Solu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continues to g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data become obso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predates curren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4572000" y="16765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 for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literature post April 2007 &amp; input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own data to populate the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estimates using inflation factors described in appe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D491-3669-41DE-9246-3316774388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09120" y="2785680"/>
            <a:ext cx="799308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A8C5-BCF4-482F-AC5C-73E472BC6E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E124-8D0A-40CF-AC95-54F42FD2BB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08848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of the cal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ys to use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behind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ghts from Alabama Medic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3985-5B97-405B-B8DB-1AEFD75D49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2C6A-8FB3-4F0E-BE81-1B7B408A7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2F0B-FA95-4D5F-A179-E5E9C49A14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monstration 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73320" y="1676520"/>
            <a:ext cx="6788160" cy="25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F717-D9D9-4252-9262-49FE479287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7057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of Calculator Step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rcRect l="0" t="4606" r="80102" b="38158"/>
          <a:stretch/>
        </p:blipFill>
        <p:spPr>
          <a:xfrm>
            <a:off x="368280" y="1384200"/>
            <a:ext cx="2536920" cy="5473800"/>
          </a:xfrm>
          <a:prstGeom prst="rect">
            <a:avLst/>
          </a:prstGeom>
          <a:ln w="0">
            <a:noFill/>
          </a:ln>
        </p:spPr>
      </p:pic>
      <p:sp>
        <p:nvSpPr>
          <p:cNvPr id="207" name="Oval 7"/>
          <p:cNvSpPr/>
          <p:nvPr/>
        </p:nvSpPr>
        <p:spPr>
          <a:xfrm>
            <a:off x="6832440" y="3327480"/>
            <a:ext cx="2141640" cy="90468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581280" y="3479760"/>
            <a:ext cx="22100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9"/>
          <p:cNvSpPr/>
          <p:nvPr/>
        </p:nvSpPr>
        <p:spPr>
          <a:xfrm rot="16200000">
            <a:off x="5979240" y="3299400"/>
            <a:ext cx="614520" cy="888840"/>
          </a:xfrm>
          <a:prstGeom prst="upArrow">
            <a:avLst>
              <a:gd name="adj1" fmla="val 50000"/>
              <a:gd name="adj2" fmla="val 2499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3594240" y="4305240"/>
            <a:ext cx="173484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Straight Arrow Connector 8"/>
          <p:cNvCxnSpPr>
            <a:stCxn id="208" idx="1"/>
          </p:cNvCxnSpPr>
          <p:nvPr/>
        </p:nvCxnSpPr>
        <p:spPr>
          <a:xfrm flipH="1" flipV="1">
            <a:off x="1447560" y="3631680"/>
            <a:ext cx="2134080" cy="153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12" name="Straight Arrow Connector 9"/>
          <p:cNvCxnSpPr>
            <a:stCxn id="208" idx="1"/>
          </p:cNvCxnSpPr>
          <p:nvPr/>
        </p:nvCxnSpPr>
        <p:spPr>
          <a:xfrm flipH="1">
            <a:off x="1485720" y="3784680"/>
            <a:ext cx="2095920" cy="102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13" name="Straight Arrow Connector 10"/>
          <p:cNvCxnSpPr>
            <a:stCxn id="208" idx="1"/>
          </p:cNvCxnSpPr>
          <p:nvPr/>
        </p:nvCxnSpPr>
        <p:spPr>
          <a:xfrm flipH="1">
            <a:off x="1345680" y="3784680"/>
            <a:ext cx="2235600" cy="3816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14" name="Straight Arrow Connector 16"/>
          <p:cNvCxnSpPr>
            <a:stCxn id="208" idx="1"/>
          </p:cNvCxnSpPr>
          <p:nvPr/>
        </p:nvCxnSpPr>
        <p:spPr>
          <a:xfrm flipH="1">
            <a:off x="1739160" y="3784680"/>
            <a:ext cx="1842120" cy="6739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15" name="Straight Arrow Connector 19"/>
          <p:cNvCxnSpPr>
            <a:stCxn id="208" idx="1"/>
          </p:cNvCxnSpPr>
          <p:nvPr/>
        </p:nvCxnSpPr>
        <p:spPr>
          <a:xfrm flipH="1">
            <a:off x="1802520" y="3783600"/>
            <a:ext cx="1778760" cy="9277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16" name="Straight Arrow Connector 22"/>
          <p:cNvCxnSpPr>
            <a:stCxn id="210" idx="1"/>
          </p:cNvCxnSpPr>
          <p:nvPr/>
        </p:nvCxnSpPr>
        <p:spPr>
          <a:xfrm flipH="1">
            <a:off x="2222280" y="4610160"/>
            <a:ext cx="1372320" cy="6408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17" name="Straight Arrow Connector 25"/>
          <p:cNvCxnSpPr>
            <a:stCxn id="210" idx="1"/>
          </p:cNvCxnSpPr>
          <p:nvPr/>
        </p:nvCxnSpPr>
        <p:spPr>
          <a:xfrm flipH="1" flipV="1">
            <a:off x="1968120" y="4419000"/>
            <a:ext cx="1626480" cy="19116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sp>
        <p:nvSpPr>
          <p:cNvPr id="2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92F-4C49-4690-85A6-D6FFAE8077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A140-4F81-4B37-942B-2EE3060E5C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60A6-0F13-4BD6-8A6A-4196E42C28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Key Program Features:  REQUIRED INFOR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rcRect l="18914" t="10459" r="1975" b="0"/>
          <a:stretch/>
        </p:blipFill>
        <p:spPr>
          <a:xfrm>
            <a:off x="2755800" y="1434960"/>
            <a:ext cx="5742000" cy="4873680"/>
          </a:xfrm>
          <a:prstGeom prst="rect">
            <a:avLst/>
          </a:prstGeom>
          <a:ln w="0">
            <a:noFill/>
          </a:ln>
        </p:spPr>
      </p:pic>
      <p:sp>
        <p:nvSpPr>
          <p:cNvPr id="223" name="Oval 9"/>
          <p:cNvSpPr/>
          <p:nvPr/>
        </p:nvSpPr>
        <p:spPr>
          <a:xfrm>
            <a:off x="2844720" y="2590920"/>
            <a:ext cx="2362320" cy="3808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11"/>
          <p:cNvSpPr/>
          <p:nvPr/>
        </p:nvSpPr>
        <p:spPr>
          <a:xfrm>
            <a:off x="2717640" y="4546440"/>
            <a:ext cx="457200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2857680" y="5232240"/>
            <a:ext cx="213336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2"/>
          <a:srcRect l="0" t="4606" r="80102" b="38158"/>
          <a:stretch/>
        </p:blipFill>
        <p:spPr>
          <a:xfrm>
            <a:off x="0" y="1419120"/>
            <a:ext cx="2413080" cy="5207040"/>
          </a:xfrm>
          <a:prstGeom prst="rect">
            <a:avLst/>
          </a:prstGeom>
          <a:ln w="0">
            <a:noFill/>
          </a:ln>
        </p:spPr>
      </p:pic>
      <p:sp>
        <p:nvSpPr>
          <p:cNvPr id="227" name="Right Arrow 15"/>
          <p:cNvSpPr/>
          <p:nvPr/>
        </p:nvSpPr>
        <p:spPr>
          <a:xfrm rot="10800000">
            <a:off x="1752480" y="280656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3BD6-60C0-4684-BE3E-74967BB0EF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B2D9-1B91-4671-8821-72AD3C3F3A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32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6674-5AAB-4CD0-A257-2975EC17C8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373800"/>
            <a:ext cx="213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38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11"/>
          <p:cNvSpPr/>
          <p:nvPr/>
        </p:nvSpPr>
        <p:spPr>
          <a:xfrm>
            <a:off x="3357720" y="4056120"/>
            <a:ext cx="5786280" cy="2070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Medicare &amp; Medicai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opulation Survey, Annual Social and Economic Sup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reau of Labor Statistics Quarterly Census of Employment and W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1AEB-020F-45E0-BFD7-2C3F382DE3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BFD7-6AC2-48EC-B616-4BD13F074F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45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87720" y="1414440"/>
            <a:ext cx="618156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0932-B59C-43F8-BEDC-C29EE1DA68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BF12-3CD7-43AE-A3EA-FFEDBC8E8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51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97080" y="1433520"/>
            <a:ext cx="6281640" cy="486108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211" descr=""/>
          <p:cNvPicPr/>
          <p:nvPr/>
        </p:nvPicPr>
        <p:blipFill>
          <a:blip r:embed="rId3"/>
          <a:stretch/>
        </p:blipFill>
        <p:spPr>
          <a:xfrm>
            <a:off x="4400640" y="1878120"/>
            <a:ext cx="41702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D340-8E69-4D0E-BD55-99BAA415E6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9C1F-EFC1-4350-A470-7AECE1B361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58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4CE9-7592-4D1D-98BA-448DBBB8F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6277-6EB5-4BBC-ADBE-3B2BAD1F0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64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11"/>
          <p:cNvSpPr/>
          <p:nvPr/>
        </p:nvSpPr>
        <p:spPr>
          <a:xfrm>
            <a:off x="2425680" y="2097000"/>
            <a:ext cx="6718320" cy="415944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ketScan Claims Database (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id  (8 geographically dispersed St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r-sponsored health insurance (over 100 large self-insured employers, 15 million lives, geographically balanc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ational Health Interview Survey (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work or school days due to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reau of Labor Statistics (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wage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deral poverty line (for value of missed work day for Medicaid recipi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189C1-9863-4092-9776-27CB784776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420-0B61-4FDA-8014-A50074AA08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47840" y="3938400"/>
            <a:ext cx="799272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ice for calculating data 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what use &amp; cost component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okay to combine use &amp; cost from different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make sure measures are calculated the same way for the sam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09680" y="1714680"/>
            <a:ext cx="7993080" cy="183816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potential data sour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, local, or plan-level claim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surveys of number of missed school/work days due to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0B07-2413-4B01-BEE5-0B92616E19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DD18-7CE7-42F8-973E-A35E935AB0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24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an Asthma ROI Calculato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75600" cy="40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State policymakers and health plans estimate potential financial returns from asthma quality improvement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evelop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tudies don’t address financial impac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ly clinical and use impa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or use impacts must be converted to costs or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re estimates gener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dence from the literature (meta-analysis) combined with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 your population and other optional estimates into calculator at AHRQ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MCj01567770000[1]"/>
          <p:cNvPicPr/>
          <p:nvPr/>
        </p:nvPicPr>
        <p:blipFill>
          <a:blip r:embed="rId1"/>
          <a:stretch/>
        </p:blipFill>
        <p:spPr>
          <a:xfrm>
            <a:off x="2743200" y="57913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CBD04896_0000[1]"/>
          <p:cNvPicPr/>
          <p:nvPr/>
        </p:nvPicPr>
        <p:blipFill>
          <a:blip r:embed="rId2"/>
          <a:stretch/>
        </p:blipFill>
        <p:spPr>
          <a:xfrm>
            <a:off x="5181480" y="58672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/>
          <p:cNvSpPr/>
          <p:nvPr/>
        </p:nvSpPr>
        <p:spPr>
          <a:xfrm>
            <a:off x="4114800" y="6019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46BB-B51B-4B52-BA80-BAA7F6B407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49D-6F0F-4BF8-A803-43C59BB14A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7068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76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FA5-BBC1-4929-81C5-8A88ACD09A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2CDF-EFD3-431A-BD1B-3D9310EFFE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011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82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5151600" y="5099040"/>
            <a:ext cx="3992400" cy="11304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ata sou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-analysis of 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1DFA-FCFC-4580-93B8-A061286860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67AC-C6F6-4AD6-AC8F-D23FAADFE7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51120" y="27144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89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FF1-BB56-493A-B7BC-D9FDA0EB8B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1880-A21A-4EC7-BC6E-EAD8DC3017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95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11"/>
          <p:cNvSpPr/>
          <p:nvPr/>
        </p:nvSpPr>
        <p:spPr>
          <a:xfrm>
            <a:off x="3309840" y="4419720"/>
            <a:ext cx="5834160" cy="1827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ee User’s Guide fo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o include in your estimates of annual cost per particip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hoose a discoun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0F45-3EF1-4D1A-8859-70C701D617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F06-BD22-4202-B050-0F0BF7FDD1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DA1B-54E0-49FF-A385-428163E77C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90" descr=""/>
          <p:cNvPicPr/>
          <p:nvPr/>
        </p:nvPicPr>
        <p:blipFill>
          <a:blip r:embed="rId1"/>
          <a:srcRect l="59116" t="4820" r="808" b="24674"/>
          <a:stretch/>
        </p:blipFill>
        <p:spPr>
          <a:xfrm>
            <a:off x="2192400" y="1438200"/>
            <a:ext cx="6783480" cy="4773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305" name="Right Arrow 7"/>
          <p:cNvSpPr/>
          <p:nvPr/>
        </p:nvSpPr>
        <p:spPr>
          <a:xfrm rot="10800000">
            <a:off x="790560" y="469404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60ED-BB81-4C70-B881-03F7ED1316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173160" y="1468440"/>
            <a:ext cx="8100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0DD8-831B-4231-84ED-82310480CB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D51C-C271-42AF-AAC6-55BFF0355E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431640" y="1576440"/>
            <a:ext cx="74710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002-0B67-4522-9B59-63F1E8988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F94B-7AD8-4FD3-B58E-AF177E9A7F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 of Steps in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thma ROI Calculato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18760" y="1511280"/>
            <a:ext cx="7993080" cy="2657520"/>
          </a:xfrm>
          <a:prstGeom prst="rect">
            <a:avLst/>
          </a:prstGeom>
          <a:solidFill>
            <a:srgbClr val="00279f"/>
          </a:solidFill>
          <a:ln w="3816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rmine target population &amp; studies to use in calculation (Req. Info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arget most expensive patient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Use controlled study results to achieve most realistic resul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number of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baseline costs and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impact of asthma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rogram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468360" y="4241880"/>
            <a:ext cx="8175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ps on using your own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lly, find data from a singl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t feasible, be sure that the underlying populations that generated the data are simi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aims data to obtain number of eligible asthma patients and their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evidence from studies of a similar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D301-96AE-4437-87F6-3CC9C9D61A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F561-C902-4EE1-9465-E5C2A73BD8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23960" y="2155320"/>
            <a:ext cx="7510320" cy="415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ent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hanie Lind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id Administ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abama Medicaid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. Mary McInty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cal Director, Office of Clinical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abama Medicaid Ag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2577-F354-425F-980F-E7A1BBB15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1656-8EFD-43BC-A42F-A89F797F46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232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4120" y="1857240"/>
            <a:ext cx="354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cipants who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D visits per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34120" y="22096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5,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nual visits to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19120" y="3473280"/>
            <a:ext cx="13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thma program (could use pilo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1725480" y="3657600"/>
            <a:ext cx="408240" cy="266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971720" y="356544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410080" y="35053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2,5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isits to ED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09480" y="4876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ED vis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MCj03037270000[1]"/>
          <p:cNvPicPr/>
          <p:nvPr/>
        </p:nvPicPr>
        <p:blipFill>
          <a:blip r:embed="rId1"/>
          <a:stretch/>
        </p:blipFill>
        <p:spPr>
          <a:xfrm>
            <a:off x="2743200" y="3530520"/>
            <a:ext cx="538200" cy="43200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12"/>
          <p:cNvSpPr/>
          <p:nvPr/>
        </p:nvSpPr>
        <p:spPr>
          <a:xfrm>
            <a:off x="3971880" y="220968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451480" y="487692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,75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6" descr="MCj02396570000[1]"/>
          <p:cNvPicPr/>
          <p:nvPr/>
        </p:nvPicPr>
        <p:blipFill>
          <a:blip r:embed="rId2"/>
          <a:stretch/>
        </p:blipFill>
        <p:spPr>
          <a:xfrm>
            <a:off x="6858000" y="1447920"/>
            <a:ext cx="1017720" cy="7905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7"/>
          <p:cNvSpPr/>
          <p:nvPr/>
        </p:nvSpPr>
        <p:spPr>
          <a:xfrm>
            <a:off x="0" y="145728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selin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0" y="30481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0" y="43434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ssign costs to utilization chang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609480" y="5562720"/>
            <a:ext cx="7772400" cy="68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peat for each service &amp; productivity compon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mpare change in medical care expenditures with program co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1"/>
          <p:cNvSpPr/>
          <p:nvPr/>
        </p:nvSpPr>
        <p:spPr>
          <a:xfrm>
            <a:off x="3657600" y="1981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3962520" y="35067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3"/>
          <p:cNvSpPr/>
          <p:nvPr/>
        </p:nvSpPr>
        <p:spPr>
          <a:xfrm>
            <a:off x="3962520" y="4878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4" descr="MCBD04896_0000[1]"/>
          <p:cNvPicPr/>
          <p:nvPr/>
        </p:nvPicPr>
        <p:blipFill>
          <a:blip r:embed="rId3"/>
          <a:stretch/>
        </p:blipFill>
        <p:spPr>
          <a:xfrm>
            <a:off x="7543800" y="4724280"/>
            <a:ext cx="1073160" cy="6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53A-30E5-4A9D-BDF1-2B66614199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B44D-5E34-4BBC-9F80-1DFFF223B7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itional Assist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71240" y="1604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cal Assistance and Questions about the tool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e-mail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quality_tools@ahrq.hhs.go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py of calcula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visi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statesnapshots.ahrq.gov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/asthma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HCUP and HCUPnet Web conference materi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ase visit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www.ahrq.gov/qual/kt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A91F-E2D9-4CDB-BB40-E77ED4C15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6B7A-76F5-4D76-976A-32988AC142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18288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turn on Investment (R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2240" y="244944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 cos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5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particip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565440" y="2592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96080" y="2635200"/>
            <a:ext cx="94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*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198480" y="2446200"/>
            <a:ext cx="203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3,750,000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5927760" y="2806560"/>
            <a:ext cx="22701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562720" y="2882880"/>
            <a:ext cx="341316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000,000 cos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$50 cost per participant) x (100,000 participa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029200" y="411480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135160" y="5486400"/>
            <a:ext cx="432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eakeven ROI = $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05440" y="60199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Formula involves discount rate. See  Calculator Appendix, “How the Model Works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029200" y="4114800"/>
            <a:ext cx="28954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$1 invested returns only 75 cents,  or co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8033-E63A-44B8-AB4C-E5F6700C1F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F4A-1B10-44B5-A26A-CA9DFA7C0E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Components Includ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-related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oom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ity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school or work days (not caregiver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of implementing a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2B0D-D58A-4D50-834B-C0AEFAF434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285120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ys To Use the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F572-FD8A-4338-A190-1EE2BEC2CE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7FC4-1B7E-45FC-857B-694BD968D1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EBA6-6800-49DC-9F95-3ADF83C5B3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ys To Use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ec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act of ke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out proposed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alternative target populations to assess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ssumptions “reasonable” compared to other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hurdle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break 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ven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components of calculator in</a:t>
            </a: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valuation of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9A70-AEDA-4653-ACF5-72E6DAE73F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4F74-878B-44A1-A2B0-8455400890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43120" y="304920"/>
            <a:ext cx="7302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It Helps With Polic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0040" y="1600200"/>
            <a:ext cx="7537320" cy="447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higan Pediatric Asthma Coal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make a funding decision for a county asthma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York Department of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Used to consider evaluation components for a housing improvement project aimed to reduce asthma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sachusetts Asthma Prevention and Control Pro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consider ROI for environmental approaches to asthma prevention an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abama Medicaid Ag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o plan and justify a pilot asthma care improvement program for Medicaid recip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DHHS</cp:lastModifiedBy>
  <dcterms:modified xsi:type="dcterms:W3CDTF">2010-12-02T23:25:54Z</dcterms:modified>
  <cp:revision>191</cp:revision>
  <dc:subject/>
  <dc:title>Community Partnerships for Change</dc:title>
</cp:coreProperties>
</file>