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comments/comment3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Ginger Carls" initials="G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<Relationship Id="rId46" Type="http://schemas.openxmlformats.org/officeDocument/2006/relationships/commentAuthors" Target="commentAuthors.xml"/>
</Relationships>
</file>

<file path=ppt/comments/comment39.xml><?xml version="1.0" encoding="utf-8"?>
<p:cmLst xmlns:p="http://schemas.openxmlformats.org/presentationml/2006/main">
  <p:cm authorId="0" dt="2010-08-20T16:24:05.913000000" idx="1">
    <p:pos x="10" y="10"/>
    <p:text>Need to add Mary McIntyre's information her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D25F-6200-4D32-A397-4FB73B5AD1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BFBA-88BA-4194-BA57-848C602D3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65B3-325A-4E6E-89FD-0286FB0FB9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9707-9582-415D-BECA-E7CE2EBE28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4F66-5873-4A5A-88BE-F4FE7D838A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7AB9-916C-46D8-BE8E-FEDD18B456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17B1-1F21-4962-9D65-9DEC0CA468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CAFC-42A3-4DCA-975C-9BD3DE0F17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16BA-651C-4210-B0C9-2B84DBF747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C957-DBC6-4FC4-8BF9-EF2FE88EEC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B35C-89E8-4264-969E-8BBC17802A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A520-1C9E-4698-8936-EF2CA335FA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4423-F5F3-481C-B5CF-19DD943121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DCD4-C268-4886-AE73-25920DA0C6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C223-6E69-41A3-A266-1CF614605F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C81A-7545-44EF-B601-5DD431AD7A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88AD-75EC-4851-9CA8-CD87321CF4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6991-75EE-42D0-9AA3-D8795D89D6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A991-BCC0-41BD-8255-C7D8ABF786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937C-0894-4EB7-BD22-BC0CF97697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D3EB-03B2-4B1D-9ABD-95C9965509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F129-E9DC-4167-B180-E98BD61425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9E19-B924-4DEF-8135-CBD7FF62A8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1A17-FA2D-4FB3-8002-04AA0AC51D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9476-279D-458F-A8F7-6F1A041C60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9150-96DB-47EB-92E3-148D9D8A52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B541-1206-4099-9606-C2668CD6B8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954C-1D5A-4BAE-B0AE-02EDEDF82B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EC27-126F-4DDC-9920-8FBADC5651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3FF4-AFB0-4A42-A3C7-61B43CDD01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A197-3FB4-4680-95FF-3873411594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7CB2-8869-44C5-9BF6-B45E540AE9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89CE-CE4F-46C3-A426-7C018C3DB1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6594-C46D-44F1-977C-CFF70362F9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6B6F-E49A-494E-9185-76472D23DF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C2DA-1AF0-4153-933E-35A6BE4207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B088-276D-4C6B-BAF8-4854F357DB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D6DA-63F8-43B1-B877-DFD9B07CD3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71BB-4275-4570-AB48-7AFE119AC1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E5B7-5710-43CF-8505-9EC7CC9FE2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64CD-8977-4B31-93F0-E67EF1AF97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0F0F-4886-4849-A503-0D04211936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3C71-6318-41FA-8D53-3EA94A74AF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5478-F901-4D13-A74C-D192D505FB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B8A6-778A-44BE-B542-D53E2E56CC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06CA-BD57-418B-8A52-E757BF78E7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442B-810D-42A5-AC42-AE4EFEEC07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04E0-5843-43BF-890A-16743FCF39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AFC5-916B-43DD-9C43-C7519715FB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DDF0-8535-4C37-BAA0-0AC49DA880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4D61-606C-4F02-A9F4-D58370A5BC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66CC-EE13-4256-8242-9160AB0D54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D33A-3677-4C0A-9498-7B31EB631F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DCBF-A388-44C0-AAA9-9EBAE880D5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F048-9E2E-47B2-9695-4A28C4A456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3B39-6268-491E-8187-5B3E5F158F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8CE6-D3EB-41B2-AEC6-695903848D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739B-85D0-4A99-8D37-28CA3035D6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9757-F71E-46DF-982A-398AF6E828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A74A-AB67-49E8-B848-5E7FB80C0E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54A1-9D54-4F82-B151-07D38CFA0B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B3F4-8F4D-4359-BC91-63FF475E6B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9BE3-4F41-4B7C-9E58-259658FDA8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F65B-E20E-49A3-BF05-3859F1A4FF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E8CE-5C07-4388-9680-8001ABDB5D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1DD4-5654-4C78-9DBB-1575036AAA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A09F-0809-43CC-A09B-D1553700D7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0194-0907-4455-8A3C-D9F07B6AEF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61EB-C2A9-4D26-956B-0428AB713C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2076-A121-4033-8555-FD3699159A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30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315720" y="4225680"/>
            <a:ext cx="628164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115A-1C6E-4F25-8E88-66848B7F43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C32B-E1FC-45DF-926E-08BD0547A7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A3B2-A16D-4CB2-BAAA-2AA9654828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3C54-9581-4350-AD00-2488A21FED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EAB8-5A4D-419E-AEB4-5E50BEA8F5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C199-AE7F-4122-8FE6-F1CB7998F8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46D0-6001-461D-8F7F-CF01093A00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9B71-5D71-40B9-9F09-38ADD68BB4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8501-A316-4A2D-845C-465602A186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5F01-6B3B-4C5E-95A1-ABD30AE11B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69D2-8264-4AD5-8474-1662E8FF49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7D42-E032-4AD7-8B8B-46E5DC4B73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E2C8-51E0-4CE5-8C40-58A052C98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BC11-C20E-476A-906F-3DCAE016F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6094-13D3-4DE7-920C-AF188978E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9794-CF5B-4BBD-91E8-A47DB3C05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94C6-1151-43E0-8900-F824D1E60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2C59-A7D7-46C2-9523-DC2B0BB20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4FCE-622F-4F61-AD15-D997C9C87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92A1-D8CD-47A5-B272-800E74D33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CE1A-5B6C-42EB-99EC-960CB3338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9391-C0E0-4A05-978F-847BF32AD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31081-D03B-4A0A-B939-CBC48971C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ACFF-9167-4B1A-8BD0-2D485809C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Object 7" descr=""/>
          <p:cNvPicPr/>
          <p:nvPr/>
        </p:nvPicPr>
        <p:blipFill>
          <a:blip r:embed="rId2"/>
          <a:stretch/>
        </p:blipFill>
        <p:spPr>
          <a:xfrm>
            <a:off x="142920" y="317520"/>
            <a:ext cx="1428840" cy="67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620C-DAF8-4DFB-975C-08ED09A5D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" name="Object 7" descr=""/>
          <p:cNvPicPr/>
          <p:nvPr/>
        </p:nvPicPr>
        <p:blipFill>
          <a:blip r:embed="rId2"/>
          <a:stretch/>
        </p:blipFill>
        <p:spPr>
          <a:xfrm>
            <a:off x="990720" y="380880"/>
            <a:ext cx="7162560" cy="1695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9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mailto:quality_tools@ahrq.hhs.gov" TargetMode="External"/><Relationship Id="rId2" Type="http://schemas.openxmlformats.org/officeDocument/2006/relationships/hyperlink" Target="http://statesnapshots.ahrq.gov/asthma/" TargetMode="External"/><Relationship Id="rId3" Type="http://schemas.openxmlformats.org/officeDocument/2006/relationships/hyperlink" Target="http://statesnapshots.ahrq.gov/asthma/" TargetMode="External"/><Relationship Id="rId4" Type="http://schemas.openxmlformats.org/officeDocument/2006/relationships/hyperlink" Target="http://statesnapshots.ahrq.gov/asthma/" TargetMode="External"/><Relationship Id="rId5" Type="http://schemas.openxmlformats.org/officeDocument/2006/relationships/hyperlink" Target="http://www.ahrq.gov/qual/kt/" TargetMode="External"/><Relationship Id="rId6" Type="http://schemas.openxmlformats.org/officeDocument/2006/relationships/hyperlink" Target="http://www.ahrq.gov/qual/kt/" TargetMode="External"/><Relationship Id="rId7" Type="http://schemas.openxmlformats.org/officeDocument/2006/relationships/hyperlink" Target="http://www.ahrq.gov/qual/kt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0"/>
            <a:ext cx="9144000" cy="110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Asthma Car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turn-on-Investment Calculator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verview and Demonstr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4280" y="4100040"/>
            <a:ext cx="661536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osanna Coffey, Ph.D.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inger Carls, Ph.D.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lizabeth Stranges, M.S.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UESDAY, September 14,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*Thomson Reuter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6B75-8B20-4881-8BF8-FFB0DF3ECC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1E48-C94A-4D8B-A32F-3E2976BAF7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422440" y="2960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685800" y="2324160"/>
            <a:ext cx="7696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formation Behind Calcula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5901-0387-4A29-9B63-B4E18341E1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3C8E-35E5-472D-A6F2-456E2237EB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612200" cy="83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s: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Literature Review Inclusion Criteri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1600200"/>
          <a:ext cx="8534160" cy="4419720"/>
        </p:xfrm>
        <a:graphic>
          <a:graphicData uri="http://schemas.openxmlformats.org/drawingml/2006/table">
            <a:tbl>
              <a:tblPr/>
              <a:tblGrid>
                <a:gridCol w="1885680"/>
                <a:gridCol w="3397320"/>
                <a:gridCol w="3251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79f"/>
                          </a:solidFill>
                          <a:latin typeface="Arial"/>
                          <a:ea typeface="Times New Roman"/>
                        </a:rPr>
                        <a:t>Inclu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79f"/>
                          </a:solidFill>
                          <a:latin typeface="Arial"/>
                          <a:ea typeface="Times New Roman"/>
                        </a:rPr>
                        <a:t>Exclu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ildren, adults under 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ults 65 and ov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t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ited Sta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n-U.S. sett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erv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lf-management of asthma or physician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linical trials comparing medications, summer cam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ype of stu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dividual interven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a-analysis, editoria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63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meframe of out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udies of long-term effects of intervention (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6 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udies of short-term effects of intervention (&lt; 6 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Year publish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95-2007 (Marc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efore ‘95; after March ‘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138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utcom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ospitalization, outpatient visit, ED visit, total costs, cost of medications, cost of ancillary services, or productivity losses (missed work or school day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udies with no utilization outcomes (e.g., only changes in quality of life, knowledge of asthm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6AD8-03A3-43BC-9FCA-75E5CB2039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06F9-0137-4B5D-A604-3099B0D6B1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210520" cy="83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s:  Evidence Built Into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lculator (52 Unique Studies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04920" y="1447920"/>
          <a:ext cx="8610480" cy="4103640"/>
        </p:xfrm>
        <a:graphic>
          <a:graphicData uri="http://schemas.openxmlformats.org/drawingml/2006/table">
            <a:tbl>
              <a:tblPr/>
              <a:tblGrid>
                <a:gridCol w="1722240"/>
                <a:gridCol w="789120"/>
                <a:gridCol w="873000"/>
                <a:gridCol w="849240"/>
                <a:gridCol w="932040"/>
                <a:gridCol w="790560"/>
                <a:gridCol w="931680"/>
                <a:gridCol w="789120"/>
                <a:gridCol w="933480"/>
              </a:tblGrid>
              <a:tr h="34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Age groups includ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Children on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Adults On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Both Children and Adul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f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f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f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D Vis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2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8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,7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spitaliza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,5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1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5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,2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tpatient Vis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,2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9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8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,1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ssed Work/ School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1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1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tion 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5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,3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llary Service 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</a:tbl>
          </a:graphicData>
        </a:graphic>
      </p:graphicFrame>
      <p:sp>
        <p:nvSpPr>
          <p:cNvPr id="168" name="Text Box 97"/>
          <p:cNvSpPr/>
          <p:nvPr/>
        </p:nvSpPr>
        <p:spPr>
          <a:xfrm>
            <a:off x="380880" y="579132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Notes: Total studies can be less than sum of row because some studies reported results for both adults and children.  Patients include both treatment and control group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BEEF-AAFD-4D3B-836F-1AB7D69151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0EA4-982B-4AAE-942A-15505E7795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s: Meta-Analysi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453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bservation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ach study outcome (child/adult, hospital/etc.)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pendent variabl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rcent change in mea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lanatory variables/indicator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 of measure (e.g., hospital,  ED, productiv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 group (children, adults, bo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ther most patients in the study were Medicaid/SCHI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patients’ asthma severity (persistent, intermittent, or 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design used (randomized, all controlled, uncontroll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intervention primarily focused on physicians (not patien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ther outcome measured after 2 yea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ize and sample size squ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gression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eighted linear, clustered 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mpac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rcent change predicted from coeffic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FA0E-1CA7-43D2-9149-63CF2D6A90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CD3C-4DA5-457A-B7D2-0CE50AA9A3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816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s: Meta-Analysis Observat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umber of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6 studies met inclusion cri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2 of them had usable find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umber of fin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3 findings for emergency department vis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 findings for hospital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7 findings for outpatient vis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 findings for pro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 findings for medication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findings for cost of ancillary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 findings for total medical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findings for total indirect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8DAE-0322-4D54-AAE0-9C4B19C7FD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D012-1658-4383-B67C-170323FE60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816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seline Costs &amp; Utiliz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40680" cy="43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 includes baseline estimates for costs and utilization specific to the population selected (national or State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loyer-sponsored health insurance (privately insur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government employees &amp; depe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ion lists these and other sources used in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33E1-29E8-4313-976B-0FB582A1FF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CBF2-96EB-47B4-A3CE-60D343F369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2422440" y="2960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685800" y="2895480"/>
            <a:ext cx="76960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avea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1D3C-F99C-4699-89C1-7ABDD08C71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70E6-F051-42C0-A580-DC39A666D9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evidence for some compon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w studies (7) reporte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gram cost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de r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erage = $395 dollars per patient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. = $81 automated general educational mai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. = $989 program for highest cost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w studies (10) reported asthm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dication cos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i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out a control gro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port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r increa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medication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l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thma medication costs var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 does not plan updates at this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4" descr="MCBD04896_0000[1]"/>
          <p:cNvPicPr/>
          <p:nvPr/>
        </p:nvPicPr>
        <p:blipFill>
          <a:blip r:embed="rId1"/>
          <a:stretch/>
        </p:blipFill>
        <p:spPr>
          <a:xfrm>
            <a:off x="7696080" y="2057400"/>
            <a:ext cx="1219320" cy="774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MCj03980550000[1]"/>
          <p:cNvPicPr/>
          <p:nvPr/>
        </p:nvPicPr>
        <p:blipFill>
          <a:blip r:embed="rId2"/>
          <a:stretch/>
        </p:blipFill>
        <p:spPr>
          <a:xfrm>
            <a:off x="4191120" y="5562720"/>
            <a:ext cx="757080" cy="761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MCj02933160000[1]"/>
          <p:cNvPicPr/>
          <p:nvPr/>
        </p:nvPicPr>
        <p:blipFill>
          <a:blip r:embed="rId3"/>
          <a:stretch/>
        </p:blipFill>
        <p:spPr>
          <a:xfrm>
            <a:off x="3200400" y="5638680"/>
            <a:ext cx="3906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9442-CE6C-498C-83A2-605BB06936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8BA1-4AB5-4F8A-84DC-126CD6F8CD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3248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veats &amp; Solut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erature continues to g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line data become obsole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predates current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572000" y="1676520"/>
            <a:ext cx="4114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s for us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 literature post April 2007 &amp; input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your own data to populate the calcu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te estimates using inflation factors described in append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803A-C58B-4523-BED8-80E20164E0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09120" y="2785680"/>
            <a:ext cx="7993080" cy="17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9BB5-022F-4A17-A1C5-38C83728A7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29FA-6459-4AD3-B1A8-2DEDA78449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088480" cy="470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 of the calcul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ys to use the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behind the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ve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 steps with default data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with defaul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ights from Alabama Medic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BD98-C1A1-435A-8ECB-13EE22E8A6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3833-E850-42E5-94A8-CC1279AE1E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FA28-C1BA-44F1-A3C1-C4F92E63A8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monstration Outlin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73320" y="1676520"/>
            <a:ext cx="6788160" cy="25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366920" indent="-11383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 steps with default data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366920" indent="-11383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with defaul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C43D-5416-4656-9DAF-82B4C27A90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67057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verview of Calculator Step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1"/>
          <a:srcRect l="0" t="4606" r="80102" b="38158"/>
          <a:stretch/>
        </p:blipFill>
        <p:spPr>
          <a:xfrm>
            <a:off x="368280" y="1384200"/>
            <a:ext cx="2536920" cy="5473800"/>
          </a:xfrm>
          <a:prstGeom prst="rect">
            <a:avLst/>
          </a:prstGeom>
          <a:ln w="0">
            <a:noFill/>
          </a:ln>
        </p:spPr>
      </p:pic>
      <p:sp>
        <p:nvSpPr>
          <p:cNvPr id="207" name="Oval 7"/>
          <p:cNvSpPr/>
          <p:nvPr/>
        </p:nvSpPr>
        <p:spPr>
          <a:xfrm>
            <a:off x="6832440" y="3327480"/>
            <a:ext cx="2141640" cy="90468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ser choices about asthma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3581280" y="3479760"/>
            <a:ext cx="22100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fault or us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9"/>
          <p:cNvSpPr/>
          <p:nvPr/>
        </p:nvSpPr>
        <p:spPr>
          <a:xfrm rot="16200000">
            <a:off x="5979240" y="3299400"/>
            <a:ext cx="614520" cy="888840"/>
          </a:xfrm>
          <a:prstGeom prst="upArrow">
            <a:avLst>
              <a:gd name="adj1" fmla="val 50000"/>
              <a:gd name="adj2" fmla="val 2499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32"/>
          <p:cNvSpPr/>
          <p:nvPr/>
        </p:nvSpPr>
        <p:spPr>
          <a:xfrm>
            <a:off x="3594240" y="4305240"/>
            <a:ext cx="173484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eta-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Straight Arrow Connector 8"/>
          <p:cNvCxnSpPr>
            <a:stCxn id="208" idx="1"/>
          </p:cNvCxnSpPr>
          <p:nvPr/>
        </p:nvCxnSpPr>
        <p:spPr>
          <a:xfrm flipH="1" flipV="1">
            <a:off x="1447560" y="3631680"/>
            <a:ext cx="2134080" cy="15336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lg" type="triangle" w="lg"/>
          </a:ln>
        </p:spPr>
      </p:cxnSp>
      <p:cxnSp>
        <p:nvCxnSpPr>
          <p:cNvPr id="212" name="Straight Arrow Connector 9"/>
          <p:cNvCxnSpPr>
            <a:stCxn id="208" idx="1"/>
          </p:cNvCxnSpPr>
          <p:nvPr/>
        </p:nvCxnSpPr>
        <p:spPr>
          <a:xfrm flipH="1">
            <a:off x="1485720" y="3784680"/>
            <a:ext cx="2095920" cy="10224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lg" type="triangle" w="lg"/>
          </a:ln>
        </p:spPr>
      </p:cxnSp>
      <p:cxnSp>
        <p:nvCxnSpPr>
          <p:cNvPr id="213" name="Straight Arrow Connector 10"/>
          <p:cNvCxnSpPr>
            <a:stCxn id="208" idx="1"/>
          </p:cNvCxnSpPr>
          <p:nvPr/>
        </p:nvCxnSpPr>
        <p:spPr>
          <a:xfrm flipH="1">
            <a:off x="1345680" y="3784680"/>
            <a:ext cx="2235600" cy="38160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lg" type="triangle" w="lg"/>
          </a:ln>
        </p:spPr>
      </p:cxnSp>
      <p:cxnSp>
        <p:nvCxnSpPr>
          <p:cNvPr id="214" name="Straight Arrow Connector 16"/>
          <p:cNvCxnSpPr>
            <a:stCxn id="208" idx="1"/>
          </p:cNvCxnSpPr>
          <p:nvPr/>
        </p:nvCxnSpPr>
        <p:spPr>
          <a:xfrm flipH="1">
            <a:off x="1739160" y="3784680"/>
            <a:ext cx="1842120" cy="673920"/>
          </a:xfrm>
          <a:prstGeom prst="straightConnector1">
            <a:avLst/>
          </a:prstGeom>
          <a:ln w="38160">
            <a:solidFill>
              <a:srgbClr val="00279f"/>
            </a:solidFill>
            <a:prstDash val="sysDash"/>
            <a:miter/>
            <a:tailEnd len="lg" type="triangle" w="lg"/>
          </a:ln>
        </p:spPr>
      </p:cxnSp>
      <p:cxnSp>
        <p:nvCxnSpPr>
          <p:cNvPr id="215" name="Straight Arrow Connector 19"/>
          <p:cNvCxnSpPr>
            <a:stCxn id="208" idx="1"/>
          </p:cNvCxnSpPr>
          <p:nvPr/>
        </p:nvCxnSpPr>
        <p:spPr>
          <a:xfrm flipH="1">
            <a:off x="1802520" y="3783600"/>
            <a:ext cx="1778760" cy="927720"/>
          </a:xfrm>
          <a:prstGeom prst="straightConnector1">
            <a:avLst/>
          </a:prstGeom>
          <a:ln w="38160">
            <a:solidFill>
              <a:srgbClr val="00279f"/>
            </a:solidFill>
            <a:prstDash val="sysDash"/>
            <a:miter/>
            <a:tailEnd len="lg" type="triangle" w="lg"/>
          </a:ln>
        </p:spPr>
      </p:cxnSp>
      <p:cxnSp>
        <p:nvCxnSpPr>
          <p:cNvPr id="216" name="Straight Arrow Connector 22"/>
          <p:cNvCxnSpPr>
            <a:stCxn id="210" idx="1"/>
          </p:cNvCxnSpPr>
          <p:nvPr/>
        </p:nvCxnSpPr>
        <p:spPr>
          <a:xfrm flipH="1">
            <a:off x="2222280" y="4610160"/>
            <a:ext cx="1372320" cy="64080"/>
          </a:xfrm>
          <a:prstGeom prst="straightConnector1">
            <a:avLst/>
          </a:prstGeom>
          <a:ln w="38160">
            <a:solidFill>
              <a:srgbClr val="00279f"/>
            </a:solidFill>
            <a:prstDash val="sysDash"/>
            <a:miter/>
            <a:tailEnd len="lg" type="triangle" w="lg"/>
          </a:ln>
        </p:spPr>
      </p:cxnSp>
      <p:cxnSp>
        <p:nvCxnSpPr>
          <p:cNvPr id="217" name="Straight Arrow Connector 25"/>
          <p:cNvCxnSpPr>
            <a:stCxn id="210" idx="1"/>
          </p:cNvCxnSpPr>
          <p:nvPr/>
        </p:nvCxnSpPr>
        <p:spPr>
          <a:xfrm flipH="1" flipV="1">
            <a:off x="1968120" y="4419000"/>
            <a:ext cx="1626480" cy="191160"/>
          </a:xfrm>
          <a:prstGeom prst="straightConnector1">
            <a:avLst/>
          </a:prstGeom>
          <a:ln w="38160">
            <a:solidFill>
              <a:srgbClr val="00279f"/>
            </a:solidFill>
            <a:prstDash val="sysDash"/>
            <a:miter/>
            <a:tailEnd len="lg" type="triangle" w="lg"/>
          </a:ln>
        </p:spPr>
      </p:cxnSp>
      <p:sp>
        <p:nvSpPr>
          <p:cNvPr id="2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0B0E-F528-4469-BC58-1BDAA6D892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6CC9-5116-4FD0-88ED-7E14F58D3A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4EC4-43CC-45FE-9DB1-81DBCD9D73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fine Key Program Features:  REQUIRED INFORM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rcRect l="18914" t="10459" r="1975" b="0"/>
          <a:stretch/>
        </p:blipFill>
        <p:spPr>
          <a:xfrm>
            <a:off x="2755800" y="1434960"/>
            <a:ext cx="5742000" cy="4873680"/>
          </a:xfrm>
          <a:prstGeom prst="rect">
            <a:avLst/>
          </a:prstGeom>
          <a:ln w="0">
            <a:noFill/>
          </a:ln>
        </p:spPr>
      </p:pic>
      <p:sp>
        <p:nvSpPr>
          <p:cNvPr id="223" name="Oval 9"/>
          <p:cNvSpPr/>
          <p:nvPr/>
        </p:nvSpPr>
        <p:spPr>
          <a:xfrm>
            <a:off x="2844720" y="2590920"/>
            <a:ext cx="2362320" cy="38088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2717640" y="4546440"/>
            <a:ext cx="4572000" cy="38124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2857680" y="5232240"/>
            <a:ext cx="2133360" cy="38124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2"/>
          <a:srcRect l="0" t="4606" r="80102" b="38158"/>
          <a:stretch/>
        </p:blipFill>
        <p:spPr>
          <a:xfrm>
            <a:off x="0" y="1419120"/>
            <a:ext cx="2413080" cy="5207040"/>
          </a:xfrm>
          <a:prstGeom prst="rect">
            <a:avLst/>
          </a:prstGeom>
          <a:ln w="0">
            <a:noFill/>
          </a:ln>
        </p:spPr>
      </p:pic>
      <p:sp>
        <p:nvSpPr>
          <p:cNvPr id="227" name="Right Arrow 15"/>
          <p:cNvSpPr/>
          <p:nvPr/>
        </p:nvSpPr>
        <p:spPr>
          <a:xfrm rot="10800000">
            <a:off x="1752480" y="2806560"/>
            <a:ext cx="711360" cy="177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8E0A-4537-4445-BD86-5BCD2D4EA8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8587-14B1-4DA1-B083-3EEAF57406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 POPUL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223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32" name="Right Arrow 10"/>
          <p:cNvSpPr/>
          <p:nvPr/>
        </p:nvSpPr>
        <p:spPr>
          <a:xfrm rot="10800000">
            <a:off x="927000" y="3327480"/>
            <a:ext cx="711360" cy="177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2"/>
          <a:srcRect l="19908" t="17900" r="1969" b="14663"/>
          <a:stretch/>
        </p:blipFill>
        <p:spPr>
          <a:xfrm>
            <a:off x="2179800" y="1436760"/>
            <a:ext cx="696420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134F-B34D-4C0A-8596-D070BE34AC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553080" y="6373800"/>
            <a:ext cx="2133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 POPUL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223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38" name="Right Arrow 10"/>
          <p:cNvSpPr/>
          <p:nvPr/>
        </p:nvSpPr>
        <p:spPr>
          <a:xfrm rot="10800000">
            <a:off x="927000" y="3327480"/>
            <a:ext cx="711360" cy="177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2"/>
          <a:srcRect l="19908" t="17900" r="1969" b="14663"/>
          <a:stretch/>
        </p:blipFill>
        <p:spPr>
          <a:xfrm>
            <a:off x="2179800" y="1436760"/>
            <a:ext cx="6964200" cy="45082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211"/>
          <p:cNvSpPr/>
          <p:nvPr/>
        </p:nvSpPr>
        <p:spPr>
          <a:xfrm>
            <a:off x="3357720" y="4056120"/>
            <a:ext cx="5786280" cy="2070000"/>
          </a:xfrm>
          <a:prstGeom prst="rect">
            <a:avLst/>
          </a:prstGeom>
          <a:solidFill>
            <a:srgbClr val="00279f"/>
          </a:solidFill>
          <a:ln w="381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ault data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Medicare &amp; Medicaid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Population Survey, Annual Social and Economic Supp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reau of Labor Statistics Quarterly Census of Employment and W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9BFB-1AF7-42E2-A53B-163E60BFEA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5C5D-38F6-4BA8-83B0-218A303B1B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36480" y="228600"/>
            <a:ext cx="74293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ARTICIPAN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223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45" name="Right Arrow 10"/>
          <p:cNvSpPr/>
          <p:nvPr/>
        </p:nvSpPr>
        <p:spPr>
          <a:xfrm rot="10800000">
            <a:off x="1028520" y="3543120"/>
            <a:ext cx="711000" cy="177480"/>
          </a:xfrm>
          <a:prstGeom prst="rightArrow">
            <a:avLst>
              <a:gd name="adj1" fmla="val 50000"/>
              <a:gd name="adj2" fmla="val 50076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rcRect l="19560" t="4939" r="1621" b="13736"/>
          <a:stretch/>
        </p:blipFill>
        <p:spPr>
          <a:xfrm>
            <a:off x="2187720" y="1414440"/>
            <a:ext cx="618156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C6E6-46AF-4846-B7DD-2550C9D5D5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F0BF-2B7C-4701-A78F-9C9B077302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36480" y="228600"/>
            <a:ext cx="74293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ARTICIPAN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223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51" name="Right Arrow 10"/>
          <p:cNvSpPr/>
          <p:nvPr/>
        </p:nvSpPr>
        <p:spPr>
          <a:xfrm rot="10800000">
            <a:off x="1028520" y="3543120"/>
            <a:ext cx="711000" cy="177480"/>
          </a:xfrm>
          <a:prstGeom prst="rightArrow">
            <a:avLst>
              <a:gd name="adj1" fmla="val 50000"/>
              <a:gd name="adj2" fmla="val 50076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rcRect l="19560" t="4939" r="1621" b="13736"/>
          <a:stretch/>
        </p:blipFill>
        <p:spPr>
          <a:xfrm>
            <a:off x="2197080" y="1433520"/>
            <a:ext cx="6281640" cy="4861080"/>
          </a:xfrm>
          <a:prstGeom prst="rect">
            <a:avLst/>
          </a:prstGeom>
          <a:ln w="0">
            <a:noFill/>
          </a:ln>
        </p:spPr>
      </p:pic>
      <p:pic>
        <p:nvPicPr>
          <p:cNvPr id="253" name="Rectangle 211" descr=""/>
          <p:cNvPicPr/>
          <p:nvPr/>
        </p:nvPicPr>
        <p:blipFill>
          <a:blip r:embed="rId3"/>
          <a:stretch/>
        </p:blipFill>
        <p:spPr>
          <a:xfrm>
            <a:off x="4400640" y="1878120"/>
            <a:ext cx="41702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C1D8-5B8E-4A38-93C6-D73F6C5A2C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DA08-A29B-4D81-B67A-3754E2F855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BASELINE DAT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09760"/>
            <a:ext cx="2247840" cy="4775040"/>
          </a:xfrm>
          <a:prstGeom prst="rect">
            <a:avLst/>
          </a:prstGeom>
          <a:ln w="0">
            <a:noFill/>
          </a:ln>
        </p:spPr>
      </p:pic>
      <p:sp>
        <p:nvSpPr>
          <p:cNvPr id="258" name="Right Arrow 10"/>
          <p:cNvSpPr/>
          <p:nvPr/>
        </p:nvSpPr>
        <p:spPr>
          <a:xfrm rot="10800000">
            <a:off x="774720" y="3771720"/>
            <a:ext cx="711360" cy="17748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2"/>
          <a:srcRect l="20256" t="20061" r="1621" b="25000"/>
          <a:stretch/>
        </p:blipFill>
        <p:spPr>
          <a:xfrm>
            <a:off x="2184480" y="1409760"/>
            <a:ext cx="695952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FBD0-F356-484B-9EC2-923163C2C4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2F71-D385-43A3-B404-62BC4DEADD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BASELINE DAT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09760"/>
            <a:ext cx="2247840" cy="4775040"/>
          </a:xfrm>
          <a:prstGeom prst="rect">
            <a:avLst/>
          </a:prstGeom>
          <a:ln w="0">
            <a:noFill/>
          </a:ln>
        </p:spPr>
      </p:pic>
      <p:sp>
        <p:nvSpPr>
          <p:cNvPr id="264" name="Right Arrow 10"/>
          <p:cNvSpPr/>
          <p:nvPr/>
        </p:nvSpPr>
        <p:spPr>
          <a:xfrm rot="10800000">
            <a:off x="774720" y="3771720"/>
            <a:ext cx="711360" cy="17748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2"/>
          <a:srcRect l="20256" t="20061" r="1621" b="25000"/>
          <a:stretch/>
        </p:blipFill>
        <p:spPr>
          <a:xfrm>
            <a:off x="2184480" y="1409760"/>
            <a:ext cx="6959520" cy="36702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211"/>
          <p:cNvSpPr/>
          <p:nvPr/>
        </p:nvSpPr>
        <p:spPr>
          <a:xfrm>
            <a:off x="2425680" y="2097000"/>
            <a:ext cx="6718320" cy="4159440"/>
          </a:xfrm>
          <a:prstGeom prst="rect">
            <a:avLst/>
          </a:prstGeom>
          <a:solidFill>
            <a:srgbClr val="00279f"/>
          </a:solidFill>
          <a:ln w="381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spcBef>
                <a:spcPts val="150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Default data sour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rketScan Claims Database (200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icaid  (8 geographically dispersed Sta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loyer-sponsored health insurance (over 100 large self-insured employers, 15 million lives, geographically balanc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ational Health Interview Survey (20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2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missed work or school days due to asth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reau of Labor Statistics (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2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erage wage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2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deral poverty line (for value of missed work day for Medicaid recipi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5535-9C14-4FCE-AB77-8F36B80791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CB56-8910-46F9-AC64-169902B4D7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47840" y="3938400"/>
            <a:ext cx="799272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vice for calculating data fiel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de what use &amp; cost components to in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okay to combine use &amp; cost from different 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make sure measures are calculated the same way for the same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409680" y="1714680"/>
            <a:ext cx="7993080" cy="1838160"/>
          </a:xfrm>
          <a:prstGeom prst="rect">
            <a:avLst/>
          </a:prstGeom>
          <a:solidFill>
            <a:srgbClr val="00279f"/>
          </a:solidFill>
          <a:ln w="381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ther potential data sour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, local, or plan-level claim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surveys of number of missed school/work days due to 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BASELIN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252A-9387-48EF-B21D-DE6FA0787D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4A4F-9517-4B26-A9BE-F4DC98E000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24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y an Asthma ROI Calculator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75600" cy="40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p State policymakers and health plans estimate potential financial returns from asthma quality improvement progra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evelop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studies don’t address financial impac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nly clinical and use impac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or use impacts must be converted to costs or sav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are estimates genera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idence from the literature (meta-analysis) combined with baseline utilization and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 your population and other optional estimates into calculator at AHRQ Web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MCj01567770000[1]"/>
          <p:cNvPicPr/>
          <p:nvPr/>
        </p:nvPicPr>
        <p:blipFill>
          <a:blip r:embed="rId1"/>
          <a:stretch/>
        </p:blipFill>
        <p:spPr>
          <a:xfrm>
            <a:off x="2743200" y="5791320"/>
            <a:ext cx="990720" cy="925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CBD04896_0000[1]"/>
          <p:cNvPicPr/>
          <p:nvPr/>
        </p:nvPicPr>
        <p:blipFill>
          <a:blip r:embed="rId2"/>
          <a:stretch/>
        </p:blipFill>
        <p:spPr>
          <a:xfrm>
            <a:off x="5181480" y="5867280"/>
            <a:ext cx="1219320" cy="7747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/>
          <p:cNvSpPr/>
          <p:nvPr/>
        </p:nvSpPr>
        <p:spPr>
          <a:xfrm>
            <a:off x="4114800" y="60199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1DF9-1AB1-4945-B58C-AEE97ACD3D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C492-1D4E-4001-A100-A6DC4284B2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70689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ROGRAM IMPAC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09760"/>
            <a:ext cx="2247840" cy="4775040"/>
          </a:xfrm>
          <a:prstGeom prst="rect">
            <a:avLst/>
          </a:prstGeom>
          <a:ln w="0">
            <a:noFill/>
          </a:ln>
        </p:spPr>
      </p:pic>
      <p:sp>
        <p:nvSpPr>
          <p:cNvPr id="276" name="Right Arrow 10"/>
          <p:cNvSpPr/>
          <p:nvPr/>
        </p:nvSpPr>
        <p:spPr>
          <a:xfrm rot="10800000">
            <a:off x="1244520" y="3975120"/>
            <a:ext cx="711360" cy="177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2"/>
          <a:srcRect l="19446" t="19755" r="1736" b="20219"/>
          <a:stretch/>
        </p:blipFill>
        <p:spPr>
          <a:xfrm>
            <a:off x="2117880" y="1409760"/>
            <a:ext cx="70261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F01E-FD00-4FC6-B442-D35A34A55F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19BD-FCCD-434C-AD4D-0AB4ACCED2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36480" y="228600"/>
            <a:ext cx="7011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ROGRAM IMPAC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09760"/>
            <a:ext cx="2247840" cy="4775040"/>
          </a:xfrm>
          <a:prstGeom prst="rect">
            <a:avLst/>
          </a:prstGeom>
          <a:ln w="0">
            <a:noFill/>
          </a:ln>
        </p:spPr>
      </p:pic>
      <p:sp>
        <p:nvSpPr>
          <p:cNvPr id="282" name="Right Arrow 10"/>
          <p:cNvSpPr/>
          <p:nvPr/>
        </p:nvSpPr>
        <p:spPr>
          <a:xfrm rot="10800000">
            <a:off x="1244520" y="3975120"/>
            <a:ext cx="711360" cy="177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2"/>
          <a:srcRect l="19446" t="19755" r="1736" b="20219"/>
          <a:stretch/>
        </p:blipFill>
        <p:spPr>
          <a:xfrm>
            <a:off x="2117880" y="1409760"/>
            <a:ext cx="7026120" cy="40132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6"/>
          <p:cNvSpPr/>
          <p:nvPr/>
        </p:nvSpPr>
        <p:spPr>
          <a:xfrm>
            <a:off x="5151600" y="5099040"/>
            <a:ext cx="3992400" cy="1130400"/>
          </a:xfrm>
          <a:prstGeom prst="rect">
            <a:avLst/>
          </a:prstGeom>
          <a:solidFill>
            <a:srgbClr val="00279f"/>
          </a:solidFill>
          <a:ln w="381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ata sour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-analysis of lit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EAAB-3D73-46E1-8CC5-0271431BD1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F091-3920-4EE7-93B7-498B3258A8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51120" y="27144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ROGRAM COS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349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89" name="Right Arrow 10"/>
          <p:cNvSpPr/>
          <p:nvPr/>
        </p:nvSpPr>
        <p:spPr>
          <a:xfrm rot="10800000">
            <a:off x="1079280" y="4241880"/>
            <a:ext cx="711000" cy="177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2"/>
          <a:srcRect l="20256" t="25617" r="2198" b="16667"/>
          <a:stretch/>
        </p:blipFill>
        <p:spPr>
          <a:xfrm>
            <a:off x="2197080" y="1444680"/>
            <a:ext cx="69469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DD6E-8AA7-4C9F-92AE-F615151CB2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A046-7075-455F-BC09-048EFAEC3E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ROGRAM COS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349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95" name="Right Arrow 10"/>
          <p:cNvSpPr/>
          <p:nvPr/>
        </p:nvSpPr>
        <p:spPr>
          <a:xfrm rot="10800000">
            <a:off x="1079280" y="4241880"/>
            <a:ext cx="711000" cy="177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2"/>
          <a:srcRect l="20256" t="25617" r="2198" b="16667"/>
          <a:stretch/>
        </p:blipFill>
        <p:spPr>
          <a:xfrm>
            <a:off x="2197080" y="1444680"/>
            <a:ext cx="6946920" cy="387828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211"/>
          <p:cNvSpPr/>
          <p:nvPr/>
        </p:nvSpPr>
        <p:spPr>
          <a:xfrm>
            <a:off x="3309840" y="4419720"/>
            <a:ext cx="5834160" cy="1827000"/>
          </a:xfrm>
          <a:prstGeom prst="rect">
            <a:avLst/>
          </a:prstGeom>
          <a:solidFill>
            <a:srgbClr val="00279f"/>
          </a:solidFill>
          <a:ln w="381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spcBef>
                <a:spcPts val="150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See User’s Guide fo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to include in your estimates of annual cost per particip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hoose a discount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1187-0C42-4408-96DE-5B0078D196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AA2F-B5F4-4DFF-B96D-95F62635D9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monstration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2EE9-14BA-4AC6-B521-98D9083DE2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88"/>
          <p:cNvSpPr/>
          <p:nvPr/>
        </p:nvSpPr>
        <p:spPr>
          <a:xfrm>
            <a:off x="1371600" y="609480"/>
            <a:ext cx="67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90" descr=""/>
          <p:cNvPicPr/>
          <p:nvPr/>
        </p:nvPicPr>
        <p:blipFill>
          <a:blip r:embed="rId1"/>
          <a:srcRect l="59116" t="4820" r="808" b="24674"/>
          <a:stretch/>
        </p:blipFill>
        <p:spPr>
          <a:xfrm>
            <a:off x="2192400" y="1438200"/>
            <a:ext cx="6783480" cy="47736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2"/>
          <a:srcRect l="0" t="25311" r="79518" b="16667"/>
          <a:stretch/>
        </p:blipFill>
        <p:spPr>
          <a:xfrm>
            <a:off x="0" y="14349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305" name="Right Arrow 7"/>
          <p:cNvSpPr/>
          <p:nvPr/>
        </p:nvSpPr>
        <p:spPr>
          <a:xfrm rot="10800000">
            <a:off x="790560" y="4694040"/>
            <a:ext cx="711360" cy="17748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7D55-62FD-4A39-8048-D597FD1A4A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88"/>
          <p:cNvSpPr/>
          <p:nvPr/>
        </p:nvSpPr>
        <p:spPr>
          <a:xfrm>
            <a:off x="1371600" y="609480"/>
            <a:ext cx="67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173160" y="1468440"/>
            <a:ext cx="810072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11E6-B50F-449E-9AE8-EEE124881C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F7F3-74E9-45CE-ACFD-7B58C99721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88"/>
          <p:cNvSpPr/>
          <p:nvPr/>
        </p:nvSpPr>
        <p:spPr>
          <a:xfrm>
            <a:off x="1371600" y="609480"/>
            <a:ext cx="67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1" descr=""/>
          <p:cNvPicPr/>
          <p:nvPr/>
        </p:nvPicPr>
        <p:blipFill>
          <a:blip r:embed="rId1"/>
          <a:stretch/>
        </p:blipFill>
        <p:spPr>
          <a:xfrm>
            <a:off x="431640" y="1576440"/>
            <a:ext cx="74710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A74D-F7DF-4CB0-B868-76DCE46EE0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03C2-68CF-4CE0-AD3D-7332A41C51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mmary of Steps in th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sthma ROI Calculator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18760" y="1511280"/>
            <a:ext cx="7993080" cy="2657520"/>
          </a:xfrm>
          <a:prstGeom prst="rect">
            <a:avLst/>
          </a:prstGeom>
          <a:solidFill>
            <a:srgbClr val="00279f"/>
          </a:solidFill>
          <a:ln w="38160">
            <a:solidFill>
              <a:srgbClr val="ffff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termine target population &amp; studies to use in calculation (Req. Info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arget most expensive patients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Use controlled study results to achieve most realistic resul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100000"/>
              </a:lnSpc>
              <a:spcBef>
                <a:spcPts val="224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100000"/>
              </a:lnSpc>
              <a:spcBef>
                <a:spcPts val="224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number of particip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100000"/>
              </a:lnSpc>
              <a:spcBef>
                <a:spcPts val="224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baseline costs and uti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100000"/>
              </a:lnSpc>
              <a:spcBef>
                <a:spcPts val="224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impact of asthma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100000"/>
              </a:lnSpc>
              <a:spcBef>
                <a:spcPts val="224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program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468360" y="4241880"/>
            <a:ext cx="81756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ps on using your own 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ally, find data from a single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not feasible, be sure that the underlying populations that generated the data are simi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claims data to obtain number of eligible asthma patients and their baseline utilization and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d evidence from studies of a similar pop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A696-64A7-420D-922F-4BB827A4FB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A645-9673-44ED-9CD1-BA7A946C22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23960" y="2155320"/>
            <a:ext cx="7510320" cy="415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ments From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hanie Lind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caid Administ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abama Medicaid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. Mary McInty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cal Director, Office of Clinical Standar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abama Medicaid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C941-D67A-427B-AF15-41F67F23A8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5CCB-9D11-4FE8-806B-B43F952BA8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9232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the Calculator Work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84120" y="1857240"/>
            <a:ext cx="354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00,00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cipants who ave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.2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ED visits per y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334120" y="22096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5,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nual visits to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19120" y="3473280"/>
            <a:ext cx="13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thma program (could use pilo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725480" y="3657600"/>
            <a:ext cx="408240" cy="266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971720" y="356544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410080" y="3505320"/>
            <a:ext cx="30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2,5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isits to ED sa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09480" y="48769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$3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r ED vis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1" descr="MCj03037270000[1]"/>
          <p:cNvPicPr/>
          <p:nvPr/>
        </p:nvPicPr>
        <p:blipFill>
          <a:blip r:embed="rId1"/>
          <a:stretch/>
        </p:blipFill>
        <p:spPr>
          <a:xfrm>
            <a:off x="2743200" y="3530520"/>
            <a:ext cx="538200" cy="4320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2"/>
          <p:cNvSpPr/>
          <p:nvPr/>
        </p:nvSpPr>
        <p:spPr>
          <a:xfrm>
            <a:off x="3971880" y="2209680"/>
            <a:ext cx="1209600" cy="379440"/>
          </a:xfrm>
          <a:prstGeom prst="rightArrow">
            <a:avLst>
              <a:gd name="adj1" fmla="val 50000"/>
              <a:gd name="adj2" fmla="val 7969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5451480" y="4876920"/>
            <a:ext cx="21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$3,750,00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6" descr="MCj02396570000[1]"/>
          <p:cNvPicPr/>
          <p:nvPr/>
        </p:nvPicPr>
        <p:blipFill>
          <a:blip r:embed="rId2"/>
          <a:stretch/>
        </p:blipFill>
        <p:spPr>
          <a:xfrm>
            <a:off x="6858000" y="1447920"/>
            <a:ext cx="1017720" cy="790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7"/>
          <p:cNvSpPr/>
          <p:nvPr/>
        </p:nvSpPr>
        <p:spPr>
          <a:xfrm>
            <a:off x="0" y="145728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aseline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0" y="304812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0" y="434340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ssign costs to utilization chang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609480" y="5562720"/>
            <a:ext cx="7772400" cy="68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Repeat for each service &amp; productivity compone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Compare change in medical care expenditures with program cos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1"/>
          <p:cNvSpPr/>
          <p:nvPr/>
        </p:nvSpPr>
        <p:spPr>
          <a:xfrm>
            <a:off x="3657600" y="1981080"/>
            <a:ext cx="152280" cy="83844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2"/>
          <p:cNvSpPr/>
          <p:nvPr/>
        </p:nvSpPr>
        <p:spPr>
          <a:xfrm>
            <a:off x="3962520" y="3506760"/>
            <a:ext cx="1209600" cy="379440"/>
          </a:xfrm>
          <a:prstGeom prst="rightArrow">
            <a:avLst>
              <a:gd name="adj1" fmla="val 50000"/>
              <a:gd name="adj2" fmla="val 7969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23"/>
          <p:cNvSpPr/>
          <p:nvPr/>
        </p:nvSpPr>
        <p:spPr>
          <a:xfrm>
            <a:off x="3962520" y="4878360"/>
            <a:ext cx="1209600" cy="379440"/>
          </a:xfrm>
          <a:prstGeom prst="rightArrow">
            <a:avLst>
              <a:gd name="adj1" fmla="val 50000"/>
              <a:gd name="adj2" fmla="val 7969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4" descr="MCBD04896_0000[1]"/>
          <p:cNvPicPr/>
          <p:nvPr/>
        </p:nvPicPr>
        <p:blipFill>
          <a:blip r:embed="rId3"/>
          <a:stretch/>
        </p:blipFill>
        <p:spPr>
          <a:xfrm>
            <a:off x="7543800" y="4724280"/>
            <a:ext cx="107316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C665-3D11-4582-AACD-231FC6A8E8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09F6-3E8F-4D19-904C-533E756639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ditional Assistan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71240" y="160488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chnical Assistance and Questions about the too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e-mail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quality_tools@ahrq.hhs.go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py of calculat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visi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statesnapshots.ahrq.gov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/asthm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HCUP and HCUPnet Web conference materi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visit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6"/>
              </a:rPr>
              <a:t>www.ahrq.gov/qual/kt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7FBB-143D-49FA-AF9C-AEFFC515F1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1172-1A43-4267-9343-4DEDC0E95C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69339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the Calculator Works (cont’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182880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Return on Investment (R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92240" y="2449440"/>
            <a:ext cx="35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 cost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$5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r particip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3565440" y="2592360"/>
            <a:ext cx="1209600" cy="379440"/>
          </a:xfrm>
          <a:prstGeom prst="rightArrow">
            <a:avLst>
              <a:gd name="adj1" fmla="val 50000"/>
              <a:gd name="adj2" fmla="val 7969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996080" y="2635200"/>
            <a:ext cx="94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I*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6198480" y="2446200"/>
            <a:ext cx="203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3,750,000 sa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5927760" y="2806560"/>
            <a:ext cx="227016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5562720" y="2882880"/>
            <a:ext cx="3413160" cy="9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000,000 cost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$50 cost per participant) x (100,000 participant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029200" y="4114800"/>
            <a:ext cx="289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I = $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.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135160" y="5486400"/>
            <a:ext cx="432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breakeven ROI = $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505440" y="6019920"/>
            <a:ext cx="82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Formula involves discount rate. See  Calculator Appendix, “How the Model Works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5029200" y="4114800"/>
            <a:ext cx="289548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I = $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ry $1 invested returns only 75 cents,  or cost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1380-AD8B-4999-8056-82F94C0B9E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F10D-FFF4-4923-8E54-690696234D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st Components Include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335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thma-related medical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room 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 st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atient 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cillary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ivity (op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ed school or work days (not caregiver ti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s of implementing a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47B9-AFA4-4378-88E6-C57B3DDE42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120" y="2851200"/>
            <a:ext cx="799308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1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ys To Use the Calcula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8E72-4089-4803-AA81-BA5F8EA3D7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C18F-1BA9-4118-BE32-3BF3BCEA6D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EF85-ECFD-4BF4-945B-297715D8E9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plications: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ays To Use Calculato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eca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nancial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s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mpact of ke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bout proposed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alternative target populations to assess trade-of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assumptions “reasonable” compared to other evide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st hurdle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ed to break e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otiate with vend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 components of calculator in</a:t>
            </a:r>
            <a:r>
              <a:rPr b="0" lang="en-US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nn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evaluation of an asthma car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AB84-BA16-471A-9A2C-E9A72C5887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CE18-D324-4601-B10B-057F817603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43120" y="304920"/>
            <a:ext cx="7302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plications: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It Helps With Polic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60040" y="1600200"/>
            <a:ext cx="7537320" cy="447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chigan Pediatric Asthma Coali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Used to make a funding decision for a county asthma progr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w York Department of Heal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Used to consider evaluation components for a housing improvement project aimed to reduce asthma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ssachusetts Asthma Prevention and Control Progr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Used to consider ROI for environmental approaches to asthma prevention and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abama Medicaid Agenc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Using to plan and justify a pilot asthma care improvement program for Medicaid recip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DHHS</cp:lastModifiedBy>
  <dcterms:modified xsi:type="dcterms:W3CDTF">2010-12-02T23:25:54Z</dcterms:modified>
  <cp:revision>191</cp:revision>
  <dc:subject/>
  <dc:title>Community Partnerships for Change</dc:title>
</cp:coreProperties>
</file>