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48488" cy="9269413"/>
</p:presentation>
</file>

<file path=ppt/commentAuthors.xml><?xml version="1.0" encoding="utf-8"?>
<p:cmAuthorLst xmlns:p="http://schemas.openxmlformats.org/presentationml/2006/main">
  <p:cmAuthor id="0" name="DHHS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9-09-23T13:18:34.204000000" idx="1">
    <p:pos x="5598" y="845"/>
    <p:text>Reformatted as bullet list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56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70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56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70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4456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7000" y="12949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6212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4456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7000" y="38422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79160" y="38422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9160" y="12949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8422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1447920" y="0"/>
            <a:ext cx="769608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" name="Picture 8" descr="State Flag"/>
          <p:cNvPicPr/>
          <p:nvPr/>
        </p:nvPicPr>
        <p:blipFill>
          <a:blip r:embed="rId2"/>
          <a:stretch/>
        </p:blipFill>
        <p:spPr>
          <a:xfrm>
            <a:off x="0" y="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0" y="1143000"/>
            <a:ext cx="609480" cy="5715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10"/>
          <p:cNvSpPr/>
          <p:nvPr/>
        </p:nvSpPr>
        <p:spPr>
          <a:xfrm rot="5400000">
            <a:off x="4571640" y="2285640"/>
            <a:ext cx="609480" cy="8534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8067240" y="63961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B0F3-2A28-444D-A44D-A7534586A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Line 12"/>
          <p:cNvSpPr/>
          <p:nvPr/>
        </p:nvSpPr>
        <p:spPr>
          <a:xfrm>
            <a:off x="8229600" y="62485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3" descr="State Flag"/>
          <p:cNvPicPr/>
          <p:nvPr/>
        </p:nvPicPr>
        <p:blipFill>
          <a:blip r:embed="rId2"/>
          <a:stretch/>
        </p:blipFill>
        <p:spPr>
          <a:xfrm>
            <a:off x="0" y="1752480"/>
            <a:ext cx="3962520" cy="3368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 rot="5400000">
            <a:off x="3695760" y="1409400"/>
            <a:ext cx="1752480" cy="9144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4800" y="1905120"/>
            <a:ext cx="45720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343400" y="42670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1000"/>
          </a:bodyPr>
          <a:p>
            <a:pPr marL="37440" indent="-374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20" indent="-313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6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6080" indent="-2484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ooks.Daverman@tn.gov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95720" y="1714680"/>
            <a:ext cx="45720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AHRQ’s Preventable Hospitalization Costs and Mapping Tool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1720" y="3878280"/>
            <a:ext cx="4441680" cy="20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24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oks Dave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rooks.Daverman@tn.g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nnessee Division of Health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88960" y="1330200"/>
            <a:ext cx="8555040" cy="38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44400" y="1660680"/>
            <a:ext cx="849960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19280" y="1731960"/>
            <a:ext cx="842472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47720" y="1616040"/>
            <a:ext cx="839628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20720" y="1809720"/>
            <a:ext cx="84232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14520" y="1906560"/>
            <a:ext cx="85294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 Healthcare Report 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sion 2 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betes, hypertension and…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y-level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21240" y="2805120"/>
            <a:ext cx="7999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52680" y="2857680"/>
            <a:ext cx="799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urpose of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ivated by high levels of chronic disease in Tenness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s together all available dat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s at as local a level as possi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st step toward all-payer claims databa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port Combines 3 Types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FSS survey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DIS measures voluntarily submitted by TN health plans and TennCare (TN Medicaid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HRQ mapping tool using hospital discharge da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F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4" descr="BRFSS_diab 3"/>
          <p:cNvPicPr/>
          <p:nvPr/>
        </p:nvPicPr>
        <p:blipFill>
          <a:blip r:embed="rId1"/>
          <a:srcRect l="0" t="0" r="0" b="21707"/>
          <a:stretch/>
        </p:blipFill>
        <p:spPr>
          <a:xfrm>
            <a:off x="628560" y="2333520"/>
            <a:ext cx="8515440" cy="204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120" y="176220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you ever been told by a doctor that you have diabetes? (200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22480" y="4770360"/>
          <a:ext cx="7286040" cy="579600"/>
        </p:xfrm>
        <a:graphic>
          <a:graphicData uri="http://schemas.openxmlformats.org/drawingml/2006/table">
            <a:tbl>
              <a:tblPr/>
              <a:tblGrid>
                <a:gridCol w="230760"/>
                <a:gridCol w="1229760"/>
                <a:gridCol w="230760"/>
                <a:gridCol w="1225440"/>
                <a:gridCol w="231120"/>
                <a:gridCol w="1225440"/>
                <a:gridCol w="230760"/>
                <a:gridCol w="1225800"/>
                <a:gridCol w="230760"/>
                <a:gridCol w="122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3 –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c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0 – 1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aaf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6 – 1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085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0 – 1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852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1 – 1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reening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bA1c testing rates – diab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.31-91.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-C screening rates – diabe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.72-87.5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-C screening rates – cardiovascula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.26-87.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DIS Measure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9360" y="1330920"/>
            <a:ext cx="75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bA1c Testing Rates Among Patients With Diab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75" descr="regional_BlueMap_HBA1CSCR"/>
          <p:cNvPicPr/>
          <p:nvPr/>
        </p:nvPicPr>
        <p:blipFill>
          <a:blip r:embed="rId1"/>
          <a:srcRect l="0" t="0" r="0" b="19757"/>
          <a:stretch/>
        </p:blipFill>
        <p:spPr>
          <a:xfrm>
            <a:off x="614520" y="1978200"/>
            <a:ext cx="8529480" cy="20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708120" y="4684680"/>
          <a:ext cx="8435520" cy="831600"/>
        </p:xfrm>
        <a:graphic>
          <a:graphicData uri="http://schemas.openxmlformats.org/drawingml/2006/table">
            <a:tbl>
              <a:tblPr/>
              <a:tblGrid>
                <a:gridCol w="267120"/>
                <a:gridCol w="1423800"/>
                <a:gridCol w="267120"/>
                <a:gridCol w="1418760"/>
                <a:gridCol w="267480"/>
                <a:gridCol w="1418760"/>
                <a:gridCol w="267480"/>
                <a:gridCol w="1418760"/>
                <a:gridCol w="267480"/>
                <a:gridCol w="1418760"/>
              </a:tblGrid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852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.74 – 82.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3085b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.74 – 84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6aaf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16 – 85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bc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.47 – 86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ff3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.98 – 89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ounty-Level HEDIS Data in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85360" y="1144080"/>
            <a:ext cx="855828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L-C Screening Ra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diabe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s with cardiovascular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of Use of Appropriate Medication for People With Asth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5-9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10-17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s 18-56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tewide HEDIS Data in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1560" y="1143000"/>
          <a:ext cx="8542080" cy="5113080"/>
        </p:xfrm>
        <a:graphic>
          <a:graphicData uri="http://schemas.openxmlformats.org/drawingml/2006/table">
            <a:tbl>
              <a:tblPr/>
              <a:tblGrid>
                <a:gridCol w="4111200"/>
                <a:gridCol w="1129320"/>
                <a:gridCol w="1086120"/>
                <a:gridCol w="1085760"/>
                <a:gridCol w="1129680"/>
              </a:tblGrid>
              <a:tr h="362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 TN Health Plan Average vs. HEDIS 2009 National Aver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rcial H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id H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DIS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HbA1c Poor Control (&gt;9.0%) - Patients With Diabete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8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7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4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1224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LDL-C Control (&lt;100 mg/dL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5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6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30/80 mm Hg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2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1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3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40/90 mm Hg) - Patients With Diabe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lood Pressure Control (&lt;140/90 mm Hg) - Patients With Hypert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63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5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5760">
                      <a:solidFill>
                        <a:srgbClr val="0079a9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LDL-C Control (&lt;100 mg/dL) - Patients With Cardiovascular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6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59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79a9"/>
                      </a:solidFill>
                    </a:lnL>
                    <a:lnR w="576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4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9a9"/>
                      </a:solidFill>
                    </a:lnL>
                    <a:lnR w="12240">
                      <a:solidFill>
                        <a:srgbClr val="0079a9"/>
                      </a:solidFill>
                    </a:lnR>
                    <a:lnT w="5760">
                      <a:solidFill>
                        <a:srgbClr val="0079a9"/>
                      </a:solidFill>
                    </a:lnT>
                    <a:lnB w="12240">
                      <a:solidFill>
                        <a:srgbClr val="0079a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04:18Z</dcterms:created>
  <dc:creator>ae01012</dc:creator>
  <dc:description/>
  <dc:language>en-US</dc:language>
  <cp:lastModifiedBy>Allison Lynch</cp:lastModifiedBy>
  <dcterms:modified xsi:type="dcterms:W3CDTF">2010-07-23T20:10:38Z</dcterms:modified>
  <cp:revision>223</cp:revision>
  <dc:subject/>
  <dc:title>Slide 1</dc:title>
</cp:coreProperties>
</file>