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48488" cy="9269413"/>
</p:presentation>
</file>

<file path=ppt/commentAuthors.xml><?xml version="1.0" encoding="utf-8"?>
<p:cmAuthorLst xmlns:p="http://schemas.openxmlformats.org/presentationml/2006/main">
  <p:cmAuthor id="0" name="DHHS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9-09-23T13:18:34.204000000" idx="1">
    <p:pos x="5598" y="845"/>
    <p:text>Reformatted as bullet list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56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70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56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70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456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70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456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70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8" descr="State Flag"/>
          <p:cNvPicPr/>
          <p:nvPr/>
        </p:nvPicPr>
        <p:blipFill>
          <a:blip r:embed="rId2"/>
          <a:stretch/>
        </p:blipFill>
        <p:spPr>
          <a:xfrm>
            <a:off x="0" y="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1143000"/>
            <a:ext cx="609480" cy="5715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"/>
          <p:cNvSpPr/>
          <p:nvPr/>
        </p:nvSpPr>
        <p:spPr>
          <a:xfrm rot="5400000">
            <a:off x="4571640" y="2285640"/>
            <a:ext cx="609480" cy="8534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8067240" y="6396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3D7-370A-44E2-9413-53801696F6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12"/>
          <p:cNvSpPr/>
          <p:nvPr/>
        </p:nvSpPr>
        <p:spPr>
          <a:xfrm>
            <a:off x="8229600" y="62485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3" descr="State Flag"/>
          <p:cNvPicPr/>
          <p:nvPr/>
        </p:nvPicPr>
        <p:blipFill>
          <a:blip r:embed="rId2"/>
          <a:stretch/>
        </p:blipFill>
        <p:spPr>
          <a:xfrm>
            <a:off x="0" y="1752480"/>
            <a:ext cx="3962520" cy="3368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 rot="5400000">
            <a:off x="3695760" y="1409400"/>
            <a:ext cx="1752480" cy="914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4800" y="19051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343400" y="42670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-37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6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60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60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60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ooks.Daverman@tn.gov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95720" y="1714680"/>
            <a:ext cx="45720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AHRQ’s Preventable Hospitalization Costs and Mapping Tool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1720" y="3878280"/>
            <a:ext cx="444168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2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oks Dav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ooks.Daverman@tn.g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nessee Division of Health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88960" y="1330200"/>
            <a:ext cx="855504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4400" y="1660680"/>
            <a:ext cx="849960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19280" y="1731960"/>
            <a:ext cx="8424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47720" y="1616040"/>
            <a:ext cx="839628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0720" y="1809720"/>
            <a:ext cx="84232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14520" y="1906560"/>
            <a:ext cx="85294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Healthcare Report 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 2 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, hypertension and…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y-level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21240" y="2805120"/>
            <a:ext cx="799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52680" y="2857680"/>
            <a:ext cx="799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pose of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ed by high levels of chronic disease in Tennes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s together all available dat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s at as local a level as pos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step toward all-payer claims databa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ort Combines 3 Types of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FSS survey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DIS measures voluntarily submitted by TN health plans and TennCare (TN Medicaid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HRQ mapping tool using hospital discharge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F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4" descr="BRFSS_diab 3"/>
          <p:cNvPicPr/>
          <p:nvPr/>
        </p:nvPicPr>
        <p:blipFill>
          <a:blip r:embed="rId1"/>
          <a:srcRect l="0" t="0" r="0" b="21707"/>
          <a:stretch/>
        </p:blipFill>
        <p:spPr>
          <a:xfrm>
            <a:off x="628560" y="2333520"/>
            <a:ext cx="8515440" cy="204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120" y="176220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you ever been told by a doctor that you have diabetes? (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22480" y="4770360"/>
          <a:ext cx="7286040" cy="579600"/>
        </p:xfrm>
        <a:graphic>
          <a:graphicData uri="http://schemas.openxmlformats.org/drawingml/2006/table">
            <a:tbl>
              <a:tblPr/>
              <a:tblGrid>
                <a:gridCol w="230760"/>
                <a:gridCol w="1229760"/>
                <a:gridCol w="230760"/>
                <a:gridCol w="1225440"/>
                <a:gridCol w="231120"/>
                <a:gridCol w="1225440"/>
                <a:gridCol w="230760"/>
                <a:gridCol w="1225800"/>
                <a:gridCol w="230760"/>
                <a:gridCol w="1225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c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 – 1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6aaf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6 – 1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085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0 – 1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852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1 – 1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reening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A1c testing rates –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.31-91.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L-C screening rates – diabe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.72-87.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L-C screening rates – cardiovascula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.26-87.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DIS Measure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9360" y="1330920"/>
            <a:ext cx="75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bA1c Testing Rates Among Patients With Diab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75" descr="regional_BlueMap_HBA1CSCR"/>
          <p:cNvPicPr/>
          <p:nvPr/>
        </p:nvPicPr>
        <p:blipFill>
          <a:blip r:embed="rId1"/>
          <a:srcRect l="0" t="0" r="0" b="19757"/>
          <a:stretch/>
        </p:blipFill>
        <p:spPr>
          <a:xfrm>
            <a:off x="614520" y="1978200"/>
            <a:ext cx="8529480" cy="20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08120" y="4684680"/>
          <a:ext cx="8435520" cy="831600"/>
        </p:xfrm>
        <a:graphic>
          <a:graphicData uri="http://schemas.openxmlformats.org/drawingml/2006/table">
            <a:tbl>
              <a:tblPr/>
              <a:tblGrid>
                <a:gridCol w="267120"/>
                <a:gridCol w="1423800"/>
                <a:gridCol w="267120"/>
                <a:gridCol w="1418760"/>
                <a:gridCol w="267480"/>
                <a:gridCol w="1418760"/>
                <a:gridCol w="267480"/>
                <a:gridCol w="1418760"/>
                <a:gridCol w="267480"/>
                <a:gridCol w="1418760"/>
              </a:tblGrid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852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.74 – 82.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085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74 – 84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6aaf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16 – 85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c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47 – 86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.98 – 89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ounty-Level HEDIS Data i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5360" y="1144080"/>
            <a:ext cx="855828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-C Screening 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diab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cardiovascular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of Use of Appropriate Medication for People With Asth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5-9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10-1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18-5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wide HEDIS Data in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1560" y="1143000"/>
          <a:ext cx="8542080" cy="5113080"/>
        </p:xfrm>
        <a:graphic>
          <a:graphicData uri="http://schemas.openxmlformats.org/drawingml/2006/table">
            <a:tbl>
              <a:tblPr/>
              <a:tblGrid>
                <a:gridCol w="4111200"/>
                <a:gridCol w="1129320"/>
                <a:gridCol w="1086120"/>
                <a:gridCol w="1085760"/>
                <a:gridCol w="1129680"/>
              </a:tblGrid>
              <a:tr h="36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 TN Health Plan Average vs. HEDIS 2009 National Aver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 H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id H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HbA1c Poor Control (&gt;9.0%) - Patients With Diabete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LDL-C Control (&lt;100 mg/dL) - Patients With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5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lood Pressure Control (&lt;130/80 mm Hg) - Patients With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lood Pressure Control (&lt;140/90 mm Hg) - Patients With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lood Pressure Control (&lt;140/90 mm Hg) - Patients With Hypert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LDL-C Control (&lt;100 mg/dL) - Patients With Cardiovascular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04:18Z</dcterms:created>
  <dc:creator>ae01012</dc:creator>
  <dc:description/>
  <dc:language>en-US</dc:language>
  <cp:lastModifiedBy>Allison Lynch</cp:lastModifiedBy>
  <dcterms:modified xsi:type="dcterms:W3CDTF">2010-07-23T20:10:38Z</dcterms:modified>
  <cp:revision>223</cp:revision>
  <dc:subject/>
  <dc:title>Slide 1</dc:title>
</cp:coreProperties>
</file>