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9D685F-B0DE-485F-8E95-16E99A5898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083DA53-70B8-488C-B631-E0B76E751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3C516C-9FE7-4933-B4CC-4A1F9E8FEC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238092-C024-4C41-ADF8-389E4E2825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5EA4CA2-07D3-46A4-86F9-7C805ABBCD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5E1F2A-4955-4BA8-9290-4B1274FC1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07A85F-4E70-4461-B8F2-E26FC65A6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Potentially Avoidable Hospital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website with navigation bar on left and Image of website; shows website page title, State Health Care Information Portal; a navigation bar on the left; four additional portals; each contains a separate category, each with a picture, text and active link to a categ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points to Maps by County Showing Potentially Avoidable Hospital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6BC5CE-BFC0-4D72-A5DA-8E23719F56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838FCC-F66F-4A85-A0B7-BB00D51DD5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5B569B-7D05-40B4-8AA0-A01D841D85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Ambulatory care sensitive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Potentially Avoidable Hospitalization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’s Prevention Quality Indic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QIs – ambulatory care sensitive conditions) and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website with navigation bar on left and Image of website; shows website page with Prevention Quality Indicators and hyperlinks to specific categories of conditions such has hyperten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DD3297-4081-4037-A681-78EFF0B38E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46EDF11-331C-493F-98C8-DAA1A71CE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2796F-D2C7-48BA-B402-2089BA3386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Other area-level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… Area-level patient safety and procedur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een shot of website with navigation bar on left and Image of website; main page shows other area-level indicators and hyperlinks to specific s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7B5ED39-CC7E-4BD5-8ED6-A6A868E014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6246B0B-A715-48CF-B447-2DF98E9FF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47737-4ACA-4D64-BB7C-731606015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Map of rates by county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Rates for avoidable admissions by county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rates in dark blu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st rates in light 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Summary Table for more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is a map of Maryland with color coded counties. Because data is synthetic, the rates will not be defi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ynthet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8A492C-72DB-45F0-B3A5-9F6321073A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E2AB250-A463-4F69-BCB8-2A1192ACC5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FB7950-9FED-4297-9097-5753390611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RQ logo in upper left hand corner; HCUP logo in upper right hand cor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title: Potential cost savings – reducing preventable admission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explanation box: Details on avoidable admissions by county, including cost sav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ownload to Exc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of website screenshot; shows data t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ynthet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2A5C0D5-3544-4922-A925-39E103D378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1640" y="4420800"/>
            <a:ext cx="561672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EF47DD-1A67-4299-AA3F-0B53587FFF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FDE9519-258A-4DD6-9009-66561CDD90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728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FAC5-D72E-4E06-A12B-72C5BB2A4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F7A4-7C60-428E-8102-402FB57569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7BF8-9F57-4027-B4DD-9856C92D2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B71D-4366-4893-9331-F3E8D3A41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BE04-230F-4227-87C6-86F2021936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1427-1C61-436D-B601-4128BC1CC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970C-E02E-4533-95DC-3FF6A0199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0DA6-385B-4596-A7DF-29F3A70AD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B8880-29EA-48B0-9722-020342244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F842-C99D-4D34-BBCB-995E5FCD67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5EF3-D900-401A-B4C3-89FEBEB99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3ABA-67CB-48BB-B704-A2B5C3F29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E085-643F-4F0E-9412-A221B4C6F4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BA54A-B9BB-4E1F-9FD8-40165C01CB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B721-2155-4D28-BD66-6E6DABB50E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843E-A780-4D36-8BCB-7EEEA493D0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DC4F-6523-4C50-95F3-0812F873A8C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6C6-8E89-422B-8D8D-F26FECAB9D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44F-501F-43A0-9AC5-E386753638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576-2396-48FE-BA51-96872D6FFB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D0A-D16B-43A4-A9A2-801F1C172E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8B9-F294-4B55-9B32-D17D58152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B5F2F-9587-4A76-9391-F1C362296B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932-4278-422F-860E-9F3873E8D5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AFB-969F-447E-8F6F-34FD89466A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83E-3FDE-4AD3-AF75-6E5C8DBB8B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E95-0870-48AB-83FC-6FC6287116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611-7955-4F60-82B1-96E172EC25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67DE-7D50-4CFD-86D2-E7A6D26F2D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F2D-D058-4A64-ADAE-E32404A056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870C9-CABA-4F52-B2E7-26B5C96A94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EEBF3-31D8-4A91-B4B6-7E973E9E80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64ACE-7A7A-4875-AFCE-583280C68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5913-FF40-491F-940E-CABB015429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A0E34-65C7-4947-A9CB-8C20A292B3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B4473-B95F-4780-BC3E-4C18A2FB04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3635F-DEB7-4742-B504-1D88594BEB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909F7-B5B2-49F0-AF0D-DA8FCED9D9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39C3D-5905-4F49-92F8-597585B93F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23925-749A-417E-92C3-969D4AAD65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4C636-3503-4040-915E-8EE84AF9E5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AA9B2-5981-4DFF-B00D-591D805275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D27DE-8266-4171-AA4F-FC38EFA00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6D1AE-56A3-40CB-8243-B7989C791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8ED2-1A97-4210-B068-36E3AD56D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1E5E-FE22-4A8C-A2DD-B2AE4F627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513D-4DE3-4EBE-848C-8A8FD9DBB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97E6-6CB9-4A83-8105-59563B290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1EFC-D463-44CB-97D5-88991AD3C1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47" name="Line 5"/>
            <p:cNvSpPr/>
            <p:nvPr/>
          </p:nvSpPr>
          <p:spPr>
            <a:xfrm>
              <a:off x="6840" y="135252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0" y="133344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" name="Object 7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B1F3-A128-4BE4-9783-40489ADFDA5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89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5D8-1C79-4206-BE9D-C82A3D92CB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133" name="Line 5"/>
            <p:cNvSpPr/>
            <p:nvPr/>
          </p:nvSpPr>
          <p:spPr>
            <a:xfrm>
              <a:off x="6840" y="38862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0" y="38671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35" name="Object 7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AC26-FEBF-4B97-879B-10427099F0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437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eventable Hospitalization Costs and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7720" y="449568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 B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er for Delivery, Organization, and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ly 21, 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1CF5-1944-42D7-B8F6-0F83696AC124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-Level AHRQ Patient Safety Indicators (P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1  Foreign Body Left in During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2  Iatrogenic Pneumothora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3  Central Line-Associated Bloodstream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4  Postoperative Wound Dehis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5  Accidental Puncture or Lac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6  Transfus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6240" indent="-3924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I 27  Postoperative Hemorrhage or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0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46"/>
          <p:cNvSpPr/>
          <p:nvPr/>
        </p:nvSpPr>
        <p:spPr>
          <a:xfrm>
            <a:off x="6699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701B-ADD1-428F-8007-649809EC55C6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’s PQI Composites i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Comp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AHRQ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Care Compo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10  Dehydration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11  Bacterial Pneumonia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QI 12  Urinary Tract Infection Admiss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4F81-C365-48CD-B153-63C186DF17F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5451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’s PQI Composites i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ronic Conditions Composi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  Diabetes Short-Term Complications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3  Diabetes Long-Term Complications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5  Chronic Obstructive Pulmonary Diseas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7  Hypertens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8  Congestive Heart Fail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9  Low Birth Weigh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3  Angina Without Proced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4  Uncontrolled Diabetes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5  Adult Asthma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6  Lower Extremity Amputation Rate Among Diabetic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8" descr=""/>
          <p:cNvPicPr/>
          <p:nvPr/>
        </p:nvPicPr>
        <p:blipFill>
          <a:blip r:embed="rId1"/>
          <a:srcRect l="0" t="512" r="2048" b="0"/>
          <a:stretch/>
        </p:blipFill>
        <p:spPr>
          <a:xfrm>
            <a:off x="1152360" y="1432080"/>
            <a:ext cx="6886800" cy="52448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otentially Avoidable Hospitaliz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Line 27"/>
          <p:cNvSpPr/>
          <p:nvPr/>
        </p:nvSpPr>
        <p:spPr>
          <a:xfrm flipH="1" flipV="1">
            <a:off x="3930480" y="5100120"/>
            <a:ext cx="285840" cy="3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CE8-5239-4A78-AD75-8A02E13E71C5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64688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mbulatory Care Sensitive Cond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 flipH="1" flipV="1">
            <a:off x="3133800" y="5117760"/>
            <a:ext cx="285840" cy="390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rcRect l="4104" t="846" r="20171" b="20290"/>
          <a:stretch/>
        </p:blipFill>
        <p:spPr>
          <a:xfrm>
            <a:off x="542880" y="1428840"/>
            <a:ext cx="6838920" cy="5341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28"/>
          <p:cNvSpPr/>
          <p:nvPr/>
        </p:nvSpPr>
        <p:spPr>
          <a:xfrm>
            <a:off x="4149720" y="3894120"/>
            <a:ext cx="475920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Avoidable Hospitalizations –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HRQ’s Prevention Quality Indicators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QIs – ambulatory care sensitive conditions) and …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09EA-F9DA-4583-94DA-0AA223EA5541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46884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ther Area-Level Indicato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351" t="2357" r="35780" b="31014"/>
          <a:stretch/>
        </p:blipFill>
        <p:spPr>
          <a:xfrm>
            <a:off x="638280" y="1428840"/>
            <a:ext cx="6448320" cy="52941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8"/>
          <p:cNvSpPr/>
          <p:nvPr/>
        </p:nvSpPr>
        <p:spPr>
          <a:xfrm>
            <a:off x="5383080" y="3481560"/>
            <a:ext cx="35118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-level patient safety and procedure rat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BC38-97F0-414A-83B8-63BB443AA2F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63928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p of Rates by County*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7358400" y="63230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Arial"/>
              </a:rPr>
              <a:t>* Synthetic data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rcRect l="0" t="866" r="8356" b="2500"/>
          <a:stretch/>
        </p:blipFill>
        <p:spPr>
          <a:xfrm>
            <a:off x="676440" y="1514520"/>
            <a:ext cx="6715080" cy="53100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1"/>
          <p:cNvSpPr/>
          <p:nvPr/>
        </p:nvSpPr>
        <p:spPr>
          <a:xfrm>
            <a:off x="5854680" y="3875040"/>
            <a:ext cx="3054240" cy="201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s for avoidable admissions by county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rates in dark blue,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rates in light blue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n Summary Table for more detail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E0AE-356F-4111-98BB-3992E8029D00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1"/>
          <a:srcRect l="0" t="10635" r="2281" b="14296"/>
          <a:stretch/>
        </p:blipFill>
        <p:spPr>
          <a:xfrm>
            <a:off x="380880" y="1476360"/>
            <a:ext cx="8134560" cy="46864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11360" y="388440"/>
            <a:ext cx="6999120" cy="7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tential Cost Savings –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ucing Preventable Admissions*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3367080" y="3321000"/>
            <a:ext cx="305424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avoidable admissions by county, including cost savings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ownload to Excel.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7221960" y="6148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279f"/>
                </a:solidFill>
                <a:latin typeface="Arial"/>
              </a:rPr>
              <a:t>* Synthetic data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A02D-93A0-444F-BE75-1B36C2F39786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5451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urce of Comparative Resul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UPn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measure rates by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igures for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onal figures for comparis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site: http://hcupnet.ahrq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D4A6-D5A9-4E34-9B20-372D52225C3F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6697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amples of Potential U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ing priorities and interven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linica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king and studying the impact of inter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ing in public reporting at various geographic lev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ing budgets for preventable hospitalization eff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8696160" y="6491160"/>
            <a:ext cx="4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696F-F215-4F4C-9428-826C856A8C88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19ED-4BF9-4E0D-9C88-15FE8C96DD8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02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pportunity for Improve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51814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ual national cost: $30B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issues of prevention, primary care, access, and care coord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duce avoidable hospitalizations, need to know detai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ypes of care have the most room for improvemen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MPj04387060000[1]"/>
          <p:cNvPicPr/>
          <p:nvPr/>
        </p:nvPicPr>
        <p:blipFill>
          <a:blip r:embed="rId1"/>
          <a:stretch/>
        </p:blipFill>
        <p:spPr>
          <a:xfrm>
            <a:off x="5562720" y="160020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8"/>
          <p:cNvSpPr/>
          <p:nvPr/>
        </p:nvSpPr>
        <p:spPr>
          <a:xfrm>
            <a:off x="380880" y="618804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a composite of the AHRQ Prevention Quality Indicators using 2006 data and dollars as reported in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ational Healthcare Quality Repor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2009).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97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30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mprovement toolkit is being developed to assist in reducing potentially avoidable hospitalizations as defined by the AHRQ P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ed release: Early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exploring adding analytic capacity at the ZIP Cod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ng remaining AHRQ Q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the course of the next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330760" y="64911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FABF-D39C-4728-BBB2-196E55C2526F}" type="slidenum"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C88E-F553-46E1-BF27-8D036E40B15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466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, all AHRQ Quality Indicators (QIs) are based on electronic hospital discharge data, which draw upon readily available data el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HRQ QIs examine c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ly:  Inpatient hospital se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rectly:  Hospital data as a window on the commun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ventable Hospitalization Costs and Mapping Tool measures quality of care at the area level, not the provider or hospit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76520" y="4572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uality Indicator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0AB-2EC8-42F8-A134-669CB8DD7DC9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14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7, AHRQ released the Preventable Hospitalization Costs and Mapping To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-level Q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ly avoidable costs for each area- level AHRQ Q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2009, AHRQ began updating, revising, and integrating the tool into MONAHRQ and it is no longer available as separat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C5E3-B1EF-40DF-B957-6E2D937A624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14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in Fun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45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eates map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show rates of hospital admission for selected health problems by count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lculates potential cost sav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may occur if hospital admissions for selected health problems are reduc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ou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A400-EC09-4B07-9AA7-29046569563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66214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st Calcul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74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are based on cost-to-charge ratios to reflect hospital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ble based on payer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are based on the time period of data used in th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most things in life, costs rise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s are only for the inpatient component of the b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flect the full cost of the discharge, the professional component needs to be ad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7248-DE3C-476B-97AB-381D6A06FC5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HRQ Prevention Quality Indicators (PQ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ronic Lung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5  Chronic Obstructive Pulmonary Disease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5  Adult Asthma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  Diabetes Short-Term Complications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3  Diabetes Long-Term Complications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4  Uncontrolled Diabetes Admission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QI 16  Lower Extremity Amputation Rate Among Diabetic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78AD-D47E-468B-9167-0648C9B7290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PQIs (cont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rt Cond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7  Hypertens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8  Congestive Heart Fail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3  Angina Without Procedure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 Cond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2  Perforated Appendix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9  Low Birth Weight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0  Dehydrat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1  Bacterial Pneumonia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QI 12  Urinary Tract Infection Admission 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B063-A097-42C3-8372-ED28F02CE2E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HRQ QIs in the Mapping Too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-Level AHRQ Inpatient Quality Indicators (IQ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6  Coronary Artery Bypass G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7  Percutaneous Transluminal Coronary Angioplas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8  Hysterect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QI 29  Laminectomy or Spinal 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6"/>
          <p:cNvSpPr/>
          <p:nvPr/>
        </p:nvSpPr>
        <p:spPr>
          <a:xfrm>
            <a:off x="6699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7:59:45Z</dcterms:created>
  <dc:creator>JDeLaMar</dc:creator>
  <dc:description/>
  <dc:language>en-US</dc:language>
  <cp:lastModifiedBy>tadele.yimam</cp:lastModifiedBy>
  <dcterms:modified xsi:type="dcterms:W3CDTF">2010-10-20T11:03:24Z</dcterms:modified>
  <cp:revision>256</cp:revision>
  <dc:subject/>
  <dc:title>Nine States Use AHRQ QIs for Public Hospital Reporting</dc:title>
</cp:coreProperties>
</file>