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5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1EACBB5-D80D-4CCD-8B8C-7A97515AA11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6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7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F96FE9B-CE14-410B-B115-30824709D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6EF4E64-715F-4BB6-B32C-09AE885130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D45F60C-15A3-4FB8-BB2D-2C79127CA1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BF87908-29CC-4B20-A966-1D17A6DB5B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D1BCFE4-F971-47C9-AF34-4D8828090E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51E4E2-38C2-4D27-B9A0-5781D1B1D7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Potentially Avoidable Hospitaliz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 shot of website with navigation bar on left and Image of website; shows website page title, State Health Care Information Portal; a navigation bar on the left; four additional portals; each contains a separate category, each with a picture, text and active link to a categ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points to Maps by County Showing Potentially Avoidable Hospitaliz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15823DC-8BFA-48D9-BD27-60D24219DC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C8FAFAF-E85B-4190-A980-BDB2923046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55E922-AA9E-4633-95AE-CB843254B7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Ambulatory care sensitive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box: Potentially Avoidable Hospitalization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’s Prevention Quality Indica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QIs – ambulatory care sensitive conditions) and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 shot of website with navigation bar on left and Image of website; shows website page with Prevention Quality Indicators and hyperlinks to specific categories of conditions such has hyperten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B1877AF-D31F-4ECD-A3B9-D31A72B3C5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F426738-33A4-4023-AC2A-062103B14A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6497CD-CA4C-4845-88EE-774FDEAF5C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Other area-level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box: … Area-level patient safety and procedure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 shot of website with navigation bar on left and Image of website; main page shows other area-level indicators and hyperlinks to specific se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D21AA8D-4D8F-4883-B0BC-FB060FD758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844D25B-272C-4E42-B4FC-36255BB900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29D3F4-967F-4054-BCA4-0D3A7EDBA9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ap of rates by county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box: Rates for avoidable admissions by county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rates in dark blu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rates in light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Summary Table for more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is a map of Maryland with color coded counties. Because data is synthetic, the rates will not be defi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ynthetic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2CCBEC7-7353-4D6F-8E7F-B1A7592157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0480AE5-DDBA-4291-811F-5B27882F58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6D1404-8672-4339-84FB-78C7A0BF3F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Potential cost savings – reducing preventable admissions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box: Details on avoidable admissions by county, including cost sav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ownload to Exc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shows data 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ynthetic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00A6EF3-3C38-4A79-A1D1-450FCEC36B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CD9C904-99AC-4A91-83BE-1F5F2C75C6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01352B4-E8B9-468D-BCC7-D64A99D1ED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728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319B-A411-4E5D-A266-FBA241C4A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4C07-A9E9-471F-B110-F644E91D7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59DB-00AE-4969-9535-9D7C3AD1D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0636-3126-4A0C-A63A-A9ED97C05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69429-0234-47B7-9B58-BB753F4544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AAE60-A953-40DC-9C5D-C5FCA24695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D498B-A71D-40ED-BB24-67B7F944D4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643E4-7EAA-4502-883C-988C1532C5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EE6CC-DC5D-4A9D-9603-35816A0FE7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8B16E-7FCC-4D22-8E95-E500EC771F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4A919-8D2E-475F-B1D0-7FA7E506CA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0C5F-DCAC-4DC0-8DA1-3AC8958B07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CFBED-FDEE-4EE1-873E-C83EA86D57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991DC-97A4-41EE-A450-8BBF88CF22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5A494-C59E-4D7A-B00F-9AA0DABF9E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AADE5-90BA-4C14-84BB-7151B7EC33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E3219-8DF9-46A7-ADE8-797A8E68BB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3655-5950-4FBA-8343-CDE57A5032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444-69D2-46C6-B1BA-F1BEC3CB84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4B3F-1791-4941-AAF4-C403A63958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2F88-EB0B-413C-A085-20D5B0038F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85A2-1854-41D7-B9E3-4454A8256C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3B2A9-3063-488C-86C7-71B9AA6138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1C9A-FECB-47C0-9C41-E064EFCA8C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B0FB-A11C-48EB-901A-92F5C8D931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F198-E608-4DAB-B53C-00831843ED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250E-B78D-4F3F-BF28-C621838CB4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2563-F12E-48B7-9F3A-79BB832A09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A3C-F944-43E8-859F-F2963232BA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C81-8892-423C-AB84-E327557520E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ADEA9-82B0-4095-B339-7FBAE7D9CBE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86F00-56B2-4B6F-8580-925B3C8A616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1F6F2-4932-4B8D-81E0-47A22F894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07A08-100F-4029-BEAE-1201A6B2A01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93AEF-D8BC-4347-AA63-6852428937F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0E124-B4A3-4C2F-BFDE-5B8E290F80C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6A788-F5F9-4C8A-BB05-71A85E11F4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51DB7-1AD2-45DB-AD8F-443A8B8EC3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DFBB7-C1D2-4DD3-A63A-5CD31E92A1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BCF64-627F-4BF0-A0CB-302CE26317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91ADB-3325-47CC-A3CB-E7FF2328EB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9268B-6A89-423A-9405-2FC443684DA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97F14-2707-4C78-BCCB-9E2838B11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007F-D80F-4136-8153-844C04D7E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AAE4-2877-4093-A52A-CB6A96B59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A316-3E1D-4FDA-B869-95C055E4A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3701E-53FA-4060-97F9-494310CE8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184A9-840C-42D0-A79A-50E1EBAA1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Object 7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3ABC-C9A2-4DB5-B0B6-93D5D9EE7B3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47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9" name="Object 7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87A1-1387-4D85-BDD1-E5C4B0F8599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89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91" name="Object 7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D6AB-3678-4D3C-8B7B-3499E5EB280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133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35" name="Object 7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4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11BE-AD41-4F81-8041-03CE76E10C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2437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eventable Hospitalization Costs and Mapping Too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7720" y="4495680"/>
            <a:ext cx="723924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Bo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er for Delivery, Organization, and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ly 21,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FB83-3A7E-4409-A12D-D100D6D24921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697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HRQ QIs in the Mapping Too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690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-Level AHRQ Patient Safety Indicators (P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 21  Foreign Body Left in During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 22  Iatrogenic Pneumothorax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 23  Central Line-Associated Bloodstream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 24  Postoperative Wound Dehisc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 25  Accidental Puncture or Lac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 26  Transfusion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 27  Postoperative Hemorrhage or Hemat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46"/>
          <p:cNvSpPr/>
          <p:nvPr/>
        </p:nvSpPr>
        <p:spPr>
          <a:xfrm>
            <a:off x="6699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9E04-5BD9-4A7B-BD55-7F9B416F978A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545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HRQ’s PQI Composites in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Mapping Too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all Compo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AHRQ PQ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 Care Compo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QI 10  Dehydration Admission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QI 11  Bacterial Pneumonia Admission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QI 12  Urinary Tract Infection Admission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1627-BD8F-4ACE-A4AE-45415F63A95D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545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HRQ’s PQI Composites in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Mapping Too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ronic Conditions Composi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1  Diabetes Short-Term Complications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3  Diabetes Long-Term Complications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5  Chronic Obstructive Pulmonary Disease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7  Hypertension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8  Congestive Heart Failure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9  Low Birth Weight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13  Angina Without Procedure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14  Uncontrolled Diabetes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15  Adult Asthma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16  Lower Extremity Amputation Rate Among Diabetic Pati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8" descr=""/>
          <p:cNvPicPr/>
          <p:nvPr/>
        </p:nvPicPr>
        <p:blipFill>
          <a:blip r:embed="rId1"/>
          <a:srcRect l="0" t="512" r="2048" b="0"/>
          <a:stretch/>
        </p:blipFill>
        <p:spPr>
          <a:xfrm>
            <a:off x="1152360" y="1432080"/>
            <a:ext cx="6886800" cy="52448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4688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otentially Avoidable Hospitaliza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Line 27"/>
          <p:cNvSpPr/>
          <p:nvPr/>
        </p:nvSpPr>
        <p:spPr>
          <a:xfrm flipH="1" flipV="1">
            <a:off x="3930480" y="5100120"/>
            <a:ext cx="285840" cy="390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8330760" y="64911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E9E5-CD9D-4F7F-A7F4-E3A01786D4FE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4688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mbulatory Care Sensitive Cond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 flipH="1" flipV="1">
            <a:off x="3133800" y="5117760"/>
            <a:ext cx="285840" cy="390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rcRect l="4104" t="846" r="20171" b="20290"/>
          <a:stretch/>
        </p:blipFill>
        <p:spPr>
          <a:xfrm>
            <a:off x="542880" y="1428840"/>
            <a:ext cx="6838920" cy="53416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8"/>
          <p:cNvSpPr/>
          <p:nvPr/>
        </p:nvSpPr>
        <p:spPr>
          <a:xfrm>
            <a:off x="4149720" y="3894120"/>
            <a:ext cx="47592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ly Avoidable Hospitalizations –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HRQ’s Prevention Quality Indicators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QIs – ambulatory care sensitive conditions) and …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8330760" y="64911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2B6A-1622-4025-AA7B-890E850CE391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6468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ther Area-Level Indicato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rcRect l="3351" t="2357" r="35780" b="31014"/>
          <a:stretch/>
        </p:blipFill>
        <p:spPr>
          <a:xfrm>
            <a:off x="638280" y="1428840"/>
            <a:ext cx="6448320" cy="52941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28"/>
          <p:cNvSpPr/>
          <p:nvPr/>
        </p:nvSpPr>
        <p:spPr>
          <a:xfrm>
            <a:off x="5383080" y="3481560"/>
            <a:ext cx="35118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a-level patient safety and procedure rate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8330760" y="64911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EDDF-2108-4391-8BA1-545E86845A90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52480" y="380880"/>
            <a:ext cx="639288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p of Rates by County*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7358400" y="632304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279f"/>
                </a:solidFill>
                <a:latin typeface="Arial"/>
              </a:rPr>
              <a:t>* Synthetic data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rcRect l="0" t="866" r="8356" b="2500"/>
          <a:stretch/>
        </p:blipFill>
        <p:spPr>
          <a:xfrm>
            <a:off x="676440" y="1514520"/>
            <a:ext cx="6715080" cy="5310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1"/>
          <p:cNvSpPr/>
          <p:nvPr/>
        </p:nvSpPr>
        <p:spPr>
          <a:xfrm>
            <a:off x="5854680" y="3875040"/>
            <a:ext cx="3054240" cy="2014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s for avoidable admissions by county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st rates in dark blue,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st rates in light blu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n Summary Table for more details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8330760" y="64911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1FE9-72BA-4C6D-A806-EC8F65DD3B22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"/>
          <p:cNvPicPr/>
          <p:nvPr/>
        </p:nvPicPr>
        <p:blipFill>
          <a:blip r:embed="rId1"/>
          <a:srcRect l="0" t="10635" r="2281" b="14296"/>
          <a:stretch/>
        </p:blipFill>
        <p:spPr>
          <a:xfrm>
            <a:off x="380880" y="1476360"/>
            <a:ext cx="8134560" cy="46864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11360" y="388440"/>
            <a:ext cx="6999120" cy="7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tential Cost Savings –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ducing Preventable Admissions*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3367080" y="3321000"/>
            <a:ext cx="3054240" cy="146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s on avoidable admissions by county, including cost savings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download to Excel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7221960" y="614844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279f"/>
                </a:solidFill>
                <a:latin typeface="Arial"/>
              </a:rPr>
              <a:t>* Synthetic data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330760" y="64911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9B01-3507-4683-9371-4B85104EC976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65451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urce of Comparative Resul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UPne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measure rates by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figures for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onal figures for comparison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the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w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site: http://hcupnet.ahrq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330760" y="64911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3369-EFBC-4CC6-9B1F-FB38AEC419F4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6697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xamples of Potential U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ing priorities and interven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clinical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ing and studying the impact of inter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best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ing in public reporting at various geographic lev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ing budgets for preventable hospitalization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8696160" y="6491160"/>
            <a:ext cx="4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01E2-A09E-465E-AC02-111E204AF1D1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7155-88D7-4D17-BADA-12E5DDFAD5AE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7002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pportunity for Improvemen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51814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ual national cost: $30B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esents issues of prevention, primary care, access, and care coord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duce avoidable hospitalizations, need to know detai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ypes of care have the most room for improveme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MPj04387060000[1]"/>
          <p:cNvPicPr/>
          <p:nvPr/>
        </p:nvPicPr>
        <p:blipFill>
          <a:blip r:embed="rId1"/>
          <a:stretch/>
        </p:blipFill>
        <p:spPr>
          <a:xfrm>
            <a:off x="5562720" y="1600200"/>
            <a:ext cx="3047760" cy="36576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8"/>
          <p:cNvSpPr/>
          <p:nvPr/>
        </p:nvSpPr>
        <p:spPr>
          <a:xfrm>
            <a:off x="380880" y="618804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d on a composite of the AHRQ Prevention Quality Indicators using 2006 data and dollars as reported in th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ational Healthcare Quality Repor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(2009).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66978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uture Work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mprovement toolkit is being developed to assist in reducing potentially avoidable hospitalizations as defined by the AHRQ PQ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cted release: Early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ly exploring adding analytic capacity at the ZIP Cod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ng remaining AHRQ Q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the course of the next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8330760" y="64911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38EE-A550-4949-8245-01CD6B8EE2D5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B700-913D-4B26-9DB5-673CDADCB6E0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8466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ly, all AHRQ Quality Indicators (QIs) are based on electronic hospital discharge data, which draw upon readily available data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HRQ QIs examine c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ly:  Inpatient hospital set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rectly:  Hospital data as a window on the commun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ventable Hospitalization Costs and Mapping Tool measures quality of care at the area level, not the provider or hospital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676520" y="4572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HRQ Quality Indicator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B721-080E-4C84-AF00-DD1220A5BF62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662148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2007, AHRQ released the Preventable Hospitalization Costs and Mapping Too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-level Q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ly avoidable costs for each area- level AHRQ Q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2009, AHRQ began updating, revising, and integrating the tool into MONAHRQ and it is no longer available as separate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9B31-FF86-4FDA-ADFB-DAA1393B21D8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662148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in Fun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453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reates map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show rates of hospital admission for selected health problems by count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lculates potential cost saving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may occur if hospital admissions for selected health problems are reduc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cou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w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96A4-131B-462E-9EC3-CF3A5353560F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662148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st Calcula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74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s are based on cost-to-charge ratios to reflect hospital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ble based on payer 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s are based on the time period of data used in th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 most things in life, costs rise over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s are only for the inpatient component of the b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reflect the full cost of the discharge, the professional component needs to be ad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16F5-3766-4FF5-B0E6-EC39D40C051B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697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HRQ QIs in the Mapping Too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690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AHRQ Prevention Quality Indicators (PQ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nic Lung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QI 5  Chronic Obstructive Pulmonary Disease Admission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QI 15  Adult Asthma Admission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QI 1  Diabetes Short-Term Complications Admission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QI 3  Diabetes Long-Term Complications Admission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QI 14  Uncontrolled Diabetes Admission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QI 16  Lower Extremity Amputation Rate Among Diabetic Pat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F130-A5D6-4C67-94B4-41B5EDFABAF0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697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HRQ QIs in the Mapping Tool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 PQIs (cont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art Condi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7  Hypertension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8  Congestive Heart Failure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13  Angina Without Procedure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ther Condi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2  Perforated Appendix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9  Low Birth Weight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10  Dehydration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11  Bacterial Pneumonia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12  Urinary Tract Infection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6C06-F47F-4FB1-BBD5-70BBF4542A29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697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HRQ QIs in the Mapping Too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6904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-Level AHRQ Inpatient Quality Indicators (IQ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QI 26  Coronary Artery Bypass Gra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QI 27  Percutaneous Transluminal Coronary Angioplas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QI 28  Hysterect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QI 29  Laminectomy or Spinal 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46"/>
          <p:cNvSpPr/>
          <p:nvPr/>
        </p:nvSpPr>
        <p:spPr>
          <a:xfrm>
            <a:off x="6699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7:59:45Z</dcterms:created>
  <dc:creator>JDeLaMar</dc:creator>
  <dc:description/>
  <dc:language>en-US</dc:language>
  <cp:lastModifiedBy>tadele.yimam</cp:lastModifiedBy>
  <dcterms:modified xsi:type="dcterms:W3CDTF">2010-10-20T11:03:24Z</dcterms:modified>
  <cp:revision>256</cp:revision>
  <dc:subject/>
  <dc:title>Nine States Use AHRQ QIs for Public Hospital Reporting</dc:title>
</cp:coreProperties>
</file>