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7008813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3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973320" y="-360"/>
            <a:ext cx="30366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7400" y="704520"/>
            <a:ext cx="4697280" cy="35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934560" y="4463640"/>
            <a:ext cx="5140440" cy="4227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0" y="892620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973320" y="8926200"/>
            <a:ext cx="30366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75ACCD15-6153-4C8C-81FC-6FD5855D4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7400" y="704880"/>
            <a:ext cx="4697280" cy="35226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4560" y="4463640"/>
            <a:ext cx="51404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3680" y="8926560"/>
            <a:ext cx="3036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FE2A3271-90B4-486B-AFC5-1487B5D27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E747-B7D0-4917-8581-69407DEE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715-038F-4020-A677-A056E8FB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74D-52FE-48D9-AD10-F2DEAE24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52D-4B5E-4399-821C-82917B38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C737-F237-44A1-B430-3903D2ED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AF57-F0D0-45F7-9267-F074787A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744D-CCAC-4E58-96C4-01DA1E83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C909-FCF8-4C79-8208-4EBF01F2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E606-9A34-40B4-828F-81AB113B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050C-984E-4669-8A23-04BB66E6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9EC6-B963-4366-8B64-2A7981FE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238-DB28-4BB2-B927-13D5F43C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822A-B87F-4E30-82E2-9B49D738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A88F-5FF7-40A2-9E25-1A2818ED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DCE2-0105-402A-9D11-03FF33C0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F16C-93F8-4A89-A670-49FB76E9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0F02-1C64-443F-A86E-63FD6AF4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0BD32-FD30-4E87-B741-C7E57619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CC9B9-2869-4152-A57A-4387ACA8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70F56-61B4-41A7-A877-33591640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439F-63E3-4394-A157-E953A24E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7EB62-551A-40A0-9572-2DF34148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709-9780-4705-B2E7-D640EDF3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BAAFF-9D65-4477-8C75-BAFAA20F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98DD-5D2F-4052-A2C0-58A1B17F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C12CA-A9E6-4F3E-A59D-B55161DD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3BDE0-B73E-41DA-8EAC-7607FFAC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70A00-664B-43F9-A53B-7D692958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62CB0-DC87-4C43-9565-538D66F6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FB2D9-A43B-4197-ADFF-8BBF1C9D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61F-8D8E-4DED-B597-A1A2261F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6993-10AC-4B4F-9830-6C83EECA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1B0-868F-44CC-A407-B2D8D359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0FB-B17A-40F0-8082-19E25CCA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1ADE-8426-4B6F-B92E-C38EA0E0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DE9-09B1-477A-9051-932D9963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505B-7480-41FB-B682-5B8321BE16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BAEF-01EF-48DF-9D59-8007B9E30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3FC7-13E1-41C2-8D70-3B2CBF496D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Pennsylvania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ademic Detailing Pro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28240" y="35049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marL="13716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RQ INNOVATIONS EXCHANGE WEB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37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13, 2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37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 Sned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Pennsylvania PAC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nedden@state.pa.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763120" y="639756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BFB0-65B9-46B2-AAD6-3EB4053B14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ducational Modu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x-2’s / NSA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 suppression 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platelet 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-lowering 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hypertension thera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of type 2 diabe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A550-62E1-44BB-8704-B053B13653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ducational Modu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s and Mo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Impair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nic obstructive pulmonary dise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tin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teoporo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omnia (plann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rial fibrillation (plann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te set of educational materials found at rxfacts.or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2966-AD48-415F-82B6-2BA90E107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Object 5" descr=""/>
          <p:cNvPicPr/>
          <p:nvPr/>
        </p:nvPicPr>
        <p:blipFill>
          <a:blip r:embed="rId1"/>
          <a:stretch/>
        </p:blipFill>
        <p:spPr>
          <a:xfrm>
            <a:off x="974880" y="1398600"/>
            <a:ext cx="71942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F927-8623-450C-88C8-4E1C486F3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ject 6" descr=""/>
          <p:cNvPicPr/>
          <p:nvPr/>
        </p:nvPicPr>
        <p:blipFill>
          <a:blip r:embed="rId1"/>
          <a:stretch/>
        </p:blipFill>
        <p:spPr>
          <a:xfrm>
            <a:off x="979560" y="1379520"/>
            <a:ext cx="71848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152280" y="228600"/>
          <a:ext cx="8458200" cy="5905440"/>
        </p:xfrm>
        <a:graphic>
          <a:graphicData uri="http://schemas.openxmlformats.org/drawingml/2006/table">
            <a:tbl>
              <a:tblPr/>
              <a:tblGrid>
                <a:gridCol w="6958080"/>
                <a:gridCol w="150012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ITEM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 = 106, MAY – NOV 200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± 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=Strongly disagree   2=Disagree   3=Neutral   4=Agree   5=Strongly 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gram provides me with useful information about commonly used medica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 ± 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ontent represents unbiased and balanced information about dru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 ± 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gram provides a perspective on prescribing that is different from what I get from other sour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 ± 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Drug Education Consultant is a well-informed source of evidence-based information about drugs I prescrib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 ± 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ind the patient materials useful in my practi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 ± 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ng able to get Continuing Medical Education credits from Harvard is a valuable component of the servi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± 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makes sense for the Commonwealth of Pennsylvania to devote resources to this activ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± 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uld like to see this program continu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 ± 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51"/>
          <p:cNvSpPr/>
          <p:nvPr/>
        </p:nvSpPr>
        <p:spPr>
          <a:xfrm>
            <a:off x="8686800" y="639756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2280" y="228600"/>
          <a:ext cx="8458200" cy="6545160"/>
        </p:xfrm>
        <a:graphic>
          <a:graphicData uri="http://schemas.openxmlformats.org/drawingml/2006/table">
            <a:tbl>
              <a:tblPr/>
              <a:tblGrid>
                <a:gridCol w="6958080"/>
                <a:gridCol w="1500120"/>
              </a:tblGrid>
              <a:tr h="72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ITEM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 = 180, OCT 2009 – SEP 20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± 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=Strongly disagree   2=Disagree   3=Neutral   4=Agree   5=Strongly 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gram provides me with useful information about commonly used medication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 ± 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ontent represents unbiased and balanced information about drug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 ± 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gram provides a perspective on prescribing that is different from what I get from other sour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 ± 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Drug Education Consultant is a well-informed source of evidence-based information about drugs I prescrib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 ± 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ind the patient materials useful in my practi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 ± 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ng able to get Continuing Medical Education credits from Harvard is a valuable component of the servi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± 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makes sense for the Commonwealth of Pennsylvania to devote resources to this activ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 ± 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ould like to see this program continu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 ± 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gram has provided me the information that will help me in the care of my pati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 ± 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51"/>
          <p:cNvSpPr/>
          <p:nvPr/>
        </p:nvSpPr>
        <p:spPr>
          <a:xfrm>
            <a:off x="8763120" y="64008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2"/>
          <p:cNvGraphicFramePr/>
          <p:nvPr/>
        </p:nvGraphicFramePr>
        <p:xfrm>
          <a:off x="63360" y="990720"/>
          <a:ext cx="9080640" cy="50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60" y="990720"/>
                    <a:ext cx="9080640" cy="50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3"/>
          <p:cNvSpPr/>
          <p:nvPr/>
        </p:nvSpPr>
        <p:spPr>
          <a:xfrm>
            <a:off x="609480" y="22860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457200" y="38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 ON DRUG UTILIZATION AFTER COX-2 / NSAID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876312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2450520" y="1797480"/>
            <a:ext cx="46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PPI COST SAVING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09480" y="2432160"/>
          <a:ext cx="8229600" cy="2454120"/>
        </p:xfrm>
        <a:graphic>
          <a:graphicData uri="http://schemas.openxmlformats.org/drawingml/2006/table">
            <a:tbl>
              <a:tblPr/>
              <a:tblGrid>
                <a:gridCol w="4191120"/>
                <a:gridCol w="1676520"/>
                <a:gridCol w="2361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ESCRIBING STRA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YSICI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-MO. PPI SAV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ery low (≤ 19 PPI scripts in past yea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$23,4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ow (20 – 40 scrip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$53,2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dium (41 – 75 scrip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$69,1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High (76+ scrip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$139,9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-mo. total, weighted by distrib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$285,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146"/>
          <p:cNvSpPr/>
          <p:nvPr/>
        </p:nvSpPr>
        <p:spPr>
          <a:xfrm>
            <a:off x="8763120" y="6400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7"/>
          <p:cNvSpPr/>
          <p:nvPr/>
        </p:nvSpPr>
        <p:spPr>
          <a:xfrm>
            <a:off x="762120" y="5867280"/>
            <a:ext cx="76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rxfacts.org/pdf/iDiS%20eval_PPI_2007%2010%2004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18:00:44Z</dcterms:created>
  <dc:creator>Information Systems</dc:creator>
  <dc:description/>
  <dc:language>en-US</dc:language>
  <cp:lastModifiedBy>DHHS</cp:lastModifiedBy>
  <dcterms:modified xsi:type="dcterms:W3CDTF">2010-12-28T23:47:02Z</dcterms:modified>
  <cp:revision>38</cp:revision>
  <dc:subject/>
  <dc:title>Program expectations</dc:title>
</cp:coreProperties>
</file>