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973320" y="-360"/>
            <a:ext cx="30366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7400" y="704520"/>
            <a:ext cx="469728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34560" y="4463640"/>
            <a:ext cx="5140440" cy="4227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973320" y="8926200"/>
            <a:ext cx="30366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D924151-7363-4F6D-8223-CC32ADF9A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7400" y="704880"/>
            <a:ext cx="4697280" cy="3522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63640"/>
            <a:ext cx="51404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3680" y="8926560"/>
            <a:ext cx="3036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D67C6FA-FF17-4389-A3D8-6AB70F94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4F6-24FF-420C-BCC9-0792AA8C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D6F-48DC-437D-843E-80E1692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B8D-C7C5-4B73-839E-BAB67922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14E-F8A9-4B9F-B826-4B53C584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4278-E45F-4EDF-AA68-8D985802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DA2-A9C0-4BAE-9980-06D0BEB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2F0-50EC-40DB-BF34-BB35A49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BD67-F33F-4F16-9621-44EF5BD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0966-B75C-4DAA-8254-FE5E7FC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417-02C3-41DB-AC02-500C4CE2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615-B7E4-43E9-8881-BEA4838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BE0-8FFC-4BC8-9310-CBD6B5E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82D-93F4-49A8-BC6A-27406C7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E31F-38D2-4FEF-AB0A-4DA2D2B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B78-D27E-4167-BBA0-ADA33CE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126A-0A4D-47DE-A551-E281698D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3AA-EB74-4047-B043-CF1FBBC7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67A8-A8A6-4AE6-9885-D4C42CD7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3382-FF34-4990-A216-EEE3132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723B-8FE8-44DC-A032-8073CD2F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6133-F1D3-4567-A792-D2F92B38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E37F-66A3-4A2A-BF89-0086DD58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8E4-A753-4732-8CE3-46B2C73C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DE6A-D4D4-480B-A6F1-A821E0D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720D-1A2D-48F0-99E2-FC759AC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B09E-23ED-46DB-B84A-5C22634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E89C-C962-4487-BE6A-4ED2F5B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DB02-BB7C-4CE5-8C5B-736E31F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187E-D84C-4913-9A10-61699A80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5B0F-907D-496D-884B-41576A34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52C-D584-445F-B0BF-C11B9BE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1E1-359A-4D8A-82E0-8830BF2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8BB-69E5-4ECD-AC61-9423F61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16D-71DF-40C1-9061-1A42EC0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6D1-FF11-4046-A7AD-6596D0C9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E61-38C9-4F72-8719-B39727A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CF3C-BB5D-4CEF-9D07-4DA9AA9F0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0AB-FE88-4F29-BFA7-58BED4C3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108-04C1-4DA9-914E-84EA7ECA15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ennsylvani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ademic Detailing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2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INNOVATIONS EXCHANGE WEB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3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Sned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Pennsylvania PAC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nedden@state.pa.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763120" y="63975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D6E-053C-46C0-99D6-B91660577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al Modu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x-2’s / NSA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suppression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latelet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-lowering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on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type 2 diabe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4172-C469-422E-BEAB-4898F3F73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al Modu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 and Mo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Impair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por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(plan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ial fibrillation (plan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te set of educational materials found at rxfacts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FE89-7397-4361-A371-74C59CDD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974880" y="1398600"/>
            <a:ext cx="7194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60B-40C6-4A07-A52A-4BD99CC0E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6" descr=""/>
          <p:cNvPicPr/>
          <p:nvPr/>
        </p:nvPicPr>
        <p:blipFill>
          <a:blip r:embed="rId1"/>
          <a:stretch/>
        </p:blipFill>
        <p:spPr>
          <a:xfrm>
            <a:off x="979560" y="1379520"/>
            <a:ext cx="71848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52280" y="228600"/>
          <a:ext cx="8458200" cy="5905440"/>
        </p:xfrm>
        <a:graphic>
          <a:graphicData uri="http://schemas.openxmlformats.org/drawingml/2006/table">
            <a:tbl>
              <a:tblPr/>
              <a:tblGrid>
                <a:gridCol w="6958080"/>
                <a:gridCol w="15001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ITE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 = 106, MAY – NOV 20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± 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=Strongly disagree   2=Disagree   3=Neutral   4=Agree   5=Strongly 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me with useful information about commonly used medic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ent represents unbiased and balanced information about dru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a perspective on prescribing that is different from what I get from other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rug Education Consultant is a well-informed source of evidence-based information about drugs I prescr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ind the patient materials useful in my pract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 ± 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able to get Continuing Medical Education credits from Harvard is a valuable component of the serv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±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akes sense for the Commonwealth of Pennsylvania to devote resources to this activ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uld like to see this program contin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51"/>
          <p:cNvSpPr/>
          <p:nvPr/>
        </p:nvSpPr>
        <p:spPr>
          <a:xfrm>
            <a:off x="8686800" y="63975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280" y="228600"/>
          <a:ext cx="8458200" cy="6545160"/>
        </p:xfrm>
        <a:graphic>
          <a:graphicData uri="http://schemas.openxmlformats.org/drawingml/2006/table">
            <a:tbl>
              <a:tblPr/>
              <a:tblGrid>
                <a:gridCol w="6958080"/>
                <a:gridCol w="1500120"/>
              </a:tblGrid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ITE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 = 180, OCT 2009 – SEP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± 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=Strongly disagree   2=Disagree   3=Neutral   4=Agree   5=Strongly 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me with useful information about commonly used medic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ent represents unbiased and balanced information about dru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a perspective on prescribing that is different from what I get from other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 ± 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rug Education Consultant is a well-informed source of evidence-based information about drugs I prescr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ind the patient materials useful in my pract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able to get Continuing Medical Education credits from Harvard is a valuable component of the serv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± 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akes sense for the Commonwealth of Pennsylvania to devote resources to this activ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uld like to see this program contin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has provided me the information that will help me in the care of my pati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51"/>
          <p:cNvSpPr/>
          <p:nvPr/>
        </p:nvSpPr>
        <p:spPr>
          <a:xfrm>
            <a:off x="8763120" y="6400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63360" y="990720"/>
          <a:ext cx="908064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990720"/>
                    <a:ext cx="908064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3"/>
          <p:cNvSpPr/>
          <p:nvPr/>
        </p:nvSpPr>
        <p:spPr>
          <a:xfrm>
            <a:off x="609480" y="228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N DRUG UTILIZATION AFTER COX-2 / NSAID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76312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450520" y="179748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PI COST SAVING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2432160"/>
          <a:ext cx="8229600" cy="2454120"/>
        </p:xfrm>
        <a:graphic>
          <a:graphicData uri="http://schemas.openxmlformats.org/drawingml/2006/table">
            <a:tbl>
              <a:tblPr/>
              <a:tblGrid>
                <a:gridCol w="4191120"/>
                <a:gridCol w="167652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SCRIBING STR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-MO. PPI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y low (≤ 19 PPI scripts in past 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23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w (20 – 40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53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(41 – 75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69,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(76+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139,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-mo. total, weighted by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285,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6"/>
          <p:cNvSpPr/>
          <p:nvPr/>
        </p:nvSpPr>
        <p:spPr>
          <a:xfrm>
            <a:off x="876312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7"/>
          <p:cNvSpPr/>
          <p:nvPr/>
        </p:nvSpPr>
        <p:spPr>
          <a:xfrm>
            <a:off x="762120" y="58672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rxfacts.org/pdf/iDiS%20eval_PPI_2007%2010%200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8:00:44Z</dcterms:created>
  <dc:creator>Information Systems</dc:creator>
  <dc:description/>
  <dc:language>en-US</dc:language>
  <cp:lastModifiedBy>DHHS</cp:lastModifiedBy>
  <dcterms:modified xsi:type="dcterms:W3CDTF">2010-12-28T23:47:02Z</dcterms:modified>
  <cp:revision>38</cp:revision>
  <dc:subject/>
  <dc:title>Program expectations</dc:title>
</cp:coreProperties>
</file>