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CAA1-C8AB-4502-9593-833C7623D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AE84-90B0-4E7C-8FB7-0521C29C5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799C-FE42-47D3-9401-22452632C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E01-0EED-477F-A5BD-3BAEC4E5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AF6-DCC6-41CA-8C99-69D6B6E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10E-D78B-4667-B36B-6AB2C945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C356-EB2D-468F-9E75-CED2BAF1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67F8-7E0E-4DD0-B1D4-1192BCEA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367A-A903-4708-A5C2-89FB7068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FA42-B21A-478F-82AA-CDC7BEDF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37BD-A6A6-4AD8-9FEA-3496BA3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7AD7-7D6C-4DD6-9697-FF23E7D9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127E-0EDF-47B8-94DC-0F7A9AA8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89D2-6342-4719-87F1-8AE690A3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0F6-5C93-4DD9-A8D1-057AB2BD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A504-D02F-48D5-8377-9E574F4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D31C-C00C-468B-BA93-4BB7FD21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376-377B-442A-8BF1-47B8465B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3F6D-8939-4C37-9DCD-8C340DFB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1795-D1B0-489C-B43F-0AFD7C3C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C4554-6A5A-45A7-808F-DEC1E8CC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578C-C609-4DC9-AE3C-4C37D23B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3923-2F59-4B26-BF57-385DEDDD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ECDE6-F502-4D8E-BAF3-CFC2ACF9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7B87-FDCD-4C2D-9494-B8EF08F5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7D9-1508-4458-8D05-A6130600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F5B7A-DF7A-4E46-9AF5-ACF93283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3744-CA9E-43C6-B6FE-16196090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8797-778F-4F45-84AE-DCDD11C0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7F296-D3B5-496A-A0B5-E3355D4D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B05F-CCE6-4660-95AA-5173B5A6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72DE2-6B61-415B-92A6-CE2DC4CC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1D81C-A427-4952-8D0A-E6DE0AEF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EE531-660F-40ED-8BCF-75DC5102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16118-F9BC-4012-B176-14CF7438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46E9-AD72-4DD5-91CE-76869FFE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BDF-7113-46AA-9F56-5DD3D6C2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A8C44-4446-4012-97D5-CA7E526A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85436-AAA5-4920-B35A-822FDB52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2ECE-6ED3-4664-8784-FCE545A8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B5DE-9BD7-416B-99F6-3071ECB7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0870-CE97-4E7C-A2C9-A2549F8F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71976-5583-410F-B27C-3645439D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4163-F26E-4815-AB96-0C32D4F9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F531-6FBD-4FC6-B54C-EF8B18C6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5FC55-D828-4055-A741-430A8E0C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168D5-2ADC-4540-879D-1A5B2F1B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904-495E-49C1-87DB-C5823672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C0706-3B52-448E-B66A-C663E542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B4E8-6C6F-4F57-84B9-91493931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1050C-463A-4572-9D3C-4B608F9F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30064-D504-4F15-BACB-67366C56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8977-0CEB-43E6-8978-BE06E75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DAA0A-A105-4370-A614-38CCC87B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1121-23A8-47F6-9E55-15216FEB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6F639-0C9E-4EA9-BF23-0CB2468B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E89E2-3567-4532-A22E-AF72314D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786BD-BAE7-4576-A6FD-13EE2B61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92D-97F5-4925-AF3C-93BD5379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BC66D-77D9-4B2B-8AC3-93D4778E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783F-CD1F-4B2C-A49C-0BDF249E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43B2F-BC56-49B6-87E3-97F3C8E4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5EE0-9D19-4D44-811A-8A180447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13422-CD96-4CCE-B00F-D1099643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3C433-D77D-48FB-B669-8984D87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9B260-377F-4060-B0C3-BF5136C7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B97DD-80E1-4535-A2CE-B328D64A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909FB-D511-48CC-9F3D-4F92A63C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52C1E-5306-42D8-948C-CAE68810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EA0-B4BE-432D-A712-72721F46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9EB04-A4FF-4F4B-8F35-CF5D6C3E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31949-7AAD-4EED-A387-324151FF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FFF6-F693-498A-803F-92A7D9EF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8DC51-B050-4F7C-9BE0-4951D72F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EFE36-16EE-4E03-8D80-217C44EF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68CB-0208-4F13-92F1-E746418C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056BB-9260-4136-B0E9-41F43176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EC14-795B-4BBF-8721-C295BD38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5C321-1355-47DA-BFEF-79484249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2E36C-F1CF-4961-B550-22059446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CEE-5E47-4DEF-AE0E-A86E037F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F29AA-423A-4952-9142-37BA070E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E7D2-CC13-40BB-A4E1-2FDFB80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686B-303E-484E-8BB9-CBB712E4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76CB0-3F21-42FA-BC11-73535DAB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C035C-BF9B-46FE-A309-AD658844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760B8-BAE8-42E1-92B5-C06B8AA9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86606-095E-4EE6-BCC8-BDFA58D7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2FFBE-ABEB-4F23-BD41-AED71044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88B35-6E37-42AF-9C67-02EAC732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B3765-92AF-4171-93F2-699806C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B03-0818-4C4B-8531-BB0DE81B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CED57-B8F4-4889-8858-C9508AF3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8AE0F-2C5B-424A-94FD-217C44DB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DD1B0-ECA6-4473-815D-0028C27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79975-3722-4EF4-B104-83E17F09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1B418-5008-4005-8890-171EF788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DF54D-E94F-4A5E-BA5F-A66BCF1A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95F6-65EC-47C2-ABA6-C5BDB161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4DAC-7325-4A47-B79B-EC2EBC13015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18F9-D604-4BC0-B68F-90014518C0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EA2-9733-4EF0-9EE0-F0CEAD54CD19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BE83-AAAE-4D87-9529-5201DB69C78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3FED-25AF-43A6-B38A-1B774A0D001A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FDC2-6F51-45D2-9F51-9549ABC2714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E6AF-2D2B-4A24-9C8D-674D07EA51B1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A2F2-056B-4ACC-9056-F143D98C9B6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71B3-5399-4397-979D-2429827FC1C7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F1E5-5B4D-4B89-B49B-DC83D488221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2381-EDB8-4FEB-8AD6-D7700F1F4113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2095-92C8-4735-847C-3E27AED1F5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7BCB-4AA6-42A7-BCE7-4630BECAFF55}" type="datetime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5DE2-FAC1-4963-9B40-91D30E76971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35D5-3B73-4102-932E-DBAF42900705}" type="datetime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Iowa Department of Public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CBD-CFDA-4418-9A79-415D4D43548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0" y="304920"/>
            <a:ext cx="8089920" cy="298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3657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dministrative Overhaul Improves Access to Substance Abuse Services for Iowa Pati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Footer Placeholder 3"/>
          <p:cNvSpPr/>
          <p:nvPr/>
        </p:nvSpPr>
        <p:spPr>
          <a:xfrm>
            <a:off x="4419720" y="6324480"/>
            <a:ext cx="4535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f0f4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8f0f4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airie Ridge receives Pathways to Recovery Grant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ate of Iowa – submitted application and chosen as one of 4 states to work on a State/Payor Pilot initiative in 200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ecca/UCS/SATUCI/Winterset/Magella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spcBef>
                <a:spcPts val="349"/>
              </a:spcBef>
              <a:buClr>
                <a:srgbClr val="da1f28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alkthrough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33520" indent="-5335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June 2006 – Iowa invited to be part of the Robert Wood Johnson Foundation “Cross Systems Financing” Projec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opulations:  co-occurring mental health/substance abus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rvices:  financing, training, and development of program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unding:  Medicaid and substance abuse block gran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8418240" cy="1000080"/>
          </a:xfrm>
          <a:prstGeom prst="rect">
            <a:avLst/>
          </a:prstGeom>
          <a:ln w="0">
            <a:noFill/>
          </a:ln>
        </p:spPr>
      </p:pic>
      <p:sp>
        <p:nvSpPr>
          <p:cNvPr id="382" name="Footer Placeholder 3"/>
          <p:cNvSpPr/>
          <p:nvPr/>
        </p:nvSpPr>
        <p:spPr>
          <a:xfrm>
            <a:off x="5105520" y="6019920"/>
            <a:ext cx="403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cess Improvement Project for all Block Grant funded (now 24)  Substance Abuse Provider agencies in Iow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rove State and treatment agency level organization proces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mprove client access to and retention in outpatient treat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74040" cy="102420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ommunities of Commitment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ystem Transform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Whole System Chang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dvance a recovery-oriented system of care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IATx-SI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Recovery Oriented System of Ca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ay for Performanc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Gambl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reven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eer Mentoring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NIATx- Business Applic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Assist 65% of Iowa block grant providers to implement contracting with third parties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755640" y="304920"/>
            <a:ext cx="8388360" cy="1158840"/>
          </a:xfrm>
          <a:prstGeom prst="rect">
            <a:avLst/>
          </a:prstGeom>
          <a:ln w="0">
            <a:noFill/>
          </a:ln>
        </p:spPr>
      </p:pic>
      <p:sp>
        <p:nvSpPr>
          <p:cNvPr id="388" name="Footer Placeholder 3"/>
          <p:cNvSpPr/>
          <p:nvPr/>
        </p:nvSpPr>
        <p:spPr>
          <a:xfrm>
            <a:off x="4379760" y="6408720"/>
            <a:ext cx="476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0" y="10666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ificant improvements: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62.4% reduction in wait time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12.5% increase in services to clients in the first 30 day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e program improved fee-for-service revenue over 62%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DPH aligne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reatment, prevention and gambling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oal - System Transition to a Recovery-Oriented System of Care compatible with healthcare reform by 2014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3584520" y="152280"/>
            <a:ext cx="8467920" cy="7812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3"/>
          <p:cNvSpPr/>
          <p:nvPr/>
        </p:nvSpPr>
        <p:spPr>
          <a:xfrm>
            <a:off x="4572000" y="649296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DeAnn De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Lucida Sans Unicode"/>
              </a:rPr>
              <a:t>Iowa Department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6:49:58Z</dcterms:created>
  <dc:creator>ddecker</dc:creator>
  <dc:description/>
  <dc:language>en-US</dc:language>
  <cp:lastModifiedBy>DHHS</cp:lastModifiedBy>
  <dcterms:modified xsi:type="dcterms:W3CDTF">2010-12-28T23:32:03Z</dcterms:modified>
  <cp:revision>18</cp:revision>
  <dc:subject/>
  <dc:title>AHRQ Health Care</dc:title>
</cp:coreProperties>
</file>