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CD91-33DE-46C3-A0C0-C4E36A9DF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298C-2B9E-49C2-86C0-2CE043CA8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A088-6D52-4BFF-94A2-29DE84213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03E-2DE1-46BD-98A1-74F04424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3E6-94ED-4332-8ACE-049CADC7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01F-AEFC-4144-95C8-E35457F2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61E-426B-4FA6-A160-E56631B8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426F-DDFB-4AAA-8D57-C16245CF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B642-17FE-4336-91C5-12A087B0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5475-5335-4006-B8BC-C21762CF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AEF0-A6CA-4911-8716-5C9DE51D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B9BD-B01E-41F9-84AA-0228EDAA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B7F4-A54E-48D7-8F42-0EC8A59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3F9D-BE7D-4977-8291-3D74977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71A-6471-4693-983D-7782B44E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E3A7-7202-4229-8ADE-EC082A1D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2E9-3C2C-450E-A461-671049E6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A9E0-77E4-4F80-8FD4-86CC0732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1D89-B463-4EA9-AA80-BD3CEAB1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322-3785-4955-98B2-109ECBED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FB9AF-8CA2-4F56-A065-2EF75DB0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7EA6-881E-4601-9313-4F084AF1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C532-5504-46F1-8770-52C47024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60AC-384A-4009-B7AC-3C2BE428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F6C4-2B63-4B77-9902-49ABFF54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301-6FDE-4806-86DA-C0FA25FD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46EF-C3E0-4494-BB7E-BC308591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2B02-19F7-4F43-8FD1-E8DAF59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9108-444E-44F9-85B2-D7366AE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DEB0-2FED-434A-9F35-CC717EC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2447-FA2C-4B30-9C38-BBB43A49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F99C-1822-4AF8-97ED-69247F4A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90AA-7AD4-4166-89FE-5E689165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BEE8-1DDD-46A4-B964-030771F9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7E923-3CC0-4B9F-BDB2-C451E144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ACA8-9063-4219-A118-6296CFA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682-5C97-4760-9798-11D21771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FE92-48CC-4F74-9E59-923687A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9702-9349-49CF-8F47-9873979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BA07-9DB0-4CA7-B6FD-F0D70C5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B0BD-D3F6-41A3-9659-06B5EBF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7D5A-F48B-4D24-B1EC-3DAE9BB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A08B-9AD4-41A4-866A-B9D562E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580D-90B5-4174-A2D3-131B56BD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4B7B-A3CF-4028-BF81-376A9FE7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F2C3-7204-439D-A6C4-3D68E178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B704E-BE55-44BD-994D-EE1EEC20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87F-7A75-49E6-A559-A8EAA2E4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B687D-09BA-48B1-B2DE-94CBBE3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06BE-CEC3-4F09-9136-C8A4A618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C491-32FA-4906-82FF-46C241B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683C-6E1C-48A3-BB63-9CD03560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E9B3-5746-40E2-A8AF-04C0EF90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E4C49-08DD-4869-B980-925A4CB7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D644-EF1D-4469-8C4E-A0F3CE1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4F0A-9BEC-47F3-ADAB-C1598DE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3A9EB-93CF-4DE2-A49E-00E36B0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9D8F-3F1B-4789-BE5E-96A9C010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61A-D693-43E7-BA27-F9DC4C3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6FF8-44B6-4A31-8AB0-BE8F7F8B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1CFBB-7721-4F5D-A456-CF15951C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AA689-AC6C-481B-86D4-54B0EE7F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67BD7-D5ED-4CBB-9733-A2FB012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7911-F076-4104-866C-EE41FB7C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EF43-E114-44F5-8534-3CD5BB0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56E22-7104-4400-909C-7B953D56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95253-0721-429B-919A-5698D17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82D4-4DBD-45DC-8F39-6675D6D7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71D8-1EC1-43FE-BD7D-AA2EDCD3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5D1-B1ED-474B-A6B1-F6002391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A5E80-1EC9-4FC7-A298-2B643935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E243-B7A8-44BC-B0D4-4A533270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19D55-25E2-4BB8-8FB0-0BA417E9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FA45-69F8-4F6E-A458-9A7F2391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6315-9909-4FF8-B261-7972FD27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9C33-24E1-402D-828C-59D817B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05CD9-6857-4679-B151-992FA055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90CBC-44BE-4A47-802E-3F36F24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BFE06-46FB-4723-B1DD-ADE1DA4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8767-F068-4FFE-9672-ECF99AD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0FD-9B7E-4CD2-8E9B-9D808C9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ED59-AFC7-4158-99CE-DC26745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FE29-2605-486A-8E47-21B7CB01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DF9B-A95E-4E67-A501-12FBBD2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76500-760E-431A-BB28-A1F5BBC4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10448-910E-41EF-8C8C-C9B5928B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B0386-49CE-4784-A87C-70D603B9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7883-B814-4CD0-9308-FE8B0D66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B7B67-CCEB-4B2F-BF1B-8830258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67DCD-F608-493D-BDC3-D7D5C914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8D5EA-A42E-454A-82EB-DEF39BB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283-12FA-424B-B904-C50577E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D3161-72BF-4F85-BD21-66856E3C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43C3C-65FD-4E78-BF96-83996946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F7B09-129B-4F99-B59F-426576E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56AA-EC1B-4A8A-9291-E1039EE1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E3A9-C467-457A-A964-472C4F25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1D5EA-8300-4245-A512-64BE8C2A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C06F1-352C-4960-A9F2-75FF07DB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D26-D9DF-495C-BE73-E6418CD6AC4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6F03-EFE4-4C93-8148-3DD0A2FB1D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8076-6766-4568-B19C-8CEE68750CE1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B4B8-C96D-4580-A4F7-EF10204407C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84EF-E65A-42EA-A1C7-574074A6C48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C04-952C-401E-B3DE-A817F44D24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8BBA-41E8-483D-A5CB-ECA963A1DC9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4FD-2634-4B23-BD21-4F6EC446A2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C285-830D-4EF5-9C5A-A1E58CA7F65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A535-1CBE-4BDF-B44C-7C50175E98F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5DB0-6B0D-4A84-A3A8-1399B4867FC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9240-22B7-48FF-869B-1F7D147B3E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ACEF-5F74-483F-AEA9-B1D2255EC8E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0E83-65A8-4A0B-9BEC-6233CBEB7DE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D4F-26EB-474D-8368-69F744D6D891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3344-129D-48B1-AABD-0DB852C3752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0" y="304920"/>
            <a:ext cx="8089920" cy="298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3657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dministrative Overhaul Improves Access to Substance Abuse Services for Iowa Pati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4419720" y="6324480"/>
            <a:ext cx="453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f0f4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f0f4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airie Ridge receives Pathways to Recovery Gran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ate of Iowa – submitted application and chosen as one of 4 states to work on a State/Payor Pilot initiative in 200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cca/UCS/SATUCI/Winterset/Magell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alkthrough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June 2006 – Iowa invited to be part of the Robert Wood Johnson Foundation “Cross Systems Financing” Proje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opulations:  co-occurring mental health/substance abu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rvices:  financing, training, and development of progra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unding:  Medicaid and substance abuse block gra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841824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Footer Placeholder 3"/>
          <p:cNvSpPr/>
          <p:nvPr/>
        </p:nvSpPr>
        <p:spPr>
          <a:xfrm>
            <a:off x="5105520" y="60199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cess Improvement Project for all Block Grant funded (now 24)  Substance Abuse Provider agencies in Iow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rove State and treatment agency level organization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rove client access to and retention in outpatient treat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74040" cy="102420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mmunities of Commitme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ystem Transform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hole System Chang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dvance a recovery-oriented system of car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IATx-S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ecovery Oriented System of Ca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y for Performanc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Gambl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eer Mentor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IATx- Business Appl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ssist 65% of Iowa block grant providers to implement contracting with third parties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755640" y="304920"/>
            <a:ext cx="838836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10666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ificant improvements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62.4% reduction in wait tim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2.5% increase in services to clients in the first 30 day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e program improved fee-for-service revenue over 62%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DPH align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eatment, prevention and gambling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oal - System Transition to a Recovery-Oriented System of Care compatible with healthcare reform by 201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3584520" y="152280"/>
            <a:ext cx="8467920" cy="7812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3"/>
          <p:cNvSpPr/>
          <p:nvPr/>
        </p:nvSpPr>
        <p:spPr>
          <a:xfrm>
            <a:off x="4572000" y="649296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6:49:58Z</dcterms:created>
  <dc:creator>ddecker</dc:creator>
  <dc:description/>
  <dc:language>en-US</dc:language>
  <cp:lastModifiedBy>DHHS</cp:lastModifiedBy>
  <dcterms:modified xsi:type="dcterms:W3CDTF">2010-12-28T23:32:03Z</dcterms:modified>
  <cp:revision>18</cp:revision>
  <dc:subject/>
  <dc:title>AHRQ Health Care</dc:title>
</cp:coreProperties>
</file>