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288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160" y="3826080"/>
            <a:ext cx="921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16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25780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50400" y="16765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768000" y="16765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160" y="38260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650400" y="38260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768000" y="38260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85480"/>
            <a:ext cx="86868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16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25780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160" y="3826080"/>
            <a:ext cx="921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160" y="3826080"/>
            <a:ext cx="921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3316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5780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50400" y="16765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768000" y="16765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33160" y="38260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50400" y="38260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768000" y="38260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85480"/>
            <a:ext cx="86868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257800" y="38260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57800" y="16765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26080"/>
            <a:ext cx="9219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91600" y="5819760"/>
            <a:ext cx="1666440" cy="782280"/>
            <a:chOff x="8391600" y="5819760"/>
            <a:chExt cx="1666440" cy="782280"/>
          </a:xfrm>
        </p:grpSpPr>
        <p:sp>
          <p:nvSpPr>
            <p:cNvPr id="1" name=""/>
            <p:cNvSpPr/>
            <p:nvPr/>
          </p:nvSpPr>
          <p:spPr>
            <a:xfrm>
              <a:off x="8551440" y="5819760"/>
              <a:ext cx="1321200" cy="57744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867160" y="6219360"/>
              <a:ext cx="393840" cy="34956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442720" y="6122880"/>
              <a:ext cx="458640" cy="44604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63320" y="6243480"/>
              <a:ext cx="164520" cy="313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524440" y="6299280"/>
              <a:ext cx="170280" cy="4356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91600" y="6505920"/>
              <a:ext cx="182160" cy="6768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252000" y="6219360"/>
              <a:ext cx="368280" cy="352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785160" y="6421320"/>
              <a:ext cx="272880" cy="18072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605160" y="6194880"/>
              <a:ext cx="419760" cy="39636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381880" y="6110280"/>
            <a:ext cx="1667160" cy="479520"/>
            <a:chOff x="8381880" y="6110280"/>
            <a:chExt cx="1667160" cy="479520"/>
          </a:xfrm>
        </p:grpSpPr>
        <p:sp>
          <p:nvSpPr>
            <p:cNvPr id="11" name=""/>
            <p:cNvSpPr/>
            <p:nvPr/>
          </p:nvSpPr>
          <p:spPr>
            <a:xfrm>
              <a:off x="8858160" y="6207120"/>
              <a:ext cx="393840" cy="3492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32640" y="6110280"/>
              <a:ext cx="459000" cy="44604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553600" y="6230880"/>
              <a:ext cx="164880" cy="3168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515440" y="6286680"/>
              <a:ext cx="169920" cy="442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81880" y="6492960"/>
              <a:ext cx="182520" cy="6804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42280" y="6207120"/>
              <a:ext cx="368280" cy="35244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775800" y="6408720"/>
              <a:ext cx="273240" cy="1810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596520" y="6183360"/>
              <a:ext cx="419040" cy="39528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"/>
          <p:cNvSpPr/>
          <p:nvPr/>
        </p:nvSpPr>
        <p:spPr>
          <a:xfrm>
            <a:off x="8542440" y="5807160"/>
            <a:ext cx="1320840" cy="57780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7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258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" name="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23" name="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59080" y="198360"/>
            <a:ext cx="3560040" cy="1671120"/>
            <a:chOff x="3259080" y="198360"/>
            <a:chExt cx="3560040" cy="1671120"/>
          </a:xfrm>
        </p:grpSpPr>
        <p:sp>
          <p:nvSpPr>
            <p:cNvPr id="63" name=""/>
            <p:cNvSpPr/>
            <p:nvPr/>
          </p:nvSpPr>
          <p:spPr>
            <a:xfrm>
              <a:off x="3600360" y="198360"/>
              <a:ext cx="2822400" cy="123300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74640" y="1051920"/>
              <a:ext cx="841680" cy="7470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68520" y="846000"/>
              <a:ext cx="979920" cy="95292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25920" y="1103760"/>
              <a:ext cx="351720" cy="6696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42760" y="1222560"/>
              <a:ext cx="363960" cy="932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59080" y="1663560"/>
              <a:ext cx="389520" cy="1443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96880" y="1051920"/>
              <a:ext cx="786960" cy="75348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35560" y="1483200"/>
              <a:ext cx="583560" cy="3862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51800" y="1000080"/>
              <a:ext cx="896400" cy="8467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0017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581280" y="171360"/>
            <a:ext cx="2820960" cy="123372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238560" y="819000"/>
            <a:ext cx="3559680" cy="1023120"/>
            <a:chOff x="3238560" y="819000"/>
            <a:chExt cx="3559680" cy="1023120"/>
          </a:xfrm>
        </p:grpSpPr>
        <p:sp>
          <p:nvSpPr>
            <p:cNvPr id="74" name=""/>
            <p:cNvSpPr/>
            <p:nvPr/>
          </p:nvSpPr>
          <p:spPr>
            <a:xfrm>
              <a:off x="4255560" y="1025640"/>
              <a:ext cx="840960" cy="7452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46920" y="819000"/>
              <a:ext cx="979920" cy="95220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05040" y="1076400"/>
              <a:ext cx="352080" cy="673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23680" y="1195560"/>
              <a:ext cx="362520" cy="9432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38560" y="1635840"/>
              <a:ext cx="389520" cy="14508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76000" y="1025640"/>
              <a:ext cx="786240" cy="7524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15040" y="1455840"/>
              <a:ext cx="583200" cy="3862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32360" y="974880"/>
              <a:ext cx="894600" cy="84384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91c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0" y="2876400"/>
            <a:ext cx="8985240" cy="19080"/>
            <a:chOff x="0" y="2876400"/>
            <a:chExt cx="8985240" cy="19080"/>
          </a:xfrm>
        </p:grpSpPr>
        <p:sp>
          <p:nvSpPr>
            <p:cNvPr id="83" name=""/>
            <p:cNvSpPr/>
            <p:nvPr/>
          </p:nvSpPr>
          <p:spPr>
            <a:xfrm>
              <a:off x="6480" y="289548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287640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520" y="32004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scal Year (FY) 200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udget Reque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2286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tract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igible for Redu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4640" indent="-404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-based Practice Centers = $3.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Guideline Clearinghouse = $1.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ed Delivery System Research  Networks = $1.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4640" indent="-40464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Quality Measures             Clearinghouse = $2.1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search Coordination Counci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92199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spcBef>
                <a:spcPts val="1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d October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1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ired by Bobby Jindal, Assistant Secretary for Planning and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1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: improved integration and coordination of research throughout the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spcBef>
                <a:spcPts val="1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:  All Agencies and Staff Offices that conduct or sponsor research demonstration, or evaluation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2749680"/>
            <a:ext cx="2698920" cy="67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1378080"/>
            <a:ext cx="2698920" cy="67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48520" y="1752480"/>
            <a:ext cx="0" cy="14479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2080" y="2514600"/>
            <a:ext cx="4064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752480"/>
            <a:ext cx="4698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3048120"/>
            <a:ext cx="0" cy="99036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5480" y="4114800"/>
            <a:ext cx="83311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380880"/>
            <a:ext cx="9835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gency for Healthcare Research and Qua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0280" y="4140360"/>
            <a:ext cx="0" cy="2538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00480" y="4140360"/>
            <a:ext cx="0" cy="2538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29280" y="4140360"/>
            <a:ext cx="0" cy="2538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5440" y="4140360"/>
            <a:ext cx="0" cy="2538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81960" y="4140360"/>
            <a:ext cx="0" cy="2538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82160" y="4140360"/>
            <a:ext cx="0" cy="25380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08720" y="4632480"/>
            <a:ext cx="17748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425840"/>
            <a:ext cx="1450800" cy="15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73280" y="4425840"/>
            <a:ext cx="1511640" cy="15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08400" y="4425840"/>
            <a:ext cx="1511640" cy="15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9800" y="4419720"/>
            <a:ext cx="1511280" cy="1528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18320" y="4425840"/>
            <a:ext cx="1587600" cy="15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9040" y="4425840"/>
            <a:ext cx="1511280" cy="15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1280" y="4648320"/>
            <a:ext cx="1168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Cost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Financ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4648320"/>
            <a:ext cx="1600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Organiz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and Deli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Stud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78320" y="4645080"/>
            <a:ext cx="1539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Effective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93800" y="4654440"/>
            <a:ext cx="11566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Prim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C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2040" y="4572000"/>
            <a:ext cx="1424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Pract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Assess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47240" y="4603680"/>
            <a:ext cx="1785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Improvement an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Arial"/>
              </a:rPr>
              <a:t>Patient Safe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75120" y="1835280"/>
            <a:ext cx="20448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23520" y="2120760"/>
            <a:ext cx="15516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Office of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Direct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1371600"/>
            <a:ext cx="27748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2743200"/>
            <a:ext cx="277524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6880" y="1467000"/>
            <a:ext cx="17359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14141"/>
                </a:solidFill>
                <a:latin typeface="Arial"/>
              </a:rPr>
              <a:t>Managemen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8720" y="1447920"/>
            <a:ext cx="2629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Research Review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Education, and Poli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13040" y="2819520"/>
            <a:ext cx="1611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Health C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3200400"/>
            <a:ext cx="4698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5880" y="2730600"/>
            <a:ext cx="244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Priority Populati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14141"/>
                </a:solidFill>
                <a:latin typeface="Arial"/>
              </a:rPr>
              <a:t>Researc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2514600"/>
            <a:ext cx="4064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1828800"/>
            <a:ext cx="0" cy="14479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1828800"/>
            <a:ext cx="380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11480" y="3276720"/>
            <a:ext cx="4698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Y 2003 Reque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Y 2003 request = $251,700,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10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of $48,659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spcBef>
                <a:spcPts val="10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6.2%, from the FY 2002 level of $300,359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472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Y 1990 - FY 2003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ppropriation Histor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llar in Mill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9600" y="1798560"/>
          <a:ext cx="881676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798560"/>
                    <a:ext cx="881676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" name=""/>
          <p:cNvGrpSpPr/>
          <p:nvPr/>
        </p:nvGrpSpPr>
        <p:grpSpPr>
          <a:xfrm>
            <a:off x="8381880" y="6110280"/>
            <a:ext cx="1667160" cy="479520"/>
            <a:chOff x="8381880" y="6110280"/>
            <a:chExt cx="1667160" cy="479520"/>
          </a:xfrm>
        </p:grpSpPr>
        <p:sp>
          <p:nvSpPr>
            <p:cNvPr id="131" name=""/>
            <p:cNvSpPr/>
            <p:nvPr/>
          </p:nvSpPr>
          <p:spPr>
            <a:xfrm>
              <a:off x="8858160" y="6207120"/>
              <a:ext cx="393840" cy="3492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32640" y="6110280"/>
              <a:ext cx="459000" cy="44604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553600" y="6230880"/>
              <a:ext cx="164880" cy="3168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515440" y="6286680"/>
              <a:ext cx="169920" cy="442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1880" y="6492960"/>
              <a:ext cx="182520" cy="6804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42280" y="6207120"/>
              <a:ext cx="368280" cy="35244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775800" y="6408720"/>
              <a:ext cx="273240" cy="1810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596520" y="6183360"/>
              <a:ext cx="419040" cy="39528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8542440" y="5807160"/>
            <a:ext cx="1320840" cy="57780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Y 2003 Total Reques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ortion Earmarked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16120" y="1157400"/>
          <a:ext cx="545436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1157400"/>
                    <a:ext cx="545436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1482840" y="2514600"/>
            <a:ext cx="14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59.6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4191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92.1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2514600"/>
            <a:ext cx="3886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marked=Fully funded i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protected=Require some reduction to commit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Y 2003 Reques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armarked Compon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safety increases by $5 million to $60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PS (Medical Expenditure Panel Surve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reports on quality and dispa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P (Translating Research Into Practi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UP (Healthcare Cost and Utilization Proje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HP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®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Assessment of Health Pla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sion of Current Population Surv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Impact of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osed Earmark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proposed budget is enacted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w grants or cont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6% cut in existing 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1% cut in existing con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s of Grant Program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ligible for Redu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9219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spcBef>
                <a:spcPts val="5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vestigator-initiated Research = $32.4 Mill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5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BRNs (Primary Care Practice-Based Research Networks) = $2.0 Mill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5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ERTs (Centers for Education and Research on Therapeutics)= $3.4 Mill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5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ealthcare Markets &amp; Managed Care = $2.7 Mill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5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XCEED (Excellence Centers To Eliminate Ethnic/Racial Disparities)= $6.0 Mill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5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orking Conditions - $3.8 Mill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5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mestic Violence = $1.1 Mill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5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-RISP (Minority Research Infrastructure Support Program)- $2.2 Mill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spcBef>
                <a:spcPts val="55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 (Career Development) Awards - $2.6 Mill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3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s of New Grants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533520" y="1698480"/>
          <a:ext cx="921996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98480"/>
                    <a:ext cx="921996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e"/>
            </a:gs>
            <a:gs pos="100000">
              <a:srgbClr val="0076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s of New Large Grants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Excluding Patient Safety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1676520"/>
          <a:ext cx="975348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97534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"/>
          <p:cNvGrpSpPr/>
          <p:nvPr/>
        </p:nvGrpSpPr>
        <p:grpSpPr>
          <a:xfrm>
            <a:off x="8381880" y="6110280"/>
            <a:ext cx="1667160" cy="479520"/>
            <a:chOff x="8381880" y="6110280"/>
            <a:chExt cx="1667160" cy="479520"/>
          </a:xfrm>
        </p:grpSpPr>
        <p:sp>
          <p:nvSpPr>
            <p:cNvPr id="159" name=""/>
            <p:cNvSpPr/>
            <p:nvPr/>
          </p:nvSpPr>
          <p:spPr>
            <a:xfrm>
              <a:off x="8858160" y="6207120"/>
              <a:ext cx="393840" cy="34920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432640" y="6110280"/>
              <a:ext cx="459000" cy="44604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553600" y="6230880"/>
              <a:ext cx="164880" cy="3168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515440" y="6286680"/>
              <a:ext cx="169920" cy="4428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1880" y="6492960"/>
              <a:ext cx="182520" cy="6804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242280" y="6207120"/>
              <a:ext cx="368280" cy="35244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775800" y="6408720"/>
              <a:ext cx="273240" cy="1810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596520" y="6183360"/>
              <a:ext cx="419040" cy="39528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542440" y="5807160"/>
            <a:ext cx="1320840" cy="57780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Lisa Simpson</dc:creator>
  <dc:description>2/6/02</dc:description>
  <cp:keywords>budget</cp:keywords>
  <dc:language>en-US</dc:language>
  <cp:lastModifiedBy>AHRQ</cp:lastModifiedBy>
  <cp:lastPrinted>2002-03-04T17:13:18Z</cp:lastPrinted>
  <dcterms:modified xsi:type="dcterms:W3CDTF">2002-03-04T19:08:44Z</dcterms:modified>
  <cp:revision>218</cp:revision>
  <dc:subject/>
  <dc:title>All Hands Meeting FY 03 Budget Request</dc:title>
</cp:coreProperties>
</file>