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5E7-8F0D-4031-8EE1-F15B9152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ABB-9795-4161-AC89-AF993E5C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453-7AB0-4835-8C08-41657849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0A8-CCA6-4F9A-9A9D-38607F7E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B3A8-C8C0-4C50-B9B1-6E1C4D47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B573-B533-4621-BE4C-C3FA22F4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29D-91FE-452D-906D-AD2E75DA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42B-4718-4865-9F65-B6CF286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4880-1C3E-4F2E-BF95-C7522F7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093-231F-490C-8AAA-AA8355FC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FC90-B4C9-4CDC-B05D-659E90E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FFE-E772-44E2-95C2-51042D1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30A1-E92C-4001-B71D-70787F1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C7BA-1D23-42CA-AB29-146B15D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AF2F-B6A4-4B24-A37D-8B41CB60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8788-7D17-4E25-8A22-2F33CA2E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0A8C-5242-43B7-A7F4-1FB8A1B2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EC1-4DB9-4094-B788-A0817C2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BF5-B81B-413B-AC85-0086A29E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F41-7A7F-4C9A-9FD7-DF32EC01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4C0-837A-4F45-AD88-3F11B83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2C6-DE1A-407C-92FB-E07577B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D53-C7C2-46D1-8A7D-65EA9FA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852-C03B-4E97-8A08-45F52D1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4B6-F420-4E20-A41E-C7FD78170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F6C9-5074-44A0-B6D1-473AA9881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Designing and Implementing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Pay-for-Performance Programs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Ongoing Challeng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y J. Young, J.D., Ph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ston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ation for AHRQ Annual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ssion on How Pay-for-Performance Fits with a Value Agen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tember 28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ncial support from Agency for Healthcare Research and Quality; Robert Wood Johnson Found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0A5D-22C5-49ED-B032-CDDE76332C6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Qual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ians generally comfortable with standardized measures such as HEDIS and HQ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Outcomes vs. Process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Specialists and Non-Acute 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2CE-D91A-4FF7-B114-FA4B63DFAF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vider Capabilit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rs reveal anxiety about capabilities to perform well on quality mea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Hospitals with well developed Q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rastructure appeared to have a distin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in BCBSM P4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limited provider capability, one-time performance gains may be comm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In some situations, learning goal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possibly precede performance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01B-379C-48F7-9BA1-7144F11EDB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228600"/>
          <a:ext cx="8305920" cy="59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30592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6E1-F0C6-4A28-B7F4-E091C063217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th program sponsors and providers are divided on many issues regarding incentive structur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Attainment vs. Improvemen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Bonus only vs. Penalties (e.g.,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thhold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67E-4713-41F6-A2AD-2271CDB4D3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ata Systems and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easuremen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s have strong concerns about data reliability and valid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Claims vs. Charts (appe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/reserve fun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mall Numbers (composite sc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-payer initiati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074-2884-4B60-803E-D6416E6AF3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6480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Unintended Con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hysician surveys revea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 majo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rns about U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udies outside health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int to negative impact on inno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P4P in safety net settings may p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que ris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0FD-4138-4ABC-9FF6-3D4462274A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ding Com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4P can lead to gains in clinical quality, but the magnitude of the gains may be quite modest and time-limited, particularly without substantial improvements in provider infrastructure for quality measurement and improve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sicians do appear comfortable with P4P as a concept, but have certain concerns with the way P4P programs have been designed and implemen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sponsors face many daunting challenges in designing and implementing progra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3A3-CE67-41BC-A902-EAE0766B04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ffff"/>
                </a:solidFill>
                <a:latin typeface="Tahoma"/>
              </a:rPr>
              <a:t>P4P: Will it Work?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nt evidence points to modest gains from P4P in terms of provider adher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ed Finding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senthal et al. (2006) Relative increase of 3.6 percentage points for cervical cancer scree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vin-Scherz et al. (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e increase of 2-19 percentage points for diabetes meas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denauer et a. (2007) CMS Premier demonstration: Relative increase of 2.6 percentage points for AMI measures; 3.4 points for pneumonia measures; 4.1 points for heart failure measur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oung et al. (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bsolute increase of 7 percentage points for diabetes measure (e.g., eye ex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A1A-194A-4EA5-9F9E-2B0779A7C0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Key Challenge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Engag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of Accoun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Cap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ystems and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ntended Conseq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457-BB5A-41D5-93BB-5C7FF29B2E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0"/>
            <a:ext cx="8763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porting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85800"/>
            <a:ext cx="839016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7 Demonstration Sites – Rewarding Resul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rveys of Physicians (over 4000 surveyed; approximately 1500 respons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rviews with over 60 Senior Manag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f Physician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cus Groups with Providers and Pay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te Visits to Provider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ndings of Other Researc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A45-A706-48F7-A818-C2D583E35A9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hysicians appear comfortable with the concept of P4P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ong preference fo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entives linked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qualit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tilization or productiv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635-10CD-4F0C-B0C7-6882670C32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79440" y="844560"/>
          <a:ext cx="8286840" cy="57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844560"/>
                    <a:ext cx="8286840" cy="57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650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080" y="10800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C71-DDD2-433E-AE91-53204E4C208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80880" y="838080"/>
          <a:ext cx="830592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838080"/>
                    <a:ext cx="8305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265-254D-4298-83C7-772D89ADF0E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hysicians do not appear to have a strong understanding of the P4P programs in which they participat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ventional forms of communicating w/ providers appear inadequate (very Low physician survey scores regarding understanding of program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ny physicians appear to feel disenfranchis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hysician involvement in program design can help secure buy-in (e.g., selection/modification of measur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F80-DD87-4475-9666-103DA3CEA1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 of Account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sors face difficult choices and possible tradeoffs between selecting individuals versus organiz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ystems engineering vs. physici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t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timulating investment in Q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rastructure vs. enhanc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ment of front-line provi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927-2A30-4B21-AA34-4DFD29B4F7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2:42:33Z</dcterms:created>
  <dc:creator>BUMC</dc:creator>
  <dc:description/>
  <dc:language>en-US</dc:language>
  <cp:lastModifiedBy>User</cp:lastModifiedBy>
  <dcterms:modified xsi:type="dcterms:W3CDTF">2007-09-28T17:40:21Z</dcterms:modified>
  <cp:revision>72</cp:revision>
  <dc:subject/>
  <dc:title>Designing and Implementing Pay-for-Performance Programs:  Issues and Research</dc:title>
</cp:coreProperties>
</file>