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49DD-422B-4CBB-A14D-6910704F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698-D1A7-43B7-818A-3C54E200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AFD-E4EB-4A9F-A101-401080E7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E86F-83EE-4C6D-A274-E4AE3A5F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27E7-9B25-49ED-87F0-CABFCF4A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7229-AE92-4D9A-AB11-27FEDB60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E94A-A0D7-4300-9192-98E1207D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F14C-39A0-4CDA-AE00-FFF779F1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30C2-A452-4B3C-9FC6-B24D7C17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C19F-F59A-4AFE-8FE3-4930BEC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CF18-AF69-4CE9-9DBF-B4DA0FE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898-1A76-4FB0-AF19-FFEE45D0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FAE7-0E72-41A0-8447-55A2644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A723-E753-430E-94B2-BE49669A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3A9C-53F8-4853-81BD-5769B3F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9199-287A-4FFB-895F-35A740558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800D-8686-447A-953C-0DE8099C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410-FC97-4F38-85D8-4AC4028E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29B-F15F-4DFD-9BAE-ACD0958C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707D-E4DB-45DD-9D38-D5A26F7E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05D-0AC7-4C85-8AC2-509F94D4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E7B-6705-4C4F-9217-DB4D554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1B2-6B28-46DB-B6D5-2BCDBB04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A6F-06EA-4ACB-B522-0781795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569-543D-4401-9177-A5EE95D06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789E-A755-4624-A8BC-73B932361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Designing and Implementing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Pay-for-Performance Programs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Ongoing Challeng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y J. Young, J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ton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ation for AHRQ Annual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ssion on How Pay-for-Performance Fits with a Value Agen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ial support from Agency for Healthcare Research and Quality; Robert Wood Johnson Foun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F2C7-8B35-409F-8958-68CBFEB97C7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al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generally comfortable with standardized measures such as HEDIS and HQ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Outcomes vs. Process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Specialists and Non-Acute 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558-436A-45A3-81CD-F5584E19DDE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vider Capabili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reveal anxiety about capabilities to perform well on quality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Hospitals with well developed Q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rastructure appeared to have a distin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n BCBSM P4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limited provider capability, one-time performance gains may be comm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In some situations, learning goal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possibly precede performanc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537-3101-4A88-A070-951C2870F7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228600"/>
          <a:ext cx="830592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30592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D97-3BF8-48CF-9773-2FCBC01C25F6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th program sponsors and providers are divided on many issues regarding incentive structur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Attainment vs. Improvem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Bonus only vs. Penalties (e.g.,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hol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4AE-B3E1-425B-BE4F-DC614DF4B8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ata Systems and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easuremen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s have strong concerns about data reliability and valid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Claims vs. Charts (appe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/reserve fu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mall Numbers (composite sc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-payer initiati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B13-FD48-4D03-9557-7C829ACB87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480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nintended Con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ysician surveys revea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 maj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rns about U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udies outside health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int to negative impact on inno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P4P in safety net settings may p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que ri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63C8-4813-42FB-87C3-8077CE85C26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ding Com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4P can lead to gains in clinical quality, but the magnitude of the gains may be quite modest and time-limited, particularly without substantial improvements in provider infrastructure for quality measurement and improve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s do appear comfortable with P4P as a concept, but have certain concerns with the way P4P programs have been designed and implemen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sponsors face many daunting challenges in designing and implementing progra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C78-8E18-490D-9F91-5DD8E072C28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ffff"/>
                </a:solidFill>
                <a:latin typeface="Tahoma"/>
              </a:rPr>
              <a:t>P4P: Will it Work?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ed Finding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senthal et al. (2006) Relative increase of 3.6 percentage points for cervical cancer scree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vin-Scherz et al.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e increase of 2-19 percentage points for diabetes meas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ng et al.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bsolute increase of 7 percentage points for diabetes measure (e.g., eye ex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7B4-B492-403E-9045-60C6FBC393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Key Challeng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Eng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f Accoun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Cap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ystems and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ntended Con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0EC5-32A7-4A63-828F-8583C32F5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0"/>
            <a:ext cx="8763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85800"/>
            <a:ext cx="83901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 Demonstration Sites – Rewarding 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rveys of Physicians (over 4000 surveyed; approximately 1500 respon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views with over 60 Senior Mana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Physician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cus Groups with Providers and Pay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te Visits to Provid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dings of Other Resear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93D-F941-4BE9-9C3C-C4D3E36A7E3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ysicians appear comfortable with the concept of P4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ong preference fo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entives linked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quali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tion or produc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D8F-379E-4CF4-8412-48EB45B31C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79440" y="844560"/>
          <a:ext cx="8286840" cy="57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844560"/>
                    <a:ext cx="828684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650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080" y="10800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3DF-023E-4D8A-A560-ACE1DB944E5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838080"/>
          <a:ext cx="83059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838080"/>
                    <a:ext cx="8305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DA3-7F66-429F-AF65-C8673304EA1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cians do not appear to have a strong understanding of the P4P programs in which they particip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ventional forms of communicating w/ providers appear inadequate (very Low physician survey scores regarding understanding of program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y physicians appear to feel disenfranchis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hysician involvement in program design can help secure buy-in (e.g., selection/modification of measu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30C-C896-4DDF-94D0-66959BBC86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of Accoun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sors face difficult choices and possible tradeoffs between selecting individuals versus organiz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ystems engineering vs. physici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timulating investment in Q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rastructure vs. enhan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ment of front-line provi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2DD1-8B7C-4C49-9A9F-688CE2698F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2:42:33Z</dcterms:created>
  <dc:creator>BUMC</dc:creator>
  <dc:description/>
  <dc:language>en-US</dc:language>
  <cp:lastModifiedBy>User</cp:lastModifiedBy>
  <dcterms:modified xsi:type="dcterms:W3CDTF">2007-09-28T17:40:21Z</dcterms:modified>
  <cp:revision>72</cp:revision>
  <dc:subject/>
  <dc:title>Designing and Implementing Pay-for-Performance Programs:  Issues and Research</dc:title>
</cp:coreProperties>
</file>