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wmf" ContentType="image/x-wmf"/>
  <Override PartName="/ppt/media/image19.jpeg" ContentType="image/jpeg"/>
  <Override PartName="/ppt/media/image1.jpeg" ContentType="image/jpeg"/>
  <Override PartName="/ppt/media/image10.png" ContentType="image/png"/>
  <Override PartName="/ppt/media/image16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20.wmf" ContentType="image/x-wmf"/>
  <Override PartName="/ppt/media/image14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637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63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84400" y="-36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020600" y="723600"/>
            <a:ext cx="4819680" cy="361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ce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c0ced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578120"/>
            <a:ext cx="5029200" cy="4335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-360" y="915300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84400" y="915300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0047542E-7C61-44C4-838F-881E67D73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3884400" y="915300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383B0E64-04D7-43A8-9479-35C6203BF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915300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-36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884400" y="-36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22400" y="723960"/>
            <a:ext cx="4816440" cy="36129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579560"/>
            <a:ext cx="548928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4400" y="915300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fld id="{CED69407-F350-465F-B842-BD18E7C8B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915300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-36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4400" y="-360"/>
            <a:ext cx="2973240" cy="484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01916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578120"/>
            <a:ext cx="5029200" cy="43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025640" y="727200"/>
            <a:ext cx="4813200" cy="36097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578120"/>
            <a:ext cx="5029200" cy="5059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One research study looked at the infection rate of infants before and after they were moved to private rooms.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0A42-BA3D-4DAB-87BE-E3DF33F07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8123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520" y="4164480"/>
            <a:ext cx="8123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4E9EF-E0BE-4BEB-AA1E-1F7D806F2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20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520" y="416448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8200" y="416448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8766-D67A-41EC-BDF6-9C3B68E22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1960" y="193356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08760" y="193356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5520" y="416448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1960" y="416448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08760" y="416448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D3E7-FD62-473A-89F9-4430E6877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15520" y="1933560"/>
            <a:ext cx="81234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81234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39639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8200" y="1933560"/>
            <a:ext cx="39639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7040" y="515520"/>
            <a:ext cx="809928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33560"/>
            <a:ext cx="39639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520" y="416448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5520" y="1933560"/>
            <a:ext cx="81234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5E528-9912-45FC-8188-553FE1AED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39639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8200" y="416448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520" y="4164480"/>
            <a:ext cx="8123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8123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520" y="4164480"/>
            <a:ext cx="8123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5520" y="416448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8200" y="416448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61960" y="193356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08760" y="193356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520" y="416448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61960" y="416448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08760" y="4164480"/>
            <a:ext cx="2615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81234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6347-3AC5-41ED-8BA3-EF5BF995E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39639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8200" y="1933560"/>
            <a:ext cx="39639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614CF-D702-4B71-8CDC-685EFCA79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A60F-A9AB-4F77-B69E-58C8B8151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27040" y="515520"/>
            <a:ext cx="8099280" cy="41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9BE3-B2E1-46BF-A826-6AFA71E07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200" y="1933560"/>
            <a:ext cx="39639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5520" y="416448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CC74-806F-46C2-8ABE-1F9213E70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396396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8200" y="416448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2A3A-7773-4033-A0CA-F7FA72511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552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933560"/>
            <a:ext cx="396396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520" y="4164480"/>
            <a:ext cx="81234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8CE53-28B8-489D-ADD9-947037591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7040" y="515520"/>
            <a:ext cx="809928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0cec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520" y="1933560"/>
            <a:ext cx="81234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0c0cec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6280" indent="-289080">
              <a:lnSpc>
                <a:spcPct val="105000"/>
              </a:lnSpc>
              <a:buClr>
                <a:srgbClr val="ea0000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6240" indent="-228600">
              <a:lnSpc>
                <a:spcPct val="105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5000"/>
              </a:lnSpc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5000"/>
              </a:lnSpc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5000"/>
              </a:lnSpc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5000"/>
              </a:lnSpc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675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A4E5-7F33-4A38-9FE3-1375584AA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9800" y="609480"/>
            <a:ext cx="8204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c0ce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c0ce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91760" y="1980720"/>
            <a:ext cx="817092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5000"/>
              </a:lnSpc>
              <a:spcBef>
                <a:spcPts val="799"/>
              </a:spcBef>
              <a:buClr>
                <a:srgbClr val="0c0ced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8720" indent="-285840">
              <a:lnSpc>
                <a:spcPct val="105000"/>
              </a:lnSpc>
              <a:spcBef>
                <a:spcPts val="799"/>
              </a:spcBef>
              <a:buClr>
                <a:srgbClr val="ea0000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4720" indent="-226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44600" y="1855800"/>
            <a:ext cx="64911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ec"/>
                </a:solidFill>
                <a:latin typeface="Comic Sans MS"/>
              </a:rPr>
              <a:t> </a:t>
            </a:r>
            <a:r>
              <a:rPr b="0" lang="en-US" sz="1000" spc="-1" strike="noStrike">
                <a:solidFill>
                  <a:srgbClr val="0c0cec"/>
                </a:solidFill>
                <a:latin typeface="Comic Sans MS"/>
              </a:rPr>
              <a:t>    </a:t>
            </a:r>
            <a:r>
              <a:rPr b="1" lang="en-US" sz="3600" spc="-1" strike="noStrike">
                <a:solidFill>
                  <a:srgbClr val="0c0cec"/>
                </a:solidFill>
                <a:latin typeface="Verdana"/>
              </a:rPr>
              <a:t>Evidence-Based Design for Safety and Qua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2603520" y="4522680"/>
            <a:ext cx="3968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oger S. Ulrich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5010120"/>
            <a:ext cx="536436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nter for Health Systems and Desig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leges of Architecture and Medic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as A&amp;M Univers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rcRect l="12948" t="9124" r="8632" b="0"/>
          <a:stretch/>
        </p:blipFill>
        <p:spPr>
          <a:xfrm>
            <a:off x="379260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09760" y="1835280"/>
            <a:ext cx="30938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c0ced"/>
              </a:buClr>
              <a:buSzPct val="90000"/>
              <a:buFont typeface="Verdana"/>
              <a:buChar char="•"/>
              <a:tabLst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ks and ge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penser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cated close t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 work pa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8210520" y="4478400"/>
            <a:ext cx="204840" cy="195120"/>
          </a:xfrm>
          <a:prstGeom prst="octagon">
            <a:avLst>
              <a:gd name="adj" fmla="val 29287"/>
            </a:avLst>
          </a:pr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4043520" y="4492800"/>
            <a:ext cx="204480" cy="195120"/>
          </a:xfrm>
          <a:prstGeom prst="octagon">
            <a:avLst>
              <a:gd name="adj" fmla="val 29287"/>
            </a:avLst>
          </a:pr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6396120" y="1957320"/>
            <a:ext cx="204840" cy="195480"/>
          </a:xfrm>
          <a:prstGeom prst="octagon">
            <a:avLst>
              <a:gd name="adj" fmla="val 29287"/>
            </a:avLst>
          </a:pr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>
            <a:off x="6035760" y="264960"/>
            <a:ext cx="411120" cy="3049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8039880" y="2642400"/>
            <a:ext cx="411120" cy="304560"/>
          </a:xfrm>
          <a:prstGeom prst="rect">
            <a:avLst/>
          </a:prstGeom>
          <a:solidFill>
            <a:srgbClr val="0000ff"/>
          </a:soli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4186080" y="2415960"/>
            <a:ext cx="411120" cy="335160"/>
          </a:xfrm>
          <a:prstGeom prst="rect">
            <a:avLst/>
          </a:prstGeom>
          <a:solidFill>
            <a:srgbClr val="0000ff"/>
          </a:soli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8250120" y="2941560"/>
            <a:ext cx="204840" cy="195480"/>
          </a:xfrm>
          <a:prstGeom prst="octagon">
            <a:avLst>
              <a:gd name="adj" fmla="val 29287"/>
            </a:avLst>
          </a:pr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4224240" y="2208240"/>
            <a:ext cx="204840" cy="195120"/>
          </a:xfrm>
          <a:prstGeom prst="octagon">
            <a:avLst>
              <a:gd name="adj" fmla="val 29287"/>
            </a:avLst>
          </a:pr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6418440" y="243000"/>
            <a:ext cx="204480" cy="195120"/>
          </a:xfrm>
          <a:prstGeom prst="octagon">
            <a:avLst>
              <a:gd name="adj" fmla="val 29287"/>
            </a:avLst>
          </a:pr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394160" y="2406600"/>
            <a:ext cx="1811520" cy="1540080"/>
          </a:xfrm>
          <a:prstGeom prst="line">
            <a:avLst/>
          </a:prstGeom>
          <a:ln w="50760">
            <a:solidFill>
              <a:srgbClr val="00cc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6232680" y="2398680"/>
            <a:ext cx="1819080" cy="1546200"/>
          </a:xfrm>
          <a:prstGeom prst="line">
            <a:avLst/>
          </a:prstGeom>
          <a:ln w="50760">
            <a:solidFill>
              <a:srgbClr val="00cc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5702400" y="6053040"/>
            <a:ext cx="382320" cy="3412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5619600" y="6188040"/>
            <a:ext cx="204840" cy="195120"/>
          </a:xfrm>
          <a:prstGeom prst="octagon">
            <a:avLst>
              <a:gd name="adj" fmla="val 29287"/>
            </a:avLst>
          </a:pr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6010200" y="1792440"/>
            <a:ext cx="401760" cy="606240"/>
          </a:xfrm>
          <a:prstGeom prst="ellipse">
            <a:avLst/>
          </a:prstGeom>
          <a:solidFill>
            <a:srgbClr val="3fffff">
              <a:alpha val="86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5869080" y="1814400"/>
            <a:ext cx="169920" cy="16848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5686560" y="1793880"/>
            <a:ext cx="169560" cy="16812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502240" y="1798560"/>
            <a:ext cx="169920" cy="16848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7000" y="1866960"/>
            <a:ext cx="169920" cy="16812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5210280" y="1989000"/>
            <a:ext cx="169920" cy="16848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5106960" y="2136600"/>
            <a:ext cx="169920" cy="16848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014800" y="2308320"/>
            <a:ext cx="169920" cy="16812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4943520" y="2479680"/>
            <a:ext cx="169920" cy="16812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4873680" y="2649600"/>
            <a:ext cx="169920" cy="16812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820960"/>
            <a:ext cx="169920" cy="16848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4738680" y="2992320"/>
            <a:ext cx="169920" cy="16848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4667400" y="3160800"/>
            <a:ext cx="169560" cy="16812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4597560" y="3330720"/>
            <a:ext cx="169560" cy="16812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4522680" y="3495600"/>
            <a:ext cx="169920" cy="168480"/>
          </a:xfrm>
          <a:prstGeom prst="ellipse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4506840" y="2205000"/>
            <a:ext cx="682560" cy="520560"/>
          </a:xfrm>
          <a:prstGeom prst="line">
            <a:avLst/>
          </a:prstGeom>
          <a:ln w="63360">
            <a:solidFill>
              <a:srgbClr val="00cc00"/>
            </a:solidFill>
            <a:prstDash val="sysDot"/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399960" y="635040"/>
            <a:ext cx="334008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beb"/>
                </a:solidFill>
                <a:latin typeface="Verdana"/>
              </a:rPr>
              <a:t>New Intensive Care 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739800" y="4473720"/>
            <a:ext cx="411120" cy="3142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849240" y="4106880"/>
            <a:ext cx="204840" cy="195120"/>
          </a:xfrm>
          <a:prstGeom prst="octagon">
            <a:avLst>
              <a:gd name="adj" fmla="val 29287"/>
            </a:avLst>
          </a:pr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>
            <a:off x="1257480" y="3936960"/>
            <a:ext cx="23526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l dispens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552600" y="3848040"/>
            <a:ext cx="2827080" cy="105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514440" y="5211720"/>
            <a:ext cx="3068640" cy="11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. Joseph’s Medical Center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ryan, T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ef"/>
                </a:solidFill>
                <a:latin typeface="Comic Sans MS"/>
              </a:rPr>
              <a:t>Design: WHR Archite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5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9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1322280" y="811080"/>
          <a:ext cx="7804080" cy="59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2280" y="811080"/>
                    <a:ext cx="7804080" cy="59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1314360" y="5541840"/>
            <a:ext cx="71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"/>
          <p:cNvSpPr/>
          <p:nvPr/>
        </p:nvSpPr>
        <p:spPr>
          <a:xfrm>
            <a:off x="1177920" y="717480"/>
            <a:ext cx="9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1181160" y="1506600"/>
            <a:ext cx="9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1181160" y="2316240"/>
            <a:ext cx="9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1171440" y="3135240"/>
            <a:ext cx="9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1162080" y="3944880"/>
            <a:ext cx="9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1143000" y="4745160"/>
            <a:ext cx="9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598840" y="3611520"/>
            <a:ext cx="960480" cy="2154240"/>
          </a:xfrm>
          <a:prstGeom prst="rect">
            <a:avLst/>
          </a:prstGeom>
          <a:solidFill>
            <a:srgbClr val="b43c00"/>
          </a:solidFill>
          <a:ln w="0">
            <a:noFill/>
          </a:ln>
          <a:effectLst>
            <a:outerShdw dist="153753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4751280" y="2752560"/>
            <a:ext cx="960480" cy="3013200"/>
          </a:xfrm>
          <a:prstGeom prst="rect">
            <a:avLst/>
          </a:prstGeom>
          <a:solidFill>
            <a:srgbClr val="6dd9ff"/>
          </a:solidFill>
          <a:ln w="0">
            <a:noFill/>
          </a:ln>
          <a:effectLst>
            <a:outerShdw dist="153753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6905520" y="2000160"/>
            <a:ext cx="960480" cy="3768840"/>
          </a:xfrm>
          <a:prstGeom prst="rect">
            <a:avLst/>
          </a:prstGeom>
          <a:solidFill>
            <a:srgbClr val="0c0cee"/>
          </a:solidFill>
          <a:ln w="0">
            <a:noFill/>
          </a:ln>
          <a:effectLst>
            <a:outerShdw dist="153753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2633760" y="5165640"/>
            <a:ext cx="9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7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4791240" y="5186520"/>
            <a:ext cx="9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38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"/>
          <p:cNvSpPr/>
          <p:nvPr/>
        </p:nvSpPr>
        <p:spPr>
          <a:xfrm>
            <a:off x="6937200" y="5187960"/>
            <a:ext cx="9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7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565440" y="2730600"/>
            <a:ext cx="1163880" cy="868320"/>
          </a:xfrm>
          <a:prstGeom prst="line">
            <a:avLst/>
          </a:prstGeom>
          <a:ln w="41400">
            <a:solidFill>
              <a:srgbClr val="e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5654520" y="2629080"/>
            <a:ext cx="13082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c0000"/>
                </a:solidFill>
                <a:latin typeface="Verdana"/>
                <a:ea typeface="宋体"/>
              </a:rPr>
              <a:t>  </a:t>
            </a:r>
            <a:r>
              <a:rPr b="1" lang="en-US" sz="2000" spc="-1" strike="noStrike">
                <a:solidFill>
                  <a:srgbClr val="ec0000"/>
                </a:solidFill>
                <a:latin typeface="Verdana"/>
                <a:ea typeface="宋体"/>
              </a:rPr>
              <a:t>28%</a:t>
            </a:r>
            <a:r>
              <a:rPr b="1" lang="en-US" sz="1800" spc="-1" strike="noStrike">
                <a:solidFill>
                  <a:srgbClr val="ec0000"/>
                </a:solidFill>
                <a:latin typeface="Verdana"/>
                <a:ea typeface="宋体"/>
              </a:rPr>
              <a:t> increas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719680" y="2014560"/>
            <a:ext cx="1184400" cy="738000"/>
          </a:xfrm>
          <a:prstGeom prst="line">
            <a:avLst/>
          </a:prstGeom>
          <a:ln w="41400">
            <a:solidFill>
              <a:srgbClr val="e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"/>
          <p:cNvSpPr/>
          <p:nvPr/>
        </p:nvSpPr>
        <p:spPr>
          <a:xfrm>
            <a:off x="3444840" y="3433680"/>
            <a:ext cx="14367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c0000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ec0000"/>
                </a:solidFill>
                <a:latin typeface="Verdana"/>
              </a:rPr>
              <a:t>42%</a:t>
            </a:r>
            <a:r>
              <a:rPr b="1" lang="en-US" sz="1800" spc="-1" strike="noStrike">
                <a:solidFill>
                  <a:srgbClr val="ec0000"/>
                </a:solidFill>
                <a:latin typeface="Verdana"/>
              </a:rPr>
              <a:t> incre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"/>
          <p:cNvSpPr/>
          <p:nvPr/>
        </p:nvSpPr>
        <p:spPr>
          <a:xfrm rot="184200">
            <a:off x="3111120" y="1707840"/>
            <a:ext cx="4084560" cy="1992240"/>
          </a:xfrm>
          <a:custGeom>
            <a:avLst/>
            <a:gdLst/>
            <a:ahLst/>
            <a:rect l="l" t="t" r="r" b="b"/>
            <a:pathLst>
              <a:path w="1758" h="756">
                <a:moveTo>
                  <a:pt x="0" y="756"/>
                </a:moveTo>
                <a:cubicBezTo>
                  <a:pt x="192" y="522"/>
                  <a:pt x="385" y="288"/>
                  <a:pt x="678" y="162"/>
                </a:cubicBezTo>
                <a:cubicBezTo>
                  <a:pt x="971" y="36"/>
                  <a:pt x="1598" y="9"/>
                  <a:pt x="1758" y="0"/>
                </a:cubicBezTo>
              </a:path>
            </a:pathLst>
          </a:custGeom>
          <a:noFill/>
          <a:ln w="6048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6210360" y="911160"/>
            <a:ext cx="21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74%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total incr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-875880" y="3412800"/>
            <a:ext cx="388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andwashing 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856800" y="961920"/>
            <a:ext cx="18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2021040" y="4888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ding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(Quan and Ulrich, 200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5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3500"/>
                            </p:stCondLst>
                            <p:childTnLst>
                              <p:par>
                                <p:cTn id="647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70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20840" y="58212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bec"/>
                </a:solidFill>
                <a:latin typeface="Verdana"/>
                <a:ea typeface="宋体"/>
              </a:rPr>
              <a:t>Infection Rates in Old vs New IC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b0bec"/>
                </a:solidFill>
                <a:latin typeface="Verdana"/>
                <a:ea typeface="宋体"/>
              </a:rPr>
              <a:t>source: Quan and Ulrich, 200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14280" y="2355840"/>
            <a:ext cx="8534520" cy="37116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V="1">
            <a:off x="4809960" y="2085840"/>
            <a:ext cx="0" cy="3353040"/>
          </a:xfrm>
          <a:prstGeom prst="line">
            <a:avLst/>
          </a:prstGeom>
          <a:ln w="6048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>
            <a:off x="708120" y="3762360"/>
            <a:ext cx="40734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838760" y="4476600"/>
            <a:ext cx="3962520" cy="0"/>
          </a:xfrm>
          <a:prstGeom prst="line">
            <a:avLst/>
          </a:prstGeom>
          <a:ln w="38160">
            <a:solidFill>
              <a:srgbClr val="0c0c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>
            <a:off x="5391000" y="3416400"/>
            <a:ext cx="2851200" cy="520560"/>
          </a:xfrm>
          <a:prstGeom prst="rect">
            <a:avLst/>
          </a:prstGeom>
          <a:solidFill>
            <a:srgbClr val="c1c1c1">
              <a:alpha val="85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0000"/>
                </a:solidFill>
                <a:latin typeface="Arial"/>
              </a:rPr>
              <a:t>Reduced 44.4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5156280" y="1990800"/>
            <a:ext cx="3357360" cy="1449720"/>
          </a:xfrm>
          <a:prstGeom prst="rect">
            <a:avLst/>
          </a:prstGeom>
          <a:solidFill>
            <a:srgbClr val="c1c1c1">
              <a:alpha val="85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0000"/>
                </a:solidFill>
                <a:latin typeface="Verdana"/>
              </a:rPr>
              <a:t>Move to new ICU with single rooms &amp; better handwashing de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>
            <a:off x="1754280" y="200196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ld IC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4838400" y="2590920"/>
            <a:ext cx="304920" cy="304560"/>
          </a:xfrm>
          <a:prstGeom prst="line">
            <a:avLst/>
          </a:prstGeom>
          <a:ln w="38160">
            <a:solidFill>
              <a:srgbClr val="e00c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122480" y="525600"/>
            <a:ext cx="68594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0beb"/>
                </a:solidFill>
                <a:latin typeface="Verdana"/>
              </a:rPr>
              <a:t>Transfers Worsen Patient and Staff Safe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906480" y="1868400"/>
            <a:ext cx="69055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5000"/>
              </a:lnSpc>
              <a:buClr>
                <a:srgbClr val="0b0beb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Verdana"/>
              </a:rPr>
              <a:t>Increase infe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895320" y="2625840"/>
            <a:ext cx="7346880" cy="36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5000"/>
              </a:lnSpc>
              <a:buClr>
                <a:srgbClr val="0b0beb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Verdana"/>
              </a:rPr>
              <a:t>Transfers cause sharp peaks in medical </a:t>
            </a:r>
            <a:r>
              <a:rPr b="0" lang="en-US" sz="3200" spc="-1" strike="noStrike" u="sng">
                <a:solidFill>
                  <a:srgbClr val="080808"/>
                </a:solidFill>
                <a:uFillTx/>
                <a:latin typeface="Verdana"/>
              </a:rPr>
              <a:t>err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lnSpc>
                <a:spcPct val="105000"/>
              </a:lnSpc>
              <a:spcBef>
                <a:spcPts val="1400"/>
              </a:spcBef>
              <a:buClr>
                <a:srgbClr val="0b0beb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Verdana"/>
              </a:rPr>
              <a:t>Major cause of staff inju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lnSpc>
                <a:spcPct val="105000"/>
              </a:lnSpc>
              <a:spcBef>
                <a:spcPts val="1400"/>
              </a:spcBef>
              <a:buClr>
                <a:srgbClr val="0b0beb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Verdana"/>
              </a:rPr>
              <a:t>Each transfer requires hours of staff time and paperwo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lnSpc>
                <a:spcPct val="105000"/>
              </a:lnSpc>
              <a:spcBef>
                <a:spcPts val="1400"/>
              </a:spcBef>
              <a:buClr>
                <a:srgbClr val="0b0beb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Verdana"/>
              </a:rPr>
              <a:t>Each transfer adds .5 day to L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04920" y="442800"/>
            <a:ext cx="6933960" cy="7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Acuity-Adaptable, Single Coronary Critical Care</a:t>
            </a: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Methodist Hospital, Indianapo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>
            <a:off x="387360" y="216000"/>
            <a:ext cx="1933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SA LifeStructu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390600" y="4357800"/>
            <a:ext cx="6824520" cy="2216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876"/>
              </a:spcBef>
              <a:buClr>
                <a:srgbClr val="fccc00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cc00"/>
                </a:solidFill>
                <a:latin typeface="Verdana"/>
              </a:rPr>
              <a:t>Transfe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duced 90% compared to unit with multi-bed roo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400"/>
              </a:spcBef>
              <a:buClr>
                <a:srgbClr val="fc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ves $5 million per ye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400"/>
              </a:spcBef>
              <a:buClr>
                <a:srgbClr val="fc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cc00"/>
                </a:solidFill>
                <a:latin typeface="Verdana"/>
              </a:rPr>
              <a:t>Medication error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reduced 7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"/>
          <p:cNvSpPr/>
          <p:nvPr/>
        </p:nvSpPr>
        <p:spPr>
          <a:xfrm>
            <a:off x="7715160" y="5164200"/>
            <a:ext cx="1219320" cy="81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ccc00"/>
                </a:solidFill>
                <a:latin typeface="Tahoma"/>
              </a:rPr>
              <a:t>Pebble  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7740720" y="5950080"/>
            <a:ext cx="1184040" cy="7077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41440" y="1778040"/>
            <a:ext cx="0" cy="1627200"/>
          </a:xfrm>
          <a:prstGeom prst="line">
            <a:avLst/>
          </a:prstGeom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>
            <a:off x="517680" y="1752480"/>
            <a:ext cx="2079360" cy="227160"/>
          </a:xfrm>
          <a:prstGeom prst="line">
            <a:avLst/>
          </a:prstGeom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17680" y="3233880"/>
            <a:ext cx="2054160" cy="185760"/>
          </a:xfrm>
          <a:prstGeom prst="line">
            <a:avLst/>
          </a:prstGeom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568240" y="1947960"/>
            <a:ext cx="27000" cy="1312920"/>
          </a:xfrm>
          <a:prstGeom prst="line">
            <a:avLst/>
          </a:prstGeom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7760" y="501480"/>
            <a:ext cx="66182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eb"/>
                </a:solidFill>
                <a:latin typeface="Verdana"/>
              </a:rPr>
              <a:t>Annual Medication Error Index </a:t>
            </a:r>
            <a:r>
              <a:rPr b="1" lang="en-US" sz="1800" spc="-1" strike="noStrike">
                <a:solidFill>
                  <a:srgbClr val="0c0ceb"/>
                </a:solidFill>
                <a:latin typeface="Verdana"/>
              </a:rPr>
              <a:t>(errors/patient days) coronary critical care</a:t>
            </a:r>
            <a:r>
              <a:rPr b="1" lang="en-US" sz="2400" spc="-1" strike="noStrike">
                <a:solidFill>
                  <a:srgbClr val="1111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c0cec"/>
              </a:solidFill>
              <a:latin typeface="Verdana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09480" y="1295280"/>
          <a:ext cx="8534520" cy="490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8534520" cy="49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6603840" y="5486400"/>
            <a:ext cx="16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-1287360" y="29775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ceb"/>
                </a:solidFill>
                <a:latin typeface="Verdana"/>
              </a:rPr>
              <a:t>More err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685800" y="1828800"/>
            <a:ext cx="0" cy="838080"/>
          </a:xfrm>
          <a:prstGeom prst="line">
            <a:avLst/>
          </a:prstGeom>
          <a:ln w="38160">
            <a:solidFill>
              <a:srgbClr val="111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267080" y="1676520"/>
            <a:ext cx="0" cy="3657600"/>
          </a:xfrm>
          <a:prstGeom prst="line">
            <a:avLst/>
          </a:prstGeom>
          <a:ln w="111240">
            <a:solidFill>
              <a:srgbClr val="0c0ce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419720" y="2438280"/>
            <a:ext cx="304560" cy="381240"/>
          </a:xfrm>
          <a:prstGeom prst="line">
            <a:avLst/>
          </a:prstGeom>
          <a:ln w="38160">
            <a:solidFill>
              <a:srgbClr val="0c0ce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724280" y="1828800"/>
            <a:ext cx="3657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ceb"/>
                </a:solidFill>
                <a:latin typeface="Verdana"/>
              </a:rPr>
              <a:t>Move to new unit with single, acuity-adaptable roo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"/>
          <p:cNvSpPr/>
          <p:nvPr/>
        </p:nvSpPr>
        <p:spPr>
          <a:xfrm>
            <a:off x="743040" y="5662440"/>
            <a:ext cx="7772400" cy="77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urce: A. Hendrich (2004). In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Keeping Patients Safe: Transforming the Work Environment of Nurses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Quality Chasm Series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nstitute of Medic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"/>
          <p:cNvSpPr/>
          <p:nvPr/>
        </p:nvSpPr>
        <p:spPr>
          <a:xfrm>
            <a:off x="1371600" y="2895480"/>
            <a:ext cx="29718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2aa6"/>
                </a:solidFill>
                <a:latin typeface="Verdana"/>
              </a:rPr>
              <a:t>Old unit with multi-bed roo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25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19200" y="1933560"/>
            <a:ext cx="78883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4520" indent="-344520">
              <a:lnSpc>
                <a:spcPct val="110000"/>
              </a:lnSpc>
              <a:buClr>
                <a:srgbClr val="0c0cee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Verdana"/>
              </a:rPr>
              <a:t>Most falls occur when patien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get out of bed unassiste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da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80808"/>
                </a:solidFill>
                <a:latin typeface="Verdana"/>
              </a:rPr>
              <a:t>Design for increasing assistance for patients and thereby reducing falls includ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92232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roblem:</a:t>
            </a:r>
            <a:r>
              <a:rPr b="1" lang="en-US" sz="4800" spc="-1" strike="noStrike">
                <a:solidFill>
                  <a:srgbClr val="3232c6"/>
                </a:solidFill>
                <a:latin typeface="Century Gothic"/>
              </a:rPr>
              <a:t> </a:t>
            </a:r>
            <a:r>
              <a:rPr b="1" lang="en-US" sz="4800" spc="-1" strike="noStrike">
                <a:solidFill>
                  <a:srgbClr val="e40c0c"/>
                </a:solidFill>
                <a:latin typeface="Century Gothic"/>
              </a:rPr>
              <a:t>Falls</a:t>
            </a:r>
            <a:r>
              <a:rPr b="0" lang="en-US" sz="4400" spc="-1" strike="noStrike">
                <a:solidFill>
                  <a:srgbClr val="e00000"/>
                </a:solidFill>
                <a:latin typeface="Century Goth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622440" y="4327560"/>
            <a:ext cx="788832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801720" indent="-343080">
              <a:lnSpc>
                <a:spcPct val="110000"/>
              </a:lnSpc>
              <a:spcBef>
                <a:spcPts val="799"/>
              </a:spcBef>
              <a:buClr>
                <a:srgbClr val="eb0000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Verdana"/>
              </a:rPr>
              <a:t>Decentralized nurse st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01720" indent="-343080">
              <a:lnSpc>
                <a:spcPct val="110000"/>
              </a:lnSpc>
              <a:spcBef>
                <a:spcPts val="1199"/>
              </a:spcBef>
              <a:buClr>
                <a:srgbClr val="eb0000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Verdana"/>
              </a:rPr>
              <a:t>Single-bed rooms designed to support family pres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rcRect l="0" t="0" r="0" b="523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04920" y="442800"/>
            <a:ext cx="6933960" cy="7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Acuity-Adaptable, Single Coronary Critical Care</a:t>
            </a:r>
            <a:r>
              <a:rPr b="0" lang="en-US" sz="2000" spc="-1" strike="noStrike">
                <a:solidFill>
                  <a:srgbClr val="ffcc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Methodist Hospital, Indianapo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387360" y="216000"/>
            <a:ext cx="1933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SA LifeStructu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"/>
          <p:cNvSpPr/>
          <p:nvPr/>
        </p:nvSpPr>
        <p:spPr>
          <a:xfrm>
            <a:off x="7715160" y="5164200"/>
            <a:ext cx="1219320" cy="81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ccc00"/>
                </a:solidFill>
                <a:latin typeface="Tahoma"/>
              </a:rPr>
              <a:t>Pebble   Projec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7740720" y="5950080"/>
            <a:ext cx="1184040" cy="7077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862440" y="2567160"/>
            <a:ext cx="3024000" cy="1258560"/>
          </a:xfrm>
          <a:prstGeom prst="rect">
            <a:avLst/>
          </a:prstGeom>
          <a:noFill/>
          <a:ln w="31680">
            <a:solidFill>
              <a:srgbClr val="fafa00"/>
            </a:solidFill>
            <a:miter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"/>
          <p:cNvSpPr/>
          <p:nvPr/>
        </p:nvSpPr>
        <p:spPr>
          <a:xfrm>
            <a:off x="4114800" y="2982960"/>
            <a:ext cx="249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900"/>
                </a:solidFill>
                <a:latin typeface="Verdana"/>
              </a:rPr>
              <a:t>Family Z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rcRect l="0" t="10799" r="0" b="8639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943600" y="2378160"/>
            <a:ext cx="2090880" cy="3336840"/>
          </a:xfrm>
          <a:prstGeom prst="ellipse">
            <a:avLst/>
          </a:prstGeom>
          <a:noFill/>
          <a:ln w="381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"/>
          <p:cNvSpPr/>
          <p:nvPr/>
        </p:nvSpPr>
        <p:spPr>
          <a:xfrm>
            <a:off x="3581280" y="2971800"/>
            <a:ext cx="914400" cy="1371600"/>
          </a:xfrm>
          <a:prstGeom prst="ellipse">
            <a:avLst/>
          </a:prstGeom>
          <a:noFill/>
          <a:ln w="2844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2666880" y="2895480"/>
            <a:ext cx="533520" cy="838440"/>
          </a:xfrm>
          <a:prstGeom prst="ellipse">
            <a:avLst/>
          </a:prstGeom>
          <a:noFill/>
          <a:ln w="1908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"/>
          <p:cNvSpPr/>
          <p:nvPr/>
        </p:nvSpPr>
        <p:spPr>
          <a:xfrm>
            <a:off x="536760" y="6172200"/>
            <a:ext cx="23904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esign: BSA LifeStructu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"/>
          <p:cNvSpPr/>
          <p:nvPr/>
        </p:nvSpPr>
        <p:spPr>
          <a:xfrm>
            <a:off x="361800" y="5486400"/>
            <a:ext cx="5943600" cy="65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Acuity-Adaptable, Family Centered CC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Verdana"/>
              </a:rPr>
              <a:t>Methodist Hospital, Indianapol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380880"/>
            <a:ext cx="6629400" cy="886320"/>
          </a:xfrm>
          <a:prstGeom prst="rect">
            <a:avLst/>
          </a:prstGeom>
          <a:solidFill>
            <a:srgbClr val="e6e5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centralized nurse st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mprove observation of patients, safety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 rot="11419200">
            <a:off x="6541200" y="2763360"/>
            <a:ext cx="181080" cy="400320"/>
          </a:xfrm>
          <a:custGeom>
            <a:avLst/>
            <a:gdLst>
              <a:gd name="textAreaLeft" fmla="*/ 24120 w 181080"/>
              <a:gd name="textAreaRight" fmla="*/ 156960 w 181080"/>
              <a:gd name="textAreaTop" fmla="*/ 71280 h 400320"/>
              <a:gd name="textAreaBottom" fmla="*/ 283680 h 400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702" stAng="-5400000" swAng="5400000"/>
                <a:lnTo>
                  <a:pt x="21600" y="11454"/>
                </a:lnTo>
                <a:arcTo wR="21600" hR="7702" stAng="0" swAng="2851289"/>
                <a:lnTo>
                  <a:pt x="6704" y="21220"/>
                </a:lnTo>
                <a:lnTo>
                  <a:pt x="0" y="17280"/>
                </a:lnTo>
                <a:lnTo>
                  <a:pt x="6704" y="12580"/>
                </a:lnTo>
                <a:lnTo>
                  <a:pt x="6704" y="15024"/>
                </a:lnTo>
                <a:arcTo wR="21600" hR="7702" stAng="2851289" swAng="-2544262"/>
                <a:lnTo>
                  <a:pt x="20949" y="9578"/>
                </a:lnTo>
                <a:arcTo wR="21600" hR="7702" stAng="-307027" swAng="-5092973"/>
                <a:close/>
              </a:path>
              <a:path fill="darkenLess" w="21600" h="21600">
                <a:moveTo>
                  <a:pt x="0" y="0"/>
                </a:moveTo>
                <a:arcTo wR="21600" hR="7702" stAng="-5400000" swAng="5400000"/>
                <a:lnTo>
                  <a:pt x="21600" y="11454"/>
                </a:lnTo>
                <a:arcTo wR="21600" hR="7702" stAng="0" swAng="-307027"/>
                <a:lnTo>
                  <a:pt x="20949" y="9578"/>
                </a:lnTo>
                <a:arcTo wR="21600" hR="7702" stAng="-307027" swAng="-5092973"/>
                <a:close/>
              </a:path>
            </a:pathLst>
          </a:custGeom>
          <a:solidFill>
            <a:srgbClr val="00ffcc"/>
          </a:solidFill>
          <a:ln w="38160">
            <a:solidFill>
              <a:srgbClr val="00ffcc"/>
            </a:solidFill>
            <a:miter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"/>
          <p:cNvSpPr/>
          <p:nvPr/>
        </p:nvSpPr>
        <p:spPr>
          <a:xfrm>
            <a:off x="8302680" y="2968560"/>
            <a:ext cx="604800" cy="208080"/>
          </a:xfrm>
          <a:prstGeom prst="rightArrow">
            <a:avLst>
              <a:gd name="adj1" fmla="val 38935"/>
              <a:gd name="adj2" fmla="val 58737"/>
            </a:avLst>
          </a:prstGeom>
          <a:solidFill>
            <a:srgbClr val="00ffcc"/>
          </a:solidFill>
          <a:ln w="38160">
            <a:solidFill>
              <a:srgbClr val="00ffcc"/>
            </a:solidFill>
            <a:miter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"/>
          <p:cNvSpPr/>
          <p:nvPr/>
        </p:nvSpPr>
        <p:spPr>
          <a:xfrm rot="21385200">
            <a:off x="7270560" y="2916000"/>
            <a:ext cx="333360" cy="201600"/>
          </a:xfrm>
          <a:prstGeom prst="rightArrow">
            <a:avLst>
              <a:gd name="adj1" fmla="val 39204"/>
              <a:gd name="adj2" fmla="val 44731"/>
            </a:avLst>
          </a:prstGeom>
          <a:solidFill>
            <a:srgbClr val="00ffcc"/>
          </a:solidFill>
          <a:ln w="38160">
            <a:solidFill>
              <a:srgbClr val="00ffcc"/>
            </a:solidFill>
            <a:miter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500"/>
                            </p:stCondLst>
                            <p:childTnLst>
                              <p:par>
                                <p:cTn id="7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666720" y="1436760"/>
          <a:ext cx="8381880" cy="481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1436760"/>
                    <a:ext cx="838188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9" name=""/>
          <p:cNvSpPr/>
          <p:nvPr/>
        </p:nvSpPr>
        <p:spPr>
          <a:xfrm flipV="1">
            <a:off x="4257720" y="1765440"/>
            <a:ext cx="9360" cy="3582720"/>
          </a:xfrm>
          <a:prstGeom prst="line">
            <a:avLst/>
          </a:prstGeom>
          <a:ln w="95400">
            <a:solidFill>
              <a:srgbClr val="1111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0" y="1919160"/>
            <a:ext cx="39625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11ff"/>
                </a:solidFill>
                <a:latin typeface="Verdana"/>
              </a:rPr>
              <a:t>Move to new unit with single family-centered rooms and decentralized nurse s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4381200" y="2846520"/>
            <a:ext cx="228600" cy="304560"/>
          </a:xfrm>
          <a:prstGeom prst="line">
            <a:avLst/>
          </a:prstGeom>
          <a:ln w="38160">
            <a:solidFill>
              <a:srgbClr val="1111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-1490400" y="28638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ff"/>
                </a:solidFill>
                <a:latin typeface="Tahoma"/>
              </a:rPr>
              <a:t>More Fa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09480" y="2057040"/>
            <a:ext cx="0" cy="1219320"/>
          </a:xfrm>
          <a:prstGeom prst="line">
            <a:avLst/>
          </a:prstGeom>
          <a:ln w="38160">
            <a:solidFill>
              <a:srgbClr val="1111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"/>
          <p:cNvSpPr/>
          <p:nvPr/>
        </p:nvSpPr>
        <p:spPr>
          <a:xfrm>
            <a:off x="619200" y="5734080"/>
            <a:ext cx="784836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urce: A. Hendrich (2004). In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Keeping Patients Safe: Transforming the Work Environment of Nurses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Quality Chasm Series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nstitute of Medicin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>
            <a:off x="1314360" y="3171960"/>
            <a:ext cx="29718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2aa6"/>
                </a:solidFill>
                <a:latin typeface="Verdana"/>
              </a:rPr>
              <a:t>Old unit with multi-bed rooms, centralized nurse s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68360" y="523800"/>
            <a:ext cx="644544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bec"/>
                </a:solidFill>
                <a:latin typeface="Verdana"/>
              </a:rPr>
              <a:t>Patient Fall Index</a:t>
            </a:r>
            <a:r>
              <a:rPr b="1" lang="en-US" sz="3200" spc="-1" strike="noStrike">
                <a:solidFill>
                  <a:srgbClr val="0b0bec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0b0bec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0b0bec"/>
                </a:solidFill>
                <a:latin typeface="Verdana"/>
              </a:rPr>
              <a:t>falls per 100 patient days</a:t>
            </a:r>
            <a:r>
              <a:rPr b="0" lang="en-US" sz="2400" spc="-1" strike="noStrike">
                <a:solidFill>
                  <a:srgbClr val="0b0bec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c0cec"/>
              </a:solidFill>
              <a:latin typeface="Verdana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74920" y="685800"/>
            <a:ext cx="4788000" cy="3581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374920" y="685800"/>
            <a:ext cx="4788000" cy="3581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374920" y="685800"/>
            <a:ext cx="4788000" cy="3581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374920" y="685800"/>
            <a:ext cx="4788000" cy="3581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666880" y="3639960"/>
            <a:ext cx="5978520" cy="2019600"/>
          </a:xfrm>
          <a:prstGeom prst="rect">
            <a:avLst/>
          </a:prstGeom>
          <a:solidFill>
            <a:srgbClr val="ffffff">
              <a:alpha val="8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spcBef>
                <a:spcPts val="4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re evidence than expected: </a:t>
            </a:r>
            <a:r>
              <a:rPr b="1" lang="en-US" sz="2000" spc="-1" strike="noStrike">
                <a:solidFill>
                  <a:srgbClr val="ea0400"/>
                </a:solidFill>
                <a:latin typeface="Verdana"/>
              </a:rPr>
              <a:t>900+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rigorous studies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Ulrich &amp; Zimring, 2007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10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LOT of good evidence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119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y designs make hospitals riskier for patients, families &amp;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630360" y="6156360"/>
            <a:ext cx="79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0cec"/>
                </a:solidFill>
                <a:latin typeface="Verdana"/>
              </a:rPr>
              <a:t>Full report:  www.healthdesign.org/research/rep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50760" y="1600200"/>
            <a:ext cx="24894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453960" y="1398600"/>
            <a:ext cx="8237520" cy="546588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66280" y="456840"/>
            <a:ext cx="80010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0beb"/>
                </a:solidFill>
                <a:latin typeface="Verdana"/>
              </a:rPr>
              <a:t>Same-handed single patient room</a:t>
            </a:r>
            <a:br>
              <a:rPr sz="2000"/>
            </a:br>
            <a:r>
              <a:rPr b="0" lang="en-US" sz="2000" spc="-1" strike="noStrike">
                <a:solidFill>
                  <a:srgbClr val="0b0beb"/>
                </a:solidFill>
                <a:latin typeface="Verdana"/>
              </a:rPr>
              <a:t>With evidence-based design (EBD) safety features</a:t>
            </a:r>
            <a:endParaRPr b="1" lang="en-US" sz="2000" spc="-1" strike="noStrike">
              <a:solidFill>
                <a:srgbClr val="0c0cec"/>
              </a:solidFill>
              <a:latin typeface="Verdana"/>
            </a:endParaRPr>
          </a:p>
        </p:txBody>
      </p:sp>
      <p:sp>
        <p:nvSpPr>
          <p:cNvPr id="419" name=""/>
          <p:cNvSpPr/>
          <p:nvPr/>
        </p:nvSpPr>
        <p:spPr>
          <a:xfrm>
            <a:off x="3936960" y="2082960"/>
            <a:ext cx="2801880" cy="398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0beb"/>
                </a:solidFill>
                <a:latin typeface="Arial"/>
              </a:rPr>
              <a:t>Large bathroom do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"/>
          <p:cNvSpPr/>
          <p:nvPr/>
        </p:nvSpPr>
        <p:spPr>
          <a:xfrm>
            <a:off x="5834160" y="3041640"/>
            <a:ext cx="2773440" cy="73404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0beb"/>
                </a:solidFill>
                <a:latin typeface="Arial"/>
              </a:rPr>
              <a:t>Direct path with hand assist to toil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"/>
          <p:cNvSpPr/>
          <p:nvPr/>
        </p:nvSpPr>
        <p:spPr>
          <a:xfrm>
            <a:off x="638280" y="3808440"/>
            <a:ext cx="990360" cy="930240"/>
          </a:xfrm>
          <a:prstGeom prst="ellipse">
            <a:avLst/>
          </a:prstGeom>
          <a:noFill/>
          <a:ln w="4428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" y="4952880"/>
            <a:ext cx="2427120" cy="7038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0beb"/>
                </a:solidFill>
                <a:latin typeface="Arial"/>
              </a:rPr>
              <a:t>Handwashing sink with sight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"/>
          <p:cNvSpPr/>
          <p:nvPr/>
        </p:nvSpPr>
        <p:spPr>
          <a:xfrm>
            <a:off x="4971960" y="2519280"/>
            <a:ext cx="703440" cy="1602000"/>
          </a:xfrm>
          <a:prstGeom prst="rect">
            <a:avLst/>
          </a:prstGeom>
          <a:noFill/>
          <a:ln w="4140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"/>
          <p:cNvSpPr/>
          <p:nvPr/>
        </p:nvSpPr>
        <p:spPr>
          <a:xfrm>
            <a:off x="5624640" y="3757680"/>
            <a:ext cx="888840" cy="189000"/>
          </a:xfrm>
          <a:prstGeom prst="line">
            <a:avLst/>
          </a:prstGeom>
          <a:ln w="5400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1076040" y="5861160"/>
            <a:ext cx="2143080" cy="984240"/>
          </a:xfrm>
          <a:prstGeom prst="line">
            <a:avLst/>
          </a:prstGeom>
          <a:ln w="38160">
            <a:solidFill>
              <a:srgbClr val="ea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"/>
          <p:cNvSpPr/>
          <p:nvPr/>
        </p:nvSpPr>
        <p:spPr>
          <a:xfrm>
            <a:off x="4851360" y="5981760"/>
            <a:ext cx="36813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ublin Methodist Hospital, Dublin Oh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sign: Karlsberger with Cam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"/>
          <p:cNvSpPr/>
          <p:nvPr/>
        </p:nvSpPr>
        <p:spPr>
          <a:xfrm>
            <a:off x="3308400" y="1428840"/>
            <a:ext cx="2936880" cy="33732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0beb"/>
                </a:solidFill>
                <a:latin typeface="Arial"/>
              </a:rPr>
              <a:t>Sound-absorbing ceiling t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rcRect l="0" t="0" r="0" b="4508"/>
          <a:stretch/>
        </p:blipFill>
        <p:spPr>
          <a:xfrm>
            <a:off x="809640" y="1947960"/>
            <a:ext cx="7527960" cy="46432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>
            <a:lum contrast="16000"/>
          </a:blip>
          <a:stretch/>
        </p:blipFill>
        <p:spPr>
          <a:xfrm>
            <a:off x="7640640" y="538200"/>
            <a:ext cx="855720" cy="5191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471680" y="576360"/>
            <a:ext cx="627696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0bec"/>
                </a:solidFill>
                <a:latin typeface="Verdana"/>
              </a:rPr>
              <a:t>Same-handed single-bed rooms designed to increase patient 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0bec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b0bec"/>
                </a:solidFill>
                <a:latin typeface="Verdana"/>
              </a:rPr>
              <a:t>(UK hospital design proposa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4189320" y="2754360"/>
            <a:ext cx="587520" cy="1333440"/>
          </a:xfrm>
          <a:prstGeom prst="line">
            <a:avLst/>
          </a:prstGeom>
          <a:ln w="475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4165200" y="4100040"/>
            <a:ext cx="1576440" cy="932040"/>
          </a:xfrm>
          <a:prstGeom prst="line">
            <a:avLst/>
          </a:prstGeom>
          <a:ln w="4428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 flipH="1" rot="18097800">
            <a:off x="5622480" y="4626000"/>
            <a:ext cx="816120" cy="1314360"/>
          </a:xfrm>
          <a:prstGeom prst="blockArc">
            <a:avLst>
              <a:gd name="adj1" fmla="val 13851180"/>
              <a:gd name="adj2" fmla="val 18548820"/>
              <a:gd name="adj3" fmla="val 0"/>
            </a:avLst>
          </a:prstGeom>
          <a:noFill/>
          <a:ln w="572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5581800" y="4767120"/>
            <a:ext cx="156960" cy="84240"/>
          </a:xfrm>
          <a:prstGeom prst="line">
            <a:avLst/>
          </a:prstGeom>
          <a:ln w="38160">
            <a:solidFill>
              <a:srgbClr val="ea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4235400" y="4508640"/>
            <a:ext cx="130320" cy="230040"/>
          </a:xfrm>
          <a:prstGeom prst="line">
            <a:avLst/>
          </a:prstGeom>
          <a:ln w="7632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56600" cy="6853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2971800" y="3124080"/>
            <a:ext cx="2590920" cy="685800"/>
          </a:xfrm>
          <a:prstGeom prst="rect">
            <a:avLst/>
          </a:prstGeom>
          <a:solidFill>
            <a:srgbClr val="f60000">
              <a:alpha val="34000"/>
            </a:srgbClr>
          </a:solidFill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7924680" y="3429000"/>
            <a:ext cx="1219320" cy="533520"/>
          </a:xfrm>
          <a:prstGeom prst="rect">
            <a:avLst/>
          </a:prstGeom>
          <a:solidFill>
            <a:srgbClr val="f60000">
              <a:alpha val="33000"/>
            </a:srgbClr>
          </a:solidFill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541520" y="2895480"/>
            <a:ext cx="820800" cy="381240"/>
          </a:xfrm>
          <a:prstGeom prst="ellipse">
            <a:avLst/>
          </a:prstGeom>
          <a:solidFill>
            <a:srgbClr val="f60000">
              <a:alpha val="34000"/>
            </a:srgbClr>
          </a:solidFill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305240" y="2209680"/>
            <a:ext cx="495360" cy="609840"/>
          </a:xfrm>
          <a:prstGeom prst="ellipse">
            <a:avLst/>
          </a:prstGeom>
          <a:solidFill>
            <a:srgbClr val="f60000">
              <a:alpha val="36000"/>
            </a:srgbClr>
          </a:solidFill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019920" y="2855880"/>
            <a:ext cx="1666800" cy="420840"/>
          </a:xfrm>
          <a:prstGeom prst="rect">
            <a:avLst/>
          </a:prstGeom>
          <a:solidFill>
            <a:srgbClr val="f60000">
              <a:alpha val="35000"/>
            </a:srgbClr>
          </a:solidFill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8728200" y="1752480"/>
            <a:ext cx="301680" cy="846360"/>
          </a:xfrm>
          <a:prstGeom prst="ellipse">
            <a:avLst/>
          </a:prstGeom>
          <a:solidFill>
            <a:srgbClr val="f60000">
              <a:alpha val="34000"/>
            </a:srgbClr>
          </a:solidFill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 rot="719400">
            <a:off x="533520" y="3200040"/>
            <a:ext cx="1143000" cy="533520"/>
          </a:xfrm>
          <a:prstGeom prst="ellipse">
            <a:avLst/>
          </a:prstGeom>
          <a:solidFill>
            <a:srgbClr val="f60000">
              <a:alpha val="33000"/>
            </a:srgbClr>
          </a:solidFill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2819520"/>
            <a:ext cx="457200" cy="623880"/>
          </a:xfrm>
          <a:prstGeom prst="ellipse">
            <a:avLst/>
          </a:prstGeom>
          <a:solidFill>
            <a:srgbClr val="f60000">
              <a:alpha val="33000"/>
            </a:srgbClr>
          </a:solidFill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2514600"/>
            <a:ext cx="243000" cy="380880"/>
          </a:xfrm>
          <a:prstGeom prst="ellipse">
            <a:avLst/>
          </a:prstGeom>
          <a:solidFill>
            <a:srgbClr val="f60000">
              <a:alpha val="34000"/>
            </a:srgbClr>
          </a:solidFill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1747800"/>
            <a:ext cx="344520" cy="1062000"/>
          </a:xfrm>
          <a:prstGeom prst="ellipse">
            <a:avLst/>
          </a:prstGeom>
          <a:solidFill>
            <a:srgbClr val="f60000">
              <a:alpha val="33000"/>
            </a:srgbClr>
          </a:solidFill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82520" y="5950080"/>
            <a:ext cx="5319720" cy="10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urfaces commonly contaminated by MR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Methicillin-resistant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taphylococcus aureu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1413000"/>
            <a:ext cx="600120" cy="450720"/>
          </a:xfrm>
          <a:prstGeom prst="ellipse">
            <a:avLst/>
          </a:prstGeom>
          <a:solidFill>
            <a:srgbClr val="f60000">
              <a:alpha val="36000"/>
            </a:srgbClr>
          </a:solidFill>
          <a:ln w="38160">
            <a:solidFill>
              <a:srgbClr val="f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 rot="21344400">
            <a:off x="4359240" y="3963600"/>
            <a:ext cx="344520" cy="211320"/>
          </a:xfrm>
          <a:custGeom>
            <a:avLst/>
            <a:gdLst/>
            <a:ahLst/>
            <a:rect l="l" t="t" r="r" b="b"/>
            <a:pathLst>
              <a:path w="217" h="133">
                <a:moveTo>
                  <a:pt x="0" y="0"/>
                </a:moveTo>
                <a:cubicBezTo>
                  <a:pt x="29" y="5"/>
                  <a:pt x="66" y="10"/>
                  <a:pt x="92" y="25"/>
                </a:cubicBezTo>
                <a:cubicBezTo>
                  <a:pt x="173" y="70"/>
                  <a:pt x="113" y="49"/>
                  <a:pt x="167" y="66"/>
                </a:cubicBezTo>
                <a:cubicBezTo>
                  <a:pt x="188" y="133"/>
                  <a:pt x="157" y="58"/>
                  <a:pt x="200" y="100"/>
                </a:cubicBezTo>
                <a:cubicBezTo>
                  <a:pt x="209" y="109"/>
                  <a:pt x="208" y="124"/>
                  <a:pt x="217" y="133"/>
                </a:cubicBezTo>
              </a:path>
            </a:pathLst>
          </a:custGeom>
          <a:noFill/>
          <a:ln w="57240">
            <a:solidFill>
              <a:srgbClr val="f6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2384280" y="3967200"/>
            <a:ext cx="252720" cy="287280"/>
          </a:xfrm>
          <a:custGeom>
            <a:avLst/>
            <a:gdLst/>
            <a:ahLst/>
            <a:rect l="l" t="t" r="r" b="b"/>
            <a:pathLst>
              <a:path w="159" h="181">
                <a:moveTo>
                  <a:pt x="159" y="14"/>
                </a:moveTo>
                <a:cubicBezTo>
                  <a:pt x="108" y="22"/>
                  <a:pt x="27" y="0"/>
                  <a:pt x="9" y="55"/>
                </a:cubicBezTo>
                <a:cubicBezTo>
                  <a:pt x="0" y="158"/>
                  <a:pt x="1" y="116"/>
                  <a:pt x="1" y="181"/>
                </a:cubicBezTo>
              </a:path>
            </a:pathLst>
          </a:custGeom>
          <a:noFill/>
          <a:ln w="57240">
            <a:solidFill>
              <a:srgbClr val="f6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2409840" y="4006800"/>
            <a:ext cx="201600" cy="247680"/>
          </a:xfrm>
          <a:custGeom>
            <a:avLst/>
            <a:gdLst/>
            <a:ahLst/>
            <a:rect l="l" t="t" r="r" b="b"/>
            <a:pathLst>
              <a:path w="135" h="140">
                <a:moveTo>
                  <a:pt x="135" y="14"/>
                </a:moveTo>
                <a:cubicBezTo>
                  <a:pt x="16" y="33"/>
                  <a:pt x="46" y="0"/>
                  <a:pt x="10" y="56"/>
                </a:cubicBezTo>
                <a:cubicBezTo>
                  <a:pt x="0" y="123"/>
                  <a:pt x="1" y="95"/>
                  <a:pt x="1" y="140"/>
                </a:cubicBezTo>
              </a:path>
            </a:pathLst>
          </a:custGeom>
          <a:noFill/>
          <a:ln w="38160">
            <a:solidFill>
              <a:srgbClr val="ff797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5870520" y="4691160"/>
            <a:ext cx="263520" cy="128520"/>
          </a:xfrm>
          <a:prstGeom prst="ellipse">
            <a:avLst/>
          </a:prstGeom>
          <a:solidFill>
            <a:srgbClr val="ff0000">
              <a:alpha val="36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8715240" y="4834080"/>
            <a:ext cx="405000" cy="268200"/>
          </a:xfrm>
          <a:custGeom>
            <a:avLst/>
            <a:gdLst/>
            <a:ahLst/>
            <a:rect l="l" t="t" r="r" b="b"/>
            <a:pathLst>
              <a:path w="255" h="169">
                <a:moveTo>
                  <a:pt x="237" y="2"/>
                </a:moveTo>
                <a:cubicBezTo>
                  <a:pt x="177" y="21"/>
                  <a:pt x="114" y="27"/>
                  <a:pt x="53" y="44"/>
                </a:cubicBezTo>
                <a:cubicBezTo>
                  <a:pt x="0" y="78"/>
                  <a:pt x="14" y="137"/>
                  <a:pt x="61" y="169"/>
                </a:cubicBezTo>
                <a:cubicBezTo>
                  <a:pt x="66" y="168"/>
                  <a:pt x="112" y="158"/>
                  <a:pt x="120" y="152"/>
                </a:cubicBezTo>
                <a:cubicBezTo>
                  <a:pt x="171" y="110"/>
                  <a:pt x="100" y="138"/>
                  <a:pt x="161" y="119"/>
                </a:cubicBezTo>
                <a:cubicBezTo>
                  <a:pt x="196" y="96"/>
                  <a:pt x="203" y="64"/>
                  <a:pt x="228" y="27"/>
                </a:cubicBezTo>
                <a:cubicBezTo>
                  <a:pt x="246" y="0"/>
                  <a:pt x="255" y="2"/>
                  <a:pt x="237" y="2"/>
                </a:cubicBezTo>
                <a:close/>
              </a:path>
            </a:pathLst>
          </a:custGeom>
          <a:solidFill>
            <a:srgbClr val="ff0000">
              <a:alpha val="39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6413400" y="5064120"/>
            <a:ext cx="2730600" cy="1428840"/>
          </a:xfrm>
          <a:custGeom>
            <a:avLst/>
            <a:gdLst/>
            <a:ahLst/>
            <a:rect l="l" t="t" r="r" b="b"/>
            <a:pathLst>
              <a:path w="1720" h="900">
                <a:moveTo>
                  <a:pt x="1428" y="16"/>
                </a:moveTo>
                <a:cubicBezTo>
                  <a:pt x="1335" y="34"/>
                  <a:pt x="1242" y="70"/>
                  <a:pt x="1152" y="99"/>
                </a:cubicBezTo>
                <a:cubicBezTo>
                  <a:pt x="1118" y="122"/>
                  <a:pt x="1079" y="121"/>
                  <a:pt x="1044" y="141"/>
                </a:cubicBezTo>
                <a:cubicBezTo>
                  <a:pt x="1027" y="151"/>
                  <a:pt x="1011" y="163"/>
                  <a:pt x="994" y="174"/>
                </a:cubicBezTo>
                <a:cubicBezTo>
                  <a:pt x="933" y="214"/>
                  <a:pt x="835" y="212"/>
                  <a:pt x="768" y="233"/>
                </a:cubicBezTo>
                <a:cubicBezTo>
                  <a:pt x="715" y="250"/>
                  <a:pt x="662" y="266"/>
                  <a:pt x="610" y="283"/>
                </a:cubicBezTo>
                <a:cubicBezTo>
                  <a:pt x="585" y="291"/>
                  <a:pt x="558" y="295"/>
                  <a:pt x="535" y="308"/>
                </a:cubicBezTo>
                <a:cubicBezTo>
                  <a:pt x="455" y="353"/>
                  <a:pt x="514" y="332"/>
                  <a:pt x="459" y="349"/>
                </a:cubicBezTo>
                <a:cubicBezTo>
                  <a:pt x="413" y="380"/>
                  <a:pt x="374" y="384"/>
                  <a:pt x="318" y="391"/>
                </a:cubicBezTo>
                <a:cubicBezTo>
                  <a:pt x="245" y="410"/>
                  <a:pt x="173" y="435"/>
                  <a:pt x="101" y="458"/>
                </a:cubicBezTo>
                <a:cubicBezTo>
                  <a:pt x="69" y="479"/>
                  <a:pt x="35" y="487"/>
                  <a:pt x="0" y="500"/>
                </a:cubicBezTo>
                <a:cubicBezTo>
                  <a:pt x="3" y="519"/>
                  <a:pt x="0" y="541"/>
                  <a:pt x="9" y="558"/>
                </a:cubicBezTo>
                <a:cubicBezTo>
                  <a:pt x="13" y="566"/>
                  <a:pt x="26" y="563"/>
                  <a:pt x="34" y="567"/>
                </a:cubicBezTo>
                <a:cubicBezTo>
                  <a:pt x="43" y="571"/>
                  <a:pt x="49" y="580"/>
                  <a:pt x="59" y="583"/>
                </a:cubicBezTo>
                <a:cubicBezTo>
                  <a:pt x="81" y="589"/>
                  <a:pt x="104" y="588"/>
                  <a:pt x="126" y="592"/>
                </a:cubicBezTo>
                <a:cubicBezTo>
                  <a:pt x="182" y="602"/>
                  <a:pt x="225" y="619"/>
                  <a:pt x="284" y="625"/>
                </a:cubicBezTo>
                <a:cubicBezTo>
                  <a:pt x="340" y="643"/>
                  <a:pt x="392" y="658"/>
                  <a:pt x="451" y="667"/>
                </a:cubicBezTo>
                <a:cubicBezTo>
                  <a:pt x="520" y="689"/>
                  <a:pt x="484" y="680"/>
                  <a:pt x="560" y="692"/>
                </a:cubicBezTo>
                <a:cubicBezTo>
                  <a:pt x="648" y="720"/>
                  <a:pt x="724" y="741"/>
                  <a:pt x="818" y="750"/>
                </a:cubicBezTo>
                <a:cubicBezTo>
                  <a:pt x="884" y="768"/>
                  <a:pt x="954" y="778"/>
                  <a:pt x="1019" y="800"/>
                </a:cubicBezTo>
                <a:cubicBezTo>
                  <a:pt x="1063" y="815"/>
                  <a:pt x="1123" y="844"/>
                  <a:pt x="1169" y="850"/>
                </a:cubicBezTo>
                <a:cubicBezTo>
                  <a:pt x="1231" y="857"/>
                  <a:pt x="1292" y="867"/>
                  <a:pt x="1353" y="875"/>
                </a:cubicBezTo>
                <a:cubicBezTo>
                  <a:pt x="1364" y="878"/>
                  <a:pt x="1375" y="881"/>
                  <a:pt x="1386" y="884"/>
                </a:cubicBezTo>
                <a:cubicBezTo>
                  <a:pt x="1403" y="889"/>
                  <a:pt x="1436" y="900"/>
                  <a:pt x="1436" y="900"/>
                </a:cubicBezTo>
                <a:cubicBezTo>
                  <a:pt x="1508" y="886"/>
                  <a:pt x="1574" y="859"/>
                  <a:pt x="1645" y="842"/>
                </a:cubicBezTo>
                <a:cubicBezTo>
                  <a:pt x="1662" y="831"/>
                  <a:pt x="1678" y="820"/>
                  <a:pt x="1695" y="809"/>
                </a:cubicBezTo>
                <a:cubicBezTo>
                  <a:pt x="1703" y="803"/>
                  <a:pt x="1720" y="792"/>
                  <a:pt x="1720" y="792"/>
                </a:cubicBezTo>
                <a:cubicBezTo>
                  <a:pt x="1720" y="790"/>
                  <a:pt x="1711" y="733"/>
                  <a:pt x="1703" y="725"/>
                </a:cubicBezTo>
                <a:cubicBezTo>
                  <a:pt x="1689" y="711"/>
                  <a:pt x="1653" y="692"/>
                  <a:pt x="1653" y="692"/>
                </a:cubicBezTo>
                <a:cubicBezTo>
                  <a:pt x="1618" y="638"/>
                  <a:pt x="1606" y="651"/>
                  <a:pt x="1536" y="658"/>
                </a:cubicBezTo>
                <a:cubicBezTo>
                  <a:pt x="1457" y="686"/>
                  <a:pt x="1481" y="690"/>
                  <a:pt x="1378" y="700"/>
                </a:cubicBezTo>
                <a:cubicBezTo>
                  <a:pt x="1288" y="694"/>
                  <a:pt x="1208" y="682"/>
                  <a:pt x="1119" y="675"/>
                </a:cubicBezTo>
                <a:cubicBezTo>
                  <a:pt x="1089" y="665"/>
                  <a:pt x="1057" y="660"/>
                  <a:pt x="1027" y="650"/>
                </a:cubicBezTo>
                <a:cubicBezTo>
                  <a:pt x="928" y="583"/>
                  <a:pt x="798" y="588"/>
                  <a:pt x="685" y="583"/>
                </a:cubicBezTo>
                <a:cubicBezTo>
                  <a:pt x="607" y="572"/>
                  <a:pt x="534" y="548"/>
                  <a:pt x="459" y="525"/>
                </a:cubicBezTo>
                <a:cubicBezTo>
                  <a:pt x="517" y="486"/>
                  <a:pt x="491" y="497"/>
                  <a:pt x="535" y="483"/>
                </a:cubicBezTo>
                <a:cubicBezTo>
                  <a:pt x="645" y="410"/>
                  <a:pt x="781" y="385"/>
                  <a:pt x="910" y="375"/>
                </a:cubicBezTo>
                <a:cubicBezTo>
                  <a:pt x="954" y="367"/>
                  <a:pt x="993" y="355"/>
                  <a:pt x="1035" y="341"/>
                </a:cubicBezTo>
                <a:cubicBezTo>
                  <a:pt x="1057" y="327"/>
                  <a:pt x="1108" y="283"/>
                  <a:pt x="1136" y="274"/>
                </a:cubicBezTo>
                <a:cubicBezTo>
                  <a:pt x="1188" y="257"/>
                  <a:pt x="1242" y="250"/>
                  <a:pt x="1294" y="233"/>
                </a:cubicBezTo>
                <a:cubicBezTo>
                  <a:pt x="1351" y="194"/>
                  <a:pt x="1325" y="205"/>
                  <a:pt x="1369" y="191"/>
                </a:cubicBezTo>
                <a:cubicBezTo>
                  <a:pt x="1386" y="180"/>
                  <a:pt x="1412" y="176"/>
                  <a:pt x="1419" y="157"/>
                </a:cubicBezTo>
                <a:cubicBezTo>
                  <a:pt x="1429" y="129"/>
                  <a:pt x="1436" y="107"/>
                  <a:pt x="1453" y="82"/>
                </a:cubicBezTo>
                <a:cubicBezTo>
                  <a:pt x="1461" y="58"/>
                  <a:pt x="1473" y="32"/>
                  <a:pt x="1453" y="7"/>
                </a:cubicBezTo>
                <a:cubicBezTo>
                  <a:pt x="1447" y="0"/>
                  <a:pt x="1436" y="13"/>
                  <a:pt x="1428" y="16"/>
                </a:cubicBezTo>
                <a:close/>
              </a:path>
            </a:pathLst>
          </a:custGeom>
          <a:solidFill>
            <a:srgbClr val="ff0000">
              <a:alpha val="4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8112240" y="116676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5848200" y="81900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8209080" y="5837400"/>
            <a:ext cx="50760" cy="8388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80" bIns="-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475320" y="1838160"/>
            <a:ext cx="88920" cy="12096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6070680" y="373536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26880" y="1138320"/>
            <a:ext cx="51120" cy="8388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80" bIns="-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3071880" y="17175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7013520" y="3855960"/>
            <a:ext cx="127080" cy="15876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344600" y="28749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2484360" y="37828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7734240" y="2363760"/>
            <a:ext cx="127080" cy="15876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5318280" y="290988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536920"/>
            <a:ext cx="127080" cy="15876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800360" y="3443400"/>
            <a:ext cx="50760" cy="8388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80" bIns="-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273640" y="526572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2435400" y="4618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8879040" y="42339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8497800" y="5326200"/>
            <a:ext cx="82800" cy="12852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5857920" y="2849400"/>
            <a:ext cx="42840" cy="432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051000" y="266076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244440" y="355752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14520" y="553068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1816200" y="163980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4842000" y="1800360"/>
            <a:ext cx="50760" cy="8388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80" bIns="-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7380360" y="577224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3922560" y="508968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431640" y="3400560"/>
            <a:ext cx="51120" cy="8388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80" bIns="-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2840040" y="365112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297972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986680" y="5133960"/>
            <a:ext cx="4320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7677000" y="462600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2397240" y="545472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3102120" y="451332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6099120" y="215280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2543040" y="24526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6026040" y="57992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2139840" y="36338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7593120" y="33735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4786200" y="5619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998640" y="190512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7192800" y="1139760"/>
            <a:ext cx="4320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708120" y="433080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1584360" y="408780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727200" y="284652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1212840" y="86832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992840" y="2614680"/>
            <a:ext cx="126720" cy="15876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6043680" y="515952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8537400" y="6008760"/>
            <a:ext cx="4320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7604280" y="55706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8763120" y="55976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772400" y="58611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1725480" y="381960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6626160" y="2862360"/>
            <a:ext cx="127080" cy="15876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4043520" y="337356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6762600" y="483228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7632720" y="18399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5662440" y="2409840"/>
            <a:ext cx="4320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6307200" y="14954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6049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6991200" y="21891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5524560" y="2716200"/>
            <a:ext cx="127080" cy="15876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7823160" y="2822400"/>
            <a:ext cx="127080" cy="15876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8272440" y="23511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7790040" y="21398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7559640" y="73332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7942320" y="22924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5557680" y="1333440"/>
            <a:ext cx="4320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6593040" y="22384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5703840" y="178596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6459480" y="164772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6031080" y="25160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6148440" y="261936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5840280" y="227340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7429680" y="23828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8726400" y="13762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8632800" y="282564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441520" y="3589200"/>
            <a:ext cx="88920" cy="12096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5560920" y="510552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5253120" y="42656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4559400" y="289080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960720" y="2822400"/>
            <a:ext cx="42840" cy="432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4064040" y="21398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476520" y="12945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6880" y="223992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1109520" y="33908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827360" y="22496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201760" y="17366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2587680" y="31496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1243080" y="51274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1971720" y="464040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236520" y="43988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7167600" y="207972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5992920" y="242568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1969920" y="2625840"/>
            <a:ext cx="4320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1290600" y="14302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1919160" y="36561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2077920" y="35542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3821040" y="57196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6332400" y="6359400"/>
            <a:ext cx="2651400" cy="307080"/>
          </a:xfrm>
          <a:prstGeom prst="rect">
            <a:avLst/>
          </a:prstGeom>
          <a:solidFill>
            <a:srgbClr val="ffffff">
              <a:alpha val="74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.S. Ulrich with P.A. Wils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8480520" y="4229280"/>
            <a:ext cx="127080" cy="1584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1411200" y="206532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2898720" y="210492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6810480" y="540540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7188120" y="49989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0" y="4678200"/>
            <a:ext cx="42840" cy="432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6684840" y="347652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5705640" y="353700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1992240" y="42512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2486160" y="44067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4557600" y="48164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2682720" y="822240"/>
            <a:ext cx="5112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1319040" y="5788080"/>
            <a:ext cx="4320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1654200" y="273996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6380280" y="421164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7721640" y="404640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8790120" y="47163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7785000" y="49258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5424480" y="390672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7277040" y="342432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860400" y="53085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925560" y="15508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8145360" y="19112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6151680" y="160668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42040" y="99540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3897360" y="7779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2292480" y="9921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4695840" y="578016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459080" y="11415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4554360" y="1035000"/>
            <a:ext cx="5112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5861160" y="617220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198360" y="54356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2814480" y="4803840"/>
            <a:ext cx="5112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6950160" y="14367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8283600" y="83664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8840880" y="308916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380200" y="2098800"/>
            <a:ext cx="50760" cy="8388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80" bIns="-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2327400" y="223992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1689120" y="8589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2349360" y="163512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267160" y="1558080"/>
            <a:ext cx="4320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857920" y="3132000"/>
            <a:ext cx="127080" cy="15876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8785080" y="351144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8082000" y="37101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6784920" y="578628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8178840" y="6168960"/>
            <a:ext cx="42840" cy="428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7891560" y="5418000"/>
            <a:ext cx="50760" cy="8424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646200" y="3908520"/>
            <a:ext cx="88920" cy="120600"/>
          </a:xfrm>
          <a:prstGeom prst="diamond">
            <a:avLst/>
          </a:prstGeom>
          <a:solidFill>
            <a:srgbClr val="eb0000"/>
          </a:solidFill>
          <a:ln w="38160">
            <a:solidFill>
              <a:srgbClr val="eb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50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3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62120" y="144792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571680" y="2414520"/>
            <a:ext cx="79819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30000"/>
              </a:lnSpc>
              <a:buClr>
                <a:srgbClr val="0b0bec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ngles enable hospitals to separate patients upon admission, making it possible to prevent unrecognized carriers of pathogens from infecting others in multi-bed spa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994360" y="3062160"/>
            <a:ext cx="2309760" cy="5040"/>
          </a:xfrm>
          <a:prstGeom prst="line">
            <a:avLst/>
          </a:prstGeom>
          <a:ln w="28440">
            <a:solidFill>
              <a:srgbClr val="0c0c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922320" y="730080"/>
            <a:ext cx="731520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0beb"/>
                </a:solidFill>
                <a:latin typeface="Verdana"/>
              </a:rPr>
              <a:t>Why Single-Bed Rooms Reduce Infection R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987480" y="3692520"/>
            <a:ext cx="4908600" cy="4680"/>
          </a:xfrm>
          <a:prstGeom prst="line">
            <a:avLst/>
          </a:prstGeom>
          <a:ln w="28440">
            <a:solidFill>
              <a:srgbClr val="0c0c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79360" y="846000"/>
            <a:ext cx="853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blem: </a:t>
            </a:r>
            <a:r>
              <a:rPr b="1" lang="en-US" sz="3600" spc="-1" strike="noStrike">
                <a:solidFill>
                  <a:srgbClr val="ec0000"/>
                </a:solidFill>
                <a:latin typeface="Verdana"/>
              </a:rPr>
              <a:t>Unwashed Staff H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1104840" y="2070000"/>
            <a:ext cx="6908760" cy="184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w hand washing compliance    has strong causal link with   contact transmission of inf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014480" y="4192560"/>
            <a:ext cx="71276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3680" indent="-349200">
              <a:lnSpc>
                <a:spcPct val="115000"/>
              </a:lnSpc>
              <a:buClr>
                <a:srgbClr val="ea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iance in busy units: </a:t>
            </a:r>
            <a:r>
              <a:rPr b="1" lang="en-US" sz="2800" spc="-1" strike="noStrike">
                <a:solidFill>
                  <a:srgbClr val="e60000"/>
                </a:solidFill>
                <a:latin typeface="Verdana"/>
              </a:rPr>
              <a:t>14-28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63680" indent="-349200">
              <a:lnSpc>
                <a:spcPct val="115000"/>
              </a:lnSpc>
              <a:spcBef>
                <a:spcPts val="1749"/>
              </a:spcBef>
              <a:buClr>
                <a:srgbClr val="ea0000"/>
              </a:buClr>
              <a:buSzPct val="75000"/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inadequat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rans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rcRect l="3491" t="0" r="0" b="0"/>
          <a:stretch/>
        </p:blipFill>
        <p:spPr>
          <a:xfrm>
            <a:off x="3740040" y="0"/>
            <a:ext cx="5062680" cy="685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269" name=""/>
          <p:cNvSpPr/>
          <p:nvPr/>
        </p:nvSpPr>
        <p:spPr>
          <a:xfrm>
            <a:off x="7543800" y="3411360"/>
            <a:ext cx="1266840" cy="703800"/>
          </a:xfrm>
          <a:prstGeom prst="rect">
            <a:avLst/>
          </a:prstGeom>
          <a:solidFill>
            <a:srgbClr val="ffffff">
              <a:alpha val="42000"/>
            </a:srgbClr>
          </a:solidFill>
          <a:ln w="6480">
            <a:solidFill>
              <a:srgbClr val="101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0fa"/>
                </a:solidFill>
                <a:latin typeface="Verdana"/>
              </a:rPr>
              <a:t>Patient B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8129520" y="4202280"/>
            <a:ext cx="623880" cy="298440"/>
          </a:xfrm>
          <a:prstGeom prst="rightArrow">
            <a:avLst>
              <a:gd name="adj1" fmla="val 30852"/>
              <a:gd name="adj2" fmla="val 51981"/>
            </a:avLst>
          </a:prstGeom>
          <a:solidFill>
            <a:srgbClr val="0f0fff"/>
          </a:solidFill>
          <a:ln w="38160">
            <a:solidFill>
              <a:srgbClr val="101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6532560" y="1803240"/>
            <a:ext cx="2244600" cy="703800"/>
          </a:xfrm>
          <a:prstGeom prst="rect">
            <a:avLst/>
          </a:prstGeom>
          <a:solidFill>
            <a:srgbClr val="ffffff">
              <a:alpha val="59000"/>
            </a:srgbClr>
          </a:solidFill>
          <a:ln w="6480">
            <a:solidFill>
              <a:srgbClr val="101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0fa"/>
                </a:solidFill>
                <a:latin typeface="Verdana"/>
              </a:rPr>
              <a:t>Alcohol-based gel dispens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 rot="10800000">
            <a:off x="6502320" y="1413000"/>
            <a:ext cx="587520" cy="288720"/>
          </a:xfrm>
          <a:prstGeom prst="rightArrow">
            <a:avLst>
              <a:gd name="adj1" fmla="val 30852"/>
              <a:gd name="adj2" fmla="val 50600"/>
            </a:avLst>
          </a:prstGeom>
          <a:solidFill>
            <a:srgbClr val="0f0fff"/>
          </a:solidFill>
          <a:ln w="38160">
            <a:solidFill>
              <a:srgbClr val="0a0a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3714840" y="2021040"/>
            <a:ext cx="1779480" cy="1008720"/>
          </a:xfrm>
          <a:prstGeom prst="rect">
            <a:avLst/>
          </a:prstGeom>
          <a:solidFill>
            <a:srgbClr val="ffffff">
              <a:alpha val="73000"/>
            </a:srgbClr>
          </a:solidFill>
          <a:ln w="3240">
            <a:solidFill>
              <a:srgbClr val="101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0fa"/>
                </a:solidFill>
                <a:latin typeface="Verdana"/>
              </a:rPr>
              <a:t>Automatic faucet (no touch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4875120" y="3119400"/>
            <a:ext cx="623880" cy="260280"/>
          </a:xfrm>
          <a:prstGeom prst="rightArrow">
            <a:avLst>
              <a:gd name="adj1" fmla="val 30852"/>
              <a:gd name="adj2" fmla="val 59602"/>
            </a:avLst>
          </a:prstGeom>
          <a:solidFill>
            <a:srgbClr val="0f0fff"/>
          </a:solidFill>
          <a:ln w="38160">
            <a:solidFill>
              <a:srgbClr val="101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1306440" y="3139920"/>
            <a:ext cx="3095640" cy="1008720"/>
          </a:xfrm>
          <a:prstGeom prst="rect">
            <a:avLst/>
          </a:prstGeom>
          <a:solidFill>
            <a:srgbClr val="ffffff">
              <a:alpha val="70000"/>
            </a:srgbClr>
          </a:solidFill>
          <a:ln w="3240">
            <a:solidFill>
              <a:srgbClr val="101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0fa"/>
                </a:solidFill>
                <a:latin typeface="Verdana"/>
              </a:rPr>
              <a:t>Easy-to-clean basin counter (continuous impervious surfa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4081320" y="4172040"/>
            <a:ext cx="506520" cy="260280"/>
          </a:xfrm>
          <a:prstGeom prst="rightArrow">
            <a:avLst>
              <a:gd name="adj1" fmla="val 30852"/>
              <a:gd name="adj2" fmla="val 48390"/>
            </a:avLst>
          </a:prstGeom>
          <a:solidFill>
            <a:srgbClr val="0f0fff"/>
          </a:solidFill>
          <a:ln w="38160">
            <a:solidFill>
              <a:srgbClr val="101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298440" y="476280"/>
            <a:ext cx="3462480" cy="21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09c8"/>
                </a:solidFill>
                <a:latin typeface="Verdana"/>
              </a:rPr>
              <a:t>Design to Increase Hand Was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1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09c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909c8"/>
                </a:solidFill>
                <a:latin typeface="Verdana"/>
              </a:rPr>
              <a:t>Conveniently   </a:t>
            </a:r>
            <a:r>
              <a:rPr b="0" lang="en-US" sz="2400" spc="-1" strike="noStrike">
                <a:solidFill>
                  <a:srgbClr val="0909c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909c8"/>
                </a:solidFill>
                <a:latin typeface="Verdana"/>
              </a:rPr>
              <a:t>located basin in </a:t>
            </a:r>
            <a:r>
              <a:rPr b="0" lang="en-US" sz="2400" spc="-1" strike="noStrike">
                <a:solidFill>
                  <a:srgbClr val="0909c8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909c8"/>
                </a:solidFill>
                <a:latin typeface="Verdana"/>
              </a:rPr>
              <a:t>single 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8175600" y="2554200"/>
            <a:ext cx="623880" cy="298440"/>
          </a:xfrm>
          <a:prstGeom prst="rightArrow">
            <a:avLst>
              <a:gd name="adj1" fmla="val 30852"/>
              <a:gd name="adj2" fmla="val 51981"/>
            </a:avLst>
          </a:prstGeom>
          <a:solidFill>
            <a:srgbClr val="0f0fff"/>
          </a:solidFill>
          <a:ln w="38160">
            <a:solidFill>
              <a:srgbClr val="101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6541920" y="684360"/>
            <a:ext cx="1629000" cy="703800"/>
          </a:xfrm>
          <a:prstGeom prst="rect">
            <a:avLst/>
          </a:prstGeom>
          <a:solidFill>
            <a:srgbClr val="ffffff">
              <a:alpha val="62000"/>
            </a:srgbClr>
          </a:solidFill>
          <a:ln w="3240">
            <a:solidFill>
              <a:srgbClr val="1010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10fa"/>
                </a:solidFill>
                <a:latin typeface="Verdana"/>
              </a:rPr>
              <a:t>Soap dispens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6059520" y="5645160"/>
            <a:ext cx="2611440" cy="859680"/>
          </a:xfrm>
          <a:prstGeom prst="rect">
            <a:avLst/>
          </a:prstGeom>
          <a:solidFill>
            <a:srgbClr val="ffffff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D. Anders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Ambulatory Cancer Cen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344520" y="4324320"/>
            <a:ext cx="341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0000"/>
                </a:solidFill>
                <a:latin typeface="Verdana"/>
              </a:rPr>
              <a:t>Handwash basins and hand rub dispensers should be close to staff movement paths, visually prominent, near care po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857240" y="-6480"/>
            <a:ext cx="5127840" cy="6858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3" name=""/>
          <p:cNvSpPr/>
          <p:nvPr/>
        </p:nvSpPr>
        <p:spPr>
          <a:xfrm>
            <a:off x="5819760" y="5807160"/>
            <a:ext cx="2841480" cy="80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rian West Medical Cent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anapol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:  H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8680" cy="68706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284640" y="403200"/>
            <a:ext cx="5325840" cy="861480"/>
          </a:xfrm>
          <a:prstGeom prst="rect">
            <a:avLst/>
          </a:prstGeom>
          <a:solidFill>
            <a:srgbClr val="eaeaea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busy preoccupied persons, out-of-sight may be out-of-m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945720" y="960120"/>
            <a:ext cx="66517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beb"/>
                </a:solidFill>
                <a:latin typeface="Verdana"/>
              </a:rPr>
              <a:t>STUDY</a:t>
            </a:r>
            <a:r>
              <a:rPr b="1" lang="en-US" sz="2400" spc="-1" strike="noStrike">
                <a:solidFill>
                  <a:srgbClr val="0b0beb"/>
                </a:solidFill>
                <a:latin typeface="Verdana"/>
              </a:rPr>
              <a:t>:  </a:t>
            </a:r>
            <a:r>
              <a:rPr b="1" i="1" lang="en-US" sz="2800" spc="-1" strike="noStrike">
                <a:solidFill>
                  <a:srgbClr val="0b0beb"/>
                </a:solidFill>
                <a:latin typeface="Verdana"/>
              </a:rPr>
              <a:t>Effects of ICU Design on Handwash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5181480" y="352440"/>
            <a:ext cx="3581640" cy="459720"/>
          </a:xfrm>
          <a:prstGeom prst="rect">
            <a:avLst/>
          </a:prstGeom>
          <a:solidFill>
            <a:srgbClr val="ffff00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SEARCH EX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692280" y="2201760"/>
            <a:ext cx="77515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5840" indent="-285840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beb"/>
                </a:solidFill>
                <a:latin typeface="Verdana"/>
              </a:rPr>
              <a:t>Study sites:</a:t>
            </a:r>
            <a:r>
              <a:rPr b="0" lang="en-US" sz="2800" spc="-1" strike="noStrike">
                <a:solidFill>
                  <a:srgbClr val="3232c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intensive care units (ICUs)--one older, one new--in a Texas hospit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10000"/>
              </a:lnSpc>
              <a:spcBef>
                <a:spcPts val="1576"/>
              </a:spcBef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0beb"/>
                </a:solidFill>
                <a:latin typeface="Verdana"/>
              </a:rPr>
              <a:t>Three types of patient room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8720" indent="-285840">
              <a:lnSpc>
                <a:spcPct val="110000"/>
              </a:lnSpc>
              <a:spcBef>
                <a:spcPts val="1049"/>
              </a:spcBef>
              <a:buClr>
                <a:srgbClr val="ea0000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-bed open b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8720" indent="-285840">
              <a:lnSpc>
                <a:spcPct val="110000"/>
              </a:lnSpc>
              <a:spcBef>
                <a:spcPts val="1199"/>
              </a:spcBef>
              <a:buClr>
                <a:srgbClr val="ea0000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mall single-bed room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8720" indent="-285840">
              <a:lnSpc>
                <a:spcPct val="110000"/>
              </a:lnSpc>
              <a:spcBef>
                <a:spcPts val="1349"/>
              </a:spcBef>
              <a:buClr>
                <a:srgbClr val="ea0000"/>
              </a:buClr>
              <a:buSzPct val="10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rge single-bed rooms with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ecentraliz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nursing s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863640" y="2019240"/>
            <a:ext cx="5877000" cy="1800"/>
          </a:xfrm>
          <a:prstGeom prst="line">
            <a:avLst/>
          </a:prstGeom>
          <a:ln w="22320">
            <a:solidFill>
              <a:srgbClr val="0c0c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4519440" y="1503360"/>
            <a:ext cx="4027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Quan and Ulrich, in submiss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5030640" y="4495680"/>
            <a:ext cx="617760" cy="952560"/>
          </a:xfrm>
          <a:custGeom>
            <a:avLst/>
            <a:gdLst>
              <a:gd name="textAreaLeft" fmla="*/ 0 w 617760"/>
              <a:gd name="textAreaRight" fmla="*/ 223200 w 617760"/>
              <a:gd name="textAreaTop" fmla="*/ 39600 h 952560"/>
              <a:gd name="textAreaBottom" fmla="*/ 912960 h 95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40"/>
                  <a:pt x="10800" y="2880"/>
                </a:cubicBezTo>
                <a:lnTo>
                  <a:pt x="10800" y="7920"/>
                </a:lnTo>
                <a:cubicBezTo>
                  <a:pt x="10800" y="9360"/>
                  <a:pt x="16200" y="10800"/>
                  <a:pt x="21600" y="10800"/>
                </a:cubicBezTo>
                <a:cubicBezTo>
                  <a:pt x="16200" y="10800"/>
                  <a:pt x="10800" y="12240"/>
                  <a:pt x="10800" y="13680"/>
                </a:cubicBezTo>
                <a:lnTo>
                  <a:pt x="10800" y="18720"/>
                </a:lnTo>
                <a:cubicBezTo>
                  <a:pt x="10800" y="2016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5587920" y="4532400"/>
            <a:ext cx="226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ntralized nurse s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0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21:16:30Z</dcterms:created>
  <dc:creator>Ulrich Laptop</dc:creator>
  <dc:description/>
  <dc:language>en-US</dc:language>
  <cp:lastModifiedBy>RUlrich</cp:lastModifiedBy>
  <dcterms:modified xsi:type="dcterms:W3CDTF">2007-09-28T13:54:26Z</dcterms:modified>
  <cp:revision>2846</cp:revision>
  <dc:subject/>
  <dc:title>PowerPoint Presentation</dc:title>
</cp:coreProperties>
</file>