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20.wmf" ContentType="image/x-wmf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020600" y="723600"/>
            <a:ext cx="4819680" cy="36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e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c0ce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578120"/>
            <a:ext cx="5029200" cy="4335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251F7CF2-26E7-4C31-A8A0-1305FC8BD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440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12ABECC5-74E8-4309-AEAF-D77BDCE4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440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22400" y="723960"/>
            <a:ext cx="4816440" cy="36129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579560"/>
            <a:ext cx="5489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65DA805E-EC2B-40BF-98A8-B0C9AE27C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578120"/>
            <a:ext cx="502920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25640" y="727200"/>
            <a:ext cx="4813200" cy="36097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578120"/>
            <a:ext cx="5029200" cy="50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e research study looked at the infection rate of infants before and after they were moved to private rooms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251C-8F81-4D76-9387-93A6C9FFE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8427-C00A-4D87-BF6A-13ACF9C4C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9E1A-0C1C-4171-9507-863CA3EC2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19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7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52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19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7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3D38-0E7C-470C-9AF1-7C9191DA1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7040" y="515520"/>
            <a:ext cx="809928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05E8-C259-4B4B-99BD-7095FB513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9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87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52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9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87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11C7-4A73-4C94-A5DB-A44D61C6F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91DE-EDE5-4358-B98C-D4BBCF879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F8E8-B0AA-47AE-A042-B2E410837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7040" y="515520"/>
            <a:ext cx="809928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9E4B-48A2-4CDD-82E2-7EA77440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E604-E804-4A32-8020-BA568846A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D058-0E40-4E50-966F-23FD05EDB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E907-EA76-4D8A-B6B5-09C6906D4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0c0cec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9080">
              <a:lnSpc>
                <a:spcPct val="105000"/>
              </a:lnSpc>
              <a:buClr>
                <a:srgbClr val="ea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6240" indent="-228600">
              <a:lnSpc>
                <a:spcPct val="10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5000"/>
              </a:lnSpc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5000"/>
              </a:lnSpc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5000"/>
              </a:lnSpc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675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BB4-617B-42A3-9D79-3D02AE381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9800" y="609480"/>
            <a:ext cx="8204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e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c0ce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1760" y="1980720"/>
            <a:ext cx="817092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799"/>
              </a:spcBef>
              <a:buClr>
                <a:srgbClr val="0c0ced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05000"/>
              </a:lnSpc>
              <a:spcBef>
                <a:spcPts val="799"/>
              </a:spcBef>
              <a:buClr>
                <a:srgbClr val="ea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47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44600" y="1855800"/>
            <a:ext cx="64911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ec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c0cec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0c0cec"/>
                </a:solidFill>
                <a:latin typeface="Verdana"/>
              </a:rPr>
              <a:t>Evidence-Based Design for Safety and Qu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603520" y="4522680"/>
            <a:ext cx="3968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oger S. Ulrich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010120"/>
            <a:ext cx="5364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er for Health Systems and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ges of Architecture and Medic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A&amp;M Univers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12948" t="9124" r="8632" b="0"/>
          <a:stretch/>
        </p:blipFill>
        <p:spPr>
          <a:xfrm>
            <a:off x="379260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09760" y="1835280"/>
            <a:ext cx="30938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c0ced"/>
              </a:buClr>
              <a:buSzPct val="90000"/>
              <a:buFont typeface="Verdana"/>
              <a:buChar char="•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ks and ge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ens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ed close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 work p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8210520" y="447840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4043520" y="4492800"/>
            <a:ext cx="20448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6396120" y="1957320"/>
            <a:ext cx="204840" cy="19548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6035760" y="264960"/>
            <a:ext cx="411120" cy="3049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8039880" y="2642400"/>
            <a:ext cx="411120" cy="3045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186080" y="2415960"/>
            <a:ext cx="411120" cy="3351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8250120" y="2941560"/>
            <a:ext cx="204840" cy="19548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224240" y="220824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6418440" y="243000"/>
            <a:ext cx="20448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94160" y="2406600"/>
            <a:ext cx="1811520" cy="1540080"/>
          </a:xfrm>
          <a:prstGeom prst="line">
            <a:avLst/>
          </a:prstGeom>
          <a:ln w="50760">
            <a:solidFill>
              <a:srgbClr val="00c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232680" y="2398680"/>
            <a:ext cx="1819080" cy="1546200"/>
          </a:xfrm>
          <a:prstGeom prst="line">
            <a:avLst/>
          </a:prstGeom>
          <a:ln w="50760">
            <a:solidFill>
              <a:srgbClr val="00c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5702400" y="6053040"/>
            <a:ext cx="382320" cy="3412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5619600" y="618804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6010200" y="1792440"/>
            <a:ext cx="401760" cy="606240"/>
          </a:xfrm>
          <a:prstGeom prst="ellipse">
            <a:avLst/>
          </a:prstGeom>
          <a:solidFill>
            <a:srgbClr val="3fffff">
              <a:alpha val="8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5869080" y="18144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5686560" y="1793880"/>
            <a:ext cx="16956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502240" y="179856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7000" y="186696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210280" y="19890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5106960" y="21366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014800" y="230832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4943520" y="247968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4873680" y="264960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82096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38680" y="299232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4667400" y="3160800"/>
            <a:ext cx="16956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4597560" y="3330720"/>
            <a:ext cx="16956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4522680" y="34956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506840" y="2205000"/>
            <a:ext cx="682560" cy="520560"/>
          </a:xfrm>
          <a:prstGeom prst="line">
            <a:avLst/>
          </a:prstGeom>
          <a:ln w="63360">
            <a:solidFill>
              <a:srgbClr val="00cc00"/>
            </a:solidFill>
            <a:prstDash val="sysDot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399960" y="635040"/>
            <a:ext cx="3340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New Intensive Care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739800" y="4473720"/>
            <a:ext cx="411120" cy="3142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849240" y="410688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1257480" y="3936960"/>
            <a:ext cx="2352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l dispen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552600" y="3848040"/>
            <a:ext cx="2827080" cy="105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514440" y="5211720"/>
            <a:ext cx="306864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. Joseph’s Medical Center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yan, T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ef"/>
                </a:solidFill>
                <a:latin typeface="Comic Sans MS"/>
              </a:rPr>
              <a:t>Design: WHR Archit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322280" y="811080"/>
          <a:ext cx="7804080" cy="59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811080"/>
                    <a:ext cx="780408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314360" y="554184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1177920" y="71748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181160" y="150660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1181160" y="231624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1171440" y="313524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162080" y="394488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474516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598840" y="3611520"/>
            <a:ext cx="960480" cy="2154240"/>
          </a:xfrm>
          <a:prstGeom prst="rect">
            <a:avLst/>
          </a:prstGeom>
          <a:solidFill>
            <a:srgbClr val="b43c00"/>
          </a:solidFill>
          <a:ln w="0">
            <a:noFill/>
          </a:ln>
          <a:effectLst>
            <a:outerShdw dist="153753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4751280" y="2752560"/>
            <a:ext cx="960480" cy="3013200"/>
          </a:xfrm>
          <a:prstGeom prst="rect">
            <a:avLst/>
          </a:prstGeom>
          <a:solidFill>
            <a:srgbClr val="6dd9ff"/>
          </a:solidFill>
          <a:ln w="0">
            <a:noFill/>
          </a:ln>
          <a:effectLst>
            <a:outerShdw dist="153753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6905520" y="2000160"/>
            <a:ext cx="960480" cy="3768840"/>
          </a:xfrm>
          <a:prstGeom prst="rect">
            <a:avLst/>
          </a:prstGeom>
          <a:solidFill>
            <a:srgbClr val="0c0cee"/>
          </a:solidFill>
          <a:ln w="0">
            <a:noFill/>
          </a:ln>
          <a:effectLst>
            <a:outerShdw dist="153753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2633760" y="516564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4791240" y="518652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8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6937200" y="518796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565440" y="2730600"/>
            <a:ext cx="1163880" cy="868320"/>
          </a:xfrm>
          <a:prstGeom prst="line">
            <a:avLst/>
          </a:prstGeom>
          <a:ln w="41400">
            <a:solidFill>
              <a:srgbClr val="e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5654520" y="2629080"/>
            <a:ext cx="1308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ec0000"/>
                </a:solidFill>
                <a:latin typeface="Verdana"/>
                <a:ea typeface="宋体"/>
              </a:rPr>
              <a:t>28%</a:t>
            </a:r>
            <a:r>
              <a:rPr b="1" lang="en-US" sz="1800" spc="-1" strike="noStrike">
                <a:solidFill>
                  <a:srgbClr val="ec0000"/>
                </a:solidFill>
                <a:latin typeface="Verdana"/>
                <a:ea typeface="宋体"/>
              </a:rPr>
              <a:t> increa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719680" y="2014560"/>
            <a:ext cx="1184400" cy="738000"/>
          </a:xfrm>
          <a:prstGeom prst="line">
            <a:avLst/>
          </a:prstGeom>
          <a:ln w="41400">
            <a:solidFill>
              <a:srgbClr val="e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3444840" y="3433680"/>
            <a:ext cx="1436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ec0000"/>
                </a:solidFill>
                <a:latin typeface="Verdana"/>
              </a:rPr>
              <a:t>42%</a:t>
            </a:r>
            <a:r>
              <a:rPr b="1" lang="en-US" sz="1800" spc="-1" strike="noStrike">
                <a:solidFill>
                  <a:srgbClr val="ec0000"/>
                </a:solidFill>
                <a:latin typeface="Verdana"/>
              </a:rPr>
              <a:t> incre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 rot="184200">
            <a:off x="3111120" y="1707840"/>
            <a:ext cx="4084560" cy="1992240"/>
          </a:xfrm>
          <a:custGeom>
            <a:avLst/>
            <a:gdLst/>
            <a:ahLst/>
            <a:rect l="l" t="t" r="r" b="b"/>
            <a:pathLst>
              <a:path w="1758" h="756">
                <a:moveTo>
                  <a:pt x="0" y="756"/>
                </a:moveTo>
                <a:cubicBezTo>
                  <a:pt x="192" y="522"/>
                  <a:pt x="385" y="288"/>
                  <a:pt x="678" y="162"/>
                </a:cubicBezTo>
                <a:cubicBezTo>
                  <a:pt x="971" y="36"/>
                  <a:pt x="1598" y="9"/>
                  <a:pt x="1758" y="0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6210360" y="911160"/>
            <a:ext cx="21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4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total incr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875880" y="3412800"/>
            <a:ext cx="38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ndwashing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856800" y="961920"/>
            <a:ext cx="18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021040" y="488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ing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(Quan and Ulrich, 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20840" y="5821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c"/>
                </a:solidFill>
                <a:latin typeface="Verdana"/>
                <a:ea typeface="宋体"/>
              </a:rPr>
              <a:t>Infection Rates in Old vs New IC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0bec"/>
                </a:solidFill>
                <a:latin typeface="Verdana"/>
                <a:ea typeface="宋体"/>
              </a:rPr>
              <a:t>source: Quan and Ulrich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4280" y="2355840"/>
            <a:ext cx="8534520" cy="3711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4809960" y="2085840"/>
            <a:ext cx="0" cy="3353040"/>
          </a:xfrm>
          <a:prstGeom prst="line">
            <a:avLst/>
          </a:prstGeom>
          <a:ln w="6048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708120" y="3762360"/>
            <a:ext cx="40734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838760" y="4476600"/>
            <a:ext cx="3962520" cy="0"/>
          </a:xfrm>
          <a:prstGeom prst="line">
            <a:avLst/>
          </a:prstGeom>
          <a:ln w="38160">
            <a:solidFill>
              <a:srgbClr val="0c0c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5391000" y="3416400"/>
            <a:ext cx="2851200" cy="520560"/>
          </a:xfrm>
          <a:prstGeom prst="rect">
            <a:avLst/>
          </a:prstGeom>
          <a:solidFill>
            <a:srgbClr val="c1c1c1">
              <a:alpha val="8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Arial"/>
              </a:rPr>
              <a:t>Reduced 44.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5156280" y="1990800"/>
            <a:ext cx="3357360" cy="1449720"/>
          </a:xfrm>
          <a:prstGeom prst="rect">
            <a:avLst/>
          </a:prstGeom>
          <a:solidFill>
            <a:srgbClr val="c1c1c1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0000"/>
                </a:solidFill>
                <a:latin typeface="Verdana"/>
              </a:rPr>
              <a:t>Move to new ICU with single rooms &amp; better handwashing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1754280" y="20019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ld IC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38400" y="2590920"/>
            <a:ext cx="304920" cy="304560"/>
          </a:xfrm>
          <a:prstGeom prst="line">
            <a:avLst/>
          </a:prstGeom>
          <a:ln w="38160">
            <a:solidFill>
              <a:srgbClr val="e00c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22480" y="525600"/>
            <a:ext cx="68594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beb"/>
                </a:solidFill>
                <a:latin typeface="Verdana"/>
              </a:rPr>
              <a:t>Transfers Worsen Patient and Staff Safe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06480" y="1868400"/>
            <a:ext cx="69055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5000"/>
              </a:lnSpc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Increase inf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895320" y="2625840"/>
            <a:ext cx="734688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5000"/>
              </a:lnSpc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Transfers cause sharp peaks in medical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Verdana"/>
              </a:rPr>
              <a:t>err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lnSpc>
                <a:spcPct val="105000"/>
              </a:lnSpc>
              <a:spcBef>
                <a:spcPts val="1400"/>
              </a:spcBef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Major cause of staff inju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lnSpc>
                <a:spcPct val="105000"/>
              </a:lnSpc>
              <a:spcBef>
                <a:spcPts val="1400"/>
              </a:spcBef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Each transfer requires hours of staff time and paper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lnSpc>
                <a:spcPct val="105000"/>
              </a:lnSpc>
              <a:spcBef>
                <a:spcPts val="1400"/>
              </a:spcBef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Each transfer adds .5 day to L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04920" y="442800"/>
            <a:ext cx="6933960" cy="7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Acuity-Adaptable, Single Coronary Critical Care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Methodist Hospital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387360" y="216000"/>
            <a:ext cx="1933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SA Life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390600" y="4357800"/>
            <a:ext cx="6824520" cy="221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876"/>
              </a:spcBef>
              <a:buClr>
                <a:srgbClr val="fccc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cc00"/>
                </a:solidFill>
                <a:latin typeface="Verdana"/>
              </a:rPr>
              <a:t>Transf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90% compared to unit with multi-bed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400"/>
              </a:spcBef>
              <a:buClr>
                <a:srgbClr val="fc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ves $5 million per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400"/>
              </a:spcBef>
              <a:buClr>
                <a:srgbClr val="fc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cc00"/>
                </a:solidFill>
                <a:latin typeface="Verdana"/>
              </a:rPr>
              <a:t>Medication erro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reduced 7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7715160" y="5164200"/>
            <a:ext cx="12193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cc00"/>
                </a:solidFill>
                <a:latin typeface="Tahoma"/>
              </a:rPr>
              <a:t>Pebble  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1184040" cy="70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41440" y="1778040"/>
            <a:ext cx="0" cy="162720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517680" y="1752480"/>
            <a:ext cx="2079360" cy="2271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17680" y="3233880"/>
            <a:ext cx="2054160" cy="1857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568240" y="1947960"/>
            <a:ext cx="27000" cy="131292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7760" y="501480"/>
            <a:ext cx="661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eb"/>
                </a:solidFill>
                <a:latin typeface="Verdana"/>
              </a:rPr>
              <a:t>Annual Medication Error Index </a:t>
            </a:r>
            <a:r>
              <a:rPr b="1" lang="en-US" sz="1800" spc="-1" strike="noStrike">
                <a:solidFill>
                  <a:srgbClr val="0c0ceb"/>
                </a:solidFill>
                <a:latin typeface="Verdana"/>
              </a:rPr>
              <a:t>(errors/patient days) coronary critical care</a:t>
            </a:r>
            <a:r>
              <a:rPr b="1" lang="en-US" sz="2400" spc="-1" strike="noStrike">
                <a:solidFill>
                  <a:srgbClr val="1111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c0cec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09480" y="1295280"/>
          <a:ext cx="853452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53452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603840" y="5486400"/>
            <a:ext cx="16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-1287360" y="29775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eb"/>
                </a:solidFill>
                <a:latin typeface="Verdana"/>
              </a:rPr>
              <a:t>More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85800" y="1828800"/>
            <a:ext cx="0" cy="838080"/>
          </a:xfrm>
          <a:prstGeom prst="line">
            <a:avLst/>
          </a:prstGeom>
          <a:ln w="38160">
            <a:solidFill>
              <a:srgbClr val="111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267080" y="1676520"/>
            <a:ext cx="0" cy="3657600"/>
          </a:xfrm>
          <a:prstGeom prst="line">
            <a:avLst/>
          </a:prstGeom>
          <a:ln w="111240">
            <a:solidFill>
              <a:srgbClr val="0c0ce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2438280"/>
            <a:ext cx="304560" cy="381240"/>
          </a:xfrm>
          <a:prstGeom prst="line">
            <a:avLst/>
          </a:prstGeom>
          <a:ln w="38160">
            <a:solidFill>
              <a:srgbClr val="0c0ce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724280" y="1828800"/>
            <a:ext cx="3657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eb"/>
                </a:solidFill>
                <a:latin typeface="Verdana"/>
              </a:rPr>
              <a:t>Move to new unit with single, acuity-adaptable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5662440"/>
            <a:ext cx="7772400" cy="7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A. Hendrich (2004). In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Keeping Patients Safe: Transforming the Work Environment of Nurse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Quality Chasm Series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stitute of Medic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2895480"/>
            <a:ext cx="297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2aa6"/>
                </a:solidFill>
                <a:latin typeface="Verdana"/>
              </a:rPr>
              <a:t>Old unit with multi-bed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9200" y="1933560"/>
            <a:ext cx="78883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4520" indent="-344520">
              <a:lnSpc>
                <a:spcPct val="110000"/>
              </a:lnSpc>
              <a:buClr>
                <a:srgbClr val="0c0cee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Most falls occur when pati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get out of bed unassis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da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Design for increasing assistance for patients and thereby reducing falls includ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9223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blem:</a:t>
            </a:r>
            <a:r>
              <a:rPr b="1" lang="en-US" sz="4800" spc="-1" strike="noStrike">
                <a:solidFill>
                  <a:srgbClr val="3232c6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e40c0c"/>
                </a:solidFill>
                <a:latin typeface="Century Gothic"/>
              </a:rPr>
              <a:t>Falls</a:t>
            </a:r>
            <a:r>
              <a:rPr b="0" lang="en-US" sz="4400" spc="-1" strike="noStrike">
                <a:solidFill>
                  <a:srgbClr val="e00000"/>
                </a:solidFill>
                <a:latin typeface="Century Goth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622440" y="4327560"/>
            <a:ext cx="788832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801720" indent="-343080">
              <a:lnSpc>
                <a:spcPct val="110000"/>
              </a:lnSpc>
              <a:spcBef>
                <a:spcPts val="799"/>
              </a:spcBef>
              <a:buClr>
                <a:srgbClr val="eb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Decentralized nurse s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01720" indent="-343080">
              <a:lnSpc>
                <a:spcPct val="110000"/>
              </a:lnSpc>
              <a:spcBef>
                <a:spcPts val="1199"/>
              </a:spcBef>
              <a:buClr>
                <a:srgbClr val="eb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Single-bed rooms designed to support family pres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0" t="0" r="0" b="523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04920" y="442800"/>
            <a:ext cx="6933960" cy="7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Acuity-Adaptable, Single Coronary Critical Care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Methodist Hospital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387360" y="216000"/>
            <a:ext cx="1933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SA Life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7715160" y="5164200"/>
            <a:ext cx="12193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cc00"/>
                </a:solidFill>
                <a:latin typeface="Tahoma"/>
              </a:rPr>
              <a:t>Pebble  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1184040" cy="707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862440" y="2567160"/>
            <a:ext cx="3024000" cy="1258560"/>
          </a:xfrm>
          <a:prstGeom prst="rect">
            <a:avLst/>
          </a:prstGeom>
          <a:noFill/>
          <a:ln w="31680">
            <a:solidFill>
              <a:srgbClr val="fafa00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2982960"/>
            <a:ext cx="249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00"/>
                </a:solidFill>
                <a:latin typeface="Verdana"/>
              </a:rPr>
              <a:t>Family Z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rcRect l="0" t="10799" r="0" b="8639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943600" y="2378160"/>
            <a:ext cx="2090880" cy="3336840"/>
          </a:xfrm>
          <a:prstGeom prst="ellipse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3581280" y="2971800"/>
            <a:ext cx="914400" cy="137160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2895480"/>
            <a:ext cx="533520" cy="838440"/>
          </a:xfrm>
          <a:prstGeom prst="ellipse">
            <a:avLst/>
          </a:prstGeom>
          <a:noFill/>
          <a:ln w="1908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536760" y="6172200"/>
            <a:ext cx="2390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sign: BSA LifeStruc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361800" y="5486400"/>
            <a:ext cx="5943600" cy="65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Acuity-Adaptable, Family Centered CC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Verdana"/>
              </a:rPr>
              <a:t>Methodist Hospital, Indianapol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380880"/>
            <a:ext cx="6629400" cy="886320"/>
          </a:xfrm>
          <a:prstGeom prst="rect">
            <a:avLst/>
          </a:prstGeom>
          <a:solidFill>
            <a:srgbClr val="e6e5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entralized nurse st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mprove observation of patients, safet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 rot="11419200">
            <a:off x="6541200" y="2763360"/>
            <a:ext cx="181080" cy="400320"/>
          </a:xfrm>
          <a:custGeom>
            <a:avLst/>
            <a:gdLst>
              <a:gd name="textAreaLeft" fmla="*/ 24120 w 181080"/>
              <a:gd name="textAreaRight" fmla="*/ 156960 w 181080"/>
              <a:gd name="textAreaTop" fmla="*/ 71280 h 400320"/>
              <a:gd name="textAreaBottom" fmla="*/ 2836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2" stAng="-5400000" swAng="5400000"/>
                <a:lnTo>
                  <a:pt x="21600" y="11454"/>
                </a:lnTo>
                <a:arcTo wR="21600" hR="7702" stAng="0" swAng="2851289"/>
                <a:lnTo>
                  <a:pt x="6704" y="21220"/>
                </a:lnTo>
                <a:lnTo>
                  <a:pt x="0" y="17280"/>
                </a:lnTo>
                <a:lnTo>
                  <a:pt x="6704" y="12580"/>
                </a:lnTo>
                <a:lnTo>
                  <a:pt x="6704" y="15024"/>
                </a:lnTo>
                <a:arcTo wR="21600" hR="7702" stAng="2851289" swAng="-2544262"/>
                <a:lnTo>
                  <a:pt x="20949" y="9578"/>
                </a:lnTo>
                <a:arcTo wR="21600" hR="7702" stAng="-307027" swAng="-5092973"/>
                <a:close/>
              </a:path>
              <a:path fill="darkenLess" w="21600" h="21600">
                <a:moveTo>
                  <a:pt x="0" y="0"/>
                </a:moveTo>
                <a:arcTo wR="21600" hR="7702" stAng="-5400000" swAng="5400000"/>
                <a:lnTo>
                  <a:pt x="21600" y="11454"/>
                </a:lnTo>
                <a:arcTo wR="21600" hR="7702" stAng="0" swAng="-307027"/>
                <a:lnTo>
                  <a:pt x="20949" y="9578"/>
                </a:lnTo>
                <a:arcTo wR="21600" hR="7702" stAng="-307027" swAng="-5092973"/>
                <a:close/>
              </a:path>
            </a:pathLst>
          </a:custGeom>
          <a:solidFill>
            <a:srgbClr val="00ffcc"/>
          </a:solidFill>
          <a:ln w="38160">
            <a:solidFill>
              <a:srgbClr val="00ffcc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8302680" y="2968560"/>
            <a:ext cx="604800" cy="208080"/>
          </a:xfrm>
          <a:prstGeom prst="rightArrow">
            <a:avLst>
              <a:gd name="adj1" fmla="val 38935"/>
              <a:gd name="adj2" fmla="val 58737"/>
            </a:avLst>
          </a:prstGeom>
          <a:solidFill>
            <a:srgbClr val="00ffcc"/>
          </a:solidFill>
          <a:ln w="38160">
            <a:solidFill>
              <a:srgbClr val="00ffcc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 rot="21385200">
            <a:off x="7270560" y="2916000"/>
            <a:ext cx="333360" cy="201600"/>
          </a:xfrm>
          <a:prstGeom prst="rightArrow">
            <a:avLst>
              <a:gd name="adj1" fmla="val 39204"/>
              <a:gd name="adj2" fmla="val 44731"/>
            </a:avLst>
          </a:prstGeom>
          <a:solidFill>
            <a:srgbClr val="00ffcc"/>
          </a:solidFill>
          <a:ln w="38160">
            <a:solidFill>
              <a:srgbClr val="00ffcc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500"/>
                            </p:stCondLst>
                            <p:childTnLst>
                              <p:par>
                                <p:cTn id="7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66720" y="1436760"/>
          <a:ext cx="838188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436760"/>
                    <a:ext cx="838188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 flipV="1">
            <a:off x="4257720" y="1765440"/>
            <a:ext cx="9360" cy="3582720"/>
          </a:xfrm>
          <a:prstGeom prst="line">
            <a:avLst/>
          </a:prstGeom>
          <a:ln w="95400">
            <a:solidFill>
              <a:srgbClr val="1111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1919160"/>
            <a:ext cx="3962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ff"/>
                </a:solidFill>
                <a:latin typeface="Verdana"/>
              </a:rPr>
              <a:t>Move to new unit with single family-centered rooms and decentralized nurse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381200" y="2846520"/>
            <a:ext cx="228600" cy="304560"/>
          </a:xfrm>
          <a:prstGeom prst="line">
            <a:avLst/>
          </a:prstGeom>
          <a:ln w="38160">
            <a:solidFill>
              <a:srgbClr val="1111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-1490400" y="2863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ff"/>
                </a:solidFill>
                <a:latin typeface="Tahoma"/>
              </a:rPr>
              <a:t>More F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9480" y="2057040"/>
            <a:ext cx="0" cy="1219320"/>
          </a:xfrm>
          <a:prstGeom prst="line">
            <a:avLst/>
          </a:prstGeom>
          <a:ln w="38160">
            <a:solidFill>
              <a:srgbClr val="111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619200" y="5734080"/>
            <a:ext cx="784836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A. Hendrich (2004). In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Keeping Patients Safe: Transforming the Work Environment of Nurse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Quality Chasm Series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stitute of Medici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14360" y="3171960"/>
            <a:ext cx="2971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2aa6"/>
                </a:solidFill>
                <a:latin typeface="Verdana"/>
              </a:rPr>
              <a:t>Old unit with multi-bed rooms, centralized nurse 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8360" y="523800"/>
            <a:ext cx="6445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c"/>
                </a:solidFill>
                <a:latin typeface="Verdana"/>
              </a:rPr>
              <a:t>Patient Fall Index</a:t>
            </a:r>
            <a:r>
              <a:rPr b="1" lang="en-US" sz="3200" spc="-1" strike="noStrike">
                <a:solidFill>
                  <a:srgbClr val="0b0bec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b0bec"/>
                </a:solidFill>
                <a:latin typeface="Verdana"/>
              </a:rPr>
              <a:t>falls per 100 patient days</a:t>
            </a: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c0cec"/>
              </a:solidFill>
              <a:latin typeface="Verdan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66880" y="3639960"/>
            <a:ext cx="5978520" cy="2019600"/>
          </a:xfrm>
          <a:prstGeom prst="rect">
            <a:avLst/>
          </a:prstGeom>
          <a:solidFill>
            <a:srgbClr val="ffffff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re evidence than expected: </a:t>
            </a:r>
            <a:r>
              <a:rPr b="1" lang="en-US" sz="2000" spc="-1" strike="noStrike">
                <a:solidFill>
                  <a:srgbClr val="ea0400"/>
                </a:solidFill>
                <a:latin typeface="Verdana"/>
              </a:rPr>
              <a:t>900+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rigorous studie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Ulrich &amp; Zimring, 200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LOT of good evidence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designs make hospitals riskier for patients, families &amp;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630360" y="6156360"/>
            <a:ext cx="79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ec"/>
                </a:solidFill>
                <a:latin typeface="Verdana"/>
              </a:rPr>
              <a:t>Full report:  www.healthdesign.org/research/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760" y="160020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3960" y="1398600"/>
            <a:ext cx="8237520" cy="54658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66280" y="4568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beb"/>
                </a:solidFill>
                <a:latin typeface="Verdana"/>
              </a:rPr>
              <a:t>Same-handed single patient room</a:t>
            </a:r>
            <a:br>
              <a:rPr sz="2000"/>
            </a:br>
            <a:r>
              <a:rPr b="0" lang="en-US" sz="2000" spc="-1" strike="noStrike">
                <a:solidFill>
                  <a:srgbClr val="0b0beb"/>
                </a:solidFill>
                <a:latin typeface="Verdana"/>
              </a:rPr>
              <a:t>With evidence-based design (EBD) safety features</a:t>
            </a:r>
            <a:endParaRPr b="1" lang="en-US" sz="20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3936960" y="2082960"/>
            <a:ext cx="2801880" cy="398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eb"/>
                </a:solidFill>
                <a:latin typeface="Arial"/>
              </a:rPr>
              <a:t>Large bathroom d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5834160" y="3041640"/>
            <a:ext cx="2773440" cy="7340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eb"/>
                </a:solidFill>
                <a:latin typeface="Arial"/>
              </a:rPr>
              <a:t>Direct path with hand assist to toi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638280" y="3808440"/>
            <a:ext cx="990360" cy="930240"/>
          </a:xfrm>
          <a:prstGeom prst="ellipse">
            <a:avLst/>
          </a:prstGeom>
          <a:noFill/>
          <a:ln w="4428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4952880"/>
            <a:ext cx="2427120" cy="7038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eb"/>
                </a:solidFill>
                <a:latin typeface="Arial"/>
              </a:rPr>
              <a:t>Handwashing sink with sight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4971960" y="2519280"/>
            <a:ext cx="703440" cy="1602000"/>
          </a:xfrm>
          <a:prstGeom prst="rect">
            <a:avLst/>
          </a:prstGeom>
          <a:noFill/>
          <a:ln w="4140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5624640" y="3757680"/>
            <a:ext cx="888840" cy="189000"/>
          </a:xfrm>
          <a:prstGeom prst="line">
            <a:avLst/>
          </a:prstGeom>
          <a:ln w="5400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076040" y="5861160"/>
            <a:ext cx="2143080" cy="984240"/>
          </a:xfrm>
          <a:prstGeom prst="line">
            <a:avLst/>
          </a:prstGeom>
          <a:ln w="38160">
            <a:solidFill>
              <a:srgbClr val="ea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4851360" y="5981760"/>
            <a:ext cx="3681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ublin Methodist Hospital, Dublin Oh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: Karlsberger with Ca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"/>
          <p:cNvSpPr/>
          <p:nvPr/>
        </p:nvSpPr>
        <p:spPr>
          <a:xfrm>
            <a:off x="3308400" y="1428840"/>
            <a:ext cx="2936880" cy="3373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0beb"/>
                </a:solidFill>
                <a:latin typeface="Arial"/>
              </a:rPr>
              <a:t>Sound-absorbing ceiling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0" r="0" b="4508"/>
          <a:stretch/>
        </p:blipFill>
        <p:spPr>
          <a:xfrm>
            <a:off x="809640" y="1947960"/>
            <a:ext cx="7527960" cy="4643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7640640" y="538200"/>
            <a:ext cx="855720" cy="5191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471680" y="576360"/>
            <a:ext cx="62769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bec"/>
                </a:solidFill>
                <a:latin typeface="Verdana"/>
              </a:rPr>
              <a:t>Same-handed single-bed rooms designed to increase patient 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(UK hospital design propos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189320" y="2754360"/>
            <a:ext cx="587520" cy="1333440"/>
          </a:xfrm>
          <a:prstGeom prst="line">
            <a:avLst/>
          </a:prstGeom>
          <a:ln w="47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165200" y="4100040"/>
            <a:ext cx="1576440" cy="932040"/>
          </a:xfrm>
          <a:prstGeom prst="line">
            <a:avLst/>
          </a:prstGeom>
          <a:ln w="442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 flipH="1" rot="18097800">
            <a:off x="5622480" y="4626000"/>
            <a:ext cx="816120" cy="1314360"/>
          </a:xfrm>
          <a:prstGeom prst="blockArc">
            <a:avLst>
              <a:gd name="adj1" fmla="val 13851180"/>
              <a:gd name="adj2" fmla="val 18548820"/>
              <a:gd name="adj3" fmla="val 0"/>
            </a:avLst>
          </a:prstGeom>
          <a:noFill/>
          <a:ln w="572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581800" y="4767120"/>
            <a:ext cx="156960" cy="84240"/>
          </a:xfrm>
          <a:prstGeom prst="line">
            <a:avLst/>
          </a:prstGeom>
          <a:ln w="38160">
            <a:solidFill>
              <a:srgbClr val="ea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4235400" y="4508640"/>
            <a:ext cx="130320" cy="230040"/>
          </a:xfrm>
          <a:prstGeom prst="line">
            <a:avLst/>
          </a:prstGeom>
          <a:ln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56600" cy="6853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971800" y="3124080"/>
            <a:ext cx="2590920" cy="685800"/>
          </a:xfrm>
          <a:prstGeom prst="rect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3429000"/>
            <a:ext cx="1219320" cy="533520"/>
          </a:xfrm>
          <a:prstGeom prst="rect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541520" y="2895480"/>
            <a:ext cx="820800" cy="381240"/>
          </a:xfrm>
          <a:prstGeom prst="ellipse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240" y="2209680"/>
            <a:ext cx="495360" cy="609840"/>
          </a:xfrm>
          <a:prstGeom prst="ellipse">
            <a:avLst/>
          </a:prstGeom>
          <a:solidFill>
            <a:srgbClr val="f60000">
              <a:alpha val="36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2855880"/>
            <a:ext cx="1666800" cy="420840"/>
          </a:xfrm>
          <a:prstGeom prst="rect">
            <a:avLst/>
          </a:prstGeom>
          <a:solidFill>
            <a:srgbClr val="f60000">
              <a:alpha val="35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8728200" y="1752480"/>
            <a:ext cx="301680" cy="846360"/>
          </a:xfrm>
          <a:prstGeom prst="ellipse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719400">
            <a:off x="533520" y="3200040"/>
            <a:ext cx="1143000" cy="533520"/>
          </a:xfrm>
          <a:prstGeom prst="ellipse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819520"/>
            <a:ext cx="457200" cy="623880"/>
          </a:xfrm>
          <a:prstGeom prst="ellipse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2514600"/>
            <a:ext cx="243000" cy="380880"/>
          </a:xfrm>
          <a:prstGeom prst="ellipse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1747800"/>
            <a:ext cx="344520" cy="1062000"/>
          </a:xfrm>
          <a:prstGeom prst="ellipse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5950080"/>
            <a:ext cx="5319720" cy="10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rfaces commonly contaminated by MR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Methicillin-resistant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taphylococcus aureu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413000"/>
            <a:ext cx="600120" cy="450720"/>
          </a:xfrm>
          <a:prstGeom prst="ellipse">
            <a:avLst/>
          </a:prstGeom>
          <a:solidFill>
            <a:srgbClr val="f60000">
              <a:alpha val="36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rot="21344400">
            <a:off x="4359240" y="3963600"/>
            <a:ext cx="344520" cy="211320"/>
          </a:xfrm>
          <a:custGeom>
            <a:avLst/>
            <a:gdLst/>
            <a:ahLst/>
            <a:rect l="l" t="t" r="r" b="b"/>
            <a:pathLst>
              <a:path w="217" h="133">
                <a:moveTo>
                  <a:pt x="0" y="0"/>
                </a:moveTo>
                <a:cubicBezTo>
                  <a:pt x="29" y="5"/>
                  <a:pt x="66" y="10"/>
                  <a:pt x="92" y="25"/>
                </a:cubicBezTo>
                <a:cubicBezTo>
                  <a:pt x="173" y="70"/>
                  <a:pt x="113" y="49"/>
                  <a:pt x="167" y="66"/>
                </a:cubicBezTo>
                <a:cubicBezTo>
                  <a:pt x="188" y="133"/>
                  <a:pt x="157" y="58"/>
                  <a:pt x="200" y="100"/>
                </a:cubicBezTo>
                <a:cubicBezTo>
                  <a:pt x="209" y="109"/>
                  <a:pt x="208" y="124"/>
                  <a:pt x="217" y="133"/>
                </a:cubicBezTo>
              </a:path>
            </a:pathLst>
          </a:custGeom>
          <a:noFill/>
          <a:ln w="57240">
            <a:solidFill>
              <a:srgbClr val="f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84280" y="3967200"/>
            <a:ext cx="25272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159" y="14"/>
                </a:moveTo>
                <a:cubicBezTo>
                  <a:pt x="108" y="22"/>
                  <a:pt x="27" y="0"/>
                  <a:pt x="9" y="55"/>
                </a:cubicBezTo>
                <a:cubicBezTo>
                  <a:pt x="0" y="158"/>
                  <a:pt x="1" y="116"/>
                  <a:pt x="1" y="181"/>
                </a:cubicBezTo>
              </a:path>
            </a:pathLst>
          </a:custGeom>
          <a:noFill/>
          <a:ln w="57240">
            <a:solidFill>
              <a:srgbClr val="f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409840" y="4006800"/>
            <a:ext cx="201600" cy="247680"/>
          </a:xfrm>
          <a:custGeom>
            <a:avLst/>
            <a:gdLst/>
            <a:ahLst/>
            <a:rect l="l" t="t" r="r" b="b"/>
            <a:pathLst>
              <a:path w="135" h="140">
                <a:moveTo>
                  <a:pt x="135" y="14"/>
                </a:moveTo>
                <a:cubicBezTo>
                  <a:pt x="16" y="33"/>
                  <a:pt x="46" y="0"/>
                  <a:pt x="10" y="56"/>
                </a:cubicBezTo>
                <a:cubicBezTo>
                  <a:pt x="0" y="123"/>
                  <a:pt x="1" y="95"/>
                  <a:pt x="1" y="140"/>
                </a:cubicBezTo>
              </a:path>
            </a:pathLst>
          </a:custGeom>
          <a:noFill/>
          <a:ln w="38160">
            <a:solidFill>
              <a:srgbClr val="ff79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870520" y="4691160"/>
            <a:ext cx="263520" cy="128520"/>
          </a:xfrm>
          <a:prstGeom prst="ellipse">
            <a:avLst/>
          </a:prstGeom>
          <a:solidFill>
            <a:srgbClr val="ff0000">
              <a:alpha val="3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715240" y="4834080"/>
            <a:ext cx="405000" cy="268200"/>
          </a:xfrm>
          <a:custGeom>
            <a:avLst/>
            <a:gdLst/>
            <a:ahLst/>
            <a:rect l="l" t="t" r="r" b="b"/>
            <a:pathLst>
              <a:path w="255" h="169">
                <a:moveTo>
                  <a:pt x="237" y="2"/>
                </a:moveTo>
                <a:cubicBezTo>
                  <a:pt x="177" y="21"/>
                  <a:pt x="114" y="27"/>
                  <a:pt x="53" y="44"/>
                </a:cubicBezTo>
                <a:cubicBezTo>
                  <a:pt x="0" y="78"/>
                  <a:pt x="14" y="137"/>
                  <a:pt x="61" y="169"/>
                </a:cubicBezTo>
                <a:cubicBezTo>
                  <a:pt x="66" y="168"/>
                  <a:pt x="112" y="158"/>
                  <a:pt x="120" y="152"/>
                </a:cubicBezTo>
                <a:cubicBezTo>
                  <a:pt x="171" y="110"/>
                  <a:pt x="100" y="138"/>
                  <a:pt x="161" y="119"/>
                </a:cubicBezTo>
                <a:cubicBezTo>
                  <a:pt x="196" y="96"/>
                  <a:pt x="203" y="64"/>
                  <a:pt x="228" y="27"/>
                </a:cubicBezTo>
                <a:cubicBezTo>
                  <a:pt x="246" y="0"/>
                  <a:pt x="255" y="2"/>
                  <a:pt x="237" y="2"/>
                </a:cubicBezTo>
                <a:close/>
              </a:path>
            </a:pathLst>
          </a:custGeom>
          <a:solidFill>
            <a:srgbClr val="ff0000">
              <a:alpha val="39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6413400" y="5064120"/>
            <a:ext cx="2730600" cy="1428840"/>
          </a:xfrm>
          <a:custGeom>
            <a:avLst/>
            <a:gdLst/>
            <a:ahLst/>
            <a:rect l="l" t="t" r="r" b="b"/>
            <a:pathLst>
              <a:path w="1720" h="900">
                <a:moveTo>
                  <a:pt x="1428" y="16"/>
                </a:moveTo>
                <a:cubicBezTo>
                  <a:pt x="1335" y="34"/>
                  <a:pt x="1242" y="70"/>
                  <a:pt x="1152" y="99"/>
                </a:cubicBezTo>
                <a:cubicBezTo>
                  <a:pt x="1118" y="122"/>
                  <a:pt x="1079" y="121"/>
                  <a:pt x="1044" y="141"/>
                </a:cubicBezTo>
                <a:cubicBezTo>
                  <a:pt x="1027" y="151"/>
                  <a:pt x="1011" y="163"/>
                  <a:pt x="994" y="174"/>
                </a:cubicBezTo>
                <a:cubicBezTo>
                  <a:pt x="933" y="214"/>
                  <a:pt x="835" y="212"/>
                  <a:pt x="768" y="233"/>
                </a:cubicBezTo>
                <a:cubicBezTo>
                  <a:pt x="715" y="250"/>
                  <a:pt x="662" y="266"/>
                  <a:pt x="610" y="283"/>
                </a:cubicBezTo>
                <a:cubicBezTo>
                  <a:pt x="585" y="291"/>
                  <a:pt x="558" y="295"/>
                  <a:pt x="535" y="308"/>
                </a:cubicBezTo>
                <a:cubicBezTo>
                  <a:pt x="455" y="353"/>
                  <a:pt x="514" y="332"/>
                  <a:pt x="459" y="349"/>
                </a:cubicBezTo>
                <a:cubicBezTo>
                  <a:pt x="413" y="380"/>
                  <a:pt x="374" y="384"/>
                  <a:pt x="318" y="391"/>
                </a:cubicBezTo>
                <a:cubicBezTo>
                  <a:pt x="245" y="410"/>
                  <a:pt x="173" y="435"/>
                  <a:pt x="101" y="458"/>
                </a:cubicBezTo>
                <a:cubicBezTo>
                  <a:pt x="69" y="479"/>
                  <a:pt x="35" y="487"/>
                  <a:pt x="0" y="500"/>
                </a:cubicBezTo>
                <a:cubicBezTo>
                  <a:pt x="3" y="519"/>
                  <a:pt x="0" y="541"/>
                  <a:pt x="9" y="558"/>
                </a:cubicBezTo>
                <a:cubicBezTo>
                  <a:pt x="13" y="566"/>
                  <a:pt x="26" y="563"/>
                  <a:pt x="34" y="567"/>
                </a:cubicBezTo>
                <a:cubicBezTo>
                  <a:pt x="43" y="571"/>
                  <a:pt x="49" y="580"/>
                  <a:pt x="59" y="583"/>
                </a:cubicBezTo>
                <a:cubicBezTo>
                  <a:pt x="81" y="589"/>
                  <a:pt x="104" y="588"/>
                  <a:pt x="126" y="592"/>
                </a:cubicBezTo>
                <a:cubicBezTo>
                  <a:pt x="182" y="602"/>
                  <a:pt x="225" y="619"/>
                  <a:pt x="284" y="625"/>
                </a:cubicBezTo>
                <a:cubicBezTo>
                  <a:pt x="340" y="643"/>
                  <a:pt x="392" y="658"/>
                  <a:pt x="451" y="667"/>
                </a:cubicBezTo>
                <a:cubicBezTo>
                  <a:pt x="520" y="689"/>
                  <a:pt x="484" y="680"/>
                  <a:pt x="560" y="692"/>
                </a:cubicBezTo>
                <a:cubicBezTo>
                  <a:pt x="648" y="720"/>
                  <a:pt x="724" y="741"/>
                  <a:pt x="818" y="750"/>
                </a:cubicBezTo>
                <a:cubicBezTo>
                  <a:pt x="884" y="768"/>
                  <a:pt x="954" y="778"/>
                  <a:pt x="1019" y="800"/>
                </a:cubicBezTo>
                <a:cubicBezTo>
                  <a:pt x="1063" y="815"/>
                  <a:pt x="1123" y="844"/>
                  <a:pt x="1169" y="850"/>
                </a:cubicBezTo>
                <a:cubicBezTo>
                  <a:pt x="1231" y="857"/>
                  <a:pt x="1292" y="867"/>
                  <a:pt x="1353" y="875"/>
                </a:cubicBezTo>
                <a:cubicBezTo>
                  <a:pt x="1364" y="878"/>
                  <a:pt x="1375" y="881"/>
                  <a:pt x="1386" y="884"/>
                </a:cubicBezTo>
                <a:cubicBezTo>
                  <a:pt x="1403" y="889"/>
                  <a:pt x="1436" y="900"/>
                  <a:pt x="1436" y="900"/>
                </a:cubicBezTo>
                <a:cubicBezTo>
                  <a:pt x="1508" y="886"/>
                  <a:pt x="1574" y="859"/>
                  <a:pt x="1645" y="842"/>
                </a:cubicBezTo>
                <a:cubicBezTo>
                  <a:pt x="1662" y="831"/>
                  <a:pt x="1678" y="820"/>
                  <a:pt x="1695" y="809"/>
                </a:cubicBezTo>
                <a:cubicBezTo>
                  <a:pt x="1703" y="803"/>
                  <a:pt x="1720" y="792"/>
                  <a:pt x="1720" y="792"/>
                </a:cubicBezTo>
                <a:cubicBezTo>
                  <a:pt x="1720" y="790"/>
                  <a:pt x="1711" y="733"/>
                  <a:pt x="1703" y="725"/>
                </a:cubicBezTo>
                <a:cubicBezTo>
                  <a:pt x="1689" y="711"/>
                  <a:pt x="1653" y="692"/>
                  <a:pt x="1653" y="692"/>
                </a:cubicBezTo>
                <a:cubicBezTo>
                  <a:pt x="1618" y="638"/>
                  <a:pt x="1606" y="651"/>
                  <a:pt x="1536" y="658"/>
                </a:cubicBezTo>
                <a:cubicBezTo>
                  <a:pt x="1457" y="686"/>
                  <a:pt x="1481" y="690"/>
                  <a:pt x="1378" y="700"/>
                </a:cubicBezTo>
                <a:cubicBezTo>
                  <a:pt x="1288" y="694"/>
                  <a:pt x="1208" y="682"/>
                  <a:pt x="1119" y="675"/>
                </a:cubicBezTo>
                <a:cubicBezTo>
                  <a:pt x="1089" y="665"/>
                  <a:pt x="1057" y="660"/>
                  <a:pt x="1027" y="650"/>
                </a:cubicBezTo>
                <a:cubicBezTo>
                  <a:pt x="928" y="583"/>
                  <a:pt x="798" y="588"/>
                  <a:pt x="685" y="583"/>
                </a:cubicBezTo>
                <a:cubicBezTo>
                  <a:pt x="607" y="572"/>
                  <a:pt x="534" y="548"/>
                  <a:pt x="459" y="525"/>
                </a:cubicBezTo>
                <a:cubicBezTo>
                  <a:pt x="517" y="486"/>
                  <a:pt x="491" y="497"/>
                  <a:pt x="535" y="483"/>
                </a:cubicBezTo>
                <a:cubicBezTo>
                  <a:pt x="645" y="410"/>
                  <a:pt x="781" y="385"/>
                  <a:pt x="910" y="375"/>
                </a:cubicBezTo>
                <a:cubicBezTo>
                  <a:pt x="954" y="367"/>
                  <a:pt x="993" y="355"/>
                  <a:pt x="1035" y="341"/>
                </a:cubicBezTo>
                <a:cubicBezTo>
                  <a:pt x="1057" y="327"/>
                  <a:pt x="1108" y="283"/>
                  <a:pt x="1136" y="274"/>
                </a:cubicBezTo>
                <a:cubicBezTo>
                  <a:pt x="1188" y="257"/>
                  <a:pt x="1242" y="250"/>
                  <a:pt x="1294" y="233"/>
                </a:cubicBezTo>
                <a:cubicBezTo>
                  <a:pt x="1351" y="194"/>
                  <a:pt x="1325" y="205"/>
                  <a:pt x="1369" y="191"/>
                </a:cubicBezTo>
                <a:cubicBezTo>
                  <a:pt x="1386" y="180"/>
                  <a:pt x="1412" y="176"/>
                  <a:pt x="1419" y="157"/>
                </a:cubicBezTo>
                <a:cubicBezTo>
                  <a:pt x="1429" y="129"/>
                  <a:pt x="1436" y="107"/>
                  <a:pt x="1453" y="82"/>
                </a:cubicBezTo>
                <a:cubicBezTo>
                  <a:pt x="1461" y="58"/>
                  <a:pt x="1473" y="32"/>
                  <a:pt x="1453" y="7"/>
                </a:cubicBezTo>
                <a:cubicBezTo>
                  <a:pt x="1447" y="0"/>
                  <a:pt x="1436" y="13"/>
                  <a:pt x="1428" y="16"/>
                </a:cubicBezTo>
                <a:close/>
              </a:path>
            </a:pathLst>
          </a:custGeom>
          <a:solidFill>
            <a:srgbClr val="ff0000">
              <a:alpha val="4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112240" y="11667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848200" y="8190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8209080" y="583740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75320" y="1838160"/>
            <a:ext cx="88920" cy="1209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070680" y="37353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1138320"/>
            <a:ext cx="5112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071880" y="1717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013520" y="385596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344600" y="2874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3782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734240" y="236376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318280" y="290988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53692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800360" y="344340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273640" y="52657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2435400" y="461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8879040" y="4233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8497800" y="5326200"/>
            <a:ext cx="82800" cy="12852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857920" y="2849400"/>
            <a:ext cx="42840" cy="432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51000" y="26607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44440" y="35575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14520" y="553068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639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842000" y="180036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380360" y="577224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922560" y="508968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3400560"/>
            <a:ext cx="5112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840040" y="36511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29797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986680" y="513396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677000" y="462600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397240" y="54547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3102120" y="45133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099120" y="2152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543040" y="24526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6026040" y="57992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3633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593120" y="3373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786200" y="561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98640" y="19051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7192800" y="113976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708120" y="4330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584360" y="4087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27200" y="28465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212840" y="8683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992840" y="2614680"/>
            <a:ext cx="12672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043680" y="51595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8537400" y="600876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604280" y="5570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8763120" y="5597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5861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725480" y="38196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626160" y="286236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043520" y="33735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762600" y="483228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7632720" y="1839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662440" y="240984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307200" y="14954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604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991200" y="2189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524560" y="271620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7823160" y="282240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8272440" y="2351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790040" y="2139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7559640" y="7333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942320" y="22924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557680" y="133344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593040" y="22384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703840" y="17859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459480" y="16477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031080" y="25160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148440" y="26193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840280" y="227340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2382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726400" y="13762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8632800" y="282564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441520" y="3589200"/>
            <a:ext cx="88920" cy="1209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5560920" y="51055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253120" y="4265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559400" y="289080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960720" y="2822400"/>
            <a:ext cx="42840" cy="432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064040" y="2139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76520" y="1294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6880" y="22399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109520" y="3390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2249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201760" y="1736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587680" y="3149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243080" y="51274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971720" y="46404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236520" y="4398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7167600" y="20797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992920" y="242568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1969920" y="262584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1290600" y="14302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919160" y="3656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077920" y="35542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3821040" y="57196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332400" y="6359400"/>
            <a:ext cx="2651400" cy="307080"/>
          </a:xfrm>
          <a:prstGeom prst="rect">
            <a:avLst/>
          </a:prstGeom>
          <a:solidFill>
            <a:srgbClr val="ffffff">
              <a:alpha val="7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.S. Ulrich with P.A. Wil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8480520" y="4229280"/>
            <a:ext cx="127080" cy="1584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1411200" y="20653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2898720" y="21049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6810480" y="540540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7188120" y="4998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0" y="4678200"/>
            <a:ext cx="42840" cy="432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684840" y="34765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5705640" y="35370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992240" y="42512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486160" y="44067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557600" y="48164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682720" y="822240"/>
            <a:ext cx="5112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319040" y="578808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654200" y="273996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6380280" y="421164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7721640" y="40464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8790120" y="47163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7785000" y="4925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424480" y="39067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7277040" y="34243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860400" y="5308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925560" y="1550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8145360" y="19112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151680" y="16066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42040" y="9954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97360" y="777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292480" y="992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4695840" y="578016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459080" y="1141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4554360" y="1035000"/>
            <a:ext cx="5112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5861160" y="61722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198360" y="5435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814480" y="4803840"/>
            <a:ext cx="5112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6950160" y="14367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8283600" y="836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8840880" y="308916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380200" y="209880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2327400" y="22399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1689120" y="858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2349360" y="16351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67160" y="155808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857920" y="313200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8785080" y="351144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8082000" y="3710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6784920" y="578628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8178840" y="6168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7891560" y="541800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46200" y="39085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2120" y="1447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71680" y="2414520"/>
            <a:ext cx="7981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30000"/>
              </a:lnSpc>
              <a:buClr>
                <a:srgbClr val="0b0bec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gles enable hospitals to separate patients upon admission, making it possible to prevent unrecognized carriers of pathogens from infecting others in multi-bed sp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994360" y="3062160"/>
            <a:ext cx="2309760" cy="5040"/>
          </a:xfrm>
          <a:prstGeom prst="line">
            <a:avLst/>
          </a:prstGeom>
          <a:ln w="28440">
            <a:solidFill>
              <a:srgbClr val="0c0c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922320" y="730080"/>
            <a:ext cx="7315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beb"/>
                </a:solidFill>
                <a:latin typeface="Verdana"/>
              </a:rPr>
              <a:t>Why Single-Bed Rooms Reduce Infection R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987480" y="3692520"/>
            <a:ext cx="4908600" cy="4680"/>
          </a:xfrm>
          <a:prstGeom prst="line">
            <a:avLst/>
          </a:prstGeom>
          <a:ln w="28440">
            <a:solidFill>
              <a:srgbClr val="0c0c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79360" y="846000"/>
            <a:ext cx="85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blem: </a:t>
            </a:r>
            <a:r>
              <a:rPr b="1" lang="en-US" sz="3600" spc="-1" strike="noStrike">
                <a:solidFill>
                  <a:srgbClr val="ec0000"/>
                </a:solidFill>
                <a:latin typeface="Verdana"/>
              </a:rPr>
              <a:t>Unwashed Staff H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1104840" y="2070000"/>
            <a:ext cx="6908760" cy="18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w hand washing compliance    has strong causal link with   contact transmission of inf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014480" y="4192560"/>
            <a:ext cx="712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15000"/>
              </a:lnSpc>
              <a:buClr>
                <a:srgbClr val="ea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iance in busy units: </a:t>
            </a:r>
            <a:r>
              <a:rPr b="1" lang="en-US" sz="2800" spc="-1" strike="noStrike">
                <a:solidFill>
                  <a:srgbClr val="e60000"/>
                </a:solidFill>
                <a:latin typeface="Verdana"/>
              </a:rPr>
              <a:t>14-2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-349200">
              <a:lnSpc>
                <a:spcPct val="115000"/>
              </a:lnSpc>
              <a:spcBef>
                <a:spcPts val="1749"/>
              </a:spcBef>
              <a:buClr>
                <a:srgbClr val="ea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adequ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rans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3491" t="0" r="0" b="0"/>
          <a:stretch/>
        </p:blipFill>
        <p:spPr>
          <a:xfrm>
            <a:off x="3740040" y="0"/>
            <a:ext cx="506268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69" name=""/>
          <p:cNvSpPr/>
          <p:nvPr/>
        </p:nvSpPr>
        <p:spPr>
          <a:xfrm>
            <a:off x="7543800" y="3411360"/>
            <a:ext cx="1266840" cy="703800"/>
          </a:xfrm>
          <a:prstGeom prst="rect">
            <a:avLst/>
          </a:prstGeom>
          <a:solidFill>
            <a:srgbClr val="ffffff">
              <a:alpha val="42000"/>
            </a:srgbClr>
          </a:solidFill>
          <a:ln w="648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Patient B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8129520" y="4202280"/>
            <a:ext cx="623880" cy="298440"/>
          </a:xfrm>
          <a:prstGeom prst="rightArrow">
            <a:avLst>
              <a:gd name="adj1" fmla="val 30852"/>
              <a:gd name="adj2" fmla="val 51981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6532560" y="1803240"/>
            <a:ext cx="2244600" cy="703800"/>
          </a:xfrm>
          <a:prstGeom prst="rect">
            <a:avLst/>
          </a:prstGeom>
          <a:solidFill>
            <a:srgbClr val="ffffff">
              <a:alpha val="59000"/>
            </a:srgbClr>
          </a:solidFill>
          <a:ln w="648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Alcohol-based gel dispen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6502320" y="1413000"/>
            <a:ext cx="587520" cy="288720"/>
          </a:xfrm>
          <a:prstGeom prst="rightArrow">
            <a:avLst>
              <a:gd name="adj1" fmla="val 30852"/>
              <a:gd name="adj2" fmla="val 50600"/>
            </a:avLst>
          </a:prstGeom>
          <a:solidFill>
            <a:srgbClr val="0f0fff"/>
          </a:solidFill>
          <a:ln w="38160">
            <a:solidFill>
              <a:srgbClr val="0a0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3714840" y="2021040"/>
            <a:ext cx="1779480" cy="1008720"/>
          </a:xfrm>
          <a:prstGeom prst="rect">
            <a:avLst/>
          </a:prstGeom>
          <a:solidFill>
            <a:srgbClr val="ffffff">
              <a:alpha val="73000"/>
            </a:srgbClr>
          </a:solidFill>
          <a:ln w="324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Automatic faucet (no tou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4875120" y="3119400"/>
            <a:ext cx="623880" cy="260280"/>
          </a:xfrm>
          <a:prstGeom prst="rightArrow">
            <a:avLst>
              <a:gd name="adj1" fmla="val 30852"/>
              <a:gd name="adj2" fmla="val 59602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306440" y="3139920"/>
            <a:ext cx="3095640" cy="1008720"/>
          </a:xfrm>
          <a:prstGeom prst="rect">
            <a:avLst/>
          </a:prstGeom>
          <a:solidFill>
            <a:srgbClr val="ffffff">
              <a:alpha val="70000"/>
            </a:srgbClr>
          </a:solidFill>
          <a:ln w="324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Easy-to-clean basin counter (continuous impervious su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4081320" y="4172040"/>
            <a:ext cx="506520" cy="260280"/>
          </a:xfrm>
          <a:prstGeom prst="rightArrow">
            <a:avLst>
              <a:gd name="adj1" fmla="val 30852"/>
              <a:gd name="adj2" fmla="val 48390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298440" y="476280"/>
            <a:ext cx="346248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9c8"/>
                </a:solidFill>
                <a:latin typeface="Verdana"/>
              </a:rPr>
              <a:t>Design to Increase Hand Was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Conveniently   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located basin in 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singl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8175600" y="2554200"/>
            <a:ext cx="623880" cy="298440"/>
          </a:xfrm>
          <a:prstGeom prst="rightArrow">
            <a:avLst>
              <a:gd name="adj1" fmla="val 30852"/>
              <a:gd name="adj2" fmla="val 51981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541920" y="684360"/>
            <a:ext cx="1629000" cy="703800"/>
          </a:xfrm>
          <a:prstGeom prst="rect">
            <a:avLst/>
          </a:prstGeom>
          <a:solidFill>
            <a:srgbClr val="ffffff">
              <a:alpha val="62000"/>
            </a:srgbClr>
          </a:solidFill>
          <a:ln w="324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Soap dispen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6059520" y="5645160"/>
            <a:ext cx="2611440" cy="859680"/>
          </a:xfrm>
          <a:prstGeom prst="rect">
            <a:avLst/>
          </a:prstGeom>
          <a:solidFill>
            <a:srgbClr val="ffffff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D. And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Ambulatory Cancer Cen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44520" y="4324320"/>
            <a:ext cx="341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0000"/>
                </a:solidFill>
                <a:latin typeface="Verdana"/>
              </a:rPr>
              <a:t>Handwash basins and hand rub dispensers should be close to staff movement paths, visually prominent, near care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857240" y="-6480"/>
            <a:ext cx="512784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3" name=""/>
          <p:cNvSpPr/>
          <p:nvPr/>
        </p:nvSpPr>
        <p:spPr>
          <a:xfrm>
            <a:off x="5819760" y="5807160"/>
            <a:ext cx="284148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rian West Medical Cent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:  H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70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84640" y="403200"/>
            <a:ext cx="5325840" cy="861480"/>
          </a:xfrm>
          <a:prstGeom prst="rect">
            <a:avLst/>
          </a:prstGeom>
          <a:solidFill>
            <a:srgbClr val="eaeae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busy preoccupied persons, out-of-sight may be out-of-m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945720" y="960120"/>
            <a:ext cx="6651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STUDY</a:t>
            </a:r>
            <a:r>
              <a:rPr b="1" lang="en-US" sz="2400" spc="-1" strike="noStrike">
                <a:solidFill>
                  <a:srgbClr val="0b0beb"/>
                </a:solidFill>
                <a:latin typeface="Verdana"/>
              </a:rPr>
              <a:t>:  </a:t>
            </a:r>
            <a:r>
              <a:rPr b="1" i="1" lang="en-US" sz="2800" spc="-1" strike="noStrike">
                <a:solidFill>
                  <a:srgbClr val="0b0beb"/>
                </a:solidFill>
                <a:latin typeface="Verdana"/>
              </a:rPr>
              <a:t>Effects of ICU Design on Handwa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52440"/>
            <a:ext cx="3581640" cy="459720"/>
          </a:xfrm>
          <a:prstGeom prst="rect">
            <a:avLst/>
          </a:prstGeom>
          <a:solidFill>
            <a:srgbClr val="ffff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EARCH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692280" y="2201760"/>
            <a:ext cx="77515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Study sites:</a:t>
            </a:r>
            <a:r>
              <a:rPr b="0" lang="en-US" sz="2800" spc="-1" strike="noStrike">
                <a:solidFill>
                  <a:srgbClr val="3232c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intensive care units (ICUs)--one older, one new--in a Texas hospi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1576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Three types of patient roo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10000"/>
              </a:lnSpc>
              <a:spcBef>
                <a:spcPts val="1049"/>
              </a:spcBef>
              <a:buClr>
                <a:srgbClr val="ea0000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-bed open b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10000"/>
              </a:lnSpc>
              <a:spcBef>
                <a:spcPts val="1199"/>
              </a:spcBef>
              <a:buClr>
                <a:srgbClr val="ea0000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ingle-bed roo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10000"/>
              </a:lnSpc>
              <a:spcBef>
                <a:spcPts val="1349"/>
              </a:spcBef>
              <a:buClr>
                <a:srgbClr val="ea0000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ingle-bed rooms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urs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863640" y="2019240"/>
            <a:ext cx="5877000" cy="1800"/>
          </a:xfrm>
          <a:prstGeom prst="line">
            <a:avLst/>
          </a:prstGeom>
          <a:ln w="22320">
            <a:solidFill>
              <a:srgbClr val="0c0c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4519440" y="1503360"/>
            <a:ext cx="4027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Quan and Ulrich, in submiss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5030640" y="4495680"/>
            <a:ext cx="617760" cy="952560"/>
          </a:xfrm>
          <a:custGeom>
            <a:avLst/>
            <a:gdLst>
              <a:gd name="textAreaLeft" fmla="*/ 0 w 617760"/>
              <a:gd name="textAreaRight" fmla="*/ 223200 w 617760"/>
              <a:gd name="textAreaTop" fmla="*/ 39600 h 952560"/>
              <a:gd name="textAreaBottom" fmla="*/ 91296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0"/>
                  <a:pt x="10800" y="2880"/>
                </a:cubicBezTo>
                <a:lnTo>
                  <a:pt x="10800" y="7920"/>
                </a:lnTo>
                <a:cubicBezTo>
                  <a:pt x="10800" y="9360"/>
                  <a:pt x="16200" y="10800"/>
                  <a:pt x="21600" y="10800"/>
                </a:cubicBezTo>
                <a:cubicBezTo>
                  <a:pt x="16200" y="10800"/>
                  <a:pt x="10800" y="12240"/>
                  <a:pt x="10800" y="13680"/>
                </a:cubicBezTo>
                <a:lnTo>
                  <a:pt x="10800" y="18720"/>
                </a:lnTo>
                <a:cubicBezTo>
                  <a:pt x="10800" y="2016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5587920" y="45324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nurse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1:16:30Z</dcterms:created>
  <dc:creator>Ulrich Laptop</dc:creator>
  <dc:description/>
  <dc:language>en-US</dc:language>
  <cp:lastModifiedBy>RUlrich</cp:lastModifiedBy>
  <dcterms:modified xsi:type="dcterms:W3CDTF">2007-09-28T13:54:26Z</dcterms:modified>
  <cp:revision>2846</cp:revision>
  <dc:subject/>
  <dc:title>PowerPoint Presentation</dc:title>
</cp:coreProperties>
</file>