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33926"/>
                </a:solidFill>
                <a:latin typeface="Trebuchet MS"/>
              </a:rPr>
              <a:t>Click to move the slide</a:t>
            </a: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39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1880" y="87739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9B29-F843-4919-A697-95E76AC90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uppliers providing data for ~2M lives or about 70% of the insured, non-Medicare population in the five county re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asked… the first round of data suppliers 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t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st Ch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l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mera Blue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ence Blue Sh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Boeing Company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egenc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penters Tr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Seattle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etn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 State Health Care Author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ing County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etn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reational Equipment Inc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etn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ail Clerks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Zenith Administrato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ail Drug Employees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WPA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ington Mutual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United/MedSta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another way of looking at the purpose of the Alli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erson called the Alliance approach as “using quality improvement as a cost containment strate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oubt about it, we are focused on getting more effective care, more affordable care and greater value for every dollar spent on health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a quick snapshot of the Allianc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mmittees, made up of over 100 physicians, business leaders and others from the comm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mendations are developed and reviewed by various committees and recommended to the multi-stakehold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of these work groups are made up of a majority of physicians, including the Quality Improvement Committee and the clinical improvement teams which focus on specialized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uppliers providing data for ~2M lives or about 70% of the insured, non-Medicare population in the five county re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asked… the first round of data suppliers 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t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st Ch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l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mera Blue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ence Blue Sh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Boeing Company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egenc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penters Tr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Seattle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etn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 State Health Care Author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ing County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etn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reational Equipment Inc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etn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ail Clerks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Zenith Administrato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ail Drug Employees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WPA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ington Mutual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United/MedSta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7F26-0465-4AA9-A58A-51987D98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4280" y="1066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761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399200"/>
            <a:ext cx="761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4AE0-2DB0-41F2-855F-F86AE60B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4280" y="1066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718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3520" y="2209680"/>
            <a:ext cx="3718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399200"/>
            <a:ext cx="3718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3520" y="4399200"/>
            <a:ext cx="3718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49A8-615E-4258-B737-946B6918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4280" y="1066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5840" y="22096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72360" y="22096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3992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5840" y="43992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72360" y="43992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6F1-556A-407D-9ED1-851FAD49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4280" y="1066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D783-7C23-4C9A-8911-002F9081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4280" y="1066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AACB-0842-4B17-888E-EFCD56F3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4280" y="1066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718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3520" y="2209680"/>
            <a:ext cx="3718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D25-0A2F-46C9-B408-E2DB4BFA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4280" y="1066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774-9EF0-4BC6-91BA-44FA8EA6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4280" y="1066320"/>
            <a:ext cx="762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8F6-C366-4A89-84F0-06AFD534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4280" y="1066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718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3520" y="2209680"/>
            <a:ext cx="3718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399200"/>
            <a:ext cx="3718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5D8-773F-4DB6-A73D-894D3D71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4280" y="1066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718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3520" y="2209680"/>
            <a:ext cx="3718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3520" y="4399200"/>
            <a:ext cx="3718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E6B-F6CC-43DB-BE45-B685A800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4280" y="1066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718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3520" y="2209680"/>
            <a:ext cx="3718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399200"/>
            <a:ext cx="761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1248-13C4-4DE2-97B9-541610AB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4280" y="1066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33926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22096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788"/>
              </a:spcAft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Aft>
                <a:spcPts val="788"/>
              </a:spcAft>
              <a:buClr>
                <a:srgbClr val="03392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2" marL="1028880" indent="-228600">
              <a:spcAft>
                <a:spcPts val="788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Aft>
                <a:spcPts val="788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Aft>
                <a:spcPts val="788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Aft>
                <a:spcPts val="788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Aft>
                <a:spcPts val="788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6B3D-30CB-43F2-A353-984571ECF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ugetsoundhealthalliance.org/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3809520"/>
            <a:ext cx="6629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Driving Health System Chang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t the Regional Level</a:t>
            </a:r>
            <a:br>
              <a:rPr sz="3200"/>
            </a:b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HRQ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eptember 2007</a:t>
            </a:r>
            <a:endParaRPr b="1" lang="en-US" sz="2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360" y="2514600"/>
            <a:ext cx="2514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Margaret Stanle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xecutive Direct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A72-1926-45BE-AF90-20E617942CC2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926"/>
                </a:solidFill>
                <a:latin typeface="Trebuchet MS"/>
              </a:rPr>
              <a:t>Challenges and Strategies</a:t>
            </a:r>
            <a:endParaRPr b="1" lang="en-US" sz="32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 do” list is too long for time, staff &amp; money availab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342720">
              <a:spcBef>
                <a:spcPts val="1250"/>
              </a:spcBef>
              <a:buClr>
                <a:srgbClr val="03392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cu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nding the levers to turn information into action by participating organiz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342720">
              <a:spcBef>
                <a:spcPts val="1250"/>
              </a:spcBef>
              <a:buClr>
                <a:srgbClr val="03392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 the uniqueness of the organization to create pressure for improve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999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F43-0E67-4B41-B30B-87273D1702B8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926"/>
                </a:solidFill>
                <a:latin typeface="Trebuchet MS"/>
              </a:rPr>
              <a:t>Success Factors for the Alliance</a:t>
            </a:r>
            <a:endParaRPr b="1" lang="en-US" sz="32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harismatic leader: King County Executive Ron Si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342720">
              <a:spcBef>
                <a:spcPts val="1250"/>
              </a:spcBef>
              <a:buClr>
                <a:srgbClr val="03392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sion of what’s possible, rooted in common sen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342720">
              <a:spcBef>
                <a:spcPts val="1250"/>
              </a:spcBef>
              <a:buClr>
                <a:srgbClr val="03392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ruited major corporations to jo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volvement of purchasers, providers, plans, consum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gether we can do this better than any one organization could do alo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duced good reports in clinical area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FA7-DF35-4264-930A-51D584972156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926"/>
                </a:solidFill>
                <a:latin typeface="Trebuchet MS"/>
              </a:rPr>
              <a:t>Success Factors for the Alliance</a:t>
            </a:r>
            <a:endParaRPr b="1" lang="en-US" sz="32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ave respect in the commun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ublic performance report will include 2.5 million lives, 14 data suppliers, 16 medical group and 21 measur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eking the “sweet spot” of quality improvement &amp; cost contain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4D9-FFEA-4D43-B42D-0B52DF0A9962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76520" y="3200400"/>
            <a:ext cx="2895480" cy="1447920"/>
          </a:xfrm>
          <a:prstGeom prst="upArrowCallout">
            <a:avLst>
              <a:gd name="adj1" fmla="val 49998"/>
              <a:gd name="adj2" fmla="val 49994"/>
              <a:gd name="adj3" fmla="val 16667"/>
              <a:gd name="adj4" fmla="val 66660"/>
            </a:avLst>
          </a:prstGeom>
          <a:solidFill>
            <a:srgbClr val="f7f3ab"/>
          </a:solidFill>
          <a:ln w="9360">
            <a:solidFill>
              <a:srgbClr val="00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fu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3200400"/>
            <a:ext cx="2895480" cy="1447920"/>
          </a:xfrm>
          <a:prstGeom prst="upArrowCallout">
            <a:avLst>
              <a:gd name="adj1" fmla="val 49998"/>
              <a:gd name="adj2" fmla="val 49994"/>
              <a:gd name="adj3" fmla="val 16667"/>
              <a:gd name="adj4" fmla="val 66660"/>
            </a:avLst>
          </a:prstGeom>
          <a:solidFill>
            <a:srgbClr val="f7f3ab"/>
          </a:solidFill>
          <a:ln w="9360">
            <a:solidFill>
              <a:srgbClr val="00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ent Incen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2362320"/>
            <a:ext cx="7467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f3ab"/>
              </a:gs>
              <a:gs pos="100000">
                <a:srgbClr val="005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roved Quality of 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743200" cy="549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43000" y="60199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64008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reating the Tools and Motivation to Support Quality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ownRibbonSharp"/>
          <p:cNvSpPr/>
          <p:nvPr/>
        </p:nvSpPr>
        <p:spPr>
          <a:xfrm>
            <a:off x="5943600" y="1143000"/>
            <a:ext cx="2438280" cy="990720"/>
          </a:xfrm>
          <a:custGeom>
            <a:avLst/>
            <a:gdLst>
              <a:gd name="textAreaLeft" fmla="*/ 609480 w 2438280"/>
              <a:gd name="textAreaRight" fmla="*/ 1828800 w 2438280"/>
              <a:gd name="textAreaTop" fmla="*/ 12384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2700"/>
                </a:moveTo>
                <a:lnTo>
                  <a:pt x="5400" y="2700"/>
                </a:lnTo>
                <a:lnTo>
                  <a:pt x="5400" y="18900"/>
                </a:lnTo>
              </a:path>
              <a:path fill="none" w="21600" h="21600">
                <a:moveTo>
                  <a:pt x="5400" y="2700"/>
                </a:moveTo>
                <a:lnTo>
                  <a:pt x="8100" y="0"/>
                </a:lnTo>
              </a:path>
              <a:path fill="none" w="21600" h="21600">
                <a:moveTo>
                  <a:pt x="13500" y="2700"/>
                </a:moveTo>
                <a:lnTo>
                  <a:pt x="16200" y="2700"/>
                </a:lnTo>
                <a:lnTo>
                  <a:pt x="16200" y="18900"/>
                </a:lnTo>
              </a:path>
              <a:path fill="none" w="21600" h="21600">
                <a:moveTo>
                  <a:pt x="16200" y="2700"/>
                </a:moveTo>
                <a:lnTo>
                  <a:pt x="13500" y="0"/>
                </a:lnTo>
              </a:path>
            </a:pathLst>
          </a:custGeom>
          <a:solidFill>
            <a:srgbClr val="005300"/>
          </a:solidFill>
          <a:ln w="9360">
            <a:solidFill>
              <a:srgbClr val="f7f3ab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eate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wnRibbonSharp"/>
          <p:cNvSpPr/>
          <p:nvPr/>
        </p:nvSpPr>
        <p:spPr>
          <a:xfrm>
            <a:off x="2362320" y="1143000"/>
            <a:ext cx="2438280" cy="990720"/>
          </a:xfrm>
          <a:custGeom>
            <a:avLst/>
            <a:gdLst>
              <a:gd name="textAreaLeft" fmla="*/ 609480 w 2438280"/>
              <a:gd name="textAreaRight" fmla="*/ 1828800 w 2438280"/>
              <a:gd name="textAreaTop" fmla="*/ 12384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2700"/>
                </a:moveTo>
                <a:lnTo>
                  <a:pt x="5400" y="2700"/>
                </a:lnTo>
                <a:lnTo>
                  <a:pt x="5400" y="18900"/>
                </a:lnTo>
              </a:path>
              <a:path fill="none" w="21600" h="21600">
                <a:moveTo>
                  <a:pt x="5400" y="2700"/>
                </a:moveTo>
                <a:lnTo>
                  <a:pt x="8100" y="0"/>
                </a:lnTo>
              </a:path>
              <a:path fill="none" w="21600" h="21600">
                <a:moveTo>
                  <a:pt x="13500" y="2700"/>
                </a:moveTo>
                <a:lnTo>
                  <a:pt x="16200" y="2700"/>
                </a:lnTo>
                <a:lnTo>
                  <a:pt x="16200" y="18900"/>
                </a:lnTo>
              </a:path>
              <a:path fill="none" w="21600" h="21600">
                <a:moveTo>
                  <a:pt x="16200" y="2700"/>
                </a:moveTo>
                <a:lnTo>
                  <a:pt x="13500" y="0"/>
                </a:lnTo>
              </a:path>
            </a:pathLst>
          </a:custGeom>
          <a:solidFill>
            <a:srgbClr val="005300"/>
          </a:solidFill>
          <a:ln w="9360">
            <a:solidFill>
              <a:srgbClr val="f7f3ab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lthier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0080" y="1600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495288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reement on effective treat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reement on how to measure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report on local health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ful resources and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16002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4876920"/>
            <a:ext cx="3353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efit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ue-based purch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y for performance for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y ado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6240" y="147168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1480" y="259092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1480" y="40384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1840" y="518148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670572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371600" y="6476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8763120" y="6476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42A-56C5-4546-B46F-03E702F3BFF2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Collaboration. Accountability. Actio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4572000"/>
            <a:ext cx="640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003 Western Avenue, Suite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attle, WA 981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206) 448-25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ugetsoundhealthallianc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26000" y="3809880"/>
            <a:ext cx="501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uget Sound Health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568-A4C8-47F7-AEA1-DEBF31411971}" type="slidenum">
              <a:t>14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246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926"/>
                </a:solidFill>
                <a:latin typeface="Trebuchet MS"/>
              </a:rPr>
              <a:t>How the Health Alliance was Formed</a:t>
            </a:r>
            <a:endParaRPr b="1" lang="en-US" sz="32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spcAft>
                <a:spcPts val="1500"/>
              </a:spcAft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urchaser Leadership: King County Executive Ron Sim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2880" indent="-217080">
              <a:spcAft>
                <a:spcPts val="1500"/>
              </a:spcAft>
              <a:buClr>
                <a:srgbClr val="03392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sustainable cost growth in health ca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17080" indent="-217080">
              <a:spcAft>
                <a:spcPts val="1500"/>
              </a:spcAft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ask Force Report completed in 200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2880" indent="-217080">
              <a:spcAft>
                <a:spcPts val="1500"/>
              </a:spcAft>
              <a:buClr>
                <a:srgbClr val="0339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andardize care based on evidence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2880" indent="-217080">
              <a:spcAft>
                <a:spcPts val="1500"/>
              </a:spcAft>
              <a:buClr>
                <a:srgbClr val="0339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andardize how quality is measur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2880" indent="-217080">
              <a:spcAft>
                <a:spcPts val="1500"/>
              </a:spcAft>
              <a:buClr>
                <a:srgbClr val="0339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 quality, decrease waste, slow cost grow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2880" indent="-217080">
              <a:spcAft>
                <a:spcPts val="1500"/>
              </a:spcAft>
              <a:buClr>
                <a:srgbClr val="0339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ign incentives to recognize and reward qual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17080" indent="-217080">
              <a:spcAft>
                <a:spcPts val="1500"/>
              </a:spcAft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commended creation of public-private collaborativ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5F4-16D3-4A90-B2B8-6EFE21AC3FF9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246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926"/>
                </a:solidFill>
                <a:latin typeface="Trebuchet MS"/>
              </a:rPr>
              <a:t>The Puget Sound Health Alliance Today</a:t>
            </a:r>
            <a:endParaRPr b="1" lang="en-US" sz="32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100"/>
              </a:spcAft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ivate, non-partisan, non-profit 501(c)(3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Aft>
                <a:spcPts val="2100"/>
              </a:spcAft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cus five counties in Western Washington, with interest in statewide expansion eventuall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Aft>
                <a:spcPts val="2100"/>
              </a:spcAft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unded by participating organizations, RWJF grant and King County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D58A-183A-44CE-A131-7F45101A0D2A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246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926"/>
                </a:solidFill>
                <a:latin typeface="Trebuchet MS"/>
              </a:rPr>
              <a:t>The Puget Sound Health Alliance Today</a:t>
            </a:r>
            <a:endParaRPr b="1" lang="en-US" sz="32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100"/>
              </a:spcAft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ublic and public employers, physicians, hospitals, patients, health plans, unions, associations 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Aft>
                <a:spcPts val="2100"/>
              </a:spcAft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~160 organizations, representing more than 1.5M covered people,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not counting health plan enroll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Aft>
                <a:spcPts val="2100"/>
              </a:spcAft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is 50% +1 purchasers, 4 providers, 4 plans, 2 consumer representativ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A982-19D3-4AEE-9D67-C9176A51A948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926"/>
                </a:solidFill>
                <a:latin typeface="Trebuchet MS"/>
              </a:rPr>
              <a:t>Alliance Major Initiatives</a:t>
            </a:r>
            <a:endParaRPr b="1" lang="en-US" sz="32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500"/>
              </a:spcBef>
              <a:buClr>
                <a:srgbClr val="0339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unity agreement on evidence-based treat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500"/>
              </a:spcBef>
              <a:buClr>
                <a:srgbClr val="0339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etter information about health ca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1500"/>
              </a:spcBef>
              <a:buClr>
                <a:srgbClr val="0339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ublic reports comparing quality and efficiency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1500"/>
              </a:spcBef>
              <a:buClr>
                <a:srgbClr val="0339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ful information for decision-mak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500"/>
              </a:spcBef>
              <a:buClr>
                <a:srgbClr val="0339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courage use of health information technology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500"/>
              </a:spcBef>
              <a:buClr>
                <a:srgbClr val="0339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igned incentives to reward quality ca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962-B6F8-4DFA-AF32-96654B60B1D7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30492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30492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4648320"/>
            <a:ext cx="914400" cy="59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4648320"/>
            <a:ext cx="685800" cy="59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 Back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4648320"/>
            <a:ext cx="1066680" cy="59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4648320"/>
            <a:ext cx="838440" cy="59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4648320"/>
            <a:ext cx="609480" cy="59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44197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295280"/>
            <a:ext cx="8077320" cy="5181840"/>
          </a:xfrm>
          <a:custGeom>
            <a:avLst/>
            <a:gdLst>
              <a:gd name="textAreaLeft" fmla="*/ 0 w 8077320"/>
              <a:gd name="textAreaRight" fmla="*/ 8077680 w 807732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21600" h="21600">
                <a:moveTo>
                  <a:pt x="499" y="10678"/>
                </a:moveTo>
                <a:arcTo wR="-10302" hR="-10302" stAng="-10759291" swAng="-20390433"/>
                <a:lnTo>
                  <a:pt x="20894" y="14642"/>
                </a:lnTo>
                <a:arcTo wR="10800" hR="10800" stAng="1250276" swAng="20390433"/>
                <a:lnTo>
                  <a:pt x="24299" y="10960"/>
                </a:lnTo>
                <a:lnTo>
                  <a:pt x="21315" y="13874"/>
                </a:lnTo>
                <a:lnTo>
                  <a:pt x="18401" y="1089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926"/>
                </a:solidFill>
                <a:latin typeface="Trebuchet MS"/>
              </a:rPr>
              <a:t>Broad Participation in Committees &amp; Teams</a:t>
            </a:r>
            <a:endParaRPr b="1" lang="en-US" sz="32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25146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3886200"/>
            <a:ext cx="1440" cy="55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276720"/>
            <a:ext cx="1522440" cy="63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ty Improv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3276720"/>
            <a:ext cx="1606680" cy="63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lth Information &amp; Technolog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3276720"/>
            <a:ext cx="1398600" cy="54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cation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1828800"/>
            <a:ext cx="2286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0481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2133720"/>
            <a:ext cx="1752480" cy="7617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er Advis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3352680"/>
            <a:ext cx="12193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fordability Work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648320"/>
            <a:ext cx="1067040" cy="59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4648320"/>
            <a:ext cx="761760" cy="59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2057400"/>
            <a:ext cx="1752840" cy="76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ian Advisory Pa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2438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E48-EA13-49F1-96D4-1F5F059563ED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926"/>
                </a:solidFill>
                <a:latin typeface="Trebuchet MS"/>
              </a:rPr>
              <a:t>Involvement by Many in the Community</a:t>
            </a:r>
            <a:endParaRPr b="1" lang="en-US" sz="32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250"/>
              </a:spcBef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ver 200 people volunteer time and experti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1250"/>
              </a:spcBef>
              <a:buClr>
                <a:srgbClr val="03392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mittees include physicians and other medical experts, purchasers, consumers and other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250"/>
              </a:spcBef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reate ‘Ambassadors’ through particip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1250"/>
              </a:spcBef>
              <a:buClr>
                <a:srgbClr val="03392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ide in the Alliance produc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1250"/>
              </a:spcBef>
              <a:buClr>
                <a:srgbClr val="03392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uilds credibility with pe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1250"/>
              </a:spcBef>
              <a:buClr>
                <a:srgbClr val="03392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cal buy-in to the proces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FF6-B7F6-473A-B8FD-161269D8E981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926"/>
                </a:solidFill>
                <a:latin typeface="Trebuchet MS"/>
              </a:rPr>
              <a:t>Involvement by Many in the Community</a:t>
            </a:r>
            <a:endParaRPr b="1" lang="en-US" sz="32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250"/>
              </a:spcBef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uilding Community Agreement is a Core Competenc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1250"/>
              </a:spcBef>
              <a:buClr>
                <a:srgbClr val="03392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clusion, committee processes, coordin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1250"/>
              </a:spcBef>
              <a:buClr>
                <a:srgbClr val="03392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nyone can join &amp; attend any meet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1250"/>
              </a:spcBef>
              <a:buClr>
                <a:srgbClr val="03392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 Alliance meetings are held quarterl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47EE-A56A-4D27-8BE2-AA7E759F92DA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926"/>
                </a:solidFill>
                <a:latin typeface="Trebuchet MS"/>
              </a:rPr>
              <a:t>Challenges and Strategies</a:t>
            </a:r>
            <a:endParaRPr b="1" lang="en-US" sz="32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dical Association / Regence Blue Shield lawsuit -heightened sensitivity to physician concer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342720">
              <a:spcBef>
                <a:spcPts val="1250"/>
              </a:spcBef>
              <a:buClr>
                <a:srgbClr val="03392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iance open-book approach is designed to avoid pitfall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me major employers won’t join – “free rider” threat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342720">
              <a:spcBef>
                <a:spcPts val="1250"/>
              </a:spcBef>
              <a:buClr>
                <a:srgbClr val="03392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ive employers additional value not available to the publi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uture financial sustainabi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342720">
              <a:spcBef>
                <a:spcPts val="1250"/>
              </a:spcBef>
              <a:buClr>
                <a:srgbClr val="03392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reate a valuable community asset with the data b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999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59C-7093-4E05-BFE3-A38E31473840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23:17:33Z</dcterms:created>
  <dc:creator>Megan Aukema</dc:creator>
  <dc:description/>
  <dc:language>en-US</dc:language>
  <cp:lastModifiedBy>Puget Sound Health Alliance</cp:lastModifiedBy>
  <dcterms:modified xsi:type="dcterms:W3CDTF">2007-09-26T23:33:54Z</dcterms:modified>
  <cp:revision>198</cp:revision>
  <dc:subject/>
  <dc:title>Title of Presentation Date</dc:title>
</cp:coreProperties>
</file>