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188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33926"/>
                </a:solidFill>
                <a:latin typeface="Trebuchet MS"/>
              </a:rPr>
              <a:t>Click to move the slide</a:t>
            </a: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39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1880" y="87739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D9AE-C676-425F-88CA-155FFEFB0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uppliers providing data for ~2M lives or about 70% of the insured, non-Medicare population in the five county re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asked… the first round of data suppliers 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t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st Ch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l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mera Blue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ence Blue Sh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Boeing Company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egenc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penters Tr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Seattle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etn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 State Health Care Author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ing County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etn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reational Equipment Inc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etn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ail Clerks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Zenith Administrato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ail Drug Employees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WPA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ington Mutual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United/MedSta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another way of looking at the purpose of the Alli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erson called the Alliance approach as “using quality improvement as a cost containment strate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oubt about it, we are focused on getting more effective care, more affordable care and greater value for every dollar spent on health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a quick snapshot of the Allianc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mmittees, made up of over 100 physicians, business leaders and others from the commun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mendations are developed and reviewed by various committees and recommended to the multi-stakeholde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of these work groups are made up of a majority of physicians, including the Quality Improvement Committee and the clinical improvement teams which focus on specialized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4560" y="438732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uppliers providing data for ~2M lives or about 70% of the insured, non-Medicare population in the five county reg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f asked… the first round of data suppliers a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t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st Ch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up Heal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l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mera Blue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gence Blue Sh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Boeing Company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egenc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penters Tr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ity of Seattle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etn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 State Health Care Authorit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ing County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etn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reational Equipment Inc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etn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ail Clerks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Zenith Administrato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ail Drug Employees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WPA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shington Mutual (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United/MedSta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F37E-31E0-4F68-9B08-D6CB43C7A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4280" y="1066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761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399200"/>
            <a:ext cx="761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B23-E680-4433-8F14-0227A609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4280" y="1066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718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3520" y="2209680"/>
            <a:ext cx="3718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399200"/>
            <a:ext cx="3718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3520" y="4399200"/>
            <a:ext cx="3718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2AC-C991-419C-A7CF-2230C4D18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4280" y="1066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95840" y="22096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72360" y="22096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3992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95840" y="43992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72360" y="43992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BC41-23B0-41A9-BFA7-C92572D87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4280" y="1066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2122-8B31-42C6-ADBD-8E2736D8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4280" y="1066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826-8C5B-4E3C-B63E-EFEF0094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4280" y="1066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718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3520" y="2209680"/>
            <a:ext cx="3718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35E-2C1C-4C90-AD6A-6602C313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4280" y="1066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FF7E-6B51-487E-BCD6-99BD8D3B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4280" y="1066320"/>
            <a:ext cx="762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A55B-6871-431F-905E-39C372E9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4280" y="1066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718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3520" y="2209680"/>
            <a:ext cx="3718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399200"/>
            <a:ext cx="3718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6D2-A9EA-4EAE-B675-FA548A63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4280" y="1066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718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3520" y="2209680"/>
            <a:ext cx="3718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3520" y="4399200"/>
            <a:ext cx="3718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7728-D6E8-4B49-AA07-BA1057F6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4280" y="1066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3718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3520" y="2209680"/>
            <a:ext cx="37180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399200"/>
            <a:ext cx="761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7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1242-5AC9-40A4-84A2-536EC0AC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4280" y="106632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33926"/>
                </a:solidFill>
                <a:latin typeface="Trebuchet MS"/>
              </a:rPr>
              <a:t>Click to edit the title text format</a:t>
            </a:r>
            <a:endParaRPr b="1" lang="en-US" sz="3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22096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788"/>
              </a:spcAft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Aft>
                <a:spcPts val="788"/>
              </a:spcAft>
              <a:buClr>
                <a:srgbClr val="03392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2" marL="1028880" indent="-228600">
              <a:spcAft>
                <a:spcPts val="788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Aft>
                <a:spcPts val="788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Aft>
                <a:spcPts val="788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Aft>
                <a:spcPts val="788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Aft>
                <a:spcPts val="788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1E3E-9D9B-4FA0-9368-9A35C2E5D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ugetsoundhealthalliance.org/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3809520"/>
            <a:ext cx="6629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Driving Health System Change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t the Regional Level</a:t>
            </a:r>
            <a:br>
              <a:rPr sz="3200"/>
            </a:b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HRQ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eptember 2007</a:t>
            </a:r>
            <a:endParaRPr b="1" lang="en-US" sz="20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-360" y="2514600"/>
            <a:ext cx="2514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Margaret Stanle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xecutive Direct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3A75-15D8-4EBF-BA74-5DF605B67157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926"/>
                </a:solidFill>
                <a:latin typeface="Trebuchet MS"/>
              </a:rPr>
              <a:t>Challenges and Strategies</a:t>
            </a:r>
            <a:endParaRPr b="1" lang="en-US" sz="32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o do” list is too long for time, staff &amp; money availab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342720">
              <a:spcBef>
                <a:spcPts val="1250"/>
              </a:spcBef>
              <a:buClr>
                <a:srgbClr val="03392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cu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nding the levers to turn information into action by participating organizatio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342720">
              <a:spcBef>
                <a:spcPts val="1250"/>
              </a:spcBef>
              <a:buClr>
                <a:srgbClr val="03392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e the uniqueness of the organization to create pressure for improve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9996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9FC1-101C-4E25-86BE-7141E75AC942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926"/>
                </a:solidFill>
                <a:latin typeface="Trebuchet MS"/>
              </a:rPr>
              <a:t>Success Factors for the Alliance</a:t>
            </a:r>
            <a:endParaRPr b="1" lang="en-US" sz="32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harismatic leader: King County Executive Ron Sim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342720">
              <a:spcBef>
                <a:spcPts val="1250"/>
              </a:spcBef>
              <a:buClr>
                <a:srgbClr val="03392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sion of what’s possible, rooted in common sen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342720">
              <a:spcBef>
                <a:spcPts val="1250"/>
              </a:spcBef>
              <a:buClr>
                <a:srgbClr val="03392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ruited major corporations to joi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volvement of purchasers, providers, plans, consum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ogether we can do this better than any one organization could do alo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duced good reports in clinical area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960-15E4-4CEB-9989-464F125F5E1F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926"/>
                </a:solidFill>
                <a:latin typeface="Trebuchet MS"/>
              </a:rPr>
              <a:t>Success Factors for the Alliance</a:t>
            </a:r>
            <a:endParaRPr b="1" lang="en-US" sz="32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ave respect in the commun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ublic performance report will include 2.5 million lives, 14 data suppliers, 16 medical group and 21 measur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eking the “sweet spot” of quality improvement &amp; cost contain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DE9A-AA7A-420F-8A45-A8188E48DB7D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76520" y="3200400"/>
            <a:ext cx="2895480" cy="1447920"/>
          </a:xfrm>
          <a:prstGeom prst="upArrowCallout">
            <a:avLst>
              <a:gd name="adj1" fmla="val 49998"/>
              <a:gd name="adj2" fmla="val 49994"/>
              <a:gd name="adj3" fmla="val 16667"/>
              <a:gd name="adj4" fmla="val 66660"/>
            </a:avLst>
          </a:prstGeom>
          <a:solidFill>
            <a:srgbClr val="f7f3ab"/>
          </a:solidFill>
          <a:ln w="9360">
            <a:solidFill>
              <a:srgbClr val="00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fu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3200400"/>
            <a:ext cx="2895480" cy="1447920"/>
          </a:xfrm>
          <a:prstGeom prst="upArrowCallout">
            <a:avLst>
              <a:gd name="adj1" fmla="val 49998"/>
              <a:gd name="adj2" fmla="val 49994"/>
              <a:gd name="adj3" fmla="val 16667"/>
              <a:gd name="adj4" fmla="val 66660"/>
            </a:avLst>
          </a:prstGeom>
          <a:solidFill>
            <a:srgbClr val="f7f3ab"/>
          </a:solidFill>
          <a:ln w="9360">
            <a:solidFill>
              <a:srgbClr val="00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ent Incen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2362320"/>
            <a:ext cx="7467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7f3ab"/>
              </a:gs>
              <a:gs pos="100000">
                <a:srgbClr val="005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5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roved Quality of 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743200" cy="549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43000" y="60199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6400800"/>
            <a:ext cx="76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reating the Tools and Motivation to Support Quality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ownRibbonSharp"/>
          <p:cNvSpPr/>
          <p:nvPr/>
        </p:nvSpPr>
        <p:spPr>
          <a:xfrm>
            <a:off x="5943600" y="1143000"/>
            <a:ext cx="2438280" cy="990720"/>
          </a:xfrm>
          <a:custGeom>
            <a:avLst/>
            <a:gdLst>
              <a:gd name="textAreaLeft" fmla="*/ 609480 w 2438280"/>
              <a:gd name="textAreaRight" fmla="*/ 1828800 w 2438280"/>
              <a:gd name="textAreaTop" fmla="*/ 12384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2700"/>
                </a:moveTo>
                <a:lnTo>
                  <a:pt x="5400" y="2700"/>
                </a:lnTo>
                <a:lnTo>
                  <a:pt x="5400" y="18900"/>
                </a:lnTo>
              </a:path>
              <a:path fill="none" w="21600" h="21600">
                <a:moveTo>
                  <a:pt x="5400" y="2700"/>
                </a:moveTo>
                <a:lnTo>
                  <a:pt x="8100" y="0"/>
                </a:lnTo>
              </a:path>
              <a:path fill="none" w="21600" h="21600">
                <a:moveTo>
                  <a:pt x="13500" y="2700"/>
                </a:moveTo>
                <a:lnTo>
                  <a:pt x="16200" y="2700"/>
                </a:lnTo>
                <a:lnTo>
                  <a:pt x="16200" y="18900"/>
                </a:lnTo>
              </a:path>
              <a:path fill="none" w="21600" h="21600">
                <a:moveTo>
                  <a:pt x="16200" y="2700"/>
                </a:moveTo>
                <a:lnTo>
                  <a:pt x="13500" y="0"/>
                </a:lnTo>
              </a:path>
            </a:pathLst>
          </a:custGeom>
          <a:solidFill>
            <a:srgbClr val="005300"/>
          </a:solidFill>
          <a:ln w="9360">
            <a:solidFill>
              <a:srgbClr val="f7f3ab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eate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wnRibbonSharp"/>
          <p:cNvSpPr/>
          <p:nvPr/>
        </p:nvSpPr>
        <p:spPr>
          <a:xfrm>
            <a:off x="2362320" y="1143000"/>
            <a:ext cx="2438280" cy="990720"/>
          </a:xfrm>
          <a:custGeom>
            <a:avLst/>
            <a:gdLst>
              <a:gd name="textAreaLeft" fmla="*/ 609480 w 2438280"/>
              <a:gd name="textAreaRight" fmla="*/ 1828800 w 2438280"/>
              <a:gd name="textAreaTop" fmla="*/ 12384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2700"/>
                </a:lnTo>
                <a:lnTo>
                  <a:pt x="13500" y="2700"/>
                </a:lnTo>
                <a:lnTo>
                  <a:pt x="13500" y="0"/>
                </a:lnTo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2700"/>
                </a:moveTo>
                <a:lnTo>
                  <a:pt x="5400" y="2700"/>
                </a:lnTo>
                <a:lnTo>
                  <a:pt x="5400" y="18900"/>
                </a:lnTo>
              </a:path>
              <a:path fill="none" w="21600" h="21600">
                <a:moveTo>
                  <a:pt x="5400" y="2700"/>
                </a:moveTo>
                <a:lnTo>
                  <a:pt x="8100" y="0"/>
                </a:lnTo>
              </a:path>
              <a:path fill="none" w="21600" h="21600">
                <a:moveTo>
                  <a:pt x="13500" y="2700"/>
                </a:moveTo>
                <a:lnTo>
                  <a:pt x="16200" y="2700"/>
                </a:lnTo>
                <a:lnTo>
                  <a:pt x="16200" y="18900"/>
                </a:lnTo>
              </a:path>
              <a:path fill="none" w="21600" h="21600">
                <a:moveTo>
                  <a:pt x="16200" y="2700"/>
                </a:moveTo>
                <a:lnTo>
                  <a:pt x="13500" y="0"/>
                </a:lnTo>
              </a:path>
            </a:pathLst>
          </a:custGeom>
          <a:solidFill>
            <a:srgbClr val="005300"/>
          </a:solidFill>
          <a:ln w="9360">
            <a:solidFill>
              <a:srgbClr val="f7f3ab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althier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10080" y="1600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495288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reement on effective treat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reement on how to measure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blic report on local health 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ful resources and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16002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4876920"/>
            <a:ext cx="3353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nefit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ue-based purch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y for performance for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y ado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6240" y="147168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1480" y="259092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1480" y="40384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1840" y="518148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6705720"/>
            <a:ext cx="7391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371600" y="6476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8763120" y="6476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BB9C-0DA6-48AC-89E4-C01C733C478C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rebuchet MS"/>
              </a:rPr>
              <a:t>Collaboration. Accountability. Action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"/>
          <p:cNvSpPr/>
          <p:nvPr/>
        </p:nvSpPr>
        <p:spPr>
          <a:xfrm>
            <a:off x="1828800" y="4572000"/>
            <a:ext cx="640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003 Western Avenue, Suite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attle, WA 981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206) 448-25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ugetsoundhealthallianc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826000" y="3809880"/>
            <a:ext cx="501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uget Sound Health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FD9-B457-46A7-B071-34F887171A91}" type="slidenum">
              <a:t>14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246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926"/>
                </a:solidFill>
                <a:latin typeface="Trebuchet MS"/>
              </a:rPr>
              <a:t>How the Health Alliance was Formed</a:t>
            </a:r>
            <a:endParaRPr b="1" lang="en-US" sz="32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spcAft>
                <a:spcPts val="1500"/>
              </a:spcAft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urchaser Leadership: King County Executive Ron Sim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2880" indent="-217080">
              <a:spcAft>
                <a:spcPts val="1500"/>
              </a:spcAft>
              <a:buClr>
                <a:srgbClr val="03392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sustainable cost growth in health ca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17080" indent="-217080">
              <a:spcAft>
                <a:spcPts val="1500"/>
              </a:spcAft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ask Force Report completed in 2004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2880" indent="-217080">
              <a:spcAft>
                <a:spcPts val="1500"/>
              </a:spcAft>
              <a:buClr>
                <a:srgbClr val="0339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andardize care based on evidence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2880" indent="-217080">
              <a:spcAft>
                <a:spcPts val="1500"/>
              </a:spcAft>
              <a:buClr>
                <a:srgbClr val="0339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andardize how quality is measur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2880" indent="-217080">
              <a:spcAft>
                <a:spcPts val="1500"/>
              </a:spcAft>
              <a:buClr>
                <a:srgbClr val="0339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prove quality, decrease waste, slow cost growt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42880" indent="-217080">
              <a:spcAft>
                <a:spcPts val="1500"/>
              </a:spcAft>
              <a:buClr>
                <a:srgbClr val="0339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ign incentives to recognize and reward qual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17080" indent="-217080">
              <a:spcAft>
                <a:spcPts val="1500"/>
              </a:spcAft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commended creation of public-private collaborativ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C36B-3372-48F6-B998-576A10EA9107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246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926"/>
                </a:solidFill>
                <a:latin typeface="Trebuchet MS"/>
              </a:rPr>
              <a:t>The Puget Sound Health Alliance Today</a:t>
            </a:r>
            <a:endParaRPr b="1" lang="en-US" sz="32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100"/>
              </a:spcAft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ivate, non-partisan, non-profit 501(c)(3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Aft>
                <a:spcPts val="2100"/>
              </a:spcAft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cus five counties in Western Washington, with interest in statewide expansion eventuall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Aft>
                <a:spcPts val="2100"/>
              </a:spcAft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unded by participating organizations, RWJF grant and King County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BBC9-99B2-4BF7-814B-5182DC362A4D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246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926"/>
                </a:solidFill>
                <a:latin typeface="Trebuchet MS"/>
              </a:rPr>
              <a:t>The Puget Sound Health Alliance Today</a:t>
            </a:r>
            <a:endParaRPr b="1" lang="en-US" sz="32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Aft>
                <a:spcPts val="2100"/>
              </a:spcAft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ublic and public employers, physicians, hospitals, patients, health plans, unions, associations 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Aft>
                <a:spcPts val="2100"/>
              </a:spcAft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~160 organizations, representing more than 1.5M covered people, </a:t>
            </a: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not counting health plan enroll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Aft>
                <a:spcPts val="2100"/>
              </a:spcAft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ard is 50% +1 purchasers, 4 providers, 4 plans, 2 consumer representativ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2ADF-0EFB-4442-A8C0-4A77787CD27A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62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926"/>
                </a:solidFill>
                <a:latin typeface="Trebuchet MS"/>
              </a:rPr>
              <a:t>Alliance Major Initiatives</a:t>
            </a:r>
            <a:endParaRPr b="1" lang="en-US" sz="32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500"/>
              </a:spcBef>
              <a:buClr>
                <a:srgbClr val="0339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unity agreement on evidence-based treat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500"/>
              </a:spcBef>
              <a:buClr>
                <a:srgbClr val="0339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etter information about health ca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1500"/>
              </a:spcBef>
              <a:buClr>
                <a:srgbClr val="0339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ublic reports comparing quality and efficiency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1500"/>
              </a:spcBef>
              <a:buClr>
                <a:srgbClr val="0339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ful information for decision-mak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500"/>
              </a:spcBef>
              <a:buClr>
                <a:srgbClr val="0339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courage use of health information technology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500"/>
              </a:spcBef>
              <a:buClr>
                <a:srgbClr val="03392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igned incentives to reward quality car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EF2F-9087-45DB-801B-B5B5A009C5AA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30492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30492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4648320"/>
            <a:ext cx="914400" cy="59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4648320"/>
            <a:ext cx="685800" cy="59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 Back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4648320"/>
            <a:ext cx="1066680" cy="59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4648320"/>
            <a:ext cx="838440" cy="59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4648320"/>
            <a:ext cx="609480" cy="59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44197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67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295280"/>
            <a:ext cx="8077320" cy="5181840"/>
          </a:xfrm>
          <a:custGeom>
            <a:avLst/>
            <a:gdLst>
              <a:gd name="textAreaLeft" fmla="*/ 0 w 8077320"/>
              <a:gd name="textAreaRight" fmla="*/ 8077680 w 807732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21600" h="21600">
                <a:moveTo>
                  <a:pt x="499" y="10678"/>
                </a:moveTo>
                <a:arcTo wR="-10302" hR="-10302" stAng="-10759291" swAng="-20390433"/>
                <a:lnTo>
                  <a:pt x="20894" y="14642"/>
                </a:lnTo>
                <a:arcTo wR="10800" hR="10800" stAng="1250276" swAng="20390433"/>
                <a:lnTo>
                  <a:pt x="24299" y="10960"/>
                </a:lnTo>
                <a:lnTo>
                  <a:pt x="21315" y="13874"/>
                </a:lnTo>
                <a:lnTo>
                  <a:pt x="18401" y="1089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926"/>
                </a:solidFill>
                <a:latin typeface="Trebuchet MS"/>
              </a:rPr>
              <a:t>Broad Participation in Committees &amp; Teams</a:t>
            </a:r>
            <a:endParaRPr b="1" lang="en-US" sz="32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25146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3886200"/>
            <a:ext cx="1440" cy="55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276720"/>
            <a:ext cx="1522440" cy="63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ty Improv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3276720"/>
            <a:ext cx="1606680" cy="63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lth Information &amp; Technology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3276720"/>
            <a:ext cx="1398600" cy="54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cation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1828800"/>
            <a:ext cx="2286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0481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2133720"/>
            <a:ext cx="1752480" cy="7617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er Advis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3352680"/>
            <a:ext cx="12193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fordability Work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3581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648320"/>
            <a:ext cx="1067040" cy="59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4648320"/>
            <a:ext cx="761760" cy="59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2057400"/>
            <a:ext cx="1752840" cy="762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ian Advisory Pa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24382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6B9E-2DA7-4C10-8B5B-7EA31290EFEA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926"/>
                </a:solidFill>
                <a:latin typeface="Trebuchet MS"/>
              </a:rPr>
              <a:t>Involvement by Many in the Community</a:t>
            </a:r>
            <a:endParaRPr b="1" lang="en-US" sz="32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250"/>
              </a:spcBef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ver 200 people volunteer time and experti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1250"/>
              </a:spcBef>
              <a:buClr>
                <a:srgbClr val="03392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mmittees include physicians and other medical experts, purchasers, consumers and other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28600" indent="-228600">
              <a:spcBef>
                <a:spcPts val="1250"/>
              </a:spcBef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reate ‘Ambassadors’ through particip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1250"/>
              </a:spcBef>
              <a:buClr>
                <a:srgbClr val="03392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ide in the Alliance produc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1250"/>
              </a:spcBef>
              <a:buClr>
                <a:srgbClr val="03392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uilds credibility with pe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1250"/>
              </a:spcBef>
              <a:buClr>
                <a:srgbClr val="03392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ocal buy-in to the proces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E5A-4FBE-4B43-8EC8-F1541677B839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926"/>
                </a:solidFill>
                <a:latin typeface="Trebuchet MS"/>
              </a:rPr>
              <a:t>Involvement by Many in the Community</a:t>
            </a:r>
            <a:endParaRPr b="1" lang="en-US" sz="32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250"/>
              </a:spcBef>
              <a:buClr>
                <a:srgbClr val="0339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uilding Community Agreement is a Core Competenc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1250"/>
              </a:spcBef>
              <a:buClr>
                <a:srgbClr val="03392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clusion, committee processes, coordina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1250"/>
              </a:spcBef>
              <a:buClr>
                <a:srgbClr val="03392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nyone can join &amp; attend any meet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71680" indent="-228600">
              <a:spcBef>
                <a:spcPts val="1250"/>
              </a:spcBef>
              <a:buClr>
                <a:srgbClr val="03392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 Alliance meetings are held quarterl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4F6-216E-4579-A494-D4AE5783138C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926"/>
                </a:solidFill>
                <a:latin typeface="Trebuchet MS"/>
              </a:rPr>
              <a:t>Challenges and Strategies</a:t>
            </a:r>
            <a:endParaRPr b="1" lang="en-US" sz="3200" spc="-1" strike="noStrike">
              <a:solidFill>
                <a:srgbClr val="033926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dical Association / Regence Blue Shield lawsuit -heightened sensitivity to physician concern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342720">
              <a:spcBef>
                <a:spcPts val="1250"/>
              </a:spcBef>
              <a:buClr>
                <a:srgbClr val="03392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liance open-book approach is designed to avoid pitfall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ome major employers won’t join – “free rider” threat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342720">
              <a:spcBef>
                <a:spcPts val="1250"/>
              </a:spcBef>
              <a:buClr>
                <a:srgbClr val="03392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ive employers additional value not available to the public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99960" indent="-399960">
              <a:spcBef>
                <a:spcPts val="1250"/>
              </a:spcBef>
              <a:buClr>
                <a:srgbClr val="03392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uture financial sustainabi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-342720">
              <a:spcBef>
                <a:spcPts val="1250"/>
              </a:spcBef>
              <a:buClr>
                <a:srgbClr val="03392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reate a valuable community asset with the data b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6858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9996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BA83-ECF6-4B05-98EE-B63815497754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0T23:17:33Z</dcterms:created>
  <dc:creator>Megan Aukema</dc:creator>
  <dc:description/>
  <dc:language>en-US</dc:language>
  <cp:lastModifiedBy>Puget Sound Health Alliance</cp:lastModifiedBy>
  <dcterms:modified xsi:type="dcterms:W3CDTF">2007-09-26T23:33:54Z</dcterms:modified>
  <cp:revision>198</cp:revision>
  <dc:subject/>
  <dc:title>Title of Presentation Date</dc:title>
</cp:coreProperties>
</file>