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485-34B9-4F92-94A3-951ED4B7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49F-9C0C-458C-A731-82AA13C7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2EA-0A97-4476-BBAF-3A495E56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7FA-C757-4CAF-A66F-766C672B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0EE-68DA-441F-AD5D-3485676D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5C3-0724-4AEB-8B69-AE09132E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8E7-35F9-4841-8463-16C47318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5F5-E6DA-46F9-A4CF-C5EF35FD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BB3-2849-4B21-A41D-F9A9B115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1263-F977-41E5-9045-29325D80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9AAA-F306-474F-B655-4C5A6479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84C-E496-4750-BA1A-51D001D0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AB9C-AF5C-4E9A-92D6-954B0FB8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583FF-B76E-48A8-AB67-0B39AFC8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D93B-16DB-4F2D-B135-43E91745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1ACF-B132-46D0-95B9-B5BB79AF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5ECF-E0FC-4B5E-8EFA-C1342230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281F-D6AF-4B9F-AF27-5E09466A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1216-BE6C-4F5F-B0E6-6A9CB2A0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7DE2-6BC1-4214-9781-4473AF66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1EF1-9AE8-4679-9F7E-DB49C549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2388-155B-44B3-B5C7-C9E888A0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D319-BABE-46DD-AD78-30C32AE6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344C-CF21-4AD5-917C-65272480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1D03A-F67E-4727-8A48-3315263B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64B75-4331-43D3-BC05-FE32F187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AD2D-11E2-40BE-B803-3586C6D0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09431-1690-41DD-90B6-091864D0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3CFD-9848-40E1-8B37-DBB3C195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217F0-9D80-4F46-BB6E-967E410A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90BAD-9F7F-4703-B9E2-1A269866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354CB-E2B6-408B-A7E2-F829A2CF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A309-C98D-47EA-AF21-15CD3FEE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2553B-CA5C-4C28-BFE3-5BF80439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A95C-9606-4962-91A2-440039E9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ECDF-D577-4B9A-936E-D7EE938B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92B9-E2B3-4B3D-9DE6-29663FCEBCF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C53-B82B-401C-B7CE-22594CF469A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993D-6338-4FFB-84F7-7DAFD8FF7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77900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 for the National Quality and Disparities Repor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. James Rohack MD FACC FA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ir, National Advisory Council to AHR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ior staff cardiologist, Scott &amp; White Cli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, Center for Healthcare Policy, S&amp;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dical Director for System Improvement, SW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sor of Medicine and Humanities in Medicine, TAMHS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 Summa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AHRQ drive change through the NQR/NDR by prioritizing where focus of change should b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the NQR/NDR be used for payment? For accountability? At System or Individual lev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the NQR/NDR only focus on what measures are meaningful for Value?  Continue trending less meaningful measu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90920" y="2438280"/>
            <a:ext cx="533376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093760" y="0"/>
            <a:ext cx="495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 of the NQR/NDR-Next 5 yea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y makers:  where to eliminate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tioners:  where to focus practice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er:  where to put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:  where to participate in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- Operational Issu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of Release:  Same time eg week after New Year’s or week before Super B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of Release:  Annually versus quarte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s:  Paper vs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ace:  60 Minutes vs Op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ture Directions - Impa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ive Reports- react to environment and document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Reports- focus on where change needs to occur to increas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- Increasing Value in Health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 measurement:  what can be measured with curr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measurement: what change in current systems needed to have measures that will drive improvement of care and decrease in dispar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- Other Us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reditation of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Licen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Compe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iation impacting choice and rew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urrent NQR/NDR and IOM Goals:  Should the Future be 4+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ational Quality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afe:  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tient Centered: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imely:  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ffective:  ++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fficien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quitab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1440" y="167616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ational Disparities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afe: + 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atient Centered: 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Timely: 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ffective: +++ 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ffici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Equitable: +++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- Drive Chan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Care Accoun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Accountability (patient, practitioner and provi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ative Effectiveness: adoption of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Directions – Actionable Leve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dc:language>en-US</dc:language>
  <cp:lastModifiedBy>James Rohack, MD</cp:lastModifiedBy>
  <cp:lastPrinted>2003-01-21T20:19:23Z</cp:lastPrinted>
  <dcterms:modified xsi:type="dcterms:W3CDTF">2007-09-20T12:31:42Z</dcterms:modified>
  <cp:revision>102</cp:revision>
  <dc:subject/>
  <dc:title>AHRQ Slide Template 2004</dc:title>
</cp:coreProperties>
</file>