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E79-AE58-4C43-B489-CF99B7C8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4F6-0979-4A38-96D4-7E9C8084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11D-59A5-4FBA-BD70-65B5D92E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F69-F690-4A4A-AC82-23FFA8FF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70B-F7E2-48C5-9F8E-73983A3A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AA8-4B2B-4102-B504-86712AE6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600-EE40-4DC8-9150-A1B4E31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83F-77FB-4F12-B5F6-F06D2FD8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EF7-AC7B-45B0-ACA4-5807C2C2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46B-DB9E-4C12-9F56-96F11473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8B9-27C6-4818-91E9-B775EDEB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45E-7C59-4A44-B633-852EB05C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FE0A-F575-47A5-A592-CF4E3E69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7DEC-7A24-4E41-B936-2D3FEDCC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A909-9474-4C2B-801C-888DB400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E0CA-4390-4C0B-BEF4-1E814481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6631-54EF-4153-B9CF-8F4DBC29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153C-28B2-47D6-BEF2-C6C26153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77DE-983A-4E49-B62C-1FF3F52C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5A53-DA3E-4F05-9EFF-945812E8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0EA5-1170-412C-A5A2-0869196B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B16E-2D79-4DA3-AFB2-FA51B2DA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9924-B41A-481E-8F74-A7D33768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533E-A4C8-4260-AADC-E9090EE8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0B05-6696-4D23-9400-77B60C89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56735-F595-4B1B-A54D-96DB2151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2457-4FB1-4AB5-BF29-A557C7B1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E6F8-3A77-4844-8526-088C6CBB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1CD9-CD47-4391-8BAD-36AA34E1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D9B6-7E6C-414A-B873-B733C882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C317-65BD-41DD-90AC-E5E34572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448B-1894-4739-90AB-76A4F7B7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B5063-A926-4201-9E36-47FF1E26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71DE2-4B58-439A-A52B-8C736A1E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19D1-1E28-46E3-81C2-C19F8935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FFA6-2F78-4FE6-93DF-5CC8FDAD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3D95-9F83-438F-AD4E-413CDA8C38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5BFD-1043-4851-8C72-F9B43784583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1A80-FE30-4205-9C1D-7FA566698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 for the National Quality and Disparities Repor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. James Rohack MD FACC FA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ir, National Advisory Council to AHR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ior staff cardiologist, Scott &amp; White Cli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, Center for Healthcare Policy, S&amp;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dical Director for System Improvement, SW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sor of Medicine and Humanities in Medicine, TAMHS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 Summa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HRQ drive change through the NQR/NDR by prioritizing where focus of change should b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the NQR/NDR be used for payment? For accountability? At System or Individual lev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the NQR/NDR only focus on what measures are meaningful for Value?  Continue trending less meaningful measu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90920" y="2438280"/>
            <a:ext cx="533376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093760" y="0"/>
            <a:ext cx="495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 of the NQR/NDR-Next 5 yea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y makers:  where to eliminate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tioners:  where to focus practice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er:  where to put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:  where to participate in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- Operational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of Release:  Same time eg week after New Year’s or week before Super B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of Release:  Annually versus quart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s:  Paper vs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ace:  60 Minutes vs Op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ture Directions - Impa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 Reports- react to environment and document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Reports- focus on where change needs to occur to increas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- Increasing Value in Health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 measurement:  what can be measured with curr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measurement: what change in current systems needed to have measures that will drive improvement of care and decrease in dispar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- Other Us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reditation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Licen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Compe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tion impacting choice and rew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rrent NQR/NDR and IOM Goals:  Should the Future be 4+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ational Quality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afe:  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tient Centered: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imely: 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ffective:  ++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fficien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quitab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1440" y="167616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ational Disparities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afe: +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tient Centered: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imely: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ffective: +++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ffici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quitable: ++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- Drive Chan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Care Accoun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Accountability (patient, practitioner and provi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ve Effectiveness: adoption of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 – Actionable Leve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James Rohack, MD</cp:lastModifiedBy>
  <cp:lastPrinted>2003-01-21T20:19:23Z</cp:lastPrinted>
  <dcterms:modified xsi:type="dcterms:W3CDTF">2007-09-20T12:31:42Z</dcterms:modified>
  <cp:revision>102</cp:revision>
  <dc:subject/>
  <dc:title>AHRQ Slide Template 2004</dc:title>
</cp:coreProperties>
</file>