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71880" y="87721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628E1E-5640-428A-B944-595CDF0A9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rr is human P 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5B8-62D7-4997-B2BB-44B54CDA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28DC-4E39-4B4C-886D-E916E76B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BFD-9AA6-4B20-A4FD-9B73B882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209F-34CB-4FA8-8690-71C5E69B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1318-661F-4229-9CC8-8D2265C5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DE40-D3A6-4904-9226-85CDEA01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AB97-33F4-4F2B-82D0-1CFE00DB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1409-BB01-4647-8834-5B12AD0C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A0A5-7001-4EA1-A95A-A3E8F11B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A766-7838-4AC5-B803-0E1CAED4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6437-443C-4DF6-8FFD-72D0FCF5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0AD-3D2D-4C58-B8FF-17CAEAC9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32C9-8906-4AFD-AB2A-D1403FB4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3EEB-4F94-4670-B85D-D5D8CCAC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62C5-15F9-49C8-8412-EB09F125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C095-1134-4E89-9776-81A97C49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BA10-32EA-409D-8CF4-64ECB291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C68C-8D0C-47DF-8064-05CF382F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F0D-262D-4FE0-B97B-19A31004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FDB-34A7-4916-B657-5C3D43FF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1E9-D92B-4EC7-83FC-22095654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ABB-08EE-42EF-989D-A2F035DC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7771-3247-4BD1-B1AC-101B6CE3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6259-6A5D-4511-986A-8684FF81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14EB-3C6D-43C0-A2B8-26734E89871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3976-07E7-457F-A7E4-A6690D7938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The Effects of Critical Access Hospital Conversion on </a:t>
            </a:r>
            <a:br>
              <a:rPr sz="4000"/>
            </a:b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atient Safety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engxiang Li, PhD, University of Pennsyl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John E. Schneider, PhD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I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rcia M. Ward, PhD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I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486400"/>
            <a:ext cx="7239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Support for this work was funded by the Agency for Healthcare Research and Quality through grant # HS0150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rol variab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vector of other explanatory variables for hospital i in year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% Medicare patient d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% Medicaid da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The hospital mean of the Charlson comorbidity sco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% surgical discharg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market concentration (HHI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unty-level per capita inco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ounty-level population dens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Zt is a vector of the year dummy variables which will adjust the effects of unmeasured, time-specific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de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 with tobit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ption: truncated normal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deviation to the assumption will lead to significant b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binary PSIs as dependent vari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Estimating Equations (GEE) Logit Model (predict odds of bad perform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(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1-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= 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∑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∑b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ariance function is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-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assume the within-subject association among repeated measures is a first-order autoregressive correlation patt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ata 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wa state inpatient datasets (SID) used to calculate PSIs for each hospital each ye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pital case mix and HHI were calculated using Iowa S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county variables were retrieved fr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Bureau of Health Professions Area Resource File (ARF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  <a:ea typeface="SimSun"/>
              </a:rPr>
              <a:t>Table 1: Means, Standard Deviation and Sources of Variables, 1997 and 2004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371600"/>
          <a:ext cx="8229600" cy="4800600"/>
        </p:xfrm>
        <a:graphic>
          <a:graphicData uri="http://schemas.openxmlformats.org/drawingml/2006/table">
            <a:tbl>
              <a:tblPr/>
              <a:tblGrid>
                <a:gridCol w="2666880"/>
                <a:gridCol w="1371600"/>
                <a:gridCol w="1047960"/>
                <a:gridCol w="1047600"/>
                <a:gridCol w="1047960"/>
                <a:gridCol w="1047600"/>
              </a:tblGrid>
              <a:tr h="2840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a sour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De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De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-5 (per 1000 discharg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wa SID, AHR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6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-6 (per 1000 discharg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wa SID, AHR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-7 (per 1000 discharg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wa SID, AHR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I-15 (per 1000 discharg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wa SID, AHR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osite PSI (per 1000 discharg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wa SID, AHR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249"/>
                        </a:spcBef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Hm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Medicare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wa S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.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1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5.7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4.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Medicaid d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wa S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7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sem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 concentration (HH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owa S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,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,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,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,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y per capita inc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1,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,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6,4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,3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y population dens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1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8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1.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dec" pos="379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9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able 2.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Cross-sectional Comparison of Means of PSIs between Rural PPS and CAHs, 1997 to 2004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447920"/>
          <a:ext cx="8229600" cy="4738680"/>
        </p:xfrm>
        <a:graphic>
          <a:graphicData uri="http://schemas.openxmlformats.org/drawingml/2006/table">
            <a:tbl>
              <a:tblPr/>
              <a:tblGrid>
                <a:gridCol w="987480"/>
                <a:gridCol w="1319040"/>
                <a:gridCol w="987480"/>
                <a:gridCol w="986040"/>
                <a:gridCol w="987120"/>
                <a:gridCol w="987480"/>
                <a:gridCol w="987480"/>
                <a:gridCol w="987480"/>
              </a:tblGrid>
              <a:tr h="86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spital catego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Hospit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te score of 4P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P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P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P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P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5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8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P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P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P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5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ral P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457200" y="63244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324480"/>
            <a:ext cx="81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ignificant difference in PSIs between rural PPS and CAH at p ≤ 0.10 (Wilcoxon rank sum te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Significant difference in PSIs between rural PPS and CAH at p ≤ 0.05 (Wilcoxon rank sum t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Figure 2. Changes in 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  <a:ea typeface="SimSun"/>
              </a:rPr>
              <a:t>Patient Safety Indicators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after Convers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7640" y="1600200"/>
          <a:ext cx="730872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1600200"/>
                    <a:ext cx="73087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able 3. 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GEE Logit Models of Binary PSIs (1=poor performance, 0=good performance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76520"/>
          <a:ext cx="8226360" cy="4495320"/>
        </p:xfrm>
        <a:graphic>
          <a:graphicData uri="http://schemas.openxmlformats.org/drawingml/2006/table">
            <a:tbl>
              <a:tblPr/>
              <a:tblGrid>
                <a:gridCol w="2209680"/>
                <a:gridCol w="1203480"/>
                <a:gridCol w="1203120"/>
                <a:gridCol w="1203480"/>
                <a:gridCol w="1203480"/>
                <a:gridCol w="1203120"/>
              </a:tblGrid>
              <a:tr h="85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te score of 4P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Medicare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Medicaid 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surgical dischar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rlson 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 concentration (HH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capita income ($1,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 den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ep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67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7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8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5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erv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457200" y="6156360"/>
            <a:ext cx="830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: Due to space limit, year dummy variables were omitted in this t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 Statistically significant at 0.10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Statistically significant at 0.05 leve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able 4. Sensitivity analysis: GEE model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1219320"/>
          <a:ext cx="8229600" cy="4038120"/>
        </p:xfrm>
        <a:graphic>
          <a:graphicData uri="http://schemas.openxmlformats.org/drawingml/2006/table">
            <a:tbl>
              <a:tblPr/>
              <a:tblGrid>
                <a:gridCol w="2133720"/>
                <a:gridCol w="1100160"/>
                <a:gridCol w="957240"/>
                <a:gridCol w="957240"/>
                <a:gridCol w="1027080"/>
                <a:gridCol w="1027080"/>
                <a:gridCol w="1027080"/>
              </a:tblGrid>
              <a:tr h="65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I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site score of 4P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7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 in Table 3 (89 hospitals, 1997 to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m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05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 adding proxy variable (the lag 1 year dependent variable) as covari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m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8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 using DRG-weight as risk adjustment (89 hospitals, 1997 to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9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5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0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m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0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36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 excluding 8 hospitals which is in rural PPS in 2006 (81 hospitals, 1997 to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1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5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m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5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2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7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27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 adjusting for hospital transfer behavior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4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2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Hm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8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1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3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2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457200" y="541008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  Statistically significant at 0.1 level. ** Statistically significant at 0.05 leve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‡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same as the model in Table 3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¥  Adding two variables (percentage of acute inpatient admission were transferred from other short-term hospital and percentage of acute inpatient patients were transferred to other short-term hospitals) into the models in Table II-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SimSun"/>
              </a:rPr>
              <a:t>Table 5. Sensitivity Analyses: Tobit Models of Continuous PSIs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82760" y="1752480"/>
          <a:ext cx="7770600" cy="308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752480"/>
                    <a:ext cx="7770600" cy="30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621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800600"/>
            <a:ext cx="7467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 Statistically significant at 0.1 level. ** Statistically significant at 0.05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++ Convergence was not achie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+++   Add hospital dummy variables in cross-sectional Tobit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‡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The results should be interpreted with caution, given that estimations for some coefficients were not stable under quadch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∏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SI-5 are observed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sul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Cross-section and pre-post conversion comparisons showed that CAH hospitals had better performance of patient safety than rural PPS hospit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The odds ratios of poor performance in CAH hospitals compared to rural PPS hospitals are 0.30 (CI: 0.14-0.64) for PSI-6, 0.29 (CI: 0.15-0.56) for PSI-7, 0.40 (CI: 0.24-0.67) for PSI-15, and 0.49 (CI: 0.31-0.80) for composite score of 4PSIs. CAH conversion had no significant impact on the observed rates of foreign body left during proced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Moving average CAH indicator had larger effects than binary CAH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Sensitivity analyses using tobit models consisten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Findings were robust among sensitivity analyses using different samples and differen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  <a:ea typeface="SimSun"/>
              </a:rPr>
              <a:t>Background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  <a:ea typeface="SimSun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Many of the smallest rural hospitals were not able to recover their Medicare costs under the prospective payment system (PPS) rates (Dalton, et al, 2005; Stensland, et al, 2004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Medicare Rural Hospital Flexibility Program of the 1997 Balanced Budget Ac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To protect small, financially vulnerable rural hospita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Allowed hospitals meeting certain criteria to convert to critical access hospitals (CAH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Changed Medicare reimbursement mechanism from prospective (PPS) to cost-bas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One of the objectives of the policy was to increase the quality of care in these hospita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Better PSI Performance Associated CAH Conversion: Alternative Explanation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coding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not find any significant change in hospital-level mean number of DX, mean Charlson score, mean number of Elixhauser comorbi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referral patterns (get less severe pati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ignificant change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patients transferred from other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patients transferred to other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adjusting for referral behaviors show consistent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reflects a trend toward improvement in patient safety for all hospit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-converted hospitals are comparison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year dummy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in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clusion and impl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CAH conversion in rural hospitals resulted in enhanced performance of patient safety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After conversion, CAHs have better perform in patient safety in the long ru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We speculate that the likely mechanism involved an increase in financial resources following CAH conversion to cost-based reimbursement for Medicare pati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SimSun"/>
              </a:rPr>
              <a:t>Limitations of the stu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ve databases (missing codes, coding err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We are not able to rule out the possibility of coding behavio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The five indicators may not reflect the whole picture of patient safety in rural 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CAH conversion variable is endogene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atient Safe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edom from accidental injury due to medical care, or medical errors.” (IOM, 199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ailure of a planned action to be completed as intended or the use of a wrong plan to achieve an aim…[including] problems in practice, products, procedures, and systems.” (Quality Interagency Coordination Task Force, 200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year, more than 44,000 Americans die in hospitals due to preventable medical errors (AHA, 1999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  <a:ea typeface="SimSun"/>
              </a:rPr>
              <a:t>Objectiv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SimSun"/>
              </a:rPr>
              <a:t>To examine the impact of critical access hospital (CAH) conversion on hospital patient safety in rural hospit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tudy Sample and Unit of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Eight year panel data for 89 Iowa rural hospitals (rural PPS hospitals and CAH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Unit of analysis is hospital-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33"/>
                </a:solidFill>
                <a:latin typeface="Garamond"/>
                <a:ea typeface="SimSun"/>
              </a:rPr>
              <a:t>Figure 1: Time Frame of Iowa Rural Hospitals CAH Conversion</a:t>
            </a:r>
            <a:r>
              <a:rPr b="1" lang="en-US" sz="2700" spc="-1" strike="noStrike">
                <a:solidFill>
                  <a:srgbClr val="006633"/>
                </a:solidFill>
                <a:latin typeface="Garamond"/>
                <a:ea typeface="SimSu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947960"/>
          <a:ext cx="7936200" cy="42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47960"/>
                    <a:ext cx="79362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Outcome Measurements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  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SimSun"/>
              </a:rPr>
              <a:t>AHRQ Patient Safety Indicator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reated by AHRQ PSI SAS macro V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Each observed rate of patient safety indicator can be defined as “the outcome of interest in the population at ris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risk-adjusted rate is the rate the provider would have if it had the same case-mix as the reference population (2003 state inpatient datasets from 38 states) given the provider’s actual perform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HRQ recommends suppressing the estimates if fewer than 30 cases are in the denom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Only five patient safety indicators are able to provide PSI measures for all rural Iowa hospit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PSI-5: foreign body left during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PSI-6: iatrogenic pneumothor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PSI-7: selected infections due to medical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PSI-15: accidental puncture or lac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PSI-16: transfusion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SimSun"/>
              </a:rPr>
              <a:t>Too rare to provide variability to differentiate hospitals in Iow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Outcome Measurements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            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  <a:ea typeface="SimSun"/>
              </a:rPr>
              <a:t>AHRQ Patient Safety Indicator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Four patient safety indicators (PSI-5, PSI-6, PSI-7 and PSI-15) are selected as the main measures for patient safety performance in Iowa rural hospit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 composite patient safety indicator variable is the weighted average of each indic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13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The weights are based on the frequency of the numerator of each PSI in our sample (8-year inpatient discharges among 89 Iowa rural hospital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Binary P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13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If the value of a PSI is higher than the median of the PSI in our sample, the binary variable for the PSI (poor performance) is equal to one; otherwise, it is equal to z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AH Variab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H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CAH binary indic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CA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=1, if hospital i is in CAH status in year 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CA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=0, if hospital i is in PPS status in year 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Hmv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SimSun"/>
              </a:rPr>
              <a:t>moving average CAH variab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examine the relatively long-term effects of CAH conver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CAHmv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=(CA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+CA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(t-1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+CA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i(t-2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)/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e.g. CAHmv=0.33 if the hospital is in the first year of conver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ode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nel data tobit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istributions of PSIs are skew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value of PSIs is non-negative with a mass at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bit models have a conceptual advantage in analyzing data where the distribution of the dependent variable is normal above a limiting valu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S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= 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∑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∑β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ε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S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max (0, PS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3:30:42Z</dcterms:created>
  <dc:creator>College of Public Health</dc:creator>
  <dc:description/>
  <dc:language>en-US</dc:language>
  <cp:lastModifiedBy>Pengxiang Li</cp:lastModifiedBy>
  <dcterms:modified xsi:type="dcterms:W3CDTF">2007-09-28T13:21:29Z</dcterms:modified>
  <cp:revision>163</cp:revision>
  <dc:subject/>
  <dc:title>Effect of Critical Access Hospital Conversion on Patient Safety in Rural Hospitals </dc:title>
</cp:coreProperties>
</file>