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339B4A-F70B-4962-A1B4-6C7FE8F3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rr is human P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905-86E0-4990-8B94-7F44041C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560-3E11-4DFA-BD76-138BEDD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001-8E80-444E-810F-42C0E633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A8C-7BCE-44F1-9E45-0472B7FF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CB2-69D8-468B-867D-CCD37E40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B24-3567-4CEC-B242-A0111A9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EF41-4311-4BD0-8D28-3509AAF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7CB-92C8-4A99-B8C9-A1F896E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22F3-7313-4649-AD18-B8A8C6EC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00B9-3E04-4E0B-BB86-18BFC52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312-C1E4-4C32-9B5F-A77B83B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2EE-6651-4257-B0E8-6760A5E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FC0-EE30-4DA9-8174-7E670F6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9D9-02E1-4CB6-9341-009D45F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C85-EBF2-4781-A7B4-74342CE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97DB-CCEB-4E3D-B15A-9740ACA7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07D2-6CB8-44B6-AC0B-0F8560F0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768-34DB-4F4B-BF67-5BCC1FD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F2B-3C7B-4B99-BD81-8D99BA57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D97-240A-41F4-8992-58F22967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513-17C5-4EA4-A076-F858684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67B-0537-42F9-8004-9A53D72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F4F-7BD8-4723-8959-C293691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5FA-DD4A-4589-87FD-57D562D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E2E-4A4D-4447-A9BB-67A99CAA50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3FC1-1FD0-4A0F-A5E8-5E184B4D04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Effects of Critical Access Hospital Conversion on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atient Safety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engxiang Li, PhD, University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John E. Schneider, Ph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rcia M. Ward, Ph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486400"/>
            <a:ext cx="7239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upport for this work was funded by the Agency for Healthcare Research and Quality through grant # HS015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vector of other explanatory variables for hospital i in year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Medicare patient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Medicaid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hospital mean of the Charlson comorbidity sc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surgical dischar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rket concentration (HH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unty-level per capita inc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unty-level population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Zt is a vector of the year dummy variables which will adjust the effects of unmeasured, time-specif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with tobit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: truncated normal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viation to the assumption will lead to significant b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binary PSIs as dependent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Estimating Equations (GEE) Logit Model (predict odds of bad perform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(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1-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∑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∑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function is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-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ssume the within-subject association among repeated measures is a first-order autoregressive correlation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ata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wa state inpatient datasets (SID) used to calculate PSIs for each hospital each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 case mix and HHI were calculated using Iowa S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county variables were retrieved fr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Bureau of Health Professions Area Resource File (ARF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SimSun"/>
              </a:rPr>
              <a:t>Table 1: Means, Standard Deviation and Sources of Variables, 1997 and 2004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371600"/>
          <a:ext cx="8229600" cy="4800600"/>
        </p:xfrm>
        <a:graphic>
          <a:graphicData uri="http://schemas.openxmlformats.org/drawingml/2006/table">
            <a:tbl>
              <a:tblPr/>
              <a:tblGrid>
                <a:gridCol w="2666880"/>
                <a:gridCol w="1371600"/>
                <a:gridCol w="1047960"/>
                <a:gridCol w="1047600"/>
                <a:gridCol w="1047960"/>
                <a:gridCol w="1047600"/>
              </a:tblGrid>
              <a:tr h="28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De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De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5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6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7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15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te PSI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H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Medicare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.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5.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Medicaid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sem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concentration (HH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,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,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,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,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y per capita inc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,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,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,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,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y population d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8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2.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ross-sectional Comparison of Means of PSIs between Rural PPS and CAHs, 1997 to 2004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447920"/>
          <a:ext cx="8229600" cy="4738680"/>
        </p:xfrm>
        <a:graphic>
          <a:graphicData uri="http://schemas.openxmlformats.org/drawingml/2006/table">
            <a:tbl>
              <a:tblPr/>
              <a:tblGrid>
                <a:gridCol w="987480"/>
                <a:gridCol w="1319040"/>
                <a:gridCol w="987480"/>
                <a:gridCol w="986040"/>
                <a:gridCol w="987120"/>
                <a:gridCol w="987480"/>
                <a:gridCol w="987480"/>
                <a:gridCol w="987480"/>
              </a:tblGrid>
              <a:tr h="86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 categ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57200" y="6324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 difference in PSIs between rural PPS and CAH at p ≤ 0.10 (Wilcoxon rank sum te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Significant difference in PSIs between rural PPS and CAH at p ≤ 0.05 (Wilcoxon rank sum t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igure 2. Changes in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  <a:ea typeface="SimSun"/>
              </a:rPr>
              <a:t>Patient Safety Indicators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after Convers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7640" y="1600200"/>
          <a:ext cx="73087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600200"/>
                    <a:ext cx="7308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3.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GEE Logit Models of Binary PSIs (1=poor performance, 0=good performance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76520"/>
          <a:ext cx="8226360" cy="4495320"/>
        </p:xfrm>
        <a:graphic>
          <a:graphicData uri="http://schemas.openxmlformats.org/drawingml/2006/table">
            <a:tbl>
              <a:tblPr/>
              <a:tblGrid>
                <a:gridCol w="2209680"/>
                <a:gridCol w="1203480"/>
                <a:gridCol w="1203120"/>
                <a:gridCol w="1203480"/>
                <a:gridCol w="1203480"/>
                <a:gridCol w="1203120"/>
              </a:tblGrid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Medicare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Medicaid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surgical dischar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lson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concentration (HH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capita income ($1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7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8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5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57200" y="61563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Due to space limit, year dummy variables were omitted in this t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Statistically significant at 0.10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Statistically significant at 0.05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4. Sensitivity analysis: GEE model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219320"/>
          <a:ext cx="8229600" cy="4038120"/>
        </p:xfrm>
        <a:graphic>
          <a:graphicData uri="http://schemas.openxmlformats.org/drawingml/2006/table">
            <a:tbl>
              <a:tblPr/>
              <a:tblGrid>
                <a:gridCol w="2133720"/>
                <a:gridCol w="1100160"/>
                <a:gridCol w="957240"/>
                <a:gridCol w="957240"/>
                <a:gridCol w="1027080"/>
                <a:gridCol w="1027080"/>
                <a:gridCol w="1027080"/>
              </a:tblGrid>
              <a:tr h="65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in Table 3 (89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adding proxy variable (the lag 1 year dependent variable) as covari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using DRG-weight as risk adjustment (89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excluding 8 hospitals which is in rural PPS in 2006 (81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adjusting for hospital transfer behavior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54100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  Statistically significant at 0.1 level. ** Statistically significant at 0.05 lev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‡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ame as the model in Table 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¥  Adding two variables (percentage of acute inpatient admission were transferred from other short-term hospital and percentage of acute inpatient patients were transferred to other short-term hospitals) into the models in Table II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Table 5. Sensitivity Analyses: Tobit Models of Continuous PSI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2760" y="1752480"/>
          <a:ext cx="7770600" cy="30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752480"/>
                    <a:ext cx="77706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21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00600"/>
            <a:ext cx="7467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Statistically significant at 0.1 level. ** Statistically significant at 0.05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++ Convergence was not ach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+++   Add hospital dummy variables in cross-sectional Tob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‡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e results should be interpreted with caution, given that estimations for some coefficients were not stable under quadch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∏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SI-5 are observed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Cross-section and pre-post conversion comparisons showed that CAH hospitals had better performance of patient safety than rural PPS hosp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e odds ratios of poor performance in CAH hospitals compared to rural PPS hospitals are 0.30 (CI: 0.14-0.64) for PSI-6, 0.29 (CI: 0.15-0.56) for PSI-7, 0.40 (CI: 0.24-0.67) for PSI-15, and 0.49 (CI: 0.31-0.80) for composite score of 4PSIs. CAH conversion had no significant impact on the observed rates of foreign body left during proced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oving average CAH indicator had larger effects than binary CA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ensitivity analyses using tobit models consist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ndings were robust among sensitivity analyses using different samples and differ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SimSun"/>
              </a:rPr>
              <a:t>Background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SimSun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any of the smallest rural hospitals were not able to recover their Medicare costs under the prospective payment system (PPS) rates (Dalton, et al, 2005; Stensland, et al, 200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edicare Rural Hospital Flexibility Program of the 1997 Balanced Budget 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To protect small, financially vulnerable rural hospit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llowed hospitals meeting certain criteria to convert to critical access hospitals (CA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hanged Medicare reimbursement mechanism from prospective (PPS) to cost-ba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One of the objectives of the policy was to increase the quality of care in these hospit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etter PSI Performance Associated CAH Conversion: Alternative Explana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cod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find any significant change in hospital-level mean number of DX, mean Charlson score, mean number of Elixhauser comorbi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referral patterns (get less severe pat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gnificant chang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patients transferred from other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patients transferred to other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adjusting for referral behaviors show consist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reflects a trend toward improvement in patient safety for all hospit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-converted hospitals are comparis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ear dummy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n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 and impl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H conversion in rural hospitals resulted in enhanced performance of patient safety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fter conversion, CAHs have better perform in patient safety in the long r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We speculate that the likely mechanism involved an increase in financial resources following CAH conversion to cost-based reimbursement for Medicare pat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imitations of the stu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atabases (missing codes, coding err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e are not able to rule out the possibility of coding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e five indicators may not reflect the whole picture of patient safety in rural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CAH conversion variable is endogene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tient Safe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dom from accidental injury due to medical care, or medical errors.” (IOM, 19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ailure of a planned action to be completed as intended or the use of a wrong plan to achieve an aim…[including] problems in practice, products, procedures, and systems.” (Quality Interagency Coordination Task Force, 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year, more than 44,000 Americans die in hospitals due to preventable medical errors (AHA, 1999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  <a:ea typeface="SimSun"/>
              </a:rPr>
              <a:t>Objectiv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To examine the impact of critical access hospital (CAH) conversion on hospital patient safety in rural hospi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udy Sample and Unit of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ight year panel data for 89 Iowa rural hospitals (rural PPS hospitals and CAH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it of analysis is hospital-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  <a:ea typeface="SimSun"/>
              </a:rPr>
              <a:t>Figure 1: Time Frame of Iowa Rural Hospitals CAH Conversion</a:t>
            </a:r>
            <a:r>
              <a:rPr b="1" lang="en-US" sz="2700" spc="-1" strike="noStrike">
                <a:solidFill>
                  <a:srgbClr val="006633"/>
                </a:solidFill>
                <a:latin typeface="Garamond"/>
                <a:ea typeface="SimSu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947960"/>
          <a:ext cx="793620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47960"/>
                    <a:ext cx="79362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utcome Measurement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AHRQ Patient Safety Indica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reated by AHRQ PSI SAS macro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ach observed rate of patient safety indicator can be defined as “the outcome of interest in the population at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risk-adjusted rate is the rate the provider would have if it had the same case-mix as the reference population (2003 state inpatient datasets from 38 states) given the provider’s actual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HRQ recommends suppressing the estimates if fewer than 30 cases are in the denom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Only five patient safety indicators are able to provide PSI measures for all rural Iowa hospit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5: foreign body left dur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6: iatrogenic pneumoth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7: selected infections due to medical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15: accidental puncture or lac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16: transfusion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oo rare to provide variability to differentiate hospitals in Iow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utcome Measurement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AHRQ Patient Safety Indica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Four patient safety indicators (PSI-5, PSI-6, PSI-7 and PSI-15) are selected as the main measures for patient safety performance in Iowa rural hos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 composite patient safety indicator variable is the weighted average of each indic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The weights are based on the frequency of the numerator of each PSI in our sample (8-year inpatient discharges among 89 Iowa rural hospital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Binary P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f the value of a PSI is higher than the median of the PSI in our sample, the binary variable for the PSI (poor performance) is equal to one; otherwise, it is equal to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H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AH binary indic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1, if hospital i is in CAH status in year 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0, if hospital i is in PPS status in year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Hmv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oving average CAH vari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xamine the relatively long-term effects of CAH co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m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(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+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(t-1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+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(t-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)/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e.g. CAHmv=0.33 if the hospital is in the first year of co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 data tobi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tributions of PSIs are ske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lue of PSIs is non-negative with a mass at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bit models have a conceptual advantage in analyzing data where the distribution of the dependent variable is normal above a limiting val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= 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∑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∑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ε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max (0, 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3:30:42Z</dcterms:created>
  <dc:creator>College of Public Health</dc:creator>
  <dc:description/>
  <dc:language>en-US</dc:language>
  <cp:lastModifiedBy>Pengxiang Li</cp:lastModifiedBy>
  <dcterms:modified xsi:type="dcterms:W3CDTF">2007-09-28T13:21:29Z</dcterms:modified>
  <cp:revision>163</cp:revision>
  <dc:subject/>
  <dc:title>Effect of Critical Access Hospital Conversion on Patient Safety in Rural Hospitals </dc:title>
</cp:coreProperties>
</file>