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3B9-A568-46A6-BC49-F735A411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2E7-1F63-4E42-9E3A-47CDCDE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C75-2EE0-4517-BACA-69CDA517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855-A814-41BC-9646-8A42D9B8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F698-3F84-46B6-A5E0-4BCABC2A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7D6A-C2A1-4D0A-A829-49792310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5213-3DB4-4F56-97EB-F2B1420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FBFB-D5CB-41B2-A22B-25CCDB2C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FB3-70D8-4060-941E-8A9FC65A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6C7D-5E00-4CE6-9DB2-5BA08976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B33-7323-4F98-A8AF-EFB3627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DEF-DC1A-435B-93E1-91589B8B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0787-A76D-4C50-97E4-BDBF145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FFE-CF18-4CBF-B098-4CD0909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60CD-F026-4C83-B681-90317F5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6F69-BAF0-4539-8D13-429A645A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C95D-5DA6-4C48-84B5-274C042C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AA7-37F2-41FD-A51E-5F211860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D44-9B39-481F-AEBB-74640218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6CF-FCEB-4BA4-9D4B-686C882E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1FC-7AE3-4490-9936-94C4C500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023-4E24-4A91-9835-7B101107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7B9-5F0C-440A-ACA4-362DD04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BC1-79CC-4F79-AEBA-84E00295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2F05-C0D5-4488-A837-2382C8173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47EC-C4D5-4868-B9F0-011D9711D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Impact of Critical Access Hospital Convers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n Other Rural Hospital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Laura Morlock, PhD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Department of Health Policy and Manage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ohns Hopkins Bloomberg School of Public Health</a:t>
            </a:r>
            <a:br>
              <a:rPr sz="24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0120" y="64911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:  American Hospital Assoc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lanced Budget Act of 199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ade the most far-reaching revisions to the Medicare program since its ince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s in response to what was viewed as an impending health care crisi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ouble digit growth in Medicare reimbu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stimated insolvency of the Medicare Trust Fund by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lanced Budget Act of 1997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BBA sharply reduced inpatient payments, to be phased in during 1998-200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mplemented prospective payment methods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spital outpatient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Other ambulatory car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killed nursing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me health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duced payments to hospitals serving disproportionate shares of Medicaid and nonpaying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BRA and BIPA restored about $48 billion in proposed cu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for Small Rural Hospi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BBA legislation also created a new   hospital category—Critical Access Hospital—which can receive cost-based inpatient and outpatient payments from Medi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“distance requirements” for qualifying: hospitals had to be at least 15 miles by secondary road and 35 miles by primary road from the next nearest hospital, or be declared a “necessary provider” by the St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for Small Rural Hospi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ubsequent legislation and regulations made the program even more beneficial for rural hospitals with fewer than 26 acute care b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number of CAHs grew rapidly from 1997 through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urrently there are approximately 1288 CA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ost have qualified through the “necessary provider” criter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pproximately two-thirds of CAHs are 16-34 road miles from the next nearest hospital, and about 15% are within 15 or fewer m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Key Policy Question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do the various available programs interact to protect rural hospitals?  What hospitals are left out of these program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can payment strategies be further designed to recognize the special circumstances of rural hospital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bjective of This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To examine how CAH conversions affected other hospitals in their service areas that did not convert to CAH stat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udy sample: Fifty per cent regionally stratified national sample of rural hospitals in the U.S. with Medicare Cost Report data (N= 821), excluding hospitals that merged during the study tim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ime Frame:  1996-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Outcome variable: Financial status as measured by Total Margin (Net income/Total reven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ources of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edicare Cost 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merican Hospital Association Annual Surv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a Resourc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artmouth Atlas of Health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Independent (Predictor) Variab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Per cent of beds in the Hospital Referral Region (HRR) that are CAH b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urces of data: Dartmouth Atlas of Health Care and the Medicare Cost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Project Sponsor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is analysis is part of a larger stud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Hospitals: Environment, Strategy, and Viability (RO1 HS01144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unded by the Agency for Healthcare Research and Qu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Control Variable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unty Variables  (A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ensus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apita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ducational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-urban continuum 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spital Referral Region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otal beds in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ent of operating beds in Rural Referral Center, Sole Community Provider and PPS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ype of hospital Medicare reimbur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Referral Center, CAH, Sole Community Provider, P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scal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996 (base year) -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Methods of Analysi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ree level hierarchical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XT mixed model using ST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peated measures of hospitals over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andom effects (random intercept)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djusted for clustering by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Multi-Level Model Resul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Predictors of Total Margi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ariab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gression Coefficients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 value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ensus population (in 1000s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05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apita inco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(in 1000s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108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scal year (base 199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997-200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-0.850 to -3.643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all  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ducational lev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lo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-1.39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ype of reimbursement  (PPS omit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Referral Cent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2.259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ritical Access Hospit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               4.096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le Community Provid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1.547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ent beds in H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CAH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              -0.397 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  .000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Referral Cent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0.00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8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le Community Provid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0.00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8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otal operating beds in HR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0.00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-urban continuum cod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- 2.52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esearch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Johns Hopkins Bloomberg School of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aura Morlock, Ph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David Salkever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ter Pronovost, MD, Ph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Marlene Miller, MD, M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n Skinner, MS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Lilly Engineer, MD, M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yrus Engineer, MHA, M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Maureen Fahey, M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ew Shore, Ph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Rebecca Clark, 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obin Newhouse, RN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esearch Team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irginia Commonwealth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ephen Mick, PhD and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Policy Research Institute (RUP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Keith Mueller, PhD--Univ. of Nebras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ew Coburn, PhD--Univ. of Southern M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imothy McBride, PhD--Univ. of Misso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. Clinton MacKinney, MD, MS--Mayo Cli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ary Wakefield, PhD--George Mason Uni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becca Slifkin, PhD--Univ. of North Caro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verall Project Obj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o assess the impac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Federal policy chang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healthcare market for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on the organizational and management strategies, financial viability and clinical performance of U.S. rural hospit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2590920"/>
            <a:ext cx="3048120" cy="2286000"/>
          </a:xfrm>
          <a:prstGeom prst="rightArrowCallout">
            <a:avLst>
              <a:gd name="adj1" fmla="val 25002"/>
              <a:gd name="adj2" fmla="val 25000"/>
              <a:gd name="adj3" fmla="val 22223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7862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inical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19520"/>
            <a:ext cx="2133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arke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581280" y="2286000"/>
            <a:ext cx="2057400" cy="2362320"/>
            <a:chOff x="3581280" y="2286000"/>
            <a:chExt cx="2057400" cy="2362320"/>
          </a:xfrm>
        </p:grpSpPr>
        <p:sp>
          <p:nvSpPr>
            <p:cNvPr id="97" name=""/>
            <p:cNvSpPr/>
            <p:nvPr/>
          </p:nvSpPr>
          <p:spPr>
            <a:xfrm>
              <a:off x="3581280" y="2286000"/>
              <a:ext cx="2057400" cy="23623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52640" y="2884320"/>
              <a:ext cx="1720800" cy="10688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ural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ospital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80060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utcome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606760"/>
            <a:ext cx="2057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ederal Policy 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1911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nancial V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9574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urvi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Organizational &amp;       Management Strategies, including Con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981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2760" y="33336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 and Significance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ural Hospi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pproximately 50 million people in the U.S. live in r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communities are served by about 2000 rural hospit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sidents of rural areas are less healthy than urban residents on most measures of health stat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hospitals play a critical role in their communities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oviding access to health car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erving as a hub for public health, wellness, and social servic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oviding jobs, recruiting health practitioners, making communities more attractive places to live and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 and Significance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Viability of Many Rural Hospitals is in Qu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mpared to their urban counterparts, rural hospit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 usually more geographically isolate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 in smaller communiti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end to be more dependent on Medicare fund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ave a higher proportion of outpatient ser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ike their urban counterparts, rural hospit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ace workforce shortages for nurses and other professio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0120" y="64911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:  American Hospital Assoc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16:12:22Z</dcterms:created>
  <dc:creator>Faye Malitz.</dc:creator>
  <dc:description/>
  <dc:language>en-US</dc:language>
  <cp:lastModifiedBy>dcelenta</cp:lastModifiedBy>
  <cp:lastPrinted>1999-11-03T18:51:48Z</cp:lastPrinted>
  <dcterms:modified xsi:type="dcterms:W3CDTF">2007-09-28T15:22:26Z</dcterms:modified>
  <cp:revision>78</cp:revision>
  <dc:subject/>
  <dc:title>No Slide Title</dc:title>
</cp:coreProperties>
</file>