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553-E026-4ED8-8825-7BE24177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BC06-2E03-4B0F-B9A4-26588C6A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4BCC-B387-46A9-9E3E-AD015DF1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B228-5470-4BC2-9AA6-800A24F6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9643-5298-419E-9C69-8C0B7231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CB37-B8D3-4299-96BD-94953ED5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497B-729F-44B6-BE54-28577DC7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CCC1-85DE-4D28-AB4E-DBB9DE08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8B22-D4B0-495E-A4F1-813E64A4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973F-02B5-4A6F-9DF3-74887B36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86E7-5FFF-411D-8677-BB3CEE7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97C-C880-4D62-8454-60714F84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E6BD-D666-4D88-B2E3-79809AC6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4326-EB59-4C20-8385-DF5E312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0260-E74A-4DCA-8385-5B90872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DDF6-7AF8-4D01-AFFB-6149E46D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993A-D24C-47CF-9D29-A6C2EB6A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5444-CE8D-4334-8F73-0E0F20C6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6C53-5898-47AB-B0B2-B872215D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860B-ACEE-41B7-B45D-97E46994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34F4-0793-4EB6-9AA6-681F61DD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5E4-C3E4-4B23-8DEC-973B29E9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CA8-FEBD-4A76-9755-5FA361B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C8F-CA96-4949-AF90-4B8BDBBE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AC82-F354-4254-8416-13B213AA7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0690-1C92-4C68-8A09-D562C2644A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Impact of Critical Access Hospital Conversi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n Other Rural Hospital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Laura Morlock, PhD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Department of Health Policy and Manage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Johns Hopkins Bloomberg School of Public Health</a:t>
            </a:r>
            <a:br>
              <a:rPr sz="24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0120" y="64911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:  American Hospital Assoc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: Payment Policy Chang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lanced Budget Act of 199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ade the most far-reaching revisions to the Medicare program since its incep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Was in response to what was viewed as an impending health care crisi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ouble digit growth in Medicare reimbu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stimated insolvency of the Medicare Trust Fund by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: Payment Policy Chang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lanced Budget Act of 1997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BBA sharply reduced inpatient payments, to be phased in during 1998-200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mplemented prospective payment methods f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spital outpatient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Other ambulatory care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killed nursing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me health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duced payments to hospitals serving disproportionate shares of Medicaid and nonpaying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BRA and BIPA restored about $48 billion in proposed cut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: Payment Policy Chang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for Small Rural Hospit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BBA legislation also created a new   hospital category—Critical Access Hospital—which can receive cost-based inpatient and outpatient payments from Medic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“distance requirements” for qualifying: hospitals had to be at least 15 miles by secondary road and 35 miles by primary road from the next nearest hospital, or be declared a “necessary provider” by the St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: Payment Policy Chang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for Small Rural Hospit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ubsequent legislation and regulations made the program even more beneficial for rural hospitals with fewer than 26 acute care b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e number of CAHs grew rapidly from 1997 through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urrently there are approximately 1288 CAH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ost have qualified through the “necessary provider” criter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pproximately two-thirds of CAHs are 16-34 road miles from the next nearest hospital, and about 15% are within 15 or fewer m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Key Policy Question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do the various available programs interact to protect rural hospitals?  What hospitals are left out of these program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w can payment strategies be further designed to recognize the special circumstances of rural hospital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bjective of This Analy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To examine how CAH conversions affected other hospitals in their service areas that did not convert to CAH stat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tudy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udy sample: Fifty per cent regionally stratified national sample of rural hospitals in the U.S. with Medicare Cost Report data (N= 821), excluding hospitals that merged during the study time peri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ime Frame:  1996-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Outcome variable: Financial status as measured by Total Margin (Net income/Total revenu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Sources of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edicare Cost Re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merican Hospital Association Annual Surv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rea Resource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artmouth Atlas of Health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Independent (Predictor) Variabl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Per cent of beds in the Hospital Referral Region (HRR) that are CAH be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ources of data: Dartmouth Atlas of Health Care and the Medicare Cost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Project Sponsor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is analysis is part of a larger stud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Hospitals: Environment, Strategy, and Viability (RO1 HS01144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unded by the Agency for Healthcare Research and Qu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Control Variable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ounty Variables  (AR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ensus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r capita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ducational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-urban continuum 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ospital Referral Region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otal beds in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r cent of operating beds in Rural Referral Center, Sole Community Provider and PPS hospit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ype of hospital Medicare reimburs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Referral Center, CAH, Sole Community Provider, P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iscal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996 (base year) --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71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Methods of Analysi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hree level hierarchical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XT mixed model using ST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peated measures of hospitals over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andom effects (random intercept) mod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djusted for clustering by sta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Multi-Level Model Result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Predictors of Total Margi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ariabl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gression Coefficients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 value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ensus population (in 1000s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.05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0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r capita incom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(in 1000s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.108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iscal year (base 199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1997-200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-0.850 to -3.643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all  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ducational leve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(low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-1.39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ype of reimbursement  (PPS omitt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Referral Cente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2.259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ritical Access Hospit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               4.096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ole Community Provide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1.547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r cent beds in H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CAH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              -0.397 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新細明體"/>
              </a:rPr>
              <a:t>  .000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Referral Cente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0.00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8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ole Community Provide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0.00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8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otal operating beds in HR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0.00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-urban continuum cod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- 2.52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Research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Johns Hopkins Bloomberg School of 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aura Morlock, Ph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David Salkever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eter Pronovost, MD, Ph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Marlene Miller, MD, M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n Skinner, MS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Lilly Engineer, MD, M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yrus Engineer, MHA, MH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Maureen Fahey, M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ew Shore, Ph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Rebecca Clark, 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obin Newhouse, RN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Research Team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Virginia Commonwealth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tephen Mick, PhD and 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Policy Research Institute (RUPR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Keith Mueller, PhD--Univ. of Nebrask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ndrew Coburn, PhD--Univ. of Southern M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imothy McBride, PhD--Univ. of Missou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. Clinton MacKinney, MD, MS--Mayo Cli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ary Wakefield, PhD--George Mason Uni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becca Slifkin, PhD--Univ. of North Caro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verall Project Objectiv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o assess the impac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Federal policy chang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and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healthcare market forc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on the organizational and management strategies, financial viability and clinical performance of U.S. rural hospit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2590920"/>
            <a:ext cx="3048120" cy="2286000"/>
          </a:xfrm>
          <a:prstGeom prst="rightArrowCallout">
            <a:avLst>
              <a:gd name="adj1" fmla="val 25002"/>
              <a:gd name="adj2" fmla="val 25000"/>
              <a:gd name="adj3" fmla="val 22223"/>
              <a:gd name="adj4" fmla="val 66667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7862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linical Perform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719520"/>
            <a:ext cx="2133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ealth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Market Fo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581280" y="2286000"/>
            <a:ext cx="2057400" cy="2362320"/>
            <a:chOff x="3581280" y="2286000"/>
            <a:chExt cx="2057400" cy="2362320"/>
          </a:xfrm>
        </p:grpSpPr>
        <p:sp>
          <p:nvSpPr>
            <p:cNvPr id="97" name=""/>
            <p:cNvSpPr/>
            <p:nvPr/>
          </p:nvSpPr>
          <p:spPr>
            <a:xfrm>
              <a:off x="3581280" y="2286000"/>
              <a:ext cx="2057400" cy="23623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52640" y="2884320"/>
              <a:ext cx="1720800" cy="10688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Rural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新細明體"/>
                </a:rPr>
                <a:t>Hospital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800600" y="137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Outcome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606760"/>
            <a:ext cx="2057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ederal Policy Legis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41911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inancial Vi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2957400"/>
            <a:ext cx="3200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urvi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Organizational &amp;       Management Strategies, including Conver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9810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22760" y="333360"/>
            <a:ext cx="304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udy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 and Significance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Rural Hospit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pproximately 50 million people in the U.S. live in rural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communities are served by about 2000 rural hospita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esidents of rural areas are less healthy than urban residents on most measures of health stat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Rural hospitals play a critical role in their communities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roviding access to health car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Serving as a hub for public health, wellness, and social servic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roviding jobs, recruiting health practitioners, making communities more attractive places to live and 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Background and Significance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Viability of Many Rural Hospitals is in Ques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ompared to their urban counterparts, rural hospit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re usually more geographically isolate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are in smaller communiti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end to be more dependent on Medicare funding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ave a higher proportion of outpatient serv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Like their urban counterparts, rural hospital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ace workforce shortages for nurses and other professio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0120" y="649116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urce:  American Hospital Assoc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16:12:22Z</dcterms:created>
  <dc:creator>Faye Malitz.</dc:creator>
  <dc:description/>
  <dc:language>en-US</dc:language>
  <cp:lastModifiedBy>dcelenta</cp:lastModifiedBy>
  <cp:lastPrinted>1999-11-03T18:51:48Z</cp:lastPrinted>
  <dcterms:modified xsi:type="dcterms:W3CDTF">2007-09-28T15:22:26Z</dcterms:modified>
  <cp:revision>78</cp:revision>
  <dc:subject/>
  <dc:title>No Slide Title</dc:title>
</cp:coreProperties>
</file>