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3EED7B-8750-4654-AE3F-9E0A6A5B2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Num" idx="4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09B384-3C59-4E93-9478-EA14AA9C3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Num" idx="13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402305D-44FA-4E31-8A87-09A878A51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Num" idx="14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872D73C-33AF-4404-AB09-27CEEEDE6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Num" idx="15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74E8E88-7452-48E7-ACB6-33031A209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Num" idx="16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1968621-9E8C-4165-82EB-3716248B3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Num" idx="17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675D56-E2C8-46C3-A24A-F1FEDEB61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Num" idx="18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D7C8171-AE9B-437B-9313-45DEE2160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Num" idx="19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685C15-413D-404C-9A1B-72325D5F9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Num" idx="20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39652C9-95A2-4BCD-B028-9B066E279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Num" idx="21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08AE8A-6376-4732-BE4F-CE028967F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Num" idx="22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CAACCD4-5F8A-4F91-A9A1-D2A94718A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Num" idx="5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0A748B-1313-4480-B861-EFB934EB2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Num" idx="23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E9F2E77-1B03-49FD-B754-E36A5E2CD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Num" idx="24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214E24-D99B-4E09-B837-6A7073041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Num" idx="25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0C09FD1-41F0-46E3-9469-479AF9F26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Num" idx="26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F0CADE8-AC52-42D9-BA13-4AABB6759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Num" idx="27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1CDB94C-8531-49EA-AC5C-7BA0F87C5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Num" idx="28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A0D9296-682B-48E4-8E86-09F493A6F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Num" idx="29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C45EBA-5F3A-469B-AA8F-3804FF862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Num" idx="30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9E8A2BF-EDA4-4975-9D34-A09EE0436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Num" idx="31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0036D0-847D-47D3-A2B7-6F6FD9DDC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Num" idx="32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2E4FA1C-9B19-4318-8B83-BDB0F2B56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Num" idx="6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5A94402-52F2-48A6-94BB-0157F9445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Num" idx="33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EB917DB-57BB-4D66-A8DC-EBC65B58E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Num" idx="34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9D16C43-8C6B-4A22-9372-CF1D5B595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Num" idx="35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928D942-A940-4D78-9E78-4044CF91C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Num" idx="36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C4071D-A029-4EEE-8E2F-53B7C4CE4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Num" idx="37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7918127-7420-429A-B59A-D5F3FDABC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Num" idx="7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CE206F3-6B02-4ACD-852D-DDB53E7CD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Num" idx="8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BA7FFAC-118B-406D-AEA4-B8CD84229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Num" idx="9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FD7A260-E4F1-400F-81BD-2C5885E69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Num" idx="10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8D846B-B7EF-4B03-8FB8-EFFE82F73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Num" idx="11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457620E-7E77-4D24-AC3A-281758F7D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Num" idx="12"/>
          </p:nvPr>
        </p:nvSpPr>
        <p:spPr>
          <a:xfrm>
            <a:off x="1943280" y="868680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5EC58B7-CD1B-48CD-BC67-D4C9AEFFE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3"/>
          <p:cNvSpPr>
            <a:spLocks noGrp="1"/>
          </p:cNvSpPr>
          <p:nvPr>
            <p:ph type="body"/>
          </p:nvPr>
        </p:nvSpPr>
        <p:spPr>
          <a:xfrm>
            <a:off x="1143000" y="4343400"/>
            <a:ext cx="4571640" cy="41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2463840"/>
            <a:ext cx="91436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 hidden="1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99DFB8C2-CA67-44EB-847E-F864BD1B824A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1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10" descr=""/>
          <p:cNvPicPr/>
          <p:nvPr/>
        </p:nvPicPr>
        <p:blipFill>
          <a:blip r:embed="rId3"/>
          <a:stretch/>
        </p:blipFill>
        <p:spPr>
          <a:xfrm>
            <a:off x="304920" y="333360"/>
            <a:ext cx="2385720" cy="104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0ED53A56-9ACC-4C74-9B15-DB1300532929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8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F2A6ADA9-A211-4307-AA9D-58CF7ECDD3E1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6FBDFD65-5339-4680-A9A2-E5F64610F208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380952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90000"/>
              <a:buFont typeface="Symbol" charset="2"/>
              <a:buChar char="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80000"/>
              <a:buFont typeface="Symbol" charset="2"/>
              <a:buChar char="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710240" y="1482840"/>
            <a:ext cx="380952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90000"/>
              <a:buFont typeface="Symbol" charset="2"/>
              <a:buChar char="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SzPct val="80000"/>
              <a:buFont typeface="Symbol" charset="2"/>
              <a:buChar char=""/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92492927-7FFC-4BD8-9D90-B01E3F7A8848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472080" y="6413400"/>
            <a:ext cx="2476080" cy="336600"/>
          </a:xfrm>
          <a:prstGeom prst="rect">
            <a:avLst/>
          </a:prstGeom>
          <a:noFill/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spAutoFit/>
          </a:bodyPr>
          <a:p>
            <a:pPr algn="r">
              <a:lnSpc>
                <a:spcPct val="90000"/>
              </a:lnSpc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cGlynn AHRQ Efficiency </a:t>
            </a:r>
            <a:fld id="{29D18B7F-3585-46D5-8D0E-3EAAFBCFC7AA}" type="slidenum">
              <a:rPr b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09/28/0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9" descr=""/>
          <p:cNvPicPr/>
          <p:nvPr/>
        </p:nvPicPr>
        <p:blipFill>
          <a:blip r:embed="rId2"/>
          <a:stretch/>
        </p:blipFill>
        <p:spPr>
          <a:xfrm>
            <a:off x="304920" y="6381720"/>
            <a:ext cx="612360" cy="182160"/>
          </a:xfrm>
          <a:prstGeom prst="rect">
            <a:avLst/>
          </a:prstGeom>
          <a:ln w="9525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46384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e2a856"/>
                </a:solidFill>
                <a:latin typeface="Arial"/>
              </a:rPr>
              <a:t>Identifying, Categorizing, and Evaluating Healthcare Efficiency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0" y="4835520"/>
            <a:ext cx="9143640" cy="1103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zabeth A. McGlynn, P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ociate Director, RAND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tember 28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47720" y="1177920"/>
            <a:ext cx="7772040" cy="5194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identify several potential points of view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care “firm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i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pit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rsing ho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t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pla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mploy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cie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ntext Matters in Efficiency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Group 3"/>
          <p:cNvGraphicFramePr/>
          <p:nvPr/>
        </p:nvGraphicFramePr>
        <p:xfrm>
          <a:off x="338040" y="1071720"/>
          <a:ext cx="8294400" cy="5317920"/>
        </p:xfrm>
        <a:graphic>
          <a:graphicData uri="http://schemas.openxmlformats.org/drawingml/2006/table">
            <a:tbl>
              <a:tblPr/>
              <a:tblGrid>
                <a:gridCol w="1638000"/>
                <a:gridCol w="3036600"/>
                <a:gridCol w="3619440"/>
              </a:tblGrid>
              <a:tr h="885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keho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 Are 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ponsible For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 Wh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Perio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88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patients in a pa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 long as responsib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 pati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tients who are admit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ring hospital st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  <a:tr h="88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rolle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ewed annual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es and covered depen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ngth of employ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resid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limi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322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Use of Information Varies With Per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care firms can change the way the outputs are produc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ount and/or mix of in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 amenities associated with a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ts can principally change how much is paid, the conditions under which the product is purchased, or how the product is bundl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 can principally change what they buy and from wh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utput: What’s Being Produc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47720" y="1050840"/>
            <a:ext cx="7772040" cy="5168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define two major categories of outpu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serv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utco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ing explicit about the output is critical (and often not don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ers tend to define out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flows (how the product is purchased) influence definitions, for examp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spital day vs. a dischar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16160" indent="-339840">
              <a:lnSpc>
                <a:spcPct val="90000"/>
              </a:lnSpc>
              <a:spcBef>
                <a:spcPts val="479"/>
              </a:spcBef>
              <a:spcAft>
                <a:spcPts val="1080"/>
              </a:spcAft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ality adjusted life year vs. a covered lif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xamples of Outputs by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Group 3"/>
          <p:cNvGraphicFramePr/>
          <p:nvPr/>
        </p:nvGraphicFramePr>
        <p:xfrm>
          <a:off x="747720" y="1419120"/>
          <a:ext cx="7772040" cy="4256280"/>
        </p:xfrm>
        <a:graphic>
          <a:graphicData uri="http://schemas.openxmlformats.org/drawingml/2006/table">
            <a:tbl>
              <a:tblPr/>
              <a:tblGrid>
                <a:gridCol w="2590560"/>
                <a:gridCol w="2590560"/>
                <a:gridCol w="2590560"/>
              </a:tblGrid>
              <a:tr h="76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vice Output 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Outcome Output Ex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110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d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crip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able dea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adjusted life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</a:tr>
              <a:tr h="110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har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du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atient day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al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able death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able complic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</a:tr>
              <a:tr h="787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ed l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176040" indent="-176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115000"/>
                        <a:buFont typeface="Symbol" charset="2"/>
                        <a:buChar char=""/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adjusted life yea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3a3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identify two main ways of measuring input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map to the economic definitions of technical (physical) and productive (financial)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2800" spc="-1" strike="noStrike">
                <a:solidFill>
                  <a:srgbClr val="e2a856"/>
                </a:solidFill>
                <a:latin typeface="Arial"/>
              </a:rPr>
              <a:t>Technical and Productive Efficiency Measures</a:t>
            </a:r>
            <a:br>
              <a:rPr sz="2800"/>
            </a:br>
            <a:r>
              <a:rPr b="1" i="1" lang="en-US" sz="2800" spc="-1" strike="noStrike">
                <a:solidFill>
                  <a:srgbClr val="e2a856"/>
                </a:solidFill>
                <a:latin typeface="Arial"/>
              </a:rPr>
              <a:t>Point to Different Root Causes of (In)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47720" y="2257560"/>
            <a:ext cx="38095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chnical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847800" y="2859120"/>
            <a:ext cx="3433320" cy="6091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puts are put to good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5040360" y="2270160"/>
            <a:ext cx="380952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roductive E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5229360" y="2859120"/>
            <a:ext cx="3433320" cy="6091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puts are put to good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5241960" y="3963960"/>
            <a:ext cx="3433320" cy="6091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mix of inputs cho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5241960" y="5068800"/>
            <a:ext cx="3433320" cy="609120"/>
          </a:xfrm>
          <a:prstGeom prst="rect">
            <a:avLst/>
          </a:prstGeom>
          <a:solidFill>
            <a:schemeClr val="bg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st prices are p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6748560" y="3346560"/>
            <a:ext cx="4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6748560" y="4438800"/>
            <a:ext cx="4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ocial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fficiency is achieved when no member of society can be made better off without making another member worse o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ing more resources to one person implies that those resources have been taken away from someone el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00"/>
              </a:spcBef>
              <a:spcAft>
                <a:spcPts val="10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eal of “waste” is the notion that those resources do not benefit anyone curre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RAND’s Efficiency Typ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460520" y="1346040"/>
            <a:ext cx="6222600" cy="2501640"/>
          </a:xfrm>
          <a:prstGeom prst="rect">
            <a:avLst/>
          </a:prstGeom>
          <a:noFill/>
          <a:ln w="28575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641760" y="1411200"/>
            <a:ext cx="1839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940200" y="1284120"/>
            <a:ext cx="1264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6f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2130480" y="2668680"/>
            <a:ext cx="1609200" cy="45540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5178600" y="2693880"/>
            <a:ext cx="2091960" cy="45540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3521160" y="2313000"/>
            <a:ext cx="2101320" cy="455400"/>
          </a:xfrm>
          <a:prstGeom prst="rect">
            <a:avLst/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Pl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1714680" y="1816200"/>
            <a:ext cx="5714640" cy="1434600"/>
          </a:xfrm>
          <a:prstGeom prst="rect">
            <a:avLst/>
          </a:prstGeom>
          <a:noFill/>
          <a:ln w="28575">
            <a:solidFill>
              <a:srgbClr val="e2a85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3175920" y="1893960"/>
            <a:ext cx="2790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Health Care Fi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3685680" y="3303720"/>
            <a:ext cx="1773720" cy="455400"/>
          </a:xfrm>
          <a:prstGeom prst="rect">
            <a:avLst/>
          </a:prstGeom>
          <a:noFill/>
          <a:ln cap="rnd" w="1905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1435320" y="4294080"/>
            <a:ext cx="2450160" cy="455400"/>
          </a:xfrm>
          <a:prstGeom prst="rect">
            <a:avLst/>
          </a:prstGeom>
          <a:noFill/>
          <a:ln w="28575">
            <a:solidFill>
              <a:srgbClr val="e2a85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5625720" y="4281480"/>
            <a:ext cx="2688120" cy="455400"/>
          </a:xfrm>
          <a:prstGeom prst="rect">
            <a:avLst/>
          </a:prstGeom>
          <a:noFill/>
          <a:ln w="28575">
            <a:solidFill>
              <a:srgbClr val="e2a85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lth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977760" y="4089240"/>
            <a:ext cx="7606800" cy="914040"/>
          </a:xfrm>
          <a:prstGeom prst="rect">
            <a:avLst/>
          </a:prstGeom>
          <a:noFill/>
          <a:ln w="28575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977760" y="5359320"/>
            <a:ext cx="7619760" cy="914040"/>
          </a:xfrm>
          <a:prstGeom prst="rect">
            <a:avLst/>
          </a:prstGeom>
          <a:noFill/>
          <a:ln w="28575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2235240" y="5526000"/>
            <a:ext cx="1416960" cy="455400"/>
          </a:xfrm>
          <a:prstGeom prst="rect">
            <a:avLst/>
          </a:prstGeom>
          <a:noFill/>
          <a:ln w="28575">
            <a:solidFill>
              <a:srgbClr val="e2a85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6032160" y="5551560"/>
            <a:ext cx="1502280" cy="455400"/>
          </a:xfrm>
          <a:prstGeom prst="rect">
            <a:avLst/>
          </a:prstGeom>
          <a:noFill/>
          <a:ln w="28575">
            <a:solidFill>
              <a:srgbClr val="e2a85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8"/>
          <p:cNvSpPr/>
          <p:nvPr/>
        </p:nvSpPr>
        <p:spPr>
          <a:xfrm>
            <a:off x="4406760" y="5549760"/>
            <a:ext cx="975960" cy="485280"/>
          </a:xfrm>
          <a:prstGeom prst="rightArrow">
            <a:avLst>
              <a:gd name="adj1" fmla="val 50000"/>
              <a:gd name="adj2" fmla="val 50245"/>
            </a:avLst>
          </a:prstGeom>
          <a:pattFill prst="openDmnd">
            <a:fgClr>
              <a:srgbClr val="e2a856"/>
            </a:fgClr>
            <a:bgClr>
              <a:srgbClr val="ffffff"/>
            </a:bgClr>
          </a:patt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9"/>
          <p:cNvSpPr/>
          <p:nvPr/>
        </p:nvSpPr>
        <p:spPr>
          <a:xfrm rot="16200000">
            <a:off x="-658080" y="2269080"/>
            <a:ext cx="1771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2a856"/>
                </a:solidFill>
                <a:latin typeface="Arial"/>
              </a:rPr>
              <a:t>Persp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0"/>
          <p:cNvSpPr/>
          <p:nvPr/>
        </p:nvSpPr>
        <p:spPr>
          <a:xfrm rot="16200000">
            <a:off x="-320400" y="4298400"/>
            <a:ext cx="10965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2a856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1"/>
          <p:cNvSpPr/>
          <p:nvPr/>
        </p:nvSpPr>
        <p:spPr>
          <a:xfrm rot="16200000">
            <a:off x="-215640" y="5524560"/>
            <a:ext cx="8870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e2a856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568440" y="262404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The Work Was Done by A </a:t>
            </a:r>
            <a:br>
              <a:rPr sz="3200"/>
            </a:b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ultidisciplinary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06640" y="1660680"/>
            <a:ext cx="316188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ter Huss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Roml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n de V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garet W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ul Shekel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na Goldm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tha Timm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san Ch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son Car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lo Tring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Identifying Existing Efficienc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711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396720" indent="-39672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er-reviewed litera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line and EconLit search: 1990-200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tles, abstracts, and articles reviewed by 2 independent reviewers; consensus resol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d non-U.S. stud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90000"/>
              </a:lnSpc>
              <a:spcBef>
                <a:spcPts val="479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y” literature re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ive, reputational samp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510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vendors identified &amp; review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-291960" y="3762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Article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3025800" y="1025640"/>
            <a:ext cx="23817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tles  (n=4,3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Group 11"/>
          <p:cNvGraphicFramePr/>
          <p:nvPr/>
        </p:nvGraphicFramePr>
        <p:xfrm>
          <a:off x="2959200" y="1015920"/>
          <a:ext cx="2526840" cy="58392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endParaRPr b="1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9" name="Group 46"/>
          <p:cNvGraphicFramePr/>
          <p:nvPr/>
        </p:nvGraphicFramePr>
        <p:xfrm>
          <a:off x="5016600" y="1841400"/>
          <a:ext cx="2526840" cy="58392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 (n=3,754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0" name="Group 47"/>
          <p:cNvGraphicFramePr/>
          <p:nvPr/>
        </p:nvGraphicFramePr>
        <p:xfrm>
          <a:off x="3124080" y="2768760"/>
          <a:ext cx="2526840" cy="57132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71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cles (n=563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1" name="Group 48"/>
          <p:cNvGraphicFramePr/>
          <p:nvPr/>
        </p:nvGraphicFramePr>
        <p:xfrm>
          <a:off x="5130720" y="3683160"/>
          <a:ext cx="2526840" cy="58392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luded (n=145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2" name="Group 51"/>
          <p:cNvGraphicFramePr/>
          <p:nvPr/>
        </p:nvGraphicFramePr>
        <p:xfrm>
          <a:off x="3200400" y="4584600"/>
          <a:ext cx="2526840" cy="70164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ailed review (n=31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Group 52"/>
          <p:cNvGraphicFramePr/>
          <p:nvPr/>
        </p:nvGraphicFramePr>
        <p:xfrm>
          <a:off x="3263760" y="5740560"/>
          <a:ext cx="2526840" cy="701640"/>
        </p:xfrm>
        <a:graphic>
          <a:graphicData uri="http://schemas.openxmlformats.org/drawingml/2006/table">
            <a:tbl>
              <a:tblPr/>
              <a:tblGrid>
                <a:gridCol w="2527200"/>
              </a:tblGrid>
              <a:tr h="583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priority (n=158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34" name="AutoShape 54"/>
          <p:cNvCxnSpPr/>
          <p:nvPr/>
        </p:nvCxnSpPr>
        <p:spPr>
          <a:xfrm flipH="1">
            <a:off x="2958840" y="1600200"/>
            <a:ext cx="2527920" cy="360"/>
          </a:xfrm>
          <a:prstGeom prst="straightConnector1">
            <a:avLst/>
          </a:prstGeom>
          <a:ln w="9525">
            <a:solidFill>
              <a:srgbClr val="ffffff"/>
            </a:solidFill>
            <a:round/>
          </a:ln>
        </p:spPr>
      </p:cxnSp>
      <p:sp>
        <p:nvSpPr>
          <p:cNvPr id="335" name="Line 57"/>
          <p:cNvSpPr/>
          <p:nvPr/>
        </p:nvSpPr>
        <p:spPr>
          <a:xfrm>
            <a:off x="4241520" y="1625400"/>
            <a:ext cx="360" cy="114300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Line 58"/>
          <p:cNvSpPr/>
          <p:nvPr/>
        </p:nvSpPr>
        <p:spPr>
          <a:xfrm>
            <a:off x="4254480" y="2133360"/>
            <a:ext cx="774720" cy="1260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59"/>
          <p:cNvSpPr/>
          <p:nvPr/>
        </p:nvSpPr>
        <p:spPr>
          <a:xfrm>
            <a:off x="4317840" y="3352680"/>
            <a:ext cx="12600" cy="120636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Line 60"/>
          <p:cNvSpPr/>
          <p:nvPr/>
        </p:nvSpPr>
        <p:spPr>
          <a:xfrm>
            <a:off x="4330440" y="3924000"/>
            <a:ext cx="800280" cy="1296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Line 61"/>
          <p:cNvSpPr/>
          <p:nvPr/>
        </p:nvSpPr>
        <p:spPr>
          <a:xfrm>
            <a:off x="4406760" y="5283000"/>
            <a:ext cx="360" cy="444600"/>
          </a:xfrm>
          <a:prstGeom prst="line">
            <a:avLst/>
          </a:prstGeom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easures in Literature Dominated by Hospital Perspective &amp; Service 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" name="Object 3"/>
          <p:cNvGraphicFramePr/>
          <p:nvPr/>
        </p:nvGraphicFramePr>
        <p:xfrm>
          <a:off x="735120" y="1457280"/>
          <a:ext cx="7772040" cy="4428720"/>
        </p:xfrm>
        <a:graphic>
          <a:graphicData uri="http://schemas.openxmlformats.org/presentationml/2006/ole">
            <p:oleObj progId="MSGraph.Chart.8" r:id="rId1" spid="">
              <p:embed/>
              <p:pic>
                <p:nvPicPr>
                  <p:cNvPr id="3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457280"/>
                    <a:ext cx="7772040" cy="44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40 Different Physical Inputs Identified </a:t>
            </a:r>
            <a:br>
              <a:rPr sz="3200"/>
            </a:b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in Peer Reviewed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87400" y="1419120"/>
            <a:ext cx="73022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Physician lab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umber of physicians (usually FTEs) or hours worked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Nursing lab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umber of nurses (usually FTEs) or hours work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Administrative, technical, or other labor categori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number of personnel (usually FTEs) or hours work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Bed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the most common indicator of capital sto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65400" indent="-351000">
              <a:lnSpc>
                <a:spcPct val="100000"/>
              </a:lnSpc>
              <a:spcBef>
                <a:spcPts val="479"/>
              </a:spcBef>
              <a:buClr>
                <a:srgbClr val="e2a856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Depreciation of asse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a measure of capital, calculated in various wa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76120" y="5813280"/>
            <a:ext cx="86356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Financial inputs appear almost as often as physical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65160" y="1290600"/>
            <a:ext cx="7340400" cy="3976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No measures using health services as outputs explicitly incorporated a measurement of quality</a:t>
            </a:r>
            <a:br>
              <a:rPr sz="3200"/>
            </a:br>
            <a:br>
              <a:rPr sz="3200"/>
            </a:b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ethods for incorporating or accounting for quality are not well developed in peer reviewed liter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Different Worlds of Efficienc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09560" y="1177920"/>
            <a:ext cx="7772040" cy="49525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n almost total separation between the published studies of health care efficiency and the use of efficiency measures by providers, payers, and purchas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ademic measures focus on multiple input/output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ndor measures focus on specifying out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chasers and health plans are generally using measures developed by vend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independent testing of reliability and validity has been reported on these metric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Vendor-Developed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7720" y="1254240"/>
            <a:ext cx="7772040" cy="5283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isode-based: ETGs, MEGs, CC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ims aggregated into clinically-defined episodes and attributed to different ent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 is cost per episode (productive efficien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can look at resource use per episode (technical efficien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Vendor-Developed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8040" y="1343160"/>
            <a:ext cx="7937280" cy="4597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pulation-based: ACGs, DxCGs, CRGs, RRU, PP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ient populations weighted by morbidity burd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 is cost per risk-adjusted patient per year (productive efficien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can look at resource use (technical efficienc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568440" y="323388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ome Examples of Efficienc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7" name="Group 53"/>
          <p:cNvGraphicFramePr/>
          <p:nvPr/>
        </p:nvGraphicFramePr>
        <p:xfrm>
          <a:off x="722160" y="1076400"/>
          <a:ext cx="7772040" cy="5146200"/>
        </p:xfrm>
        <a:graphic>
          <a:graphicData uri="http://schemas.openxmlformats.org/drawingml/2006/table">
            <a:tbl>
              <a:tblPr/>
              <a:tblGrid>
                <a:gridCol w="1942920"/>
                <a:gridCol w="1563480"/>
                <a:gridCol w="2322360"/>
                <a:gridCol w="19429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r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pec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tpu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pu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episo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service bundle (cross entit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etized total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dischar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service bundle (w/in entit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etized total c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covered lif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employees with health insur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mium price charged by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per health improve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in functional stat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costs of 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bor utiliz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spital (intern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umber of dischar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umber of nursing hou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ian (intern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patients seen per y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umber of MD pt-care hour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ic prescribing ra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lth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days rx suppl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days generic rx suppl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68440" y="139212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easures We Wouldn’t Classify as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Group 52"/>
          <p:cNvGraphicFramePr/>
          <p:nvPr/>
        </p:nvGraphicFramePr>
        <p:xfrm>
          <a:off x="569880" y="1432080"/>
          <a:ext cx="8103960" cy="4441680"/>
        </p:xfrm>
        <a:graphic>
          <a:graphicData uri="http://schemas.openxmlformats.org/drawingml/2006/table">
            <a:tbl>
              <a:tblPr/>
              <a:tblGrid>
                <a:gridCol w="1589040"/>
                <a:gridCol w="1663560"/>
                <a:gridCol w="1396800"/>
                <a:gridCol w="1714320"/>
                <a:gridCol w="1739880"/>
              </a:tblGrid>
              <a:tr h="663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Met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Perspe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Why Not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miss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c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harg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admissions within 30 days of dischar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sing key events (death, different facility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 of CABG surge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ploy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number of enrolle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bypass surge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input speci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-effectiven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in outco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nge in cost (from using new vs. existing intervention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0"/>
                        </a:spcBef>
                        <a:tabLst>
                          <a:tab algn="l" pos="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 not specific to an entity; may help construct metr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We Asked What the Evidence Was Regarding Whether the Measure Wa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47720" y="163512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ientifically sou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as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561"/>
              </a:spcBef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tion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ummary of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Group 55"/>
          <p:cNvGraphicFramePr/>
          <p:nvPr/>
        </p:nvGraphicFramePr>
        <p:xfrm>
          <a:off x="747720" y="1469880"/>
          <a:ext cx="7772040" cy="4146120"/>
        </p:xfrm>
        <a:graphic>
          <a:graphicData uri="http://schemas.openxmlformats.org/drawingml/2006/table">
            <a:tbl>
              <a:tblPr/>
              <a:tblGrid>
                <a:gridCol w="2590560"/>
                <a:gridCol w="2590560"/>
                <a:gridCol w="2590560"/>
              </a:tblGrid>
              <a:tr h="599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Criter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Peer Review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e2a856"/>
                          </a:solidFill>
                          <a:latin typeface="Arial"/>
                        </a:rPr>
                        <a:t>Vend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orta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tifically soun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si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028"/>
          <p:cNvSpPr/>
          <p:nvPr/>
        </p:nvSpPr>
        <p:spPr>
          <a:xfrm>
            <a:off x="555480" y="388152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7720" y="1228680"/>
            <a:ext cx="7772040" cy="5092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nnect between academic world and vendors on efficiency measurement offers opportun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hough steps have been taken to achieve consensus among stakeholders, more work needs to be do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ology can assist in structuring more explicit discussions about key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ientific soundness of both academic and vendor-developed measures is largely unknow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ility of potential users to act on the results of these measures is not well understoo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Some Priorities for the Fu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47720" y="974880"/>
            <a:ext cx="7772040" cy="54478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 explicit about the perspective, output, and inputs used in measu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the purpose, approac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 measures to fill important ga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is it most important to incorporate quality measur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s that use health outcomes as outpu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asures for units of analysis other than hospit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e whether efficiency measures are scientifically sound, feasible, action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any Fortune 50 Companies Are Demanding Cost and Quality Metrics on Physic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Group 17"/>
          <p:cNvGraphicFramePr/>
          <p:nvPr/>
        </p:nvGraphicFramePr>
        <p:xfrm>
          <a:off x="2181240" y="1816200"/>
          <a:ext cx="5654160" cy="2999880"/>
        </p:xfrm>
        <a:graphic>
          <a:graphicData uri="http://schemas.openxmlformats.org/drawingml/2006/table">
            <a:tbl>
              <a:tblPr/>
              <a:tblGrid>
                <a:gridCol w="2835000"/>
                <a:gridCol w="2819160"/>
              </a:tblGrid>
              <a:tr h="148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/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/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4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/Lo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08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/Hig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Text Box 14"/>
          <p:cNvSpPr/>
          <p:nvPr/>
        </p:nvSpPr>
        <p:spPr>
          <a:xfrm>
            <a:off x="632160" y="3151080"/>
            <a:ext cx="13849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ic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365720" y="5272200"/>
            <a:ext cx="15044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6"/>
          <p:cNvSpPr/>
          <p:nvPr/>
        </p:nvSpPr>
        <p:spPr>
          <a:xfrm>
            <a:off x="5651640" y="2095560"/>
            <a:ext cx="1510920" cy="914040"/>
          </a:xfrm>
          <a:prstGeom prst="ellipse">
            <a:avLst/>
          </a:prstGeom>
          <a:noFill/>
          <a:ln w="38100">
            <a:solidFill>
              <a:srgbClr val="e2a8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Purchasers Are Using Efficiency </a:t>
            </a:r>
            <a:br>
              <a:rPr sz="3200"/>
            </a:b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Metrics In Several Wa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65200" y="1719360"/>
            <a:ext cx="7772040" cy="4546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Public repor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information to help consumers make more cost-conscious dec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Pay-for-performan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financial rewards to providers with better 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Tier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differential co-payments to encourage patients to choose higher performing provi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79"/>
              </a:spcBef>
              <a:spcAft>
                <a:spcPts val="83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e2a856"/>
                </a:solidFill>
                <a:latin typeface="Arial"/>
              </a:rPr>
              <a:t>Selective contract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contracts limited to providers who perform at a certain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Bu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076400"/>
            <a:ext cx="7772040" cy="5308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is known about what various stakeholders mean by “efficiency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able lack of common language, conceptual cla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 between content of metrics and proposed applications not always thought throug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is known about the consequences (intended and unintended) of applying available metrics at different levels in the system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spcAft>
                <a:spcPts val="601"/>
              </a:spcAft>
              <a:buClr>
                <a:srgbClr val="ffffff"/>
              </a:buClr>
              <a:buFont typeface="Symbol" charset="2"/>
              <a:buChar char="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measures developed for one level (health plan) be applied at a different level (physician)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Overview of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ight motivation for current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 RAND’s typolog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view existing meas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479"/>
              </a:spcBef>
              <a:spcAft>
                <a:spcPts val="1199"/>
              </a:spcAft>
              <a:buClr>
                <a:srgbClr val="e2a856"/>
              </a:buClr>
              <a:buSzPct val="115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ding thou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568440" y="2001960"/>
            <a:ext cx="6178320" cy="587160"/>
          </a:xfrm>
          <a:prstGeom prst="rect">
            <a:avLst/>
          </a:prstGeom>
          <a:noFill/>
          <a:ln w="38100">
            <a:solidFill>
              <a:srgbClr val="56a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Definition of Efficiency Mea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47720" y="1482840"/>
            <a:ext cx="7772040" cy="4431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marL="22716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lationship between a specific product of the health care system (output) and the resources used to create that product (input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imize output produced for a given inp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inputs used for a given outpu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388800"/>
            <a:ext cx="9143640" cy="6109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200" spc="-1" strike="noStrike">
                <a:solidFill>
                  <a:srgbClr val="e2a856"/>
                </a:solidFill>
                <a:latin typeface="Arial"/>
              </a:rPr>
              <a:t>Efficiency Measures Typology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628560" y="1940040"/>
            <a:ext cx="3184200" cy="799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28560" y="3336840"/>
            <a:ext cx="3184200" cy="799920"/>
          </a:xfrm>
          <a:prstGeom prst="rect">
            <a:avLst/>
          </a:prstGeom>
          <a:solidFill>
            <a:schemeClr val="bg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Outpu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54120" y="4748040"/>
            <a:ext cx="3158640" cy="799920"/>
          </a:xfrm>
          <a:prstGeom prst="rect">
            <a:avLst/>
          </a:prstGeom>
          <a:solidFill>
            <a:schemeClr val="hlink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957480" y="1911240"/>
            <a:ext cx="4527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o is asking what about whom, and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4065480" y="3490920"/>
            <a:ext cx="4527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being produc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4140360" y="4737240"/>
            <a:ext cx="452736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resources are used to produce the outpu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647720" y="1398600"/>
            <a:ext cx="1839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1878840" y="1271520"/>
            <a:ext cx="5304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e2a856"/>
                </a:solidFill>
                <a:latin typeface="Arial"/>
              </a:rPr>
              <a:t>Typology is organized in three t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Blank Presentation">
  <a:themeElements>
    <a:clrScheme name="">
      <a:dk1>
        <a:srgbClr val="56a0d3"/>
      </a:dk1>
      <a:lt1>
        <a:srgbClr val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e2a856"/>
      </a:lt2>
      <a:accent1>
        <a:srgbClr val="006c64"/>
      </a:accent1>
      <a:accent2>
        <a:srgbClr val="8b0e04"/>
      </a:accent2>
      <a:accent3>
        <a:srgbClr val="aaaaaa"/>
      </a:accent3>
      <a:accent4>
        <a:srgbClr val="dadada"/>
      </a:accent4>
      <a:accent5>
        <a:srgbClr val="aabab8"/>
      </a:accent5>
      <a:accent6>
        <a:srgbClr val="7d0c03"/>
      </a:accent6>
      <a:hlink>
        <a:srgbClr val="993366"/>
      </a:hlink>
      <a:folHlink>
        <a:srgbClr val="00336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cintosh HD:Applications (Mac OS 9):Microsoft Office 98:Templates:Blank Presentation</Template>
  <TotalTime>618</TotalTime>
  <Application>LibreOffice/7.4.7.2$Linux_X86_64 LibreOffice_project/40$Build-2</Application>
  <AppVersion>15.0000</AppVersion>
  <Words>1478</Words>
  <Paragraphs>339</Paragraphs>
  <Company>RAN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8:22:38Z</dcterms:created>
  <dc:creator>Publications Department</dc:creator>
  <dc:description/>
  <dc:language>en-US</dc:language>
  <cp:lastModifiedBy>DHHS</cp:lastModifiedBy>
  <dcterms:modified xsi:type="dcterms:W3CDTF">2012-10-16T19:26:49Z</dcterms:modified>
  <cp:revision>6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4</vt:r8>
  </property>
  <property fmtid="{D5CDD505-2E9C-101B-9397-08002B2CF9AE}" pid="3" name="PresentationFormat">
    <vt:lpwstr>On-screen Show (4:3)</vt:lpwstr>
  </property>
  <property fmtid="{D5CDD505-2E9C-101B-9397-08002B2CF9AE}" pid="4" name="Slides">
    <vt:r8>36</vt:r8>
  </property>
</Properties>
</file>