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7175EA-51B0-4C8D-89E9-083CA9311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Num" idx="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09FFD6-0E10-43E9-AEFB-FAD550E8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Num" idx="13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7F9A3E-921F-4527-BAC9-4F6723641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Num" idx="1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D1D889-7BFC-4649-B55C-F5DB64CB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Num" idx="1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08FB24C-3BCB-4E0F-84C8-E8893091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Num" idx="1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9FF0B42-0E31-4A32-BF21-AA87787D5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Num" idx="1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3799616-AC3F-4CDA-B904-9C335D5F9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Num" idx="18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1CE957-F38E-4E2A-ACD2-20626364A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Num" idx="19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AFD644-DDF0-43BD-A855-74AF86B74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Num" idx="20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D58107-B5B4-48ED-8381-CCD05DC9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Num" idx="21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FFAF4AA-1F6E-4AB5-8AF8-8C7AC50F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Num" idx="22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538F22E-7CF0-4ED7-AC24-390E04718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Num" idx="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F9C2CC-C901-4B93-83E4-8616E9F91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Num" idx="23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D5C3FD-7426-4C4A-813B-697E1596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Num" idx="2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DD3FDED-2253-45A0-9553-1ADD92155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Num" idx="2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27C739-23BA-4BD6-B43B-6BD7B3E3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Num" idx="2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C48703-5ED0-49F1-911D-B3E283760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Num" idx="2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041EFC-422B-43AF-AA07-0C8EFC266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Num" idx="28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F08E26-3311-4C44-A8B0-6C784EA7C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Num" idx="29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3EFA27A-18A5-4608-83EF-C9A88641A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Num" idx="30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8877DD-F980-4617-8DD9-DFC0BE834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Num" idx="31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2B28E2-42B0-4020-BE73-7227F26C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Num" idx="32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865C55-F12D-4C41-9F29-6468AD537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Num" idx="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E85165-D09A-4222-945F-464A1D72C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Num" idx="33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084EAA-4414-4C1C-B636-0CC41EBD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Num" idx="3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64408A-1C5C-4D49-9356-9182A321B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Num" idx="3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B94A5CB-B18A-4360-B262-958942C76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Num" idx="3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BFC929-02D9-490C-AD66-4911024F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Num" idx="3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EEE143-E343-4C47-A607-B39ED871E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Num" idx="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CEB4DA-552B-47BA-922A-85B87C942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Num" idx="8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241A53-4EFC-420E-9511-539934B1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9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7B12CD-2A86-4AED-ADCA-DABC9B51B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Num" idx="10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E11A28-4C26-4341-8FAC-F07B002E8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Num" idx="11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5CF962-B05D-4F5F-9FFC-C448618A0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Num" idx="12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7F4F66-62BE-4650-8579-B59DD6876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A22F8C7E-4C48-446C-B0F0-5F4C5AAB38D8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1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304920" y="333360"/>
            <a:ext cx="2385720" cy="104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86C84AC9-D9CF-492B-8F1D-DF40DB2DF3F8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8AF8CC49-A1D7-484F-AE7E-099954B96E10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3582101D-43A6-46C2-8D93-2210A3EB7099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380952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0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80000"/>
              <a:buFont typeface="Symbol" charset="2"/>
              <a:buChar char="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710240" y="1482840"/>
            <a:ext cx="380952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0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80000"/>
              <a:buFont typeface="Symbol" charset="2"/>
              <a:buChar char="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354D762D-6262-455A-8A4A-874498336190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2509BDD1-C2FF-43E2-88B8-69EAE863E5C4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e2a856"/>
                </a:solidFill>
                <a:latin typeface="Arial"/>
              </a:rPr>
              <a:t>Identifying, Categorizing, and Evaluating Healthcare Efficiency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0" y="4835520"/>
            <a:ext cx="9143640" cy="110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zabeth A. McGly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ociate Director, RAND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8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7720" y="1177920"/>
            <a:ext cx="7772040" cy="5194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identify several potential points of view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are “firm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i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rsing h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t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p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ntext Matters in Efficiency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Group 3"/>
          <p:cNvGraphicFramePr/>
          <p:nvPr/>
        </p:nvGraphicFramePr>
        <p:xfrm>
          <a:off x="338040" y="1071720"/>
          <a:ext cx="8294400" cy="5317920"/>
        </p:xfrm>
        <a:graphic>
          <a:graphicData uri="http://schemas.openxmlformats.org/drawingml/2006/table">
            <a:tbl>
              <a:tblPr/>
              <a:tblGrid>
                <a:gridCol w="1638000"/>
                <a:gridCol w="3036600"/>
                <a:gridCol w="3619440"/>
              </a:tblGrid>
              <a:tr h="885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keho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Are 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 Fo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Wh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Perio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patients in a pa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long as responsi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pat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 who are admit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ing hospital st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rolle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ewed annual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and covered depen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gth of employ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Use of Information Varies With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are firms can change the way the outputs are produc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and/or mix of in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 amenities associated with a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ts can principally change how much is paid, the conditions under which the product is purchased, or how the product is bundl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can principally change what they buy and from wh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utput: What’s Being Produc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7720" y="1050840"/>
            <a:ext cx="7772040" cy="5168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define two major categories of outpu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utc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ing explicit about the output is critical (and often not do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rs tend to define out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flows (how the product is purchased) influence definitions, for examp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 day vs. a dischar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adjusted life year vs. a covered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xamples of Outputs by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Group 3"/>
          <p:cNvGraphicFramePr/>
          <p:nvPr/>
        </p:nvGraphicFramePr>
        <p:xfrm>
          <a:off x="747720" y="1419120"/>
          <a:ext cx="7772040" cy="4256280"/>
        </p:xfrm>
        <a:graphic>
          <a:graphicData uri="http://schemas.openxmlformats.org/drawingml/2006/table">
            <a:tbl>
              <a:tblPr/>
              <a:tblGrid>
                <a:gridCol w="2590560"/>
                <a:gridCol w="2590560"/>
                <a:gridCol w="259056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 Output 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Outcome Output 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10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d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dea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adjusted life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</a:tr>
              <a:tr h="110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d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atient 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al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dea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complic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</a:tr>
              <a:tr h="78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ed l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adjusted life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identify two main ways of measuring inpu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map to the economic definitions of technical (physical) and productive (financial)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>
                <a:solidFill>
                  <a:srgbClr val="e2a856"/>
                </a:solidFill>
                <a:latin typeface="Arial"/>
              </a:rPr>
              <a:t>Technical and Productive Efficiency Measures</a:t>
            </a:r>
            <a:br>
              <a:rPr sz="2800"/>
            </a:br>
            <a:r>
              <a:rPr b="1" i="1" lang="en-US" sz="2800" spc="-1" strike="noStrike">
                <a:solidFill>
                  <a:srgbClr val="e2a856"/>
                </a:solidFill>
                <a:latin typeface="Arial"/>
              </a:rPr>
              <a:t>Point to Different Root Causes of (In)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47720" y="2257560"/>
            <a:ext cx="3809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chnical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47800" y="2859120"/>
            <a:ext cx="3433320" cy="6091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puts are put to goo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40360" y="2270160"/>
            <a:ext cx="3809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ductive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229360" y="2859120"/>
            <a:ext cx="3433320" cy="6091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puts are put to goo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5241960" y="3963960"/>
            <a:ext cx="3433320" cy="6091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mix of inputs cho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5241960" y="5068800"/>
            <a:ext cx="3433320" cy="609120"/>
          </a:xfrm>
          <a:prstGeom prst="rect">
            <a:avLst/>
          </a:prstGeom>
          <a:solidFill>
            <a:schemeClr val="bg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st prices are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6748560" y="3346560"/>
            <a:ext cx="4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748560" y="4438800"/>
            <a:ext cx="4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cial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fficiency is achieved when no member of society can be made better off without making another member worse 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ing more resources to one person implies that those resources have been taken away from someone 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al of “waste” is the notion that those resources do not benefit anyone curre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RAND’s Efficiency Typ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460520" y="1346040"/>
            <a:ext cx="6222600" cy="2501640"/>
          </a:xfrm>
          <a:prstGeom prst="rect">
            <a:avLst/>
          </a:prstGeom>
          <a:noFill/>
          <a:ln w="28575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641760" y="1411200"/>
            <a:ext cx="183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940200" y="1284120"/>
            <a:ext cx="1264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6f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2130480" y="2668680"/>
            <a:ext cx="1609200" cy="45540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178600" y="2693880"/>
            <a:ext cx="2091960" cy="45540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21160" y="2313000"/>
            <a:ext cx="2101320" cy="45540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1714680" y="1816200"/>
            <a:ext cx="5714640" cy="1434600"/>
          </a:xfrm>
          <a:prstGeom prst="rect">
            <a:avLst/>
          </a:prstGeom>
          <a:noFill/>
          <a:ln w="28575">
            <a:solidFill>
              <a:srgbClr val="e2a85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175920" y="1893960"/>
            <a:ext cx="279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Health Care Fi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685680" y="3303720"/>
            <a:ext cx="1773720" cy="455400"/>
          </a:xfrm>
          <a:prstGeom prst="rect">
            <a:avLst/>
          </a:prstGeom>
          <a:noFill/>
          <a:ln cap="rnd" w="1905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1435320" y="4294080"/>
            <a:ext cx="245016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5625720" y="4281480"/>
            <a:ext cx="268812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977760" y="4089240"/>
            <a:ext cx="7606800" cy="914040"/>
          </a:xfrm>
          <a:prstGeom prst="rect">
            <a:avLst/>
          </a:prstGeom>
          <a:noFill/>
          <a:ln w="28575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977760" y="5359320"/>
            <a:ext cx="7619760" cy="914040"/>
          </a:xfrm>
          <a:prstGeom prst="rect">
            <a:avLst/>
          </a:prstGeom>
          <a:noFill/>
          <a:ln w="28575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235240" y="5526000"/>
            <a:ext cx="141696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6032160" y="5551560"/>
            <a:ext cx="150228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8"/>
          <p:cNvSpPr/>
          <p:nvPr/>
        </p:nvSpPr>
        <p:spPr>
          <a:xfrm>
            <a:off x="4406760" y="5549760"/>
            <a:ext cx="975960" cy="485280"/>
          </a:xfrm>
          <a:prstGeom prst="rightArrow">
            <a:avLst>
              <a:gd name="adj1" fmla="val 50000"/>
              <a:gd name="adj2" fmla="val 50245"/>
            </a:avLst>
          </a:prstGeom>
          <a:pattFill prst="openDmnd">
            <a:fgClr>
              <a:srgbClr val="e2a856"/>
            </a:fgClr>
            <a:bgClr>
              <a:srgbClr val="ffffff"/>
            </a:bgClr>
          </a:patt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 rot="16200000">
            <a:off x="-658080" y="2269080"/>
            <a:ext cx="1771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2a856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0"/>
          <p:cNvSpPr/>
          <p:nvPr/>
        </p:nvSpPr>
        <p:spPr>
          <a:xfrm rot="16200000">
            <a:off x="-320400" y="4298400"/>
            <a:ext cx="1096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2a856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 rot="16200000">
            <a:off x="-215640" y="5524560"/>
            <a:ext cx="887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2a856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68440" y="262404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The Work Was Done by A </a:t>
            </a: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ultidisciplinary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06640" y="1660680"/>
            <a:ext cx="316188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Huss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Roml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n de V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garet W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ul Shekel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a Goldm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tha Tim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san Ch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son Ca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lo Tring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Identifying Existing Efficienc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711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er-reviewed litera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line and EconLit search: 1990-200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s, abstracts, and articles reviewed by 2 independent reviewers; consensus res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non-U.S. stu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y” literature re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ive, reputational samp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vendors identified &amp; review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291960" y="3762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Article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025800" y="1025640"/>
            <a:ext cx="2381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tles  (n=4,3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Group 11"/>
          <p:cNvGraphicFramePr/>
          <p:nvPr/>
        </p:nvGraphicFramePr>
        <p:xfrm>
          <a:off x="2959200" y="1015920"/>
          <a:ext cx="2526840" cy="5839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Group 46"/>
          <p:cNvGraphicFramePr/>
          <p:nvPr/>
        </p:nvGraphicFramePr>
        <p:xfrm>
          <a:off x="5016600" y="1841400"/>
          <a:ext cx="2526840" cy="5839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 (n=3,75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Group 47"/>
          <p:cNvGraphicFramePr/>
          <p:nvPr/>
        </p:nvGraphicFramePr>
        <p:xfrm>
          <a:off x="3124080" y="2768760"/>
          <a:ext cx="2526840" cy="5713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7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s (n=56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Group 48"/>
          <p:cNvGraphicFramePr/>
          <p:nvPr/>
        </p:nvGraphicFramePr>
        <p:xfrm>
          <a:off x="5130720" y="3683160"/>
          <a:ext cx="2526840" cy="5839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ded (n=14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Group 51"/>
          <p:cNvGraphicFramePr/>
          <p:nvPr/>
        </p:nvGraphicFramePr>
        <p:xfrm>
          <a:off x="3200400" y="4584600"/>
          <a:ext cx="2526840" cy="70164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ed review (n=31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Group 52"/>
          <p:cNvGraphicFramePr/>
          <p:nvPr/>
        </p:nvGraphicFramePr>
        <p:xfrm>
          <a:off x="3263760" y="5740560"/>
          <a:ext cx="2526840" cy="70164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priority (n=15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4" name="AutoShape 54"/>
          <p:cNvCxnSpPr/>
          <p:nvPr/>
        </p:nvCxnSpPr>
        <p:spPr>
          <a:xfrm flipH="1">
            <a:off x="2958840" y="1600200"/>
            <a:ext cx="2527920" cy="3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sp>
        <p:nvSpPr>
          <p:cNvPr id="335" name="Line 57"/>
          <p:cNvSpPr/>
          <p:nvPr/>
        </p:nvSpPr>
        <p:spPr>
          <a:xfrm>
            <a:off x="4241520" y="1625400"/>
            <a:ext cx="360" cy="114300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58"/>
          <p:cNvSpPr/>
          <p:nvPr/>
        </p:nvSpPr>
        <p:spPr>
          <a:xfrm>
            <a:off x="4254480" y="2133360"/>
            <a:ext cx="774720" cy="1260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59"/>
          <p:cNvSpPr/>
          <p:nvPr/>
        </p:nvSpPr>
        <p:spPr>
          <a:xfrm>
            <a:off x="4317840" y="3352680"/>
            <a:ext cx="12600" cy="120636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60"/>
          <p:cNvSpPr/>
          <p:nvPr/>
        </p:nvSpPr>
        <p:spPr>
          <a:xfrm>
            <a:off x="4330440" y="3924000"/>
            <a:ext cx="800280" cy="1296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61"/>
          <p:cNvSpPr/>
          <p:nvPr/>
        </p:nvSpPr>
        <p:spPr>
          <a:xfrm>
            <a:off x="4406760" y="5283000"/>
            <a:ext cx="360" cy="44460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asures in Literature Dominated by Hospital Perspective &amp; Service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Object 3"/>
          <p:cNvGraphicFramePr/>
          <p:nvPr/>
        </p:nvGraphicFramePr>
        <p:xfrm>
          <a:off x="735120" y="1457280"/>
          <a:ext cx="7772040" cy="44287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457280"/>
                    <a:ext cx="7772040" cy="44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40 Different Physical Inputs Identified </a:t>
            </a: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in Peer Reviewe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7400" y="1419120"/>
            <a:ext cx="73022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Physician lab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umber of physicians (usually FTEs) or hours work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Nursing lab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umber of nurses (usually FTEs) or hours work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Administrative, technical, or other labor categori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umber of personnel (usually FTEs) or hours work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Bed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the most common indicator of capital sto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Depreciation of asse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a measure of capital, calculated in various w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76120" y="5813280"/>
            <a:ext cx="8635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Financial inputs appear almost as often as physical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65160" y="1290600"/>
            <a:ext cx="7340400" cy="397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No measures using health services as outputs explicitly incorporated a measurement of quality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thods for incorporating or accounting for quality are not well developed in peer reviewe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Different Worlds of Efficienc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09560" y="11779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n almost total separation between the published studies of health care efficiency and the use of efficiency measures by providers, payers, and purchas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ademic measures focus on multiple input/output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ndor measures focus on specifying out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rs and health plans are generally using measures developed by vend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independent testing of reliability and validity has been reported on these metric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Vendor-Develope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7720" y="1254240"/>
            <a:ext cx="7772040" cy="528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isode-based: ETGs, MEGs, CC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ims aggregated into clinically-defined episodes and attributed to different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 is cost per episode (productive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can look at resource use per episode (technical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Vendor-Develope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8040" y="1343160"/>
            <a:ext cx="7937280" cy="4597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-based: ACGs, DxCGs, CRGs, RRU, PP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populations weighted by morbidity bu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 is cost per risk-adjusted patient per year (productive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can look at resource use (technical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68440" y="323388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me Examples of Efficienc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Group 53"/>
          <p:cNvGraphicFramePr/>
          <p:nvPr/>
        </p:nvGraphicFramePr>
        <p:xfrm>
          <a:off x="722160" y="1076400"/>
          <a:ext cx="7772040" cy="5146200"/>
        </p:xfrm>
        <a:graphic>
          <a:graphicData uri="http://schemas.openxmlformats.org/drawingml/2006/table">
            <a:tbl>
              <a:tblPr/>
              <a:tblGrid>
                <a:gridCol w="1942920"/>
                <a:gridCol w="1563480"/>
                <a:gridCol w="2322360"/>
                <a:gridCol w="19429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r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pu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epis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service bundle (cross entit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etized total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dischar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service bundle (w/in entit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etized total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covered l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employees with health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mium price charged by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health improv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functional stat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costs of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r utiliz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 (intern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dischar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nursing hou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 (intern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atients seen 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MD pt-care hour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ic prescribing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ays rx suppl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ays generic rx suppl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68440" y="139212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asures We Wouldn’t Classify a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Group 52"/>
          <p:cNvGraphicFramePr/>
          <p:nvPr/>
        </p:nvGraphicFramePr>
        <p:xfrm>
          <a:off x="569880" y="1432080"/>
          <a:ext cx="8103960" cy="4441680"/>
        </p:xfrm>
        <a:graphic>
          <a:graphicData uri="http://schemas.openxmlformats.org/drawingml/2006/table">
            <a:tbl>
              <a:tblPr/>
              <a:tblGrid>
                <a:gridCol w="1589040"/>
                <a:gridCol w="1663560"/>
                <a:gridCol w="1396800"/>
                <a:gridCol w="1714320"/>
                <a:gridCol w="173988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Me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Persp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Why Not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miss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admissions within 30 days of dischar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ing key events (death, different facilit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of CABG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enroll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bypass surge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input speci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outco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cost (from using new vs. existing intervention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 not specific to an entity; may help construct metr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We Asked What the Evidence Was Regarding Whether the Measure W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7720" y="163512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tifically s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as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ummary of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Group 55"/>
          <p:cNvGraphicFramePr/>
          <p:nvPr/>
        </p:nvGraphicFramePr>
        <p:xfrm>
          <a:off x="747720" y="1469880"/>
          <a:ext cx="7772040" cy="4146120"/>
        </p:xfrm>
        <a:graphic>
          <a:graphicData uri="http://schemas.openxmlformats.org/drawingml/2006/table">
            <a:tbl>
              <a:tblPr/>
              <a:tblGrid>
                <a:gridCol w="2590560"/>
                <a:gridCol w="2590560"/>
                <a:gridCol w="2590560"/>
              </a:tblGrid>
              <a:tr h="599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Criter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Peer Review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Ven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ally so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s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28"/>
          <p:cNvSpPr/>
          <p:nvPr/>
        </p:nvSpPr>
        <p:spPr>
          <a:xfrm>
            <a:off x="555480" y="388152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7720" y="1228680"/>
            <a:ext cx="7772040" cy="5092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nnect between academic world and vendors on efficiency measurement offers opportun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steps have been taken to achieve consensus among stakeholders, more work needs to be d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ology can assist in structuring more explicit discussions about key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tific soundness of both academic and vendor-developed measures is largely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of potential users to act on the results of these measures is not well underst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me Priorities for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47720" y="974880"/>
            <a:ext cx="7772040" cy="544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explicit about the perspective, output, and inputs used in measu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purpose, approa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measures to fill important ga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is it most important to incorporate quality measur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s that use health outcomes as out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s for units of analysis other than hospi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whether efficiency measures are scientifically sound, feasible, action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any Fortune 50 Companies Are Demanding Cost and Quality Metrics on Phys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Group 17"/>
          <p:cNvGraphicFramePr/>
          <p:nvPr/>
        </p:nvGraphicFramePr>
        <p:xfrm>
          <a:off x="2181240" y="1816200"/>
          <a:ext cx="5654160" cy="2999880"/>
        </p:xfrm>
        <a:graphic>
          <a:graphicData uri="http://schemas.openxmlformats.org/drawingml/2006/table">
            <a:tbl>
              <a:tblPr/>
              <a:tblGrid>
                <a:gridCol w="2835000"/>
                <a:gridCol w="2819160"/>
              </a:tblGrid>
              <a:tr h="148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/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/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/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/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14"/>
          <p:cNvSpPr/>
          <p:nvPr/>
        </p:nvSpPr>
        <p:spPr>
          <a:xfrm>
            <a:off x="632160" y="3151080"/>
            <a:ext cx="1384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365720" y="5272200"/>
            <a:ext cx="150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5651640" y="2095560"/>
            <a:ext cx="1510920" cy="914040"/>
          </a:xfrm>
          <a:prstGeom prst="ellipse">
            <a:avLst/>
          </a:prstGeom>
          <a:noFill/>
          <a:ln w="38100">
            <a:solidFill>
              <a:srgbClr val="e2a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Purchasers Are Using Efficiency </a:t>
            </a: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trics In Several 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5200" y="1719360"/>
            <a:ext cx="7772040" cy="45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Public repor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information to help consumers make more cost-conscious dec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Pay-for-performa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financial rewards to providers with better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Tier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differential co-payments to encourage patients to choose higher performing provi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Selective contrac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contracts limited to providers who perform at a certain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076400"/>
            <a:ext cx="7772040" cy="5308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is known about what various stakeholders mean by “efficiency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ble lack of common language, conceptual cla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 between content of metrics and proposed applications not always thought throu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is known about the consequences (intended and unintended) of applying available metrics at different levels in the syste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measures developed for one level (health plan) be applied at a different level (physician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68440" y="200196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Definition of Efficiency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lationship between a specific product of the health care system (output) and the resources used to create that product (input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imize output produced for a given in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inputs used for a given out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iciency Measures Typology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628560" y="1940040"/>
            <a:ext cx="3184200" cy="799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28560" y="3336840"/>
            <a:ext cx="3184200" cy="799920"/>
          </a:xfrm>
          <a:prstGeom prst="rect">
            <a:avLst/>
          </a:prstGeom>
          <a:solidFill>
            <a:schemeClr val="bg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Outpu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54120" y="4748040"/>
            <a:ext cx="3158640" cy="799920"/>
          </a:xfrm>
          <a:prstGeom prst="rect">
            <a:avLst/>
          </a:prstGeom>
          <a:solidFill>
            <a:schemeClr val="hlink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957480" y="1911240"/>
            <a:ext cx="4527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asking what about whom, and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4065480" y="3490920"/>
            <a:ext cx="4527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being produc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140360" y="4737240"/>
            <a:ext cx="4527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resources are used to produce the outp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647720" y="1398600"/>
            <a:ext cx="183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1878840" y="1271520"/>
            <a:ext cx="5304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e2a856"/>
                </a:solidFill>
                <a:latin typeface="Arial"/>
              </a:rPr>
              <a:t>Typology is organized in three t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cintosh HD:Applications (Mac OS 9):Microsoft Office 98:Templates:Blank Presentation</Template>
  <TotalTime>618</TotalTime>
  <Application>LibreOffice/7.4.7.2$Linux_X86_64 LibreOffice_project/40$Build-2</Application>
  <AppVersion>15.0000</AppVersion>
  <Words>1478</Words>
  <Paragraphs>339</Paragraphs>
  <Company>RAN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8:22:38Z</dcterms:created>
  <dc:creator>Publications Department</dc:creator>
  <dc:description/>
  <dc:language>en-US</dc:language>
  <cp:lastModifiedBy>DHHS</cp:lastModifiedBy>
  <dcterms:modified xsi:type="dcterms:W3CDTF">2012-10-16T19:26:49Z</dcterms:modified>
  <cp:revision>6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4</vt:r8>
  </property>
  <property fmtid="{D5CDD505-2E9C-101B-9397-08002B2CF9AE}" pid="3" name="PresentationFormat">
    <vt:lpwstr>On-screen Show (4:3)</vt:lpwstr>
  </property>
  <property fmtid="{D5CDD505-2E9C-101B-9397-08002B2CF9AE}" pid="4" name="Slides">
    <vt:r8>36</vt:r8>
  </property>
</Properties>
</file>