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1DFE-9568-420C-A707-231DF532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F432-9A6E-42EE-9E58-97CF838EB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F9DC-D634-4368-AC14-997A58EC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89B1-870F-49C6-AD81-269C3A269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CA06-D46D-4FD0-92AF-32D87C65F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957-AF42-44C6-81C9-2400758F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1DB-6A2E-4EA3-9480-8829B701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59A-7F21-47DB-A5D8-633CBB7E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BBF-A10D-4F42-99B9-587762BE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7F6-A9B7-4A86-865A-9FC60CAE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CFB-6A07-476C-8C17-B695F652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AED-6BA7-41DA-87F6-5A328DAD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E9A-892D-446E-80FF-433463B9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F61-5319-4DE8-A93C-8E54FDD5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583-730E-4D2A-A28F-C80091F2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9E6-5AA7-4688-AB0E-8B16BFFB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01C-4C04-477A-9146-A697B392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C0AA-6B82-45B1-B263-6AF21F32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602ff"/>
                </a:solidFill>
                <a:latin typeface="Verdana"/>
              </a:rPr>
              <a:t>Addressing Racial &amp; Ethnic </a:t>
            </a:r>
            <a:br>
              <a:rPr sz="3200"/>
            </a:br>
            <a:r>
              <a:rPr b="1" lang="en-US" sz="3200" spc="-1" strike="noStrike">
                <a:solidFill>
                  <a:srgbClr val="0602ff"/>
                </a:solidFill>
                <a:latin typeface="Verdana"/>
              </a:rPr>
              <a:t>Disparities in Health Care</a:t>
            </a:r>
            <a:r>
              <a:rPr b="1" lang="en-US" sz="3200" spc="-1" strike="noStrike">
                <a:solidFill>
                  <a:srgbClr val="0602ff"/>
                </a:solidFill>
                <a:latin typeface="Book Antiqua"/>
              </a:rPr>
              <a:t> </a:t>
            </a:r>
            <a:r>
              <a:rPr b="1" lang="en-US" sz="5400" spc="-1" strike="noStrike">
                <a:solidFill>
                  <a:srgbClr val="0602ff"/>
                </a:solidFill>
                <a:latin typeface="Book Antiqua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694400"/>
            <a:ext cx="647712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AHRQ 2007 Annual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ptember 28,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C10-7D20-4D1F-B856-8791D59CFB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2280" y="326880"/>
            <a:ext cx="8763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luntary Dat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28160" y="2743200"/>
            <a:ext cx="5287680" cy="2588760"/>
            <a:chOff x="1928160" y="2743200"/>
            <a:chExt cx="5287680" cy="2588760"/>
          </a:xfrm>
        </p:grpSpPr>
        <p:sp>
          <p:nvSpPr>
            <p:cNvPr id="128" name=""/>
            <p:cNvSpPr/>
            <p:nvPr/>
          </p:nvSpPr>
          <p:spPr>
            <a:xfrm>
              <a:off x="1928160" y="3031200"/>
              <a:ext cx="2700000" cy="23007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515840" y="3031200"/>
              <a:ext cx="2700000" cy="23007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62040" y="2743200"/>
              <a:ext cx="421992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200400" y="4052880"/>
            <a:ext cx="2617920" cy="2424240"/>
            <a:chOff x="3200400" y="4052880"/>
            <a:chExt cx="2617920" cy="2424240"/>
          </a:xfrm>
        </p:grpSpPr>
        <p:sp>
          <p:nvSpPr>
            <p:cNvPr id="132" name=""/>
            <p:cNvSpPr/>
            <p:nvPr/>
          </p:nvSpPr>
          <p:spPr>
            <a:xfrm>
              <a:off x="3200400" y="4052880"/>
              <a:ext cx="2617920" cy="2424240"/>
            </a:xfrm>
            <a:prstGeom prst="ellipse">
              <a:avLst/>
            </a:prstGeom>
            <a:solidFill>
              <a:srgbClr val="74ff0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8280" y="4632480"/>
              <a:ext cx="172584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ll Lines of Busin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“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Opt out” Op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1600200"/>
            <a:ext cx="3200040" cy="2742840"/>
            <a:chOff x="0" y="1600200"/>
            <a:chExt cx="3200040" cy="2742840"/>
          </a:xfrm>
        </p:grpSpPr>
        <p:sp>
          <p:nvSpPr>
            <p:cNvPr id="135" name=""/>
            <p:cNvSpPr/>
            <p:nvPr/>
          </p:nvSpPr>
          <p:spPr>
            <a:xfrm>
              <a:off x="0" y="1600200"/>
              <a:ext cx="3200040" cy="2742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5680" y="2148120"/>
              <a:ext cx="2364840" cy="1789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220e3"/>
                  </a:solidFill>
                  <a:latin typeface="Times New Roman"/>
                </a:rPr>
                <a:t>Self-Identifi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220e3"/>
                  </a:solidFill>
                  <a:latin typeface="Times New Roman"/>
                </a:rPr>
                <a:t>Volun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220e3"/>
                  </a:solidFill>
                  <a:latin typeface="Times New Roman"/>
                </a:rPr>
                <a:t>Confid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220e3"/>
                  </a:solidFill>
                  <a:latin typeface="Times New Roman"/>
                </a:rPr>
                <a:t>Data Use: Q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943600" y="1752480"/>
            <a:ext cx="2819520" cy="2667240"/>
            <a:chOff x="5943600" y="1752480"/>
            <a:chExt cx="2819520" cy="2667240"/>
          </a:xfrm>
        </p:grpSpPr>
        <p:sp>
          <p:nvSpPr>
            <p:cNvPr id="138" name=""/>
            <p:cNvSpPr/>
            <p:nvPr/>
          </p:nvSpPr>
          <p:spPr>
            <a:xfrm>
              <a:off x="5943600" y="1752480"/>
              <a:ext cx="2819520" cy="2667240"/>
            </a:xfrm>
            <a:prstGeom prst="ellipse">
              <a:avLst/>
            </a:prstGeom>
            <a:solidFill>
              <a:srgbClr val="ff8c1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10440" y="2270160"/>
              <a:ext cx="2147760" cy="1326240"/>
            </a:xfrm>
            <a:prstGeom prst="rect">
              <a:avLst/>
            </a:prstGeom>
            <a:solidFill>
              <a:srgbClr val="ff8c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02ff"/>
                  </a:solidFill>
                  <a:latin typeface="Arial"/>
                </a:rPr>
                <a:t>R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02ff"/>
                  </a:solidFill>
                  <a:latin typeface="Arial"/>
                </a:rPr>
                <a:t>Ethnic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02ff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90440" y="1828800"/>
            <a:ext cx="876312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 Antiqua"/>
              </a:rPr>
              <a:t>200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C38-2DCD-4004-B9B7-370858E19A01}" type="slidenum">
              <a:t>10</a:t>
            </a:fld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 Unicode MS"/>
              </a:rPr>
              <a:t>Provider and Member Strategies: Qualit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6096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ffice-based education to targeted provider office staff  located in targeted low income Zip codes (2004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vider &amp; member newsletters addressing disparities and diabetes care (2005,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hysician-focused discussion on improving diabetes care (2005,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active voice recognition telephonic outreach to diabetic members with an added focus on potential needs of the minority population (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tters on physician letterhead reminding patients regarding needed testing (200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geted asthma education for offices with identified disparities (Spring,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hoot For Your Good Health” asthma basketball camp for kids with asthma, ages 8 to 14 (2005,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reation of Expert Advisory Panel (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398" t="0" r="26923" b="0"/>
          <a:stretch/>
        </p:blipFill>
        <p:spPr>
          <a:xfrm>
            <a:off x="6453360" y="2209680"/>
            <a:ext cx="2690640" cy="2819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887-598E-449C-B033-838446AA0F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Organizational and Community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Care Disparities / Culturally Appropriate Linguistic Services Committee created in 2005. This multi-departmental committee meets bimonthly to discuss initiatives to address health disparities, cultural, and linguistic iss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ltural competency training for clinical staff (physicians, nurses and customer service staff) in 2007 using e-learning based t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mark funds numerous grants to promote health and well-being in communities throughout our 49-county service area. Some disparity reduction grants provi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pport for health and dent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s that support healthy lifestyles, chronic disease management, health screenings in underserved communities, and informational ev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934320" y="1547640"/>
            <a:ext cx="1892160" cy="188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391520" y="3886200"/>
            <a:ext cx="14983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ED6-D423-49A8-BDB5-DE333F409A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520" y="1600200"/>
            <a:ext cx="35049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Current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e Management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oring opportunities fo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lturall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outrea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mmunit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ademia,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xternal Funding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ed for RWJF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nt with 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360" y="1600200"/>
            <a:ext cx="81532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04812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5360" y="434340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360" y="617220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870-6511-4D7E-BF97-D01BFA7663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Results and 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ED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:  Impact of diabetes screening reminders for non-adherent members -  after 90 days 44% members had at least one test done after the reminder; 23% had all three tests (HbA1c, LDL-C, microalbumin t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:  Impact of in-office education regarding diabetes disparities and importance of screening - HED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2005 did not show improvement in LDL testing rates in Medicare Advantage HMO pilot PCP practice sites who received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ED 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agement of senior management is cri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aborate, collaborate!  Internal and exter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twork physicians supportive of our effo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g time: data analysis, use of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dicated resources is cri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imited evidence to guide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>
            <a:lum bright="22000"/>
          </a:blip>
          <a:stretch/>
        </p:blipFill>
        <p:spPr>
          <a:xfrm>
            <a:off x="6781680" y="1447920"/>
            <a:ext cx="2140200" cy="1812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781680" y="4343400"/>
            <a:ext cx="1873440" cy="18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B6C-0ACD-4953-97E6-61813190B9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-152280"/>
            <a:ext cx="3352680" cy="73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5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2666880"/>
            <a:ext cx="609624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honda.moore.johnson@highmar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32600" y="-160200"/>
            <a:ext cx="2706480" cy="73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500" spc="-1" strike="noStrike">
                <a:solidFill>
                  <a:srgbClr val="00b630"/>
                </a:solidFill>
                <a:latin typeface="Times New Roman"/>
              </a:rPr>
              <a:t>?</a:t>
            </a:r>
            <a:endParaRPr b="0" lang="en-US" sz="4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-236520"/>
            <a:ext cx="2706840" cy="73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500" spc="-1" strike="noStrike">
                <a:solidFill>
                  <a:srgbClr val="00b630"/>
                </a:solidFill>
                <a:latin typeface="Times New Roman"/>
              </a:rPr>
              <a:t>?</a:t>
            </a:r>
            <a:endParaRPr b="0" lang="en-US" sz="4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lum contrast="52000"/>
          </a:blip>
          <a:stretch/>
        </p:blipFill>
        <p:spPr>
          <a:xfrm>
            <a:off x="0" y="0"/>
            <a:ext cx="2532240" cy="30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1AE-E66A-4D8C-B7A1-DD7F8D71441A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Highmark in Mo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454-E2DF-4A34-B6F9-39A666574B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Overview of Our Effor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tivities span from 2004 to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nt in the National Health Plan Collaborative Phase I and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forts include quality improvement activities with inter-departmental collabo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r activities have been primarily focused 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ta Analysis and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mber &amp; Provider Inter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ty Partnerships / 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ganizational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of our disparity-focused clinical interventions are for diabetes and asth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16608" t="0" r="24924" b="0"/>
          <a:stretch/>
        </p:blipFill>
        <p:spPr>
          <a:xfrm>
            <a:off x="6516720" y="1638360"/>
            <a:ext cx="2627280" cy="358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B7E-987B-400B-90D8-B08D1C514C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articipation in the National Health Plan Collaborative: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hase I and Phase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67A-A0B7-4810-BE63-9B6DA05CF1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tional Health Pl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llaborativ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ase I: 9/2004 to 6/2006; Phase II: 10/2006 to 6/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-private partnership initially nine health insurance companies; now ten health plans particip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chnical assistance provided by Center for Health Care Strategies, Institute for Healthcare Improvement (Phase I) and RAND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ported by the Agency for Healthcare Research and Quality and the Robert Wood Johnson Foun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848-04E5-446E-B865-9F3623A159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HPC Phase I and 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plans focused on data collection &amp; examination of diabetes performance data for dispa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plans implemented one or more pilot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plans focu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data   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language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the business case and ROI for disparity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62F-FE9B-4AE8-936F-7D0525221D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HPC: How health plans can achieve success in addressing disp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28360" y="2180880"/>
            <a:ext cx="7429680" cy="3175200"/>
            <a:chOff x="828360" y="2180880"/>
            <a:chExt cx="7429680" cy="3175200"/>
          </a:xfrm>
        </p:grpSpPr>
        <p:sp>
          <p:nvSpPr>
            <p:cNvPr id="67" name=""/>
            <p:cNvSpPr/>
            <p:nvPr/>
          </p:nvSpPr>
          <p:spPr>
            <a:xfrm>
              <a:off x="2733120" y="2180880"/>
              <a:ext cx="19688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ommunity &amp; Member Eng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55800" y="3336120"/>
              <a:ext cx="1460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Q.I. Infra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0440" y="3407760"/>
              <a:ext cx="139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8680" y="2252520"/>
              <a:ext cx="171504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Provider Eng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81280" y="2685960"/>
              <a:ext cx="1079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Lead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78760" y="4057920"/>
              <a:ext cx="107928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Public-Private Partner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h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89200" y="2614320"/>
              <a:ext cx="139716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orporate/Business Case Alig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8360" y="4012920"/>
              <a:ext cx="1206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ollabora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4424600">
              <a:off x="3850200" y="2766960"/>
              <a:ext cx="432720" cy="127080"/>
            </a:xfrm>
            <a:prstGeom prst="leftRightArrow">
              <a:avLst>
                <a:gd name="adj1" fmla="val 50000"/>
                <a:gd name="adj2" fmla="val 67786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75920" y="4912560"/>
              <a:ext cx="4444560" cy="443520"/>
            </a:xfrm>
            <a:prstGeom prst="ellipse">
              <a:avLst/>
            </a:prstGeom>
            <a:solidFill>
              <a:srgbClr val="ff3e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75920" y="4823640"/>
              <a:ext cx="4444560" cy="314280"/>
            </a:xfrm>
            <a:prstGeom prst="rect">
              <a:avLst/>
            </a:prstGeom>
            <a:solidFill>
              <a:srgbClr val="ff3e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75920" y="4611600"/>
              <a:ext cx="4444560" cy="40428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668680" y="4489920"/>
              <a:ext cx="3657600" cy="425880"/>
              <a:chOff x="2668680" y="4489920"/>
              <a:chExt cx="3657600" cy="425880"/>
            </a:xfrm>
          </p:grpSpPr>
          <p:sp>
            <p:nvSpPr>
              <p:cNvPr id="80" name=""/>
              <p:cNvSpPr/>
              <p:nvPr/>
            </p:nvSpPr>
            <p:spPr>
              <a:xfrm>
                <a:off x="2668680" y="4650840"/>
                <a:ext cx="3657600" cy="264960"/>
              </a:xfrm>
              <a:prstGeom prst="ellips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668680" y="4489920"/>
                <a:ext cx="3657600" cy="303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200" rIns="612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2668680" y="4372200"/>
              <a:ext cx="3663000" cy="23292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114360" y="4038120"/>
              <a:ext cx="2856960" cy="504720"/>
              <a:chOff x="3114360" y="4038120"/>
              <a:chExt cx="2856960" cy="504720"/>
            </a:xfrm>
          </p:grpSpPr>
          <p:sp>
            <p:nvSpPr>
              <p:cNvPr id="84" name=""/>
              <p:cNvSpPr/>
              <p:nvPr/>
            </p:nvSpPr>
            <p:spPr>
              <a:xfrm>
                <a:off x="3114360" y="4339440"/>
                <a:ext cx="2856960" cy="203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14360" y="4156560"/>
                <a:ext cx="2856960" cy="27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114360" y="4038120"/>
                <a:ext cx="2856960" cy="228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 txBox="1"/>
            <p:nvPr/>
          </p:nvSpPr>
          <p:spPr>
            <a:xfrm>
              <a:off x="3445200" y="5141880"/>
              <a:ext cx="2095200" cy="70920"/>
            </a:xfrm>
            <a:prstGeom prst="rect">
              <a:avLst/>
            </a:prstGeom>
          </p:spPr>
          <p:txBody>
            <a:bodyPr wrap="none" fromWordArt="1" lIns="90000" rIns="90000" tIns="24480" bIns="2448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Obtaining Race/Ethnicity Data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7472600">
              <a:off x="4865760" y="2767320"/>
              <a:ext cx="432720" cy="127080"/>
            </a:xfrm>
            <a:prstGeom prst="leftRightArrow">
              <a:avLst>
                <a:gd name="adj1" fmla="val 50000"/>
                <a:gd name="adj2" fmla="val 67786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3023600">
              <a:off x="2733120" y="3119040"/>
              <a:ext cx="380880" cy="144000"/>
            </a:xfrm>
            <a:prstGeom prst="leftRightArrow">
              <a:avLst>
                <a:gd name="adj1" fmla="val 50000"/>
                <a:gd name="adj2" fmla="val 52655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213800">
              <a:off x="5971680" y="3119400"/>
              <a:ext cx="380880" cy="144000"/>
            </a:xfrm>
            <a:prstGeom prst="leftRightArrow">
              <a:avLst>
                <a:gd name="adj1" fmla="val 50000"/>
                <a:gd name="adj2" fmla="val 52655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654280" y="4570560"/>
              <a:ext cx="3699000" cy="30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Linking to Quality Measures &amp; Identifying Disparities  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3241800" y="4202280"/>
              <a:ext cx="241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Targeting &amp; Testing Interventions  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1848800">
              <a:off x="2288880" y="3625200"/>
              <a:ext cx="380880" cy="143280"/>
            </a:xfrm>
            <a:prstGeom prst="leftRightArrow">
              <a:avLst>
                <a:gd name="adj1" fmla="val 50000"/>
                <a:gd name="adj2" fmla="val 52919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1449800">
              <a:off x="1844280" y="4347000"/>
              <a:ext cx="380880" cy="144000"/>
            </a:xfrm>
            <a:prstGeom prst="leftRightArrow">
              <a:avLst>
                <a:gd name="adj1" fmla="val 50000"/>
                <a:gd name="adj2" fmla="val 52655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357720" y="3683160"/>
              <a:ext cx="2286000" cy="505080"/>
              <a:chOff x="3357720" y="3683160"/>
              <a:chExt cx="2286000" cy="505080"/>
            </a:xfrm>
          </p:grpSpPr>
          <p:sp>
            <p:nvSpPr>
              <p:cNvPr id="96" name=""/>
              <p:cNvSpPr/>
              <p:nvPr/>
            </p:nvSpPr>
            <p:spPr>
              <a:xfrm>
                <a:off x="3357720" y="3983760"/>
                <a:ext cx="2286000" cy="204480"/>
              </a:xfrm>
              <a:prstGeom prst="ellips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57720" y="3801240"/>
                <a:ext cx="2286000" cy="2797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57720" y="3683160"/>
                <a:ext cx="2286000" cy="2289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rot="9846600">
              <a:off x="6860880" y="4347000"/>
              <a:ext cx="380880" cy="144000"/>
            </a:xfrm>
            <a:prstGeom prst="leftRightArrow">
              <a:avLst>
                <a:gd name="adj1" fmla="val 50000"/>
                <a:gd name="adj2" fmla="val 52655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297400">
              <a:off x="6353280" y="3625200"/>
              <a:ext cx="380880" cy="143280"/>
            </a:xfrm>
            <a:prstGeom prst="leftRightArrow">
              <a:avLst>
                <a:gd name="adj1" fmla="val 50000"/>
                <a:gd name="adj2" fmla="val 52919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3691440" y="3463920"/>
              <a:ext cx="1613520" cy="360360"/>
              <a:chOff x="3691440" y="3463920"/>
              <a:chExt cx="1613520" cy="360360"/>
            </a:xfrm>
          </p:grpSpPr>
          <p:sp>
            <p:nvSpPr>
              <p:cNvPr id="102" name=""/>
              <p:cNvSpPr/>
              <p:nvPr/>
            </p:nvSpPr>
            <p:spPr>
              <a:xfrm>
                <a:off x="3691440" y="3654000"/>
                <a:ext cx="1613520" cy="17028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93960" y="3526920"/>
                <a:ext cx="1606680" cy="213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200" rIns="612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695400" y="3463920"/>
                <a:ext cx="1605960" cy="116640"/>
              </a:xfrm>
              <a:prstGeom prst="ellipse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200" rIns="612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3757680" y="3552840"/>
              <a:ext cx="1473480" cy="16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329197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Dissemination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349440" y="3891240"/>
              <a:ext cx="22968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Determining Scalability &amp; Sequencing   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0A1-11A8-46F9-B435-192C3A56E3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ur Efforts: Information 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TA 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MBER &amp; PROVIDER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PARTNERSHIPS &amp; 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ATIONAL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162920" y="16002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2811240" cy="18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271-72D9-4359-9431-55AA4F89E0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304920"/>
            <a:ext cx="8763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ata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09680"/>
            <a:ext cx="7467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89280" indent="-892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direct”- Geocoding and  surname analysis of HEDI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® measures (2004 to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rect” -   Voluntary collection of self-identified race, ethnicity and language preference (2006 to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-31680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9494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ual approac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00800" y="1601640"/>
            <a:ext cx="2743200" cy="182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390-9694-46DD-BF37-AEEEA1B90026}" type="slidenum">
              <a:t>8</a:t>
            </a:fld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1600200"/>
            <a:ext cx="35053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ults:  Indirect Data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Diabetes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(adults)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s &amp; Hispanics les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y to get HbA1c and LD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sthma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(children)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 children less likely to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ppropriate use of medic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revention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(adults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 women less likely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breast cancer screening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1600200"/>
            <a:ext cx="81532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04812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360" y="434340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617220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A84-2B2C-407A-8414-1D05A80A3B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10:35:38Z</dcterms:created>
  <dc:creator>lidhnjr</dc:creator>
  <dc:description/>
  <dc:language>en-US</dc:language>
  <cp:lastModifiedBy>lidhnjr</cp:lastModifiedBy>
  <dcterms:modified xsi:type="dcterms:W3CDTF">2007-09-26T02:53:50Z</dcterms:modified>
  <cp:revision>14</cp:revision>
  <dc:subject/>
  <dc:title> Addressing Racial &amp; Ethnic Disparities in Health Care           </dc:title>
</cp:coreProperties>
</file>