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327C-B5FD-43C2-96EA-9800AA995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D810-0503-4EC0-9C34-DFFDB7CE2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6640"/>
            <a:ext cx="502920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7A98-2524-4AD1-8716-14AF2316E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6640"/>
            <a:ext cx="502920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5B38-743E-43B0-AC4F-1E936CCD7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6640"/>
            <a:ext cx="502920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1A39-9B2C-4179-8AA9-97B652D63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3040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6640"/>
            <a:ext cx="5029200" cy="41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3C9-8C39-4B28-AF8D-E45721B8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87E-2B25-471B-A9EF-1ECF3A21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B63-E624-4055-BE7A-85F05C8AE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3BFF-CC0C-47ED-A673-719F6BF1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D2B5-F523-4405-A6CA-0DB6304A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880-FD74-4F77-93C7-45811DC8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3BD-713C-49F6-BC10-D67F77BD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E32-756D-4BA6-9F1F-E60567A1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666-EC54-4B8F-886E-B58F2C44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9C1-A64A-4277-B19C-6A1C4260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A67-CFD5-461B-846A-3760D883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4C7B-D1C6-4C81-A827-DF6C25BE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00B6-66E0-4D59-912D-AA262D258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602ff"/>
                </a:solidFill>
                <a:latin typeface="Verdana"/>
              </a:rPr>
              <a:t>Addressing Racial &amp; Ethnic </a:t>
            </a:r>
            <a:br>
              <a:rPr sz="3200"/>
            </a:br>
            <a:r>
              <a:rPr b="1" lang="en-US" sz="3200" spc="-1" strike="noStrike">
                <a:solidFill>
                  <a:srgbClr val="0602ff"/>
                </a:solidFill>
                <a:latin typeface="Verdana"/>
              </a:rPr>
              <a:t>Disparities in Health Care</a:t>
            </a:r>
            <a:r>
              <a:rPr b="1" lang="en-US" sz="3200" spc="-1" strike="noStrike">
                <a:solidFill>
                  <a:srgbClr val="0602ff"/>
                </a:solidFill>
                <a:latin typeface="Book Antiqua"/>
              </a:rPr>
              <a:t> </a:t>
            </a:r>
            <a:r>
              <a:rPr b="1" lang="en-US" sz="5400" spc="-1" strike="noStrike">
                <a:solidFill>
                  <a:srgbClr val="0602ff"/>
                </a:solidFill>
                <a:latin typeface="Book Antiqua"/>
              </a:rPr>
              <a:t>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694400"/>
            <a:ext cx="647712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AHRQ 2007 Annual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September 28,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766-B9E2-4BA8-ADB7-47CDF1B301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2280" y="326880"/>
            <a:ext cx="87631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luntary Data Coll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28160" y="2743200"/>
            <a:ext cx="5287680" cy="2588760"/>
            <a:chOff x="1928160" y="2743200"/>
            <a:chExt cx="5287680" cy="2588760"/>
          </a:xfrm>
        </p:grpSpPr>
        <p:sp>
          <p:nvSpPr>
            <p:cNvPr id="128" name=""/>
            <p:cNvSpPr/>
            <p:nvPr/>
          </p:nvSpPr>
          <p:spPr>
            <a:xfrm>
              <a:off x="1928160" y="3031200"/>
              <a:ext cx="2700000" cy="230076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515840" y="3031200"/>
              <a:ext cx="2700000" cy="230076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62040" y="2743200"/>
              <a:ext cx="421992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200400" y="4052880"/>
            <a:ext cx="2617920" cy="2424240"/>
            <a:chOff x="3200400" y="4052880"/>
            <a:chExt cx="2617920" cy="2424240"/>
          </a:xfrm>
        </p:grpSpPr>
        <p:sp>
          <p:nvSpPr>
            <p:cNvPr id="132" name=""/>
            <p:cNvSpPr/>
            <p:nvPr/>
          </p:nvSpPr>
          <p:spPr>
            <a:xfrm>
              <a:off x="3200400" y="4052880"/>
              <a:ext cx="2617920" cy="2424240"/>
            </a:xfrm>
            <a:prstGeom prst="ellipse">
              <a:avLst/>
            </a:prstGeom>
            <a:solidFill>
              <a:srgbClr val="74ff0a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8280" y="4632480"/>
              <a:ext cx="172584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All Lines of Busin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“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</a:rPr>
                <a:t>Opt out” Op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0" y="1600200"/>
            <a:ext cx="3200040" cy="2742840"/>
            <a:chOff x="0" y="1600200"/>
            <a:chExt cx="3200040" cy="2742840"/>
          </a:xfrm>
        </p:grpSpPr>
        <p:sp>
          <p:nvSpPr>
            <p:cNvPr id="135" name=""/>
            <p:cNvSpPr/>
            <p:nvPr/>
          </p:nvSpPr>
          <p:spPr>
            <a:xfrm>
              <a:off x="0" y="1600200"/>
              <a:ext cx="3200040" cy="2742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5680" y="2148120"/>
              <a:ext cx="2364840" cy="1789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220e3"/>
                  </a:solidFill>
                  <a:latin typeface="Times New Roman"/>
                </a:rPr>
                <a:t>Self-Identifi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220e3"/>
                  </a:solidFill>
                  <a:latin typeface="Times New Roman"/>
                </a:rPr>
                <a:t>Volun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220e3"/>
                  </a:solidFill>
                  <a:latin typeface="Times New Roman"/>
                </a:rPr>
                <a:t>Confiden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220e3"/>
                  </a:solidFill>
                  <a:latin typeface="Times New Roman"/>
                </a:rPr>
                <a:t>Data Use: Q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943600" y="1752480"/>
            <a:ext cx="2819520" cy="2667240"/>
            <a:chOff x="5943600" y="1752480"/>
            <a:chExt cx="2819520" cy="2667240"/>
          </a:xfrm>
        </p:grpSpPr>
        <p:sp>
          <p:nvSpPr>
            <p:cNvPr id="138" name=""/>
            <p:cNvSpPr/>
            <p:nvPr/>
          </p:nvSpPr>
          <p:spPr>
            <a:xfrm>
              <a:off x="5943600" y="1752480"/>
              <a:ext cx="2819520" cy="2667240"/>
            </a:xfrm>
            <a:prstGeom prst="ellipse">
              <a:avLst/>
            </a:prstGeom>
            <a:solidFill>
              <a:srgbClr val="ff8c1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10440" y="2270160"/>
              <a:ext cx="2147760" cy="1326240"/>
            </a:xfrm>
            <a:prstGeom prst="rect">
              <a:avLst/>
            </a:prstGeom>
            <a:solidFill>
              <a:srgbClr val="ff8c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02ff"/>
                  </a:solidFill>
                  <a:latin typeface="Arial"/>
                </a:rPr>
                <a:t>Ra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02ff"/>
                  </a:solidFill>
                  <a:latin typeface="Arial"/>
                </a:rPr>
                <a:t>Ethnic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602ff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90440" y="1828800"/>
            <a:ext cx="876312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Book Antiqua"/>
              </a:rPr>
              <a:t>200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916-A5C9-4C4D-A3D5-79D983DE041B}" type="slidenum">
              <a:t>10</a:t>
            </a:fld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Arial Unicode MS"/>
              </a:rPr>
              <a:t>Provider and Member Strategies: Qualit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6096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ffice-based education to targeted provider office staff  located in targeted low income Zip codes (2004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rovider &amp; member newsletters addressing disparities and diabetes care (2005, 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hysician-focused discussion on improving diabetes care (2005, 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teractive voice recognition telephonic outreach to diabetic members with an added focus on potential needs of the minority population (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tters on physician letterhead reminding patients regarding needed testing (200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geted asthma education for offices with identified disparities (Spring, 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hoot For Your Good Health” asthma basketball camp for kids with asthma, ages 8 to 14 (2005, 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reation of Expert Advisory Panel (200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rcRect l="3398" t="0" r="26923" b="0"/>
          <a:stretch/>
        </p:blipFill>
        <p:spPr>
          <a:xfrm>
            <a:off x="6453360" y="2209680"/>
            <a:ext cx="2690640" cy="2819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E5A4-2D2D-475F-A085-1323B44220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 Unicode MS"/>
              </a:rPr>
              <a:t>Organizational and Community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662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lth Care Disparities / Culturally Appropriate Linguistic Services Committee created in 2005. This multi-departmental committee meets bimonthly to discuss initiatives to address health disparities, cultural, and linguistic issu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ltural competency training for clinical staff (physicians, nurses and customer service staff) in 2007 using e-learning based t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mark funds numerous grants to promote health and well-being in communities throughout our 49-county service area. Some disparity reduction grants provid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pport for health and dental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s that support healthy lifestyles, chronic disease management, health screenings in underserved communities, and informational event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934320" y="1547640"/>
            <a:ext cx="1892160" cy="1881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391520" y="3886200"/>
            <a:ext cx="1498320" cy="21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4BE5-4323-4D32-A43D-A4E02AC2BA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3520" y="1600200"/>
            <a:ext cx="350496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ther Current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e Management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loring opportunities for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lturall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ed outrea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ommunit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ademia,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External Funding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ed for RWJF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nt with 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360" y="1600200"/>
            <a:ext cx="81532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048120"/>
            <a:ext cx="8153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5360" y="4343400"/>
            <a:ext cx="8153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5360" y="6172200"/>
            <a:ext cx="8153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666-7E9E-486F-BFB9-4628DF9E04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 Unicode MS"/>
              </a:rPr>
              <a:t>Results and Lessons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6172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ED 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:  Impact of diabetes screening reminders for non-adherent members -  after 90 days 44% members had at least one test done after the reminder; 23% had all three tests (HbA1c, LDL-C, microalbumin tes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:  Impact of in-office education regarding diabetes disparities and importance of screening - HEDI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2005 did not show improvement in LDL testing rates in Medicare Advantage HMO pilot PCP practice sites who received edu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ED LESSONS LEA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agement of senior management is crit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aborate, collaborate!  Internal and extern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twork physicians supportive of our effor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ag time: data analysis, use of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dicated resources is crit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buClr>
                <a:srgbClr val="ffff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imited evidence to guide eff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>
            <a:lum bright="22000"/>
          </a:blip>
          <a:stretch/>
        </p:blipFill>
        <p:spPr>
          <a:xfrm>
            <a:off x="6781680" y="1447920"/>
            <a:ext cx="2140200" cy="1812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781680" y="4343400"/>
            <a:ext cx="1873440" cy="187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73B9-27F1-4EF7-AA77-52728D399F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-152280"/>
            <a:ext cx="3352680" cy="73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5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4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2666880"/>
            <a:ext cx="6096240" cy="29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act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honda.moore.johnson@highmark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32600" y="-160200"/>
            <a:ext cx="2706480" cy="73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500" spc="-1" strike="noStrike">
                <a:solidFill>
                  <a:srgbClr val="00b630"/>
                </a:solidFill>
                <a:latin typeface="Times New Roman"/>
              </a:rPr>
              <a:t>?</a:t>
            </a:r>
            <a:endParaRPr b="0" lang="en-US" sz="4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-236520"/>
            <a:ext cx="2706840" cy="73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500" spc="-1" strike="noStrike">
                <a:solidFill>
                  <a:srgbClr val="00b630"/>
                </a:solidFill>
                <a:latin typeface="Times New Roman"/>
              </a:rPr>
              <a:t>?</a:t>
            </a:r>
            <a:endParaRPr b="0" lang="en-US" sz="47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>
            <a:lum contrast="52000"/>
          </a:blip>
          <a:stretch/>
        </p:blipFill>
        <p:spPr>
          <a:xfrm>
            <a:off x="0" y="0"/>
            <a:ext cx="2532240" cy="307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A19-23CD-4390-A8AB-507EB5B0F00B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42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Book Antiqua"/>
              </a:rPr>
              <a:t>Highmark in Motio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9113-8AD4-4735-84D1-3AB3A5C1CA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Overview of Our Effor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ctivities span from 2004 to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ticipant in the National Health Plan Collaborative Phase I and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fforts include quality improvement activities with inter-departmental collabo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ur activities have been primarily focused 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ata Analysis and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ember &amp; Provider Interven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unity Partnerships / Gr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ganizational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t of our disparity-focused clinical interventions are for diabetes and asth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16608" t="0" r="24924" b="0"/>
          <a:stretch/>
        </p:blipFill>
        <p:spPr>
          <a:xfrm>
            <a:off x="6516720" y="1638360"/>
            <a:ext cx="2627280" cy="358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7E2-5710-445B-A5DA-AA94F27DF0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Participation in the National Health Plan Collaborative: 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Phase I and Phase 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10F-377F-4EB4-8F56-043E097433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ational Health Pla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llaborativ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hase I: 9/2004 to 6/2006; Phase II: 10/2006 to 6/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-private partnership initially nine health insurance companies; now ten health plans particip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chnical assistance provided by Center for Health Care Strategies, Institute for Healthcare Improvement (Phase I) and RAND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ported by the Agency for Healthcare Research and Quality and the Robert Wood Johnson Found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C73-A28B-4351-8224-6A4D1B9D55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HPC Phase I and I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as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plans focused on data collection &amp; examination of diabetes performance data for dispa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plans implemented one or more pilot interven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ase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plans focu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data   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ing language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tion of the business case and ROI for disparity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CE1-08D8-44B7-A394-067E54F968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HPC: How health plans can achieve success in addressing dispa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828360" y="2180880"/>
            <a:ext cx="7429680" cy="3175200"/>
            <a:chOff x="828360" y="2180880"/>
            <a:chExt cx="7429680" cy="3175200"/>
          </a:xfrm>
        </p:grpSpPr>
        <p:sp>
          <p:nvSpPr>
            <p:cNvPr id="67" name=""/>
            <p:cNvSpPr/>
            <p:nvPr/>
          </p:nvSpPr>
          <p:spPr>
            <a:xfrm>
              <a:off x="2733120" y="2180880"/>
              <a:ext cx="196884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Community &amp; Member Eng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55800" y="3336120"/>
              <a:ext cx="14601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Q.I. Infrastru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70440" y="3407760"/>
              <a:ext cx="139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Infrastruc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28680" y="2252520"/>
              <a:ext cx="171504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Provider Enga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81280" y="2685960"/>
              <a:ext cx="10792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Leadersh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178760" y="4057920"/>
              <a:ext cx="107928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Public-Private Partner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shi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89200" y="2614320"/>
              <a:ext cx="139716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Corporate/Business Case Alig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8360" y="4012920"/>
              <a:ext cx="120636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Lear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Collaborati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4424600">
              <a:off x="3850200" y="2766960"/>
              <a:ext cx="432720" cy="127080"/>
            </a:xfrm>
            <a:prstGeom prst="leftRightArrow">
              <a:avLst>
                <a:gd name="adj1" fmla="val 50000"/>
                <a:gd name="adj2" fmla="val 67786"/>
              </a:avLst>
            </a:prstGeom>
            <a:solidFill>
              <a:srgbClr val="f8f8f8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75920" y="4912560"/>
              <a:ext cx="4444560" cy="443520"/>
            </a:xfrm>
            <a:prstGeom prst="ellipse">
              <a:avLst/>
            </a:prstGeom>
            <a:solidFill>
              <a:srgbClr val="ff3e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75920" y="4823640"/>
              <a:ext cx="4444560" cy="314280"/>
            </a:xfrm>
            <a:prstGeom prst="rect">
              <a:avLst/>
            </a:prstGeom>
            <a:solidFill>
              <a:srgbClr val="ff3e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75920" y="4611600"/>
              <a:ext cx="4444560" cy="404280"/>
            </a:xfrm>
            <a:prstGeom prst="ellips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668680" y="4489920"/>
              <a:ext cx="3657600" cy="425880"/>
              <a:chOff x="2668680" y="4489920"/>
              <a:chExt cx="3657600" cy="425880"/>
            </a:xfrm>
          </p:grpSpPr>
          <p:sp>
            <p:nvSpPr>
              <p:cNvPr id="80" name=""/>
              <p:cNvSpPr/>
              <p:nvPr/>
            </p:nvSpPr>
            <p:spPr>
              <a:xfrm>
                <a:off x="2668680" y="4650840"/>
                <a:ext cx="3657600" cy="264960"/>
              </a:xfrm>
              <a:prstGeom prst="ellipse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668680" y="4489920"/>
                <a:ext cx="3657600" cy="30312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1200" rIns="612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2668680" y="4372200"/>
              <a:ext cx="3663000" cy="232920"/>
            </a:xfrm>
            <a:prstGeom prst="ellips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114360" y="4038120"/>
              <a:ext cx="2856960" cy="504720"/>
              <a:chOff x="3114360" y="4038120"/>
              <a:chExt cx="2856960" cy="504720"/>
            </a:xfrm>
          </p:grpSpPr>
          <p:sp>
            <p:nvSpPr>
              <p:cNvPr id="84" name=""/>
              <p:cNvSpPr/>
              <p:nvPr/>
            </p:nvSpPr>
            <p:spPr>
              <a:xfrm>
                <a:off x="3114360" y="4339440"/>
                <a:ext cx="2856960" cy="20340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114360" y="4156560"/>
                <a:ext cx="2856960" cy="27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114360" y="4038120"/>
                <a:ext cx="2856960" cy="2289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 txBox="1"/>
            <p:nvPr/>
          </p:nvSpPr>
          <p:spPr>
            <a:xfrm>
              <a:off x="3445200" y="5141880"/>
              <a:ext cx="2095200" cy="70920"/>
            </a:xfrm>
            <a:prstGeom prst="rect">
              <a:avLst/>
            </a:prstGeom>
          </p:spPr>
          <p:txBody>
            <a:bodyPr wrap="none" fromWordArt="1" lIns="90000" rIns="90000" tIns="24480" bIns="2448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Narrow"/>
                </a:rPr>
                <a:t>Obtaining Race/Ethnicity Data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latin typeface="Arial Narrow"/>
                <a:ea typeface="Arial Narrow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7472600">
              <a:off x="4865760" y="2767320"/>
              <a:ext cx="432720" cy="127080"/>
            </a:xfrm>
            <a:prstGeom prst="leftRightArrow">
              <a:avLst>
                <a:gd name="adj1" fmla="val 50000"/>
                <a:gd name="adj2" fmla="val 67786"/>
              </a:avLst>
            </a:prstGeom>
            <a:solidFill>
              <a:srgbClr val="f8f8f8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3023600">
              <a:off x="2733120" y="3119040"/>
              <a:ext cx="380880" cy="144000"/>
            </a:xfrm>
            <a:prstGeom prst="leftRightArrow">
              <a:avLst>
                <a:gd name="adj1" fmla="val 50000"/>
                <a:gd name="adj2" fmla="val 52655"/>
              </a:avLst>
            </a:prstGeom>
            <a:solidFill>
              <a:srgbClr val="f8f8f8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9213800">
              <a:off x="5971680" y="3119400"/>
              <a:ext cx="380880" cy="144000"/>
            </a:xfrm>
            <a:prstGeom prst="leftRightArrow">
              <a:avLst>
                <a:gd name="adj1" fmla="val 50000"/>
                <a:gd name="adj2" fmla="val 52655"/>
              </a:avLst>
            </a:prstGeom>
            <a:solidFill>
              <a:srgbClr val="f8f8f8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2654280" y="4570560"/>
              <a:ext cx="3699000" cy="30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Narrow"/>
                </a:rPr>
                <a:t>Linking to Quality Measures &amp; Identifying Disparities  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latin typeface="Arial Narrow"/>
                <a:ea typeface="Arial Narrow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3241800" y="4202280"/>
              <a:ext cx="241236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Narrow"/>
                </a:rPr>
                <a:t>Targeting &amp; Testing Interventions  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latin typeface="Arial Narrow"/>
                <a:ea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1848800">
              <a:off x="2288880" y="3625200"/>
              <a:ext cx="380880" cy="143280"/>
            </a:xfrm>
            <a:prstGeom prst="leftRightArrow">
              <a:avLst>
                <a:gd name="adj1" fmla="val 50000"/>
                <a:gd name="adj2" fmla="val 52919"/>
              </a:avLst>
            </a:prstGeom>
            <a:solidFill>
              <a:srgbClr val="f8f8f8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1449800">
              <a:off x="1844280" y="4347000"/>
              <a:ext cx="380880" cy="144000"/>
            </a:xfrm>
            <a:prstGeom prst="leftRightArrow">
              <a:avLst>
                <a:gd name="adj1" fmla="val 50000"/>
                <a:gd name="adj2" fmla="val 52655"/>
              </a:avLst>
            </a:prstGeom>
            <a:solidFill>
              <a:srgbClr val="f8f8f8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357720" y="3683160"/>
              <a:ext cx="2286000" cy="505080"/>
              <a:chOff x="3357720" y="3683160"/>
              <a:chExt cx="2286000" cy="505080"/>
            </a:xfrm>
          </p:grpSpPr>
          <p:sp>
            <p:nvSpPr>
              <p:cNvPr id="96" name=""/>
              <p:cNvSpPr/>
              <p:nvPr/>
            </p:nvSpPr>
            <p:spPr>
              <a:xfrm>
                <a:off x="3357720" y="3983760"/>
                <a:ext cx="2286000" cy="204480"/>
              </a:xfrm>
              <a:prstGeom prst="ellipse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357720" y="3801240"/>
                <a:ext cx="2286000" cy="27972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357720" y="3683160"/>
                <a:ext cx="2286000" cy="228960"/>
              </a:xfrm>
              <a:prstGeom prst="ellipse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 rot="9846600">
              <a:off x="6860880" y="4347000"/>
              <a:ext cx="380880" cy="144000"/>
            </a:xfrm>
            <a:prstGeom prst="leftRightArrow">
              <a:avLst>
                <a:gd name="adj1" fmla="val 50000"/>
                <a:gd name="adj2" fmla="val 52655"/>
              </a:avLst>
            </a:prstGeom>
            <a:solidFill>
              <a:srgbClr val="f8f8f8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0297400">
              <a:off x="6353280" y="3625200"/>
              <a:ext cx="380880" cy="143280"/>
            </a:xfrm>
            <a:prstGeom prst="leftRightArrow">
              <a:avLst>
                <a:gd name="adj1" fmla="val 50000"/>
                <a:gd name="adj2" fmla="val 52919"/>
              </a:avLst>
            </a:prstGeom>
            <a:solidFill>
              <a:srgbClr val="f8f8f8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3691440" y="3463920"/>
              <a:ext cx="1613520" cy="360360"/>
              <a:chOff x="3691440" y="3463920"/>
              <a:chExt cx="1613520" cy="360360"/>
            </a:xfrm>
          </p:grpSpPr>
          <p:sp>
            <p:nvSpPr>
              <p:cNvPr id="102" name=""/>
              <p:cNvSpPr/>
              <p:nvPr/>
            </p:nvSpPr>
            <p:spPr>
              <a:xfrm>
                <a:off x="3691440" y="3654000"/>
                <a:ext cx="1613520" cy="17028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693960" y="3526920"/>
                <a:ext cx="1606680" cy="2131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1200" rIns="612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695400" y="3463920"/>
                <a:ext cx="1605960" cy="116640"/>
              </a:xfrm>
              <a:prstGeom prst="ellipse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1200" rIns="612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 txBox="1"/>
            <p:nvPr/>
          </p:nvSpPr>
          <p:spPr>
            <a:xfrm>
              <a:off x="3757680" y="3552840"/>
              <a:ext cx="1473480" cy="163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329197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Narrow"/>
                </a:rPr>
                <a:t>Dissemination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latin typeface="Arial Narrow"/>
                <a:ea typeface="Arial Narrow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349440" y="3891240"/>
              <a:ext cx="2296800" cy="258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Narrow"/>
                </a:rPr>
                <a:t>  </a:t>
              </a:r>
              <a:r>
                <a:rPr b="0" lang="en-US" sz="1200" spc="1" strike="noStrike">
                  <a:ln w="0">
                    <a:noFill/>
                  </a:ln>
                  <a:solidFill>
                    <a:srgbClr val="000000"/>
                  </a:solidFill>
                  <a:latin typeface="Arial Narrow"/>
                </a:rPr>
                <a:t>Determining Scalability &amp; Sequencing   </a:t>
              </a:r>
              <a:endParaRPr b="0" lang="en-US" sz="1200" spc="1" strike="noStrike">
                <a:ln w="0">
                  <a:noFill/>
                </a:ln>
                <a:solidFill>
                  <a:srgbClr val="000000"/>
                </a:solidFill>
                <a:latin typeface="Arial Narrow"/>
                <a:ea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DB6-28AC-495F-9004-279BA0998D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Our Efforts: Information Sha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5867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TA 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MBER &amp; PROVIDER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UNITY PARTNERSHIPS &amp; 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GANIZATIONAL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162920" y="16002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019920" y="3124080"/>
            <a:ext cx="2811240" cy="181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99A2-C4E8-4212-A567-D708295628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52280" y="304920"/>
            <a:ext cx="87631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ata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209680"/>
            <a:ext cx="74674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89280" indent="-892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9280" indent="-892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direct”- Geocoding and  surname analysis of HEDI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® measures (2004 to pres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9280" indent="-892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9280" indent="-892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“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rect” -   Voluntary collection of self-identified race, ethnicity and language preference (2006 to pres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3560" indent="-31680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9494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ual approac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400800" y="1601640"/>
            <a:ext cx="2743200" cy="1827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617-AF64-4238-ACD9-E56C949769FE}" type="slidenum">
              <a:t>8</a:t>
            </a:fld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1600200"/>
            <a:ext cx="350532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sults:  Indirect Data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Diabetes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(adults)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acks &amp; Hispanics les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y to get HbA1c and LD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Asthma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(children)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ack children less likely to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appropriate use of medic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revention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(adults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ack women less likely t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 breast cancer screening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360" y="1600200"/>
            <a:ext cx="8153280" cy="45720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048120"/>
            <a:ext cx="8153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360" y="4343400"/>
            <a:ext cx="8153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360" y="6172200"/>
            <a:ext cx="81532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44FE-EABA-413D-BA33-BC859A40BD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30T10:35:38Z</dcterms:created>
  <dc:creator>lidhnjr</dc:creator>
  <dc:description/>
  <dc:language>en-US</dc:language>
  <cp:lastModifiedBy>lidhnjr</cp:lastModifiedBy>
  <dcterms:modified xsi:type="dcterms:W3CDTF">2007-09-26T02:53:50Z</dcterms:modified>
  <cp:revision>14</cp:revision>
  <dc:subject/>
  <dc:title> Addressing Racial &amp; Ethnic Disparities in Health Care           </dc:title>
</cp:coreProperties>
</file>