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D09-DC18-4053-A241-E75EF688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833-4CA3-474D-9C0D-138CF6D1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6DA1-F324-494A-A936-0CDE252E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294-E036-45E0-B822-B3F16BE7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BB2-8E05-4F5D-9047-9CCC0449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5C9F-4566-4681-B4BC-2AA18D23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3E8-72C9-4F4D-B6BC-1DFAC4BE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F38-1A33-4E21-8028-4BFA4FAA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DAD-B429-40D1-A1B6-6A4D8D3E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101-B83B-4B28-82C1-003FB8B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0047-A7B2-4A58-AA7D-28CD37BC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7AF-C02F-4164-B26B-87FF8C05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FABA-0D04-40D3-8212-4FF88A936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take-proofing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ing the design of tools and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Gr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41720" y="1359000"/>
            <a:ext cx="4707000" cy="1873080"/>
          </a:xfrm>
          <a:custGeom>
            <a:avLst/>
            <a:gdLst>
              <a:gd name="textAreaLeft" fmla="*/ 926280 w 4707000"/>
              <a:gd name="textAreaRight" fmla="*/ 3552840 w 4707000"/>
              <a:gd name="textAreaTop" fmla="*/ 250920 h 1873080"/>
              <a:gd name="textAreaBottom" fmla="*/ 162216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2" hR="21600" stAng="10800000" swAng="5400000"/>
                <a:lnTo>
                  <a:pt x="12052" y="0"/>
                </a:lnTo>
                <a:arcTo wR="8502" hR="21600" stAng="-5400000" swAng="3121166"/>
                <a:lnTo>
                  <a:pt x="21225" y="15255"/>
                </a:lnTo>
                <a:lnTo>
                  <a:pt x="18779" y="21600"/>
                </a:lnTo>
                <a:lnTo>
                  <a:pt x="15583" y="15255"/>
                </a:lnTo>
                <a:lnTo>
                  <a:pt x="16629" y="15255"/>
                </a:lnTo>
                <a:arcTo wR="8502" hR="21600" stAng="-2278834" swAng="-2832978"/>
                <a:lnTo>
                  <a:pt x="10277" y="476"/>
                </a:lnTo>
                <a:arcTo wR="8502" hR="21600" stAng="-5688189" swAng="-5111811"/>
                <a:close/>
              </a:path>
              <a:path fill="darkenLess" w="21600" h="21600">
                <a:moveTo>
                  <a:pt x="0" y="21600"/>
                </a:moveTo>
                <a:arcTo wR="8502" hR="21600" stAng="10800000" swAng="5400000"/>
                <a:lnTo>
                  <a:pt x="8502" y="0"/>
                </a:lnTo>
                <a:arcTo wR="8502" hR="21600" stAng="-5400000" swAng="288189"/>
                <a:lnTo>
                  <a:pt x="10277" y="476"/>
                </a:lnTo>
                <a:arcTo wR="8502" hR="21600" stAng="-5688189" swAng="-5111811"/>
                <a:close/>
              </a:path>
            </a:pathLst>
          </a:cu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8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ng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38320" y="17604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ty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24480" y="143208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ty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2640" y="2833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7160" y="320040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7800" y="1392120"/>
            <a:ext cx="110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62200" y="1825560"/>
            <a:ext cx="0" cy="12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74080" y="2206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44760" y="4233960"/>
            <a:ext cx="4707000" cy="1873080"/>
          </a:xfrm>
          <a:custGeom>
            <a:avLst/>
            <a:gdLst>
              <a:gd name="textAreaLeft" fmla="*/ 926280 w 4707000"/>
              <a:gd name="textAreaRight" fmla="*/ 3552840 w 4707000"/>
              <a:gd name="textAreaTop" fmla="*/ 250920 h 1873080"/>
              <a:gd name="textAreaBottom" fmla="*/ 162216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02" hR="21600" stAng="10800000" swAng="5400000"/>
                <a:lnTo>
                  <a:pt x="12052" y="0"/>
                </a:lnTo>
                <a:arcTo wR="8502" hR="21600" stAng="-5400000" swAng="3121166"/>
                <a:lnTo>
                  <a:pt x="21225" y="15255"/>
                </a:lnTo>
                <a:lnTo>
                  <a:pt x="18779" y="21600"/>
                </a:lnTo>
                <a:lnTo>
                  <a:pt x="15583" y="15255"/>
                </a:lnTo>
                <a:lnTo>
                  <a:pt x="16629" y="15255"/>
                </a:lnTo>
                <a:arcTo wR="8502" hR="21600" stAng="-2278834" swAng="-2832978"/>
                <a:lnTo>
                  <a:pt x="10277" y="476"/>
                </a:lnTo>
                <a:arcTo wR="8502" hR="21600" stAng="-5688189" swAng="-5111811"/>
                <a:close/>
              </a:path>
              <a:path fill="darkenLess" w="21600" h="21600">
                <a:moveTo>
                  <a:pt x="0" y="21600"/>
                </a:moveTo>
                <a:arcTo wR="8502" hR="21600" stAng="10800000" swAng="5400000"/>
                <a:lnTo>
                  <a:pt x="8502" y="0"/>
                </a:lnTo>
                <a:arcTo wR="8502" hR="21600" stAng="-5400000" swAng="288189"/>
                <a:lnTo>
                  <a:pt x="10277" y="476"/>
                </a:lnTo>
                <a:arcTo wR="8502" hR="21600" stAng="-5688189" swAng="-5111811"/>
                <a:close/>
              </a:path>
            </a:pathLst>
          </a:cu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95760" y="40989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ckley’s 18 error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97520" y="4113360"/>
            <a:ext cx="187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ckley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7 solution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0640" y="502920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83200" y="603252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5226120"/>
            <a:ext cx="20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 Examples from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609444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read, mismeasure, misinterpre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224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9320" y="1322280"/>
          <a:ext cx="596880" cy="103500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22120" y="138240"/>
          <a:ext cx="8728200" cy="6575400"/>
        </p:xfrm>
        <a:graphic>
          <a:graphicData uri="http://schemas.openxmlformats.org/drawingml/2006/table">
            <a:tbl>
              <a:tblPr/>
              <a:tblGrid>
                <a:gridCol w="669960"/>
                <a:gridCol w="5945040"/>
                <a:gridCol w="21132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in Category: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error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ed category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read, mismeasure, misinterpr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e labels easy-to-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6, 7.7, 7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iminate transcri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inguish related items by color (color cod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es subtle distinctions obvious with organization and inform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e graphics to simplify or clarify complexity and make interpretation eas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ok-alike items must have distinctive labe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13B, 6.14, 7.5, 7.6, 5.21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live stro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de information in units needed (avoid convers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ke location of supplies accuated and obvi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 for compliance to specification lim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7, 8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a required dimension guide on the worksh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es are designed to be standard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mate the exec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5, 8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nformation o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0, 7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strong.jpg"/>
          <p:cNvPicPr/>
          <p:nvPr/>
        </p:nvPicPr>
        <p:blipFill>
          <a:blip r:embed="rId1"/>
          <a:srcRect l="25822" t="0" r="0" b="0"/>
          <a:stretch/>
        </p:blipFill>
        <p:spPr>
          <a:xfrm>
            <a:off x="4854600" y="3354480"/>
            <a:ext cx="4146480" cy="3360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0080" y="3359160"/>
            <a:ext cx="4475160" cy="3355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17760" y="1674720"/>
            <a:ext cx="64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. look-alike items must have distinctive labeling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3B, 5.21, 6.14, 7.5, 7.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9480" y="160200"/>
            <a:ext cx="682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Categ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err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categ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read, mismeasure, misinterp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36440" y="6122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00" y="3422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3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79320" y="1322280"/>
          <a:ext cx="596880" cy="103500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4911840" y="1903320"/>
            <a:ext cx="35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. look-alike items must have distinctive labeling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13B, 6.14, 7.5, 7.6, 5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4600" y="160200"/>
            <a:ext cx="428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Categ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err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categor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read, mismeasure, misinterp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0" y="3560760"/>
            <a:ext cx="5138640" cy="3083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00840" y="3703680"/>
            <a:ext cx="3143160" cy="3154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2840" y="228600"/>
            <a:ext cx="4479840" cy="329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4607280" y="61149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75720" y="6400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63000" y="279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Monotype Corsiva"/>
              </a:rPr>
              <a:t>Thank you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2333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181480" y="1630440"/>
            <a:ext cx="3962520" cy="2881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6480" y="371520"/>
            <a:ext cx="75139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are some photos of  mistake-proofing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360" y="4657680"/>
            <a:ext cx="83408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take-proofing is the use of process design features* to facilitate correct actions, prevent simple errors, or mitigate the negative impact of error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2040" y="6248520"/>
            <a:ext cx="87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these process design features can be referred to as “devices” or “counter-measu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3076" t="0" r="7869" b="0"/>
          <a:stretch/>
        </p:blipFill>
        <p:spPr>
          <a:xfrm>
            <a:off x="0" y="1627200"/>
            <a:ext cx="220968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7247" t="0" r="4403" b="12305"/>
          <a:stretch/>
        </p:blipFill>
        <p:spPr>
          <a:xfrm>
            <a:off x="2192400" y="1612800"/>
            <a:ext cx="1935000" cy="288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11878" t="8865" r="8881" b="-439"/>
          <a:stretch/>
        </p:blipFill>
        <p:spPr>
          <a:xfrm>
            <a:off x="4172040" y="1625760"/>
            <a:ext cx="189216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iscussion of the interaction of tools, tasks and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interventions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ac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8534520" cy="382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3124080"/>
            <a:ext cx="2819160" cy="30481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iscussion of the interaction of tools, tasks and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find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cation (process mapping, visual systems (a.k.a. 5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benign failures to avoi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ing correct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 of tools, tasks and people: Visu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esign changes that make compliance with IHI’s VAP Best practice bundle easy to check vis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486240"/>
            <a:ext cx="4495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 of tools, tasks and people: Designing Benign Fail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389400"/>
            <a:ext cx="4800600" cy="3240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3571920" cy="4572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12760" y="2093760"/>
            <a:ext cx="481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and non-medical examp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differ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chloraprep" descr=""/>
          <p:cNvPicPr/>
          <p:nvPr/>
        </p:nvPicPr>
        <p:blipFill>
          <a:blip r:embed="rId1"/>
          <a:stretch/>
        </p:blipFill>
        <p:spPr>
          <a:xfrm>
            <a:off x="304920" y="2522520"/>
            <a:ext cx="2895480" cy="1173240"/>
          </a:xfrm>
          <a:prstGeom prst="rect">
            <a:avLst/>
          </a:prstGeom>
          <a:ln w="0">
            <a:noFill/>
          </a:ln>
        </p:spPr>
      </p:pic>
      <p:pic>
        <p:nvPicPr>
          <p:cNvPr id="67" name="scrub teal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2886120" cy="104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abby's arm" descr=""/>
          <p:cNvPicPr/>
          <p:nvPr/>
        </p:nvPicPr>
        <p:blipFill>
          <a:blip r:embed="rId3"/>
          <a:stretch/>
        </p:blipFill>
        <p:spPr>
          <a:xfrm>
            <a:off x="304920" y="4800600"/>
            <a:ext cx="2886120" cy="1809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429000" y="24764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action of tools, tasks and people: Facilitating correct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discussion of the interaction of tools, tasks and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and remaining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FMEA recommended actions.  How design-oriented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ing existing examples to reduce the creativity needed in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9:14:50Z</dcterms:created>
  <dc:creator>jgrout</dc:creator>
  <dc:description/>
  <dc:language>en-US</dc:language>
  <cp:lastModifiedBy>User</cp:lastModifiedBy>
  <dcterms:modified xsi:type="dcterms:W3CDTF">2007-09-28T15:13:54Z</dcterms:modified>
  <cp:revision>7</cp:revision>
  <dc:subject/>
  <dc:title>Mistake-proofing:  changing technologies and tools design</dc:title>
</cp:coreProperties>
</file>