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3A9-285B-4074-BDC9-997BDD76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E24-193C-482A-BC68-26CAFB09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838-04CF-4CDD-809D-98524673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045-F3A8-4DCF-830A-12FE38BD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284-5F33-4046-A70A-7FC7BE35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B1B-9DF3-44E1-8131-B71255F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224-1B01-42B7-9B15-F20D008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82E-910B-47F5-BED9-58799839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921-5999-41A6-B7B0-6B45802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43B-B129-4B68-AF5B-FCE1275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C80-CE03-4BF6-A290-0E89133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79D-4147-4CFB-ACF0-615BFA1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9D8-3DF7-45A2-9013-5ADCA1E8C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take-proofing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the design of tools and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Gr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41720" y="1359000"/>
            <a:ext cx="4707000" cy="1873080"/>
          </a:xfrm>
          <a:custGeom>
            <a:avLst/>
            <a:gdLst>
              <a:gd name="textAreaLeft" fmla="*/ 926280 w 4707000"/>
              <a:gd name="textAreaRight" fmla="*/ 3552840 w 4707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2" hR="21600" stAng="10800000" swAng="5400000"/>
                <a:lnTo>
                  <a:pt x="12052" y="0"/>
                </a:lnTo>
                <a:arcTo wR="8502" hR="21600" stAng="-5400000" swAng="3121166"/>
                <a:lnTo>
                  <a:pt x="21225" y="15255"/>
                </a:lnTo>
                <a:lnTo>
                  <a:pt x="18779" y="21600"/>
                </a:lnTo>
                <a:lnTo>
                  <a:pt x="15583" y="15255"/>
                </a:lnTo>
                <a:lnTo>
                  <a:pt x="16629" y="15255"/>
                </a:lnTo>
                <a:arcTo wR="8502" hR="21600" stAng="-2278834" swAng="-2832978"/>
                <a:lnTo>
                  <a:pt x="10277" y="476"/>
                </a:lnTo>
                <a:arcTo wR="8502" hR="21600" stAng="-5688189" swAng="-5111811"/>
                <a:close/>
              </a:path>
              <a:path fill="darkenLess" w="21600" h="21600">
                <a:moveTo>
                  <a:pt x="0" y="21600"/>
                </a:moveTo>
                <a:arcTo wR="8502" hR="21600" stAng="10800000" swAng="5400000"/>
                <a:lnTo>
                  <a:pt x="8502" y="0"/>
                </a:lnTo>
                <a:arcTo wR="8502" hR="21600" stAng="-5400000" swAng="288189"/>
                <a:lnTo>
                  <a:pt x="10277" y="476"/>
                </a:lnTo>
                <a:arcTo wR="8502" hR="21600" stAng="-5688189" swAng="-5111811"/>
                <a:close/>
              </a:path>
            </a:pathLst>
          </a:cu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8320" y="176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ty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24480" y="14320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ty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2640" y="2833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7160" y="32004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7800" y="1392120"/>
            <a:ext cx="11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2200" y="18255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4080" y="2206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4760" y="4233960"/>
            <a:ext cx="4707000" cy="1873080"/>
          </a:xfrm>
          <a:custGeom>
            <a:avLst/>
            <a:gdLst>
              <a:gd name="textAreaLeft" fmla="*/ 926280 w 4707000"/>
              <a:gd name="textAreaRight" fmla="*/ 3552840 w 4707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2" hR="21600" stAng="10800000" swAng="5400000"/>
                <a:lnTo>
                  <a:pt x="12052" y="0"/>
                </a:lnTo>
                <a:arcTo wR="8502" hR="21600" stAng="-5400000" swAng="3121166"/>
                <a:lnTo>
                  <a:pt x="21225" y="15255"/>
                </a:lnTo>
                <a:lnTo>
                  <a:pt x="18779" y="21600"/>
                </a:lnTo>
                <a:lnTo>
                  <a:pt x="15583" y="15255"/>
                </a:lnTo>
                <a:lnTo>
                  <a:pt x="16629" y="15255"/>
                </a:lnTo>
                <a:arcTo wR="8502" hR="21600" stAng="-2278834" swAng="-2832978"/>
                <a:lnTo>
                  <a:pt x="10277" y="476"/>
                </a:lnTo>
                <a:arcTo wR="8502" hR="21600" stAng="-5688189" swAng="-5111811"/>
                <a:close/>
              </a:path>
              <a:path fill="darkenLess" w="21600" h="21600">
                <a:moveTo>
                  <a:pt x="0" y="21600"/>
                </a:moveTo>
                <a:arcTo wR="8502" hR="21600" stAng="10800000" swAng="5400000"/>
                <a:lnTo>
                  <a:pt x="8502" y="0"/>
                </a:lnTo>
                <a:arcTo wR="8502" hR="21600" stAng="-5400000" swAng="288189"/>
                <a:lnTo>
                  <a:pt x="10277" y="476"/>
                </a:lnTo>
                <a:arcTo wR="8502" hR="21600" stAng="-5688189" swAng="-5111811"/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5760" y="40989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ckley’s 18 err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7520" y="411336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ckley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7 solutio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0640" y="5029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83200" y="603252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2261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Examples from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60944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read, mismeasure, misinterpr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224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9320" y="1322280"/>
          <a:ext cx="596880" cy="103500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22120" y="138240"/>
          <a:ext cx="8728200" cy="6575400"/>
        </p:xfrm>
        <a:graphic>
          <a:graphicData uri="http://schemas.openxmlformats.org/drawingml/2006/table">
            <a:tbl>
              <a:tblPr/>
              <a:tblGrid>
                <a:gridCol w="669960"/>
                <a:gridCol w="5945040"/>
                <a:gridCol w="211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 Category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err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category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read, mismeasure, misinterp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 labels easy-to-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, 7.7, 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minate tran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inguish related items by color (color cod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s subtle distinctions obvious with organization a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graphics to simplify or clarify complexity and make interpretation 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ok-alike items must have distinctive lab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3B, 6.14, 7.5, 7.6, 5.2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live stro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information in units needed (avoid conver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 location of supplies accuated and obv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for compliance to specification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, 8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a required dimension guide on the worksh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es are designed to be standard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e the exe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5, 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nformation o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0, 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rong.jpg"/>
          <p:cNvPicPr/>
          <p:nvPr/>
        </p:nvPicPr>
        <p:blipFill>
          <a:blip r:embed="rId1"/>
          <a:srcRect l="25822" t="0" r="0" b="0"/>
          <a:stretch/>
        </p:blipFill>
        <p:spPr>
          <a:xfrm>
            <a:off x="4854600" y="3354480"/>
            <a:ext cx="4146480" cy="3360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0080" y="335916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17760" y="1674720"/>
            <a:ext cx="64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 look-alike items must have distinctive labeli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3B, 5.21, 6.14, 7.5, 7.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9480" y="160200"/>
            <a:ext cx="68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ead, mismeasure, mis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36440" y="6122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00" y="3422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79320" y="1322280"/>
          <a:ext cx="596880" cy="103500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911840" y="1903320"/>
            <a:ext cx="35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 look-alike items must have distinctive labeli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3B, 6.14, 7.5, 7.6, 5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4600" y="160200"/>
            <a:ext cx="42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ead, mismeasure, mis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0" y="3560760"/>
            <a:ext cx="5138640" cy="3083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00840" y="3703680"/>
            <a:ext cx="314316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0" y="228600"/>
            <a:ext cx="4479840" cy="32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607280" y="61149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75720" y="6400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63000" y="279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Monotype Corsiva"/>
              </a:rPr>
              <a:t>Thank you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2333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81480" y="1630440"/>
            <a:ext cx="39625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6480" y="371520"/>
            <a:ext cx="75139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photos of  mistake-proof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4657680"/>
            <a:ext cx="8340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ake-proofing is the use of process design features* to facilitate correct actions, prevent simple errors, or mitigate the negative impact of erro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040" y="6248520"/>
            <a:ext cx="87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hese process design features can be referred to as “devices” or “counter-measu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076" t="0" r="7869" b="0"/>
          <a:stretch/>
        </p:blipFill>
        <p:spPr>
          <a:xfrm>
            <a:off x="0" y="1627200"/>
            <a:ext cx="22096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7247" t="0" r="4403" b="12305"/>
          <a:stretch/>
        </p:blipFill>
        <p:spPr>
          <a:xfrm>
            <a:off x="2192400" y="1612800"/>
            <a:ext cx="1935000" cy="288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11878" t="8865" r="8881" b="-439"/>
          <a:stretch/>
        </p:blipFill>
        <p:spPr>
          <a:xfrm>
            <a:off x="4172040" y="1625760"/>
            <a:ext cx="189216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intervention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534520" cy="382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3124080"/>
            <a:ext cx="2819160" cy="30481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i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 (process mapping, visual systems (a.k.a. 5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benign failures to avoi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rrec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Visu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sign changes that make compliance with IHI’s VAP Best practice bundle easy to check vi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Designing Benign Fail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389400"/>
            <a:ext cx="480060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760" y="2093760"/>
            <a:ext cx="48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and non-medical examp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differ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hloraprep" descr=""/>
          <p:cNvPicPr/>
          <p:nvPr/>
        </p:nvPicPr>
        <p:blipFill>
          <a:blip r:embed="rId1"/>
          <a:stretch/>
        </p:blipFill>
        <p:spPr>
          <a:xfrm>
            <a:off x="304920" y="2522520"/>
            <a:ext cx="2895480" cy="1173240"/>
          </a:xfrm>
          <a:prstGeom prst="rect">
            <a:avLst/>
          </a:prstGeom>
          <a:ln w="0">
            <a:noFill/>
          </a:ln>
        </p:spPr>
      </p:pic>
      <p:pic>
        <p:nvPicPr>
          <p:cNvPr id="67" name="scrub teal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88612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bby's arm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2886120" cy="180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429000" y="24764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Facilitating correct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nd remain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FMEA recommended actions.  How design-oriented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existing examples to reduce the creativity needed i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14:50Z</dcterms:created>
  <dc:creator>jgrout</dc:creator>
  <dc:description/>
  <dc:language>en-US</dc:language>
  <cp:lastModifiedBy>User</cp:lastModifiedBy>
  <dcterms:modified xsi:type="dcterms:W3CDTF">2007-09-28T15:13:54Z</dcterms:modified>
  <cp:revision>7</cp:revision>
  <dc:subject/>
  <dc:title>Mistake-proofing:  changing technologies and tools design</dc:title>
</cp:coreProperties>
</file>