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FF0-C8D1-4150-A581-4759EF7A7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992-9290-497E-990B-4BD54696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A422-43A4-43DF-9FD8-930A2AA7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8861-6C7E-401F-9897-F8FB4560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9EF9-5D20-463F-8936-068ED7C5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0B11-6512-4825-9B27-A3527BCA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74B9-8574-4A81-8CD9-7CF974DF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3A0F-41E6-4E36-B234-C9069525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A304-0D36-4D0F-9FED-21A1A3AC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19BF-3BBC-4DFE-BED8-85E1CA4F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0EB8-CD97-4D36-A7C7-1C822E8B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91F-7D1F-47E5-8E0A-069CE64D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B830-9475-4218-A3BC-BFF0F872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EE55-F4AA-426F-8F38-9897B6E6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4E11-1C55-45AF-B152-0FE24DCA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47CE-F102-4511-A289-59F20018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1DBA-10D3-4A94-AA57-9BD780B08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C68-E306-4570-B087-EEEA2E8E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088-B208-405C-A25C-0E21EC9D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BECB-C21E-4FF0-8682-4F6A9B5E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95C-FBDA-4015-AB54-36350B6F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F9B8-BCB7-4252-BC1E-1CB2B65E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01A-1FF5-4F68-9EC3-81815E67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BC39-D6D2-4822-93E7-5D5D4DD5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A638-7231-40A0-ABAA-239D53AE3C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7468-5815-4B67-922C-9165FBF132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Designing and Implementing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Pay-for-Performance Programs:</a:t>
            </a: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 Ongoing Challenges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ary J. Young, J.D., Ph.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oston Univer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esentation for AHRQ Annual Me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ssion on How Pay-for-Performance Fits with a Value Agend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ptember 28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nancial support from Agency for Healthcare Research and Quality; Robert Wood Johnson Found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6325-9B39-4A5C-B8CF-AC6E377441D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Quality Measu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ians generally comfortable with standardized measures such as HEDIS and HQ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Outcomes vs. Process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Specialists and Non-Acute Ca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t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B28-B93C-48A3-B0FB-33CEA893BB8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vider Capability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viders reveal anxiety about capabilities to perform well on quality measur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Hospitals with well developed QI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rastructure appeared to have a distinc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tage in BCBSM P4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limited provider capability, one-time performance gains may be common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-In some situations, learning goal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uld possibly precede performance go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7C4-6BF2-4FE8-8785-A5E45C453D3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80880" y="228600"/>
          <a:ext cx="8305920" cy="5908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28600"/>
                    <a:ext cx="830592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A75-79EC-4687-BADA-830325DC5662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Incentive Structur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oth program sponsors and providers are divided on many issues regarding incentive structur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-Attainment vs. Improvement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-Bonus only vs. Penalties (e.g.,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ithholds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4C42-E861-42FE-9A5F-A6FD3CACBC2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Data Systems and </a:t>
            </a:r>
            <a:br>
              <a:rPr sz="4000"/>
            </a:b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Measurement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rs have strong concerns about data reliability and validit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Claims vs. Charts (appeal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s/reserve fun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 Small Numbers (composite sco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-payer initiativ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06FC-C00A-4721-8C9F-EC1F50FB528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6480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Unintended Consequ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64920"/>
            <a:ext cx="82296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hysician surveys reveal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no major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concerns about U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tudies outside healthca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int to negative impact on innov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 P4P in safety net settings may po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que risk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EA93-4777-4376-A363-41ABAEE4380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cluding Comme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4P can lead to gains in clinical quality, but the magnitude of the gains may be quite modest and time-limited, particularly without substantial improvements in provider infrastructure for quality measurement and improvement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ysicians do appear comfortable with P4P as a concept, but have certain concerns with the way P4P programs have been designed and implemen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gram sponsors face many daunting challenges in designing and implementing program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0F0A-F979-456F-9DFC-9D529A0EBA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0010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5ffff"/>
                </a:solidFill>
                <a:latin typeface="Tahoma"/>
              </a:rPr>
              <a:t>P4P: Will it Work?</a:t>
            </a:r>
            <a:endParaRPr b="0" lang="en-US" sz="4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cent evidence points to modest gains from P4P in terms of provider adherenc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lected Finding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osenthal et al. (2006) Relative increase of 3.6 percentage points for cervical cancer screen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vin-Scherz et al. (200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lative increase of 2-19 percentage points for diabetes measu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indenauer et a. (2007) CMS Premier demonstration: Relative increase of 2.6 percentage points for AMI measures; 3.4 points for pneumonia measures; 4.1 points for heart failure measur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oung et al. (2007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bsolute increase of 7 percentage points for diabetes measure (e.g., eye exam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B93-CBAC-4133-9270-E85DA9B7BA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Key Challenges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r Engage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of Account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lity Mea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r Cap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entive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ystems and Measu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ntended Consequ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0B7-27AA-468B-A6D4-47F6D0BE60A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0"/>
            <a:ext cx="87631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pporting Resear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685800"/>
            <a:ext cx="839016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7 Demonstration Sites – Rewarding Resul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urveys of Physicians (over 4000 surveyed; approximately 1500 respons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terviews with over 60 Senior Manag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of Physician Organiz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cus Groups with Providers and Pay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te Visits to Provider Organization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ndings of Other Research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5EA-F269-45DB-B907-803E605BF329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ffff"/>
                </a:solidFill>
                <a:latin typeface="Tahoma"/>
              </a:rPr>
              <a:t>Provider Engagement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hysicians appear comfortable with the concept of P4P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-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ong preference for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centives linked to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qualit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tilization or productivit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5D9E-88BD-4B78-8A5E-960E1F7FC8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79440" y="844560"/>
          <a:ext cx="8286840" cy="576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9440" y="844560"/>
                    <a:ext cx="8286840" cy="57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365040" y="108000"/>
            <a:ext cx="778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080" y="108000"/>
            <a:ext cx="79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3640" y="108000"/>
            <a:ext cx="778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286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y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9EC9-C620-460B-8635-975E49E2145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80880" y="838080"/>
          <a:ext cx="8305920" cy="5334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838080"/>
                    <a:ext cx="83059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rvey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B47-D4A4-4A0A-9662-CEA2AA718B7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Provider Engageme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hysicians do not appear to have a strong understanding of the P4P programs in which they participat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ventional forms of communicating w/ providers appear inadequate (very Low physician survey scores regarding understanding of programs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ny physicians appear to feel disenfranchis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Physician involvement in program design can help secure buy-in (e.g., selection/modification of measur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A457-033D-424C-92BC-340FE6DB9F1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nit of Accountabi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nsors face difficult choices and possible tradeoffs between selecting individuals versus organizati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 systems engineering vs. physicia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itiati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- stimulating investment in Q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rastructure vs. enhanc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ement of front-line provid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CD1-11D6-45C3-985C-072D8E4BBF0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Gary J. Yo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2:42:33Z</dcterms:created>
  <dc:creator>BUMC</dc:creator>
  <dc:description/>
  <dc:language>en-US</dc:language>
  <cp:lastModifiedBy>User</cp:lastModifiedBy>
  <dcterms:modified xsi:type="dcterms:W3CDTF">2007-09-28T17:40:21Z</dcterms:modified>
  <cp:revision>72</cp:revision>
  <dc:subject/>
  <dc:title>Designing and Implementing Pay-for-Performance Programs:  Issues and Research</dc:title>
</cp:coreProperties>
</file>