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B32-E824-4FD4-A558-5BED9264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356-5E5C-4A1F-9E06-099FB733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252-CBA9-453E-82AE-19400E01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430-9E2F-45CF-ACAC-008A9090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1513-57BF-41D8-A607-2C7057A3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4CD7-B300-4E6B-9BAC-29104FDB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6DCB-DC7F-4F96-ACEA-9EE68D5C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B905-B6AF-4C91-8693-C5A4447C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5941-B4E8-4F80-B2F3-E7816416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09B2-0B1B-40D6-BE2C-3553F8C0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2193-EF36-4927-B1D8-605BFD25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985-8C56-41CB-80B7-6AD67ED3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1C06-D884-4996-87BC-9531B910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A5E5-F344-40A7-B6A7-4D27CF9C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FB4B-3C56-4E42-A00B-F85B947D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4159-57BB-4EFC-9DBC-2B62FE76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0D5D-5C71-456C-840C-5B7991DE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CD1-3E4B-4CB8-B8DC-9FE20B75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4AE-81AA-4245-8718-A518C4FF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22E-7B56-4D8E-B709-0EC9A301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6CF-E453-40B7-AE72-0701B31A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203-B2E3-44F6-8D30-730021C8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158-C106-4906-9816-B36F8C4E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887-96D0-4E1D-9A59-D0D6414A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A4FD-C0D5-4459-8ACE-3254F7C80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8722-1687-4224-A593-257B0E2FE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Designing and Implementing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Pay-for-Performance Programs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Ongoing Challenge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ry J. Young, J.D., Ph.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ston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sentation for AHRQ Annual Me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ssion on How Pay-for-Performance Fits with a Value Agend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ptember 28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ncial support from Agency for Healthcare Research and Quality; Robert Wood Johnson Found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D23F-0FD6-4027-9340-E8B87930276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Quality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ians generally comfortable with standardized measures such as HEDIS and HQ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Outcomes vs. Process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Specialists and Non-Acute Ca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02A-822F-4FB8-9F2C-43643CCCEA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vider Capabilit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rs reveal anxiety about capabilities to perform well on quality meas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Hospitals with well developed Q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rastructure appeared to have a distin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 in BCBSM P4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limited provider capability, one-time performance gains may be comm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In some situations, learning goal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uld possibly precede performance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D9A-5254-4050-83F9-155C27BED19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80880" y="228600"/>
          <a:ext cx="8305920" cy="590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830592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B85-625E-462E-B2B6-7DD80200E0B6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Incentive Stru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th program sponsors and providers are divided on many issues regarding incentive structur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Attainment vs. Improvemen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Bonus only vs. Penalties (e.g.,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ithhold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4BB-53F7-460B-9A69-C90D9D95E3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ata Systems and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Measurement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s have strong concerns about data reliability and validi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Claims vs. Charts (appeal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/reserve fun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mall Numbers (composite sc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-payer initiativ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7EA-9251-49D3-A703-43974A640B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6480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Unintended Con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649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hysician surveys reveal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 majo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oncerns about U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tudies outside healthca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int to negative impact on inno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P4P in safety net settings may p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que ris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7D3-8516-44EE-A88A-F792468253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ding Com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4P can lead to gains in clinical quality, but the magnitude of the gains may be quite modest and time-limited, particularly without substantial improvements in provider infrastructure for quality measurement and improve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sicians do appear comfortable with P4P as a concept, but have certain concerns with the way P4P programs have been designed and implemen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 sponsors face many daunting challenges in designing and implementing progra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350-8557-4ABC-B9BC-5FCE70F7FF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5ffff"/>
                </a:solidFill>
                <a:latin typeface="Tahoma"/>
              </a:rPr>
              <a:t>P4P: Will it Work?</a:t>
            </a:r>
            <a:endParaRPr b="0" lang="en-US" sz="4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ent evidence points to modest gains from P4P in terms of provider adheren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ed Finding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senthal et al. (2006) Relative increase of 3.6 percentage points for cervical cancer scree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vin-Scherz et al. (200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ive increase of 2-19 percentage points for diabetes meas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denauer et a. (2007) CMS Premier demonstration: Relative increase of 2.6 percentage points for AMI measures; 3.4 points for pneumonia measures; 4.1 points for heart failure measur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oung et al. (20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bsolute increase of 7 percentage points for diabetes measure (e.g., eye exa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1AF-326C-4252-8512-3310183E0F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Key Challenges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 Engag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of Accoun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ity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 Cap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entive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ystems and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ntended Consequ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940-0356-4C99-BD10-845388B160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0"/>
            <a:ext cx="87631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porting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685800"/>
            <a:ext cx="839016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7 Demonstration Sites – Rewarding Resul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rveys of Physicians (over 4000 surveyed; approximately 1500 respons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terviews with over 60 Senior Manag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f Physician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cus Groups with Providers and Pay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te Visits to Provider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ndings of Other Researc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754-0056-4E82-94E3-01674ABD1CB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Provider Engagement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hysicians appear comfortable with the concept of P4P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ong preference fo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entives linked t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qualit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tilization or productiv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FF4-851C-4C6F-B1CD-C9F0EAFB81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79440" y="844560"/>
          <a:ext cx="8286840" cy="57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844560"/>
                    <a:ext cx="8286840" cy="57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65040" y="1080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080" y="10800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1080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6C9-499E-4079-A66A-019280009D6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80880" y="838080"/>
          <a:ext cx="830592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838080"/>
                    <a:ext cx="8305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vey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19D-3665-48CC-ADBA-9BADE882CE9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rovider Eng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hysicians do not appear to have a strong understanding of the P4P programs in which they participat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ventional forms of communicating w/ providers appear inadequate (very Low physician survey scores regarding understanding of program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ny physicians appear to feel disenfranchis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Physician involvement in program design can help secure buy-in (e.g., selection/modification of measur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E68-C459-4880-8112-4E4193CB09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it of Accounta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sors face difficult choices and possible tradeoffs between selecting individuals versus organiza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ystems engineering vs. physici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itiat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timulating investment in Q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rastructure vs. enhanc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ment of front-line provi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77A-BA58-45DB-8EA6-67C6E0918E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2:42:33Z</dcterms:created>
  <dc:creator>BUMC</dc:creator>
  <dc:description/>
  <dc:language>en-US</dc:language>
  <cp:lastModifiedBy>User</cp:lastModifiedBy>
  <dcterms:modified xsi:type="dcterms:W3CDTF">2007-09-28T17:40:21Z</dcterms:modified>
  <cp:revision>72</cp:revision>
  <dc:subject/>
  <dc:title>Designing and Implementing Pay-for-Performance Programs:  Issues and Research</dc:title>
</cp:coreProperties>
</file>