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43E-0242-469B-8137-3DA5833B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“handoffs” occur at the bedside as shown in yellow. A good handoff actually begins prior to the patient ever entering the PICU. This is outlined in light blu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05F-E8A4-4F30-B1A0-10C6F48C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89D-8BA1-421E-8A7B-B7AD4D92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AFA-C4DF-4CEE-9F19-60A7A5BC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17E-1986-4B00-9781-754725AB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809-C941-4F1D-8783-20ABC5BF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918F-174C-427B-8262-EFF7E7A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BADE-6794-4F23-85D9-E2543DA9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A48-FF67-4A7A-B254-BB80FC4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4F6E-B127-4130-A3B0-9AE6685F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26E-EF72-4EC8-9F9B-B036CA10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941-756A-46DC-B57B-A1327A4F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3D0-6030-4E68-8636-34A4D2C8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B16D-27B2-4CAD-9273-A80C963F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21906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ing Team Train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 Duk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ren Frush, BSN, 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Patient Safe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ke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Training Resul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this training impact the way you do business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101600" y="1674720"/>
          <a:ext cx="706284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674720"/>
                    <a:ext cx="706284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590920" y="6023880"/>
            <a:ext cx="12189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6019200"/>
            <a:ext cx="14479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Pr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10080" y="6019200"/>
            <a:ext cx="14479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Training Result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recommend this course to your co-workers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01600" y="1674720"/>
          <a:ext cx="7062840" cy="415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674720"/>
                    <a:ext cx="7062840" cy="41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6023880"/>
            <a:ext cx="12189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6019200"/>
            <a:ext cx="14479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Arial"/>
              </a:rPr>
              <a:t>Pro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720" y="3657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6019200"/>
            <a:ext cx="144792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4649400"/>
            <a:ext cx="701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U Post-Training Survey Responses Sum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Question: 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hysicians and nurses here work together as a well-coordinated team (Fisher Exact Test p value=0.011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762120"/>
          <a:ext cx="8686800" cy="36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68680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5867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990720"/>
          <a:ext cx="830592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30592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71600" y="4649400"/>
            <a:ext cx="7010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U Post-Training Survey Responses Summa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Question: “I know the proper channels to direct questions regarding patient safety in this clinical area (p value=0.007)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52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bservation of teamwork behaviors during routine patient ca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495864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Teamwork in PIC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p value=0.0001, fisher’s exact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838080"/>
          <a:ext cx="874404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7440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,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522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rocess or practice chan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457200"/>
          <a:ext cx="845172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451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70160" y="5730840"/>
            <a:ext cx="405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bserv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914400"/>
            <a:ext cx="6858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R – PICU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and-Off Turnaround Ti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81360"/>
                <a:tab algn="l" pos="3762360"/>
                <a:tab algn="l" pos="5643720"/>
                <a:tab algn="l" pos="7524720"/>
                <a:tab algn="l" pos="9406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fore and After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74640" y="2209680"/>
          <a:ext cx="7934400" cy="35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4640" y="2209680"/>
                    <a:ext cx="7934400" cy="35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 rot="16200000">
            <a:off x="-654120" y="3649680"/>
            <a:ext cx="2486160" cy="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Turnaround Time (minu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JOURN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5600" y="1821960"/>
            <a:ext cx="780084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-operativ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SK 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HA Collabo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Implementation across Duke 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Chang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s in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to critical labs drawn at hand-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efings and debriefings implemented; SBAR communication for nursing report, telephon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infection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LOS and increased throughpu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atisfaction score exceeded target (Press Ga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ulture survey score incre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ing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TeamSTEP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ross Duke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amSTEP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helped us overcome some initial barriers to team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hase approach to be undertaken throughout high acuity areas at DUH, DRH and D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with specific tools and concepts (modules) in intermediate units and non-clinic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ve with UNC SoM, 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ion and speak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STEPPS and simulation, virtu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Training: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more initiative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010280" cy="42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and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one more assignment onto everything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ata to demonstrate improv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sultants and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team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:  Shut down the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vs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 I:  Pre-inter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01028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se to work with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ed pre-tr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:  Sexton Teamwork and Safety Climat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 Conducted Real-time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com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nical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d Second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ff satisfaction and work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54000" y="337680"/>
            <a:ext cx="7236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se II:  Train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5960" y="1523880"/>
            <a:ext cx="729936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leaders involved with planning and implementation (J Mericle, J Meliones, K Mi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ssions to accommodate 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sciplinary group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, nurse, and human factors facilit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session with hands-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allowed for furthe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training for action at uni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ed on tools and techniques to address unit’s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4000" y="337680"/>
            <a:ext cx="72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ed Unit Train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of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BAR: structured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need clarity”: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Cockp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interruptions during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ddles for better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Bo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4000" y="338040"/>
            <a:ext cx="7236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II: Implementin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5960" y="1674360"/>
            <a:ext cx="7299360" cy="41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ro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isciplinary (internal)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al observations, coaching by consul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participation of consultant experts in unit-based safety team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 calls at unit leaders’ preferred time, to review concerns and discuss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-the-trainer model used for new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work Training Proce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IV: Comprehensiv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228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 of train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Attitude: 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Change: 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r Practic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Clinical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5562720"/>
            <a:ext cx="45720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1 – Reac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how did participants react to the trai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4419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2 – Learning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results in an increase in knowledge, skills or attitu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276720"/>
            <a:ext cx="4572000" cy="916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3 – Behavio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participants change their behavior back in the workplace as a result of tra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295280"/>
            <a:ext cx="4572000" cy="1739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Arial"/>
              </a:rPr>
              <a:t>Level 4 – Result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hether the training has affected process or outcomes such as increased production, improved quality, reduced adverse events, decreased costs, or return on invest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AM TRAINING EVALUATION BASED ON KIRKPATRICK’S FOUR-LEVEL EVALU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7800" y="5738760"/>
            <a:ext cx="311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-training reaction surv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3840" y="4343400"/>
            <a:ext cx="43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amwork knowledge t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attitude towards team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 of self-perceived communication ski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3840" y="3352680"/>
            <a:ext cx="41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on of teamwork behaviors during routine patient ca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219320"/>
            <a:ext cx="4343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ication rate based on AHRQ P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ngth of hospital st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verse drug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tients’ clai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ff satisfaction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urse turnover ra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20:57:53Z</dcterms:created>
  <dc:creator>DELL-G610G9</dc:creator>
  <dc:description/>
  <dc:language>en-US</dc:language>
  <cp:lastModifiedBy>User</cp:lastModifiedBy>
  <dcterms:modified xsi:type="dcterms:W3CDTF">2007-09-28T14:28:09Z</dcterms:modified>
  <cp:revision>109</cp:revision>
  <dc:subject/>
  <dc:title>Slide 1</dc:title>
</cp:coreProperties>
</file>