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B3A5C-DD27-4A52-AC69-2199CA00E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ly “handoffs” occur at the bedside as shown in yellow. A good handoff actually begins prior to the patient ever entering the PICU. This is outlined in light blu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1825-F8B4-48D9-80EE-6CF80E281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C4C8-9D64-4B61-8452-4CF4F16B5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B012-DCCC-4DD0-AD1A-E52D8E786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0C0E-D65D-4482-95C2-B84ED1FD5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8DEE-C9B3-4E55-9589-C49AF018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4488-4DA3-48B1-AA9D-3759CCD0B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3ACF-84AF-4C7F-8657-27641DB32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C94F-3C01-4E3A-8492-BA55026AD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F89F-AD7E-419E-8622-A1D174EF2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B2F2-D282-40B8-8718-D0FA9B0A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6378-0EED-4C51-A790-F90E6268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0F4D-FA7F-4CB6-B89E-D628E671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B97B6-DC0C-4E85-90FA-D5A025EB2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2190600" cy="476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26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lementing Team Training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t Duk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ren Frush, BSN, M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ef Patient Safety Offi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ke Medic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m Training Results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this training impact the way you do business?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101600" y="1674720"/>
          <a:ext cx="7062840" cy="415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1600" y="1674720"/>
                    <a:ext cx="7062840" cy="415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2590920" y="6023880"/>
            <a:ext cx="121896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  <a:ea typeface="Arial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  <a:ea typeface="Arial"/>
              </a:rPr>
              <a:t>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6019200"/>
            <a:ext cx="1447920" cy="520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Pro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1280" y="36576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410080" y="6019200"/>
            <a:ext cx="1447920" cy="5205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m Training Results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you recommend this course to your co-workers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101600" y="1674720"/>
          <a:ext cx="7062840" cy="415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1600" y="1674720"/>
                    <a:ext cx="7062840" cy="415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2590920" y="6023880"/>
            <a:ext cx="121896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  <a:ea typeface="Arial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  <a:ea typeface="Arial"/>
              </a:rPr>
              <a:t>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86200" y="6019200"/>
            <a:ext cx="1447920" cy="520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Pro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2720" y="36576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410080" y="6019200"/>
            <a:ext cx="1447920" cy="5205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8600" y="5562720"/>
            <a:ext cx="4572000" cy="642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Arial"/>
              </a:rPr>
              <a:t>Level 1 – Reaction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: how did participants react to the train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4419720"/>
            <a:ext cx="4572000" cy="916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Arial"/>
              </a:rPr>
              <a:t>Level 2 – Learning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whether the training results in an increase in knowledge, skills or attitu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3276720"/>
            <a:ext cx="4572000" cy="916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Arial"/>
              </a:rPr>
              <a:t>Level 3 – Behavio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whether participants change their behavior back in the workplace as a result of trai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1295280"/>
            <a:ext cx="4572000" cy="1739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Arial"/>
              </a:rPr>
              <a:t>Level 4 – Result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whether the training has affected process or outcomes such as increased production, improved quality, reduced adverse events, decreased costs, or return on investm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15228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EAM TRAINING EVALUATION BASED ON KIRKPATRICK’S FOUR-LEVEL EVALUATION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07800" y="5738760"/>
            <a:ext cx="311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t-training reaction surv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803840" y="4343400"/>
            <a:ext cx="4340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amwork knowledge te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urvey of attitude towards teamw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urvey of self-perceived communication skil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803840" y="3352680"/>
            <a:ext cx="4111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bservation of teamwork behaviors during routine patient car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00600" y="1219320"/>
            <a:ext cx="43434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atient satisfaction surve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lication rate based on AHRQ PS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ength of hospital sta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dverse drug ev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atients’ clai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ff satisfaction surve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urse turnover ra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371600" y="4649400"/>
            <a:ext cx="7010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00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U Post-Training Survey Responses Summa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Question: 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physicians and nurses here work together as a well-coordinated team (Fisher Exact Test p value=0.011)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0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0" y="762120"/>
          <a:ext cx="8686800" cy="36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8686800" cy="36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62120" y="5867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28600" y="990720"/>
          <a:ext cx="8305920" cy="34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0720"/>
                    <a:ext cx="8305920" cy="34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371600" y="4649400"/>
            <a:ext cx="7010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00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U Post-Training Survey Responses Summa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Question: “I know the proper channels to direct questions regarding patient safety in this clinical area (p value=0.007)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0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28600" y="5562720"/>
            <a:ext cx="4572000" cy="642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Arial"/>
              </a:rPr>
              <a:t>Level 1 – Reaction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: how did participants react to the train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4419720"/>
            <a:ext cx="4572000" cy="916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Arial"/>
              </a:rPr>
              <a:t>Level 2 – Learning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whether the training results in an increase in knowledge, skills or attitu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3276720"/>
            <a:ext cx="4572000" cy="916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Arial"/>
              </a:rPr>
              <a:t>Level 3 – Behavio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whether participants change their behavior back in the workplace as a result of trai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295280"/>
            <a:ext cx="4572000" cy="1739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Arial"/>
              </a:rPr>
              <a:t>Level 4 – Result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whether the training has affected process or outcomes such as increased production, improved quality, reduced adverse events, decreased costs, or return on investm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1522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EAM TRAINING EVALUATION BASED ON KIRKPATRICK’S FOUR-LEVEL EVALUATION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07800" y="5738760"/>
            <a:ext cx="311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Post-training reaction surv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03840" y="4343400"/>
            <a:ext cx="4340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Teamwork knowledge te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Survey of attitude towards teamw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Survey of self-perceived communication skil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03840" y="3352680"/>
            <a:ext cx="4111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Observation of teamwork behaviors during routine patient ca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00600" y="1219320"/>
            <a:ext cx="43434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Patient satisfaction surve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Complication rate based on AHRQ PS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Length of hospital sta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Adverse drug ev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Patients’ clai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Staff satisfaction surve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Nurse turnover ra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371600" y="495864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verall Teamwork in PICU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p value=0.0001, fisher’s exact t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838080"/>
          <a:ext cx="8744040" cy="37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8744040" cy="37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28600" y="5562720"/>
            <a:ext cx="4572000" cy="642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Arial"/>
              </a:rPr>
              <a:t>Level 1 – Reaction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: how did participants react to the train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4419720"/>
            <a:ext cx="4572000" cy="916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Arial"/>
              </a:rPr>
              <a:t>Level 2 – Learning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whether the training results in an increase in knowledge, skills or attitu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3276720"/>
            <a:ext cx="4572000" cy="916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Arial"/>
              </a:rPr>
              <a:t>Level 3 – Behavio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whether participants change their behavior back in the workplace as a result of trai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295280"/>
            <a:ext cx="4572000" cy="1739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Arial"/>
              </a:rPr>
              <a:t>Level 4 – Result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whether the training has affected process or outcomes, such as increased production, improved quality, reduced adverse events, decreased costs, or return on investm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15228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EAM TRAINING EVALUATION BASED ON KIRKPATRICK’S FOUR-LEVEL EVALUATION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07800" y="5738760"/>
            <a:ext cx="311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Post-training reaction surv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03840" y="4343400"/>
            <a:ext cx="4340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Teamwork knowledge te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Survey of attitude towards teamw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Survey of self-perceived communication skil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03840" y="3352680"/>
            <a:ext cx="4111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Observation of teamwork behaviors during routine patient car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800600" y="1219320"/>
            <a:ext cx="43434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Patient satisfaction surve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Process or practice chan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Length of hospital sta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Adverse drug ev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Patients’ clai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Staff satisfaction surve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Nurse turnover ra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28600" y="457200"/>
          <a:ext cx="8451720" cy="620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57200"/>
                    <a:ext cx="8451720" cy="62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270160" y="5730840"/>
            <a:ext cx="4054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Observ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28800" y="914400"/>
            <a:ext cx="68580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OR – PICU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Hand-Off Turnaround Tim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efore and After Inter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74640" y="2209680"/>
          <a:ext cx="7934400" cy="355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4640" y="2209680"/>
                    <a:ext cx="7934400" cy="35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 rot="16200000">
            <a:off x="-654120" y="3649680"/>
            <a:ext cx="2486160" cy="2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Turnaround Time (minut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JOURN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85600" y="1821960"/>
            <a:ext cx="78008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-operative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SK Collabor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CHA Collabor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hensive Implementation across Duke Medic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ional Chang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ments in 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to critical labs drawn at hand-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efings and debriefings implemented; SBAR communication for nursing report, telephone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ease in infection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ease LOS and increased throughpu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 Satisfaction score exceeded target (Press Gane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Culture survey score incre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plementing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TeamSTEPP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ross Duke Medic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76312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eamSTEPP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s helped us overcome some initial barriers to team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phase approach to be undertaken throughout high acuity areas at DUH, DRH and DR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with specific tools and concepts (modules) in intermediate units and non-clinical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aborative with UNC SoM, 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ion and speaking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mSTEPPS and simulation, virtual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am Training: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e more initiative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010280" cy="42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and work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ng one more assignment onto everything 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t mod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data to demonstrate improved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consultants and appro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d for all team me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stics:  Shut down the 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vs bene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amwork Training Proces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ase I:  Pre-interv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01028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se to work with consul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hered pre-train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itude:  Sexton Teamwork and Safety Climate surv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havior:  Conducted Real-time 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com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nical 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d Secondary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ff satisfaction and work 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ient satisf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54000" y="337680"/>
            <a:ext cx="72360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amwork Training Proces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hase II:  Train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85960" y="1523880"/>
            <a:ext cx="7299360" cy="39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leaders involved with planning and implementation (J Mericle, J Meliones, K Mist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sessions to accommodate shif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disciplinary group s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ian, nurse, and human factors facilit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ive session with hands-on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dback allowed for furthe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ed training for action at unit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ed on tools and techniques to address unit’s issu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4000" y="337680"/>
            <a:ext cx="7236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cused Unit Training 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off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BAR: structured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tical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need clarity”: asser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rile Cockp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ed at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 interruptions during R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ddles for better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te Bo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4000" y="338040"/>
            <a:ext cx="7236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mwork training proces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ase III: Implementing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85960" y="1674360"/>
            <a:ext cx="7299360" cy="41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hip role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disciplinary (internal) c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al observations, coaching by consulta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 participation of consultant experts in unit-based safety team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ne calls at unit leaders’ preferred time, to review concerns and discuss barr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-the-trainer model used for new sta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mwork Training Proces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ase IV: Comprehensive 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22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mediate feedback of training s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in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in Attitude:  Surv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havior Change:  Observ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or Practice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 on Clinical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ary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8600" y="5562720"/>
            <a:ext cx="4572000" cy="64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Arial"/>
              </a:rPr>
              <a:t>Level 1 – Reaction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: how did participants react to the train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4419720"/>
            <a:ext cx="4572000" cy="916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Arial"/>
              </a:rPr>
              <a:t>Level 2 – Learning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whether the training results in an increase in knowledge, skills or attitu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3276720"/>
            <a:ext cx="4572000" cy="916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Arial"/>
              </a:rPr>
              <a:t>Level 3 – Behavio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whether participants change their behavior back in the workplace as a result of trai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1295280"/>
            <a:ext cx="4572000" cy="1739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Arial"/>
              </a:rPr>
              <a:t>Level 4 – Result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whether the training has affected process or outcomes such as increased production, improved quality, reduced adverse events, decreased costs, or return on investm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1522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AM TRAINING EVALUATION BASED ON KIRKPATRICK’S FOUR-LEVEL EVALUATION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07800" y="5738760"/>
            <a:ext cx="311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t-training reaction surv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03840" y="4343400"/>
            <a:ext cx="4340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amwork knowledge te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urvey of attitude towards teamw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urvey of self-perceived communication skil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803840" y="3352680"/>
            <a:ext cx="4111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bservation of teamwork behaviors during routine patient car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800600" y="1219320"/>
            <a:ext cx="43434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atient satisfaction surve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lication rate based on AHRQ PS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ength of hospital sta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dverse drug ev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atients’ clai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ff satisfaction surve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urse turnover ra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2T20:57:53Z</dcterms:created>
  <dc:creator>DELL-G610G9</dc:creator>
  <dc:description/>
  <dc:language>en-US</dc:language>
  <cp:lastModifiedBy>User</cp:lastModifiedBy>
  <dcterms:modified xsi:type="dcterms:W3CDTF">2007-09-28T14:28:09Z</dcterms:modified>
  <cp:revision>109</cp:revision>
  <dc:subject/>
  <dc:title>Slide 1</dc:title>
</cp:coreProperties>
</file>