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2256-CF6F-4604-A749-76FC1A1CC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0D64-41A0-490A-94E1-421BD42E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0C89-D431-4398-9671-C277DDD56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6090-8A67-4230-AD01-D233F2D6D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1DE1-8486-47AB-9EA0-357CA3BEF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2990-2F28-4FF9-9DB2-08B8135A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E1CC-5DF1-407C-8676-CF6524E2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CE21-002A-42EF-A10B-367C5E0D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15E8-E0A5-4776-B00C-C05B0704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C1D93-E852-4B13-B83E-E7F91CCA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C1E2-39BD-4FCA-9204-E41BE470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A672-172F-4FCD-B0B8-C3E6753D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087C-10A9-4339-BA69-CFE2C7A7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EDB07-4988-420B-93F8-5E956634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A2D1-9B24-439A-9595-1D17158A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F0702-EE71-4BBC-9651-40344BB88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A35B-CE6C-404D-A350-BA4364185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BA07-9CBC-4AB0-972F-CACE36AD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18F7-6A05-47B6-8864-DE4386B6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60CE-32B4-4A1D-A350-B35D8435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2162-13AB-4684-A879-B2B543FA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3A6D-3496-4737-BC5C-06E79ED5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703B-8982-42C6-B73F-CAD1A0BC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11EB-306B-46E1-A5E9-F1066005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805d3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7d2f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CD61-E668-4369-A2BE-94E0604A575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805d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7d2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28B2-5D9A-4846-B0F0-DB8E4C6AD14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805d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7d2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d2f3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hrq.gov/qual/pay4per.ht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y-for-Performance: A Decision Guide for Purchasers 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81080" y="3047760"/>
            <a:ext cx="6858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de Prepared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cy for HealthCare Research and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 Department of Health and Human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ed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. Adams Dudley, M.D., M.B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California San Francis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edith B. Rosenthal, Ph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vard School of Public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2392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plicitly or Implicitly Rewarding Quality Improve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4P programs that reward top group (e.g., 20%) or set a benchmark for reward that all must meet do not uniformly encourage improv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se features should result in more QI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5d3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warding improvement explicitly (i.e. change rather than/in addition to lev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5d3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levels of rewards (partial cred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5d3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ments tied to each patient treated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2C47-2486-4764-8A92-9E3EA64D6B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2392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se Example: Hudson Health Plan: Rewarding Quality Diabetes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80880" y="1752480"/>
          <a:ext cx="8305920" cy="4608720"/>
        </p:xfrm>
        <a:graphic>
          <a:graphicData uri="http://schemas.openxmlformats.org/drawingml/2006/table">
            <a:tbl>
              <a:tblPr/>
              <a:tblGrid>
                <a:gridCol w="4152960"/>
                <a:gridCol w="4152960"/>
              </a:tblGrid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ure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ward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pressure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5 for screening and $35 for BP&lt;130/80 or $20 for &lt;140/90 or $15 for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≥10 mmHg decrease in one and goal in the othe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king cessation counseling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5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C testing and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5 for screening and $35 for A1C&lt;7 or $20 for A1C&lt;9 or $15 for a 1% or more reduction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L-C testing and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5 for screening and $35 for LDL&lt;100 or $20 for LDL &lt;130 or $15 for evidence of drug tx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ation of albuminuria; ACE/ARB treatment if positive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5 for screening and $35 for negative test, evidence of drug tx, evidence of contraindication, or nephrology consult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inal exam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5 for exam with documentation of result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neumococcal vaccine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 shot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DBE3-8CF4-4044-9CA7-221F23B13E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 Design Issues: How Much Mone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be effective, bonus should be commensurate with cost of eff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ttle good information about what it takes to reach quality targ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P4P programs for physicians 5-10% of associated fees; hospitals 1-2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769D-9157-4B81-BF46-BE9D45CF12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lanning Ahead for Evalu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spent all that time and money…shouldn’t you assess what you accomplishe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s of implementation can facilitate evalu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5d3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ng data during a measurement (i.e. non-payment) year will allow before/after compa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5d3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ing P4P for some providers before others may create a natural comparison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AE6F-0597-40B5-B010-282B2AE6AC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at Types of Effects to Look Fo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collection should not only track intended consequences but also monitor potential side effect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5d3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selection/dumping (changes in case-mix, excessive switch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5d3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ersion of attention away from other important aspects of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5d3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ening gaps in performance between best and wor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382C-058A-4A92-92C1-76CAF08BB8F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36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y-for-performanc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acilitate improved patient care, cost-efficien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st practices still unknow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reful matching of goals and mechanisms will most likely lead to best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light of uncertainties about design, evaluation is key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39DD-930E-474F-8957-6AA8550056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819520" y="1447920"/>
            <a:ext cx="3178080" cy="41148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ay for Performance: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 Decision Guide for Purchas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563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58672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ectronic Copy of Guide and other AHRQ P4P Resources: </a:t>
            </a: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http://www.ahrq.gov/qual/pay4per.htm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DCCF-B550-462A-A7E0-F475890050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 users manual: too littl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5d3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ing an overall strate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5d3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entive design and measures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5d3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5d3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 and re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85D2-7413-4DA6-916B-61BA68A5A2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Our Community Ready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we know what we are trying to accomplish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we have enough influenc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the providers read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D606-5FD6-4307-86CC-C416D3BE53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trategic Issues: Getting Start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ary vs. mandator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805d3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ary: easier, may only attract high-performing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805d3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datory (i.e., written into all contracts): creates uniform incentives, but may need high market sh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805d3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nus program is in between: “mandatory”, but providers are free to ignore 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ing in: start with volunteers, or “pay for participation”/“pay for report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BB8D-FA12-47AE-8020-DAC5F62227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trategic Issues: Getting Start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providers to target?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5d3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pitals and/or phys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5d3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vs. individual/small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ribution of hospitals vs. physicians to quality and cost varies from region to reg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asurement issues favor larger groups but incentives may be stronger for individu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 view of quality improvement suggests higher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oose the provider target for which you can get the biggest bang for your bu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0DA4-FA2C-4C15-B5AC-60174952C2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creasing Inclusion of Specialists and Hospitals in Pay-for-Performa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23888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67F8-6849-4666-923A-BFCD1E2326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hoosing Measur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tional measure sets should be considered fir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5d3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5d3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5d3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ready being col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sources: AHRQ (Inpatient Quality Indicators), National Quality Forum, Hospital Quality Alliance, Ambulatory Care Quality Alliance, NCQA, Leapfrog Group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C728-4446-4726-AB06-9C7DBC850C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ncentive Design Challeng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P4P programs are not the sa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ign choices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rst critical question is orientation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5d3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improvement across all providers, patient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5d3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wards for the best only? E.g., Premier Inc./CMS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77A5-BD28-4826-88FD-183345FB94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8:11:35Z</dcterms:created>
  <dc:creator>Meredith Rosenthal</dc:creator>
  <dc:description/>
  <dc:language>en-US</dc:language>
  <cp:lastModifiedBy>User</cp:lastModifiedBy>
  <dcterms:modified xsi:type="dcterms:W3CDTF">2007-09-28T17:34:21Z</dcterms:modified>
  <cp:revision>59</cp:revision>
  <dc:subject/>
  <dc:title>Pay-for-Performance: A Checklist of Issues for Purchasers to Consider </dc:title>
</cp:coreProperties>
</file>