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5CF-F050-43E6-AC02-3BF1AC344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564-E63B-4CDE-9DF7-408FC2BE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181-47CF-4067-983A-C31559D1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12B-4BC7-41CB-BBAA-AB5A0624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1F16-9FE7-4938-BC10-8A8E68D8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D943-6BD9-41B8-BC80-EFC5AEB4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449-477C-4FF8-820D-785676EB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5F68-E635-4FFF-B888-AE78B43B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1BED-D996-4156-91A1-458BA054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E8C5-05A9-4FDD-BCE5-287F1236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5C74-B8D6-4751-A6CA-F5C7F5A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1FD-90CD-4AED-BEE8-5B42F74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6BCD-09A3-462C-B862-9590C8C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06A7-20AC-4279-971C-08C436AB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5432-7917-43DA-9A52-0066536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32A8-A3CB-4B30-8D39-6E280E64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99AD-247B-4835-A77B-306C37E37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EE14-D83D-4678-A64B-D180C21F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746-D9FC-4205-903A-48B2AE8D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E98-9840-47D9-8322-17B4E658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4DC-B173-46FC-8258-8730D6A7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BB3-1FF4-41F6-9BEC-53644646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C9F-0B7C-48FF-98B9-DEC8CE7E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8D01-7EFA-4322-8C40-D151BB5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615E-2525-4CD3-BF91-A7D78A5ECAF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B194-1D5A-44DA-8066-4AEDA70DD3E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d2f3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hrq.gov/qual/pay4per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y-for-Performance: A Decision Guide for Purchasers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1080" y="3047760"/>
            <a:ext cx="6858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 Prepared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y for HealthCare Research a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Health and Huma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Adams Dudley, M.D., M.B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California San Franc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edith B. Rosenthal,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ard School of Public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plicitly or Implicitly Rewarding Quality Improv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4P programs that reward top group (e.g., 20%) or set a benchmark for reward that all must meet do not uniformly encourage impr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features should result in more Q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ing improvement explicitly (i.e. change rather than/in addition to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levels of rewards (partial cred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tied to each patient treat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1D53-AA93-481B-9BA5-C326C5D67D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392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e Example: Hudson Health Plan: Rewarding Quality Diabetes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1752480"/>
          <a:ext cx="8305920" cy="460872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ward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pressur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BP&lt;130/80 or $20 for &lt;140/90 or $15 for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10 mmHg decrease in one and goal in the othe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oking cessation counseling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C testing and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A1C&lt;7 or $20 for A1C&lt;9 or $15 for a 1% or more reduction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L-C testing and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LDL&lt;100 or $20 for LDL &lt;130 or $15 for evidence of drug tx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tion of albuminuria; ACE/ARB treatment if positiv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screening and $35 for negative test, evidence of drug tx, evidence of contraindication, or nephrology consul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inal exam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 for exam with documentation of resul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eumococcal vaccine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 shot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66C-0EF6-4C22-9FED-C63A189FB1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Design Issues: How Much Mon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be effective, bonus should be commensurate with cost of eff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ttle good information about what it takes to reach quality targ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P4P programs for physicians 5-10% of associated fees; hospitals 1-2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CBD-B754-44C2-A94F-9D46FBBAC4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lanning Ahead for Evalu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pent all that time and money…shouldn’t you assess what you accomplishe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s of implementation can facilitate evalu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ng data during a measurement (i.e. non-payment) year will allow before/afte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P4P for some providers before others may create a natural comparis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7BBD-18FB-45BC-A8F1-07550FC472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Types of Effects to Look F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llection should not only track intended consequences but also monitor potential side effec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selection/dumping (changes in case-mix, excessive switc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on of attention away from other important aspects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ning gaps in performance between best and wor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6AD-7E90-49E2-9526-84F4DFE6CD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y-for-performanc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acilitate improved patient care, cost-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t practices still unkn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reful matching of goals and mechanisms will most likely lead to best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light of uncertainties about design, evaluation is key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145-D6B8-4D96-92FB-A5E8095BA0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1780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304920"/>
            <a:ext cx="66978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ay for Performance: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 Decision Guide for Purchas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5638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5867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ctronic Copy of Guide and other AHRQ P4P Resources: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http://www.ahrq.gov/qual/pay4per.ht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7DF-4E7C-40A0-9683-4A1B98BFFA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 users manual: too litt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ing an overall strate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tive design and measures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and 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2BA-47E2-4BE7-88A9-87C6401BA9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s Our Community Ready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e know what we are trying to accomplis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we have enough influen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providers read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3AE9-F432-4901-8F6E-7834A1736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rategic Issues: Getting Star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vs. mandat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: easier, may only attract high-performing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(i.e., written into all contracts): creates uniform incentives, but may need high market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us program is in between: “mandatory”, but providers are free to ignore 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ing in: start with volunteers, or “pay for participation”/“pay for repor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C59-CD0E-4AE8-9CA5-84B9A61B0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rategic Issues: Getting Star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providers to target?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pitals and/or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s. individual/small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ibution of hospitals vs. physicians to quality and cost varies from region to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ment issues favor larger groups but incentives may be stronger for individu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view of quality improvement suggests higher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the provider target for which you can get the biggest bang for your bu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2E5-7A7B-4641-AC7F-EFB6223B5F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creasing Inclusion of Specialists and Hospitals in Pay-for-Performa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238880" cy="426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564-9A18-4BFE-A6BF-0F7D14C3D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hoosing Measur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tional measure sets should be considered 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ready being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sources: AHRQ (Inpatient Quality Indicators), National Quality Forum, Hospital Quality Alliance, Ambulatory Care Quality Alliance, NCQA, Leapfrog Grou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963-D869-42A5-84FD-EC56831F68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centive Design Challen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P4P programs are not the s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ign choices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critical question is orientation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improvement across all providers, pati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s for the best only? E.g., Premier Inc./CMS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37C-833B-4537-AD5A-9EF04F0E5D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8:11:35Z</dcterms:created>
  <dc:creator>Meredith Rosenthal</dc:creator>
  <dc:description/>
  <dc:language>en-US</dc:language>
  <cp:lastModifiedBy>User</cp:lastModifiedBy>
  <dcterms:modified xsi:type="dcterms:W3CDTF">2007-09-28T17:34:21Z</dcterms:modified>
  <cp:revision>59</cp:revision>
  <dc:subject/>
  <dc:title>Pay-for-Performance: A Checklist of Issues for Purchasers to Consider </dc:title>
</cp:coreProperties>
</file>