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736-8A1B-4367-94A2-9B20B21E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018-867D-4A18-AAEF-9CF0A56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B3E-3F05-457B-9905-A1F4E83F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9B4-3135-4F27-8C5A-319EFE16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DCDC-2D6B-4769-B021-6A573E1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F86E-8D7A-4DED-B823-1237A4C1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BC85-5C4E-4C8B-96D5-008B469C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F36-3372-4EF8-8AA2-57FD1BE1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84D-39B6-4FCB-AD5E-013C92D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B1E-3DDD-4F7B-A72D-DC2B4B1A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69FC-A02E-4B4D-BC34-0F461359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39E-B628-42B1-ADC0-45B9C87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9903-8FE3-4659-A17E-03BF1B4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32FC-B94E-4FBB-A41B-40C6C52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FACC-BD54-4F79-B693-DF8EBA0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8DC-4F6A-43BB-A2A4-BE3E6FA8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F6A-FD52-42CE-AE90-AC5F6B5F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8C9-90B3-4D25-8955-9F30C329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0FE-D743-4E3F-BD19-DB22C58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E91-FA7D-45AB-9107-8BA25D65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19A-5EB4-4746-83BA-BA2D490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778-BF05-4ADE-A224-4A596CC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2FE-FE5B-4B70-A611-B629079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347-4D6E-4315-B124-E772907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4E4E-359C-4B79-AD15-1B2DBB982D9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C56-0F51-488D-ABC2-EBBB7FCEC4B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e61d7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Towards an Agenda for Measuring Efficiency in  Health Care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26708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chael Chern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pt. 27, 200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in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n 10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uniquely efficient input m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prices, output quant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should not care about input m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 is what matt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Health exampl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duction in the US is more efficient than in China in terms of resource use, but Chinese products are cheaper.  Who should we buy from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st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uld be comprehens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 patient/ provider cost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er cost not always inappropriate (even if control for quality and casemix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ale/ Scope economie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ral facilities may have higher costs but be just as ‘efficient’ as larger urban facilitie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ce/ cost data is hard to obta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riet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terogeneo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tter data could help researc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not be needed for other us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know the prices they are quoted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issues may be import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aper now, more expensive l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 longer run costs (and outcom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bining Costs and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eating efficiency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tatist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justs for scale economies, etc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oretically drive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thodology subject to many criticism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approach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vide (output per inpu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rd with multiple outputs (could ‘score’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combin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ort quality and cost,  let users decid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istent with most other marke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ows users to integrate their own preferen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avoid issues of aggregating qual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some cases combining may import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4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r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st done by us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A perspective:  Incremental cost vs incremental out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nue quality measur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mote transparent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port development of efficiency enhancing tools and evaluation of efficiency related interven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s quality and cost related interven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VESTIGATOR INITIATED 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fficiency re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ition (Beth is correc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e output for less in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output for same in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ing in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ining inputs and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tic t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cal or surgical service or proced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mis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s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art atta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months management of diabe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alth plan memb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ich is preferabl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pends on perspect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service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ervices to be delivered are specifie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hospital should be chosen for CABG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episode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lexibility in the set of services delivered exist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cisions occur at episod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 hold an entity accountable for the episo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 be used as indicators for entities with broader responsibility (health pla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providers group should manage CHD patients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health plan provides most efficuernt care for a set of sentinel condition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population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aring health plans (or other entity responsible for populations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s the appropriate conceptual outpu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rvice level outputs can be counter produc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quality adjus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ppropriateness adjus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these are cost measures and should not be considered efficiency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of the output must be ‘good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true of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miss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s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crip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asuring outputs going forwar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s hard to measur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 to obser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semix adjustment is comple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dimens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should be area of AHRQ foc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1T09:20:12Z</dcterms:created>
  <dc:creator>School of Public Health</dc:creator>
  <dc:description/>
  <cp:keywords/>
  <dc:language>en-US</dc:language>
  <cp:lastModifiedBy>HWong</cp:lastModifiedBy>
  <cp:lastPrinted>2002-08-08T18:41:42Z</cp:lastPrinted>
  <dcterms:modified xsi:type="dcterms:W3CDTF">2007-09-27T19:36:26Z</dcterms:modified>
  <cp:revision>71</cp:revision>
  <dc:subject/>
  <dc:title>Technology Diffusion and Managed Care</dc:title>
</cp:coreProperties>
</file>