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55F8-52AF-4A73-AC4E-C67CC7A57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CE7D-DB02-4B14-9FB0-3B1502E26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F154-106A-4E8B-AF20-4719A364B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C763-E2DD-4559-B553-7AD957935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36A42-F9CD-47C1-B6A0-FED965199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FA444-FFF4-45D7-AEB1-02C22BECC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7F9DF-962F-43DF-AFB6-78AE3E0A6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0A512-C916-43DD-BB5E-ED21A8027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01B7C-9234-4FE2-BF22-874A5F632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22DD0-EFE4-4539-92C7-A3D711B1B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DD80E-3651-42D8-8453-F23AC180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9165-CD0C-48A0-A8CA-995918DF0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7ED12-ADDB-4364-A8D2-4875AFCC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D11FA-46F9-4900-987E-5B482284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60791-3540-4603-9B4A-AD5A83E16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98B3F-CEF3-441F-80B4-8DB7256D9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24A55-7368-4A88-84EC-404721B13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6184-FBCA-4BC0-94FF-81B73143D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DE85-6D2C-458F-8E43-A7D57E1F6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C4F2-E428-4518-9594-516F9396D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A609-E382-4413-9AC2-A0F6223EF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68C4-02FF-456B-A139-467EA7F6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D13C-4C47-4818-9E67-CF143872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51BA-9E22-4469-9875-051260DD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C77BD-0672-4214-936F-44FD54DBB39C}" type="slidenum">
              <a:rPr b="0" lang="en-US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0FCE0-2617-4106-BB70-B8EBF465812D}" type="slidenum">
              <a:rPr b="0" lang="en-US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e61d7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00"/>
                </a:solidFill>
                <a:latin typeface="Arial"/>
              </a:rPr>
              <a:t>Towards an Agenda for Measuring Efficiency in  Health Care</a:t>
            </a: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259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23880" y="4267080"/>
            <a:ext cx="6248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ichael Chernew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pt. 27, 2007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easuring inpu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con 101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 uniquely efficient input mix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pends on prices, output quantit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e should not care about input mix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st is what matter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n-Health example: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duction in the US is more efficient than in China in terms of resource use, but Chinese products are cheaper.  Who should we buy from?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st measur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hould be comprehensiv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clude patient/ provider costs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igher cost not always inappropriate (even if control for quality and casemix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cale/ Scope economies: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ural facilities may have higher costs but be just as ‘efficient’ as larger urban facilities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oving forward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ice/ cost data is hard to obtai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prieta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eterogeneou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etter data could help researcher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y not be needed for other user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y know the prices they are quoted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ynamic issues may be importan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heaper now, more expensive lat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dentify longer run costs (and outcomes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mbining Costs and Outpu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reating efficiency measur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plex statistic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djusts for scale economies, etc. 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oretically drive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ethodology subject to many criticism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mple approach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vide (output per input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ard with multiple outputs (could ‘score’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hy combine?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port quality and cost,  let users decide: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nsistent with most other market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llows users to integrate their own preferenc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an avoid issues of aggregating quality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 some cases combining may importan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4P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iering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st done by user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EA perspective:  Incremental cost vs incremental outpu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commenda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tinue quality measuremen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omote transparent data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upport development of efficiency enhancing tools and evaluation of efficiency related interventi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cludes quality and cost related intervention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VESTIGATOR INITIATED WORK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Efficiency review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finition (Beth is correct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ame output for less inpu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ore output for same inpu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ssues: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nit of observ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easuring outpu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easuring inpu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bining inputs and outpu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Unit of Observa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Unit of observa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rvic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agnostic tes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edical or surgical service or procedur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dmiss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pisod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eart attack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6 months management of diabet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opula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ealth plan member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hich is preferable?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pends on perspectiv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easure service efficiency if: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2351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services to be delivered are specified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2351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.g. Which hospital should be chosen for CABG?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easure episode efficiency if: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2351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lexibility in the set of services delivered exists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2351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cisions occur at episode level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2351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an hold an entity accountable for the episod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2351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an be used as indicators for entities with broader responsibility (health plan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2351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.G. Which providers group should manage CHD patients?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2351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.g. Which health plan provides most efficuernt care for a set of sentinel conditions.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easure population efficiency if: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SzPct val="12351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mparing health plans (or other entity responsible for populations)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easuring Outpu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easuring outpu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is the appropriate conceptual outpu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rvice level outputs can be counter productive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 quality adjustmen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 appropriateness adjustmen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ypically these are cost measures and should not be considered efficiency measur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easuring outpu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ore of the output must be ‘good’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t true of: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dmission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Visit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cedur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escription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Measuring outputs going forward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is hard to measure: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fficult to observ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asemix adjustment is complex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ulti-dimensiona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s should be area of AHRQ focu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31T09:20:12Z</dcterms:created>
  <dc:creator>School of Public Health</dc:creator>
  <dc:description/>
  <cp:keywords/>
  <dc:language>en-US</dc:language>
  <cp:lastModifiedBy>HWong</cp:lastModifiedBy>
  <cp:lastPrinted>2002-08-08T18:41:42Z</cp:lastPrinted>
  <dcterms:modified xsi:type="dcterms:W3CDTF">2007-09-27T19:36:26Z</dcterms:modified>
  <cp:revision>71</cp:revision>
  <dc:subject/>
  <dc:title>Technology Diffusion and Managed Care</dc:title>
</cp:coreProperties>
</file>