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A4219C-4127-4C1C-8483-444FAE478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28ECDF-CDD5-4EEA-948A-5FC65B3B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 4% worse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 8% worse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1B0CB3-C547-45C6-AC50-4CF066D27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 4% better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 3% better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FB95D1-D647-4C4D-9A08-2BE831B2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EB9C48-F19F-484B-8C4B-D9813A725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mericans and low income patients are disproportionately represented in the Medicaid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5E920D-9016-447C-922F-E5D7A6DE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ractices perform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ability to put medical home systems in place (disease registry, patient tracking, disease management programs, electronic records, decision support, provider feedback, access to drug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smaller practices/cottage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Systems interventions can improve care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25D489-4E97-4339-827C-5AFE5162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AD6A2D-6510-4BF0-AC71-BD394F3C3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 lower left hand corner practices selected – evenly divided among 3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NTS ON INTERPRE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esults are for CC only, </a:t>
            </a: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with all people with any third-party insurance drop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UNISYS project included only the lowest quartile of PCPs (based on HbA1c testing rate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comparisons of interest are </a:t>
            </a: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group comparisons on changes in ra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from baseline to follow-up; e.g., did the “education only” group change more than the “control group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graphs show </a:t>
            </a: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raw ra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; however, the p-values included on the graphs are for comparisons of </a:t>
            </a: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adjusted ra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baseline data are HEDIS measures calculated as of the 12/31/2005; the follow-up data are HEDIS measures calculated as of 12/31/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MMENTS, DIABETES MEA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major finding is the upward movement in all the diabetes measures, with the movement quite strong in most of the measu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is upward movement occurred in all three treatment groups, and it also occurred in the CC population as a whole, not just the UNISYS study PC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 some measures, however, there are groups differences (see graphs), with the “education + reminder system” group generally showing greater improv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n the graphs, there are six p-va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first three p-values are for changes from baseline to follow-up within each of the three treatment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last three p-values are for the group compari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44E552-34F0-4694-B59B-3BFD37C1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differ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2% worse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s 4% worse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0CC3B6-9D9B-4E44-ABA5-20FB0AFE8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D1F-B454-47EC-8176-CCA414CD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764-9490-47A0-9DB3-96B95E5E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50B-8379-4BED-8ECD-CF14D121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EF1-D49D-4F95-94F2-855A9D86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C1A-714F-42F2-B040-A72C9213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168-075C-45A9-B0E9-328AA2AF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6D1-C3D5-4AAB-BDB6-9B0457B5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0F1-61AB-4D2F-BF09-D2BA09D2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48F-5470-480B-82DD-FA15B153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6B0-8D0C-4251-A727-D3307A6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9ED-6A84-4EF2-A512-B034EC85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62B-CC55-4BB1-8951-F7C2F941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0F4B-26C0-4CDC-98C8-D29E22BF6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mproving Health Care, Improving Lives: 2007 AHRQ Annual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-Level Approaches to Reducing Racial, Ethnic and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arities in Healthcar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erick P. Cerise, M.D., M.P.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President Health Affairs and Medic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iana State Universit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8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800600" y="2819520"/>
            <a:ext cx="32767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ONTROL over time, p = 0.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ATION over time, p = 0.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+SYS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 vs CONT, p = 0.8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+SYS vs CONT, p = 0.3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 vs EDUC+SYS, p = 0.2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486400" y="2895480"/>
            <a:ext cx="304812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ONTROL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ATION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+SYS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 vs CONT, p = 0.1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+SYS vs CONT, p = 0.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 vs EDUC+SYS, p = 0.0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Americans and low income patients are disproportionately represented among Medicaid recip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great variation in performance among practices caring for Medicaid recip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with more patients tend to have higher compliance with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level interventions can improve outcomes for Whites and African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improvements, some disparities r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r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new expectations for Medicaid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track NCQA Physician Practic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id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for primary ca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acking and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elf management 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rescri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al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porting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048"/>
                </a:solidFill>
                <a:latin typeface="Arial"/>
              </a:rPr>
              <a:t>Percent of Medicaid Eligibles and Louisiana Population, by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57800" y="1371240"/>
            <a:ext cx="2743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dicaid El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Content Placeholder 8"/>
          <p:cNvGraphicFramePr/>
          <p:nvPr/>
        </p:nvGraphicFramePr>
        <p:xfrm>
          <a:off x="642960" y="1913040"/>
          <a:ext cx="825660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Content Placeholder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913040"/>
                    <a:ext cx="825660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371600" y="1294920"/>
            <a:ext cx="32004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uisian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441160" y="54100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098760" y="54100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02000" y="5410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335920" y="5410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659040" y="5410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7392960" y="5410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33520" y="6400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DHH data as of 8/31/2007; LA population est.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-level intervention targeted to providers with lower performance on selected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expectations of all providers to be eligible to participate in 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ed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 “bottom left”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ontr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rs were mailed baseline indicator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ducation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viders were mailed baseline levels and nurse educators visite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ducation + Reminder Syst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rs were mailed baseline levels, nurse educators visited providers, and providers had access to the remind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nalyses are “intention to tre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Group 3"/>
          <p:cNvGrpSpPr/>
          <p:nvPr/>
        </p:nvGrpSpPr>
        <p:grpSpPr>
          <a:xfrm>
            <a:off x="2438280" y="1295280"/>
            <a:ext cx="4114440" cy="4838400"/>
            <a:chOff x="2438280" y="1295280"/>
            <a:chExt cx="4114440" cy="4838400"/>
          </a:xfrm>
        </p:grpSpPr>
        <p:graphicFrame>
          <p:nvGraphicFramePr>
            <p:cNvPr id="72" name="Object 4"/>
            <p:cNvGraphicFramePr/>
            <p:nvPr/>
          </p:nvGraphicFramePr>
          <p:xfrm>
            <a:off x="2438280" y="1295280"/>
            <a:ext cx="4114440" cy="483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1295280"/>
                      <a:ext cx="4114440" cy="48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4" name="Group 5"/>
            <p:cNvGrpSpPr/>
            <p:nvPr/>
          </p:nvGrpSpPr>
          <p:grpSpPr>
            <a:xfrm>
              <a:off x="5500440" y="3614400"/>
              <a:ext cx="841320" cy="719280"/>
              <a:chOff x="5500440" y="3614400"/>
              <a:chExt cx="841320" cy="719280"/>
            </a:xfrm>
          </p:grpSpPr>
          <p:sp>
            <p:nvSpPr>
              <p:cNvPr id="75" name="AutoShape 6"/>
              <p:cNvSpPr/>
              <p:nvPr/>
            </p:nvSpPr>
            <p:spPr>
              <a:xfrm>
                <a:off x="5500440" y="3614400"/>
                <a:ext cx="841320" cy="71928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7"/>
              <p:cNvSpPr/>
              <p:nvPr/>
            </p:nvSpPr>
            <p:spPr>
              <a:xfrm>
                <a:off x="5770800" y="3639240"/>
                <a:ext cx="313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!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"/>
              <p:cNvSpPr/>
              <p:nvPr/>
            </p:nvSpPr>
            <p:spPr>
              <a:xfrm>
                <a:off x="5605200" y="4092480"/>
                <a:ext cx="644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c0000"/>
                    </a:solidFill>
                    <a:latin typeface="Calibri"/>
                  </a:rPr>
                  <a:t>Remin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4648320" y="3124080"/>
            <a:ext cx="3429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ONTROL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ATION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+SYS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 vs CONT, p = 0.6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+SYS vs CONT, p = 0.0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 vs EDUC+SYS, p = 0.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828800" y="4419720"/>
            <a:ext cx="2362320" cy="876240"/>
          </a:xfrm>
          <a:prstGeom prst="borderCallout1">
            <a:avLst>
              <a:gd name="adj1" fmla="val 18750"/>
              <a:gd name="adj2" fmla="val -8333"/>
              <a:gd name="adj3" fmla="val -31523"/>
              <a:gd name="adj4" fmla="val 118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-values are from tests comparing baseline to follow-up changes between pairs of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219320" y="1676520"/>
            <a:ext cx="2361960" cy="685800"/>
          </a:xfrm>
          <a:prstGeom prst="borderCallout1">
            <a:avLst>
              <a:gd name="adj1" fmla="val 18750"/>
              <a:gd name="adj2" fmla="val -8333"/>
              <a:gd name="adj3" fmla="val 236111"/>
              <a:gd name="adj4" fmla="val 146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-values are from tests comparing baseline to follow-up levels within each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4:53:16Z</dcterms:created>
  <dc:creator>Meredith Marsh</dc:creator>
  <dc:description/>
  <dc:language>en-US</dc:language>
  <cp:lastModifiedBy>Administrator</cp:lastModifiedBy>
  <dcterms:modified xsi:type="dcterms:W3CDTF">2007-09-28T10:48:21Z</dcterms:modified>
  <cp:revision>18</cp:revision>
  <dc:subject/>
  <dc:title>Slide 1</dc:title>
</cp:coreProperties>
</file>