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00DB181-0E30-4A01-B27A-4F15050A2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235642C-B7B6-47F9-B694-040F46C87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dif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 4% worse than whites (significa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 8% worse than whites (significa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6D9F1A9-A9D9-4DE7-BD2E-9E333ABE5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dif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 4% better than whites (significa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s 3% better than whites (significa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73A74A1-3AE8-41BD-9502-3BE06D118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1E8FFA0-6092-44DE-966F-CB8148856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Americans and low income patients are disproportionately represented in the Medicaid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927A54E-B490-406D-B734-EDBEC51B3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practices perform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ability to put medical home systems in place (disease registry, patient tracking, disease management programs, electronic records, decision support, provider feedback, access to drug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smaller practices/cottage indus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Systems interventions can improve care for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C97DC28-2357-420F-BDFF-714E4161F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F7ADE5F-8395-4A6F-89C4-746ABF242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5 lower left hand corner practices selected – evenly divided among 3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ENTS ON INTERPRE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results are for CC only, </a:t>
            </a:r>
            <a:r>
              <a:rPr b="0" lang="en-US" sz="1000" spc="-1" strike="noStrike" u="sng">
                <a:solidFill>
                  <a:srgbClr val="333399"/>
                </a:solidFill>
                <a:uFillTx/>
                <a:latin typeface="Arial"/>
              </a:rPr>
              <a:t>with all people with any third-party insurance drop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The UNISYS project included only the lowest quartile of PCPs (based on HbA1c testing rates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The comparisons of interest are </a:t>
            </a:r>
            <a:r>
              <a:rPr b="0" lang="en-US" sz="1000" spc="-1" strike="noStrike" u="sng">
                <a:solidFill>
                  <a:srgbClr val="333399"/>
                </a:solidFill>
                <a:uFillTx/>
                <a:latin typeface="Arial"/>
              </a:rPr>
              <a:t>group comparisons on changes in rates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from baseline to follow-up; e.g., did the “education only” group change more than the “control group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The graphs show </a:t>
            </a:r>
            <a:r>
              <a:rPr b="0" lang="en-US" sz="1000" spc="-1" strike="noStrike" u="sng">
                <a:solidFill>
                  <a:srgbClr val="333399"/>
                </a:solidFill>
                <a:uFillTx/>
                <a:latin typeface="Arial"/>
              </a:rPr>
              <a:t>raw rates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; however, the p-values included on the graphs are for comparisons of </a:t>
            </a:r>
            <a:r>
              <a:rPr b="0" lang="en-US" sz="1000" spc="-1" strike="noStrike" u="sng">
                <a:solidFill>
                  <a:srgbClr val="333399"/>
                </a:solidFill>
                <a:uFillTx/>
                <a:latin typeface="Arial"/>
              </a:rPr>
              <a:t>adjusted rates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The baseline data are HEDIS measures calculated as of the 12/31/2005; the follow-up data are HEDIS measures calculated as of 12/31/200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OMMENTS, DIABETES MEAS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The major finding is the upward movement in all the diabetes measures, with the movement quite strong in most of the measu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This upward movement occurred in all three treatment groups, and it also occurred in the CC population as a whole, not just the UNISYS study PC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In some measures, however, there are groups differences (see graphs), with the “education + reminder system” group generally showing greater improve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On the graphs, there are six p-valu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The first three p-values are for changes from baseline to follow-up within each of the three treatment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The last three p-values are for the group comparis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4FE1C8D-2071-4808-B692-C6370A7A2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differ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2% worse than whites (significa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s 4% worse than whites (significa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F68FE9C-3143-419B-8759-D5E6A6DD3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794-953A-4ECF-95B6-7DD9E40D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5F8-C40C-4100-9458-456E9E31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198-66B4-4961-92A4-A46E9ECD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95D7-C177-40B7-9831-F97A55B4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CB8A-FC20-472E-9503-1E33E9C2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A4E4-85A0-49C4-8356-752F8845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712A-B94E-4BA4-8B8A-FEDD402A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2EB1-364C-4B29-B95D-96FFD00C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FA2-67D0-4549-B956-91E1537E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BF09-C3EA-4571-A027-A1AE26C9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6058-411A-4C41-AAB7-92527402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8D35-F5EC-4EBC-BB54-11CE22E9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E3A5-D879-45F4-9818-FF9406CFA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mproving Health Care, Improving Lives: 2007 AHRQ Annual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-Level Approaches to Reducing Racial, Ethnic and In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arities in Healthcar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erick P. Cerise, M.D., M.P.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ce President Health Affairs and Medical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uisiana State Universit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ember 28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4800600" y="2819520"/>
            <a:ext cx="327672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ONTROL over time, p = 0.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EDUCATION over time, p = 0.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EDUC+SYS over time, p = 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DUC vs CONT, p = 0.8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DUC+SYS vs CONT, p = 0.3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DUC vs EDUC+SYS, p = 0.2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5486400" y="2895480"/>
            <a:ext cx="3048120" cy="21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ONTROL over time, p = 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EDUCATION over time, p = 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EDUC+SYS over time, p = 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DUC vs CONT, p = 0.1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DUC+SYS vs CONT, p = 0.1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EDUC vs EDUC+SYS, p = 0.0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 Americans and low income patients are disproportionately represented among Medicaid recip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great variation in performance among practices caring for Medicaid recip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s with more patients tend to have higher compliance with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level interventions can improve outcomes for Whites and African Americ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pite improvements, some disparities rem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vider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new expectations for Medicaid expa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s track NCQA Physician Practic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id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s for primary car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and 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tracking and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self management 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prescri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ral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reporting and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3048"/>
                </a:solidFill>
                <a:latin typeface="Arial"/>
              </a:rPr>
              <a:t>Percent of Medicaid Eligibles and Louisiana Population, by 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57800" y="1371240"/>
            <a:ext cx="27432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dicaid Elig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Content Placeholder 8"/>
          <p:cNvGraphicFramePr/>
          <p:nvPr/>
        </p:nvGraphicFramePr>
        <p:xfrm>
          <a:off x="642960" y="1913040"/>
          <a:ext cx="8256600" cy="42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Content Placeholder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1913040"/>
                    <a:ext cx="825660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371600" y="1294920"/>
            <a:ext cx="32004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uisiana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441160" y="54100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6098760" y="541008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n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602000" y="54100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335920" y="54100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659040" y="5410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7392960" y="5410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533520" y="64008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DHH data as of 8/31/2007; LA population est. 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-level intervention targeted to providers with lower performance on selected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expectations of all providers to be eligible to participate in Medic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ed Inter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 “bottom left”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ontr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rs were mailed baseline indicator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Education on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roviders were mailed baseline levels and nurse educators visited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Education + Reminder Syste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rs were mailed baseline levels, nurse educators visited providers, and providers had access to the remind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nalyses are “intention to trea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" name="Group 3"/>
          <p:cNvGrpSpPr/>
          <p:nvPr/>
        </p:nvGrpSpPr>
        <p:grpSpPr>
          <a:xfrm>
            <a:off x="2438280" y="1295280"/>
            <a:ext cx="4114440" cy="4838400"/>
            <a:chOff x="2438280" y="1295280"/>
            <a:chExt cx="4114440" cy="4838400"/>
          </a:xfrm>
        </p:grpSpPr>
        <p:graphicFrame>
          <p:nvGraphicFramePr>
            <p:cNvPr id="72" name="Object 4"/>
            <p:cNvGraphicFramePr/>
            <p:nvPr/>
          </p:nvGraphicFramePr>
          <p:xfrm>
            <a:off x="2438280" y="1295280"/>
            <a:ext cx="4114440" cy="4838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38280" y="1295280"/>
                      <a:ext cx="4114440" cy="483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4" name="Group 5"/>
            <p:cNvGrpSpPr/>
            <p:nvPr/>
          </p:nvGrpSpPr>
          <p:grpSpPr>
            <a:xfrm>
              <a:off x="5500440" y="3614400"/>
              <a:ext cx="841320" cy="719280"/>
              <a:chOff x="5500440" y="3614400"/>
              <a:chExt cx="841320" cy="719280"/>
            </a:xfrm>
          </p:grpSpPr>
          <p:sp>
            <p:nvSpPr>
              <p:cNvPr id="75" name="AutoShape 6"/>
              <p:cNvSpPr/>
              <p:nvPr/>
            </p:nvSpPr>
            <p:spPr>
              <a:xfrm>
                <a:off x="5500440" y="3614400"/>
                <a:ext cx="841320" cy="719280"/>
              </a:xfrm>
              <a:prstGeom prst="triangle">
                <a:avLst>
                  <a:gd name="adj" fmla="val 50000"/>
                </a:avLst>
              </a:prstGeom>
              <a:solidFill>
                <a:srgbClr val="ffff99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7"/>
              <p:cNvSpPr/>
              <p:nvPr/>
            </p:nvSpPr>
            <p:spPr>
              <a:xfrm>
                <a:off x="5770800" y="3639240"/>
                <a:ext cx="313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Calibri"/>
                  </a:rPr>
                  <a:t>!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 Box 8"/>
              <p:cNvSpPr/>
              <p:nvPr/>
            </p:nvSpPr>
            <p:spPr>
              <a:xfrm>
                <a:off x="5605200" y="4092480"/>
                <a:ext cx="644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cc0000"/>
                    </a:solidFill>
                    <a:latin typeface="Calibri"/>
                  </a:rPr>
                  <a:t>Reminde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4648320" y="3124080"/>
            <a:ext cx="342900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ONTROL over time, p = 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EDUCATION over time, p = 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EDUC+SYS over time, p = 0.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DUC vs CONT, p = 0.6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EDUC+SYS vs CONT, p = 0.0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EDUC vs EDUC+SYS, p = 0.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828800" y="4419720"/>
            <a:ext cx="2362320" cy="876240"/>
          </a:xfrm>
          <a:prstGeom prst="borderCallout1">
            <a:avLst>
              <a:gd name="adj1" fmla="val 18750"/>
              <a:gd name="adj2" fmla="val -8333"/>
              <a:gd name="adj3" fmla="val -31523"/>
              <a:gd name="adj4" fmla="val 1182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-values are from tests comparing baseline to follow-up changes between pairs of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1219320" y="1676520"/>
            <a:ext cx="2361960" cy="685800"/>
          </a:xfrm>
          <a:prstGeom prst="borderCallout1">
            <a:avLst>
              <a:gd name="adj1" fmla="val 18750"/>
              <a:gd name="adj2" fmla="val -8333"/>
              <a:gd name="adj3" fmla="val 236111"/>
              <a:gd name="adj4" fmla="val 146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-values are from tests comparing baseline to follow-up levels within each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4:53:16Z</dcterms:created>
  <dc:creator>Meredith Marsh</dc:creator>
  <dc:description/>
  <dc:language>en-US</dc:language>
  <cp:lastModifiedBy>Administrator</cp:lastModifiedBy>
  <dcterms:modified xsi:type="dcterms:W3CDTF">2007-09-28T10:48:21Z</dcterms:modified>
  <cp:revision>18</cp:revision>
  <dc:subject/>
  <dc:title>Slide 1</dc:title>
</cp:coreProperties>
</file>