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6.wmf" ContentType="image/x-wmf"/>
  <Override PartName="/ppt/media/image11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C9E5F-6811-4A28-BA2B-AD8E49C9B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143000" y="6872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Automation surprises – unexpected or unpredictable responses by technology (Handbook HF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B2C-B0D1-437F-8CA1-15F7895A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4176-DE23-4CBC-9076-83E2D0EB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ED5-4FE5-4798-986A-678B6CCE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992-B3E9-46ED-9CCF-06B13EB5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2A28-13B9-4C07-9E69-F8164D2B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2C79-E7CF-4C1F-869A-E28B5B7E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25A4-AF1B-4531-BCCD-3C28F005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BEE2-FF58-443C-9AD7-A3D8230D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CE2-F853-4B49-AD76-AA7CE71F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F189-AF3C-425D-BF2A-C385451B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077F-E0AF-48CA-AB13-0F3CA35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979-47E3-4442-96DD-D7E2117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A989-4F5B-4BCE-A5D4-932ECDA5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C896-C123-4C9A-8B81-7DFEC888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F7A-A0A8-4136-8527-1F7CB18E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6ADD-E42C-4063-A1FF-9508F4B4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C69B-0812-4F41-8757-C5299371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F7E-759F-4610-8C1D-F2ADDF66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BD53-6C4B-4CD7-AC03-8F9B5104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F9F-FD40-47CC-B85D-A9DAF351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A76-9FD9-4BBA-BEF0-8E936092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050F-33CB-494A-BF07-9EC563C2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10C-4911-42FF-8E36-B2EFF26E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A3C-5252-49C7-BBA3-FC537ACE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3280" cy="1106280"/>
            <a:chOff x="1071720" y="304920"/>
            <a:chExt cx="761328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124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232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BA33F2-9F0C-43E8-9870-FA4FA916F9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5CE59-C50B-43EB-A02B-32D9472CE8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0960" cy="19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9051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of Work for Patien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200400"/>
            <a:ext cx="678168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ac"/>
                </a:solidFill>
                <a:latin typeface="Arial"/>
              </a:rPr>
              <a:t>Pascale Carayon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ac"/>
                </a:solidFill>
                <a:latin typeface="Arial"/>
              </a:rPr>
              <a:t>Procter &amp; Gamble Bascom Professor in Total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ac"/>
                </a:solidFill>
                <a:latin typeface="Arial"/>
              </a:rPr>
              <a:t>Department of Industrial and Systems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ac"/>
                </a:solidFill>
                <a:latin typeface="Arial"/>
              </a:rPr>
              <a:t>Center for Quality and Productivity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ac"/>
                </a:solidFill>
                <a:latin typeface="Arial"/>
              </a:rPr>
              <a:t>University of Wisconsin-Mad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5991120"/>
            <a:ext cx="4514760" cy="8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61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0680" y="6248520"/>
            <a:ext cx="34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2.fpm.wisc.edu/seip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11160" y="135000"/>
            <a:ext cx="9155160" cy="4011480"/>
            <a:chOff x="-11160" y="135000"/>
            <a:chExt cx="9155160" cy="4011480"/>
          </a:xfrm>
        </p:grpSpPr>
        <p:sp>
          <p:nvSpPr>
            <p:cNvPr id="176" name=""/>
            <p:cNvSpPr/>
            <p:nvPr/>
          </p:nvSpPr>
          <p:spPr>
            <a:xfrm>
              <a:off x="0" y="3832200"/>
              <a:ext cx="881712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0" y="3429000"/>
              <a:ext cx="8980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0" y="3025800"/>
              <a:ext cx="89265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2622600"/>
              <a:ext cx="9144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000" y="2219400"/>
              <a:ext cx="9090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000" y="1816200"/>
              <a:ext cx="909000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1413000"/>
              <a:ext cx="8545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1009800"/>
              <a:ext cx="854568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000" y="604800"/>
              <a:ext cx="854532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35840" y="538200"/>
              <a:ext cx="42048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sel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4000" y="915840"/>
              <a:ext cx="5713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tain me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7" name=""/>
            <p:cNvCxnSpPr>
              <a:stCxn id="185" idx="2"/>
              <a:endCxn id="186" idx="0"/>
            </p:cNvCxnSpPr>
            <p:nvPr/>
          </p:nvCxnSpPr>
          <p:spPr>
            <a:xfrm>
              <a:off x="6346800" y="696960"/>
              <a:ext cx="24480" cy="21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5006880" y="1344600"/>
              <a:ext cx="13064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med vs 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22040" y="2127240"/>
              <a:ext cx="621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9560" y="1747800"/>
              <a:ext cx="4874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88" idx="2"/>
              <a:endCxn id="192" idx="0"/>
            </p:cNvCxnSpPr>
            <p:nvPr/>
          </p:nvCxnSpPr>
          <p:spPr>
            <a:xfrm>
              <a:off x="5484600" y="1504800"/>
              <a:ext cx="178200" cy="984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2"/>
              <a:endCxn id="194" idx="0"/>
            </p:cNvCxnSpPr>
            <p:nvPr/>
          </p:nvCxnSpPr>
          <p:spPr>
            <a:xfrm>
              <a:off x="5483160" y="1504800"/>
              <a:ext cx="178200" cy="1688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" name=""/>
            <p:cNvCxnSpPr>
              <a:stCxn id="188" idx="2"/>
              <a:endCxn id="190" idx="0"/>
            </p:cNvCxnSpPr>
            <p:nvPr/>
          </p:nvCxnSpPr>
          <p:spPr>
            <a:xfrm flipV="1" rot="10800000">
              <a:off x="4669560" y="1504440"/>
              <a:ext cx="245520" cy="748440"/>
            </a:xfrm>
            <a:prstGeom prst="bentConnector3">
              <a:avLst>
                <a:gd name="adj1" fmla="val 4992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6" name=""/>
            <p:cNvCxnSpPr>
              <a:stCxn id="186" idx="2"/>
              <a:endCxn id="188" idx="0"/>
            </p:cNvCxnSpPr>
            <p:nvPr/>
          </p:nvCxnSpPr>
          <p:spPr>
            <a:xfrm flipV="1" rot="10800000">
              <a:off x="5390280" y="1076040"/>
              <a:ext cx="270720" cy="708840"/>
            </a:xfrm>
            <a:prstGeom prst="bentConnector3">
              <a:avLst>
                <a:gd name="adj1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7" name=""/>
            <p:cNvCxnSpPr>
              <a:stCxn id="186" idx="2"/>
              <a:endCxn id="198" idx="0"/>
            </p:cNvCxnSpPr>
            <p:nvPr/>
          </p:nvCxnSpPr>
          <p:spPr>
            <a:xfrm>
              <a:off x="6100560" y="1076400"/>
              <a:ext cx="270360" cy="2015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9" name=""/>
            <p:cNvCxnSpPr>
              <a:stCxn id="190" idx="2"/>
              <a:endCxn id="189" idx="0"/>
            </p:cNvCxnSpPr>
            <p:nvPr/>
          </p:nvCxnSpPr>
          <p:spPr>
            <a:xfrm flipV="1" rot="10800000">
              <a:off x="2913840" y="1907640"/>
              <a:ext cx="219960" cy="1780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0" name=""/>
            <p:cNvCxnSpPr>
              <a:stCxn id="190" idx="2"/>
              <a:endCxn id="201" idx="0"/>
            </p:cNvCxnSpPr>
            <p:nvPr/>
          </p:nvCxnSpPr>
          <p:spPr>
            <a:xfrm>
              <a:off x="4763880" y="1909440"/>
              <a:ext cx="151560" cy="975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190" idx="2"/>
              <a:endCxn id="203" idx="0"/>
            </p:cNvCxnSpPr>
            <p:nvPr/>
          </p:nvCxnSpPr>
          <p:spPr>
            <a:xfrm>
              <a:off x="4765320" y="1907640"/>
              <a:ext cx="151560" cy="847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89" idx="2"/>
              <a:endCxn id="205" idx="0"/>
            </p:cNvCxnSpPr>
            <p:nvPr/>
          </p:nvCxnSpPr>
          <p:spPr>
            <a:xfrm flipV="1" rot="10800000">
              <a:off x="2512440" y="2285640"/>
              <a:ext cx="202320" cy="42156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89" idx="2"/>
              <a:endCxn id="207" idx="0"/>
            </p:cNvCxnSpPr>
            <p:nvPr/>
          </p:nvCxnSpPr>
          <p:spPr>
            <a:xfrm>
              <a:off x="2933640" y="2286000"/>
              <a:ext cx="202320" cy="753120"/>
            </a:xfrm>
            <a:prstGeom prst="bentConnector3">
              <a:avLst>
                <a:gd name="adj1" fmla="val 4991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6087240" y="2151000"/>
              <a:ext cx="4874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2680" y="325764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0640" y="1681200"/>
              <a:ext cx="3488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ubl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81960" y="208440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1" name=""/>
            <p:cNvCxnSpPr>
              <a:stCxn id="192" idx="2"/>
              <a:endCxn id="208" idx="0"/>
            </p:cNvCxnSpPr>
            <p:nvPr/>
          </p:nvCxnSpPr>
          <p:spPr>
            <a:xfrm flipV="1" rot="10800000">
              <a:off x="6157080" y="1974600"/>
              <a:ext cx="177120" cy="315000"/>
            </a:xfrm>
            <a:prstGeom prst="bentConnector3">
              <a:avLst>
                <a:gd name="adj1" fmla="val 498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192" idx="2"/>
              <a:endCxn id="210" idx="0"/>
            </p:cNvCxnSpPr>
            <p:nvPr/>
          </p:nvCxnSpPr>
          <p:spPr>
            <a:xfrm>
              <a:off x="6536880" y="1974960"/>
              <a:ext cx="110520" cy="2340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158520" y="3564000"/>
              <a:ext cx="25272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3280" y="286560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29000" y="248760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19040" y="32940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40640" y="3605040"/>
              <a:ext cx="24084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34080" y="286560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86280" y="248760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0" name=""/>
            <p:cNvCxnSpPr>
              <a:stCxn id="208" idx="2"/>
              <a:endCxn id="215" idx="0"/>
            </p:cNvCxnSpPr>
            <p:nvPr/>
          </p:nvCxnSpPr>
          <p:spPr>
            <a:xfrm flipH="1">
              <a:off x="6329160" y="2311200"/>
              <a:ext cx="216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1" name=""/>
            <p:cNvCxnSpPr>
              <a:stCxn id="215" idx="2"/>
              <a:endCxn id="214" idx="0"/>
            </p:cNvCxnSpPr>
            <p:nvPr/>
          </p:nvCxnSpPr>
          <p:spPr>
            <a:xfrm flipH="1">
              <a:off x="6311160" y="2781000"/>
              <a:ext cx="18360" cy="8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2" name=""/>
            <p:cNvCxnSpPr>
              <a:stCxn id="214" idx="2"/>
              <a:endCxn id="209" idx="0"/>
            </p:cNvCxnSpPr>
            <p:nvPr/>
          </p:nvCxnSpPr>
          <p:spPr>
            <a:xfrm flipH="1">
              <a:off x="6289200" y="3159000"/>
              <a:ext cx="23040" cy="99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210" idx="2"/>
              <a:endCxn id="219" idx="0"/>
            </p:cNvCxnSpPr>
            <p:nvPr/>
          </p:nvCxnSpPr>
          <p:spPr>
            <a:xfrm>
              <a:off x="6877080" y="2378160"/>
              <a:ext cx="1008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9" idx="2"/>
              <a:endCxn id="218" idx="0"/>
            </p:cNvCxnSpPr>
            <p:nvPr/>
          </p:nvCxnSpPr>
          <p:spPr>
            <a:xfrm flipH="1">
              <a:off x="6862320" y="2781360"/>
              <a:ext cx="23040" cy="8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8" idx="2"/>
              <a:endCxn id="216" idx="0"/>
            </p:cNvCxnSpPr>
            <p:nvPr/>
          </p:nvCxnSpPr>
          <p:spPr>
            <a:xfrm>
              <a:off x="6862320" y="3160440"/>
              <a:ext cx="3960" cy="13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7153560" y="168120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28720" y="2151000"/>
              <a:ext cx="4586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6440" y="2487600"/>
              <a:ext cx="37296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84160" y="28908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115400" y="32940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92800" y="3605040"/>
              <a:ext cx="2466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1" name=""/>
            <p:cNvCxnSpPr>
              <a:stCxn id="194" idx="2"/>
              <a:endCxn id="226" idx="0"/>
            </p:cNvCxnSpPr>
            <p:nvPr/>
          </p:nvCxnSpPr>
          <p:spPr>
            <a:xfrm>
              <a:off x="7346520" y="1974600"/>
              <a:ext cx="11880" cy="17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2" name=""/>
            <p:cNvCxnSpPr>
              <a:stCxn id="226" idx="2"/>
              <a:endCxn id="227" idx="0"/>
            </p:cNvCxnSpPr>
            <p:nvPr/>
          </p:nvCxnSpPr>
          <p:spPr>
            <a:xfrm flipH="1">
              <a:off x="7343280" y="2311200"/>
              <a:ext cx="13680" cy="17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27" idx="2"/>
              <a:endCxn id="228" idx="0"/>
            </p:cNvCxnSpPr>
            <p:nvPr/>
          </p:nvCxnSpPr>
          <p:spPr>
            <a:xfrm flipH="1">
              <a:off x="7328880" y="2781360"/>
              <a:ext cx="1332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28" idx="2"/>
              <a:endCxn id="229" idx="0"/>
            </p:cNvCxnSpPr>
            <p:nvPr/>
          </p:nvCxnSpPr>
          <p:spPr>
            <a:xfrm>
              <a:off x="7330680" y="3184560"/>
              <a:ext cx="252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8154000" y="1344600"/>
              <a:ext cx="4586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5" name=""/>
            <p:cNvCxnSpPr>
              <a:stCxn id="198" idx="2"/>
              <a:endCxn id="236" idx="0"/>
            </p:cNvCxnSpPr>
            <p:nvPr/>
          </p:nvCxnSpPr>
          <p:spPr>
            <a:xfrm flipV="1" rot="10800000">
              <a:off x="7937640" y="1504440"/>
              <a:ext cx="178200" cy="26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198" idx="2"/>
              <a:endCxn id="238" idx="0"/>
            </p:cNvCxnSpPr>
            <p:nvPr/>
          </p:nvCxnSpPr>
          <p:spPr>
            <a:xfrm>
              <a:off x="8207280" y="1504440"/>
              <a:ext cx="178200" cy="412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" name=""/>
            <p:cNvSpPr/>
            <p:nvPr/>
          </p:nvSpPr>
          <p:spPr>
            <a:xfrm>
              <a:off x="7844760" y="1681200"/>
              <a:ext cx="5392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s 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34760" y="207324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6" idx="2"/>
              <a:endCxn id="239" idx="0"/>
            </p:cNvCxnSpPr>
            <p:nvPr/>
          </p:nvCxnSpPr>
          <p:spPr>
            <a:xfrm>
              <a:off x="8113680" y="1974600"/>
              <a:ext cx="16560" cy="9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7637040" y="250992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210520" y="2352600"/>
              <a:ext cx="2178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Q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3" name=""/>
            <p:cNvCxnSpPr>
              <a:stCxn id="239" idx="2"/>
              <a:endCxn id="241" idx="0"/>
            </p:cNvCxnSpPr>
            <p:nvPr/>
          </p:nvCxnSpPr>
          <p:spPr>
            <a:xfrm flipV="1" rot="10800000">
              <a:off x="7695360" y="2366640"/>
              <a:ext cx="143640" cy="291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7616880" y="289080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0" y="32940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"/>
            <p:cNvCxnSpPr>
              <a:stCxn id="241" idx="2"/>
              <a:endCxn id="244" idx="0"/>
            </p:cNvCxnSpPr>
            <p:nvPr/>
          </p:nvCxnSpPr>
          <p:spPr>
            <a:xfrm>
              <a:off x="7837560" y="2803680"/>
              <a:ext cx="1008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44" idx="2"/>
              <a:endCxn id="245" idx="0"/>
            </p:cNvCxnSpPr>
            <p:nvPr/>
          </p:nvCxnSpPr>
          <p:spPr>
            <a:xfrm flipH="1">
              <a:off x="7827120" y="3184560"/>
              <a:ext cx="1836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8" name=""/>
            <p:cNvSpPr/>
            <p:nvPr/>
          </p:nvSpPr>
          <p:spPr>
            <a:xfrm>
              <a:off x="7720200" y="3605040"/>
              <a:ext cx="23616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5760" y="2487600"/>
              <a:ext cx="371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11480" y="3630600"/>
              <a:ext cx="2682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(22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49520" y="3193920"/>
              <a:ext cx="23616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76560" y="3336840"/>
              <a:ext cx="326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64600" y="28908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10120" y="28908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4" name=""/>
            <p:cNvCxnSpPr>
              <a:stCxn id="205" idx="2"/>
              <a:endCxn id="253" idx="0"/>
            </p:cNvCxnSpPr>
            <p:nvPr/>
          </p:nvCxnSpPr>
          <p:spPr>
            <a:xfrm flipV="1" rot="10800000">
              <a:off x="2417040" y="2781000"/>
              <a:ext cx="110160" cy="18792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05" idx="2"/>
              <a:endCxn id="252" idx="0"/>
            </p:cNvCxnSpPr>
            <p:nvPr/>
          </p:nvCxnSpPr>
          <p:spPr>
            <a:xfrm>
              <a:off x="2604600" y="2781000"/>
              <a:ext cx="110520" cy="399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3" idx="2"/>
              <a:endCxn id="251" idx="0"/>
            </p:cNvCxnSpPr>
            <p:nvPr/>
          </p:nvCxnSpPr>
          <p:spPr>
            <a:xfrm flipV="1" rot="10800000">
              <a:off x="2191680" y="3184200"/>
              <a:ext cx="151560" cy="1846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7" name=""/>
            <p:cNvSpPr/>
            <p:nvPr/>
          </p:nvSpPr>
          <p:spPr>
            <a:xfrm>
              <a:off x="2908800" y="327024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64240" y="3564000"/>
              <a:ext cx="28656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 (17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9" name=""/>
            <p:cNvCxnSpPr>
              <a:stCxn id="252" idx="2"/>
              <a:endCxn id="257" idx="0"/>
            </p:cNvCxnSpPr>
            <p:nvPr/>
          </p:nvCxnSpPr>
          <p:spPr>
            <a:xfrm>
              <a:off x="3109680" y="3186000"/>
              <a:ext cx="13320" cy="8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3669120" y="24876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75080" y="2798640"/>
              <a:ext cx="2178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33560" y="289080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55120" y="28908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92200" y="3201840"/>
              <a:ext cx="1674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4" name=""/>
            <p:cNvCxnSpPr>
              <a:stCxn id="207" idx="2"/>
              <a:endCxn id="261" idx="0"/>
            </p:cNvCxnSpPr>
            <p:nvPr/>
          </p:nvCxnSpPr>
          <p:spPr>
            <a:xfrm>
              <a:off x="3776760" y="2782440"/>
              <a:ext cx="110160" cy="5004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07" idx="2"/>
              <a:endCxn id="262" idx="0"/>
            </p:cNvCxnSpPr>
            <p:nvPr/>
          </p:nvCxnSpPr>
          <p:spPr>
            <a:xfrm>
              <a:off x="3778200" y="2781360"/>
              <a:ext cx="110160" cy="41832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3764520" y="32940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1960" y="3586320"/>
              <a:ext cx="21168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(2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" name=""/>
            <p:cNvCxnSpPr>
              <a:stCxn id="261" idx="2"/>
              <a:endCxn id="266" idx="0"/>
            </p:cNvCxnSpPr>
            <p:nvPr/>
          </p:nvCxnSpPr>
          <p:spPr>
            <a:xfrm flipH="1">
              <a:off x="3909600" y="3184560"/>
              <a:ext cx="2304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>
              <a:off x="4834080" y="2058840"/>
              <a:ext cx="3488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ubl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22760" y="2933640"/>
              <a:ext cx="7315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92800" y="327024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31360" y="327024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19520" y="3967200"/>
              <a:ext cx="19044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J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3160" y="2506680"/>
              <a:ext cx="621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4" name=""/>
            <p:cNvCxnSpPr>
              <a:stCxn id="201" idx="2"/>
              <a:endCxn id="273" idx="0"/>
            </p:cNvCxnSpPr>
            <p:nvPr/>
          </p:nvCxnSpPr>
          <p:spPr>
            <a:xfrm flipH="1">
              <a:off x="4982400" y="2352600"/>
              <a:ext cx="26280" cy="15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3" idx="2"/>
              <a:endCxn id="269" idx="0"/>
            </p:cNvCxnSpPr>
            <p:nvPr/>
          </p:nvCxnSpPr>
          <p:spPr>
            <a:xfrm>
              <a:off x="4982760" y="2666520"/>
              <a:ext cx="5400" cy="26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6" name=""/>
            <p:cNvCxnSpPr>
              <a:stCxn id="269" idx="2"/>
              <a:endCxn id="270" idx="0"/>
            </p:cNvCxnSpPr>
            <p:nvPr/>
          </p:nvCxnSpPr>
          <p:spPr>
            <a:xfrm flipV="1" rot="10800000">
              <a:off x="4547520" y="3092040"/>
              <a:ext cx="176760" cy="266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7" name=""/>
            <p:cNvCxnSpPr>
              <a:stCxn id="269" idx="2"/>
              <a:endCxn id="271" idx="0"/>
            </p:cNvCxnSpPr>
            <p:nvPr/>
          </p:nvCxnSpPr>
          <p:spPr>
            <a:xfrm>
              <a:off x="4813200" y="3092040"/>
              <a:ext cx="177120" cy="191160"/>
            </a:xfrm>
            <a:prstGeom prst="bentConnector3">
              <a:avLst>
                <a:gd name="adj1" fmla="val 4989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8" name=""/>
            <p:cNvSpPr/>
            <p:nvPr/>
          </p:nvSpPr>
          <p:spPr>
            <a:xfrm>
              <a:off x="4572720" y="367344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"/>
            <p:cNvCxnSpPr>
              <a:stCxn id="270" idx="2"/>
              <a:endCxn id="278" idx="0"/>
            </p:cNvCxnSpPr>
            <p:nvPr/>
          </p:nvCxnSpPr>
          <p:spPr>
            <a:xfrm flipH="1">
              <a:off x="4717440" y="3564000"/>
              <a:ext cx="540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956120" y="369900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1" name=""/>
            <p:cNvCxnSpPr>
              <a:stCxn id="271" idx="2"/>
              <a:endCxn id="280" idx="0"/>
            </p:cNvCxnSpPr>
            <p:nvPr/>
          </p:nvCxnSpPr>
          <p:spPr>
            <a:xfrm>
              <a:off x="5178600" y="3563640"/>
              <a:ext cx="8640" cy="13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"/>
            <p:cNvSpPr/>
            <p:nvPr/>
          </p:nvSpPr>
          <p:spPr>
            <a:xfrm>
              <a:off x="5062320" y="4010040"/>
              <a:ext cx="2070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(2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4520" y="135000"/>
              <a:ext cx="35028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21400" y="493560"/>
              <a:ext cx="5713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btain me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5" name=""/>
            <p:cNvCxnSpPr>
              <a:stCxn id="283" idx="2"/>
              <a:endCxn id="185" idx="0"/>
            </p:cNvCxnSpPr>
            <p:nvPr/>
          </p:nvCxnSpPr>
          <p:spPr>
            <a:xfrm>
              <a:off x="3784320" y="293760"/>
              <a:ext cx="244800" cy="2318400"/>
            </a:xfrm>
            <a:prstGeom prst="bentConnector3">
              <a:avLst>
                <a:gd name="adj1" fmla="val 4992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83" idx="2"/>
              <a:endCxn id="284" idx="0"/>
            </p:cNvCxnSpPr>
            <p:nvPr/>
          </p:nvCxnSpPr>
          <p:spPr>
            <a:xfrm flipV="1" rot="10800000">
              <a:off x="1207440" y="293400"/>
              <a:ext cx="200520" cy="2621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"/>
            <p:cNvSpPr/>
            <p:nvPr/>
          </p:nvSpPr>
          <p:spPr>
            <a:xfrm>
              <a:off x="334800" y="2465280"/>
              <a:ext cx="41760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880" y="3564000"/>
              <a:ext cx="2070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0760" y="327168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9520" y="28782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4360" y="915840"/>
              <a:ext cx="42048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sel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82120" y="915840"/>
              <a:ext cx="62172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6640" y="1278000"/>
              <a:ext cx="6721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med vs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4080" y="1724040"/>
              <a:ext cx="4586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4" idx="2"/>
              <a:endCxn id="291" idx="0"/>
            </p:cNvCxnSpPr>
            <p:nvPr/>
          </p:nvCxnSpPr>
          <p:spPr>
            <a:xfrm flipV="1" rot="10800000">
              <a:off x="631080" y="651960"/>
              <a:ext cx="264240" cy="51372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4" idx="2"/>
              <a:endCxn id="292" idx="0"/>
            </p:cNvCxnSpPr>
            <p:nvPr/>
          </p:nvCxnSpPr>
          <p:spPr>
            <a:xfrm>
              <a:off x="1144440" y="652320"/>
              <a:ext cx="264240" cy="386640"/>
            </a:xfrm>
            <a:prstGeom prst="bentConnector3">
              <a:avLst>
                <a:gd name="adj1" fmla="val 4993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1" idx="2"/>
              <a:endCxn id="293" idx="0"/>
            </p:cNvCxnSpPr>
            <p:nvPr/>
          </p:nvCxnSpPr>
          <p:spPr>
            <a:xfrm>
              <a:off x="893880" y="1076400"/>
              <a:ext cx="1008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3" idx="2"/>
              <a:endCxn id="294" idx="0"/>
            </p:cNvCxnSpPr>
            <p:nvPr/>
          </p:nvCxnSpPr>
          <p:spPr>
            <a:xfrm flipV="1" rot="10800000">
              <a:off x="413640" y="1571400"/>
              <a:ext cx="151560" cy="340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9" name=""/>
            <p:cNvSpPr/>
            <p:nvPr/>
          </p:nvSpPr>
          <p:spPr>
            <a:xfrm>
              <a:off x="962280" y="168120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0" name=""/>
            <p:cNvCxnSpPr>
              <a:stCxn id="293" idx="2"/>
              <a:endCxn id="299" idx="0"/>
            </p:cNvCxnSpPr>
            <p:nvPr/>
          </p:nvCxnSpPr>
          <p:spPr>
            <a:xfrm>
              <a:off x="797040" y="1571400"/>
              <a:ext cx="110160" cy="254520"/>
            </a:xfrm>
            <a:prstGeom prst="bentConnector3">
              <a:avLst>
                <a:gd name="adj1" fmla="val 4983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1" name=""/>
            <p:cNvSpPr/>
            <p:nvPr/>
          </p:nvSpPr>
          <p:spPr>
            <a:xfrm>
              <a:off x="377640" y="2084400"/>
              <a:ext cx="3610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2" name=""/>
            <p:cNvCxnSpPr>
              <a:stCxn id="294" idx="2"/>
              <a:endCxn id="301" idx="0"/>
            </p:cNvCxnSpPr>
            <p:nvPr/>
          </p:nvCxnSpPr>
          <p:spPr>
            <a:xfrm flipH="1">
              <a:off x="558000" y="1882800"/>
              <a:ext cx="540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3" name=""/>
            <p:cNvCxnSpPr>
              <a:stCxn id="301" idx="2"/>
              <a:endCxn id="287" idx="0"/>
            </p:cNvCxnSpPr>
            <p:nvPr/>
          </p:nvCxnSpPr>
          <p:spPr>
            <a:xfrm flipH="1">
              <a:off x="543960" y="2379240"/>
              <a:ext cx="14760" cy="8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4" name=""/>
            <p:cNvCxnSpPr>
              <a:stCxn id="287" idx="2"/>
              <a:endCxn id="290" idx="0"/>
            </p:cNvCxnSpPr>
            <p:nvPr/>
          </p:nvCxnSpPr>
          <p:spPr>
            <a:xfrm flipH="1">
              <a:off x="535680" y="2758680"/>
              <a:ext cx="9000" cy="119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5" name=""/>
            <p:cNvCxnSpPr>
              <a:stCxn id="290" idx="2"/>
              <a:endCxn id="289" idx="0"/>
            </p:cNvCxnSpPr>
            <p:nvPr/>
          </p:nvCxnSpPr>
          <p:spPr>
            <a:xfrm>
              <a:off x="536400" y="3171960"/>
              <a:ext cx="15120" cy="102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6" name=""/>
            <p:cNvSpPr/>
            <p:nvPr/>
          </p:nvSpPr>
          <p:spPr>
            <a:xfrm>
              <a:off x="925560" y="2058840"/>
              <a:ext cx="434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33840" y="24876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88200" y="28908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9" name=""/>
            <p:cNvCxnSpPr>
              <a:stCxn id="299" idx="2"/>
              <a:endCxn id="306" idx="0"/>
            </p:cNvCxnSpPr>
            <p:nvPr/>
          </p:nvCxnSpPr>
          <p:spPr>
            <a:xfrm flipH="1">
              <a:off x="1142640" y="1974600"/>
              <a:ext cx="15120" cy="8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6" idx="2"/>
              <a:endCxn id="307" idx="0"/>
            </p:cNvCxnSpPr>
            <p:nvPr/>
          </p:nvCxnSpPr>
          <p:spPr>
            <a:xfrm>
              <a:off x="1143000" y="2352240"/>
              <a:ext cx="7200" cy="13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307" idx="2"/>
              <a:endCxn id="308" idx="0"/>
            </p:cNvCxnSpPr>
            <p:nvPr/>
          </p:nvCxnSpPr>
          <p:spPr>
            <a:xfrm flipH="1">
              <a:off x="1132920" y="2781360"/>
              <a:ext cx="1332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2" name=""/>
            <p:cNvSpPr/>
            <p:nvPr/>
          </p:nvSpPr>
          <p:spPr>
            <a:xfrm>
              <a:off x="1007640" y="3201840"/>
              <a:ext cx="20700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66720" y="1344600"/>
              <a:ext cx="42048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sel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04800" y="1655640"/>
              <a:ext cx="544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eck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s dev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67440" y="2127240"/>
              <a:ext cx="4586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23880" y="2556000"/>
              <a:ext cx="4892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33600" y="2933640"/>
              <a:ext cx="425520" cy="37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68520" y="3336840"/>
              <a:ext cx="39060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 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9400" y="3630600"/>
              <a:ext cx="21168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(2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292" idx="2"/>
              <a:endCxn id="313" idx="0"/>
            </p:cNvCxnSpPr>
            <p:nvPr/>
          </p:nvCxnSpPr>
          <p:spPr>
            <a:xfrm flipH="1">
              <a:off x="1775520" y="1076040"/>
              <a:ext cx="16920" cy="270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1" name=""/>
            <p:cNvCxnSpPr>
              <a:stCxn id="313" idx="2"/>
              <a:endCxn id="314" idx="0"/>
            </p:cNvCxnSpPr>
            <p:nvPr/>
          </p:nvCxnSpPr>
          <p:spPr>
            <a:xfrm>
              <a:off x="1775880" y="1504440"/>
              <a:ext cx="252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2" name=""/>
            <p:cNvCxnSpPr>
              <a:stCxn id="314" idx="2"/>
              <a:endCxn id="315" idx="0"/>
            </p:cNvCxnSpPr>
            <p:nvPr/>
          </p:nvCxnSpPr>
          <p:spPr>
            <a:xfrm>
              <a:off x="1600200" y="1951200"/>
              <a:ext cx="178200" cy="1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3" name=""/>
            <p:cNvCxnSpPr>
              <a:stCxn id="315" idx="2"/>
              <a:endCxn id="316" idx="0"/>
            </p:cNvCxnSpPr>
            <p:nvPr/>
          </p:nvCxnSpPr>
          <p:spPr>
            <a:xfrm flipH="1">
              <a:off x="1767960" y="2286000"/>
              <a:ext cx="29520" cy="27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4" name=""/>
            <p:cNvCxnSpPr>
              <a:stCxn id="316" idx="2"/>
              <a:endCxn id="317" idx="0"/>
            </p:cNvCxnSpPr>
            <p:nvPr/>
          </p:nvCxnSpPr>
          <p:spPr>
            <a:xfrm flipH="1">
              <a:off x="1745640" y="2849400"/>
              <a:ext cx="22680" cy="8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5" name=""/>
            <p:cNvCxnSpPr>
              <a:stCxn id="317" idx="2"/>
              <a:endCxn id="318" idx="0"/>
            </p:cNvCxnSpPr>
            <p:nvPr/>
          </p:nvCxnSpPr>
          <p:spPr>
            <a:xfrm>
              <a:off x="1746000" y="3227400"/>
              <a:ext cx="1980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3" name=""/>
            <p:cNvSpPr/>
            <p:nvPr/>
          </p:nvSpPr>
          <p:spPr>
            <a:xfrm>
              <a:off x="5559120" y="205884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10960" y="24750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1920" y="2865600"/>
              <a:ext cx="3898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51640" y="3564000"/>
              <a:ext cx="22392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203" idx="2"/>
              <a:endCxn id="326" idx="0"/>
            </p:cNvCxnSpPr>
            <p:nvPr/>
          </p:nvCxnSpPr>
          <p:spPr>
            <a:xfrm flipH="1">
              <a:off x="5757480" y="2352240"/>
              <a:ext cx="2160" cy="1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6" idx="2"/>
              <a:endCxn id="327" idx="0"/>
            </p:cNvCxnSpPr>
            <p:nvPr/>
          </p:nvCxnSpPr>
          <p:spPr>
            <a:xfrm flipH="1">
              <a:off x="5744520" y="2768400"/>
              <a:ext cx="13320" cy="99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7" idx="2"/>
              <a:endCxn id="332" idx="0"/>
            </p:cNvCxnSpPr>
            <p:nvPr/>
          </p:nvCxnSpPr>
          <p:spPr>
            <a:xfrm>
              <a:off x="5745240" y="3158640"/>
              <a:ext cx="16560" cy="11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2" name=""/>
            <p:cNvSpPr/>
            <p:nvPr/>
          </p:nvSpPr>
          <p:spPr>
            <a:xfrm>
              <a:off x="5530680" y="3270240"/>
              <a:ext cx="4586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613360" y="1681200"/>
              <a:ext cx="3610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607240" y="2084400"/>
              <a:ext cx="4006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an pt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D ba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650800" y="2487600"/>
              <a:ext cx="29232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c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67720" y="3160800"/>
              <a:ext cx="240840" cy="136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 (1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"/>
            <p:cNvCxnSpPr>
              <a:stCxn id="238" idx="2"/>
              <a:endCxn id="333" idx="0"/>
            </p:cNvCxnSpPr>
            <p:nvPr/>
          </p:nvCxnSpPr>
          <p:spPr>
            <a:xfrm>
              <a:off x="8793000" y="1974960"/>
              <a:ext cx="1512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7" name=""/>
            <p:cNvCxnSpPr>
              <a:stCxn id="333" idx="2"/>
              <a:endCxn id="334" idx="0"/>
            </p:cNvCxnSpPr>
            <p:nvPr/>
          </p:nvCxnSpPr>
          <p:spPr>
            <a:xfrm flipH="1">
              <a:off x="8795520" y="2378160"/>
              <a:ext cx="1044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8" name=""/>
            <p:cNvSpPr/>
            <p:nvPr/>
          </p:nvSpPr>
          <p:spPr>
            <a:xfrm>
              <a:off x="8587080" y="2890800"/>
              <a:ext cx="42948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" rIns="7200" tIns="7200" bIns="72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ive m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o 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9" name=""/>
            <p:cNvCxnSpPr>
              <a:stCxn id="334" idx="2"/>
              <a:endCxn id="338" idx="0"/>
            </p:cNvCxnSpPr>
            <p:nvPr/>
          </p:nvCxnSpPr>
          <p:spPr>
            <a:xfrm>
              <a:off x="8796240" y="2781360"/>
              <a:ext cx="5760" cy="110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0" name=""/>
            <p:cNvSpPr/>
            <p:nvPr/>
          </p:nvSpPr>
          <p:spPr>
            <a:xfrm>
              <a:off x="6480" y="4158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-11160" y="36306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80" y="12114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-11160" y="8064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-11160" y="20178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-11160" y="16146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-11160" y="28242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-11160" y="24210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0" y="3227400"/>
              <a:ext cx="26964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286000" y="39672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626000" y="4303800"/>
            <a:ext cx="163440" cy="738000"/>
          </a:xfrm>
          <a:prstGeom prst="upArrow">
            <a:avLst>
              <a:gd name="adj1" fmla="val 50000"/>
              <a:gd name="adj2" fmla="val 1128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12880" y="3495600"/>
            <a:ext cx="163800" cy="739800"/>
          </a:xfrm>
          <a:prstGeom prst="upArrow">
            <a:avLst>
              <a:gd name="adj1" fmla="val 50000"/>
              <a:gd name="adj2" fmla="val 11291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83000" y="3160800"/>
            <a:ext cx="163440" cy="738000"/>
          </a:xfrm>
          <a:prstGeom prst="upArrow">
            <a:avLst>
              <a:gd name="adj1" fmla="val 50000"/>
              <a:gd name="adj2" fmla="val 112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35640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63880" y="38988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4880" y="37656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80880" y="4840200"/>
            <a:ext cx="3483000" cy="1882800"/>
            <a:chOff x="380880" y="4840200"/>
            <a:chExt cx="3483000" cy="1882800"/>
          </a:xfrm>
        </p:grpSpPr>
        <p:sp>
          <p:nvSpPr>
            <p:cNvPr id="357" name=""/>
            <p:cNvSpPr/>
            <p:nvPr/>
          </p:nvSpPr>
          <p:spPr>
            <a:xfrm>
              <a:off x="488880" y="5848200"/>
              <a:ext cx="163440" cy="739800"/>
            </a:xfrm>
            <a:prstGeom prst="upArrow">
              <a:avLst>
                <a:gd name="adj1" fmla="val 50000"/>
                <a:gd name="adj2" fmla="val 11316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8880" y="4906800"/>
              <a:ext cx="163440" cy="739800"/>
            </a:xfrm>
            <a:prstGeom prst="upArrow">
              <a:avLst>
                <a:gd name="adj1" fmla="val 50000"/>
                <a:gd name="adj2" fmla="val 1131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6120" y="5041800"/>
              <a:ext cx="1207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equence according to polic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70120" y="5916600"/>
              <a:ext cx="120780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otentially unsafe sequen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30560" y="4975200"/>
              <a:ext cx="163440" cy="739800"/>
            </a:xfrm>
            <a:prstGeom prst="upArrow">
              <a:avLst>
                <a:gd name="adj1" fmla="val 50000"/>
                <a:gd name="adj2" fmla="val 11316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03440" y="4906800"/>
              <a:ext cx="120816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ost frequent workaround: documentation before medication admini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880" y="4840200"/>
              <a:ext cx="3483000" cy="188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048120" y="38322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16680" y="4303800"/>
            <a:ext cx="163440" cy="738000"/>
          </a:xfrm>
          <a:prstGeom prst="upArrow">
            <a:avLst>
              <a:gd name="adj1" fmla="val 50000"/>
              <a:gd name="adj2" fmla="val 11288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61000" y="38322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8880" y="3832200"/>
            <a:ext cx="163800" cy="739800"/>
          </a:xfrm>
          <a:prstGeom prst="upArrow">
            <a:avLst>
              <a:gd name="adj1" fmla="val 50000"/>
              <a:gd name="adj2" fmla="val 112912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709120" y="3429000"/>
            <a:ext cx="163440" cy="739800"/>
          </a:xfrm>
          <a:prstGeom prst="upArrow">
            <a:avLst>
              <a:gd name="adj1" fmla="val 50000"/>
              <a:gd name="adj2" fmla="val 113161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114800" y="55627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MA = Bar Coding Medication 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8"/>
          <a:stretch/>
        </p:blipFill>
        <p:spPr>
          <a:xfrm>
            <a:off x="7618320" y="5029200"/>
            <a:ext cx="15256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477120" y="45720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ganizational factor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erruptions, shi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5013360"/>
            <a:ext cx="220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vironmen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here tasks completed, lighting,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523880" y="5181480"/>
            <a:ext cx="289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sk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quence of acts, handoffs, unsafe 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83808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chnology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utomation surprises, mal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5308560" cy="31924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066680" y="2819520"/>
            <a:ext cx="28958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ividual (nurse or patient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ient in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sign of 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ful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, principles,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 principl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uman factor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58128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pportunities for Design of Work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implementation (e.g., EHR, CPOE, bar coding medication administratio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tion or new building/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hange that affects work and process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an you think of a change currently going on in your organization that can affect the work of healthcare providers and processes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sign 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Principl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of Human Factors and Ergonomics (HFE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r-centered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s of HF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hysical ergono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hysical characteristics of end us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gnitive ergono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gnitive characteristics of end us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rganizational ergonom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sychosocial needs of end us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715000" y="1362240"/>
            <a:ext cx="1589040" cy="19047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7238880" y="3038400"/>
            <a:ext cx="1386000" cy="19400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943600" y="5089680"/>
            <a:ext cx="198108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792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181480" y="1371600"/>
            <a:ext cx="3733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 chapters, 1,000 p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otechnical systems and macroerg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ology, med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erg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 and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care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ly not RC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tion research framewor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multidisciplinary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ata collec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br>
              <a:rPr sz="3400"/>
            </a:b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Design of Work for Patient Safe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ystem with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the end us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= medication management in ambulatory c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 for multiple groups of end us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the designer of work and proces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me c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ole of patient and fami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itions of c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sign of intera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act on work syste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ign of HIT-supported work and proces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638680" y="3733920"/>
            <a:ext cx="3505320" cy="24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PS model of work and patien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ortance of work and processes for patient safe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 and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IPS Model of Work System and Patient Safety</a:t>
            </a:r>
            <a:br>
              <a:rPr sz="38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IPS = System Engineering Initiative for Patien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216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753240" y="621648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rayon et al., 2006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81080"/>
            <a:ext cx="8381880" cy="3124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 example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80520" y="35053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MArT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H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roject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ac"/>
                </a:solidFill>
                <a:latin typeface="Arial"/>
              </a:rPr>
              <a:t>University of Wisconsin-Madison / UW Hospital &amp;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ac"/>
                </a:solidFill>
                <a:latin typeface="Arial"/>
              </a:rPr>
              <a:t>Madison-Wisconsin-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6369120"/>
            <a:ext cx="64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unding provided by the Agency for Healthcare Research and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5257800"/>
            <a:ext cx="4514760" cy="866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19920" y="5257800"/>
            <a:ext cx="3124080" cy="91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30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331720"/>
            <a:ext cx="8305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dication Administration Techn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2000" y="0"/>
            <a:ext cx="2352600" cy="2819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276720" y="0"/>
            <a:ext cx="3809880" cy="25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ork System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(or a sociotechnical system)</a:t>
            </a:r>
            <a:br>
              <a:rPr sz="24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Balance Theory; Smith and Carayon, 1989; Carayon and Smith, 2000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5800" y="1752480"/>
            <a:ext cx="8001000" cy="4800600"/>
            <a:chOff x="685800" y="1752480"/>
            <a:chExt cx="8001000" cy="4800600"/>
          </a:xfrm>
        </p:grpSpPr>
        <p:sp>
          <p:nvSpPr>
            <p:cNvPr id="126" name=""/>
            <p:cNvSpPr/>
            <p:nvPr/>
          </p:nvSpPr>
          <p:spPr>
            <a:xfrm>
              <a:off x="685800" y="1832040"/>
              <a:ext cx="2637000" cy="9554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nd 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32400" y="1752480"/>
              <a:ext cx="2863800" cy="95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5600" y="5346720"/>
              <a:ext cx="3090960" cy="1116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" y="5259240"/>
              <a:ext cx="2184480" cy="955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05240" y="3678120"/>
              <a:ext cx="2108160" cy="10350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4611600" y="3440160"/>
              <a:ext cx="8953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7561440" y="1930320"/>
              <a:ext cx="10443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681280" y="1841400"/>
              <a:ext cx="11239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7616880" y="5308560"/>
              <a:ext cx="1069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1886040" y="5308560"/>
              <a:ext cx="10620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987480" y="2867040"/>
              <a:ext cx="1440" cy="231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565600" y="2786040"/>
              <a:ext cx="1146240" cy="11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06720" y="5931000"/>
              <a:ext cx="2400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49600" y="2151000"/>
              <a:ext cx="1814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437840" y="3506760"/>
              <a:ext cx="1359000" cy="167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795760" y="2546280"/>
              <a:ext cx="2568240" cy="960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92400" y="4222800"/>
              <a:ext cx="3012840" cy="1434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663200" y="2946240"/>
              <a:ext cx="530280" cy="12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65800" y="2817360"/>
              <a:ext cx="1800" cy="240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1963800" y="2904840"/>
              <a:ext cx="1363680" cy="115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565600" y="4150800"/>
              <a:ext cx="1283040" cy="107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046240" y="4150800"/>
              <a:ext cx="1227240" cy="107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1276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BCMA Technology Implementation…</a:t>
            </a:r>
            <a:br>
              <a:rPr sz="3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MA = Bar Coding Medication Admin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5800" y="1752480"/>
            <a:ext cx="8001000" cy="4800600"/>
            <a:chOff x="685800" y="1752480"/>
            <a:chExt cx="8001000" cy="4800600"/>
          </a:xfrm>
        </p:grpSpPr>
        <p:sp>
          <p:nvSpPr>
            <p:cNvPr id="150" name=""/>
            <p:cNvSpPr/>
            <p:nvPr/>
          </p:nvSpPr>
          <p:spPr>
            <a:xfrm>
              <a:off x="685800" y="1832040"/>
              <a:ext cx="2637000" cy="95544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echnolo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and To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32400" y="1752480"/>
              <a:ext cx="2863800" cy="9558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65600" y="5346720"/>
              <a:ext cx="3090960" cy="1116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85800" y="5259240"/>
              <a:ext cx="2184480" cy="9558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05240" y="3678120"/>
              <a:ext cx="2108160" cy="1035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Black"/>
                </a:rPr>
                <a:t>Pers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4611600" y="3440160"/>
              <a:ext cx="89532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7561440" y="1930320"/>
              <a:ext cx="1044360" cy="115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>
              <a:off x="2681280" y="1841400"/>
              <a:ext cx="112392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4"/>
            <a:stretch/>
          </p:blipFill>
          <p:spPr>
            <a:xfrm>
              <a:off x="7616880" y="5308560"/>
              <a:ext cx="106992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"/>
            <a:stretch/>
          </p:blipFill>
          <p:spPr>
            <a:xfrm>
              <a:off x="1886040" y="5308560"/>
              <a:ext cx="106200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87480" y="2867040"/>
              <a:ext cx="1440" cy="2311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565600" y="2786040"/>
              <a:ext cx="1146240" cy="11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06720" y="5931000"/>
              <a:ext cx="24004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49600" y="2151000"/>
              <a:ext cx="181440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437840" y="3506760"/>
              <a:ext cx="1359000" cy="1671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795760" y="2546280"/>
              <a:ext cx="2568240" cy="9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92400" y="4222800"/>
              <a:ext cx="3012840" cy="1434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1663200" y="2946240"/>
              <a:ext cx="530280" cy="1278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165800" y="2817360"/>
              <a:ext cx="1800" cy="240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1963800" y="2904840"/>
              <a:ext cx="1363680" cy="1158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5565600" y="4150800"/>
              <a:ext cx="1283040" cy="1070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046240" y="4150800"/>
              <a:ext cx="1227240" cy="1070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 rot="8760000">
            <a:off x="2896560" y="1296360"/>
            <a:ext cx="1981080" cy="1066680"/>
          </a:xfrm>
          <a:custGeom>
            <a:avLst/>
            <a:gdLst>
              <a:gd name="textAreaLeft" fmla="*/ 247680 w 1981080"/>
              <a:gd name="textAreaRight" fmla="*/ 1733760 w 198108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-57240" y="2478240"/>
            <a:ext cx="925848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5767560"/>
            <a:ext cx="9144000" cy="109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scale Carayon</dc:creator>
  <dc:description/>
  <dc:language>en-US</dc:language>
  <cp:lastModifiedBy>Pascale Carayon</cp:lastModifiedBy>
  <cp:revision>0</cp:revision>
  <dc:subject/>
  <dc:title>Design of Work for Patient Safety </dc:title>
</cp:coreProperties>
</file>