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EF78-CD34-4236-8568-505673B24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66600" y="209088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66600" y="40014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914A-C27B-4460-93BE-F07979CB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66600" y="20908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32280" y="20908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66600" y="4001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32280" y="4001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C1BE-87BF-49D0-9711-1C0BAE4A8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66600" y="20908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17200" y="20908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68160" y="20908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66600" y="40014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17200" y="40014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68160" y="40014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515F-C800-40AA-8B27-31C2852AA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66600" y="20908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A0E5-0B14-4061-9C3E-3BD3F8F1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66600" y="20908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4A94-200C-4385-989A-9DF7BBC4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66600" y="20908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32280" y="20908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9AAC-90FA-4C49-A30C-B14CDB1F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E471-5B95-4D87-B4EA-78F009E0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AE46-9B6E-4122-BD25-88B402A6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66600" y="20908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32280" y="20908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66600" y="4001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856D-1B5F-4014-A459-280EAA57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66600" y="20908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32280" y="20908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32280" y="4001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C252-965E-4284-8BB5-DDBB6750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66600" y="20908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20908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66600" y="40014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6A88-0592-4B1C-B265-F9FA73E2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28600"/>
            <a:ext cx="914400" cy="6629400"/>
          </a:xfrm>
          <a:prstGeom prst="rect">
            <a:avLst/>
          </a:prstGeom>
          <a:gradFill rotWithShape="0">
            <a:gsLst>
              <a:gs pos="0">
                <a:srgbClr val="00b6b2"/>
              </a:gs>
              <a:gs pos="100000">
                <a:srgbClr val="00535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66600" y="20908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781560" indent="-164520">
              <a:spcBef>
                <a:spcPts val="22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3" marL="1028520" indent="-164520">
              <a:spcBef>
                <a:spcPts val="22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4" marL="1275480" indent="-164520">
              <a:spcBef>
                <a:spcPts val="22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5" marL="127548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6" marL="127548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" cy="251460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100000">
                <a:srgbClr val="99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1440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38606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6200000">
            <a:off x="-2375280" y="1982880"/>
            <a:ext cx="564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M Health Information Collabor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07240" y="6286680"/>
            <a:ext cx="233676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21280" y="33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" name="LCF_LOGO2Transparent" descr=""/>
          <p:cNvPicPr/>
          <p:nvPr/>
        </p:nvPicPr>
        <p:blipFill>
          <a:blip r:embed="rId2"/>
          <a:stretch/>
        </p:blipFill>
        <p:spPr>
          <a:xfrm>
            <a:off x="6934320" y="6095880"/>
            <a:ext cx="1625400" cy="57168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3"/>
          <a:stretch/>
        </p:blipFill>
        <p:spPr>
          <a:xfrm>
            <a:off x="44280" y="5791320"/>
            <a:ext cx="838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0200" y="609480"/>
            <a:ext cx="67816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Tahoma"/>
              </a:rPr>
              <a:t>Using Clinical Health Information Exchange to Improve Population Health</a:t>
            </a:r>
            <a:br>
              <a:rPr sz="3800"/>
            </a:br>
            <a:r>
              <a:rPr b="1" lang="en-US" sz="3800" spc="-1" strike="noStrike">
                <a:solidFill>
                  <a:srgbClr val="800000"/>
                </a:solidFill>
                <a:latin typeface="Tahoma"/>
              </a:rPr>
              <a:t>September 27, 2007</a:t>
            </a:r>
            <a:endParaRPr b="0" lang="en-US" sz="38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28954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8080"/>
                </a:solidFill>
                <a:latin typeface="Tahoma"/>
              </a:rPr>
              <a:t>New Mexico Experience 2004-2007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Tahoma"/>
              </a:rPr>
              <a:t>Robert E. White, MD. MPH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Tahoma"/>
              </a:rPr>
              <a:t>Lovelace Clinic Foundation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Tahoma"/>
              </a:rPr>
              <a:t>New Mexico Health Information Collaborative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0000"/>
                </a:solidFill>
                <a:latin typeface="Tahoma"/>
              </a:rPr>
              <a:t>Cast Collaboration:</a:t>
            </a:r>
            <a:br>
              <a:rPr sz="3800"/>
            </a:br>
            <a:r>
              <a:rPr b="0" lang="en-US" sz="3400" spc="-1" strike="noStrike">
                <a:solidFill>
                  <a:srgbClr val="800000"/>
                </a:solidFill>
                <a:latin typeface="Tahoma"/>
              </a:rPr>
              <a:t>Grant Performance 2005</a:t>
            </a:r>
            <a:br>
              <a:rPr sz="3400"/>
            </a:br>
            <a:r>
              <a:rPr b="0" lang="en-US" sz="3400" spc="-1" strike="noStrike">
                <a:solidFill>
                  <a:srgbClr val="800000"/>
                </a:solidFill>
                <a:latin typeface="Tahoma"/>
              </a:rPr>
              <a:t>NMDOH Lead Role Found</a:t>
            </a:r>
            <a:endParaRPr b="0" lang="en-US" sz="3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66600" y="2090880"/>
            <a:ext cx="754380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1950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July-December NMHIC emphasis: add secure, clinical messaging to MPI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>
              <a:spcBef>
                <a:spcPts val="1950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December 2005: E-report newborn hearing screening test results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952560" indent="-495360">
              <a:spcBef>
                <a:spcPts val="1001"/>
              </a:spcBef>
              <a:buClr>
                <a:srgbClr val="96969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Replace Fax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1" marL="952560" indent="-495360">
              <a:spcBef>
                <a:spcPts val="1001"/>
              </a:spcBef>
              <a:buClr>
                <a:srgbClr val="96969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Track actions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1" marL="952560" indent="-495360">
              <a:spcBef>
                <a:spcPts val="1001"/>
              </a:spcBef>
              <a:buClr>
                <a:srgbClr val="96969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Automate report receipt by multiple NMDOH staff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1" marL="952560" indent="-495360">
              <a:spcBef>
                <a:spcPts val="1001"/>
              </a:spcBef>
              <a:buClr>
                <a:srgbClr val="96969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No one owned the movie rights already!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0000"/>
                </a:solidFill>
                <a:latin typeface="Tahoma"/>
              </a:rPr>
              <a:t>Cast Collaboration:</a:t>
            </a:r>
            <a:br>
              <a:rPr sz="3800"/>
            </a:br>
            <a:r>
              <a:rPr b="0" lang="en-US" sz="3400" spc="-1" strike="noStrike">
                <a:solidFill>
                  <a:srgbClr val="800000"/>
                </a:solidFill>
                <a:latin typeface="Tahoma"/>
              </a:rPr>
              <a:t>Grant Performance Jan-May 2006</a:t>
            </a:r>
            <a:br>
              <a:rPr sz="3400"/>
            </a:br>
            <a:r>
              <a:rPr b="0" lang="en-US" sz="3400" spc="-1" strike="noStrike">
                <a:solidFill>
                  <a:srgbClr val="800000"/>
                </a:solidFill>
                <a:latin typeface="Tahoma"/>
              </a:rPr>
              <a:t>NMDOH Supporting Role</a:t>
            </a:r>
            <a:endParaRPr b="0" lang="en-US" sz="3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66600" y="2090880"/>
            <a:ext cx="754380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ix month progress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942840" indent="-490320">
              <a:lnSpc>
                <a:spcPct val="90000"/>
              </a:lnSpc>
              <a:spcBef>
                <a:spcPts val="1500"/>
              </a:spcBef>
              <a:buClr>
                <a:srgbClr val="96969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Add secure messaging technology to MPI/RLS system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942840" indent="-490320">
              <a:lnSpc>
                <a:spcPct val="90000"/>
              </a:lnSpc>
              <a:spcBef>
                <a:spcPts val="1500"/>
              </a:spcBef>
              <a:buClr>
                <a:srgbClr val="96969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ind a pilot test site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942840" indent="-490320">
              <a:lnSpc>
                <a:spcPct val="90000"/>
              </a:lnSpc>
              <a:spcBef>
                <a:spcPts val="1500"/>
              </a:spcBef>
              <a:buClr>
                <a:srgbClr val="96969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May 2006: Taos Holy Cross Hospital willing to Star: pilot electronic newborn hearing test reporting and other messaging services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0000"/>
                </a:solidFill>
                <a:latin typeface="Tahoma"/>
              </a:rPr>
              <a:t>Cast Collaboration:</a:t>
            </a:r>
            <a:br>
              <a:rPr sz="3800"/>
            </a:br>
            <a:r>
              <a:rPr b="0" lang="en-US" sz="3400" spc="-1" strike="noStrike">
                <a:solidFill>
                  <a:srgbClr val="800000"/>
                </a:solidFill>
                <a:latin typeface="Tahoma"/>
              </a:rPr>
              <a:t>Grant Performance 2006</a:t>
            </a:r>
            <a:br>
              <a:rPr sz="3400"/>
            </a:br>
            <a:r>
              <a:rPr b="0" lang="en-US" sz="3400" spc="-1" strike="noStrike">
                <a:solidFill>
                  <a:srgbClr val="800000"/>
                </a:solidFill>
                <a:latin typeface="Tahoma"/>
              </a:rPr>
              <a:t>NMDOH Lead Role Again</a:t>
            </a:r>
            <a:endParaRPr b="0" lang="en-US" sz="3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66600" y="2090880"/>
            <a:ext cx="754380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Last 6 months of 2006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952560" indent="-495360">
              <a:lnSpc>
                <a:spcPct val="90000"/>
              </a:lnSpc>
              <a:spcBef>
                <a:spcPts val="1500"/>
              </a:spcBef>
              <a:buClr>
                <a:srgbClr val="96969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Build newborn hearing screening test functionality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952560" indent="-495360">
              <a:lnSpc>
                <a:spcPct val="90000"/>
              </a:lnSpc>
              <a:spcBef>
                <a:spcPts val="1500"/>
              </a:spcBef>
              <a:buClr>
                <a:srgbClr val="96969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Interact with NMDOH and Taos community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0000"/>
                </a:solidFill>
                <a:latin typeface="Tahoma"/>
              </a:rPr>
              <a:t>Cast Collaboration:</a:t>
            </a:r>
            <a:br>
              <a:rPr sz="3800"/>
            </a:br>
            <a:r>
              <a:rPr b="0" lang="en-US" sz="3400" spc="-1" strike="noStrike">
                <a:solidFill>
                  <a:srgbClr val="800000"/>
                </a:solidFill>
                <a:latin typeface="Tahoma"/>
              </a:rPr>
              <a:t>Grant Performance 2007</a:t>
            </a:r>
            <a:br>
              <a:rPr sz="3400"/>
            </a:br>
            <a:r>
              <a:rPr b="0" lang="en-US" sz="3400" spc="-1" strike="noStrike">
                <a:solidFill>
                  <a:srgbClr val="800000"/>
                </a:solidFill>
                <a:latin typeface="Tahoma"/>
              </a:rPr>
              <a:t>NMDOH Supporting Role</a:t>
            </a:r>
            <a:endParaRPr b="0" lang="en-US" sz="3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66600" y="2090880"/>
            <a:ext cx="754380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Next 5 months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952560" indent="-495360">
              <a:lnSpc>
                <a:spcPct val="90000"/>
              </a:lnSpc>
              <a:spcBef>
                <a:spcPts val="1500"/>
              </a:spcBef>
              <a:buClr>
                <a:srgbClr val="96969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low progress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1314360" indent="-457200">
              <a:lnSpc>
                <a:spcPct val="90000"/>
              </a:lnSpc>
              <a:spcBef>
                <a:spcPts val="1225"/>
              </a:spcBef>
              <a:buClr>
                <a:srgbClr val="96969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ahoma"/>
              </a:rPr>
              <a:t>State Legislature trumped the stage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lvl="2" marL="1314360" indent="-457200">
              <a:lnSpc>
                <a:spcPct val="90000"/>
              </a:lnSpc>
              <a:spcBef>
                <a:spcPts val="1225"/>
              </a:spcBef>
              <a:buClr>
                <a:srgbClr val="96969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ahoma"/>
              </a:rPr>
              <a:t>Taos computer support cast slow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800000"/>
                </a:solidFill>
                <a:uFillTx/>
                <a:latin typeface="Tahoma"/>
              </a:rPr>
              <a:t>Movie Premieres June 2007</a:t>
            </a:r>
            <a:br>
              <a:rPr sz="3400"/>
            </a:br>
            <a:r>
              <a:rPr b="0" lang="en-US" sz="3400" spc="-1" strike="noStrike">
                <a:solidFill>
                  <a:srgbClr val="800000"/>
                </a:solidFill>
                <a:latin typeface="Tahoma"/>
              </a:rPr>
              <a:t>NMDOH and Taos Hospital Star!</a:t>
            </a:r>
            <a:endParaRPr b="0" lang="en-US" sz="3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66600" y="2090880"/>
            <a:ext cx="754380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Infant hearing reports sent electronically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952560" indent="-495360">
              <a:lnSpc>
                <a:spcPct val="90000"/>
              </a:lnSpc>
              <a:spcBef>
                <a:spcPts val="1500"/>
              </a:spcBef>
              <a:buClr>
                <a:srgbClr val="96969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Hospital report entry worked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952560" indent="-495360">
              <a:lnSpc>
                <a:spcPct val="90000"/>
              </a:lnSpc>
              <a:spcBef>
                <a:spcPts val="1301"/>
              </a:spcBef>
              <a:buClr>
                <a:srgbClr val="96969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NMDOH received and can track</a:t>
            </a: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0000"/>
                </a:solidFill>
                <a:latin typeface="Tahoma"/>
              </a:rPr>
              <a:t>Producer Lessons:</a:t>
            </a:r>
            <a:br>
              <a:rPr sz="3800"/>
            </a:br>
            <a:r>
              <a:rPr b="0" lang="en-US" sz="3400" spc="-1" strike="noStrike">
                <a:solidFill>
                  <a:srgbClr val="800000"/>
                </a:solidFill>
                <a:latin typeface="Tahoma"/>
              </a:rPr>
              <a:t>2003-2007</a:t>
            </a:r>
            <a:br>
              <a:rPr sz="3400"/>
            </a:br>
            <a:r>
              <a:rPr b="0" lang="en-US" sz="3400" spc="-1" strike="noStrike">
                <a:solidFill>
                  <a:srgbClr val="800000"/>
                </a:solidFill>
                <a:latin typeface="Tahoma"/>
              </a:rPr>
              <a:t>Public Health Use</a:t>
            </a:r>
            <a:endParaRPr b="0" lang="en-US" sz="3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66600" y="2090880"/>
            <a:ext cx="754380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22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NMDOH involved throughou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>
              <a:lnSpc>
                <a:spcPct val="90000"/>
              </a:lnSpc>
              <a:spcBef>
                <a:spcPts val="22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arch for the nexus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>
              <a:lnSpc>
                <a:spcPct val="90000"/>
              </a:lnSpc>
              <a:spcBef>
                <a:spcPts val="22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Meet, meet and greet, gree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>
              <a:lnSpc>
                <a:spcPct val="90000"/>
              </a:lnSpc>
              <a:spcBef>
                <a:spcPts val="22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Leverage the advantage: community has public health “must do’s”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>
              <a:lnSpc>
                <a:spcPct val="90000"/>
              </a:lnSpc>
              <a:spcBef>
                <a:spcPts val="22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tar born every minute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95256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0000"/>
                </a:solidFill>
                <a:latin typeface="Tahoma"/>
              </a:rPr>
              <a:t>Considering The Sequel</a:t>
            </a:r>
            <a:br>
              <a:rPr sz="3800"/>
            </a:br>
            <a:r>
              <a:rPr b="0" lang="en-US" sz="3400" spc="-1" strike="noStrike">
                <a:solidFill>
                  <a:srgbClr val="800000"/>
                </a:solidFill>
                <a:latin typeface="Tahoma"/>
              </a:rPr>
              <a:t>2007 CDC Contract for HIE and Situational Awareness</a:t>
            </a:r>
            <a:endParaRPr b="0" lang="en-US" sz="3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66600" y="2090880"/>
            <a:ext cx="754380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2100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ahoma"/>
              </a:rPr>
              <a:t>Coincidental search for vendor collaborator had started February 2007 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>
              <a:lnSpc>
                <a:spcPct val="90000"/>
              </a:lnSpc>
              <a:spcBef>
                <a:spcPts val="2100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ahoma"/>
              </a:rPr>
              <a:t>We already made one movie together!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>
              <a:lnSpc>
                <a:spcPct val="90000"/>
              </a:lnSpc>
              <a:spcBef>
                <a:spcPts val="2100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ahoma"/>
              </a:rPr>
              <a:t>Newborn reporting legitimized our HIE to a major studio (CDC)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>
              <a:lnSpc>
                <a:spcPct val="90000"/>
              </a:lnSpc>
              <a:spcBef>
                <a:spcPts val="2100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ahoma"/>
              </a:rPr>
              <a:t>Strong support by NMDOH CIO (multiple, overlapping interactions)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lvl="1" marL="9525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0000"/>
                </a:solidFill>
                <a:latin typeface="Tahoma"/>
              </a:rPr>
              <a:t>The Sequel is a Blockbuster?</a:t>
            </a:r>
            <a:br>
              <a:rPr sz="3800"/>
            </a:br>
            <a:r>
              <a:rPr b="0" lang="en-US" sz="3400" spc="-1" strike="noStrike">
                <a:solidFill>
                  <a:srgbClr val="800000"/>
                </a:solidFill>
                <a:latin typeface="Tahoma"/>
              </a:rPr>
              <a:t>2007 CDC Contract for HIE and Situational Awareness</a:t>
            </a:r>
            <a:endParaRPr b="0" lang="en-US" sz="3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66600" y="2090880"/>
            <a:ext cx="754380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Our Strengths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>
              <a:lnSpc>
                <a:spcPct val="90000"/>
              </a:lnSpc>
              <a:spcBef>
                <a:spcPts val="2100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ahoma"/>
              </a:rPr>
              <a:t>One state wide, public health entity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>
              <a:lnSpc>
                <a:spcPct val="90000"/>
              </a:lnSpc>
              <a:spcBef>
                <a:spcPts val="2100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ahoma"/>
              </a:rPr>
              <a:t>Community supporting cast already developed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>
              <a:lnSpc>
                <a:spcPct val="90000"/>
              </a:lnSpc>
              <a:spcBef>
                <a:spcPts val="2100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ahoma"/>
              </a:rPr>
              <a:t>Sought new cast members: Indian Health Service and rural hospitals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>
              <a:lnSpc>
                <a:spcPct val="90000"/>
              </a:lnSpc>
              <a:spcBef>
                <a:spcPts val="2100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ahoma"/>
              </a:rPr>
              <a:t>Data exchange actually happening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lvl="1" marL="95256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0000"/>
                </a:solidFill>
                <a:latin typeface="Tahoma"/>
              </a:rPr>
              <a:t>New Mexico Is A Good Place to Make Movies AND Electronically Exchange Health Information </a:t>
            </a:r>
            <a:endParaRPr b="0" lang="en-US" sz="38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66600" y="2666880"/>
            <a:ext cx="566244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4400" indent="-554400">
              <a:lnSpc>
                <a:spcPct val="90000"/>
              </a:lnSpc>
              <a:spcBef>
                <a:spcPts val="22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Thanks to AHRQ staff for our HIE seed money and today’s discussion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22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Thanks to MANY NMDOH staff for their support, persistence and patience.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1950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bob.white@lcfresearch.org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58000" y="3581280"/>
            <a:ext cx="17272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0000"/>
                </a:solidFill>
                <a:latin typeface="Tahoma"/>
              </a:rPr>
              <a:t>New Mexico Cast of Characters</a:t>
            </a:r>
            <a:endParaRPr b="0" lang="en-US" sz="38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66600" y="20908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2251"/>
              </a:spcBef>
              <a:buClr>
                <a:srgbClr val="96969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Lovelace Clinic Foundation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>
              <a:spcBef>
                <a:spcPts val="2251"/>
              </a:spcBef>
              <a:buClr>
                <a:srgbClr val="96969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New Mexico Health Information Collaborative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>
              <a:spcBef>
                <a:spcPts val="2251"/>
              </a:spcBef>
              <a:buClr>
                <a:srgbClr val="96969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New Mexico Department of Health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0000"/>
                </a:solidFill>
                <a:latin typeface="Tahoma"/>
              </a:rPr>
              <a:t>New Mexico Cast of Characters</a:t>
            </a:r>
            <a:endParaRPr b="0" lang="en-US" sz="38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66600" y="20908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42880" indent="-542880">
              <a:spcBef>
                <a:spcPts val="2251"/>
              </a:spcBef>
              <a:buClr>
                <a:srgbClr val="96969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Lovelace Clinic Foundation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904680" indent="-470520">
              <a:spcBef>
                <a:spcPts val="1301"/>
              </a:spcBef>
              <a:buClr>
                <a:srgbClr val="96969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Non-profit health services research entity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904680" indent="-470520">
              <a:spcBef>
                <a:spcPts val="1301"/>
              </a:spcBef>
              <a:buClr>
                <a:srgbClr val="96969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Patient care database research experience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904680" indent="-470520">
              <a:spcBef>
                <a:spcPts val="1301"/>
              </a:spcBef>
              <a:buClr>
                <a:srgbClr val="96969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HIT project experience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904680" indent="-470520">
              <a:spcBef>
                <a:spcPts val="1301"/>
              </a:spcBef>
              <a:buClr>
                <a:srgbClr val="96969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History of community collaborative projects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0000"/>
                </a:solidFill>
                <a:latin typeface="Tahoma"/>
              </a:rPr>
              <a:t>New Mexico Cast of Characters</a:t>
            </a:r>
            <a:endParaRPr b="0" lang="en-US" sz="38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66960" y="2090880"/>
            <a:ext cx="5967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48640" indent="-548640">
              <a:lnSpc>
                <a:spcPct val="90000"/>
              </a:lnSpc>
              <a:spcBef>
                <a:spcPts val="2251"/>
              </a:spcBef>
              <a:buClr>
                <a:srgbClr val="969696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New Mexico Health Information Collaborative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914400" indent="-475200">
              <a:lnSpc>
                <a:spcPct val="90000"/>
              </a:lnSpc>
              <a:spcBef>
                <a:spcPts val="1301"/>
              </a:spcBef>
              <a:buClr>
                <a:srgbClr val="96969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Based at Lovelace Clinic Foundation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914400" indent="-475200">
              <a:lnSpc>
                <a:spcPct val="90000"/>
              </a:lnSpc>
              <a:spcBef>
                <a:spcPts val="1301"/>
              </a:spcBef>
              <a:buClr>
                <a:srgbClr val="96969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2004 AHRQ initiated HIE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914400" indent="-475200">
              <a:lnSpc>
                <a:spcPct val="90000"/>
              </a:lnSpc>
              <a:spcBef>
                <a:spcPts val="1301"/>
              </a:spcBef>
              <a:buClr>
                <a:srgbClr val="96969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Extensive community involvement: 33 different organizations regularly involved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91440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0" y="2133720"/>
            <a:ext cx="17272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0000"/>
                </a:solidFill>
                <a:latin typeface="Tahoma"/>
              </a:rPr>
              <a:t>New Mexico Cast of Characters</a:t>
            </a:r>
            <a:endParaRPr b="0" lang="en-US" sz="38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66600" y="20908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2251"/>
              </a:spcBef>
              <a:buClr>
                <a:srgbClr val="969696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New Mexico Department of Health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952560" indent="-495360">
              <a:spcBef>
                <a:spcPts val="1301"/>
              </a:spcBef>
              <a:buClr>
                <a:srgbClr val="96969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One, state-wide public health authority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952560" indent="-495360">
              <a:spcBef>
                <a:spcPts val="1301"/>
              </a:spcBef>
              <a:buClr>
                <a:srgbClr val="96969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Employs 3900 state workers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952560" indent="-495360">
              <a:spcBef>
                <a:spcPts val="1301"/>
              </a:spcBef>
              <a:buClr>
                <a:srgbClr val="96969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Provides medical care services as well as surveillance, policy, monitoring and other traditional public health duties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0000"/>
                </a:solidFill>
                <a:latin typeface="Tahoma"/>
              </a:rPr>
              <a:t>First Full-Length Production:</a:t>
            </a:r>
            <a:br>
              <a:rPr sz="3800"/>
            </a:br>
            <a:r>
              <a:rPr b="0" lang="en-US" sz="3400" spc="-1" strike="noStrike">
                <a:solidFill>
                  <a:srgbClr val="800000"/>
                </a:solidFill>
                <a:latin typeface="Tahoma"/>
              </a:rPr>
              <a:t>Grant Submission Performance 2003</a:t>
            </a:r>
            <a:br>
              <a:rPr sz="3400"/>
            </a:br>
            <a:r>
              <a:rPr b="0" lang="en-US" sz="3800" spc="-1" strike="noStrike">
                <a:solidFill>
                  <a:srgbClr val="800000"/>
                </a:solidFill>
                <a:latin typeface="Tahoma"/>
              </a:rPr>
              <a:t>Lead Roles By:</a:t>
            </a:r>
            <a:endParaRPr b="0" lang="en-US" sz="38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66600" y="20908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2251"/>
              </a:spcBef>
              <a:buClr>
                <a:srgbClr val="96969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Lovelace Clinic Foundation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>
              <a:spcBef>
                <a:spcPts val="2251"/>
              </a:spcBef>
              <a:buClr>
                <a:srgbClr val="96969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New Mexico Department of Health (NMDOH)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>
              <a:spcBef>
                <a:spcPts val="22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To create NMHIC proposa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0000"/>
                </a:solidFill>
                <a:latin typeface="Tahoma"/>
              </a:rPr>
              <a:t>Cast Collaboration:</a:t>
            </a:r>
            <a:br>
              <a:rPr sz="3800"/>
            </a:br>
            <a:r>
              <a:rPr b="0" lang="en-US" sz="3400" spc="-1" strike="noStrike">
                <a:solidFill>
                  <a:srgbClr val="800000"/>
                </a:solidFill>
                <a:latin typeface="Tahoma"/>
              </a:rPr>
              <a:t>Grant Performance 2004-05</a:t>
            </a:r>
            <a:br>
              <a:rPr sz="3400"/>
            </a:br>
            <a:r>
              <a:rPr b="0" lang="en-US" sz="3400" spc="-1" strike="noStrike">
                <a:solidFill>
                  <a:srgbClr val="800000"/>
                </a:solidFill>
                <a:latin typeface="Tahoma"/>
              </a:rPr>
              <a:t>NMDOH is an Extra:</a:t>
            </a:r>
            <a:endParaRPr b="0" lang="en-US" sz="3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66600" y="20908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22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2004: Building technology, educating community participants, and organizing steering body &amp; work groups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>
              <a:spcBef>
                <a:spcPts val="22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2005: Building a Master Patient Index with NMHIC participant data 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0000"/>
                </a:solidFill>
                <a:latin typeface="Tahoma"/>
              </a:rPr>
              <a:t>Cast Collaboration:</a:t>
            </a:r>
            <a:br>
              <a:rPr sz="3800"/>
            </a:br>
            <a:r>
              <a:rPr b="0" lang="en-US" sz="3400" spc="-1" strike="noStrike">
                <a:solidFill>
                  <a:srgbClr val="800000"/>
                </a:solidFill>
                <a:latin typeface="Tahoma"/>
              </a:rPr>
              <a:t>Grant Performance 2005</a:t>
            </a:r>
            <a:br>
              <a:rPr sz="3400"/>
            </a:br>
            <a:r>
              <a:rPr b="0" lang="en-US" sz="3400" spc="-1" strike="noStrike">
                <a:solidFill>
                  <a:srgbClr val="800000"/>
                </a:solidFill>
                <a:latin typeface="Tahoma"/>
              </a:rPr>
              <a:t>NMDOH Search for Supporting Role</a:t>
            </a:r>
            <a:endParaRPr b="0" lang="en-US" sz="3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66600" y="2090880"/>
            <a:ext cx="754380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22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nd fact-of-death reports from NMDOH to the MPI and improve MPI accuracy and help clinicians?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>
              <a:spcBef>
                <a:spcPts val="22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Assist in e-vital record entry?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>
              <a:spcBef>
                <a:spcPts val="22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Integrate into immunization registry?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>
              <a:spcBef>
                <a:spcPts val="22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ubmit a new grant?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0000"/>
                </a:solidFill>
                <a:latin typeface="Tahoma"/>
              </a:rPr>
              <a:t>Cast Collaboration:</a:t>
            </a:r>
            <a:br>
              <a:rPr sz="3800"/>
            </a:br>
            <a:r>
              <a:rPr b="0" lang="en-US" sz="3400" spc="-1" strike="noStrike">
                <a:solidFill>
                  <a:srgbClr val="800000"/>
                </a:solidFill>
                <a:latin typeface="Tahoma"/>
              </a:rPr>
              <a:t>Grant Performance 2005</a:t>
            </a:r>
            <a:br>
              <a:rPr sz="3400"/>
            </a:br>
            <a:r>
              <a:rPr b="0" lang="en-US" sz="3400" spc="-1" strike="noStrike">
                <a:solidFill>
                  <a:srgbClr val="800000"/>
                </a:solidFill>
                <a:latin typeface="Tahoma"/>
              </a:rPr>
              <a:t>NMDOH Search for Supporting Role</a:t>
            </a:r>
            <a:endParaRPr b="0" lang="en-US" sz="3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66600" y="2090880"/>
            <a:ext cx="754380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22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act-of-death idea died.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>
              <a:lnSpc>
                <a:spcPct val="90000"/>
              </a:lnSpc>
              <a:spcBef>
                <a:spcPts val="22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e-vital project too advanced for NMDOH to alter plan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>
              <a:lnSpc>
                <a:spcPct val="90000"/>
              </a:lnSpc>
              <a:spcBef>
                <a:spcPts val="22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Immunization process on its own project plan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>
              <a:lnSpc>
                <a:spcPct val="90000"/>
              </a:lnSpc>
              <a:spcBef>
                <a:spcPts val="22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Grant submitted, but our movie script was rejected by the major studios.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9T17:28:53Z</dcterms:created>
  <dc:creator>ALSALI</dc:creator>
  <dc:description/>
  <dc:language>en-US</dc:language>
  <cp:lastModifiedBy>User</cp:lastModifiedBy>
  <cp:lastPrinted>2001-10-08T18:37:24Z</cp:lastPrinted>
  <dcterms:modified xsi:type="dcterms:W3CDTF">2007-09-27T18:59:03Z</dcterms:modified>
  <cp:revision>198</cp:revision>
  <dc:subject/>
  <dc:title>Medical Education Division</dc:title>
</cp:coreProperties>
</file>