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A56A-69DB-4DE2-A46D-BC4179462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Agree with content but not put into practice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as of collaboration necessary to successfully implement and sustain include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taff perception of increased workloa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ulture of professional “autonomy”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mplexity of system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Lack of evidence in many areas of health car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Financial constraint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eimbursement/Compensation Model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 will talk in more detail in future sli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you can see, we spread over the midwest region.  Small and large organizations, free standing and integrated sy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75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mission of our collaboration is to: &lt;mission statement&gt;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r focus is to identify  the transformational margin and undertake initiatives  that are patient centered and  value driv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I guideline process aims t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evidence-based health care guidelines for health care system design and point of care refer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ow the gap between the care clinicians provide and the care that scientific evidence indicates should be provided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 the failure to rapidly translate research findings into clinical practice more quick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mplementation recommendations for care delivery system design that support clinicians in delivering evidence-based c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, ICSI provid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 papers:  Executive Summ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Chan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Rep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 to use in your consensus proc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SI guideline process aims t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evidence-based health care guidelines for health care system design and point of care refer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rrow the gap between the care clinicians provide and the care that scientific evidence indicates should be provided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ress the failure to rapidly translate research findings into clinical practice more quick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implementation recommendations for care delivery system design that support clinicians in delivering evidence-based c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, ICSI provid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 papers:  Executive Summ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Chan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 Repor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 to use in your consensus proc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se papers:  Executive Summ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of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Re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s to use in your consensus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828800"/>
            <a:ext cx="8915400" cy="0"/>
          </a:xfrm>
          <a:prstGeom prst="line">
            <a:avLst/>
          </a:prstGeom>
          <a:ln w="50760">
            <a:solidFill>
              <a:srgbClr val="ffd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3244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27A3-9C8F-4CBE-8CF3-36F186BD9B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db96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3800" y="6172200"/>
            <a:ext cx="101268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3276720"/>
            <a:ext cx="8915400" cy="0"/>
          </a:xfrm>
          <a:prstGeom prst="line">
            <a:avLst/>
          </a:prstGeom>
          <a:ln w="50760">
            <a:solidFill>
              <a:srgbClr val="ffdb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001000" y="6186600"/>
            <a:ext cx="1012680" cy="671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db9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09480" y="16761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2000"/>
          </a:bodyPr>
          <a:p>
            <a:pPr marL="272160" indent="-27216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588240" indent="-20304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—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907200" indent="-18072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269000" indent="-18036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4" marL="1632240" indent="-18072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5" marL="1632240" indent="-18072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6" marL="1632240" indent="-18072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341360"/>
            <a:ext cx="7925040" cy="0"/>
          </a:xfrm>
          <a:prstGeom prst="line">
            <a:avLst/>
          </a:prstGeom>
          <a:ln w="50760">
            <a:solidFill>
              <a:srgbClr val="ffc6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856640" y="5943600"/>
            <a:ext cx="6444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09480" y="16761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76000"/>
          </a:bodyPr>
          <a:p>
            <a:pPr marL="252000" indent="-25200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1" marL="545040" indent="-18792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—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2" marL="840960" indent="-16740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3" marL="1176120" indent="-16740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4" marL="1512720" indent="-16740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5" marL="1512720" indent="-16740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6" marL="1512720" indent="-167400">
              <a:spcBef>
                <a:spcPts val="975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341360"/>
            <a:ext cx="7925040" cy="0"/>
          </a:xfrm>
          <a:prstGeom prst="line">
            <a:avLst/>
          </a:prstGeom>
          <a:ln w="50760">
            <a:solidFill>
              <a:srgbClr val="ffc6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856640" y="5943600"/>
            <a:ext cx="64440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b96"/>
                </a:solidFill>
                <a:latin typeface="Times New Roman"/>
              </a:rPr>
              <a:t>Time Tested </a:t>
            </a:r>
            <a:br>
              <a:rPr sz="3600"/>
            </a:br>
            <a:r>
              <a:rPr b="1" lang="en-US" sz="3600" spc="-1" strike="noStrike">
                <a:solidFill>
                  <a:srgbClr val="ffdb96"/>
                </a:solidFill>
                <a:latin typeface="Times New Roman"/>
              </a:rPr>
              <a:t>Guideline Development and Implementation</a:t>
            </a:r>
            <a:r>
              <a:rPr b="0" lang="en-US" sz="3600" spc="-1" strike="noStrike">
                <a:solidFill>
                  <a:srgbClr val="ffdb96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2280" y="3352320"/>
            <a:ext cx="8763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b96"/>
                </a:solidFill>
                <a:latin typeface="Times New Roman"/>
              </a:rPr>
              <a:t>The Institute for Clinical Systems Improvement (ICSI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b96"/>
                </a:solidFill>
                <a:latin typeface="Times New Roman"/>
              </a:rPr>
              <a:t>Collaborative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3244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2007 Institute for Clinical Systems Improvement</a:t>
            </a:r>
            <a:endParaRPr b="0" lang="en-US" sz="12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1752480" y="5257800"/>
            <a:ext cx="609624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b96"/>
                </a:solidFill>
                <a:latin typeface="ヒラギノ角ゴ Pro W3"/>
              </a:rPr>
              <a:t>Cally Vinz, RN -  Director Evidence Based Health Care, ICSI</a:t>
            </a:r>
            <a:endParaRPr b="0" lang="en-US" sz="1800" spc="-1" strike="noStrike">
              <a:solidFill>
                <a:srgbClr val="ffdb9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b96"/>
                </a:solidFill>
                <a:latin typeface="Times New Roman"/>
              </a:rPr>
              <a:t>AHRQ </a:t>
            </a:r>
            <a:r>
              <a:rPr b="0" lang="en-US" sz="1600" spc="-1" strike="noStrike">
                <a:solidFill>
                  <a:srgbClr val="ffdb96"/>
                </a:solidFill>
                <a:latin typeface="ヒラギノ角ゴ Pro W3"/>
              </a:rPr>
              <a:t>_x0001_Annual Conference, September 2007</a:t>
            </a:r>
            <a:endParaRPr b="0" lang="en-US" sz="1600" spc="-1" strike="noStrike">
              <a:solidFill>
                <a:srgbClr val="ffdb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Where we started: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076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e bet” guidelin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nical issues with enough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ng many guidelines per y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ing all guidelines to be implemen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What we learned:</a:t>
            </a:r>
            <a:r>
              <a:rPr b="0" i="1" lang="en-US" sz="4000" spc="-1" strike="noStrike">
                <a:solidFill>
                  <a:srgbClr val="ffdb96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db96"/>
                </a:solidFill>
                <a:latin typeface="Times New Roman"/>
              </a:rPr>
              <a:t>“Guidelines do not implement themselves”</a:t>
            </a: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      </a:t>
            </a:r>
            <a:r>
              <a:rPr b="0" i="1" lang="en-US" sz="1400" spc="-1" strike="noStrike">
                <a:solidFill>
                  <a:srgbClr val="ffdb96"/>
                </a:solidFill>
                <a:latin typeface="Times New Roman"/>
              </a:rPr>
              <a:t>(Field and Mohr, 1992)</a:t>
            </a:r>
            <a:endParaRPr b="0" lang="en-US" sz="1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52120" y="320040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 suppo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improvement 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Collaborative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7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 recomme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Where we are now: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ics with less definitive evide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25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recommendations gro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-277560">
              <a:lnSpc>
                <a:spcPct val="1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stakeholders involv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patients, employers, plans, DHS,et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57736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Collaborative Implementation Strategies</a:t>
            </a:r>
            <a:endParaRPr b="0" lang="en-US" sz="40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01120" cy="5181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75000"/>
          </a:bodyPr>
          <a:p>
            <a:pPr marL="248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4876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imes New Roman"/>
              </a:rPr>
              <a:t>Successful Collaborative Implementation Requires:</a:t>
            </a:r>
            <a:r>
              <a:rPr b="0" lang="en-US" sz="39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93760">
              <a:lnSpc>
                <a:spcPct val="180000"/>
              </a:lnSpc>
              <a:spcBef>
                <a:spcPts val="85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Systems approach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9376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hange management strategies &amp; culture work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93760">
              <a:lnSpc>
                <a:spcPct val="130000"/>
              </a:lnSpc>
              <a:spcBef>
                <a:spcPts val="85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Improvement support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93760">
              <a:lnSpc>
                <a:spcPct val="130000"/>
              </a:lnSpc>
              <a:spcBef>
                <a:spcPts val="85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Transparent measur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ake it easy to do the right thing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Topics we are now addressing: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lliative 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ary Prevention of Chronic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6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ability Centered Surgical Care (protocols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Where we are going: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esigning guide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sion support recomme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recommendations of what to do and NOT to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orporate value recommendations (cost &amp; effectivenes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ations for EMR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uman f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iability conce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Where we are going: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the power of the collaborat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y transformational marg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lve all stakehold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ment 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 Adapting guidelines developed elsewhe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br>
              <a:rPr sz="6600"/>
            </a:br>
            <a:r>
              <a:rPr b="0" lang="en-US" sz="6000" spc="-1" strike="noStrike">
                <a:solidFill>
                  <a:srgbClr val="ffc66d"/>
                </a:solidFill>
                <a:latin typeface="Times New Roman"/>
              </a:rPr>
              <a:t>Redesigning Health Care</a:t>
            </a:r>
            <a:endParaRPr b="0" lang="en-US" sz="60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5000"/>
          </a:bodyPr>
          <a:p>
            <a:pPr marL="281880" indent="0" algn="ctr">
              <a:spcBef>
                <a:spcPts val="4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-28188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AMOND (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Depression Improvement Across Minnesota, Offering a New Direc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0">
              <a:spcBef>
                <a:spcPts val="49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-281880">
              <a:lnSpc>
                <a:spcPct val="7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igh Technology Diagnostic Imag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0"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-281880">
              <a:lnSpc>
                <a:spcPct val="5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liability Centered Surgical Ca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0">
              <a:spcBef>
                <a:spcPts val="6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880" indent="-281880">
              <a:spcBef>
                <a:spcPts val="90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lliative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idelines must be in an implementable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takes all stakeholders to make guidelines relev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collaboration, we go further, fa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ed implementation requires re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1d11"/>
            </a:gs>
            <a:gs pos="100000">
              <a:srgbClr val="0b64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b96"/>
                </a:solidFill>
                <a:latin typeface="Times New Roman"/>
              </a:rPr>
              <a:t>Who is ICSI?</a:t>
            </a:r>
            <a:endParaRPr b="0" lang="en-US" sz="4400" spc="-1" strike="noStrike">
              <a:solidFill>
                <a:srgbClr val="ffdb9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ed in 199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llaborative of 61 member organizations that include medical groups, hospitals and integrated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onsored by six non-profit health pla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821880" cy="73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4800" spc="-1" strike="noStrike">
                <a:solidFill>
                  <a:srgbClr val="ffc66d"/>
                </a:solidFill>
                <a:latin typeface="Times New Roman"/>
              </a:rPr>
              <a:t>Mission</a:t>
            </a:r>
            <a:endParaRPr b="0" lang="en-US" sz="48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752480"/>
            <a:ext cx="8237520" cy="57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Champion the cause of </a:t>
            </a:r>
            <a:r>
              <a:rPr b="1" lang="en-US" sz="3600" spc="-1" strike="noStrike" u="sng">
                <a:solidFill>
                  <a:srgbClr val="ffc66d"/>
                </a:solidFill>
                <a:uFillTx/>
                <a:latin typeface="Times New Roman"/>
              </a:rPr>
              <a:t>health care quality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  and to </a:t>
            </a:r>
            <a:r>
              <a:rPr b="1" lang="en-US" sz="3600" spc="-1" strike="noStrike" u="sng">
                <a:solidFill>
                  <a:srgbClr val="ffc66d"/>
                </a:solidFill>
                <a:uFillTx/>
                <a:latin typeface="Times New Roman"/>
              </a:rPr>
              <a:t>accelerate improvement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 in the </a:t>
            </a:r>
            <a:r>
              <a:rPr b="1" lang="en-US" sz="3600" spc="-1" strike="noStrike" u="sng">
                <a:solidFill>
                  <a:srgbClr val="ffc66d"/>
                </a:solidFill>
                <a:uFillTx/>
                <a:latin typeface="Times New Roman"/>
              </a:rPr>
              <a:t>value 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of the health care we deliver. </a:t>
            </a:r>
            <a:endParaRPr b="0" lang="en-US" sz="3600" spc="-1" strike="noStrike">
              <a:solidFill>
                <a:srgbClr val="ffdb9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952880"/>
            <a:ext cx="6324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e aim to make health care: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tient-centered and Value-driven</a:t>
            </a:r>
            <a:endParaRPr b="0" lang="en-US" sz="3200" spc="-1" strike="noStrike">
              <a:solidFill>
                <a:srgbClr val="ffdb9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7680" y="609120"/>
            <a:ext cx="880596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    </a:t>
            </a:r>
            <a:br>
              <a:rPr sz="4800"/>
            </a:b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Clinical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   Patient &amp; Family</a:t>
            </a:r>
            <a:br>
              <a:rPr sz="3600"/>
            </a:b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      Guidelines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c66d"/>
                </a:solidFill>
                <a:latin typeface="Times New Roman"/>
              </a:rPr>
              <a:t>Guidelines</a:t>
            </a:r>
            <a:endParaRPr b="0" lang="en-US" sz="36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4198680" cy="4952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9000"/>
          </a:bodyPr>
          <a:p>
            <a:pPr marL="295200" indent="-295200">
              <a:spcBef>
                <a:spcPts val="799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idence-based statements of how to prevent, detect, or treat a specific health condition taking into account the preferences of the patient and his or her famil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5200" indent="0">
              <a:spcBef>
                <a:spcPts val="300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5200" indent="0">
              <a:spcBef>
                <a:spcPts val="300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76560" y="1981080"/>
            <a:ext cx="409716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66000"/>
          </a:bodyPr>
          <a:p>
            <a:pPr marL="218880" indent="-218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ame clinical guidelines developed for health care providers, supplemented by definitions and descriptions of medical terms that are often unfamiliar to people who are not health care profession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1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1905120"/>
            <a:ext cx="0" cy="449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37680" y="456840"/>
            <a:ext cx="880596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5400" spc="-1" strike="noStrike">
                <a:solidFill>
                  <a:srgbClr val="ffc66d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Order Sets</a:t>
            </a: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66d"/>
                </a:solidFill>
                <a:latin typeface="Times New Roman"/>
              </a:rPr>
              <a:t>Protocols</a:t>
            </a:r>
            <a:endParaRPr b="0" lang="en-US" sz="40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71440" y="1828800"/>
            <a:ext cx="419904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73000"/>
          </a:bodyPr>
          <a:p>
            <a:pPr marL="242280" indent="-242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ardized instructions to manage a disease, condition or proced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2280" indent="-242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d as a set of  orders to be individually selected and signed by an authorized prescrib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4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46480" y="1828440"/>
            <a:ext cx="4097160" cy="4267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7000"/>
          </a:bodyPr>
          <a:p>
            <a:pPr marL="288720" indent="-288720">
              <a:spcBef>
                <a:spcPts val="799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-by-step statement of a routine procedur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7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720" indent="0">
              <a:spcBef>
                <a:spcPts val="79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720" indent="-288720">
              <a:spcBef>
                <a:spcPts val="799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assure intended  effect is reliably achie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73520" y="167652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367320" y="1676520"/>
            <a:ext cx="1219320" cy="533160"/>
          </a:xfrm>
          <a:prstGeom prst="flowChartAlternate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6570720" y="2743200"/>
            <a:ext cx="676080" cy="838080"/>
          </a:xfrm>
          <a:prstGeom prst="flowChartDecision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7790040" y="2971800"/>
            <a:ext cx="81252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6502320" y="4038480"/>
            <a:ext cx="81288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502320" y="5029200"/>
            <a:ext cx="81288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6367320" y="6019920"/>
            <a:ext cx="1219320" cy="533160"/>
          </a:xfrm>
          <a:prstGeom prst="flowChartAlternate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908760" y="22096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6908760" y="3581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6908760" y="45720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6908760" y="5562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7246800" y="3200400"/>
            <a:ext cx="543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8196120" y="35053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314840" y="5334120"/>
            <a:ext cx="88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Process</a:t>
            </a:r>
            <a:endParaRPr b="0" lang="en-US" sz="48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5961240" cy="4800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0000"/>
          </a:bodyPr>
          <a:p>
            <a:pPr marL="298440" indent="-298440">
              <a:spcBef>
                <a:spcPts val="75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disciplinary &amp; multi-organizational work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5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atic process for reviewing evidence, regulatory requirements and existing pract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2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ment of algorithm and annotations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citing graded evide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5480" indent="-222840">
              <a:lnSpc>
                <a:spcPct val="110000"/>
              </a:lnSpc>
              <a:spcBef>
                <a:spcPts val="624"/>
              </a:spcBef>
              <a:buClr>
                <a:srgbClr val="ffffff"/>
              </a:buClr>
              <a:buSzPct val="70000"/>
              <a:buFont typeface="Times"/>
              <a:buChar char="—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ensus process to support standard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367320" y="1676520"/>
            <a:ext cx="1219320" cy="533160"/>
          </a:xfrm>
          <a:prstGeom prst="flowChartAlternate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6570720" y="2743200"/>
            <a:ext cx="676080" cy="838080"/>
          </a:xfrm>
          <a:prstGeom prst="flowChartDecision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7790040" y="2971800"/>
            <a:ext cx="81252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6502320" y="4038480"/>
            <a:ext cx="81288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6502320" y="5029200"/>
            <a:ext cx="81288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6019920"/>
            <a:ext cx="1219320" cy="533160"/>
          </a:xfrm>
          <a:prstGeom prst="flowChartAlternate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6908760" y="22096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908760" y="3581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908760" y="45720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6908760" y="5562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7246800" y="3200400"/>
            <a:ext cx="543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8196120" y="35053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314840" y="5334120"/>
            <a:ext cx="88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Process </a:t>
            </a:r>
            <a:r>
              <a:rPr b="0" lang="en-US" sz="3200" spc="-1" strike="noStrike">
                <a:solidFill>
                  <a:srgbClr val="ffc66d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Times New Roman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 implementation and measurement recomme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ew and feedback by member organiza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pond to comments, revise &amp; release for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d every 12-36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2b1b"/>
            </a:gs>
            <a:gs pos="100000">
              <a:srgbClr val="2f94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4800" spc="-1" strike="noStrike">
                <a:solidFill>
                  <a:srgbClr val="ffc66d"/>
                </a:solidFill>
                <a:latin typeface="Times New Roman"/>
              </a:rPr>
              <a:t>Guideline Sections</a:t>
            </a:r>
            <a:endParaRPr b="0" lang="en-US" sz="4800" spc="-1" strike="noStrike">
              <a:solidFill>
                <a:srgbClr val="ffc66d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 &amp; Anno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2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ing Ev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>
              <a:lnSpc>
                <a:spcPct val="22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Times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 Recommend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lnSpc>
                <a:spcPct val="220000"/>
              </a:lnSpc>
              <a:spcBef>
                <a:spcPts val="700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99280" y="1676520"/>
            <a:ext cx="1218960" cy="533160"/>
          </a:xfrm>
          <a:prstGeom prst="flowChartAlternate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6570720" y="2743200"/>
            <a:ext cx="676080" cy="838080"/>
          </a:xfrm>
          <a:prstGeom prst="flowChartDecision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7790040" y="2971800"/>
            <a:ext cx="81252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6502320" y="4038480"/>
            <a:ext cx="81288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6502320" y="5029200"/>
            <a:ext cx="812880" cy="533520"/>
          </a:xfrm>
          <a:prstGeom prst="flowChart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6367320" y="6019920"/>
            <a:ext cx="1219320" cy="533160"/>
          </a:xfrm>
          <a:prstGeom prst="flowChartAlternateProcess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6908760" y="22096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908760" y="3581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6908760" y="45720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6908760" y="5562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7246800" y="3200400"/>
            <a:ext cx="543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8196120" y="3505320"/>
            <a:ext cx="0" cy="182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314840" y="5334120"/>
            <a:ext cx="88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db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1:48:43Z</dcterms:created>
  <dc:creator>Cally Vinz</dc:creator>
  <dc:description/>
  <cp:keywords/>
  <dc:language>en-US</dc:language>
  <cp:lastModifiedBy>User</cp:lastModifiedBy>
  <cp:lastPrinted>2006-07-19T22:16:06Z</cp:lastPrinted>
  <dcterms:modified xsi:type="dcterms:W3CDTF">2007-09-27T13:22:31Z</dcterms:modified>
  <cp:revision>56</cp:revision>
  <dc:subject/>
  <dc:title>Time Tested Guideline Developed and Implementation:</dc:title>
</cp:coreProperties>
</file>