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C31D-F9E9-4602-83BF-F8AB212A0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B570-B000-47E4-B6B5-EECDF59B5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97E1-4537-4E2C-8EB4-9D67DA16A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8CF8-C372-414D-8051-41CCCD74DC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5B20-7B40-4EDF-B09F-93E395B5E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62E8-66B6-4AC7-89F9-A844C30F3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70A6-B560-4BC0-B491-E464A8970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BE90-0CD9-4BD6-958E-6C18CC7FA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7D72-F61B-4AFD-8779-E667C8EC8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B474-999B-45EB-8F40-75DE283E4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1D89-4A78-4CF8-B8DF-7A6DDA220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CC2D0-768A-48CF-9FFD-13FF09237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Nurse Working Conditions and Patient Safety: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Outcomes of ICU Working Conditions Stud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vestigators: Pat Stone, Andy Dick, Teresa Horan, Elaine Larson, Cathy Mooney-Kane, and Jack Zwanzig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s2024@columbia.ed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5715000"/>
            <a:ext cx="838080" cy="712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90920" y="5867280"/>
            <a:ext cx="5790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nded by AHRQ R01 HS01311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pported by the CD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ummary of Result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creased staffing significantly (p &lt;0.05) related to safety outco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BSI (OR=.32), VAP (OR=.21), 30-day mortality (OR=. 81) and decubitus ulcer (OR=.6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tients in ICUs staffed with higher proportions had a 3 to 5 fold increase in CAUTI and 2 fold increase in decubi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Summary of Results (cont)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al climate related to CLBSI and CAU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tients in ICUs with positive organizational climate 39% decreased odds of CAU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=0.61, C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95%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0.44-0.8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flicting results with CLBS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=1.19, C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95%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1.05-1.3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xed results with profit marg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independent effect of Magnet stat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iscussion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study to link nurse working conditions with CDC infection surveillance da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rehensive examination with unique data sourc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dministrative processes related to nurse working conditions were associated with patient safety outcom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trengths and Limitation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que data s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 national s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eralizabil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specif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er represented by large teaching hospit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spitals were part of the CDC net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224784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nical Application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ystems approach, including improving nurse working conditions, can improve patient safe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stitutes for overtime and a flexible, qualified workforce is need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Other Analyses,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Nurse and System Outcom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tional climate related 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ccupational inju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one &amp; Gershon (2007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tional climate related 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urses’ intention to leave posi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asing wages alone, without attention to organizational climate insufficien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one et al., (2007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That’s it, time to go…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1" name="" descr="Stock Photo of  sailboat sunset florida keys  "/>
          <p:cNvPicPr/>
          <p:nvPr/>
        </p:nvPicPr>
        <p:blipFill>
          <a:blip r:embed="rId1"/>
          <a:stretch/>
        </p:blipFill>
        <p:spPr>
          <a:xfrm>
            <a:off x="990720" y="1828800"/>
            <a:ext cx="244764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962520" y="2743200"/>
            <a:ext cx="4495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pecial thanks to all the infection control professionals, staff nurses and hospitals that participated in this proj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Next Research Step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vention of Nosocomial Infections and Cost-Effectiveness Analysis (P-NIC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scribe and determine effectiveness of infection control staffing and interven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ate long term outcomes of HA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ate cost-effectiveness of infection control staffing and interven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nded by NI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loratory Study Using Queueing Theory to Improve Nurse Staffing Effective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 queueing theory be used to inform nurse staffing decision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nded by AHRQ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Working Conditions and Patient Safety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owing concern that poor working conditions in the health care sector is contributing to decreasing patient safety (IOM, 2004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acute nursing shortage that will not be as cyclic as past shortages due t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ing workfor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ing population and increased demand for nursing servi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or working conditions resulting in difficulty recruiting and retaining qualified nursing personn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Healthcare Associated Infections (HAI)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Important Patient Safety Issue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I rates have risen over the last 30 ye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million cases annuall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00,000 occur in IC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only associated with insertion of a devi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leading cause of dea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imated to cost hospitals $5.9 billion per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ing numbers of HAI are resistant to one or more antibiot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rpos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ine the factors related to ICU nurse working conditions 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atient safety outco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8120" y="1981080"/>
            <a:ext cx="2971800" cy="14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ministrative Process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urse Working Condit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ganizational Clim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ver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g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514600"/>
            <a:ext cx="1981440" cy="14331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Patient Characteristics</a:t>
            </a:r>
            <a:br>
              <a:rPr sz="16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everity of Ill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morbid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Demograph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Socio-econom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3733920"/>
            <a:ext cx="2362320" cy="14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BS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UT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ubitus Ulc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-day Mort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724280"/>
            <a:ext cx="1905120" cy="118980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Structures of Care</a:t>
            </a:r>
            <a:br>
              <a:rPr sz="1600"/>
            </a:b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Hospital S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Teaching St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ICU Ty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Nursing Case-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9040" y="22860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Conceptual Fra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2438280" cy="76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uctures of Care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it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net Stat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1600200"/>
            <a:ext cx="1800" cy="49528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2360" y="1143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ovari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276720"/>
            <a:ext cx="53316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5334120"/>
            <a:ext cx="53316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3962520"/>
            <a:ext cx="1440" cy="7617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505320"/>
            <a:ext cx="1440" cy="1828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5181120"/>
            <a:ext cx="137160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666880"/>
            <a:ext cx="1371600" cy="10670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16002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553080"/>
            <a:ext cx="533520" cy="18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4640" y="914400"/>
            <a:ext cx="15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epen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5760" y="91440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Recruitmen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rough infection control profession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vitations sent to CDC NNIS hospit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IC listser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igi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CU must have conducted device related HAI surveillance for part of 2002 according to NNIS defin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ta Collection Procedures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tient characterist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dicare fi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ructure of C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HA d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ublic fil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ministrative Processes related to Nurse Working Condi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urse surve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yrol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ient cens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tient Outcom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DC infection dat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HRQ PS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esign/Statistical Analysis 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oss sectional analy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data provided for 2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ables computed on a monthly basi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cept organizational clim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f patient’s stay covered more than 1 month, patient assigned to period with the longest st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ltivariate logistic regressions for each safety outco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Sample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5,846 pati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1 IC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1 hospit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,095 R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7:52:06Z</dcterms:created>
  <dc:creator>pws7001</dc:creator>
  <dc:description/>
  <dc:language>en-US</dc:language>
  <cp:lastModifiedBy>Jeff Brady</cp:lastModifiedBy>
  <dcterms:modified xsi:type="dcterms:W3CDTF">2007-09-21T22:34:27Z</dcterms:modified>
  <cp:revision>49</cp:revision>
  <dc:subject/>
  <dc:title>Outcomes of ICU Working Conditions</dc:title>
</cp:coreProperties>
</file>