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D6C-AE2F-45D6-A0D1-4BA3AF732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71A2-5FC2-4FEC-8E3A-B579466F2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B56E-C771-4753-8CDE-13449309F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FFDE-6298-4015-942E-422525DB2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AD16-2C9E-47DE-8333-44F018D4A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8699-A372-4934-98B7-AEF707A33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C3EA-9EA7-4A61-8799-A192C19C8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AC91-5EFD-4B9C-86F7-7DDED3715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54BA-76C9-4766-8207-AAEBA339A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7658-AA48-438E-BDF8-A9FC106D3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3C8D-4496-4FEC-8654-917F22F88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1DDF-E2A1-46B1-A86A-3D894FFCA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Nurse Working Conditions and Patient Safety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Outcomes of ICU Working Conditions Stud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estigators: Pat Stone, Andy Dick, Teresa Horan, Elaine Larson, Cathy Mooney-Kane, and Jack Zwanzi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s2024@columbia.e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5715000"/>
            <a:ext cx="838080" cy="712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0920" y="5867280"/>
            <a:ext cx="579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AHRQ R01 HS01311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pported by the CD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ummary of Result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d staffing significantly (p &lt;0.05) related to safety outco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BSI (OR=.32), VAP (OR=.21), 30-day mortality (OR=. 81) and decubitus ulcer (OR=.6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s in ICUs staffed with higher proportions had a 3 to 5 fold increase in CAUTI and 2 fold increase in decubi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ummary of Results (cont)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al climate related to CLBSI and CAU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tients in ICUs with positive organizational climate 39% decreased odds of CAU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=0.61, C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95%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0.44-0.8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licting results with CLBS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=1.19, C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95%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1.05-1.3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xed results with profit marg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independent effect of Magnet stat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study to link nurse working conditions with CDC infection surveillanc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rehensive examination with unique data sour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ministrative processes related to nurse working conditions were associated with patient safety outcom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trengths and Limitation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que data s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national s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izabil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spec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 represented by large teaching hospit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spitals were part of the CDC net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24784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nical Application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ystems approach, including improving nurse working conditions, can improve patient safe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stitutes for overtime and a flexible, qualified workforce is nee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Other Analyses,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urse and System Outcom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tional climate related 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ccupational inju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ne &amp; Gershon (2007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tional climate related 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urses’ intention to leave pos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asing wages alone, without attention to organizational climate insufficien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ne et al., (2007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hat’s it, time to go…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1" name="" descr="Stock Photo of  sailboat sunset florida keys  "/>
          <p:cNvPicPr/>
          <p:nvPr/>
        </p:nvPicPr>
        <p:blipFill>
          <a:blip r:embed="rId1"/>
          <a:stretch/>
        </p:blipFill>
        <p:spPr>
          <a:xfrm>
            <a:off x="990720" y="1828800"/>
            <a:ext cx="244764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2743200"/>
            <a:ext cx="4495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cial thanks to all the infection control professionals, staff nurses and hospitals that participated in this proj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Next Research Step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ion of Nosocomial Infections and Cost-Effectiveness Analysis (P-N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scribe and determine effectiveness of infection control staffing and interven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ate long term outcomes of H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ate cost-effectiveness of infection control staffing and interven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NI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oratory Study Using Queueing Theory to Improve Nurse Staffing Effective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queueing theory be used to inform nurse staffing decis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AHRQ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king Conditions and Patient Safety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wing concern that poor working conditions in the health care sector is contributing to decreasing patient safety (IOM, 2004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acute nursing shortage that will not be as cyclic as past shortages due 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ing workfor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ing population and increased demand for nursing servi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or working conditions resulting in difficulty recruiting and retaining qualified nursing personn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Healthcare Associated Infections (HAI)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Important Patient Safety Issue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I rates have risen over the last 30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million cases annual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0,000 occur in IC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only associated with insertion of a dev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eading cause of dea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ted to cost hospitals $5.9 billion per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ing numbers of HAI are resistant to one or more antibio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rpos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ine the factors related to ICU nurse working conditions 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atient safety outco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1981080"/>
            <a:ext cx="2971800" cy="14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ve Process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rse Working Condi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Clim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514600"/>
            <a:ext cx="1981440" cy="14331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Patient Characteristics</a:t>
            </a:r>
            <a:br>
              <a:rPr sz="16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everity of Ill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morbid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emograph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cio-econom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733920"/>
            <a:ext cx="2362320" cy="14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B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-day Mort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1905120" cy="11898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uctures of Care</a:t>
            </a:r>
            <a:br>
              <a:rPr sz="16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Hospital 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Teaching St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ICU 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Nursing Case-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9040" y="22860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Conceptual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2438280" cy="76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es of Care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it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net St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1600200"/>
            <a:ext cx="1800" cy="49528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360" y="1143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vari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276720"/>
            <a:ext cx="53316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334120"/>
            <a:ext cx="53316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962520"/>
            <a:ext cx="1440" cy="7617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505320"/>
            <a:ext cx="14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5181120"/>
            <a:ext cx="13716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666880"/>
            <a:ext cx="13716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16002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553080"/>
            <a:ext cx="53352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4640" y="91440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5760" y="9144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ough infection control professio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itations sent to CDC NNIS hospit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IC listser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g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must have conducted device related HAI surveillance for part of 2002 according to NNIS defin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ta Collection Procedure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tient characterist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re fi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ucture of 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A d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lic fi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istrative Processes related to Nurse Working Cond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rse surve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yro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ient cens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tient Outco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DC infection d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RQ P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esign/Statistical Analysis 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ss sectional analy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data provided for 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s computed on a monthly bas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pt organizational clim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patient’s stay covered more than 1 month, patient assigned to period with the longest st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logistic regressions for each safety outco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ampl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,846 pat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1 IC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1 hospit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,095 R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52:06Z</dcterms:created>
  <dc:creator>pws7001</dc:creator>
  <dc:description/>
  <dc:language>en-US</dc:language>
  <cp:lastModifiedBy>Jeff Brady</cp:lastModifiedBy>
  <dcterms:modified xsi:type="dcterms:W3CDTF">2007-09-21T22:34:27Z</dcterms:modified>
  <cp:revision>49</cp:revision>
  <dc:subject/>
  <dc:title>Outcomes of ICU Working Conditions</dc:title>
</cp:coreProperties>
</file>