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move the slide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8B3F-9B4D-4F0F-AB27-F9252F8EF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ECA-9BA7-4027-89E7-3D964582A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5EF2-8CAF-4055-9D25-E014872B2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FB6-8353-4629-954C-F1BB704D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BAD-DA1C-43F4-A505-54E5665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05252-A749-4F2C-B601-916B6F32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992D1-725B-4471-88E9-E7D64E34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FA45-665C-4667-B8BC-C7D5A5D6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8DEE2-5C51-488B-9281-6535BFAC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A8A6C-8C38-434F-A581-1634CC7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DFF90-84D6-4DBC-8749-B4D2987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26DD8-3340-4065-A7DB-236C0845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B3359-3C54-4877-8EC8-02C2A4F5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71423-5EC5-447F-A76D-5E2A605F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11DA5-AE55-4DE2-8610-0325582A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AAB-F30B-4028-9A09-E7CB17FF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E3838-E620-461D-8572-C8F633ED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F5DCC-E449-457E-9904-46E4538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A294A-0B9F-4D98-AD9A-272E1BDD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7F722-22E6-470D-A5FD-E043B96B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299F6-CDA8-4932-822B-4CD1ECD9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1EED4-1213-430E-A199-19E7B73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612FF-7981-4409-BB86-5394244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B43EE-74BC-4A7F-9643-209742F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B2FCF-C3BA-4E1B-A431-030AD73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7C490-EE7B-4D90-BF5E-7AA6B05E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6A4-00A8-48CA-ADA0-3E5D51D2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C5704-BBC3-4C3A-B65B-B4466B2C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407D6-5357-4F52-80BF-8092A4D1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98511-28E0-4923-B069-7263C0F8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A18DC-DD49-4184-A822-B4AFA0A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99E60-025C-490D-A459-AEF0E6BA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45353-F587-427C-B541-54468680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3D423-3C68-4DE8-B5D4-3FAAEBAB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62592-AA70-4649-A094-B9875315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55CF9-DAAE-4374-A06C-F762476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5D009-EBB4-4F03-8203-8A5ED33D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C471-7FFC-4E4F-AF69-0CDF2448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43986-1056-49FB-88CB-5B863FA0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F7846-28F8-4E0B-BE47-54A401A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AB51-0ED4-4F61-98E4-38A6CE8B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6822E-3EE4-4F07-9F47-D959CBAD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A7615-2D01-402B-800A-906C5922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E3961-3640-4215-A53B-3325264E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BFB10-CB39-4ADA-B8FE-B9BAB98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5A42A-9867-4491-978E-A20141E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B2B92-D9D5-43CE-A671-2F3CFD50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00444-10D3-445B-8ED3-0866B33A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B1B6-0214-4822-AAE8-4471F827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BA5F0-E7B8-41A6-94C7-1622649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2AC3C-942D-4054-8476-82FC25B9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73B97-E743-4D66-AE07-BC35DD34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ECF67-8561-4439-B3C2-82AD47940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E610B-AA3E-4C93-981B-7644B359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3BB1-1085-46BF-86E3-DAA3AE5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6E96-69E1-4549-B1F8-39386948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4E6C-B1C5-4C87-8D81-0476A1CD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447B-FF6B-47A9-A652-8FBF6CF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A131-8DF7-4913-A324-0A5B3515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35E-AA6E-4E42-AFDA-40737872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AEAF-D16F-42FE-BAFB-06A20879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FF29-9626-4116-AA1F-4A66E42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FC47-3BD0-4AF5-B81C-9CDDD3E7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8A39-A89D-4C12-AFE4-3BCB92DF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2DB8-1A14-4BCA-8E2B-D8300C52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03C1-F448-460A-A596-C042DE51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7D70-F154-4EBC-93A8-DA86ECA9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14B5-FA57-49FC-AA53-CFB0D41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D6AE-BAC2-41EC-B080-8F43C33F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AD114-E2D5-4BFC-9407-692FAE6A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D117-B43D-4C89-88E4-D811EC83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FE83E-487E-40EF-B554-5799723A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A1BC-4EF9-4179-BC91-21D65B4C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3193-4B14-4454-9C34-F32C661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45D89-3839-4C73-B7DE-50587339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A585-5EE2-4E7E-82FF-45E1BBEB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4908-1BA4-4F2F-AC0D-909808F8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B673-3ADD-4DCD-B956-FC97A97A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6CEA7-4E5C-4AF9-BFFD-CC572894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84F0-9C9D-42DD-A855-FBAF7F30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64FF-D0B3-4DAB-B6FF-1D1944DC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07F-CF74-4B2B-9DF7-B188E0F3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0A97-5D41-4DDF-B9FA-8B5CC85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BCD4-A775-49FA-BE1A-695CFAAA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69536-370C-4236-BFE2-C7ECA141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9FDF-588A-48AF-8D0E-2523DAD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296E-B75F-4241-B427-B0562C6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9F89C-E91E-4798-9080-BF0DDEB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4749-435D-4BFC-9CFF-FF0952AF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8305A-68B6-4B29-99C3-8760DD72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B05EB-5A12-4571-A49A-6301697C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C2336-65AF-4356-B641-4913E02E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37A-875D-4F10-9176-3963239E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CE836-E8A2-484F-BCF6-87AF29CB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5E13A-6494-4047-AEEF-5E5B4CD0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A5B8-7D2F-4804-BFFF-27B3D4C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1244-3FF3-4D34-AB44-B14AF36D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2C148-CFC8-40B2-BCA4-A238F6C6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1CB45-0F31-4BBF-BA15-1478DA65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C94D-1337-48CC-B667-3BBE5F86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E8BF2-5CE9-40D9-B96D-E3B0BCC2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9D1E9-13FB-4DFD-8FF9-5CC97E4E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2BBCD-6D2F-4A3D-8F64-23BB8F67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649-0917-4DF2-A44C-5513E343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82F95-F25D-4930-A0E7-F70BB52F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26DBC-8E3C-4A34-BA2C-EAE1B8F5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BA2B-C622-49F6-935C-CBA034EE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66544-47A1-4B5D-93A5-7C372190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AE599-AB92-44F1-BFF9-2B66A1FC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9110E-9C1C-471C-B0B8-D9C02962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5C8C-CAD7-447C-83CA-78FF3A11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186A-7045-4E2D-A72D-84530C8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D02FA-F74C-47E7-93B5-45952CD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808C7-7411-4EC2-9CF0-0FA52F9C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16A-4F52-4D0B-B2C2-7D40616D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542F-2785-45C1-858F-B5DEBC4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B6082-BEC1-4A11-987C-1753E071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B5396-E78E-4DD8-98B8-30489DDD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A9196-1046-45BE-8AC1-271A5F3B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F40E2-A55E-4986-A6F1-A6C1E7E1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9AE66-321F-4175-98BE-6802AB46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EAA58-40AF-473D-BB26-2013A403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89EC-2C0C-4EBD-91E1-0EB03C0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AB25-E065-4691-97B2-F74A5DD2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95A7-BC3D-4BA1-A855-B54BD5D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A64-D720-4B20-902A-757EDF5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FEEAE-EC21-41B6-8938-EBCF6AE0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14883-057C-46F3-ADFC-4988C8EE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F0A0D-36C5-4C71-AADD-F947769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C101-C143-4E4C-BD86-80F09BA5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CE10-5B87-46FE-8D75-3F6FE10C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BCB03-117F-4918-AF0F-823C8108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4B1E-61BC-41F4-B275-F3F086B7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EB560-CE7E-43C3-97F2-5836E76D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EDB0B-D282-4101-8846-2C17331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4305E-8BCF-426A-BBF3-33201F5A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A62-3D51-4D0B-B977-FFC98F13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A2DEA-73E2-45BB-99C1-D14F83F6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53DB9-3297-4DBA-A428-BC93C10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C2967-88E5-4DB7-AFA7-1DC0568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D77B9-E9A8-41E8-81CA-968CB4F9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635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765C8-2294-4E42-9BC9-00D916AC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0840" y="167616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50840" y="38635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390D4-E826-45D2-8A69-987C4238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2416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991120" y="167616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2416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991120" y="38635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2223A-DFB0-4A54-8784-64004721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13496-13D2-41A6-9089-BE2550B2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270FC-6068-4769-AA05-E068173D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59F1D-294F-4981-8D5A-91E601DC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036F-55F4-4A83-8A42-4EC5C01EF33F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 Single Corner Rectangle 14"/>
          <p:cNvSpPr/>
          <p:nvPr/>
        </p:nvSpPr>
        <p:spPr>
          <a:xfrm>
            <a:off x="6400800" y="167652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3" descr="Several Spirograph designs drawn with a Spirograph set."/>
          <p:cNvPicPr/>
          <p:nvPr/>
        </p:nvPicPr>
        <p:blipFill>
          <a:blip r:embed="rId2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BDD-EFD1-40D0-96E9-ABC0CC4A8DB3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A68-DC86-4531-BB83-1371B1870727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9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B5BE-16CE-4FDE-B900-8FC7D6166DFE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9C4E-7427-419F-B5E1-CAD5023FB2DE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338-C7CD-4987-94E7-FF7DF68FCED2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47B6-DF6D-4511-AAF0-D8C8B8BB7DB4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4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1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380880" y="5791320"/>
            <a:ext cx="762120" cy="55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143000" y="5943600"/>
            <a:ext cx="2514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95959"/>
                </a:solidFill>
                <a:latin typeface="Georgia"/>
              </a:rPr>
              <a:t>Spiro</a:t>
            </a: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 </a:t>
            </a:r>
            <a:r>
              <a:rPr b="1" i="1" lang="en-US" sz="2000" spc="-1" strike="noStrike">
                <a:solidFill>
                  <a:srgbClr val="595959"/>
                </a:solidFill>
                <a:latin typeface="Georgia"/>
              </a:rPr>
              <a:t>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B5B7-8C08-4D25-8DB2-E178AF06B4B0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1AF5-0B98-44DF-87FE-0943084C821F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8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E27-C8D8-4A00-A372-899433FDFB95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33A-89D2-4198-8B01-38592CFBEB4A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ounded Rectangle 14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47" name="Rounded Rectangle 14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4B19-9BFE-4870-B498-0E19D20209D9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265-D999-4927-8F41-194E536F6948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8651-D686-4271-A451-6D670B414001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21B6-C6C1-4C7E-9A3A-4EA5BC1FA3F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F0AF-DF4A-4344-A298-0ED3EAA6F688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2BBB-A670-43FF-8997-78A4D90EA2E3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9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20D5-D9BA-4106-98CC-60424C3F1A70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A10C-04F7-4A7D-B103-96A171CE50D4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ounded Rectangle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3" descr="Several Spirograph designs drawn with a Spirograph set."/>
          <p:cNvPicPr/>
          <p:nvPr/>
        </p:nvPicPr>
        <p:blipFill>
          <a:blip r:embed="rId2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9129-9323-4812-91FE-17E82005502C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DE6B-9B35-45C8-B188-948A10C2381E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8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3" descr="Several Spirograph designs drawn with a Spirograph set."/>
          <p:cNvPicPr/>
          <p:nvPr/>
        </p:nvPicPr>
        <p:blipFill>
          <a:blip r:embed="rId3"/>
          <a:stretch/>
        </p:blipFill>
        <p:spPr>
          <a:xfrm>
            <a:off x="457200" y="6172200"/>
            <a:ext cx="343080" cy="2476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5"/>
          <p:cNvSpPr/>
          <p:nvPr/>
        </p:nvSpPr>
        <p:spPr>
          <a:xfrm>
            <a:off x="4445640" y="33804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868680" y="6172200"/>
            <a:ext cx="137556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595959"/>
                </a:solidFill>
                <a:latin typeface="Georgia"/>
              </a:rPr>
              <a:t>Spiro Consul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eorgia"/>
              </a:rPr>
              <a:t>Click to edit the title text format</a:t>
            </a:r>
            <a:endParaRPr b="1" lang="en-US" sz="36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85880" indent="-182520"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023840" indent="-182520">
              <a:spcBef>
                <a:spcPts val="249"/>
              </a:spcBef>
              <a:buClr>
                <a:srgbClr val="c0c0c0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279440" indent="-182520">
              <a:spcBef>
                <a:spcPts val="249"/>
              </a:spcBef>
              <a:buClr>
                <a:srgbClr val="ababa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1A8F-BB75-4A74-82B7-400CB140FD6E}" type="datetime">
              <a:rPr b="0" lang="en-US" sz="1000" spc="-1" strike="noStrike">
                <a:solidFill>
                  <a:srgbClr val="b6b6b6"/>
                </a:solidFill>
                <a:latin typeface="Georgi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6b6b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4400-C4E3-411D-A745-8B50E2FC36B4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808080"/>
                </a:solidFill>
                <a:latin typeface="Georgia"/>
              </a:rPr>
              <a:t>Overview of Technology Approaches of Medication Management in Long-Term Care</a:t>
            </a:r>
            <a:endParaRPr b="1" lang="en-US" sz="41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eorgia"/>
              </a:rPr>
              <a:t>Rachelle “Shelly” Spiro, RPh, FASC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eorgia"/>
              </a:rPr>
              <a:t>President, Spiro Consul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4B47-EF7E-4422-ACD3-C23D902C422F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Grantee/Contractor Project Titles for 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AHRQ Pilot Project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154-0E07-4F3B-9B53-B4B5CFB568F1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609480" y="1752480"/>
          <a:ext cx="7848720" cy="4283280"/>
        </p:xfrm>
        <a:graphic>
          <a:graphicData uri="http://schemas.openxmlformats.org/drawingml/2006/table">
            <a:tbl>
              <a:tblPr/>
              <a:tblGrid>
                <a:gridCol w="2762280"/>
                <a:gridCol w="5086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ganization Name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ject Nam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hieve Healthcare Information Technologies, 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TC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E-prescribing Standards Pilot Site Stu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Brigham and Women’s Hospi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Electronic Prescribing Using a Community Utility: The e-Prescribing Gate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Ohio KeP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A Practice-Based Pilot Site Test of Emerging E-prescribing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RAND Corpor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Test of Medicare’s Initial Electronic Prescribing Standards in the New Jersey E-prescribing Action Coal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SureScripts, LL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19191"/>
                          </a:solidFill>
                          <a:latin typeface="Georgia"/>
                        </a:rPr>
                        <a:t>Maximizing the Effectiveness of E-prescribing Between Physicians and Community Pharma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tudy the effects of the electronic prescribing standards in long-term care on cost, quality and safe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alidate that the e-Prescribing and electronic Prior Authorization standards work in a LTC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F639-EFFA-4529-8F94-BADCCCD39408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Purpose of LTC e-Prescribing Pilot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ee way communication: prescriber, nurse, pharmac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ident is not a pati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CRIPT adjustments for unit/room/bed, resident, facility inform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s are deliver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municate admission and discharge information to the pharmacy (new census messag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tion “chart” orders are open-end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rders need to be cancelled or discontinu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acility needs to know the medication was actually dispense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pply requests represent 80% of LTC order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1800" indent="-19764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upply messag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2080" indent="-2620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7C8-9D01-4CF2-BECE-78708A2DAFCB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in the LTC Setting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industry is working on EHR-S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setting e-Prescribing can be supported with some technical modifications to the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itional research should be done on electronic prior authorization (e-P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rther standards of eMAR and inventory management is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se efforts are ways the industry is improving medication safety in the LTC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1DC5-AD41-4F81-83D8-100552EEB06A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Summary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08080"/>
                </a:solidFill>
                <a:latin typeface="Georgia"/>
              </a:rPr>
              <a:t>Thank you</a:t>
            </a:r>
            <a:br>
              <a:rPr sz="4500"/>
            </a:br>
            <a:endParaRPr b="1" lang="en-US" sz="45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Shelly Spiro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President,  Spiro Consulting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1200 First Street, Suite 1632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Alexandria, VA 22314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703-599-5051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Georgia"/>
              </a:rPr>
              <a:t>www.spiroconsulting.net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77B-396B-4964-9BD9-D8D954D4C1C7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Electronic Health Record (EHR) Standa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-Prescribing and eM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TC e-Prescribing standards and pilo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05E4-37DF-4064-BC76-7B2522D9D080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Overview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HHS-ASPE Study to Access Business Case for LTC HIT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ypes of Health Information Technology (HIT) applications and functionalities in Post Acute Care (PAC)  and Long-Term Care (LTC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sed on stakeholder description and technical expert panel (TEP) inpu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hibit A-1 summarizes the types of HIT applications, functionalities, and the applicable PAC/LTC setting in which the applications are us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F413-A128-4D4E-9A95-862DC13FB2BE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85800" y="4952880"/>
            <a:ext cx="800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Source: U.S. Department of Health and Human Service (HHS) Assistant Secretary for Planning and Evaluation (ASPE) Office of Disability, Aging and Long-Term Care Policy EVALUATION DESIGN OF THE BUSINESS CASE OF HEALTH INFORMATION TECHNOLOGY IN LONG-TERM CARE http://aspe.hhs.gov/daltcp/reports/2006/BCfinal.pd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6DA0-ECCF-47E6-80B4-6523479504AF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5"/>
          <p:cNvSpPr/>
          <p:nvPr/>
        </p:nvSpPr>
        <p:spPr>
          <a:xfrm>
            <a:off x="1219320" y="5715000"/>
            <a:ext cx="685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Georgia"/>
              </a:rPr>
              <a:t>Source: U.S. Department of Health and Human Service Assistant Secretary for Planning and Evaluation Office of Disability, Aging and Long-Term Care Policy EVALUATION DESIGN OF THE BUSINESS CASE OF HEALTH INFORMATION TECHNOLOGY IN LONG-TERM CARE http://aspe.hhs.gov/daltcp/reports/2006/BCfinal.pd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-prescrib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MS-AHRQ LTC e-prescribing pilo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difications to NCPDP SCRIPT stand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L7 Continuity of Care Document (CC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ndard for the exchange of clinical docu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s M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L7 EHR System (EHR-S) Functional Mod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199800"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ndard for the functions needed in an EHR-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7E18-32F5-4F25-8D71-BB38F4B440D7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LTC EHR Standard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CCHIT LTC Roadmap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F379-A7A3-45E7-B428-540792F4EA9C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685800" y="1371600"/>
          <a:ext cx="7772400" cy="3652920"/>
        </p:xfrm>
        <a:graphic>
          <a:graphicData uri="http://schemas.openxmlformats.org/drawingml/2006/table">
            <a:tbl>
              <a:tblPr/>
              <a:tblGrid>
                <a:gridCol w="1371600"/>
                <a:gridCol w="1523880"/>
                <a:gridCol w="1752840"/>
                <a:gridCol w="838080"/>
                <a:gridCol w="1173240"/>
                <a:gridCol w="1112760"/>
              </a:tblGrid>
              <a:tr h="838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CHIT Roadmap for Expansion of Cert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eb 2, 200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Expansion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an-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July-D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Care Sett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ong Term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Fur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iscu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f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B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9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unch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Lau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T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Text Box 38"/>
          <p:cNvSpPr/>
          <p:nvPr/>
        </p:nvSpPr>
        <p:spPr>
          <a:xfrm>
            <a:off x="6248520" y="5257800"/>
            <a:ext cx="1828800" cy="70380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osed for August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9"/>
          <p:cNvSpPr/>
          <p:nvPr/>
        </p:nvSpPr>
        <p:spPr>
          <a:xfrm flipV="1">
            <a:off x="7010280" y="44197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7"/>
          <p:cNvSpPr/>
          <p:nvPr/>
        </p:nvSpPr>
        <p:spPr>
          <a:xfrm>
            <a:off x="685800" y="5105520"/>
            <a:ext cx="472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ource: http://www.ahima.org/infocenter/whitepapers/documents/Public_Comment_Expanding_CCHIT_Certification_Roadmap_20070202.pdf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-Prescrib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scription order ent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ar code scanner for re-supp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b conne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CPDP Scrip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L7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ectronic Medication Administration Records (eMAR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prietary or HL7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193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ystem at a minimum include the “Five Rights”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Resident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Medication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Dosage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Rout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lvl="2" marL="762120" indent="-176760">
              <a:lnSpc>
                <a:spcPct val="80000"/>
              </a:lnSpc>
              <a:spcBef>
                <a:spcPts val="249"/>
              </a:spcBef>
              <a:buClr>
                <a:srgbClr val="c0c0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ight Tim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56680" indent="-256680">
              <a:lnSpc>
                <a:spcPct val="80000"/>
              </a:lnSpc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5C7-2951-484E-9E04-268317294719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-Prescribing and eMAR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pic>
        <p:nvPicPr>
          <p:cNvPr id="607" name="Picture 6" descr="OrderEntry_barcoding"/>
          <p:cNvPicPr/>
          <p:nvPr/>
        </p:nvPicPr>
        <p:blipFill>
          <a:blip r:embed="rId1"/>
          <a:stretch/>
        </p:blipFill>
        <p:spPr>
          <a:xfrm>
            <a:off x="4876920" y="1676520"/>
            <a:ext cx="1714320" cy="14270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palmrvrse"/>
          <p:cNvPicPr/>
          <p:nvPr/>
        </p:nvPicPr>
        <p:blipFill>
          <a:blip r:embed="rId2"/>
          <a:stretch/>
        </p:blipFill>
        <p:spPr>
          <a:xfrm>
            <a:off x="6705720" y="1523880"/>
            <a:ext cx="171432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armacy versus facility driv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rdware and softwa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urther standards of eMAR and inventory management is nee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MOTE DISPENSING*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B105-8046-4406-B444-0399D89F9A83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eMAR Standards</a:t>
            </a:r>
            <a:br>
              <a:rPr sz="3200"/>
            </a:b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pic>
        <p:nvPicPr>
          <p:cNvPr id="612" name="Picture 42" descr="products"/>
          <p:cNvPicPr/>
          <p:nvPr/>
        </p:nvPicPr>
        <p:blipFill>
          <a:blip r:embed="rId1"/>
          <a:stretch/>
        </p:blipFill>
        <p:spPr>
          <a:xfrm>
            <a:off x="6019920" y="3962520"/>
            <a:ext cx="1895400" cy="1704960"/>
          </a:xfrm>
          <a:prstGeom prst="rect">
            <a:avLst/>
          </a:prstGeom>
          <a:ln w="0">
            <a:noFill/>
          </a:ln>
        </p:spPr>
      </p:pic>
      <p:sp>
        <p:nvSpPr>
          <p:cNvPr id="613" name="TextBox 6"/>
          <p:cNvSpPr/>
          <p:nvPr/>
        </p:nvSpPr>
        <p:spPr>
          <a:xfrm>
            <a:off x="609480" y="556272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eorgia"/>
              </a:rPr>
              <a:t>*Covered in next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32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Reduction in Adverse Drug Events</a:t>
            </a:r>
            <a:endParaRPr b="1" lang="en-US" sz="3200" spc="-1" strike="noStrike">
              <a:solidFill>
                <a:srgbClr val="808080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03280" y="16030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oretically an integrated eMAR and EHR would help reduce adverse drug events (ADE) and medication erro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4960" indent="-264960">
              <a:spcBef>
                <a:spcPts val="249"/>
              </a:spcBef>
              <a:buClr>
                <a:srgbClr val="ddddd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July 2006 the Institute of Medicine’s report on “Preventing Medication Errors” concluded that of the 1.6 million nursing home population in the U.S., 800,000 preventable ADEs could occur each ye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F5A2-9B13-4D81-88B3-DC6CF7548BD5}" type="slidenum">
              <a:rPr b="0" lang="en-US" sz="1000" spc="-1" strike="noStrike">
                <a:solidFill>
                  <a:srgbClr val="b6b6b6"/>
                </a:solidFill>
                <a:latin typeface="Georg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914400" y="5486400"/>
            <a:ext cx="601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http://www.iom.edu/Object.File/Master/35/943/medication%20errors%20new.pd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23:46:29Z</dcterms:created>
  <dc:creator>Spiro Consulting</dc:creator>
  <dc:description/>
  <dc:language>en-US</dc:language>
  <cp:lastModifiedBy>Spiro Consulting</cp:lastModifiedBy>
  <dcterms:modified xsi:type="dcterms:W3CDTF">2007-09-26T14:17:03Z</dcterms:modified>
  <cp:revision>33</cp:revision>
  <dc:subject/>
  <dc:title>Slide 1</dc:title>
</cp:coreProperties>
</file>