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D454-5DA7-4ACF-9FB2-87E019DAA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348-961F-4E26-9D03-31B97A340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7AE-B24C-49BA-A903-1D8381D36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418-15C9-4BAF-BA23-75A5280A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5CE-D0D4-41EB-8E48-4B3D052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33BE7-3525-40B4-8D9B-246FFCD8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44A3-D113-43AE-96C9-464934F4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98DE2-CF41-45BE-86CD-CA4DD7A0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C6F0F-8515-4653-88A4-3ABDEA2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53D5A-F456-44FF-98D9-D737F17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95A1A-F8BB-4288-8FB2-7E7D158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28899-6F52-480B-9F62-771302C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0AFC-2B2B-41C6-AA62-B20727E6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A725-3A83-4B24-BC77-51C2A74E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54129-A4F0-46C3-9419-233656DF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5CB-AD18-417A-9302-67BA8E54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217E-C405-4245-892D-CDE92A7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6F24B-B93F-49C2-AB54-6A179A0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FFE55-1042-4119-9F50-A4968F7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526D6-0353-4F72-8F1C-77E2150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355BB-2BE0-425B-913C-991E0C5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12A5A-C67B-4758-AF07-C0EBFB2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647D4-DF81-405D-9D40-E019497D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DA783-C35C-41F0-8B26-433392D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C1FBD-6C95-43DE-9E9E-8FE6E909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5F6F-3344-440F-9831-3A237CF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780-05F2-498E-8307-9131D77C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5879C-EAB8-496D-9B76-C6F7EF2A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D8575-C2AA-487B-8608-34A4535B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107C2-5B7D-4A29-8AD9-071CC37A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A816-40BF-4D6E-B4F7-3767241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FC4FD-27E7-437B-8D4C-00C80CF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1C06-4249-4435-902B-EA5C12E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6FE8D-1ED3-4913-BE0B-9B648EE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CCF2-B409-4119-A159-DAE0289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FF06-7398-435A-A035-2A10F33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6E81E-09F0-4D96-893A-0DC0CB2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7016-9B62-44BF-A86F-9B3E6872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57EE6-F53E-4596-95B6-19A0DDC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F70D-B468-4F44-9B17-D4B3CC9C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A273B-333B-4145-94FD-98A0E47B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72B9B-E022-418C-945F-6875CC68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F9BAE-9BCC-4E7E-BB90-010E675D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0D0FA-B6AA-40FC-BCBD-DF26ECB1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9F24F-E2BC-4B3D-A878-CA612C2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96E01-D413-48B8-9FEE-FC0536C7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3979-0677-4AA6-9CE6-DACCBF6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4C19E-D1B5-425D-BFA9-0E1EB9C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0B6D-22BA-46A1-BFB7-26C03D0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FF12F-1F22-4111-A1B0-05B6748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0D7A7-3011-4305-8A92-0231477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047EC-7C74-4826-B134-765F008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6C213-0B93-4930-8A4E-9A7DDDBA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E6246-1DD2-49D7-B817-1C4A44B7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BC2B-82EB-40F0-916E-BB5EBFC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9F86-B956-4787-A7E5-5E323B8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0F2-64E4-46D4-A32E-345F6B4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13C8-AEF7-44E1-A201-71BBB0C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F24-342A-41A1-9A30-1FEE5DF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CCA-F641-4963-A51C-2D08FCC4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C019-B0B5-492A-9F5A-7829D22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00A2-6018-48C4-96D5-640693A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D5B9-CC85-4BCB-AE1A-D74AC01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1F8-39D5-4C27-842F-8BB0C8E8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A2D-35B1-43DE-8A90-B95F6CF9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363A-F563-4327-9709-7C83D63F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AFA5-34A9-46FC-B30D-2CFDA96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D704-387B-4751-8624-CD60ABB3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AA98-1378-44F4-B319-90725235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A6F4-C14C-44D3-B9FC-FFBEB10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E6B-D85C-41EC-B83B-4FBEC3F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C9F9-AFB7-4689-A958-A60B928D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F9D1-D26C-4A71-9C0A-B6C3EBF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A1FC-D388-485C-A792-C606FC7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708B-F952-4BA5-BDAC-DE5286E0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AF79-26DD-48C0-98D3-B23E296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E35F-1095-4FA5-8EED-95503928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A56A-0D38-4C9C-A2AC-E7588D9B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8F2B-99D2-4C98-99B6-E63AD29A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6A18-F9CC-4176-A564-709647F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5496-69EC-42FC-A6B1-F805687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785-CF9C-45A6-8E51-C0A2887A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539B-B5B0-4189-9743-8416BF21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C285-89E1-461C-B07C-BCACC58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01E2-77FC-4B92-A884-4D77B5BC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D448-791F-4353-B517-7AB2555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1CD5-6408-4888-AEEE-88D8C8F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C025-1455-4D4A-96FF-B388ED9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BDEA-DF4B-4BDD-8389-A4F66B5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76F7-46D7-46CD-B026-EDFDD38A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97C9-2752-4145-B158-E59180AD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01366-154E-4D8E-8EDE-D760EE29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FE4-CCA7-4269-BDA1-D6265EE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8E46-5957-41F5-BFC5-922005CB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1E86-AE2E-4A06-96E4-DE18511A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D86D-86D0-4F7E-A263-13C7228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1649-6C43-4CCC-9805-121312DC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59A2-48B9-48C1-A9C8-50A7287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69F6-3C16-479B-AADB-8A49FC7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37FE-23D3-437F-A0FA-B5DE1FF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1B61-E435-485E-8CD6-46EC250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F983-B347-4F88-83E5-D98A3C7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FAEA-C578-46B6-8ECF-27F3E5E4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63C-0463-4E34-9EB4-CB103461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C162-19D0-42B3-84FA-92B59BFF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C337-8091-4BE3-BB05-4E3DA3D0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AD59-0B1C-486F-A9C4-3693FF87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B9D3-5660-491A-86C2-EEBAAE4E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76FBE-0675-40FB-BA49-18981B6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C4533-7EE9-405B-823E-8DE53C7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73EB-47B4-431B-8F4A-60CCF04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0160-E230-46E7-AC43-16FB189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7B77-9A66-40AF-8B18-9363D78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DA99-4F82-4F12-8DDE-90E47925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D5C-539F-4E70-956E-3F891F7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62D5-C218-438F-BB63-EAE9C568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0BB8-EB1F-468B-9205-172661F1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2826-0CA2-4E5C-A019-FDD8752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B2AA-2B3A-41CD-9D3A-9C5E131E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AC6B4-EDC7-48CB-8903-3F9B09D3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B222B-53DB-475A-BE7A-D1B1D7F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99F5-AA9F-43A5-AF26-76677160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C049-752B-4470-86C9-5BFFFA3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B596-317D-4BD4-A3B4-C9F6263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2DA7-BA6D-4585-9EA9-FE620E9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2F5-C2D0-43F7-A23A-D59E70F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8926-C1B0-414E-B42D-79B0BAA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1BA1-2CE9-4168-9D7E-3D88D96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D7318-62A1-4EDE-B498-D1A96790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ABEA-23E9-4A12-84DA-5C9EE1B2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890AF-69DC-4B4C-9A6F-D5A5EA9D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1396F-6DFD-44C5-9FD3-14CDBA27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DE60-DCBA-48D4-8060-DC627BF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F4F30-F7D7-4943-A151-1117D2F6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B71C-D9DE-48EC-9496-F496BED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4653-C590-4F0E-83F0-B7447EA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063-10C2-41DB-9420-845486B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0C01E-E89D-499C-A259-2681FAF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B0CAD-AAA9-42CC-80DE-43C714C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E13BC-883E-47F0-ADA1-13E5738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D76F-8C91-4540-91B9-0C8B5FB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50B5-8F55-42F1-88D8-17C71ED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F0E1-58F3-4888-8B1A-A6B2BBA6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9D1D2-C2E3-4C8F-9266-5F145637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A1BAD-3E0D-434A-8F45-076E6F76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7F5E-5936-482F-B716-B0D18AEC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F20C-35EC-4207-BFE3-AA348DAD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AA2D-4C61-40D8-A0A9-97E49C014628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 Single Corner Rectangle 14"/>
          <p:cNvSpPr/>
          <p:nvPr/>
        </p:nvSpPr>
        <p:spPr>
          <a:xfrm>
            <a:off x="6400800" y="167652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3" descr="Several Spirograph designs drawn with a Spirograph set."/>
          <p:cNvPicPr/>
          <p:nvPr/>
        </p:nvPicPr>
        <p:blipFill>
          <a:blip r:embed="rId2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6B22-9F47-4A83-982F-3CC2C783EE1F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E655-350D-4D8E-8FE9-FB516D737942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AAD-3013-4E39-B19A-AFE707768442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917-9093-4B19-A51F-715498013215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1CF-1A8C-4309-AF47-ECCC05E5B7D1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E42-E6CC-4628-B885-ABCD6D3E7EA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4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380880" y="5791320"/>
            <a:ext cx="762120" cy="55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143000" y="5943600"/>
            <a:ext cx="2514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Georgia"/>
              </a:rPr>
              <a:t>Spiro</a:t>
            </a: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Georgia"/>
              </a:rPr>
              <a:t>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884-A259-47DB-9793-C5E6230648FA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7C1-76FD-49C8-9944-41831346DD9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C74-10A0-47C8-8DA9-9F08CDB2FC03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8A0D-5183-4A0A-801C-772521A25F67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ounded Rectangle 14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47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C3AD-42FD-4EEF-8451-A33ADB4F8767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FDB-1DAD-456F-ACC0-F4D80D2CBBD9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425-11D4-49B3-9B0F-987DB8E2540E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5F3-D094-48A3-9FD3-D65AD5EE149C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58C-409D-4B4A-BD0E-60B1BFA2A74B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0CF-33FC-4A69-9D77-8E6526F2294D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9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8C2F-15BD-4B4C-AF65-80500BA6858D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77BA-CC3D-4F88-9B1A-819CDE16BEF2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3" descr="Several Spirograph designs drawn with a Spirograph set."/>
          <p:cNvPicPr/>
          <p:nvPr/>
        </p:nvPicPr>
        <p:blipFill>
          <a:blip r:embed="rId2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6E12-587C-44BB-BD40-6ACDA2B6A36B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24D-E55C-4E2A-8E5A-6627AED2518C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8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86E-760B-45CB-BC5B-0896F11B1BCC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0649-3514-4296-BC93-43A68275048C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Georgia"/>
              </a:rPr>
              <a:t>Overview of Technology Approaches of Medication Management in Long-Term Care</a:t>
            </a:r>
            <a:endParaRPr b="1" lang="en-US" sz="41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eorgia"/>
              </a:rPr>
              <a:t>Rachelle “Shelly” Spiro, RPh, FASC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eorgia"/>
              </a:rPr>
              <a:t>President, Spiro Consul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FF1-536E-4268-A6E5-89B363EDC4CC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Grantee/Contractor Project Titles for 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AHRQ Pilot Project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46B-9106-404D-A660-025A764C5035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09480" y="1752480"/>
          <a:ext cx="7848720" cy="4283280"/>
        </p:xfrm>
        <a:graphic>
          <a:graphicData uri="http://schemas.openxmlformats.org/drawingml/2006/table">
            <a:tbl>
              <a:tblPr/>
              <a:tblGrid>
                <a:gridCol w="2762280"/>
                <a:gridCol w="5086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ganization Name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jec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hieve Healthcare Information Technologies, 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T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E-prescribing Standards Pilot Site Stu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Brigham and Women’s Hospi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Electronic Prescribing Using a Community Utility: The e-Prescribing Gate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Ohio KeP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A Practice-Based Pilot Site Test of Emerging E-prescribing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RAND Corpo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Test of Medicare’s Initial Electronic Prescribing Standards in the New Jersey E-prescribing Action Coal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SureScripts, LL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Maximizing the Effectiveness of E-prescribing Between Physicians and Community Pharma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tudy the effects of the electronic prescribing standards in long-term care on cost, quality and safe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lidate that the e-Prescribing and electronic Prior Authorization standards work in a LTC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C81-17D7-433F-8A62-5434D6CD8E0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Purpose of LTC e-Prescribing Pilot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ee way communication: prescriber, nurse, pharmac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ident is not a pati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CRIPT adjustments for unit/room/bed, resident, facility inform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s are deliver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unicate admission and discharge information to the pharmacy (new census messag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 “chart” orders are open-end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ders need to be cancelled or discontinu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lity needs to know the medication was actually dispens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pply requests represent 80% of LTC order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upply mess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1D7-1531-4056-875B-4EE813F7EC00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in the LTC Setting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industry is working on EHR-S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setting e-Prescribing can be supported with some technical modifications to the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itional research should be done on electronic prior authorization (e-P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rther standards of eMAR and inventory management is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efforts are ways the industry is improving medication safety in the LTC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3ED-F7DF-4A67-9023-9CA1DE7314B3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Summary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8080"/>
                </a:solidFill>
                <a:latin typeface="Georgia"/>
              </a:rPr>
              <a:t>Thank you</a:t>
            </a:r>
            <a:br>
              <a:rPr sz="4500"/>
            </a:br>
            <a:endParaRPr b="1" lang="en-US" sz="45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Shelly Spir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President,  Spiro Consul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1200 First Street, Suite 163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Alexandria, VA 2231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703-599-505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www.spiroconsulting.ne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FCD-9094-45DF-9102-0BA161CB59CD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Electronic Health Record (EHR)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-Prescribing and eM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e-Prescribing standards and pilo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6ED4-0BB3-4D30-9C73-6DBEFCB90E9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Overview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HHS-ASPE Study to Access Business Case for LTC HIT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ypes of Health Information Technology (HIT) applications and functionalities in Post Acute Care (PAC)  and Long-Term Care (LTC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sed on stakeholder description and technical expert panel (TEP) in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hibit A-1 summarizes the types of HIT applications, functionalities, and the applicable PAC/LTC setting in which the applications are us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753-C517-4F19-96C0-95DB92F13CBF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85800" y="495288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Source: U.S. Department of Health and Human Service (HHS) Assistant Secretary for Planning and Evaluation (ASPE) Office of Disability, Aging and Long-Term Care Policy EVALUATION DESIGN OF THE BUSINESS CASE OF HEALTH INFORMATION TECHNOLOGY IN LONG-TERM CARE http://aspe.hhs.gov/daltcp/reports/2006/BCfinal.pd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EF47-0BC4-454B-9F25-FA72F93A5807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219320" y="571500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Source: U.S. Department of Health and Human Service Assistant Secretary for Planning and Evaluation Office of Disability, Aging and Long-Term Care Policy EVALUATION DESIGN OF THE BUSINESS CASE OF HEALTH INFORMATION TECHNOLOGY IN LONG-TERM CARE http://aspe.hhs.gov/daltcp/reports/2006/BCfinal.pd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-prescrib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MS-AHRQ LTC e-prescribing pilo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difications to NCPDP SCRIPT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L7 Continuity of Care Document (CC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ndard for the exchange of clinical docu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s M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L7 EHR System (EHR-S) Functional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ndard for the functions needed in an EHR-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4C54-DF5C-48DD-B17D-499DF488BD2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LTC EHR Standard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CCHIT LTC Roadmap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F74-F18D-4DF3-9845-BAD4FB15C9C6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685800" y="1371600"/>
          <a:ext cx="7772400" cy="365292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752840"/>
                <a:gridCol w="838080"/>
                <a:gridCol w="1173240"/>
                <a:gridCol w="1112760"/>
              </a:tblGrid>
              <a:tr h="838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CHIT Roadmap for Expansion of Cert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eb 2, 20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xpansion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an-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uly-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are Set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ong Term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ur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iscu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unch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Text Box 38"/>
          <p:cNvSpPr/>
          <p:nvPr/>
        </p:nvSpPr>
        <p:spPr>
          <a:xfrm>
            <a:off x="6248520" y="5257800"/>
            <a:ext cx="1828800" cy="703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osed for August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9"/>
          <p:cNvSpPr/>
          <p:nvPr/>
        </p:nvSpPr>
        <p:spPr>
          <a:xfrm flipV="1">
            <a:off x="7010280" y="44197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685800" y="510552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ource: http://www.ahima.org/infocenter/whitepapers/documents/Public_Comment_Expanding_CCHIT_Certification_Roadmap_20070202.pdf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-Prescrib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scription order ent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r code scanner for re-supp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b conne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CPDP Scri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L7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ic Medication Administration Records (eMAR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rietary or HL7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ystem at a minimum include the “Five Rights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Residen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Medic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Dosag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Rou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Tim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C75E-7B3D-46BB-BDE0-99E3D2BE606B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and eMAR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pic>
        <p:nvPicPr>
          <p:cNvPr id="607" name="Picture 6" descr="OrderEntry_barcoding"/>
          <p:cNvPicPr/>
          <p:nvPr/>
        </p:nvPicPr>
        <p:blipFill>
          <a:blip r:embed="rId1"/>
          <a:stretch/>
        </p:blipFill>
        <p:spPr>
          <a:xfrm>
            <a:off x="4876920" y="1676520"/>
            <a:ext cx="1714320" cy="1427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palmrvrse"/>
          <p:cNvPicPr/>
          <p:nvPr/>
        </p:nvPicPr>
        <p:blipFill>
          <a:blip r:embed="rId2"/>
          <a:stretch/>
        </p:blipFill>
        <p:spPr>
          <a:xfrm>
            <a:off x="6705720" y="1523880"/>
            <a:ext cx="171432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armacy versus facility driv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rther standards of eMAR and inventory management is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TE DISPENSING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5FC-1A7A-47E3-8366-53EF40571D3E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MAR Standard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pic>
        <p:nvPicPr>
          <p:cNvPr id="612" name="Picture 42" descr="products"/>
          <p:cNvPicPr/>
          <p:nvPr/>
        </p:nvPicPr>
        <p:blipFill>
          <a:blip r:embed="rId1"/>
          <a:stretch/>
        </p:blipFill>
        <p:spPr>
          <a:xfrm>
            <a:off x="6019920" y="3962520"/>
            <a:ext cx="1895400" cy="1704960"/>
          </a:xfrm>
          <a:prstGeom prst="rect">
            <a:avLst/>
          </a:prstGeom>
          <a:ln w="0">
            <a:noFill/>
          </a:ln>
        </p:spPr>
      </p:pic>
      <p:sp>
        <p:nvSpPr>
          <p:cNvPr id="613" name="TextBox 6"/>
          <p:cNvSpPr/>
          <p:nvPr/>
        </p:nvSpPr>
        <p:spPr>
          <a:xfrm>
            <a:off x="609480" y="556272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eorgia"/>
              </a:rPr>
              <a:t>*Covered in next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Reduction in Adverse Drug Events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oretically an integrated eMAR and EHR would help reduce adverse drug events (ADE) and medication err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uly 2006 the Institute of Medicine’s report on “Preventing Medication Errors” concluded that of the 1.6 million nursing home population in the U.S., 800,000 preventable ADEs could occur each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536-219B-45EE-B436-65AB54D79062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914400" y="548640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iom.edu/Object.File/Master/35/943/medication%20errors%20new.pd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46:29Z</dcterms:created>
  <dc:creator>Spiro Consulting</dc:creator>
  <dc:description/>
  <dc:language>en-US</dc:language>
  <cp:lastModifiedBy>Spiro Consulting</cp:lastModifiedBy>
  <dcterms:modified xsi:type="dcterms:W3CDTF">2007-09-26T14:17:03Z</dcterms:modified>
  <cp:revision>33</cp:revision>
  <dc:subject/>
  <dc:title>Slide 1</dc:title>
</cp:coreProperties>
</file>