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E8243-8A03-4FBD-B49A-80B8139A25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6C62C-E2ED-4950-A774-6538981B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FF60-BF53-4D7E-8403-D898A9A0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6E10-7713-4296-ABB5-6D16694FE7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FE3AF-016A-409D-8D30-8DBFC3A0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5148F-1F0E-46B0-B8CD-1EB6B1B3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D3736-A5CB-4142-8931-6527457F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FC013-9ADA-4065-90E9-0476CB28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D1757-EE2D-445C-A73C-BFA7562D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4E437-D5CB-4DC9-AAAB-EE37108D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2BAD4-F878-4E28-A109-14733C0F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D821-08FB-41E7-86C7-B52F9F88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C323E-3F58-4288-B556-2ACF75A9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53779-B5D5-4A66-A29A-352E6420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75191-B95D-44D5-9887-F06FA21F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9DBB9-9526-4181-93D2-B2E6515E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08034-9907-400C-B3C3-02CC4723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EC122-5FC7-44AE-9EA7-0875BC65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798C9-D2B7-400F-8E5B-76A0474E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5E2F-BB62-44AF-8D69-F321AD84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302DF-ED8F-4A93-BEF7-38A167B5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66959-EC47-47D4-917C-191FBD10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83A4-484C-417E-BA09-68B85204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32E04-6ABC-422E-8D46-F6151D3B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99DF-C7DB-45FE-A36F-682F27F44D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91440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HRQ 2007 Annual Conference…Implementing Medication Safety Tools at Critical Jun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0" y="6248520"/>
            <a:ext cx="9144000" cy="9360"/>
          </a:xfrm>
          <a:prstGeom prst="line">
            <a:avLst/>
          </a:prstGeom>
          <a:ln w="57240">
            <a:solidFill>
              <a:srgbClr val="f3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F55E-3756-4648-9D57-E9999D8C7D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2184840"/>
            <a:ext cx="769644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hanc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ient-Safet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erventi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timiz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icati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cation (EPIT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l Sirio, M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es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 Care Medicine, Medicine and Pharmacy and Therapeu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Pittsbur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s of Medicine and Pharm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91120" y="1752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71440" y="3971880"/>
            <a:ext cx="6126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97560" y="3075120"/>
            <a:ext cx="1465560" cy="2562840"/>
          </a:xfrm>
          <a:prstGeom prst="rect">
            <a:avLst/>
          </a:prstGeom>
          <a:noFill/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are not receiving adequate medication education before leaving th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371240" y="3971880"/>
            <a:ext cx="2063880" cy="1303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61240" y="4006800"/>
            <a:ext cx="17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 to predict 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4262400"/>
            <a:ext cx="179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patient acuity and number of med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3063960"/>
            <a:ext cx="219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nsistent knowledge of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403380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nsistent availability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ching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8840" y="5294160"/>
            <a:ext cx="1865160" cy="398880"/>
          </a:xfrm>
          <a:prstGeom prst="rect">
            <a:avLst/>
          </a:prstGeom>
          <a:noFill/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360" y="1886040"/>
            <a:ext cx="2214360" cy="368280"/>
          </a:xfrm>
          <a:prstGeom prst="rect">
            <a:avLst/>
          </a:prstGeom>
          <a:noFill/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Ca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720" y="5280120"/>
            <a:ext cx="1467000" cy="398880"/>
          </a:xfrm>
          <a:prstGeom prst="rect">
            <a:avLst/>
          </a:prstGeom>
          <a:noFill/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38760" y="1824120"/>
            <a:ext cx="1465200" cy="398880"/>
          </a:xfrm>
          <a:prstGeom prst="rect">
            <a:avLst/>
          </a:prstGeom>
          <a:noFill/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28800" y="2443320"/>
            <a:ext cx="14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ffing Shor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67440" y="2317680"/>
            <a:ext cx="226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ttle collaboration amongst disci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5240" y="25002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ient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ft to day of disch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25840" y="3130560"/>
            <a:ext cx="266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bility in the  degree/amount of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00640" y="4514760"/>
            <a:ext cx="193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cen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patient turno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33400" y="3971880"/>
            <a:ext cx="1932120" cy="1285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500360" y="2293560"/>
            <a:ext cx="2530440" cy="1677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638000" y="2293560"/>
            <a:ext cx="2529000" cy="1677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43080" y="3049560"/>
            <a:ext cx="153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5680" y="3541680"/>
            <a:ext cx="22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535200" y="3033720"/>
            <a:ext cx="206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5600" y="3660840"/>
            <a:ext cx="252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2865600"/>
            <a:ext cx="1731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093320" y="4738680"/>
            <a:ext cx="113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69960" y="5194440"/>
            <a:ext cx="219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35400" y="4281480"/>
            <a:ext cx="159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30400" y="4984920"/>
            <a:ext cx="99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2080" y="5105520"/>
            <a:ext cx="226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36800" y="4710240"/>
            <a:ext cx="19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 teaching documentation for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304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fety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Intervention - EPITO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three basic tools of medicine…”the herb, the knife and the word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behavior chang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e – rapport, verbal/writ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inforce – comprehension, con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e - barri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needs assessmen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al med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utine patient nee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lex medication regime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rmacist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for “all pati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rog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disciplinary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Arial"/>
              </a:rPr>
              <a:t>Define the role of everyone within EPITOME</a:t>
            </a:r>
            <a:endParaRPr b="0" lang="en-US" sz="29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le of the Nurse/Nur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patients a medication education folder upon 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Medication Education leaflets with each new medication and give them to the pat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e EVERY patient on their medications 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dicatio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the following throughout the hospital admission utilizing the health behavior change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tion name and ind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take it (number of times per 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special administration instructions (take with f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id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Medication Educa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ver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for “all pati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rog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disciplinary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6720" y="228600"/>
            <a:ext cx="774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Arial"/>
              </a:rPr>
              <a:t>Define the role of everyone within EPITOME</a:t>
            </a:r>
            <a:endParaRPr b="0" lang="en-US" sz="29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of the Pharmac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e patients ordered 10 or more oral med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e patients identified by the nursing staff who need additional edu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following utilizing the health behavior change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dication name and ind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w to take it (number of times per da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y special administration instructions (take with foo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mon side effe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Medication Education and provide medication management modifications within the Progress Note Section of the patient cha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for “all pati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rog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disciplinary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iratory Thera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Arial"/>
              </a:rPr>
              <a:t>Define the role of everyone within EPITOME</a:t>
            </a:r>
            <a:endParaRPr b="0" lang="en-US" sz="29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of the Respiratory Therap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e all patients on an inhaled medication 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dication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ew the following throughout the hospital admission utilizing the health behavior change model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tion name and in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take it (number of times per 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special administration instructions (take with f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sid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Medication Education within the respiratory treatment log form available on the patient clip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&amp; staf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s to H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recor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ing implementati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ouble shoo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pid sequence performance improvement eff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4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Arial"/>
              </a:rPr>
              <a:t>What Are We Trying to Accomplish?</a:t>
            </a:r>
            <a:endParaRPr b="0" lang="en-US" sz="29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3246480"/>
            <a:ext cx="80010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ll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patients’ perception of (satisfaction with) the delivery of medication education while in the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 medication regimens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hospital read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219320"/>
            <a:ext cx="81532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im was to develop a collaborative management approach by pharmacists, nurses, and respiratory therapists to provide standardized patient education on medication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 satisfaction and awar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914400" y="1636560"/>
          <a:ext cx="769608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36560"/>
                    <a:ext cx="769608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s’ Perception of (satisfaction with) the Delivery of Medication Education While in the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 satisfaction and awar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cation error identification and prev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ity of medication regimen (simplific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spital readmi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 – Lessons Learned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rmacist interventions and consul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iratory Therapy tea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 awareness of their med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ication of complex medication regim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spital readmi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 – Lessons Learned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rsing workflow and teach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fting the cultural paradigm” from teaching at discharge to teaching over time – “titration and dosing” of educational eff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T barri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ducing useful educational materials for the bedsi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“information quality” iss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Dissemination Step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r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needs to be im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bjectives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safety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TOM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tual fra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lot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of “education for all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comes of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rriers and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nding results/next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Defining the Safety Problem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% of all hospital admissions are due to medication compl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nbar-Jacob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dequate patient medication education is a common reason for non-adherent behaviors and is an independent risk factor for unplanned 30-day hospital read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ynes 2004,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antonio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and Canadian studies have documented inconsistencies in the medication education component of hospital discharge resulting in poor patient knowledge of their med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bhai 1999, K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, Cortis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iers to hospital-based medication education by pharmacists include lack of time, no organized or systematic program for education, and inadequate discharge not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ffith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Safety Problem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 adherence – “the extent to which a patient’s behavior is consistent with health care recommendation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disciplinary education and consultation improv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ecific medication knowled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Arial"/>
              </a:rPr>
              <a:t>Specific Knowledge About Medication</a:t>
            </a:r>
            <a:endParaRPr b="0" lang="en-US" sz="3400" spc="-1" strike="noStrike">
              <a:solidFill>
                <a:srgbClr val="330033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66680" y="1820880"/>
          <a:ext cx="7391520" cy="404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0880"/>
                    <a:ext cx="7391520" cy="40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Safety Problem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 adherence – “the extent to which a patient’s behavior is consistent with health care recommendation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disciplinary education and consultation improv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ecific medication knowled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tisfaction with medication use edu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33"/>
                </a:solidFill>
                <a:latin typeface="Arial"/>
              </a:rPr>
              <a:t>Global Satisfaction with Medication Education</a:t>
            </a:r>
            <a:endParaRPr b="0" lang="en-US" sz="2500" spc="-1" strike="noStrike">
              <a:solidFill>
                <a:srgbClr val="330033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92400" y="1523880"/>
          <a:ext cx="69372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2400" y="1523880"/>
                    <a:ext cx="6937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Safety Problem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tion adherence – “the extent to which a patient’s behavior is consistent with health care recommendation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disciplinary education and consultation improv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medicatio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isfaction with medication us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reported adh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4:47:41Z</dcterms:created>
  <dc:creator>NPSF</dc:creator>
  <dc:description/>
  <dc:language>en-US</dc:language>
  <cp:lastModifiedBy>spencerbd</cp:lastModifiedBy>
  <dcterms:modified xsi:type="dcterms:W3CDTF">2007-09-20T18:35:55Z</dcterms:modified>
  <cp:revision>47</cp:revision>
  <dc:subject/>
  <dc:title>Slide 1</dc:title>
</cp:coreProperties>
</file>