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B4D2-FC96-46A5-A51F-203F63CD8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E6E6-5801-4AC3-B544-65AB55E0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B0BC-EEA1-4DBE-98AE-5E8C1E2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BA0B-A3E8-4122-99FF-7E157CACC3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6F0F-A5D6-4814-B038-C965F2A5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A8333-6F7A-461B-9337-388CD52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21446-1971-4715-B150-BA9488A3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6BDC-7720-4650-AB1F-7CEB239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C1C2-4C31-41DF-9832-1DF2C99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F8DDB-A1EE-4D5D-BF39-A6CE8AA9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B388F-7B01-46AB-B721-78F311A2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67B3-AC30-4A5B-8311-41F445C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B11E2-C34A-4DBA-8300-FEB8B93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99F18-F976-4D98-A872-6C411BAC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ED658-A886-4FBC-AF29-598FAA90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AA43F-90C1-4F3E-81A6-A9995338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C97AD-E8D2-4874-9768-39A846B2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9F42-8095-42B8-8F99-009AAC8D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45CA-B4C5-4FAE-A3A9-9274B6E7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A78D-4086-4C1E-82AF-19B30E82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1113-22E4-4E77-A78C-8751AE82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05531-2EB1-4888-ABBE-C0A136AF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99F9-DAD4-48B3-BC95-1B8ED44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C70AA-D8C7-45B0-89F4-2540CDA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A0A4-67B1-46BE-A185-450E0E790F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1440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HRQ 2007 Annual Conference…Implementing Medication Safety Tools at Critical Jun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0" y="6248520"/>
            <a:ext cx="9144000" cy="9360"/>
          </a:xfrm>
          <a:prstGeom prst="line">
            <a:avLst/>
          </a:prstGeom>
          <a:ln w="57240">
            <a:solidFill>
              <a:srgbClr val="f3f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0ADA-873C-4534-B343-B2B7481E82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66680" y="2184840"/>
            <a:ext cx="7696440" cy="37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hanc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ient-Safet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terven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timiz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cati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cation (EPIT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Sirio, 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Care Medicine, Medicine and Pharmacy and Therapeu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Pittsbur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s of Medicine and Phar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1120" y="17524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71440" y="3971880"/>
            <a:ext cx="6126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97560" y="3075120"/>
            <a:ext cx="1465560" cy="256284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are not receiving adequate medication education before leaving th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371240" y="3971880"/>
            <a:ext cx="2063880" cy="1303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61240" y="400680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 to predict 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262400"/>
            <a:ext cx="1798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patient acuity and number of med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8200" y="3063960"/>
            <a:ext cx="21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nsistent knowledge of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3800"/>
            <a:ext cx="152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onsistent availability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ing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8840" y="5294160"/>
            <a:ext cx="186516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1886040"/>
            <a:ext cx="2214360" cy="3682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Ca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720" y="5280120"/>
            <a:ext cx="146700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8760" y="1824120"/>
            <a:ext cx="1465200" cy="398880"/>
          </a:xfrm>
          <a:prstGeom prst="rect">
            <a:avLst/>
          </a:prstGeom>
          <a:noFill/>
          <a:ln w="3816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28800" y="2443320"/>
            <a:ext cx="14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ing Shor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67440" y="2317680"/>
            <a:ext cx="226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ttle collaboration amongst disci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5240" y="25002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ient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ft to day of disch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25840" y="3130560"/>
            <a:ext cx="266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ility in the  degree/amount of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00640" y="4514760"/>
            <a:ext cx="19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cen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patient turno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33400" y="3971880"/>
            <a:ext cx="1932120" cy="1285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4500360" y="2293560"/>
            <a:ext cx="2530440" cy="167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638000" y="2293560"/>
            <a:ext cx="2529000" cy="167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3080" y="3049560"/>
            <a:ext cx="1530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5680" y="3541680"/>
            <a:ext cx="226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35200" y="3033720"/>
            <a:ext cx="20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5600" y="3660840"/>
            <a:ext cx="2528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865600"/>
            <a:ext cx="1731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93320" y="4738680"/>
            <a:ext cx="1133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69960" y="5194440"/>
            <a:ext cx="2198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35400" y="4281480"/>
            <a:ext cx="159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830400" y="4984920"/>
            <a:ext cx="99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2080" y="5105520"/>
            <a:ext cx="2262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36800" y="4710240"/>
            <a:ext cx="19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596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ic teaching documentation for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049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fet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Intervention - 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basic tools of medicine…”the herb, the knife and the word.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behavior chang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e – rapport, verbal/writ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inforce – comprehension, con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e -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needs assessmen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al me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utine patient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lex medication regime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rmacist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228600"/>
            <a:ext cx="804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e of the Nurse/Nursing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patients a medication education folder upon ad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Medication Education leaflets with each new medication and give them to the pat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e EVERY patient on their medications 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dicatio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the following throughout the hospital admission utilizing the health behavior change 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Medication Educ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6720" y="228600"/>
            <a:ext cx="7743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of the Pharmac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patients ordered 10 or more oral med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patients identified by the nursing staff who need additional edu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the following utilizing the health behavior change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edication Education and provide medication management modifications within the Progress Note Section of the patient char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for “all pati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lu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rog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disciplinary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iratory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Define the role of everyone within EPITOME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 of the Respiratory Therap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e all patients on an inhaled medication 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dication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ew the following throughout the hospital admission utilizing the health behavior change model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tion name and in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take it (number of times per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pecial administration instructions (take with f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sid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edication Education within the respiratory treatment log form available on the patient clip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staf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s to H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recor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ing implementati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ble shoo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sequence performance improvement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Arial"/>
              </a:rPr>
              <a:t>What Are We Trying to Accomplish?</a:t>
            </a:r>
            <a:endParaRPr b="0" lang="en-US" sz="29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3246480"/>
            <a:ext cx="80010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l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patients’ perception of (satisfaction with) the delivery of medication education while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 medication regimens as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hospital read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193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im was to develop a collaborative management approach by pharmacists, nurses, and respiratory therapists to provide standardized patient education on medicatio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tisfaction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14400" y="1636560"/>
          <a:ext cx="769608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36560"/>
                    <a:ext cx="769608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’ Perception of (satisfaction with) the Delivery of Medication Education While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shold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satisfaction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ation error identification and prev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ity of medication regimen (simplif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read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 – Lessons Learne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armacist interventions and consul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iratory Therapy tea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awareness of their med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cation of complex medication regim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spital readmi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PITOME – Lessons Learne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rsing workflow and teach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ing the cultural paradigm” from teaching at discharge to teaching over time – “titration and dosing” of educational eff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T barr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ducing useful educational materials for the beds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“information quality” 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issemination Step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needs to be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bjectives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afety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TOME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“education for all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comes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rriers and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nding results/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fining 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 of all hospital admissions are due to medication compl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nbar-Jacob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dequate patient medication education is a common reason for non-adherent behaviors and is an independent risk factor for unplanned 30-day hospital read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ynes 2004,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antonio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and Canadian studies have documented inconsistencies in the medication education component of hospital discharge resulting in poor patient knowledge of their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bhai 1999, 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, Cortis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iers to hospital-based medication education by pharmacists include lack of time, no organized or systematic program for education, and inadequate discharge no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ffit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Arial"/>
              </a:rPr>
              <a:t>Specific Knowledge About Medication</a:t>
            </a:r>
            <a:endParaRPr b="0" lang="en-US" sz="34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1820880"/>
          <a:ext cx="7391520" cy="40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0880"/>
                    <a:ext cx="739152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tisfaction with medication use edu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Arial"/>
              </a:rPr>
              <a:t>Global Satisfaction with Medication Education</a:t>
            </a:r>
            <a:endParaRPr b="0" lang="en-US" sz="2500" spc="-1" strike="noStrike">
              <a:solidFill>
                <a:srgbClr val="33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2400" y="1523880"/>
          <a:ext cx="69372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2400" y="1523880"/>
                    <a:ext cx="6937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Safety Probl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 adherence – “the extent to which a patient’s behavior is consistent with health care recommendation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disciplinary education and consultation impro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medicatio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action with medication us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reported adh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47:41Z</dcterms:created>
  <dc:creator>NPSF</dc:creator>
  <dc:description/>
  <dc:language>en-US</dc:language>
  <cp:lastModifiedBy>spencerbd</cp:lastModifiedBy>
  <dcterms:modified xsi:type="dcterms:W3CDTF">2007-09-20T18:35:55Z</dcterms:modified>
  <cp:revision>47</cp:revision>
  <dc:subject/>
  <dc:title>Slide 1</dc:title>
</cp:coreProperties>
</file>