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F0ACC8E-6180-47E7-A69E-41747BC5F8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20320" y="690120"/>
            <a:ext cx="4622760" cy="34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82640"/>
            <a:ext cx="5029200" cy="4235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BE7636E-1546-4C88-B1C3-D0CC63123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584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4232773-C153-4EDC-BA14-848EB9332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1AFE591-7B6D-4A77-8C45-652DE36C2A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584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ED225E3-56A2-4A64-851D-2CFE854DE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0A405E5-98AA-4538-9434-7499D9C70C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8584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CF418BC-3039-40EA-AA5C-ACA7E05D7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1D1908E-1D07-4104-9B0E-C2F9B882E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12284BD-D8FF-4AEE-903E-21A569093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10B25AF-3502-407C-B4FD-92D31702D3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8584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30D77CD-D03D-4492-9C75-11309DABF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098261E-302E-4A2D-86FA-2F6B3B0513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584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5B1AD6F-9BAD-4F86-AF5C-49C95186D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F868327-B68F-44EB-BDF0-90FED6060C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C7C3DE1-751E-476B-912E-9B4AADDD2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8441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0A59765-0ED1-47F8-8D2F-FED4447DC5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22B-DD23-49E2-A2AF-9E337AD1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43F8-2B83-4CD9-844C-5C932AAC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DAF-5078-4881-8989-B447DFC5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50BC-1DA0-478C-B0C7-C9FA4994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94D6-BBA4-4550-8435-883CED36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3523-A505-4B87-B3C6-FC8B38E5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D906-2D9D-4A32-B2DF-CA66FCC2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D36B-032C-463A-B486-6C4B91C1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0F63-4EC4-426E-B621-6721341E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D615-F9E5-4BE8-AC95-67D0069F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D01B-BA9C-457D-9D09-5DFDEA05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9BB-6332-4F10-B1F9-E8EB9539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29DF-FC65-4C79-9579-FE37C7A3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78E9-5FC7-444C-9A15-506DAC62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4560-846E-4694-8C3D-C2D20976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C4D3-0975-445B-820C-58EF8F61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417A-FDD5-4302-8A55-E5991925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7AC-C272-4150-A7CB-6FD06605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D3B-78C8-4A06-A74E-935E2C4B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F42-1FCB-4E99-9A3D-8F6631A1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41B-71F9-485F-84C9-11D51048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C80-D41F-4DDF-B5F7-F449DC4E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C7DA-9E62-4523-9F9E-8151A6C3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B51-C672-4686-A904-C8FE8B0E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cc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E4E2-8924-44B1-978B-CAD9B57DA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AB82-1CAF-4981-BAD5-A9DB42373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cc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-Time Quality Improvement for Long Term Car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designing Workflow</a:t>
            </a: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ursday, September 27, 2007; 1:30 – 3p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37339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obhan S. Sharkey, MBA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ealth Management Strategi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5105520"/>
            <a:ext cx="5105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2600" y="0"/>
            <a:ext cx="82504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designing Work Processes t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mprove Resident Safety and Qua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814-9FD1-4189-B25E-19FEEF7B2F8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ey Success Measur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# CNA documentation forms; redundanc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NA documentation completenes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rse and CNA awareness of high risk residen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-house pressure ulcer rat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44A-7C1C-4A87-848E-BC8D5A7445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pproach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IT + Workflow Redesig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velop Core Tea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keholders: CNAs, Floor Nurses, Dietician, Staff Development, Wound Nurse, D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andardize CNA document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se information to improve clinical decision-mak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e reports into existing processes: QI, Wt. Varian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blish new processes for report u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ekly 5-Minute Stand ups: CNA staff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ff Development Weekly Review: in-servicing need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DS Nurse Weekly Review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agement Monitoring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d of Shift Report Format: CNA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BBB-F6CC-4974-B921-F077DDCACF4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w Can Technology Support Workflow Redesign?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6858000" cy="4952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0320" indent="-490320"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Translate data into information to support clinical decisions and care planning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5640" indent="-414720">
              <a:spcBef>
                <a:spcPts val="6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ccess to right information when needed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55640" indent="-414720">
              <a:spcBef>
                <a:spcPts val="6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Timely Reports and queries vs. quarterly (e.g., MDS)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55640" indent="-414720">
              <a:spcBef>
                <a:spcPts val="6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Alerts, Reminders, Prompts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55640" indent="-414720">
              <a:spcBef>
                <a:spcPts val="6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Monitor Compliance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556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90320" indent="-490320"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Streamline workflow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5640" indent="-414720">
              <a:spcBef>
                <a:spcPts val="6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Standardize/streamline data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55640" indent="-414720">
              <a:spcBef>
                <a:spcPts val="6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Improve communications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55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867280" y="4267080"/>
            <a:ext cx="1676520" cy="15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E40-4007-404E-B873-26090CDF2DB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4343400"/>
            <a:ext cx="2579400" cy="503280"/>
          </a:xfrm>
          <a:custGeom>
            <a:avLst/>
            <a:gdLst/>
            <a:ahLst/>
            <a:rect l="l" t="t" r="r" b="b"/>
            <a:pathLst>
              <a:path w="1563" h="481">
                <a:moveTo>
                  <a:pt x="0" y="0"/>
                </a:moveTo>
                <a:lnTo>
                  <a:pt x="1308" y="0"/>
                </a:lnTo>
                <a:lnTo>
                  <a:pt x="1562" y="240"/>
                </a:lnTo>
                <a:lnTo>
                  <a:pt x="1308" y="480"/>
                </a:lnTo>
                <a:lnTo>
                  <a:pt x="0" y="480"/>
                </a:lnTo>
                <a:lnTo>
                  <a:pt x="242" y="236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cap="rnd"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5380200"/>
            <a:ext cx="2579760" cy="502920"/>
          </a:xfrm>
          <a:custGeom>
            <a:avLst/>
            <a:gdLst/>
            <a:ahLst/>
            <a:rect l="l" t="t" r="r" b="b"/>
            <a:pathLst>
              <a:path w="1563" h="481">
                <a:moveTo>
                  <a:pt x="0" y="0"/>
                </a:moveTo>
                <a:lnTo>
                  <a:pt x="1308" y="0"/>
                </a:lnTo>
                <a:lnTo>
                  <a:pt x="1562" y="240"/>
                </a:lnTo>
                <a:lnTo>
                  <a:pt x="1308" y="480"/>
                </a:lnTo>
                <a:lnTo>
                  <a:pt x="0" y="480"/>
                </a:lnTo>
                <a:lnTo>
                  <a:pt x="242" y="236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cap="rnd"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pproach: 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cess –Information –Decision Making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4920" y="1828800"/>
            <a:ext cx="2474640" cy="533520"/>
            <a:chOff x="304920" y="1828800"/>
            <a:chExt cx="2474640" cy="533520"/>
          </a:xfrm>
        </p:grpSpPr>
        <p:sp>
          <p:nvSpPr>
            <p:cNvPr id="155" name=""/>
            <p:cNvSpPr/>
            <p:nvPr/>
          </p:nvSpPr>
          <p:spPr>
            <a:xfrm>
              <a:off x="304920" y="1828800"/>
              <a:ext cx="2474640" cy="533520"/>
            </a:xfrm>
            <a:custGeom>
              <a:avLst/>
              <a:gdLst/>
              <a:ahLst/>
              <a:rect l="l" t="t" r="r" b="b"/>
              <a:pathLst>
                <a:path w="1563" h="481">
                  <a:moveTo>
                    <a:pt x="0" y="0"/>
                  </a:moveTo>
                  <a:lnTo>
                    <a:pt x="1308" y="0"/>
                  </a:lnTo>
                  <a:lnTo>
                    <a:pt x="1562" y="240"/>
                  </a:lnTo>
                  <a:lnTo>
                    <a:pt x="1308" y="480"/>
                  </a:lnTo>
                  <a:lnTo>
                    <a:pt x="0" y="480"/>
                  </a:lnTo>
                  <a:lnTo>
                    <a:pt x="242" y="236"/>
                  </a:lnTo>
                  <a:lnTo>
                    <a:pt x="0" y="0"/>
                  </a:lnTo>
                </a:path>
              </a:pathLst>
            </a:custGeom>
            <a:solidFill>
              <a:srgbClr val="ffff00">
                <a:alpha val="99000"/>
              </a:srgbClr>
            </a:solidFill>
            <a:ln cap="rnd" w="255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0560" y="1851840"/>
              <a:ext cx="1681200" cy="48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Screening &amp; Assess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4352040"/>
            <a:ext cx="1752480" cy="48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eam Commun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4160" y="1660680"/>
            <a:ext cx="594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indicators of high ris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ize assessment process to categorize and prioritize patient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2200" y="6130800"/>
            <a:ext cx="2427480" cy="473040"/>
          </a:xfrm>
          <a:custGeom>
            <a:avLst/>
            <a:gdLst/>
            <a:ahLst/>
            <a:rect l="l" t="t" r="r" b="b"/>
            <a:pathLst>
              <a:path w="1563" h="481">
                <a:moveTo>
                  <a:pt x="0" y="0"/>
                </a:moveTo>
                <a:lnTo>
                  <a:pt x="1308" y="0"/>
                </a:lnTo>
                <a:lnTo>
                  <a:pt x="1562" y="240"/>
                </a:lnTo>
                <a:lnTo>
                  <a:pt x="1308" y="480"/>
                </a:lnTo>
                <a:lnTo>
                  <a:pt x="0" y="480"/>
                </a:lnTo>
                <a:lnTo>
                  <a:pt x="242" y="236"/>
                </a:lnTo>
                <a:lnTo>
                  <a:pt x="0" y="0"/>
                </a:lnTo>
              </a:path>
            </a:pathLst>
          </a:custGeom>
          <a:solidFill>
            <a:srgbClr val="ffff00"/>
          </a:solidFill>
          <a:ln cap="rnd" w="255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66880" y="6123600"/>
            <a:ext cx="1336680" cy="48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onitoring/ Evalua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86120" y="1676520"/>
            <a:ext cx="0" cy="502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2743200"/>
            <a:ext cx="601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forum for proactive care plan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ize collaborative working session and team problem-solv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54160" y="4267080"/>
            <a:ext cx="618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 RN role facilitating and coordinating activities of multi-disciplinary team (versus doing it themselv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5915160"/>
            <a:ext cx="59151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tion feedback on process and outcomes measu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2666880"/>
            <a:ext cx="840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4267080"/>
            <a:ext cx="840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334120"/>
            <a:ext cx="840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5422320"/>
            <a:ext cx="1785960" cy="42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Black"/>
              </a:rPr>
              <a:t>Resident/Family Commun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3200" y="6010200"/>
            <a:ext cx="840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720" y="6773760"/>
            <a:ext cx="8407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04920" y="3048120"/>
            <a:ext cx="2554200" cy="533160"/>
            <a:chOff x="304920" y="3048120"/>
            <a:chExt cx="2554200" cy="533160"/>
          </a:xfrm>
        </p:grpSpPr>
        <p:sp>
          <p:nvSpPr>
            <p:cNvPr id="172" name=""/>
            <p:cNvSpPr/>
            <p:nvPr/>
          </p:nvSpPr>
          <p:spPr>
            <a:xfrm>
              <a:off x="304920" y="3048120"/>
              <a:ext cx="2554200" cy="533160"/>
            </a:xfrm>
            <a:custGeom>
              <a:avLst/>
              <a:gdLst/>
              <a:ahLst/>
              <a:rect l="l" t="t" r="r" b="b"/>
              <a:pathLst>
                <a:path w="1563" h="481">
                  <a:moveTo>
                    <a:pt x="0" y="0"/>
                  </a:moveTo>
                  <a:lnTo>
                    <a:pt x="1308" y="0"/>
                  </a:lnTo>
                  <a:lnTo>
                    <a:pt x="1562" y="240"/>
                  </a:lnTo>
                  <a:lnTo>
                    <a:pt x="1308" y="480"/>
                  </a:lnTo>
                  <a:lnTo>
                    <a:pt x="0" y="480"/>
                  </a:lnTo>
                  <a:lnTo>
                    <a:pt x="242" y="236"/>
                  </a:lnTo>
                  <a:lnTo>
                    <a:pt x="0" y="0"/>
                  </a:lnTo>
                </a:path>
              </a:pathLst>
            </a:custGeom>
            <a:solidFill>
              <a:srgbClr val="ffff00">
                <a:alpha val="99000"/>
              </a:srgbClr>
            </a:solidFill>
            <a:ln cap="rnd" w="255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3160" y="3192840"/>
              <a:ext cx="1735200" cy="243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Care Plann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954160" y="5486400"/>
            <a:ext cx="61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 early interactions with patient / fami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4E47-21BF-4706-98F0-A71CCD95A3D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ew Process #1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NA 5-Minute Stand Up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Objective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:  Conduct focused feedback sessions with CNA staff each week to ensure front-line team aware of residents at risk, plan of action, and follow up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Proces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Establish a routine time: non-meeting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dentify facilitator: Dietician, DSD, NM, or CN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Keep sessions brief, focused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Determine report information to review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Nutrition Report: Meal intake -  current % and trends, TF, New or worsened ulcer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Priority Report:  Red areas, open areas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Confirm report information is consistent with clinical picture, care plan is in place, and communicate to front-line staff 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Ensure action plan and follow up are understood by team. </a:t>
            </a: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2329-B2D2-401C-B089-CD85F10B74C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sults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NA 5-Minute Stand Up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CNA input valued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CNAs see link between documentation and reports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CNA documentation of meal intake becomes more accurate and complete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Dietician more aware of resident needs: earlier identification of residents at nutritional risk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Dietician more involved in follow up: e.g., monitor snack intake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66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Staff development more aware of CNA in-service needs and follow up</a:t>
            </a: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5867280"/>
            <a:ext cx="6311880" cy="825480"/>
          </a:xfrm>
          <a:prstGeom prst="rect">
            <a:avLst/>
          </a:prstGeom>
          <a:solidFill>
            <a:srgbClr val="ff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verall communication is improved.  We talk more with each oth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C03B-1B6D-4289-B81E-765A37208D4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ew Process #2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nagement Monitoring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Objective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Review reports with Unit Managers each week – establish plan for week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Proces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Monday: DON reviews report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uesday: DON reviews report results with Unit Manager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iscuss report variances and establish follow up, prioritie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dentify CNA in-service needs w/staff development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Behavior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d area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Open area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607-AB87-4A45-8880-8F7A2D84F1C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sults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nagement Monitoring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accurate documentation of resident behaviors by CNA staff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crepancy between CNA and RN observation of behavio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cused in-services conducted by staff develop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gular follow up with CNAs by nursing staff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5105520"/>
            <a:ext cx="8991720" cy="1557000"/>
          </a:xfrm>
          <a:prstGeom prst="rect">
            <a:avLst/>
          </a:prstGeom>
          <a:solidFill>
            <a:srgbClr val="ffa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r nurses weren’t seeing what the CNAs were seeing so it was important for CNAs to communicate resident behaviors to nurses.  CNAs had to understand what to document and rep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NA communication of behaviors has greatly impro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4E12-1BCF-44B9-A24A-B31F63BCB52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acility Time Commitmen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r leadership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approximately 1-2 days to confirm plans and discuss HIT options.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r the multi-disciplinary team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ekly conference calls for the first 3 months lasting 30 minutes to 1 hour, an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-weekly calls for the next 12 months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r staff developm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4 hours per week for the first 2-3 months to support initial implementation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ne-day meeting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with the consultants on-sit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5865-2F4F-45F9-805A-DA06830BFA4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IT Investmen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w cost opti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(Digital Pen Systems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$12K to $15K for 100 bed facility in yr 1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igh cost opti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$65 - $100k for 100 bed facility in yr 1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D33-283C-4946-97A3-61F691074E7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orkflow Redesign Framework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fine scop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Why redesign?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What processes?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stablish list of success measur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stablish redesign process and timelin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Readines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Role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ommunications and coordination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onitoring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firm resour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echnical:  process flowcharts/maps; data definitions; pilot tests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ducational and staff developmen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ject management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C1D-3FCD-4B02-94DD-6EFE98E6234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ssons Learned: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NA documenta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CNA documentation previously has not been closely monitored on weekly basis: contained knowledge deficits, inaccuracies</a:t>
            </a:r>
            <a:endParaRPr b="1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12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CNA documentation of ADLs is new and requires time to learn the coding </a:t>
            </a:r>
            <a:endParaRPr b="1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NA codes differ from MDS codes on new for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e-person assist is represented by “1” on CNA form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e person assist is represented by ‘2” for MDS nurse documentation.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DS nurses have to adjust to change in codes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NA documentation requires ongoing monitoring and follow-up by staff to maintain accuracy and high documentation completion rate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A4E-9E54-41AD-A374-E70A0BD7664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ssons Learned: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mplementatio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-going implementation strategy involve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t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p leadership and front-line clinical team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rt small:  focus on 1-2 reports for team to us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eep review of report information focused: do not slip into lengthy meeting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dentify how report can eliminate manual work or make work easier for staff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-going training and follow-up on reports is necessary: how to access, how to print, and when to use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8CB-6718-4B78-9BED-9593035C6C7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ssons Learned: 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mplementatio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ocus use of HIT as a tool to sustain quality and operational improvemen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tandardized data elements and use of redesigned forms facilitate CNA adoption of HI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design workflow </a:t>
            </a:r>
            <a:r>
              <a:rPr b="1" i="1" lang="en-US" sz="2600" spc="-1" strike="noStrike">
                <a:solidFill>
                  <a:srgbClr val="ffffff"/>
                </a:solidFill>
                <a:latin typeface="Times New Roman"/>
              </a:rPr>
              <a:t>prior to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HIT implement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-  Current workflow idiosyncratic and difficult to automate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nvolve front-line in teams to redesign workflow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Establish partnerships and local champion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edicate project management resource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rsing home facilities lack knowledgeable and experienced team to implement information technology, train staff, and managing change to achieve results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709-97AB-4C45-929F-B0CC0EC7171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Reduce workflow inefficienci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iminate an average of 3-4 CNA daily documentation forms (a reduction of 53.2%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hieve &gt;90% documentation completeness rates for CNA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crease staff time to compile reports for MDS and State Regulator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3AB-1C5A-47D7-8740-764DEE20436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1874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Prevent pressure ulcers:  Decrease high risk pressure ulcer rate ~ 33%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tential savings of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,932 per Stage 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7,170 per Stage 2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$11,534 per Stage 3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$14,077 per Stage 4 pressure ulcer event             (FY 05$, not including hospitalization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85000"/>
              </a:lnSpc>
              <a:spcBef>
                <a:spcPts val="1874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Better utilize investment in CNA staff time to document each shift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ugh estimate: $37K per year for 100 bed facilit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D5D-8562-43A4-8379-12854723D5C4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n-Time Background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essure ulcer (PrU) rates remain hig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spite guidelin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spite train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H staff know how to prevent PrU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ed to identify high risk residents on weekly ba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nowledge not integrated into day to day practic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ire multi-disciplinary team needs to coordinate care better for high risk residents (including CNAs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A04-CA7E-4283-81C4-6BF76558EBF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Times New Roman"/>
              </a:rPr>
              <a:t>Scope: Common Challenges Across Facilities</a:t>
            </a:r>
            <a:endParaRPr b="1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086600" cy="426708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efficient Proces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omplete Document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NAs: untapped resourc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munication Breakdowns / Lack Standard Proces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nical Decision Support Need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EA7D-C565-4F56-BF76-7F60B4E6D32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efficient Process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66680" y="2209680"/>
          <a:ext cx="6705720" cy="397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670572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143000" y="1447920"/>
            <a:ext cx="65530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4% of CNAs on average have difficulty completing documentation before end of shift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62485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ource:  Sample survey results from 7 facilities, 250+ CNAs, in 5 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4952880"/>
            <a:ext cx="5527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3733920"/>
            <a:ext cx="666720" cy="53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  <a:ea typeface="Arial"/>
              </a:rPr>
              <a:t>26% Av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05360" y="4343400"/>
            <a:ext cx="215640" cy="52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050E-976A-42CA-A53D-9D2BBEFA52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efficient Process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14400" y="2209680"/>
          <a:ext cx="6858000" cy="40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685800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990720" y="1447920"/>
            <a:ext cx="662940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8% of CNAs on average document the same information in more than one place each day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62485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ource: Sample survey results from 7 facilities, 250+ CNAs, in 5 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5029200"/>
            <a:ext cx="57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3886200"/>
            <a:ext cx="56196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  <a:ea typeface="Arial"/>
              </a:rPr>
              <a:t>22% Av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629040" y="4495680"/>
            <a:ext cx="181080" cy="5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DAE-82C8-4475-BEAB-10FF1F157F0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NAs, a Resource To Be Leveraged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38080" y="1905120"/>
          <a:ext cx="7258320" cy="456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25832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647720" y="4599000"/>
            <a:ext cx="6356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3505320"/>
            <a:ext cx="609480" cy="6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  <a:ea typeface="Arial"/>
              </a:rPr>
              <a:t>46% Av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857640" y="4114800"/>
            <a:ext cx="299880" cy="60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64911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ource:  Sample survey results from 7 facilities, 250+ CNAs, in 5 sta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447920"/>
            <a:ext cx="701028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% CNAs on average feel their work is valued…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82B-B494-46BE-8857-F6B4E3EFF90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2819520" y="2286000"/>
          <a:ext cx="6095880" cy="27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286000"/>
                    <a:ext cx="609588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04920" y="2505240"/>
            <a:ext cx="2243160" cy="22885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NAs repor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…. Average of 63% report that “I understand all of what needs to be done for the resident before I start work.”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munication Breakdow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3724200"/>
            <a:ext cx="4495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01000" y="2886120"/>
            <a:ext cx="533520" cy="52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  <a:ea typeface="Arial"/>
              </a:rPr>
              <a:t>63% Av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8000640" y="3419640"/>
            <a:ext cx="128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CA1-38B4-48D7-9148-6A76043889E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Decision Support Need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8600" y="3200400"/>
          <a:ext cx="4265640" cy="28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00400"/>
                    <a:ext cx="42656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419720" y="3200400"/>
          <a:ext cx="4343400" cy="2819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200400"/>
                    <a:ext cx="43434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85920" y="6248520"/>
            <a:ext cx="64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ource:  Sample baseline results at 4 facilities; total of 70 R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52388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76520"/>
            <a:ext cx="3886200" cy="1191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7% - 75% of RNs report ...         ‘At the beginning of my shift, I am aware of all residents on my unit who have a pressure ulcer(s)….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1676520"/>
            <a:ext cx="3886200" cy="1191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7% - 40% of RNs report ….          ‘At the beginning of my shift, I am aware of residents who are at risk of developing a pressure ulcer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FDA-380D-46B2-8CF7-F3461339806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9T22:39:16Z</dcterms:created>
  <dc:creator>Susan D. Horn, Ph.D.</dc:creator>
  <dc:description/>
  <dc:language>en-US</dc:language>
  <cp:lastModifiedBy>Susan</cp:lastModifiedBy>
  <cp:lastPrinted>2000-09-06T19:30:46Z</cp:lastPrinted>
  <dcterms:modified xsi:type="dcterms:W3CDTF">2007-09-20T18:56:44Z</dcterms:modified>
  <cp:revision>256</cp:revision>
  <dc:subject/>
  <dc:title>No Slide Title</dc:title>
</cp:coreProperties>
</file>