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1DE2487-3E98-4D95-B77F-5126DDAD9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0320" y="690120"/>
            <a:ext cx="462276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2640"/>
            <a:ext cx="5029200" cy="4235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DC8E154-32B0-466F-8289-1DF914A2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164FA8-C4A1-4037-ACC1-9F111E8F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9375CD-6423-47C2-8F43-8126DFF88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FF8E47-D71F-4167-ADEA-17EC83587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759843-9A06-4D39-A5EF-724998589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007A9A-4189-4B6A-BE58-A7D02134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8332369-91C3-47D8-B774-11D2A6494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88F099-AE58-4011-B2C5-985ADA17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A75266-CB68-4EC2-87F2-719AC07F7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1EF940-02B5-4192-909E-270428CE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90DAF81-9EB2-4E55-9D64-44246153F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F012C7-10CA-429F-AA16-A8E36AEB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51F94E-84F0-42DE-AEA8-8276ED98B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9481DAE-50FE-4140-B30F-E45DD2BF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A3022E-4E0A-4666-97D1-12D17E76C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AC1-8326-451D-B1BE-3CCFDA3A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86E-3CBF-429A-9194-91E9490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F3F-5F8A-4DD9-948D-5B6F24DE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D11-EF22-4EE7-B783-6945AFA7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4249-D60C-46D9-B111-BC669303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130A-6838-413D-BF0E-AC3EB89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D97E-65DF-4E13-8E4A-AAD6D3FD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697C-98E2-43C0-80D9-6C83E3B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D87-68BE-4AB6-922E-CEF4225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203B-BDC1-41B5-9589-93A0B12F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A52-2243-46B2-9846-CB9E8A7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3F9-7576-4CB9-9468-DDB77BA3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F3E7-72A7-451D-9E63-CEC93CD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F224-7B9B-44F4-87D6-D6991CD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BA8E-FF03-4998-BDDA-F6506EA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30E-0A24-40D1-8F45-0B947679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7884-AB30-48D3-A131-0F3E105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0F5-24AF-42A3-88D8-82FBD1F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3F2-FECF-43B8-B267-F6E6226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D60-8A78-42D9-937D-12B0A877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A8F-BC48-4DF3-9774-7D98D07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794-9808-4DDD-82F5-DF62203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6F4-E9BA-4FC2-9C45-60A06D9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43F-31C3-4C71-949A-F9C0ED6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052-921F-4373-B061-93DFB460E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FE1D-4502-4D41-9571-0221DBA79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Quality Improvement for Long Term Car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esigning Workflow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ursday, September 27, 2007; 1:30 – 3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obhan S. Sharkey, MB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lth Management Strate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" y="0"/>
            <a:ext cx="8250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designing Work Processes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rove Resident Safe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DA7-8558-410C-8CE9-2A3C516334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ey Success Measur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# CNA documentation forms; redundanc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NA documentation completene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rse and CNA awareness of high risk resid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-house pressure ulcer rat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96C-E99C-4C95-AE00-CE795CE52C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roach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T + Workflow Redesig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velop Core Te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keholders: CNAs, Floor Nurses, Dietician, Staff Development, Wound Nurse, D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ndardiz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 information to improve clinical decision-mak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e reports into existing processes: QI, Wt. Vari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 new processes for report u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ekly 5-Minute Stand ups: CNA staf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ff Development Weekly Review: in-servicing nee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S Nurse Weekly Revi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Monitor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 of Shift Report Format: CNA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EDF-4101-43A8-8823-CCD79931EA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Can Technology Support Workflow Redesign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858000" cy="495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0320" indent="-49032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ranslate data into information to support clinical decisions and care planning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ccess to right information when needed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imely Reports and queries vs. quarterly (e.g., MDS)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erts, Reminders, Prompt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onitor Complianc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90320" indent="-49032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reamline workflow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andardize/streamline data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mprove communication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1676520" cy="15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059-1326-463E-A49F-943658C0B9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343400"/>
            <a:ext cx="2579400" cy="50328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5380200"/>
            <a:ext cx="2579760" cy="50292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roach: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cess –Information –Decision Mak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1828800"/>
            <a:ext cx="2474640" cy="533520"/>
            <a:chOff x="304920" y="1828800"/>
            <a:chExt cx="2474640" cy="533520"/>
          </a:xfrm>
        </p:grpSpPr>
        <p:sp>
          <p:nvSpPr>
            <p:cNvPr id="155" name=""/>
            <p:cNvSpPr/>
            <p:nvPr/>
          </p:nvSpPr>
          <p:spPr>
            <a:xfrm>
              <a:off x="304920" y="1828800"/>
              <a:ext cx="2474640" cy="533520"/>
            </a:xfrm>
            <a:custGeom>
              <a:avLst/>
              <a:gdLst/>
              <a:ahLst/>
              <a:rect l="l" t="t" r="r" b="b"/>
              <a:pathLst>
                <a:path w="1563" h="481">
                  <a:moveTo>
                    <a:pt x="0" y="0"/>
                  </a:moveTo>
                  <a:lnTo>
                    <a:pt x="1308" y="0"/>
                  </a:lnTo>
                  <a:lnTo>
                    <a:pt x="1562" y="240"/>
                  </a:lnTo>
                  <a:lnTo>
                    <a:pt x="1308" y="480"/>
                  </a:lnTo>
                  <a:lnTo>
                    <a:pt x="0" y="480"/>
                  </a:lnTo>
                  <a:lnTo>
                    <a:pt x="242" y="236"/>
                  </a:lnTo>
                  <a:lnTo>
                    <a:pt x="0" y="0"/>
                  </a:lnTo>
                </a:path>
              </a:pathLst>
            </a:custGeom>
            <a:solidFill>
              <a:srgbClr val="ffff00">
                <a:alpha val="99000"/>
              </a:srgbClr>
            </a:solidFill>
            <a:ln cap="rnd"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" y="1851840"/>
              <a:ext cx="1681200" cy="48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Screening &amp; Asses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4352040"/>
            <a:ext cx="1752480" cy="4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am Commun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1660680"/>
            <a:ext cx="59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indicators of high ris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ize assessment process to categorize and prioritize patien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2200" y="6130800"/>
            <a:ext cx="2427480" cy="47304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6880" y="6123600"/>
            <a:ext cx="1336680" cy="4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onitoring/ Evalua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86120" y="1676520"/>
            <a:ext cx="0" cy="502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743200"/>
            <a:ext cx="601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forum for proactive care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ize collaborative working session and team problem-sol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4160" y="4267080"/>
            <a:ext cx="618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RN role facilitating and coordinating activities of multi-disciplinary team (versus doing it themselv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915160"/>
            <a:ext cx="5915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 feedback on process and outcomes meas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66688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26708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33412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422320"/>
            <a:ext cx="1785960" cy="4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Resident/Family Commun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200" y="601020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20" y="677376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3048120"/>
            <a:ext cx="2554200" cy="533160"/>
            <a:chOff x="304920" y="3048120"/>
            <a:chExt cx="2554200" cy="533160"/>
          </a:xfrm>
        </p:grpSpPr>
        <p:sp>
          <p:nvSpPr>
            <p:cNvPr id="172" name=""/>
            <p:cNvSpPr/>
            <p:nvPr/>
          </p:nvSpPr>
          <p:spPr>
            <a:xfrm>
              <a:off x="304920" y="3048120"/>
              <a:ext cx="2554200" cy="533160"/>
            </a:xfrm>
            <a:custGeom>
              <a:avLst/>
              <a:gdLst/>
              <a:ahLst/>
              <a:rect l="l" t="t" r="r" b="b"/>
              <a:pathLst>
                <a:path w="1563" h="481">
                  <a:moveTo>
                    <a:pt x="0" y="0"/>
                  </a:moveTo>
                  <a:lnTo>
                    <a:pt x="1308" y="0"/>
                  </a:lnTo>
                  <a:lnTo>
                    <a:pt x="1562" y="240"/>
                  </a:lnTo>
                  <a:lnTo>
                    <a:pt x="1308" y="480"/>
                  </a:lnTo>
                  <a:lnTo>
                    <a:pt x="0" y="480"/>
                  </a:lnTo>
                  <a:lnTo>
                    <a:pt x="242" y="236"/>
                  </a:lnTo>
                  <a:lnTo>
                    <a:pt x="0" y="0"/>
                  </a:lnTo>
                </a:path>
              </a:pathLst>
            </a:custGeom>
            <a:solidFill>
              <a:srgbClr val="ffff00">
                <a:alpha val="99000"/>
              </a:srgbClr>
            </a:solidFill>
            <a:ln cap="rnd"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3160" y="3192840"/>
              <a:ext cx="1735200" cy="24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are Plan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954160" y="5486400"/>
            <a:ext cx="61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early interactions with patient /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BE6-F568-46AE-B0B5-0F7E60D0CD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w Process #1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NA 5-Minute Stand Up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:  Conduct focused feedback sessions with CNA staff each week to ensure front-line team aware of residents at risk, plan of action, and follow up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stablish a routine time: non-meeting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 facilitator: Dietician, DSD, NM, or CN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eep sessions brief, focused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Determine report information to review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utrition Report: Meal intake -  current % and trends, TF, New or worsened ulcer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iority Report:  Red areas, open area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nfirm report information is consistent with clinical picture, care plan is in place, and communicate to front-line staff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nsure action plan and follow up are understood by team.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AAC-939B-4FCA-8941-9975ECD8FA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ult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NA 5-Minute Stand Up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 input valued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s see link between documentation and report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 documentation of meal intake becomes more accurate and complet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etician more aware of resident needs: earlier identification of residents at nutritional risk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etician more involved in follow up: e.g., monitor snack intak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aff development more aware of CNA in-service needs and follow up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867280"/>
            <a:ext cx="6311880" cy="82548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verall communication is improved.  We talk more with each oth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C9C-9160-4EA7-849C-FB0E4AA0FC6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w Process #2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Monitor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Review reports with Unit Managers each week – establish plan for week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nday: DON reviews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uesday: DON reviews report results with Unit Manage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cuss report variances and establish follow up, priorit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dentify CNA in-service needs w/staff development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 area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pen area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326-0809-4996-AEBB-1FE3F44A31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ult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Monitor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accurate documentation of resident behaviors by CNA sta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repancy between CNA and RN observation of behavi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cused in-services conducted by staff develo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gular follow up with CNAs by nursing sta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5105520"/>
            <a:ext cx="8991720" cy="155700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nurses weren’t seeing what the CNAs were seeing so it was important for CNAs to communicate resident behaviors to nurses.  CNAs had to understand what to document and re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NA communication of behaviors has greatly impr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B36-3F84-49F3-A09F-35EDFE1039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cility Time Commitm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leadershi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approximately 1-2 days to confirm plans and discuss HIT option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the multi-disciplinary team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ekly conference calls for the first 3 months lasting 30 minutes to 1 hour,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-weekly calls for the next 12 month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staff develop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4 hours per week for the first 2-3 months to support initial implementatio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-day meet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ith the consultants on-si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280-2CA7-440F-A731-EBC8682631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IT Investm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w cost op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(Digital Pen Systems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2K to $15K for 100 bed facility in yr 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cost op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65 - $100k for 100 bed facility in yr 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ADE-81B2-4CDA-8870-44FF11360C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kflow Redesign Framework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fine sco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hy redesign?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hat processes?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stablish list of success meas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stablish redesign process and timeli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adines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mmunications and coordina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firm re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chnical:  process flowcharts/maps; data definitions; pilot tes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ducational and staff develop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EB9-6088-4D68-B17B-11E1EE783C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NA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CNA documentation previously has not been closely monitored on weekly basis: contained knowledge deficits, inaccuracies</a:t>
            </a:r>
            <a:endParaRPr b="1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CNA documentation of ADLs is new and requires time to learn the coding </a:t>
            </a:r>
            <a:endParaRPr b="1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 codes differ from MDS codes on new for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-person assist is represented by “1” on CNA for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person assist is represented by ‘2” for MDS nurse documentation.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S nurses have to adjust to change in code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NA documentation requires ongoing monitoring and follow-up by staff to maintain accuracy and high documentation completion rat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861-EAFC-4A11-90BA-CE43D024681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-going implementation strategy invol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p leadership and front-line clinical team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t small:  focus on 1-2 reports for team to u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ep review of report information focused: do not slip into lengthy meeting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how report can eliminate manual work or make work easier for staff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-going training and follow-up on reports is necessary: how to access, how to print, and when to u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FC7-7F03-42BC-BECE-0CD5263AAB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cus use of HIT as a tool to sustain quality and operational improveme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elements and use of redesigned forms facilitate CNA adoption of HI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esign workflow </a:t>
            </a: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prior to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HIT imple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-  Current workflow idiosyncratic and difficult to automat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volve front-line in teams to redesign workflow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tablish partnerships and local champ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dicate project management resourc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rsing home facilities lack knowledgeable and experienced team to implement information technology, train staff, and managing change to achieve resul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FCE-0420-46B2-8F80-32100798DF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Reduce workflow inefficienci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iminate an average of 3-4 CNA daily documentation forms (a reduction of 53.2%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hieve &gt;90% documentation completeness rates for CNA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rease staff time to compile reports for MDS and State Regulat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557-F3B4-4A42-9447-6B87756EB9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187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event pressure ulcers:  Decrease high risk pressure ulcer rate ~ 33%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ential savings of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,932 per Stage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7,170 per Stage 2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1,534 per Stage 3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$14,077 per Stage 4 pressure ulcer event             (FY 05$, not including hospitalizatio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85000"/>
              </a:lnSpc>
              <a:spcBef>
                <a:spcPts val="187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Better utilize investment in CNA staff time to document each shif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ugh estimate: $37K per year for 100 bed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3D0-3526-42E9-B4C1-537F02375955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-Time Backgroun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 ulcer (PrU) rates remain hig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guide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trai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H staff know how to prevent PrU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identify high risk residents on weekly ba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not integrated into day to day practi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ire multi-disciplinary team needs to coordinate care better for high risk residents (including CNA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D16-31BC-415B-B2C8-28BF5FFB94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Scope: 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3CE-492D-48DC-9F90-882E51F1CE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efficient Proc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2209680"/>
          <a:ext cx="670572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7057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1447920"/>
            <a:ext cx="65530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4% of CNAs on average have difficulty completing documentation before end of shift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952880"/>
            <a:ext cx="552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733920"/>
            <a:ext cx="66672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26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4343400"/>
            <a:ext cx="2156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DD9-A862-459A-82D1-48127DF46C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efficient Proc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2209680"/>
          <a:ext cx="6858000" cy="40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68580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990720" y="1447920"/>
            <a:ext cx="662940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8% of CNAs on average document the same information in more than one place each day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0292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886200"/>
            <a:ext cx="5619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22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9040" y="4495680"/>
            <a:ext cx="1810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4B9-C304-415E-8870-5FF103C3BA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NAs, a Resource To Be Leveraged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905120"/>
          <a:ext cx="725832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25832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47720" y="4599000"/>
            <a:ext cx="6356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505320"/>
            <a:ext cx="609480" cy="6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46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857640" y="4114800"/>
            <a:ext cx="29988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447920"/>
            <a:ext cx="701028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% CNAs on average feel their work is valued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026-60EA-4CB9-8F9A-78F16F7364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819520" y="2286000"/>
          <a:ext cx="6095880" cy="27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609588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2505240"/>
            <a:ext cx="2243160" cy="22885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NAs repo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…. Average of 63% report that “I understand all of what needs to be done for the resident before I start work.”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munication Breakdow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3724200"/>
            <a:ext cx="449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886120"/>
            <a:ext cx="53352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63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000640" y="3419640"/>
            <a:ext cx="128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7B9-23BD-41AB-A284-81800A2B31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Decision Support Nee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3200400"/>
          <a:ext cx="426564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4265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19720" y="3200400"/>
          <a:ext cx="4343400" cy="281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00400"/>
                    <a:ext cx="434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5920" y="6248520"/>
            <a:ext cx="64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baseline results at 4 facilities; total of 70 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38862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7% - 75% of RNs report ...         ‘At the beginning of my shift, I am aware of all residents on my unit who have a pressure ulcer(s)….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676520"/>
            <a:ext cx="38862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7% - 40% of RNs report ….          ‘At the beginning of my shift, I am aware of residents who are at risk of developing a pressure ulcer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B25-CC7D-4896-B565-ED29E863CA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44Z</dcterms:modified>
  <cp:revision>256</cp:revision>
  <dc:subject/>
  <dc:title>No Slide Title</dc:title>
</cp:coreProperties>
</file>