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3.png" ContentType="image/png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15440"/>
            <a:ext cx="8686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56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65840" y="167616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56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65840" y="3188880"/>
            <a:ext cx="28951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15440"/>
            <a:ext cx="868680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2720" y="318888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2720" y="1676160"/>
            <a:ext cx="438768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188880"/>
            <a:ext cx="8991720" cy="138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0760" indent="-3207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73560" indent="-27360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3600" indent="-240840">
              <a:spcBef>
                <a:spcPts val="799"/>
              </a:spcBef>
              <a:buClr>
                <a:srgbClr val="ffff00"/>
              </a:buClr>
              <a:buSzPct val="95000"/>
              <a:buFont typeface="Marlett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229760" indent="-1576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466640" indent="-1576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333440"/>
            <a:ext cx="8985240" cy="19080"/>
            <a:chOff x="0" y="1333440"/>
            <a:chExt cx="8985240" cy="19080"/>
          </a:xfrm>
        </p:grpSpPr>
        <p:sp>
          <p:nvSpPr>
            <p:cNvPr id="3" name=""/>
            <p:cNvSpPr/>
            <p:nvPr/>
          </p:nvSpPr>
          <p:spPr>
            <a:xfrm>
              <a:off x="6480" y="135252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33344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051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2876400"/>
            <a:ext cx="8985240" cy="19080"/>
            <a:chOff x="0" y="2876400"/>
            <a:chExt cx="8985240" cy="19080"/>
          </a:xfrm>
        </p:grpSpPr>
        <p:sp>
          <p:nvSpPr>
            <p:cNvPr id="43" name=""/>
            <p:cNvSpPr/>
            <p:nvPr/>
          </p:nvSpPr>
          <p:spPr>
            <a:xfrm>
              <a:off x="6480" y="2895480"/>
              <a:ext cx="8978760" cy="0"/>
            </a:xfrm>
            <a:prstGeom prst="line">
              <a:avLst/>
            </a:prstGeom>
            <a:ln w="50760">
              <a:solidFill>
                <a:srgbClr val="0017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2876400"/>
              <a:ext cx="8978760" cy="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5796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90440" algn="ctr">
              <a:spcBef>
                <a:spcPts val="601"/>
              </a:spcBef>
              <a:buClr>
                <a:srgbClr val="ffff00"/>
              </a:buClr>
              <a:buSzPct val="95000"/>
              <a:buFont typeface="Marlett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54120" algn="ctr">
              <a:spcBef>
                <a:spcPts val="499"/>
              </a:spcBef>
              <a:buClr>
                <a:srgbClr val="00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972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9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9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.shaller@comcast.net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quic.gov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2760" y="1892160"/>
            <a:ext cx="934704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alkingQuality: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Tools for Public Reporting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www.talkingquality.gov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9280" y="3200040"/>
            <a:ext cx="8242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ssion 1B: Quality and Patient Safety Reporting Too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HRQ Annual Me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ptember 27, 20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ale Shaller, MP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incipal, Shaller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nsul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anaging Director, National CAHPS Benchmarking Databas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d.shaller@comcast.ne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51-430-075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14844" r="26250" b="32031"/>
          <a:stretch/>
        </p:blipFill>
        <p:spPr>
          <a:xfrm>
            <a:off x="0" y="876240"/>
            <a:ext cx="10287000" cy="5981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994392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How to Say It:  Presentation and Desig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6354" t="18749" r="5314" b="10938"/>
          <a:stretch/>
        </p:blipFill>
        <p:spPr>
          <a:xfrm>
            <a:off x="0" y="1066680"/>
            <a:ext cx="1028700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3040" y="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ink to report design exampl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15235" r="52396" b="35287"/>
          <a:stretch/>
        </p:blipFill>
        <p:spPr>
          <a:xfrm>
            <a:off x="0" y="1028880"/>
            <a:ext cx="10287000" cy="58291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to The Hands of Consumers:  Dissemination and User Suppor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0" t="14844" r="40938" b="38802"/>
          <a:stretch/>
        </p:blipFill>
        <p:spPr>
          <a:xfrm>
            <a:off x="0" y="1117440"/>
            <a:ext cx="10287000" cy="574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162000"/>
            <a:ext cx="951228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fining What You Do:  Testing and Evalua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14844" r="44687" b="40887"/>
          <a:stretch/>
        </p:blipFill>
        <p:spPr>
          <a:xfrm>
            <a:off x="0" y="1092240"/>
            <a:ext cx="10287000" cy="57657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lanning Workbook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alkingQuality Use and Impac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676160"/>
            <a:ext cx="9385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in first 2 year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30,000 unique visi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most 300,000 page vie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 of us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e Health Management Coa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cut Hospital 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Business Coalition on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uture Direction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4240" y="1676160"/>
            <a:ext cx="9474120" cy="46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of Report Card Clearinghouse in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for updating content and examples through the CAHPS III project, includi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cation to provider-level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idence on the impact of public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-388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haul the search engine, site map, and overall structure to make more user-friend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eting and promotion:  How can we make more potential users aware of this too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5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5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hat is TalkingQuality?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6058080" cy="46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eb-based guide to developing reports on health care quality for use by 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for both experienced sponsors of public reporting as well as newc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ted in 1999 by the Work Group on Consumer Health In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46400" indent="-446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rrently maintained by Westat as part of the AHRQ Web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926400" y="1781280"/>
            <a:ext cx="29588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ork Group on Consumer Health Information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0120" y="1486080"/>
            <a:ext cx="6870960" cy="505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eated in 1998 by AHRQ, CMS, and OP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urpose:  To support public and private efforts to improve the  communication of health care quality information to consum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rk Group Member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sumer advoc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alth care provi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ublic and private purcha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ernment representativ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6320" indent="-396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ts in communication, quality, and social 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465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18400" y="2208240"/>
          <a:ext cx="311472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8400" y="2208240"/>
                    <a:ext cx="31147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3 Major Work Group Products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612440"/>
            <a:ext cx="4749840" cy="463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and Action Agen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onal Conference in 2000 on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Informing Consumers About Health Care Quality:  New Directions for Research and Action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(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quic.go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5120" indent="-46512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lkingQuality Web s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65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46800" y="1830240"/>
            <a:ext cx="1552320" cy="1636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711920" y="2346480"/>
            <a:ext cx="185436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16640" y="4537080"/>
            <a:ext cx="195084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alkingQuality Overview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6000" y="1523880"/>
            <a:ext cx="684504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353160" indent="-3531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dience:  Public reporting sponsors who provide information on health care quality to 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3160" indent="-3531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pose:  Systematic guide to report development and dissemination, includi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1960" indent="-301320"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 planning and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960" indent="-301320"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communication and design princip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1960" indent="-301320">
              <a:spcBef>
                <a:spcPts val="601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al examples to illustrate conce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3160" indent="-353160">
              <a:spcBef>
                <a:spcPts val="700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tial focus on health plan qu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40680" y="2482920"/>
            <a:ext cx="277956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5440"/>
            <a:ext cx="8686800" cy="8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alkingQuality Developmen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0200" y="154908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344160" indent="-3441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99:  Content development based 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2160" indent="-2934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iences of report spons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2160" indent="-293400">
              <a:spcBef>
                <a:spcPts val="700"/>
              </a:spcBef>
              <a:buClr>
                <a:srgbClr val="ff0000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perts in content areas and commun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4160" indent="-3441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0:  Site construction and us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4160" indent="-3441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1:  Public laun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4160" indent="-344160">
              <a:spcBef>
                <a:spcPts val="799"/>
              </a:spcBef>
              <a:buClr>
                <a:srgbClr val="fff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03:  Editorial Board created to oversee expansion and re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508960" y="14158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77000" y="5099040"/>
            <a:ext cx="1819080" cy="130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497560" y="3157560"/>
            <a:ext cx="2047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-310" t="14844" r="53432" b="14844"/>
          <a:stretch/>
        </p:blipFill>
        <p:spPr>
          <a:xfrm>
            <a:off x="0" y="927000"/>
            <a:ext cx="10287000" cy="593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TalkingQuality Home Pag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15497" r="36462" b="35937"/>
          <a:stretch/>
        </p:blipFill>
        <p:spPr>
          <a:xfrm>
            <a:off x="0" y="1041480"/>
            <a:ext cx="10287000" cy="5800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287000" cy="101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he Big Picture:  Project Planning and Implementation Issue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4844" r="45939" b="25911"/>
          <a:stretch/>
        </p:blipFill>
        <p:spPr>
          <a:xfrm>
            <a:off x="0" y="990720"/>
            <a:ext cx="10287000" cy="5829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4160" y="0"/>
            <a:ext cx="8686800" cy="87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hat to Say:  Content and Contex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09:05:00Z</dcterms:created>
  <dc:creator>AHCPR IRMB</dc:creator>
  <dc:description/>
  <cp:keywords/>
  <dc:language>en-US</dc:language>
  <cp:lastModifiedBy>Mamatha Pancholi</cp:lastModifiedBy>
  <cp:lastPrinted>2007-03-14T21:52:10Z</cp:lastPrinted>
  <dcterms:modified xsi:type="dcterms:W3CDTF">2007-09-25T21:01:54Z</dcterms:modified>
  <cp:revision>288</cp:revision>
  <dc:subject/>
  <dc:title>Master Slide</dc:title>
</cp:coreProperties>
</file>