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15B8-C242-4276-8105-659BB7F2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194-C0B0-4E48-8B08-9E9D79C2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B2F-AF7E-42BD-902A-8CFC802F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52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73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452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73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542C-81FC-44F5-A4D3-D21CD6B6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7974-D5BF-45A3-BFD2-56F590C6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7C02-BC78-4F6A-A538-F3F49F1D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E4F8-974F-4DE2-AFF8-4D8DFC49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1CEA-A0A1-483B-8642-8AC3C8D4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B2C0-36B7-445E-B56B-36094961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C8C0-E89B-4472-8C1E-9928F71B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D348-D8F4-4890-B2C4-13FBA649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860-54FC-4657-9470-028760D5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48FE-D111-46AC-A97E-37AD9CBB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057E-445D-4C1C-92F8-C40C76EA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C406-605C-4CB1-8844-BF2FC481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8D79-2610-4A9E-A56E-24C54E1B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524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7320" y="160020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524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7320" y="3964320"/>
            <a:ext cx="2306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F184-EFF9-4D0D-B434-D0B916FB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0A1-9B5D-42FE-8E5F-2D97A5B9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325-DA15-498C-9433-021F95D3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C76-BEB5-4815-B793-01B12ACB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CD5-FEEA-4B4C-8066-DAF09429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24D-6E5D-4FDE-96AF-E7D9E183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4080" y="396432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973-2B44-4BF0-9434-169F9B14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4080" y="1600200"/>
            <a:ext cx="3495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3964320"/>
            <a:ext cx="7162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E6D-CC42-465E-98D0-3F71A8D2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19960"/>
            <a:ext cx="21337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17640" y="6519960"/>
            <a:ext cx="46483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1840" y="6519960"/>
            <a:ext cx="1074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2BDD-C027-492B-B8E0-70F5CF3417F3}" type="slidenum">
              <a:rPr b="0" lang="en-US" sz="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4688-52B5-49F0-A69B-06F86C4FD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Creating a standards-based open source system for safe prescribing. 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2974680"/>
            <a:ext cx="77724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991560" y="4593960"/>
            <a:ext cx="1343880" cy="1325880"/>
            <a:chOff x="6991560" y="4593960"/>
            <a:chExt cx="1343880" cy="1325880"/>
          </a:xfrm>
        </p:grpSpPr>
        <p:sp>
          <p:nvSpPr>
            <p:cNvPr id="85" name=""/>
            <p:cNvSpPr/>
            <p:nvPr/>
          </p:nvSpPr>
          <p:spPr>
            <a:xfrm>
              <a:off x="7480800" y="4823640"/>
              <a:ext cx="412200" cy="435960"/>
            </a:xfrm>
            <a:custGeom>
              <a:avLst/>
              <a:gdLst/>
              <a:ahLst/>
              <a:rect l="l" t="t" r="r" b="b"/>
              <a:pathLst>
                <a:path w="764" h="783">
                  <a:moveTo>
                    <a:pt x="464" y="779"/>
                  </a:moveTo>
                  <a:lnTo>
                    <a:pt x="764" y="782"/>
                  </a:lnTo>
                  <a:lnTo>
                    <a:pt x="764" y="1"/>
                  </a:lnTo>
                  <a:lnTo>
                    <a:pt x="598" y="1"/>
                  </a:lnTo>
                  <a:lnTo>
                    <a:pt x="598" y="616"/>
                  </a:lnTo>
                  <a:lnTo>
                    <a:pt x="504" y="616"/>
                  </a:lnTo>
                  <a:lnTo>
                    <a:pt x="458" y="607"/>
                  </a:lnTo>
                  <a:lnTo>
                    <a:pt x="422" y="595"/>
                  </a:lnTo>
                  <a:lnTo>
                    <a:pt x="396" y="572"/>
                  </a:lnTo>
                  <a:lnTo>
                    <a:pt x="386" y="537"/>
                  </a:lnTo>
                  <a:lnTo>
                    <a:pt x="395" y="504"/>
                  </a:lnTo>
                  <a:lnTo>
                    <a:pt x="411" y="477"/>
                  </a:lnTo>
                  <a:lnTo>
                    <a:pt x="465" y="425"/>
                  </a:lnTo>
                  <a:lnTo>
                    <a:pt x="495" y="395"/>
                  </a:lnTo>
                  <a:lnTo>
                    <a:pt x="521" y="358"/>
                  </a:lnTo>
                  <a:lnTo>
                    <a:pt x="533" y="335"/>
                  </a:lnTo>
                  <a:lnTo>
                    <a:pt x="539" y="311"/>
                  </a:lnTo>
                  <a:lnTo>
                    <a:pt x="545" y="279"/>
                  </a:lnTo>
                  <a:lnTo>
                    <a:pt x="549" y="248"/>
                  </a:lnTo>
                  <a:lnTo>
                    <a:pt x="545" y="200"/>
                  </a:lnTo>
                  <a:lnTo>
                    <a:pt x="532" y="155"/>
                  </a:lnTo>
                  <a:lnTo>
                    <a:pt x="511" y="113"/>
                  </a:lnTo>
                  <a:lnTo>
                    <a:pt x="482" y="78"/>
                  </a:lnTo>
                  <a:lnTo>
                    <a:pt x="449" y="45"/>
                  </a:lnTo>
                  <a:lnTo>
                    <a:pt x="414" y="22"/>
                  </a:lnTo>
                  <a:lnTo>
                    <a:pt x="377" y="6"/>
                  </a:lnTo>
                  <a:lnTo>
                    <a:pt x="340" y="0"/>
                  </a:lnTo>
                  <a:lnTo>
                    <a:pt x="0" y="1"/>
                  </a:lnTo>
                  <a:lnTo>
                    <a:pt x="0" y="782"/>
                  </a:lnTo>
                  <a:lnTo>
                    <a:pt x="171" y="783"/>
                  </a:lnTo>
                  <a:lnTo>
                    <a:pt x="171" y="169"/>
                  </a:lnTo>
                  <a:lnTo>
                    <a:pt x="317" y="162"/>
                  </a:lnTo>
                  <a:lnTo>
                    <a:pt x="346" y="174"/>
                  </a:lnTo>
                  <a:lnTo>
                    <a:pt x="364" y="193"/>
                  </a:lnTo>
                  <a:lnTo>
                    <a:pt x="377" y="217"/>
                  </a:lnTo>
                  <a:lnTo>
                    <a:pt x="383" y="244"/>
                  </a:lnTo>
                  <a:lnTo>
                    <a:pt x="380" y="263"/>
                  </a:lnTo>
                  <a:lnTo>
                    <a:pt x="373" y="279"/>
                  </a:lnTo>
                  <a:lnTo>
                    <a:pt x="352" y="309"/>
                  </a:lnTo>
                  <a:lnTo>
                    <a:pt x="297" y="359"/>
                  </a:lnTo>
                  <a:lnTo>
                    <a:pt x="268" y="388"/>
                  </a:lnTo>
                  <a:lnTo>
                    <a:pt x="243" y="428"/>
                  </a:lnTo>
                  <a:lnTo>
                    <a:pt x="224" y="478"/>
                  </a:lnTo>
                  <a:lnTo>
                    <a:pt x="216" y="546"/>
                  </a:lnTo>
                  <a:lnTo>
                    <a:pt x="222" y="592"/>
                  </a:lnTo>
                  <a:lnTo>
                    <a:pt x="237" y="635"/>
                  </a:lnTo>
                  <a:lnTo>
                    <a:pt x="262" y="674"/>
                  </a:lnTo>
                  <a:lnTo>
                    <a:pt x="287" y="708"/>
                  </a:lnTo>
                  <a:lnTo>
                    <a:pt x="326" y="736"/>
                  </a:lnTo>
                  <a:lnTo>
                    <a:pt x="365" y="758"/>
                  </a:lnTo>
                  <a:lnTo>
                    <a:pt x="413" y="772"/>
                  </a:lnTo>
                  <a:lnTo>
                    <a:pt x="464" y="779"/>
                  </a:lnTo>
                  <a:close/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80800" y="4823640"/>
              <a:ext cx="413640" cy="437400"/>
            </a:xfrm>
            <a:custGeom>
              <a:avLst/>
              <a:gdLst/>
              <a:ahLst/>
              <a:rect l="l" t="t" r="r" b="b"/>
              <a:pathLst>
                <a:path w="767" h="786">
                  <a:moveTo>
                    <a:pt x="465" y="782"/>
                  </a:moveTo>
                  <a:lnTo>
                    <a:pt x="767" y="785"/>
                  </a:lnTo>
                  <a:lnTo>
                    <a:pt x="767" y="1"/>
                  </a:lnTo>
                  <a:lnTo>
                    <a:pt x="601" y="1"/>
                  </a:lnTo>
                  <a:lnTo>
                    <a:pt x="601" y="619"/>
                  </a:lnTo>
                  <a:lnTo>
                    <a:pt x="506" y="619"/>
                  </a:lnTo>
                  <a:lnTo>
                    <a:pt x="460" y="612"/>
                  </a:lnTo>
                  <a:lnTo>
                    <a:pt x="424" y="598"/>
                  </a:lnTo>
                  <a:lnTo>
                    <a:pt x="398" y="573"/>
                  </a:lnTo>
                  <a:lnTo>
                    <a:pt x="389" y="538"/>
                  </a:lnTo>
                  <a:lnTo>
                    <a:pt x="396" y="506"/>
                  </a:lnTo>
                  <a:lnTo>
                    <a:pt x="413" y="478"/>
                  </a:lnTo>
                  <a:lnTo>
                    <a:pt x="468" y="428"/>
                  </a:lnTo>
                  <a:lnTo>
                    <a:pt x="496" y="398"/>
                  </a:lnTo>
                  <a:lnTo>
                    <a:pt x="523" y="360"/>
                  </a:lnTo>
                  <a:lnTo>
                    <a:pt x="535" y="338"/>
                  </a:lnTo>
                  <a:lnTo>
                    <a:pt x="541" y="312"/>
                  </a:lnTo>
                  <a:lnTo>
                    <a:pt x="549" y="282"/>
                  </a:lnTo>
                  <a:lnTo>
                    <a:pt x="551" y="249"/>
                  </a:lnTo>
                  <a:lnTo>
                    <a:pt x="549" y="202"/>
                  </a:lnTo>
                  <a:lnTo>
                    <a:pt x="533" y="155"/>
                  </a:lnTo>
                  <a:lnTo>
                    <a:pt x="512" y="113"/>
                  </a:lnTo>
                  <a:lnTo>
                    <a:pt x="485" y="78"/>
                  </a:lnTo>
                  <a:lnTo>
                    <a:pt x="452" y="45"/>
                  </a:lnTo>
                  <a:lnTo>
                    <a:pt x="416" y="22"/>
                  </a:lnTo>
                  <a:lnTo>
                    <a:pt x="380" y="6"/>
                  </a:lnTo>
                  <a:lnTo>
                    <a:pt x="342" y="0"/>
                  </a:lnTo>
                  <a:lnTo>
                    <a:pt x="0" y="1"/>
                  </a:lnTo>
                  <a:lnTo>
                    <a:pt x="0" y="785"/>
                  </a:lnTo>
                  <a:lnTo>
                    <a:pt x="171" y="786"/>
                  </a:lnTo>
                  <a:lnTo>
                    <a:pt x="171" y="169"/>
                  </a:lnTo>
                  <a:lnTo>
                    <a:pt x="318" y="162"/>
                  </a:lnTo>
                  <a:lnTo>
                    <a:pt x="348" y="174"/>
                  </a:lnTo>
                  <a:lnTo>
                    <a:pt x="365" y="193"/>
                  </a:lnTo>
                  <a:lnTo>
                    <a:pt x="380" y="218"/>
                  </a:lnTo>
                  <a:lnTo>
                    <a:pt x="384" y="245"/>
                  </a:lnTo>
                  <a:lnTo>
                    <a:pt x="381" y="264"/>
                  </a:lnTo>
                  <a:lnTo>
                    <a:pt x="374" y="282"/>
                  </a:lnTo>
                  <a:lnTo>
                    <a:pt x="353" y="311"/>
                  </a:lnTo>
                  <a:lnTo>
                    <a:pt x="299" y="361"/>
                  </a:lnTo>
                  <a:lnTo>
                    <a:pt x="270" y="390"/>
                  </a:lnTo>
                  <a:lnTo>
                    <a:pt x="245" y="429"/>
                  </a:lnTo>
                  <a:lnTo>
                    <a:pt x="227" y="480"/>
                  </a:lnTo>
                  <a:lnTo>
                    <a:pt x="218" y="550"/>
                  </a:lnTo>
                  <a:lnTo>
                    <a:pt x="224" y="597"/>
                  </a:lnTo>
                  <a:lnTo>
                    <a:pt x="239" y="638"/>
                  </a:lnTo>
                  <a:lnTo>
                    <a:pt x="264" y="677"/>
                  </a:lnTo>
                  <a:lnTo>
                    <a:pt x="289" y="711"/>
                  </a:lnTo>
                  <a:lnTo>
                    <a:pt x="327" y="740"/>
                  </a:lnTo>
                  <a:lnTo>
                    <a:pt x="367" y="761"/>
                  </a:lnTo>
                  <a:lnTo>
                    <a:pt x="414" y="775"/>
                  </a:lnTo>
                  <a:lnTo>
                    <a:pt x="465" y="782"/>
                  </a:lnTo>
                  <a:close/>
                </a:path>
              </a:pathLst>
            </a:custGeom>
            <a:solidFill>
              <a:srgbClr val="82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991560" y="4593960"/>
              <a:ext cx="1343880" cy="1325880"/>
            </a:xfrm>
            <a:custGeom>
              <a:avLst/>
              <a:gdLst/>
              <a:ahLst/>
              <a:rect l="l" t="t" r="r" b="b"/>
              <a:pathLst>
                <a:path w="2489" h="2381">
                  <a:moveTo>
                    <a:pt x="1246" y="0"/>
                  </a:moveTo>
                  <a:lnTo>
                    <a:pt x="1309" y="0"/>
                  </a:lnTo>
                  <a:lnTo>
                    <a:pt x="1374" y="7"/>
                  </a:lnTo>
                  <a:lnTo>
                    <a:pt x="1433" y="14"/>
                  </a:lnTo>
                  <a:lnTo>
                    <a:pt x="1494" y="23"/>
                  </a:lnTo>
                  <a:lnTo>
                    <a:pt x="1614" y="53"/>
                  </a:lnTo>
                  <a:lnTo>
                    <a:pt x="1729" y="94"/>
                  </a:lnTo>
                  <a:lnTo>
                    <a:pt x="1836" y="144"/>
                  </a:lnTo>
                  <a:lnTo>
                    <a:pt x="1941" y="203"/>
                  </a:lnTo>
                  <a:lnTo>
                    <a:pt x="2036" y="270"/>
                  </a:lnTo>
                  <a:lnTo>
                    <a:pt x="2122" y="347"/>
                  </a:lnTo>
                  <a:lnTo>
                    <a:pt x="2203" y="433"/>
                  </a:lnTo>
                  <a:lnTo>
                    <a:pt x="2243" y="478"/>
                  </a:lnTo>
                  <a:lnTo>
                    <a:pt x="2277" y="525"/>
                  </a:lnTo>
                  <a:lnTo>
                    <a:pt x="2339" y="623"/>
                  </a:lnTo>
                  <a:lnTo>
                    <a:pt x="2392" y="728"/>
                  </a:lnTo>
                  <a:lnTo>
                    <a:pt x="2413" y="781"/>
                  </a:lnTo>
                  <a:lnTo>
                    <a:pt x="2434" y="837"/>
                  </a:lnTo>
                  <a:lnTo>
                    <a:pt x="2463" y="952"/>
                  </a:lnTo>
                  <a:lnTo>
                    <a:pt x="2476" y="1010"/>
                  </a:lnTo>
                  <a:lnTo>
                    <a:pt x="2483" y="1070"/>
                  </a:lnTo>
                  <a:lnTo>
                    <a:pt x="2488" y="1130"/>
                  </a:lnTo>
                  <a:lnTo>
                    <a:pt x="2489" y="1192"/>
                  </a:lnTo>
                  <a:lnTo>
                    <a:pt x="2483" y="1314"/>
                  </a:lnTo>
                  <a:lnTo>
                    <a:pt x="2463" y="1429"/>
                  </a:lnTo>
                  <a:lnTo>
                    <a:pt x="2434" y="1544"/>
                  </a:lnTo>
                  <a:lnTo>
                    <a:pt x="2392" y="1654"/>
                  </a:lnTo>
                  <a:lnTo>
                    <a:pt x="2339" y="1758"/>
                  </a:lnTo>
                  <a:lnTo>
                    <a:pt x="2277" y="1857"/>
                  </a:lnTo>
                  <a:lnTo>
                    <a:pt x="2203" y="1948"/>
                  </a:lnTo>
                  <a:lnTo>
                    <a:pt x="2122" y="2034"/>
                  </a:lnTo>
                  <a:lnTo>
                    <a:pt x="2036" y="2110"/>
                  </a:lnTo>
                  <a:lnTo>
                    <a:pt x="1941" y="2178"/>
                  </a:lnTo>
                  <a:lnTo>
                    <a:pt x="1836" y="2237"/>
                  </a:lnTo>
                  <a:lnTo>
                    <a:pt x="1729" y="2287"/>
                  </a:lnTo>
                  <a:lnTo>
                    <a:pt x="1614" y="2328"/>
                  </a:lnTo>
                  <a:lnTo>
                    <a:pt x="1494" y="2358"/>
                  </a:lnTo>
                  <a:lnTo>
                    <a:pt x="1433" y="2367"/>
                  </a:lnTo>
                  <a:lnTo>
                    <a:pt x="1374" y="2375"/>
                  </a:lnTo>
                  <a:lnTo>
                    <a:pt x="1309" y="2380"/>
                  </a:lnTo>
                  <a:lnTo>
                    <a:pt x="1246" y="2381"/>
                  </a:lnTo>
                  <a:lnTo>
                    <a:pt x="1119" y="2375"/>
                  </a:lnTo>
                  <a:lnTo>
                    <a:pt x="995" y="2358"/>
                  </a:lnTo>
                  <a:lnTo>
                    <a:pt x="876" y="2328"/>
                  </a:lnTo>
                  <a:lnTo>
                    <a:pt x="763" y="2287"/>
                  </a:lnTo>
                  <a:lnTo>
                    <a:pt x="654" y="2237"/>
                  </a:lnTo>
                  <a:lnTo>
                    <a:pt x="548" y="2178"/>
                  </a:lnTo>
                  <a:lnTo>
                    <a:pt x="453" y="2110"/>
                  </a:lnTo>
                  <a:lnTo>
                    <a:pt x="365" y="2034"/>
                  </a:lnTo>
                  <a:lnTo>
                    <a:pt x="286" y="1948"/>
                  </a:lnTo>
                  <a:lnTo>
                    <a:pt x="212" y="1857"/>
                  </a:lnTo>
                  <a:lnTo>
                    <a:pt x="150" y="1758"/>
                  </a:lnTo>
                  <a:lnTo>
                    <a:pt x="97" y="1654"/>
                  </a:lnTo>
                  <a:lnTo>
                    <a:pt x="56" y="1544"/>
                  </a:lnTo>
                  <a:lnTo>
                    <a:pt x="26" y="1429"/>
                  </a:lnTo>
                  <a:lnTo>
                    <a:pt x="7" y="1314"/>
                  </a:lnTo>
                  <a:lnTo>
                    <a:pt x="0" y="1192"/>
                  </a:lnTo>
                  <a:lnTo>
                    <a:pt x="7" y="1070"/>
                  </a:lnTo>
                  <a:lnTo>
                    <a:pt x="26" y="952"/>
                  </a:lnTo>
                  <a:lnTo>
                    <a:pt x="56" y="837"/>
                  </a:lnTo>
                  <a:lnTo>
                    <a:pt x="97" y="728"/>
                  </a:lnTo>
                  <a:lnTo>
                    <a:pt x="150" y="623"/>
                  </a:lnTo>
                  <a:lnTo>
                    <a:pt x="212" y="525"/>
                  </a:lnTo>
                  <a:lnTo>
                    <a:pt x="286" y="433"/>
                  </a:lnTo>
                  <a:lnTo>
                    <a:pt x="365" y="347"/>
                  </a:lnTo>
                  <a:lnTo>
                    <a:pt x="453" y="270"/>
                  </a:lnTo>
                  <a:lnTo>
                    <a:pt x="548" y="203"/>
                  </a:lnTo>
                  <a:lnTo>
                    <a:pt x="654" y="144"/>
                  </a:lnTo>
                  <a:lnTo>
                    <a:pt x="763" y="94"/>
                  </a:lnTo>
                  <a:lnTo>
                    <a:pt x="876" y="53"/>
                  </a:lnTo>
                  <a:lnTo>
                    <a:pt x="995" y="23"/>
                  </a:lnTo>
                  <a:lnTo>
                    <a:pt x="1119" y="7"/>
                  </a:lnTo>
                  <a:lnTo>
                    <a:pt x="1246" y="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10640" y="4613400"/>
              <a:ext cx="1304640" cy="1284120"/>
            </a:xfrm>
            <a:custGeom>
              <a:avLst/>
              <a:gdLst/>
              <a:ahLst/>
              <a:rect l="l" t="t" r="r" b="b"/>
              <a:pathLst>
                <a:path w="2417" h="2306">
                  <a:moveTo>
                    <a:pt x="1208" y="0"/>
                  </a:moveTo>
                  <a:lnTo>
                    <a:pt x="1270" y="0"/>
                  </a:lnTo>
                  <a:lnTo>
                    <a:pt x="1330" y="4"/>
                  </a:lnTo>
                  <a:lnTo>
                    <a:pt x="1392" y="14"/>
                  </a:lnTo>
                  <a:lnTo>
                    <a:pt x="1451" y="22"/>
                  </a:lnTo>
                  <a:lnTo>
                    <a:pt x="1510" y="34"/>
                  </a:lnTo>
                  <a:lnTo>
                    <a:pt x="1567" y="50"/>
                  </a:lnTo>
                  <a:lnTo>
                    <a:pt x="1622" y="68"/>
                  </a:lnTo>
                  <a:lnTo>
                    <a:pt x="1677" y="90"/>
                  </a:lnTo>
                  <a:lnTo>
                    <a:pt x="1731" y="113"/>
                  </a:lnTo>
                  <a:lnTo>
                    <a:pt x="1782" y="139"/>
                  </a:lnTo>
                  <a:lnTo>
                    <a:pt x="1834" y="167"/>
                  </a:lnTo>
                  <a:lnTo>
                    <a:pt x="1885" y="198"/>
                  </a:lnTo>
                  <a:lnTo>
                    <a:pt x="1931" y="229"/>
                  </a:lnTo>
                  <a:lnTo>
                    <a:pt x="1976" y="264"/>
                  </a:lnTo>
                  <a:lnTo>
                    <a:pt x="2063" y="339"/>
                  </a:lnTo>
                  <a:lnTo>
                    <a:pt x="2103" y="378"/>
                  </a:lnTo>
                  <a:lnTo>
                    <a:pt x="2143" y="419"/>
                  </a:lnTo>
                  <a:lnTo>
                    <a:pt x="2177" y="463"/>
                  </a:lnTo>
                  <a:lnTo>
                    <a:pt x="2209" y="509"/>
                  </a:lnTo>
                  <a:lnTo>
                    <a:pt x="2271" y="606"/>
                  </a:lnTo>
                  <a:lnTo>
                    <a:pt x="2298" y="655"/>
                  </a:lnTo>
                  <a:lnTo>
                    <a:pt x="2323" y="707"/>
                  </a:lnTo>
                  <a:lnTo>
                    <a:pt x="2343" y="760"/>
                  </a:lnTo>
                  <a:lnTo>
                    <a:pt x="2362" y="813"/>
                  </a:lnTo>
                  <a:lnTo>
                    <a:pt x="2379" y="866"/>
                  </a:lnTo>
                  <a:lnTo>
                    <a:pt x="2393" y="922"/>
                  </a:lnTo>
                  <a:lnTo>
                    <a:pt x="2404" y="979"/>
                  </a:lnTo>
                  <a:lnTo>
                    <a:pt x="2411" y="1036"/>
                  </a:lnTo>
                  <a:lnTo>
                    <a:pt x="2417" y="1095"/>
                  </a:lnTo>
                  <a:lnTo>
                    <a:pt x="2417" y="1156"/>
                  </a:lnTo>
                  <a:lnTo>
                    <a:pt x="2411" y="1271"/>
                  </a:lnTo>
                  <a:lnTo>
                    <a:pt x="2393" y="1386"/>
                  </a:lnTo>
                  <a:lnTo>
                    <a:pt x="2362" y="1495"/>
                  </a:lnTo>
                  <a:lnTo>
                    <a:pt x="2323" y="1601"/>
                  </a:lnTo>
                  <a:lnTo>
                    <a:pt x="2298" y="1651"/>
                  </a:lnTo>
                  <a:lnTo>
                    <a:pt x="2271" y="1700"/>
                  </a:lnTo>
                  <a:lnTo>
                    <a:pt x="2243" y="1752"/>
                  </a:lnTo>
                  <a:lnTo>
                    <a:pt x="2209" y="1797"/>
                  </a:lnTo>
                  <a:lnTo>
                    <a:pt x="2143" y="1885"/>
                  </a:lnTo>
                  <a:lnTo>
                    <a:pt x="2063" y="1969"/>
                  </a:lnTo>
                  <a:lnTo>
                    <a:pt x="1976" y="2042"/>
                  </a:lnTo>
                  <a:lnTo>
                    <a:pt x="1885" y="2108"/>
                  </a:lnTo>
                  <a:lnTo>
                    <a:pt x="1834" y="2139"/>
                  </a:lnTo>
                  <a:lnTo>
                    <a:pt x="1782" y="2166"/>
                  </a:lnTo>
                  <a:lnTo>
                    <a:pt x="1677" y="2215"/>
                  </a:lnTo>
                  <a:lnTo>
                    <a:pt x="1567" y="2252"/>
                  </a:lnTo>
                  <a:lnTo>
                    <a:pt x="1451" y="2281"/>
                  </a:lnTo>
                  <a:lnTo>
                    <a:pt x="1330" y="2299"/>
                  </a:lnTo>
                  <a:lnTo>
                    <a:pt x="1270" y="2303"/>
                  </a:lnTo>
                  <a:lnTo>
                    <a:pt x="1208" y="2306"/>
                  </a:lnTo>
                  <a:lnTo>
                    <a:pt x="1087" y="2299"/>
                  </a:lnTo>
                  <a:lnTo>
                    <a:pt x="966" y="2281"/>
                  </a:lnTo>
                  <a:lnTo>
                    <a:pt x="851" y="2252"/>
                  </a:lnTo>
                  <a:lnTo>
                    <a:pt x="740" y="2215"/>
                  </a:lnTo>
                  <a:lnTo>
                    <a:pt x="635" y="2166"/>
                  </a:lnTo>
                  <a:lnTo>
                    <a:pt x="533" y="2108"/>
                  </a:lnTo>
                  <a:lnTo>
                    <a:pt x="442" y="2042"/>
                  </a:lnTo>
                  <a:lnTo>
                    <a:pt x="354" y="1969"/>
                  </a:lnTo>
                  <a:lnTo>
                    <a:pt x="278" y="1885"/>
                  </a:lnTo>
                  <a:lnTo>
                    <a:pt x="208" y="1797"/>
                  </a:lnTo>
                  <a:lnTo>
                    <a:pt x="146" y="1700"/>
                  </a:lnTo>
                  <a:lnTo>
                    <a:pt x="94" y="1601"/>
                  </a:lnTo>
                  <a:lnTo>
                    <a:pt x="55" y="1495"/>
                  </a:lnTo>
                  <a:lnTo>
                    <a:pt x="26" y="1386"/>
                  </a:lnTo>
                  <a:lnTo>
                    <a:pt x="6" y="1271"/>
                  </a:lnTo>
                  <a:lnTo>
                    <a:pt x="0" y="1156"/>
                  </a:lnTo>
                  <a:lnTo>
                    <a:pt x="6" y="1036"/>
                  </a:lnTo>
                  <a:lnTo>
                    <a:pt x="26" y="922"/>
                  </a:lnTo>
                  <a:lnTo>
                    <a:pt x="55" y="813"/>
                  </a:lnTo>
                  <a:lnTo>
                    <a:pt x="94" y="707"/>
                  </a:lnTo>
                  <a:lnTo>
                    <a:pt x="146" y="606"/>
                  </a:lnTo>
                  <a:lnTo>
                    <a:pt x="208" y="509"/>
                  </a:lnTo>
                  <a:lnTo>
                    <a:pt x="278" y="419"/>
                  </a:lnTo>
                  <a:lnTo>
                    <a:pt x="354" y="339"/>
                  </a:lnTo>
                  <a:lnTo>
                    <a:pt x="442" y="264"/>
                  </a:lnTo>
                  <a:lnTo>
                    <a:pt x="533" y="198"/>
                  </a:lnTo>
                  <a:lnTo>
                    <a:pt x="635" y="139"/>
                  </a:lnTo>
                  <a:lnTo>
                    <a:pt x="740" y="90"/>
                  </a:lnTo>
                  <a:lnTo>
                    <a:pt x="851" y="50"/>
                  </a:lnTo>
                  <a:lnTo>
                    <a:pt x="966" y="22"/>
                  </a:lnTo>
                  <a:lnTo>
                    <a:pt x="1087" y="4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ffe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53200" y="4748760"/>
              <a:ext cx="1012680" cy="1004760"/>
            </a:xfrm>
            <a:custGeom>
              <a:avLst/>
              <a:gdLst/>
              <a:ahLst/>
              <a:rect l="l" t="t" r="r" b="b"/>
              <a:pathLst>
                <a:path w="1876" h="1804">
                  <a:moveTo>
                    <a:pt x="938" y="0"/>
                  </a:moveTo>
                  <a:lnTo>
                    <a:pt x="1035" y="3"/>
                  </a:lnTo>
                  <a:lnTo>
                    <a:pt x="1128" y="18"/>
                  </a:lnTo>
                  <a:lnTo>
                    <a:pt x="1216" y="38"/>
                  </a:lnTo>
                  <a:lnTo>
                    <a:pt x="1303" y="71"/>
                  </a:lnTo>
                  <a:lnTo>
                    <a:pt x="1386" y="109"/>
                  </a:lnTo>
                  <a:lnTo>
                    <a:pt x="1464" y="152"/>
                  </a:lnTo>
                  <a:lnTo>
                    <a:pt x="1536" y="205"/>
                  </a:lnTo>
                  <a:lnTo>
                    <a:pt x="1601" y="264"/>
                  </a:lnTo>
                  <a:lnTo>
                    <a:pt x="1661" y="327"/>
                  </a:lnTo>
                  <a:lnTo>
                    <a:pt x="1719" y="397"/>
                  </a:lnTo>
                  <a:lnTo>
                    <a:pt x="1766" y="474"/>
                  </a:lnTo>
                  <a:lnTo>
                    <a:pt x="1802" y="551"/>
                  </a:lnTo>
                  <a:lnTo>
                    <a:pt x="1820" y="592"/>
                  </a:lnTo>
                  <a:lnTo>
                    <a:pt x="1835" y="633"/>
                  </a:lnTo>
                  <a:lnTo>
                    <a:pt x="1857" y="720"/>
                  </a:lnTo>
                  <a:lnTo>
                    <a:pt x="1871" y="809"/>
                  </a:lnTo>
                  <a:lnTo>
                    <a:pt x="1876" y="901"/>
                  </a:lnTo>
                  <a:lnTo>
                    <a:pt x="1871" y="992"/>
                  </a:lnTo>
                  <a:lnTo>
                    <a:pt x="1857" y="1084"/>
                  </a:lnTo>
                  <a:lnTo>
                    <a:pt x="1835" y="1167"/>
                  </a:lnTo>
                  <a:lnTo>
                    <a:pt x="1802" y="1251"/>
                  </a:lnTo>
                  <a:lnTo>
                    <a:pt x="1766" y="1329"/>
                  </a:lnTo>
                  <a:lnTo>
                    <a:pt x="1719" y="1405"/>
                  </a:lnTo>
                  <a:lnTo>
                    <a:pt x="1661" y="1474"/>
                  </a:lnTo>
                  <a:lnTo>
                    <a:pt x="1601" y="1541"/>
                  </a:lnTo>
                  <a:lnTo>
                    <a:pt x="1536" y="1596"/>
                  </a:lnTo>
                  <a:lnTo>
                    <a:pt x="1464" y="1649"/>
                  </a:lnTo>
                  <a:lnTo>
                    <a:pt x="1386" y="1695"/>
                  </a:lnTo>
                  <a:lnTo>
                    <a:pt x="1303" y="1733"/>
                  </a:lnTo>
                  <a:lnTo>
                    <a:pt x="1216" y="1763"/>
                  </a:lnTo>
                  <a:lnTo>
                    <a:pt x="1128" y="1786"/>
                  </a:lnTo>
                  <a:lnTo>
                    <a:pt x="1035" y="1800"/>
                  </a:lnTo>
                  <a:lnTo>
                    <a:pt x="938" y="1804"/>
                  </a:lnTo>
                  <a:lnTo>
                    <a:pt x="844" y="1800"/>
                  </a:lnTo>
                  <a:lnTo>
                    <a:pt x="750" y="1786"/>
                  </a:lnTo>
                  <a:lnTo>
                    <a:pt x="663" y="1763"/>
                  </a:lnTo>
                  <a:lnTo>
                    <a:pt x="574" y="1733"/>
                  </a:lnTo>
                  <a:lnTo>
                    <a:pt x="493" y="1695"/>
                  </a:lnTo>
                  <a:lnTo>
                    <a:pt x="414" y="1649"/>
                  </a:lnTo>
                  <a:lnTo>
                    <a:pt x="342" y="1596"/>
                  </a:lnTo>
                  <a:lnTo>
                    <a:pt x="275" y="1541"/>
                  </a:lnTo>
                  <a:lnTo>
                    <a:pt x="215" y="1474"/>
                  </a:lnTo>
                  <a:lnTo>
                    <a:pt x="162" y="1405"/>
                  </a:lnTo>
                  <a:lnTo>
                    <a:pt x="115" y="1329"/>
                  </a:lnTo>
                  <a:lnTo>
                    <a:pt x="74" y="1251"/>
                  </a:lnTo>
                  <a:lnTo>
                    <a:pt x="41" y="1167"/>
                  </a:lnTo>
                  <a:lnTo>
                    <a:pt x="19" y="1084"/>
                  </a:lnTo>
                  <a:lnTo>
                    <a:pt x="4" y="992"/>
                  </a:lnTo>
                  <a:lnTo>
                    <a:pt x="0" y="901"/>
                  </a:lnTo>
                  <a:lnTo>
                    <a:pt x="4" y="809"/>
                  </a:lnTo>
                  <a:lnTo>
                    <a:pt x="19" y="720"/>
                  </a:lnTo>
                  <a:lnTo>
                    <a:pt x="41" y="633"/>
                  </a:lnTo>
                  <a:lnTo>
                    <a:pt x="74" y="551"/>
                  </a:lnTo>
                  <a:lnTo>
                    <a:pt x="115" y="474"/>
                  </a:lnTo>
                  <a:lnTo>
                    <a:pt x="162" y="397"/>
                  </a:lnTo>
                  <a:lnTo>
                    <a:pt x="215" y="327"/>
                  </a:lnTo>
                  <a:lnTo>
                    <a:pt x="275" y="264"/>
                  </a:lnTo>
                  <a:lnTo>
                    <a:pt x="342" y="205"/>
                  </a:lnTo>
                  <a:lnTo>
                    <a:pt x="414" y="152"/>
                  </a:lnTo>
                  <a:lnTo>
                    <a:pt x="493" y="109"/>
                  </a:lnTo>
                  <a:lnTo>
                    <a:pt x="574" y="71"/>
                  </a:lnTo>
                  <a:lnTo>
                    <a:pt x="663" y="38"/>
                  </a:lnTo>
                  <a:lnTo>
                    <a:pt x="750" y="18"/>
                  </a:lnTo>
                  <a:lnTo>
                    <a:pt x="844" y="3"/>
                  </a:lnTo>
                  <a:lnTo>
                    <a:pt x="938" y="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3360" y="4765680"/>
              <a:ext cx="971280" cy="963720"/>
            </a:xfrm>
            <a:custGeom>
              <a:avLst/>
              <a:gdLst/>
              <a:ahLst/>
              <a:rect l="l" t="t" r="r" b="b"/>
              <a:pathLst>
                <a:path w="1798" h="1731">
                  <a:moveTo>
                    <a:pt x="898" y="0"/>
                  </a:moveTo>
                  <a:lnTo>
                    <a:pt x="991" y="5"/>
                  </a:lnTo>
                  <a:lnTo>
                    <a:pt x="1079" y="18"/>
                  </a:lnTo>
                  <a:lnTo>
                    <a:pt x="1166" y="38"/>
                  </a:lnTo>
                  <a:lnTo>
                    <a:pt x="1249" y="68"/>
                  </a:lnTo>
                  <a:lnTo>
                    <a:pt x="1327" y="106"/>
                  </a:lnTo>
                  <a:lnTo>
                    <a:pt x="1401" y="150"/>
                  </a:lnTo>
                  <a:lnTo>
                    <a:pt x="1473" y="198"/>
                  </a:lnTo>
                  <a:lnTo>
                    <a:pt x="1535" y="254"/>
                  </a:lnTo>
                  <a:lnTo>
                    <a:pt x="1593" y="314"/>
                  </a:lnTo>
                  <a:lnTo>
                    <a:pt x="1644" y="382"/>
                  </a:lnTo>
                  <a:lnTo>
                    <a:pt x="1689" y="454"/>
                  </a:lnTo>
                  <a:lnTo>
                    <a:pt x="1729" y="529"/>
                  </a:lnTo>
                  <a:lnTo>
                    <a:pt x="1760" y="608"/>
                  </a:lnTo>
                  <a:lnTo>
                    <a:pt x="1781" y="691"/>
                  </a:lnTo>
                  <a:lnTo>
                    <a:pt x="1795" y="777"/>
                  </a:lnTo>
                  <a:lnTo>
                    <a:pt x="1798" y="864"/>
                  </a:lnTo>
                  <a:lnTo>
                    <a:pt x="1795" y="953"/>
                  </a:lnTo>
                  <a:lnTo>
                    <a:pt x="1781" y="1040"/>
                  </a:lnTo>
                  <a:lnTo>
                    <a:pt x="1760" y="1121"/>
                  </a:lnTo>
                  <a:lnTo>
                    <a:pt x="1729" y="1200"/>
                  </a:lnTo>
                  <a:lnTo>
                    <a:pt x="1689" y="1275"/>
                  </a:lnTo>
                  <a:lnTo>
                    <a:pt x="1644" y="1349"/>
                  </a:lnTo>
                  <a:lnTo>
                    <a:pt x="1593" y="1418"/>
                  </a:lnTo>
                  <a:lnTo>
                    <a:pt x="1535" y="1479"/>
                  </a:lnTo>
                  <a:lnTo>
                    <a:pt x="1473" y="1534"/>
                  </a:lnTo>
                  <a:lnTo>
                    <a:pt x="1401" y="1581"/>
                  </a:lnTo>
                  <a:lnTo>
                    <a:pt x="1327" y="1626"/>
                  </a:lnTo>
                  <a:lnTo>
                    <a:pt x="1249" y="1664"/>
                  </a:lnTo>
                  <a:lnTo>
                    <a:pt x="1166" y="1693"/>
                  </a:lnTo>
                  <a:lnTo>
                    <a:pt x="1079" y="1713"/>
                  </a:lnTo>
                  <a:lnTo>
                    <a:pt x="991" y="1727"/>
                  </a:lnTo>
                  <a:lnTo>
                    <a:pt x="898" y="1731"/>
                  </a:lnTo>
                  <a:lnTo>
                    <a:pt x="806" y="1727"/>
                  </a:lnTo>
                  <a:lnTo>
                    <a:pt x="719" y="1713"/>
                  </a:lnTo>
                  <a:lnTo>
                    <a:pt x="632" y="1693"/>
                  </a:lnTo>
                  <a:lnTo>
                    <a:pt x="549" y="1664"/>
                  </a:lnTo>
                  <a:lnTo>
                    <a:pt x="471" y="1626"/>
                  </a:lnTo>
                  <a:lnTo>
                    <a:pt x="396" y="1581"/>
                  </a:lnTo>
                  <a:lnTo>
                    <a:pt x="327" y="1534"/>
                  </a:lnTo>
                  <a:lnTo>
                    <a:pt x="262" y="1479"/>
                  </a:lnTo>
                  <a:lnTo>
                    <a:pt x="206" y="1418"/>
                  </a:lnTo>
                  <a:lnTo>
                    <a:pt x="154" y="1349"/>
                  </a:lnTo>
                  <a:lnTo>
                    <a:pt x="110" y="1275"/>
                  </a:lnTo>
                  <a:lnTo>
                    <a:pt x="71" y="1200"/>
                  </a:lnTo>
                  <a:lnTo>
                    <a:pt x="41" y="1121"/>
                  </a:lnTo>
                  <a:lnTo>
                    <a:pt x="19" y="1040"/>
                  </a:lnTo>
                  <a:lnTo>
                    <a:pt x="4" y="953"/>
                  </a:lnTo>
                  <a:lnTo>
                    <a:pt x="0" y="864"/>
                  </a:lnTo>
                  <a:lnTo>
                    <a:pt x="4" y="777"/>
                  </a:lnTo>
                  <a:lnTo>
                    <a:pt x="19" y="691"/>
                  </a:lnTo>
                  <a:lnTo>
                    <a:pt x="41" y="608"/>
                  </a:lnTo>
                  <a:lnTo>
                    <a:pt x="71" y="529"/>
                  </a:lnTo>
                  <a:lnTo>
                    <a:pt x="110" y="454"/>
                  </a:lnTo>
                  <a:lnTo>
                    <a:pt x="154" y="382"/>
                  </a:lnTo>
                  <a:lnTo>
                    <a:pt x="206" y="314"/>
                  </a:lnTo>
                  <a:lnTo>
                    <a:pt x="262" y="254"/>
                  </a:lnTo>
                  <a:lnTo>
                    <a:pt x="327" y="198"/>
                  </a:lnTo>
                  <a:lnTo>
                    <a:pt x="396" y="150"/>
                  </a:lnTo>
                  <a:lnTo>
                    <a:pt x="471" y="106"/>
                  </a:lnTo>
                  <a:lnTo>
                    <a:pt x="549" y="68"/>
                  </a:lnTo>
                  <a:lnTo>
                    <a:pt x="632" y="38"/>
                  </a:lnTo>
                  <a:lnTo>
                    <a:pt x="719" y="18"/>
                  </a:lnTo>
                  <a:lnTo>
                    <a:pt x="806" y="5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ffe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66880" y="4765680"/>
              <a:ext cx="992160" cy="969840"/>
            </a:xfrm>
            <a:custGeom>
              <a:avLst/>
              <a:gdLst/>
              <a:ahLst/>
              <a:rect l="l" t="t" r="r" b="b"/>
              <a:pathLst>
                <a:path w="1837" h="1742">
                  <a:moveTo>
                    <a:pt x="603" y="261"/>
                  </a:moveTo>
                  <a:lnTo>
                    <a:pt x="526" y="71"/>
                  </a:lnTo>
                  <a:lnTo>
                    <a:pt x="902" y="192"/>
                  </a:lnTo>
                  <a:lnTo>
                    <a:pt x="897" y="0"/>
                  </a:lnTo>
                  <a:lnTo>
                    <a:pt x="1187" y="248"/>
                  </a:lnTo>
                  <a:lnTo>
                    <a:pt x="1268" y="65"/>
                  </a:lnTo>
                  <a:lnTo>
                    <a:pt x="1442" y="419"/>
                  </a:lnTo>
                  <a:lnTo>
                    <a:pt x="1588" y="280"/>
                  </a:lnTo>
                  <a:lnTo>
                    <a:pt x="1584" y="656"/>
                  </a:lnTo>
                  <a:lnTo>
                    <a:pt x="1797" y="603"/>
                  </a:lnTo>
                  <a:lnTo>
                    <a:pt x="1623" y="947"/>
                  </a:lnTo>
                  <a:lnTo>
                    <a:pt x="1837" y="951"/>
                  </a:lnTo>
                  <a:lnTo>
                    <a:pt x="1532" y="1213"/>
                  </a:lnTo>
                  <a:lnTo>
                    <a:pt x="1704" y="1316"/>
                  </a:lnTo>
                  <a:lnTo>
                    <a:pt x="1330" y="1424"/>
                  </a:lnTo>
                  <a:lnTo>
                    <a:pt x="1458" y="1587"/>
                  </a:lnTo>
                  <a:lnTo>
                    <a:pt x="1081" y="1546"/>
                  </a:lnTo>
                  <a:lnTo>
                    <a:pt x="1093" y="1741"/>
                  </a:lnTo>
                  <a:lnTo>
                    <a:pt x="760" y="1545"/>
                  </a:lnTo>
                  <a:lnTo>
                    <a:pt x="722" y="1742"/>
                  </a:lnTo>
                  <a:lnTo>
                    <a:pt x="496" y="1428"/>
                  </a:lnTo>
                  <a:lnTo>
                    <a:pt x="366" y="1588"/>
                  </a:lnTo>
                  <a:lnTo>
                    <a:pt x="298" y="1206"/>
                  </a:lnTo>
                  <a:lnTo>
                    <a:pt x="119" y="1316"/>
                  </a:lnTo>
                  <a:lnTo>
                    <a:pt x="208" y="954"/>
                  </a:lnTo>
                  <a:lnTo>
                    <a:pt x="0" y="968"/>
                  </a:lnTo>
                  <a:lnTo>
                    <a:pt x="224" y="660"/>
                  </a:lnTo>
                  <a:lnTo>
                    <a:pt x="31" y="604"/>
                  </a:lnTo>
                  <a:lnTo>
                    <a:pt x="364" y="429"/>
                  </a:lnTo>
                  <a:lnTo>
                    <a:pt x="221" y="294"/>
                  </a:lnTo>
                  <a:lnTo>
                    <a:pt x="603" y="261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13000" y="4800240"/>
              <a:ext cx="142560" cy="68040"/>
            </a:xfrm>
            <a:custGeom>
              <a:avLst/>
              <a:gdLst/>
              <a:ahLst/>
              <a:rect l="l" t="t" r="r" b="b"/>
              <a:pathLst>
                <a:path w="265" h="123">
                  <a:moveTo>
                    <a:pt x="0" y="116"/>
                  </a:moveTo>
                  <a:lnTo>
                    <a:pt x="12" y="120"/>
                  </a:lnTo>
                  <a:lnTo>
                    <a:pt x="265" y="15"/>
                  </a:lnTo>
                  <a:lnTo>
                    <a:pt x="256" y="0"/>
                  </a:lnTo>
                  <a:lnTo>
                    <a:pt x="3" y="104"/>
                  </a:lnTo>
                  <a:lnTo>
                    <a:pt x="15" y="107"/>
                  </a:lnTo>
                  <a:lnTo>
                    <a:pt x="0" y="116"/>
                  </a:lnTo>
                  <a:lnTo>
                    <a:pt x="6" y="123"/>
                  </a:lnTo>
                  <a:lnTo>
                    <a:pt x="12" y="12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47480" y="4757760"/>
              <a:ext cx="74880" cy="106560"/>
            </a:xfrm>
            <a:custGeom>
              <a:avLst/>
              <a:gdLst/>
              <a:ahLst/>
              <a:rect l="l" t="t" r="r" b="b"/>
              <a:pathLst>
                <a:path w="139" h="192">
                  <a:moveTo>
                    <a:pt x="12" y="19"/>
                  </a:moveTo>
                  <a:lnTo>
                    <a:pt x="0" y="19"/>
                  </a:lnTo>
                  <a:lnTo>
                    <a:pt x="124" y="192"/>
                  </a:lnTo>
                  <a:lnTo>
                    <a:pt x="139" y="183"/>
                  </a:lnTo>
                  <a:lnTo>
                    <a:pt x="15" y="8"/>
                  </a:lnTo>
                  <a:lnTo>
                    <a:pt x="1" y="7"/>
                  </a:lnTo>
                  <a:lnTo>
                    <a:pt x="15" y="8"/>
                  </a:lnTo>
                  <a:lnTo>
                    <a:pt x="7" y="0"/>
                  </a:lnTo>
                  <a:lnTo>
                    <a:pt x="1" y="7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42720" y="4761720"/>
              <a:ext cx="113400" cy="11772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1" y="206"/>
                  </a:moveTo>
                  <a:lnTo>
                    <a:pt x="13" y="206"/>
                  </a:lnTo>
                  <a:lnTo>
                    <a:pt x="210" y="12"/>
                  </a:lnTo>
                  <a:lnTo>
                    <a:pt x="198" y="0"/>
                  </a:lnTo>
                  <a:lnTo>
                    <a:pt x="0" y="193"/>
                  </a:lnTo>
                  <a:lnTo>
                    <a:pt x="11" y="193"/>
                  </a:lnTo>
                  <a:lnTo>
                    <a:pt x="1" y="206"/>
                  </a:lnTo>
                  <a:lnTo>
                    <a:pt x="7" y="212"/>
                  </a:lnTo>
                  <a:lnTo>
                    <a:pt x="13" y="206"/>
                  </a:lnTo>
                  <a:lnTo>
                    <a:pt x="1" y="206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44080" y="4798080"/>
              <a:ext cx="107280" cy="78480"/>
            </a:xfrm>
            <a:custGeom>
              <a:avLst/>
              <a:gdLst/>
              <a:ahLst/>
              <a:rect l="l" t="t" r="r" b="b"/>
              <a:pathLst>
                <a:path w="199" h="142">
                  <a:moveTo>
                    <a:pt x="18" y="18"/>
                  </a:moveTo>
                  <a:lnTo>
                    <a:pt x="6" y="22"/>
                  </a:lnTo>
                  <a:lnTo>
                    <a:pt x="188" y="142"/>
                  </a:lnTo>
                  <a:lnTo>
                    <a:pt x="199" y="128"/>
                  </a:lnTo>
                  <a:lnTo>
                    <a:pt x="15" y="8"/>
                  </a:lnTo>
                  <a:lnTo>
                    <a:pt x="0" y="11"/>
                  </a:lnTo>
                  <a:lnTo>
                    <a:pt x="15" y="8"/>
                  </a:lnTo>
                  <a:lnTo>
                    <a:pt x="6" y="0"/>
                  </a:lnTo>
                  <a:lnTo>
                    <a:pt x="0" y="11"/>
                  </a:lnTo>
                  <a:lnTo>
                    <a:pt x="18" y="18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4804200"/>
              <a:ext cx="64440" cy="155880"/>
            </a:xfrm>
            <a:custGeom>
              <a:avLst/>
              <a:gdLst/>
              <a:ahLst/>
              <a:rect l="l" t="t" r="r" b="b"/>
              <a:pathLst>
                <a:path w="119" h="280">
                  <a:moveTo>
                    <a:pt x="7" y="280"/>
                  </a:moveTo>
                  <a:lnTo>
                    <a:pt x="18" y="272"/>
                  </a:lnTo>
                  <a:lnTo>
                    <a:pt x="119" y="7"/>
                  </a:lnTo>
                  <a:lnTo>
                    <a:pt x="100" y="0"/>
                  </a:lnTo>
                  <a:lnTo>
                    <a:pt x="0" y="267"/>
                  </a:lnTo>
                  <a:lnTo>
                    <a:pt x="12" y="260"/>
                  </a:lnTo>
                  <a:lnTo>
                    <a:pt x="7" y="280"/>
                  </a:lnTo>
                  <a:lnTo>
                    <a:pt x="15" y="280"/>
                  </a:lnTo>
                  <a:lnTo>
                    <a:pt x="18" y="272"/>
                  </a:lnTo>
                  <a:lnTo>
                    <a:pt x="7" y="28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0640" y="4923000"/>
              <a:ext cx="118080" cy="36720"/>
            </a:xfrm>
            <a:custGeom>
              <a:avLst/>
              <a:gdLst/>
              <a:ahLst/>
              <a:rect l="l" t="t" r="r" b="b"/>
              <a:pathLst>
                <a:path w="219" h="66">
                  <a:moveTo>
                    <a:pt x="21" y="11"/>
                  </a:moveTo>
                  <a:lnTo>
                    <a:pt x="9" y="22"/>
                  </a:lnTo>
                  <a:lnTo>
                    <a:pt x="215" y="66"/>
                  </a:lnTo>
                  <a:lnTo>
                    <a:pt x="219" y="44"/>
                  </a:lnTo>
                  <a:lnTo>
                    <a:pt x="12" y="1"/>
                  </a:lnTo>
                  <a:lnTo>
                    <a:pt x="3" y="12"/>
                  </a:lnTo>
                  <a:lnTo>
                    <a:pt x="12" y="1"/>
                  </a:lnTo>
                  <a:lnTo>
                    <a:pt x="0" y="0"/>
                  </a:lnTo>
                  <a:lnTo>
                    <a:pt x="3" y="12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82440" y="4929480"/>
              <a:ext cx="20520" cy="151200"/>
            </a:xfrm>
            <a:custGeom>
              <a:avLst/>
              <a:gdLst/>
              <a:ahLst/>
              <a:rect l="l" t="t" r="r" b="b"/>
              <a:pathLst>
                <a:path w="38" h="272">
                  <a:moveTo>
                    <a:pt x="29" y="272"/>
                  </a:moveTo>
                  <a:lnTo>
                    <a:pt x="38" y="260"/>
                  </a:lnTo>
                  <a:lnTo>
                    <a:pt x="19" y="0"/>
                  </a:lnTo>
                  <a:lnTo>
                    <a:pt x="0" y="1"/>
                  </a:lnTo>
                  <a:lnTo>
                    <a:pt x="18" y="264"/>
                  </a:lnTo>
                  <a:lnTo>
                    <a:pt x="24" y="254"/>
                  </a:lnTo>
                  <a:lnTo>
                    <a:pt x="29" y="272"/>
                  </a:lnTo>
                  <a:lnTo>
                    <a:pt x="38" y="269"/>
                  </a:lnTo>
                  <a:lnTo>
                    <a:pt x="38" y="260"/>
                  </a:lnTo>
                  <a:lnTo>
                    <a:pt x="29" y="272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79120" y="5068440"/>
              <a:ext cx="118800" cy="39600"/>
            </a:xfrm>
            <a:custGeom>
              <a:avLst/>
              <a:gdLst/>
              <a:ahLst/>
              <a:rect l="l" t="t" r="r" b="b"/>
              <a:pathLst>
                <a:path w="220" h="71">
                  <a:moveTo>
                    <a:pt x="22" y="57"/>
                  </a:moveTo>
                  <a:lnTo>
                    <a:pt x="17" y="71"/>
                  </a:lnTo>
                  <a:lnTo>
                    <a:pt x="220" y="21"/>
                  </a:lnTo>
                  <a:lnTo>
                    <a:pt x="216" y="0"/>
                  </a:lnTo>
                  <a:lnTo>
                    <a:pt x="11" y="52"/>
                  </a:lnTo>
                  <a:lnTo>
                    <a:pt x="4" y="66"/>
                  </a:lnTo>
                  <a:lnTo>
                    <a:pt x="11" y="52"/>
                  </a:lnTo>
                  <a:lnTo>
                    <a:pt x="0" y="56"/>
                  </a:lnTo>
                  <a:lnTo>
                    <a:pt x="4" y="66"/>
                  </a:lnTo>
                  <a:lnTo>
                    <a:pt x="22" y="57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81280" y="5099040"/>
              <a:ext cx="78120" cy="141120"/>
            </a:xfrm>
            <a:custGeom>
              <a:avLst/>
              <a:gdLst/>
              <a:ahLst/>
              <a:rect l="l" t="t" r="r" b="b"/>
              <a:pathLst>
                <a:path w="144" h="254">
                  <a:moveTo>
                    <a:pt x="140" y="254"/>
                  </a:moveTo>
                  <a:lnTo>
                    <a:pt x="141" y="242"/>
                  </a:lnTo>
                  <a:lnTo>
                    <a:pt x="17" y="0"/>
                  </a:lnTo>
                  <a:lnTo>
                    <a:pt x="0" y="7"/>
                  </a:lnTo>
                  <a:lnTo>
                    <a:pt x="124" y="250"/>
                  </a:lnTo>
                  <a:lnTo>
                    <a:pt x="125" y="239"/>
                  </a:lnTo>
                  <a:lnTo>
                    <a:pt x="140" y="254"/>
                  </a:lnTo>
                  <a:lnTo>
                    <a:pt x="144" y="250"/>
                  </a:lnTo>
                  <a:lnTo>
                    <a:pt x="141" y="242"/>
                  </a:lnTo>
                  <a:lnTo>
                    <a:pt x="140" y="254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58240" y="5230080"/>
              <a:ext cx="99000" cy="79920"/>
            </a:xfrm>
            <a:custGeom>
              <a:avLst/>
              <a:gdLst/>
              <a:ahLst/>
              <a:rect l="l" t="t" r="r" b="b"/>
              <a:pathLst>
                <a:path w="184" h="143">
                  <a:moveTo>
                    <a:pt x="23" y="128"/>
                  </a:moveTo>
                  <a:lnTo>
                    <a:pt x="23" y="143"/>
                  </a:lnTo>
                  <a:lnTo>
                    <a:pt x="184" y="15"/>
                  </a:lnTo>
                  <a:lnTo>
                    <a:pt x="170" y="0"/>
                  </a:lnTo>
                  <a:lnTo>
                    <a:pt x="10" y="128"/>
                  </a:lnTo>
                  <a:lnTo>
                    <a:pt x="10" y="143"/>
                  </a:lnTo>
                  <a:lnTo>
                    <a:pt x="10" y="128"/>
                  </a:lnTo>
                  <a:lnTo>
                    <a:pt x="0" y="135"/>
                  </a:lnTo>
                  <a:lnTo>
                    <a:pt x="10" y="143"/>
                  </a:lnTo>
                  <a:lnTo>
                    <a:pt x="23" y="128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62920" y="5299200"/>
              <a:ext cx="119520" cy="93600"/>
            </a:xfrm>
            <a:custGeom>
              <a:avLst/>
              <a:gdLst/>
              <a:ahLst/>
              <a:rect l="l" t="t" r="r" b="b"/>
              <a:pathLst>
                <a:path w="222" h="169">
                  <a:moveTo>
                    <a:pt x="218" y="165"/>
                  </a:moveTo>
                  <a:lnTo>
                    <a:pt x="216" y="155"/>
                  </a:lnTo>
                  <a:lnTo>
                    <a:pt x="13" y="0"/>
                  </a:lnTo>
                  <a:lnTo>
                    <a:pt x="0" y="14"/>
                  </a:lnTo>
                  <a:lnTo>
                    <a:pt x="203" y="169"/>
                  </a:lnTo>
                  <a:lnTo>
                    <a:pt x="200" y="159"/>
                  </a:lnTo>
                  <a:lnTo>
                    <a:pt x="218" y="165"/>
                  </a:lnTo>
                  <a:lnTo>
                    <a:pt x="222" y="159"/>
                  </a:lnTo>
                  <a:lnTo>
                    <a:pt x="216" y="155"/>
                  </a:lnTo>
                  <a:lnTo>
                    <a:pt x="218" y="165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23760" y="5385960"/>
              <a:ext cx="56880" cy="116640"/>
            </a:xfrm>
            <a:custGeom>
              <a:avLst/>
              <a:gdLst/>
              <a:ahLst/>
              <a:rect l="l" t="t" r="r" b="b"/>
              <a:pathLst>
                <a:path w="106" h="209">
                  <a:moveTo>
                    <a:pt x="16" y="191"/>
                  </a:moveTo>
                  <a:lnTo>
                    <a:pt x="22" y="202"/>
                  </a:lnTo>
                  <a:lnTo>
                    <a:pt x="106" y="6"/>
                  </a:lnTo>
                  <a:lnTo>
                    <a:pt x="89" y="0"/>
                  </a:lnTo>
                  <a:lnTo>
                    <a:pt x="4" y="198"/>
                  </a:lnTo>
                  <a:lnTo>
                    <a:pt x="13" y="209"/>
                  </a:lnTo>
                  <a:lnTo>
                    <a:pt x="4" y="198"/>
                  </a:lnTo>
                  <a:lnTo>
                    <a:pt x="0" y="206"/>
                  </a:lnTo>
                  <a:lnTo>
                    <a:pt x="13" y="209"/>
                  </a:lnTo>
                  <a:lnTo>
                    <a:pt x="16" y="191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0960" y="5490720"/>
              <a:ext cx="152280" cy="43560"/>
            </a:xfrm>
            <a:custGeom>
              <a:avLst/>
              <a:gdLst/>
              <a:ahLst/>
              <a:rect l="l" t="t" r="r" b="b"/>
              <a:pathLst>
                <a:path w="282" h="79">
                  <a:moveTo>
                    <a:pt x="281" y="71"/>
                  </a:moveTo>
                  <a:lnTo>
                    <a:pt x="275" y="61"/>
                  </a:lnTo>
                  <a:lnTo>
                    <a:pt x="3" y="0"/>
                  </a:lnTo>
                  <a:lnTo>
                    <a:pt x="0" y="18"/>
                  </a:lnTo>
                  <a:lnTo>
                    <a:pt x="269" y="79"/>
                  </a:lnTo>
                  <a:lnTo>
                    <a:pt x="263" y="70"/>
                  </a:lnTo>
                  <a:lnTo>
                    <a:pt x="281" y="71"/>
                  </a:lnTo>
                  <a:lnTo>
                    <a:pt x="282" y="63"/>
                  </a:lnTo>
                  <a:lnTo>
                    <a:pt x="275" y="61"/>
                  </a:lnTo>
                  <a:lnTo>
                    <a:pt x="281" y="71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61640" y="5527440"/>
              <a:ext cx="20520" cy="126720"/>
            </a:xfrm>
            <a:custGeom>
              <a:avLst/>
              <a:gdLst/>
              <a:ahLst/>
              <a:rect l="l" t="t" r="r" b="b"/>
              <a:pathLst>
                <a:path w="38" h="227">
                  <a:moveTo>
                    <a:pt x="8" y="208"/>
                  </a:moveTo>
                  <a:lnTo>
                    <a:pt x="22" y="219"/>
                  </a:lnTo>
                  <a:lnTo>
                    <a:pt x="38" y="1"/>
                  </a:lnTo>
                  <a:lnTo>
                    <a:pt x="19" y="0"/>
                  </a:lnTo>
                  <a:lnTo>
                    <a:pt x="1" y="215"/>
                  </a:lnTo>
                  <a:lnTo>
                    <a:pt x="16" y="226"/>
                  </a:lnTo>
                  <a:lnTo>
                    <a:pt x="1" y="215"/>
                  </a:lnTo>
                  <a:lnTo>
                    <a:pt x="0" y="227"/>
                  </a:lnTo>
                  <a:lnTo>
                    <a:pt x="16" y="226"/>
                  </a:lnTo>
                  <a:lnTo>
                    <a:pt x="8" y="208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65960" y="5611680"/>
              <a:ext cx="164160" cy="41760"/>
            </a:xfrm>
            <a:custGeom>
              <a:avLst/>
              <a:gdLst/>
              <a:ahLst/>
              <a:rect l="l" t="t" r="r" b="b"/>
              <a:pathLst>
                <a:path w="305" h="75">
                  <a:moveTo>
                    <a:pt x="305" y="8"/>
                  </a:moveTo>
                  <a:lnTo>
                    <a:pt x="296" y="1"/>
                  </a:lnTo>
                  <a:lnTo>
                    <a:pt x="0" y="57"/>
                  </a:lnTo>
                  <a:lnTo>
                    <a:pt x="6" y="75"/>
                  </a:lnTo>
                  <a:lnTo>
                    <a:pt x="299" y="22"/>
                  </a:lnTo>
                  <a:lnTo>
                    <a:pt x="286" y="12"/>
                  </a:lnTo>
                  <a:lnTo>
                    <a:pt x="305" y="8"/>
                  </a:lnTo>
                  <a:lnTo>
                    <a:pt x="304" y="0"/>
                  </a:lnTo>
                  <a:lnTo>
                    <a:pt x="296" y="1"/>
                  </a:lnTo>
                  <a:lnTo>
                    <a:pt x="305" y="8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18960" y="5616000"/>
              <a:ext cx="42840" cy="119880"/>
            </a:xfrm>
            <a:custGeom>
              <a:avLst/>
              <a:gdLst/>
              <a:ahLst/>
              <a:rect l="l" t="t" r="r" b="b"/>
              <a:pathLst>
                <a:path w="79" h="216">
                  <a:moveTo>
                    <a:pt x="64" y="194"/>
                  </a:moveTo>
                  <a:lnTo>
                    <a:pt x="79" y="201"/>
                  </a:lnTo>
                  <a:lnTo>
                    <a:pt x="19" y="0"/>
                  </a:lnTo>
                  <a:lnTo>
                    <a:pt x="0" y="4"/>
                  </a:lnTo>
                  <a:lnTo>
                    <a:pt x="61" y="204"/>
                  </a:lnTo>
                  <a:lnTo>
                    <a:pt x="73" y="211"/>
                  </a:lnTo>
                  <a:lnTo>
                    <a:pt x="61" y="204"/>
                  </a:lnTo>
                  <a:lnTo>
                    <a:pt x="64" y="216"/>
                  </a:lnTo>
                  <a:lnTo>
                    <a:pt x="73" y="211"/>
                  </a:lnTo>
                  <a:lnTo>
                    <a:pt x="64" y="194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52080" y="5636880"/>
              <a:ext cx="135000" cy="96480"/>
            </a:xfrm>
            <a:custGeom>
              <a:avLst/>
              <a:gdLst/>
              <a:ahLst/>
              <a:rect l="l" t="t" r="r" b="b"/>
              <a:pathLst>
                <a:path w="250" h="174">
                  <a:moveTo>
                    <a:pt x="250" y="8"/>
                  </a:moveTo>
                  <a:lnTo>
                    <a:pt x="236" y="5"/>
                  </a:lnTo>
                  <a:lnTo>
                    <a:pt x="0" y="157"/>
                  </a:lnTo>
                  <a:lnTo>
                    <a:pt x="9" y="174"/>
                  </a:lnTo>
                  <a:lnTo>
                    <a:pt x="247" y="23"/>
                  </a:lnTo>
                  <a:lnTo>
                    <a:pt x="234" y="19"/>
                  </a:lnTo>
                  <a:lnTo>
                    <a:pt x="250" y="8"/>
                  </a:lnTo>
                  <a:lnTo>
                    <a:pt x="243" y="0"/>
                  </a:lnTo>
                  <a:lnTo>
                    <a:pt x="236" y="5"/>
                  </a:lnTo>
                  <a:lnTo>
                    <a:pt x="250" y="8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77360" y="5641200"/>
              <a:ext cx="84600" cy="95760"/>
            </a:xfrm>
            <a:custGeom>
              <a:avLst/>
              <a:gdLst/>
              <a:ahLst/>
              <a:rect l="l" t="t" r="r" b="b"/>
              <a:pathLst>
                <a:path w="157" h="173">
                  <a:moveTo>
                    <a:pt x="142" y="154"/>
                  </a:moveTo>
                  <a:lnTo>
                    <a:pt x="157" y="153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42" y="162"/>
                  </a:lnTo>
                  <a:lnTo>
                    <a:pt x="157" y="162"/>
                  </a:lnTo>
                  <a:lnTo>
                    <a:pt x="142" y="162"/>
                  </a:lnTo>
                  <a:lnTo>
                    <a:pt x="150" y="173"/>
                  </a:lnTo>
                  <a:lnTo>
                    <a:pt x="157" y="162"/>
                  </a:lnTo>
                  <a:lnTo>
                    <a:pt x="142" y="154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51520" y="5599440"/>
              <a:ext cx="92160" cy="131760"/>
            </a:xfrm>
            <a:custGeom>
              <a:avLst/>
              <a:gdLst/>
              <a:ahLst/>
              <a:rect l="l" t="t" r="r" b="b"/>
              <a:pathLst>
                <a:path w="171" h="237">
                  <a:moveTo>
                    <a:pt x="168" y="1"/>
                  </a:moveTo>
                  <a:lnTo>
                    <a:pt x="159" y="4"/>
                  </a:lnTo>
                  <a:lnTo>
                    <a:pt x="0" y="229"/>
                  </a:lnTo>
                  <a:lnTo>
                    <a:pt x="16" y="237"/>
                  </a:lnTo>
                  <a:lnTo>
                    <a:pt x="171" y="16"/>
                  </a:lnTo>
                  <a:lnTo>
                    <a:pt x="162" y="19"/>
                  </a:lnTo>
                  <a:lnTo>
                    <a:pt x="168" y="1"/>
                  </a:lnTo>
                  <a:lnTo>
                    <a:pt x="162" y="0"/>
                  </a:lnTo>
                  <a:lnTo>
                    <a:pt x="159" y="4"/>
                  </a:lnTo>
                  <a:lnTo>
                    <a:pt x="168" y="1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37560" y="5599800"/>
              <a:ext cx="117720" cy="52560"/>
            </a:xfrm>
            <a:custGeom>
              <a:avLst/>
              <a:gdLst/>
              <a:ahLst/>
              <a:rect l="l" t="t" r="r" b="b"/>
              <a:pathLst>
                <a:path w="218" h="94">
                  <a:moveTo>
                    <a:pt x="200" y="80"/>
                  </a:moveTo>
                  <a:lnTo>
                    <a:pt x="212" y="74"/>
                  </a:lnTo>
                  <a:lnTo>
                    <a:pt x="6" y="0"/>
                  </a:lnTo>
                  <a:lnTo>
                    <a:pt x="0" y="18"/>
                  </a:lnTo>
                  <a:lnTo>
                    <a:pt x="206" y="91"/>
                  </a:lnTo>
                  <a:lnTo>
                    <a:pt x="218" y="83"/>
                  </a:lnTo>
                  <a:lnTo>
                    <a:pt x="206" y="91"/>
                  </a:lnTo>
                  <a:lnTo>
                    <a:pt x="217" y="94"/>
                  </a:lnTo>
                  <a:lnTo>
                    <a:pt x="218" y="83"/>
                  </a:lnTo>
                  <a:lnTo>
                    <a:pt x="200" y="8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44480" y="5499720"/>
              <a:ext cx="26280" cy="146880"/>
            </a:xfrm>
            <a:custGeom>
              <a:avLst/>
              <a:gdLst/>
              <a:ahLst/>
              <a:rect l="l" t="t" r="r" b="b"/>
              <a:pathLst>
                <a:path w="50" h="264">
                  <a:moveTo>
                    <a:pt x="40" y="0"/>
                  </a:moveTo>
                  <a:lnTo>
                    <a:pt x="31" y="9"/>
                  </a:lnTo>
                  <a:lnTo>
                    <a:pt x="0" y="261"/>
                  </a:lnTo>
                  <a:lnTo>
                    <a:pt x="19" y="264"/>
                  </a:lnTo>
                  <a:lnTo>
                    <a:pt x="50" y="11"/>
                  </a:lnTo>
                  <a:lnTo>
                    <a:pt x="41" y="18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31" y="9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63920" y="5490720"/>
              <a:ext cx="127800" cy="19800"/>
            </a:xfrm>
            <a:custGeom>
              <a:avLst/>
              <a:gdLst/>
              <a:ahLst/>
              <a:rect l="l" t="t" r="r" b="b"/>
              <a:pathLst>
                <a:path w="237" h="37">
                  <a:moveTo>
                    <a:pt x="216" y="13"/>
                  </a:moveTo>
                  <a:lnTo>
                    <a:pt x="224" y="0"/>
                  </a:lnTo>
                  <a:lnTo>
                    <a:pt x="0" y="18"/>
                  </a:lnTo>
                  <a:lnTo>
                    <a:pt x="1" y="37"/>
                  </a:lnTo>
                  <a:lnTo>
                    <a:pt x="225" y="19"/>
                  </a:lnTo>
                  <a:lnTo>
                    <a:pt x="234" y="6"/>
                  </a:lnTo>
                  <a:lnTo>
                    <a:pt x="225" y="19"/>
                  </a:lnTo>
                  <a:lnTo>
                    <a:pt x="237" y="18"/>
                  </a:lnTo>
                  <a:lnTo>
                    <a:pt x="234" y="6"/>
                  </a:lnTo>
                  <a:lnTo>
                    <a:pt x="216" y="13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46360" y="5351760"/>
              <a:ext cx="44280" cy="146880"/>
            </a:xfrm>
            <a:custGeom>
              <a:avLst/>
              <a:gdLst/>
              <a:ahLst/>
              <a:rect l="l" t="t" r="r" b="b"/>
              <a:pathLst>
                <a:path w="83" h="263">
                  <a:moveTo>
                    <a:pt x="4" y="0"/>
                  </a:moveTo>
                  <a:lnTo>
                    <a:pt x="0" y="8"/>
                  </a:lnTo>
                  <a:lnTo>
                    <a:pt x="65" y="263"/>
                  </a:lnTo>
                  <a:lnTo>
                    <a:pt x="83" y="259"/>
                  </a:lnTo>
                  <a:lnTo>
                    <a:pt x="19" y="6"/>
                  </a:lnTo>
                  <a:lnTo>
                    <a:pt x="16" y="15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48880" y="5294160"/>
              <a:ext cx="110880" cy="68040"/>
            </a:xfrm>
            <a:custGeom>
              <a:avLst/>
              <a:gdLst/>
              <a:ahLst/>
              <a:rect l="l" t="t" r="r" b="b"/>
              <a:pathLst>
                <a:path w="206" h="123">
                  <a:moveTo>
                    <a:pt x="184" y="15"/>
                  </a:moveTo>
                  <a:lnTo>
                    <a:pt x="185" y="0"/>
                  </a:lnTo>
                  <a:lnTo>
                    <a:pt x="0" y="107"/>
                  </a:lnTo>
                  <a:lnTo>
                    <a:pt x="11" y="123"/>
                  </a:lnTo>
                  <a:lnTo>
                    <a:pt x="196" y="16"/>
                  </a:lnTo>
                  <a:lnTo>
                    <a:pt x="199" y="1"/>
                  </a:lnTo>
                  <a:lnTo>
                    <a:pt x="196" y="16"/>
                  </a:lnTo>
                  <a:lnTo>
                    <a:pt x="206" y="9"/>
                  </a:lnTo>
                  <a:lnTo>
                    <a:pt x="199" y="1"/>
                  </a:lnTo>
                  <a:lnTo>
                    <a:pt x="184" y="15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41320" y="5175720"/>
              <a:ext cx="114120" cy="127800"/>
            </a:xfrm>
            <a:custGeom>
              <a:avLst/>
              <a:gdLst/>
              <a:ahLst/>
              <a:rect l="l" t="t" r="r" b="b"/>
              <a:pathLst>
                <a:path w="212" h="229">
                  <a:moveTo>
                    <a:pt x="9" y="0"/>
                  </a:moveTo>
                  <a:lnTo>
                    <a:pt x="7" y="14"/>
                  </a:lnTo>
                  <a:lnTo>
                    <a:pt x="197" y="229"/>
                  </a:lnTo>
                  <a:lnTo>
                    <a:pt x="212" y="215"/>
                  </a:lnTo>
                  <a:lnTo>
                    <a:pt x="22" y="1"/>
                  </a:lnTo>
                  <a:lnTo>
                    <a:pt x="20" y="15"/>
                  </a:lnTo>
                  <a:lnTo>
                    <a:pt x="9" y="0"/>
                  </a:lnTo>
                  <a:lnTo>
                    <a:pt x="0" y="6"/>
                  </a:lnTo>
                  <a:lnTo>
                    <a:pt x="7" y="1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46360" y="5099760"/>
              <a:ext cx="99720" cy="86040"/>
            </a:xfrm>
            <a:custGeom>
              <a:avLst/>
              <a:gdLst/>
              <a:ahLst/>
              <a:rect l="l" t="t" r="r" b="b"/>
              <a:pathLst>
                <a:path w="185" h="155">
                  <a:moveTo>
                    <a:pt x="163" y="16"/>
                  </a:moveTo>
                  <a:lnTo>
                    <a:pt x="162" y="1"/>
                  </a:lnTo>
                  <a:lnTo>
                    <a:pt x="0" y="140"/>
                  </a:lnTo>
                  <a:lnTo>
                    <a:pt x="11" y="155"/>
                  </a:lnTo>
                  <a:lnTo>
                    <a:pt x="172" y="16"/>
                  </a:lnTo>
                  <a:lnTo>
                    <a:pt x="171" y="0"/>
                  </a:lnTo>
                  <a:lnTo>
                    <a:pt x="172" y="16"/>
                  </a:lnTo>
                  <a:lnTo>
                    <a:pt x="185" y="4"/>
                  </a:lnTo>
                  <a:lnTo>
                    <a:pt x="171" y="0"/>
                  </a:lnTo>
                  <a:lnTo>
                    <a:pt x="163" y="16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69320" y="5029920"/>
              <a:ext cx="169200" cy="80280"/>
            </a:xfrm>
            <a:custGeom>
              <a:avLst/>
              <a:gdLst/>
              <a:ahLst/>
              <a:rect l="l" t="t" r="r" b="b"/>
              <a:pathLst>
                <a:path w="313" h="144">
                  <a:moveTo>
                    <a:pt x="3" y="5"/>
                  </a:moveTo>
                  <a:lnTo>
                    <a:pt x="7" y="16"/>
                  </a:lnTo>
                  <a:lnTo>
                    <a:pt x="306" y="144"/>
                  </a:lnTo>
                  <a:lnTo>
                    <a:pt x="313" y="128"/>
                  </a:lnTo>
                  <a:lnTo>
                    <a:pt x="16" y="0"/>
                  </a:lnTo>
                  <a:lnTo>
                    <a:pt x="19" y="12"/>
                  </a:lnTo>
                  <a:lnTo>
                    <a:pt x="3" y="3"/>
                  </a:lnTo>
                  <a:lnTo>
                    <a:pt x="0" y="13"/>
                  </a:lnTo>
                  <a:lnTo>
                    <a:pt x="7" y="16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70760" y="4917600"/>
              <a:ext cx="62280" cy="120600"/>
            </a:xfrm>
            <a:custGeom>
              <a:avLst/>
              <a:gdLst/>
              <a:ahLst/>
              <a:rect l="l" t="t" r="r" b="b"/>
              <a:pathLst>
                <a:path w="115" h="217">
                  <a:moveTo>
                    <a:pt x="99" y="18"/>
                  </a:moveTo>
                  <a:lnTo>
                    <a:pt x="92" y="6"/>
                  </a:lnTo>
                  <a:lnTo>
                    <a:pt x="0" y="210"/>
                  </a:lnTo>
                  <a:lnTo>
                    <a:pt x="16" y="217"/>
                  </a:lnTo>
                  <a:lnTo>
                    <a:pt x="109" y="10"/>
                  </a:lnTo>
                  <a:lnTo>
                    <a:pt x="99" y="0"/>
                  </a:lnTo>
                  <a:lnTo>
                    <a:pt x="109" y="11"/>
                  </a:lnTo>
                  <a:lnTo>
                    <a:pt x="115" y="0"/>
                  </a:lnTo>
                  <a:lnTo>
                    <a:pt x="99" y="0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62760" y="4916880"/>
              <a:ext cx="161640" cy="12240"/>
            </a:xfrm>
            <a:custGeom>
              <a:avLst/>
              <a:gdLst/>
              <a:ahLst/>
              <a:rect l="l" t="t" r="r" b="b"/>
              <a:pathLst>
                <a:path w="299" h="22">
                  <a:moveTo>
                    <a:pt x="0" y="10"/>
                  </a:moveTo>
                  <a:lnTo>
                    <a:pt x="10" y="21"/>
                  </a:lnTo>
                  <a:lnTo>
                    <a:pt x="299" y="22"/>
                  </a:lnTo>
                  <a:lnTo>
                    <a:pt x="299" y="1"/>
                  </a:lnTo>
                  <a:lnTo>
                    <a:pt x="10" y="0"/>
                  </a:lnTo>
                  <a:lnTo>
                    <a:pt x="19" y="8"/>
                  </a:lnTo>
                  <a:lnTo>
                    <a:pt x="0" y="10"/>
                  </a:lnTo>
                  <a:lnTo>
                    <a:pt x="1" y="21"/>
                  </a:lnTo>
                  <a:lnTo>
                    <a:pt x="10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46560" y="4797360"/>
              <a:ext cx="28080" cy="125640"/>
            </a:xfrm>
            <a:custGeom>
              <a:avLst/>
              <a:gdLst/>
              <a:ahLst/>
              <a:rect l="l" t="t" r="r" b="b"/>
              <a:pathLst>
                <a:path w="52" h="226">
                  <a:moveTo>
                    <a:pt x="15" y="20"/>
                  </a:moveTo>
                  <a:lnTo>
                    <a:pt x="0" y="12"/>
                  </a:lnTo>
                  <a:lnTo>
                    <a:pt x="31" y="226"/>
                  </a:lnTo>
                  <a:lnTo>
                    <a:pt x="52" y="225"/>
                  </a:lnTo>
                  <a:lnTo>
                    <a:pt x="19" y="11"/>
                  </a:lnTo>
                  <a:lnTo>
                    <a:pt x="4" y="5"/>
                  </a:lnTo>
                  <a:lnTo>
                    <a:pt x="19" y="11"/>
                  </a:lnTo>
                  <a:lnTo>
                    <a:pt x="16" y="0"/>
                  </a:lnTo>
                  <a:lnTo>
                    <a:pt x="4" y="5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52920" y="4851000"/>
              <a:ext cx="809280" cy="800280"/>
            </a:xfrm>
            <a:custGeom>
              <a:avLst/>
              <a:gdLst/>
              <a:ahLst/>
              <a:rect l="l" t="t" r="r" b="b"/>
              <a:pathLst>
                <a:path w="1500" h="1436">
                  <a:moveTo>
                    <a:pt x="750" y="0"/>
                  </a:moveTo>
                  <a:lnTo>
                    <a:pt x="828" y="5"/>
                  </a:lnTo>
                  <a:lnTo>
                    <a:pt x="900" y="15"/>
                  </a:lnTo>
                  <a:lnTo>
                    <a:pt x="974" y="33"/>
                  </a:lnTo>
                  <a:lnTo>
                    <a:pt x="1040" y="57"/>
                  </a:lnTo>
                  <a:lnTo>
                    <a:pt x="1106" y="88"/>
                  </a:lnTo>
                  <a:lnTo>
                    <a:pt x="1169" y="124"/>
                  </a:lnTo>
                  <a:lnTo>
                    <a:pt x="1227" y="165"/>
                  </a:lnTo>
                  <a:lnTo>
                    <a:pt x="1279" y="212"/>
                  </a:lnTo>
                  <a:lnTo>
                    <a:pt x="1328" y="261"/>
                  </a:lnTo>
                  <a:lnTo>
                    <a:pt x="1372" y="317"/>
                  </a:lnTo>
                  <a:lnTo>
                    <a:pt x="1409" y="376"/>
                  </a:lnTo>
                  <a:lnTo>
                    <a:pt x="1441" y="438"/>
                  </a:lnTo>
                  <a:lnTo>
                    <a:pt x="1465" y="505"/>
                  </a:lnTo>
                  <a:lnTo>
                    <a:pt x="1485" y="572"/>
                  </a:lnTo>
                  <a:lnTo>
                    <a:pt x="1496" y="644"/>
                  </a:lnTo>
                  <a:lnTo>
                    <a:pt x="1500" y="717"/>
                  </a:lnTo>
                  <a:lnTo>
                    <a:pt x="1496" y="792"/>
                  </a:lnTo>
                  <a:lnTo>
                    <a:pt x="1485" y="861"/>
                  </a:lnTo>
                  <a:lnTo>
                    <a:pt x="1465" y="930"/>
                  </a:lnTo>
                  <a:lnTo>
                    <a:pt x="1441" y="996"/>
                  </a:lnTo>
                  <a:lnTo>
                    <a:pt x="1409" y="1059"/>
                  </a:lnTo>
                  <a:lnTo>
                    <a:pt x="1372" y="1118"/>
                  </a:lnTo>
                  <a:lnTo>
                    <a:pt x="1328" y="1173"/>
                  </a:lnTo>
                  <a:lnTo>
                    <a:pt x="1279" y="1225"/>
                  </a:lnTo>
                  <a:lnTo>
                    <a:pt x="1227" y="1271"/>
                  </a:lnTo>
                  <a:lnTo>
                    <a:pt x="1169" y="1312"/>
                  </a:lnTo>
                  <a:lnTo>
                    <a:pt x="1106" y="1348"/>
                  </a:lnTo>
                  <a:lnTo>
                    <a:pt x="1040" y="1379"/>
                  </a:lnTo>
                  <a:lnTo>
                    <a:pt x="974" y="1403"/>
                  </a:lnTo>
                  <a:lnTo>
                    <a:pt x="900" y="1420"/>
                  </a:lnTo>
                  <a:lnTo>
                    <a:pt x="828" y="1429"/>
                  </a:lnTo>
                  <a:lnTo>
                    <a:pt x="750" y="1436"/>
                  </a:lnTo>
                  <a:lnTo>
                    <a:pt x="675" y="1429"/>
                  </a:lnTo>
                  <a:lnTo>
                    <a:pt x="601" y="1420"/>
                  </a:lnTo>
                  <a:lnTo>
                    <a:pt x="528" y="1403"/>
                  </a:lnTo>
                  <a:lnTo>
                    <a:pt x="459" y="1379"/>
                  </a:lnTo>
                  <a:lnTo>
                    <a:pt x="394" y="1348"/>
                  </a:lnTo>
                  <a:lnTo>
                    <a:pt x="332" y="1312"/>
                  </a:lnTo>
                  <a:lnTo>
                    <a:pt x="273" y="1271"/>
                  </a:lnTo>
                  <a:lnTo>
                    <a:pt x="220" y="1225"/>
                  </a:lnTo>
                  <a:lnTo>
                    <a:pt x="172" y="1173"/>
                  </a:lnTo>
                  <a:lnTo>
                    <a:pt x="128" y="1118"/>
                  </a:lnTo>
                  <a:lnTo>
                    <a:pt x="91" y="1059"/>
                  </a:lnTo>
                  <a:lnTo>
                    <a:pt x="59" y="996"/>
                  </a:lnTo>
                  <a:lnTo>
                    <a:pt x="33" y="930"/>
                  </a:lnTo>
                  <a:lnTo>
                    <a:pt x="15" y="861"/>
                  </a:lnTo>
                  <a:lnTo>
                    <a:pt x="3" y="792"/>
                  </a:lnTo>
                  <a:lnTo>
                    <a:pt x="0" y="717"/>
                  </a:lnTo>
                  <a:lnTo>
                    <a:pt x="3" y="644"/>
                  </a:lnTo>
                  <a:lnTo>
                    <a:pt x="15" y="572"/>
                  </a:lnTo>
                  <a:lnTo>
                    <a:pt x="33" y="505"/>
                  </a:lnTo>
                  <a:lnTo>
                    <a:pt x="59" y="438"/>
                  </a:lnTo>
                  <a:lnTo>
                    <a:pt x="91" y="376"/>
                  </a:lnTo>
                  <a:lnTo>
                    <a:pt x="128" y="317"/>
                  </a:lnTo>
                  <a:lnTo>
                    <a:pt x="172" y="261"/>
                  </a:lnTo>
                  <a:lnTo>
                    <a:pt x="220" y="212"/>
                  </a:lnTo>
                  <a:lnTo>
                    <a:pt x="273" y="165"/>
                  </a:lnTo>
                  <a:lnTo>
                    <a:pt x="332" y="124"/>
                  </a:lnTo>
                  <a:lnTo>
                    <a:pt x="394" y="88"/>
                  </a:lnTo>
                  <a:lnTo>
                    <a:pt x="459" y="57"/>
                  </a:lnTo>
                  <a:lnTo>
                    <a:pt x="528" y="33"/>
                  </a:lnTo>
                  <a:lnTo>
                    <a:pt x="601" y="15"/>
                  </a:lnTo>
                  <a:lnTo>
                    <a:pt x="675" y="5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670601"/>
            </a:solidFill>
            <a:ln w="57240">
              <a:solidFill>
                <a:srgbClr val="6706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52920" y="4851000"/>
              <a:ext cx="811080" cy="801360"/>
            </a:xfrm>
            <a:custGeom>
              <a:avLst/>
              <a:gdLst/>
              <a:ahLst/>
              <a:rect l="l" t="t" r="r" b="b"/>
              <a:pathLst>
                <a:path w="1503" h="1438">
                  <a:moveTo>
                    <a:pt x="752" y="0"/>
                  </a:moveTo>
                  <a:lnTo>
                    <a:pt x="830" y="5"/>
                  </a:lnTo>
                  <a:lnTo>
                    <a:pt x="902" y="15"/>
                  </a:lnTo>
                  <a:lnTo>
                    <a:pt x="975" y="33"/>
                  </a:lnTo>
                  <a:lnTo>
                    <a:pt x="1042" y="57"/>
                  </a:lnTo>
                  <a:lnTo>
                    <a:pt x="1108" y="88"/>
                  </a:lnTo>
                  <a:lnTo>
                    <a:pt x="1172" y="124"/>
                  </a:lnTo>
                  <a:lnTo>
                    <a:pt x="1230" y="164"/>
                  </a:lnTo>
                  <a:lnTo>
                    <a:pt x="1282" y="212"/>
                  </a:lnTo>
                  <a:lnTo>
                    <a:pt x="1331" y="261"/>
                  </a:lnTo>
                  <a:lnTo>
                    <a:pt x="1375" y="317"/>
                  </a:lnTo>
                  <a:lnTo>
                    <a:pt x="1412" y="378"/>
                  </a:lnTo>
                  <a:lnTo>
                    <a:pt x="1444" y="441"/>
                  </a:lnTo>
                  <a:lnTo>
                    <a:pt x="1469" y="506"/>
                  </a:lnTo>
                  <a:lnTo>
                    <a:pt x="1488" y="574"/>
                  </a:lnTo>
                  <a:lnTo>
                    <a:pt x="1500" y="645"/>
                  </a:lnTo>
                  <a:lnTo>
                    <a:pt x="1503" y="718"/>
                  </a:lnTo>
                  <a:lnTo>
                    <a:pt x="1500" y="793"/>
                  </a:lnTo>
                  <a:lnTo>
                    <a:pt x="1488" y="862"/>
                  </a:lnTo>
                  <a:lnTo>
                    <a:pt x="1469" y="931"/>
                  </a:lnTo>
                  <a:lnTo>
                    <a:pt x="1444" y="997"/>
                  </a:lnTo>
                  <a:lnTo>
                    <a:pt x="1412" y="1060"/>
                  </a:lnTo>
                  <a:lnTo>
                    <a:pt x="1375" y="1120"/>
                  </a:lnTo>
                  <a:lnTo>
                    <a:pt x="1331" y="1175"/>
                  </a:lnTo>
                  <a:lnTo>
                    <a:pt x="1282" y="1227"/>
                  </a:lnTo>
                  <a:lnTo>
                    <a:pt x="1230" y="1274"/>
                  </a:lnTo>
                  <a:lnTo>
                    <a:pt x="1172" y="1314"/>
                  </a:lnTo>
                  <a:lnTo>
                    <a:pt x="1108" y="1350"/>
                  </a:lnTo>
                  <a:lnTo>
                    <a:pt x="1042" y="1381"/>
                  </a:lnTo>
                  <a:lnTo>
                    <a:pt x="975" y="1405"/>
                  </a:lnTo>
                  <a:lnTo>
                    <a:pt x="902" y="1422"/>
                  </a:lnTo>
                  <a:lnTo>
                    <a:pt x="830" y="1434"/>
                  </a:lnTo>
                  <a:lnTo>
                    <a:pt x="752" y="1438"/>
                  </a:lnTo>
                  <a:lnTo>
                    <a:pt x="676" y="1434"/>
                  </a:lnTo>
                  <a:lnTo>
                    <a:pt x="603" y="1422"/>
                  </a:lnTo>
                  <a:lnTo>
                    <a:pt x="529" y="1405"/>
                  </a:lnTo>
                  <a:lnTo>
                    <a:pt x="460" y="1381"/>
                  </a:lnTo>
                  <a:lnTo>
                    <a:pt x="395" y="1350"/>
                  </a:lnTo>
                  <a:lnTo>
                    <a:pt x="332" y="1314"/>
                  </a:lnTo>
                  <a:lnTo>
                    <a:pt x="273" y="1274"/>
                  </a:lnTo>
                  <a:lnTo>
                    <a:pt x="220" y="1227"/>
                  </a:lnTo>
                  <a:lnTo>
                    <a:pt x="172" y="1175"/>
                  </a:lnTo>
                  <a:lnTo>
                    <a:pt x="128" y="1120"/>
                  </a:lnTo>
                  <a:lnTo>
                    <a:pt x="91" y="1060"/>
                  </a:lnTo>
                  <a:lnTo>
                    <a:pt x="59" y="997"/>
                  </a:lnTo>
                  <a:lnTo>
                    <a:pt x="33" y="931"/>
                  </a:lnTo>
                  <a:lnTo>
                    <a:pt x="15" y="862"/>
                  </a:lnTo>
                  <a:lnTo>
                    <a:pt x="3" y="793"/>
                  </a:lnTo>
                  <a:lnTo>
                    <a:pt x="0" y="718"/>
                  </a:lnTo>
                  <a:lnTo>
                    <a:pt x="3" y="645"/>
                  </a:lnTo>
                  <a:lnTo>
                    <a:pt x="15" y="574"/>
                  </a:lnTo>
                  <a:lnTo>
                    <a:pt x="33" y="506"/>
                  </a:lnTo>
                  <a:lnTo>
                    <a:pt x="59" y="441"/>
                  </a:lnTo>
                  <a:lnTo>
                    <a:pt x="91" y="378"/>
                  </a:lnTo>
                  <a:lnTo>
                    <a:pt x="128" y="317"/>
                  </a:lnTo>
                  <a:lnTo>
                    <a:pt x="172" y="261"/>
                  </a:lnTo>
                  <a:lnTo>
                    <a:pt x="220" y="212"/>
                  </a:lnTo>
                  <a:lnTo>
                    <a:pt x="273" y="164"/>
                  </a:lnTo>
                  <a:lnTo>
                    <a:pt x="332" y="124"/>
                  </a:lnTo>
                  <a:lnTo>
                    <a:pt x="395" y="88"/>
                  </a:lnTo>
                  <a:lnTo>
                    <a:pt x="460" y="57"/>
                  </a:lnTo>
                  <a:lnTo>
                    <a:pt x="529" y="33"/>
                  </a:lnTo>
                  <a:lnTo>
                    <a:pt x="603" y="15"/>
                  </a:lnTo>
                  <a:lnTo>
                    <a:pt x="676" y="5"/>
                  </a:lnTo>
                  <a:lnTo>
                    <a:pt x="752" y="0"/>
                  </a:lnTo>
                  <a:close/>
                </a:path>
              </a:pathLst>
            </a:custGeom>
            <a:solidFill>
              <a:srgbClr val="ffe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73080" y="4866120"/>
              <a:ext cx="769320" cy="768240"/>
            </a:xfrm>
            <a:custGeom>
              <a:avLst/>
              <a:gdLst/>
              <a:ahLst/>
              <a:rect l="l" t="t" r="r" b="b"/>
              <a:pathLst>
                <a:path w="1424" h="1379">
                  <a:moveTo>
                    <a:pt x="713" y="0"/>
                  </a:moveTo>
                  <a:lnTo>
                    <a:pt x="785" y="3"/>
                  </a:lnTo>
                  <a:lnTo>
                    <a:pt x="857" y="15"/>
                  </a:lnTo>
                  <a:lnTo>
                    <a:pt x="925" y="30"/>
                  </a:lnTo>
                  <a:lnTo>
                    <a:pt x="989" y="53"/>
                  </a:lnTo>
                  <a:lnTo>
                    <a:pt x="1051" y="82"/>
                  </a:lnTo>
                  <a:lnTo>
                    <a:pt x="1113" y="116"/>
                  </a:lnTo>
                  <a:lnTo>
                    <a:pt x="1166" y="157"/>
                  </a:lnTo>
                  <a:lnTo>
                    <a:pt x="1216" y="200"/>
                  </a:lnTo>
                  <a:lnTo>
                    <a:pt x="1262" y="249"/>
                  </a:lnTo>
                  <a:lnTo>
                    <a:pt x="1305" y="302"/>
                  </a:lnTo>
                  <a:lnTo>
                    <a:pt x="1340" y="359"/>
                  </a:lnTo>
                  <a:lnTo>
                    <a:pt x="1369" y="421"/>
                  </a:lnTo>
                  <a:lnTo>
                    <a:pt x="1392" y="483"/>
                  </a:lnTo>
                  <a:lnTo>
                    <a:pt x="1409" y="550"/>
                  </a:lnTo>
                  <a:lnTo>
                    <a:pt x="1421" y="617"/>
                  </a:lnTo>
                  <a:lnTo>
                    <a:pt x="1424" y="689"/>
                  </a:lnTo>
                  <a:lnTo>
                    <a:pt x="1421" y="758"/>
                  </a:lnTo>
                  <a:lnTo>
                    <a:pt x="1409" y="826"/>
                  </a:lnTo>
                  <a:lnTo>
                    <a:pt x="1392" y="893"/>
                  </a:lnTo>
                  <a:lnTo>
                    <a:pt x="1369" y="956"/>
                  </a:lnTo>
                  <a:lnTo>
                    <a:pt x="1340" y="1016"/>
                  </a:lnTo>
                  <a:lnTo>
                    <a:pt x="1305" y="1074"/>
                  </a:lnTo>
                  <a:lnTo>
                    <a:pt x="1262" y="1127"/>
                  </a:lnTo>
                  <a:lnTo>
                    <a:pt x="1216" y="1177"/>
                  </a:lnTo>
                  <a:lnTo>
                    <a:pt x="1166" y="1220"/>
                  </a:lnTo>
                  <a:lnTo>
                    <a:pt x="1113" y="1260"/>
                  </a:lnTo>
                  <a:lnTo>
                    <a:pt x="1051" y="1294"/>
                  </a:lnTo>
                  <a:lnTo>
                    <a:pt x="989" y="1323"/>
                  </a:lnTo>
                  <a:lnTo>
                    <a:pt x="925" y="1349"/>
                  </a:lnTo>
                  <a:lnTo>
                    <a:pt x="857" y="1364"/>
                  </a:lnTo>
                  <a:lnTo>
                    <a:pt x="785" y="1375"/>
                  </a:lnTo>
                  <a:lnTo>
                    <a:pt x="713" y="1379"/>
                  </a:lnTo>
                  <a:lnTo>
                    <a:pt x="640" y="1375"/>
                  </a:lnTo>
                  <a:lnTo>
                    <a:pt x="570" y="1364"/>
                  </a:lnTo>
                  <a:lnTo>
                    <a:pt x="502" y="1349"/>
                  </a:lnTo>
                  <a:lnTo>
                    <a:pt x="437" y="1323"/>
                  </a:lnTo>
                  <a:lnTo>
                    <a:pt x="374" y="1294"/>
                  </a:lnTo>
                  <a:lnTo>
                    <a:pt x="313" y="1260"/>
                  </a:lnTo>
                  <a:lnTo>
                    <a:pt x="260" y="1220"/>
                  </a:lnTo>
                  <a:lnTo>
                    <a:pt x="206" y="1177"/>
                  </a:lnTo>
                  <a:lnTo>
                    <a:pt x="162" y="1127"/>
                  </a:lnTo>
                  <a:lnTo>
                    <a:pt x="121" y="1074"/>
                  </a:lnTo>
                  <a:lnTo>
                    <a:pt x="85" y="1016"/>
                  </a:lnTo>
                  <a:lnTo>
                    <a:pt x="56" y="956"/>
                  </a:lnTo>
                  <a:lnTo>
                    <a:pt x="32" y="893"/>
                  </a:lnTo>
                  <a:lnTo>
                    <a:pt x="13" y="826"/>
                  </a:lnTo>
                  <a:lnTo>
                    <a:pt x="4" y="758"/>
                  </a:lnTo>
                  <a:lnTo>
                    <a:pt x="0" y="689"/>
                  </a:lnTo>
                  <a:lnTo>
                    <a:pt x="4" y="617"/>
                  </a:lnTo>
                  <a:lnTo>
                    <a:pt x="13" y="550"/>
                  </a:lnTo>
                  <a:lnTo>
                    <a:pt x="32" y="483"/>
                  </a:lnTo>
                  <a:lnTo>
                    <a:pt x="56" y="421"/>
                  </a:lnTo>
                  <a:lnTo>
                    <a:pt x="85" y="359"/>
                  </a:lnTo>
                  <a:lnTo>
                    <a:pt x="121" y="302"/>
                  </a:lnTo>
                  <a:lnTo>
                    <a:pt x="162" y="249"/>
                  </a:lnTo>
                  <a:lnTo>
                    <a:pt x="206" y="200"/>
                  </a:lnTo>
                  <a:lnTo>
                    <a:pt x="260" y="157"/>
                  </a:lnTo>
                  <a:lnTo>
                    <a:pt x="313" y="116"/>
                  </a:lnTo>
                  <a:lnTo>
                    <a:pt x="374" y="82"/>
                  </a:lnTo>
                  <a:lnTo>
                    <a:pt x="437" y="53"/>
                  </a:lnTo>
                  <a:lnTo>
                    <a:pt x="502" y="30"/>
                  </a:lnTo>
                  <a:lnTo>
                    <a:pt x="570" y="15"/>
                  </a:lnTo>
                  <a:lnTo>
                    <a:pt x="640" y="3"/>
                  </a:lnTo>
                  <a:lnTo>
                    <a:pt x="713" y="0"/>
                  </a:lnTo>
                  <a:close/>
                </a:path>
              </a:pathLst>
            </a:custGeom>
            <a:solidFill>
              <a:srgbClr val="67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50560" y="5036400"/>
              <a:ext cx="413640" cy="437040"/>
            </a:xfrm>
            <a:custGeom>
              <a:avLst/>
              <a:gdLst/>
              <a:ahLst/>
              <a:rect l="l" t="t" r="r" b="b"/>
              <a:pathLst>
                <a:path w="767" h="784">
                  <a:moveTo>
                    <a:pt x="465" y="780"/>
                  </a:moveTo>
                  <a:lnTo>
                    <a:pt x="767" y="783"/>
                  </a:lnTo>
                  <a:lnTo>
                    <a:pt x="767" y="0"/>
                  </a:lnTo>
                  <a:lnTo>
                    <a:pt x="599" y="0"/>
                  </a:lnTo>
                  <a:lnTo>
                    <a:pt x="599" y="617"/>
                  </a:lnTo>
                  <a:lnTo>
                    <a:pt x="505" y="617"/>
                  </a:lnTo>
                  <a:lnTo>
                    <a:pt x="461" y="610"/>
                  </a:lnTo>
                  <a:lnTo>
                    <a:pt x="422" y="596"/>
                  </a:lnTo>
                  <a:lnTo>
                    <a:pt x="399" y="572"/>
                  </a:lnTo>
                  <a:lnTo>
                    <a:pt x="387" y="536"/>
                  </a:lnTo>
                  <a:lnTo>
                    <a:pt x="396" y="504"/>
                  </a:lnTo>
                  <a:lnTo>
                    <a:pt x="414" y="476"/>
                  </a:lnTo>
                  <a:lnTo>
                    <a:pt x="467" y="426"/>
                  </a:lnTo>
                  <a:lnTo>
                    <a:pt x="497" y="396"/>
                  </a:lnTo>
                  <a:lnTo>
                    <a:pt x="524" y="358"/>
                  </a:lnTo>
                  <a:lnTo>
                    <a:pt x="543" y="310"/>
                  </a:lnTo>
                  <a:lnTo>
                    <a:pt x="551" y="248"/>
                  </a:lnTo>
                  <a:lnTo>
                    <a:pt x="551" y="223"/>
                  </a:lnTo>
                  <a:lnTo>
                    <a:pt x="546" y="200"/>
                  </a:lnTo>
                  <a:lnTo>
                    <a:pt x="533" y="154"/>
                  </a:lnTo>
                  <a:lnTo>
                    <a:pt x="511" y="112"/>
                  </a:lnTo>
                  <a:lnTo>
                    <a:pt x="484" y="76"/>
                  </a:lnTo>
                  <a:lnTo>
                    <a:pt x="452" y="42"/>
                  </a:lnTo>
                  <a:lnTo>
                    <a:pt x="417" y="20"/>
                  </a:lnTo>
                  <a:lnTo>
                    <a:pt x="380" y="4"/>
                  </a:lnTo>
                  <a:lnTo>
                    <a:pt x="359" y="0"/>
                  </a:lnTo>
                  <a:lnTo>
                    <a:pt x="340" y="0"/>
                  </a:lnTo>
                  <a:lnTo>
                    <a:pt x="0" y="0"/>
                  </a:lnTo>
                  <a:lnTo>
                    <a:pt x="0" y="783"/>
                  </a:lnTo>
                  <a:lnTo>
                    <a:pt x="171" y="784"/>
                  </a:lnTo>
                  <a:lnTo>
                    <a:pt x="172" y="167"/>
                  </a:lnTo>
                  <a:lnTo>
                    <a:pt x="319" y="162"/>
                  </a:lnTo>
                  <a:lnTo>
                    <a:pt x="348" y="174"/>
                  </a:lnTo>
                  <a:lnTo>
                    <a:pt x="366" y="192"/>
                  </a:lnTo>
                  <a:lnTo>
                    <a:pt x="380" y="218"/>
                  </a:lnTo>
                  <a:lnTo>
                    <a:pt x="384" y="245"/>
                  </a:lnTo>
                  <a:lnTo>
                    <a:pt x="374" y="282"/>
                  </a:lnTo>
                  <a:lnTo>
                    <a:pt x="354" y="309"/>
                  </a:lnTo>
                  <a:lnTo>
                    <a:pt x="299" y="358"/>
                  </a:lnTo>
                  <a:lnTo>
                    <a:pt x="269" y="387"/>
                  </a:lnTo>
                  <a:lnTo>
                    <a:pt x="243" y="428"/>
                  </a:lnTo>
                  <a:lnTo>
                    <a:pt x="226" y="478"/>
                  </a:lnTo>
                  <a:lnTo>
                    <a:pt x="218" y="547"/>
                  </a:lnTo>
                  <a:lnTo>
                    <a:pt x="225" y="595"/>
                  </a:lnTo>
                  <a:lnTo>
                    <a:pt x="238" y="636"/>
                  </a:lnTo>
                  <a:lnTo>
                    <a:pt x="261" y="675"/>
                  </a:lnTo>
                  <a:lnTo>
                    <a:pt x="290" y="709"/>
                  </a:lnTo>
                  <a:lnTo>
                    <a:pt x="327" y="738"/>
                  </a:lnTo>
                  <a:lnTo>
                    <a:pt x="368" y="759"/>
                  </a:lnTo>
                  <a:lnTo>
                    <a:pt x="415" y="773"/>
                  </a:lnTo>
                  <a:lnTo>
                    <a:pt x="465" y="780"/>
                  </a:lnTo>
                  <a:close/>
                </a:path>
              </a:pathLst>
            </a:custGeom>
            <a:solidFill>
              <a:srgbClr val="ffe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91800" y="5395320"/>
              <a:ext cx="42840" cy="428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1" y="0"/>
                  </a:moveTo>
                  <a:lnTo>
                    <a:pt x="55" y="3"/>
                  </a:lnTo>
                  <a:lnTo>
                    <a:pt x="68" y="10"/>
                  </a:lnTo>
                  <a:lnTo>
                    <a:pt x="76" y="23"/>
                  </a:lnTo>
                  <a:lnTo>
                    <a:pt x="79" y="38"/>
                  </a:lnTo>
                  <a:lnTo>
                    <a:pt x="76" y="52"/>
                  </a:lnTo>
                  <a:lnTo>
                    <a:pt x="68" y="65"/>
                  </a:lnTo>
                  <a:lnTo>
                    <a:pt x="55" y="74"/>
                  </a:lnTo>
                  <a:lnTo>
                    <a:pt x="41" y="77"/>
                  </a:lnTo>
                  <a:lnTo>
                    <a:pt x="25" y="74"/>
                  </a:lnTo>
                  <a:lnTo>
                    <a:pt x="12" y="65"/>
                  </a:lnTo>
                  <a:lnTo>
                    <a:pt x="3" y="52"/>
                  </a:lnTo>
                  <a:lnTo>
                    <a:pt x="0" y="38"/>
                  </a:lnTo>
                  <a:lnTo>
                    <a:pt x="3" y="23"/>
                  </a:lnTo>
                  <a:lnTo>
                    <a:pt x="12" y="10"/>
                  </a:lnTo>
                  <a:lnTo>
                    <a:pt x="25" y="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89120" y="5395320"/>
              <a:ext cx="43920" cy="42840"/>
            </a:xfrm>
            <a:custGeom>
              <a:avLst/>
              <a:gdLst/>
              <a:ahLst/>
              <a:rect l="l" t="t" r="r" b="b"/>
              <a:pathLst>
                <a:path w="81" h="77">
                  <a:moveTo>
                    <a:pt x="41" y="0"/>
                  </a:moveTo>
                  <a:lnTo>
                    <a:pt x="59" y="3"/>
                  </a:lnTo>
                  <a:lnTo>
                    <a:pt x="71" y="10"/>
                  </a:lnTo>
                  <a:lnTo>
                    <a:pt x="78" y="23"/>
                  </a:lnTo>
                  <a:lnTo>
                    <a:pt x="81" y="38"/>
                  </a:lnTo>
                  <a:lnTo>
                    <a:pt x="78" y="52"/>
                  </a:lnTo>
                  <a:lnTo>
                    <a:pt x="71" y="65"/>
                  </a:lnTo>
                  <a:lnTo>
                    <a:pt x="59" y="74"/>
                  </a:lnTo>
                  <a:lnTo>
                    <a:pt x="41" y="77"/>
                  </a:lnTo>
                  <a:lnTo>
                    <a:pt x="28" y="74"/>
                  </a:lnTo>
                  <a:lnTo>
                    <a:pt x="13" y="65"/>
                  </a:lnTo>
                  <a:lnTo>
                    <a:pt x="5" y="52"/>
                  </a:lnTo>
                  <a:lnTo>
                    <a:pt x="0" y="38"/>
                  </a:lnTo>
                  <a:lnTo>
                    <a:pt x="5" y="23"/>
                  </a:lnTo>
                  <a:lnTo>
                    <a:pt x="13" y="10"/>
                  </a:lnTo>
                  <a:lnTo>
                    <a:pt x="28" y="3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36280" y="5536800"/>
              <a:ext cx="110880" cy="88560"/>
            </a:xfrm>
            <a:custGeom>
              <a:avLst/>
              <a:gdLst/>
              <a:ahLst/>
              <a:rect l="l" t="t" r="r" b="b"/>
              <a:pathLst>
                <a:path w="206" h="159">
                  <a:moveTo>
                    <a:pt x="0" y="115"/>
                  </a:moveTo>
                  <a:lnTo>
                    <a:pt x="134" y="0"/>
                  </a:lnTo>
                  <a:lnTo>
                    <a:pt x="206" y="101"/>
                  </a:lnTo>
                  <a:lnTo>
                    <a:pt x="182" y="122"/>
                  </a:lnTo>
                  <a:lnTo>
                    <a:pt x="132" y="52"/>
                  </a:lnTo>
                  <a:lnTo>
                    <a:pt x="101" y="75"/>
                  </a:lnTo>
                  <a:lnTo>
                    <a:pt x="145" y="140"/>
                  </a:lnTo>
                  <a:lnTo>
                    <a:pt x="121" y="159"/>
                  </a:lnTo>
                  <a:lnTo>
                    <a:pt x="78" y="97"/>
                  </a:lnTo>
                  <a:lnTo>
                    <a:pt x="20" y="146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75320" y="5715000"/>
              <a:ext cx="102240" cy="127080"/>
            </a:xfrm>
            <a:custGeom>
              <a:avLst/>
              <a:gdLst/>
              <a:ahLst/>
              <a:rect l="l" t="t" r="r" b="b"/>
              <a:pathLst>
                <a:path w="190" h="229">
                  <a:moveTo>
                    <a:pt x="0" y="172"/>
                  </a:moveTo>
                  <a:lnTo>
                    <a:pt x="63" y="0"/>
                  </a:lnTo>
                  <a:lnTo>
                    <a:pt x="94" y="13"/>
                  </a:lnTo>
                  <a:lnTo>
                    <a:pt x="70" y="82"/>
                  </a:lnTo>
                  <a:lnTo>
                    <a:pt x="134" y="112"/>
                  </a:lnTo>
                  <a:lnTo>
                    <a:pt x="160" y="42"/>
                  </a:lnTo>
                  <a:lnTo>
                    <a:pt x="190" y="56"/>
                  </a:lnTo>
                  <a:lnTo>
                    <a:pt x="127" y="229"/>
                  </a:lnTo>
                  <a:lnTo>
                    <a:pt x="96" y="214"/>
                  </a:lnTo>
                  <a:lnTo>
                    <a:pt x="124" y="138"/>
                  </a:lnTo>
                  <a:lnTo>
                    <a:pt x="59" y="112"/>
                  </a:lnTo>
                  <a:lnTo>
                    <a:pt x="31" y="188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61360" y="5747040"/>
              <a:ext cx="90360" cy="119880"/>
            </a:xfrm>
            <a:custGeom>
              <a:avLst/>
              <a:gdLst/>
              <a:ahLst/>
              <a:rect l="l" t="t" r="r" b="b"/>
              <a:pathLst>
                <a:path w="168" h="216">
                  <a:moveTo>
                    <a:pt x="0" y="181"/>
                  </a:moveTo>
                  <a:lnTo>
                    <a:pt x="46" y="0"/>
                  </a:lnTo>
                  <a:lnTo>
                    <a:pt x="168" y="35"/>
                  </a:lnTo>
                  <a:lnTo>
                    <a:pt x="160" y="66"/>
                  </a:lnTo>
                  <a:lnTo>
                    <a:pt x="70" y="40"/>
                  </a:lnTo>
                  <a:lnTo>
                    <a:pt x="61" y="79"/>
                  </a:lnTo>
                  <a:lnTo>
                    <a:pt x="145" y="104"/>
                  </a:lnTo>
                  <a:lnTo>
                    <a:pt x="137" y="135"/>
                  </a:lnTo>
                  <a:lnTo>
                    <a:pt x="52" y="110"/>
                  </a:lnTo>
                  <a:lnTo>
                    <a:pt x="41" y="157"/>
                  </a:lnTo>
                  <a:lnTo>
                    <a:pt x="136" y="185"/>
                  </a:lnTo>
                  <a:lnTo>
                    <a:pt x="127" y="216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84120" y="5770800"/>
              <a:ext cx="43200" cy="108720"/>
            </a:xfrm>
            <a:custGeom>
              <a:avLst/>
              <a:gdLst/>
              <a:ahLst/>
              <a:rect l="l" t="t" r="r" b="b"/>
              <a:pathLst>
                <a:path w="81" h="196">
                  <a:moveTo>
                    <a:pt x="0" y="110"/>
                  </a:moveTo>
                  <a:lnTo>
                    <a:pt x="0" y="142"/>
                  </a:lnTo>
                  <a:lnTo>
                    <a:pt x="32" y="145"/>
                  </a:lnTo>
                  <a:lnTo>
                    <a:pt x="43" y="190"/>
                  </a:lnTo>
                  <a:lnTo>
                    <a:pt x="81" y="196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60"/>
                  </a:lnTo>
                  <a:lnTo>
                    <a:pt x="9" y="42"/>
                  </a:lnTo>
                  <a:lnTo>
                    <a:pt x="26" y="113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39480" y="5769720"/>
              <a:ext cx="50400" cy="99720"/>
            </a:xfrm>
            <a:custGeom>
              <a:avLst/>
              <a:gdLst/>
              <a:ahLst/>
              <a:rect l="l" t="t" r="r" b="b"/>
              <a:pathLst>
                <a:path w="93" h="180">
                  <a:moveTo>
                    <a:pt x="93" y="61"/>
                  </a:moveTo>
                  <a:lnTo>
                    <a:pt x="93" y="1"/>
                  </a:lnTo>
                  <a:lnTo>
                    <a:pt x="89" y="0"/>
                  </a:lnTo>
                  <a:lnTo>
                    <a:pt x="0" y="174"/>
                  </a:lnTo>
                  <a:lnTo>
                    <a:pt x="38" y="180"/>
                  </a:lnTo>
                  <a:lnTo>
                    <a:pt x="55" y="140"/>
                  </a:lnTo>
                  <a:lnTo>
                    <a:pt x="93" y="145"/>
                  </a:lnTo>
                  <a:lnTo>
                    <a:pt x="93" y="112"/>
                  </a:lnTo>
                  <a:lnTo>
                    <a:pt x="72" y="109"/>
                  </a:lnTo>
                  <a:lnTo>
                    <a:pt x="93" y="61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33800" y="5773680"/>
              <a:ext cx="69480" cy="102600"/>
            </a:xfrm>
            <a:custGeom>
              <a:avLst/>
              <a:gdLst/>
              <a:ahLst/>
              <a:rect l="l" t="t" r="r" b="b"/>
              <a:pathLst>
                <a:path w="128" h="185">
                  <a:moveTo>
                    <a:pt x="4" y="185"/>
                  </a:moveTo>
                  <a:lnTo>
                    <a:pt x="0" y="3"/>
                  </a:lnTo>
                  <a:lnTo>
                    <a:pt x="35" y="0"/>
                  </a:lnTo>
                  <a:lnTo>
                    <a:pt x="40" y="152"/>
                  </a:lnTo>
                  <a:lnTo>
                    <a:pt x="128" y="150"/>
                  </a:lnTo>
                  <a:lnTo>
                    <a:pt x="128" y="182"/>
                  </a:lnTo>
                  <a:lnTo>
                    <a:pt x="4" y="185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88160" y="5764320"/>
              <a:ext cx="73800" cy="109440"/>
            </a:xfrm>
            <a:custGeom>
              <a:avLst/>
              <a:gdLst/>
              <a:ahLst/>
              <a:rect l="l" t="t" r="r" b="b"/>
              <a:pathLst>
                <a:path w="137" h="197">
                  <a:moveTo>
                    <a:pt x="72" y="197"/>
                  </a:moveTo>
                  <a:lnTo>
                    <a:pt x="55" y="45"/>
                  </a:lnTo>
                  <a:lnTo>
                    <a:pt x="4" y="53"/>
                  </a:lnTo>
                  <a:lnTo>
                    <a:pt x="0" y="19"/>
                  </a:lnTo>
                  <a:lnTo>
                    <a:pt x="134" y="0"/>
                  </a:lnTo>
                  <a:lnTo>
                    <a:pt x="137" y="31"/>
                  </a:lnTo>
                  <a:lnTo>
                    <a:pt x="88" y="38"/>
                  </a:lnTo>
                  <a:lnTo>
                    <a:pt x="108" y="192"/>
                  </a:lnTo>
                  <a:lnTo>
                    <a:pt x="72" y="197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63040" y="5746320"/>
              <a:ext cx="94680" cy="120960"/>
            </a:xfrm>
            <a:custGeom>
              <a:avLst/>
              <a:gdLst/>
              <a:ahLst/>
              <a:rect l="l" t="t" r="r" b="b"/>
              <a:pathLst>
                <a:path w="176" h="218">
                  <a:moveTo>
                    <a:pt x="43" y="218"/>
                  </a:moveTo>
                  <a:lnTo>
                    <a:pt x="0" y="40"/>
                  </a:lnTo>
                  <a:lnTo>
                    <a:pt x="32" y="29"/>
                  </a:lnTo>
                  <a:lnTo>
                    <a:pt x="50" y="101"/>
                  </a:lnTo>
                  <a:lnTo>
                    <a:pt x="116" y="80"/>
                  </a:lnTo>
                  <a:lnTo>
                    <a:pt x="97" y="10"/>
                  </a:lnTo>
                  <a:lnTo>
                    <a:pt x="131" y="0"/>
                  </a:lnTo>
                  <a:lnTo>
                    <a:pt x="176" y="180"/>
                  </a:lnTo>
                  <a:lnTo>
                    <a:pt x="142" y="189"/>
                  </a:lnTo>
                  <a:lnTo>
                    <a:pt x="123" y="109"/>
                  </a:lnTo>
                  <a:lnTo>
                    <a:pt x="57" y="128"/>
                  </a:lnTo>
                  <a:lnTo>
                    <a:pt x="76" y="210"/>
                  </a:lnTo>
                  <a:lnTo>
                    <a:pt x="43" y="218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78960" y="5708520"/>
              <a:ext cx="86040" cy="106560"/>
            </a:xfrm>
            <a:custGeom>
              <a:avLst/>
              <a:gdLst/>
              <a:ahLst/>
              <a:rect l="l" t="t" r="r" b="b"/>
              <a:pathLst>
                <a:path w="160" h="191">
                  <a:moveTo>
                    <a:pt x="126" y="100"/>
                  </a:moveTo>
                  <a:lnTo>
                    <a:pt x="160" y="95"/>
                  </a:lnTo>
                  <a:lnTo>
                    <a:pt x="160" y="124"/>
                  </a:lnTo>
                  <a:lnTo>
                    <a:pt x="160" y="135"/>
                  </a:lnTo>
                  <a:lnTo>
                    <a:pt x="156" y="149"/>
                  </a:lnTo>
                  <a:lnTo>
                    <a:pt x="140" y="166"/>
                  </a:lnTo>
                  <a:lnTo>
                    <a:pt x="119" y="184"/>
                  </a:lnTo>
                  <a:lnTo>
                    <a:pt x="103" y="188"/>
                  </a:lnTo>
                  <a:lnTo>
                    <a:pt x="90" y="191"/>
                  </a:lnTo>
                  <a:lnTo>
                    <a:pt x="59" y="188"/>
                  </a:lnTo>
                  <a:lnTo>
                    <a:pt x="32" y="169"/>
                  </a:lnTo>
                  <a:lnTo>
                    <a:pt x="12" y="135"/>
                  </a:lnTo>
                  <a:lnTo>
                    <a:pt x="0" y="95"/>
                  </a:lnTo>
                  <a:lnTo>
                    <a:pt x="3" y="61"/>
                  </a:lnTo>
                  <a:lnTo>
                    <a:pt x="16" y="28"/>
                  </a:lnTo>
                  <a:lnTo>
                    <a:pt x="44" y="9"/>
                  </a:lnTo>
                  <a:lnTo>
                    <a:pt x="72" y="0"/>
                  </a:lnTo>
                  <a:lnTo>
                    <a:pt x="97" y="4"/>
                  </a:lnTo>
                  <a:lnTo>
                    <a:pt x="111" y="11"/>
                  </a:lnTo>
                  <a:lnTo>
                    <a:pt x="126" y="23"/>
                  </a:lnTo>
                  <a:lnTo>
                    <a:pt x="100" y="50"/>
                  </a:lnTo>
                  <a:lnTo>
                    <a:pt x="79" y="35"/>
                  </a:lnTo>
                  <a:lnTo>
                    <a:pt x="56" y="37"/>
                  </a:lnTo>
                  <a:lnTo>
                    <a:pt x="43" y="50"/>
                  </a:lnTo>
                  <a:lnTo>
                    <a:pt x="32" y="68"/>
                  </a:lnTo>
                  <a:lnTo>
                    <a:pt x="32" y="89"/>
                  </a:lnTo>
                  <a:lnTo>
                    <a:pt x="46" y="115"/>
                  </a:lnTo>
                  <a:lnTo>
                    <a:pt x="59" y="142"/>
                  </a:lnTo>
                  <a:lnTo>
                    <a:pt x="73" y="154"/>
                  </a:lnTo>
                  <a:lnTo>
                    <a:pt x="90" y="158"/>
                  </a:lnTo>
                  <a:lnTo>
                    <a:pt x="107" y="154"/>
                  </a:lnTo>
                  <a:lnTo>
                    <a:pt x="117" y="146"/>
                  </a:lnTo>
                  <a:lnTo>
                    <a:pt x="125" y="134"/>
                  </a:lnTo>
                  <a:lnTo>
                    <a:pt x="126" y="117"/>
                  </a:lnTo>
                  <a:lnTo>
                    <a:pt x="126" y="100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00640" y="5769360"/>
              <a:ext cx="3240" cy="1044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0" y="19"/>
                  </a:lnTo>
                  <a:lnTo>
                    <a:pt x="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08200" y="5684760"/>
              <a:ext cx="63720" cy="68400"/>
            </a:xfrm>
            <a:custGeom>
              <a:avLst/>
              <a:gdLst/>
              <a:ahLst/>
              <a:rect l="l" t="t" r="r" b="b"/>
              <a:pathLst>
                <a:path w="119" h="123">
                  <a:moveTo>
                    <a:pt x="0" y="85"/>
                  </a:moveTo>
                  <a:lnTo>
                    <a:pt x="0" y="123"/>
                  </a:lnTo>
                  <a:lnTo>
                    <a:pt x="54" y="85"/>
                  </a:lnTo>
                  <a:lnTo>
                    <a:pt x="87" y="113"/>
                  </a:lnTo>
                  <a:lnTo>
                    <a:pt x="119" y="88"/>
                  </a:lnTo>
                  <a:lnTo>
                    <a:pt x="0" y="0"/>
                  </a:lnTo>
                  <a:lnTo>
                    <a:pt x="0" y="45"/>
                  </a:lnTo>
                  <a:lnTo>
                    <a:pt x="28" y="64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971840" y="5670000"/>
              <a:ext cx="36720" cy="119880"/>
            </a:xfrm>
            <a:custGeom>
              <a:avLst/>
              <a:gdLst/>
              <a:ahLst/>
              <a:rect l="l" t="t" r="r" b="b"/>
              <a:pathLst>
                <a:path w="68" h="216">
                  <a:moveTo>
                    <a:pt x="68" y="71"/>
                  </a:moveTo>
                  <a:lnTo>
                    <a:pt x="68" y="26"/>
                  </a:lnTo>
                  <a:lnTo>
                    <a:pt x="32" y="0"/>
                  </a:lnTo>
                  <a:lnTo>
                    <a:pt x="0" y="20"/>
                  </a:lnTo>
                  <a:lnTo>
                    <a:pt x="40" y="216"/>
                  </a:lnTo>
                  <a:lnTo>
                    <a:pt x="68" y="198"/>
                  </a:lnTo>
                  <a:lnTo>
                    <a:pt x="68" y="182"/>
                  </a:lnTo>
                  <a:lnTo>
                    <a:pt x="62" y="151"/>
                  </a:lnTo>
                  <a:lnTo>
                    <a:pt x="68" y="147"/>
                  </a:lnTo>
                  <a:lnTo>
                    <a:pt x="68" y="110"/>
                  </a:lnTo>
                  <a:lnTo>
                    <a:pt x="53" y="119"/>
                  </a:lnTo>
                  <a:lnTo>
                    <a:pt x="37" y="46"/>
                  </a:lnTo>
                  <a:lnTo>
                    <a:pt x="68" y="71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56440" y="5603760"/>
              <a:ext cx="79200" cy="122760"/>
            </a:xfrm>
            <a:custGeom>
              <a:avLst/>
              <a:gdLst/>
              <a:ahLst/>
              <a:rect l="l" t="t" r="r" b="b"/>
              <a:pathLst>
                <a:path w="147" h="221">
                  <a:moveTo>
                    <a:pt x="0" y="106"/>
                  </a:moveTo>
                  <a:lnTo>
                    <a:pt x="0" y="184"/>
                  </a:lnTo>
                  <a:lnTo>
                    <a:pt x="28" y="221"/>
                  </a:lnTo>
                  <a:lnTo>
                    <a:pt x="54" y="198"/>
                  </a:lnTo>
                  <a:lnTo>
                    <a:pt x="7" y="135"/>
                  </a:lnTo>
                  <a:lnTo>
                    <a:pt x="13" y="131"/>
                  </a:lnTo>
                  <a:lnTo>
                    <a:pt x="30" y="121"/>
                  </a:lnTo>
                  <a:lnTo>
                    <a:pt x="43" y="120"/>
                  </a:lnTo>
                  <a:lnTo>
                    <a:pt x="72" y="128"/>
                  </a:lnTo>
                  <a:lnTo>
                    <a:pt x="117" y="140"/>
                  </a:lnTo>
                  <a:lnTo>
                    <a:pt x="147" y="113"/>
                  </a:lnTo>
                  <a:lnTo>
                    <a:pt x="109" y="102"/>
                  </a:lnTo>
                  <a:lnTo>
                    <a:pt x="78" y="90"/>
                  </a:lnTo>
                  <a:lnTo>
                    <a:pt x="54" y="90"/>
                  </a:lnTo>
                  <a:lnTo>
                    <a:pt x="65" y="74"/>
                  </a:lnTo>
                  <a:lnTo>
                    <a:pt x="68" y="55"/>
                  </a:lnTo>
                  <a:lnTo>
                    <a:pt x="66" y="37"/>
                  </a:lnTo>
                  <a:lnTo>
                    <a:pt x="56" y="21"/>
                  </a:lnTo>
                  <a:lnTo>
                    <a:pt x="49" y="11"/>
                  </a:lnTo>
                  <a:lnTo>
                    <a:pt x="34" y="4"/>
                  </a:lnTo>
                  <a:lnTo>
                    <a:pt x="19" y="0"/>
                  </a:lnTo>
                  <a:lnTo>
                    <a:pt x="7" y="4"/>
                  </a:lnTo>
                  <a:lnTo>
                    <a:pt x="0" y="11"/>
                  </a:lnTo>
                  <a:lnTo>
                    <a:pt x="0" y="46"/>
                  </a:lnTo>
                  <a:lnTo>
                    <a:pt x="4" y="42"/>
                  </a:lnTo>
                  <a:lnTo>
                    <a:pt x="19" y="41"/>
                  </a:lnTo>
                  <a:lnTo>
                    <a:pt x="32" y="48"/>
                  </a:lnTo>
                  <a:lnTo>
                    <a:pt x="35" y="60"/>
                  </a:lnTo>
                  <a:lnTo>
                    <a:pt x="32" y="75"/>
                  </a:lnTo>
                  <a:lnTo>
                    <a:pt x="12" y="97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12160" y="5609520"/>
              <a:ext cx="45000" cy="96120"/>
            </a:xfrm>
            <a:custGeom>
              <a:avLst/>
              <a:gdLst/>
              <a:ahLst/>
              <a:rect l="l" t="t" r="r" b="b"/>
              <a:pathLst>
                <a:path w="84" h="173">
                  <a:moveTo>
                    <a:pt x="84" y="35"/>
                  </a:moveTo>
                  <a:lnTo>
                    <a:pt x="84" y="0"/>
                  </a:lnTo>
                  <a:lnTo>
                    <a:pt x="56" y="18"/>
                  </a:lnTo>
                  <a:lnTo>
                    <a:pt x="0" y="67"/>
                  </a:lnTo>
                  <a:lnTo>
                    <a:pt x="84" y="173"/>
                  </a:lnTo>
                  <a:lnTo>
                    <a:pt x="84" y="95"/>
                  </a:lnTo>
                  <a:lnTo>
                    <a:pt x="75" y="104"/>
                  </a:lnTo>
                  <a:lnTo>
                    <a:pt x="46" y="71"/>
                  </a:lnTo>
                  <a:lnTo>
                    <a:pt x="69" y="49"/>
                  </a:lnTo>
                  <a:lnTo>
                    <a:pt x="84" y="35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71200" y="5533920"/>
              <a:ext cx="114480" cy="126000"/>
            </a:xfrm>
            <a:custGeom>
              <a:avLst/>
              <a:gdLst/>
              <a:ahLst/>
              <a:rect l="l" t="t" r="r" b="b"/>
              <a:pathLst>
                <a:path w="212" h="226">
                  <a:moveTo>
                    <a:pt x="131" y="226"/>
                  </a:moveTo>
                  <a:lnTo>
                    <a:pt x="0" y="105"/>
                  </a:lnTo>
                  <a:lnTo>
                    <a:pt x="81" y="0"/>
                  </a:lnTo>
                  <a:lnTo>
                    <a:pt x="103" y="20"/>
                  </a:lnTo>
                  <a:lnTo>
                    <a:pt x="43" y="97"/>
                  </a:lnTo>
                  <a:lnTo>
                    <a:pt x="72" y="123"/>
                  </a:lnTo>
                  <a:lnTo>
                    <a:pt x="128" y="51"/>
                  </a:lnTo>
                  <a:lnTo>
                    <a:pt x="150" y="72"/>
                  </a:lnTo>
                  <a:lnTo>
                    <a:pt x="94" y="145"/>
                  </a:lnTo>
                  <a:lnTo>
                    <a:pt x="128" y="177"/>
                  </a:lnTo>
                  <a:lnTo>
                    <a:pt x="190" y="97"/>
                  </a:lnTo>
                  <a:lnTo>
                    <a:pt x="212" y="117"/>
                  </a:lnTo>
                  <a:lnTo>
                    <a:pt x="131" y="226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45200" y="5071680"/>
              <a:ext cx="111600" cy="99360"/>
            </a:xfrm>
            <a:custGeom>
              <a:avLst/>
              <a:gdLst/>
              <a:ahLst/>
              <a:rect l="l" t="t" r="r" b="b"/>
              <a:pathLst>
                <a:path w="207" h="178">
                  <a:moveTo>
                    <a:pt x="174" y="178"/>
                  </a:moveTo>
                  <a:lnTo>
                    <a:pt x="0" y="135"/>
                  </a:lnTo>
                  <a:lnTo>
                    <a:pt x="32" y="0"/>
                  </a:lnTo>
                  <a:lnTo>
                    <a:pt x="63" y="8"/>
                  </a:lnTo>
                  <a:lnTo>
                    <a:pt x="38" y="106"/>
                  </a:lnTo>
                  <a:lnTo>
                    <a:pt x="78" y="114"/>
                  </a:lnTo>
                  <a:lnTo>
                    <a:pt x="100" y="23"/>
                  </a:lnTo>
                  <a:lnTo>
                    <a:pt x="129" y="31"/>
                  </a:lnTo>
                  <a:lnTo>
                    <a:pt x="107" y="124"/>
                  </a:lnTo>
                  <a:lnTo>
                    <a:pt x="154" y="136"/>
                  </a:lnTo>
                  <a:lnTo>
                    <a:pt x="179" y="34"/>
                  </a:lnTo>
                  <a:lnTo>
                    <a:pt x="207" y="42"/>
                  </a:lnTo>
                  <a:lnTo>
                    <a:pt x="174" y="178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85520" y="4966200"/>
              <a:ext cx="102960" cy="102240"/>
            </a:xfrm>
            <a:custGeom>
              <a:avLst/>
              <a:gdLst/>
              <a:ahLst/>
              <a:rect l="l" t="t" r="r" b="b"/>
              <a:pathLst>
                <a:path w="191" h="184">
                  <a:moveTo>
                    <a:pt x="115" y="101"/>
                  </a:moveTo>
                  <a:lnTo>
                    <a:pt x="87" y="87"/>
                  </a:lnTo>
                  <a:lnTo>
                    <a:pt x="121" y="15"/>
                  </a:lnTo>
                  <a:lnTo>
                    <a:pt x="188" y="50"/>
                  </a:lnTo>
                  <a:lnTo>
                    <a:pt x="191" y="67"/>
                  </a:lnTo>
                  <a:lnTo>
                    <a:pt x="191" y="87"/>
                  </a:lnTo>
                  <a:lnTo>
                    <a:pt x="177" y="131"/>
                  </a:lnTo>
                  <a:lnTo>
                    <a:pt x="163" y="156"/>
                  </a:lnTo>
                  <a:lnTo>
                    <a:pt x="147" y="172"/>
                  </a:lnTo>
                  <a:lnTo>
                    <a:pt x="125" y="181"/>
                  </a:lnTo>
                  <a:lnTo>
                    <a:pt x="103" y="184"/>
                  </a:lnTo>
                  <a:lnTo>
                    <a:pt x="79" y="181"/>
                  </a:lnTo>
                  <a:lnTo>
                    <a:pt x="56" y="172"/>
                  </a:lnTo>
                  <a:lnTo>
                    <a:pt x="32" y="159"/>
                  </a:lnTo>
                  <a:lnTo>
                    <a:pt x="16" y="143"/>
                  </a:lnTo>
                  <a:lnTo>
                    <a:pt x="4" y="116"/>
                  </a:lnTo>
                  <a:lnTo>
                    <a:pt x="0" y="91"/>
                  </a:lnTo>
                  <a:lnTo>
                    <a:pt x="3" y="72"/>
                  </a:lnTo>
                  <a:lnTo>
                    <a:pt x="10" y="50"/>
                  </a:lnTo>
                  <a:lnTo>
                    <a:pt x="28" y="22"/>
                  </a:lnTo>
                  <a:lnTo>
                    <a:pt x="46" y="7"/>
                  </a:lnTo>
                  <a:lnTo>
                    <a:pt x="67" y="0"/>
                  </a:lnTo>
                  <a:lnTo>
                    <a:pt x="91" y="0"/>
                  </a:lnTo>
                  <a:lnTo>
                    <a:pt x="81" y="37"/>
                  </a:lnTo>
                  <a:lnTo>
                    <a:pt x="70" y="37"/>
                  </a:lnTo>
                  <a:lnTo>
                    <a:pt x="57" y="40"/>
                  </a:lnTo>
                  <a:lnTo>
                    <a:pt x="38" y="61"/>
                  </a:lnTo>
                  <a:lnTo>
                    <a:pt x="32" y="84"/>
                  </a:lnTo>
                  <a:lnTo>
                    <a:pt x="35" y="103"/>
                  </a:lnTo>
                  <a:lnTo>
                    <a:pt x="49" y="121"/>
                  </a:lnTo>
                  <a:lnTo>
                    <a:pt x="70" y="135"/>
                  </a:lnTo>
                  <a:lnTo>
                    <a:pt x="97" y="147"/>
                  </a:lnTo>
                  <a:lnTo>
                    <a:pt x="118" y="147"/>
                  </a:lnTo>
                  <a:lnTo>
                    <a:pt x="134" y="134"/>
                  </a:lnTo>
                  <a:lnTo>
                    <a:pt x="150" y="117"/>
                  </a:lnTo>
                  <a:lnTo>
                    <a:pt x="156" y="97"/>
                  </a:lnTo>
                  <a:lnTo>
                    <a:pt x="156" y="72"/>
                  </a:lnTo>
                  <a:lnTo>
                    <a:pt x="132" y="61"/>
                  </a:lnTo>
                  <a:lnTo>
                    <a:pt x="115" y="101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29800" y="4860000"/>
              <a:ext cx="120600" cy="122400"/>
            </a:xfrm>
            <a:custGeom>
              <a:avLst/>
              <a:gdLst/>
              <a:ahLst/>
              <a:rect l="l" t="t" r="r" b="b"/>
              <a:pathLst>
                <a:path w="224" h="219">
                  <a:moveTo>
                    <a:pt x="143" y="219"/>
                  </a:moveTo>
                  <a:lnTo>
                    <a:pt x="0" y="109"/>
                  </a:lnTo>
                  <a:lnTo>
                    <a:pt x="81" y="0"/>
                  </a:lnTo>
                  <a:lnTo>
                    <a:pt x="103" y="18"/>
                  </a:lnTo>
                  <a:lnTo>
                    <a:pt x="44" y="97"/>
                  </a:lnTo>
                  <a:lnTo>
                    <a:pt x="78" y="122"/>
                  </a:lnTo>
                  <a:lnTo>
                    <a:pt x="131" y="47"/>
                  </a:lnTo>
                  <a:lnTo>
                    <a:pt x="156" y="67"/>
                  </a:lnTo>
                  <a:lnTo>
                    <a:pt x="101" y="140"/>
                  </a:lnTo>
                  <a:lnTo>
                    <a:pt x="140" y="172"/>
                  </a:lnTo>
                  <a:lnTo>
                    <a:pt x="202" y="90"/>
                  </a:lnTo>
                  <a:lnTo>
                    <a:pt x="224" y="107"/>
                  </a:lnTo>
                  <a:lnTo>
                    <a:pt x="143" y="219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92800" y="4776840"/>
              <a:ext cx="122400" cy="131760"/>
            </a:xfrm>
            <a:custGeom>
              <a:avLst/>
              <a:gdLst/>
              <a:ahLst/>
              <a:rect l="l" t="t" r="r" b="b"/>
              <a:pathLst>
                <a:path w="227" h="237">
                  <a:moveTo>
                    <a:pt x="125" y="237"/>
                  </a:moveTo>
                  <a:lnTo>
                    <a:pt x="0" y="103"/>
                  </a:lnTo>
                  <a:lnTo>
                    <a:pt x="26" y="79"/>
                  </a:lnTo>
                  <a:lnTo>
                    <a:pt x="162" y="115"/>
                  </a:lnTo>
                  <a:lnTo>
                    <a:pt x="79" y="26"/>
                  </a:lnTo>
                  <a:lnTo>
                    <a:pt x="103" y="0"/>
                  </a:lnTo>
                  <a:lnTo>
                    <a:pt x="227" y="132"/>
                  </a:lnTo>
                  <a:lnTo>
                    <a:pt x="202" y="161"/>
                  </a:lnTo>
                  <a:lnTo>
                    <a:pt x="71" y="125"/>
                  </a:lnTo>
                  <a:lnTo>
                    <a:pt x="149" y="212"/>
                  </a:lnTo>
                  <a:lnTo>
                    <a:pt x="125" y="237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86040" y="4724640"/>
              <a:ext cx="95400" cy="104760"/>
            </a:xfrm>
            <a:custGeom>
              <a:avLst/>
              <a:gdLst/>
              <a:ahLst/>
              <a:rect l="l" t="t" r="r" b="b"/>
              <a:pathLst>
                <a:path w="176" h="188">
                  <a:moveTo>
                    <a:pt x="41" y="163"/>
                  </a:moveTo>
                  <a:lnTo>
                    <a:pt x="69" y="139"/>
                  </a:lnTo>
                  <a:lnTo>
                    <a:pt x="93" y="155"/>
                  </a:lnTo>
                  <a:lnTo>
                    <a:pt x="108" y="154"/>
                  </a:lnTo>
                  <a:lnTo>
                    <a:pt x="121" y="147"/>
                  </a:lnTo>
                  <a:lnTo>
                    <a:pt x="133" y="136"/>
                  </a:lnTo>
                  <a:lnTo>
                    <a:pt x="139" y="124"/>
                  </a:lnTo>
                  <a:lnTo>
                    <a:pt x="141" y="116"/>
                  </a:lnTo>
                  <a:lnTo>
                    <a:pt x="139" y="106"/>
                  </a:lnTo>
                  <a:lnTo>
                    <a:pt x="127" y="99"/>
                  </a:lnTo>
                  <a:lnTo>
                    <a:pt x="112" y="102"/>
                  </a:lnTo>
                  <a:lnTo>
                    <a:pt x="84" y="109"/>
                  </a:lnTo>
                  <a:lnTo>
                    <a:pt x="59" y="117"/>
                  </a:lnTo>
                  <a:lnTo>
                    <a:pt x="41" y="118"/>
                  </a:lnTo>
                  <a:lnTo>
                    <a:pt x="22" y="110"/>
                  </a:lnTo>
                  <a:lnTo>
                    <a:pt x="9" y="97"/>
                  </a:lnTo>
                  <a:lnTo>
                    <a:pt x="0" y="72"/>
                  </a:lnTo>
                  <a:lnTo>
                    <a:pt x="7" y="44"/>
                  </a:lnTo>
                  <a:lnTo>
                    <a:pt x="32" y="17"/>
                  </a:lnTo>
                  <a:lnTo>
                    <a:pt x="59" y="3"/>
                  </a:lnTo>
                  <a:lnTo>
                    <a:pt x="84" y="0"/>
                  </a:lnTo>
                  <a:lnTo>
                    <a:pt x="106" y="8"/>
                  </a:lnTo>
                  <a:lnTo>
                    <a:pt x="123" y="26"/>
                  </a:lnTo>
                  <a:lnTo>
                    <a:pt x="93" y="45"/>
                  </a:lnTo>
                  <a:lnTo>
                    <a:pt x="75" y="34"/>
                  </a:lnTo>
                  <a:lnTo>
                    <a:pt x="63" y="36"/>
                  </a:lnTo>
                  <a:lnTo>
                    <a:pt x="50" y="44"/>
                  </a:lnTo>
                  <a:lnTo>
                    <a:pt x="32" y="64"/>
                  </a:lnTo>
                  <a:lnTo>
                    <a:pt x="35" y="76"/>
                  </a:lnTo>
                  <a:lnTo>
                    <a:pt x="47" y="82"/>
                  </a:lnTo>
                  <a:lnTo>
                    <a:pt x="81" y="74"/>
                  </a:lnTo>
                  <a:lnTo>
                    <a:pt x="118" y="61"/>
                  </a:lnTo>
                  <a:lnTo>
                    <a:pt x="145" y="65"/>
                  </a:lnTo>
                  <a:lnTo>
                    <a:pt x="158" y="74"/>
                  </a:lnTo>
                  <a:lnTo>
                    <a:pt x="170" y="86"/>
                  </a:lnTo>
                  <a:lnTo>
                    <a:pt x="175" y="99"/>
                  </a:lnTo>
                  <a:lnTo>
                    <a:pt x="176" y="116"/>
                  </a:lnTo>
                  <a:lnTo>
                    <a:pt x="175" y="131"/>
                  </a:lnTo>
                  <a:lnTo>
                    <a:pt x="170" y="146"/>
                  </a:lnTo>
                  <a:lnTo>
                    <a:pt x="139" y="173"/>
                  </a:lnTo>
                  <a:lnTo>
                    <a:pt x="112" y="185"/>
                  </a:lnTo>
                  <a:lnTo>
                    <a:pt x="86" y="188"/>
                  </a:lnTo>
                  <a:lnTo>
                    <a:pt x="65" y="181"/>
                  </a:lnTo>
                  <a:lnTo>
                    <a:pt x="41" y="163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62000" y="4667760"/>
              <a:ext cx="81720" cy="113400"/>
            </a:xfrm>
            <a:custGeom>
              <a:avLst/>
              <a:gdLst/>
              <a:ahLst/>
              <a:rect l="l" t="t" r="r" b="b"/>
              <a:pathLst>
                <a:path w="152" h="204">
                  <a:moveTo>
                    <a:pt x="120" y="204"/>
                  </a:moveTo>
                  <a:lnTo>
                    <a:pt x="59" y="64"/>
                  </a:lnTo>
                  <a:lnTo>
                    <a:pt x="13" y="86"/>
                  </a:lnTo>
                  <a:lnTo>
                    <a:pt x="0" y="57"/>
                  </a:lnTo>
                  <a:lnTo>
                    <a:pt x="132" y="0"/>
                  </a:lnTo>
                  <a:lnTo>
                    <a:pt x="143" y="28"/>
                  </a:lnTo>
                  <a:lnTo>
                    <a:pt x="94" y="50"/>
                  </a:lnTo>
                  <a:lnTo>
                    <a:pt x="152" y="191"/>
                  </a:lnTo>
                  <a:lnTo>
                    <a:pt x="120" y="204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90520" y="4645440"/>
              <a:ext cx="71280" cy="93240"/>
            </a:xfrm>
            <a:custGeom>
              <a:avLst/>
              <a:gdLst/>
              <a:ahLst/>
              <a:rect l="l" t="t" r="r" b="b"/>
              <a:pathLst>
                <a:path w="133" h="168">
                  <a:moveTo>
                    <a:pt x="0" y="81"/>
                  </a:moveTo>
                  <a:lnTo>
                    <a:pt x="0" y="112"/>
                  </a:lnTo>
                  <a:lnTo>
                    <a:pt x="6" y="112"/>
                  </a:lnTo>
                  <a:lnTo>
                    <a:pt x="19" y="117"/>
                  </a:lnTo>
                  <a:lnTo>
                    <a:pt x="49" y="136"/>
                  </a:lnTo>
                  <a:lnTo>
                    <a:pt x="87" y="168"/>
                  </a:lnTo>
                  <a:lnTo>
                    <a:pt x="133" y="157"/>
                  </a:lnTo>
                  <a:lnTo>
                    <a:pt x="98" y="129"/>
                  </a:lnTo>
                  <a:lnTo>
                    <a:pt x="69" y="106"/>
                  </a:lnTo>
                  <a:lnTo>
                    <a:pt x="46" y="96"/>
                  </a:lnTo>
                  <a:lnTo>
                    <a:pt x="66" y="85"/>
                  </a:lnTo>
                  <a:lnTo>
                    <a:pt x="80" y="72"/>
                  </a:lnTo>
                  <a:lnTo>
                    <a:pt x="84" y="56"/>
                  </a:lnTo>
                  <a:lnTo>
                    <a:pt x="81" y="38"/>
                  </a:lnTo>
                  <a:lnTo>
                    <a:pt x="75" y="23"/>
                  </a:lnTo>
                  <a:lnTo>
                    <a:pt x="65" y="13"/>
                  </a:lnTo>
                  <a:lnTo>
                    <a:pt x="50" y="4"/>
                  </a:lnTo>
                  <a:lnTo>
                    <a:pt x="37" y="0"/>
                  </a:lnTo>
                  <a:lnTo>
                    <a:pt x="0" y="6"/>
                  </a:lnTo>
                  <a:lnTo>
                    <a:pt x="0" y="37"/>
                  </a:lnTo>
                  <a:lnTo>
                    <a:pt x="16" y="34"/>
                  </a:lnTo>
                  <a:lnTo>
                    <a:pt x="26" y="34"/>
                  </a:lnTo>
                  <a:lnTo>
                    <a:pt x="34" y="37"/>
                  </a:lnTo>
                  <a:lnTo>
                    <a:pt x="40" y="50"/>
                  </a:lnTo>
                  <a:lnTo>
                    <a:pt x="40" y="65"/>
                  </a:lnTo>
                  <a:lnTo>
                    <a:pt x="32" y="72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53800" y="4646520"/>
              <a:ext cx="45000" cy="109800"/>
            </a:xfrm>
            <a:custGeom>
              <a:avLst/>
              <a:gdLst/>
              <a:ahLst/>
              <a:rect l="l" t="t" r="r" b="b"/>
              <a:pathLst>
                <a:path w="84" h="198">
                  <a:moveTo>
                    <a:pt x="84" y="31"/>
                  </a:moveTo>
                  <a:lnTo>
                    <a:pt x="84" y="0"/>
                  </a:lnTo>
                  <a:lnTo>
                    <a:pt x="77" y="1"/>
                  </a:lnTo>
                  <a:lnTo>
                    <a:pt x="0" y="20"/>
                  </a:lnTo>
                  <a:lnTo>
                    <a:pt x="47" y="198"/>
                  </a:lnTo>
                  <a:lnTo>
                    <a:pt x="84" y="187"/>
                  </a:lnTo>
                  <a:lnTo>
                    <a:pt x="65" y="113"/>
                  </a:lnTo>
                  <a:lnTo>
                    <a:pt x="72" y="111"/>
                  </a:lnTo>
                  <a:lnTo>
                    <a:pt x="84" y="110"/>
                  </a:lnTo>
                  <a:lnTo>
                    <a:pt x="84" y="77"/>
                  </a:lnTo>
                  <a:lnTo>
                    <a:pt x="81" y="77"/>
                  </a:lnTo>
                  <a:lnTo>
                    <a:pt x="57" y="85"/>
                  </a:lnTo>
                  <a:lnTo>
                    <a:pt x="44" y="39"/>
                  </a:lnTo>
                  <a:lnTo>
                    <a:pt x="74" y="34"/>
                  </a:lnTo>
                  <a:lnTo>
                    <a:pt x="84" y="31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60000" y="4629600"/>
              <a:ext cx="32040" cy="102600"/>
            </a:xfrm>
            <a:custGeom>
              <a:avLst/>
              <a:gdLst/>
              <a:ahLst/>
              <a:rect l="l" t="t" r="r" b="b"/>
              <a:pathLst>
                <a:path w="59" h="185">
                  <a:moveTo>
                    <a:pt x="23" y="185"/>
                  </a:moveTo>
                  <a:lnTo>
                    <a:pt x="0" y="3"/>
                  </a:lnTo>
                  <a:lnTo>
                    <a:pt x="37" y="0"/>
                  </a:lnTo>
                  <a:lnTo>
                    <a:pt x="59" y="181"/>
                  </a:lnTo>
                  <a:lnTo>
                    <a:pt x="23" y="185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07160" y="4623480"/>
              <a:ext cx="75240" cy="102960"/>
            </a:xfrm>
            <a:custGeom>
              <a:avLst/>
              <a:gdLst/>
              <a:ahLst/>
              <a:rect l="l" t="t" r="r" b="b"/>
              <a:pathLst>
                <a:path w="140" h="186">
                  <a:moveTo>
                    <a:pt x="3" y="186"/>
                  </a:moveTo>
                  <a:lnTo>
                    <a:pt x="0" y="3"/>
                  </a:lnTo>
                  <a:lnTo>
                    <a:pt x="134" y="0"/>
                  </a:lnTo>
                  <a:lnTo>
                    <a:pt x="137" y="30"/>
                  </a:lnTo>
                  <a:lnTo>
                    <a:pt x="37" y="32"/>
                  </a:lnTo>
                  <a:lnTo>
                    <a:pt x="38" y="73"/>
                  </a:lnTo>
                  <a:lnTo>
                    <a:pt x="130" y="72"/>
                  </a:lnTo>
                  <a:lnTo>
                    <a:pt x="130" y="102"/>
                  </a:lnTo>
                  <a:lnTo>
                    <a:pt x="38" y="103"/>
                  </a:lnTo>
                  <a:lnTo>
                    <a:pt x="38" y="154"/>
                  </a:lnTo>
                  <a:lnTo>
                    <a:pt x="140" y="152"/>
                  </a:lnTo>
                  <a:lnTo>
                    <a:pt x="140" y="183"/>
                  </a:lnTo>
                  <a:lnTo>
                    <a:pt x="3" y="186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96800" y="4625280"/>
              <a:ext cx="76680" cy="10440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0" y="182"/>
                  </a:moveTo>
                  <a:lnTo>
                    <a:pt x="22" y="0"/>
                  </a:lnTo>
                  <a:lnTo>
                    <a:pt x="143" y="15"/>
                  </a:lnTo>
                  <a:lnTo>
                    <a:pt x="142" y="46"/>
                  </a:lnTo>
                  <a:lnTo>
                    <a:pt x="55" y="35"/>
                  </a:lnTo>
                  <a:lnTo>
                    <a:pt x="49" y="78"/>
                  </a:lnTo>
                  <a:lnTo>
                    <a:pt x="125" y="90"/>
                  </a:lnTo>
                  <a:lnTo>
                    <a:pt x="122" y="119"/>
                  </a:lnTo>
                  <a:lnTo>
                    <a:pt x="46" y="109"/>
                  </a:lnTo>
                  <a:lnTo>
                    <a:pt x="35" y="188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12360" y="4653000"/>
              <a:ext cx="47880" cy="103320"/>
            </a:xfrm>
            <a:custGeom>
              <a:avLst/>
              <a:gdLst/>
              <a:ahLst/>
              <a:rect l="l" t="t" r="r" b="b"/>
              <a:pathLst>
                <a:path w="90" h="186">
                  <a:moveTo>
                    <a:pt x="0" y="174"/>
                  </a:moveTo>
                  <a:lnTo>
                    <a:pt x="55" y="0"/>
                  </a:lnTo>
                  <a:lnTo>
                    <a:pt x="90" y="10"/>
                  </a:lnTo>
                  <a:lnTo>
                    <a:pt x="35" y="186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47640" y="4667400"/>
              <a:ext cx="107280" cy="125640"/>
            </a:xfrm>
            <a:custGeom>
              <a:avLst/>
              <a:gdLst/>
              <a:ahLst/>
              <a:rect l="l" t="t" r="r" b="b"/>
              <a:pathLst>
                <a:path w="199" h="226">
                  <a:moveTo>
                    <a:pt x="0" y="170"/>
                  </a:moveTo>
                  <a:lnTo>
                    <a:pt x="68" y="0"/>
                  </a:lnTo>
                  <a:lnTo>
                    <a:pt x="100" y="15"/>
                  </a:lnTo>
                  <a:lnTo>
                    <a:pt x="122" y="155"/>
                  </a:lnTo>
                  <a:lnTo>
                    <a:pt x="169" y="44"/>
                  </a:lnTo>
                  <a:lnTo>
                    <a:pt x="199" y="59"/>
                  </a:lnTo>
                  <a:lnTo>
                    <a:pt x="130" y="226"/>
                  </a:lnTo>
                  <a:lnTo>
                    <a:pt x="96" y="211"/>
                  </a:lnTo>
                  <a:lnTo>
                    <a:pt x="74" y="73"/>
                  </a:lnTo>
                  <a:lnTo>
                    <a:pt x="30" y="184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43760" y="4729680"/>
              <a:ext cx="92160" cy="105480"/>
            </a:xfrm>
            <a:custGeom>
              <a:avLst/>
              <a:gdLst/>
              <a:ahLst/>
              <a:rect l="l" t="t" r="r" b="b"/>
              <a:pathLst>
                <a:path w="171" h="189">
                  <a:moveTo>
                    <a:pt x="7" y="78"/>
                  </a:moveTo>
                  <a:lnTo>
                    <a:pt x="37" y="94"/>
                  </a:lnTo>
                  <a:lnTo>
                    <a:pt x="34" y="110"/>
                  </a:lnTo>
                  <a:lnTo>
                    <a:pt x="34" y="124"/>
                  </a:lnTo>
                  <a:lnTo>
                    <a:pt x="52" y="145"/>
                  </a:lnTo>
                  <a:lnTo>
                    <a:pt x="65" y="154"/>
                  </a:lnTo>
                  <a:lnTo>
                    <a:pt x="80" y="155"/>
                  </a:lnTo>
                  <a:lnTo>
                    <a:pt x="87" y="154"/>
                  </a:lnTo>
                  <a:lnTo>
                    <a:pt x="94" y="147"/>
                  </a:lnTo>
                  <a:lnTo>
                    <a:pt x="97" y="133"/>
                  </a:lnTo>
                  <a:lnTo>
                    <a:pt x="88" y="118"/>
                  </a:lnTo>
                  <a:lnTo>
                    <a:pt x="70" y="97"/>
                  </a:lnTo>
                  <a:lnTo>
                    <a:pt x="49" y="61"/>
                  </a:lnTo>
                  <a:lnTo>
                    <a:pt x="47" y="38"/>
                  </a:lnTo>
                  <a:lnTo>
                    <a:pt x="53" y="19"/>
                  </a:lnTo>
                  <a:lnTo>
                    <a:pt x="74" y="3"/>
                  </a:lnTo>
                  <a:lnTo>
                    <a:pt x="102" y="0"/>
                  </a:lnTo>
                  <a:lnTo>
                    <a:pt x="118" y="4"/>
                  </a:lnTo>
                  <a:lnTo>
                    <a:pt x="137" y="15"/>
                  </a:lnTo>
                  <a:lnTo>
                    <a:pt x="161" y="34"/>
                  </a:lnTo>
                  <a:lnTo>
                    <a:pt x="171" y="57"/>
                  </a:lnTo>
                  <a:lnTo>
                    <a:pt x="171" y="79"/>
                  </a:lnTo>
                  <a:lnTo>
                    <a:pt x="164" y="99"/>
                  </a:lnTo>
                  <a:lnTo>
                    <a:pt x="133" y="82"/>
                  </a:lnTo>
                  <a:lnTo>
                    <a:pt x="134" y="61"/>
                  </a:lnTo>
                  <a:lnTo>
                    <a:pt x="130" y="50"/>
                  </a:lnTo>
                  <a:lnTo>
                    <a:pt x="118" y="39"/>
                  </a:lnTo>
                  <a:lnTo>
                    <a:pt x="105" y="34"/>
                  </a:lnTo>
                  <a:lnTo>
                    <a:pt x="94" y="33"/>
                  </a:lnTo>
                  <a:lnTo>
                    <a:pt x="84" y="38"/>
                  </a:lnTo>
                  <a:lnTo>
                    <a:pt x="81" y="52"/>
                  </a:lnTo>
                  <a:lnTo>
                    <a:pt x="102" y="80"/>
                  </a:lnTo>
                  <a:lnTo>
                    <a:pt x="130" y="111"/>
                  </a:lnTo>
                  <a:lnTo>
                    <a:pt x="134" y="137"/>
                  </a:lnTo>
                  <a:lnTo>
                    <a:pt x="122" y="169"/>
                  </a:lnTo>
                  <a:lnTo>
                    <a:pt x="115" y="178"/>
                  </a:lnTo>
                  <a:lnTo>
                    <a:pt x="100" y="186"/>
                  </a:lnTo>
                  <a:lnTo>
                    <a:pt x="87" y="189"/>
                  </a:lnTo>
                  <a:lnTo>
                    <a:pt x="70" y="189"/>
                  </a:lnTo>
                  <a:lnTo>
                    <a:pt x="34" y="173"/>
                  </a:lnTo>
                  <a:lnTo>
                    <a:pt x="10" y="154"/>
                  </a:lnTo>
                  <a:lnTo>
                    <a:pt x="0" y="129"/>
                  </a:lnTo>
                  <a:lnTo>
                    <a:pt x="0" y="105"/>
                  </a:lnTo>
                  <a:lnTo>
                    <a:pt x="7" y="78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22960" y="4779000"/>
              <a:ext cx="102240" cy="108360"/>
            </a:xfrm>
            <a:custGeom>
              <a:avLst/>
              <a:gdLst/>
              <a:ahLst/>
              <a:rect l="l" t="t" r="r" b="b"/>
              <a:pathLst>
                <a:path w="190" h="195">
                  <a:moveTo>
                    <a:pt x="0" y="168"/>
                  </a:moveTo>
                  <a:lnTo>
                    <a:pt x="103" y="60"/>
                  </a:lnTo>
                  <a:lnTo>
                    <a:pt x="66" y="22"/>
                  </a:lnTo>
                  <a:lnTo>
                    <a:pt x="87" y="0"/>
                  </a:lnTo>
                  <a:lnTo>
                    <a:pt x="190" y="100"/>
                  </a:lnTo>
                  <a:lnTo>
                    <a:pt x="168" y="121"/>
                  </a:lnTo>
                  <a:lnTo>
                    <a:pt x="128" y="85"/>
                  </a:lnTo>
                  <a:lnTo>
                    <a:pt x="26" y="195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64000" y="4851000"/>
              <a:ext cx="87840" cy="82440"/>
            </a:xfrm>
            <a:custGeom>
              <a:avLst/>
              <a:gdLst/>
              <a:ahLst/>
              <a:rect l="l" t="t" r="r" b="b"/>
              <a:pathLst>
                <a:path w="162" h="148">
                  <a:moveTo>
                    <a:pt x="0" y="121"/>
                  </a:moveTo>
                  <a:lnTo>
                    <a:pt x="137" y="0"/>
                  </a:lnTo>
                  <a:lnTo>
                    <a:pt x="162" y="28"/>
                  </a:lnTo>
                  <a:lnTo>
                    <a:pt x="23" y="148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01080" y="4884120"/>
              <a:ext cx="106920" cy="9864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147"/>
                  </a:moveTo>
                  <a:lnTo>
                    <a:pt x="124" y="63"/>
                  </a:lnTo>
                  <a:lnTo>
                    <a:pt x="95" y="17"/>
                  </a:lnTo>
                  <a:lnTo>
                    <a:pt x="117" y="0"/>
                  </a:lnTo>
                  <a:lnTo>
                    <a:pt x="198" y="121"/>
                  </a:lnTo>
                  <a:lnTo>
                    <a:pt x="174" y="138"/>
                  </a:lnTo>
                  <a:lnTo>
                    <a:pt x="143" y="91"/>
                  </a:lnTo>
                  <a:lnTo>
                    <a:pt x="19" y="177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41040" y="4981320"/>
              <a:ext cx="111600" cy="103320"/>
            </a:xfrm>
            <a:custGeom>
              <a:avLst/>
              <a:gdLst/>
              <a:ahLst/>
              <a:rect l="l" t="t" r="r" b="b"/>
              <a:pathLst>
                <a:path w="207" h="186">
                  <a:moveTo>
                    <a:pt x="152" y="0"/>
                  </a:moveTo>
                  <a:lnTo>
                    <a:pt x="167" y="32"/>
                  </a:lnTo>
                  <a:lnTo>
                    <a:pt x="75" y="74"/>
                  </a:lnTo>
                  <a:lnTo>
                    <a:pt x="46" y="85"/>
                  </a:lnTo>
                  <a:lnTo>
                    <a:pt x="37" y="103"/>
                  </a:lnTo>
                  <a:lnTo>
                    <a:pt x="38" y="126"/>
                  </a:lnTo>
                  <a:lnTo>
                    <a:pt x="54" y="146"/>
                  </a:lnTo>
                  <a:lnTo>
                    <a:pt x="72" y="152"/>
                  </a:lnTo>
                  <a:lnTo>
                    <a:pt x="102" y="141"/>
                  </a:lnTo>
                  <a:lnTo>
                    <a:pt x="194" y="103"/>
                  </a:lnTo>
                  <a:lnTo>
                    <a:pt x="207" y="135"/>
                  </a:lnTo>
                  <a:lnTo>
                    <a:pt x="118" y="172"/>
                  </a:lnTo>
                  <a:lnTo>
                    <a:pt x="77" y="186"/>
                  </a:lnTo>
                  <a:lnTo>
                    <a:pt x="50" y="185"/>
                  </a:lnTo>
                  <a:lnTo>
                    <a:pt x="28" y="171"/>
                  </a:lnTo>
                  <a:lnTo>
                    <a:pt x="11" y="141"/>
                  </a:lnTo>
                  <a:lnTo>
                    <a:pt x="0" y="101"/>
                  </a:lnTo>
                  <a:lnTo>
                    <a:pt x="8" y="76"/>
                  </a:lnTo>
                  <a:lnTo>
                    <a:pt x="23" y="57"/>
                  </a:lnTo>
                  <a:lnTo>
                    <a:pt x="63" y="38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72720" y="5087520"/>
              <a:ext cx="104400" cy="82080"/>
            </a:xfrm>
            <a:custGeom>
              <a:avLst/>
              <a:gdLst/>
              <a:ahLst/>
              <a:rect l="l" t="t" r="r" b="b"/>
              <a:pathLst>
                <a:path w="193" h="147">
                  <a:moveTo>
                    <a:pt x="0" y="86"/>
                  </a:moveTo>
                  <a:lnTo>
                    <a:pt x="146" y="57"/>
                  </a:lnTo>
                  <a:lnTo>
                    <a:pt x="134" y="6"/>
                  </a:lnTo>
                  <a:lnTo>
                    <a:pt x="166" y="0"/>
                  </a:lnTo>
                  <a:lnTo>
                    <a:pt x="193" y="141"/>
                  </a:lnTo>
                  <a:lnTo>
                    <a:pt x="163" y="147"/>
                  </a:lnTo>
                  <a:lnTo>
                    <a:pt x="153" y="94"/>
                  </a:lnTo>
                  <a:lnTo>
                    <a:pt x="6" y="124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83160" y="5193720"/>
              <a:ext cx="100800" cy="82080"/>
            </a:xfrm>
            <a:custGeom>
              <a:avLst/>
              <a:gdLst/>
              <a:ahLst/>
              <a:rect l="l" t="t" r="r" b="b"/>
              <a:pathLst>
                <a:path w="186" h="147">
                  <a:moveTo>
                    <a:pt x="0" y="7"/>
                  </a:moveTo>
                  <a:lnTo>
                    <a:pt x="179" y="0"/>
                  </a:lnTo>
                  <a:lnTo>
                    <a:pt x="186" y="139"/>
                  </a:lnTo>
                  <a:lnTo>
                    <a:pt x="155" y="139"/>
                  </a:lnTo>
                  <a:lnTo>
                    <a:pt x="154" y="39"/>
                  </a:lnTo>
                  <a:lnTo>
                    <a:pt x="111" y="41"/>
                  </a:lnTo>
                  <a:lnTo>
                    <a:pt x="114" y="135"/>
                  </a:lnTo>
                  <a:lnTo>
                    <a:pt x="84" y="135"/>
                  </a:lnTo>
                  <a:lnTo>
                    <a:pt x="81" y="42"/>
                  </a:lnTo>
                  <a:lnTo>
                    <a:pt x="31" y="42"/>
                  </a:lnTo>
                  <a:lnTo>
                    <a:pt x="34" y="146"/>
                  </a:lnTo>
                  <a:lnTo>
                    <a:pt x="6" y="14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7261200" y="5654880"/>
              <a:ext cx="120240" cy="129600"/>
              <a:chOff x="7261200" y="5654880"/>
              <a:chExt cx="120240" cy="129600"/>
            </a:xfrm>
          </p:grpSpPr>
          <p:sp>
            <p:nvSpPr>
              <p:cNvPr id="164" name=""/>
              <p:cNvSpPr/>
              <p:nvPr/>
            </p:nvSpPr>
            <p:spPr>
              <a:xfrm rot="7407000">
                <a:off x="7279560" y="5688000"/>
                <a:ext cx="74160" cy="84240"/>
              </a:xfrm>
              <a:custGeom>
                <a:avLst/>
                <a:gdLst/>
                <a:ahLst/>
                <a:rect l="l" t="t" r="r" b="b"/>
                <a:pathLst>
                  <a:path w="133" h="167">
                    <a:moveTo>
                      <a:pt x="0" y="128"/>
                    </a:moveTo>
                    <a:lnTo>
                      <a:pt x="0" y="163"/>
                    </a:lnTo>
                    <a:lnTo>
                      <a:pt x="127" y="167"/>
                    </a:lnTo>
                    <a:lnTo>
                      <a:pt x="129" y="130"/>
                    </a:lnTo>
                    <a:lnTo>
                      <a:pt x="52" y="128"/>
                    </a:lnTo>
                    <a:lnTo>
                      <a:pt x="52" y="119"/>
                    </a:lnTo>
                    <a:lnTo>
                      <a:pt x="56" y="100"/>
                    </a:lnTo>
                    <a:lnTo>
                      <a:pt x="65" y="90"/>
                    </a:lnTo>
                    <a:lnTo>
                      <a:pt x="90" y="71"/>
                    </a:lnTo>
                    <a:lnTo>
                      <a:pt x="130" y="46"/>
                    </a:lnTo>
                    <a:lnTo>
                      <a:pt x="133" y="0"/>
                    </a:lnTo>
                    <a:lnTo>
                      <a:pt x="95" y="24"/>
                    </a:lnTo>
                    <a:lnTo>
                      <a:pt x="66" y="41"/>
                    </a:lnTo>
                    <a:lnTo>
                      <a:pt x="50" y="64"/>
                    </a:lnTo>
                    <a:lnTo>
                      <a:pt x="46" y="39"/>
                    </a:lnTo>
                    <a:lnTo>
                      <a:pt x="37" y="26"/>
                    </a:lnTo>
                    <a:lnTo>
                      <a:pt x="22" y="15"/>
                    </a:lnTo>
                    <a:lnTo>
                      <a:pt x="3" y="11"/>
                    </a:lnTo>
                    <a:lnTo>
                      <a:pt x="0" y="12"/>
                    </a:lnTo>
                    <a:lnTo>
                      <a:pt x="0" y="52"/>
                    </a:lnTo>
                    <a:lnTo>
                      <a:pt x="3" y="52"/>
                    </a:lnTo>
                    <a:lnTo>
                      <a:pt x="16" y="54"/>
                    </a:lnTo>
                    <a:lnTo>
                      <a:pt x="22" y="66"/>
                    </a:lnTo>
                    <a:lnTo>
                      <a:pt x="25" y="98"/>
                    </a:lnTo>
                    <a:lnTo>
                      <a:pt x="22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a27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7407000">
                <a:off x="7325280" y="5650560"/>
                <a:ext cx="31320" cy="76320"/>
              </a:xfrm>
              <a:custGeom>
                <a:avLst/>
                <a:gdLst/>
                <a:ahLst/>
                <a:rect l="l" t="t" r="r" b="b"/>
                <a:pathLst>
                  <a:path w="57" h="151">
                    <a:moveTo>
                      <a:pt x="57" y="39"/>
                    </a:moveTo>
                    <a:lnTo>
                      <a:pt x="57" y="0"/>
                    </a:lnTo>
                    <a:lnTo>
                      <a:pt x="30" y="7"/>
                    </a:lnTo>
                    <a:lnTo>
                      <a:pt x="19" y="15"/>
                    </a:lnTo>
                    <a:lnTo>
                      <a:pt x="11" y="27"/>
                    </a:lnTo>
                    <a:lnTo>
                      <a:pt x="6" y="45"/>
                    </a:lnTo>
                    <a:lnTo>
                      <a:pt x="3" y="72"/>
                    </a:lnTo>
                    <a:lnTo>
                      <a:pt x="0" y="148"/>
                    </a:lnTo>
                    <a:lnTo>
                      <a:pt x="57" y="151"/>
                    </a:lnTo>
                    <a:lnTo>
                      <a:pt x="57" y="116"/>
                    </a:lnTo>
                    <a:lnTo>
                      <a:pt x="33" y="113"/>
                    </a:lnTo>
                    <a:lnTo>
                      <a:pt x="36" y="83"/>
                    </a:lnTo>
                    <a:lnTo>
                      <a:pt x="37" y="57"/>
                    </a:lnTo>
                    <a:lnTo>
                      <a:pt x="46" y="42"/>
                    </a:lnTo>
                    <a:lnTo>
                      <a:pt x="57" y="39"/>
                    </a:lnTo>
                    <a:close/>
                  </a:path>
                </a:pathLst>
              </a:custGeom>
              <a:solidFill>
                <a:srgbClr val="0a27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7242840" y="5607360"/>
              <a:ext cx="47520" cy="104400"/>
            </a:xfrm>
            <a:custGeom>
              <a:avLst/>
              <a:gdLst/>
              <a:ahLst/>
              <a:rect l="l" t="t" r="r" b="b"/>
              <a:pathLst>
                <a:path w="89" h="188">
                  <a:moveTo>
                    <a:pt x="0" y="154"/>
                  </a:moveTo>
                  <a:lnTo>
                    <a:pt x="0" y="188"/>
                  </a:lnTo>
                  <a:lnTo>
                    <a:pt x="3" y="188"/>
                  </a:lnTo>
                  <a:lnTo>
                    <a:pt x="19" y="185"/>
                  </a:lnTo>
                  <a:lnTo>
                    <a:pt x="37" y="177"/>
                  </a:lnTo>
                  <a:lnTo>
                    <a:pt x="65" y="154"/>
                  </a:lnTo>
                  <a:lnTo>
                    <a:pt x="84" y="116"/>
                  </a:lnTo>
                  <a:lnTo>
                    <a:pt x="89" y="99"/>
                  </a:lnTo>
                  <a:lnTo>
                    <a:pt x="89" y="82"/>
                  </a:lnTo>
                  <a:lnTo>
                    <a:pt x="80" y="48"/>
                  </a:lnTo>
                  <a:lnTo>
                    <a:pt x="71" y="32"/>
                  </a:lnTo>
                  <a:lnTo>
                    <a:pt x="59" y="19"/>
                  </a:lnTo>
                  <a:lnTo>
                    <a:pt x="26" y="1"/>
                  </a:lnTo>
                  <a:lnTo>
                    <a:pt x="0" y="0"/>
                  </a:lnTo>
                  <a:lnTo>
                    <a:pt x="0" y="34"/>
                  </a:lnTo>
                  <a:lnTo>
                    <a:pt x="1" y="33"/>
                  </a:lnTo>
                  <a:lnTo>
                    <a:pt x="25" y="33"/>
                  </a:lnTo>
                  <a:lnTo>
                    <a:pt x="38" y="45"/>
                  </a:lnTo>
                  <a:lnTo>
                    <a:pt x="50" y="63"/>
                  </a:lnTo>
                  <a:lnTo>
                    <a:pt x="56" y="82"/>
                  </a:lnTo>
                  <a:lnTo>
                    <a:pt x="50" y="101"/>
                  </a:lnTo>
                  <a:lnTo>
                    <a:pt x="37" y="125"/>
                  </a:lnTo>
                  <a:lnTo>
                    <a:pt x="15" y="146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99640" y="5604840"/>
              <a:ext cx="48600" cy="106560"/>
            </a:xfrm>
            <a:custGeom>
              <a:avLst/>
              <a:gdLst/>
              <a:ahLst/>
              <a:rect l="l" t="t" r="r" b="b"/>
              <a:pathLst>
                <a:path w="90" h="192">
                  <a:moveTo>
                    <a:pt x="90" y="38"/>
                  </a:moveTo>
                  <a:lnTo>
                    <a:pt x="90" y="4"/>
                  </a:lnTo>
                  <a:lnTo>
                    <a:pt x="86" y="0"/>
                  </a:lnTo>
                  <a:lnTo>
                    <a:pt x="59" y="11"/>
                  </a:lnTo>
                  <a:lnTo>
                    <a:pt x="26" y="40"/>
                  </a:lnTo>
                  <a:lnTo>
                    <a:pt x="4" y="75"/>
                  </a:lnTo>
                  <a:lnTo>
                    <a:pt x="0" y="110"/>
                  </a:lnTo>
                  <a:lnTo>
                    <a:pt x="9" y="143"/>
                  </a:lnTo>
                  <a:lnTo>
                    <a:pt x="32" y="169"/>
                  </a:lnTo>
                  <a:lnTo>
                    <a:pt x="62" y="189"/>
                  </a:lnTo>
                  <a:lnTo>
                    <a:pt x="90" y="192"/>
                  </a:lnTo>
                  <a:lnTo>
                    <a:pt x="90" y="158"/>
                  </a:lnTo>
                  <a:lnTo>
                    <a:pt x="86" y="159"/>
                  </a:lnTo>
                  <a:lnTo>
                    <a:pt x="66" y="158"/>
                  </a:lnTo>
                  <a:lnTo>
                    <a:pt x="50" y="147"/>
                  </a:lnTo>
                  <a:lnTo>
                    <a:pt x="40" y="129"/>
                  </a:lnTo>
                  <a:lnTo>
                    <a:pt x="34" y="110"/>
                  </a:lnTo>
                  <a:lnTo>
                    <a:pt x="41" y="88"/>
                  </a:lnTo>
                  <a:lnTo>
                    <a:pt x="54" y="67"/>
                  </a:lnTo>
                  <a:lnTo>
                    <a:pt x="75" y="45"/>
                  </a:lnTo>
                  <a:lnTo>
                    <a:pt x="90" y="38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59960" y="5181120"/>
              <a:ext cx="72000" cy="93240"/>
            </a:xfrm>
            <a:custGeom>
              <a:avLst/>
              <a:gdLst/>
              <a:ahLst/>
              <a:rect l="l" t="t" r="r" b="b"/>
              <a:pathLst>
                <a:path w="133" h="167">
                  <a:moveTo>
                    <a:pt x="0" y="128"/>
                  </a:moveTo>
                  <a:lnTo>
                    <a:pt x="0" y="163"/>
                  </a:lnTo>
                  <a:lnTo>
                    <a:pt x="127" y="167"/>
                  </a:lnTo>
                  <a:lnTo>
                    <a:pt x="129" y="130"/>
                  </a:lnTo>
                  <a:lnTo>
                    <a:pt x="52" y="128"/>
                  </a:lnTo>
                  <a:lnTo>
                    <a:pt x="52" y="119"/>
                  </a:lnTo>
                  <a:lnTo>
                    <a:pt x="56" y="100"/>
                  </a:lnTo>
                  <a:lnTo>
                    <a:pt x="65" y="90"/>
                  </a:lnTo>
                  <a:lnTo>
                    <a:pt x="90" y="71"/>
                  </a:lnTo>
                  <a:lnTo>
                    <a:pt x="130" y="46"/>
                  </a:lnTo>
                  <a:lnTo>
                    <a:pt x="133" y="0"/>
                  </a:lnTo>
                  <a:lnTo>
                    <a:pt x="95" y="24"/>
                  </a:lnTo>
                  <a:lnTo>
                    <a:pt x="66" y="41"/>
                  </a:lnTo>
                  <a:lnTo>
                    <a:pt x="50" y="64"/>
                  </a:lnTo>
                  <a:lnTo>
                    <a:pt x="46" y="39"/>
                  </a:lnTo>
                  <a:lnTo>
                    <a:pt x="37" y="26"/>
                  </a:lnTo>
                  <a:lnTo>
                    <a:pt x="22" y="15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52"/>
                  </a:lnTo>
                  <a:lnTo>
                    <a:pt x="3" y="52"/>
                  </a:lnTo>
                  <a:lnTo>
                    <a:pt x="16" y="54"/>
                  </a:lnTo>
                  <a:lnTo>
                    <a:pt x="22" y="66"/>
                  </a:lnTo>
                  <a:lnTo>
                    <a:pt x="25" y="98"/>
                  </a:lnTo>
                  <a:lnTo>
                    <a:pt x="22" y="128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32240" y="5187600"/>
              <a:ext cx="30240" cy="84240"/>
            </a:xfrm>
            <a:custGeom>
              <a:avLst/>
              <a:gdLst/>
              <a:ahLst/>
              <a:rect l="l" t="t" r="r" b="b"/>
              <a:pathLst>
                <a:path w="57" h="151">
                  <a:moveTo>
                    <a:pt x="57" y="39"/>
                  </a:moveTo>
                  <a:lnTo>
                    <a:pt x="57" y="0"/>
                  </a:lnTo>
                  <a:lnTo>
                    <a:pt x="30" y="7"/>
                  </a:lnTo>
                  <a:lnTo>
                    <a:pt x="19" y="15"/>
                  </a:lnTo>
                  <a:lnTo>
                    <a:pt x="11" y="27"/>
                  </a:lnTo>
                  <a:lnTo>
                    <a:pt x="6" y="45"/>
                  </a:lnTo>
                  <a:lnTo>
                    <a:pt x="3" y="72"/>
                  </a:lnTo>
                  <a:lnTo>
                    <a:pt x="0" y="148"/>
                  </a:lnTo>
                  <a:lnTo>
                    <a:pt x="57" y="151"/>
                  </a:lnTo>
                  <a:lnTo>
                    <a:pt x="57" y="116"/>
                  </a:lnTo>
                  <a:lnTo>
                    <a:pt x="33" y="113"/>
                  </a:lnTo>
                  <a:lnTo>
                    <a:pt x="36" y="83"/>
                  </a:lnTo>
                  <a:lnTo>
                    <a:pt x="37" y="57"/>
                  </a:lnTo>
                  <a:lnTo>
                    <a:pt x="46" y="42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0a27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586480" y="4594320"/>
            <a:ext cx="1330200" cy="1334880"/>
            <a:chOff x="5586480" y="4594320"/>
            <a:chExt cx="1330200" cy="1334880"/>
          </a:xfrm>
        </p:grpSpPr>
        <p:sp>
          <p:nvSpPr>
            <p:cNvPr id="171" name=""/>
            <p:cNvSpPr/>
            <p:nvPr/>
          </p:nvSpPr>
          <p:spPr>
            <a:xfrm>
              <a:off x="5586480" y="4594320"/>
              <a:ext cx="1330200" cy="1334880"/>
            </a:xfrm>
            <a:prstGeom prst="ellipse">
              <a:avLst/>
            </a:prstGeom>
            <a:solidFill>
              <a:srgbClr val="b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5586480" y="4594320"/>
              <a:ext cx="1330200" cy="133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648400" y="6024600"/>
            <a:ext cx="2628720" cy="458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85800" y="4822920"/>
            <a:ext cx="4686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unther Scha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Regenstrief Institute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diana Univer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chool of Informatic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dianapolis,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SPL: 3 Levels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57320" y="1872720"/>
            <a:ext cx="38671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abel Documen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edication Mod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Supplie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nical Decision Support Knowledg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dicatio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sag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ssu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teraction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ontraindication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02888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dverse Effect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0"/>
            <a:ext cx="88920" cy="1911240"/>
          </a:xfrm>
          <a:custGeom>
            <a:avLst/>
            <a:gdLst>
              <a:gd name="textAreaLeft" fmla="*/ 56880 w 88920"/>
              <a:gd name="textAreaRight" fmla="*/ 89280 w 88920"/>
              <a:gd name="textAreaTop" fmla="*/ 49680 h 1911240"/>
              <a:gd name="textAreaBottom" fmla="*/ 1861560 h 191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48360" y="2090880"/>
            <a:ext cx="88920" cy="2241360"/>
          </a:xfrm>
          <a:custGeom>
            <a:avLst/>
            <a:gdLst>
              <a:gd name="textAreaLeft" fmla="*/ 56880 w 88920"/>
              <a:gd name="textAreaRight" fmla="*/ 89280 w 88920"/>
              <a:gd name="textAreaTop" fmla="*/ 58320 h 2241360"/>
              <a:gd name="textAreaBottom" fmla="*/ 2183040 h 224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48360" y="4456080"/>
            <a:ext cx="88920" cy="2241720"/>
          </a:xfrm>
          <a:custGeom>
            <a:avLst/>
            <a:gdLst>
              <a:gd name="textAreaLeft" fmla="*/ 56880 w 88920"/>
              <a:gd name="textAreaRight" fmla="*/ 89280 w 88920"/>
              <a:gd name="textAreaTop" fmla="*/ 58320 h 2241720"/>
              <a:gd name="textAreaBottom" fmla="*/ 2183400 h 22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592440" y="990360"/>
            <a:ext cx="1555920" cy="97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22840" y="2486160"/>
            <a:ext cx="1325520" cy="73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11560" y="3743280"/>
            <a:ext cx="1036800" cy="183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81920" y="4680"/>
            <a:ext cx="3299040" cy="6819840"/>
            <a:chOff x="5281920" y="4680"/>
            <a:chExt cx="3299040" cy="6819840"/>
          </a:xfrm>
        </p:grpSpPr>
        <p:grpSp>
          <p:nvGrpSpPr>
            <p:cNvPr id="238" name=""/>
            <p:cNvGrpSpPr/>
            <p:nvPr/>
          </p:nvGrpSpPr>
          <p:grpSpPr>
            <a:xfrm>
              <a:off x="5428080" y="42840"/>
              <a:ext cx="3008160" cy="4702320"/>
              <a:chOff x="5428080" y="42840"/>
              <a:chExt cx="3008160" cy="4702320"/>
            </a:xfrm>
          </p:grpSpPr>
          <p:sp>
            <p:nvSpPr>
              <p:cNvPr id="239" name=""/>
              <p:cNvSpPr/>
              <p:nvPr/>
            </p:nvSpPr>
            <p:spPr>
              <a:xfrm>
                <a:off x="6428520" y="4154400"/>
                <a:ext cx="331920" cy="590760"/>
              </a:xfrm>
              <a:custGeom>
                <a:avLst/>
                <a:gdLst/>
                <a:ahLst/>
                <a:rect l="l" t="t" r="r" b="b"/>
                <a:pathLst>
                  <a:path w="214" h="372">
                    <a:moveTo>
                      <a:pt x="0" y="372"/>
                    </a:moveTo>
                    <a:lnTo>
                      <a:pt x="0" y="22"/>
                    </a:lnTo>
                    <a:lnTo>
                      <a:pt x="107" y="0"/>
                    </a:lnTo>
                    <a:lnTo>
                      <a:pt x="214" y="22"/>
                    </a:lnTo>
                    <a:lnTo>
                      <a:pt x="214" y="372"/>
                    </a:lnTo>
                    <a:lnTo>
                      <a:pt x="0" y="372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64840" y="4189320"/>
                <a:ext cx="395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indicationObservationCriter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77840" y="42451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612480" y="42451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88440" y="4245120"/>
                <a:ext cx="7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S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47960" y="4187880"/>
                <a:ext cx="125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as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52560" y="1419120"/>
                <a:ext cx="347400" cy="2468520"/>
              </a:xfrm>
              <a:custGeom>
                <a:avLst/>
                <a:gdLst/>
                <a:ahLst/>
                <a:rect l="l" t="t" r="r" b="b"/>
                <a:pathLst>
                  <a:path w="224" h="1555">
                    <a:moveTo>
                      <a:pt x="0" y="1555"/>
                    </a:moveTo>
                    <a:lnTo>
                      <a:pt x="0" y="22"/>
                    </a:lnTo>
                    <a:lnTo>
                      <a:pt x="112" y="0"/>
                    </a:lnTo>
                    <a:lnTo>
                      <a:pt x="224" y="22"/>
                    </a:lnTo>
                    <a:lnTo>
                      <a:pt x="224" y="1555"/>
                    </a:lnTo>
                    <a:lnTo>
                      <a:pt x="0" y="1555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52880" y="3848040"/>
                <a:ext cx="145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highligh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503680" y="150660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637960" y="15066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17520" y="1506600"/>
                <a:ext cx="86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CRP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473440" y="1450800"/>
                <a:ext cx="1364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xcerp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975280" y="3156120"/>
                <a:ext cx="401760" cy="2934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992560" y="3164040"/>
                <a:ext cx="2552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haracteristic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26400" y="32194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175080" y="32194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246000" y="321948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029640" y="32576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182640" y="32576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251760" y="325764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053040" y="3292560"/>
                <a:ext cx="24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E CWE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007680" y="332892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090480" y="332892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Typ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030720" y="3367080"/>
                <a:ext cx="15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: ED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042600" y="3405240"/>
                <a:ext cx="20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*: ANY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470640" y="60480"/>
                <a:ext cx="542880" cy="8064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87920" y="65160"/>
                <a:ext cx="1850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um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518520" y="1206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666840" y="1206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38840" y="12060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521760" y="15876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677640" y="1587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46760" y="15876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94760" y="196920"/>
                <a:ext cx="23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40120" y="19692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II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03040" y="23328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619680" y="233280"/>
                <a:ext cx="232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CWE [1..1] &lt;=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28240" y="271440"/>
                <a:ext cx="172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umentTyp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588360" y="306360"/>
                <a:ext cx="441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tle: ED [0..1] (xml title content model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525720" y="344520"/>
                <a:ext cx="16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fectiveTim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731640" y="344520"/>
                <a:ext cx="124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TS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576840" y="380880"/>
                <a:ext cx="399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vailabilityTime: TS [0..1] (Releas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03040" y="41904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t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580080" y="457200"/>
                <a:ext cx="399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fidentialityCode: CE CWE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99800" y="49212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615000" y="492120"/>
                <a:ext cx="328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fidentialityByAccess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579000" y="530280"/>
                <a:ext cx="37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nguageCode: CE CNE [0..1] &lt;=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534000" y="566640"/>
                <a:ext cx="19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umanLanguag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521040" y="604800"/>
                <a:ext cx="15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tId: II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554880" y="642960"/>
                <a:ext cx="296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sionNumber: INT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054640" y="1000080"/>
                <a:ext cx="347400" cy="43344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075160" y="1004760"/>
                <a:ext cx="3297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Media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107200" y="10605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254440" y="10605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325360" y="106056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110440" y="109872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265240" y="1098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334000" y="109872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102520" y="1136520"/>
                <a:ext cx="116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: II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094240" y="1173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188200" y="1173240"/>
                <a:ext cx="12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ED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28080" y="615960"/>
                <a:ext cx="417240" cy="20952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51480" y="620640"/>
                <a:ext cx="2491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XMLBod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80640" y="6778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628960" y="6778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716080" y="67788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BOD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483880" y="7142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35080" y="714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05640" y="71424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461920" y="75240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537880" y="752400"/>
                <a:ext cx="12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ED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79520" y="615960"/>
                <a:ext cx="414000" cy="20952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97520" y="620640"/>
                <a:ext cx="2872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ructuredBod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928840" y="6778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077160" y="6778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164640" y="67788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BOD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32080" y="7142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86520" y="714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157080" y="71424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373880" y="995400"/>
                <a:ext cx="649800" cy="4413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391520" y="1001880"/>
                <a:ext cx="2217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423200" y="10587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71160" y="10587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42800" y="105876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426440" y="109368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580880" y="10936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651440" y="109368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418520" y="1131840"/>
                <a:ext cx="116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: II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460280" y="1168560"/>
                <a:ext cx="29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E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772400" y="116856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Typ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427520" y="1206360"/>
                <a:ext cx="15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: ED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86920" y="1244520"/>
                <a:ext cx="410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fidentialityCode*: CE CWE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404480" y="127944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518240" y="1279440"/>
                <a:ext cx="328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fidentialityByAccess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439400" y="1316160"/>
                <a:ext cx="20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*: ANY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079480" y="303120"/>
                <a:ext cx="23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assignedPers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603200" y="825480"/>
                <a:ext cx="33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representedOrganiz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530480" y="135000"/>
                <a:ext cx="772560" cy="203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530480" y="73656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550280" y="741240"/>
                <a:ext cx="9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569000" y="74916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589160" y="75420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609680" y="762120"/>
                <a:ext cx="90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28040" y="76680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648200" y="77472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668360" y="77940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687080" y="78732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707240" y="79200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727400" y="80028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46120" y="80496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766280" y="80964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784640" y="81756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804800" y="82224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825320" y="83016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44040" y="835200"/>
                <a:ext cx="10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863840" y="84312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884000" y="84780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902720" y="85392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488360" y="60480"/>
                <a:ext cx="412560" cy="75240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505280" y="65160"/>
                <a:ext cx="2764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ssignedEntit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36600" y="1206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683120" y="1206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771680" y="12060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SSIGNE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533360" y="158760"/>
                <a:ext cx="12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*: II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561800" y="196920"/>
                <a:ext cx="24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dr: SET&lt;AD&gt; [0..*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572240" y="233280"/>
                <a:ext cx="29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lecom: SET&lt;TEL&gt; [0..*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920000" y="568440"/>
                <a:ext cx="510480" cy="29196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941960" y="573120"/>
                <a:ext cx="232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aniza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972560" y="6303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120880" y="6303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191440" y="63036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G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987680" y="66672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215560" y="666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303040" y="66672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AN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967880" y="704880"/>
                <a:ext cx="116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: II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987320" y="743040"/>
                <a:ext cx="192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me*: ON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992000" y="777960"/>
                <a:ext cx="21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lecom: TEL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981560" y="816120"/>
                <a:ext cx="16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dr: AD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013520" y="325440"/>
                <a:ext cx="495000" cy="171360"/>
              </a:xfrm>
              <a:custGeom>
                <a:avLst/>
                <a:gdLst/>
                <a:ahLst/>
                <a:rect l="l" t="t" r="r" b="b"/>
                <a:pathLst>
                  <a:path w="319" h="108">
                    <a:moveTo>
                      <a:pt x="0" y="0"/>
                    </a:moveTo>
                    <a:lnTo>
                      <a:pt x="298" y="0"/>
                    </a:lnTo>
                    <a:lnTo>
                      <a:pt x="319" y="54"/>
                    </a:lnTo>
                    <a:lnTo>
                      <a:pt x="298" y="108"/>
                    </a:lnTo>
                    <a:lnTo>
                      <a:pt x="0" y="1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273440" y="291960"/>
                <a:ext cx="21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ssignedEntit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034400" y="325440"/>
                <a:ext cx="128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ifie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064640" y="37476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200720" y="3747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268760" y="37476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R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345800" y="374760"/>
                <a:ext cx="124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reviewer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048800" y="40464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m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33400" y="404640"/>
                <a:ext cx="124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TS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116480" y="436680"/>
                <a:ext cx="342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gnatureCode: CS CNE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047720" y="46656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46000" y="466560"/>
                <a:ext cx="250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rticipationSignatur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407720" y="466560"/>
                <a:ext cx="4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"S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580000" y="246240"/>
                <a:ext cx="366120" cy="2523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600880" y="252360"/>
                <a:ext cx="322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latedDocum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632560" y="3063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780880" y="3063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51440" y="30636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635800" y="34452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790240" y="3445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60800" y="34452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08800" y="380880"/>
                <a:ext cx="23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54160" y="38088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II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635080" y="419040"/>
                <a:ext cx="15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tId: II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668920" y="457200"/>
                <a:ext cx="296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sionNumber: INT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946120" y="320760"/>
                <a:ext cx="524160" cy="195120"/>
              </a:xfrm>
              <a:custGeom>
                <a:avLst/>
                <a:gdLst/>
                <a:ahLst/>
                <a:rect l="l" t="t" r="r" b="b"/>
                <a:pathLst>
                  <a:path w="338" h="123">
                    <a:moveTo>
                      <a:pt x="338" y="123"/>
                    </a:moveTo>
                    <a:lnTo>
                      <a:pt x="22" y="123"/>
                    </a:lnTo>
                    <a:lnTo>
                      <a:pt x="0" y="62"/>
                    </a:lnTo>
                    <a:lnTo>
                      <a:pt x="22" y="0"/>
                    </a:lnTo>
                    <a:lnTo>
                      <a:pt x="338" y="0"/>
                    </a:lnTo>
                    <a:lnTo>
                      <a:pt x="338" y="123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050160" y="285840"/>
                <a:ext cx="24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relatedDocum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029280" y="3715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156000" y="371520"/>
                <a:ext cx="19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012360" y="40968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25400" y="409680"/>
                <a:ext cx="322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_ActRelationshipDocum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69960" y="446040"/>
                <a:ext cx="29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xtConductionInd: BL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035400" y="484200"/>
                <a:ext cx="146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0..1] "false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997960" y="317520"/>
                <a:ext cx="3099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latedDocum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013520" y="566640"/>
                <a:ext cx="474840" cy="233640"/>
              </a:xfrm>
              <a:custGeom>
                <a:avLst/>
                <a:gdLst/>
                <a:ahLst/>
                <a:rect l="l" t="t" r="r" b="b"/>
                <a:pathLst>
                  <a:path w="306" h="147">
                    <a:moveTo>
                      <a:pt x="0" y="0"/>
                    </a:moveTo>
                    <a:lnTo>
                      <a:pt x="284" y="0"/>
                    </a:lnTo>
                    <a:lnTo>
                      <a:pt x="306" y="73"/>
                    </a:lnTo>
                    <a:lnTo>
                      <a:pt x="284" y="147"/>
                    </a:lnTo>
                    <a:lnTo>
                      <a:pt x="0" y="1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251480" y="531720"/>
                <a:ext cx="21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ssignedEntit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035480" y="566640"/>
                <a:ext cx="3330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galAuthenticato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064640" y="6145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200720" y="6145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64080" y="61452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97760" y="644400"/>
                <a:ext cx="25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legal authenticator a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76160" y="674640"/>
                <a:ext cx="16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facturer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48800" y="70812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m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133400" y="708120"/>
                <a:ext cx="124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TS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116480" y="738360"/>
                <a:ext cx="342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ignatureCode: CS CNE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047720" y="76824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146000" y="768240"/>
                <a:ext cx="250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rticipationSignatur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07720" y="768240"/>
                <a:ext cx="43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"S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013520" y="77760"/>
                <a:ext cx="474840" cy="200160"/>
              </a:xfrm>
              <a:custGeom>
                <a:avLst/>
                <a:gdLst/>
                <a:ahLst/>
                <a:rect l="l" t="t" r="r" b="b"/>
                <a:pathLst>
                  <a:path w="306" h="126">
                    <a:moveTo>
                      <a:pt x="0" y="0"/>
                    </a:moveTo>
                    <a:lnTo>
                      <a:pt x="284" y="0"/>
                    </a:lnTo>
                    <a:lnTo>
                      <a:pt x="306" y="63"/>
                    </a:lnTo>
                    <a:lnTo>
                      <a:pt x="284" y="126"/>
                    </a:lnTo>
                    <a:lnTo>
                      <a:pt x="0" y="1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251480" y="42840"/>
                <a:ext cx="21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ssignedEntit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35840" y="74520"/>
                <a:ext cx="118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ho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064640" y="12384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200720" y="1238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268760" y="12384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102800" y="155520"/>
                <a:ext cx="285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uthor at manufacturer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113960" y="185760"/>
                <a:ext cx="33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xtControlCode: CS CN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063920" y="216000"/>
                <a:ext cx="120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0..1] &lt;= 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85600" y="216000"/>
                <a:ext cx="37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223400" y="216000"/>
                <a:ext cx="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048800" y="24912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m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133400" y="249120"/>
                <a:ext cx="124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TS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550480" y="922320"/>
                <a:ext cx="2885760" cy="546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288400" y="544680"/>
              <a:ext cx="3166560" cy="2973240"/>
              <a:chOff x="5288400" y="544680"/>
              <a:chExt cx="3166560" cy="2973240"/>
            </a:xfrm>
          </p:grpSpPr>
          <p:sp>
            <p:nvSpPr>
              <p:cNvPr id="440" name=""/>
              <p:cNvSpPr/>
              <p:nvPr/>
            </p:nvSpPr>
            <p:spPr>
              <a:xfrm>
                <a:off x="6829200" y="934920"/>
                <a:ext cx="3466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ctionCompon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404680" y="866880"/>
                <a:ext cx="530280" cy="218880"/>
              </a:xfrm>
              <a:custGeom>
                <a:avLst/>
                <a:gdLst/>
                <a:ahLst/>
                <a:rect l="l" t="t" r="r" b="b"/>
                <a:pathLst>
                  <a:path w="342" h="138">
                    <a:moveTo>
                      <a:pt x="94" y="138"/>
                    </a:moveTo>
                    <a:lnTo>
                      <a:pt x="0" y="138"/>
                    </a:lnTo>
                    <a:lnTo>
                      <a:pt x="0" y="0"/>
                    </a:lnTo>
                    <a:lnTo>
                      <a:pt x="342" y="0"/>
                    </a:lnTo>
                    <a:lnTo>
                      <a:pt x="342" y="94"/>
                    </a:lnTo>
                    <a:lnTo>
                      <a:pt x="94" y="94"/>
                    </a:lnTo>
                    <a:lnTo>
                      <a:pt x="94" y="138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25920" y="874800"/>
                <a:ext cx="20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on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533200" y="1077840"/>
                <a:ext cx="1656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0" y="11"/>
                    </a:lnTo>
                    <a:lnTo>
                      <a:pt x="11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288400" y="1085760"/>
                <a:ext cx="25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sectionCompon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5543640" y="1077840"/>
                <a:ext cx="140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453640" y="93348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588280" y="9334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665320" y="933480"/>
                <a:ext cx="77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525640" y="969840"/>
                <a:ext cx="42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xtConductionInd: BL [0..1] "true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327360" y="704880"/>
                <a:ext cx="578520" cy="156960"/>
              </a:xfrm>
              <a:custGeom>
                <a:avLst/>
                <a:gdLst/>
                <a:ahLst/>
                <a:rect l="l" t="t" r="r" b="b"/>
                <a:pathLst>
                  <a:path w="373" h="99">
                    <a:moveTo>
                      <a:pt x="373" y="99"/>
                    </a:moveTo>
                    <a:lnTo>
                      <a:pt x="22" y="99"/>
                    </a:lnTo>
                    <a:lnTo>
                      <a:pt x="0" y="49"/>
                    </a:lnTo>
                    <a:lnTo>
                      <a:pt x="22" y="0"/>
                    </a:lnTo>
                    <a:lnTo>
                      <a:pt x="373" y="0"/>
                    </a:lnTo>
                    <a:lnTo>
                      <a:pt x="373" y="99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447600" y="669960"/>
                <a:ext cx="2995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documentBodyChoi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384600" y="701640"/>
                <a:ext cx="20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on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412680" y="75564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47320" y="7556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624000" y="755640"/>
                <a:ext cx="77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120" y="792000"/>
                <a:ext cx="358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xtConductionInd: BL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401160" y="83016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"true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93520" y="544680"/>
                <a:ext cx="933840" cy="312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668200" y="555480"/>
                <a:ext cx="406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umentBodyChoic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04640" y="1957320"/>
                <a:ext cx="576720" cy="27324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623720" y="1962000"/>
                <a:ext cx="3056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enericMedicin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655400" y="20192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804080" y="2019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880040" y="201924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MA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670880" y="205596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902000" y="20559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969320" y="205596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690320" y="2093760"/>
                <a:ext cx="284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976160" y="2093760"/>
                <a:ext cx="120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rugEntit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734600" y="2131920"/>
                <a:ext cx="479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me*: TN [1..1] (e.g., Established Nam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901640" y="2232000"/>
                <a:ext cx="275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genericMedicine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7307640" y="2397240"/>
                <a:ext cx="11628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424640" y="228600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44800" y="228456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464960" y="228456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483680" y="2281320"/>
                <a:ext cx="104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7503840" y="227772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522560" y="227808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7542360" y="227664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562520" y="227664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581240" y="227340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601760" y="227340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621560" y="227160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7640280" y="226800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660440" y="226836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7680600" y="226692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699320" y="226692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719480" y="226368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738200" y="226368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758360" y="226044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7778160" y="225900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796880" y="225900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7817400" y="225540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837200" y="225576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855920" y="225432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876080" y="225432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894800" y="225108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7914600" y="224748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935120" y="224784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7953840" y="224640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974000" y="224640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993800" y="224316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012520" y="224316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033040" y="224172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8053200" y="223812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071560" y="223848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8091720" y="223632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110440" y="223668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130600" y="223344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150760" y="223344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169480" y="223056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390440" y="2271600"/>
                <a:ext cx="338040" cy="13968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403400" y="2278080"/>
                <a:ext cx="3297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ityWithGeneric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097760" y="2370240"/>
                <a:ext cx="31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asEntityWithGeneric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435440" y="23353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583760" y="23353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55040" y="23353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IC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4480" y="2709720"/>
                <a:ext cx="755640" cy="21600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96800" y="2714760"/>
                <a:ext cx="1926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stanc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727040" y="27702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875360" y="27702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950240" y="277020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MA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742520" y="280836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970040" y="28083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040600" y="280836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764120" y="2846520"/>
                <a:ext cx="29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061480" y="28465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ity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833960" y="2881440"/>
                <a:ext cx="621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me*: TN [1..1] (Active or Inactive established nam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685280" y="3021120"/>
                <a:ext cx="686880" cy="25560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704000" y="3027240"/>
                <a:ext cx="3405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eMoietyEntit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736400" y="30844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884720" y="30844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960680" y="308448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MA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751520" y="312120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981200" y="31212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049960" y="312120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773480" y="3156120"/>
                <a:ext cx="29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069400" y="31561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ity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205480" y="3156120"/>
                <a:ext cx="88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ctiv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739640" y="3193920"/>
                <a:ext cx="14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iety cod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749360" y="3232080"/>
                <a:ext cx="18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me*: TN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458840" y="3176640"/>
                <a:ext cx="229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activeMoiety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576560" y="3106800"/>
                <a:ext cx="108720" cy="10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576560" y="2990520"/>
                <a:ext cx="75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7592040" y="2981160"/>
                <a:ext cx="612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606080" y="2968560"/>
                <a:ext cx="75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7623000" y="2957400"/>
                <a:ext cx="79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7638840" y="2944800"/>
                <a:ext cx="90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7655760" y="2933640"/>
                <a:ext cx="61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7673040" y="2925360"/>
                <a:ext cx="10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268040" y="2981160"/>
                <a:ext cx="342360" cy="14004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88920" y="2987640"/>
                <a:ext cx="2354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eMoiet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668720" y="2986200"/>
                <a:ext cx="192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ctiveMoiet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320600" y="30430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468560" y="3043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542720" y="3043080"/>
                <a:ext cx="7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584320" y="1015920"/>
                <a:ext cx="1754640" cy="4032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06640" y="1022400"/>
                <a:ext cx="137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c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636880" y="10764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785560" y="10764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872680" y="1076400"/>
                <a:ext cx="124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SE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640120" y="111456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791680" y="11145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862240" y="111456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613480" y="1150920"/>
                <a:ext cx="23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55240" y="115092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II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3960" y="1189080"/>
                <a:ext cx="29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00480" y="1189080"/>
                <a:ext cx="258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umentSectionTyp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708160" y="1227240"/>
                <a:ext cx="451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tle*: ED [0..1] (xml title content model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732640" y="1262160"/>
                <a:ext cx="581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*: ED [0..1] (xml NarrativeBlock content model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677560" y="1298520"/>
                <a:ext cx="335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fectiveTime: IVL&lt;TS&gt;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08880" y="1336680"/>
                <a:ext cx="445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fidentialityCode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156720" y="1336680"/>
                <a:ext cx="16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fidentialit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698800" y="1374840"/>
                <a:ext cx="38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nguageCode: CS CN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96240" y="1374840"/>
                <a:ext cx="19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umanLanguag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50800" y="825480"/>
                <a:ext cx="338040" cy="204840"/>
              </a:xfrm>
              <a:custGeom>
                <a:avLst/>
                <a:gdLst/>
                <a:ahLst/>
                <a:rect l="l" t="t" r="r" b="b"/>
                <a:pathLst>
                  <a:path w="218" h="129">
                    <a:moveTo>
                      <a:pt x="218" y="0"/>
                    </a:moveTo>
                    <a:lnTo>
                      <a:pt x="218" y="107"/>
                    </a:lnTo>
                    <a:lnTo>
                      <a:pt x="109" y="129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329880" y="960480"/>
                <a:ext cx="130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sec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972040" y="824040"/>
                <a:ext cx="20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on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000120" y="87804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137640" y="8780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211440" y="878040"/>
                <a:ext cx="77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032880" y="915840"/>
                <a:ext cx="25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xtConductionInd: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013080" y="952560"/>
                <a:ext cx="174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L [0..1] "true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145280" y="866880"/>
                <a:ext cx="139680" cy="149040"/>
              </a:xfrm>
              <a:custGeom>
                <a:avLst/>
                <a:gdLst/>
                <a:ahLst/>
                <a:rect l="l" t="t" r="r" b="b"/>
                <a:pathLst>
                  <a:path w="90" h="94">
                    <a:moveTo>
                      <a:pt x="0" y="94"/>
                    </a:moveTo>
                    <a:lnTo>
                      <a:pt x="0" y="22"/>
                    </a:lnTo>
                    <a:lnTo>
                      <a:pt x="45" y="0"/>
                    </a:lnTo>
                    <a:lnTo>
                      <a:pt x="90" y="22"/>
                    </a:lnTo>
                    <a:lnTo>
                      <a:pt x="90" y="94"/>
                    </a:lnTo>
                    <a:lnTo>
                      <a:pt x="0" y="94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08720" y="900000"/>
                <a:ext cx="40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167600" y="900000"/>
                <a:ext cx="118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ho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606720" y="1995480"/>
                <a:ext cx="524520" cy="35892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625080" y="2001960"/>
                <a:ext cx="3420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agedMedicin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658200" y="20588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806160" y="20588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881400" y="2058840"/>
                <a:ext cx="7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673320" y="209700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902640" y="20970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973200" y="209700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693120" y="2133720"/>
                <a:ext cx="28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E CWE [1..1] &lt;=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82320" y="2168640"/>
                <a:ext cx="236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agedMedic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722640" y="2206800"/>
                <a:ext cx="406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package product code, e.g., NDC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706440" y="2244600"/>
                <a:ext cx="34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mCode*: CE CWE [1..1] &lt;=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668640" y="2281320"/>
                <a:ext cx="16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ainerFor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669720" y="2319480"/>
                <a:ext cx="178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package typ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41760" y="2228760"/>
                <a:ext cx="419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containedPackagedMedicine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7131600" y="2152800"/>
                <a:ext cx="102240" cy="11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7224480" y="197820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7204320" y="198108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7185240" y="198108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7165440" y="198288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7145280" y="198288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7126560" y="198612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7106040" y="198756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7086600" y="198756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7067520" y="199080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7047360" y="199080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7028640" y="199224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7008840" y="199224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199640" y="1957320"/>
                <a:ext cx="352080" cy="21924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214760" y="1962000"/>
                <a:ext cx="163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nt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072920" y="196056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cont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244640" y="20192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394400" y="2019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466760" y="2019240"/>
                <a:ext cx="7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266240" y="2055960"/>
                <a:ext cx="21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cpd product pkgs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279920" y="2093760"/>
                <a:ext cx="28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antity*: RTO&lt;PQ,PQ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80280" y="2131920"/>
                <a:ext cx="28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[0..1] (Package Quantity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497560" y="3176640"/>
                <a:ext cx="442080" cy="2523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518080" y="3181320"/>
                <a:ext cx="11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lic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548680" y="32367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697000" y="32367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766840" y="323676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51920" y="327492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06360" y="32749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76920" y="327492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3200" y="331164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636880" y="3311640"/>
                <a:ext cx="18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CNE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529960" y="334980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635800" y="3349800"/>
                <a:ext cx="288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ulationPolicyAct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593320" y="3384720"/>
                <a:ext cx="33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A schedule, Rx vs. OTC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465160" y="3046320"/>
                <a:ext cx="1638000" cy="4716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95520" y="3057480"/>
                <a:ext cx="392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ditionalInforma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792200" y="1328760"/>
                <a:ext cx="231120" cy="8244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49" y="52"/>
                    </a:moveTo>
                    <a:lnTo>
                      <a:pt x="22" y="52"/>
                    </a:lnTo>
                    <a:lnTo>
                      <a:pt x="0" y="25"/>
                    </a:lnTo>
                    <a:lnTo>
                      <a:pt x="22" y="0"/>
                    </a:lnTo>
                    <a:lnTo>
                      <a:pt x="149" y="0"/>
                    </a:lnTo>
                    <a:lnTo>
                      <a:pt x="149" y="52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5392080" y="1293840"/>
              <a:ext cx="3188880" cy="5207040"/>
              <a:chOff x="5392080" y="1293840"/>
              <a:chExt cx="3188880" cy="5207040"/>
            </a:xfrm>
          </p:grpSpPr>
          <p:sp>
            <p:nvSpPr>
              <p:cNvPr id="641" name=""/>
              <p:cNvSpPr/>
              <p:nvPr/>
            </p:nvSpPr>
            <p:spPr>
              <a:xfrm>
                <a:off x="7850520" y="1293840"/>
                <a:ext cx="40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845840" y="1325520"/>
                <a:ext cx="133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96600" y="2649600"/>
                <a:ext cx="624960" cy="29376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017840" y="2657520"/>
                <a:ext cx="163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dicin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047720" y="27129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95680" y="27129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272360" y="271296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MA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062840" y="275112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292160" y="27511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362720" y="275112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084800" y="2786040"/>
                <a:ext cx="29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378560" y="2786040"/>
                <a:ext cx="120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rugEntit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110000" y="2822400"/>
                <a:ext cx="410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me*: TN [1..1] (Proprietary nam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097040" y="2860560"/>
                <a:ext cx="351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mCode*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453440" y="2860560"/>
                <a:ext cx="15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terialFor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056720" y="2898720"/>
                <a:ext cx="172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osage form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645320" y="2673360"/>
                <a:ext cx="3985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activeIngredientSubstance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914960" y="2610000"/>
                <a:ext cx="138240" cy="9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7905600" y="2494080"/>
                <a:ext cx="90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7885440" y="250200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866720" y="2506680"/>
                <a:ext cx="9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7846560" y="251460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7826760" y="252252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7808040" y="2527200"/>
                <a:ext cx="93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7787520" y="253368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7767360" y="2541600"/>
                <a:ext cx="1044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7749000" y="2546280"/>
                <a:ext cx="90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7728840" y="255420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7708680" y="256212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7689960" y="257004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7670160" y="2575080"/>
                <a:ext cx="10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7651080" y="258300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7630920" y="258912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7610760" y="2593800"/>
                <a:ext cx="108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7592400" y="2602080"/>
                <a:ext cx="936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7571880" y="261000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7551720" y="2614680"/>
                <a:ext cx="1044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7533000" y="262260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7513200" y="263052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7494480" y="2637000"/>
                <a:ext cx="936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7474320" y="2641680"/>
                <a:ext cx="93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859160" y="2481120"/>
                <a:ext cx="558360" cy="14292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873920" y="2486160"/>
                <a:ext cx="298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eIngre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639560" y="2484360"/>
                <a:ext cx="229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ctiveIngredi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905600" y="25430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8053920" y="25430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125200" y="254304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984800" y="2579760"/>
                <a:ext cx="468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antity*: RTO&lt;PQ,PQ&gt; [0..1] (Strength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762240" y="2906640"/>
                <a:ext cx="23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partMedicine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679800" y="2882880"/>
                <a:ext cx="316440" cy="60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679800" y="276696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700320" y="277020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20120" y="277020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38840" y="277344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759000" y="277488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777720" y="277488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797520" y="277812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818040" y="277956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836760" y="277956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856920" y="278280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876720" y="278460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895440" y="278748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915960" y="278748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936120" y="279072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954480" y="279252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974640" y="279252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993360" y="2795760"/>
                <a:ext cx="2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318360" y="2752560"/>
                <a:ext cx="403200" cy="14292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337080" y="2759040"/>
                <a:ext cx="752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r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757920" y="2757600"/>
                <a:ext cx="92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pa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367680" y="28162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514560" y="28162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589800" y="2816280"/>
                <a:ext cx="6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416280" y="2852640"/>
                <a:ext cx="335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antity: RTO&lt;PQ,PQ&gt;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416280" y="2895480"/>
                <a:ext cx="297360" cy="150840"/>
              </a:xfrm>
              <a:custGeom>
                <a:avLst/>
                <a:gdLst/>
                <a:ahLst/>
                <a:rect l="l" t="t" r="r" b="b"/>
                <a:pathLst>
                  <a:path w="192" h="95">
                    <a:moveTo>
                      <a:pt x="0" y="95"/>
                    </a:moveTo>
                    <a:lnTo>
                      <a:pt x="0" y="22"/>
                    </a:lnTo>
                    <a:lnTo>
                      <a:pt x="96" y="0"/>
                    </a:lnTo>
                    <a:lnTo>
                      <a:pt x="192" y="22"/>
                    </a:lnTo>
                    <a:lnTo>
                      <a:pt x="192" y="9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798240" y="3008160"/>
                <a:ext cx="284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dditionalInform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465600" y="298620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01320" y="29862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669000" y="2986200"/>
                <a:ext cx="47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437160" y="2930400"/>
                <a:ext cx="1746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704280" y="2651040"/>
                <a:ext cx="3085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manufacturedMedicin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6231600" y="2649600"/>
                <a:ext cx="765000" cy="117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866920" y="2752560"/>
                <a:ext cx="406080" cy="14292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885280" y="2759040"/>
                <a:ext cx="392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facturedProduc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916240" y="28162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064920" y="28162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139800" y="2816280"/>
                <a:ext cx="7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911560" y="2852640"/>
                <a:ext cx="116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: II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159760" y="2673360"/>
                <a:ext cx="421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inactiveIngredientSubstance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8053200" y="2438280"/>
                <a:ext cx="16560" cy="27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8059320" y="2324160"/>
                <a:ext cx="1044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8042400" y="2333520"/>
                <a:ext cx="10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8023680" y="2343240"/>
                <a:ext cx="93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8006760" y="2354400"/>
                <a:ext cx="57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986240" y="236376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966440" y="2373480"/>
                <a:ext cx="108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949160" y="2384280"/>
                <a:ext cx="1044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930440" y="2394000"/>
                <a:ext cx="9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913160" y="2403360"/>
                <a:ext cx="612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893000" y="2414520"/>
                <a:ext cx="9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873200" y="2424240"/>
                <a:ext cx="10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856280" y="2433600"/>
                <a:ext cx="10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837200" y="2444760"/>
                <a:ext cx="9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820640" y="2454120"/>
                <a:ext cx="57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800120" y="246384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780320" y="2475000"/>
                <a:ext cx="10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763040" y="2484360"/>
                <a:ext cx="10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744320" y="249408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727040" y="2505240"/>
                <a:ext cx="612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706880" y="2514600"/>
                <a:ext cx="9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687080" y="2523960"/>
                <a:ext cx="1080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670160" y="2533680"/>
                <a:ext cx="108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651080" y="2544840"/>
                <a:ext cx="9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7633800" y="2554200"/>
                <a:ext cx="612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613640" y="2563920"/>
                <a:ext cx="900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593840" y="2575080"/>
                <a:ext cx="10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576920" y="2584440"/>
                <a:ext cx="108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558200" y="2593800"/>
                <a:ext cx="936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541280" y="2604960"/>
                <a:ext cx="5760" cy="5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520760" y="2614680"/>
                <a:ext cx="936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500600" y="2624040"/>
                <a:ext cx="10800" cy="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483680" y="2635200"/>
                <a:ext cx="1044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464960" y="2644920"/>
                <a:ext cx="9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464960" y="2644920"/>
                <a:ext cx="900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030160" y="2308320"/>
                <a:ext cx="397080" cy="14580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042400" y="2316240"/>
                <a:ext cx="3254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activeIngre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791840" y="2314440"/>
                <a:ext cx="24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inactiveIngredi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074800" y="23716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223480" y="23716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294400" y="237168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A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123400" y="2409840"/>
                <a:ext cx="335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antity: RTO&lt;PQ,PQ&gt;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806440" y="1419120"/>
                <a:ext cx="297360" cy="1333440"/>
              </a:xfrm>
              <a:custGeom>
                <a:avLst/>
                <a:gdLst/>
                <a:ahLst/>
                <a:rect l="l" t="t" r="r" b="b"/>
                <a:pathLst>
                  <a:path w="192" h="840">
                    <a:moveTo>
                      <a:pt x="192" y="0"/>
                    </a:moveTo>
                    <a:lnTo>
                      <a:pt x="192" y="818"/>
                    </a:lnTo>
                    <a:lnTo>
                      <a:pt x="96" y="840"/>
                    </a:lnTo>
                    <a:lnTo>
                      <a:pt x="0" y="818"/>
                    </a:lnTo>
                    <a:lnTo>
                      <a:pt x="0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191640" y="2682720"/>
                <a:ext cx="29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manufacturedProdu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855760" y="147168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990400" y="14716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059160" y="1471680"/>
                <a:ext cx="47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826960" y="1415880"/>
                <a:ext cx="133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888520" y="2394000"/>
                <a:ext cx="772560" cy="2109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05440" y="2400480"/>
                <a:ext cx="4593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stanceAdministra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938200" y="24573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086160" y="24573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165720" y="245736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BAD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941440" y="249552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095880" y="24955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165360" y="249552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938920" y="2532240"/>
                <a:ext cx="12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out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131160" y="2532240"/>
                <a:ext cx="24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402240" y="2532240"/>
                <a:ext cx="258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outeOfAdministr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92080" y="4745160"/>
                <a:ext cx="2282400" cy="2793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10440" y="4749840"/>
                <a:ext cx="4809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stanceAdministration1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443200" y="48070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591520" y="4807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70720" y="480708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BAD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446440" y="48434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599440" y="48434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668920" y="484344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475600" y="4881600"/>
                <a:ext cx="28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fectiveTime: GTS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493240" y="4919760"/>
                <a:ext cx="34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outeCode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66920" y="4919760"/>
                <a:ext cx="258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outeOfAdministr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489280" y="4954680"/>
                <a:ext cx="33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seQuantity: IVL&lt;PQ&gt;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533200" y="4991040"/>
                <a:ext cx="537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xDoseQuantity*: SET&lt;RTO&lt;PQ,PQ&gt;&gt; [0..*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425920" y="6246720"/>
                <a:ext cx="648720" cy="2541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442120" y="6251400"/>
                <a:ext cx="6181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stanceAdministrationCriter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475960" y="63072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23920" y="63072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702040" y="630720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BAD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479200" y="634536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633280" y="63453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716800" y="634536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.C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516280" y="6383160"/>
                <a:ext cx="300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outeCode: CE CWE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457240" y="642132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556600" y="6421320"/>
                <a:ext cx="258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outeOfAdministr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531760" y="6458040"/>
                <a:ext cx="369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labeled route of administration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247080" y="5727600"/>
                <a:ext cx="653400" cy="29052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263280" y="5732640"/>
                <a:ext cx="4701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sequenceObserva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298200" y="57895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446160" y="57895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517800" y="578952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01440" y="58262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455880" y="5826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539040" y="582624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.C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282720" y="586440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397560" y="5864400"/>
                <a:ext cx="24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D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658560" y="586440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Typ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302880" y="5902200"/>
                <a:ext cx="15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: ST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314400" y="5938920"/>
                <a:ext cx="20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*: ANY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346800" y="5973840"/>
                <a:ext cx="354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CE, SET of CE, or IVL of PQ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626880" y="5384880"/>
                <a:ext cx="313200" cy="342720"/>
              </a:xfrm>
              <a:custGeom>
                <a:avLst/>
                <a:gdLst/>
                <a:ahLst/>
                <a:rect l="l" t="t" r="r" b="b"/>
                <a:pathLst>
                  <a:path w="202" h="216">
                    <a:moveTo>
                      <a:pt x="202" y="0"/>
                    </a:moveTo>
                    <a:lnTo>
                      <a:pt x="202" y="194"/>
                    </a:lnTo>
                    <a:lnTo>
                      <a:pt x="101" y="216"/>
                    </a:lnTo>
                    <a:lnTo>
                      <a:pt x="0" y="194"/>
                    </a:lnTo>
                    <a:lnTo>
                      <a:pt x="0" y="0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31520" y="5657760"/>
                <a:ext cx="33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consequenceObserv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673320" y="543708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811200" y="5437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882120" y="5437080"/>
                <a:ext cx="6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ISK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44880" y="5381640"/>
                <a:ext cx="694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isk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684840" y="5943600"/>
                <a:ext cx="319320" cy="130320"/>
              </a:xfrm>
              <a:custGeom>
                <a:avLst/>
                <a:gdLst/>
                <a:ahLst/>
                <a:rect l="l" t="t" r="r" b="b"/>
                <a:pathLst>
                  <a:path w="206" h="82">
                    <a:moveTo>
                      <a:pt x="0" y="82"/>
                    </a:moveTo>
                    <a:lnTo>
                      <a:pt x="0" y="22"/>
                    </a:lnTo>
                    <a:lnTo>
                      <a:pt x="103" y="0"/>
                    </a:lnTo>
                    <a:lnTo>
                      <a:pt x="206" y="22"/>
                    </a:lnTo>
                    <a:lnTo>
                      <a:pt x="206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93080" y="6037200"/>
                <a:ext cx="33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2 severityAndFrequency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732360" y="603396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869880" y="60339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944040" y="603396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704280" y="5978520"/>
                <a:ext cx="1746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420960" y="6143760"/>
                <a:ext cx="707400" cy="2919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5364360" y="3121200"/>
              <a:ext cx="3071880" cy="3671640"/>
              <a:chOff x="5364360" y="3121200"/>
              <a:chExt cx="3071880" cy="3671640"/>
            </a:xfrm>
          </p:grpSpPr>
          <p:sp>
            <p:nvSpPr>
              <p:cNvPr id="842" name=""/>
              <p:cNvSpPr/>
              <p:nvPr/>
            </p:nvSpPr>
            <p:spPr>
              <a:xfrm>
                <a:off x="6439680" y="6151680"/>
                <a:ext cx="1501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verit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72080" y="62071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620040" y="62071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691680" y="620712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475320" y="62420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631200" y="62420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711480" y="624204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.C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456600" y="628020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573960" y="6280200"/>
                <a:ext cx="250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D CWE [1..1] &lt;= 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812640" y="628020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V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863400" y="6280200"/>
                <a:ext cx="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459120" y="63183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554160" y="6318360"/>
                <a:ext cx="12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453360" y="635472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561000" y="6354720"/>
                <a:ext cx="298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verityObservationVal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506280" y="6392880"/>
                <a:ext cx="288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ild, moderate, sever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420960" y="6470640"/>
                <a:ext cx="707400" cy="2556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41480" y="6477120"/>
                <a:ext cx="1926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equenc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472080" y="65340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620040" y="65340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691680" y="653400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475320" y="657072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631200" y="6570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698520" y="657072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456600" y="660564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571440" y="6605640"/>
                <a:ext cx="24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D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811560" y="6605640"/>
                <a:ext cx="9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924600" y="6605640"/>
                <a:ext cx="81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fixed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459120" y="66438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564600" y="6643800"/>
                <a:ext cx="172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767640" y="6643800"/>
                <a:ext cx="229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mptomFrequenc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516000" y="6681960"/>
                <a:ext cx="30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e.g., frequent, infrequent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882400" y="5024520"/>
                <a:ext cx="352080" cy="463320"/>
              </a:xfrm>
              <a:custGeom>
                <a:avLst/>
                <a:gdLst/>
                <a:ahLst/>
                <a:rect l="l" t="t" r="r" b="b"/>
                <a:pathLst>
                  <a:path w="227" h="292">
                    <a:moveTo>
                      <a:pt x="227" y="0"/>
                    </a:moveTo>
                    <a:lnTo>
                      <a:pt x="227" y="270"/>
                    </a:lnTo>
                    <a:lnTo>
                      <a:pt x="113" y="292"/>
                    </a:lnTo>
                    <a:lnTo>
                      <a:pt x="0" y="270"/>
                    </a:lnTo>
                    <a:lnTo>
                      <a:pt x="0" y="0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323400" y="5418000"/>
                <a:ext cx="323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clinicalSituationCriter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931720" y="50767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066360" y="5076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140160" y="5076720"/>
                <a:ext cx="7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C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970240" y="5114880"/>
                <a:ext cx="282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useQuantity: PQ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904000" y="5021280"/>
                <a:ext cx="2293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condi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049960" y="4727520"/>
                <a:ext cx="386280" cy="14367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070840" y="4735440"/>
                <a:ext cx="154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otoco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101080" y="47912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249760" y="4791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319240" y="479124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104320" y="48290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257320" y="48290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327160" y="482904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74480" y="4773600"/>
                <a:ext cx="375120" cy="84240"/>
              </a:xfrm>
              <a:custGeom>
                <a:avLst/>
                <a:gdLst/>
                <a:ahLst/>
                <a:rect l="l" t="t" r="r" b="b"/>
                <a:pathLst>
                  <a:path w="242" h="53">
                    <a:moveTo>
                      <a:pt x="242" y="53"/>
                    </a:moveTo>
                    <a:lnTo>
                      <a:pt x="22" y="53"/>
                    </a:lnTo>
                    <a:lnTo>
                      <a:pt x="0" y="27"/>
                    </a:lnTo>
                    <a:lnTo>
                      <a:pt x="22" y="0"/>
                    </a:lnTo>
                    <a:lnTo>
                      <a:pt x="242" y="0"/>
                    </a:lnTo>
                    <a:lnTo>
                      <a:pt x="242" y="53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889040" y="4856040"/>
                <a:ext cx="16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protocol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759440" y="482616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894440" y="48261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971120" y="4826160"/>
                <a:ext cx="77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731360" y="4772160"/>
                <a:ext cx="2444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onent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314480" y="5662440"/>
                <a:ext cx="605160" cy="21924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335360" y="5670720"/>
                <a:ext cx="416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ingObserva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367040" y="57243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515720" y="57243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585200" y="572436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370280" y="576108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521840" y="5761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591680" y="576108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351560" y="579924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467480" y="5799240"/>
                <a:ext cx="24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724520" y="579924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Typ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400880" y="5837400"/>
                <a:ext cx="298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fectiveTime*: GTS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80960" y="5710320"/>
                <a:ext cx="369000" cy="82440"/>
              </a:xfrm>
              <a:custGeom>
                <a:avLst/>
                <a:gdLst/>
                <a:ahLst/>
                <a:rect l="l" t="t" r="r" b="b"/>
                <a:pathLst>
                  <a:path w="238" h="52">
                    <a:moveTo>
                      <a:pt x="238" y="52"/>
                    </a:moveTo>
                    <a:lnTo>
                      <a:pt x="22" y="52"/>
                    </a:lnTo>
                    <a:lnTo>
                      <a:pt x="0" y="27"/>
                    </a:lnTo>
                    <a:lnTo>
                      <a:pt x="22" y="0"/>
                    </a:lnTo>
                    <a:lnTo>
                      <a:pt x="238" y="0"/>
                    </a:lnTo>
                    <a:lnTo>
                      <a:pt x="238" y="52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802640" y="5676840"/>
                <a:ext cx="33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* monitoringObservation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762680" y="576108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898760" y="5761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975800" y="5761080"/>
                <a:ext cx="77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34960" y="5707080"/>
                <a:ext cx="20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on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314480" y="5942160"/>
                <a:ext cx="393840" cy="2077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332840" y="5948280"/>
                <a:ext cx="3801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Criter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74480" y="5981760"/>
                <a:ext cx="375120" cy="82440"/>
              </a:xfrm>
              <a:custGeom>
                <a:avLst/>
                <a:gdLst/>
                <a:ahLst/>
                <a:rect l="l" t="t" r="r" b="b"/>
                <a:pathLst>
                  <a:path w="242" h="52">
                    <a:moveTo>
                      <a:pt x="242" y="52"/>
                    </a:moveTo>
                    <a:lnTo>
                      <a:pt x="21" y="52"/>
                    </a:lnTo>
                    <a:lnTo>
                      <a:pt x="0" y="25"/>
                    </a:lnTo>
                    <a:lnTo>
                      <a:pt x="21" y="0"/>
                    </a:lnTo>
                    <a:lnTo>
                      <a:pt x="242" y="0"/>
                    </a:lnTo>
                    <a:lnTo>
                      <a:pt x="242" y="52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784640" y="5946840"/>
                <a:ext cx="277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observationCriter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756200" y="60325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892640" y="60325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965360" y="6032520"/>
                <a:ext cx="69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C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27040" y="5978520"/>
                <a:ext cx="316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intenanceGo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478120" y="6759720"/>
                <a:ext cx="319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playingMaterialKind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406120" y="6734160"/>
                <a:ext cx="384840" cy="58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364360" y="6608880"/>
                <a:ext cx="412560" cy="13968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375520" y="6615000"/>
                <a:ext cx="3985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ministrableMateri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409000" y="66708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558760" y="66708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627880" y="667080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OL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440320" y="6500880"/>
                <a:ext cx="311760" cy="129960"/>
              </a:xfrm>
              <a:custGeom>
                <a:avLst/>
                <a:gdLst/>
                <a:ahLst/>
                <a:rect l="l" t="t" r="r" b="b"/>
                <a:pathLst>
                  <a:path w="201" h="82">
                    <a:moveTo>
                      <a:pt x="201" y="0"/>
                    </a:moveTo>
                    <a:lnTo>
                      <a:pt x="201" y="60"/>
                    </a:lnTo>
                    <a:lnTo>
                      <a:pt x="100" y="82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843880" y="6561000"/>
                <a:ext cx="340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administrableMaterial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491080" y="65563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625720" y="65563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697720" y="655632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S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462640" y="6499080"/>
                <a:ext cx="2217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sumabl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392080" y="5167440"/>
                <a:ext cx="1630800" cy="21744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413320" y="5173560"/>
                <a:ext cx="982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ssu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443200" y="52275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591520" y="52275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666040" y="52275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75560" y="5227560"/>
                <a:ext cx="655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dverse event, interaction with drug or food, caution, ...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446440" y="526572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599440" y="5265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668920" y="526572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479560" y="5302080"/>
                <a:ext cx="296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D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762160" y="5302080"/>
                <a:ext cx="63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ss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958720" y="5302080"/>
                <a:ext cx="597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further specification of issue concept, if applicabl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447880" y="5340240"/>
                <a:ext cx="15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: ST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900480" y="5756400"/>
                <a:ext cx="414000" cy="82440"/>
              </a:xfrm>
              <a:custGeom>
                <a:avLst/>
                <a:gdLst/>
                <a:ahLst/>
                <a:rect l="l" t="t" r="r" b="b"/>
                <a:pathLst>
                  <a:path w="267" h="52">
                    <a:moveTo>
                      <a:pt x="0" y="0"/>
                    </a:moveTo>
                    <a:lnTo>
                      <a:pt x="245" y="0"/>
                    </a:lnTo>
                    <a:lnTo>
                      <a:pt x="267" y="25"/>
                    </a:lnTo>
                    <a:lnTo>
                      <a:pt x="245" y="52"/>
                    </a:ln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988680" y="5721480"/>
                <a:ext cx="30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monitoringObserv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951240" y="580716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085520" y="58071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157160" y="580716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25320" y="5753160"/>
                <a:ext cx="1699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ni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31600" y="5238720"/>
                <a:ext cx="489960" cy="29196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149960" y="5243400"/>
                <a:ext cx="4809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stanceAdministration2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182360" y="53006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331040" y="53006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10240" y="5300640"/>
                <a:ext cx="90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BAD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185600" y="533700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340040" y="53370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408440" y="533700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216560" y="5375160"/>
                <a:ext cx="298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fectiveTime*: GTS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232400" y="5413320"/>
                <a:ext cx="363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eatNumber*: IVL&lt;INT&gt;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191000" y="5450040"/>
                <a:ext cx="16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seQuantit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402680" y="5450040"/>
                <a:ext cx="19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IVL&lt;PQ&gt;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227000" y="5486400"/>
                <a:ext cx="326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ateQuantity: IVL&lt;PQ&gt;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067880" y="5024520"/>
                <a:ext cx="589320" cy="214200"/>
              </a:xfrm>
              <a:custGeom>
                <a:avLst/>
                <a:gdLst/>
                <a:ahLst/>
                <a:rect l="l" t="t" r="r" b="b"/>
                <a:pathLst>
                  <a:path w="380" h="135">
                    <a:moveTo>
                      <a:pt x="380" y="0"/>
                    </a:moveTo>
                    <a:lnTo>
                      <a:pt x="380" y="113"/>
                    </a:lnTo>
                    <a:lnTo>
                      <a:pt x="191" y="135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750080" y="5170320"/>
                <a:ext cx="328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substanceAdministr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117200" y="50767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253280" y="5076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328520" y="5076720"/>
                <a:ext cx="77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155000" y="5114880"/>
                <a:ext cx="268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xtConduction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476480" y="5114880"/>
                <a:ext cx="192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BL [1..1] "true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164000" y="5151600"/>
                <a:ext cx="322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Number: INT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089120" y="5021280"/>
                <a:ext cx="20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mpon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392080" y="3887640"/>
                <a:ext cx="1006920" cy="2160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414760" y="3892680"/>
                <a:ext cx="1638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ighligh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443200" y="39481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591520" y="39481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679000" y="3948120"/>
                <a:ext cx="124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SE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446440" y="398628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599440" y="39862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669640" y="398628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449680" y="4024440"/>
                <a:ext cx="16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*: ED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486400" y="4059360"/>
                <a:ext cx="34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ffectiveTime*: IVL&lt;TS&gt;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783840" y="4437000"/>
                <a:ext cx="310320" cy="308160"/>
              </a:xfrm>
              <a:custGeom>
                <a:avLst/>
                <a:gdLst/>
                <a:ahLst/>
                <a:rect l="l" t="t" r="r" b="b"/>
                <a:pathLst>
                  <a:path w="200" h="194">
                    <a:moveTo>
                      <a:pt x="0" y="194"/>
                    </a:moveTo>
                    <a:lnTo>
                      <a:pt x="0" y="22"/>
                    </a:lnTo>
                    <a:lnTo>
                      <a:pt x="99" y="0"/>
                    </a:lnTo>
                    <a:lnTo>
                      <a:pt x="200" y="22"/>
                    </a:lnTo>
                    <a:lnTo>
                      <a:pt x="200" y="194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0120" y="4473720"/>
                <a:ext cx="268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therapeuticClass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833520" y="45277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967800" y="4527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039080" y="4527720"/>
                <a:ext cx="55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E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804360" y="4471920"/>
                <a:ext cx="2566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eneraliza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777720" y="4221000"/>
                <a:ext cx="544680" cy="2160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797160" y="4226040"/>
                <a:ext cx="317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rapeuticClas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830280" y="42829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978600" y="42829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048440" y="428292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833520" y="43196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985080" y="43196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054560" y="431964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814800" y="435780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919920" y="4357800"/>
                <a:ext cx="19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CWE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11560" y="4395960"/>
                <a:ext cx="46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930360" y="4395960"/>
                <a:ext cx="349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stanceAdministrationClas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867080" y="3316320"/>
                <a:ext cx="513360" cy="21888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881480" y="3321000"/>
                <a:ext cx="3848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armaceuticalClass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917840" y="33764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8066520" y="33764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137800" y="337644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933320" y="341460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161200" y="34146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231760" y="341460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902720" y="345276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8018280" y="3452760"/>
                <a:ext cx="24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260200" y="34527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ity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408720" y="3121200"/>
                <a:ext cx="660600" cy="36324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430680" y="3125880"/>
                <a:ext cx="1652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prov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461280" y="31813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607800" y="31813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690600" y="3181320"/>
                <a:ext cx="10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NTR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464520" y="321948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618600" y="32194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687720" y="321948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437520" y="3257640"/>
                <a:ext cx="23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534360" y="3257640"/>
                <a:ext cx="33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II [1..1] (e.g., NDA number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498360" y="3292560"/>
                <a:ext cx="294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*: CE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820560" y="3292560"/>
                <a:ext cx="24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MedicineApproval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13120" y="3328920"/>
                <a:ext cx="363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atusCode*: CS CN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872040" y="332892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Statu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524280" y="3367080"/>
                <a:ext cx="418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ctive: not yet approved; complete: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458760" y="3405240"/>
                <a:ext cx="11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proved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488640" y="3443400"/>
                <a:ext cx="24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olete: withdrawn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867000" y="3811680"/>
                <a:ext cx="16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territory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572160" y="3803760"/>
                <a:ext cx="24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governingAgency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2880" y="3662280"/>
                <a:ext cx="90000" cy="182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6923520" y="377496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6903360" y="377820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6883200" y="3780000"/>
                <a:ext cx="108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6864480" y="378468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6844320" y="378792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6824160" y="379080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805440" y="379260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6785280" y="379584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5421600" y="338040"/>
              <a:ext cx="3010320" cy="6454800"/>
              <a:chOff x="5421600" y="338040"/>
              <a:chExt cx="3010320" cy="6454800"/>
            </a:xfrm>
          </p:grpSpPr>
          <p:sp>
            <p:nvSpPr>
              <p:cNvPr id="1043" name=""/>
              <p:cNvSpPr/>
              <p:nvPr/>
            </p:nvSpPr>
            <p:spPr>
              <a:xfrm flipH="1">
                <a:off x="6766560" y="380052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6746400" y="380376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6726600" y="380520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6707520" y="380844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6687720" y="380988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6667560" y="3813120"/>
                <a:ext cx="108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6648840" y="381780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6628320" y="382104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6609600" y="3822840"/>
                <a:ext cx="90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6589800" y="382572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6569640" y="382752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6550920" y="383220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6530760" y="383544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6510960" y="383868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607080" y="3649680"/>
                <a:ext cx="362880" cy="13824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626880" y="3657600"/>
                <a:ext cx="3466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rritorialAuthorit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658200" y="37101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806160" y="37101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881040" y="3710160"/>
                <a:ext cx="69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R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022880" y="3627360"/>
                <a:ext cx="612720" cy="21744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044120" y="3633840"/>
                <a:ext cx="1576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rritor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075440" y="36878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224120" y="36878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300080" y="3687840"/>
                <a:ext cx="81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TAT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090560" y="372600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318440" y="37260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405920" y="372600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AN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059960" y="376380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175520" y="3763800"/>
                <a:ext cx="24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422480" y="3763800"/>
                <a:ext cx="15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untry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161120" y="3800520"/>
                <a:ext cx="498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me: TN [0..1] (country name if not coded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882400" y="3622680"/>
                <a:ext cx="622080" cy="21744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898600" y="3627360"/>
                <a:ext cx="1378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genc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930280" y="36831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078600" y="36831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149160" y="368316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B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945400" y="372096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176520" y="37209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264000" y="372096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AN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927040" y="3757680"/>
                <a:ext cx="12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*: II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016680" y="3795840"/>
                <a:ext cx="509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me*: ON [0..1] (e.g., the FDA for the USA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386760" y="6073920"/>
                <a:ext cx="775800" cy="6872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572880" y="6086520"/>
                <a:ext cx="415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verityAndFrequency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790960" y="6502320"/>
                <a:ext cx="612360" cy="29052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812560" y="6510240"/>
                <a:ext cx="2293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terialKin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843520" y="65660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990040" y="65660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061680" y="656604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858640" y="660096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089400" y="66009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158520" y="6600960"/>
                <a:ext cx="6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828040" y="663876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943600" y="6638760"/>
                <a:ext cx="240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185520" y="66387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tity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919480" y="6676920"/>
                <a:ext cx="457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specific or general type of drug or foo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824800" y="6713640"/>
                <a:ext cx="43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a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838840" y="6751800"/>
                <a:ext cx="116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acts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425920" y="5557680"/>
                <a:ext cx="643680" cy="3636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441400" y="5562720"/>
                <a:ext cx="3801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Criter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475600" y="56181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23920" y="56181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93400" y="561816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478840" y="565632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633280" y="56563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716800" y="565632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.C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460120" y="569448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76400" y="5694480"/>
                <a:ext cx="24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D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834520" y="569448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Typ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508000" y="5730840"/>
                <a:ext cx="279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sex, age, condition, ...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522400" y="5765760"/>
                <a:ext cx="323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gationInd: BL [0..1] "false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480280" y="5803920"/>
                <a:ext cx="15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: ST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462280" y="5842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560200" y="5842080"/>
                <a:ext cx="14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ANY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522760" y="5878440"/>
                <a:ext cx="34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CE, SET of CE or IVL of PQ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014520" y="4605480"/>
                <a:ext cx="310320" cy="139680"/>
              </a:xfrm>
              <a:custGeom>
                <a:avLst/>
                <a:gdLst/>
                <a:ahLst/>
                <a:rect l="l" t="t" r="r" b="b"/>
                <a:pathLst>
                  <a:path w="200" h="88">
                    <a:moveTo>
                      <a:pt x="0" y="88"/>
                    </a:moveTo>
                    <a:lnTo>
                      <a:pt x="0" y="22"/>
                    </a:lnTo>
                    <a:lnTo>
                      <a:pt x="99" y="0"/>
                    </a:lnTo>
                    <a:lnTo>
                      <a:pt x="200" y="22"/>
                    </a:lnTo>
                    <a:lnTo>
                      <a:pt x="20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92880" y="4640400"/>
                <a:ext cx="230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doseUnitChoi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63480" y="469260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199560" y="46926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270120" y="469260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SM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035040" y="4640400"/>
                <a:ext cx="2217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sumabl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901120" y="4189320"/>
                <a:ext cx="468360" cy="416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999400" y="4200480"/>
                <a:ext cx="29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seUnitChoic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378200" y="3500280"/>
                <a:ext cx="4716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generalizedPharmaceuticalClass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 flipV="1">
                <a:off x="7153200" y="2943000"/>
                <a:ext cx="338400" cy="40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491600" y="3454560"/>
                <a:ext cx="90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511760" y="345924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530480" y="346248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550280" y="346716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569000" y="347184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589160" y="3475080"/>
                <a:ext cx="93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609680" y="347976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628040" y="348444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648200" y="3487680"/>
                <a:ext cx="900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668360" y="349236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87080" y="349740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707240" y="3498840"/>
                <a:ext cx="90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727400" y="350532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746120" y="3510000"/>
                <a:ext cx="90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766280" y="3511440"/>
                <a:ext cx="936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784640" y="3517920"/>
                <a:ext cx="1080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804800" y="3522600"/>
                <a:ext cx="936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825320" y="3524400"/>
                <a:ext cx="9000" cy="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844040" y="3529080"/>
                <a:ext cx="10800" cy="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863840" y="3535200"/>
                <a:ext cx="2880" cy="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457400" y="3328920"/>
                <a:ext cx="339480" cy="14148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471800" y="3336840"/>
                <a:ext cx="29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ecializedKin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214760" y="3335400"/>
                <a:ext cx="25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sSpecialized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503840" y="339264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52160" y="33926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723440" y="3392640"/>
                <a:ext cx="55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E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458040" y="3484440"/>
                <a:ext cx="610920" cy="168480"/>
              </a:xfrm>
              <a:custGeom>
                <a:avLst/>
                <a:gdLst/>
                <a:ahLst/>
                <a:rect l="l" t="t" r="r" b="b"/>
                <a:pathLst>
                  <a:path w="394" h="106">
                    <a:moveTo>
                      <a:pt x="394" y="0"/>
                    </a:moveTo>
                    <a:lnTo>
                      <a:pt x="394" y="84"/>
                    </a:lnTo>
                    <a:lnTo>
                      <a:pt x="197" y="106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394" y="0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154640" y="3583080"/>
                <a:ext cx="307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territorialAuthority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507360" y="354024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642000" y="35402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711480" y="354024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590520" y="3578400"/>
                <a:ext cx="498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me*: TS [0..1] (time approval was granted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478560" y="3484440"/>
                <a:ext cx="118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thor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444640" y="4103640"/>
                <a:ext cx="321120" cy="641520"/>
              </a:xfrm>
              <a:custGeom>
                <a:avLst/>
                <a:gdLst/>
                <a:ahLst/>
                <a:rect l="l" t="t" r="r" b="b"/>
                <a:pathLst>
                  <a:path w="207" h="404">
                    <a:moveTo>
                      <a:pt x="207" y="0"/>
                    </a:moveTo>
                    <a:lnTo>
                      <a:pt x="207" y="382"/>
                    </a:lnTo>
                    <a:lnTo>
                      <a:pt x="103" y="404"/>
                    </a:lnTo>
                    <a:lnTo>
                      <a:pt x="0" y="382"/>
                    </a:lnTo>
                    <a:lnTo>
                      <a:pt x="0" y="0"/>
                    </a:lnTo>
                    <a:lnTo>
                      <a:pt x="207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55400" y="4675320"/>
                <a:ext cx="328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substanceAdministr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495400" y="415908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630040" y="4159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703840" y="415908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66960" y="4103640"/>
                <a:ext cx="133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946120" y="2895480"/>
                <a:ext cx="297360" cy="150840"/>
              </a:xfrm>
              <a:custGeom>
                <a:avLst/>
                <a:gdLst/>
                <a:ahLst/>
                <a:rect l="l" t="t" r="r" b="b"/>
                <a:pathLst>
                  <a:path w="192" h="95">
                    <a:moveTo>
                      <a:pt x="0" y="95"/>
                    </a:moveTo>
                    <a:lnTo>
                      <a:pt x="0" y="22"/>
                    </a:lnTo>
                    <a:lnTo>
                      <a:pt x="96" y="0"/>
                    </a:lnTo>
                    <a:lnTo>
                      <a:pt x="192" y="22"/>
                    </a:lnTo>
                    <a:lnTo>
                      <a:pt x="192" y="9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80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328080" y="3008160"/>
                <a:ext cx="284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dditionalInform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995080" y="298620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30080" y="29862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198840" y="2986200"/>
                <a:ext cx="47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967000" y="2930400"/>
                <a:ext cx="1746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019200" y="4348080"/>
                <a:ext cx="16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substan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935320" y="4255920"/>
                <a:ext cx="338040" cy="1414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947920" y="4264200"/>
                <a:ext cx="298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iveIngredi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023880" y="4522680"/>
                <a:ext cx="168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substan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935320" y="4432320"/>
                <a:ext cx="401760" cy="138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949000" y="4437000"/>
                <a:ext cx="392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nufacturedProduc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576120" y="2352600"/>
                <a:ext cx="415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..1 containerPackagedMedicine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937560" y="2575080"/>
                <a:ext cx="370800" cy="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V="1">
                <a:off x="6937560" y="2421000"/>
                <a:ext cx="756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V="1">
                <a:off x="6950160" y="2406600"/>
                <a:ext cx="756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V="1">
                <a:off x="6963840" y="2390760"/>
                <a:ext cx="612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6976440" y="2376360"/>
                <a:ext cx="5760" cy="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V="1">
                <a:off x="6988680" y="2361960"/>
                <a:ext cx="756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894000" y="2411280"/>
                <a:ext cx="428040" cy="181080"/>
              </a:xfrm>
              <a:prstGeom prst="rect">
                <a:avLst/>
              </a:prstGeom>
              <a:solidFill>
                <a:srgbClr val="ff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912000" y="2419200"/>
                <a:ext cx="1425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737400" y="2549520"/>
                <a:ext cx="163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sCont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940440" y="247500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088760" y="24750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164360" y="2475000"/>
                <a:ext cx="72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990480" y="2509920"/>
                <a:ext cx="34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uantity*: RTO&lt;PQ,PQ&gt;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980760" y="2548080"/>
                <a:ext cx="298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Packaged Drug Quantity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421600" y="5384880"/>
                <a:ext cx="317880" cy="129960"/>
              </a:xfrm>
              <a:custGeom>
                <a:avLst/>
                <a:gdLst/>
                <a:ahLst/>
                <a:rect l="l" t="t" r="r" b="b"/>
                <a:pathLst>
                  <a:path w="205" h="82">
                    <a:moveTo>
                      <a:pt x="205" y="0"/>
                    </a:moveTo>
                    <a:lnTo>
                      <a:pt x="205" y="60"/>
                    </a:lnTo>
                    <a:lnTo>
                      <a:pt x="102" y="82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205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834160" y="5445000"/>
                <a:ext cx="349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clinicalSituationCriterion  *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470920" y="543708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605200" y="5437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679360" y="543708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442480" y="5381640"/>
                <a:ext cx="133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183360" y="5618160"/>
                <a:ext cx="325800" cy="168120"/>
              </a:xfrm>
              <a:custGeom>
                <a:avLst/>
                <a:gdLst/>
                <a:ahLst/>
                <a:rect l="l" t="t" r="r" b="b"/>
                <a:pathLst>
                  <a:path w="210" h="106">
                    <a:moveTo>
                      <a:pt x="41" y="106"/>
                    </a:moveTo>
                    <a:lnTo>
                      <a:pt x="0" y="106"/>
                    </a:lnTo>
                    <a:lnTo>
                      <a:pt x="0" y="0"/>
                    </a:lnTo>
                    <a:lnTo>
                      <a:pt x="210" y="0"/>
                    </a:lnTo>
                    <a:lnTo>
                      <a:pt x="210" y="69"/>
                    </a:lnTo>
                    <a:lnTo>
                      <a:pt x="41" y="69"/>
                    </a:lnTo>
                    <a:lnTo>
                      <a:pt x="41" y="106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202800" y="5622840"/>
                <a:ext cx="1501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use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231600" y="5778360"/>
                <a:ext cx="1548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11"/>
                    </a:lnTo>
                    <a:lnTo>
                      <a:pt x="1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900040" y="5786280"/>
                <a:ext cx="33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consequenceObservat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6238800" y="5778360"/>
                <a:ext cx="16920" cy="144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232680" y="568332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368760" y="56833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441840" y="5683320"/>
                <a:ext cx="70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U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920000" y="338040"/>
                <a:ext cx="510480" cy="208080"/>
              </a:xfrm>
              <a:prstGeom prst="rect">
                <a:avLst/>
              </a:prstGeom>
              <a:solidFill>
                <a:srgbClr val="80ff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941600" y="343080"/>
                <a:ext cx="1303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s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972560" y="3985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120880" y="3985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190000" y="39852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S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987680" y="436680"/>
                <a:ext cx="19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erminer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215560" y="4366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303040" y="436680"/>
                <a:ext cx="128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AN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003160" y="474840"/>
                <a:ext cx="270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me*: BAG&lt;PN&gt; [0..*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241760" y="4522680"/>
                <a:ext cx="392040" cy="2080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256880" y="4527720"/>
                <a:ext cx="3801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Criter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425280" y="3900600"/>
                <a:ext cx="766440" cy="2538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441480" y="3905280"/>
                <a:ext cx="5583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dicationObservationCriter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474600" y="39607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623280" y="39607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694560" y="396072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77840" y="399888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632640" y="39988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716160" y="399888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.C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59120" y="4037040"/>
                <a:ext cx="58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77200" y="4037040"/>
                <a:ext cx="241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D CW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862320" y="4037040"/>
                <a:ext cx="322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DiagnosisTypes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461640" y="40734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67840" y="4073400"/>
                <a:ext cx="172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CE [1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768360" y="4073400"/>
                <a:ext cx="203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servationVal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24640" y="4111560"/>
                <a:ext cx="3344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"indication name" and code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425920" y="5956200"/>
                <a:ext cx="651600" cy="25560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442840" y="5962680"/>
                <a:ext cx="2203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Criter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475600" y="601992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623920" y="601992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691960" y="601992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478840" y="605808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633280" y="60580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716800" y="6058080"/>
                <a:ext cx="1119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.CR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509440" y="6094440"/>
                <a:ext cx="28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de: CD CWE [0..1]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795280" y="6094440"/>
                <a:ext cx="98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5281920" y="4680"/>
              <a:ext cx="3179160" cy="6531120"/>
              <a:chOff x="5281920" y="4680"/>
              <a:chExt cx="3179160" cy="6531120"/>
            </a:xfrm>
          </p:grpSpPr>
          <p:sp>
            <p:nvSpPr>
              <p:cNvPr id="1244" name=""/>
              <p:cNvSpPr/>
              <p:nvPr/>
            </p:nvSpPr>
            <p:spPr>
              <a:xfrm>
                <a:off x="5522400" y="6129360"/>
                <a:ext cx="323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gationInd: BL [0..1] "false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480280" y="6167520"/>
                <a:ext cx="15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: ST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859800" y="1353960"/>
                <a:ext cx="317880" cy="130320"/>
              </a:xfrm>
              <a:custGeom>
                <a:avLst/>
                <a:gdLst/>
                <a:ahLst/>
                <a:rect l="l" t="t" r="r" b="b"/>
                <a:pathLst>
                  <a:path w="205" h="82">
                    <a:moveTo>
                      <a:pt x="0" y="82"/>
                    </a:moveTo>
                    <a:lnTo>
                      <a:pt x="0" y="22"/>
                    </a:lnTo>
                    <a:lnTo>
                      <a:pt x="102" y="0"/>
                    </a:lnTo>
                    <a:lnTo>
                      <a:pt x="205" y="22"/>
                    </a:lnTo>
                    <a:lnTo>
                      <a:pt x="205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227720" y="1447920"/>
                <a:ext cx="15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comm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909120" y="144468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043760" y="14446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117560" y="144468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881040" y="1389240"/>
                <a:ext cx="1746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841880" y="1481040"/>
                <a:ext cx="460800" cy="32868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857720" y="1488960"/>
                <a:ext cx="4352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FragmentReference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893000" y="154476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041680" y="15447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111160" y="1544760"/>
                <a:ext cx="51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931880" y="1579680"/>
                <a:ext cx="296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class code should be for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903440" y="1617840"/>
                <a:ext cx="176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Fragment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896240" y="165564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050680" y="16556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121600" y="165564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897320" y="1692360"/>
                <a:ext cx="1591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: ED [0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935120" y="1730520"/>
                <a:ext cx="314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refers to a fragment of th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946280" y="1765440"/>
                <a:ext cx="367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ction-text in content element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395120" y="1666800"/>
                <a:ext cx="446760" cy="85680"/>
              </a:xfrm>
              <a:custGeom>
                <a:avLst/>
                <a:gdLst/>
                <a:ahLst/>
                <a:rect l="l" t="t" r="r" b="b"/>
                <a:pathLst>
                  <a:path w="288" h="54">
                    <a:moveTo>
                      <a:pt x="0" y="0"/>
                    </a:moveTo>
                    <a:lnTo>
                      <a:pt x="267" y="0"/>
                    </a:lnTo>
                    <a:lnTo>
                      <a:pt x="288" y="27"/>
                    </a:lnTo>
                    <a:lnTo>
                      <a:pt x="267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503840" y="1631880"/>
                <a:ext cx="316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textFragmentReferenc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446240" y="172080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580520" y="17208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654320" y="172080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417440" y="1666800"/>
                <a:ext cx="1332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162560" y="1771560"/>
                <a:ext cx="325800" cy="142920"/>
              </a:xfrm>
              <a:custGeom>
                <a:avLst/>
                <a:gdLst/>
                <a:ahLst/>
                <a:rect l="l" t="t" r="r" b="b"/>
                <a:pathLst>
                  <a:path w="210" h="90">
                    <a:moveTo>
                      <a:pt x="150" y="0"/>
                    </a:moveTo>
                    <a:lnTo>
                      <a:pt x="210" y="0"/>
                    </a:lnTo>
                    <a:lnTo>
                      <a:pt x="210" y="90"/>
                    </a:lnTo>
                    <a:lnTo>
                      <a:pt x="0" y="90"/>
                    </a:lnTo>
                    <a:lnTo>
                      <a:pt x="0" y="21"/>
                    </a:lnTo>
                    <a:lnTo>
                      <a:pt x="150" y="21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184880" y="1811160"/>
                <a:ext cx="1209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395120" y="1765440"/>
                <a:ext cx="1692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11"/>
                    </a:moveTo>
                    <a:lnTo>
                      <a:pt x="11" y="0"/>
                    </a:lnTo>
                    <a:lnTo>
                      <a:pt x="0" y="4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024320" y="1805040"/>
                <a:ext cx="153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commen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V="1">
                <a:off x="7156080" y="1797120"/>
                <a:ext cx="16920" cy="15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213320" y="187020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347600" y="187020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423200" y="1870200"/>
                <a:ext cx="6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L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259320" y="1623960"/>
                <a:ext cx="411120" cy="211320"/>
              </a:xfrm>
              <a:prstGeom prst="rect">
                <a:avLst/>
              </a:prstGeom>
              <a:solidFill>
                <a:srgbClr val="ff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278040" y="1631880"/>
                <a:ext cx="307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ctionReplace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310440" y="1687680"/>
                <a:ext cx="125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ass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458760" y="16876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546240" y="1687680"/>
                <a:ext cx="124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CSECT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313680" y="1725480"/>
                <a:ext cx="13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od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468120" y="17254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536880" y="1725480"/>
                <a:ext cx="525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V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287040" y="1760400"/>
                <a:ext cx="23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332040" y="1760400"/>
                <a:ext cx="107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II [1..1]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301080" y="1419120"/>
                <a:ext cx="325800" cy="204840"/>
              </a:xfrm>
              <a:custGeom>
                <a:avLst/>
                <a:gdLst/>
                <a:ahLst/>
                <a:rect l="l" t="t" r="r" b="b"/>
                <a:pathLst>
                  <a:path w="210" h="129">
                    <a:moveTo>
                      <a:pt x="210" y="0"/>
                    </a:moveTo>
                    <a:lnTo>
                      <a:pt x="210" y="107"/>
                    </a:lnTo>
                    <a:lnTo>
                      <a:pt x="104" y="129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694560" y="1554120"/>
                <a:ext cx="2368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sectionReplace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350400" y="147168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85400" y="147168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558840" y="1471680"/>
                <a:ext cx="67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PLC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383520" y="1509840"/>
                <a:ext cx="255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extConductionInd: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365880" y="1547640"/>
                <a:ext cx="1850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L [0..1] "false"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319440" y="1415880"/>
                <a:ext cx="2660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placement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391720" y="5487840"/>
                <a:ext cx="719640" cy="1047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529600" y="5499000"/>
                <a:ext cx="4564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inicalSituationCriter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8118360" y="2968560"/>
                <a:ext cx="254160" cy="17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8084160" y="2952720"/>
                <a:ext cx="341280" cy="1414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097120" y="2960640"/>
                <a:ext cx="29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ecializedKin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840080" y="2959200"/>
                <a:ext cx="25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sSpecialized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8146440" y="2709360"/>
                <a:ext cx="283680" cy="3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8110440" y="2732040"/>
                <a:ext cx="341280" cy="138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8123400" y="2736720"/>
                <a:ext cx="2934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ecializedKind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866360" y="2735280"/>
                <a:ext cx="2566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asSpecializedKin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332400" y="139680"/>
                <a:ext cx="680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394320" y="11592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49" h="31">
                    <a:moveTo>
                      <a:pt x="0" y="0"/>
                    </a:moveTo>
                    <a:lnTo>
                      <a:pt x="49" y="15"/>
                    </a:lnTo>
                    <a:lnTo>
                      <a:pt x="0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749200" y="22320"/>
                <a:ext cx="583200" cy="2365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768280" y="19080"/>
                <a:ext cx="1987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L_RMIM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770440" y="65160"/>
                <a:ext cx="1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(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823000" y="65160"/>
                <a:ext cx="1987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PORR_RM050024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968800" y="65160"/>
                <a:ext cx="158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Courier New"/>
                    <a:ea typeface="Arial"/>
                  </a:rPr>
                  <a:t>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860080" y="103320"/>
                <a:ext cx="4046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cription: Used for documents of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859720" y="141120"/>
                <a:ext cx="3952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dication information, also calle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873760" y="177840"/>
                <a:ext cx="465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escribing information, package inserts,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811120" y="216000"/>
                <a:ext cx="1699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rug label, etc.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391720" y="5024520"/>
                <a:ext cx="317880" cy="142920"/>
              </a:xfrm>
              <a:custGeom>
                <a:avLst/>
                <a:gdLst/>
                <a:ahLst/>
                <a:rect l="l" t="t" r="r" b="b"/>
                <a:pathLst>
                  <a:path w="205" h="90">
                    <a:moveTo>
                      <a:pt x="0" y="90"/>
                    </a:moveTo>
                    <a:lnTo>
                      <a:pt x="0" y="20"/>
                    </a:lnTo>
                    <a:lnTo>
                      <a:pt x="102" y="0"/>
                    </a:lnTo>
                    <a:lnTo>
                      <a:pt x="205" y="20"/>
                    </a:lnTo>
                    <a:lnTo>
                      <a:pt x="205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749200" y="5127480"/>
                <a:ext cx="1090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* issu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439960" y="511164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577480" y="511164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649480" y="5111640"/>
                <a:ext cx="66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411880" y="5056200"/>
                <a:ext cx="1746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jectOf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270920" y="4614840"/>
                <a:ext cx="342720" cy="130320"/>
              </a:xfrm>
              <a:custGeom>
                <a:avLst/>
                <a:gdLst/>
                <a:ahLst/>
                <a:rect l="l" t="t" r="r" b="b"/>
                <a:pathLst>
                  <a:path w="221" h="82">
                    <a:moveTo>
                      <a:pt x="0" y="82"/>
                    </a:moveTo>
                    <a:lnTo>
                      <a:pt x="0" y="22"/>
                    </a:lnTo>
                    <a:lnTo>
                      <a:pt x="110" y="0"/>
                    </a:lnTo>
                    <a:lnTo>
                      <a:pt x="221" y="22"/>
                    </a:lnTo>
                    <a:lnTo>
                      <a:pt x="221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691760" y="4648320"/>
                <a:ext cx="2811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.1 observationCriterion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320240" y="4703760"/>
                <a:ext cx="1152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Code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456320" y="4703760"/>
                <a:ext cx="648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: &lt;= 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529400" y="4703760"/>
                <a:ext cx="69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BJC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291080" y="4646520"/>
                <a:ext cx="31608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intenanceGo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28192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35176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42268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49432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56560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63724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70672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77836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84964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592092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992560" y="1930320"/>
                <a:ext cx="10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06204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13368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20496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27660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347880" y="1930320"/>
                <a:ext cx="10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41772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48900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56028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63192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703200" y="1930320"/>
                <a:ext cx="10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77304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84432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91596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98688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05708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12836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19964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27092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34220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41240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48368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55496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62624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697880" y="1930320"/>
                <a:ext cx="10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76772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83864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91028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98156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8053200" y="1930320"/>
                <a:ext cx="10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812268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819432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826560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336880" y="193032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8406720" y="193032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8459640" y="18968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8459640" y="18252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8459640" y="1752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8459640" y="167940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8459640" y="16063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8459640" y="15332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8459640" y="146196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8459640" y="13888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8459640" y="13158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8459640" y="12427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V="1">
                <a:off x="8459640" y="11696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V="1">
                <a:off x="8459640" y="10983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V="1">
                <a:off x="8459640" y="10252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8459640" y="9522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V="1">
                <a:off x="8459640" y="8791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8459640" y="8060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V="1">
                <a:off x="8459640" y="7347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V="1">
                <a:off x="8459640" y="6616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8459640" y="5886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8459640" y="5155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8459640" y="444240"/>
                <a:ext cx="144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8459640" y="3711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8459640" y="2980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 flipV="1">
                <a:off x="8459640" y="2250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8459640" y="1522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8459640" y="80640"/>
                <a:ext cx="144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V="1">
                <a:off x="8459640" y="75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>
                <a:off x="838980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>
                <a:off x="831960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>
                <a:off x="824868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>
                <a:off x="817740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810576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803448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796464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789336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>
                <a:off x="782208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>
                <a:off x="775044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7680600" y="4680"/>
                <a:ext cx="10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 flipH="1">
                <a:off x="760932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H="1">
                <a:off x="753804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746640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>
                <a:off x="739476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7325280" y="4680"/>
                <a:ext cx="10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725400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H="1">
                <a:off x="718272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H="1">
                <a:off x="711072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703944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696996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689868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682668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>
                <a:off x="675540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 flipH="1">
                <a:off x="668448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>
                <a:off x="661464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H="1">
                <a:off x="654300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H="1">
                <a:off x="647136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640080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 flipH="1">
                <a:off x="6330600" y="4680"/>
                <a:ext cx="10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H="1">
                <a:off x="625896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618732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>
                <a:off x="611676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>
                <a:off x="604548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5975280" y="4680"/>
                <a:ext cx="108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 flipH="1">
                <a:off x="5903640" y="4680"/>
                <a:ext cx="12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H="1">
                <a:off x="583272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576144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 flipH="1">
                <a:off x="568980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5619960" y="4680"/>
                <a:ext cx="10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554868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H="1">
                <a:off x="547740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5281920" y="4680"/>
              <a:ext cx="3183840" cy="6819840"/>
              <a:chOff x="5281920" y="4680"/>
              <a:chExt cx="3183840" cy="6819840"/>
            </a:xfrm>
          </p:grpSpPr>
          <p:sp>
            <p:nvSpPr>
              <p:cNvPr id="1445" name=""/>
              <p:cNvSpPr/>
              <p:nvPr/>
            </p:nvSpPr>
            <p:spPr>
              <a:xfrm flipH="1">
                <a:off x="540612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H="1">
                <a:off x="5334480" y="4680"/>
                <a:ext cx="122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281920" y="936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1920" y="8244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81920" y="1555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281920" y="2286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281920" y="2998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81920" y="37296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81920" y="4460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81920" y="5191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81920" y="5922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81920" y="663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281920" y="7365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281920" y="8096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281920" y="8827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281920" y="9558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281920" y="10270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281920" y="11001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281920" y="11732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81920" y="12463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81920" y="131904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81920" y="13906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281920" y="14637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281920" y="15368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281920" y="160956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281920" y="1682640"/>
                <a:ext cx="144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281920" y="17542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281920" y="18273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281920" y="19000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666480" y="932040"/>
                <a:ext cx="37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D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728400" y="942840"/>
                <a:ext cx="19260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OCUMENT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928200" y="93204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 </a:t>
                </a:r>
                <a:r>
                  <a:rPr b="1" i="1" lang="en-US" sz="4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999120" y="942840"/>
                <a:ext cx="1058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ODE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28192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35176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42268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49432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56560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63724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70672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77836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84964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92128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992560" y="387360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06240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13368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20496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27660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347880" y="387360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41772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48900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56064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63192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703200" y="3873600"/>
                <a:ext cx="10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77304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84432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91596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98688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05708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12836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20000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27092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734220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41240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748368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55496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62624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697880" y="387360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76772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83900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91028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798192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8053200" y="387360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812304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819432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826560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8337240" y="387360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8406720" y="387360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8464680" y="384480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V="1">
                <a:off x="8464680" y="3773160"/>
                <a:ext cx="1080" cy="1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8464680" y="370008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8464680" y="362700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8464680" y="355428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8464680" y="348120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8464680" y="340956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8464680" y="333684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8464680" y="326376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8464680" y="319068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8464680" y="311760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8464680" y="304632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8464680" y="297324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V="1">
                <a:off x="8464680" y="290016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V="1">
                <a:off x="8464680" y="282708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8464680" y="275400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8464680" y="2682720"/>
                <a:ext cx="108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8464680" y="260964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8464680" y="253656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V="1">
                <a:off x="8464680" y="246348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8464680" y="239040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V="1">
                <a:off x="8464680" y="231912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8464680" y="224604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8464680" y="217296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8464680" y="209988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8464680" y="2028960"/>
                <a:ext cx="108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V="1">
                <a:off x="8464680" y="1955520"/>
                <a:ext cx="10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8395920" y="1952640"/>
                <a:ext cx="10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H="1">
                <a:off x="832500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H="1">
                <a:off x="825336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818208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H="1">
                <a:off x="811044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804096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796932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H="1">
                <a:off x="789804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H="1">
                <a:off x="782640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>
                <a:off x="7754760" y="195264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>
                <a:off x="768564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>
                <a:off x="761400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>
                <a:off x="754272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>
                <a:off x="7470720" y="195264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>
                <a:off x="7401600" y="195264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732996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H="1">
                <a:off x="725868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H="1">
                <a:off x="7186680" y="195264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7115400" y="195264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>
                <a:off x="7045920" y="195264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H="1">
                <a:off x="697464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H="1">
                <a:off x="6903000" y="195264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H="1">
                <a:off x="683208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>
                <a:off x="676080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6690240" y="195264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6618960" y="195264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>
                <a:off x="654804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647676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640548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6334920" y="195264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626436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>
                <a:off x="619272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612144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H="1">
                <a:off x="604980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>
                <a:off x="598032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>
                <a:off x="590868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583740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>
                <a:off x="576576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>
                <a:off x="5695920" y="1952640"/>
                <a:ext cx="10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>
                <a:off x="562500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>
                <a:off x="555336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H="1">
                <a:off x="548208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>
                <a:off x="5410440" y="195264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H="1">
                <a:off x="5340960" y="195264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281920" y="19526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281920" y="20257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281920" y="209880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281920" y="2171880"/>
                <a:ext cx="1440" cy="1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281920" y="22431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281920" y="23162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281920" y="238932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281920" y="246204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281920" y="25336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281920" y="26067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281920" y="26798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281920" y="275256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281920" y="282564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281920" y="28972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281920" y="29703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281920" y="30430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281920" y="311616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281920" y="31892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5281920" y="32608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281920" y="333360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281920" y="34066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281920" y="34797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281920" y="355284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281920" y="362412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281920" y="369720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281920" y="377028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281920" y="3843360"/>
                <a:ext cx="144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659280" y="2876400"/>
                <a:ext cx="4176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734160" y="2887560"/>
                <a:ext cx="20952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EDICATION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940800" y="2876400"/>
                <a:ext cx="55440" cy="6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 </a:t>
                </a:r>
                <a:r>
                  <a:rPr b="1" i="1" lang="en-US" sz="4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M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014600" y="2887560"/>
                <a:ext cx="10584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ODE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28192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35176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422680" y="68230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494320" y="68230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56560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63724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706720" y="68230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5778360" y="68230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584964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92128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992560" y="682308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062400" y="6823080"/>
                <a:ext cx="12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13368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20496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27660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347880" y="6823080"/>
                <a:ext cx="10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41772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48900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56064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631920" y="6823080"/>
                <a:ext cx="12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5" name=""/>
            <p:cNvSpPr/>
            <p:nvPr/>
          </p:nvSpPr>
          <p:spPr>
            <a:xfrm>
              <a:off x="6703560" y="6823080"/>
              <a:ext cx="10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77340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84468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91632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98724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05744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12872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20036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27128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34256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41276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48404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532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62660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698240" y="6823080"/>
              <a:ext cx="10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76808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83936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91064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98228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8053560" y="6823080"/>
              <a:ext cx="10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12340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19468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26596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337600" y="6823080"/>
              <a:ext cx="12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407080" y="6823080"/>
              <a:ext cx="12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8461800" y="679248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V="1">
              <a:off x="8461800" y="672120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8461800" y="664812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8461800" y="657504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8461800" y="650232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8461800" y="642924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8461800" y="635760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V="1">
              <a:off x="8461800" y="628452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V="1">
              <a:off x="8461800" y="621180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V="1">
              <a:off x="8461800" y="613872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V="1">
              <a:off x="8461800" y="606564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V="1">
              <a:off x="8461800" y="599400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8461800" y="592128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8461800" y="584820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8461800" y="577512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V="1">
              <a:off x="8461800" y="5703480"/>
              <a:ext cx="10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8461800" y="563076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8461800" y="555768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8461800" y="548460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8461800" y="541152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V="1">
              <a:off x="8461800" y="5339880"/>
              <a:ext cx="10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V="1">
              <a:off x="8461800" y="526716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V="1">
              <a:off x="8461800" y="519408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V="1">
              <a:off x="8461800" y="512100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8461800" y="504792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V="1">
              <a:off x="8461800" y="4976280"/>
              <a:ext cx="10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8461800" y="490356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V="1">
              <a:off x="8461800" y="483048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8461800" y="475740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8461800" y="468432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8461800" y="4613040"/>
              <a:ext cx="10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V="1">
              <a:off x="8461800" y="453996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8461800" y="446688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8461800" y="439380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8461800" y="432108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V="1">
              <a:off x="8461800" y="424944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8461800" y="417636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V="1">
              <a:off x="8461800" y="410328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8461800" y="403056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V="1">
              <a:off x="8461800" y="3957480"/>
              <a:ext cx="1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8461800" y="3885840"/>
              <a:ext cx="108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>
              <a:off x="840132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832968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825840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818676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8117280" y="3875040"/>
              <a:ext cx="1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804600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797436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790308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783108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776196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>
              <a:off x="769032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>
              <a:off x="761868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754704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747648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740628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733464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>
              <a:off x="726336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719244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7122600" y="3875040"/>
              <a:ext cx="1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705060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>
              <a:off x="697932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690840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683712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>
              <a:off x="6766920" y="3875040"/>
              <a:ext cx="1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>
              <a:off x="669528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>
              <a:off x="662436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>
              <a:off x="655308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648180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641124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634068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626904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619776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612612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605664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598500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591372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584208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577044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>
              <a:off x="570096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562968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555840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5486400" y="3875040"/>
              <a:ext cx="12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5417280" y="3875040"/>
              <a:ext cx="1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5345640" y="3875040"/>
              <a:ext cx="122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281920" y="3875040"/>
              <a:ext cx="43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281920" y="394344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281920" y="40165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281920" y="4089240"/>
              <a:ext cx="14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281920" y="41608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281920" y="423396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281920" y="430704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281920" y="437976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281920" y="4452840"/>
              <a:ext cx="14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281920" y="45244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281920" y="459756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281920" y="467028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281920" y="474336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281920" y="4816440"/>
              <a:ext cx="14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81920" y="48880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281920" y="496080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281920" y="503388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281920" y="510696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281920" y="517860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281920" y="525132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281920" y="532440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281920" y="53974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281920" y="547056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281920" y="5541840"/>
              <a:ext cx="144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281920" y="56149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281920" y="568800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281920" y="57610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281920" y="583416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281920" y="590544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281920" y="59785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281920" y="605160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281920" y="61246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281920" y="6197760"/>
              <a:ext cx="144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281920" y="626904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281920" y="63421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281920" y="641520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81920" y="648828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281920" y="6561000"/>
              <a:ext cx="14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281920" y="663264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281920" y="670572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281920" y="6778800"/>
              <a:ext cx="144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514920" y="5313240"/>
              <a:ext cx="3744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808080"/>
                  </a:solidFill>
                  <a:latin typeface="Arial"/>
                  <a:ea typeface="Arial"/>
                </a:rPr>
                <a:t>C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570720" y="5324400"/>
              <a:ext cx="150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8080"/>
                  </a:solidFill>
                  <a:latin typeface="Arial"/>
                  <a:ea typeface="Arial"/>
                </a:rPr>
                <a:t>LINICA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715800" y="5313240"/>
              <a:ext cx="478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808080"/>
                  </a:solidFill>
                  <a:latin typeface="Arial"/>
                  <a:ea typeface="Arial"/>
                </a:rPr>
                <a:t> </a:t>
              </a:r>
              <a:r>
                <a:rPr b="1" i="1" lang="en-US" sz="400" spc="-1" strike="noStrike">
                  <a:solidFill>
                    <a:srgbClr val="808080"/>
                  </a:solidFill>
                  <a:latin typeface="Arial"/>
                  <a:ea typeface="Arial"/>
                </a:rPr>
                <a:t>P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783480" y="5324400"/>
              <a:ext cx="1623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8080"/>
                  </a:solidFill>
                  <a:latin typeface="Arial"/>
                  <a:ea typeface="Arial"/>
                </a:rPr>
                <a:t>RODUC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949440" y="5313240"/>
              <a:ext cx="280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" spc="-1" strike="noStrike">
                  <a:solidFill>
                    <a:srgbClr val="808080"/>
                  </a:solidFill>
                  <a:latin typeface="Arial"/>
                  <a:ea typeface="Arial"/>
                </a:rPr>
                <a:t> </a:t>
              </a:r>
              <a:r>
                <a:rPr b="1" i="1" lang="en-US" sz="400" spc="-1" strike="noStrike">
                  <a:solidFill>
                    <a:srgbClr val="808080"/>
                  </a:solidFill>
                  <a:latin typeface="Arial"/>
                  <a:ea typeface="Arial"/>
                </a:rPr>
                <a:t>I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009560" y="5324400"/>
              <a:ext cx="2566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" spc="-1" strike="noStrike">
                  <a:solidFill>
                    <a:srgbClr val="808080"/>
                  </a:solidFill>
                  <a:latin typeface="Arial"/>
                  <a:ea typeface="Arial"/>
                </a:rPr>
                <a:t>NFORMATIO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818400" y="1484280"/>
              <a:ext cx="577080" cy="320760"/>
            </a:xfrm>
            <a:prstGeom prst="rect">
              <a:avLst/>
            </a:prstGeom>
            <a:solidFill>
              <a:srgbClr val="ff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839280" y="1490760"/>
              <a:ext cx="1746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ent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869520" y="1547640"/>
              <a:ext cx="1256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ssCode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017840" y="1547640"/>
              <a:ext cx="648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*: &lt;=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087680" y="1547640"/>
              <a:ext cx="511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872760" y="1584360"/>
              <a:ext cx="1317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odCode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025400" y="1584360"/>
              <a:ext cx="648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*: &lt;=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096320" y="1584360"/>
              <a:ext cx="525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N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850800" y="1622520"/>
              <a:ext cx="464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926760" y="1622520"/>
              <a:ext cx="12708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*: ED [1..1]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925320" y="1657440"/>
              <a:ext cx="3769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the comment text written by the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870960" y="1695600"/>
              <a:ext cx="13788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enter)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921360" y="1733400"/>
              <a:ext cx="3636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usCode*: CS CNE [0..1] &lt;=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281720" y="1733400"/>
              <a:ext cx="1119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Status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912360" y="1770120"/>
              <a:ext cx="34668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ffectiveTime*: IVL&lt;TS&gt; [0..1]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395480" y="1541520"/>
              <a:ext cx="172080" cy="85680"/>
            </a:xfrm>
            <a:custGeom>
              <a:avLst/>
              <a:gdLst/>
              <a:ahLst/>
              <a:rect l="l" t="t" r="r" b="b"/>
              <a:pathLst>
                <a:path w="111" h="54">
                  <a:moveTo>
                    <a:pt x="0" y="0"/>
                  </a:moveTo>
                  <a:lnTo>
                    <a:pt x="89" y="0"/>
                  </a:lnTo>
                  <a:lnTo>
                    <a:pt x="111" y="27"/>
                  </a:lnTo>
                  <a:lnTo>
                    <a:pt x="89" y="54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329600" y="1506600"/>
              <a:ext cx="2156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.* assignedEntity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417800" y="1541520"/>
              <a:ext cx="11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hor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901480" y="2604960"/>
              <a:ext cx="311760" cy="147600"/>
            </a:xfrm>
            <a:custGeom>
              <a:avLst/>
              <a:gdLst/>
              <a:ahLst/>
              <a:rect l="l" t="t" r="r" b="b"/>
              <a:pathLst>
                <a:path w="201" h="93">
                  <a:moveTo>
                    <a:pt x="201" y="0"/>
                  </a:moveTo>
                  <a:lnTo>
                    <a:pt x="201" y="71"/>
                  </a:lnTo>
                  <a:lnTo>
                    <a:pt x="100" y="93"/>
                  </a:lnTo>
                  <a:lnTo>
                    <a:pt x="0" y="71"/>
                  </a:lnTo>
                  <a:lnTo>
                    <a:pt x="0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80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301080" y="2603520"/>
              <a:ext cx="3283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.* substanceAdministration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952240" y="265752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Code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086520" y="2657520"/>
              <a:ext cx="648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*: &lt;=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158880" y="2657520"/>
              <a:ext cx="572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M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923800" y="2602080"/>
              <a:ext cx="223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umedI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337440" y="2604960"/>
              <a:ext cx="311760" cy="147600"/>
            </a:xfrm>
            <a:custGeom>
              <a:avLst/>
              <a:gdLst/>
              <a:ahLst/>
              <a:rect l="l" t="t" r="r" b="b"/>
              <a:pathLst>
                <a:path w="201" h="93">
                  <a:moveTo>
                    <a:pt x="201" y="0"/>
                  </a:moveTo>
                  <a:lnTo>
                    <a:pt x="201" y="71"/>
                  </a:lnTo>
                  <a:lnTo>
                    <a:pt x="100" y="93"/>
                  </a:lnTo>
                  <a:lnTo>
                    <a:pt x="0" y="71"/>
                  </a:lnTo>
                  <a:lnTo>
                    <a:pt x="0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80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738480" y="2603520"/>
              <a:ext cx="3283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.* substanceAdministration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388200" y="2657520"/>
              <a:ext cx="1152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Code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522840" y="2657520"/>
              <a:ext cx="6480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*: &lt;= 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594840" y="2657520"/>
              <a:ext cx="5724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SM</a:t>
              </a:r>
              <a:endParaRPr b="0" lang="en-US" sz="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359760" y="2602080"/>
              <a:ext cx="223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umedI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83C-D624-4F62-A395-9D58D89748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Medication Module (SPL R3)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graphicFrame>
        <p:nvGraphicFramePr>
          <p:cNvPr id="1833" name=""/>
          <p:cNvGraphicFramePr/>
          <p:nvPr/>
        </p:nvGraphicFramePr>
        <p:xfrm>
          <a:off x="-774720" y="1273320"/>
          <a:ext cx="10167840" cy="52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74720" y="1273320"/>
                    <a:ext cx="10167840" cy="52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CA4D-EE9D-4A02-993B-B9007965DAB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SPL Intuitive Drug Model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692280" y="1604880"/>
          <a:ext cx="7738920" cy="45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04880"/>
                    <a:ext cx="7738920" cy="45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8A7-2E94-4E2E-84E8-6B7AA9EB9D2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Drug Terminologies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erminologies support some reason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bout existenc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What drugs, with what ingredients, packaging exist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bout abstractions, generalizatio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Drug classes and their member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nical Drugs”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DA Listing, Multum, RxNorm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erminologies alone do not cover reasoning about purpose, effect, interactions etc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ore complete knowledge bases are neede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DF-RT includes some pharmacological knowledg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may-treat,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mechanism-of-action,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hysiologic-effect,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hemical-clas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ome pharmacokinetic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5B1-4C1D-43D3-B51D-EDB78D678E1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Hierarchies that are not - RxNorm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pic>
        <p:nvPicPr>
          <p:cNvPr id="1841" name="" descr=""/>
          <p:cNvPicPr/>
          <p:nvPr/>
        </p:nvPicPr>
        <p:blipFill>
          <a:blip r:embed="rId1"/>
          <a:stretch/>
        </p:blipFill>
        <p:spPr>
          <a:xfrm>
            <a:off x="1057320" y="1417680"/>
            <a:ext cx="6943680" cy="48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BD5C-A07B-4E95-A05B-CD02D29A28F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Hierarchies – Arbitrary Abstractions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843" name=""/>
          <p:cNvSpPr/>
          <p:nvPr/>
        </p:nvSpPr>
        <p:spPr>
          <a:xfrm>
            <a:off x="1795320" y="5888160"/>
            <a:ext cx="48229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ackaged Medicine MISRF BP (NDC-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1836720" y="5396040"/>
            <a:ext cx="4738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anufactured Medicine MISRF B (NDC-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281320" y="4925880"/>
            <a:ext cx="385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Generic Formulation MISRF (e.g. Multum_i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938240" y="4141800"/>
            <a:ext cx="2181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ngredient combination, route, no form no strength (MIsR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308480" y="4221000"/>
            <a:ext cx="26384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oiety combination, strength, no form no route (MiSrf, RxN:S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929040" y="2246400"/>
            <a:ext cx="2266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oiety combination, route, no form no strength (MisR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2801880" y="1469880"/>
            <a:ext cx="3556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oiety combination (Misr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795320" y="1973160"/>
            <a:ext cx="2878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ngredient combination only (MIsr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3230640" y="3616200"/>
            <a:ext cx="26240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oiety combination, route, abstract form, no strength (MisR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749600" y="2670120"/>
            <a:ext cx="192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Ingredient combination strength, no route no form (MISr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V="1">
            <a:off x="4210200" y="56516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V="1">
            <a:off x="4210200" y="516384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V="1">
            <a:off x="5454720" y="4722840"/>
            <a:ext cx="23796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 flipV="1">
            <a:off x="3025800" y="4668840"/>
            <a:ext cx="14616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 flipV="1">
            <a:off x="4206960" y="4100040"/>
            <a:ext cx="3240" cy="75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 flipV="1">
            <a:off x="2833560" y="3462120"/>
            <a:ext cx="0" cy="67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H="1" flipV="1">
            <a:off x="2754000" y="2243160"/>
            <a:ext cx="324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V="1">
            <a:off x="4130640" y="1708200"/>
            <a:ext cx="180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4206960" y="2698920"/>
            <a:ext cx="0" cy="91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5070600" y="171936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807080" y="2876400"/>
            <a:ext cx="21398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Moiety combination, form no route no strength (MisrF, RxN:SCD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6357960" y="3616200"/>
            <a:ext cx="0" cy="60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 flipV="1">
            <a:off x="5570280" y="2720880"/>
            <a:ext cx="207720" cy="15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90A-D63C-4D0F-BF27-932EADCE824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Two Approaches to Drug Names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e-coordinated,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mplete set of (standard) drug nam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Only RxNorm Clinical Drugs are not enough,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ctors want brand names too, sometime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ay want to formulate creams, cocktails, etc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idn’t seem satisfactory in testing with end-user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genstrief system has a manually fine-tuned set of drug name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ew: Post-coordinated  approach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 prescriber types in the drug name, we parse it and fill a description template similar to SPL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an be used to query for matching medicin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92F-EE06-40ED-B6DB-CD493A4993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Century Gothic"/>
              </a:rPr>
              <a:t>Post Coordinated</a:t>
            </a:r>
            <a:br>
              <a:rPr sz="3200"/>
            </a:br>
            <a:r>
              <a:rPr b="0" lang="en-US" sz="3200" spc="-1" strike="noStrike">
                <a:solidFill>
                  <a:srgbClr val="003300"/>
                </a:solidFill>
                <a:latin typeface="Century Gothic"/>
              </a:rPr>
              <a:t>Order Structure</a:t>
            </a:r>
            <a:endParaRPr b="0" lang="en-US" sz="3200" spc="-1" strike="noStrike">
              <a:solidFill>
                <a:srgbClr val="003300"/>
              </a:solidFill>
              <a:latin typeface="Century Gothic"/>
            </a:endParaRPr>
          </a:p>
        </p:txBody>
      </p:sp>
      <p:graphicFrame>
        <p:nvGraphicFramePr>
          <p:cNvPr id="1869" name=""/>
          <p:cNvGraphicFramePr/>
          <p:nvPr/>
        </p:nvGraphicFramePr>
        <p:xfrm>
          <a:off x="2670120" y="1424160"/>
          <a:ext cx="6961320" cy="53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0120" y="1424160"/>
                    <a:ext cx="6961320" cy="53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B1C-BF76-42B0-A0CF-FE6E2077AF7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JCAHO Reconciliation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63% of reported medication errors that resulted in injury caused by communication problem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50% of those avoidable through medication reconcilia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commendation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ut the medication list in a highly visible place 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concile medications at each visi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hysicians, nurses should be involved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ovide patient with a complete list of medications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9D9-EF8B-4097-938C-550EF09542D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Project Goal: </a:t>
            </a: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e-Prescribing Software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ffordab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asy to Deploy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quire Little Configurati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ncourage Safet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uilt-In Drug Knowledg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uilt-In Decision Support Func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ow Key Remniders as-you-g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rgeting Small Practic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ithout tons of Informatics staff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ut who are open, curious about HI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44840" y="4581360"/>
            <a:ext cx="2220840" cy="27000"/>
            <a:chOff x="3444840" y="4581360"/>
            <a:chExt cx="2220840" cy="27000"/>
          </a:xfrm>
        </p:grpSpPr>
        <p:sp>
          <p:nvSpPr>
            <p:cNvPr id="178" name=""/>
            <p:cNvSpPr/>
            <p:nvPr/>
          </p:nvSpPr>
          <p:spPr>
            <a:xfrm>
              <a:off x="3444840" y="4581360"/>
              <a:ext cx="444240" cy="27000"/>
            </a:xfrm>
            <a:custGeom>
              <a:avLst/>
              <a:gdLst/>
              <a:ahLst/>
              <a:rect l="l" t="t" r="r" b="b"/>
              <a:pathLst>
                <a:path w="581" h="36">
                  <a:moveTo>
                    <a:pt x="0" y="36"/>
                  </a:moveTo>
                  <a:lnTo>
                    <a:pt x="37" y="0"/>
                  </a:lnTo>
                  <a:lnTo>
                    <a:pt x="73" y="36"/>
                  </a:lnTo>
                  <a:lnTo>
                    <a:pt x="109" y="0"/>
                  </a:lnTo>
                  <a:lnTo>
                    <a:pt x="146" y="36"/>
                  </a:lnTo>
                  <a:lnTo>
                    <a:pt x="182" y="0"/>
                  </a:lnTo>
                  <a:lnTo>
                    <a:pt x="218" y="36"/>
                  </a:lnTo>
                  <a:lnTo>
                    <a:pt x="254" y="0"/>
                  </a:lnTo>
                  <a:lnTo>
                    <a:pt x="291" y="36"/>
                  </a:lnTo>
                  <a:lnTo>
                    <a:pt x="327" y="0"/>
                  </a:lnTo>
                  <a:lnTo>
                    <a:pt x="363" y="36"/>
                  </a:lnTo>
                  <a:lnTo>
                    <a:pt x="400" y="0"/>
                  </a:lnTo>
                  <a:lnTo>
                    <a:pt x="436" y="36"/>
                  </a:lnTo>
                  <a:lnTo>
                    <a:pt x="472" y="0"/>
                  </a:lnTo>
                  <a:lnTo>
                    <a:pt x="508" y="36"/>
                  </a:lnTo>
                  <a:lnTo>
                    <a:pt x="545" y="0"/>
                  </a:lnTo>
                  <a:lnTo>
                    <a:pt x="581" y="36"/>
                  </a:lnTo>
                </a:path>
              </a:pathLst>
            </a:custGeom>
            <a:noFill/>
            <a:ln w="1908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9080" y="4581360"/>
              <a:ext cx="444240" cy="27000"/>
            </a:xfrm>
            <a:custGeom>
              <a:avLst/>
              <a:gdLst/>
              <a:ahLst/>
              <a:rect l="l" t="t" r="r" b="b"/>
              <a:pathLst>
                <a:path w="581" h="36">
                  <a:moveTo>
                    <a:pt x="0" y="36"/>
                  </a:moveTo>
                  <a:lnTo>
                    <a:pt x="37" y="0"/>
                  </a:lnTo>
                  <a:lnTo>
                    <a:pt x="73" y="36"/>
                  </a:lnTo>
                  <a:lnTo>
                    <a:pt x="109" y="0"/>
                  </a:lnTo>
                  <a:lnTo>
                    <a:pt x="146" y="36"/>
                  </a:lnTo>
                  <a:lnTo>
                    <a:pt x="182" y="0"/>
                  </a:lnTo>
                  <a:lnTo>
                    <a:pt x="218" y="36"/>
                  </a:lnTo>
                  <a:lnTo>
                    <a:pt x="254" y="0"/>
                  </a:lnTo>
                  <a:lnTo>
                    <a:pt x="291" y="36"/>
                  </a:lnTo>
                  <a:lnTo>
                    <a:pt x="327" y="0"/>
                  </a:lnTo>
                  <a:lnTo>
                    <a:pt x="363" y="36"/>
                  </a:lnTo>
                  <a:lnTo>
                    <a:pt x="400" y="0"/>
                  </a:lnTo>
                  <a:lnTo>
                    <a:pt x="436" y="36"/>
                  </a:lnTo>
                  <a:lnTo>
                    <a:pt x="472" y="0"/>
                  </a:lnTo>
                  <a:lnTo>
                    <a:pt x="508" y="36"/>
                  </a:lnTo>
                  <a:lnTo>
                    <a:pt x="545" y="0"/>
                  </a:lnTo>
                  <a:lnTo>
                    <a:pt x="581" y="36"/>
                  </a:lnTo>
                </a:path>
              </a:pathLst>
            </a:custGeom>
            <a:noFill/>
            <a:ln w="1908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33320" y="4581360"/>
              <a:ext cx="444240" cy="27000"/>
            </a:xfrm>
            <a:custGeom>
              <a:avLst/>
              <a:gdLst/>
              <a:ahLst/>
              <a:rect l="l" t="t" r="r" b="b"/>
              <a:pathLst>
                <a:path w="581" h="36">
                  <a:moveTo>
                    <a:pt x="0" y="36"/>
                  </a:moveTo>
                  <a:lnTo>
                    <a:pt x="37" y="0"/>
                  </a:lnTo>
                  <a:lnTo>
                    <a:pt x="73" y="36"/>
                  </a:lnTo>
                  <a:lnTo>
                    <a:pt x="109" y="0"/>
                  </a:lnTo>
                  <a:lnTo>
                    <a:pt x="146" y="36"/>
                  </a:lnTo>
                  <a:lnTo>
                    <a:pt x="182" y="0"/>
                  </a:lnTo>
                  <a:lnTo>
                    <a:pt x="218" y="36"/>
                  </a:lnTo>
                  <a:lnTo>
                    <a:pt x="254" y="0"/>
                  </a:lnTo>
                  <a:lnTo>
                    <a:pt x="291" y="36"/>
                  </a:lnTo>
                  <a:lnTo>
                    <a:pt x="327" y="0"/>
                  </a:lnTo>
                  <a:lnTo>
                    <a:pt x="363" y="36"/>
                  </a:lnTo>
                  <a:lnTo>
                    <a:pt x="400" y="0"/>
                  </a:lnTo>
                  <a:lnTo>
                    <a:pt x="436" y="36"/>
                  </a:lnTo>
                  <a:lnTo>
                    <a:pt x="472" y="0"/>
                  </a:lnTo>
                  <a:lnTo>
                    <a:pt x="508" y="36"/>
                  </a:lnTo>
                  <a:lnTo>
                    <a:pt x="545" y="0"/>
                  </a:lnTo>
                  <a:lnTo>
                    <a:pt x="581" y="36"/>
                  </a:lnTo>
                </a:path>
              </a:pathLst>
            </a:custGeom>
            <a:noFill/>
            <a:ln w="19080">
              <a:solidFill>
                <a:srgbClr val="f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76840" y="4581360"/>
              <a:ext cx="444240" cy="27000"/>
            </a:xfrm>
            <a:custGeom>
              <a:avLst/>
              <a:gdLst/>
              <a:ahLst/>
              <a:rect l="l" t="t" r="r" b="b"/>
              <a:pathLst>
                <a:path w="581" h="36">
                  <a:moveTo>
                    <a:pt x="0" y="36"/>
                  </a:moveTo>
                  <a:lnTo>
                    <a:pt x="37" y="0"/>
                  </a:lnTo>
                  <a:lnTo>
                    <a:pt x="73" y="36"/>
                  </a:lnTo>
                  <a:lnTo>
                    <a:pt x="109" y="0"/>
                  </a:lnTo>
                  <a:lnTo>
                    <a:pt x="146" y="36"/>
                  </a:lnTo>
                  <a:lnTo>
                    <a:pt x="182" y="0"/>
                  </a:lnTo>
                  <a:lnTo>
                    <a:pt x="218" y="36"/>
                  </a:lnTo>
                  <a:lnTo>
                    <a:pt x="254" y="0"/>
                  </a:lnTo>
                  <a:lnTo>
                    <a:pt x="291" y="36"/>
                  </a:lnTo>
                  <a:lnTo>
                    <a:pt x="327" y="0"/>
                  </a:lnTo>
                  <a:lnTo>
                    <a:pt x="363" y="36"/>
                  </a:lnTo>
                  <a:lnTo>
                    <a:pt x="400" y="0"/>
                  </a:lnTo>
                  <a:lnTo>
                    <a:pt x="436" y="36"/>
                  </a:lnTo>
                  <a:lnTo>
                    <a:pt x="472" y="0"/>
                  </a:lnTo>
                  <a:lnTo>
                    <a:pt x="508" y="36"/>
                  </a:lnTo>
                  <a:lnTo>
                    <a:pt x="545" y="0"/>
                  </a:lnTo>
                  <a:lnTo>
                    <a:pt x="581" y="3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21440" y="4581360"/>
              <a:ext cx="444240" cy="27000"/>
            </a:xfrm>
            <a:custGeom>
              <a:avLst/>
              <a:gdLst/>
              <a:ahLst/>
              <a:rect l="l" t="t" r="r" b="b"/>
              <a:pathLst>
                <a:path w="581" h="36">
                  <a:moveTo>
                    <a:pt x="0" y="36"/>
                  </a:moveTo>
                  <a:lnTo>
                    <a:pt x="37" y="0"/>
                  </a:lnTo>
                  <a:lnTo>
                    <a:pt x="73" y="36"/>
                  </a:lnTo>
                  <a:lnTo>
                    <a:pt x="109" y="0"/>
                  </a:lnTo>
                  <a:lnTo>
                    <a:pt x="146" y="36"/>
                  </a:lnTo>
                  <a:lnTo>
                    <a:pt x="182" y="0"/>
                  </a:lnTo>
                  <a:lnTo>
                    <a:pt x="218" y="36"/>
                  </a:lnTo>
                  <a:lnTo>
                    <a:pt x="254" y="0"/>
                  </a:lnTo>
                  <a:lnTo>
                    <a:pt x="291" y="36"/>
                  </a:lnTo>
                  <a:lnTo>
                    <a:pt x="327" y="0"/>
                  </a:lnTo>
                  <a:lnTo>
                    <a:pt x="363" y="36"/>
                  </a:lnTo>
                  <a:lnTo>
                    <a:pt x="400" y="0"/>
                  </a:lnTo>
                  <a:lnTo>
                    <a:pt x="436" y="36"/>
                  </a:lnTo>
                  <a:lnTo>
                    <a:pt x="472" y="0"/>
                  </a:lnTo>
                  <a:lnTo>
                    <a:pt x="508" y="36"/>
                  </a:lnTo>
                  <a:lnTo>
                    <a:pt x="545" y="0"/>
                  </a:lnTo>
                  <a:lnTo>
                    <a:pt x="581" y="3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D12-E8C4-4A68-A935-9F3160E54A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Features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8965" t="9684" r="12417" b="11240"/>
          <a:stretch/>
        </p:blipFill>
        <p:spPr>
          <a:xfrm>
            <a:off x="3444840" y="2679840"/>
            <a:ext cx="5241960" cy="39542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6480" y="4349520"/>
            <a:ext cx="259236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ist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llerg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edic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266920" y="3313080"/>
            <a:ext cx="1177920" cy="167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440080" y="4754160"/>
            <a:ext cx="10047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86040" y="573408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12880" y="144360"/>
            <a:ext cx="627876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asy data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ding through free text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(auto-comple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Understands SIGs (dose, frequency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vert into structured data, for reaso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mmediate feedback on errors or other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818040" y="1009800"/>
            <a:ext cx="345960" cy="20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62480" y="1989000"/>
            <a:ext cx="173160" cy="149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6840" y="1417680"/>
            <a:ext cx="2592360" cy="26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inted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atien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hart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lectronic messages a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950-6FE8-470C-A4AF-E84420255A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Knowledge and Data Repository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194" name=""/>
          <p:cNvSpPr/>
          <p:nvPr/>
        </p:nvSpPr>
        <p:spPr>
          <a:xfrm>
            <a:off x="3592440" y="2679840"/>
            <a:ext cx="1555920" cy="1498320"/>
          </a:xfrm>
          <a:prstGeom prst="can">
            <a:avLst>
              <a:gd name="adj" fmla="val 21717"/>
            </a:avLst>
          </a:prstGeom>
          <a:solidFill>
            <a:srgbClr val="ffff7b"/>
          </a:solidFill>
          <a:ln w="9360">
            <a:solidFill>
              <a:srgbClr val="ffc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649680" y="3716280"/>
            <a:ext cx="1440000" cy="345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 Gothic"/>
              </a:rPr>
              <a:t>Relational Datab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708360" y="3025800"/>
            <a:ext cx="1324080" cy="30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 Gothic"/>
              </a:rPr>
              <a:t>HL7 Java SIG AP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767040" y="3352680"/>
            <a:ext cx="1208160" cy="30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 Gothic"/>
              </a:rPr>
              <a:t>Hiberna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198" name=""/>
          <p:cNvSpPr/>
          <p:nvPr/>
        </p:nvSpPr>
        <p:spPr>
          <a:xfrm rot="17821800">
            <a:off x="1919160" y="2058480"/>
            <a:ext cx="950760" cy="1636560"/>
          </a:xfrm>
          <a:custGeom>
            <a:avLst/>
            <a:gdLst>
              <a:gd name="textAreaLeft" fmla="*/ 0 w 950760"/>
              <a:gd name="textAreaRight" fmla="*/ 951120 w 95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296310"/>
                <a:lnTo>
                  <a:pt x="17004" y="1960"/>
                </a:lnTo>
                <a:arcTo wR="10800" hR="10800" stAng="-3296310" swAng="329631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5c5"/>
          </a:solidFill>
          <a:ln w="9360">
            <a:solidFill>
              <a:srgbClr val="ff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 rot="8137200">
            <a:off x="2871720" y="1388160"/>
            <a:ext cx="951120" cy="1636560"/>
          </a:xfrm>
          <a:custGeom>
            <a:avLst/>
            <a:gdLst>
              <a:gd name="textAreaLeft" fmla="*/ 0 w 951120"/>
              <a:gd name="textAreaRight" fmla="*/ 951480 w 951120"/>
              <a:gd name="textAreaTop" fmla="*/ 360 h 1636560"/>
              <a:gd name="textAreaBottom" fmla="*/ 1637280 h 1636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296310"/>
                <a:lnTo>
                  <a:pt x="17004" y="1960"/>
                </a:lnTo>
                <a:arcTo wR="10800" hR="10800" stAng="-3296310" swAng="329631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5c5"/>
          </a:solidFill>
          <a:ln w="9360">
            <a:solidFill>
              <a:srgbClr val="ff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 rot="4543200">
            <a:off x="2041560" y="2051280"/>
            <a:ext cx="951120" cy="2149200"/>
          </a:xfrm>
          <a:custGeom>
            <a:avLst/>
            <a:gdLst>
              <a:gd name="textAreaLeft" fmla="*/ 0 w 951120"/>
              <a:gd name="textAreaRight" fmla="*/ 951480 w 951120"/>
              <a:gd name="textAreaTop" fmla="*/ 360 h 2149200"/>
              <a:gd name="textAreaBottom" fmla="*/ 2149920 h 2149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2327808"/>
                <a:lnTo>
                  <a:pt x="19217" y="4033"/>
                </a:lnTo>
                <a:arcTo wR="10800" hR="10800" stAng="-2327808" swAng="2327808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5c5"/>
          </a:solidFill>
          <a:ln w="9360">
            <a:solidFill>
              <a:srgbClr val="ff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 rot="3468600">
            <a:off x="2127240" y="2480760"/>
            <a:ext cx="950760" cy="2325600"/>
          </a:xfrm>
          <a:custGeom>
            <a:avLst/>
            <a:gdLst>
              <a:gd name="textAreaLeft" fmla="*/ 0 w 950760"/>
              <a:gd name="textAreaRight" fmla="*/ 951120 w 950760"/>
              <a:gd name="textAreaTop" fmla="*/ 360 h 2325600"/>
              <a:gd name="textAreaBottom" fmla="*/ 2326320 h 2325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940422"/>
                <a:lnTo>
                  <a:pt x="19925" y="5023"/>
                </a:lnTo>
                <a:arcTo wR="10800" hR="10800" stAng="-1940422" swAng="194042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5c5"/>
          </a:solidFill>
          <a:ln w="9360">
            <a:solidFill>
              <a:srgbClr val="ff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 rot="3996600">
            <a:off x="1749600" y="3603600"/>
            <a:ext cx="950760" cy="1636920"/>
          </a:xfrm>
          <a:custGeom>
            <a:avLst/>
            <a:gdLst>
              <a:gd name="textAreaLeft" fmla="*/ 0 w 950760"/>
              <a:gd name="textAreaRight" fmla="*/ 951120 w 950760"/>
              <a:gd name="textAreaTop" fmla="*/ -360 h 1636920"/>
              <a:gd name="textAreaBottom" fmla="*/ 1636920 h 1636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3296310"/>
                <a:lnTo>
                  <a:pt x="17004" y="1960"/>
                </a:lnTo>
                <a:arcTo wR="10800" hR="10800" stAng="-3296310" swAng="329631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5c5"/>
          </a:solidFill>
          <a:ln w="9360">
            <a:solidFill>
              <a:srgbClr val="ff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3713600">
            <a:off x="2950920" y="3786120"/>
            <a:ext cx="951120" cy="1998720"/>
          </a:xfrm>
          <a:custGeom>
            <a:avLst/>
            <a:gdLst>
              <a:gd name="textAreaLeft" fmla="*/ 0 w 951120"/>
              <a:gd name="textAreaRight" fmla="*/ 951480 w 95112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2573988"/>
                <a:lnTo>
                  <a:pt x="18711" y="3448"/>
                </a:lnTo>
                <a:arcTo wR="10800" hR="10800" stAng="-2573988" swAng="2573988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c5c5"/>
          </a:solidFill>
          <a:ln w="9360">
            <a:solidFill>
              <a:srgbClr val="ff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 rot="14751600">
            <a:off x="5177520" y="1688760"/>
            <a:ext cx="1301760" cy="2746440"/>
          </a:xfrm>
          <a:custGeom>
            <a:avLst/>
            <a:gdLst>
              <a:gd name="textAreaLeft" fmla="*/ 360 w 1301760"/>
              <a:gd name="textAreaRight" fmla="*/ 1302480 w 1301760"/>
              <a:gd name="textAreaTop" fmla="*/ -360 h 2746440"/>
              <a:gd name="textAreaBottom" fmla="*/ 2746440 h 2746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2176674"/>
                <a:lnTo>
                  <a:pt x="19506" y="4410"/>
                </a:lnTo>
                <a:arcTo wR="10800" hR="10800" stAng="-2176674" swAng="2176674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5ffc5"/>
          </a:solidFill>
          <a:ln w="9360">
            <a:solidFill>
              <a:srgbClr val="c5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 rot="17056800">
            <a:off x="6234120" y="2714760"/>
            <a:ext cx="950760" cy="2149200"/>
          </a:xfrm>
          <a:custGeom>
            <a:avLst/>
            <a:gdLst>
              <a:gd name="textAreaLeft" fmla="*/ -360 w 950760"/>
              <a:gd name="textAreaRight" fmla="*/ 950760 w 950760"/>
              <a:gd name="textAreaTop" fmla="*/ 360 h 2149200"/>
              <a:gd name="textAreaBottom" fmla="*/ 2149920 h 21492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2327808"/>
                <a:lnTo>
                  <a:pt x="19217" y="4033"/>
                </a:lnTo>
                <a:arcTo wR="10800" hR="10800" stAng="-2327808" swAng="2327808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5ffc5"/>
          </a:solidFill>
          <a:ln w="9360">
            <a:solidFill>
              <a:srgbClr val="c5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 rot="18131400">
            <a:off x="5776920" y="2933280"/>
            <a:ext cx="950760" cy="2325600"/>
          </a:xfrm>
          <a:custGeom>
            <a:avLst/>
            <a:gdLst>
              <a:gd name="textAreaLeft" fmla="*/ -360 w 950760"/>
              <a:gd name="textAreaRight" fmla="*/ 950760 w 950760"/>
              <a:gd name="textAreaTop" fmla="*/ 360 h 2325600"/>
              <a:gd name="textAreaBottom" fmla="*/ 2326320 h 2325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940422"/>
                <a:lnTo>
                  <a:pt x="19925" y="5023"/>
                </a:lnTo>
                <a:arcTo wR="10800" hR="10800" stAng="-1940422" swAng="1940422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5ffc5"/>
          </a:solidFill>
          <a:ln w="9360">
            <a:solidFill>
              <a:srgbClr val="c5f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5600" y="149868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Basic Configu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5840" y="192096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te Configur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(Us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7880" y="3665520"/>
            <a:ext cx="2133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NOMED Probl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ist Terms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+ UMLS Synony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1080" y="2903400"/>
            <a:ext cx="23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bservation Mas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(LOINC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24280" y="5076720"/>
            <a:ext cx="27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DA/NLM DailyMed SPL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tructured Product Labels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000" y="4714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NDF-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xNor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78040" y="2593800"/>
            <a:ext cx="166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atien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Batch Sub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02640" y="3745080"/>
            <a:ext cx="182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HL7 v2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527160" y="4403880"/>
            <a:ext cx="202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HL7 v3 Messages &amp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DA 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11440" y="1279440"/>
            <a:ext cx="159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-Prescrib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ppl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rot="1080000">
            <a:off x="5031720" y="1758600"/>
            <a:ext cx="1066680" cy="1038240"/>
          </a:xfrm>
          <a:prstGeom prst="lightningBolt">
            <a:avLst/>
          </a:prstGeom>
          <a:solidFill>
            <a:srgbClr val="ffff7b"/>
          </a:solidFill>
          <a:ln w="9360">
            <a:solidFill>
              <a:srgbClr val="ffc5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70280" y="4265640"/>
            <a:ext cx="168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Knowledge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ata 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C72-9D8B-4B71-82DD-2407C2C5F5E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Open Source, Collaborations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ntributions b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un Microsystem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Kaiser Permanent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genstrief Institut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CI/caBIG (caAdapter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lackstonebay Softwa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xolot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Miscellaneous Volunte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unity Supported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oject home: http://aurora.regenstrief.org/javasi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rum: java@lists.hl7.or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AFF-0022-431D-A7F1-997FAA586A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Standards Based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teroperabilit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sign patterns and detailed object models reviewed by worldwide community of HIT exper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Less work to do on conceptual design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esign for reuse (build once, reuse many times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(Somewhat more work in detailed implementation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inimize user configuration need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How and What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ealth Level-7 version 3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Reference Information Mod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Medication/Pharmacy and Patient Care Standard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Understand any HL7 v3 message and document payload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ccept HL7 v2 messages by mapping to HL7 v3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erminologi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LOINC, SNOMED CT, UMLS Term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NDF-RT, RxNorm, NDC, FDA SRS UNII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D50-66AF-4623-BF1E-4E5D707F58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Lightweight Terminology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frastructure includes interfaces t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NCI caBIG EV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MLS through JDBC and Relational Databa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oks for Common Terminology Service (CTS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ut we don’t seem to need the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nowledge master files and (trusted) data sources contribute codes, terms and synonym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e periodically run our word-indexer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o index words, phrases and codes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ontext sensitive, i.e., by field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In case of observation value by observation code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ser enters text (any of the synonyms)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uto-completion maps to concept in the background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Unrecognized term stored as original tex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4FA-CEBD-48C6-91A1-C484F308A9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Knowledge Needs for e-Prescribing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edication Terminologi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DC (only packaged product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DA Listing, NDF-RT, Multum, FDB NDDF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xNorm – integrates many UMLS sourc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DA SRS UNII (for ingredients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oblem List and Allergy Terminologi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ICPC), ICD-9, (ICD-10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NOMED CT (and VA/KP Subset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nical Decision Support Knowledg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urrently best open access source: NDF-R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ommercial Offerings: FDB, Micromedex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Upcoming FDA SPL labels (post-PLR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F61-2B0F-4A60-9C1B-7693BDA604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entury Gothic"/>
              </a:rPr>
              <a:t>Structured Product Labeling (SPL)</a:t>
            </a:r>
            <a:endParaRPr b="0" lang="en-US" sz="3600" spc="-1" strike="noStrike">
              <a:solidFill>
                <a:srgbClr val="0033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L7 v3 Standard, Sponsored by FD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2004/5 Electronic Labeling Guidance (SPL R2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cludes medication mod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2005/6 Physicians Labeling Rule (PLR, SPL R3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Includes clinical knowledge mod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2006/7 Launch of DailyMe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Now contains over 3257 SPL label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urrently only original innovator label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2007/8? E-Listing Rule (SPL R4, in preparation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ill include all marketed drugs (covering all drug NDC codes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rovisions for devices, veterinary, and dietary supplements, food labels included in SPL R4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(c) 2007 Regenstrief Institute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DF2-7478-4920-A905-7B407F788D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05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2:45:15Z</dcterms:created>
  <dc:creator>Gunther Schadow, Susanne Ragg</dc:creator>
  <dc:description/>
  <dc:language>en-US</dc:language>
  <cp:lastModifiedBy>User</cp:lastModifiedBy>
  <dcterms:modified xsi:type="dcterms:W3CDTF">2007-09-27T21:05:59Z</dcterms:modified>
  <cp:revision>130</cp:revision>
  <dc:subject/>
  <dc:title>caBIG Tissue Banking</dc:title>
</cp:coreProperties>
</file>