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8F2-1AE0-423E-979A-F055B65F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D7E-8F7A-4A5E-9168-5D454F3A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1A0-536F-4B51-AC24-7C920681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B7F-CBFD-4E01-B8DA-529589D8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086B-A1B7-446B-8E01-4DC91B55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0EB4-41FC-4E68-9970-DBA39A4D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35CB-7708-418F-8C93-8EF2476B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6738-9CC7-42A0-B016-E0A623F0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6C03-5B32-4EEE-8C24-3009C6F6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A109-F1D7-4508-8BFC-1F294389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C52B-01A0-4D5D-89C8-8C1CD5F5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A07-9B6D-4D2F-BFC2-6DCFCBA3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AA3C-7DCA-4E44-94BF-95CA791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2F0C-6856-4963-B65F-DD00A9AE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D548-F57E-4E3D-8D8D-3638F5AC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33D1-F72D-413D-A878-B8C75053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6206-8F34-497A-9CE2-C4B4C9F3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15A-23BC-4BE7-B8F7-DCAABA1A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810-BFF1-4362-87AA-B8905F4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66B-13C3-4B49-8D6C-B3BB7180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0E8E-47C4-4482-BDC3-587499C6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AF6-AEFB-44DE-A971-934FE62A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F01-87D8-4364-8532-24CB9CCE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F6DE-7A47-4B96-9AB6-9EE26459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C2E9-BF1A-4C69-A4E0-AFC394088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7F2D-C50F-478A-9CB4-293526508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cy_savitz@abtassoc.com" TargetMode="External"/><Relationship Id="rId2" Type="http://schemas.openxmlformats.org/officeDocument/2006/relationships/hyperlink" Target="mailto:Lucy.savitz@intermountainmail.org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Cost of Waste/Poor Quality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762120" y="2514240"/>
            <a:ext cx="7619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A. Savitz, Ph.D., M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ior Associate, Abt Associ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ucy_savitz@abtassoc.co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ior Scientist, Intermountain Health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ucy.savitz@intermountainmail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HRQ Annual Meetin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27, 20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hesda, Mary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ext Step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CU Supply/Material Waste Re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RSA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’s &amp; Newbo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 observations for improved role/function estim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in outpatient set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04120" y="1984320"/>
            <a:ext cx="24382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94080" y="194616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ing waste in health care is key to affordable, high quality health car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half of consumed resources represent potentially recoverable waste in hospitals (44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70000" y="2246400"/>
            <a:ext cx="304812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Framework for Estimating the Cost of Waste and Poor Quality in Health Car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HRQ IDSRN Contract 290-00-0018, Task Order 11 to RTI Internat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 Order Officer, Cynthia Pal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 Investig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cy A. Savit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nt James, Intermountain Health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 Bruce Bayley, Providence Health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ne Wallace, Intermountain Health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eciding on Approach </a:t>
            </a:r>
            <a:br>
              <a:rPr sz="3600"/>
            </a:b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Estimate Was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ysis Lev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pul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rtmouth Atlas, Wennber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pply-induced dem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pisod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x Sigma &amp; ATP QI Projec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ected opportun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tient Ca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PS/Le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fficiency of front-line worker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cope of Observation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1 wor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 observation hours (36 morning, 36 afterno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ff role/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clinical (lab techs, pharmacis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ars of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% less than 1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2% more than 3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ow Evaluated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set of activity categories and definitions (6 categories with 12 sub-category clarificatio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rify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ct/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ed ob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toolset for structured observation and data cap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ication of approach at an academic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sults</a:t>
            </a:r>
            <a:br>
              <a:rPr sz="3600"/>
            </a:b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ost of waste for frontline health care worker </a:t>
            </a:r>
            <a:br>
              <a:rPr sz="2400"/>
            </a:b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ctivities is substantial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, 35% waste obser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operational activities were almost evenly split across 3 major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% clarify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%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7% mo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te on a single 12-hour shift, 46-bed medical unit = $2,3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Lessons Learned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te at the patient care level is primarily related to inefficient systems, wide variability in work processes, and “work around” cul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to waste reduction is developing the capacity to recognize and eliminate waste—developed tool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 line ownership &amp; support of their role in problem solving is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 must help remove constraints so a range of solutions can be tes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e change required to support the will to eliminate was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Knowledge Transf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taff training at UNC Health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RTI International.  Cost of Poor Quality or Waste in Integrated Delivery System Settings, AHRQ Final Report submitted to Cynthia Palmer, AHRQ TOO, Contract No. 290-00-0018, RTI Project No. 0207897.011; August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allace, J, LA Savitz.  Estimating Waste in Frontline Health Care Workers.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Journal of Evaluation in Clinical Pract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forthcoming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utomating toolset on a notebook at Intermoun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0:23:21Z</dcterms:created>
  <dc:creator>Abt</dc:creator>
  <dc:description/>
  <dc:language>en-US</dc:language>
  <cp:lastModifiedBy>CPalmer2</cp:lastModifiedBy>
  <dcterms:modified xsi:type="dcterms:W3CDTF">2007-09-25T14:21:58Z</dcterms:modified>
  <cp:revision>3</cp:revision>
  <dc:subject/>
  <dc:title>Cost of Waste/Poor Quality </dc:title>
</cp:coreProperties>
</file>