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D2F6-30E8-478B-837B-F233CDEBD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617D-32EF-4BFB-A54C-31829ADE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790C-C899-426C-A5F2-9F20FF35A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A35B-7843-47D6-8D50-E3E120091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4350-D364-4F05-9D68-7C87DA38F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9FCC-9E55-42AA-8221-7F22307C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E2D4-1377-4BEC-A568-2D4E4B4E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53C7-ABAA-43A5-A2D8-FF7D4159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46D8-303C-44B7-A8A8-4B01CF2E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E86C-B0D1-4BA2-9180-E53EB228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7FF7-243B-42A0-A154-E26C6197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D66A-F938-4036-9293-48CAB6FE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EDD0-5204-4EFE-91D5-FA08634D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7957-0CC4-4F8B-89DE-79F319A9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A764-7140-43DE-87C3-3453130E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50C4-8ABD-4BFC-8DA2-23EFD709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F98B1-37C8-43E6-A20D-4D6F444FD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777E-5AC1-4981-8AC3-0D221FFE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FA65-2526-4D87-87D2-2DED597D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EA63-5311-4350-B8AD-117E6714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ECC5-9A3D-479C-92A7-6AB53606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97AE-FB07-4CCD-BA1E-72B5D4F8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EE1D-C5D8-46F4-95E0-0CC4B45B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901A-D35E-4996-B247-7BC58470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ED50-6D78-4A3D-80A7-7B1879D676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BC75-DC24-480C-ACE3-891FA12A27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ucy_savitz@abtassoc.com" TargetMode="External"/><Relationship Id="rId2" Type="http://schemas.openxmlformats.org/officeDocument/2006/relationships/hyperlink" Target="mailto:Lucy.savitz@intermountainmail.org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Times New Roman"/>
              </a:rPr>
              <a:t>Cost of Waste/Poor Quality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762120" y="2514240"/>
            <a:ext cx="761976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cy A. Savitz, Ph.D., M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ior Associate, Abt Associ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Lucy_savitz@abtassoc.co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ior Scientist, Intermountain Healthc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Lucy.savitz@intermountainmail.or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HRQ Annual Meeting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ptember 27, 2007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thesda, Mary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Next Step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rea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CU Supply/Material Waste Re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RSA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men’s &amp; Newbo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ing observations for improved role/function estim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y in outpatient set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504120" y="1984320"/>
            <a:ext cx="243828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urpos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294080" y="194616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ucing waste in health care is key to affordable, high quality health car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arly half of consumed resources represent potentially recoverable waste in hospitals (44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170000" y="2246400"/>
            <a:ext cx="304812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Framework for Estimating the Cost of Waste and Poor Quality in Health Car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HRQ IDSRN Contract 290-00-0018, Task Order 11 to RTI Internat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sk Order Officer, Cynthia Pal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 Investig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ucy A. Savit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nt James, Intermountain Healthc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 Bruce Bayley, Providence Health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ne Wallace, Intermountain Healthc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Deciding on Approach </a:t>
            </a:r>
            <a:br>
              <a:rPr sz="3600"/>
            </a:b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to Estimate Waste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alysis Lev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pproa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rg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pul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rtmouth Atlas, Wennber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pply-induced dema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piso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x Sigma &amp; ATP QI Projec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lected opportunit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tient Car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PS/Le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efficiency of front-line worker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Scope of Observation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1 work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2 observation hours (36 morning, 36 afterno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ff role/fun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ysici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r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 clinical (lab techs, pharmacis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ears of exper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% less than 1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2% more than 3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How Evaluated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dard set of activity categories and definitions (6 categories with 12 sub-category clarificatio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rify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ect/Err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ined ob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ed toolset for structured observation and data cap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lication of approach at an academic ce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Results</a:t>
            </a:r>
            <a:br>
              <a:rPr sz="3600"/>
            </a:b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ost of waste for frontline health care worker </a:t>
            </a:r>
            <a:br>
              <a:rPr sz="2400"/>
            </a:b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ctivities is substantial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all, 35% waste obser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operational activities were almost evenly split across 3 major catego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% clarify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% proces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% mo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ste on a single 12-hour shift, 46-bed medical unit = $2,30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Lessons Learned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te at the patient care level is primarily related to inefficient systems, wide variability in work processes, and “work around” cultu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y to waste reduction is developing the capacity to recognize and eliminate waste—developed tool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nt line ownership &amp; support of their role in problem solving is essent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ership must help remove constraints so a range of solutions can be test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lture change required to support the will to eliminate was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Knowledge Transf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Staff training at UNC Health C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RTI International.  Cost of Poor Quality or Waste in Integrated Delivery System Settings, AHRQ Final Report submitted to Cynthia Palmer, AHRQ TOO, Contract No. 290-00-0018, RTI Project No. 0207897.011; August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allace, J, LA Savitz.  Estimating Waste in Frontline Health Care Workers.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Journal of Evaluation in Clinical Practi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, forthcoming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utomating toolset on a notebook at Intermount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10:23:21Z</dcterms:created>
  <dc:creator>Abt</dc:creator>
  <dc:description/>
  <dc:language>en-US</dc:language>
  <cp:lastModifiedBy>CPalmer2</cp:lastModifiedBy>
  <dcterms:modified xsi:type="dcterms:W3CDTF">2007-09-25T14:21:58Z</dcterms:modified>
  <cp:revision>3</cp:revision>
  <dc:subject/>
  <dc:title>Cost of Waste/Poor Quality </dc:title>
</cp:coreProperties>
</file>