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8.wmf" ContentType="image/x-wm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e4e8e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e4e8e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e4e8e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240" y="6265800"/>
            <a:ext cx="4570200" cy="5857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2600" y="6248520"/>
            <a:ext cx="1212840" cy="430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85800" y="1828800"/>
            <a:ext cx="7772400" cy="76320"/>
          </a:xfrm>
          <a:prstGeom prst="rect">
            <a:avLst/>
          </a:prstGeom>
          <a:solidFill>
            <a:srgbClr val="738e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828800"/>
            <a:ext cx="7772400" cy="76320"/>
          </a:xfrm>
          <a:prstGeom prst="rect">
            <a:avLst/>
          </a:prstGeom>
          <a:solidFill>
            <a:srgbClr val="738e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828800"/>
            <a:ext cx="7772400" cy="76320"/>
          </a:xfrm>
          <a:prstGeom prst="rect">
            <a:avLst/>
          </a:prstGeom>
          <a:solidFill>
            <a:srgbClr val="738e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4e8e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e8ef"/>
                </a:solidFill>
                <a:latin typeface="Arial"/>
              </a:rPr>
              <a:t>QuitLink: A Leveraging Solution </a:t>
            </a:r>
            <a:br>
              <a:rPr sz="3600"/>
            </a:br>
            <a:r>
              <a:rPr b="0" lang="en-US" sz="3600" spc="-1" strike="noStrike">
                <a:solidFill>
                  <a:srgbClr val="e4e8ef"/>
                </a:solidFill>
                <a:latin typeface="Arial"/>
              </a:rPr>
              <a:t>to Tobacco Counseling</a:t>
            </a:r>
            <a:br>
              <a:rPr sz="3600"/>
            </a:br>
            <a:endParaRPr b="0" lang="en-US" sz="3600" spc="-1" strike="noStrike">
              <a:solidFill>
                <a:srgbClr val="e4e8e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000" y="1955880"/>
          <a:ext cx="472428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955880"/>
                    <a:ext cx="47242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2880" y="2044440"/>
            <a:ext cx="426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e8ef"/>
                </a:solidFill>
                <a:uFillTx/>
                <a:latin typeface="Georgia"/>
              </a:rPr>
              <a:t>Virginia Commonwealth University</a:t>
            </a:r>
            <a:r>
              <a:rPr b="0" lang="en-US" sz="2000" spc="-1" strike="noStrike" u="sng">
                <a:solidFill>
                  <a:srgbClr val="e4e8ef"/>
                </a:solidFill>
                <a:uFillTx/>
                <a:latin typeface="Georgia"/>
              </a:rPr>
              <a:t> </a:t>
            </a:r>
            <a:endParaRPr b="0" lang="en-US" sz="20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e8ef"/>
                </a:solidFill>
                <a:latin typeface="Georgia"/>
              </a:rPr>
              <a:t>Stephen F. Rothemich, MD, MS</a:t>
            </a:r>
            <a:endParaRPr b="0" lang="en-US" sz="18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e8ef"/>
                </a:solidFill>
                <a:latin typeface="Georgia"/>
              </a:rPr>
              <a:t>Steven H. Woolf, MD, MPH</a:t>
            </a:r>
            <a:endParaRPr b="0" lang="en-US" sz="18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e8ef"/>
                </a:solidFill>
                <a:latin typeface="Georgia"/>
              </a:rPr>
              <a:t>Robert E. Johnson, PhD</a:t>
            </a:r>
            <a:endParaRPr b="0" lang="en-US" sz="18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e8ef"/>
                </a:solidFill>
                <a:latin typeface="Georgia"/>
              </a:rPr>
              <a:t>Kelly J. Devers, PhD</a:t>
            </a:r>
            <a:endParaRPr b="0" lang="en-US" sz="18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e8ef"/>
                </a:solidFill>
                <a:latin typeface="Georgia"/>
              </a:rPr>
              <a:t>Sharon K. Flores, MS</a:t>
            </a:r>
            <a:endParaRPr b="0" lang="en-US" sz="18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e8ef"/>
                </a:solidFill>
                <a:latin typeface="Georgia"/>
              </a:rPr>
              <a:t>Amy E. Burgett, RN</a:t>
            </a:r>
            <a:endParaRPr b="0" lang="en-US" sz="18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e8ef"/>
                </a:solidFill>
                <a:uFillTx/>
                <a:latin typeface="Georgia"/>
              </a:rPr>
              <a:t>American Cancer Society Quitline</a:t>
            </a:r>
            <a:r>
              <a:rPr b="0" lang="en-US" sz="2000" spc="-1" strike="noStrike">
                <a:solidFill>
                  <a:srgbClr val="e4e8ef"/>
                </a:solidFill>
                <a:latin typeface="Georgia"/>
              </a:rPr>
              <a:t>  </a:t>
            </a:r>
            <a:endParaRPr b="0" lang="en-US" sz="20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e8ef"/>
                </a:solidFill>
                <a:latin typeface="Georgia"/>
              </a:rPr>
              <a:t>Pamela Villars, MEd, LPC</a:t>
            </a:r>
            <a:endParaRPr b="0" lang="en-US" sz="18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e8ef"/>
                </a:solidFill>
                <a:latin typeface="Georgia"/>
              </a:rPr>
              <a:t>Vance Rabius, PhD</a:t>
            </a:r>
            <a:endParaRPr b="0" lang="en-US" sz="18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4e8ef"/>
                </a:solidFill>
                <a:uFillTx/>
                <a:latin typeface="Georgia"/>
              </a:rPr>
              <a:t>Group Health Cooperative</a:t>
            </a:r>
            <a:endParaRPr b="0" lang="en-US" sz="18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e8ef"/>
                </a:solidFill>
                <a:latin typeface="Georgia"/>
              </a:rPr>
              <a:t>Tim McAfee, MD, MPH </a:t>
            </a:r>
            <a:endParaRPr b="0" lang="en-US" sz="18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4e8ef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e8ef"/>
                </a:solidFill>
                <a:latin typeface="Georgia"/>
              </a:rPr>
              <a:t>Funded by AHRQ  (1 R21 HS014854)</a:t>
            </a:r>
            <a:endParaRPr b="0" lang="en-US" sz="18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Intervention Elements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Rooming staff used </a:t>
            </a:r>
            <a:br>
              <a:rPr sz="2400"/>
            </a:b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expanded vital sign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Practice offered fax </a:t>
            </a:r>
            <a:br>
              <a:rPr sz="2400"/>
            </a:b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referral for proactive </a:t>
            </a:r>
            <a:br>
              <a:rPr sz="2400"/>
            </a:b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telephone counseling 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Patients contacted by ACS Quitline staff for intake </a:t>
            </a:r>
            <a:br>
              <a:rPr sz="2400"/>
            </a:b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and enrollment in 4 session counseling program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Bupropion SR fax prescription request form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Individual patient outcomes report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Quarterly benchmarked aggregate feedback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267080" y="2030400"/>
          <a:ext cx="4233960" cy="17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030400"/>
                    <a:ext cx="423396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Data Analysis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Intensive counseling: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Affirmative answer to questions addressing  discussion of how to quit and/or referral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Adjustment for temporal sampling differences among practices and providers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Nested, hierarchical logistic regression model accounted for 3 sources of variation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Principal Findings (1) 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2709720"/>
          <a:ext cx="8839440" cy="3996000"/>
        </p:xfrm>
        <a:graphic>
          <a:graphicData uri="http://schemas.openxmlformats.org/drawingml/2006/table">
            <a:tbl>
              <a:tblPr/>
              <a:tblGrid>
                <a:gridCol w="1752840"/>
                <a:gridCol w="2361960"/>
                <a:gridCol w="1295640"/>
                <a:gridCol w="1371600"/>
                <a:gridCol w="1143000"/>
                <a:gridCol w="9144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Counseling Behavior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Survey Question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Adjusted Affirmative Response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13680">
                      <a:solidFill>
                        <a:srgbClr val="e4e8ef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Intervention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 value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1368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Ask </a:t>
                      </a: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(A1)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4e8ef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Did anyone ask you today if you smoke?”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64.5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59.6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-4.9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0.45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13680">
                      <a:solidFill>
                        <a:srgbClr val="e4e8ef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Advise</a:t>
                      </a: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(A2)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4e8ef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If you smoke, did anyone advise you today to stop smoking?”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55.1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57.9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2.8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0.40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1368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</a:tr>
              <a:tr h="1007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4e8e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4e8e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Principal Findings (2) 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1984320"/>
          <a:ext cx="8839440" cy="5407200"/>
        </p:xfrm>
        <a:graphic>
          <a:graphicData uri="http://schemas.openxmlformats.org/drawingml/2006/table">
            <a:tbl>
              <a:tblPr/>
              <a:tblGrid>
                <a:gridCol w="1752840"/>
                <a:gridCol w="2361960"/>
                <a:gridCol w="1295640"/>
                <a:gridCol w="1371600"/>
                <a:gridCol w="1143000"/>
                <a:gridCol w="91440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Counseling Behavior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Survey Question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Adjusted Affirmative Response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13680">
                      <a:solidFill>
                        <a:srgbClr val="e4e8ef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Control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Intervention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p</a:t>
                      </a: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 value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1368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872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18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Intensive Counseling</a:t>
                      </a: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(A3-5+Referral)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4e8ef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Main Outcome</a:t>
                      </a: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29.5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41.4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11.9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solidFill>
                      <a:srgbClr val="4e679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13680">
                      <a:solidFill>
                        <a:srgbClr val="e4e8ef"/>
                      </a:solidFill>
                    </a:lnR>
                    <a:lnT w="18720">
                      <a:solidFill>
                        <a:srgbClr val="ff9900"/>
                      </a:solidFill>
                    </a:lnT>
                    <a:lnB w="5760">
                      <a:solidFill>
                        <a:srgbClr val="e4e8e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Discussion</a:t>
                      </a: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(A3-5)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4e8ef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If you smoke, did anyone talk with you today about ideas or plans to help you quit smoking?”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28.7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35.2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6.5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13680">
                      <a:solidFill>
                        <a:srgbClr val="e4e8ef"/>
                      </a:solidFill>
                    </a:lnR>
                    <a:lnT w="576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Referral</a:t>
                      </a: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4e8ef"/>
                      </a:solidFill>
                    </a:lnL>
                    <a:lnR w="18720">
                      <a:solidFill>
                        <a:srgbClr val="ff9900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If you smoke, were you referred today to a quit line?”</a:t>
                      </a:r>
                      <a:endParaRPr b="0" lang="en-US" sz="16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9900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8.7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21.4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12.7%</a:t>
                      </a:r>
                      <a:endParaRPr b="0" lang="en-US" sz="24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5760">
                      <a:solidFill>
                        <a:srgbClr val="e4e8ef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4e8ef"/>
                          </a:solidFill>
                          <a:latin typeface="Georgia"/>
                        </a:rPr>
                        <a:t>&lt;0.001</a:t>
                      </a: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4e8ef"/>
                      </a:solidFill>
                    </a:lnL>
                    <a:lnR w="13680">
                      <a:solidFill>
                        <a:srgbClr val="e4e8ef"/>
                      </a:solidFill>
                    </a:lnR>
                    <a:lnT w="13680">
                      <a:solidFill>
                        <a:srgbClr val="e4e8ef"/>
                      </a:solidFill>
                    </a:lnT>
                    <a:lnB w="13680">
                      <a:solidFill>
                        <a:srgbClr val="e4e8ef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4e8e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4e8e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4e8e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e8ef"/>
                </a:solidFill>
                <a:latin typeface="Arial"/>
              </a:rPr>
              <a:t>ACS Quitline Outcomes</a:t>
            </a: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 (1)</a:t>
            </a:r>
            <a:br>
              <a:rPr sz="4400"/>
            </a:br>
            <a:r>
              <a:rPr b="0" lang="en-US" sz="2000" spc="-1" strike="noStrike">
                <a:solidFill>
                  <a:srgbClr val="e4e8ef"/>
                </a:solidFill>
                <a:latin typeface="Arial"/>
              </a:rPr>
              <a:t>(preliminary analysis of limited data set)</a:t>
            </a:r>
            <a:endParaRPr b="0" lang="en-US" sz="20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329 referrals over 9 month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237 in Q1; 66 in Q2; 26 in Q3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Referrals volume varied by practice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Median 39.5; range 1 – 81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Referrals volume varied by clinician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Median 6; range 0 – 39 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Name missing on 34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No referral attributed to 23.5% of clinicians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e8ef"/>
                </a:solidFill>
                <a:latin typeface="Arial"/>
              </a:rPr>
              <a:t>ACS Quitline Outcomes</a:t>
            </a: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 (2)</a:t>
            </a:r>
            <a:br>
              <a:rPr sz="4400"/>
            </a:br>
            <a:r>
              <a:rPr b="0" lang="en-US" sz="2000" spc="-1" strike="noStrike">
                <a:solidFill>
                  <a:srgbClr val="e4e8ef"/>
                </a:solidFill>
                <a:latin typeface="Arial"/>
              </a:rPr>
              <a:t>(preliminary analysis of limited data set)</a:t>
            </a:r>
            <a:endParaRPr b="0" lang="en-US" sz="20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Quitline reached 113 (34.3%) for intake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Multiple call protocol; single phone number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88 (77.8%) elected proactive counseling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48 (54.5%) had at least one session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26 had 2+, 17 had 3+, and 6 had all 4 sessions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22 (45.8%) not smoking at last contact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Additional 7 (14.6%) cut back ≥ 50%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e8ef"/>
                </a:solidFill>
                <a:latin typeface="Arial"/>
              </a:rPr>
              <a:t>Clinician/Staff Interviews (1)</a:t>
            </a:r>
            <a:br>
              <a:rPr sz="4000"/>
            </a:br>
            <a:r>
              <a:rPr b="0" lang="en-US" sz="2000" spc="-1" strike="noStrike">
                <a:solidFill>
                  <a:srgbClr val="e4e8ef"/>
                </a:solidFill>
                <a:latin typeface="Arial"/>
              </a:rPr>
              <a:t>(preliminary analysis of field notes and post-interview summaries)</a:t>
            </a:r>
            <a:endParaRPr b="0" lang="en-US" sz="20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Practices liked many aspect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Systematic process for screening and counseling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Concrete option to offer patients for intensive counseling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Relative simplicity, ease of implementation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Not a significant burden on clinicians or staff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690840" indent="-26568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Great potential value to patients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e8ef"/>
                </a:solidFill>
                <a:latin typeface="Arial"/>
              </a:rPr>
              <a:t>Clinician/Staff Interviews (2)</a:t>
            </a:r>
            <a:br>
              <a:rPr sz="4000"/>
            </a:br>
            <a:r>
              <a:rPr b="0" lang="en-US" sz="2000" spc="-1" strike="noStrike">
                <a:solidFill>
                  <a:srgbClr val="e4e8ef"/>
                </a:solidFill>
                <a:latin typeface="Arial"/>
              </a:rPr>
              <a:t>(preliminary analysis of field notes and post-interview summaries)</a:t>
            </a:r>
            <a:endParaRPr b="0" lang="en-US" sz="20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Variation in how QuitLink was implemented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Likely led to variation in referral rates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Practices offered suggestions for improvement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(e.g., brochure explaining telephone counseling, more feedback from quit line)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The intervention increased patient-reported intensive counseling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Salutatory effect on reports of in-office discussion and quit line referral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Implementation and utilization varied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Referral volumes declined over time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Outcome was counseling, not cessation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Relied on patient report of counseling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Hawthorne effect possible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Effect only measured for 9 month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Cannot assess individual component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Insufficient recruits for patient interview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Impact likely reduced by several factor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Few practices can routinely provide more than simple cessation advice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Numerous barriers to intensive counseling 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Lack of office support systems to conduct cessation counseling amidst the competing demands of busy primary care visit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Quit lines deliver intensive counseling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Policy Implications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Fax referral is a win-win arrangement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Practices and quit lines can engage in bidirectional communication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Screening on stage of change is possible and should be done to reduce inappropriate referral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e8ef"/>
                </a:solidFill>
                <a:latin typeface="Arial"/>
              </a:rPr>
              <a:t>Related/Future Work</a:t>
            </a:r>
            <a:endParaRPr b="0" lang="en-US" sz="40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Electronic referral in practices with EHR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Pilot project with Virginia state quit line (service provider is Free &amp; Clear)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RWJF Transition grant with second EHR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Future studies refining QuitLink model and evaluating additional and longer-term outcome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082520" y="307800"/>
          <a:ext cx="5943600" cy="59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307800"/>
                    <a:ext cx="5943600" cy="59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Primary Objective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76360" y="2390400"/>
            <a:ext cx="5562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To test whether patient-reported delivery of intensive cessation counseling in practices is enhanced by QuitLink’s  3-component approach to integrating quit lines into primary care practice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85800" y="2894040"/>
          <a:ext cx="2525760" cy="22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894040"/>
                    <a:ext cx="252576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57200" y="4089240"/>
            <a:ext cx="152280" cy="90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4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4387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e8e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e4e8ef"/>
                </a:solidFill>
                <a:latin typeface="Times New Roman"/>
                <a:ea typeface="Times New Roman"/>
              </a:rPr>
              <a:t>°</a:t>
            </a:r>
            <a:endParaRPr b="0" lang="en-US" sz="1600" spc="-1" strike="noStrike">
              <a:solidFill>
                <a:srgbClr val="e4e8e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QuitLink Components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8160" y="19807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960840" indent="-517320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e8ef"/>
                </a:solidFill>
                <a:latin typeface="Georgia"/>
              </a:rPr>
              <a:t>An expanded vital sign intervention (Ask, Advise, Assess done by staff)</a:t>
            </a:r>
            <a:endParaRPr b="0" lang="en-US" sz="2600" spc="-1" strike="noStrike">
              <a:solidFill>
                <a:srgbClr val="e4e8ef"/>
              </a:solidFill>
              <a:latin typeface="Georgia"/>
            </a:endParaRPr>
          </a:p>
          <a:p>
            <a:pPr lvl="1" marL="960840" indent="-517320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e8ef"/>
                </a:solidFill>
                <a:latin typeface="Georgia"/>
              </a:rPr>
              <a:t>Capacity to provide fax referral of preparation-stage patients for proactive telephone counseling (American Cancer Society Quitline)</a:t>
            </a:r>
            <a:endParaRPr b="0" lang="en-US" sz="2600" spc="-1" strike="noStrike">
              <a:solidFill>
                <a:srgbClr val="e4e8ef"/>
              </a:solidFill>
              <a:latin typeface="Georgia"/>
            </a:endParaRPr>
          </a:p>
          <a:p>
            <a:pPr lvl="1" marL="960840" indent="-517320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4e8ef"/>
                </a:solidFill>
                <a:latin typeface="Georgia"/>
              </a:rPr>
              <a:t>Feedback to the provider team, including individual and aggregate reports and prescription requests</a:t>
            </a:r>
            <a:endParaRPr b="0" lang="en-US" sz="2600" spc="-1" strike="noStrike">
              <a:solidFill>
                <a:srgbClr val="e4e8ef"/>
              </a:solidFill>
              <a:latin typeface="Georgi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095880" y="2403360"/>
          <a:ext cx="304812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03360"/>
                    <a:ext cx="304812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September 2005 - June 2006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16 primary care practices in the</a:t>
            </a:r>
            <a:br>
              <a:rPr sz="3200"/>
            </a:b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  greater Richmond, VA area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3 inner-city, 4 rural, and 9 suburban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11 family medicine, 2 internal medicine, </a:t>
            </a:r>
            <a:br>
              <a:rPr sz="2800"/>
            </a:b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     and 3 with both specialties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Median of 4 providers; range 2-7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05320" y="0"/>
            <a:ext cx="3886200" cy="2344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-9360" y="0"/>
            <a:ext cx="4581360" cy="266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-152280" y="-336600"/>
          <a:ext cx="8534160" cy="628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52280" y="-336600"/>
                    <a:ext cx="853416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48120" y="5410080"/>
            <a:ext cx="4190760" cy="1492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-9360" y="3629160"/>
            <a:ext cx="2184120" cy="32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2209680" y="4191120"/>
            <a:ext cx="666756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Study Design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Cluster-randomized controlled trial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ClinicalTrials.gov Identifier: NCT00112268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Control: Traditional tobacco-use vital sign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2 sets of cross-sectional exit surveys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3-month pre-intervention period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Block randomization of practices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Treatment arm assignment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1 hour training session at 8 intervention practices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9-month comparison period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Data Sources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Brief exit survey distributed by research assistants to adult patient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Minimal data set from ACS Quitline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Semi-structured interviews with practice staff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5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e8ef"/>
                </a:solidFill>
                <a:latin typeface="Arial"/>
              </a:rPr>
              <a:t>Survey Participants</a:t>
            </a:r>
            <a:endParaRPr b="0" lang="en-US" sz="4400" spc="-1" strike="noStrike">
              <a:solidFill>
                <a:srgbClr val="e4e8e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Adults who had just completed a visit </a:t>
            </a:r>
            <a:br>
              <a:rPr sz="3200"/>
            </a:b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with a clinician 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e8ef"/>
                </a:solidFill>
                <a:latin typeface="Georgia"/>
              </a:rPr>
              <a:t>Physician, nurse practitioner, or physician assistant</a:t>
            </a:r>
            <a:endParaRPr b="0" lang="en-US" sz="2400" spc="-1" strike="noStrike">
              <a:solidFill>
                <a:srgbClr val="e4e8ef"/>
              </a:solidFill>
              <a:latin typeface="Georgi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Exit surveys from 13,562 pre-intervention and comparison period exit surveys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e8ef"/>
                </a:solidFill>
                <a:latin typeface="Georgia"/>
              </a:rPr>
              <a:t>18% smokers</a:t>
            </a:r>
            <a:endParaRPr b="0" lang="en-US" sz="2800" spc="-1" strike="noStrike">
              <a:solidFill>
                <a:srgbClr val="e4e8ef"/>
              </a:solidFill>
              <a:latin typeface="Georgi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e8ef"/>
                </a:solidFill>
                <a:latin typeface="Georgia"/>
              </a:rPr>
              <a:t>Outcome data from 1,815 smokers in comparison period</a:t>
            </a:r>
            <a:endParaRPr b="0" lang="en-US" sz="3200" spc="-1" strike="noStrike">
              <a:solidFill>
                <a:srgbClr val="e4e8ef"/>
              </a:solidFill>
              <a:latin typeface="Georgi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638680" y="6243480"/>
            <a:ext cx="35053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3:10:09Z</dcterms:created>
  <dc:creator>Steve Rothemich</dc:creator>
  <dc:description/>
  <dc:language>en-US</dc:language>
  <cp:lastModifiedBy>Stephen Rothemich</cp:lastModifiedBy>
  <dcterms:modified xsi:type="dcterms:W3CDTF">2007-09-27T02:35:46Z</dcterms:modified>
  <cp:revision>47</cp:revision>
  <dc:subject/>
  <dc:title>Checking Smoking Status as a Vital Sign   A Cluster-Randomized Trial of its Effect on Counsel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06044782</vt:r8>
  </property>
  <property fmtid="{D5CDD505-2E9C-101B-9397-08002B2CF9AE}" pid="3" name="_AuthorEmail">
    <vt:lpwstr>rjohnson@vcu.edu</vt:lpwstr>
  </property>
  <property fmtid="{D5CDD505-2E9C-101B-9397-08002B2CF9AE}" pid="4" name="_AuthorEmailDisplayName">
    <vt:lpwstr>Bob Johnson</vt:lpwstr>
  </property>
  <property fmtid="{D5CDD505-2E9C-101B-9397-08002B2CF9AE}" pid="5" name="_EmailSubject">
    <vt:lpwstr>Checking Smoking Status as a Vital Sign.ppt</vt:lpwstr>
  </property>
  <property fmtid="{D5CDD505-2E9C-101B-9397-08002B2CF9AE}" pid="6" name="_PreviousAdHocReviewCycleID">
    <vt:r8>-644664723</vt:r8>
  </property>
  <property fmtid="{D5CDD505-2E9C-101B-9397-08002B2CF9AE}" pid="7" name="_ReviewingToolsShownOnce">
    <vt:lpwstr/>
  </property>
</Properties>
</file>