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DCEB-7202-4769-9E75-D85606EA2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6A26-8957-48A1-9357-250D78828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230E-3280-4DBD-9537-D8262E7D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CCB-8476-43A1-8393-CE37C5A3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856-132B-445C-AD31-2CD5AD0F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DCC-BCD6-403F-AC95-7E51FB7B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9A4F-01D8-4F32-ADF1-04AD1663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1215-9C6E-40A1-BBD0-360A254B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6A32-FB66-4EAC-9C0C-9374DF1D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C4A1-B752-4799-AA83-26FDBAF2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4269-6611-441E-A924-840C785E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E5F1-CFC7-49A8-8203-150C78B9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9E5D-1049-4BC9-8DE1-4D7FB099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7A9-2E82-424F-A9F3-62B9FE38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2F97-EAB0-4677-8587-60734A46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8BFC-2591-4D32-8F7B-2D4D3EB1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5740-E26E-47BA-BDF2-343CC115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72AA-B48C-45E5-B39D-2994F8B0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7FC2-9449-451C-96B6-C9C30A98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985-5B5B-4D76-973C-F954AFAE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077-285B-4744-8D9B-22C02DA6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A69-4CE1-4336-9A05-252AE779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35A-56B4-4343-AF7F-0EE85E2E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901C-280D-4F12-B2B0-33B54491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290D-AAF3-4572-8545-47C0CC42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868-5A7D-430F-98DC-1F7AB60A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200E-A807-423C-891A-3F7B9D5A5D81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2FE7-48A8-4D2B-921D-D70B3B83AF93}" type="slidenum">
              <a:rPr b="0" lang="en-U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 of Lean in Laboratory Medicine Servic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7720" y="2819160"/>
            <a:ext cx="7620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Stephen S. Raab, M.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partment of Pathology, University of Pittsburgh, Pittsburgh, PA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cing Waste and Enhancing Value in Health Care Deliv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ptember 27, 200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ults of Lab Productiv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8520" y="1371600"/>
            <a:ext cx="83088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sults of Lab Productivit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The number of UPMC Shadyside FTEs/day in 2003 and 2006 was 4.5 and 5.1, respectively and the productivity ratio was 3,439 and 4,074 work units/FTE, respectively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&lt; 0.00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A second histology section produced 23,972 mean monthly work units with 15.0 FTEs/day and had a productivity ratio of 1,598 work units/FTE (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&lt; 0.001)</a:t>
            </a:r>
            <a:r>
              <a:rPr b="0" lang="en-US" sz="34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3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urd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ck of organizational commit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rf issu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ng term evaluation is problem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ruptive physici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ddle management not engag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p-front co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ultural model (top down versus bottom u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nitive history difficult to eradic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incentives for impr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iculties in linking improvement with outc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Metrics of quality, efficiency, and costs can be improved simultaneousl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The more the front line is involved, the greater the improvemen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An organizational leadership that is not engaged, fearful, and disruptive derails the process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Beware the drive for efficiency!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Workers need constant feedback and metrics with mea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Difficulties with sustainability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  <a:ea typeface="Times New Roman"/>
              </a:rPr>
              <a:t>True learning lines difficult to implemen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Knowledge Transf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ublications, work-shops, lec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hop floor walk throug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 the job trai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seminate principles to other lab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ment of a national lab medicine learning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eriment with implementing a true leaning lin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inue developing a national lab medicine Lean learning net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 models in different lab medicine setting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 how current disincentives may be revers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y how Lean may be implemented in different cultural mode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64760"/>
            <a:ext cx="861048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Purpose of Lean 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Initially, we needed a quality improvement method for our AHRQ RO1 “Improving Patient Safety by Examining Pathology Errors” 1992-199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Measure current state of error in laboratory medicine (data: 30% of specimens are defectiv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Perform root cause analysis and design error reduction initiatives (data: errors related to breakdown in various testing phase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Implement error reduction and quality initiatives and measure effectivenes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Purpose </a:t>
            </a:r>
            <a:r>
              <a:rPr b="0" lang="en-US" sz="4000" spc="-1" strike="noStrike">
                <a:solidFill>
                  <a:srgbClr val="ebd189"/>
                </a:solidFill>
                <a:latin typeface="Arial"/>
                <a:ea typeface="Times New Roman"/>
              </a:rPr>
              <a:t>of Lean Implementation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b expenditure represents 5% of total healthcare expenditur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70% of clinical decisions are based on lab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b medicine testing failures have major downstream implica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-pre-analytic phase – choice of the t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-analytic phase – performance of the tes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alytic phase – processing and analysis of the speci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st-analytic phase – reporting of the test res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st-post-analytic phase – use of the test result in patient ca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cope of Lean 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itutions: University of Pittsburgh Medical Center, Henry Ford Health System, Western Pennsylvania Hospital, University of Iow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PMC Shadysi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Tertiary 486 bed urban hospit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dical staff includes more than 600 primary care physicians and specialis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vides cancer care to 30,000 patients annually (Hillman Cancer Center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.11 million laboratory tests, 67 F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Surgical pathology:  ~ 20,000 specimens, 14 F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64760"/>
            <a:ext cx="861048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cope of Lean 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Began implementation in August 200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Chose to use Perfecting Patient Care™ (PPC) as the Lean improvement metho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Education by the Pittsburgh Regional Healthcare Initia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Jewish Healthcare Foundation funding for a team lea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Internal learning network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 Metho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plemented PPC in different way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a team lea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istology section of anatomic pathology la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PPC princip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ervical cancer preven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p test procurement (pre-analyti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aboratory screening (analyti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vasive radiologic servi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east cancer ca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ecific lab phases (i.e., accessioning, gross examination, interpretation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orting (post-analyti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 Metho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Organizational commitment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ysician champ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am lead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nal collabor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ront line work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depended on input from those involved in the proc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Lean Evalu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tr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fficiency of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urn around 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ductiv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rror re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ource util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atisfa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siness case analy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Results of Interventional Radiology Implementation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ied thyroid gland fine needle aspiration (FNA) servi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nsitivity:  Pre-intervention: 70.2%; post intervention: 92.3% (P &lt; 0.00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lse negative rate: Pre-intervention: 41.8%; post-intervention: 18.2% (P = 0.006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eat FNA rate: Pre-intervention: 12.7%; post intervention (with immediate interpretation): 3.7% (P = 0.001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st savings $167,000 per 100 patients ($501 million annuall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1T19:53:19Z</dcterms:created>
  <dc:creator>ddavey</dc:creator>
  <dc:description/>
  <dc:language>en-US</dc:language>
  <cp:lastModifiedBy>Stephen S Raab</cp:lastModifiedBy>
  <dcterms:modified xsi:type="dcterms:W3CDTF">2007-09-27T10:45:11Z</dcterms:modified>
  <cp:revision>350</cp:revision>
  <dc:subject/>
  <dc:title>Bethesda Adequacy Forum Draft Recommendations</dc:title>
</cp:coreProperties>
</file>