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D70-7723-4CAB-AF14-8ADB8A67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37D-5C35-4022-A448-49BDEDA1F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B8D-27D2-4452-BBD8-F13B5628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256-43EA-46FB-BA0D-045496A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EAD-69FC-4B04-BA8E-41ED2D22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FD0-B9AF-4E2E-AB78-85693BCC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DCB7-84E0-45F7-8DAB-3804467C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8E35-0916-4ADD-8CAC-2CC4FDBE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6E89-B92B-40F2-98F1-EBE0D382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1FD6-806F-4239-8FE3-5F59257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41A2-7C21-4B59-A477-6BF174D1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461-B47B-4EE9-8F4B-F9932D8E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BE49-9E27-417E-94EA-24C0F25B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DFC-BFB2-488E-971F-30B114F9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3214-E398-478C-B390-A3E3822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5A12-C685-490A-AEDF-D1BF70C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BD8-B077-4BA6-BA01-33E18F5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FF57-4DAB-40E7-A225-863FFE61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DE7-63E6-4DA3-AE0F-8CD8BC30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078-2780-4740-BBD5-E24E205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4E7-0FFC-4A93-B343-80E0332F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C76-412C-4A1C-8A13-BD10763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4F7-36D8-4D68-8E74-B184AA4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BDC-7B5E-4E3C-BD81-6DB2159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C18-D4F5-46DB-BEFE-2F6236C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39D-BF95-4BFF-B77D-B8EDAF9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7EFC-1122-4C3F-B5E5-DFDD0F110A1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2302-8665-4314-A0D1-49C746D56C5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of Lean in Laboratory Medicine Servi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2819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Stephen S. Raab, M.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partment of Pathology, University of Pittsburgh, Pittsburgh, P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cing Waste and Enhancing Value in Health Care Deliv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ptember 27, 200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 of Lab Produ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8520" y="1371600"/>
            <a:ext cx="8308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 of Lab Produ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 number of UPMC Shadyside FTEs/day in 2003 and 2006 was 4.5 and 5.1, respectively and the productivity ratio was 3,439 and 4,074 work units/FTE, respectively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&lt;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 second histology section produced 23,972 mean monthly work units with 15.0 FTEs/day and had a productivity ratio of 1,598 work units/FTE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&lt; 0.001)</a:t>
            </a:r>
            <a:r>
              <a:rPr b="0" lang="en-US" sz="3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urd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ck of organizational commit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rf issu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ng term evaluation is problem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ruptive physici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ddle management not engag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-front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ltural model (top down versus bottom u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nitive history difficult to eradic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incentives for impr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ies in linking improvement with out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Metrics of quality, efficiency, and costs can be improved simultaneousl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The more the front line is involved, the greater the improve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An organizational leadership that is not engaged, fearful, and disruptive derails the proces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Beware the drive for efficiency!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Workers need constant feedback and metrics with mea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Difficulties with sustainabilit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True learning lines difficult to imple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Transf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ations, work-shops, lec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p floor walk throug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 the job 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seminate principles to other la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 national lab medicine learning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eriment with implementing a true leaning lin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inue developing a national lab medicine Lean learning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 models in different lab medicine setting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 how current disincentives may be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y how Lean may be implemented in different cultural mode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64760"/>
            <a:ext cx="861048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Purpos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Initially, we needed a quality improvement method for our AHRQ RO1 “Improving Patient Safety by Examining Pathology Errors” 1992-199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easure current state of error in laboratory medicine (data: 30% of specimens are defectiv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rform root cause analysis and design error reduction initiatives (data: errors related to breakdown in various testing phas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Implement error reduction and quality initiatives and measure effectiven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Purpose 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  <a:ea typeface="Times New Roman"/>
              </a:rPr>
              <a:t>of Lean Implementa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 expenditure represents 5% of total healthcare expendi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0% of clinical decisions are based on lab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 medicine testing failures have major downstream implic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pre-analytic phase – choice of the t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analytic phase – performance of the te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alytic phase – processing and analysis of the speci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-analytic phase – reporting of the test res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-post-analytic phase – use of the test result in patient ca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cop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s: University of Pittsburgh Medical Center, Henry Ford Health System, Western Pennsylvania Hospital, University of Iow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MC Shadys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Tertiary 486 bed urban hospit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dical staff includes more than 600 primary care physicians and speciali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s cancer care to 30,000 patients annually (Hillman Cancer Cente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11 million laboratory tests, 67 F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urgical pathology:  ~ 20,000 specimens, 14 F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64760"/>
            <a:ext cx="861048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cop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Began implementation in August 200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Chose to use Perfecting Patient Care™ (PPC) as the Lean improvement meth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Education by the Pittsburgh Regional Healthcare Initia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Jewish Healthcare Foundation funding for a team lea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Internal learning networ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lemented PPC in different w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a team lea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tology section of anatomic pathology la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PPC princip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rvical cancer preven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p test procurement (pre-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boratory screening (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vasive radiologic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east cancer ca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cific lab phases (i.e., accessioning, gross examination, interpretatio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ing (post-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Organizational commitmen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 champ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m lea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l collabo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nt line work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depended on input from those involved in the pro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Lean Evalu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fficiency of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around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rror re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siness case analy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Results of Interventional Radiology Implementa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ied thyroid gland fine needle aspiration (FNA)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nsitivity:  Pre-intervention: 70.2%; post intervention: 92.3% (P &lt;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lse negative rate: Pre-intervention: 41.8%; post-intervention: 18.2% (P = 0.006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eat FNA rate: Pre-intervention: 12.7%; post intervention (with immediate interpretation): 3.7% (P =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savings $167,000 per 100 patients ($501 million annuall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9:53:19Z</dcterms:created>
  <dc:creator>ddavey</dc:creator>
  <dc:description/>
  <dc:language>en-US</dc:language>
  <cp:lastModifiedBy>Stephen S Raab</cp:lastModifiedBy>
  <dcterms:modified xsi:type="dcterms:W3CDTF">2007-09-27T10:45:11Z</dcterms:modified>
  <cp:revision>350</cp:revision>
  <dc:subject/>
  <dc:title>Bethesda Adequacy Forum Draft Recommendations</dc:title>
</cp:coreProperties>
</file>