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F861-BC1D-4762-95E1-0FAF51C2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D91-C60D-4759-A2BD-41A39B93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7A36-B7D9-418D-8C72-647E7FDC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50F-0A85-4C7F-A7C9-A4F3CC39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734B-E997-4653-8594-5E75B81B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7F11-FA96-4421-89D3-29EEBFEA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A549-99AA-40EC-A308-1FB1D9EE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BB78-5876-44C3-8B98-45ED4658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8A64-F302-42CA-840A-82DCD87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BA4F-447A-4939-85D6-490EC575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BB73-7A24-42B8-8EC6-E6A43CC6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0C4-51A2-402D-80E4-85FCC992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688B-1642-4772-A247-1EF508A4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8857-DCAC-49D1-A568-319F8D31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30FA-8018-4946-96B1-53A08BEA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A70C-46F8-44FA-972A-7AA385F7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F6D6-3580-4C89-9E78-32A944C0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262-3C6E-4C30-8314-79BCFCB5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51D-DBA8-45A4-B81E-7C890C55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6C35-622B-4912-84FF-359E579E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364-38B2-402F-8381-72A98CB1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4BD-0C06-4314-B3AA-394FA0C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FBF-8733-4ACD-80A0-40D03DC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25A-CD5F-4324-9D22-C9EE028A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743040" indent="-28584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2" marL="11430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4" marL="20574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5" marL="2057400" indent="-228600">
              <a:lnSpc>
                <a:spcPct val="90000"/>
              </a:lnSpc>
              <a:spcAft>
                <a:spcPts val="799"/>
              </a:spcAft>
              <a:buClr>
                <a:srgbClr val="ffffff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6" marL="2057400" indent="-228600">
              <a:lnSpc>
                <a:spcPct val="90000"/>
              </a:lnSpc>
              <a:spcAft>
                <a:spcPts val="799"/>
              </a:spcAft>
              <a:buClr>
                <a:srgbClr val="ffffff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51A3-7722-41B1-951D-E1E7FAB57195}" type="slidenum">
              <a:rPr b="0" lang="en-US" sz="1400" spc="-1" strike="noStrike">
                <a:solidFill>
                  <a:srgbClr val="000000"/>
                </a:solidFill>
                <a:latin typeface="GillSans Bold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106668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743040" indent="-28584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2" marL="11430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4" marL="2057400" indent="-22860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5" marL="2057400" indent="-228600">
              <a:lnSpc>
                <a:spcPct val="90000"/>
              </a:lnSpc>
              <a:spcAft>
                <a:spcPts val="799"/>
              </a:spcAft>
              <a:buClr>
                <a:srgbClr val="ffffff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6" marL="2057400" indent="-228600">
              <a:lnSpc>
                <a:spcPct val="90000"/>
              </a:lnSpc>
              <a:spcAft>
                <a:spcPts val="799"/>
              </a:spcAft>
              <a:buClr>
                <a:srgbClr val="ffffff"/>
              </a:buClr>
              <a:buFont typeface="Gill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EE59-3D79-4DBD-B0A0-D10A9C550E8F}" type="slidenum">
              <a:rPr b="0" lang="en-US" sz="1400" spc="-1" strike="noStrike">
                <a:solidFill>
                  <a:srgbClr val="ffffff"/>
                </a:solidFill>
                <a:latin typeface="GillSans Bold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001000" y="152280"/>
            <a:ext cx="106668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illSans Bold"/>
              </a:rPr>
              <a:t>Driving Innovations in Health Service Delivery: Key Concepts</a:t>
            </a:r>
            <a:endParaRPr b="0" lang="en-US" sz="5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66680" y="35053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Sans"/>
              </a:rPr>
              <a:t>Paul Plsek</a:t>
            </a:r>
            <a:endParaRPr b="0" lang="en-US" sz="3600" spc="-1" strike="noStrike">
              <a:solidFill>
                <a:srgbClr val="ffffff"/>
              </a:solidFill>
              <a:latin typeface="GillSans"/>
            </a:endParaRPr>
          </a:p>
          <a:p>
            <a:pPr indent="0" algn="ctr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Sans"/>
              </a:rPr>
              <a:t>Consultant in Innovation and Complex System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illSans"/>
              </a:rPr>
              <a:t>DirectedCreativity.com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indent="0" algn="ctr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Sans"/>
              </a:rPr>
              <a:t>Atlanta, GA</a:t>
            </a:r>
            <a:endParaRPr b="0" lang="en-US" sz="2400" spc="-1" strike="noStrike">
              <a:solidFill>
                <a:srgbClr val="ffffff"/>
              </a:solidFill>
              <a:latin typeface="GillSans"/>
            </a:endParaRPr>
          </a:p>
          <a:p>
            <a:pPr indent="0" algn="ctr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indent="0" algn="ctr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Sans"/>
              </a:rPr>
              <a:t>Presented at AHRQ Annual Conferen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GillSans"/>
              </a:rPr>
              <a:t>September 27, 2007</a:t>
            </a:r>
            <a:endParaRPr b="0" lang="en-US" sz="1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Why Focus on Innovation?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26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Sans"/>
              </a:rPr>
              <a:t>Key to long-term success in other industries</a:t>
            </a:r>
            <a:endParaRPr b="0" lang="en-US" sz="29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26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GillSans"/>
              </a:rPr>
              <a:t>Good innovation processes exist in medical, surgical, pharmaceutical, diagnostic, device and computer technology, but…</a:t>
            </a:r>
            <a:endParaRPr b="0" lang="en-US" sz="29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26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ffffff"/>
                </a:solidFill>
                <a:latin typeface="GillSans"/>
              </a:rPr>
              <a:t>…</a:t>
            </a:r>
            <a:r>
              <a:rPr b="0" i="1" lang="en-US" sz="2900" spc="-1" strike="noStrike">
                <a:solidFill>
                  <a:srgbClr val="ffffff"/>
                </a:solidFill>
                <a:latin typeface="GillSans"/>
              </a:rPr>
              <a:t>we routinely take 21st century technology and embed it in service delivery processes that are often conceptually rooted in the 1970s</a:t>
            </a:r>
            <a:endParaRPr b="0" lang="en-US" sz="2900" spc="-1" strike="noStrike">
              <a:solidFill>
                <a:srgbClr val="ffffff"/>
              </a:solidFill>
              <a:latin typeface="GillSan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1143000"/>
            <a:ext cx="8077320" cy="1828800"/>
            <a:chOff x="685800" y="1143000"/>
            <a:chExt cx="8077320" cy="1828800"/>
          </a:xfrm>
        </p:grpSpPr>
        <p:sp>
          <p:nvSpPr>
            <p:cNvPr id="89" name=""/>
            <p:cNvSpPr/>
            <p:nvPr/>
          </p:nvSpPr>
          <p:spPr>
            <a:xfrm>
              <a:off x="762120" y="1219320"/>
              <a:ext cx="7924680" cy="17524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" y="1143000"/>
              <a:ext cx="7924680" cy="1752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1219320"/>
              <a:ext cx="8001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Sans Bold"/>
                </a:rPr>
                <a:t>“</a:t>
              </a:r>
              <a:r>
                <a:rPr b="0" lang="en-US" sz="2000" spc="-1" strike="noStrike">
                  <a:solidFill>
                    <a:srgbClr val="ffffff"/>
                  </a:solidFill>
                  <a:latin typeface="GillSans Bold"/>
                </a:rPr>
                <a:t>The challenge is to bring the full potential benefit of effective health care to all… this challenge demands a readiness to think in radically new ways about how to deliver health care services.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9200" y="2286000"/>
              <a:ext cx="35053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GillSans"/>
                </a:rPr>
                <a:t>Institute of Medicine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Aft>
                  <a:spcPts val="3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GillSans"/>
                </a:rPr>
                <a:t>“</a:t>
              </a:r>
              <a:r>
                <a:rPr b="0" i="1" lang="en-US" sz="1500" spc="-1" strike="noStrike">
                  <a:solidFill>
                    <a:srgbClr val="ffffff"/>
                  </a:solidFill>
                  <a:latin typeface="GillSans"/>
                </a:rPr>
                <a:t>Crossing the Quality Chasm”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What Do We Mea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By “Innovation”?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Key themes from the literature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601560" indent="-231480">
              <a:lnSpc>
                <a:spcPct val="90000"/>
              </a:lnSpc>
              <a:spcAft>
                <a:spcPts val="700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Novel idea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lvl="1" marL="601560" indent="-231480">
              <a:lnSpc>
                <a:spcPct val="90000"/>
              </a:lnSpc>
              <a:spcAft>
                <a:spcPts val="700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Context dependent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lvl="1" marL="601560" indent="-231480">
              <a:lnSpc>
                <a:spcPct val="90000"/>
              </a:lnSpc>
              <a:spcAft>
                <a:spcPts val="4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Successful translation to reality </a:t>
            </a:r>
            <a:br>
              <a:rPr sz="2800"/>
            </a:br>
            <a:r>
              <a:rPr b="0" i="1" lang="en-US" sz="2000" spc="-1" strike="noStrike">
                <a:solidFill>
                  <a:srgbClr val="ffffff"/>
                </a:solidFill>
                <a:latin typeface="GillSans"/>
              </a:rPr>
              <a:t>(i.e., creates real and substantial value in some sense)</a:t>
            </a: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  <a:p>
            <a:pPr marL="277560" indent="-27756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For example…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601560" indent="-231480">
              <a:lnSpc>
                <a:spcPct val="90000"/>
              </a:lnSpc>
              <a:spcAft>
                <a:spcPts val="4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Innovation refers to the implementation of new or altered products, services, processes, systems, organizational structures, or business models as a means of improving one or more domains of health care quality.” </a:t>
            </a:r>
            <a:br>
              <a:rPr sz="2800"/>
            </a:br>
            <a:r>
              <a:rPr b="0" i="1" lang="en-US" sz="2000" spc="-1" strike="noStrike">
                <a:solidFill>
                  <a:srgbClr val="ffffff"/>
                </a:solidFill>
                <a:latin typeface="GillSans"/>
              </a:rPr>
              <a:t>(From the AHRQ Innovation Exchange website)</a:t>
            </a:r>
            <a:endParaRPr b="0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Sans Bold"/>
              </a:rPr>
              <a:t>Some Principles of Innovation</a:t>
            </a:r>
            <a:endParaRPr b="0" lang="en-US" sz="44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Organizational culture matters 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Need to challenge current ways of thinking, tacit rules and assumptions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743040" indent="-285840">
              <a:lnSpc>
                <a:spcPct val="90000"/>
              </a:lnSpc>
              <a:spcAft>
                <a:spcPts val="700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Practice of attention, escape and movement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Cycles of divergent &amp; convergent thinking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marL="343080" indent="-343080">
              <a:lnSpc>
                <a:spcPct val="90000"/>
              </a:lnSpc>
              <a:spcAft>
                <a:spcPts val="799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Sans"/>
              </a:rPr>
              <a:t>Gradual application of judgment</a:t>
            </a:r>
            <a:endParaRPr b="0" lang="en-US" sz="3200" spc="-1" strike="noStrike">
              <a:solidFill>
                <a:srgbClr val="ffffff"/>
              </a:solidFill>
              <a:latin typeface="GillSans"/>
            </a:endParaRPr>
          </a:p>
          <a:p>
            <a:pPr lvl="1" marL="743040" indent="-285840">
              <a:lnSpc>
                <a:spcPct val="90000"/>
              </a:lnSpc>
              <a:spcAft>
                <a:spcPts val="700"/>
              </a:spcAft>
              <a:buClr>
                <a:srgbClr val="ff0000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Sans"/>
              </a:rPr>
              <a:t>stage-gate or innovation-funnel concept</a:t>
            </a:r>
            <a:endParaRPr b="0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GillSans Bold"/>
              </a:rPr>
              <a:t>Typical Process for Innovation</a:t>
            </a:r>
            <a:endParaRPr b="0" lang="en-US" sz="4000" spc="-1" strike="noStrike">
              <a:solidFill>
                <a:srgbClr val="ffff00"/>
              </a:solidFill>
              <a:latin typeface="GillSans Bold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2346480"/>
            <a:ext cx="4876560" cy="3581280"/>
          </a:xfrm>
          <a:prstGeom prst="hexagon">
            <a:avLst>
              <a:gd name="adj" fmla="val 34042"/>
              <a:gd name="vf" fmla="val 115470"/>
            </a:avLst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3870360"/>
            <a:ext cx="2057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19051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90512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on &amp;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371808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ing &amp;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5699160"/>
            <a:ext cx="2362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546880"/>
            <a:ext cx="2057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tain &amp; Sp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4437000"/>
            <a:ext cx="3812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4665600"/>
            <a:ext cx="3808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894200"/>
            <a:ext cx="3808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5122800"/>
            <a:ext cx="38124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5351400"/>
            <a:ext cx="38088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955600" y="3060720"/>
            <a:ext cx="127800" cy="189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4098960"/>
            <a:ext cx="6098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2879640"/>
            <a:ext cx="1752480" cy="2590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962520" y="2879640"/>
            <a:ext cx="1752480" cy="2590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175280"/>
            <a:ext cx="3124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32280" y="59245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What are the key dimensions of a organizational culture of innova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1722600"/>
            <a:ext cx="5334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sk ta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idely shared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 targ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ols and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wards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onsh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2238480"/>
            <a:ext cx="2438640" cy="347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9:14:16Z</dcterms:created>
  <dc:creator>Paul Plsek</dc:creator>
  <dc:description/>
  <dc:language>en-US</dc:language>
  <cp:lastModifiedBy>Paul Plsek</cp:lastModifiedBy>
  <cp:lastPrinted>2007-09-21T16:38:08Z</cp:lastPrinted>
  <dcterms:modified xsi:type="dcterms:W3CDTF">2007-09-21T16:39:44Z</dcterms:modified>
  <cp:revision>8</cp:revision>
  <dc:subject/>
  <dc:title>Prposed 4 Slides for AHRQ Conference 9/27/07</dc:title>
</cp:coreProperties>
</file>