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C68-0EEF-4FBB-A096-34F2B999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57D-71E3-4BE3-8EB3-67127A9E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794-4509-43F9-ADA2-702F329E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264-5329-44F4-AF74-EB415752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B554-5BB3-4926-8AA8-F02D37F8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649C-E2C1-4809-A1CC-66885719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0635-2387-4DF4-8136-489CEC91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FF99-8EDB-48C0-9FA2-9E09D605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5150-59CF-459B-B62E-38B5472D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3930-A15B-4533-A94B-C1C6F097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DB79-C278-423C-BA86-0373AE0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60A-3442-450D-A11F-7EFF9EBA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2A2B-8514-4656-B182-B9990F1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73BE-6A36-48BC-988C-9D3C61A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C995-A21B-4020-91A1-7E5B1114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5158-665D-422F-A84E-6F786F00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7CE5-93BC-4D96-BCD6-A68F4D10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85D-F581-491A-A313-5C93D94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ABF-98F8-4F31-B6CF-0F13F033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26F-C5C6-444B-AE40-463D2D02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919-761D-4C9C-A273-9AD6C073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459-FB04-4CBA-9E65-C40DBCE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E23-C717-4B89-8F04-448C191B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BF1-2753-43DB-8EB6-853E6501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743040" indent="-28584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2" marL="11430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4" marL="20574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5" marL="2057400" indent="-228600">
              <a:lnSpc>
                <a:spcPct val="90000"/>
              </a:lnSpc>
              <a:spcAft>
                <a:spcPts val="799"/>
              </a:spcAft>
              <a:buClr>
                <a:srgbClr val="ffffff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6" marL="2057400" indent="-228600">
              <a:lnSpc>
                <a:spcPct val="90000"/>
              </a:lnSpc>
              <a:spcAft>
                <a:spcPts val="799"/>
              </a:spcAft>
              <a:buClr>
                <a:srgbClr val="ffffff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4094-63A3-43F9-A87B-6E59942C71BF}" type="slidenum">
              <a: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106668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743040" indent="-28584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2" marL="11430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4" marL="20574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5" marL="2057400" indent="-228600">
              <a:lnSpc>
                <a:spcPct val="90000"/>
              </a:lnSpc>
              <a:spcAft>
                <a:spcPts val="799"/>
              </a:spcAft>
              <a:buClr>
                <a:srgbClr val="ffffff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6" marL="2057400" indent="-228600">
              <a:lnSpc>
                <a:spcPct val="90000"/>
              </a:lnSpc>
              <a:spcAft>
                <a:spcPts val="799"/>
              </a:spcAft>
              <a:buClr>
                <a:srgbClr val="ffffff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7D79-96E2-4527-8891-F38A0B4EADD7}" type="slidenum">
              <a: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106668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illSans Bold"/>
              </a:rPr>
              <a:t>Driving Innovations in Health Service Delivery: Key Concepts</a:t>
            </a:r>
            <a:endParaRPr b="0" lang="en-US" sz="5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680" y="35053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Sans"/>
              </a:rPr>
              <a:t>Paul Plsek</a:t>
            </a:r>
            <a:endParaRPr b="0" lang="en-US" sz="3600" spc="-1" strike="noStrike">
              <a:solidFill>
                <a:srgbClr val="ffffff"/>
              </a:solidFill>
              <a:latin typeface="GillSans"/>
            </a:endParaRPr>
          </a:p>
          <a:p>
            <a:pPr indent="0" algn="ctr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Sans"/>
              </a:rPr>
              <a:t>Consultant in Innovation and Complex System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illSans"/>
              </a:rPr>
              <a:t>DirectedCreativity.com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indent="0" algn="ctr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Sans"/>
              </a:rPr>
              <a:t>Atlanta, GA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indent="0" algn="ctr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indent="0" algn="ctr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Sans"/>
              </a:rPr>
              <a:t>Presented at AHRQ Annual Conferen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illSans"/>
              </a:rPr>
              <a:t>September 27, 2007</a:t>
            </a:r>
            <a:endParaRPr b="0" lang="en-US" sz="1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Why Focus on Innovation?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26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Sans"/>
              </a:rPr>
              <a:t>Key to long-term success in other industries</a:t>
            </a:r>
            <a:endParaRPr b="0" lang="en-US" sz="29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26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Sans"/>
              </a:rPr>
              <a:t>Good innovation processes exist in medical, surgical, pharmaceutical, diagnostic, device and computer technology, but…</a:t>
            </a:r>
            <a:endParaRPr b="0" lang="en-US" sz="29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26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GillSans"/>
              </a:rPr>
              <a:t>…</a:t>
            </a:r>
            <a:r>
              <a:rPr b="0" i="1" lang="en-US" sz="2900" spc="-1" strike="noStrike">
                <a:solidFill>
                  <a:srgbClr val="ffffff"/>
                </a:solidFill>
                <a:latin typeface="GillSans"/>
              </a:rPr>
              <a:t>we routinely take 21st century technology and embed it in service delivery processes that are often conceptually rooted in the 1970s</a:t>
            </a:r>
            <a:endParaRPr b="0" lang="en-US" sz="2900" spc="-1" strike="noStrike">
              <a:solidFill>
                <a:srgbClr val="ffffff"/>
              </a:solidFill>
              <a:latin typeface="Gill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1143000"/>
            <a:ext cx="8077320" cy="1828800"/>
            <a:chOff x="685800" y="1143000"/>
            <a:chExt cx="8077320" cy="1828800"/>
          </a:xfrm>
        </p:grpSpPr>
        <p:sp>
          <p:nvSpPr>
            <p:cNvPr id="89" name=""/>
            <p:cNvSpPr/>
            <p:nvPr/>
          </p:nvSpPr>
          <p:spPr>
            <a:xfrm>
              <a:off x="762120" y="1219320"/>
              <a:ext cx="7924680" cy="1752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1143000"/>
              <a:ext cx="7924680" cy="1752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121932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Sans Bold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GillSans Bold"/>
                </a:rPr>
                <a:t>The challenge is to bring the full potential benefit of effective health care to all… this challenge demands a readiness to think in radically new ways about how to deliver health care services.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9200" y="2286000"/>
              <a:ext cx="35053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GillSans"/>
                </a:rPr>
                <a:t>Institute of Medicin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GillSans"/>
                </a:rPr>
                <a:t>“</a:t>
              </a:r>
              <a:r>
                <a:rPr b="0" i="1" lang="en-US" sz="1500" spc="-1" strike="noStrike">
                  <a:solidFill>
                    <a:srgbClr val="ffffff"/>
                  </a:solidFill>
                  <a:latin typeface="GillSans"/>
                </a:rPr>
                <a:t>Crossing the Quality Chasm”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What Do We Mea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By “Innovation”?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Key themes from the literature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601560" indent="-231480">
              <a:lnSpc>
                <a:spcPct val="90000"/>
              </a:lnSpc>
              <a:spcAft>
                <a:spcPts val="700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Novel idea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lvl="1" marL="601560" indent="-231480">
              <a:lnSpc>
                <a:spcPct val="90000"/>
              </a:lnSpc>
              <a:spcAft>
                <a:spcPts val="700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Context dependent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lvl="1" marL="601560" indent="-231480">
              <a:lnSpc>
                <a:spcPct val="90000"/>
              </a:lnSpc>
              <a:spcAft>
                <a:spcPts val="4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Successful translation to reality </a:t>
            </a:r>
            <a:br>
              <a:rPr sz="2800"/>
            </a:br>
            <a:r>
              <a:rPr b="0" i="1" lang="en-US" sz="2000" spc="-1" strike="noStrike">
                <a:solidFill>
                  <a:srgbClr val="ffffff"/>
                </a:solidFill>
                <a:latin typeface="GillSans"/>
              </a:rPr>
              <a:t>(i.e., creates real and substantial value in some sense)</a:t>
            </a: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  <a:p>
            <a:pPr marL="277560" indent="-27756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or example…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601560" indent="-231480">
              <a:lnSpc>
                <a:spcPct val="90000"/>
              </a:lnSpc>
              <a:spcAft>
                <a:spcPts val="4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Innovation refers to the implementation of new or altered products, services, processes, systems, organizational structures, or business models as a means of improving one or more domains of health care quality.” </a:t>
            </a:r>
            <a:br>
              <a:rPr sz="2800"/>
            </a:br>
            <a:r>
              <a:rPr b="0" i="1" lang="en-US" sz="2000" spc="-1" strike="noStrike">
                <a:solidFill>
                  <a:srgbClr val="ffffff"/>
                </a:solidFill>
                <a:latin typeface="GillSans"/>
              </a:rPr>
              <a:t>(From the AHRQ Innovation Exchange website)</a:t>
            </a: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Some Principles of Innovation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Organizational culture matters 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Need to challenge current ways of thinking, tacit rules and assumptions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743040" indent="-285840">
              <a:lnSpc>
                <a:spcPct val="90000"/>
              </a:lnSpc>
              <a:spcAft>
                <a:spcPts val="700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Practice of attention, escape and movement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Cycles of divergent &amp; convergent thinking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Gradual application of judgment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743040" indent="-285840">
              <a:lnSpc>
                <a:spcPct val="90000"/>
              </a:lnSpc>
              <a:spcAft>
                <a:spcPts val="700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stage-gate or innovation-funnel concept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illSans Bold"/>
              </a:rPr>
              <a:t>Typical Process for Innovation</a:t>
            </a:r>
            <a:endParaRPr b="0" lang="en-US" sz="40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2346480"/>
            <a:ext cx="4876560" cy="3581280"/>
          </a:xfrm>
          <a:prstGeom prst="hexagon">
            <a:avLst>
              <a:gd name="adj" fmla="val 34042"/>
              <a:gd name="vf" fmla="val 11547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870360"/>
            <a:ext cx="2057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19051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9051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371808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&amp;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569916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54688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tain &amp; Sp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437000"/>
            <a:ext cx="3812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665600"/>
            <a:ext cx="3808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894200"/>
            <a:ext cx="3808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5122800"/>
            <a:ext cx="3812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351400"/>
            <a:ext cx="3808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55600" y="3060720"/>
            <a:ext cx="127800" cy="189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098960"/>
            <a:ext cx="6098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2879640"/>
            <a:ext cx="1752480" cy="2590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962520" y="2879640"/>
            <a:ext cx="1752480" cy="2590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175280"/>
            <a:ext cx="3124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32280" y="59245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What are the key dimensions of a organizational culture of innov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1722600"/>
            <a:ext cx="5334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sk t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idely shared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ols and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wards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2238480"/>
            <a:ext cx="2438640" cy="347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9:14:16Z</dcterms:created>
  <dc:creator>Paul Plsek</dc:creator>
  <dc:description/>
  <dc:language>en-US</dc:language>
  <cp:lastModifiedBy>Paul Plsek</cp:lastModifiedBy>
  <cp:lastPrinted>2007-09-21T16:38:08Z</cp:lastPrinted>
  <dcterms:modified xsi:type="dcterms:W3CDTF">2007-09-21T16:39:44Z</dcterms:modified>
  <cp:revision>8</cp:revision>
  <dc:subject/>
  <dc:title>Prposed 4 Slides for AHRQ Conference 9/27/07</dc:title>
</cp:coreProperties>
</file>