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529320"/>
            <a:ext cx="1847880" cy="328680"/>
          </a:xfrm>
          <a:prstGeom prst="rect">
            <a:avLst/>
          </a:prstGeom>
          <a:solidFill>
            <a:srgbClr val="1e96b2"/>
          </a:solidFill>
          <a:ln w="9360">
            <a:solidFill>
              <a:srgbClr val="1e96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22760" y="6535800"/>
            <a:ext cx="15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  <a:ea typeface="Arial"/>
              </a:rPr>
              <a:t>Copyright 2007 Peer Insight LLC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  <a:ea typeface="Arial"/>
              </a:rPr>
              <a:t>All rights reserv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52920" y="6554880"/>
            <a:ext cx="7812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page </a:t>
            </a:r>
            <a:fld id="{679362DA-0506-425A-8394-651CABCC552F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57040" y="6516720"/>
            <a:ext cx="134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  <a:ea typeface="Arial"/>
              </a:rPr>
              <a:t>Peer Ins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117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908120" y="653580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  <a:ea typeface="Arial"/>
              </a:rPr>
              <a:t>September 27, 200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09840" y="2685960"/>
            <a:ext cx="6734160" cy="3952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ile Markers on the Service Innovation Journey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Four-Year Study of the Discipline of Service Innov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ented 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RQ Annual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 27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6040" y="2757600"/>
            <a:ext cx="22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Garamond"/>
              </a:rPr>
              <a:t>Peer Ins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620040"/>
            <a:ext cx="9144000" cy="237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649920"/>
            <a:ext cx="9144000" cy="216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01920" y="0"/>
            <a:ext cx="2106720" cy="2666880"/>
          </a:xfrm>
          <a:prstGeom prst="rect">
            <a:avLst/>
          </a:prstGeom>
          <a:solidFill>
            <a:srgbClr val="1e9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05400" y="0"/>
            <a:ext cx="46386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2097720" y="2092680"/>
            <a:ext cx="1884240" cy="2017440"/>
            <a:chOff x="2097720" y="2092680"/>
            <a:chExt cx="1884240" cy="2017440"/>
          </a:xfrm>
        </p:grpSpPr>
        <p:sp>
          <p:nvSpPr>
            <p:cNvPr id="52" name=""/>
            <p:cNvSpPr/>
            <p:nvPr/>
          </p:nvSpPr>
          <p:spPr>
            <a:xfrm rot="2019000">
              <a:off x="2455560" y="2278440"/>
              <a:ext cx="1168200" cy="1645920"/>
            </a:xfrm>
            <a:prstGeom prst="rect">
              <a:avLst/>
            </a:prstGeom>
            <a:solidFill>
              <a:srgbClr val="ff99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8212400">
              <a:off x="2121120" y="2813040"/>
              <a:ext cx="144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NOV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4686480" y="1333440"/>
            <a:ext cx="2323800" cy="990720"/>
          </a:xfrm>
          <a:prstGeom prst="rect">
            <a:avLst/>
          </a:prstGeom>
          <a:solidFill>
            <a:srgbClr val="9999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6160" y="299880"/>
            <a:ext cx="8842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There is a natural progression of knowledge acquis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2880" y="396540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yst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74520" y="2717640"/>
            <a:ext cx="160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euri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rules of thum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76480" y="22510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lgorit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33760" y="20415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nary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806480" y="1905120"/>
            <a:ext cx="5489640" cy="3394080"/>
            <a:chOff x="1806480" y="1905120"/>
            <a:chExt cx="5489640" cy="3394080"/>
          </a:xfrm>
        </p:grpSpPr>
        <p:sp>
          <p:nvSpPr>
            <p:cNvPr id="61" name=""/>
            <p:cNvSpPr/>
            <p:nvPr/>
          </p:nvSpPr>
          <p:spPr>
            <a:xfrm>
              <a:off x="2724120" y="1905120"/>
              <a:ext cx="4572000" cy="2772000"/>
            </a:xfrm>
            <a:custGeom>
              <a:avLst/>
              <a:gdLst/>
              <a:ahLst/>
              <a:rect l="l" t="t" r="r" b="b"/>
              <a:pathLst>
                <a:path w="3108" h="1746">
                  <a:moveTo>
                    <a:pt x="0" y="1746"/>
                  </a:moveTo>
                  <a:cubicBezTo>
                    <a:pt x="11" y="1677"/>
                    <a:pt x="42" y="1452"/>
                    <a:pt x="72" y="1332"/>
                  </a:cubicBezTo>
                  <a:cubicBezTo>
                    <a:pt x="102" y="1212"/>
                    <a:pt x="129" y="1130"/>
                    <a:pt x="180" y="1026"/>
                  </a:cubicBezTo>
                  <a:cubicBezTo>
                    <a:pt x="231" y="922"/>
                    <a:pt x="296" y="805"/>
                    <a:pt x="378" y="708"/>
                  </a:cubicBezTo>
                  <a:cubicBezTo>
                    <a:pt x="460" y="611"/>
                    <a:pt x="568" y="517"/>
                    <a:pt x="672" y="444"/>
                  </a:cubicBezTo>
                  <a:cubicBezTo>
                    <a:pt x="776" y="371"/>
                    <a:pt x="889" y="317"/>
                    <a:pt x="1002" y="270"/>
                  </a:cubicBezTo>
                  <a:cubicBezTo>
                    <a:pt x="1115" y="223"/>
                    <a:pt x="1231" y="194"/>
                    <a:pt x="1350" y="162"/>
                  </a:cubicBezTo>
                  <a:cubicBezTo>
                    <a:pt x="1469" y="130"/>
                    <a:pt x="1579" y="101"/>
                    <a:pt x="1716" y="78"/>
                  </a:cubicBezTo>
                  <a:cubicBezTo>
                    <a:pt x="1853" y="55"/>
                    <a:pt x="2029" y="36"/>
                    <a:pt x="2172" y="24"/>
                  </a:cubicBezTo>
                  <a:cubicBezTo>
                    <a:pt x="2315" y="12"/>
                    <a:pt x="2418" y="10"/>
                    <a:pt x="2574" y="6"/>
                  </a:cubicBezTo>
                  <a:cubicBezTo>
                    <a:pt x="2730" y="2"/>
                    <a:pt x="2919" y="1"/>
                    <a:pt x="3108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06480" y="4667400"/>
              <a:ext cx="917640" cy="631800"/>
            </a:xfrm>
            <a:custGeom>
              <a:avLst/>
              <a:gdLst/>
              <a:ahLst/>
              <a:rect l="l" t="t" r="r" b="b"/>
              <a:pathLst>
                <a:path w="578" h="398">
                  <a:moveTo>
                    <a:pt x="578" y="0"/>
                  </a:moveTo>
                  <a:cubicBezTo>
                    <a:pt x="573" y="43"/>
                    <a:pt x="562" y="90"/>
                    <a:pt x="548" y="126"/>
                  </a:cubicBezTo>
                  <a:cubicBezTo>
                    <a:pt x="534" y="162"/>
                    <a:pt x="516" y="189"/>
                    <a:pt x="496" y="216"/>
                  </a:cubicBezTo>
                  <a:cubicBezTo>
                    <a:pt x="476" y="243"/>
                    <a:pt x="455" y="266"/>
                    <a:pt x="428" y="286"/>
                  </a:cubicBezTo>
                  <a:cubicBezTo>
                    <a:pt x="401" y="306"/>
                    <a:pt x="369" y="321"/>
                    <a:pt x="334" y="334"/>
                  </a:cubicBezTo>
                  <a:cubicBezTo>
                    <a:pt x="299" y="347"/>
                    <a:pt x="254" y="354"/>
                    <a:pt x="216" y="362"/>
                  </a:cubicBezTo>
                  <a:cubicBezTo>
                    <a:pt x="178" y="370"/>
                    <a:pt x="142" y="378"/>
                    <a:pt x="106" y="384"/>
                  </a:cubicBezTo>
                  <a:cubicBezTo>
                    <a:pt x="70" y="390"/>
                    <a:pt x="22" y="395"/>
                    <a:pt x="0" y="39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762280" y="4019400"/>
            <a:ext cx="142920" cy="14292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09920" y="2743200"/>
            <a:ext cx="142920" cy="14292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2028960"/>
            <a:ext cx="142920" cy="14292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57840" y="1847880"/>
            <a:ext cx="142920" cy="14292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20440" y="146988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676680" y="3305160"/>
            <a:ext cx="4956120" cy="1069560"/>
            <a:chOff x="3676680" y="3305160"/>
            <a:chExt cx="4956120" cy="1069560"/>
          </a:xfrm>
        </p:grpSpPr>
        <p:sp>
          <p:nvSpPr>
            <p:cNvPr id="69" name=""/>
            <p:cNvSpPr/>
            <p:nvPr/>
          </p:nvSpPr>
          <p:spPr>
            <a:xfrm>
              <a:off x="4959360" y="3732120"/>
              <a:ext cx="367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uch of what we know is wro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aders must be prepared to fa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3305160"/>
              <a:ext cx="1228680" cy="790560"/>
            </a:xfrm>
            <a:custGeom>
              <a:avLst/>
              <a:gdLst/>
              <a:ahLst/>
              <a:rect l="l" t="t" r="r" b="b"/>
              <a:pathLst>
                <a:path w="714" h="498">
                  <a:moveTo>
                    <a:pt x="714" y="480"/>
                  </a:moveTo>
                  <a:cubicBezTo>
                    <a:pt x="667" y="489"/>
                    <a:pt x="620" y="498"/>
                    <a:pt x="570" y="492"/>
                  </a:cubicBezTo>
                  <a:cubicBezTo>
                    <a:pt x="520" y="486"/>
                    <a:pt x="461" y="471"/>
                    <a:pt x="414" y="444"/>
                  </a:cubicBezTo>
                  <a:cubicBezTo>
                    <a:pt x="367" y="417"/>
                    <a:pt x="321" y="382"/>
                    <a:pt x="288" y="330"/>
                  </a:cubicBezTo>
                  <a:cubicBezTo>
                    <a:pt x="255" y="278"/>
                    <a:pt x="242" y="178"/>
                    <a:pt x="216" y="132"/>
                  </a:cubicBezTo>
                  <a:cubicBezTo>
                    <a:pt x="190" y="86"/>
                    <a:pt x="168" y="76"/>
                    <a:pt x="132" y="54"/>
                  </a:cubicBezTo>
                  <a:cubicBezTo>
                    <a:pt x="96" y="32"/>
                    <a:pt x="48" y="16"/>
                    <a:pt x="0" y="0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96000" y="3838320"/>
              <a:ext cx="0" cy="42876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335880" y="6176880"/>
            <a:ext cx="4167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dapted from Roger Martin, Rotman School of Business, University of Toro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422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e are fortunate to have some great companies as our research part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85720" y="1141560"/>
            <a:ext cx="7975800" cy="4992480"/>
            <a:chOff x="585720" y="1141560"/>
            <a:chExt cx="7975800" cy="499248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585720" y="1141560"/>
              <a:ext cx="7975800" cy="493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1854360" y="5667480"/>
              <a:ext cx="1120680" cy="46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6160" y="423720"/>
            <a:ext cx="8842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Those companies are adopting innovation at different r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1292400"/>
            <a:ext cx="9064800" cy="4772520"/>
            <a:chOff x="0" y="1292400"/>
            <a:chExt cx="9064800" cy="4772520"/>
          </a:xfrm>
        </p:grpSpPr>
        <p:sp>
          <p:nvSpPr>
            <p:cNvPr id="79" name=""/>
            <p:cNvSpPr/>
            <p:nvPr/>
          </p:nvSpPr>
          <p:spPr>
            <a:xfrm>
              <a:off x="162000" y="1292400"/>
              <a:ext cx="8372520" cy="4327200"/>
            </a:xfrm>
            <a:custGeom>
              <a:avLst/>
              <a:gdLst/>
              <a:ahLst/>
              <a:rect l="l" t="t" r="r" b="b"/>
              <a:pathLst>
                <a:path w="5274" h="2726">
                  <a:moveTo>
                    <a:pt x="0" y="2726"/>
                  </a:moveTo>
                  <a:cubicBezTo>
                    <a:pt x="67" y="2725"/>
                    <a:pt x="134" y="2725"/>
                    <a:pt x="222" y="2702"/>
                  </a:cubicBezTo>
                  <a:cubicBezTo>
                    <a:pt x="310" y="2679"/>
                    <a:pt x="412" y="2665"/>
                    <a:pt x="528" y="2588"/>
                  </a:cubicBezTo>
                  <a:cubicBezTo>
                    <a:pt x="644" y="2511"/>
                    <a:pt x="796" y="2392"/>
                    <a:pt x="918" y="2240"/>
                  </a:cubicBezTo>
                  <a:cubicBezTo>
                    <a:pt x="1040" y="2088"/>
                    <a:pt x="1154" y="1927"/>
                    <a:pt x="1260" y="1676"/>
                  </a:cubicBezTo>
                  <a:cubicBezTo>
                    <a:pt x="1366" y="1425"/>
                    <a:pt x="1473" y="970"/>
                    <a:pt x="1554" y="734"/>
                  </a:cubicBezTo>
                  <a:cubicBezTo>
                    <a:pt x="1635" y="498"/>
                    <a:pt x="1689" y="368"/>
                    <a:pt x="1746" y="260"/>
                  </a:cubicBezTo>
                  <a:cubicBezTo>
                    <a:pt x="1803" y="152"/>
                    <a:pt x="1848" y="127"/>
                    <a:pt x="1896" y="86"/>
                  </a:cubicBezTo>
                  <a:cubicBezTo>
                    <a:pt x="1944" y="45"/>
                    <a:pt x="1987" y="26"/>
                    <a:pt x="2034" y="14"/>
                  </a:cubicBezTo>
                  <a:cubicBezTo>
                    <a:pt x="2081" y="2"/>
                    <a:pt x="2111" y="0"/>
                    <a:pt x="2178" y="14"/>
                  </a:cubicBezTo>
                  <a:cubicBezTo>
                    <a:pt x="2245" y="28"/>
                    <a:pt x="2352" y="50"/>
                    <a:pt x="2436" y="98"/>
                  </a:cubicBezTo>
                  <a:cubicBezTo>
                    <a:pt x="2520" y="146"/>
                    <a:pt x="2606" y="211"/>
                    <a:pt x="2682" y="302"/>
                  </a:cubicBezTo>
                  <a:cubicBezTo>
                    <a:pt x="2758" y="393"/>
                    <a:pt x="2842" y="545"/>
                    <a:pt x="2892" y="644"/>
                  </a:cubicBezTo>
                  <a:cubicBezTo>
                    <a:pt x="2942" y="743"/>
                    <a:pt x="2942" y="789"/>
                    <a:pt x="2982" y="896"/>
                  </a:cubicBezTo>
                  <a:cubicBezTo>
                    <a:pt x="3022" y="1003"/>
                    <a:pt x="3071" y="1165"/>
                    <a:pt x="3132" y="1286"/>
                  </a:cubicBezTo>
                  <a:cubicBezTo>
                    <a:pt x="3193" y="1407"/>
                    <a:pt x="3277" y="1521"/>
                    <a:pt x="3348" y="1622"/>
                  </a:cubicBezTo>
                  <a:cubicBezTo>
                    <a:pt x="3419" y="1723"/>
                    <a:pt x="3478" y="1800"/>
                    <a:pt x="3558" y="1892"/>
                  </a:cubicBezTo>
                  <a:cubicBezTo>
                    <a:pt x="3638" y="1984"/>
                    <a:pt x="3720" y="2084"/>
                    <a:pt x="3828" y="2174"/>
                  </a:cubicBezTo>
                  <a:cubicBezTo>
                    <a:pt x="3936" y="2264"/>
                    <a:pt x="4090" y="2364"/>
                    <a:pt x="4206" y="2432"/>
                  </a:cubicBezTo>
                  <a:cubicBezTo>
                    <a:pt x="4322" y="2500"/>
                    <a:pt x="4434" y="2545"/>
                    <a:pt x="4524" y="2582"/>
                  </a:cubicBezTo>
                  <a:cubicBezTo>
                    <a:pt x="4614" y="2619"/>
                    <a:pt x="4665" y="2633"/>
                    <a:pt x="4746" y="2654"/>
                  </a:cubicBezTo>
                  <a:cubicBezTo>
                    <a:pt x="4827" y="2675"/>
                    <a:pt x="4922" y="2697"/>
                    <a:pt x="5010" y="2708"/>
                  </a:cubicBezTo>
                  <a:cubicBezTo>
                    <a:pt x="5098" y="2719"/>
                    <a:pt x="5186" y="2719"/>
                    <a:pt x="5274" y="2720"/>
                  </a:cubicBezTo>
                </a:path>
              </a:pathLst>
            </a:custGeom>
            <a:solidFill>
              <a:srgbClr val="c5e2ff">
                <a:alpha val="49000"/>
              </a:srgbClr>
            </a:solidFill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68120" y="5727600"/>
              <a:ext cx="134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cc"/>
                  </a:solidFill>
                  <a:latin typeface="Arial"/>
                  <a:ea typeface="Arial"/>
                </a:rPr>
                <a:t>leading 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549040" y="5727600"/>
              <a:ext cx="146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cc"/>
                  </a:solidFill>
                  <a:latin typeface="Arial"/>
                  <a:ea typeface="Arial"/>
                </a:rPr>
                <a:t>early adop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67040" y="5727600"/>
              <a:ext cx="138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cc"/>
                  </a:solidFill>
                  <a:latin typeface="Arial"/>
                  <a:ea typeface="Arial"/>
                </a:rPr>
                <a:t>early major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5360" y="5727600"/>
              <a:ext cx="95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cc"/>
                  </a:solidFill>
                  <a:latin typeface="Arial"/>
                  <a:ea typeface="Arial"/>
                </a:rPr>
                <a:t>laggar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00080" y="5727600"/>
              <a:ext cx="127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cc"/>
                  </a:solidFill>
                  <a:latin typeface="Arial"/>
                  <a:ea typeface="Arial"/>
                </a:rPr>
                <a:t>late major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7346880" y="2212920"/>
              <a:ext cx="1717920" cy="2680200"/>
              <a:chOff x="7346880" y="2212920"/>
              <a:chExt cx="1717920" cy="2680200"/>
            </a:xfrm>
          </p:grpSpPr>
          <p:sp>
            <p:nvSpPr>
              <p:cNvPr id="86" name=""/>
              <p:cNvSpPr/>
              <p:nvPr/>
            </p:nvSpPr>
            <p:spPr>
              <a:xfrm>
                <a:off x="7346880" y="2698560"/>
                <a:ext cx="1717920" cy="21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hat does it mean to our customers? To our employees?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o the world?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ultural transform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cultures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577640" y="2212920"/>
                <a:ext cx="77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cc"/>
                    </a:solidFill>
                    <a:latin typeface="Arial"/>
                    <a:ea typeface="Arial"/>
                  </a:rPr>
                  <a:t> “</a:t>
                </a:r>
                <a:r>
                  <a:rPr b="0" i="1" lang="en-US" sz="1600" spc="-1" strike="noStrike">
                    <a:solidFill>
                      <a:srgbClr val="0000cc"/>
                    </a:solidFill>
                    <a:latin typeface="Arial"/>
                    <a:ea typeface="Arial"/>
                  </a:rPr>
                  <a:t>Why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142920" y="1495440"/>
              <a:ext cx="8667720" cy="1298160"/>
              <a:chOff x="142920" y="1495440"/>
              <a:chExt cx="8667720" cy="1298160"/>
            </a:xfrm>
          </p:grpSpPr>
          <p:sp>
            <p:nvSpPr>
              <p:cNvPr id="89" name=""/>
              <p:cNvSpPr/>
              <p:nvPr/>
            </p:nvSpPr>
            <p:spPr>
              <a:xfrm>
                <a:off x="190440" y="1542960"/>
                <a:ext cx="1400400" cy="5904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42920" y="1495440"/>
                <a:ext cx="1400040" cy="581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772080" y="1555560"/>
                <a:ext cx="1400040" cy="5590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724200" y="1495440"/>
                <a:ext cx="1400400" cy="587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591160" y="1554120"/>
                <a:ext cx="1400040" cy="5605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543640" y="1495440"/>
                <a:ext cx="1400040" cy="569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410600" y="1554120"/>
                <a:ext cx="1400040" cy="5605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362720" y="1495440"/>
                <a:ext cx="1400400" cy="569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65040" y="1525680"/>
                <a:ext cx="983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&amp;A 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ix Sigm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26720" y="1635120"/>
                <a:ext cx="1380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 Man’s La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754800" y="1635120"/>
                <a:ext cx="130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novation 1.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583600" y="1635120"/>
                <a:ext cx="130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novation 2.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412400" y="1635120"/>
                <a:ext cx="130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novation 3.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542960" y="1787400"/>
                <a:ext cx="3524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324240" y="1787400"/>
                <a:ext cx="39060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124600" y="1787400"/>
                <a:ext cx="3902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962760" y="1787400"/>
                <a:ext cx="39060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32280" y="2212920"/>
                <a:ext cx="10494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cc"/>
                    </a:solidFill>
                    <a:latin typeface="Arial"/>
                    <a:ea typeface="Arial"/>
                  </a:rPr>
                  <a:t> “</a:t>
                </a:r>
                <a:r>
                  <a:rPr b="0" i="1" lang="en-US" sz="1600" spc="-1" strike="noStrike">
                    <a:solidFill>
                      <a:srgbClr val="0000cc"/>
                    </a:solidFill>
                    <a:latin typeface="Arial"/>
                    <a:ea typeface="Arial"/>
                  </a:rPr>
                  <a:t>Stay th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cc"/>
                    </a:solidFill>
                    <a:latin typeface="Arial"/>
                    <a:ea typeface="Arial"/>
                  </a:rPr>
                  <a:t>course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57240" y="5619600"/>
              <a:ext cx="864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00160" y="2743200"/>
              <a:ext cx="536760" cy="1542960"/>
            </a:xfrm>
            <a:custGeom>
              <a:avLst/>
              <a:gdLst/>
              <a:ahLst/>
              <a:rect l="l" t="t" r="r" b="b"/>
              <a:pathLst>
                <a:path w="338" h="972">
                  <a:moveTo>
                    <a:pt x="0" y="972"/>
                  </a:moveTo>
                  <a:cubicBezTo>
                    <a:pt x="29" y="915"/>
                    <a:pt x="58" y="859"/>
                    <a:pt x="80" y="812"/>
                  </a:cubicBezTo>
                  <a:cubicBezTo>
                    <a:pt x="102" y="765"/>
                    <a:pt x="113" y="739"/>
                    <a:pt x="130" y="692"/>
                  </a:cubicBezTo>
                  <a:cubicBezTo>
                    <a:pt x="147" y="645"/>
                    <a:pt x="164" y="594"/>
                    <a:pt x="184" y="530"/>
                  </a:cubicBezTo>
                  <a:cubicBezTo>
                    <a:pt x="204" y="466"/>
                    <a:pt x="226" y="396"/>
                    <a:pt x="252" y="308"/>
                  </a:cubicBezTo>
                  <a:cubicBezTo>
                    <a:pt x="278" y="220"/>
                    <a:pt x="308" y="110"/>
                    <a:pt x="338" y="0"/>
                  </a:cubicBezTo>
                </a:path>
              </a:pathLst>
            </a:custGeom>
            <a:noFill/>
            <a:ln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1917720" y="2212920"/>
              <a:ext cx="1413000" cy="2680200"/>
              <a:chOff x="1917720" y="2212920"/>
              <a:chExt cx="1413000" cy="2680200"/>
            </a:xfrm>
          </p:grpSpPr>
          <p:sp>
            <p:nvSpPr>
              <p:cNvPr id="110" name=""/>
              <p:cNvSpPr/>
              <p:nvPr/>
            </p:nvSpPr>
            <p:spPr>
              <a:xfrm>
                <a:off x="2186640" y="2212920"/>
                <a:ext cx="48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cc"/>
                    </a:solidFill>
                    <a:latin typeface="Arial"/>
                    <a:ea typeface="Arial"/>
                  </a:rPr>
                  <a:t> “</a:t>
                </a:r>
                <a:r>
                  <a:rPr b="0" i="1" lang="en-US" sz="1600" spc="-1" strike="noStrike">
                    <a:solidFill>
                      <a:srgbClr val="0000cc"/>
                    </a:solidFill>
                    <a:latin typeface="Arial"/>
                    <a:ea typeface="Arial"/>
                  </a:rPr>
                  <a:t>If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917720" y="2698560"/>
                <a:ext cx="1413000" cy="21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s innovation the way to grow profitably in the post-Six Sigma era?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arch for organic growt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experiments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4924440" y="2790720"/>
              <a:ext cx="146160" cy="409680"/>
            </a:xfrm>
            <a:custGeom>
              <a:avLst/>
              <a:gdLst/>
              <a:ahLst/>
              <a:rect l="l" t="t" r="r" b="b"/>
              <a:pathLst>
                <a:path w="92" h="258">
                  <a:moveTo>
                    <a:pt x="92" y="258"/>
                  </a:moveTo>
                  <a:cubicBezTo>
                    <a:pt x="77" y="219"/>
                    <a:pt x="63" y="181"/>
                    <a:pt x="48" y="138"/>
                  </a:cubicBezTo>
                  <a:cubicBezTo>
                    <a:pt x="33" y="95"/>
                    <a:pt x="16" y="47"/>
                    <a:pt x="0" y="0"/>
                  </a:cubicBezTo>
                </a:path>
              </a:pathLst>
            </a:custGeom>
            <a:noFill/>
            <a:ln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3727440" y="2212920"/>
              <a:ext cx="1650960" cy="2680200"/>
              <a:chOff x="3727440" y="2212920"/>
              <a:chExt cx="1650960" cy="2680200"/>
            </a:xfrm>
          </p:grpSpPr>
          <p:sp>
            <p:nvSpPr>
              <p:cNvPr id="114" name=""/>
              <p:cNvSpPr/>
              <p:nvPr/>
            </p:nvSpPr>
            <p:spPr>
              <a:xfrm>
                <a:off x="3987360" y="2212920"/>
                <a:ext cx="77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cc"/>
                    </a:solidFill>
                    <a:latin typeface="Arial"/>
                    <a:ea typeface="Arial"/>
                  </a:rPr>
                  <a:t> “</a:t>
                </a:r>
                <a:r>
                  <a:rPr b="0" i="1" lang="en-US" sz="1600" spc="-1" strike="noStrike">
                    <a:solidFill>
                      <a:srgbClr val="0000cc"/>
                    </a:solidFill>
                    <a:latin typeface="Arial"/>
                    <a:ea typeface="Arial"/>
                  </a:rPr>
                  <a:t>How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727440" y="2698560"/>
                <a:ext cx="1650960" cy="21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ow do we find big ideas and get them off the ground?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thods and protoco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projects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5594400" y="4032360"/>
              <a:ext cx="352440" cy="419040"/>
            </a:xfrm>
            <a:custGeom>
              <a:avLst/>
              <a:gdLst/>
              <a:ahLst/>
              <a:rect l="l" t="t" r="r" b="b"/>
              <a:pathLst>
                <a:path w="222" h="264">
                  <a:moveTo>
                    <a:pt x="0" y="0"/>
                  </a:moveTo>
                  <a:cubicBezTo>
                    <a:pt x="35" y="46"/>
                    <a:pt x="71" y="92"/>
                    <a:pt x="108" y="136"/>
                  </a:cubicBezTo>
                  <a:cubicBezTo>
                    <a:pt x="145" y="180"/>
                    <a:pt x="183" y="222"/>
                    <a:pt x="222" y="264"/>
                  </a:cubicBezTo>
                </a:path>
              </a:pathLst>
            </a:custGeom>
            <a:noFill/>
            <a:ln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453280" y="2212920"/>
              <a:ext cx="1668240" cy="2680200"/>
              <a:chOff x="5453280" y="2212920"/>
              <a:chExt cx="1668240" cy="2680200"/>
            </a:xfrm>
          </p:grpSpPr>
          <p:sp>
            <p:nvSpPr>
              <p:cNvPr id="118" name=""/>
              <p:cNvSpPr/>
              <p:nvPr/>
            </p:nvSpPr>
            <p:spPr>
              <a:xfrm>
                <a:off x="5453280" y="2212920"/>
                <a:ext cx="1569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cc"/>
                    </a:solidFill>
                    <a:latin typeface="Arial"/>
                    <a:ea typeface="Arial"/>
                  </a:rPr>
                  <a:t> “</a:t>
                </a:r>
                <a:r>
                  <a:rPr b="0" i="1" lang="en-US" sz="1600" spc="-1" strike="noStrike">
                    <a:solidFill>
                      <a:srgbClr val="0000cc"/>
                    </a:solidFill>
                    <a:latin typeface="Arial"/>
                    <a:ea typeface="Arial"/>
                  </a:rPr>
                  <a:t>How it scales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508720" y="2698560"/>
                <a:ext cx="1612800" cy="21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ow do we make innovation easier, more systematic, so it doesn’t rely on heroic acts?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novation operating mod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programs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142920" y="1790640"/>
              <a:ext cx="7010280" cy="3828960"/>
              <a:chOff x="142920" y="1790640"/>
              <a:chExt cx="7010280" cy="3828960"/>
            </a:xfrm>
          </p:grpSpPr>
          <p:sp>
            <p:nvSpPr>
              <p:cNvPr id="121" name=""/>
              <p:cNvSpPr/>
              <p:nvPr/>
            </p:nvSpPr>
            <p:spPr>
              <a:xfrm>
                <a:off x="1724040" y="1790640"/>
                <a:ext cx="0" cy="382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524400" y="1790640"/>
                <a:ext cx="0" cy="382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24400" y="1790640"/>
                <a:ext cx="0" cy="382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153200" y="1790640"/>
                <a:ext cx="0" cy="382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42920" y="3047760"/>
                <a:ext cx="1568520" cy="182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cc"/>
                    </a:solidFill>
                    <a:latin typeface="Arial"/>
                    <a:ea typeface="Arial"/>
                  </a:rPr>
                  <a:t>burn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cc"/>
                    </a:solidFill>
                    <a:latin typeface="Arial"/>
                    <a:ea typeface="Arial"/>
                  </a:rPr>
                  <a:t>ques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cc"/>
                    </a:solidFill>
                    <a:latin typeface="Arial"/>
                    <a:ea typeface="Arial"/>
                  </a:rPr>
                  <a:t>focu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cc"/>
                    </a:solidFill>
                    <a:latin typeface="Arial"/>
                    <a:ea typeface="Arial"/>
                  </a:rPr>
                  <a:t>(unit of measure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0" y="5210280"/>
              <a:ext cx="170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bution of innovation sophistication, all compani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47160" y="6207120"/>
            <a:ext cx="376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: Peer Insight analysis of 115 recent service innovation proje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62000" y="1225440"/>
            <a:ext cx="8372520" cy="4327560"/>
          </a:xfrm>
          <a:custGeom>
            <a:avLst/>
            <a:gdLst/>
            <a:ahLst/>
            <a:rect l="l" t="t" r="r" b="b"/>
            <a:pathLst>
              <a:path w="5274" h="2726">
                <a:moveTo>
                  <a:pt x="0" y="2726"/>
                </a:moveTo>
                <a:cubicBezTo>
                  <a:pt x="67" y="2725"/>
                  <a:pt x="134" y="2725"/>
                  <a:pt x="222" y="2702"/>
                </a:cubicBezTo>
                <a:cubicBezTo>
                  <a:pt x="310" y="2679"/>
                  <a:pt x="412" y="2665"/>
                  <a:pt x="528" y="2588"/>
                </a:cubicBezTo>
                <a:cubicBezTo>
                  <a:pt x="644" y="2511"/>
                  <a:pt x="796" y="2392"/>
                  <a:pt x="918" y="2240"/>
                </a:cubicBezTo>
                <a:cubicBezTo>
                  <a:pt x="1040" y="2088"/>
                  <a:pt x="1154" y="1927"/>
                  <a:pt x="1260" y="1676"/>
                </a:cubicBezTo>
                <a:cubicBezTo>
                  <a:pt x="1366" y="1425"/>
                  <a:pt x="1473" y="970"/>
                  <a:pt x="1554" y="734"/>
                </a:cubicBezTo>
                <a:cubicBezTo>
                  <a:pt x="1635" y="498"/>
                  <a:pt x="1689" y="368"/>
                  <a:pt x="1746" y="260"/>
                </a:cubicBezTo>
                <a:cubicBezTo>
                  <a:pt x="1803" y="152"/>
                  <a:pt x="1848" y="127"/>
                  <a:pt x="1896" y="86"/>
                </a:cubicBezTo>
                <a:cubicBezTo>
                  <a:pt x="1944" y="45"/>
                  <a:pt x="1987" y="26"/>
                  <a:pt x="2034" y="14"/>
                </a:cubicBezTo>
                <a:cubicBezTo>
                  <a:pt x="2081" y="2"/>
                  <a:pt x="2111" y="0"/>
                  <a:pt x="2178" y="14"/>
                </a:cubicBezTo>
                <a:cubicBezTo>
                  <a:pt x="2245" y="28"/>
                  <a:pt x="2352" y="50"/>
                  <a:pt x="2436" y="98"/>
                </a:cubicBezTo>
                <a:cubicBezTo>
                  <a:pt x="2520" y="146"/>
                  <a:pt x="2606" y="211"/>
                  <a:pt x="2682" y="302"/>
                </a:cubicBezTo>
                <a:cubicBezTo>
                  <a:pt x="2758" y="393"/>
                  <a:pt x="2842" y="545"/>
                  <a:pt x="2892" y="644"/>
                </a:cubicBezTo>
                <a:cubicBezTo>
                  <a:pt x="2942" y="743"/>
                  <a:pt x="2942" y="789"/>
                  <a:pt x="2982" y="896"/>
                </a:cubicBezTo>
                <a:cubicBezTo>
                  <a:pt x="3022" y="1003"/>
                  <a:pt x="3071" y="1165"/>
                  <a:pt x="3132" y="1286"/>
                </a:cubicBezTo>
                <a:cubicBezTo>
                  <a:pt x="3193" y="1407"/>
                  <a:pt x="3277" y="1521"/>
                  <a:pt x="3348" y="1622"/>
                </a:cubicBezTo>
                <a:cubicBezTo>
                  <a:pt x="3419" y="1723"/>
                  <a:pt x="3478" y="1800"/>
                  <a:pt x="3558" y="1892"/>
                </a:cubicBezTo>
                <a:cubicBezTo>
                  <a:pt x="3638" y="1984"/>
                  <a:pt x="3720" y="2084"/>
                  <a:pt x="3828" y="2174"/>
                </a:cubicBezTo>
                <a:cubicBezTo>
                  <a:pt x="3936" y="2264"/>
                  <a:pt x="4090" y="2364"/>
                  <a:pt x="4206" y="2432"/>
                </a:cubicBezTo>
                <a:cubicBezTo>
                  <a:pt x="4322" y="2500"/>
                  <a:pt x="4434" y="2545"/>
                  <a:pt x="4524" y="2582"/>
                </a:cubicBezTo>
                <a:cubicBezTo>
                  <a:pt x="4614" y="2619"/>
                  <a:pt x="4665" y="2633"/>
                  <a:pt x="4746" y="2654"/>
                </a:cubicBezTo>
                <a:cubicBezTo>
                  <a:pt x="4827" y="2675"/>
                  <a:pt x="4922" y="2697"/>
                  <a:pt x="5010" y="2708"/>
                </a:cubicBezTo>
                <a:cubicBezTo>
                  <a:pt x="5098" y="2719"/>
                  <a:pt x="5186" y="2719"/>
                  <a:pt x="5274" y="2720"/>
                </a:cubicBezTo>
              </a:path>
            </a:pathLst>
          </a:custGeom>
          <a:solidFill>
            <a:srgbClr val="c5e2ff">
              <a:alpha val="49000"/>
            </a:srgbClr>
          </a:solidFill>
          <a:ln w="93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440" y="1476360"/>
            <a:ext cx="1400400" cy="590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2920" y="1428840"/>
            <a:ext cx="140004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72080" y="1488960"/>
            <a:ext cx="1400040" cy="5590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24200" y="1428840"/>
            <a:ext cx="1400400" cy="58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91160" y="1487520"/>
            <a:ext cx="1400040" cy="5605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43640" y="1428840"/>
            <a:ext cx="1400040" cy="5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410600" y="1487520"/>
            <a:ext cx="1400040" cy="5605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62720" y="1428840"/>
            <a:ext cx="1400400" cy="5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5040" y="1459080"/>
            <a:ext cx="98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&amp;A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x Sig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26720" y="1568520"/>
            <a:ext cx="138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 Man’s 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54800" y="156852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novation 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83600" y="156852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novation 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12400" y="156852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novation 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86640" y="2075040"/>
            <a:ext cx="48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 “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If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87360" y="207504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 “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How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53280" y="207504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 “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How it scal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77640" y="2075040"/>
            <a:ext cx="77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 “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Why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2960" y="1720800"/>
            <a:ext cx="352440" cy="0"/>
          </a:xfrm>
          <a:prstGeom prst="line">
            <a:avLst/>
          </a:prstGeom>
          <a:ln w="2844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24240" y="1720800"/>
            <a:ext cx="390600" cy="0"/>
          </a:xfrm>
          <a:prstGeom prst="line">
            <a:avLst/>
          </a:prstGeom>
          <a:ln w="2844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24600" y="1720800"/>
            <a:ext cx="390240" cy="0"/>
          </a:xfrm>
          <a:prstGeom prst="line">
            <a:avLst/>
          </a:prstGeom>
          <a:ln w="2844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62760" y="1720800"/>
            <a:ext cx="390600" cy="0"/>
          </a:xfrm>
          <a:prstGeom prst="line">
            <a:avLst/>
          </a:prstGeom>
          <a:ln w="2844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96840" y="566100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leading 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69480" y="5661000"/>
            <a:ext cx="14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early adop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19520" y="566100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early maj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5360" y="566100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lagg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0080" y="5661000"/>
            <a:ext cx="12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late maj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40" y="5553000"/>
            <a:ext cx="864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24040" y="1724040"/>
            <a:ext cx="0" cy="382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24400" y="1724040"/>
            <a:ext cx="0" cy="382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24400" y="1724040"/>
            <a:ext cx="0" cy="382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53200" y="1724040"/>
            <a:ext cx="0" cy="382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6160" y="430200"/>
            <a:ext cx="8842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There are 5 key lessons firms learn along the innovation journ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346880" y="2441520"/>
            <a:ext cx="17179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at does it mean to our customers? To our employees? To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orl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ltural 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cult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17720" y="2441520"/>
            <a:ext cx="158436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innovation the way to grow profitably in the post-Six Sigma er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arch for organic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experi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27440" y="2441520"/>
            <a:ext cx="165096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ow do we find big ideas and get them off the groun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thods and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projec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53200" y="2441520"/>
            <a:ext cx="181116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ow do we make innovation easier, more systematic, so it doesn’t rely on heroic act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novation operat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progra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14240" y="4276800"/>
            <a:ext cx="2829240" cy="1157040"/>
            <a:chOff x="714240" y="4276800"/>
            <a:chExt cx="2829240" cy="1157040"/>
          </a:xfrm>
        </p:grpSpPr>
        <p:sp>
          <p:nvSpPr>
            <p:cNvPr id="166" name=""/>
            <p:cNvSpPr/>
            <p:nvPr/>
          </p:nvSpPr>
          <p:spPr>
            <a:xfrm>
              <a:off x="714240" y="4276800"/>
              <a:ext cx="1886040" cy="666720"/>
            </a:xfrm>
            <a:prstGeom prst="wedgeRoundRectCallout">
              <a:avLst>
                <a:gd name="adj1" fmla="val 78958"/>
                <a:gd name="adj2" fmla="val 89523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novation as a new disciplin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79880" y="5079960"/>
              <a:ext cx="363600" cy="3538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371680" y="4181400"/>
            <a:ext cx="1886040" cy="1252440"/>
            <a:chOff x="2371680" y="4181400"/>
            <a:chExt cx="1886040" cy="1252440"/>
          </a:xfrm>
        </p:grpSpPr>
        <p:sp>
          <p:nvSpPr>
            <p:cNvPr id="169" name=""/>
            <p:cNvSpPr/>
            <p:nvPr/>
          </p:nvSpPr>
          <p:spPr>
            <a:xfrm>
              <a:off x="2371680" y="4181400"/>
              <a:ext cx="1886040" cy="486000"/>
            </a:xfrm>
            <a:prstGeom prst="wedgeRoundRectCallout">
              <a:avLst>
                <a:gd name="adj1" fmla="val 35523"/>
                <a:gd name="adj2" fmla="val 135620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stomer-centricit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89440" y="5079960"/>
              <a:ext cx="363600" cy="3538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105000" y="3762360"/>
            <a:ext cx="2038680" cy="1671480"/>
            <a:chOff x="3105000" y="3762360"/>
            <a:chExt cx="2038680" cy="1671480"/>
          </a:xfrm>
        </p:grpSpPr>
        <p:sp>
          <p:nvSpPr>
            <p:cNvPr id="172" name=""/>
            <p:cNvSpPr/>
            <p:nvPr/>
          </p:nvSpPr>
          <p:spPr>
            <a:xfrm>
              <a:off x="3105000" y="3762360"/>
              <a:ext cx="2038680" cy="485640"/>
            </a:xfrm>
            <a:prstGeom prst="wedgeRoundRectCallout">
              <a:avLst>
                <a:gd name="adj1" fmla="val 29597"/>
                <a:gd name="adj2" fmla="val 216013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ior leadership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99000" y="5079960"/>
              <a:ext cx="363600" cy="3538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676760" y="4086360"/>
            <a:ext cx="2038320" cy="1347480"/>
            <a:chOff x="4676760" y="4086360"/>
            <a:chExt cx="2038320" cy="1347480"/>
          </a:xfrm>
        </p:grpSpPr>
        <p:sp>
          <p:nvSpPr>
            <p:cNvPr id="175" name=""/>
            <p:cNvSpPr/>
            <p:nvPr/>
          </p:nvSpPr>
          <p:spPr>
            <a:xfrm>
              <a:off x="4676760" y="4086360"/>
              <a:ext cx="2038320" cy="504720"/>
            </a:xfrm>
            <a:prstGeom prst="wedgeRoundRectCallout">
              <a:avLst>
                <a:gd name="adj1" fmla="val -11060"/>
                <a:gd name="adj2" fmla="val 143712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ng mode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08560" y="5079960"/>
              <a:ext cx="363600" cy="3538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018120" y="4295880"/>
            <a:ext cx="2373480" cy="1137960"/>
            <a:chOff x="6018120" y="4295880"/>
            <a:chExt cx="2373480" cy="1137960"/>
          </a:xfrm>
        </p:grpSpPr>
        <p:sp>
          <p:nvSpPr>
            <p:cNvPr id="178" name=""/>
            <p:cNvSpPr/>
            <p:nvPr/>
          </p:nvSpPr>
          <p:spPr>
            <a:xfrm>
              <a:off x="6353280" y="4295880"/>
              <a:ext cx="2038320" cy="504720"/>
            </a:xfrm>
            <a:prstGeom prst="wedgeRoundRectCallout">
              <a:avLst>
                <a:gd name="adj1" fmla="val -49375"/>
                <a:gd name="adj2" fmla="val 115407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ange manageme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18120" y="5079960"/>
              <a:ext cx="363600" cy="3538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46440" y="6224760"/>
            <a:ext cx="376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ource: Peer Insight analysis of 115 recent service innovation proje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0T13:51:09Z</dcterms:created>
  <dc:creator>Tim Ogilvie</dc:creator>
  <dc:description/>
  <dc:language>en-US</dc:language>
  <cp:lastModifiedBy>Stephen Ezell</cp:lastModifiedBy>
  <dcterms:modified xsi:type="dcterms:W3CDTF">2007-08-08T16:11:01Z</dcterms:modified>
  <cp:revision>2467</cp:revision>
  <dc:subject/>
  <dc:title>Slide 1</dc:title>
</cp:coreProperties>
</file>