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4BAF-A941-4285-9B57-C88FB102A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EA1AC7EF-AA2E-45FC-90EA-92F1AD13C4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RWJ information links grant. IT surveys at all CHCs, technical assistance and practice reengineering as well as financ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C32B-536A-455A-80BB-5A07ADBC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1B6-E70B-4E0D-9B1E-1772E661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DB0-22DD-41CF-A326-D46EC39B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0FE3-A1B7-4D12-9389-1AA7BD0C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E095-F2FE-4E85-8D13-5CE3B014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EB2-3E5F-4FEF-AAB7-7FF4955B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FC4B-245D-455D-BD76-BAE5E8A9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6A0-6297-4F4E-8A0F-BD1D1DFC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EC3-116C-480E-B910-32C360E6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57E9-48C2-4619-A20E-7C2E5933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B8B-925A-4ECD-9E5C-D23E2C41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19F-4734-4FFF-8C29-8F7F2CC8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19D7-FE37-45AD-AB5A-AAE6AF534D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05920" y="6172200"/>
            <a:ext cx="666720" cy="51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4.wmf"/><Relationship Id="rId12" Type="http://schemas.openxmlformats.org/officeDocument/2006/relationships/image" Target="../media/image6.wmf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n Health Information Exchanges </a:t>
            </a:r>
            <a:br>
              <a:rPr sz="36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rove Public Health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105520" y="3200400"/>
          <a:ext cx="3352680" cy="2498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200400"/>
                    <a:ext cx="335268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08440" y="3581280"/>
            <a:ext cx="4732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rzad Mostashar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MD 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w York City Department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alth and Mental Hyg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mostash@health.nyc.g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10 Public Health Use Cas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dated Laboratory Repo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dated Clinical Repo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mandated Laboratory Repo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mandated Clinical Repo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level Quality Repo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s Casualty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 Health Investig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aster Medical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-level Public Health Ale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level Public Health Ale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398840" y="3849840"/>
            <a:ext cx="3378240" cy="1636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100160" y="4930920"/>
            <a:ext cx="3300480" cy="1012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400" name=""/>
          <p:cNvSpPr/>
          <p:nvPr/>
        </p:nvSpPr>
        <p:spPr>
          <a:xfrm>
            <a:off x="4062960" y="42894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e7fc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975120" y="4741920"/>
            <a:ext cx="1028160" cy="1069920"/>
            <a:chOff x="3975120" y="4741920"/>
            <a:chExt cx="1028160" cy="1069920"/>
          </a:xfrm>
        </p:grpSpPr>
        <p:sp>
          <p:nvSpPr>
            <p:cNvPr id="402" name=""/>
            <p:cNvSpPr/>
            <p:nvPr/>
          </p:nvSpPr>
          <p:spPr>
            <a:xfrm>
              <a:off x="4288680" y="5594760"/>
              <a:ext cx="63360" cy="91440"/>
            </a:xfrm>
            <a:custGeom>
              <a:avLst/>
              <a:gdLst/>
              <a:ahLst/>
              <a:rect l="l" t="t" r="r" b="b"/>
              <a:pathLst>
                <a:path w="469" h="644">
                  <a:moveTo>
                    <a:pt x="81" y="644"/>
                  </a:moveTo>
                  <a:lnTo>
                    <a:pt x="0" y="474"/>
                  </a:lnTo>
                  <a:lnTo>
                    <a:pt x="85" y="137"/>
                  </a:lnTo>
                  <a:lnTo>
                    <a:pt x="469" y="0"/>
                  </a:lnTo>
                  <a:lnTo>
                    <a:pt x="469" y="417"/>
                  </a:lnTo>
                  <a:lnTo>
                    <a:pt x="81" y="6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90600" y="5573880"/>
              <a:ext cx="309240" cy="112680"/>
            </a:xfrm>
            <a:custGeom>
              <a:avLst/>
              <a:gdLst/>
              <a:ahLst/>
              <a:rect l="l" t="t" r="r" b="b"/>
              <a:pathLst>
                <a:path w="2280" h="791">
                  <a:moveTo>
                    <a:pt x="0" y="0"/>
                  </a:moveTo>
                  <a:lnTo>
                    <a:pt x="0" y="284"/>
                  </a:lnTo>
                  <a:lnTo>
                    <a:pt x="2280" y="791"/>
                  </a:lnTo>
                  <a:lnTo>
                    <a:pt x="228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19320" y="5657040"/>
              <a:ext cx="171360" cy="154800"/>
            </a:xfrm>
            <a:custGeom>
              <a:avLst/>
              <a:gdLst/>
              <a:ahLst/>
              <a:rect l="l" t="t" r="r" b="b"/>
              <a:pathLst>
                <a:path w="1264" h="1086">
                  <a:moveTo>
                    <a:pt x="81" y="1086"/>
                  </a:moveTo>
                  <a:lnTo>
                    <a:pt x="0" y="915"/>
                  </a:lnTo>
                  <a:lnTo>
                    <a:pt x="85" y="580"/>
                  </a:lnTo>
                  <a:lnTo>
                    <a:pt x="1264" y="0"/>
                  </a:lnTo>
                  <a:lnTo>
                    <a:pt x="1264" y="417"/>
                  </a:lnTo>
                  <a:lnTo>
                    <a:pt x="81" y="10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33680" y="5652360"/>
              <a:ext cx="496440" cy="159480"/>
            </a:xfrm>
            <a:custGeom>
              <a:avLst/>
              <a:gdLst/>
              <a:ahLst/>
              <a:rect l="l" t="t" r="r" b="b"/>
              <a:pathLst>
                <a:path w="3663" h="1122">
                  <a:moveTo>
                    <a:pt x="0" y="0"/>
                  </a:moveTo>
                  <a:lnTo>
                    <a:pt x="0" y="284"/>
                  </a:lnTo>
                  <a:lnTo>
                    <a:pt x="3663" y="1122"/>
                  </a:lnTo>
                  <a:lnTo>
                    <a:pt x="3663" y="7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78960" y="5121720"/>
              <a:ext cx="194760" cy="534960"/>
            </a:xfrm>
            <a:custGeom>
              <a:avLst/>
              <a:gdLst/>
              <a:ahLst/>
              <a:rect l="l" t="t" r="r" b="b"/>
              <a:pathLst>
                <a:path w="1438" h="3756">
                  <a:moveTo>
                    <a:pt x="111" y="3756"/>
                  </a:moveTo>
                  <a:lnTo>
                    <a:pt x="0" y="2991"/>
                  </a:lnTo>
                  <a:lnTo>
                    <a:pt x="83" y="618"/>
                  </a:lnTo>
                  <a:lnTo>
                    <a:pt x="1438" y="0"/>
                  </a:lnTo>
                  <a:lnTo>
                    <a:pt x="1438" y="3005"/>
                  </a:lnTo>
                  <a:lnTo>
                    <a:pt x="111" y="3756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75120" y="5151240"/>
              <a:ext cx="319680" cy="505440"/>
            </a:xfrm>
            <a:custGeom>
              <a:avLst/>
              <a:gdLst/>
              <a:ahLst/>
              <a:rect l="l" t="t" r="r" b="b"/>
              <a:pathLst>
                <a:path w="589" h="887">
                  <a:moveTo>
                    <a:pt x="589" y="887"/>
                  </a:moveTo>
                  <a:lnTo>
                    <a:pt x="0" y="751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6"/>
                  </a:lnTo>
                  <a:lnTo>
                    <a:pt x="589" y="887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75840" y="505224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4">
                  <a:moveTo>
                    <a:pt x="0" y="695"/>
                  </a:moveTo>
                  <a:lnTo>
                    <a:pt x="1304" y="0"/>
                  </a:lnTo>
                  <a:lnTo>
                    <a:pt x="3671" y="491"/>
                  </a:lnTo>
                  <a:lnTo>
                    <a:pt x="2343" y="1244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08160" y="5248440"/>
              <a:ext cx="195120" cy="532800"/>
            </a:xfrm>
            <a:custGeom>
              <a:avLst/>
              <a:gdLst/>
              <a:ahLst/>
              <a:rect l="l" t="t" r="r" b="b"/>
              <a:pathLst>
                <a:path w="1440" h="3739">
                  <a:moveTo>
                    <a:pt x="111" y="3739"/>
                  </a:moveTo>
                  <a:lnTo>
                    <a:pt x="0" y="2974"/>
                  </a:lnTo>
                  <a:lnTo>
                    <a:pt x="84" y="619"/>
                  </a:lnTo>
                  <a:lnTo>
                    <a:pt x="1440" y="0"/>
                  </a:lnTo>
                  <a:lnTo>
                    <a:pt x="1440" y="2988"/>
                  </a:lnTo>
                  <a:lnTo>
                    <a:pt x="111" y="3739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13520" y="5232240"/>
              <a:ext cx="510120" cy="548640"/>
            </a:xfrm>
            <a:custGeom>
              <a:avLst/>
              <a:gdLst/>
              <a:ahLst/>
              <a:rect l="l" t="t" r="r" b="b"/>
              <a:pathLst>
                <a:path w="940" h="963">
                  <a:moveTo>
                    <a:pt x="940" y="963"/>
                  </a:moveTo>
                  <a:lnTo>
                    <a:pt x="0" y="749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90"/>
                  </a:lnTo>
                  <a:lnTo>
                    <a:pt x="940" y="96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14600" y="512964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5">
                  <a:moveTo>
                    <a:pt x="0" y="722"/>
                  </a:moveTo>
                  <a:lnTo>
                    <a:pt x="1332" y="0"/>
                  </a:lnTo>
                  <a:lnTo>
                    <a:pt x="5075" y="824"/>
                  </a:lnTo>
                  <a:lnTo>
                    <a:pt x="3762" y="1585"/>
                  </a:lnTo>
                  <a:lnTo>
                    <a:pt x="0" y="722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78960" y="4811040"/>
              <a:ext cx="194760" cy="401760"/>
            </a:xfrm>
            <a:custGeom>
              <a:avLst/>
              <a:gdLst/>
              <a:ahLst/>
              <a:rect l="l" t="t" r="r" b="b"/>
              <a:pathLst>
                <a:path w="1438" h="2822">
                  <a:moveTo>
                    <a:pt x="111" y="2822"/>
                  </a:moveTo>
                  <a:lnTo>
                    <a:pt x="0" y="2057"/>
                  </a:lnTo>
                  <a:lnTo>
                    <a:pt x="83" y="619"/>
                  </a:lnTo>
                  <a:lnTo>
                    <a:pt x="1438" y="0"/>
                  </a:lnTo>
                  <a:lnTo>
                    <a:pt x="1438" y="2072"/>
                  </a:lnTo>
                  <a:lnTo>
                    <a:pt x="111" y="2822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75120" y="4840920"/>
              <a:ext cx="319680" cy="371880"/>
            </a:xfrm>
            <a:custGeom>
              <a:avLst/>
              <a:gdLst/>
              <a:ahLst/>
              <a:rect l="l" t="t" r="r" b="b"/>
              <a:pathLst>
                <a:path w="589" h="653">
                  <a:moveTo>
                    <a:pt x="589" y="653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2"/>
                  </a:lnTo>
                  <a:lnTo>
                    <a:pt x="589" y="65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75840" y="474192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3">
                  <a:moveTo>
                    <a:pt x="0" y="693"/>
                  </a:moveTo>
                  <a:lnTo>
                    <a:pt x="1304" y="0"/>
                  </a:lnTo>
                  <a:lnTo>
                    <a:pt x="3671" y="490"/>
                  </a:lnTo>
                  <a:lnTo>
                    <a:pt x="2343" y="124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08160" y="4937760"/>
              <a:ext cx="195120" cy="402120"/>
            </a:xfrm>
            <a:custGeom>
              <a:avLst/>
              <a:gdLst/>
              <a:ahLst/>
              <a:rect l="l" t="t" r="r" b="b"/>
              <a:pathLst>
                <a:path w="1440" h="2823">
                  <a:moveTo>
                    <a:pt x="111" y="2823"/>
                  </a:moveTo>
                  <a:lnTo>
                    <a:pt x="0" y="2058"/>
                  </a:lnTo>
                  <a:lnTo>
                    <a:pt x="84" y="618"/>
                  </a:lnTo>
                  <a:lnTo>
                    <a:pt x="1440" y="0"/>
                  </a:lnTo>
                  <a:lnTo>
                    <a:pt x="1440" y="2072"/>
                  </a:lnTo>
                  <a:lnTo>
                    <a:pt x="111" y="2823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313520" y="4921920"/>
              <a:ext cx="510120" cy="416880"/>
            </a:xfrm>
            <a:custGeom>
              <a:avLst/>
              <a:gdLst/>
              <a:ahLst/>
              <a:rect l="l" t="t" r="r" b="b"/>
              <a:pathLst>
                <a:path w="940" h="732">
                  <a:moveTo>
                    <a:pt x="940" y="732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89"/>
                  </a:lnTo>
                  <a:lnTo>
                    <a:pt x="940" y="732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14600" y="481932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3">
                  <a:moveTo>
                    <a:pt x="0" y="721"/>
                  </a:moveTo>
                  <a:lnTo>
                    <a:pt x="1332" y="0"/>
                  </a:lnTo>
                  <a:lnTo>
                    <a:pt x="5075" y="823"/>
                  </a:lnTo>
                  <a:lnTo>
                    <a:pt x="3762" y="1583"/>
                  </a:lnTo>
                  <a:lnTo>
                    <a:pt x="0" y="721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62120" y="5085720"/>
              <a:ext cx="214920" cy="168120"/>
            </a:xfrm>
            <a:custGeom>
              <a:avLst/>
              <a:gdLst/>
              <a:ahLst/>
              <a:rect l="l" t="t" r="r" b="b"/>
              <a:pathLst>
                <a:path w="1582" h="1178">
                  <a:moveTo>
                    <a:pt x="0" y="0"/>
                  </a:moveTo>
                  <a:lnTo>
                    <a:pt x="98" y="21"/>
                  </a:lnTo>
                  <a:lnTo>
                    <a:pt x="196" y="42"/>
                  </a:lnTo>
                  <a:lnTo>
                    <a:pt x="294" y="63"/>
                  </a:lnTo>
                  <a:lnTo>
                    <a:pt x="393" y="86"/>
                  </a:lnTo>
                  <a:lnTo>
                    <a:pt x="491" y="108"/>
                  </a:lnTo>
                  <a:lnTo>
                    <a:pt x="589" y="130"/>
                  </a:lnTo>
                  <a:lnTo>
                    <a:pt x="688" y="151"/>
                  </a:lnTo>
                  <a:lnTo>
                    <a:pt x="786" y="174"/>
                  </a:lnTo>
                  <a:lnTo>
                    <a:pt x="884" y="196"/>
                  </a:lnTo>
                  <a:lnTo>
                    <a:pt x="984" y="219"/>
                  </a:lnTo>
                  <a:lnTo>
                    <a:pt x="1082" y="241"/>
                  </a:lnTo>
                  <a:lnTo>
                    <a:pt x="1181" y="263"/>
                  </a:lnTo>
                  <a:lnTo>
                    <a:pt x="1279" y="284"/>
                  </a:lnTo>
                  <a:lnTo>
                    <a:pt x="1378" y="306"/>
                  </a:lnTo>
                  <a:lnTo>
                    <a:pt x="1476" y="328"/>
                  </a:lnTo>
                  <a:lnTo>
                    <a:pt x="1575" y="349"/>
                  </a:lnTo>
                  <a:lnTo>
                    <a:pt x="1575" y="401"/>
                  </a:lnTo>
                  <a:lnTo>
                    <a:pt x="1575" y="452"/>
                  </a:lnTo>
                  <a:lnTo>
                    <a:pt x="1576" y="504"/>
                  </a:lnTo>
                  <a:lnTo>
                    <a:pt x="1576" y="556"/>
                  </a:lnTo>
                  <a:lnTo>
                    <a:pt x="1576" y="608"/>
                  </a:lnTo>
                  <a:lnTo>
                    <a:pt x="1578" y="660"/>
                  </a:lnTo>
                  <a:lnTo>
                    <a:pt x="1578" y="712"/>
                  </a:lnTo>
                  <a:lnTo>
                    <a:pt x="1579" y="764"/>
                  </a:lnTo>
                  <a:lnTo>
                    <a:pt x="1579" y="815"/>
                  </a:lnTo>
                  <a:lnTo>
                    <a:pt x="1579" y="867"/>
                  </a:lnTo>
                  <a:lnTo>
                    <a:pt x="1580" y="919"/>
                  </a:lnTo>
                  <a:lnTo>
                    <a:pt x="1580" y="971"/>
                  </a:lnTo>
                  <a:lnTo>
                    <a:pt x="1580" y="1023"/>
                  </a:lnTo>
                  <a:lnTo>
                    <a:pt x="1581" y="1074"/>
                  </a:lnTo>
                  <a:lnTo>
                    <a:pt x="1581" y="1127"/>
                  </a:lnTo>
                  <a:lnTo>
                    <a:pt x="1582" y="1178"/>
                  </a:lnTo>
                  <a:lnTo>
                    <a:pt x="1483" y="1157"/>
                  </a:lnTo>
                  <a:lnTo>
                    <a:pt x="1384" y="1135"/>
                  </a:lnTo>
                  <a:lnTo>
                    <a:pt x="1285" y="1114"/>
                  </a:lnTo>
                  <a:lnTo>
                    <a:pt x="1186" y="1092"/>
                  </a:lnTo>
                  <a:lnTo>
                    <a:pt x="1088" y="1069"/>
                  </a:lnTo>
                  <a:lnTo>
                    <a:pt x="989" y="1047"/>
                  </a:lnTo>
                  <a:lnTo>
                    <a:pt x="890" y="1024"/>
                  </a:lnTo>
                  <a:lnTo>
                    <a:pt x="792" y="1002"/>
                  </a:lnTo>
                  <a:lnTo>
                    <a:pt x="693" y="980"/>
                  </a:lnTo>
                  <a:lnTo>
                    <a:pt x="595" y="958"/>
                  </a:lnTo>
                  <a:lnTo>
                    <a:pt x="496" y="935"/>
                  </a:lnTo>
                  <a:lnTo>
                    <a:pt x="397" y="913"/>
                  </a:lnTo>
                  <a:lnTo>
                    <a:pt x="299" y="891"/>
                  </a:lnTo>
                  <a:lnTo>
                    <a:pt x="200" y="870"/>
                  </a:lnTo>
                  <a:lnTo>
                    <a:pt x="102" y="848"/>
                  </a:lnTo>
                  <a:lnTo>
                    <a:pt x="3" y="827"/>
                  </a:lnTo>
                  <a:lnTo>
                    <a:pt x="3" y="775"/>
                  </a:lnTo>
                  <a:lnTo>
                    <a:pt x="3" y="724"/>
                  </a:lnTo>
                  <a:lnTo>
                    <a:pt x="3" y="671"/>
                  </a:lnTo>
                  <a:lnTo>
                    <a:pt x="2" y="620"/>
                  </a:lnTo>
                  <a:lnTo>
                    <a:pt x="2" y="568"/>
                  </a:lnTo>
                  <a:lnTo>
                    <a:pt x="2" y="516"/>
                  </a:lnTo>
                  <a:lnTo>
                    <a:pt x="2" y="465"/>
                  </a:lnTo>
                  <a:lnTo>
                    <a:pt x="2" y="413"/>
                  </a:lnTo>
                  <a:lnTo>
                    <a:pt x="1" y="362"/>
                  </a:lnTo>
                  <a:lnTo>
                    <a:pt x="1" y="309"/>
                  </a:lnTo>
                  <a:lnTo>
                    <a:pt x="1" y="258"/>
                  </a:lnTo>
                  <a:lnTo>
                    <a:pt x="1" y="206"/>
                  </a:lnTo>
                  <a:lnTo>
                    <a:pt x="0" y="155"/>
                  </a:lnTo>
                  <a:lnTo>
                    <a:pt x="0" y="103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75080" y="5113800"/>
              <a:ext cx="87120" cy="91440"/>
            </a:xfrm>
            <a:custGeom>
              <a:avLst/>
              <a:gdLst/>
              <a:ahLst/>
              <a:rect l="l" t="t" r="r" b="b"/>
              <a:pathLst>
                <a:path w="646" h="644">
                  <a:moveTo>
                    <a:pt x="321" y="8"/>
                  </a:moveTo>
                  <a:lnTo>
                    <a:pt x="337" y="12"/>
                  </a:lnTo>
                  <a:lnTo>
                    <a:pt x="353" y="16"/>
                  </a:lnTo>
                  <a:lnTo>
                    <a:pt x="370" y="22"/>
                  </a:lnTo>
                  <a:lnTo>
                    <a:pt x="385" y="28"/>
                  </a:lnTo>
                  <a:lnTo>
                    <a:pt x="401" y="35"/>
                  </a:lnTo>
                  <a:lnTo>
                    <a:pt x="416" y="43"/>
                  </a:lnTo>
                  <a:lnTo>
                    <a:pt x="432" y="50"/>
                  </a:lnTo>
                  <a:lnTo>
                    <a:pt x="446" y="59"/>
                  </a:lnTo>
                  <a:lnTo>
                    <a:pt x="460" y="69"/>
                  </a:lnTo>
                  <a:lnTo>
                    <a:pt x="474" y="78"/>
                  </a:lnTo>
                  <a:lnTo>
                    <a:pt x="488" y="89"/>
                  </a:lnTo>
                  <a:lnTo>
                    <a:pt x="501" y="100"/>
                  </a:lnTo>
                  <a:lnTo>
                    <a:pt x="515" y="111"/>
                  </a:lnTo>
                  <a:lnTo>
                    <a:pt x="527" y="123"/>
                  </a:lnTo>
                  <a:lnTo>
                    <a:pt x="539" y="136"/>
                  </a:lnTo>
                  <a:lnTo>
                    <a:pt x="549" y="149"/>
                  </a:lnTo>
                  <a:lnTo>
                    <a:pt x="560" y="162"/>
                  </a:lnTo>
                  <a:lnTo>
                    <a:pt x="571" y="175"/>
                  </a:lnTo>
                  <a:lnTo>
                    <a:pt x="581" y="190"/>
                  </a:lnTo>
                  <a:lnTo>
                    <a:pt x="590" y="204"/>
                  </a:lnTo>
                  <a:lnTo>
                    <a:pt x="598" y="218"/>
                  </a:lnTo>
                  <a:lnTo>
                    <a:pt x="606" y="233"/>
                  </a:lnTo>
                  <a:lnTo>
                    <a:pt x="614" y="248"/>
                  </a:lnTo>
                  <a:lnTo>
                    <a:pt x="620" y="264"/>
                  </a:lnTo>
                  <a:lnTo>
                    <a:pt x="626" y="279"/>
                  </a:lnTo>
                  <a:lnTo>
                    <a:pt x="631" y="295"/>
                  </a:lnTo>
                  <a:lnTo>
                    <a:pt x="636" y="311"/>
                  </a:lnTo>
                  <a:lnTo>
                    <a:pt x="640" y="327"/>
                  </a:lnTo>
                  <a:lnTo>
                    <a:pt x="643" y="342"/>
                  </a:lnTo>
                  <a:lnTo>
                    <a:pt x="645" y="359"/>
                  </a:lnTo>
                  <a:lnTo>
                    <a:pt x="646" y="375"/>
                  </a:lnTo>
                  <a:lnTo>
                    <a:pt x="646" y="391"/>
                  </a:lnTo>
                  <a:lnTo>
                    <a:pt x="646" y="408"/>
                  </a:lnTo>
                  <a:lnTo>
                    <a:pt x="645" y="423"/>
                  </a:lnTo>
                  <a:lnTo>
                    <a:pt x="643" y="438"/>
                  </a:lnTo>
                  <a:lnTo>
                    <a:pt x="641" y="453"/>
                  </a:lnTo>
                  <a:lnTo>
                    <a:pt x="637" y="468"/>
                  </a:lnTo>
                  <a:lnTo>
                    <a:pt x="632" y="482"/>
                  </a:lnTo>
                  <a:lnTo>
                    <a:pt x="628" y="495"/>
                  </a:lnTo>
                  <a:lnTo>
                    <a:pt x="621" y="508"/>
                  </a:lnTo>
                  <a:lnTo>
                    <a:pt x="615" y="521"/>
                  </a:lnTo>
                  <a:lnTo>
                    <a:pt x="608" y="533"/>
                  </a:lnTo>
                  <a:lnTo>
                    <a:pt x="601" y="544"/>
                  </a:lnTo>
                  <a:lnTo>
                    <a:pt x="592" y="556"/>
                  </a:lnTo>
                  <a:lnTo>
                    <a:pt x="583" y="566"/>
                  </a:lnTo>
                  <a:lnTo>
                    <a:pt x="573" y="575"/>
                  </a:lnTo>
                  <a:lnTo>
                    <a:pt x="564" y="585"/>
                  </a:lnTo>
                  <a:lnTo>
                    <a:pt x="553" y="594"/>
                  </a:lnTo>
                  <a:lnTo>
                    <a:pt x="541" y="602"/>
                  </a:lnTo>
                  <a:lnTo>
                    <a:pt x="530" y="609"/>
                  </a:lnTo>
                  <a:lnTo>
                    <a:pt x="517" y="616"/>
                  </a:lnTo>
                  <a:lnTo>
                    <a:pt x="505" y="622"/>
                  </a:lnTo>
                  <a:lnTo>
                    <a:pt x="492" y="627"/>
                  </a:lnTo>
                  <a:lnTo>
                    <a:pt x="477" y="632"/>
                  </a:lnTo>
                  <a:lnTo>
                    <a:pt x="464" y="635"/>
                  </a:lnTo>
                  <a:lnTo>
                    <a:pt x="449" y="639"/>
                  </a:lnTo>
                  <a:lnTo>
                    <a:pt x="435" y="642"/>
                  </a:lnTo>
                  <a:lnTo>
                    <a:pt x="420" y="643"/>
                  </a:lnTo>
                  <a:lnTo>
                    <a:pt x="404" y="644"/>
                  </a:lnTo>
                  <a:lnTo>
                    <a:pt x="389" y="644"/>
                  </a:lnTo>
                  <a:lnTo>
                    <a:pt x="373" y="644"/>
                  </a:lnTo>
                  <a:lnTo>
                    <a:pt x="357" y="643"/>
                  </a:lnTo>
                  <a:lnTo>
                    <a:pt x="340" y="640"/>
                  </a:lnTo>
                  <a:lnTo>
                    <a:pt x="324" y="637"/>
                  </a:lnTo>
                  <a:lnTo>
                    <a:pt x="307" y="633"/>
                  </a:lnTo>
                  <a:lnTo>
                    <a:pt x="291" y="629"/>
                  </a:lnTo>
                  <a:lnTo>
                    <a:pt x="275" y="623"/>
                  </a:lnTo>
                  <a:lnTo>
                    <a:pt x="258" y="617"/>
                  </a:lnTo>
                  <a:lnTo>
                    <a:pt x="243" y="610"/>
                  </a:lnTo>
                  <a:lnTo>
                    <a:pt x="228" y="603"/>
                  </a:lnTo>
                  <a:lnTo>
                    <a:pt x="213" y="594"/>
                  </a:lnTo>
                  <a:lnTo>
                    <a:pt x="199" y="585"/>
                  </a:lnTo>
                  <a:lnTo>
                    <a:pt x="184" y="575"/>
                  </a:lnTo>
                  <a:lnTo>
                    <a:pt x="170" y="566"/>
                  </a:lnTo>
                  <a:lnTo>
                    <a:pt x="156" y="556"/>
                  </a:lnTo>
                  <a:lnTo>
                    <a:pt x="143" y="545"/>
                  </a:lnTo>
                  <a:lnTo>
                    <a:pt x="131" y="533"/>
                  </a:lnTo>
                  <a:lnTo>
                    <a:pt x="118" y="521"/>
                  </a:lnTo>
                  <a:lnTo>
                    <a:pt x="107" y="509"/>
                  </a:lnTo>
                  <a:lnTo>
                    <a:pt x="95" y="496"/>
                  </a:lnTo>
                  <a:lnTo>
                    <a:pt x="85" y="483"/>
                  </a:lnTo>
                  <a:lnTo>
                    <a:pt x="74" y="469"/>
                  </a:lnTo>
                  <a:lnTo>
                    <a:pt x="64" y="454"/>
                  </a:lnTo>
                  <a:lnTo>
                    <a:pt x="56" y="440"/>
                  </a:lnTo>
                  <a:lnTo>
                    <a:pt x="47" y="426"/>
                  </a:lnTo>
                  <a:lnTo>
                    <a:pt x="39" y="411"/>
                  </a:lnTo>
                  <a:lnTo>
                    <a:pt x="32" y="396"/>
                  </a:lnTo>
                  <a:lnTo>
                    <a:pt x="25" y="380"/>
                  </a:lnTo>
                  <a:lnTo>
                    <a:pt x="20" y="365"/>
                  </a:lnTo>
                  <a:lnTo>
                    <a:pt x="14" y="350"/>
                  </a:lnTo>
                  <a:lnTo>
                    <a:pt x="10" y="333"/>
                  </a:lnTo>
                  <a:lnTo>
                    <a:pt x="7" y="318"/>
                  </a:lnTo>
                  <a:lnTo>
                    <a:pt x="3" y="302"/>
                  </a:lnTo>
                  <a:lnTo>
                    <a:pt x="1" y="286"/>
                  </a:lnTo>
                  <a:lnTo>
                    <a:pt x="0" y="269"/>
                  </a:lnTo>
                  <a:lnTo>
                    <a:pt x="0" y="253"/>
                  </a:lnTo>
                  <a:lnTo>
                    <a:pt x="0" y="238"/>
                  </a:lnTo>
                  <a:lnTo>
                    <a:pt x="1" y="221"/>
                  </a:lnTo>
                  <a:lnTo>
                    <a:pt x="3" y="206"/>
                  </a:lnTo>
                  <a:lnTo>
                    <a:pt x="6" y="192"/>
                  </a:lnTo>
                  <a:lnTo>
                    <a:pt x="10" y="177"/>
                  </a:lnTo>
                  <a:lnTo>
                    <a:pt x="14" y="163"/>
                  </a:lnTo>
                  <a:lnTo>
                    <a:pt x="19" y="149"/>
                  </a:lnTo>
                  <a:lnTo>
                    <a:pt x="24" y="136"/>
                  </a:lnTo>
                  <a:lnTo>
                    <a:pt x="31" y="124"/>
                  </a:lnTo>
                  <a:lnTo>
                    <a:pt x="38" y="112"/>
                  </a:lnTo>
                  <a:lnTo>
                    <a:pt x="46" y="100"/>
                  </a:lnTo>
                  <a:lnTo>
                    <a:pt x="54" y="89"/>
                  </a:lnTo>
                  <a:lnTo>
                    <a:pt x="63" y="80"/>
                  </a:lnTo>
                  <a:lnTo>
                    <a:pt x="72" y="70"/>
                  </a:lnTo>
                  <a:lnTo>
                    <a:pt x="82" y="60"/>
                  </a:lnTo>
                  <a:lnTo>
                    <a:pt x="93" y="51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9"/>
                  </a:lnTo>
                  <a:lnTo>
                    <a:pt x="141" y="23"/>
                  </a:lnTo>
                  <a:lnTo>
                    <a:pt x="154" y="17"/>
                  </a:lnTo>
                  <a:lnTo>
                    <a:pt x="167" y="13"/>
                  </a:lnTo>
                  <a:lnTo>
                    <a:pt x="181" y="9"/>
                  </a:lnTo>
                  <a:lnTo>
                    <a:pt x="195" y="5"/>
                  </a:lnTo>
                  <a:lnTo>
                    <a:pt x="209" y="3"/>
                  </a:lnTo>
                  <a:lnTo>
                    <a:pt x="225" y="1"/>
                  </a:lnTo>
                  <a:lnTo>
                    <a:pt x="240" y="1"/>
                  </a:lnTo>
                  <a:lnTo>
                    <a:pt x="255" y="0"/>
                  </a:lnTo>
                  <a:lnTo>
                    <a:pt x="272" y="1"/>
                  </a:lnTo>
                  <a:lnTo>
                    <a:pt x="288" y="2"/>
                  </a:lnTo>
                  <a:lnTo>
                    <a:pt x="304" y="4"/>
                  </a:lnTo>
                  <a:lnTo>
                    <a:pt x="321" y="8"/>
                  </a:lnTo>
                  <a:close/>
                  <a:moveTo>
                    <a:pt x="363" y="388"/>
                  </a:moveTo>
                  <a:lnTo>
                    <a:pt x="371" y="376"/>
                  </a:lnTo>
                  <a:lnTo>
                    <a:pt x="378" y="365"/>
                  </a:lnTo>
                  <a:lnTo>
                    <a:pt x="385" y="354"/>
                  </a:lnTo>
                  <a:lnTo>
                    <a:pt x="392" y="342"/>
                  </a:lnTo>
                  <a:lnTo>
                    <a:pt x="418" y="361"/>
                  </a:lnTo>
                  <a:lnTo>
                    <a:pt x="442" y="380"/>
                  </a:lnTo>
                  <a:lnTo>
                    <a:pt x="467" y="399"/>
                  </a:lnTo>
                  <a:lnTo>
                    <a:pt x="492" y="418"/>
                  </a:lnTo>
                  <a:lnTo>
                    <a:pt x="516" y="437"/>
                  </a:lnTo>
                  <a:lnTo>
                    <a:pt x="541" y="456"/>
                  </a:lnTo>
                  <a:lnTo>
                    <a:pt x="566" y="475"/>
                  </a:lnTo>
                  <a:lnTo>
                    <a:pt x="591" y="494"/>
                  </a:lnTo>
                  <a:lnTo>
                    <a:pt x="583" y="505"/>
                  </a:lnTo>
                  <a:lnTo>
                    <a:pt x="576" y="515"/>
                  </a:lnTo>
                  <a:lnTo>
                    <a:pt x="568" y="527"/>
                  </a:lnTo>
                  <a:lnTo>
                    <a:pt x="561" y="538"/>
                  </a:lnTo>
                  <a:lnTo>
                    <a:pt x="536" y="520"/>
                  </a:lnTo>
                  <a:lnTo>
                    <a:pt x="511" y="501"/>
                  </a:lnTo>
                  <a:lnTo>
                    <a:pt x="486" y="482"/>
                  </a:lnTo>
                  <a:lnTo>
                    <a:pt x="462" y="463"/>
                  </a:lnTo>
                  <a:lnTo>
                    <a:pt x="437" y="445"/>
                  </a:lnTo>
                  <a:lnTo>
                    <a:pt x="412" y="425"/>
                  </a:lnTo>
                  <a:lnTo>
                    <a:pt x="388" y="406"/>
                  </a:lnTo>
                  <a:lnTo>
                    <a:pt x="363" y="388"/>
                  </a:lnTo>
                  <a:close/>
                  <a:moveTo>
                    <a:pt x="92" y="444"/>
                  </a:moveTo>
                  <a:lnTo>
                    <a:pt x="83" y="429"/>
                  </a:lnTo>
                  <a:lnTo>
                    <a:pt x="75" y="415"/>
                  </a:lnTo>
                  <a:lnTo>
                    <a:pt x="68" y="401"/>
                  </a:lnTo>
                  <a:lnTo>
                    <a:pt x="59" y="387"/>
                  </a:lnTo>
                  <a:lnTo>
                    <a:pt x="84" y="378"/>
                  </a:lnTo>
                  <a:lnTo>
                    <a:pt x="108" y="368"/>
                  </a:lnTo>
                  <a:lnTo>
                    <a:pt x="132" y="360"/>
                  </a:lnTo>
                  <a:lnTo>
                    <a:pt x="156" y="351"/>
                  </a:lnTo>
                  <a:lnTo>
                    <a:pt x="180" y="341"/>
                  </a:lnTo>
                  <a:lnTo>
                    <a:pt x="204" y="332"/>
                  </a:lnTo>
                  <a:lnTo>
                    <a:pt x="228" y="323"/>
                  </a:lnTo>
                  <a:lnTo>
                    <a:pt x="252" y="314"/>
                  </a:lnTo>
                  <a:lnTo>
                    <a:pt x="260" y="328"/>
                  </a:lnTo>
                  <a:lnTo>
                    <a:pt x="268" y="343"/>
                  </a:lnTo>
                  <a:lnTo>
                    <a:pt x="276" y="357"/>
                  </a:lnTo>
                  <a:lnTo>
                    <a:pt x="285" y="372"/>
                  </a:lnTo>
                  <a:lnTo>
                    <a:pt x="260" y="380"/>
                  </a:lnTo>
                  <a:lnTo>
                    <a:pt x="236" y="390"/>
                  </a:lnTo>
                  <a:lnTo>
                    <a:pt x="212" y="399"/>
                  </a:lnTo>
                  <a:lnTo>
                    <a:pt x="188" y="408"/>
                  </a:lnTo>
                  <a:lnTo>
                    <a:pt x="164" y="417"/>
                  </a:lnTo>
                  <a:lnTo>
                    <a:pt x="140" y="426"/>
                  </a:lnTo>
                  <a:lnTo>
                    <a:pt x="116" y="435"/>
                  </a:lnTo>
                  <a:lnTo>
                    <a:pt x="92" y="444"/>
                  </a:lnTo>
                  <a:close/>
                  <a:moveTo>
                    <a:pt x="290" y="34"/>
                  </a:moveTo>
                  <a:lnTo>
                    <a:pt x="305" y="37"/>
                  </a:lnTo>
                  <a:lnTo>
                    <a:pt x="321" y="40"/>
                  </a:lnTo>
                  <a:lnTo>
                    <a:pt x="337" y="44"/>
                  </a:lnTo>
                  <a:lnTo>
                    <a:pt x="352" y="47"/>
                  </a:lnTo>
                  <a:lnTo>
                    <a:pt x="352" y="75"/>
                  </a:lnTo>
                  <a:lnTo>
                    <a:pt x="352" y="102"/>
                  </a:lnTo>
                  <a:lnTo>
                    <a:pt x="352" y="130"/>
                  </a:lnTo>
                  <a:lnTo>
                    <a:pt x="352" y="157"/>
                  </a:lnTo>
                  <a:lnTo>
                    <a:pt x="353" y="185"/>
                  </a:lnTo>
                  <a:lnTo>
                    <a:pt x="353" y="213"/>
                  </a:lnTo>
                  <a:lnTo>
                    <a:pt x="353" y="240"/>
                  </a:lnTo>
                  <a:lnTo>
                    <a:pt x="353" y="267"/>
                  </a:lnTo>
                  <a:lnTo>
                    <a:pt x="338" y="264"/>
                  </a:lnTo>
                  <a:lnTo>
                    <a:pt x="322" y="260"/>
                  </a:lnTo>
                  <a:lnTo>
                    <a:pt x="306" y="257"/>
                  </a:lnTo>
                  <a:lnTo>
                    <a:pt x="291" y="254"/>
                  </a:lnTo>
                  <a:lnTo>
                    <a:pt x="291" y="227"/>
                  </a:lnTo>
                  <a:lnTo>
                    <a:pt x="291" y="199"/>
                  </a:lnTo>
                  <a:lnTo>
                    <a:pt x="290" y="171"/>
                  </a:lnTo>
                  <a:lnTo>
                    <a:pt x="290" y="144"/>
                  </a:lnTo>
                  <a:lnTo>
                    <a:pt x="290" y="117"/>
                  </a:lnTo>
                  <a:lnTo>
                    <a:pt x="290" y="89"/>
                  </a:lnTo>
                  <a:lnTo>
                    <a:pt x="290" y="61"/>
                  </a:lnTo>
                  <a:lnTo>
                    <a:pt x="290" y="3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77680" y="5137200"/>
              <a:ext cx="87840" cy="91440"/>
            </a:xfrm>
            <a:custGeom>
              <a:avLst/>
              <a:gdLst/>
              <a:ahLst/>
              <a:rect l="l" t="t" r="r" b="b"/>
              <a:pathLst>
                <a:path w="647" h="644">
                  <a:moveTo>
                    <a:pt x="45" y="100"/>
                  </a:moveTo>
                  <a:lnTo>
                    <a:pt x="55" y="88"/>
                  </a:lnTo>
                  <a:lnTo>
                    <a:pt x="64" y="77"/>
                  </a:lnTo>
                  <a:lnTo>
                    <a:pt x="75" y="67"/>
                  </a:lnTo>
                  <a:lnTo>
                    <a:pt x="85" y="57"/>
                  </a:lnTo>
                  <a:lnTo>
                    <a:pt x="97" y="48"/>
                  </a:lnTo>
                  <a:lnTo>
                    <a:pt x="107" y="41"/>
                  </a:lnTo>
                  <a:lnTo>
                    <a:pt x="119" y="33"/>
                  </a:lnTo>
                  <a:lnTo>
                    <a:pt x="133" y="27"/>
                  </a:lnTo>
                  <a:lnTo>
                    <a:pt x="146" y="21"/>
                  </a:lnTo>
                  <a:lnTo>
                    <a:pt x="159" y="16"/>
                  </a:lnTo>
                  <a:lnTo>
                    <a:pt x="173" y="11"/>
                  </a:lnTo>
                  <a:lnTo>
                    <a:pt x="186" y="8"/>
                  </a:lnTo>
                  <a:lnTo>
                    <a:pt x="201" y="5"/>
                  </a:lnTo>
                  <a:lnTo>
                    <a:pt x="215" y="3"/>
                  </a:lnTo>
                  <a:lnTo>
                    <a:pt x="229" y="1"/>
                  </a:lnTo>
                  <a:lnTo>
                    <a:pt x="245" y="0"/>
                  </a:lnTo>
                  <a:lnTo>
                    <a:pt x="260" y="0"/>
                  </a:lnTo>
                  <a:lnTo>
                    <a:pt x="275" y="1"/>
                  </a:lnTo>
                  <a:lnTo>
                    <a:pt x="291" y="4"/>
                  </a:lnTo>
                  <a:lnTo>
                    <a:pt x="307" y="6"/>
                  </a:lnTo>
                  <a:lnTo>
                    <a:pt x="322" y="8"/>
                  </a:lnTo>
                  <a:lnTo>
                    <a:pt x="337" y="12"/>
                  </a:lnTo>
                  <a:lnTo>
                    <a:pt x="354" y="17"/>
                  </a:lnTo>
                  <a:lnTo>
                    <a:pt x="369" y="22"/>
                  </a:lnTo>
                  <a:lnTo>
                    <a:pt x="384" y="28"/>
                  </a:lnTo>
                  <a:lnTo>
                    <a:pt x="400" y="34"/>
                  </a:lnTo>
                  <a:lnTo>
                    <a:pt x="415" y="42"/>
                  </a:lnTo>
                  <a:lnTo>
                    <a:pt x="431" y="51"/>
                  </a:lnTo>
                  <a:lnTo>
                    <a:pt x="445" y="59"/>
                  </a:lnTo>
                  <a:lnTo>
                    <a:pt x="461" y="69"/>
                  </a:lnTo>
                  <a:lnTo>
                    <a:pt x="476" y="79"/>
                  </a:lnTo>
                  <a:lnTo>
                    <a:pt x="490" y="90"/>
                  </a:lnTo>
                  <a:lnTo>
                    <a:pt x="504" y="102"/>
                  </a:lnTo>
                  <a:lnTo>
                    <a:pt x="517" y="114"/>
                  </a:lnTo>
                  <a:lnTo>
                    <a:pt x="530" y="127"/>
                  </a:lnTo>
                  <a:lnTo>
                    <a:pt x="542" y="140"/>
                  </a:lnTo>
                  <a:lnTo>
                    <a:pt x="554" y="153"/>
                  </a:lnTo>
                  <a:lnTo>
                    <a:pt x="565" y="167"/>
                  </a:lnTo>
                  <a:lnTo>
                    <a:pt x="575" y="181"/>
                  </a:lnTo>
                  <a:lnTo>
                    <a:pt x="585" y="195"/>
                  </a:lnTo>
                  <a:lnTo>
                    <a:pt x="593" y="210"/>
                  </a:lnTo>
                  <a:lnTo>
                    <a:pt x="602" y="224"/>
                  </a:lnTo>
                  <a:lnTo>
                    <a:pt x="609" y="239"/>
                  </a:lnTo>
                  <a:lnTo>
                    <a:pt x="616" y="254"/>
                  </a:lnTo>
                  <a:lnTo>
                    <a:pt x="623" y="270"/>
                  </a:lnTo>
                  <a:lnTo>
                    <a:pt x="628" y="285"/>
                  </a:lnTo>
                  <a:lnTo>
                    <a:pt x="633" y="300"/>
                  </a:lnTo>
                  <a:lnTo>
                    <a:pt x="637" y="315"/>
                  </a:lnTo>
                  <a:lnTo>
                    <a:pt x="640" y="332"/>
                  </a:lnTo>
                  <a:lnTo>
                    <a:pt x="643" y="347"/>
                  </a:lnTo>
                  <a:lnTo>
                    <a:pt x="645" y="362"/>
                  </a:lnTo>
                  <a:lnTo>
                    <a:pt x="646" y="377"/>
                  </a:lnTo>
                  <a:lnTo>
                    <a:pt x="647" y="393"/>
                  </a:lnTo>
                  <a:lnTo>
                    <a:pt x="646" y="408"/>
                  </a:lnTo>
                  <a:lnTo>
                    <a:pt x="645" y="422"/>
                  </a:lnTo>
                  <a:lnTo>
                    <a:pt x="644" y="437"/>
                  </a:lnTo>
                  <a:lnTo>
                    <a:pt x="640" y="452"/>
                  </a:lnTo>
                  <a:lnTo>
                    <a:pt x="637" y="467"/>
                  </a:lnTo>
                  <a:lnTo>
                    <a:pt x="634" y="480"/>
                  </a:lnTo>
                  <a:lnTo>
                    <a:pt x="628" y="494"/>
                  </a:lnTo>
                  <a:lnTo>
                    <a:pt x="623" y="507"/>
                  </a:lnTo>
                  <a:lnTo>
                    <a:pt x="616" y="520"/>
                  </a:lnTo>
                  <a:lnTo>
                    <a:pt x="609" y="533"/>
                  </a:lnTo>
                  <a:lnTo>
                    <a:pt x="600" y="545"/>
                  </a:lnTo>
                  <a:lnTo>
                    <a:pt x="591" y="557"/>
                  </a:lnTo>
                  <a:lnTo>
                    <a:pt x="583" y="568"/>
                  </a:lnTo>
                  <a:lnTo>
                    <a:pt x="572" y="578"/>
                  </a:lnTo>
                  <a:lnTo>
                    <a:pt x="561" y="588"/>
                  </a:lnTo>
                  <a:lnTo>
                    <a:pt x="550" y="596"/>
                  </a:lnTo>
                  <a:lnTo>
                    <a:pt x="538" y="604"/>
                  </a:lnTo>
                  <a:lnTo>
                    <a:pt x="526" y="612"/>
                  </a:lnTo>
                  <a:lnTo>
                    <a:pt x="514" y="618"/>
                  </a:lnTo>
                  <a:lnTo>
                    <a:pt x="501" y="624"/>
                  </a:lnTo>
                  <a:lnTo>
                    <a:pt x="488" y="629"/>
                  </a:lnTo>
                  <a:lnTo>
                    <a:pt x="474" y="634"/>
                  </a:lnTo>
                  <a:lnTo>
                    <a:pt x="459" y="637"/>
                  </a:lnTo>
                  <a:lnTo>
                    <a:pt x="445" y="640"/>
                  </a:lnTo>
                  <a:lnTo>
                    <a:pt x="431" y="642"/>
                  </a:lnTo>
                  <a:lnTo>
                    <a:pt x="416" y="643"/>
                  </a:lnTo>
                  <a:lnTo>
                    <a:pt x="401" y="644"/>
                  </a:lnTo>
                  <a:lnTo>
                    <a:pt x="385" y="644"/>
                  </a:lnTo>
                  <a:lnTo>
                    <a:pt x="370" y="643"/>
                  </a:lnTo>
                  <a:lnTo>
                    <a:pt x="355" y="642"/>
                  </a:lnTo>
                  <a:lnTo>
                    <a:pt x="340" y="639"/>
                  </a:lnTo>
                  <a:lnTo>
                    <a:pt x="323" y="637"/>
                  </a:lnTo>
                  <a:lnTo>
                    <a:pt x="308" y="632"/>
                  </a:lnTo>
                  <a:lnTo>
                    <a:pt x="292" y="628"/>
                  </a:lnTo>
                  <a:lnTo>
                    <a:pt x="276" y="623"/>
                  </a:lnTo>
                  <a:lnTo>
                    <a:pt x="261" y="617"/>
                  </a:lnTo>
                  <a:lnTo>
                    <a:pt x="245" y="611"/>
                  </a:lnTo>
                  <a:lnTo>
                    <a:pt x="229" y="603"/>
                  </a:lnTo>
                  <a:lnTo>
                    <a:pt x="214" y="594"/>
                  </a:lnTo>
                  <a:lnTo>
                    <a:pt x="199" y="586"/>
                  </a:lnTo>
                  <a:lnTo>
                    <a:pt x="185" y="576"/>
                  </a:lnTo>
                  <a:lnTo>
                    <a:pt x="170" y="566"/>
                  </a:lnTo>
                  <a:lnTo>
                    <a:pt x="155" y="554"/>
                  </a:lnTo>
                  <a:lnTo>
                    <a:pt x="141" y="543"/>
                  </a:lnTo>
                  <a:lnTo>
                    <a:pt x="128" y="530"/>
                  </a:lnTo>
                  <a:lnTo>
                    <a:pt x="115" y="518"/>
                  </a:lnTo>
                  <a:lnTo>
                    <a:pt x="103" y="505"/>
                  </a:lnTo>
                  <a:lnTo>
                    <a:pt x="91" y="492"/>
                  </a:lnTo>
                  <a:lnTo>
                    <a:pt x="80" y="478"/>
                  </a:lnTo>
                  <a:lnTo>
                    <a:pt x="70" y="464"/>
                  </a:lnTo>
                  <a:lnTo>
                    <a:pt x="61" y="449"/>
                  </a:lnTo>
                  <a:lnTo>
                    <a:pt x="52" y="435"/>
                  </a:lnTo>
                  <a:lnTo>
                    <a:pt x="43" y="420"/>
                  </a:lnTo>
                  <a:lnTo>
                    <a:pt x="36" y="405"/>
                  </a:lnTo>
                  <a:lnTo>
                    <a:pt x="29" y="391"/>
                  </a:lnTo>
                  <a:lnTo>
                    <a:pt x="22" y="375"/>
                  </a:lnTo>
                  <a:lnTo>
                    <a:pt x="17" y="360"/>
                  </a:lnTo>
                  <a:lnTo>
                    <a:pt x="13" y="344"/>
                  </a:lnTo>
                  <a:lnTo>
                    <a:pt x="8" y="328"/>
                  </a:lnTo>
                  <a:lnTo>
                    <a:pt x="5" y="313"/>
                  </a:lnTo>
                  <a:lnTo>
                    <a:pt x="3" y="298"/>
                  </a:lnTo>
                  <a:lnTo>
                    <a:pt x="1" y="283"/>
                  </a:lnTo>
                  <a:lnTo>
                    <a:pt x="0" y="267"/>
                  </a:lnTo>
                  <a:lnTo>
                    <a:pt x="0" y="252"/>
                  </a:lnTo>
                  <a:lnTo>
                    <a:pt x="0" y="237"/>
                  </a:lnTo>
                  <a:lnTo>
                    <a:pt x="1" y="222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8" y="178"/>
                  </a:lnTo>
                  <a:lnTo>
                    <a:pt x="13" y="164"/>
                  </a:lnTo>
                  <a:lnTo>
                    <a:pt x="18" y="151"/>
                  </a:lnTo>
                  <a:lnTo>
                    <a:pt x="24" y="137"/>
                  </a:lnTo>
                  <a:lnTo>
                    <a:pt x="30" y="124"/>
                  </a:lnTo>
                  <a:lnTo>
                    <a:pt x="38" y="112"/>
                  </a:lnTo>
                  <a:lnTo>
                    <a:pt x="45" y="100"/>
                  </a:lnTo>
                  <a:close/>
                  <a:moveTo>
                    <a:pt x="394" y="334"/>
                  </a:moveTo>
                  <a:lnTo>
                    <a:pt x="386" y="319"/>
                  </a:lnTo>
                  <a:lnTo>
                    <a:pt x="379" y="304"/>
                  </a:lnTo>
                  <a:lnTo>
                    <a:pt x="371" y="289"/>
                  </a:lnTo>
                  <a:lnTo>
                    <a:pt x="364" y="274"/>
                  </a:lnTo>
                  <a:lnTo>
                    <a:pt x="388" y="266"/>
                  </a:lnTo>
                  <a:lnTo>
                    <a:pt x="413" y="259"/>
                  </a:lnTo>
                  <a:lnTo>
                    <a:pt x="438" y="251"/>
                  </a:lnTo>
                  <a:lnTo>
                    <a:pt x="462" y="243"/>
                  </a:lnTo>
                  <a:lnTo>
                    <a:pt x="487" y="236"/>
                  </a:lnTo>
                  <a:lnTo>
                    <a:pt x="512" y="227"/>
                  </a:lnTo>
                  <a:lnTo>
                    <a:pt x="536" y="219"/>
                  </a:lnTo>
                  <a:lnTo>
                    <a:pt x="561" y="211"/>
                  </a:lnTo>
                  <a:lnTo>
                    <a:pt x="568" y="226"/>
                  </a:lnTo>
                  <a:lnTo>
                    <a:pt x="576" y="241"/>
                  </a:lnTo>
                  <a:lnTo>
                    <a:pt x="584" y="255"/>
                  </a:lnTo>
                  <a:lnTo>
                    <a:pt x="591" y="270"/>
                  </a:lnTo>
                  <a:lnTo>
                    <a:pt x="566" y="278"/>
                  </a:lnTo>
                  <a:lnTo>
                    <a:pt x="542" y="286"/>
                  </a:lnTo>
                  <a:lnTo>
                    <a:pt x="517" y="294"/>
                  </a:lnTo>
                  <a:lnTo>
                    <a:pt x="492" y="301"/>
                  </a:lnTo>
                  <a:lnTo>
                    <a:pt x="467" y="310"/>
                  </a:lnTo>
                  <a:lnTo>
                    <a:pt x="443" y="317"/>
                  </a:lnTo>
                  <a:lnTo>
                    <a:pt x="418" y="325"/>
                  </a:lnTo>
                  <a:lnTo>
                    <a:pt x="394" y="334"/>
                  </a:lnTo>
                  <a:close/>
                  <a:moveTo>
                    <a:pt x="354" y="611"/>
                  </a:moveTo>
                  <a:lnTo>
                    <a:pt x="338" y="607"/>
                  </a:lnTo>
                  <a:lnTo>
                    <a:pt x="323" y="604"/>
                  </a:lnTo>
                  <a:lnTo>
                    <a:pt x="308" y="601"/>
                  </a:lnTo>
                  <a:lnTo>
                    <a:pt x="293" y="598"/>
                  </a:lnTo>
                  <a:lnTo>
                    <a:pt x="293" y="570"/>
                  </a:lnTo>
                  <a:lnTo>
                    <a:pt x="293" y="543"/>
                  </a:lnTo>
                  <a:lnTo>
                    <a:pt x="293" y="515"/>
                  </a:lnTo>
                  <a:lnTo>
                    <a:pt x="292" y="487"/>
                  </a:lnTo>
                  <a:lnTo>
                    <a:pt x="292" y="460"/>
                  </a:lnTo>
                  <a:lnTo>
                    <a:pt x="292" y="432"/>
                  </a:lnTo>
                  <a:lnTo>
                    <a:pt x="292" y="405"/>
                  </a:lnTo>
                  <a:lnTo>
                    <a:pt x="292" y="377"/>
                  </a:lnTo>
                  <a:lnTo>
                    <a:pt x="308" y="381"/>
                  </a:lnTo>
                  <a:lnTo>
                    <a:pt x="323" y="384"/>
                  </a:lnTo>
                  <a:lnTo>
                    <a:pt x="338" y="387"/>
                  </a:lnTo>
                  <a:lnTo>
                    <a:pt x="354" y="391"/>
                  </a:lnTo>
                  <a:lnTo>
                    <a:pt x="354" y="418"/>
                  </a:lnTo>
                  <a:lnTo>
                    <a:pt x="354" y="446"/>
                  </a:lnTo>
                  <a:lnTo>
                    <a:pt x="354" y="473"/>
                  </a:lnTo>
                  <a:lnTo>
                    <a:pt x="354" y="501"/>
                  </a:lnTo>
                  <a:lnTo>
                    <a:pt x="354" y="528"/>
                  </a:lnTo>
                  <a:lnTo>
                    <a:pt x="354" y="556"/>
                  </a:lnTo>
                  <a:lnTo>
                    <a:pt x="354" y="583"/>
                  </a:lnTo>
                  <a:lnTo>
                    <a:pt x="354" y="611"/>
                  </a:lnTo>
                  <a:close/>
                  <a:moveTo>
                    <a:pt x="58" y="144"/>
                  </a:moveTo>
                  <a:lnTo>
                    <a:pt x="66" y="133"/>
                  </a:lnTo>
                  <a:lnTo>
                    <a:pt x="74" y="122"/>
                  </a:lnTo>
                  <a:lnTo>
                    <a:pt x="82" y="110"/>
                  </a:lnTo>
                  <a:lnTo>
                    <a:pt x="90" y="100"/>
                  </a:lnTo>
                  <a:lnTo>
                    <a:pt x="114" y="119"/>
                  </a:lnTo>
                  <a:lnTo>
                    <a:pt x="139" y="139"/>
                  </a:lnTo>
                  <a:lnTo>
                    <a:pt x="163" y="158"/>
                  </a:lnTo>
                  <a:lnTo>
                    <a:pt x="187" y="178"/>
                  </a:lnTo>
                  <a:lnTo>
                    <a:pt x="211" y="198"/>
                  </a:lnTo>
                  <a:lnTo>
                    <a:pt x="236" y="217"/>
                  </a:lnTo>
                  <a:lnTo>
                    <a:pt x="260" y="237"/>
                  </a:lnTo>
                  <a:lnTo>
                    <a:pt x="284" y="256"/>
                  </a:lnTo>
                  <a:lnTo>
                    <a:pt x="276" y="267"/>
                  </a:lnTo>
                  <a:lnTo>
                    <a:pt x="269" y="278"/>
                  </a:lnTo>
                  <a:lnTo>
                    <a:pt x="260" y="289"/>
                  </a:lnTo>
                  <a:lnTo>
                    <a:pt x="252" y="300"/>
                  </a:lnTo>
                  <a:lnTo>
                    <a:pt x="228" y="280"/>
                  </a:lnTo>
                  <a:lnTo>
                    <a:pt x="203" y="261"/>
                  </a:lnTo>
                  <a:lnTo>
                    <a:pt x="179" y="241"/>
                  </a:lnTo>
                  <a:lnTo>
                    <a:pt x="155" y="222"/>
                  </a:lnTo>
                  <a:lnTo>
                    <a:pt x="131" y="203"/>
                  </a:lnTo>
                  <a:lnTo>
                    <a:pt x="106" y="183"/>
                  </a:lnTo>
                  <a:lnTo>
                    <a:pt x="82" y="164"/>
                  </a:lnTo>
                  <a:lnTo>
                    <a:pt x="58" y="14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54680" y="4887000"/>
              <a:ext cx="150840" cy="65880"/>
            </a:xfrm>
            <a:custGeom>
              <a:avLst/>
              <a:gdLst/>
              <a:ahLst/>
              <a:rect l="l" t="t" r="r" b="b"/>
              <a:pathLst>
                <a:path w="1115" h="465">
                  <a:moveTo>
                    <a:pt x="0" y="0"/>
                  </a:moveTo>
                  <a:lnTo>
                    <a:pt x="1115" y="248"/>
                  </a:lnTo>
                  <a:lnTo>
                    <a:pt x="1115" y="465"/>
                  </a:lnTo>
                  <a:lnTo>
                    <a:pt x="0" y="2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56720" y="4961520"/>
              <a:ext cx="252360" cy="82800"/>
            </a:xfrm>
            <a:custGeom>
              <a:avLst/>
              <a:gdLst/>
              <a:ahLst/>
              <a:rect l="l" t="t" r="r" b="b"/>
              <a:pathLst>
                <a:path w="1860" h="586">
                  <a:moveTo>
                    <a:pt x="0" y="0"/>
                  </a:moveTo>
                  <a:lnTo>
                    <a:pt x="683" y="168"/>
                  </a:lnTo>
                  <a:lnTo>
                    <a:pt x="683" y="295"/>
                  </a:lnTo>
                  <a:lnTo>
                    <a:pt x="0" y="128"/>
                  </a:lnTo>
                  <a:lnTo>
                    <a:pt x="0" y="0"/>
                  </a:lnTo>
                  <a:close/>
                  <a:moveTo>
                    <a:pt x="895" y="220"/>
                  </a:moveTo>
                  <a:lnTo>
                    <a:pt x="1860" y="459"/>
                  </a:lnTo>
                  <a:lnTo>
                    <a:pt x="1860" y="586"/>
                  </a:lnTo>
                  <a:lnTo>
                    <a:pt x="895" y="348"/>
                  </a:lnTo>
                  <a:lnTo>
                    <a:pt x="895" y="22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73520" y="5041440"/>
              <a:ext cx="129600" cy="48240"/>
            </a:xfrm>
            <a:custGeom>
              <a:avLst/>
              <a:gdLst/>
              <a:ahLst/>
              <a:rect l="l" t="t" r="r" b="b"/>
              <a:pathLst>
                <a:path w="955" h="342">
                  <a:moveTo>
                    <a:pt x="0" y="0"/>
                  </a:moveTo>
                  <a:lnTo>
                    <a:pt x="955" y="216"/>
                  </a:lnTo>
                  <a:lnTo>
                    <a:pt x="955" y="342"/>
                  </a:lnTo>
                  <a:lnTo>
                    <a:pt x="0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40040" y="5010840"/>
              <a:ext cx="10800" cy="279000"/>
            </a:xfrm>
            <a:custGeom>
              <a:avLst/>
              <a:gdLst/>
              <a:ahLst/>
              <a:rect l="l" t="t" r="r" b="b"/>
              <a:pathLst>
                <a:path w="80" h="1961">
                  <a:moveTo>
                    <a:pt x="0" y="0"/>
                  </a:moveTo>
                  <a:lnTo>
                    <a:pt x="80" y="20"/>
                  </a:lnTo>
                  <a:lnTo>
                    <a:pt x="80" y="1961"/>
                  </a:lnTo>
                  <a:lnTo>
                    <a:pt x="0" y="194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40040" y="5320080"/>
              <a:ext cx="10800" cy="409680"/>
            </a:xfrm>
            <a:custGeom>
              <a:avLst/>
              <a:gdLst/>
              <a:ahLst/>
              <a:rect l="l" t="t" r="r" b="b"/>
              <a:pathLst>
                <a:path w="80" h="2876">
                  <a:moveTo>
                    <a:pt x="0" y="0"/>
                  </a:moveTo>
                  <a:lnTo>
                    <a:pt x="80" y="19"/>
                  </a:lnTo>
                  <a:lnTo>
                    <a:pt x="80" y="2876"/>
                  </a:lnTo>
                  <a:lnTo>
                    <a:pt x="0" y="285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73120" y="5207400"/>
              <a:ext cx="10800" cy="409680"/>
            </a:xfrm>
            <a:custGeom>
              <a:avLst/>
              <a:gdLst/>
              <a:ahLst/>
              <a:rect l="l" t="t" r="r" b="b"/>
              <a:pathLst>
                <a:path w="78" h="2876">
                  <a:moveTo>
                    <a:pt x="0" y="0"/>
                  </a:moveTo>
                  <a:lnTo>
                    <a:pt x="78" y="20"/>
                  </a:lnTo>
                  <a:lnTo>
                    <a:pt x="78" y="2876"/>
                  </a:lnTo>
                  <a:lnTo>
                    <a:pt x="0" y="28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999240" y="5177520"/>
              <a:ext cx="107280" cy="61200"/>
            </a:xfrm>
            <a:custGeom>
              <a:avLst/>
              <a:gdLst/>
              <a:ahLst/>
              <a:rect l="l" t="t" r="r" b="b"/>
              <a:pathLst>
                <a:path w="793" h="433">
                  <a:moveTo>
                    <a:pt x="0" y="0"/>
                  </a:moveTo>
                  <a:lnTo>
                    <a:pt x="174" y="42"/>
                  </a:lnTo>
                  <a:lnTo>
                    <a:pt x="174" y="280"/>
                  </a:lnTo>
                  <a:lnTo>
                    <a:pt x="0" y="237"/>
                  </a:lnTo>
                  <a:lnTo>
                    <a:pt x="0" y="0"/>
                  </a:lnTo>
                  <a:close/>
                  <a:moveTo>
                    <a:pt x="303" y="74"/>
                  </a:moveTo>
                  <a:lnTo>
                    <a:pt x="478" y="118"/>
                  </a:lnTo>
                  <a:lnTo>
                    <a:pt x="478" y="355"/>
                  </a:lnTo>
                  <a:lnTo>
                    <a:pt x="303" y="312"/>
                  </a:lnTo>
                  <a:lnTo>
                    <a:pt x="303" y="74"/>
                  </a:lnTo>
                  <a:close/>
                  <a:moveTo>
                    <a:pt x="606" y="149"/>
                  </a:moveTo>
                  <a:lnTo>
                    <a:pt x="793" y="196"/>
                  </a:lnTo>
                  <a:lnTo>
                    <a:pt x="793" y="433"/>
                  </a:lnTo>
                  <a:lnTo>
                    <a:pt x="606" y="387"/>
                  </a:lnTo>
                  <a:lnTo>
                    <a:pt x="606" y="149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04440" y="539820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4"/>
                  </a:lnTo>
                  <a:lnTo>
                    <a:pt x="547" y="196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04440" y="541872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04440" y="5438520"/>
              <a:ext cx="74160" cy="2808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04440" y="54590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04440" y="54795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7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8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7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9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04440" y="5500080"/>
              <a:ext cx="74160" cy="2736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04440" y="55202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04440" y="55407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5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0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79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7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04440" y="5561280"/>
              <a:ext cx="74160" cy="2700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4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3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04440" y="558108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2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8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6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04440" y="560160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3"/>
                  </a:lnTo>
                  <a:lnTo>
                    <a:pt x="547" y="196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76400" y="5511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915" y="228"/>
                  </a:lnTo>
                  <a:lnTo>
                    <a:pt x="915" y="300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76400" y="55321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76400" y="5551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2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76400" y="557244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76400" y="5592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6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7"/>
                  </a:lnTo>
                  <a:lnTo>
                    <a:pt x="571" y="141"/>
                  </a:lnTo>
                  <a:lnTo>
                    <a:pt x="629" y="155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5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299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28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76400" y="56131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9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4"/>
                  </a:lnTo>
                  <a:lnTo>
                    <a:pt x="915" y="283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8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3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76400" y="5632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6"/>
                  </a:lnTo>
                  <a:lnTo>
                    <a:pt x="915" y="264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76400" y="5653080"/>
              <a:ext cx="124200" cy="4320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76400" y="567324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3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76400" y="5693760"/>
              <a:ext cx="124200" cy="4212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76400" y="5713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915" y="227"/>
                  </a:lnTo>
                  <a:lnTo>
                    <a:pt x="915" y="299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59440" y="5122800"/>
              <a:ext cx="36000" cy="47520"/>
            </a:xfrm>
            <a:custGeom>
              <a:avLst/>
              <a:gdLst/>
              <a:ahLst/>
              <a:rect l="l" t="t" r="r" b="b"/>
              <a:pathLst>
                <a:path w="267" h="334">
                  <a:moveTo>
                    <a:pt x="134" y="334"/>
                  </a:moveTo>
                  <a:lnTo>
                    <a:pt x="147" y="333"/>
                  </a:lnTo>
                  <a:lnTo>
                    <a:pt x="160" y="331"/>
                  </a:lnTo>
                  <a:lnTo>
                    <a:pt x="173" y="326"/>
                  </a:lnTo>
                  <a:lnTo>
                    <a:pt x="185" y="321"/>
                  </a:lnTo>
                  <a:lnTo>
                    <a:pt x="197" y="313"/>
                  </a:lnTo>
                  <a:lnTo>
                    <a:pt x="208" y="306"/>
                  </a:lnTo>
                  <a:lnTo>
                    <a:pt x="218" y="296"/>
                  </a:lnTo>
                  <a:lnTo>
                    <a:pt x="227" y="285"/>
                  </a:lnTo>
                  <a:lnTo>
                    <a:pt x="236" y="273"/>
                  </a:lnTo>
                  <a:lnTo>
                    <a:pt x="244" y="260"/>
                  </a:lnTo>
                  <a:lnTo>
                    <a:pt x="250" y="247"/>
                  </a:lnTo>
                  <a:lnTo>
                    <a:pt x="256" y="231"/>
                  </a:lnTo>
                  <a:lnTo>
                    <a:pt x="261" y="216"/>
                  </a:lnTo>
                  <a:lnTo>
                    <a:pt x="264" y="201"/>
                  </a:lnTo>
                  <a:lnTo>
                    <a:pt x="265" y="185"/>
                  </a:lnTo>
                  <a:lnTo>
                    <a:pt x="267" y="167"/>
                  </a:lnTo>
                  <a:lnTo>
                    <a:pt x="265" y="150"/>
                  </a:lnTo>
                  <a:lnTo>
                    <a:pt x="264" y="133"/>
                  </a:lnTo>
                  <a:lnTo>
                    <a:pt x="261" y="117"/>
                  </a:lnTo>
                  <a:lnTo>
                    <a:pt x="256" y="102"/>
                  </a:lnTo>
                  <a:lnTo>
                    <a:pt x="250" y="88"/>
                  </a:lnTo>
                  <a:lnTo>
                    <a:pt x="244" y="73"/>
                  </a:lnTo>
                  <a:lnTo>
                    <a:pt x="236" y="61"/>
                  </a:lnTo>
                  <a:lnTo>
                    <a:pt x="227" y="49"/>
                  </a:lnTo>
                  <a:lnTo>
                    <a:pt x="218" y="39"/>
                  </a:lnTo>
                  <a:lnTo>
                    <a:pt x="208" y="29"/>
                  </a:lnTo>
                  <a:lnTo>
                    <a:pt x="197" y="20"/>
                  </a:lnTo>
                  <a:lnTo>
                    <a:pt x="185" y="13"/>
                  </a:lnTo>
                  <a:lnTo>
                    <a:pt x="173" y="8"/>
                  </a:lnTo>
                  <a:lnTo>
                    <a:pt x="160" y="4"/>
                  </a:lnTo>
                  <a:lnTo>
                    <a:pt x="147" y="1"/>
                  </a:lnTo>
                  <a:lnTo>
                    <a:pt x="134" y="0"/>
                  </a:lnTo>
                  <a:lnTo>
                    <a:pt x="119" y="1"/>
                  </a:lnTo>
                  <a:lnTo>
                    <a:pt x="106" y="4"/>
                  </a:lnTo>
                  <a:lnTo>
                    <a:pt x="93" y="8"/>
                  </a:lnTo>
                  <a:lnTo>
                    <a:pt x="81" y="13"/>
                  </a:lnTo>
                  <a:lnTo>
                    <a:pt x="69" y="20"/>
                  </a:lnTo>
                  <a:lnTo>
                    <a:pt x="58" y="29"/>
                  </a:lnTo>
                  <a:lnTo>
                    <a:pt x="49" y="39"/>
                  </a:lnTo>
                  <a:lnTo>
                    <a:pt x="39" y="49"/>
                  </a:lnTo>
                  <a:lnTo>
                    <a:pt x="30" y="61"/>
                  </a:lnTo>
                  <a:lnTo>
                    <a:pt x="22" y="73"/>
                  </a:lnTo>
                  <a:lnTo>
                    <a:pt x="16" y="88"/>
                  </a:lnTo>
                  <a:lnTo>
                    <a:pt x="10" y="102"/>
                  </a:lnTo>
                  <a:lnTo>
                    <a:pt x="6" y="117"/>
                  </a:lnTo>
                  <a:lnTo>
                    <a:pt x="3" y="133"/>
                  </a:lnTo>
                  <a:lnTo>
                    <a:pt x="1" y="150"/>
                  </a:lnTo>
                  <a:lnTo>
                    <a:pt x="0" y="167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6" y="216"/>
                  </a:lnTo>
                  <a:lnTo>
                    <a:pt x="10" y="231"/>
                  </a:lnTo>
                  <a:lnTo>
                    <a:pt x="16" y="247"/>
                  </a:lnTo>
                  <a:lnTo>
                    <a:pt x="22" y="260"/>
                  </a:lnTo>
                  <a:lnTo>
                    <a:pt x="30" y="273"/>
                  </a:lnTo>
                  <a:lnTo>
                    <a:pt x="39" y="285"/>
                  </a:lnTo>
                  <a:lnTo>
                    <a:pt x="49" y="296"/>
                  </a:lnTo>
                  <a:lnTo>
                    <a:pt x="58" y="306"/>
                  </a:lnTo>
                  <a:lnTo>
                    <a:pt x="69" y="313"/>
                  </a:lnTo>
                  <a:lnTo>
                    <a:pt x="81" y="321"/>
                  </a:lnTo>
                  <a:lnTo>
                    <a:pt x="93" y="326"/>
                  </a:lnTo>
                  <a:lnTo>
                    <a:pt x="106" y="331"/>
                  </a:lnTo>
                  <a:lnTo>
                    <a:pt x="119" y="333"/>
                  </a:lnTo>
                  <a:lnTo>
                    <a:pt x="134" y="334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021200" y="5784840"/>
            <a:ext cx="90000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9615800">
            <a:off x="6671160" y="4830480"/>
            <a:ext cx="76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70640" y="486900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299200" y="3962520"/>
            <a:ext cx="148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 may push data for repor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10160" y="4589640"/>
            <a:ext cx="119160" cy="293400"/>
          </a:xfrm>
          <a:custGeom>
            <a:avLst/>
            <a:gdLst/>
            <a:ahLst/>
            <a:rect l="l" t="t" r="r" b="b"/>
            <a:pathLst>
              <a:path w="75" h="186">
                <a:moveTo>
                  <a:pt x="0" y="0"/>
                </a:moveTo>
                <a:lnTo>
                  <a:pt x="75" y="0"/>
                </a:lnTo>
                <a:lnTo>
                  <a:pt x="75" y="18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20028600">
            <a:off x="6378840" y="5013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REP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19083600">
            <a:off x="7045560" y="458388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879480" y="5259240"/>
            <a:ext cx="1077840" cy="833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459" name=""/>
          <p:cNvSpPr/>
          <p:nvPr/>
        </p:nvSpPr>
        <p:spPr>
          <a:xfrm>
            <a:off x="1071000" y="5451480"/>
            <a:ext cx="64692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4572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end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7047000" y="3114720"/>
            <a:ext cx="1265040" cy="977760"/>
            <a:chOff x="7047000" y="3114720"/>
            <a:chExt cx="1265040" cy="977760"/>
          </a:xfrm>
        </p:grpSpPr>
        <p:pic>
          <p:nvPicPr>
            <p:cNvPr id="462" name="" descr=""/>
            <p:cNvPicPr/>
            <p:nvPr/>
          </p:nvPicPr>
          <p:blipFill>
            <a:blip r:embed="rId4"/>
            <a:stretch/>
          </p:blipFill>
          <p:spPr>
            <a:xfrm>
              <a:off x="7047000" y="311472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463" name=""/>
            <p:cNvSpPr/>
            <p:nvPr/>
          </p:nvSpPr>
          <p:spPr>
            <a:xfrm>
              <a:off x="7282440" y="334980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6094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ace engines and standardized clinical data repositories at each federated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mated algorithms could identify and report events of public health significance directly from data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4398840" y="3849840"/>
            <a:ext cx="3378240" cy="1636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1100160" y="4930920"/>
            <a:ext cx="3300480" cy="1012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467" name=""/>
          <p:cNvSpPr/>
          <p:nvPr/>
        </p:nvSpPr>
        <p:spPr>
          <a:xfrm>
            <a:off x="4062960" y="42894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e7fc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3975120" y="4741920"/>
            <a:ext cx="1028160" cy="1069920"/>
            <a:chOff x="3975120" y="4741920"/>
            <a:chExt cx="1028160" cy="1069920"/>
          </a:xfrm>
        </p:grpSpPr>
        <p:sp>
          <p:nvSpPr>
            <p:cNvPr id="469" name=""/>
            <p:cNvSpPr/>
            <p:nvPr/>
          </p:nvSpPr>
          <p:spPr>
            <a:xfrm>
              <a:off x="4288680" y="5594760"/>
              <a:ext cx="63360" cy="91440"/>
            </a:xfrm>
            <a:custGeom>
              <a:avLst/>
              <a:gdLst/>
              <a:ahLst/>
              <a:rect l="l" t="t" r="r" b="b"/>
              <a:pathLst>
                <a:path w="469" h="644">
                  <a:moveTo>
                    <a:pt x="81" y="644"/>
                  </a:moveTo>
                  <a:lnTo>
                    <a:pt x="0" y="474"/>
                  </a:lnTo>
                  <a:lnTo>
                    <a:pt x="85" y="137"/>
                  </a:lnTo>
                  <a:lnTo>
                    <a:pt x="469" y="0"/>
                  </a:lnTo>
                  <a:lnTo>
                    <a:pt x="469" y="417"/>
                  </a:lnTo>
                  <a:lnTo>
                    <a:pt x="81" y="6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90600" y="5573880"/>
              <a:ext cx="309240" cy="112680"/>
            </a:xfrm>
            <a:custGeom>
              <a:avLst/>
              <a:gdLst/>
              <a:ahLst/>
              <a:rect l="l" t="t" r="r" b="b"/>
              <a:pathLst>
                <a:path w="2280" h="791">
                  <a:moveTo>
                    <a:pt x="0" y="0"/>
                  </a:moveTo>
                  <a:lnTo>
                    <a:pt x="0" y="284"/>
                  </a:lnTo>
                  <a:lnTo>
                    <a:pt x="2280" y="791"/>
                  </a:lnTo>
                  <a:lnTo>
                    <a:pt x="228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19320" y="5657040"/>
              <a:ext cx="171360" cy="154800"/>
            </a:xfrm>
            <a:custGeom>
              <a:avLst/>
              <a:gdLst/>
              <a:ahLst/>
              <a:rect l="l" t="t" r="r" b="b"/>
              <a:pathLst>
                <a:path w="1264" h="1086">
                  <a:moveTo>
                    <a:pt x="81" y="1086"/>
                  </a:moveTo>
                  <a:lnTo>
                    <a:pt x="0" y="915"/>
                  </a:lnTo>
                  <a:lnTo>
                    <a:pt x="85" y="580"/>
                  </a:lnTo>
                  <a:lnTo>
                    <a:pt x="1264" y="0"/>
                  </a:lnTo>
                  <a:lnTo>
                    <a:pt x="1264" y="417"/>
                  </a:lnTo>
                  <a:lnTo>
                    <a:pt x="81" y="10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33680" y="5652360"/>
              <a:ext cx="496440" cy="159480"/>
            </a:xfrm>
            <a:custGeom>
              <a:avLst/>
              <a:gdLst/>
              <a:ahLst/>
              <a:rect l="l" t="t" r="r" b="b"/>
              <a:pathLst>
                <a:path w="3663" h="1122">
                  <a:moveTo>
                    <a:pt x="0" y="0"/>
                  </a:moveTo>
                  <a:lnTo>
                    <a:pt x="0" y="284"/>
                  </a:lnTo>
                  <a:lnTo>
                    <a:pt x="3663" y="1122"/>
                  </a:lnTo>
                  <a:lnTo>
                    <a:pt x="3663" y="7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78960" y="5121720"/>
              <a:ext cx="194760" cy="534960"/>
            </a:xfrm>
            <a:custGeom>
              <a:avLst/>
              <a:gdLst/>
              <a:ahLst/>
              <a:rect l="l" t="t" r="r" b="b"/>
              <a:pathLst>
                <a:path w="1438" h="3756">
                  <a:moveTo>
                    <a:pt x="111" y="3756"/>
                  </a:moveTo>
                  <a:lnTo>
                    <a:pt x="0" y="2991"/>
                  </a:lnTo>
                  <a:lnTo>
                    <a:pt x="83" y="618"/>
                  </a:lnTo>
                  <a:lnTo>
                    <a:pt x="1438" y="0"/>
                  </a:lnTo>
                  <a:lnTo>
                    <a:pt x="1438" y="3005"/>
                  </a:lnTo>
                  <a:lnTo>
                    <a:pt x="111" y="3756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75120" y="5151240"/>
              <a:ext cx="319680" cy="505440"/>
            </a:xfrm>
            <a:custGeom>
              <a:avLst/>
              <a:gdLst/>
              <a:ahLst/>
              <a:rect l="l" t="t" r="r" b="b"/>
              <a:pathLst>
                <a:path w="589" h="887">
                  <a:moveTo>
                    <a:pt x="589" y="887"/>
                  </a:moveTo>
                  <a:lnTo>
                    <a:pt x="0" y="751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6"/>
                  </a:lnTo>
                  <a:lnTo>
                    <a:pt x="589" y="887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75840" y="505224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4">
                  <a:moveTo>
                    <a:pt x="0" y="695"/>
                  </a:moveTo>
                  <a:lnTo>
                    <a:pt x="1304" y="0"/>
                  </a:lnTo>
                  <a:lnTo>
                    <a:pt x="3671" y="491"/>
                  </a:lnTo>
                  <a:lnTo>
                    <a:pt x="2343" y="1244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08160" y="5248440"/>
              <a:ext cx="195120" cy="532800"/>
            </a:xfrm>
            <a:custGeom>
              <a:avLst/>
              <a:gdLst/>
              <a:ahLst/>
              <a:rect l="l" t="t" r="r" b="b"/>
              <a:pathLst>
                <a:path w="1440" h="3739">
                  <a:moveTo>
                    <a:pt x="111" y="3739"/>
                  </a:moveTo>
                  <a:lnTo>
                    <a:pt x="0" y="2974"/>
                  </a:lnTo>
                  <a:lnTo>
                    <a:pt x="84" y="619"/>
                  </a:lnTo>
                  <a:lnTo>
                    <a:pt x="1440" y="0"/>
                  </a:lnTo>
                  <a:lnTo>
                    <a:pt x="1440" y="2988"/>
                  </a:lnTo>
                  <a:lnTo>
                    <a:pt x="111" y="3739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13520" y="5232240"/>
              <a:ext cx="510120" cy="548640"/>
            </a:xfrm>
            <a:custGeom>
              <a:avLst/>
              <a:gdLst/>
              <a:ahLst/>
              <a:rect l="l" t="t" r="r" b="b"/>
              <a:pathLst>
                <a:path w="940" h="963">
                  <a:moveTo>
                    <a:pt x="940" y="963"/>
                  </a:moveTo>
                  <a:lnTo>
                    <a:pt x="0" y="749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90"/>
                  </a:lnTo>
                  <a:lnTo>
                    <a:pt x="940" y="96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14600" y="512964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5">
                  <a:moveTo>
                    <a:pt x="0" y="722"/>
                  </a:moveTo>
                  <a:lnTo>
                    <a:pt x="1332" y="0"/>
                  </a:lnTo>
                  <a:lnTo>
                    <a:pt x="5075" y="824"/>
                  </a:lnTo>
                  <a:lnTo>
                    <a:pt x="3762" y="1585"/>
                  </a:lnTo>
                  <a:lnTo>
                    <a:pt x="0" y="722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78960" y="4811040"/>
              <a:ext cx="194760" cy="401760"/>
            </a:xfrm>
            <a:custGeom>
              <a:avLst/>
              <a:gdLst/>
              <a:ahLst/>
              <a:rect l="l" t="t" r="r" b="b"/>
              <a:pathLst>
                <a:path w="1438" h="2822">
                  <a:moveTo>
                    <a:pt x="111" y="2822"/>
                  </a:moveTo>
                  <a:lnTo>
                    <a:pt x="0" y="2057"/>
                  </a:lnTo>
                  <a:lnTo>
                    <a:pt x="83" y="619"/>
                  </a:lnTo>
                  <a:lnTo>
                    <a:pt x="1438" y="0"/>
                  </a:lnTo>
                  <a:lnTo>
                    <a:pt x="1438" y="2072"/>
                  </a:lnTo>
                  <a:lnTo>
                    <a:pt x="111" y="2822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75120" y="4840920"/>
              <a:ext cx="319680" cy="371880"/>
            </a:xfrm>
            <a:custGeom>
              <a:avLst/>
              <a:gdLst/>
              <a:ahLst/>
              <a:rect l="l" t="t" r="r" b="b"/>
              <a:pathLst>
                <a:path w="589" h="653">
                  <a:moveTo>
                    <a:pt x="589" y="653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2"/>
                  </a:lnTo>
                  <a:lnTo>
                    <a:pt x="589" y="65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75840" y="474192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3">
                  <a:moveTo>
                    <a:pt x="0" y="693"/>
                  </a:moveTo>
                  <a:lnTo>
                    <a:pt x="1304" y="0"/>
                  </a:lnTo>
                  <a:lnTo>
                    <a:pt x="3671" y="490"/>
                  </a:lnTo>
                  <a:lnTo>
                    <a:pt x="2343" y="124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08160" y="4937760"/>
              <a:ext cx="195120" cy="402120"/>
            </a:xfrm>
            <a:custGeom>
              <a:avLst/>
              <a:gdLst/>
              <a:ahLst/>
              <a:rect l="l" t="t" r="r" b="b"/>
              <a:pathLst>
                <a:path w="1440" h="2823">
                  <a:moveTo>
                    <a:pt x="111" y="2823"/>
                  </a:moveTo>
                  <a:lnTo>
                    <a:pt x="0" y="2058"/>
                  </a:lnTo>
                  <a:lnTo>
                    <a:pt x="84" y="618"/>
                  </a:lnTo>
                  <a:lnTo>
                    <a:pt x="1440" y="0"/>
                  </a:lnTo>
                  <a:lnTo>
                    <a:pt x="1440" y="2072"/>
                  </a:lnTo>
                  <a:lnTo>
                    <a:pt x="111" y="2823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13520" y="4921920"/>
              <a:ext cx="510120" cy="416880"/>
            </a:xfrm>
            <a:custGeom>
              <a:avLst/>
              <a:gdLst/>
              <a:ahLst/>
              <a:rect l="l" t="t" r="r" b="b"/>
              <a:pathLst>
                <a:path w="940" h="732">
                  <a:moveTo>
                    <a:pt x="940" y="732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89"/>
                  </a:lnTo>
                  <a:lnTo>
                    <a:pt x="940" y="732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14600" y="481932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3">
                  <a:moveTo>
                    <a:pt x="0" y="721"/>
                  </a:moveTo>
                  <a:lnTo>
                    <a:pt x="1332" y="0"/>
                  </a:lnTo>
                  <a:lnTo>
                    <a:pt x="5075" y="823"/>
                  </a:lnTo>
                  <a:lnTo>
                    <a:pt x="3762" y="1583"/>
                  </a:lnTo>
                  <a:lnTo>
                    <a:pt x="0" y="721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62120" y="5085720"/>
              <a:ext cx="214920" cy="168120"/>
            </a:xfrm>
            <a:custGeom>
              <a:avLst/>
              <a:gdLst/>
              <a:ahLst/>
              <a:rect l="l" t="t" r="r" b="b"/>
              <a:pathLst>
                <a:path w="1582" h="1178">
                  <a:moveTo>
                    <a:pt x="0" y="0"/>
                  </a:moveTo>
                  <a:lnTo>
                    <a:pt x="98" y="21"/>
                  </a:lnTo>
                  <a:lnTo>
                    <a:pt x="196" y="42"/>
                  </a:lnTo>
                  <a:lnTo>
                    <a:pt x="294" y="63"/>
                  </a:lnTo>
                  <a:lnTo>
                    <a:pt x="393" y="86"/>
                  </a:lnTo>
                  <a:lnTo>
                    <a:pt x="491" y="108"/>
                  </a:lnTo>
                  <a:lnTo>
                    <a:pt x="589" y="130"/>
                  </a:lnTo>
                  <a:lnTo>
                    <a:pt x="688" y="151"/>
                  </a:lnTo>
                  <a:lnTo>
                    <a:pt x="786" y="174"/>
                  </a:lnTo>
                  <a:lnTo>
                    <a:pt x="884" y="196"/>
                  </a:lnTo>
                  <a:lnTo>
                    <a:pt x="984" y="219"/>
                  </a:lnTo>
                  <a:lnTo>
                    <a:pt x="1082" y="241"/>
                  </a:lnTo>
                  <a:lnTo>
                    <a:pt x="1181" y="263"/>
                  </a:lnTo>
                  <a:lnTo>
                    <a:pt x="1279" y="284"/>
                  </a:lnTo>
                  <a:lnTo>
                    <a:pt x="1378" y="306"/>
                  </a:lnTo>
                  <a:lnTo>
                    <a:pt x="1476" y="328"/>
                  </a:lnTo>
                  <a:lnTo>
                    <a:pt x="1575" y="349"/>
                  </a:lnTo>
                  <a:lnTo>
                    <a:pt x="1575" y="401"/>
                  </a:lnTo>
                  <a:lnTo>
                    <a:pt x="1575" y="452"/>
                  </a:lnTo>
                  <a:lnTo>
                    <a:pt x="1576" y="504"/>
                  </a:lnTo>
                  <a:lnTo>
                    <a:pt x="1576" y="556"/>
                  </a:lnTo>
                  <a:lnTo>
                    <a:pt x="1576" y="608"/>
                  </a:lnTo>
                  <a:lnTo>
                    <a:pt x="1578" y="660"/>
                  </a:lnTo>
                  <a:lnTo>
                    <a:pt x="1578" y="712"/>
                  </a:lnTo>
                  <a:lnTo>
                    <a:pt x="1579" y="764"/>
                  </a:lnTo>
                  <a:lnTo>
                    <a:pt x="1579" y="815"/>
                  </a:lnTo>
                  <a:lnTo>
                    <a:pt x="1579" y="867"/>
                  </a:lnTo>
                  <a:lnTo>
                    <a:pt x="1580" y="919"/>
                  </a:lnTo>
                  <a:lnTo>
                    <a:pt x="1580" y="971"/>
                  </a:lnTo>
                  <a:lnTo>
                    <a:pt x="1580" y="1023"/>
                  </a:lnTo>
                  <a:lnTo>
                    <a:pt x="1581" y="1074"/>
                  </a:lnTo>
                  <a:lnTo>
                    <a:pt x="1581" y="1127"/>
                  </a:lnTo>
                  <a:lnTo>
                    <a:pt x="1582" y="1178"/>
                  </a:lnTo>
                  <a:lnTo>
                    <a:pt x="1483" y="1157"/>
                  </a:lnTo>
                  <a:lnTo>
                    <a:pt x="1384" y="1135"/>
                  </a:lnTo>
                  <a:lnTo>
                    <a:pt x="1285" y="1114"/>
                  </a:lnTo>
                  <a:lnTo>
                    <a:pt x="1186" y="1092"/>
                  </a:lnTo>
                  <a:lnTo>
                    <a:pt x="1088" y="1069"/>
                  </a:lnTo>
                  <a:lnTo>
                    <a:pt x="989" y="1047"/>
                  </a:lnTo>
                  <a:lnTo>
                    <a:pt x="890" y="1024"/>
                  </a:lnTo>
                  <a:lnTo>
                    <a:pt x="792" y="1002"/>
                  </a:lnTo>
                  <a:lnTo>
                    <a:pt x="693" y="980"/>
                  </a:lnTo>
                  <a:lnTo>
                    <a:pt x="595" y="958"/>
                  </a:lnTo>
                  <a:lnTo>
                    <a:pt x="496" y="935"/>
                  </a:lnTo>
                  <a:lnTo>
                    <a:pt x="397" y="913"/>
                  </a:lnTo>
                  <a:lnTo>
                    <a:pt x="299" y="891"/>
                  </a:lnTo>
                  <a:lnTo>
                    <a:pt x="200" y="870"/>
                  </a:lnTo>
                  <a:lnTo>
                    <a:pt x="102" y="848"/>
                  </a:lnTo>
                  <a:lnTo>
                    <a:pt x="3" y="827"/>
                  </a:lnTo>
                  <a:lnTo>
                    <a:pt x="3" y="775"/>
                  </a:lnTo>
                  <a:lnTo>
                    <a:pt x="3" y="724"/>
                  </a:lnTo>
                  <a:lnTo>
                    <a:pt x="3" y="671"/>
                  </a:lnTo>
                  <a:lnTo>
                    <a:pt x="2" y="620"/>
                  </a:lnTo>
                  <a:lnTo>
                    <a:pt x="2" y="568"/>
                  </a:lnTo>
                  <a:lnTo>
                    <a:pt x="2" y="516"/>
                  </a:lnTo>
                  <a:lnTo>
                    <a:pt x="2" y="465"/>
                  </a:lnTo>
                  <a:lnTo>
                    <a:pt x="2" y="413"/>
                  </a:lnTo>
                  <a:lnTo>
                    <a:pt x="1" y="362"/>
                  </a:lnTo>
                  <a:lnTo>
                    <a:pt x="1" y="309"/>
                  </a:lnTo>
                  <a:lnTo>
                    <a:pt x="1" y="258"/>
                  </a:lnTo>
                  <a:lnTo>
                    <a:pt x="1" y="206"/>
                  </a:lnTo>
                  <a:lnTo>
                    <a:pt x="0" y="155"/>
                  </a:lnTo>
                  <a:lnTo>
                    <a:pt x="0" y="103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75080" y="5113800"/>
              <a:ext cx="87120" cy="91440"/>
            </a:xfrm>
            <a:custGeom>
              <a:avLst/>
              <a:gdLst/>
              <a:ahLst/>
              <a:rect l="l" t="t" r="r" b="b"/>
              <a:pathLst>
                <a:path w="646" h="644">
                  <a:moveTo>
                    <a:pt x="321" y="8"/>
                  </a:moveTo>
                  <a:lnTo>
                    <a:pt x="337" y="12"/>
                  </a:lnTo>
                  <a:lnTo>
                    <a:pt x="353" y="16"/>
                  </a:lnTo>
                  <a:lnTo>
                    <a:pt x="370" y="22"/>
                  </a:lnTo>
                  <a:lnTo>
                    <a:pt x="385" y="28"/>
                  </a:lnTo>
                  <a:lnTo>
                    <a:pt x="401" y="35"/>
                  </a:lnTo>
                  <a:lnTo>
                    <a:pt x="416" y="43"/>
                  </a:lnTo>
                  <a:lnTo>
                    <a:pt x="432" y="50"/>
                  </a:lnTo>
                  <a:lnTo>
                    <a:pt x="446" y="59"/>
                  </a:lnTo>
                  <a:lnTo>
                    <a:pt x="460" y="69"/>
                  </a:lnTo>
                  <a:lnTo>
                    <a:pt x="474" y="78"/>
                  </a:lnTo>
                  <a:lnTo>
                    <a:pt x="488" y="89"/>
                  </a:lnTo>
                  <a:lnTo>
                    <a:pt x="501" y="100"/>
                  </a:lnTo>
                  <a:lnTo>
                    <a:pt x="515" y="111"/>
                  </a:lnTo>
                  <a:lnTo>
                    <a:pt x="527" y="123"/>
                  </a:lnTo>
                  <a:lnTo>
                    <a:pt x="539" y="136"/>
                  </a:lnTo>
                  <a:lnTo>
                    <a:pt x="549" y="149"/>
                  </a:lnTo>
                  <a:lnTo>
                    <a:pt x="560" y="162"/>
                  </a:lnTo>
                  <a:lnTo>
                    <a:pt x="571" y="175"/>
                  </a:lnTo>
                  <a:lnTo>
                    <a:pt x="581" y="190"/>
                  </a:lnTo>
                  <a:lnTo>
                    <a:pt x="590" y="204"/>
                  </a:lnTo>
                  <a:lnTo>
                    <a:pt x="598" y="218"/>
                  </a:lnTo>
                  <a:lnTo>
                    <a:pt x="606" y="233"/>
                  </a:lnTo>
                  <a:lnTo>
                    <a:pt x="614" y="248"/>
                  </a:lnTo>
                  <a:lnTo>
                    <a:pt x="620" y="264"/>
                  </a:lnTo>
                  <a:lnTo>
                    <a:pt x="626" y="279"/>
                  </a:lnTo>
                  <a:lnTo>
                    <a:pt x="631" y="295"/>
                  </a:lnTo>
                  <a:lnTo>
                    <a:pt x="636" y="311"/>
                  </a:lnTo>
                  <a:lnTo>
                    <a:pt x="640" y="327"/>
                  </a:lnTo>
                  <a:lnTo>
                    <a:pt x="643" y="342"/>
                  </a:lnTo>
                  <a:lnTo>
                    <a:pt x="645" y="359"/>
                  </a:lnTo>
                  <a:lnTo>
                    <a:pt x="646" y="375"/>
                  </a:lnTo>
                  <a:lnTo>
                    <a:pt x="646" y="391"/>
                  </a:lnTo>
                  <a:lnTo>
                    <a:pt x="646" y="408"/>
                  </a:lnTo>
                  <a:lnTo>
                    <a:pt x="645" y="423"/>
                  </a:lnTo>
                  <a:lnTo>
                    <a:pt x="643" y="438"/>
                  </a:lnTo>
                  <a:lnTo>
                    <a:pt x="641" y="453"/>
                  </a:lnTo>
                  <a:lnTo>
                    <a:pt x="637" y="468"/>
                  </a:lnTo>
                  <a:lnTo>
                    <a:pt x="632" y="482"/>
                  </a:lnTo>
                  <a:lnTo>
                    <a:pt x="628" y="495"/>
                  </a:lnTo>
                  <a:lnTo>
                    <a:pt x="621" y="508"/>
                  </a:lnTo>
                  <a:lnTo>
                    <a:pt x="615" y="521"/>
                  </a:lnTo>
                  <a:lnTo>
                    <a:pt x="608" y="533"/>
                  </a:lnTo>
                  <a:lnTo>
                    <a:pt x="601" y="544"/>
                  </a:lnTo>
                  <a:lnTo>
                    <a:pt x="592" y="556"/>
                  </a:lnTo>
                  <a:lnTo>
                    <a:pt x="583" y="566"/>
                  </a:lnTo>
                  <a:lnTo>
                    <a:pt x="573" y="575"/>
                  </a:lnTo>
                  <a:lnTo>
                    <a:pt x="564" y="585"/>
                  </a:lnTo>
                  <a:lnTo>
                    <a:pt x="553" y="594"/>
                  </a:lnTo>
                  <a:lnTo>
                    <a:pt x="541" y="602"/>
                  </a:lnTo>
                  <a:lnTo>
                    <a:pt x="530" y="609"/>
                  </a:lnTo>
                  <a:lnTo>
                    <a:pt x="517" y="616"/>
                  </a:lnTo>
                  <a:lnTo>
                    <a:pt x="505" y="622"/>
                  </a:lnTo>
                  <a:lnTo>
                    <a:pt x="492" y="627"/>
                  </a:lnTo>
                  <a:lnTo>
                    <a:pt x="477" y="632"/>
                  </a:lnTo>
                  <a:lnTo>
                    <a:pt x="464" y="635"/>
                  </a:lnTo>
                  <a:lnTo>
                    <a:pt x="449" y="639"/>
                  </a:lnTo>
                  <a:lnTo>
                    <a:pt x="435" y="642"/>
                  </a:lnTo>
                  <a:lnTo>
                    <a:pt x="420" y="643"/>
                  </a:lnTo>
                  <a:lnTo>
                    <a:pt x="404" y="644"/>
                  </a:lnTo>
                  <a:lnTo>
                    <a:pt x="389" y="644"/>
                  </a:lnTo>
                  <a:lnTo>
                    <a:pt x="373" y="644"/>
                  </a:lnTo>
                  <a:lnTo>
                    <a:pt x="357" y="643"/>
                  </a:lnTo>
                  <a:lnTo>
                    <a:pt x="340" y="640"/>
                  </a:lnTo>
                  <a:lnTo>
                    <a:pt x="324" y="637"/>
                  </a:lnTo>
                  <a:lnTo>
                    <a:pt x="307" y="633"/>
                  </a:lnTo>
                  <a:lnTo>
                    <a:pt x="291" y="629"/>
                  </a:lnTo>
                  <a:lnTo>
                    <a:pt x="275" y="623"/>
                  </a:lnTo>
                  <a:lnTo>
                    <a:pt x="258" y="617"/>
                  </a:lnTo>
                  <a:lnTo>
                    <a:pt x="243" y="610"/>
                  </a:lnTo>
                  <a:lnTo>
                    <a:pt x="228" y="603"/>
                  </a:lnTo>
                  <a:lnTo>
                    <a:pt x="213" y="594"/>
                  </a:lnTo>
                  <a:lnTo>
                    <a:pt x="199" y="585"/>
                  </a:lnTo>
                  <a:lnTo>
                    <a:pt x="184" y="575"/>
                  </a:lnTo>
                  <a:lnTo>
                    <a:pt x="170" y="566"/>
                  </a:lnTo>
                  <a:lnTo>
                    <a:pt x="156" y="556"/>
                  </a:lnTo>
                  <a:lnTo>
                    <a:pt x="143" y="545"/>
                  </a:lnTo>
                  <a:lnTo>
                    <a:pt x="131" y="533"/>
                  </a:lnTo>
                  <a:lnTo>
                    <a:pt x="118" y="521"/>
                  </a:lnTo>
                  <a:lnTo>
                    <a:pt x="107" y="509"/>
                  </a:lnTo>
                  <a:lnTo>
                    <a:pt x="95" y="496"/>
                  </a:lnTo>
                  <a:lnTo>
                    <a:pt x="85" y="483"/>
                  </a:lnTo>
                  <a:lnTo>
                    <a:pt x="74" y="469"/>
                  </a:lnTo>
                  <a:lnTo>
                    <a:pt x="64" y="454"/>
                  </a:lnTo>
                  <a:lnTo>
                    <a:pt x="56" y="440"/>
                  </a:lnTo>
                  <a:lnTo>
                    <a:pt x="47" y="426"/>
                  </a:lnTo>
                  <a:lnTo>
                    <a:pt x="39" y="411"/>
                  </a:lnTo>
                  <a:lnTo>
                    <a:pt x="32" y="396"/>
                  </a:lnTo>
                  <a:lnTo>
                    <a:pt x="25" y="380"/>
                  </a:lnTo>
                  <a:lnTo>
                    <a:pt x="20" y="365"/>
                  </a:lnTo>
                  <a:lnTo>
                    <a:pt x="14" y="350"/>
                  </a:lnTo>
                  <a:lnTo>
                    <a:pt x="10" y="333"/>
                  </a:lnTo>
                  <a:lnTo>
                    <a:pt x="7" y="318"/>
                  </a:lnTo>
                  <a:lnTo>
                    <a:pt x="3" y="302"/>
                  </a:lnTo>
                  <a:lnTo>
                    <a:pt x="1" y="286"/>
                  </a:lnTo>
                  <a:lnTo>
                    <a:pt x="0" y="269"/>
                  </a:lnTo>
                  <a:lnTo>
                    <a:pt x="0" y="253"/>
                  </a:lnTo>
                  <a:lnTo>
                    <a:pt x="0" y="238"/>
                  </a:lnTo>
                  <a:lnTo>
                    <a:pt x="1" y="221"/>
                  </a:lnTo>
                  <a:lnTo>
                    <a:pt x="3" y="206"/>
                  </a:lnTo>
                  <a:lnTo>
                    <a:pt x="6" y="192"/>
                  </a:lnTo>
                  <a:lnTo>
                    <a:pt x="10" y="177"/>
                  </a:lnTo>
                  <a:lnTo>
                    <a:pt x="14" y="163"/>
                  </a:lnTo>
                  <a:lnTo>
                    <a:pt x="19" y="149"/>
                  </a:lnTo>
                  <a:lnTo>
                    <a:pt x="24" y="136"/>
                  </a:lnTo>
                  <a:lnTo>
                    <a:pt x="31" y="124"/>
                  </a:lnTo>
                  <a:lnTo>
                    <a:pt x="38" y="112"/>
                  </a:lnTo>
                  <a:lnTo>
                    <a:pt x="46" y="100"/>
                  </a:lnTo>
                  <a:lnTo>
                    <a:pt x="54" y="89"/>
                  </a:lnTo>
                  <a:lnTo>
                    <a:pt x="63" y="80"/>
                  </a:lnTo>
                  <a:lnTo>
                    <a:pt x="72" y="70"/>
                  </a:lnTo>
                  <a:lnTo>
                    <a:pt x="82" y="60"/>
                  </a:lnTo>
                  <a:lnTo>
                    <a:pt x="93" y="51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9"/>
                  </a:lnTo>
                  <a:lnTo>
                    <a:pt x="141" y="23"/>
                  </a:lnTo>
                  <a:lnTo>
                    <a:pt x="154" y="17"/>
                  </a:lnTo>
                  <a:lnTo>
                    <a:pt x="167" y="13"/>
                  </a:lnTo>
                  <a:lnTo>
                    <a:pt x="181" y="9"/>
                  </a:lnTo>
                  <a:lnTo>
                    <a:pt x="195" y="5"/>
                  </a:lnTo>
                  <a:lnTo>
                    <a:pt x="209" y="3"/>
                  </a:lnTo>
                  <a:lnTo>
                    <a:pt x="225" y="1"/>
                  </a:lnTo>
                  <a:lnTo>
                    <a:pt x="240" y="1"/>
                  </a:lnTo>
                  <a:lnTo>
                    <a:pt x="255" y="0"/>
                  </a:lnTo>
                  <a:lnTo>
                    <a:pt x="272" y="1"/>
                  </a:lnTo>
                  <a:lnTo>
                    <a:pt x="288" y="2"/>
                  </a:lnTo>
                  <a:lnTo>
                    <a:pt x="304" y="4"/>
                  </a:lnTo>
                  <a:lnTo>
                    <a:pt x="321" y="8"/>
                  </a:lnTo>
                  <a:close/>
                  <a:moveTo>
                    <a:pt x="363" y="388"/>
                  </a:moveTo>
                  <a:lnTo>
                    <a:pt x="371" y="376"/>
                  </a:lnTo>
                  <a:lnTo>
                    <a:pt x="378" y="365"/>
                  </a:lnTo>
                  <a:lnTo>
                    <a:pt x="385" y="354"/>
                  </a:lnTo>
                  <a:lnTo>
                    <a:pt x="392" y="342"/>
                  </a:lnTo>
                  <a:lnTo>
                    <a:pt x="418" y="361"/>
                  </a:lnTo>
                  <a:lnTo>
                    <a:pt x="442" y="380"/>
                  </a:lnTo>
                  <a:lnTo>
                    <a:pt x="467" y="399"/>
                  </a:lnTo>
                  <a:lnTo>
                    <a:pt x="492" y="418"/>
                  </a:lnTo>
                  <a:lnTo>
                    <a:pt x="516" y="437"/>
                  </a:lnTo>
                  <a:lnTo>
                    <a:pt x="541" y="456"/>
                  </a:lnTo>
                  <a:lnTo>
                    <a:pt x="566" y="475"/>
                  </a:lnTo>
                  <a:lnTo>
                    <a:pt x="591" y="494"/>
                  </a:lnTo>
                  <a:lnTo>
                    <a:pt x="583" y="505"/>
                  </a:lnTo>
                  <a:lnTo>
                    <a:pt x="576" y="515"/>
                  </a:lnTo>
                  <a:lnTo>
                    <a:pt x="568" y="527"/>
                  </a:lnTo>
                  <a:lnTo>
                    <a:pt x="561" y="538"/>
                  </a:lnTo>
                  <a:lnTo>
                    <a:pt x="536" y="520"/>
                  </a:lnTo>
                  <a:lnTo>
                    <a:pt x="511" y="501"/>
                  </a:lnTo>
                  <a:lnTo>
                    <a:pt x="486" y="482"/>
                  </a:lnTo>
                  <a:lnTo>
                    <a:pt x="462" y="463"/>
                  </a:lnTo>
                  <a:lnTo>
                    <a:pt x="437" y="445"/>
                  </a:lnTo>
                  <a:lnTo>
                    <a:pt x="412" y="425"/>
                  </a:lnTo>
                  <a:lnTo>
                    <a:pt x="388" y="406"/>
                  </a:lnTo>
                  <a:lnTo>
                    <a:pt x="363" y="388"/>
                  </a:lnTo>
                  <a:close/>
                  <a:moveTo>
                    <a:pt x="92" y="444"/>
                  </a:moveTo>
                  <a:lnTo>
                    <a:pt x="83" y="429"/>
                  </a:lnTo>
                  <a:lnTo>
                    <a:pt x="75" y="415"/>
                  </a:lnTo>
                  <a:lnTo>
                    <a:pt x="68" y="401"/>
                  </a:lnTo>
                  <a:lnTo>
                    <a:pt x="59" y="387"/>
                  </a:lnTo>
                  <a:lnTo>
                    <a:pt x="84" y="378"/>
                  </a:lnTo>
                  <a:lnTo>
                    <a:pt x="108" y="368"/>
                  </a:lnTo>
                  <a:lnTo>
                    <a:pt x="132" y="360"/>
                  </a:lnTo>
                  <a:lnTo>
                    <a:pt x="156" y="351"/>
                  </a:lnTo>
                  <a:lnTo>
                    <a:pt x="180" y="341"/>
                  </a:lnTo>
                  <a:lnTo>
                    <a:pt x="204" y="332"/>
                  </a:lnTo>
                  <a:lnTo>
                    <a:pt x="228" y="323"/>
                  </a:lnTo>
                  <a:lnTo>
                    <a:pt x="252" y="314"/>
                  </a:lnTo>
                  <a:lnTo>
                    <a:pt x="260" y="328"/>
                  </a:lnTo>
                  <a:lnTo>
                    <a:pt x="268" y="343"/>
                  </a:lnTo>
                  <a:lnTo>
                    <a:pt x="276" y="357"/>
                  </a:lnTo>
                  <a:lnTo>
                    <a:pt x="285" y="372"/>
                  </a:lnTo>
                  <a:lnTo>
                    <a:pt x="260" y="380"/>
                  </a:lnTo>
                  <a:lnTo>
                    <a:pt x="236" y="390"/>
                  </a:lnTo>
                  <a:lnTo>
                    <a:pt x="212" y="399"/>
                  </a:lnTo>
                  <a:lnTo>
                    <a:pt x="188" y="408"/>
                  </a:lnTo>
                  <a:lnTo>
                    <a:pt x="164" y="417"/>
                  </a:lnTo>
                  <a:lnTo>
                    <a:pt x="140" y="426"/>
                  </a:lnTo>
                  <a:lnTo>
                    <a:pt x="116" y="435"/>
                  </a:lnTo>
                  <a:lnTo>
                    <a:pt x="92" y="444"/>
                  </a:lnTo>
                  <a:close/>
                  <a:moveTo>
                    <a:pt x="290" y="34"/>
                  </a:moveTo>
                  <a:lnTo>
                    <a:pt x="305" y="37"/>
                  </a:lnTo>
                  <a:lnTo>
                    <a:pt x="321" y="40"/>
                  </a:lnTo>
                  <a:lnTo>
                    <a:pt x="337" y="44"/>
                  </a:lnTo>
                  <a:lnTo>
                    <a:pt x="352" y="47"/>
                  </a:lnTo>
                  <a:lnTo>
                    <a:pt x="352" y="75"/>
                  </a:lnTo>
                  <a:lnTo>
                    <a:pt x="352" y="102"/>
                  </a:lnTo>
                  <a:lnTo>
                    <a:pt x="352" y="130"/>
                  </a:lnTo>
                  <a:lnTo>
                    <a:pt x="352" y="157"/>
                  </a:lnTo>
                  <a:lnTo>
                    <a:pt x="353" y="185"/>
                  </a:lnTo>
                  <a:lnTo>
                    <a:pt x="353" y="213"/>
                  </a:lnTo>
                  <a:lnTo>
                    <a:pt x="353" y="240"/>
                  </a:lnTo>
                  <a:lnTo>
                    <a:pt x="353" y="267"/>
                  </a:lnTo>
                  <a:lnTo>
                    <a:pt x="338" y="264"/>
                  </a:lnTo>
                  <a:lnTo>
                    <a:pt x="322" y="260"/>
                  </a:lnTo>
                  <a:lnTo>
                    <a:pt x="306" y="257"/>
                  </a:lnTo>
                  <a:lnTo>
                    <a:pt x="291" y="254"/>
                  </a:lnTo>
                  <a:lnTo>
                    <a:pt x="291" y="227"/>
                  </a:lnTo>
                  <a:lnTo>
                    <a:pt x="291" y="199"/>
                  </a:lnTo>
                  <a:lnTo>
                    <a:pt x="290" y="171"/>
                  </a:lnTo>
                  <a:lnTo>
                    <a:pt x="290" y="144"/>
                  </a:lnTo>
                  <a:lnTo>
                    <a:pt x="290" y="117"/>
                  </a:lnTo>
                  <a:lnTo>
                    <a:pt x="290" y="89"/>
                  </a:lnTo>
                  <a:lnTo>
                    <a:pt x="290" y="61"/>
                  </a:lnTo>
                  <a:lnTo>
                    <a:pt x="290" y="3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77680" y="5137200"/>
              <a:ext cx="87840" cy="91440"/>
            </a:xfrm>
            <a:custGeom>
              <a:avLst/>
              <a:gdLst/>
              <a:ahLst/>
              <a:rect l="l" t="t" r="r" b="b"/>
              <a:pathLst>
                <a:path w="647" h="644">
                  <a:moveTo>
                    <a:pt x="45" y="100"/>
                  </a:moveTo>
                  <a:lnTo>
                    <a:pt x="55" y="88"/>
                  </a:lnTo>
                  <a:lnTo>
                    <a:pt x="64" y="77"/>
                  </a:lnTo>
                  <a:lnTo>
                    <a:pt x="75" y="67"/>
                  </a:lnTo>
                  <a:lnTo>
                    <a:pt x="85" y="57"/>
                  </a:lnTo>
                  <a:lnTo>
                    <a:pt x="97" y="48"/>
                  </a:lnTo>
                  <a:lnTo>
                    <a:pt x="107" y="41"/>
                  </a:lnTo>
                  <a:lnTo>
                    <a:pt x="119" y="33"/>
                  </a:lnTo>
                  <a:lnTo>
                    <a:pt x="133" y="27"/>
                  </a:lnTo>
                  <a:lnTo>
                    <a:pt x="146" y="21"/>
                  </a:lnTo>
                  <a:lnTo>
                    <a:pt x="159" y="16"/>
                  </a:lnTo>
                  <a:lnTo>
                    <a:pt x="173" y="11"/>
                  </a:lnTo>
                  <a:lnTo>
                    <a:pt x="186" y="8"/>
                  </a:lnTo>
                  <a:lnTo>
                    <a:pt x="201" y="5"/>
                  </a:lnTo>
                  <a:lnTo>
                    <a:pt x="215" y="3"/>
                  </a:lnTo>
                  <a:lnTo>
                    <a:pt x="229" y="1"/>
                  </a:lnTo>
                  <a:lnTo>
                    <a:pt x="245" y="0"/>
                  </a:lnTo>
                  <a:lnTo>
                    <a:pt x="260" y="0"/>
                  </a:lnTo>
                  <a:lnTo>
                    <a:pt x="275" y="1"/>
                  </a:lnTo>
                  <a:lnTo>
                    <a:pt x="291" y="4"/>
                  </a:lnTo>
                  <a:lnTo>
                    <a:pt x="307" y="6"/>
                  </a:lnTo>
                  <a:lnTo>
                    <a:pt x="322" y="8"/>
                  </a:lnTo>
                  <a:lnTo>
                    <a:pt x="337" y="12"/>
                  </a:lnTo>
                  <a:lnTo>
                    <a:pt x="354" y="17"/>
                  </a:lnTo>
                  <a:lnTo>
                    <a:pt x="369" y="22"/>
                  </a:lnTo>
                  <a:lnTo>
                    <a:pt x="384" y="28"/>
                  </a:lnTo>
                  <a:lnTo>
                    <a:pt x="400" y="34"/>
                  </a:lnTo>
                  <a:lnTo>
                    <a:pt x="415" y="42"/>
                  </a:lnTo>
                  <a:lnTo>
                    <a:pt x="431" y="51"/>
                  </a:lnTo>
                  <a:lnTo>
                    <a:pt x="445" y="59"/>
                  </a:lnTo>
                  <a:lnTo>
                    <a:pt x="461" y="69"/>
                  </a:lnTo>
                  <a:lnTo>
                    <a:pt x="476" y="79"/>
                  </a:lnTo>
                  <a:lnTo>
                    <a:pt x="490" y="90"/>
                  </a:lnTo>
                  <a:lnTo>
                    <a:pt x="504" y="102"/>
                  </a:lnTo>
                  <a:lnTo>
                    <a:pt x="517" y="114"/>
                  </a:lnTo>
                  <a:lnTo>
                    <a:pt x="530" y="127"/>
                  </a:lnTo>
                  <a:lnTo>
                    <a:pt x="542" y="140"/>
                  </a:lnTo>
                  <a:lnTo>
                    <a:pt x="554" y="153"/>
                  </a:lnTo>
                  <a:lnTo>
                    <a:pt x="565" y="167"/>
                  </a:lnTo>
                  <a:lnTo>
                    <a:pt x="575" y="181"/>
                  </a:lnTo>
                  <a:lnTo>
                    <a:pt x="585" y="195"/>
                  </a:lnTo>
                  <a:lnTo>
                    <a:pt x="593" y="210"/>
                  </a:lnTo>
                  <a:lnTo>
                    <a:pt x="602" y="224"/>
                  </a:lnTo>
                  <a:lnTo>
                    <a:pt x="609" y="239"/>
                  </a:lnTo>
                  <a:lnTo>
                    <a:pt x="616" y="254"/>
                  </a:lnTo>
                  <a:lnTo>
                    <a:pt x="623" y="270"/>
                  </a:lnTo>
                  <a:lnTo>
                    <a:pt x="628" y="285"/>
                  </a:lnTo>
                  <a:lnTo>
                    <a:pt x="633" y="300"/>
                  </a:lnTo>
                  <a:lnTo>
                    <a:pt x="637" y="315"/>
                  </a:lnTo>
                  <a:lnTo>
                    <a:pt x="640" y="332"/>
                  </a:lnTo>
                  <a:lnTo>
                    <a:pt x="643" y="347"/>
                  </a:lnTo>
                  <a:lnTo>
                    <a:pt x="645" y="362"/>
                  </a:lnTo>
                  <a:lnTo>
                    <a:pt x="646" y="377"/>
                  </a:lnTo>
                  <a:lnTo>
                    <a:pt x="647" y="393"/>
                  </a:lnTo>
                  <a:lnTo>
                    <a:pt x="646" y="408"/>
                  </a:lnTo>
                  <a:lnTo>
                    <a:pt x="645" y="422"/>
                  </a:lnTo>
                  <a:lnTo>
                    <a:pt x="644" y="437"/>
                  </a:lnTo>
                  <a:lnTo>
                    <a:pt x="640" y="452"/>
                  </a:lnTo>
                  <a:lnTo>
                    <a:pt x="637" y="467"/>
                  </a:lnTo>
                  <a:lnTo>
                    <a:pt x="634" y="480"/>
                  </a:lnTo>
                  <a:lnTo>
                    <a:pt x="628" y="494"/>
                  </a:lnTo>
                  <a:lnTo>
                    <a:pt x="623" y="507"/>
                  </a:lnTo>
                  <a:lnTo>
                    <a:pt x="616" y="520"/>
                  </a:lnTo>
                  <a:lnTo>
                    <a:pt x="609" y="533"/>
                  </a:lnTo>
                  <a:lnTo>
                    <a:pt x="600" y="545"/>
                  </a:lnTo>
                  <a:lnTo>
                    <a:pt x="591" y="557"/>
                  </a:lnTo>
                  <a:lnTo>
                    <a:pt x="583" y="568"/>
                  </a:lnTo>
                  <a:lnTo>
                    <a:pt x="572" y="578"/>
                  </a:lnTo>
                  <a:lnTo>
                    <a:pt x="561" y="588"/>
                  </a:lnTo>
                  <a:lnTo>
                    <a:pt x="550" y="596"/>
                  </a:lnTo>
                  <a:lnTo>
                    <a:pt x="538" y="604"/>
                  </a:lnTo>
                  <a:lnTo>
                    <a:pt x="526" y="612"/>
                  </a:lnTo>
                  <a:lnTo>
                    <a:pt x="514" y="618"/>
                  </a:lnTo>
                  <a:lnTo>
                    <a:pt x="501" y="624"/>
                  </a:lnTo>
                  <a:lnTo>
                    <a:pt x="488" y="629"/>
                  </a:lnTo>
                  <a:lnTo>
                    <a:pt x="474" y="634"/>
                  </a:lnTo>
                  <a:lnTo>
                    <a:pt x="459" y="637"/>
                  </a:lnTo>
                  <a:lnTo>
                    <a:pt x="445" y="640"/>
                  </a:lnTo>
                  <a:lnTo>
                    <a:pt x="431" y="642"/>
                  </a:lnTo>
                  <a:lnTo>
                    <a:pt x="416" y="643"/>
                  </a:lnTo>
                  <a:lnTo>
                    <a:pt x="401" y="644"/>
                  </a:lnTo>
                  <a:lnTo>
                    <a:pt x="385" y="644"/>
                  </a:lnTo>
                  <a:lnTo>
                    <a:pt x="370" y="643"/>
                  </a:lnTo>
                  <a:lnTo>
                    <a:pt x="355" y="642"/>
                  </a:lnTo>
                  <a:lnTo>
                    <a:pt x="340" y="639"/>
                  </a:lnTo>
                  <a:lnTo>
                    <a:pt x="323" y="637"/>
                  </a:lnTo>
                  <a:lnTo>
                    <a:pt x="308" y="632"/>
                  </a:lnTo>
                  <a:lnTo>
                    <a:pt x="292" y="628"/>
                  </a:lnTo>
                  <a:lnTo>
                    <a:pt x="276" y="623"/>
                  </a:lnTo>
                  <a:lnTo>
                    <a:pt x="261" y="617"/>
                  </a:lnTo>
                  <a:lnTo>
                    <a:pt x="245" y="611"/>
                  </a:lnTo>
                  <a:lnTo>
                    <a:pt x="229" y="603"/>
                  </a:lnTo>
                  <a:lnTo>
                    <a:pt x="214" y="594"/>
                  </a:lnTo>
                  <a:lnTo>
                    <a:pt x="199" y="586"/>
                  </a:lnTo>
                  <a:lnTo>
                    <a:pt x="185" y="576"/>
                  </a:lnTo>
                  <a:lnTo>
                    <a:pt x="170" y="566"/>
                  </a:lnTo>
                  <a:lnTo>
                    <a:pt x="155" y="554"/>
                  </a:lnTo>
                  <a:lnTo>
                    <a:pt x="141" y="543"/>
                  </a:lnTo>
                  <a:lnTo>
                    <a:pt x="128" y="530"/>
                  </a:lnTo>
                  <a:lnTo>
                    <a:pt x="115" y="518"/>
                  </a:lnTo>
                  <a:lnTo>
                    <a:pt x="103" y="505"/>
                  </a:lnTo>
                  <a:lnTo>
                    <a:pt x="91" y="492"/>
                  </a:lnTo>
                  <a:lnTo>
                    <a:pt x="80" y="478"/>
                  </a:lnTo>
                  <a:lnTo>
                    <a:pt x="70" y="464"/>
                  </a:lnTo>
                  <a:lnTo>
                    <a:pt x="61" y="449"/>
                  </a:lnTo>
                  <a:lnTo>
                    <a:pt x="52" y="435"/>
                  </a:lnTo>
                  <a:lnTo>
                    <a:pt x="43" y="420"/>
                  </a:lnTo>
                  <a:lnTo>
                    <a:pt x="36" y="405"/>
                  </a:lnTo>
                  <a:lnTo>
                    <a:pt x="29" y="391"/>
                  </a:lnTo>
                  <a:lnTo>
                    <a:pt x="22" y="375"/>
                  </a:lnTo>
                  <a:lnTo>
                    <a:pt x="17" y="360"/>
                  </a:lnTo>
                  <a:lnTo>
                    <a:pt x="13" y="344"/>
                  </a:lnTo>
                  <a:lnTo>
                    <a:pt x="8" y="328"/>
                  </a:lnTo>
                  <a:lnTo>
                    <a:pt x="5" y="313"/>
                  </a:lnTo>
                  <a:lnTo>
                    <a:pt x="3" y="298"/>
                  </a:lnTo>
                  <a:lnTo>
                    <a:pt x="1" y="283"/>
                  </a:lnTo>
                  <a:lnTo>
                    <a:pt x="0" y="267"/>
                  </a:lnTo>
                  <a:lnTo>
                    <a:pt x="0" y="252"/>
                  </a:lnTo>
                  <a:lnTo>
                    <a:pt x="0" y="237"/>
                  </a:lnTo>
                  <a:lnTo>
                    <a:pt x="1" y="222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8" y="178"/>
                  </a:lnTo>
                  <a:lnTo>
                    <a:pt x="13" y="164"/>
                  </a:lnTo>
                  <a:lnTo>
                    <a:pt x="18" y="151"/>
                  </a:lnTo>
                  <a:lnTo>
                    <a:pt x="24" y="137"/>
                  </a:lnTo>
                  <a:lnTo>
                    <a:pt x="30" y="124"/>
                  </a:lnTo>
                  <a:lnTo>
                    <a:pt x="38" y="112"/>
                  </a:lnTo>
                  <a:lnTo>
                    <a:pt x="45" y="100"/>
                  </a:lnTo>
                  <a:close/>
                  <a:moveTo>
                    <a:pt x="394" y="334"/>
                  </a:moveTo>
                  <a:lnTo>
                    <a:pt x="386" y="319"/>
                  </a:lnTo>
                  <a:lnTo>
                    <a:pt x="379" y="304"/>
                  </a:lnTo>
                  <a:lnTo>
                    <a:pt x="371" y="289"/>
                  </a:lnTo>
                  <a:lnTo>
                    <a:pt x="364" y="274"/>
                  </a:lnTo>
                  <a:lnTo>
                    <a:pt x="388" y="266"/>
                  </a:lnTo>
                  <a:lnTo>
                    <a:pt x="413" y="259"/>
                  </a:lnTo>
                  <a:lnTo>
                    <a:pt x="438" y="251"/>
                  </a:lnTo>
                  <a:lnTo>
                    <a:pt x="462" y="243"/>
                  </a:lnTo>
                  <a:lnTo>
                    <a:pt x="487" y="236"/>
                  </a:lnTo>
                  <a:lnTo>
                    <a:pt x="512" y="227"/>
                  </a:lnTo>
                  <a:lnTo>
                    <a:pt x="536" y="219"/>
                  </a:lnTo>
                  <a:lnTo>
                    <a:pt x="561" y="211"/>
                  </a:lnTo>
                  <a:lnTo>
                    <a:pt x="568" y="226"/>
                  </a:lnTo>
                  <a:lnTo>
                    <a:pt x="576" y="241"/>
                  </a:lnTo>
                  <a:lnTo>
                    <a:pt x="584" y="255"/>
                  </a:lnTo>
                  <a:lnTo>
                    <a:pt x="591" y="270"/>
                  </a:lnTo>
                  <a:lnTo>
                    <a:pt x="566" y="278"/>
                  </a:lnTo>
                  <a:lnTo>
                    <a:pt x="542" y="286"/>
                  </a:lnTo>
                  <a:lnTo>
                    <a:pt x="517" y="294"/>
                  </a:lnTo>
                  <a:lnTo>
                    <a:pt x="492" y="301"/>
                  </a:lnTo>
                  <a:lnTo>
                    <a:pt x="467" y="310"/>
                  </a:lnTo>
                  <a:lnTo>
                    <a:pt x="443" y="317"/>
                  </a:lnTo>
                  <a:lnTo>
                    <a:pt x="418" y="325"/>
                  </a:lnTo>
                  <a:lnTo>
                    <a:pt x="394" y="334"/>
                  </a:lnTo>
                  <a:close/>
                  <a:moveTo>
                    <a:pt x="354" y="611"/>
                  </a:moveTo>
                  <a:lnTo>
                    <a:pt x="338" y="607"/>
                  </a:lnTo>
                  <a:lnTo>
                    <a:pt x="323" y="604"/>
                  </a:lnTo>
                  <a:lnTo>
                    <a:pt x="308" y="601"/>
                  </a:lnTo>
                  <a:lnTo>
                    <a:pt x="293" y="598"/>
                  </a:lnTo>
                  <a:lnTo>
                    <a:pt x="293" y="570"/>
                  </a:lnTo>
                  <a:lnTo>
                    <a:pt x="293" y="543"/>
                  </a:lnTo>
                  <a:lnTo>
                    <a:pt x="293" y="515"/>
                  </a:lnTo>
                  <a:lnTo>
                    <a:pt x="292" y="487"/>
                  </a:lnTo>
                  <a:lnTo>
                    <a:pt x="292" y="460"/>
                  </a:lnTo>
                  <a:lnTo>
                    <a:pt x="292" y="432"/>
                  </a:lnTo>
                  <a:lnTo>
                    <a:pt x="292" y="405"/>
                  </a:lnTo>
                  <a:lnTo>
                    <a:pt x="292" y="377"/>
                  </a:lnTo>
                  <a:lnTo>
                    <a:pt x="308" y="381"/>
                  </a:lnTo>
                  <a:lnTo>
                    <a:pt x="323" y="384"/>
                  </a:lnTo>
                  <a:lnTo>
                    <a:pt x="338" y="387"/>
                  </a:lnTo>
                  <a:lnTo>
                    <a:pt x="354" y="391"/>
                  </a:lnTo>
                  <a:lnTo>
                    <a:pt x="354" y="418"/>
                  </a:lnTo>
                  <a:lnTo>
                    <a:pt x="354" y="446"/>
                  </a:lnTo>
                  <a:lnTo>
                    <a:pt x="354" y="473"/>
                  </a:lnTo>
                  <a:lnTo>
                    <a:pt x="354" y="501"/>
                  </a:lnTo>
                  <a:lnTo>
                    <a:pt x="354" y="528"/>
                  </a:lnTo>
                  <a:lnTo>
                    <a:pt x="354" y="556"/>
                  </a:lnTo>
                  <a:lnTo>
                    <a:pt x="354" y="583"/>
                  </a:lnTo>
                  <a:lnTo>
                    <a:pt x="354" y="611"/>
                  </a:lnTo>
                  <a:close/>
                  <a:moveTo>
                    <a:pt x="58" y="144"/>
                  </a:moveTo>
                  <a:lnTo>
                    <a:pt x="66" y="133"/>
                  </a:lnTo>
                  <a:lnTo>
                    <a:pt x="74" y="122"/>
                  </a:lnTo>
                  <a:lnTo>
                    <a:pt x="82" y="110"/>
                  </a:lnTo>
                  <a:lnTo>
                    <a:pt x="90" y="100"/>
                  </a:lnTo>
                  <a:lnTo>
                    <a:pt x="114" y="119"/>
                  </a:lnTo>
                  <a:lnTo>
                    <a:pt x="139" y="139"/>
                  </a:lnTo>
                  <a:lnTo>
                    <a:pt x="163" y="158"/>
                  </a:lnTo>
                  <a:lnTo>
                    <a:pt x="187" y="178"/>
                  </a:lnTo>
                  <a:lnTo>
                    <a:pt x="211" y="198"/>
                  </a:lnTo>
                  <a:lnTo>
                    <a:pt x="236" y="217"/>
                  </a:lnTo>
                  <a:lnTo>
                    <a:pt x="260" y="237"/>
                  </a:lnTo>
                  <a:lnTo>
                    <a:pt x="284" y="256"/>
                  </a:lnTo>
                  <a:lnTo>
                    <a:pt x="276" y="267"/>
                  </a:lnTo>
                  <a:lnTo>
                    <a:pt x="269" y="278"/>
                  </a:lnTo>
                  <a:lnTo>
                    <a:pt x="260" y="289"/>
                  </a:lnTo>
                  <a:lnTo>
                    <a:pt x="252" y="300"/>
                  </a:lnTo>
                  <a:lnTo>
                    <a:pt x="228" y="280"/>
                  </a:lnTo>
                  <a:lnTo>
                    <a:pt x="203" y="261"/>
                  </a:lnTo>
                  <a:lnTo>
                    <a:pt x="179" y="241"/>
                  </a:lnTo>
                  <a:lnTo>
                    <a:pt x="155" y="222"/>
                  </a:lnTo>
                  <a:lnTo>
                    <a:pt x="131" y="203"/>
                  </a:lnTo>
                  <a:lnTo>
                    <a:pt x="106" y="183"/>
                  </a:lnTo>
                  <a:lnTo>
                    <a:pt x="82" y="164"/>
                  </a:lnTo>
                  <a:lnTo>
                    <a:pt x="58" y="14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54680" y="4887000"/>
              <a:ext cx="150840" cy="65880"/>
            </a:xfrm>
            <a:custGeom>
              <a:avLst/>
              <a:gdLst/>
              <a:ahLst/>
              <a:rect l="l" t="t" r="r" b="b"/>
              <a:pathLst>
                <a:path w="1115" h="465">
                  <a:moveTo>
                    <a:pt x="0" y="0"/>
                  </a:moveTo>
                  <a:lnTo>
                    <a:pt x="1115" y="248"/>
                  </a:lnTo>
                  <a:lnTo>
                    <a:pt x="1115" y="465"/>
                  </a:lnTo>
                  <a:lnTo>
                    <a:pt x="0" y="2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56720" y="4961520"/>
              <a:ext cx="252360" cy="82800"/>
            </a:xfrm>
            <a:custGeom>
              <a:avLst/>
              <a:gdLst/>
              <a:ahLst/>
              <a:rect l="l" t="t" r="r" b="b"/>
              <a:pathLst>
                <a:path w="1860" h="586">
                  <a:moveTo>
                    <a:pt x="0" y="0"/>
                  </a:moveTo>
                  <a:lnTo>
                    <a:pt x="683" y="168"/>
                  </a:lnTo>
                  <a:lnTo>
                    <a:pt x="683" y="295"/>
                  </a:lnTo>
                  <a:lnTo>
                    <a:pt x="0" y="128"/>
                  </a:lnTo>
                  <a:lnTo>
                    <a:pt x="0" y="0"/>
                  </a:lnTo>
                  <a:close/>
                  <a:moveTo>
                    <a:pt x="895" y="220"/>
                  </a:moveTo>
                  <a:lnTo>
                    <a:pt x="1860" y="459"/>
                  </a:lnTo>
                  <a:lnTo>
                    <a:pt x="1860" y="586"/>
                  </a:lnTo>
                  <a:lnTo>
                    <a:pt x="895" y="348"/>
                  </a:lnTo>
                  <a:lnTo>
                    <a:pt x="895" y="22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73520" y="5041440"/>
              <a:ext cx="129600" cy="48240"/>
            </a:xfrm>
            <a:custGeom>
              <a:avLst/>
              <a:gdLst/>
              <a:ahLst/>
              <a:rect l="l" t="t" r="r" b="b"/>
              <a:pathLst>
                <a:path w="955" h="342">
                  <a:moveTo>
                    <a:pt x="0" y="0"/>
                  </a:moveTo>
                  <a:lnTo>
                    <a:pt x="955" y="216"/>
                  </a:lnTo>
                  <a:lnTo>
                    <a:pt x="955" y="342"/>
                  </a:lnTo>
                  <a:lnTo>
                    <a:pt x="0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40040" y="5010840"/>
              <a:ext cx="10800" cy="279000"/>
            </a:xfrm>
            <a:custGeom>
              <a:avLst/>
              <a:gdLst/>
              <a:ahLst/>
              <a:rect l="l" t="t" r="r" b="b"/>
              <a:pathLst>
                <a:path w="80" h="1961">
                  <a:moveTo>
                    <a:pt x="0" y="0"/>
                  </a:moveTo>
                  <a:lnTo>
                    <a:pt x="80" y="20"/>
                  </a:lnTo>
                  <a:lnTo>
                    <a:pt x="80" y="1961"/>
                  </a:lnTo>
                  <a:lnTo>
                    <a:pt x="0" y="194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40040" y="5320080"/>
              <a:ext cx="10800" cy="409680"/>
            </a:xfrm>
            <a:custGeom>
              <a:avLst/>
              <a:gdLst/>
              <a:ahLst/>
              <a:rect l="l" t="t" r="r" b="b"/>
              <a:pathLst>
                <a:path w="80" h="2876">
                  <a:moveTo>
                    <a:pt x="0" y="0"/>
                  </a:moveTo>
                  <a:lnTo>
                    <a:pt x="80" y="19"/>
                  </a:lnTo>
                  <a:lnTo>
                    <a:pt x="80" y="2876"/>
                  </a:lnTo>
                  <a:lnTo>
                    <a:pt x="0" y="285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173120" y="5207400"/>
              <a:ext cx="10800" cy="409680"/>
            </a:xfrm>
            <a:custGeom>
              <a:avLst/>
              <a:gdLst/>
              <a:ahLst/>
              <a:rect l="l" t="t" r="r" b="b"/>
              <a:pathLst>
                <a:path w="78" h="2876">
                  <a:moveTo>
                    <a:pt x="0" y="0"/>
                  </a:moveTo>
                  <a:lnTo>
                    <a:pt x="78" y="20"/>
                  </a:lnTo>
                  <a:lnTo>
                    <a:pt x="78" y="2876"/>
                  </a:lnTo>
                  <a:lnTo>
                    <a:pt x="0" y="28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99240" y="5177520"/>
              <a:ext cx="107280" cy="61200"/>
            </a:xfrm>
            <a:custGeom>
              <a:avLst/>
              <a:gdLst/>
              <a:ahLst/>
              <a:rect l="l" t="t" r="r" b="b"/>
              <a:pathLst>
                <a:path w="793" h="433">
                  <a:moveTo>
                    <a:pt x="0" y="0"/>
                  </a:moveTo>
                  <a:lnTo>
                    <a:pt x="174" y="42"/>
                  </a:lnTo>
                  <a:lnTo>
                    <a:pt x="174" y="280"/>
                  </a:lnTo>
                  <a:lnTo>
                    <a:pt x="0" y="237"/>
                  </a:lnTo>
                  <a:lnTo>
                    <a:pt x="0" y="0"/>
                  </a:lnTo>
                  <a:close/>
                  <a:moveTo>
                    <a:pt x="303" y="74"/>
                  </a:moveTo>
                  <a:lnTo>
                    <a:pt x="478" y="118"/>
                  </a:lnTo>
                  <a:lnTo>
                    <a:pt x="478" y="355"/>
                  </a:lnTo>
                  <a:lnTo>
                    <a:pt x="303" y="312"/>
                  </a:lnTo>
                  <a:lnTo>
                    <a:pt x="303" y="74"/>
                  </a:lnTo>
                  <a:close/>
                  <a:moveTo>
                    <a:pt x="606" y="149"/>
                  </a:moveTo>
                  <a:lnTo>
                    <a:pt x="793" y="196"/>
                  </a:lnTo>
                  <a:lnTo>
                    <a:pt x="793" y="433"/>
                  </a:lnTo>
                  <a:lnTo>
                    <a:pt x="606" y="387"/>
                  </a:lnTo>
                  <a:lnTo>
                    <a:pt x="606" y="149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04440" y="539820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4"/>
                  </a:lnTo>
                  <a:lnTo>
                    <a:pt x="547" y="196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04440" y="541872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04440" y="5438520"/>
              <a:ext cx="74160" cy="2808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204440" y="54590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04440" y="54795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7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8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7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9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204440" y="5500080"/>
              <a:ext cx="74160" cy="2736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204440" y="55202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04440" y="55407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5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0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79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7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04440" y="5561280"/>
              <a:ext cx="74160" cy="2700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4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3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04440" y="558108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2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8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6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04440" y="560160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3"/>
                  </a:lnTo>
                  <a:lnTo>
                    <a:pt x="547" y="196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76400" y="5511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915" y="228"/>
                  </a:lnTo>
                  <a:lnTo>
                    <a:pt x="915" y="300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676400" y="55321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76400" y="5551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2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76400" y="557244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676400" y="5592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6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7"/>
                  </a:lnTo>
                  <a:lnTo>
                    <a:pt x="571" y="141"/>
                  </a:lnTo>
                  <a:lnTo>
                    <a:pt x="629" y="155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5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299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28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676400" y="56131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9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4"/>
                  </a:lnTo>
                  <a:lnTo>
                    <a:pt x="915" y="283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8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3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676400" y="5632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6"/>
                  </a:lnTo>
                  <a:lnTo>
                    <a:pt x="915" y="264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76400" y="5653080"/>
              <a:ext cx="124200" cy="4320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676400" y="567324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3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76400" y="5693760"/>
              <a:ext cx="124200" cy="4212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76400" y="5713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915" y="227"/>
                  </a:lnTo>
                  <a:lnTo>
                    <a:pt x="915" y="299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59440" y="5122800"/>
              <a:ext cx="36000" cy="47520"/>
            </a:xfrm>
            <a:custGeom>
              <a:avLst/>
              <a:gdLst/>
              <a:ahLst/>
              <a:rect l="l" t="t" r="r" b="b"/>
              <a:pathLst>
                <a:path w="267" h="334">
                  <a:moveTo>
                    <a:pt x="134" y="334"/>
                  </a:moveTo>
                  <a:lnTo>
                    <a:pt x="147" y="333"/>
                  </a:lnTo>
                  <a:lnTo>
                    <a:pt x="160" y="331"/>
                  </a:lnTo>
                  <a:lnTo>
                    <a:pt x="173" y="326"/>
                  </a:lnTo>
                  <a:lnTo>
                    <a:pt x="185" y="321"/>
                  </a:lnTo>
                  <a:lnTo>
                    <a:pt x="197" y="313"/>
                  </a:lnTo>
                  <a:lnTo>
                    <a:pt x="208" y="306"/>
                  </a:lnTo>
                  <a:lnTo>
                    <a:pt x="218" y="296"/>
                  </a:lnTo>
                  <a:lnTo>
                    <a:pt x="227" y="285"/>
                  </a:lnTo>
                  <a:lnTo>
                    <a:pt x="236" y="273"/>
                  </a:lnTo>
                  <a:lnTo>
                    <a:pt x="244" y="260"/>
                  </a:lnTo>
                  <a:lnTo>
                    <a:pt x="250" y="247"/>
                  </a:lnTo>
                  <a:lnTo>
                    <a:pt x="256" y="231"/>
                  </a:lnTo>
                  <a:lnTo>
                    <a:pt x="261" y="216"/>
                  </a:lnTo>
                  <a:lnTo>
                    <a:pt x="264" y="201"/>
                  </a:lnTo>
                  <a:lnTo>
                    <a:pt x="265" y="185"/>
                  </a:lnTo>
                  <a:lnTo>
                    <a:pt x="267" y="167"/>
                  </a:lnTo>
                  <a:lnTo>
                    <a:pt x="265" y="150"/>
                  </a:lnTo>
                  <a:lnTo>
                    <a:pt x="264" y="133"/>
                  </a:lnTo>
                  <a:lnTo>
                    <a:pt x="261" y="117"/>
                  </a:lnTo>
                  <a:lnTo>
                    <a:pt x="256" y="102"/>
                  </a:lnTo>
                  <a:lnTo>
                    <a:pt x="250" y="88"/>
                  </a:lnTo>
                  <a:lnTo>
                    <a:pt x="244" y="73"/>
                  </a:lnTo>
                  <a:lnTo>
                    <a:pt x="236" y="61"/>
                  </a:lnTo>
                  <a:lnTo>
                    <a:pt x="227" y="49"/>
                  </a:lnTo>
                  <a:lnTo>
                    <a:pt x="218" y="39"/>
                  </a:lnTo>
                  <a:lnTo>
                    <a:pt x="208" y="29"/>
                  </a:lnTo>
                  <a:lnTo>
                    <a:pt x="197" y="20"/>
                  </a:lnTo>
                  <a:lnTo>
                    <a:pt x="185" y="13"/>
                  </a:lnTo>
                  <a:lnTo>
                    <a:pt x="173" y="8"/>
                  </a:lnTo>
                  <a:lnTo>
                    <a:pt x="160" y="4"/>
                  </a:lnTo>
                  <a:lnTo>
                    <a:pt x="147" y="1"/>
                  </a:lnTo>
                  <a:lnTo>
                    <a:pt x="134" y="0"/>
                  </a:lnTo>
                  <a:lnTo>
                    <a:pt x="119" y="1"/>
                  </a:lnTo>
                  <a:lnTo>
                    <a:pt x="106" y="4"/>
                  </a:lnTo>
                  <a:lnTo>
                    <a:pt x="93" y="8"/>
                  </a:lnTo>
                  <a:lnTo>
                    <a:pt x="81" y="13"/>
                  </a:lnTo>
                  <a:lnTo>
                    <a:pt x="69" y="20"/>
                  </a:lnTo>
                  <a:lnTo>
                    <a:pt x="58" y="29"/>
                  </a:lnTo>
                  <a:lnTo>
                    <a:pt x="49" y="39"/>
                  </a:lnTo>
                  <a:lnTo>
                    <a:pt x="39" y="49"/>
                  </a:lnTo>
                  <a:lnTo>
                    <a:pt x="30" y="61"/>
                  </a:lnTo>
                  <a:lnTo>
                    <a:pt x="22" y="73"/>
                  </a:lnTo>
                  <a:lnTo>
                    <a:pt x="16" y="88"/>
                  </a:lnTo>
                  <a:lnTo>
                    <a:pt x="10" y="102"/>
                  </a:lnTo>
                  <a:lnTo>
                    <a:pt x="6" y="117"/>
                  </a:lnTo>
                  <a:lnTo>
                    <a:pt x="3" y="133"/>
                  </a:lnTo>
                  <a:lnTo>
                    <a:pt x="1" y="150"/>
                  </a:lnTo>
                  <a:lnTo>
                    <a:pt x="0" y="167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6" y="216"/>
                  </a:lnTo>
                  <a:lnTo>
                    <a:pt x="10" y="231"/>
                  </a:lnTo>
                  <a:lnTo>
                    <a:pt x="16" y="247"/>
                  </a:lnTo>
                  <a:lnTo>
                    <a:pt x="22" y="260"/>
                  </a:lnTo>
                  <a:lnTo>
                    <a:pt x="30" y="273"/>
                  </a:lnTo>
                  <a:lnTo>
                    <a:pt x="39" y="285"/>
                  </a:lnTo>
                  <a:lnTo>
                    <a:pt x="49" y="296"/>
                  </a:lnTo>
                  <a:lnTo>
                    <a:pt x="58" y="306"/>
                  </a:lnTo>
                  <a:lnTo>
                    <a:pt x="69" y="313"/>
                  </a:lnTo>
                  <a:lnTo>
                    <a:pt x="81" y="321"/>
                  </a:lnTo>
                  <a:lnTo>
                    <a:pt x="93" y="326"/>
                  </a:lnTo>
                  <a:lnTo>
                    <a:pt x="106" y="331"/>
                  </a:lnTo>
                  <a:lnTo>
                    <a:pt x="119" y="333"/>
                  </a:lnTo>
                  <a:lnTo>
                    <a:pt x="134" y="334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021200" y="5784840"/>
            <a:ext cx="90000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9615800">
            <a:off x="6671160" y="4830480"/>
            <a:ext cx="76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70640" y="486900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99200" y="3962520"/>
            <a:ext cx="148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 may push data for repor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10160" y="4589640"/>
            <a:ext cx="119160" cy="293400"/>
          </a:xfrm>
          <a:custGeom>
            <a:avLst/>
            <a:gdLst/>
            <a:ahLst/>
            <a:rect l="l" t="t" r="r" b="b"/>
            <a:pathLst>
              <a:path w="75" h="186">
                <a:moveTo>
                  <a:pt x="0" y="0"/>
                </a:moveTo>
                <a:lnTo>
                  <a:pt x="75" y="0"/>
                </a:lnTo>
                <a:lnTo>
                  <a:pt x="75" y="18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20028600">
            <a:off x="6378840" y="5013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REP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19083600">
            <a:off x="7045560" y="458388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879480" y="5259240"/>
            <a:ext cx="1077840" cy="833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526" name=""/>
          <p:cNvSpPr/>
          <p:nvPr/>
        </p:nvSpPr>
        <p:spPr>
          <a:xfrm>
            <a:off x="1071000" y="5451480"/>
            <a:ext cx="64692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5800" y="4572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. Mandated Laboratory Report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7047000" y="3114720"/>
            <a:ext cx="1265040" cy="977760"/>
            <a:chOff x="7047000" y="3114720"/>
            <a:chExt cx="1265040" cy="977760"/>
          </a:xfrm>
        </p:grpSpPr>
        <p:pic>
          <p:nvPicPr>
            <p:cNvPr id="529" name="" descr=""/>
            <p:cNvPicPr/>
            <p:nvPr/>
          </p:nvPicPr>
          <p:blipFill>
            <a:blip r:embed="rId4"/>
            <a:stretch/>
          </p:blipFill>
          <p:spPr>
            <a:xfrm>
              <a:off x="7047000" y="311472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530" name=""/>
            <p:cNvSpPr/>
            <p:nvPr/>
          </p:nvSpPr>
          <p:spPr>
            <a:xfrm>
              <a:off x="7282440" y="334980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 txBox="1"/>
          <p:nvPr/>
        </p:nvSpPr>
        <p:spPr>
          <a:xfrm>
            <a:off x="2743200" y="5905440"/>
            <a:ext cx="171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health surveillance cornerst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 lab reporting improves timeliness, but adoption has been slow due to local m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E’s standardized “edge” data repositories could facilitate electronic lab repor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d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398840" y="3849840"/>
            <a:ext cx="3378240" cy="1636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1100160" y="4930920"/>
            <a:ext cx="3300480" cy="1012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535" name=""/>
          <p:cNvSpPr/>
          <p:nvPr/>
        </p:nvSpPr>
        <p:spPr>
          <a:xfrm>
            <a:off x="4062960" y="42894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e7fc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975120" y="4741920"/>
            <a:ext cx="1028160" cy="1069920"/>
            <a:chOff x="3975120" y="4741920"/>
            <a:chExt cx="1028160" cy="1069920"/>
          </a:xfrm>
        </p:grpSpPr>
        <p:sp>
          <p:nvSpPr>
            <p:cNvPr id="537" name=""/>
            <p:cNvSpPr/>
            <p:nvPr/>
          </p:nvSpPr>
          <p:spPr>
            <a:xfrm>
              <a:off x="4288680" y="5594760"/>
              <a:ext cx="63360" cy="91440"/>
            </a:xfrm>
            <a:custGeom>
              <a:avLst/>
              <a:gdLst/>
              <a:ahLst/>
              <a:rect l="l" t="t" r="r" b="b"/>
              <a:pathLst>
                <a:path w="469" h="644">
                  <a:moveTo>
                    <a:pt x="81" y="644"/>
                  </a:moveTo>
                  <a:lnTo>
                    <a:pt x="0" y="474"/>
                  </a:lnTo>
                  <a:lnTo>
                    <a:pt x="85" y="137"/>
                  </a:lnTo>
                  <a:lnTo>
                    <a:pt x="469" y="0"/>
                  </a:lnTo>
                  <a:lnTo>
                    <a:pt x="469" y="417"/>
                  </a:lnTo>
                  <a:lnTo>
                    <a:pt x="81" y="6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90600" y="5573880"/>
              <a:ext cx="309240" cy="112680"/>
            </a:xfrm>
            <a:custGeom>
              <a:avLst/>
              <a:gdLst/>
              <a:ahLst/>
              <a:rect l="l" t="t" r="r" b="b"/>
              <a:pathLst>
                <a:path w="2280" h="791">
                  <a:moveTo>
                    <a:pt x="0" y="0"/>
                  </a:moveTo>
                  <a:lnTo>
                    <a:pt x="0" y="284"/>
                  </a:lnTo>
                  <a:lnTo>
                    <a:pt x="2280" y="791"/>
                  </a:lnTo>
                  <a:lnTo>
                    <a:pt x="228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819320" y="5657040"/>
              <a:ext cx="171360" cy="154800"/>
            </a:xfrm>
            <a:custGeom>
              <a:avLst/>
              <a:gdLst/>
              <a:ahLst/>
              <a:rect l="l" t="t" r="r" b="b"/>
              <a:pathLst>
                <a:path w="1264" h="1086">
                  <a:moveTo>
                    <a:pt x="81" y="1086"/>
                  </a:moveTo>
                  <a:lnTo>
                    <a:pt x="0" y="915"/>
                  </a:lnTo>
                  <a:lnTo>
                    <a:pt x="85" y="580"/>
                  </a:lnTo>
                  <a:lnTo>
                    <a:pt x="1264" y="0"/>
                  </a:lnTo>
                  <a:lnTo>
                    <a:pt x="1264" y="417"/>
                  </a:lnTo>
                  <a:lnTo>
                    <a:pt x="81" y="10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33680" y="5652360"/>
              <a:ext cx="496440" cy="159480"/>
            </a:xfrm>
            <a:custGeom>
              <a:avLst/>
              <a:gdLst/>
              <a:ahLst/>
              <a:rect l="l" t="t" r="r" b="b"/>
              <a:pathLst>
                <a:path w="3663" h="1122">
                  <a:moveTo>
                    <a:pt x="0" y="0"/>
                  </a:moveTo>
                  <a:lnTo>
                    <a:pt x="0" y="284"/>
                  </a:lnTo>
                  <a:lnTo>
                    <a:pt x="3663" y="1122"/>
                  </a:lnTo>
                  <a:lnTo>
                    <a:pt x="3663" y="7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78960" y="5121720"/>
              <a:ext cx="194760" cy="534960"/>
            </a:xfrm>
            <a:custGeom>
              <a:avLst/>
              <a:gdLst/>
              <a:ahLst/>
              <a:rect l="l" t="t" r="r" b="b"/>
              <a:pathLst>
                <a:path w="1438" h="3756">
                  <a:moveTo>
                    <a:pt x="111" y="3756"/>
                  </a:moveTo>
                  <a:lnTo>
                    <a:pt x="0" y="2991"/>
                  </a:lnTo>
                  <a:lnTo>
                    <a:pt x="83" y="618"/>
                  </a:lnTo>
                  <a:lnTo>
                    <a:pt x="1438" y="0"/>
                  </a:lnTo>
                  <a:lnTo>
                    <a:pt x="1438" y="3005"/>
                  </a:lnTo>
                  <a:lnTo>
                    <a:pt x="111" y="3756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975120" y="5151240"/>
              <a:ext cx="319680" cy="505440"/>
            </a:xfrm>
            <a:custGeom>
              <a:avLst/>
              <a:gdLst/>
              <a:ahLst/>
              <a:rect l="l" t="t" r="r" b="b"/>
              <a:pathLst>
                <a:path w="589" h="887">
                  <a:moveTo>
                    <a:pt x="589" y="887"/>
                  </a:moveTo>
                  <a:lnTo>
                    <a:pt x="0" y="751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6"/>
                  </a:lnTo>
                  <a:lnTo>
                    <a:pt x="589" y="887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975840" y="505224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4">
                  <a:moveTo>
                    <a:pt x="0" y="695"/>
                  </a:moveTo>
                  <a:lnTo>
                    <a:pt x="1304" y="0"/>
                  </a:lnTo>
                  <a:lnTo>
                    <a:pt x="3671" y="491"/>
                  </a:lnTo>
                  <a:lnTo>
                    <a:pt x="2343" y="1244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08160" y="5248440"/>
              <a:ext cx="195120" cy="532800"/>
            </a:xfrm>
            <a:custGeom>
              <a:avLst/>
              <a:gdLst/>
              <a:ahLst/>
              <a:rect l="l" t="t" r="r" b="b"/>
              <a:pathLst>
                <a:path w="1440" h="3739">
                  <a:moveTo>
                    <a:pt x="111" y="3739"/>
                  </a:moveTo>
                  <a:lnTo>
                    <a:pt x="0" y="2974"/>
                  </a:lnTo>
                  <a:lnTo>
                    <a:pt x="84" y="619"/>
                  </a:lnTo>
                  <a:lnTo>
                    <a:pt x="1440" y="0"/>
                  </a:lnTo>
                  <a:lnTo>
                    <a:pt x="1440" y="2988"/>
                  </a:lnTo>
                  <a:lnTo>
                    <a:pt x="111" y="3739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13520" y="5232240"/>
              <a:ext cx="510120" cy="548640"/>
            </a:xfrm>
            <a:custGeom>
              <a:avLst/>
              <a:gdLst/>
              <a:ahLst/>
              <a:rect l="l" t="t" r="r" b="b"/>
              <a:pathLst>
                <a:path w="940" h="963">
                  <a:moveTo>
                    <a:pt x="940" y="963"/>
                  </a:moveTo>
                  <a:lnTo>
                    <a:pt x="0" y="749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90"/>
                  </a:lnTo>
                  <a:lnTo>
                    <a:pt x="940" y="96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314600" y="512964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5">
                  <a:moveTo>
                    <a:pt x="0" y="722"/>
                  </a:moveTo>
                  <a:lnTo>
                    <a:pt x="1332" y="0"/>
                  </a:lnTo>
                  <a:lnTo>
                    <a:pt x="5075" y="824"/>
                  </a:lnTo>
                  <a:lnTo>
                    <a:pt x="3762" y="1585"/>
                  </a:lnTo>
                  <a:lnTo>
                    <a:pt x="0" y="722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78960" y="4811040"/>
              <a:ext cx="194760" cy="401760"/>
            </a:xfrm>
            <a:custGeom>
              <a:avLst/>
              <a:gdLst/>
              <a:ahLst/>
              <a:rect l="l" t="t" r="r" b="b"/>
              <a:pathLst>
                <a:path w="1438" h="2822">
                  <a:moveTo>
                    <a:pt x="111" y="2822"/>
                  </a:moveTo>
                  <a:lnTo>
                    <a:pt x="0" y="2057"/>
                  </a:lnTo>
                  <a:lnTo>
                    <a:pt x="83" y="619"/>
                  </a:lnTo>
                  <a:lnTo>
                    <a:pt x="1438" y="0"/>
                  </a:lnTo>
                  <a:lnTo>
                    <a:pt x="1438" y="2072"/>
                  </a:lnTo>
                  <a:lnTo>
                    <a:pt x="111" y="2822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75120" y="4840920"/>
              <a:ext cx="319680" cy="371880"/>
            </a:xfrm>
            <a:custGeom>
              <a:avLst/>
              <a:gdLst/>
              <a:ahLst/>
              <a:rect l="l" t="t" r="r" b="b"/>
              <a:pathLst>
                <a:path w="589" h="653">
                  <a:moveTo>
                    <a:pt x="589" y="653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2"/>
                  </a:lnTo>
                  <a:lnTo>
                    <a:pt x="589" y="65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75840" y="474192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3">
                  <a:moveTo>
                    <a:pt x="0" y="693"/>
                  </a:moveTo>
                  <a:lnTo>
                    <a:pt x="1304" y="0"/>
                  </a:lnTo>
                  <a:lnTo>
                    <a:pt x="3671" y="490"/>
                  </a:lnTo>
                  <a:lnTo>
                    <a:pt x="2343" y="124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8160" y="4937760"/>
              <a:ext cx="195120" cy="402120"/>
            </a:xfrm>
            <a:custGeom>
              <a:avLst/>
              <a:gdLst/>
              <a:ahLst/>
              <a:rect l="l" t="t" r="r" b="b"/>
              <a:pathLst>
                <a:path w="1440" h="2823">
                  <a:moveTo>
                    <a:pt x="111" y="2823"/>
                  </a:moveTo>
                  <a:lnTo>
                    <a:pt x="0" y="2058"/>
                  </a:lnTo>
                  <a:lnTo>
                    <a:pt x="84" y="618"/>
                  </a:lnTo>
                  <a:lnTo>
                    <a:pt x="1440" y="0"/>
                  </a:lnTo>
                  <a:lnTo>
                    <a:pt x="1440" y="2072"/>
                  </a:lnTo>
                  <a:lnTo>
                    <a:pt x="111" y="2823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13520" y="4921920"/>
              <a:ext cx="510120" cy="416880"/>
            </a:xfrm>
            <a:custGeom>
              <a:avLst/>
              <a:gdLst/>
              <a:ahLst/>
              <a:rect l="l" t="t" r="r" b="b"/>
              <a:pathLst>
                <a:path w="940" h="732">
                  <a:moveTo>
                    <a:pt x="940" y="732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89"/>
                  </a:lnTo>
                  <a:lnTo>
                    <a:pt x="940" y="732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14600" y="481932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3">
                  <a:moveTo>
                    <a:pt x="0" y="721"/>
                  </a:moveTo>
                  <a:lnTo>
                    <a:pt x="1332" y="0"/>
                  </a:lnTo>
                  <a:lnTo>
                    <a:pt x="5075" y="823"/>
                  </a:lnTo>
                  <a:lnTo>
                    <a:pt x="3762" y="1583"/>
                  </a:lnTo>
                  <a:lnTo>
                    <a:pt x="0" y="721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62120" y="5085720"/>
              <a:ext cx="214920" cy="168120"/>
            </a:xfrm>
            <a:custGeom>
              <a:avLst/>
              <a:gdLst/>
              <a:ahLst/>
              <a:rect l="l" t="t" r="r" b="b"/>
              <a:pathLst>
                <a:path w="1582" h="1178">
                  <a:moveTo>
                    <a:pt x="0" y="0"/>
                  </a:moveTo>
                  <a:lnTo>
                    <a:pt x="98" y="21"/>
                  </a:lnTo>
                  <a:lnTo>
                    <a:pt x="196" y="42"/>
                  </a:lnTo>
                  <a:lnTo>
                    <a:pt x="294" y="63"/>
                  </a:lnTo>
                  <a:lnTo>
                    <a:pt x="393" y="86"/>
                  </a:lnTo>
                  <a:lnTo>
                    <a:pt x="491" y="108"/>
                  </a:lnTo>
                  <a:lnTo>
                    <a:pt x="589" y="130"/>
                  </a:lnTo>
                  <a:lnTo>
                    <a:pt x="688" y="151"/>
                  </a:lnTo>
                  <a:lnTo>
                    <a:pt x="786" y="174"/>
                  </a:lnTo>
                  <a:lnTo>
                    <a:pt x="884" y="196"/>
                  </a:lnTo>
                  <a:lnTo>
                    <a:pt x="984" y="219"/>
                  </a:lnTo>
                  <a:lnTo>
                    <a:pt x="1082" y="241"/>
                  </a:lnTo>
                  <a:lnTo>
                    <a:pt x="1181" y="263"/>
                  </a:lnTo>
                  <a:lnTo>
                    <a:pt x="1279" y="284"/>
                  </a:lnTo>
                  <a:lnTo>
                    <a:pt x="1378" y="306"/>
                  </a:lnTo>
                  <a:lnTo>
                    <a:pt x="1476" y="328"/>
                  </a:lnTo>
                  <a:lnTo>
                    <a:pt x="1575" y="349"/>
                  </a:lnTo>
                  <a:lnTo>
                    <a:pt x="1575" y="401"/>
                  </a:lnTo>
                  <a:lnTo>
                    <a:pt x="1575" y="452"/>
                  </a:lnTo>
                  <a:lnTo>
                    <a:pt x="1576" y="504"/>
                  </a:lnTo>
                  <a:lnTo>
                    <a:pt x="1576" y="556"/>
                  </a:lnTo>
                  <a:lnTo>
                    <a:pt x="1576" y="608"/>
                  </a:lnTo>
                  <a:lnTo>
                    <a:pt x="1578" y="660"/>
                  </a:lnTo>
                  <a:lnTo>
                    <a:pt x="1578" y="712"/>
                  </a:lnTo>
                  <a:lnTo>
                    <a:pt x="1579" y="764"/>
                  </a:lnTo>
                  <a:lnTo>
                    <a:pt x="1579" y="815"/>
                  </a:lnTo>
                  <a:lnTo>
                    <a:pt x="1579" y="867"/>
                  </a:lnTo>
                  <a:lnTo>
                    <a:pt x="1580" y="919"/>
                  </a:lnTo>
                  <a:lnTo>
                    <a:pt x="1580" y="971"/>
                  </a:lnTo>
                  <a:lnTo>
                    <a:pt x="1580" y="1023"/>
                  </a:lnTo>
                  <a:lnTo>
                    <a:pt x="1581" y="1074"/>
                  </a:lnTo>
                  <a:lnTo>
                    <a:pt x="1581" y="1127"/>
                  </a:lnTo>
                  <a:lnTo>
                    <a:pt x="1582" y="1178"/>
                  </a:lnTo>
                  <a:lnTo>
                    <a:pt x="1483" y="1157"/>
                  </a:lnTo>
                  <a:lnTo>
                    <a:pt x="1384" y="1135"/>
                  </a:lnTo>
                  <a:lnTo>
                    <a:pt x="1285" y="1114"/>
                  </a:lnTo>
                  <a:lnTo>
                    <a:pt x="1186" y="1092"/>
                  </a:lnTo>
                  <a:lnTo>
                    <a:pt x="1088" y="1069"/>
                  </a:lnTo>
                  <a:lnTo>
                    <a:pt x="989" y="1047"/>
                  </a:lnTo>
                  <a:lnTo>
                    <a:pt x="890" y="1024"/>
                  </a:lnTo>
                  <a:lnTo>
                    <a:pt x="792" y="1002"/>
                  </a:lnTo>
                  <a:lnTo>
                    <a:pt x="693" y="980"/>
                  </a:lnTo>
                  <a:lnTo>
                    <a:pt x="595" y="958"/>
                  </a:lnTo>
                  <a:lnTo>
                    <a:pt x="496" y="935"/>
                  </a:lnTo>
                  <a:lnTo>
                    <a:pt x="397" y="913"/>
                  </a:lnTo>
                  <a:lnTo>
                    <a:pt x="299" y="891"/>
                  </a:lnTo>
                  <a:lnTo>
                    <a:pt x="200" y="870"/>
                  </a:lnTo>
                  <a:lnTo>
                    <a:pt x="102" y="848"/>
                  </a:lnTo>
                  <a:lnTo>
                    <a:pt x="3" y="827"/>
                  </a:lnTo>
                  <a:lnTo>
                    <a:pt x="3" y="775"/>
                  </a:lnTo>
                  <a:lnTo>
                    <a:pt x="3" y="724"/>
                  </a:lnTo>
                  <a:lnTo>
                    <a:pt x="3" y="671"/>
                  </a:lnTo>
                  <a:lnTo>
                    <a:pt x="2" y="620"/>
                  </a:lnTo>
                  <a:lnTo>
                    <a:pt x="2" y="568"/>
                  </a:lnTo>
                  <a:lnTo>
                    <a:pt x="2" y="516"/>
                  </a:lnTo>
                  <a:lnTo>
                    <a:pt x="2" y="465"/>
                  </a:lnTo>
                  <a:lnTo>
                    <a:pt x="2" y="413"/>
                  </a:lnTo>
                  <a:lnTo>
                    <a:pt x="1" y="362"/>
                  </a:lnTo>
                  <a:lnTo>
                    <a:pt x="1" y="309"/>
                  </a:lnTo>
                  <a:lnTo>
                    <a:pt x="1" y="258"/>
                  </a:lnTo>
                  <a:lnTo>
                    <a:pt x="1" y="206"/>
                  </a:lnTo>
                  <a:lnTo>
                    <a:pt x="0" y="155"/>
                  </a:lnTo>
                  <a:lnTo>
                    <a:pt x="0" y="103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75080" y="5113800"/>
              <a:ext cx="87120" cy="91440"/>
            </a:xfrm>
            <a:custGeom>
              <a:avLst/>
              <a:gdLst/>
              <a:ahLst/>
              <a:rect l="l" t="t" r="r" b="b"/>
              <a:pathLst>
                <a:path w="646" h="644">
                  <a:moveTo>
                    <a:pt x="321" y="8"/>
                  </a:moveTo>
                  <a:lnTo>
                    <a:pt x="337" y="12"/>
                  </a:lnTo>
                  <a:lnTo>
                    <a:pt x="353" y="16"/>
                  </a:lnTo>
                  <a:lnTo>
                    <a:pt x="370" y="22"/>
                  </a:lnTo>
                  <a:lnTo>
                    <a:pt x="385" y="28"/>
                  </a:lnTo>
                  <a:lnTo>
                    <a:pt x="401" y="35"/>
                  </a:lnTo>
                  <a:lnTo>
                    <a:pt x="416" y="43"/>
                  </a:lnTo>
                  <a:lnTo>
                    <a:pt x="432" y="50"/>
                  </a:lnTo>
                  <a:lnTo>
                    <a:pt x="446" y="59"/>
                  </a:lnTo>
                  <a:lnTo>
                    <a:pt x="460" y="69"/>
                  </a:lnTo>
                  <a:lnTo>
                    <a:pt x="474" y="78"/>
                  </a:lnTo>
                  <a:lnTo>
                    <a:pt x="488" y="89"/>
                  </a:lnTo>
                  <a:lnTo>
                    <a:pt x="501" y="100"/>
                  </a:lnTo>
                  <a:lnTo>
                    <a:pt x="515" y="111"/>
                  </a:lnTo>
                  <a:lnTo>
                    <a:pt x="527" y="123"/>
                  </a:lnTo>
                  <a:lnTo>
                    <a:pt x="539" y="136"/>
                  </a:lnTo>
                  <a:lnTo>
                    <a:pt x="549" y="149"/>
                  </a:lnTo>
                  <a:lnTo>
                    <a:pt x="560" y="162"/>
                  </a:lnTo>
                  <a:lnTo>
                    <a:pt x="571" y="175"/>
                  </a:lnTo>
                  <a:lnTo>
                    <a:pt x="581" y="190"/>
                  </a:lnTo>
                  <a:lnTo>
                    <a:pt x="590" y="204"/>
                  </a:lnTo>
                  <a:lnTo>
                    <a:pt x="598" y="218"/>
                  </a:lnTo>
                  <a:lnTo>
                    <a:pt x="606" y="233"/>
                  </a:lnTo>
                  <a:lnTo>
                    <a:pt x="614" y="248"/>
                  </a:lnTo>
                  <a:lnTo>
                    <a:pt x="620" y="264"/>
                  </a:lnTo>
                  <a:lnTo>
                    <a:pt x="626" y="279"/>
                  </a:lnTo>
                  <a:lnTo>
                    <a:pt x="631" y="295"/>
                  </a:lnTo>
                  <a:lnTo>
                    <a:pt x="636" y="311"/>
                  </a:lnTo>
                  <a:lnTo>
                    <a:pt x="640" y="327"/>
                  </a:lnTo>
                  <a:lnTo>
                    <a:pt x="643" y="342"/>
                  </a:lnTo>
                  <a:lnTo>
                    <a:pt x="645" y="359"/>
                  </a:lnTo>
                  <a:lnTo>
                    <a:pt x="646" y="375"/>
                  </a:lnTo>
                  <a:lnTo>
                    <a:pt x="646" y="391"/>
                  </a:lnTo>
                  <a:lnTo>
                    <a:pt x="646" y="408"/>
                  </a:lnTo>
                  <a:lnTo>
                    <a:pt x="645" y="423"/>
                  </a:lnTo>
                  <a:lnTo>
                    <a:pt x="643" y="438"/>
                  </a:lnTo>
                  <a:lnTo>
                    <a:pt x="641" y="453"/>
                  </a:lnTo>
                  <a:lnTo>
                    <a:pt x="637" y="468"/>
                  </a:lnTo>
                  <a:lnTo>
                    <a:pt x="632" y="482"/>
                  </a:lnTo>
                  <a:lnTo>
                    <a:pt x="628" y="495"/>
                  </a:lnTo>
                  <a:lnTo>
                    <a:pt x="621" y="508"/>
                  </a:lnTo>
                  <a:lnTo>
                    <a:pt x="615" y="521"/>
                  </a:lnTo>
                  <a:lnTo>
                    <a:pt x="608" y="533"/>
                  </a:lnTo>
                  <a:lnTo>
                    <a:pt x="601" y="544"/>
                  </a:lnTo>
                  <a:lnTo>
                    <a:pt x="592" y="556"/>
                  </a:lnTo>
                  <a:lnTo>
                    <a:pt x="583" y="566"/>
                  </a:lnTo>
                  <a:lnTo>
                    <a:pt x="573" y="575"/>
                  </a:lnTo>
                  <a:lnTo>
                    <a:pt x="564" y="585"/>
                  </a:lnTo>
                  <a:lnTo>
                    <a:pt x="553" y="594"/>
                  </a:lnTo>
                  <a:lnTo>
                    <a:pt x="541" y="602"/>
                  </a:lnTo>
                  <a:lnTo>
                    <a:pt x="530" y="609"/>
                  </a:lnTo>
                  <a:lnTo>
                    <a:pt x="517" y="616"/>
                  </a:lnTo>
                  <a:lnTo>
                    <a:pt x="505" y="622"/>
                  </a:lnTo>
                  <a:lnTo>
                    <a:pt x="492" y="627"/>
                  </a:lnTo>
                  <a:lnTo>
                    <a:pt x="477" y="632"/>
                  </a:lnTo>
                  <a:lnTo>
                    <a:pt x="464" y="635"/>
                  </a:lnTo>
                  <a:lnTo>
                    <a:pt x="449" y="639"/>
                  </a:lnTo>
                  <a:lnTo>
                    <a:pt x="435" y="642"/>
                  </a:lnTo>
                  <a:lnTo>
                    <a:pt x="420" y="643"/>
                  </a:lnTo>
                  <a:lnTo>
                    <a:pt x="404" y="644"/>
                  </a:lnTo>
                  <a:lnTo>
                    <a:pt x="389" y="644"/>
                  </a:lnTo>
                  <a:lnTo>
                    <a:pt x="373" y="644"/>
                  </a:lnTo>
                  <a:lnTo>
                    <a:pt x="357" y="643"/>
                  </a:lnTo>
                  <a:lnTo>
                    <a:pt x="340" y="640"/>
                  </a:lnTo>
                  <a:lnTo>
                    <a:pt x="324" y="637"/>
                  </a:lnTo>
                  <a:lnTo>
                    <a:pt x="307" y="633"/>
                  </a:lnTo>
                  <a:lnTo>
                    <a:pt x="291" y="629"/>
                  </a:lnTo>
                  <a:lnTo>
                    <a:pt x="275" y="623"/>
                  </a:lnTo>
                  <a:lnTo>
                    <a:pt x="258" y="617"/>
                  </a:lnTo>
                  <a:lnTo>
                    <a:pt x="243" y="610"/>
                  </a:lnTo>
                  <a:lnTo>
                    <a:pt x="228" y="603"/>
                  </a:lnTo>
                  <a:lnTo>
                    <a:pt x="213" y="594"/>
                  </a:lnTo>
                  <a:lnTo>
                    <a:pt x="199" y="585"/>
                  </a:lnTo>
                  <a:lnTo>
                    <a:pt x="184" y="575"/>
                  </a:lnTo>
                  <a:lnTo>
                    <a:pt x="170" y="566"/>
                  </a:lnTo>
                  <a:lnTo>
                    <a:pt x="156" y="556"/>
                  </a:lnTo>
                  <a:lnTo>
                    <a:pt x="143" y="545"/>
                  </a:lnTo>
                  <a:lnTo>
                    <a:pt x="131" y="533"/>
                  </a:lnTo>
                  <a:lnTo>
                    <a:pt x="118" y="521"/>
                  </a:lnTo>
                  <a:lnTo>
                    <a:pt x="107" y="509"/>
                  </a:lnTo>
                  <a:lnTo>
                    <a:pt x="95" y="496"/>
                  </a:lnTo>
                  <a:lnTo>
                    <a:pt x="85" y="483"/>
                  </a:lnTo>
                  <a:lnTo>
                    <a:pt x="74" y="469"/>
                  </a:lnTo>
                  <a:lnTo>
                    <a:pt x="64" y="454"/>
                  </a:lnTo>
                  <a:lnTo>
                    <a:pt x="56" y="440"/>
                  </a:lnTo>
                  <a:lnTo>
                    <a:pt x="47" y="426"/>
                  </a:lnTo>
                  <a:lnTo>
                    <a:pt x="39" y="411"/>
                  </a:lnTo>
                  <a:lnTo>
                    <a:pt x="32" y="396"/>
                  </a:lnTo>
                  <a:lnTo>
                    <a:pt x="25" y="380"/>
                  </a:lnTo>
                  <a:lnTo>
                    <a:pt x="20" y="365"/>
                  </a:lnTo>
                  <a:lnTo>
                    <a:pt x="14" y="350"/>
                  </a:lnTo>
                  <a:lnTo>
                    <a:pt x="10" y="333"/>
                  </a:lnTo>
                  <a:lnTo>
                    <a:pt x="7" y="318"/>
                  </a:lnTo>
                  <a:lnTo>
                    <a:pt x="3" y="302"/>
                  </a:lnTo>
                  <a:lnTo>
                    <a:pt x="1" y="286"/>
                  </a:lnTo>
                  <a:lnTo>
                    <a:pt x="0" y="269"/>
                  </a:lnTo>
                  <a:lnTo>
                    <a:pt x="0" y="253"/>
                  </a:lnTo>
                  <a:lnTo>
                    <a:pt x="0" y="238"/>
                  </a:lnTo>
                  <a:lnTo>
                    <a:pt x="1" y="221"/>
                  </a:lnTo>
                  <a:lnTo>
                    <a:pt x="3" y="206"/>
                  </a:lnTo>
                  <a:lnTo>
                    <a:pt x="6" y="192"/>
                  </a:lnTo>
                  <a:lnTo>
                    <a:pt x="10" y="177"/>
                  </a:lnTo>
                  <a:lnTo>
                    <a:pt x="14" y="163"/>
                  </a:lnTo>
                  <a:lnTo>
                    <a:pt x="19" y="149"/>
                  </a:lnTo>
                  <a:lnTo>
                    <a:pt x="24" y="136"/>
                  </a:lnTo>
                  <a:lnTo>
                    <a:pt x="31" y="124"/>
                  </a:lnTo>
                  <a:lnTo>
                    <a:pt x="38" y="112"/>
                  </a:lnTo>
                  <a:lnTo>
                    <a:pt x="46" y="100"/>
                  </a:lnTo>
                  <a:lnTo>
                    <a:pt x="54" y="89"/>
                  </a:lnTo>
                  <a:lnTo>
                    <a:pt x="63" y="80"/>
                  </a:lnTo>
                  <a:lnTo>
                    <a:pt x="72" y="70"/>
                  </a:lnTo>
                  <a:lnTo>
                    <a:pt x="82" y="60"/>
                  </a:lnTo>
                  <a:lnTo>
                    <a:pt x="93" y="51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9"/>
                  </a:lnTo>
                  <a:lnTo>
                    <a:pt x="141" y="23"/>
                  </a:lnTo>
                  <a:lnTo>
                    <a:pt x="154" y="17"/>
                  </a:lnTo>
                  <a:lnTo>
                    <a:pt x="167" y="13"/>
                  </a:lnTo>
                  <a:lnTo>
                    <a:pt x="181" y="9"/>
                  </a:lnTo>
                  <a:lnTo>
                    <a:pt x="195" y="5"/>
                  </a:lnTo>
                  <a:lnTo>
                    <a:pt x="209" y="3"/>
                  </a:lnTo>
                  <a:lnTo>
                    <a:pt x="225" y="1"/>
                  </a:lnTo>
                  <a:lnTo>
                    <a:pt x="240" y="1"/>
                  </a:lnTo>
                  <a:lnTo>
                    <a:pt x="255" y="0"/>
                  </a:lnTo>
                  <a:lnTo>
                    <a:pt x="272" y="1"/>
                  </a:lnTo>
                  <a:lnTo>
                    <a:pt x="288" y="2"/>
                  </a:lnTo>
                  <a:lnTo>
                    <a:pt x="304" y="4"/>
                  </a:lnTo>
                  <a:lnTo>
                    <a:pt x="321" y="8"/>
                  </a:lnTo>
                  <a:close/>
                  <a:moveTo>
                    <a:pt x="363" y="388"/>
                  </a:moveTo>
                  <a:lnTo>
                    <a:pt x="371" y="376"/>
                  </a:lnTo>
                  <a:lnTo>
                    <a:pt x="378" y="365"/>
                  </a:lnTo>
                  <a:lnTo>
                    <a:pt x="385" y="354"/>
                  </a:lnTo>
                  <a:lnTo>
                    <a:pt x="392" y="342"/>
                  </a:lnTo>
                  <a:lnTo>
                    <a:pt x="418" y="361"/>
                  </a:lnTo>
                  <a:lnTo>
                    <a:pt x="442" y="380"/>
                  </a:lnTo>
                  <a:lnTo>
                    <a:pt x="467" y="399"/>
                  </a:lnTo>
                  <a:lnTo>
                    <a:pt x="492" y="418"/>
                  </a:lnTo>
                  <a:lnTo>
                    <a:pt x="516" y="437"/>
                  </a:lnTo>
                  <a:lnTo>
                    <a:pt x="541" y="456"/>
                  </a:lnTo>
                  <a:lnTo>
                    <a:pt x="566" y="475"/>
                  </a:lnTo>
                  <a:lnTo>
                    <a:pt x="591" y="494"/>
                  </a:lnTo>
                  <a:lnTo>
                    <a:pt x="583" y="505"/>
                  </a:lnTo>
                  <a:lnTo>
                    <a:pt x="576" y="515"/>
                  </a:lnTo>
                  <a:lnTo>
                    <a:pt x="568" y="527"/>
                  </a:lnTo>
                  <a:lnTo>
                    <a:pt x="561" y="538"/>
                  </a:lnTo>
                  <a:lnTo>
                    <a:pt x="536" y="520"/>
                  </a:lnTo>
                  <a:lnTo>
                    <a:pt x="511" y="501"/>
                  </a:lnTo>
                  <a:lnTo>
                    <a:pt x="486" y="482"/>
                  </a:lnTo>
                  <a:lnTo>
                    <a:pt x="462" y="463"/>
                  </a:lnTo>
                  <a:lnTo>
                    <a:pt x="437" y="445"/>
                  </a:lnTo>
                  <a:lnTo>
                    <a:pt x="412" y="425"/>
                  </a:lnTo>
                  <a:lnTo>
                    <a:pt x="388" y="406"/>
                  </a:lnTo>
                  <a:lnTo>
                    <a:pt x="363" y="388"/>
                  </a:lnTo>
                  <a:close/>
                  <a:moveTo>
                    <a:pt x="92" y="444"/>
                  </a:moveTo>
                  <a:lnTo>
                    <a:pt x="83" y="429"/>
                  </a:lnTo>
                  <a:lnTo>
                    <a:pt x="75" y="415"/>
                  </a:lnTo>
                  <a:lnTo>
                    <a:pt x="68" y="401"/>
                  </a:lnTo>
                  <a:lnTo>
                    <a:pt x="59" y="387"/>
                  </a:lnTo>
                  <a:lnTo>
                    <a:pt x="84" y="378"/>
                  </a:lnTo>
                  <a:lnTo>
                    <a:pt x="108" y="368"/>
                  </a:lnTo>
                  <a:lnTo>
                    <a:pt x="132" y="360"/>
                  </a:lnTo>
                  <a:lnTo>
                    <a:pt x="156" y="351"/>
                  </a:lnTo>
                  <a:lnTo>
                    <a:pt x="180" y="341"/>
                  </a:lnTo>
                  <a:lnTo>
                    <a:pt x="204" y="332"/>
                  </a:lnTo>
                  <a:lnTo>
                    <a:pt x="228" y="323"/>
                  </a:lnTo>
                  <a:lnTo>
                    <a:pt x="252" y="314"/>
                  </a:lnTo>
                  <a:lnTo>
                    <a:pt x="260" y="328"/>
                  </a:lnTo>
                  <a:lnTo>
                    <a:pt x="268" y="343"/>
                  </a:lnTo>
                  <a:lnTo>
                    <a:pt x="276" y="357"/>
                  </a:lnTo>
                  <a:lnTo>
                    <a:pt x="285" y="372"/>
                  </a:lnTo>
                  <a:lnTo>
                    <a:pt x="260" y="380"/>
                  </a:lnTo>
                  <a:lnTo>
                    <a:pt x="236" y="390"/>
                  </a:lnTo>
                  <a:lnTo>
                    <a:pt x="212" y="399"/>
                  </a:lnTo>
                  <a:lnTo>
                    <a:pt x="188" y="408"/>
                  </a:lnTo>
                  <a:lnTo>
                    <a:pt x="164" y="417"/>
                  </a:lnTo>
                  <a:lnTo>
                    <a:pt x="140" y="426"/>
                  </a:lnTo>
                  <a:lnTo>
                    <a:pt x="116" y="435"/>
                  </a:lnTo>
                  <a:lnTo>
                    <a:pt x="92" y="444"/>
                  </a:lnTo>
                  <a:close/>
                  <a:moveTo>
                    <a:pt x="290" y="34"/>
                  </a:moveTo>
                  <a:lnTo>
                    <a:pt x="305" y="37"/>
                  </a:lnTo>
                  <a:lnTo>
                    <a:pt x="321" y="40"/>
                  </a:lnTo>
                  <a:lnTo>
                    <a:pt x="337" y="44"/>
                  </a:lnTo>
                  <a:lnTo>
                    <a:pt x="352" y="47"/>
                  </a:lnTo>
                  <a:lnTo>
                    <a:pt x="352" y="75"/>
                  </a:lnTo>
                  <a:lnTo>
                    <a:pt x="352" y="102"/>
                  </a:lnTo>
                  <a:lnTo>
                    <a:pt x="352" y="130"/>
                  </a:lnTo>
                  <a:lnTo>
                    <a:pt x="352" y="157"/>
                  </a:lnTo>
                  <a:lnTo>
                    <a:pt x="353" y="185"/>
                  </a:lnTo>
                  <a:lnTo>
                    <a:pt x="353" y="213"/>
                  </a:lnTo>
                  <a:lnTo>
                    <a:pt x="353" y="240"/>
                  </a:lnTo>
                  <a:lnTo>
                    <a:pt x="353" y="267"/>
                  </a:lnTo>
                  <a:lnTo>
                    <a:pt x="338" y="264"/>
                  </a:lnTo>
                  <a:lnTo>
                    <a:pt x="322" y="260"/>
                  </a:lnTo>
                  <a:lnTo>
                    <a:pt x="306" y="257"/>
                  </a:lnTo>
                  <a:lnTo>
                    <a:pt x="291" y="254"/>
                  </a:lnTo>
                  <a:lnTo>
                    <a:pt x="291" y="227"/>
                  </a:lnTo>
                  <a:lnTo>
                    <a:pt x="291" y="199"/>
                  </a:lnTo>
                  <a:lnTo>
                    <a:pt x="290" y="171"/>
                  </a:lnTo>
                  <a:lnTo>
                    <a:pt x="290" y="144"/>
                  </a:lnTo>
                  <a:lnTo>
                    <a:pt x="290" y="117"/>
                  </a:lnTo>
                  <a:lnTo>
                    <a:pt x="290" y="89"/>
                  </a:lnTo>
                  <a:lnTo>
                    <a:pt x="290" y="61"/>
                  </a:lnTo>
                  <a:lnTo>
                    <a:pt x="290" y="3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77680" y="5137200"/>
              <a:ext cx="87840" cy="91440"/>
            </a:xfrm>
            <a:custGeom>
              <a:avLst/>
              <a:gdLst/>
              <a:ahLst/>
              <a:rect l="l" t="t" r="r" b="b"/>
              <a:pathLst>
                <a:path w="647" h="644">
                  <a:moveTo>
                    <a:pt x="45" y="100"/>
                  </a:moveTo>
                  <a:lnTo>
                    <a:pt x="55" y="88"/>
                  </a:lnTo>
                  <a:lnTo>
                    <a:pt x="64" y="77"/>
                  </a:lnTo>
                  <a:lnTo>
                    <a:pt x="75" y="67"/>
                  </a:lnTo>
                  <a:lnTo>
                    <a:pt x="85" y="57"/>
                  </a:lnTo>
                  <a:lnTo>
                    <a:pt x="97" y="48"/>
                  </a:lnTo>
                  <a:lnTo>
                    <a:pt x="107" y="41"/>
                  </a:lnTo>
                  <a:lnTo>
                    <a:pt x="119" y="33"/>
                  </a:lnTo>
                  <a:lnTo>
                    <a:pt x="133" y="27"/>
                  </a:lnTo>
                  <a:lnTo>
                    <a:pt x="146" y="21"/>
                  </a:lnTo>
                  <a:lnTo>
                    <a:pt x="159" y="16"/>
                  </a:lnTo>
                  <a:lnTo>
                    <a:pt x="173" y="11"/>
                  </a:lnTo>
                  <a:lnTo>
                    <a:pt x="186" y="8"/>
                  </a:lnTo>
                  <a:lnTo>
                    <a:pt x="201" y="5"/>
                  </a:lnTo>
                  <a:lnTo>
                    <a:pt x="215" y="3"/>
                  </a:lnTo>
                  <a:lnTo>
                    <a:pt x="229" y="1"/>
                  </a:lnTo>
                  <a:lnTo>
                    <a:pt x="245" y="0"/>
                  </a:lnTo>
                  <a:lnTo>
                    <a:pt x="260" y="0"/>
                  </a:lnTo>
                  <a:lnTo>
                    <a:pt x="275" y="1"/>
                  </a:lnTo>
                  <a:lnTo>
                    <a:pt x="291" y="4"/>
                  </a:lnTo>
                  <a:lnTo>
                    <a:pt x="307" y="6"/>
                  </a:lnTo>
                  <a:lnTo>
                    <a:pt x="322" y="8"/>
                  </a:lnTo>
                  <a:lnTo>
                    <a:pt x="337" y="12"/>
                  </a:lnTo>
                  <a:lnTo>
                    <a:pt x="354" y="17"/>
                  </a:lnTo>
                  <a:lnTo>
                    <a:pt x="369" y="22"/>
                  </a:lnTo>
                  <a:lnTo>
                    <a:pt x="384" y="28"/>
                  </a:lnTo>
                  <a:lnTo>
                    <a:pt x="400" y="34"/>
                  </a:lnTo>
                  <a:lnTo>
                    <a:pt x="415" y="42"/>
                  </a:lnTo>
                  <a:lnTo>
                    <a:pt x="431" y="51"/>
                  </a:lnTo>
                  <a:lnTo>
                    <a:pt x="445" y="59"/>
                  </a:lnTo>
                  <a:lnTo>
                    <a:pt x="461" y="69"/>
                  </a:lnTo>
                  <a:lnTo>
                    <a:pt x="476" y="79"/>
                  </a:lnTo>
                  <a:lnTo>
                    <a:pt x="490" y="90"/>
                  </a:lnTo>
                  <a:lnTo>
                    <a:pt x="504" y="102"/>
                  </a:lnTo>
                  <a:lnTo>
                    <a:pt x="517" y="114"/>
                  </a:lnTo>
                  <a:lnTo>
                    <a:pt x="530" y="127"/>
                  </a:lnTo>
                  <a:lnTo>
                    <a:pt x="542" y="140"/>
                  </a:lnTo>
                  <a:lnTo>
                    <a:pt x="554" y="153"/>
                  </a:lnTo>
                  <a:lnTo>
                    <a:pt x="565" y="167"/>
                  </a:lnTo>
                  <a:lnTo>
                    <a:pt x="575" y="181"/>
                  </a:lnTo>
                  <a:lnTo>
                    <a:pt x="585" y="195"/>
                  </a:lnTo>
                  <a:lnTo>
                    <a:pt x="593" y="210"/>
                  </a:lnTo>
                  <a:lnTo>
                    <a:pt x="602" y="224"/>
                  </a:lnTo>
                  <a:lnTo>
                    <a:pt x="609" y="239"/>
                  </a:lnTo>
                  <a:lnTo>
                    <a:pt x="616" y="254"/>
                  </a:lnTo>
                  <a:lnTo>
                    <a:pt x="623" y="270"/>
                  </a:lnTo>
                  <a:lnTo>
                    <a:pt x="628" y="285"/>
                  </a:lnTo>
                  <a:lnTo>
                    <a:pt x="633" y="300"/>
                  </a:lnTo>
                  <a:lnTo>
                    <a:pt x="637" y="315"/>
                  </a:lnTo>
                  <a:lnTo>
                    <a:pt x="640" y="332"/>
                  </a:lnTo>
                  <a:lnTo>
                    <a:pt x="643" y="347"/>
                  </a:lnTo>
                  <a:lnTo>
                    <a:pt x="645" y="362"/>
                  </a:lnTo>
                  <a:lnTo>
                    <a:pt x="646" y="377"/>
                  </a:lnTo>
                  <a:lnTo>
                    <a:pt x="647" y="393"/>
                  </a:lnTo>
                  <a:lnTo>
                    <a:pt x="646" y="408"/>
                  </a:lnTo>
                  <a:lnTo>
                    <a:pt x="645" y="422"/>
                  </a:lnTo>
                  <a:lnTo>
                    <a:pt x="644" y="437"/>
                  </a:lnTo>
                  <a:lnTo>
                    <a:pt x="640" y="452"/>
                  </a:lnTo>
                  <a:lnTo>
                    <a:pt x="637" y="467"/>
                  </a:lnTo>
                  <a:lnTo>
                    <a:pt x="634" y="480"/>
                  </a:lnTo>
                  <a:lnTo>
                    <a:pt x="628" y="494"/>
                  </a:lnTo>
                  <a:lnTo>
                    <a:pt x="623" y="507"/>
                  </a:lnTo>
                  <a:lnTo>
                    <a:pt x="616" y="520"/>
                  </a:lnTo>
                  <a:lnTo>
                    <a:pt x="609" y="533"/>
                  </a:lnTo>
                  <a:lnTo>
                    <a:pt x="600" y="545"/>
                  </a:lnTo>
                  <a:lnTo>
                    <a:pt x="591" y="557"/>
                  </a:lnTo>
                  <a:lnTo>
                    <a:pt x="583" y="568"/>
                  </a:lnTo>
                  <a:lnTo>
                    <a:pt x="572" y="578"/>
                  </a:lnTo>
                  <a:lnTo>
                    <a:pt x="561" y="588"/>
                  </a:lnTo>
                  <a:lnTo>
                    <a:pt x="550" y="596"/>
                  </a:lnTo>
                  <a:lnTo>
                    <a:pt x="538" y="604"/>
                  </a:lnTo>
                  <a:lnTo>
                    <a:pt x="526" y="612"/>
                  </a:lnTo>
                  <a:lnTo>
                    <a:pt x="514" y="618"/>
                  </a:lnTo>
                  <a:lnTo>
                    <a:pt x="501" y="624"/>
                  </a:lnTo>
                  <a:lnTo>
                    <a:pt x="488" y="629"/>
                  </a:lnTo>
                  <a:lnTo>
                    <a:pt x="474" y="634"/>
                  </a:lnTo>
                  <a:lnTo>
                    <a:pt x="459" y="637"/>
                  </a:lnTo>
                  <a:lnTo>
                    <a:pt x="445" y="640"/>
                  </a:lnTo>
                  <a:lnTo>
                    <a:pt x="431" y="642"/>
                  </a:lnTo>
                  <a:lnTo>
                    <a:pt x="416" y="643"/>
                  </a:lnTo>
                  <a:lnTo>
                    <a:pt x="401" y="644"/>
                  </a:lnTo>
                  <a:lnTo>
                    <a:pt x="385" y="644"/>
                  </a:lnTo>
                  <a:lnTo>
                    <a:pt x="370" y="643"/>
                  </a:lnTo>
                  <a:lnTo>
                    <a:pt x="355" y="642"/>
                  </a:lnTo>
                  <a:lnTo>
                    <a:pt x="340" y="639"/>
                  </a:lnTo>
                  <a:lnTo>
                    <a:pt x="323" y="637"/>
                  </a:lnTo>
                  <a:lnTo>
                    <a:pt x="308" y="632"/>
                  </a:lnTo>
                  <a:lnTo>
                    <a:pt x="292" y="628"/>
                  </a:lnTo>
                  <a:lnTo>
                    <a:pt x="276" y="623"/>
                  </a:lnTo>
                  <a:lnTo>
                    <a:pt x="261" y="617"/>
                  </a:lnTo>
                  <a:lnTo>
                    <a:pt x="245" y="611"/>
                  </a:lnTo>
                  <a:lnTo>
                    <a:pt x="229" y="603"/>
                  </a:lnTo>
                  <a:lnTo>
                    <a:pt x="214" y="594"/>
                  </a:lnTo>
                  <a:lnTo>
                    <a:pt x="199" y="586"/>
                  </a:lnTo>
                  <a:lnTo>
                    <a:pt x="185" y="576"/>
                  </a:lnTo>
                  <a:lnTo>
                    <a:pt x="170" y="566"/>
                  </a:lnTo>
                  <a:lnTo>
                    <a:pt x="155" y="554"/>
                  </a:lnTo>
                  <a:lnTo>
                    <a:pt x="141" y="543"/>
                  </a:lnTo>
                  <a:lnTo>
                    <a:pt x="128" y="530"/>
                  </a:lnTo>
                  <a:lnTo>
                    <a:pt x="115" y="518"/>
                  </a:lnTo>
                  <a:lnTo>
                    <a:pt x="103" y="505"/>
                  </a:lnTo>
                  <a:lnTo>
                    <a:pt x="91" y="492"/>
                  </a:lnTo>
                  <a:lnTo>
                    <a:pt x="80" y="478"/>
                  </a:lnTo>
                  <a:lnTo>
                    <a:pt x="70" y="464"/>
                  </a:lnTo>
                  <a:lnTo>
                    <a:pt x="61" y="449"/>
                  </a:lnTo>
                  <a:lnTo>
                    <a:pt x="52" y="435"/>
                  </a:lnTo>
                  <a:lnTo>
                    <a:pt x="43" y="420"/>
                  </a:lnTo>
                  <a:lnTo>
                    <a:pt x="36" y="405"/>
                  </a:lnTo>
                  <a:lnTo>
                    <a:pt x="29" y="391"/>
                  </a:lnTo>
                  <a:lnTo>
                    <a:pt x="22" y="375"/>
                  </a:lnTo>
                  <a:lnTo>
                    <a:pt x="17" y="360"/>
                  </a:lnTo>
                  <a:lnTo>
                    <a:pt x="13" y="344"/>
                  </a:lnTo>
                  <a:lnTo>
                    <a:pt x="8" y="328"/>
                  </a:lnTo>
                  <a:lnTo>
                    <a:pt x="5" y="313"/>
                  </a:lnTo>
                  <a:lnTo>
                    <a:pt x="3" y="298"/>
                  </a:lnTo>
                  <a:lnTo>
                    <a:pt x="1" y="283"/>
                  </a:lnTo>
                  <a:lnTo>
                    <a:pt x="0" y="267"/>
                  </a:lnTo>
                  <a:lnTo>
                    <a:pt x="0" y="252"/>
                  </a:lnTo>
                  <a:lnTo>
                    <a:pt x="0" y="237"/>
                  </a:lnTo>
                  <a:lnTo>
                    <a:pt x="1" y="222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8" y="178"/>
                  </a:lnTo>
                  <a:lnTo>
                    <a:pt x="13" y="164"/>
                  </a:lnTo>
                  <a:lnTo>
                    <a:pt x="18" y="151"/>
                  </a:lnTo>
                  <a:lnTo>
                    <a:pt x="24" y="137"/>
                  </a:lnTo>
                  <a:lnTo>
                    <a:pt x="30" y="124"/>
                  </a:lnTo>
                  <a:lnTo>
                    <a:pt x="38" y="112"/>
                  </a:lnTo>
                  <a:lnTo>
                    <a:pt x="45" y="100"/>
                  </a:lnTo>
                  <a:close/>
                  <a:moveTo>
                    <a:pt x="394" y="334"/>
                  </a:moveTo>
                  <a:lnTo>
                    <a:pt x="386" y="319"/>
                  </a:lnTo>
                  <a:lnTo>
                    <a:pt x="379" y="304"/>
                  </a:lnTo>
                  <a:lnTo>
                    <a:pt x="371" y="289"/>
                  </a:lnTo>
                  <a:lnTo>
                    <a:pt x="364" y="274"/>
                  </a:lnTo>
                  <a:lnTo>
                    <a:pt x="388" y="266"/>
                  </a:lnTo>
                  <a:lnTo>
                    <a:pt x="413" y="259"/>
                  </a:lnTo>
                  <a:lnTo>
                    <a:pt x="438" y="251"/>
                  </a:lnTo>
                  <a:lnTo>
                    <a:pt x="462" y="243"/>
                  </a:lnTo>
                  <a:lnTo>
                    <a:pt x="487" y="236"/>
                  </a:lnTo>
                  <a:lnTo>
                    <a:pt x="512" y="227"/>
                  </a:lnTo>
                  <a:lnTo>
                    <a:pt x="536" y="219"/>
                  </a:lnTo>
                  <a:lnTo>
                    <a:pt x="561" y="211"/>
                  </a:lnTo>
                  <a:lnTo>
                    <a:pt x="568" y="226"/>
                  </a:lnTo>
                  <a:lnTo>
                    <a:pt x="576" y="241"/>
                  </a:lnTo>
                  <a:lnTo>
                    <a:pt x="584" y="255"/>
                  </a:lnTo>
                  <a:lnTo>
                    <a:pt x="591" y="270"/>
                  </a:lnTo>
                  <a:lnTo>
                    <a:pt x="566" y="278"/>
                  </a:lnTo>
                  <a:lnTo>
                    <a:pt x="542" y="286"/>
                  </a:lnTo>
                  <a:lnTo>
                    <a:pt x="517" y="294"/>
                  </a:lnTo>
                  <a:lnTo>
                    <a:pt x="492" y="301"/>
                  </a:lnTo>
                  <a:lnTo>
                    <a:pt x="467" y="310"/>
                  </a:lnTo>
                  <a:lnTo>
                    <a:pt x="443" y="317"/>
                  </a:lnTo>
                  <a:lnTo>
                    <a:pt x="418" y="325"/>
                  </a:lnTo>
                  <a:lnTo>
                    <a:pt x="394" y="334"/>
                  </a:lnTo>
                  <a:close/>
                  <a:moveTo>
                    <a:pt x="354" y="611"/>
                  </a:moveTo>
                  <a:lnTo>
                    <a:pt x="338" y="607"/>
                  </a:lnTo>
                  <a:lnTo>
                    <a:pt x="323" y="604"/>
                  </a:lnTo>
                  <a:lnTo>
                    <a:pt x="308" y="601"/>
                  </a:lnTo>
                  <a:lnTo>
                    <a:pt x="293" y="598"/>
                  </a:lnTo>
                  <a:lnTo>
                    <a:pt x="293" y="570"/>
                  </a:lnTo>
                  <a:lnTo>
                    <a:pt x="293" y="543"/>
                  </a:lnTo>
                  <a:lnTo>
                    <a:pt x="293" y="515"/>
                  </a:lnTo>
                  <a:lnTo>
                    <a:pt x="292" y="487"/>
                  </a:lnTo>
                  <a:lnTo>
                    <a:pt x="292" y="460"/>
                  </a:lnTo>
                  <a:lnTo>
                    <a:pt x="292" y="432"/>
                  </a:lnTo>
                  <a:lnTo>
                    <a:pt x="292" y="405"/>
                  </a:lnTo>
                  <a:lnTo>
                    <a:pt x="292" y="377"/>
                  </a:lnTo>
                  <a:lnTo>
                    <a:pt x="308" y="381"/>
                  </a:lnTo>
                  <a:lnTo>
                    <a:pt x="323" y="384"/>
                  </a:lnTo>
                  <a:lnTo>
                    <a:pt x="338" y="387"/>
                  </a:lnTo>
                  <a:lnTo>
                    <a:pt x="354" y="391"/>
                  </a:lnTo>
                  <a:lnTo>
                    <a:pt x="354" y="418"/>
                  </a:lnTo>
                  <a:lnTo>
                    <a:pt x="354" y="446"/>
                  </a:lnTo>
                  <a:lnTo>
                    <a:pt x="354" y="473"/>
                  </a:lnTo>
                  <a:lnTo>
                    <a:pt x="354" y="501"/>
                  </a:lnTo>
                  <a:lnTo>
                    <a:pt x="354" y="528"/>
                  </a:lnTo>
                  <a:lnTo>
                    <a:pt x="354" y="556"/>
                  </a:lnTo>
                  <a:lnTo>
                    <a:pt x="354" y="583"/>
                  </a:lnTo>
                  <a:lnTo>
                    <a:pt x="354" y="611"/>
                  </a:lnTo>
                  <a:close/>
                  <a:moveTo>
                    <a:pt x="58" y="144"/>
                  </a:moveTo>
                  <a:lnTo>
                    <a:pt x="66" y="133"/>
                  </a:lnTo>
                  <a:lnTo>
                    <a:pt x="74" y="122"/>
                  </a:lnTo>
                  <a:lnTo>
                    <a:pt x="82" y="110"/>
                  </a:lnTo>
                  <a:lnTo>
                    <a:pt x="90" y="100"/>
                  </a:lnTo>
                  <a:lnTo>
                    <a:pt x="114" y="119"/>
                  </a:lnTo>
                  <a:lnTo>
                    <a:pt x="139" y="139"/>
                  </a:lnTo>
                  <a:lnTo>
                    <a:pt x="163" y="158"/>
                  </a:lnTo>
                  <a:lnTo>
                    <a:pt x="187" y="178"/>
                  </a:lnTo>
                  <a:lnTo>
                    <a:pt x="211" y="198"/>
                  </a:lnTo>
                  <a:lnTo>
                    <a:pt x="236" y="217"/>
                  </a:lnTo>
                  <a:lnTo>
                    <a:pt x="260" y="237"/>
                  </a:lnTo>
                  <a:lnTo>
                    <a:pt x="284" y="256"/>
                  </a:lnTo>
                  <a:lnTo>
                    <a:pt x="276" y="267"/>
                  </a:lnTo>
                  <a:lnTo>
                    <a:pt x="269" y="278"/>
                  </a:lnTo>
                  <a:lnTo>
                    <a:pt x="260" y="289"/>
                  </a:lnTo>
                  <a:lnTo>
                    <a:pt x="252" y="300"/>
                  </a:lnTo>
                  <a:lnTo>
                    <a:pt x="228" y="280"/>
                  </a:lnTo>
                  <a:lnTo>
                    <a:pt x="203" y="261"/>
                  </a:lnTo>
                  <a:lnTo>
                    <a:pt x="179" y="241"/>
                  </a:lnTo>
                  <a:lnTo>
                    <a:pt x="155" y="222"/>
                  </a:lnTo>
                  <a:lnTo>
                    <a:pt x="131" y="203"/>
                  </a:lnTo>
                  <a:lnTo>
                    <a:pt x="106" y="183"/>
                  </a:lnTo>
                  <a:lnTo>
                    <a:pt x="82" y="164"/>
                  </a:lnTo>
                  <a:lnTo>
                    <a:pt x="58" y="14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54680" y="4887000"/>
              <a:ext cx="150840" cy="65880"/>
            </a:xfrm>
            <a:custGeom>
              <a:avLst/>
              <a:gdLst/>
              <a:ahLst/>
              <a:rect l="l" t="t" r="r" b="b"/>
              <a:pathLst>
                <a:path w="1115" h="465">
                  <a:moveTo>
                    <a:pt x="0" y="0"/>
                  </a:moveTo>
                  <a:lnTo>
                    <a:pt x="1115" y="248"/>
                  </a:lnTo>
                  <a:lnTo>
                    <a:pt x="1115" y="465"/>
                  </a:lnTo>
                  <a:lnTo>
                    <a:pt x="0" y="2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56720" y="4961520"/>
              <a:ext cx="252360" cy="82800"/>
            </a:xfrm>
            <a:custGeom>
              <a:avLst/>
              <a:gdLst/>
              <a:ahLst/>
              <a:rect l="l" t="t" r="r" b="b"/>
              <a:pathLst>
                <a:path w="1860" h="586">
                  <a:moveTo>
                    <a:pt x="0" y="0"/>
                  </a:moveTo>
                  <a:lnTo>
                    <a:pt x="683" y="168"/>
                  </a:lnTo>
                  <a:lnTo>
                    <a:pt x="683" y="295"/>
                  </a:lnTo>
                  <a:lnTo>
                    <a:pt x="0" y="128"/>
                  </a:lnTo>
                  <a:lnTo>
                    <a:pt x="0" y="0"/>
                  </a:lnTo>
                  <a:close/>
                  <a:moveTo>
                    <a:pt x="895" y="220"/>
                  </a:moveTo>
                  <a:lnTo>
                    <a:pt x="1860" y="459"/>
                  </a:lnTo>
                  <a:lnTo>
                    <a:pt x="1860" y="586"/>
                  </a:lnTo>
                  <a:lnTo>
                    <a:pt x="895" y="348"/>
                  </a:lnTo>
                  <a:lnTo>
                    <a:pt x="895" y="22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73520" y="5041440"/>
              <a:ext cx="129600" cy="48240"/>
            </a:xfrm>
            <a:custGeom>
              <a:avLst/>
              <a:gdLst/>
              <a:ahLst/>
              <a:rect l="l" t="t" r="r" b="b"/>
              <a:pathLst>
                <a:path w="955" h="342">
                  <a:moveTo>
                    <a:pt x="0" y="0"/>
                  </a:moveTo>
                  <a:lnTo>
                    <a:pt x="955" y="216"/>
                  </a:lnTo>
                  <a:lnTo>
                    <a:pt x="955" y="342"/>
                  </a:lnTo>
                  <a:lnTo>
                    <a:pt x="0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640040" y="5010840"/>
              <a:ext cx="10800" cy="279000"/>
            </a:xfrm>
            <a:custGeom>
              <a:avLst/>
              <a:gdLst/>
              <a:ahLst/>
              <a:rect l="l" t="t" r="r" b="b"/>
              <a:pathLst>
                <a:path w="80" h="1961">
                  <a:moveTo>
                    <a:pt x="0" y="0"/>
                  </a:moveTo>
                  <a:lnTo>
                    <a:pt x="80" y="20"/>
                  </a:lnTo>
                  <a:lnTo>
                    <a:pt x="80" y="1961"/>
                  </a:lnTo>
                  <a:lnTo>
                    <a:pt x="0" y="194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40040" y="5320080"/>
              <a:ext cx="10800" cy="409680"/>
            </a:xfrm>
            <a:custGeom>
              <a:avLst/>
              <a:gdLst/>
              <a:ahLst/>
              <a:rect l="l" t="t" r="r" b="b"/>
              <a:pathLst>
                <a:path w="80" h="2876">
                  <a:moveTo>
                    <a:pt x="0" y="0"/>
                  </a:moveTo>
                  <a:lnTo>
                    <a:pt x="80" y="19"/>
                  </a:lnTo>
                  <a:lnTo>
                    <a:pt x="80" y="2876"/>
                  </a:lnTo>
                  <a:lnTo>
                    <a:pt x="0" y="285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73120" y="5207400"/>
              <a:ext cx="10800" cy="409680"/>
            </a:xfrm>
            <a:custGeom>
              <a:avLst/>
              <a:gdLst/>
              <a:ahLst/>
              <a:rect l="l" t="t" r="r" b="b"/>
              <a:pathLst>
                <a:path w="78" h="2876">
                  <a:moveTo>
                    <a:pt x="0" y="0"/>
                  </a:moveTo>
                  <a:lnTo>
                    <a:pt x="78" y="20"/>
                  </a:lnTo>
                  <a:lnTo>
                    <a:pt x="78" y="2876"/>
                  </a:lnTo>
                  <a:lnTo>
                    <a:pt x="0" y="28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999240" y="5177520"/>
              <a:ext cx="107280" cy="61200"/>
            </a:xfrm>
            <a:custGeom>
              <a:avLst/>
              <a:gdLst/>
              <a:ahLst/>
              <a:rect l="l" t="t" r="r" b="b"/>
              <a:pathLst>
                <a:path w="793" h="433">
                  <a:moveTo>
                    <a:pt x="0" y="0"/>
                  </a:moveTo>
                  <a:lnTo>
                    <a:pt x="174" y="42"/>
                  </a:lnTo>
                  <a:lnTo>
                    <a:pt x="174" y="280"/>
                  </a:lnTo>
                  <a:lnTo>
                    <a:pt x="0" y="237"/>
                  </a:lnTo>
                  <a:lnTo>
                    <a:pt x="0" y="0"/>
                  </a:lnTo>
                  <a:close/>
                  <a:moveTo>
                    <a:pt x="303" y="74"/>
                  </a:moveTo>
                  <a:lnTo>
                    <a:pt x="478" y="118"/>
                  </a:lnTo>
                  <a:lnTo>
                    <a:pt x="478" y="355"/>
                  </a:lnTo>
                  <a:lnTo>
                    <a:pt x="303" y="312"/>
                  </a:lnTo>
                  <a:lnTo>
                    <a:pt x="303" y="74"/>
                  </a:lnTo>
                  <a:close/>
                  <a:moveTo>
                    <a:pt x="606" y="149"/>
                  </a:moveTo>
                  <a:lnTo>
                    <a:pt x="793" y="196"/>
                  </a:lnTo>
                  <a:lnTo>
                    <a:pt x="793" y="433"/>
                  </a:lnTo>
                  <a:lnTo>
                    <a:pt x="606" y="387"/>
                  </a:lnTo>
                  <a:lnTo>
                    <a:pt x="606" y="149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04440" y="539820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4"/>
                  </a:lnTo>
                  <a:lnTo>
                    <a:pt x="547" y="196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04440" y="541872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204440" y="5438520"/>
              <a:ext cx="74160" cy="2808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204440" y="54590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04440" y="54795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7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8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7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9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04440" y="5500080"/>
              <a:ext cx="74160" cy="2736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04440" y="55202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204440" y="55407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5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0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79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7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04440" y="5561280"/>
              <a:ext cx="74160" cy="2700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4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3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04440" y="558108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2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8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6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204440" y="560160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3"/>
                  </a:lnTo>
                  <a:lnTo>
                    <a:pt x="547" y="196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76400" y="5511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915" y="228"/>
                  </a:lnTo>
                  <a:lnTo>
                    <a:pt x="915" y="300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76400" y="55321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76400" y="5551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2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676400" y="557244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676400" y="5592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6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7"/>
                  </a:lnTo>
                  <a:lnTo>
                    <a:pt x="571" y="141"/>
                  </a:lnTo>
                  <a:lnTo>
                    <a:pt x="629" y="155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5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299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28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676400" y="56131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9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4"/>
                  </a:lnTo>
                  <a:lnTo>
                    <a:pt x="915" y="283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8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3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76400" y="5632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6"/>
                  </a:lnTo>
                  <a:lnTo>
                    <a:pt x="915" y="264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676400" y="5653080"/>
              <a:ext cx="124200" cy="4320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76400" y="567324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3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676400" y="5693760"/>
              <a:ext cx="124200" cy="4212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76400" y="5713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915" y="227"/>
                  </a:lnTo>
                  <a:lnTo>
                    <a:pt x="915" y="299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59440" y="5122800"/>
              <a:ext cx="36000" cy="47520"/>
            </a:xfrm>
            <a:custGeom>
              <a:avLst/>
              <a:gdLst/>
              <a:ahLst/>
              <a:rect l="l" t="t" r="r" b="b"/>
              <a:pathLst>
                <a:path w="267" h="334">
                  <a:moveTo>
                    <a:pt x="134" y="334"/>
                  </a:moveTo>
                  <a:lnTo>
                    <a:pt x="147" y="333"/>
                  </a:lnTo>
                  <a:lnTo>
                    <a:pt x="160" y="331"/>
                  </a:lnTo>
                  <a:lnTo>
                    <a:pt x="173" y="326"/>
                  </a:lnTo>
                  <a:lnTo>
                    <a:pt x="185" y="321"/>
                  </a:lnTo>
                  <a:lnTo>
                    <a:pt x="197" y="313"/>
                  </a:lnTo>
                  <a:lnTo>
                    <a:pt x="208" y="306"/>
                  </a:lnTo>
                  <a:lnTo>
                    <a:pt x="218" y="296"/>
                  </a:lnTo>
                  <a:lnTo>
                    <a:pt x="227" y="285"/>
                  </a:lnTo>
                  <a:lnTo>
                    <a:pt x="236" y="273"/>
                  </a:lnTo>
                  <a:lnTo>
                    <a:pt x="244" y="260"/>
                  </a:lnTo>
                  <a:lnTo>
                    <a:pt x="250" y="247"/>
                  </a:lnTo>
                  <a:lnTo>
                    <a:pt x="256" y="231"/>
                  </a:lnTo>
                  <a:lnTo>
                    <a:pt x="261" y="216"/>
                  </a:lnTo>
                  <a:lnTo>
                    <a:pt x="264" y="201"/>
                  </a:lnTo>
                  <a:lnTo>
                    <a:pt x="265" y="185"/>
                  </a:lnTo>
                  <a:lnTo>
                    <a:pt x="267" y="167"/>
                  </a:lnTo>
                  <a:lnTo>
                    <a:pt x="265" y="150"/>
                  </a:lnTo>
                  <a:lnTo>
                    <a:pt x="264" y="133"/>
                  </a:lnTo>
                  <a:lnTo>
                    <a:pt x="261" y="117"/>
                  </a:lnTo>
                  <a:lnTo>
                    <a:pt x="256" y="102"/>
                  </a:lnTo>
                  <a:lnTo>
                    <a:pt x="250" y="88"/>
                  </a:lnTo>
                  <a:lnTo>
                    <a:pt x="244" y="73"/>
                  </a:lnTo>
                  <a:lnTo>
                    <a:pt x="236" y="61"/>
                  </a:lnTo>
                  <a:lnTo>
                    <a:pt x="227" y="49"/>
                  </a:lnTo>
                  <a:lnTo>
                    <a:pt x="218" y="39"/>
                  </a:lnTo>
                  <a:lnTo>
                    <a:pt x="208" y="29"/>
                  </a:lnTo>
                  <a:lnTo>
                    <a:pt x="197" y="20"/>
                  </a:lnTo>
                  <a:lnTo>
                    <a:pt x="185" y="13"/>
                  </a:lnTo>
                  <a:lnTo>
                    <a:pt x="173" y="8"/>
                  </a:lnTo>
                  <a:lnTo>
                    <a:pt x="160" y="4"/>
                  </a:lnTo>
                  <a:lnTo>
                    <a:pt x="147" y="1"/>
                  </a:lnTo>
                  <a:lnTo>
                    <a:pt x="134" y="0"/>
                  </a:lnTo>
                  <a:lnTo>
                    <a:pt x="119" y="1"/>
                  </a:lnTo>
                  <a:lnTo>
                    <a:pt x="106" y="4"/>
                  </a:lnTo>
                  <a:lnTo>
                    <a:pt x="93" y="8"/>
                  </a:lnTo>
                  <a:lnTo>
                    <a:pt x="81" y="13"/>
                  </a:lnTo>
                  <a:lnTo>
                    <a:pt x="69" y="20"/>
                  </a:lnTo>
                  <a:lnTo>
                    <a:pt x="58" y="29"/>
                  </a:lnTo>
                  <a:lnTo>
                    <a:pt x="49" y="39"/>
                  </a:lnTo>
                  <a:lnTo>
                    <a:pt x="39" y="49"/>
                  </a:lnTo>
                  <a:lnTo>
                    <a:pt x="30" y="61"/>
                  </a:lnTo>
                  <a:lnTo>
                    <a:pt x="22" y="73"/>
                  </a:lnTo>
                  <a:lnTo>
                    <a:pt x="16" y="88"/>
                  </a:lnTo>
                  <a:lnTo>
                    <a:pt x="10" y="102"/>
                  </a:lnTo>
                  <a:lnTo>
                    <a:pt x="6" y="117"/>
                  </a:lnTo>
                  <a:lnTo>
                    <a:pt x="3" y="133"/>
                  </a:lnTo>
                  <a:lnTo>
                    <a:pt x="1" y="150"/>
                  </a:lnTo>
                  <a:lnTo>
                    <a:pt x="0" y="167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6" y="216"/>
                  </a:lnTo>
                  <a:lnTo>
                    <a:pt x="10" y="231"/>
                  </a:lnTo>
                  <a:lnTo>
                    <a:pt x="16" y="247"/>
                  </a:lnTo>
                  <a:lnTo>
                    <a:pt x="22" y="260"/>
                  </a:lnTo>
                  <a:lnTo>
                    <a:pt x="30" y="273"/>
                  </a:lnTo>
                  <a:lnTo>
                    <a:pt x="39" y="285"/>
                  </a:lnTo>
                  <a:lnTo>
                    <a:pt x="49" y="296"/>
                  </a:lnTo>
                  <a:lnTo>
                    <a:pt x="58" y="306"/>
                  </a:lnTo>
                  <a:lnTo>
                    <a:pt x="69" y="313"/>
                  </a:lnTo>
                  <a:lnTo>
                    <a:pt x="81" y="321"/>
                  </a:lnTo>
                  <a:lnTo>
                    <a:pt x="93" y="326"/>
                  </a:lnTo>
                  <a:lnTo>
                    <a:pt x="106" y="331"/>
                  </a:lnTo>
                  <a:lnTo>
                    <a:pt x="119" y="333"/>
                  </a:lnTo>
                  <a:lnTo>
                    <a:pt x="134" y="334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4021200" y="5784840"/>
            <a:ext cx="90000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19615800">
            <a:off x="6671160" y="4830480"/>
            <a:ext cx="76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470640" y="486900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299200" y="3962520"/>
            <a:ext cx="148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 may push data for repor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410160" y="4589640"/>
            <a:ext cx="119160" cy="293400"/>
          </a:xfrm>
          <a:custGeom>
            <a:avLst/>
            <a:gdLst/>
            <a:ahLst/>
            <a:rect l="l" t="t" r="r" b="b"/>
            <a:pathLst>
              <a:path w="75" h="186">
                <a:moveTo>
                  <a:pt x="0" y="0"/>
                </a:moveTo>
                <a:lnTo>
                  <a:pt x="75" y="0"/>
                </a:lnTo>
                <a:lnTo>
                  <a:pt x="75" y="18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rot="20028600">
            <a:off x="6378840" y="5013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REP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rot="19083600">
            <a:off x="7045560" y="458388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879480" y="5259240"/>
            <a:ext cx="1077840" cy="833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594" name=""/>
          <p:cNvSpPr/>
          <p:nvPr/>
        </p:nvSpPr>
        <p:spPr>
          <a:xfrm>
            <a:off x="1071000" y="5451480"/>
            <a:ext cx="64692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572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2. Mandated Clinical Report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047000" y="3114720"/>
            <a:ext cx="1265040" cy="977760"/>
            <a:chOff x="7047000" y="3114720"/>
            <a:chExt cx="1265040" cy="977760"/>
          </a:xfrm>
        </p:grpSpPr>
        <p:pic>
          <p:nvPicPr>
            <p:cNvPr id="597" name="" descr=""/>
            <p:cNvPicPr/>
            <p:nvPr/>
          </p:nvPicPr>
          <p:blipFill>
            <a:blip r:embed="rId4"/>
            <a:stretch/>
          </p:blipFill>
          <p:spPr>
            <a:xfrm>
              <a:off x="7047000" y="311472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598" name=""/>
            <p:cNvSpPr/>
            <p:nvPr/>
          </p:nvSpPr>
          <p:spPr>
            <a:xfrm>
              <a:off x="7282440" y="334980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 txBox="1"/>
          <p:nvPr/>
        </p:nvSpPr>
        <p:spPr>
          <a:xfrm>
            <a:off x="2743200" y="5905440"/>
            <a:ext cx="380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0" name=""/>
          <p:cNvSpPr/>
          <p:nvPr/>
        </p:nvSpPr>
        <p:spPr>
          <a:xfrm>
            <a:off x="609480" y="12952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-reporting by physicians very com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ed algorithms could trigger review based on diagnoses, medications, and proced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ulatory EHR example (Klomp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d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4398840" y="4313160"/>
            <a:ext cx="3378240" cy="163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1100160" y="5394240"/>
            <a:ext cx="3300480" cy="1013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603" name=""/>
          <p:cNvSpPr/>
          <p:nvPr/>
        </p:nvSpPr>
        <p:spPr>
          <a:xfrm>
            <a:off x="4062960" y="47530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e7fc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3975120" y="5205240"/>
            <a:ext cx="1028160" cy="1070280"/>
            <a:chOff x="3975120" y="5205240"/>
            <a:chExt cx="1028160" cy="1070280"/>
          </a:xfrm>
        </p:grpSpPr>
        <p:sp>
          <p:nvSpPr>
            <p:cNvPr id="605" name=""/>
            <p:cNvSpPr/>
            <p:nvPr/>
          </p:nvSpPr>
          <p:spPr>
            <a:xfrm>
              <a:off x="4288680" y="6058440"/>
              <a:ext cx="63360" cy="91440"/>
            </a:xfrm>
            <a:custGeom>
              <a:avLst/>
              <a:gdLst/>
              <a:ahLst/>
              <a:rect l="l" t="t" r="r" b="b"/>
              <a:pathLst>
                <a:path w="469" h="644">
                  <a:moveTo>
                    <a:pt x="81" y="644"/>
                  </a:moveTo>
                  <a:lnTo>
                    <a:pt x="0" y="474"/>
                  </a:lnTo>
                  <a:lnTo>
                    <a:pt x="85" y="137"/>
                  </a:lnTo>
                  <a:lnTo>
                    <a:pt x="469" y="0"/>
                  </a:lnTo>
                  <a:lnTo>
                    <a:pt x="469" y="417"/>
                  </a:lnTo>
                  <a:lnTo>
                    <a:pt x="81" y="6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990600" y="6037200"/>
              <a:ext cx="309240" cy="112680"/>
            </a:xfrm>
            <a:custGeom>
              <a:avLst/>
              <a:gdLst/>
              <a:ahLst/>
              <a:rect l="l" t="t" r="r" b="b"/>
              <a:pathLst>
                <a:path w="2280" h="791">
                  <a:moveTo>
                    <a:pt x="0" y="0"/>
                  </a:moveTo>
                  <a:lnTo>
                    <a:pt x="0" y="284"/>
                  </a:lnTo>
                  <a:lnTo>
                    <a:pt x="2280" y="791"/>
                  </a:lnTo>
                  <a:lnTo>
                    <a:pt x="228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819320" y="6120720"/>
              <a:ext cx="171360" cy="154800"/>
            </a:xfrm>
            <a:custGeom>
              <a:avLst/>
              <a:gdLst/>
              <a:ahLst/>
              <a:rect l="l" t="t" r="r" b="b"/>
              <a:pathLst>
                <a:path w="1264" h="1086">
                  <a:moveTo>
                    <a:pt x="81" y="1086"/>
                  </a:moveTo>
                  <a:lnTo>
                    <a:pt x="0" y="915"/>
                  </a:lnTo>
                  <a:lnTo>
                    <a:pt x="85" y="580"/>
                  </a:lnTo>
                  <a:lnTo>
                    <a:pt x="1264" y="0"/>
                  </a:lnTo>
                  <a:lnTo>
                    <a:pt x="1264" y="417"/>
                  </a:lnTo>
                  <a:lnTo>
                    <a:pt x="81" y="10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333680" y="6116040"/>
              <a:ext cx="496440" cy="159480"/>
            </a:xfrm>
            <a:custGeom>
              <a:avLst/>
              <a:gdLst/>
              <a:ahLst/>
              <a:rect l="l" t="t" r="r" b="b"/>
              <a:pathLst>
                <a:path w="3663" h="1122">
                  <a:moveTo>
                    <a:pt x="0" y="0"/>
                  </a:moveTo>
                  <a:lnTo>
                    <a:pt x="0" y="284"/>
                  </a:lnTo>
                  <a:lnTo>
                    <a:pt x="3663" y="1122"/>
                  </a:lnTo>
                  <a:lnTo>
                    <a:pt x="3663" y="7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78960" y="5585400"/>
              <a:ext cx="194760" cy="535320"/>
            </a:xfrm>
            <a:custGeom>
              <a:avLst/>
              <a:gdLst/>
              <a:ahLst/>
              <a:rect l="l" t="t" r="r" b="b"/>
              <a:pathLst>
                <a:path w="1438" h="3756">
                  <a:moveTo>
                    <a:pt x="111" y="3756"/>
                  </a:moveTo>
                  <a:lnTo>
                    <a:pt x="0" y="2991"/>
                  </a:lnTo>
                  <a:lnTo>
                    <a:pt x="83" y="618"/>
                  </a:lnTo>
                  <a:lnTo>
                    <a:pt x="1438" y="0"/>
                  </a:lnTo>
                  <a:lnTo>
                    <a:pt x="1438" y="3005"/>
                  </a:lnTo>
                  <a:lnTo>
                    <a:pt x="111" y="3756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75120" y="5614920"/>
              <a:ext cx="319680" cy="505440"/>
            </a:xfrm>
            <a:custGeom>
              <a:avLst/>
              <a:gdLst/>
              <a:ahLst/>
              <a:rect l="l" t="t" r="r" b="b"/>
              <a:pathLst>
                <a:path w="589" h="887">
                  <a:moveTo>
                    <a:pt x="589" y="887"/>
                  </a:moveTo>
                  <a:lnTo>
                    <a:pt x="0" y="751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6"/>
                  </a:lnTo>
                  <a:lnTo>
                    <a:pt x="589" y="887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75840" y="551556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4">
                  <a:moveTo>
                    <a:pt x="0" y="695"/>
                  </a:moveTo>
                  <a:lnTo>
                    <a:pt x="1304" y="0"/>
                  </a:lnTo>
                  <a:lnTo>
                    <a:pt x="3671" y="491"/>
                  </a:lnTo>
                  <a:lnTo>
                    <a:pt x="2343" y="1244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08160" y="5711760"/>
              <a:ext cx="195120" cy="532800"/>
            </a:xfrm>
            <a:custGeom>
              <a:avLst/>
              <a:gdLst/>
              <a:ahLst/>
              <a:rect l="l" t="t" r="r" b="b"/>
              <a:pathLst>
                <a:path w="1440" h="3739">
                  <a:moveTo>
                    <a:pt x="111" y="3739"/>
                  </a:moveTo>
                  <a:lnTo>
                    <a:pt x="0" y="2974"/>
                  </a:lnTo>
                  <a:lnTo>
                    <a:pt x="84" y="619"/>
                  </a:lnTo>
                  <a:lnTo>
                    <a:pt x="1440" y="0"/>
                  </a:lnTo>
                  <a:lnTo>
                    <a:pt x="1440" y="2988"/>
                  </a:lnTo>
                  <a:lnTo>
                    <a:pt x="111" y="3739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313520" y="5695920"/>
              <a:ext cx="510120" cy="549000"/>
            </a:xfrm>
            <a:custGeom>
              <a:avLst/>
              <a:gdLst/>
              <a:ahLst/>
              <a:rect l="l" t="t" r="r" b="b"/>
              <a:pathLst>
                <a:path w="940" h="963">
                  <a:moveTo>
                    <a:pt x="940" y="963"/>
                  </a:moveTo>
                  <a:lnTo>
                    <a:pt x="0" y="749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90"/>
                  </a:lnTo>
                  <a:lnTo>
                    <a:pt x="940" y="96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314600" y="559332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5">
                  <a:moveTo>
                    <a:pt x="0" y="722"/>
                  </a:moveTo>
                  <a:lnTo>
                    <a:pt x="1332" y="0"/>
                  </a:lnTo>
                  <a:lnTo>
                    <a:pt x="5075" y="824"/>
                  </a:lnTo>
                  <a:lnTo>
                    <a:pt x="3762" y="1585"/>
                  </a:lnTo>
                  <a:lnTo>
                    <a:pt x="0" y="722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78960" y="5274360"/>
              <a:ext cx="194760" cy="401760"/>
            </a:xfrm>
            <a:custGeom>
              <a:avLst/>
              <a:gdLst/>
              <a:ahLst/>
              <a:rect l="l" t="t" r="r" b="b"/>
              <a:pathLst>
                <a:path w="1438" h="2822">
                  <a:moveTo>
                    <a:pt x="111" y="2822"/>
                  </a:moveTo>
                  <a:lnTo>
                    <a:pt x="0" y="2057"/>
                  </a:lnTo>
                  <a:lnTo>
                    <a:pt x="83" y="619"/>
                  </a:lnTo>
                  <a:lnTo>
                    <a:pt x="1438" y="0"/>
                  </a:lnTo>
                  <a:lnTo>
                    <a:pt x="1438" y="2072"/>
                  </a:lnTo>
                  <a:lnTo>
                    <a:pt x="111" y="2822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975120" y="5304240"/>
              <a:ext cx="319680" cy="371880"/>
            </a:xfrm>
            <a:custGeom>
              <a:avLst/>
              <a:gdLst/>
              <a:ahLst/>
              <a:rect l="l" t="t" r="r" b="b"/>
              <a:pathLst>
                <a:path w="589" h="653">
                  <a:moveTo>
                    <a:pt x="589" y="653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2"/>
                  </a:lnTo>
                  <a:lnTo>
                    <a:pt x="589" y="65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975840" y="520524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3">
                  <a:moveTo>
                    <a:pt x="0" y="693"/>
                  </a:moveTo>
                  <a:lnTo>
                    <a:pt x="1304" y="0"/>
                  </a:lnTo>
                  <a:lnTo>
                    <a:pt x="3671" y="490"/>
                  </a:lnTo>
                  <a:lnTo>
                    <a:pt x="2343" y="124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08160" y="5401080"/>
              <a:ext cx="195120" cy="402480"/>
            </a:xfrm>
            <a:custGeom>
              <a:avLst/>
              <a:gdLst/>
              <a:ahLst/>
              <a:rect l="l" t="t" r="r" b="b"/>
              <a:pathLst>
                <a:path w="1440" h="2823">
                  <a:moveTo>
                    <a:pt x="111" y="2823"/>
                  </a:moveTo>
                  <a:lnTo>
                    <a:pt x="0" y="2058"/>
                  </a:lnTo>
                  <a:lnTo>
                    <a:pt x="84" y="618"/>
                  </a:lnTo>
                  <a:lnTo>
                    <a:pt x="1440" y="0"/>
                  </a:lnTo>
                  <a:lnTo>
                    <a:pt x="1440" y="2072"/>
                  </a:lnTo>
                  <a:lnTo>
                    <a:pt x="111" y="2823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13520" y="5385240"/>
              <a:ext cx="510120" cy="417240"/>
            </a:xfrm>
            <a:custGeom>
              <a:avLst/>
              <a:gdLst/>
              <a:ahLst/>
              <a:rect l="l" t="t" r="r" b="b"/>
              <a:pathLst>
                <a:path w="940" h="732">
                  <a:moveTo>
                    <a:pt x="940" y="732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89"/>
                  </a:lnTo>
                  <a:lnTo>
                    <a:pt x="940" y="732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314600" y="528264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3">
                  <a:moveTo>
                    <a:pt x="0" y="721"/>
                  </a:moveTo>
                  <a:lnTo>
                    <a:pt x="1332" y="0"/>
                  </a:lnTo>
                  <a:lnTo>
                    <a:pt x="5075" y="823"/>
                  </a:lnTo>
                  <a:lnTo>
                    <a:pt x="3762" y="1583"/>
                  </a:lnTo>
                  <a:lnTo>
                    <a:pt x="0" y="721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62120" y="5549400"/>
              <a:ext cx="214920" cy="168120"/>
            </a:xfrm>
            <a:custGeom>
              <a:avLst/>
              <a:gdLst/>
              <a:ahLst/>
              <a:rect l="l" t="t" r="r" b="b"/>
              <a:pathLst>
                <a:path w="1582" h="1178">
                  <a:moveTo>
                    <a:pt x="0" y="0"/>
                  </a:moveTo>
                  <a:lnTo>
                    <a:pt x="98" y="21"/>
                  </a:lnTo>
                  <a:lnTo>
                    <a:pt x="196" y="42"/>
                  </a:lnTo>
                  <a:lnTo>
                    <a:pt x="294" y="63"/>
                  </a:lnTo>
                  <a:lnTo>
                    <a:pt x="393" y="86"/>
                  </a:lnTo>
                  <a:lnTo>
                    <a:pt x="491" y="108"/>
                  </a:lnTo>
                  <a:lnTo>
                    <a:pt x="589" y="130"/>
                  </a:lnTo>
                  <a:lnTo>
                    <a:pt x="688" y="151"/>
                  </a:lnTo>
                  <a:lnTo>
                    <a:pt x="786" y="174"/>
                  </a:lnTo>
                  <a:lnTo>
                    <a:pt x="884" y="196"/>
                  </a:lnTo>
                  <a:lnTo>
                    <a:pt x="984" y="219"/>
                  </a:lnTo>
                  <a:lnTo>
                    <a:pt x="1082" y="241"/>
                  </a:lnTo>
                  <a:lnTo>
                    <a:pt x="1181" y="263"/>
                  </a:lnTo>
                  <a:lnTo>
                    <a:pt x="1279" y="284"/>
                  </a:lnTo>
                  <a:lnTo>
                    <a:pt x="1378" y="306"/>
                  </a:lnTo>
                  <a:lnTo>
                    <a:pt x="1476" y="328"/>
                  </a:lnTo>
                  <a:lnTo>
                    <a:pt x="1575" y="349"/>
                  </a:lnTo>
                  <a:lnTo>
                    <a:pt x="1575" y="401"/>
                  </a:lnTo>
                  <a:lnTo>
                    <a:pt x="1575" y="452"/>
                  </a:lnTo>
                  <a:lnTo>
                    <a:pt x="1576" y="504"/>
                  </a:lnTo>
                  <a:lnTo>
                    <a:pt x="1576" y="556"/>
                  </a:lnTo>
                  <a:lnTo>
                    <a:pt x="1576" y="608"/>
                  </a:lnTo>
                  <a:lnTo>
                    <a:pt x="1578" y="660"/>
                  </a:lnTo>
                  <a:lnTo>
                    <a:pt x="1578" y="712"/>
                  </a:lnTo>
                  <a:lnTo>
                    <a:pt x="1579" y="764"/>
                  </a:lnTo>
                  <a:lnTo>
                    <a:pt x="1579" y="815"/>
                  </a:lnTo>
                  <a:lnTo>
                    <a:pt x="1579" y="867"/>
                  </a:lnTo>
                  <a:lnTo>
                    <a:pt x="1580" y="919"/>
                  </a:lnTo>
                  <a:lnTo>
                    <a:pt x="1580" y="971"/>
                  </a:lnTo>
                  <a:lnTo>
                    <a:pt x="1580" y="1023"/>
                  </a:lnTo>
                  <a:lnTo>
                    <a:pt x="1581" y="1074"/>
                  </a:lnTo>
                  <a:lnTo>
                    <a:pt x="1581" y="1127"/>
                  </a:lnTo>
                  <a:lnTo>
                    <a:pt x="1582" y="1178"/>
                  </a:lnTo>
                  <a:lnTo>
                    <a:pt x="1483" y="1157"/>
                  </a:lnTo>
                  <a:lnTo>
                    <a:pt x="1384" y="1135"/>
                  </a:lnTo>
                  <a:lnTo>
                    <a:pt x="1285" y="1114"/>
                  </a:lnTo>
                  <a:lnTo>
                    <a:pt x="1186" y="1092"/>
                  </a:lnTo>
                  <a:lnTo>
                    <a:pt x="1088" y="1069"/>
                  </a:lnTo>
                  <a:lnTo>
                    <a:pt x="989" y="1047"/>
                  </a:lnTo>
                  <a:lnTo>
                    <a:pt x="890" y="1024"/>
                  </a:lnTo>
                  <a:lnTo>
                    <a:pt x="792" y="1002"/>
                  </a:lnTo>
                  <a:lnTo>
                    <a:pt x="693" y="980"/>
                  </a:lnTo>
                  <a:lnTo>
                    <a:pt x="595" y="958"/>
                  </a:lnTo>
                  <a:lnTo>
                    <a:pt x="496" y="935"/>
                  </a:lnTo>
                  <a:lnTo>
                    <a:pt x="397" y="913"/>
                  </a:lnTo>
                  <a:lnTo>
                    <a:pt x="299" y="891"/>
                  </a:lnTo>
                  <a:lnTo>
                    <a:pt x="200" y="870"/>
                  </a:lnTo>
                  <a:lnTo>
                    <a:pt x="102" y="848"/>
                  </a:lnTo>
                  <a:lnTo>
                    <a:pt x="3" y="827"/>
                  </a:lnTo>
                  <a:lnTo>
                    <a:pt x="3" y="775"/>
                  </a:lnTo>
                  <a:lnTo>
                    <a:pt x="3" y="724"/>
                  </a:lnTo>
                  <a:lnTo>
                    <a:pt x="3" y="671"/>
                  </a:lnTo>
                  <a:lnTo>
                    <a:pt x="2" y="620"/>
                  </a:lnTo>
                  <a:lnTo>
                    <a:pt x="2" y="568"/>
                  </a:lnTo>
                  <a:lnTo>
                    <a:pt x="2" y="516"/>
                  </a:lnTo>
                  <a:lnTo>
                    <a:pt x="2" y="465"/>
                  </a:lnTo>
                  <a:lnTo>
                    <a:pt x="2" y="413"/>
                  </a:lnTo>
                  <a:lnTo>
                    <a:pt x="1" y="362"/>
                  </a:lnTo>
                  <a:lnTo>
                    <a:pt x="1" y="309"/>
                  </a:lnTo>
                  <a:lnTo>
                    <a:pt x="1" y="258"/>
                  </a:lnTo>
                  <a:lnTo>
                    <a:pt x="1" y="206"/>
                  </a:lnTo>
                  <a:lnTo>
                    <a:pt x="0" y="155"/>
                  </a:lnTo>
                  <a:lnTo>
                    <a:pt x="0" y="103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375080" y="5577120"/>
              <a:ext cx="87120" cy="91440"/>
            </a:xfrm>
            <a:custGeom>
              <a:avLst/>
              <a:gdLst/>
              <a:ahLst/>
              <a:rect l="l" t="t" r="r" b="b"/>
              <a:pathLst>
                <a:path w="646" h="644">
                  <a:moveTo>
                    <a:pt x="321" y="8"/>
                  </a:moveTo>
                  <a:lnTo>
                    <a:pt x="337" y="12"/>
                  </a:lnTo>
                  <a:lnTo>
                    <a:pt x="353" y="16"/>
                  </a:lnTo>
                  <a:lnTo>
                    <a:pt x="370" y="22"/>
                  </a:lnTo>
                  <a:lnTo>
                    <a:pt x="385" y="28"/>
                  </a:lnTo>
                  <a:lnTo>
                    <a:pt x="401" y="35"/>
                  </a:lnTo>
                  <a:lnTo>
                    <a:pt x="416" y="43"/>
                  </a:lnTo>
                  <a:lnTo>
                    <a:pt x="432" y="50"/>
                  </a:lnTo>
                  <a:lnTo>
                    <a:pt x="446" y="59"/>
                  </a:lnTo>
                  <a:lnTo>
                    <a:pt x="460" y="69"/>
                  </a:lnTo>
                  <a:lnTo>
                    <a:pt x="474" y="78"/>
                  </a:lnTo>
                  <a:lnTo>
                    <a:pt x="488" y="89"/>
                  </a:lnTo>
                  <a:lnTo>
                    <a:pt x="501" y="100"/>
                  </a:lnTo>
                  <a:lnTo>
                    <a:pt x="515" y="111"/>
                  </a:lnTo>
                  <a:lnTo>
                    <a:pt x="527" y="123"/>
                  </a:lnTo>
                  <a:lnTo>
                    <a:pt x="539" y="136"/>
                  </a:lnTo>
                  <a:lnTo>
                    <a:pt x="549" y="149"/>
                  </a:lnTo>
                  <a:lnTo>
                    <a:pt x="560" y="162"/>
                  </a:lnTo>
                  <a:lnTo>
                    <a:pt x="571" y="175"/>
                  </a:lnTo>
                  <a:lnTo>
                    <a:pt x="581" y="190"/>
                  </a:lnTo>
                  <a:lnTo>
                    <a:pt x="590" y="204"/>
                  </a:lnTo>
                  <a:lnTo>
                    <a:pt x="598" y="218"/>
                  </a:lnTo>
                  <a:lnTo>
                    <a:pt x="606" y="233"/>
                  </a:lnTo>
                  <a:lnTo>
                    <a:pt x="614" y="248"/>
                  </a:lnTo>
                  <a:lnTo>
                    <a:pt x="620" y="264"/>
                  </a:lnTo>
                  <a:lnTo>
                    <a:pt x="626" y="279"/>
                  </a:lnTo>
                  <a:lnTo>
                    <a:pt x="631" y="295"/>
                  </a:lnTo>
                  <a:lnTo>
                    <a:pt x="636" y="311"/>
                  </a:lnTo>
                  <a:lnTo>
                    <a:pt x="640" y="327"/>
                  </a:lnTo>
                  <a:lnTo>
                    <a:pt x="643" y="342"/>
                  </a:lnTo>
                  <a:lnTo>
                    <a:pt x="645" y="359"/>
                  </a:lnTo>
                  <a:lnTo>
                    <a:pt x="646" y="375"/>
                  </a:lnTo>
                  <a:lnTo>
                    <a:pt x="646" y="391"/>
                  </a:lnTo>
                  <a:lnTo>
                    <a:pt x="646" y="408"/>
                  </a:lnTo>
                  <a:lnTo>
                    <a:pt x="645" y="423"/>
                  </a:lnTo>
                  <a:lnTo>
                    <a:pt x="643" y="438"/>
                  </a:lnTo>
                  <a:lnTo>
                    <a:pt x="641" y="453"/>
                  </a:lnTo>
                  <a:lnTo>
                    <a:pt x="637" y="468"/>
                  </a:lnTo>
                  <a:lnTo>
                    <a:pt x="632" y="482"/>
                  </a:lnTo>
                  <a:lnTo>
                    <a:pt x="628" y="495"/>
                  </a:lnTo>
                  <a:lnTo>
                    <a:pt x="621" y="508"/>
                  </a:lnTo>
                  <a:lnTo>
                    <a:pt x="615" y="521"/>
                  </a:lnTo>
                  <a:lnTo>
                    <a:pt x="608" y="533"/>
                  </a:lnTo>
                  <a:lnTo>
                    <a:pt x="601" y="544"/>
                  </a:lnTo>
                  <a:lnTo>
                    <a:pt x="592" y="556"/>
                  </a:lnTo>
                  <a:lnTo>
                    <a:pt x="583" y="566"/>
                  </a:lnTo>
                  <a:lnTo>
                    <a:pt x="573" y="575"/>
                  </a:lnTo>
                  <a:lnTo>
                    <a:pt x="564" y="585"/>
                  </a:lnTo>
                  <a:lnTo>
                    <a:pt x="553" y="594"/>
                  </a:lnTo>
                  <a:lnTo>
                    <a:pt x="541" y="602"/>
                  </a:lnTo>
                  <a:lnTo>
                    <a:pt x="530" y="609"/>
                  </a:lnTo>
                  <a:lnTo>
                    <a:pt x="517" y="616"/>
                  </a:lnTo>
                  <a:lnTo>
                    <a:pt x="505" y="622"/>
                  </a:lnTo>
                  <a:lnTo>
                    <a:pt x="492" y="627"/>
                  </a:lnTo>
                  <a:lnTo>
                    <a:pt x="477" y="632"/>
                  </a:lnTo>
                  <a:lnTo>
                    <a:pt x="464" y="635"/>
                  </a:lnTo>
                  <a:lnTo>
                    <a:pt x="449" y="639"/>
                  </a:lnTo>
                  <a:lnTo>
                    <a:pt x="435" y="642"/>
                  </a:lnTo>
                  <a:lnTo>
                    <a:pt x="420" y="643"/>
                  </a:lnTo>
                  <a:lnTo>
                    <a:pt x="404" y="644"/>
                  </a:lnTo>
                  <a:lnTo>
                    <a:pt x="389" y="644"/>
                  </a:lnTo>
                  <a:lnTo>
                    <a:pt x="373" y="644"/>
                  </a:lnTo>
                  <a:lnTo>
                    <a:pt x="357" y="643"/>
                  </a:lnTo>
                  <a:lnTo>
                    <a:pt x="340" y="640"/>
                  </a:lnTo>
                  <a:lnTo>
                    <a:pt x="324" y="637"/>
                  </a:lnTo>
                  <a:lnTo>
                    <a:pt x="307" y="633"/>
                  </a:lnTo>
                  <a:lnTo>
                    <a:pt x="291" y="629"/>
                  </a:lnTo>
                  <a:lnTo>
                    <a:pt x="275" y="623"/>
                  </a:lnTo>
                  <a:lnTo>
                    <a:pt x="258" y="617"/>
                  </a:lnTo>
                  <a:lnTo>
                    <a:pt x="243" y="610"/>
                  </a:lnTo>
                  <a:lnTo>
                    <a:pt x="228" y="603"/>
                  </a:lnTo>
                  <a:lnTo>
                    <a:pt x="213" y="594"/>
                  </a:lnTo>
                  <a:lnTo>
                    <a:pt x="199" y="585"/>
                  </a:lnTo>
                  <a:lnTo>
                    <a:pt x="184" y="575"/>
                  </a:lnTo>
                  <a:lnTo>
                    <a:pt x="170" y="566"/>
                  </a:lnTo>
                  <a:lnTo>
                    <a:pt x="156" y="556"/>
                  </a:lnTo>
                  <a:lnTo>
                    <a:pt x="143" y="545"/>
                  </a:lnTo>
                  <a:lnTo>
                    <a:pt x="131" y="533"/>
                  </a:lnTo>
                  <a:lnTo>
                    <a:pt x="118" y="521"/>
                  </a:lnTo>
                  <a:lnTo>
                    <a:pt x="107" y="509"/>
                  </a:lnTo>
                  <a:lnTo>
                    <a:pt x="95" y="496"/>
                  </a:lnTo>
                  <a:lnTo>
                    <a:pt x="85" y="483"/>
                  </a:lnTo>
                  <a:lnTo>
                    <a:pt x="74" y="469"/>
                  </a:lnTo>
                  <a:lnTo>
                    <a:pt x="64" y="454"/>
                  </a:lnTo>
                  <a:lnTo>
                    <a:pt x="56" y="440"/>
                  </a:lnTo>
                  <a:lnTo>
                    <a:pt x="47" y="426"/>
                  </a:lnTo>
                  <a:lnTo>
                    <a:pt x="39" y="411"/>
                  </a:lnTo>
                  <a:lnTo>
                    <a:pt x="32" y="396"/>
                  </a:lnTo>
                  <a:lnTo>
                    <a:pt x="25" y="380"/>
                  </a:lnTo>
                  <a:lnTo>
                    <a:pt x="20" y="365"/>
                  </a:lnTo>
                  <a:lnTo>
                    <a:pt x="14" y="350"/>
                  </a:lnTo>
                  <a:lnTo>
                    <a:pt x="10" y="333"/>
                  </a:lnTo>
                  <a:lnTo>
                    <a:pt x="7" y="318"/>
                  </a:lnTo>
                  <a:lnTo>
                    <a:pt x="3" y="302"/>
                  </a:lnTo>
                  <a:lnTo>
                    <a:pt x="1" y="286"/>
                  </a:lnTo>
                  <a:lnTo>
                    <a:pt x="0" y="269"/>
                  </a:lnTo>
                  <a:lnTo>
                    <a:pt x="0" y="253"/>
                  </a:lnTo>
                  <a:lnTo>
                    <a:pt x="0" y="238"/>
                  </a:lnTo>
                  <a:lnTo>
                    <a:pt x="1" y="221"/>
                  </a:lnTo>
                  <a:lnTo>
                    <a:pt x="3" y="206"/>
                  </a:lnTo>
                  <a:lnTo>
                    <a:pt x="6" y="192"/>
                  </a:lnTo>
                  <a:lnTo>
                    <a:pt x="10" y="177"/>
                  </a:lnTo>
                  <a:lnTo>
                    <a:pt x="14" y="163"/>
                  </a:lnTo>
                  <a:lnTo>
                    <a:pt x="19" y="149"/>
                  </a:lnTo>
                  <a:lnTo>
                    <a:pt x="24" y="136"/>
                  </a:lnTo>
                  <a:lnTo>
                    <a:pt x="31" y="124"/>
                  </a:lnTo>
                  <a:lnTo>
                    <a:pt x="38" y="112"/>
                  </a:lnTo>
                  <a:lnTo>
                    <a:pt x="46" y="100"/>
                  </a:lnTo>
                  <a:lnTo>
                    <a:pt x="54" y="89"/>
                  </a:lnTo>
                  <a:lnTo>
                    <a:pt x="63" y="80"/>
                  </a:lnTo>
                  <a:lnTo>
                    <a:pt x="72" y="70"/>
                  </a:lnTo>
                  <a:lnTo>
                    <a:pt x="82" y="60"/>
                  </a:lnTo>
                  <a:lnTo>
                    <a:pt x="93" y="51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9"/>
                  </a:lnTo>
                  <a:lnTo>
                    <a:pt x="141" y="23"/>
                  </a:lnTo>
                  <a:lnTo>
                    <a:pt x="154" y="17"/>
                  </a:lnTo>
                  <a:lnTo>
                    <a:pt x="167" y="13"/>
                  </a:lnTo>
                  <a:lnTo>
                    <a:pt x="181" y="9"/>
                  </a:lnTo>
                  <a:lnTo>
                    <a:pt x="195" y="5"/>
                  </a:lnTo>
                  <a:lnTo>
                    <a:pt x="209" y="3"/>
                  </a:lnTo>
                  <a:lnTo>
                    <a:pt x="225" y="1"/>
                  </a:lnTo>
                  <a:lnTo>
                    <a:pt x="240" y="1"/>
                  </a:lnTo>
                  <a:lnTo>
                    <a:pt x="255" y="0"/>
                  </a:lnTo>
                  <a:lnTo>
                    <a:pt x="272" y="1"/>
                  </a:lnTo>
                  <a:lnTo>
                    <a:pt x="288" y="2"/>
                  </a:lnTo>
                  <a:lnTo>
                    <a:pt x="304" y="4"/>
                  </a:lnTo>
                  <a:lnTo>
                    <a:pt x="321" y="8"/>
                  </a:lnTo>
                  <a:close/>
                  <a:moveTo>
                    <a:pt x="363" y="388"/>
                  </a:moveTo>
                  <a:lnTo>
                    <a:pt x="371" y="376"/>
                  </a:lnTo>
                  <a:lnTo>
                    <a:pt x="378" y="365"/>
                  </a:lnTo>
                  <a:lnTo>
                    <a:pt x="385" y="354"/>
                  </a:lnTo>
                  <a:lnTo>
                    <a:pt x="392" y="342"/>
                  </a:lnTo>
                  <a:lnTo>
                    <a:pt x="418" y="361"/>
                  </a:lnTo>
                  <a:lnTo>
                    <a:pt x="442" y="380"/>
                  </a:lnTo>
                  <a:lnTo>
                    <a:pt x="467" y="399"/>
                  </a:lnTo>
                  <a:lnTo>
                    <a:pt x="492" y="418"/>
                  </a:lnTo>
                  <a:lnTo>
                    <a:pt x="516" y="437"/>
                  </a:lnTo>
                  <a:lnTo>
                    <a:pt x="541" y="456"/>
                  </a:lnTo>
                  <a:lnTo>
                    <a:pt x="566" y="475"/>
                  </a:lnTo>
                  <a:lnTo>
                    <a:pt x="591" y="494"/>
                  </a:lnTo>
                  <a:lnTo>
                    <a:pt x="583" y="505"/>
                  </a:lnTo>
                  <a:lnTo>
                    <a:pt x="576" y="515"/>
                  </a:lnTo>
                  <a:lnTo>
                    <a:pt x="568" y="527"/>
                  </a:lnTo>
                  <a:lnTo>
                    <a:pt x="561" y="538"/>
                  </a:lnTo>
                  <a:lnTo>
                    <a:pt x="536" y="520"/>
                  </a:lnTo>
                  <a:lnTo>
                    <a:pt x="511" y="501"/>
                  </a:lnTo>
                  <a:lnTo>
                    <a:pt x="486" y="482"/>
                  </a:lnTo>
                  <a:lnTo>
                    <a:pt x="462" y="463"/>
                  </a:lnTo>
                  <a:lnTo>
                    <a:pt x="437" y="445"/>
                  </a:lnTo>
                  <a:lnTo>
                    <a:pt x="412" y="425"/>
                  </a:lnTo>
                  <a:lnTo>
                    <a:pt x="388" y="406"/>
                  </a:lnTo>
                  <a:lnTo>
                    <a:pt x="363" y="388"/>
                  </a:lnTo>
                  <a:close/>
                  <a:moveTo>
                    <a:pt x="92" y="444"/>
                  </a:moveTo>
                  <a:lnTo>
                    <a:pt x="83" y="429"/>
                  </a:lnTo>
                  <a:lnTo>
                    <a:pt x="75" y="415"/>
                  </a:lnTo>
                  <a:lnTo>
                    <a:pt x="68" y="401"/>
                  </a:lnTo>
                  <a:lnTo>
                    <a:pt x="59" y="387"/>
                  </a:lnTo>
                  <a:lnTo>
                    <a:pt x="84" y="378"/>
                  </a:lnTo>
                  <a:lnTo>
                    <a:pt x="108" y="368"/>
                  </a:lnTo>
                  <a:lnTo>
                    <a:pt x="132" y="360"/>
                  </a:lnTo>
                  <a:lnTo>
                    <a:pt x="156" y="351"/>
                  </a:lnTo>
                  <a:lnTo>
                    <a:pt x="180" y="341"/>
                  </a:lnTo>
                  <a:lnTo>
                    <a:pt x="204" y="332"/>
                  </a:lnTo>
                  <a:lnTo>
                    <a:pt x="228" y="323"/>
                  </a:lnTo>
                  <a:lnTo>
                    <a:pt x="252" y="314"/>
                  </a:lnTo>
                  <a:lnTo>
                    <a:pt x="260" y="328"/>
                  </a:lnTo>
                  <a:lnTo>
                    <a:pt x="268" y="343"/>
                  </a:lnTo>
                  <a:lnTo>
                    <a:pt x="276" y="357"/>
                  </a:lnTo>
                  <a:lnTo>
                    <a:pt x="285" y="372"/>
                  </a:lnTo>
                  <a:lnTo>
                    <a:pt x="260" y="380"/>
                  </a:lnTo>
                  <a:lnTo>
                    <a:pt x="236" y="390"/>
                  </a:lnTo>
                  <a:lnTo>
                    <a:pt x="212" y="399"/>
                  </a:lnTo>
                  <a:lnTo>
                    <a:pt x="188" y="408"/>
                  </a:lnTo>
                  <a:lnTo>
                    <a:pt x="164" y="417"/>
                  </a:lnTo>
                  <a:lnTo>
                    <a:pt x="140" y="426"/>
                  </a:lnTo>
                  <a:lnTo>
                    <a:pt x="116" y="435"/>
                  </a:lnTo>
                  <a:lnTo>
                    <a:pt x="92" y="444"/>
                  </a:lnTo>
                  <a:close/>
                  <a:moveTo>
                    <a:pt x="290" y="34"/>
                  </a:moveTo>
                  <a:lnTo>
                    <a:pt x="305" y="37"/>
                  </a:lnTo>
                  <a:lnTo>
                    <a:pt x="321" y="40"/>
                  </a:lnTo>
                  <a:lnTo>
                    <a:pt x="337" y="44"/>
                  </a:lnTo>
                  <a:lnTo>
                    <a:pt x="352" y="47"/>
                  </a:lnTo>
                  <a:lnTo>
                    <a:pt x="352" y="75"/>
                  </a:lnTo>
                  <a:lnTo>
                    <a:pt x="352" y="102"/>
                  </a:lnTo>
                  <a:lnTo>
                    <a:pt x="352" y="130"/>
                  </a:lnTo>
                  <a:lnTo>
                    <a:pt x="352" y="157"/>
                  </a:lnTo>
                  <a:lnTo>
                    <a:pt x="353" y="185"/>
                  </a:lnTo>
                  <a:lnTo>
                    <a:pt x="353" y="213"/>
                  </a:lnTo>
                  <a:lnTo>
                    <a:pt x="353" y="240"/>
                  </a:lnTo>
                  <a:lnTo>
                    <a:pt x="353" y="267"/>
                  </a:lnTo>
                  <a:lnTo>
                    <a:pt x="338" y="264"/>
                  </a:lnTo>
                  <a:lnTo>
                    <a:pt x="322" y="260"/>
                  </a:lnTo>
                  <a:lnTo>
                    <a:pt x="306" y="257"/>
                  </a:lnTo>
                  <a:lnTo>
                    <a:pt x="291" y="254"/>
                  </a:lnTo>
                  <a:lnTo>
                    <a:pt x="291" y="227"/>
                  </a:lnTo>
                  <a:lnTo>
                    <a:pt x="291" y="199"/>
                  </a:lnTo>
                  <a:lnTo>
                    <a:pt x="290" y="171"/>
                  </a:lnTo>
                  <a:lnTo>
                    <a:pt x="290" y="144"/>
                  </a:lnTo>
                  <a:lnTo>
                    <a:pt x="290" y="117"/>
                  </a:lnTo>
                  <a:lnTo>
                    <a:pt x="290" y="89"/>
                  </a:lnTo>
                  <a:lnTo>
                    <a:pt x="290" y="61"/>
                  </a:lnTo>
                  <a:lnTo>
                    <a:pt x="290" y="3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77680" y="5600520"/>
              <a:ext cx="87840" cy="91440"/>
            </a:xfrm>
            <a:custGeom>
              <a:avLst/>
              <a:gdLst/>
              <a:ahLst/>
              <a:rect l="l" t="t" r="r" b="b"/>
              <a:pathLst>
                <a:path w="647" h="644">
                  <a:moveTo>
                    <a:pt x="45" y="100"/>
                  </a:moveTo>
                  <a:lnTo>
                    <a:pt x="55" y="88"/>
                  </a:lnTo>
                  <a:lnTo>
                    <a:pt x="64" y="77"/>
                  </a:lnTo>
                  <a:lnTo>
                    <a:pt x="75" y="67"/>
                  </a:lnTo>
                  <a:lnTo>
                    <a:pt x="85" y="57"/>
                  </a:lnTo>
                  <a:lnTo>
                    <a:pt x="97" y="48"/>
                  </a:lnTo>
                  <a:lnTo>
                    <a:pt x="107" y="41"/>
                  </a:lnTo>
                  <a:lnTo>
                    <a:pt x="119" y="33"/>
                  </a:lnTo>
                  <a:lnTo>
                    <a:pt x="133" y="27"/>
                  </a:lnTo>
                  <a:lnTo>
                    <a:pt x="146" y="21"/>
                  </a:lnTo>
                  <a:lnTo>
                    <a:pt x="159" y="16"/>
                  </a:lnTo>
                  <a:lnTo>
                    <a:pt x="173" y="11"/>
                  </a:lnTo>
                  <a:lnTo>
                    <a:pt x="186" y="8"/>
                  </a:lnTo>
                  <a:lnTo>
                    <a:pt x="201" y="5"/>
                  </a:lnTo>
                  <a:lnTo>
                    <a:pt x="215" y="3"/>
                  </a:lnTo>
                  <a:lnTo>
                    <a:pt x="229" y="1"/>
                  </a:lnTo>
                  <a:lnTo>
                    <a:pt x="245" y="0"/>
                  </a:lnTo>
                  <a:lnTo>
                    <a:pt x="260" y="0"/>
                  </a:lnTo>
                  <a:lnTo>
                    <a:pt x="275" y="1"/>
                  </a:lnTo>
                  <a:lnTo>
                    <a:pt x="291" y="4"/>
                  </a:lnTo>
                  <a:lnTo>
                    <a:pt x="307" y="6"/>
                  </a:lnTo>
                  <a:lnTo>
                    <a:pt x="322" y="8"/>
                  </a:lnTo>
                  <a:lnTo>
                    <a:pt x="337" y="12"/>
                  </a:lnTo>
                  <a:lnTo>
                    <a:pt x="354" y="17"/>
                  </a:lnTo>
                  <a:lnTo>
                    <a:pt x="369" y="22"/>
                  </a:lnTo>
                  <a:lnTo>
                    <a:pt x="384" y="28"/>
                  </a:lnTo>
                  <a:lnTo>
                    <a:pt x="400" y="34"/>
                  </a:lnTo>
                  <a:lnTo>
                    <a:pt x="415" y="42"/>
                  </a:lnTo>
                  <a:lnTo>
                    <a:pt x="431" y="51"/>
                  </a:lnTo>
                  <a:lnTo>
                    <a:pt x="445" y="59"/>
                  </a:lnTo>
                  <a:lnTo>
                    <a:pt x="461" y="69"/>
                  </a:lnTo>
                  <a:lnTo>
                    <a:pt x="476" y="79"/>
                  </a:lnTo>
                  <a:lnTo>
                    <a:pt x="490" y="90"/>
                  </a:lnTo>
                  <a:lnTo>
                    <a:pt x="504" y="102"/>
                  </a:lnTo>
                  <a:lnTo>
                    <a:pt x="517" y="114"/>
                  </a:lnTo>
                  <a:lnTo>
                    <a:pt x="530" y="127"/>
                  </a:lnTo>
                  <a:lnTo>
                    <a:pt x="542" y="140"/>
                  </a:lnTo>
                  <a:lnTo>
                    <a:pt x="554" y="153"/>
                  </a:lnTo>
                  <a:lnTo>
                    <a:pt x="565" y="167"/>
                  </a:lnTo>
                  <a:lnTo>
                    <a:pt x="575" y="181"/>
                  </a:lnTo>
                  <a:lnTo>
                    <a:pt x="585" y="195"/>
                  </a:lnTo>
                  <a:lnTo>
                    <a:pt x="593" y="210"/>
                  </a:lnTo>
                  <a:lnTo>
                    <a:pt x="602" y="224"/>
                  </a:lnTo>
                  <a:lnTo>
                    <a:pt x="609" y="239"/>
                  </a:lnTo>
                  <a:lnTo>
                    <a:pt x="616" y="254"/>
                  </a:lnTo>
                  <a:lnTo>
                    <a:pt x="623" y="270"/>
                  </a:lnTo>
                  <a:lnTo>
                    <a:pt x="628" y="285"/>
                  </a:lnTo>
                  <a:lnTo>
                    <a:pt x="633" y="300"/>
                  </a:lnTo>
                  <a:lnTo>
                    <a:pt x="637" y="315"/>
                  </a:lnTo>
                  <a:lnTo>
                    <a:pt x="640" y="332"/>
                  </a:lnTo>
                  <a:lnTo>
                    <a:pt x="643" y="347"/>
                  </a:lnTo>
                  <a:lnTo>
                    <a:pt x="645" y="362"/>
                  </a:lnTo>
                  <a:lnTo>
                    <a:pt x="646" y="377"/>
                  </a:lnTo>
                  <a:lnTo>
                    <a:pt x="647" y="393"/>
                  </a:lnTo>
                  <a:lnTo>
                    <a:pt x="646" y="408"/>
                  </a:lnTo>
                  <a:lnTo>
                    <a:pt x="645" y="422"/>
                  </a:lnTo>
                  <a:lnTo>
                    <a:pt x="644" y="437"/>
                  </a:lnTo>
                  <a:lnTo>
                    <a:pt x="640" y="452"/>
                  </a:lnTo>
                  <a:lnTo>
                    <a:pt x="637" y="467"/>
                  </a:lnTo>
                  <a:lnTo>
                    <a:pt x="634" y="480"/>
                  </a:lnTo>
                  <a:lnTo>
                    <a:pt x="628" y="494"/>
                  </a:lnTo>
                  <a:lnTo>
                    <a:pt x="623" y="507"/>
                  </a:lnTo>
                  <a:lnTo>
                    <a:pt x="616" y="520"/>
                  </a:lnTo>
                  <a:lnTo>
                    <a:pt x="609" y="533"/>
                  </a:lnTo>
                  <a:lnTo>
                    <a:pt x="600" y="545"/>
                  </a:lnTo>
                  <a:lnTo>
                    <a:pt x="591" y="557"/>
                  </a:lnTo>
                  <a:lnTo>
                    <a:pt x="583" y="568"/>
                  </a:lnTo>
                  <a:lnTo>
                    <a:pt x="572" y="578"/>
                  </a:lnTo>
                  <a:lnTo>
                    <a:pt x="561" y="588"/>
                  </a:lnTo>
                  <a:lnTo>
                    <a:pt x="550" y="596"/>
                  </a:lnTo>
                  <a:lnTo>
                    <a:pt x="538" y="604"/>
                  </a:lnTo>
                  <a:lnTo>
                    <a:pt x="526" y="612"/>
                  </a:lnTo>
                  <a:lnTo>
                    <a:pt x="514" y="618"/>
                  </a:lnTo>
                  <a:lnTo>
                    <a:pt x="501" y="624"/>
                  </a:lnTo>
                  <a:lnTo>
                    <a:pt x="488" y="629"/>
                  </a:lnTo>
                  <a:lnTo>
                    <a:pt x="474" y="634"/>
                  </a:lnTo>
                  <a:lnTo>
                    <a:pt x="459" y="637"/>
                  </a:lnTo>
                  <a:lnTo>
                    <a:pt x="445" y="640"/>
                  </a:lnTo>
                  <a:lnTo>
                    <a:pt x="431" y="642"/>
                  </a:lnTo>
                  <a:lnTo>
                    <a:pt x="416" y="643"/>
                  </a:lnTo>
                  <a:lnTo>
                    <a:pt x="401" y="644"/>
                  </a:lnTo>
                  <a:lnTo>
                    <a:pt x="385" y="644"/>
                  </a:lnTo>
                  <a:lnTo>
                    <a:pt x="370" y="643"/>
                  </a:lnTo>
                  <a:lnTo>
                    <a:pt x="355" y="642"/>
                  </a:lnTo>
                  <a:lnTo>
                    <a:pt x="340" y="639"/>
                  </a:lnTo>
                  <a:lnTo>
                    <a:pt x="323" y="637"/>
                  </a:lnTo>
                  <a:lnTo>
                    <a:pt x="308" y="632"/>
                  </a:lnTo>
                  <a:lnTo>
                    <a:pt x="292" y="628"/>
                  </a:lnTo>
                  <a:lnTo>
                    <a:pt x="276" y="623"/>
                  </a:lnTo>
                  <a:lnTo>
                    <a:pt x="261" y="617"/>
                  </a:lnTo>
                  <a:lnTo>
                    <a:pt x="245" y="611"/>
                  </a:lnTo>
                  <a:lnTo>
                    <a:pt x="229" y="603"/>
                  </a:lnTo>
                  <a:lnTo>
                    <a:pt x="214" y="594"/>
                  </a:lnTo>
                  <a:lnTo>
                    <a:pt x="199" y="586"/>
                  </a:lnTo>
                  <a:lnTo>
                    <a:pt x="185" y="576"/>
                  </a:lnTo>
                  <a:lnTo>
                    <a:pt x="170" y="566"/>
                  </a:lnTo>
                  <a:lnTo>
                    <a:pt x="155" y="554"/>
                  </a:lnTo>
                  <a:lnTo>
                    <a:pt x="141" y="543"/>
                  </a:lnTo>
                  <a:lnTo>
                    <a:pt x="128" y="530"/>
                  </a:lnTo>
                  <a:lnTo>
                    <a:pt x="115" y="518"/>
                  </a:lnTo>
                  <a:lnTo>
                    <a:pt x="103" y="505"/>
                  </a:lnTo>
                  <a:lnTo>
                    <a:pt x="91" y="492"/>
                  </a:lnTo>
                  <a:lnTo>
                    <a:pt x="80" y="478"/>
                  </a:lnTo>
                  <a:lnTo>
                    <a:pt x="70" y="464"/>
                  </a:lnTo>
                  <a:lnTo>
                    <a:pt x="61" y="449"/>
                  </a:lnTo>
                  <a:lnTo>
                    <a:pt x="52" y="435"/>
                  </a:lnTo>
                  <a:lnTo>
                    <a:pt x="43" y="420"/>
                  </a:lnTo>
                  <a:lnTo>
                    <a:pt x="36" y="405"/>
                  </a:lnTo>
                  <a:lnTo>
                    <a:pt x="29" y="391"/>
                  </a:lnTo>
                  <a:lnTo>
                    <a:pt x="22" y="375"/>
                  </a:lnTo>
                  <a:lnTo>
                    <a:pt x="17" y="360"/>
                  </a:lnTo>
                  <a:lnTo>
                    <a:pt x="13" y="344"/>
                  </a:lnTo>
                  <a:lnTo>
                    <a:pt x="8" y="328"/>
                  </a:lnTo>
                  <a:lnTo>
                    <a:pt x="5" y="313"/>
                  </a:lnTo>
                  <a:lnTo>
                    <a:pt x="3" y="298"/>
                  </a:lnTo>
                  <a:lnTo>
                    <a:pt x="1" y="283"/>
                  </a:lnTo>
                  <a:lnTo>
                    <a:pt x="0" y="267"/>
                  </a:lnTo>
                  <a:lnTo>
                    <a:pt x="0" y="252"/>
                  </a:lnTo>
                  <a:lnTo>
                    <a:pt x="0" y="237"/>
                  </a:lnTo>
                  <a:lnTo>
                    <a:pt x="1" y="222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8" y="178"/>
                  </a:lnTo>
                  <a:lnTo>
                    <a:pt x="13" y="164"/>
                  </a:lnTo>
                  <a:lnTo>
                    <a:pt x="18" y="151"/>
                  </a:lnTo>
                  <a:lnTo>
                    <a:pt x="24" y="137"/>
                  </a:lnTo>
                  <a:lnTo>
                    <a:pt x="30" y="124"/>
                  </a:lnTo>
                  <a:lnTo>
                    <a:pt x="38" y="112"/>
                  </a:lnTo>
                  <a:lnTo>
                    <a:pt x="45" y="100"/>
                  </a:lnTo>
                  <a:close/>
                  <a:moveTo>
                    <a:pt x="394" y="334"/>
                  </a:moveTo>
                  <a:lnTo>
                    <a:pt x="386" y="319"/>
                  </a:lnTo>
                  <a:lnTo>
                    <a:pt x="379" y="304"/>
                  </a:lnTo>
                  <a:lnTo>
                    <a:pt x="371" y="289"/>
                  </a:lnTo>
                  <a:lnTo>
                    <a:pt x="364" y="274"/>
                  </a:lnTo>
                  <a:lnTo>
                    <a:pt x="388" y="266"/>
                  </a:lnTo>
                  <a:lnTo>
                    <a:pt x="413" y="259"/>
                  </a:lnTo>
                  <a:lnTo>
                    <a:pt x="438" y="251"/>
                  </a:lnTo>
                  <a:lnTo>
                    <a:pt x="462" y="243"/>
                  </a:lnTo>
                  <a:lnTo>
                    <a:pt x="487" y="236"/>
                  </a:lnTo>
                  <a:lnTo>
                    <a:pt x="512" y="227"/>
                  </a:lnTo>
                  <a:lnTo>
                    <a:pt x="536" y="219"/>
                  </a:lnTo>
                  <a:lnTo>
                    <a:pt x="561" y="211"/>
                  </a:lnTo>
                  <a:lnTo>
                    <a:pt x="568" y="226"/>
                  </a:lnTo>
                  <a:lnTo>
                    <a:pt x="576" y="241"/>
                  </a:lnTo>
                  <a:lnTo>
                    <a:pt x="584" y="255"/>
                  </a:lnTo>
                  <a:lnTo>
                    <a:pt x="591" y="270"/>
                  </a:lnTo>
                  <a:lnTo>
                    <a:pt x="566" y="278"/>
                  </a:lnTo>
                  <a:lnTo>
                    <a:pt x="542" y="286"/>
                  </a:lnTo>
                  <a:lnTo>
                    <a:pt x="517" y="294"/>
                  </a:lnTo>
                  <a:lnTo>
                    <a:pt x="492" y="301"/>
                  </a:lnTo>
                  <a:lnTo>
                    <a:pt x="467" y="310"/>
                  </a:lnTo>
                  <a:lnTo>
                    <a:pt x="443" y="317"/>
                  </a:lnTo>
                  <a:lnTo>
                    <a:pt x="418" y="325"/>
                  </a:lnTo>
                  <a:lnTo>
                    <a:pt x="394" y="334"/>
                  </a:lnTo>
                  <a:close/>
                  <a:moveTo>
                    <a:pt x="354" y="611"/>
                  </a:moveTo>
                  <a:lnTo>
                    <a:pt x="338" y="607"/>
                  </a:lnTo>
                  <a:lnTo>
                    <a:pt x="323" y="604"/>
                  </a:lnTo>
                  <a:lnTo>
                    <a:pt x="308" y="601"/>
                  </a:lnTo>
                  <a:lnTo>
                    <a:pt x="293" y="598"/>
                  </a:lnTo>
                  <a:lnTo>
                    <a:pt x="293" y="570"/>
                  </a:lnTo>
                  <a:lnTo>
                    <a:pt x="293" y="543"/>
                  </a:lnTo>
                  <a:lnTo>
                    <a:pt x="293" y="515"/>
                  </a:lnTo>
                  <a:lnTo>
                    <a:pt x="292" y="487"/>
                  </a:lnTo>
                  <a:lnTo>
                    <a:pt x="292" y="460"/>
                  </a:lnTo>
                  <a:lnTo>
                    <a:pt x="292" y="432"/>
                  </a:lnTo>
                  <a:lnTo>
                    <a:pt x="292" y="405"/>
                  </a:lnTo>
                  <a:lnTo>
                    <a:pt x="292" y="377"/>
                  </a:lnTo>
                  <a:lnTo>
                    <a:pt x="308" y="381"/>
                  </a:lnTo>
                  <a:lnTo>
                    <a:pt x="323" y="384"/>
                  </a:lnTo>
                  <a:lnTo>
                    <a:pt x="338" y="387"/>
                  </a:lnTo>
                  <a:lnTo>
                    <a:pt x="354" y="391"/>
                  </a:lnTo>
                  <a:lnTo>
                    <a:pt x="354" y="418"/>
                  </a:lnTo>
                  <a:lnTo>
                    <a:pt x="354" y="446"/>
                  </a:lnTo>
                  <a:lnTo>
                    <a:pt x="354" y="473"/>
                  </a:lnTo>
                  <a:lnTo>
                    <a:pt x="354" y="501"/>
                  </a:lnTo>
                  <a:lnTo>
                    <a:pt x="354" y="528"/>
                  </a:lnTo>
                  <a:lnTo>
                    <a:pt x="354" y="556"/>
                  </a:lnTo>
                  <a:lnTo>
                    <a:pt x="354" y="583"/>
                  </a:lnTo>
                  <a:lnTo>
                    <a:pt x="354" y="611"/>
                  </a:lnTo>
                  <a:close/>
                  <a:moveTo>
                    <a:pt x="58" y="144"/>
                  </a:moveTo>
                  <a:lnTo>
                    <a:pt x="66" y="133"/>
                  </a:lnTo>
                  <a:lnTo>
                    <a:pt x="74" y="122"/>
                  </a:lnTo>
                  <a:lnTo>
                    <a:pt x="82" y="110"/>
                  </a:lnTo>
                  <a:lnTo>
                    <a:pt x="90" y="100"/>
                  </a:lnTo>
                  <a:lnTo>
                    <a:pt x="114" y="119"/>
                  </a:lnTo>
                  <a:lnTo>
                    <a:pt x="139" y="139"/>
                  </a:lnTo>
                  <a:lnTo>
                    <a:pt x="163" y="158"/>
                  </a:lnTo>
                  <a:lnTo>
                    <a:pt x="187" y="178"/>
                  </a:lnTo>
                  <a:lnTo>
                    <a:pt x="211" y="198"/>
                  </a:lnTo>
                  <a:lnTo>
                    <a:pt x="236" y="217"/>
                  </a:lnTo>
                  <a:lnTo>
                    <a:pt x="260" y="237"/>
                  </a:lnTo>
                  <a:lnTo>
                    <a:pt x="284" y="256"/>
                  </a:lnTo>
                  <a:lnTo>
                    <a:pt x="276" y="267"/>
                  </a:lnTo>
                  <a:lnTo>
                    <a:pt x="269" y="278"/>
                  </a:lnTo>
                  <a:lnTo>
                    <a:pt x="260" y="289"/>
                  </a:lnTo>
                  <a:lnTo>
                    <a:pt x="252" y="300"/>
                  </a:lnTo>
                  <a:lnTo>
                    <a:pt x="228" y="280"/>
                  </a:lnTo>
                  <a:lnTo>
                    <a:pt x="203" y="261"/>
                  </a:lnTo>
                  <a:lnTo>
                    <a:pt x="179" y="241"/>
                  </a:lnTo>
                  <a:lnTo>
                    <a:pt x="155" y="222"/>
                  </a:lnTo>
                  <a:lnTo>
                    <a:pt x="131" y="203"/>
                  </a:lnTo>
                  <a:lnTo>
                    <a:pt x="106" y="183"/>
                  </a:lnTo>
                  <a:lnTo>
                    <a:pt x="82" y="164"/>
                  </a:lnTo>
                  <a:lnTo>
                    <a:pt x="58" y="14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054680" y="5350320"/>
              <a:ext cx="150840" cy="65880"/>
            </a:xfrm>
            <a:custGeom>
              <a:avLst/>
              <a:gdLst/>
              <a:ahLst/>
              <a:rect l="l" t="t" r="r" b="b"/>
              <a:pathLst>
                <a:path w="1115" h="465">
                  <a:moveTo>
                    <a:pt x="0" y="0"/>
                  </a:moveTo>
                  <a:lnTo>
                    <a:pt x="1115" y="248"/>
                  </a:lnTo>
                  <a:lnTo>
                    <a:pt x="1115" y="465"/>
                  </a:lnTo>
                  <a:lnTo>
                    <a:pt x="0" y="2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56720" y="5425200"/>
              <a:ext cx="252360" cy="82800"/>
            </a:xfrm>
            <a:custGeom>
              <a:avLst/>
              <a:gdLst/>
              <a:ahLst/>
              <a:rect l="l" t="t" r="r" b="b"/>
              <a:pathLst>
                <a:path w="1860" h="586">
                  <a:moveTo>
                    <a:pt x="0" y="0"/>
                  </a:moveTo>
                  <a:lnTo>
                    <a:pt x="683" y="168"/>
                  </a:lnTo>
                  <a:lnTo>
                    <a:pt x="683" y="295"/>
                  </a:lnTo>
                  <a:lnTo>
                    <a:pt x="0" y="128"/>
                  </a:lnTo>
                  <a:lnTo>
                    <a:pt x="0" y="0"/>
                  </a:lnTo>
                  <a:close/>
                  <a:moveTo>
                    <a:pt x="895" y="220"/>
                  </a:moveTo>
                  <a:lnTo>
                    <a:pt x="1860" y="459"/>
                  </a:lnTo>
                  <a:lnTo>
                    <a:pt x="1860" y="586"/>
                  </a:lnTo>
                  <a:lnTo>
                    <a:pt x="895" y="348"/>
                  </a:lnTo>
                  <a:lnTo>
                    <a:pt x="895" y="22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673520" y="5504760"/>
              <a:ext cx="129600" cy="48240"/>
            </a:xfrm>
            <a:custGeom>
              <a:avLst/>
              <a:gdLst/>
              <a:ahLst/>
              <a:rect l="l" t="t" r="r" b="b"/>
              <a:pathLst>
                <a:path w="955" h="342">
                  <a:moveTo>
                    <a:pt x="0" y="0"/>
                  </a:moveTo>
                  <a:lnTo>
                    <a:pt x="955" y="216"/>
                  </a:lnTo>
                  <a:lnTo>
                    <a:pt x="955" y="342"/>
                  </a:lnTo>
                  <a:lnTo>
                    <a:pt x="0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640040" y="5474160"/>
              <a:ext cx="10800" cy="279000"/>
            </a:xfrm>
            <a:custGeom>
              <a:avLst/>
              <a:gdLst/>
              <a:ahLst/>
              <a:rect l="l" t="t" r="r" b="b"/>
              <a:pathLst>
                <a:path w="80" h="1961">
                  <a:moveTo>
                    <a:pt x="0" y="0"/>
                  </a:moveTo>
                  <a:lnTo>
                    <a:pt x="80" y="20"/>
                  </a:lnTo>
                  <a:lnTo>
                    <a:pt x="80" y="1961"/>
                  </a:lnTo>
                  <a:lnTo>
                    <a:pt x="0" y="194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640040" y="5783400"/>
              <a:ext cx="10800" cy="409680"/>
            </a:xfrm>
            <a:custGeom>
              <a:avLst/>
              <a:gdLst/>
              <a:ahLst/>
              <a:rect l="l" t="t" r="r" b="b"/>
              <a:pathLst>
                <a:path w="80" h="2876">
                  <a:moveTo>
                    <a:pt x="0" y="0"/>
                  </a:moveTo>
                  <a:lnTo>
                    <a:pt x="80" y="19"/>
                  </a:lnTo>
                  <a:lnTo>
                    <a:pt x="80" y="2876"/>
                  </a:lnTo>
                  <a:lnTo>
                    <a:pt x="0" y="285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173120" y="5670720"/>
              <a:ext cx="10800" cy="409680"/>
            </a:xfrm>
            <a:custGeom>
              <a:avLst/>
              <a:gdLst/>
              <a:ahLst/>
              <a:rect l="l" t="t" r="r" b="b"/>
              <a:pathLst>
                <a:path w="78" h="2876">
                  <a:moveTo>
                    <a:pt x="0" y="0"/>
                  </a:moveTo>
                  <a:lnTo>
                    <a:pt x="78" y="20"/>
                  </a:lnTo>
                  <a:lnTo>
                    <a:pt x="78" y="2876"/>
                  </a:lnTo>
                  <a:lnTo>
                    <a:pt x="0" y="28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999240" y="5641200"/>
              <a:ext cx="107280" cy="61200"/>
            </a:xfrm>
            <a:custGeom>
              <a:avLst/>
              <a:gdLst/>
              <a:ahLst/>
              <a:rect l="l" t="t" r="r" b="b"/>
              <a:pathLst>
                <a:path w="793" h="433">
                  <a:moveTo>
                    <a:pt x="0" y="0"/>
                  </a:moveTo>
                  <a:lnTo>
                    <a:pt x="174" y="42"/>
                  </a:lnTo>
                  <a:lnTo>
                    <a:pt x="174" y="280"/>
                  </a:lnTo>
                  <a:lnTo>
                    <a:pt x="0" y="237"/>
                  </a:lnTo>
                  <a:lnTo>
                    <a:pt x="0" y="0"/>
                  </a:lnTo>
                  <a:close/>
                  <a:moveTo>
                    <a:pt x="303" y="74"/>
                  </a:moveTo>
                  <a:lnTo>
                    <a:pt x="478" y="118"/>
                  </a:lnTo>
                  <a:lnTo>
                    <a:pt x="478" y="355"/>
                  </a:lnTo>
                  <a:lnTo>
                    <a:pt x="303" y="312"/>
                  </a:lnTo>
                  <a:lnTo>
                    <a:pt x="303" y="74"/>
                  </a:lnTo>
                  <a:close/>
                  <a:moveTo>
                    <a:pt x="606" y="149"/>
                  </a:moveTo>
                  <a:lnTo>
                    <a:pt x="793" y="196"/>
                  </a:lnTo>
                  <a:lnTo>
                    <a:pt x="793" y="433"/>
                  </a:lnTo>
                  <a:lnTo>
                    <a:pt x="606" y="387"/>
                  </a:lnTo>
                  <a:lnTo>
                    <a:pt x="606" y="149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204440" y="586188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4"/>
                  </a:lnTo>
                  <a:lnTo>
                    <a:pt x="547" y="196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204440" y="58820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204440" y="5902200"/>
              <a:ext cx="74160" cy="2844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04440" y="592272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04440" y="59432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7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8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7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9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204440" y="5963760"/>
              <a:ext cx="74160" cy="2736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04440" y="59835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204440" y="600408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5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0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79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7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204440" y="6024960"/>
              <a:ext cx="74160" cy="2700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4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3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204440" y="60447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2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8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6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04440" y="606528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3"/>
                  </a:lnTo>
                  <a:lnTo>
                    <a:pt x="547" y="196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676400" y="597528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915" y="228"/>
                  </a:lnTo>
                  <a:lnTo>
                    <a:pt x="915" y="300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676400" y="59958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76400" y="6015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2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76400" y="60361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676400" y="6055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6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7"/>
                  </a:lnTo>
                  <a:lnTo>
                    <a:pt x="571" y="141"/>
                  </a:lnTo>
                  <a:lnTo>
                    <a:pt x="629" y="155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5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299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28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76400" y="607644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9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4"/>
                  </a:lnTo>
                  <a:lnTo>
                    <a:pt x="915" y="283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8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3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76400" y="6096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6"/>
                  </a:lnTo>
                  <a:lnTo>
                    <a:pt x="915" y="264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76400" y="6116400"/>
              <a:ext cx="124200" cy="4320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76400" y="6136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3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676400" y="6157440"/>
              <a:ext cx="124200" cy="4212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676400" y="6177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915" y="227"/>
                  </a:lnTo>
                  <a:lnTo>
                    <a:pt x="915" y="299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159440" y="5586480"/>
              <a:ext cx="36000" cy="47520"/>
            </a:xfrm>
            <a:custGeom>
              <a:avLst/>
              <a:gdLst/>
              <a:ahLst/>
              <a:rect l="l" t="t" r="r" b="b"/>
              <a:pathLst>
                <a:path w="267" h="334">
                  <a:moveTo>
                    <a:pt x="134" y="334"/>
                  </a:moveTo>
                  <a:lnTo>
                    <a:pt x="147" y="333"/>
                  </a:lnTo>
                  <a:lnTo>
                    <a:pt x="160" y="331"/>
                  </a:lnTo>
                  <a:lnTo>
                    <a:pt x="173" y="326"/>
                  </a:lnTo>
                  <a:lnTo>
                    <a:pt x="185" y="321"/>
                  </a:lnTo>
                  <a:lnTo>
                    <a:pt x="197" y="313"/>
                  </a:lnTo>
                  <a:lnTo>
                    <a:pt x="208" y="306"/>
                  </a:lnTo>
                  <a:lnTo>
                    <a:pt x="218" y="296"/>
                  </a:lnTo>
                  <a:lnTo>
                    <a:pt x="227" y="285"/>
                  </a:lnTo>
                  <a:lnTo>
                    <a:pt x="236" y="273"/>
                  </a:lnTo>
                  <a:lnTo>
                    <a:pt x="244" y="260"/>
                  </a:lnTo>
                  <a:lnTo>
                    <a:pt x="250" y="247"/>
                  </a:lnTo>
                  <a:lnTo>
                    <a:pt x="256" y="231"/>
                  </a:lnTo>
                  <a:lnTo>
                    <a:pt x="261" y="216"/>
                  </a:lnTo>
                  <a:lnTo>
                    <a:pt x="264" y="201"/>
                  </a:lnTo>
                  <a:lnTo>
                    <a:pt x="265" y="185"/>
                  </a:lnTo>
                  <a:lnTo>
                    <a:pt x="267" y="167"/>
                  </a:lnTo>
                  <a:lnTo>
                    <a:pt x="265" y="150"/>
                  </a:lnTo>
                  <a:lnTo>
                    <a:pt x="264" y="133"/>
                  </a:lnTo>
                  <a:lnTo>
                    <a:pt x="261" y="117"/>
                  </a:lnTo>
                  <a:lnTo>
                    <a:pt x="256" y="102"/>
                  </a:lnTo>
                  <a:lnTo>
                    <a:pt x="250" y="88"/>
                  </a:lnTo>
                  <a:lnTo>
                    <a:pt x="244" y="73"/>
                  </a:lnTo>
                  <a:lnTo>
                    <a:pt x="236" y="61"/>
                  </a:lnTo>
                  <a:lnTo>
                    <a:pt x="227" y="49"/>
                  </a:lnTo>
                  <a:lnTo>
                    <a:pt x="218" y="39"/>
                  </a:lnTo>
                  <a:lnTo>
                    <a:pt x="208" y="29"/>
                  </a:lnTo>
                  <a:lnTo>
                    <a:pt x="197" y="20"/>
                  </a:lnTo>
                  <a:lnTo>
                    <a:pt x="185" y="13"/>
                  </a:lnTo>
                  <a:lnTo>
                    <a:pt x="173" y="8"/>
                  </a:lnTo>
                  <a:lnTo>
                    <a:pt x="160" y="4"/>
                  </a:lnTo>
                  <a:lnTo>
                    <a:pt x="147" y="1"/>
                  </a:lnTo>
                  <a:lnTo>
                    <a:pt x="134" y="0"/>
                  </a:lnTo>
                  <a:lnTo>
                    <a:pt x="119" y="1"/>
                  </a:lnTo>
                  <a:lnTo>
                    <a:pt x="106" y="4"/>
                  </a:lnTo>
                  <a:lnTo>
                    <a:pt x="93" y="8"/>
                  </a:lnTo>
                  <a:lnTo>
                    <a:pt x="81" y="13"/>
                  </a:lnTo>
                  <a:lnTo>
                    <a:pt x="69" y="20"/>
                  </a:lnTo>
                  <a:lnTo>
                    <a:pt x="58" y="29"/>
                  </a:lnTo>
                  <a:lnTo>
                    <a:pt x="49" y="39"/>
                  </a:lnTo>
                  <a:lnTo>
                    <a:pt x="39" y="49"/>
                  </a:lnTo>
                  <a:lnTo>
                    <a:pt x="30" y="61"/>
                  </a:lnTo>
                  <a:lnTo>
                    <a:pt x="22" y="73"/>
                  </a:lnTo>
                  <a:lnTo>
                    <a:pt x="16" y="88"/>
                  </a:lnTo>
                  <a:lnTo>
                    <a:pt x="10" y="102"/>
                  </a:lnTo>
                  <a:lnTo>
                    <a:pt x="6" y="117"/>
                  </a:lnTo>
                  <a:lnTo>
                    <a:pt x="3" y="133"/>
                  </a:lnTo>
                  <a:lnTo>
                    <a:pt x="1" y="150"/>
                  </a:lnTo>
                  <a:lnTo>
                    <a:pt x="0" y="167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6" y="216"/>
                  </a:lnTo>
                  <a:lnTo>
                    <a:pt x="10" y="231"/>
                  </a:lnTo>
                  <a:lnTo>
                    <a:pt x="16" y="247"/>
                  </a:lnTo>
                  <a:lnTo>
                    <a:pt x="22" y="260"/>
                  </a:lnTo>
                  <a:lnTo>
                    <a:pt x="30" y="273"/>
                  </a:lnTo>
                  <a:lnTo>
                    <a:pt x="39" y="285"/>
                  </a:lnTo>
                  <a:lnTo>
                    <a:pt x="49" y="296"/>
                  </a:lnTo>
                  <a:lnTo>
                    <a:pt x="58" y="306"/>
                  </a:lnTo>
                  <a:lnTo>
                    <a:pt x="69" y="313"/>
                  </a:lnTo>
                  <a:lnTo>
                    <a:pt x="81" y="321"/>
                  </a:lnTo>
                  <a:lnTo>
                    <a:pt x="93" y="326"/>
                  </a:lnTo>
                  <a:lnTo>
                    <a:pt x="106" y="331"/>
                  </a:lnTo>
                  <a:lnTo>
                    <a:pt x="119" y="333"/>
                  </a:lnTo>
                  <a:lnTo>
                    <a:pt x="134" y="334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4021200" y="6248520"/>
            <a:ext cx="90000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9615800">
            <a:off x="6670800" y="5293800"/>
            <a:ext cx="76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470640" y="5332320"/>
            <a:ext cx="112680" cy="11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99200" y="4425840"/>
            <a:ext cx="148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 may push data for repor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410160" y="5052960"/>
            <a:ext cx="119160" cy="293760"/>
          </a:xfrm>
          <a:custGeom>
            <a:avLst/>
            <a:gdLst/>
            <a:ahLst/>
            <a:rect l="l" t="t" r="r" b="b"/>
            <a:pathLst>
              <a:path w="75" h="186">
                <a:moveTo>
                  <a:pt x="0" y="0"/>
                </a:moveTo>
                <a:lnTo>
                  <a:pt x="75" y="0"/>
                </a:lnTo>
                <a:lnTo>
                  <a:pt x="75" y="18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rot="20028600">
            <a:off x="6378840" y="5476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REP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rot="19083600">
            <a:off x="7045560" y="504756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046240" y="4888080"/>
            <a:ext cx="1077840" cy="833400"/>
            <a:chOff x="2046240" y="4888080"/>
            <a:chExt cx="1077840" cy="833400"/>
          </a:xfrm>
        </p:grpSpPr>
        <p:pic>
          <p:nvPicPr>
            <p:cNvPr id="662" name="" descr=""/>
            <p:cNvPicPr/>
            <p:nvPr/>
          </p:nvPicPr>
          <p:blipFill>
            <a:blip r:embed="rId3"/>
            <a:stretch/>
          </p:blipFill>
          <p:spPr>
            <a:xfrm>
              <a:off x="2046240" y="4888080"/>
              <a:ext cx="1077840" cy="833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35e77"/>
              </a:outerShdw>
            </a:effectLst>
          </p:spPr>
        </p:pic>
        <p:sp>
          <p:nvSpPr>
            <p:cNvPr id="663" name=""/>
            <p:cNvSpPr/>
            <p:nvPr/>
          </p:nvSpPr>
          <p:spPr>
            <a:xfrm>
              <a:off x="2237760" y="5079960"/>
              <a:ext cx="64692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Publi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Healt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685800" y="4572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3. Non-mandated Lab Report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7047000" y="3578400"/>
            <a:ext cx="1265040" cy="977760"/>
            <a:chOff x="7047000" y="3578400"/>
            <a:chExt cx="1265040" cy="977760"/>
          </a:xfrm>
        </p:grpSpPr>
        <p:pic>
          <p:nvPicPr>
            <p:cNvPr id="666" name="" descr=""/>
            <p:cNvPicPr/>
            <p:nvPr/>
          </p:nvPicPr>
          <p:blipFill>
            <a:blip r:embed="rId4"/>
            <a:stretch/>
          </p:blipFill>
          <p:spPr>
            <a:xfrm>
              <a:off x="7047000" y="357840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667" name=""/>
            <p:cNvSpPr/>
            <p:nvPr/>
          </p:nvSpPr>
          <p:spPr>
            <a:xfrm>
              <a:off x="7282440" y="381348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 txBox="1"/>
          <p:nvPr/>
        </p:nvSpPr>
        <p:spPr>
          <a:xfrm>
            <a:off x="3200400" y="4616280"/>
            <a:ext cx="380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9" name=""/>
          <p:cNvSpPr/>
          <p:nvPr/>
        </p:nvSpPr>
        <p:spPr>
          <a:xfrm>
            <a:off x="304920" y="1371600"/>
            <a:ext cx="83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ll diseases are “notifiable” by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ommon diagnoses (Abx resistance, viral dz) may not require individual action, but population trends can inform public health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nymized or aggreg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4398840" y="4313160"/>
            <a:ext cx="3378240" cy="163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1100160" y="5394240"/>
            <a:ext cx="3300480" cy="1013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672" name=""/>
          <p:cNvSpPr/>
          <p:nvPr/>
        </p:nvSpPr>
        <p:spPr>
          <a:xfrm>
            <a:off x="4062960" y="47530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e7fc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975120" y="5205240"/>
            <a:ext cx="1028160" cy="1070280"/>
            <a:chOff x="3975120" y="5205240"/>
            <a:chExt cx="1028160" cy="1070280"/>
          </a:xfrm>
        </p:grpSpPr>
        <p:sp>
          <p:nvSpPr>
            <p:cNvPr id="674" name=""/>
            <p:cNvSpPr/>
            <p:nvPr/>
          </p:nvSpPr>
          <p:spPr>
            <a:xfrm>
              <a:off x="4288680" y="6058440"/>
              <a:ext cx="63360" cy="91440"/>
            </a:xfrm>
            <a:custGeom>
              <a:avLst/>
              <a:gdLst/>
              <a:ahLst/>
              <a:rect l="l" t="t" r="r" b="b"/>
              <a:pathLst>
                <a:path w="469" h="644">
                  <a:moveTo>
                    <a:pt x="81" y="644"/>
                  </a:moveTo>
                  <a:lnTo>
                    <a:pt x="0" y="474"/>
                  </a:lnTo>
                  <a:lnTo>
                    <a:pt x="85" y="137"/>
                  </a:lnTo>
                  <a:lnTo>
                    <a:pt x="469" y="0"/>
                  </a:lnTo>
                  <a:lnTo>
                    <a:pt x="469" y="417"/>
                  </a:lnTo>
                  <a:lnTo>
                    <a:pt x="81" y="6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90600" y="6037200"/>
              <a:ext cx="309240" cy="112680"/>
            </a:xfrm>
            <a:custGeom>
              <a:avLst/>
              <a:gdLst/>
              <a:ahLst/>
              <a:rect l="l" t="t" r="r" b="b"/>
              <a:pathLst>
                <a:path w="2280" h="791">
                  <a:moveTo>
                    <a:pt x="0" y="0"/>
                  </a:moveTo>
                  <a:lnTo>
                    <a:pt x="0" y="284"/>
                  </a:lnTo>
                  <a:lnTo>
                    <a:pt x="2280" y="791"/>
                  </a:lnTo>
                  <a:lnTo>
                    <a:pt x="228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819320" y="6120720"/>
              <a:ext cx="171360" cy="154800"/>
            </a:xfrm>
            <a:custGeom>
              <a:avLst/>
              <a:gdLst/>
              <a:ahLst/>
              <a:rect l="l" t="t" r="r" b="b"/>
              <a:pathLst>
                <a:path w="1264" h="1086">
                  <a:moveTo>
                    <a:pt x="81" y="1086"/>
                  </a:moveTo>
                  <a:lnTo>
                    <a:pt x="0" y="915"/>
                  </a:lnTo>
                  <a:lnTo>
                    <a:pt x="85" y="580"/>
                  </a:lnTo>
                  <a:lnTo>
                    <a:pt x="1264" y="0"/>
                  </a:lnTo>
                  <a:lnTo>
                    <a:pt x="1264" y="417"/>
                  </a:lnTo>
                  <a:lnTo>
                    <a:pt x="81" y="10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333680" y="6116040"/>
              <a:ext cx="496440" cy="159480"/>
            </a:xfrm>
            <a:custGeom>
              <a:avLst/>
              <a:gdLst/>
              <a:ahLst/>
              <a:rect l="l" t="t" r="r" b="b"/>
              <a:pathLst>
                <a:path w="3663" h="1122">
                  <a:moveTo>
                    <a:pt x="0" y="0"/>
                  </a:moveTo>
                  <a:lnTo>
                    <a:pt x="0" y="284"/>
                  </a:lnTo>
                  <a:lnTo>
                    <a:pt x="3663" y="1122"/>
                  </a:lnTo>
                  <a:lnTo>
                    <a:pt x="3663" y="7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78960" y="5585400"/>
              <a:ext cx="194760" cy="535320"/>
            </a:xfrm>
            <a:custGeom>
              <a:avLst/>
              <a:gdLst/>
              <a:ahLst/>
              <a:rect l="l" t="t" r="r" b="b"/>
              <a:pathLst>
                <a:path w="1438" h="3756">
                  <a:moveTo>
                    <a:pt x="111" y="3756"/>
                  </a:moveTo>
                  <a:lnTo>
                    <a:pt x="0" y="2991"/>
                  </a:lnTo>
                  <a:lnTo>
                    <a:pt x="83" y="618"/>
                  </a:lnTo>
                  <a:lnTo>
                    <a:pt x="1438" y="0"/>
                  </a:lnTo>
                  <a:lnTo>
                    <a:pt x="1438" y="3005"/>
                  </a:lnTo>
                  <a:lnTo>
                    <a:pt x="111" y="3756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75120" y="5614920"/>
              <a:ext cx="319680" cy="505440"/>
            </a:xfrm>
            <a:custGeom>
              <a:avLst/>
              <a:gdLst/>
              <a:ahLst/>
              <a:rect l="l" t="t" r="r" b="b"/>
              <a:pathLst>
                <a:path w="589" h="887">
                  <a:moveTo>
                    <a:pt x="589" y="887"/>
                  </a:moveTo>
                  <a:lnTo>
                    <a:pt x="0" y="751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6"/>
                  </a:lnTo>
                  <a:lnTo>
                    <a:pt x="589" y="887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975840" y="551556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4">
                  <a:moveTo>
                    <a:pt x="0" y="695"/>
                  </a:moveTo>
                  <a:lnTo>
                    <a:pt x="1304" y="0"/>
                  </a:lnTo>
                  <a:lnTo>
                    <a:pt x="3671" y="491"/>
                  </a:lnTo>
                  <a:lnTo>
                    <a:pt x="2343" y="1244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08160" y="5711760"/>
              <a:ext cx="195120" cy="532800"/>
            </a:xfrm>
            <a:custGeom>
              <a:avLst/>
              <a:gdLst/>
              <a:ahLst/>
              <a:rect l="l" t="t" r="r" b="b"/>
              <a:pathLst>
                <a:path w="1440" h="3739">
                  <a:moveTo>
                    <a:pt x="111" y="3739"/>
                  </a:moveTo>
                  <a:lnTo>
                    <a:pt x="0" y="2974"/>
                  </a:lnTo>
                  <a:lnTo>
                    <a:pt x="84" y="619"/>
                  </a:lnTo>
                  <a:lnTo>
                    <a:pt x="1440" y="0"/>
                  </a:lnTo>
                  <a:lnTo>
                    <a:pt x="1440" y="2988"/>
                  </a:lnTo>
                  <a:lnTo>
                    <a:pt x="111" y="3739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313520" y="5695920"/>
              <a:ext cx="510120" cy="549000"/>
            </a:xfrm>
            <a:custGeom>
              <a:avLst/>
              <a:gdLst/>
              <a:ahLst/>
              <a:rect l="l" t="t" r="r" b="b"/>
              <a:pathLst>
                <a:path w="940" h="963">
                  <a:moveTo>
                    <a:pt x="940" y="963"/>
                  </a:moveTo>
                  <a:lnTo>
                    <a:pt x="0" y="749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90"/>
                  </a:lnTo>
                  <a:lnTo>
                    <a:pt x="940" y="96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14600" y="559332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5">
                  <a:moveTo>
                    <a:pt x="0" y="722"/>
                  </a:moveTo>
                  <a:lnTo>
                    <a:pt x="1332" y="0"/>
                  </a:lnTo>
                  <a:lnTo>
                    <a:pt x="5075" y="824"/>
                  </a:lnTo>
                  <a:lnTo>
                    <a:pt x="3762" y="1585"/>
                  </a:lnTo>
                  <a:lnTo>
                    <a:pt x="0" y="722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278960" y="5274360"/>
              <a:ext cx="194760" cy="401760"/>
            </a:xfrm>
            <a:custGeom>
              <a:avLst/>
              <a:gdLst/>
              <a:ahLst/>
              <a:rect l="l" t="t" r="r" b="b"/>
              <a:pathLst>
                <a:path w="1438" h="2822">
                  <a:moveTo>
                    <a:pt x="111" y="2822"/>
                  </a:moveTo>
                  <a:lnTo>
                    <a:pt x="0" y="2057"/>
                  </a:lnTo>
                  <a:lnTo>
                    <a:pt x="83" y="619"/>
                  </a:lnTo>
                  <a:lnTo>
                    <a:pt x="1438" y="0"/>
                  </a:lnTo>
                  <a:lnTo>
                    <a:pt x="1438" y="2072"/>
                  </a:lnTo>
                  <a:lnTo>
                    <a:pt x="111" y="2822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975120" y="5304240"/>
              <a:ext cx="319680" cy="371880"/>
            </a:xfrm>
            <a:custGeom>
              <a:avLst/>
              <a:gdLst/>
              <a:ahLst/>
              <a:rect l="l" t="t" r="r" b="b"/>
              <a:pathLst>
                <a:path w="589" h="653">
                  <a:moveTo>
                    <a:pt x="589" y="653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2"/>
                  </a:lnTo>
                  <a:lnTo>
                    <a:pt x="589" y="65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75840" y="520524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3">
                  <a:moveTo>
                    <a:pt x="0" y="693"/>
                  </a:moveTo>
                  <a:lnTo>
                    <a:pt x="1304" y="0"/>
                  </a:lnTo>
                  <a:lnTo>
                    <a:pt x="3671" y="490"/>
                  </a:lnTo>
                  <a:lnTo>
                    <a:pt x="2343" y="124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08160" y="5401080"/>
              <a:ext cx="195120" cy="402480"/>
            </a:xfrm>
            <a:custGeom>
              <a:avLst/>
              <a:gdLst/>
              <a:ahLst/>
              <a:rect l="l" t="t" r="r" b="b"/>
              <a:pathLst>
                <a:path w="1440" h="2823">
                  <a:moveTo>
                    <a:pt x="111" y="2823"/>
                  </a:moveTo>
                  <a:lnTo>
                    <a:pt x="0" y="2058"/>
                  </a:lnTo>
                  <a:lnTo>
                    <a:pt x="84" y="618"/>
                  </a:lnTo>
                  <a:lnTo>
                    <a:pt x="1440" y="0"/>
                  </a:lnTo>
                  <a:lnTo>
                    <a:pt x="1440" y="2072"/>
                  </a:lnTo>
                  <a:lnTo>
                    <a:pt x="111" y="2823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13520" y="5385240"/>
              <a:ext cx="510120" cy="417240"/>
            </a:xfrm>
            <a:custGeom>
              <a:avLst/>
              <a:gdLst/>
              <a:ahLst/>
              <a:rect l="l" t="t" r="r" b="b"/>
              <a:pathLst>
                <a:path w="940" h="732">
                  <a:moveTo>
                    <a:pt x="940" y="732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89"/>
                  </a:lnTo>
                  <a:lnTo>
                    <a:pt x="940" y="732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14600" y="528264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3">
                  <a:moveTo>
                    <a:pt x="0" y="721"/>
                  </a:moveTo>
                  <a:lnTo>
                    <a:pt x="1332" y="0"/>
                  </a:lnTo>
                  <a:lnTo>
                    <a:pt x="5075" y="823"/>
                  </a:lnTo>
                  <a:lnTo>
                    <a:pt x="3762" y="1583"/>
                  </a:lnTo>
                  <a:lnTo>
                    <a:pt x="0" y="721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62120" y="5549400"/>
              <a:ext cx="214920" cy="168120"/>
            </a:xfrm>
            <a:custGeom>
              <a:avLst/>
              <a:gdLst/>
              <a:ahLst/>
              <a:rect l="l" t="t" r="r" b="b"/>
              <a:pathLst>
                <a:path w="1582" h="1178">
                  <a:moveTo>
                    <a:pt x="0" y="0"/>
                  </a:moveTo>
                  <a:lnTo>
                    <a:pt x="98" y="21"/>
                  </a:lnTo>
                  <a:lnTo>
                    <a:pt x="196" y="42"/>
                  </a:lnTo>
                  <a:lnTo>
                    <a:pt x="294" y="63"/>
                  </a:lnTo>
                  <a:lnTo>
                    <a:pt x="393" y="86"/>
                  </a:lnTo>
                  <a:lnTo>
                    <a:pt x="491" y="108"/>
                  </a:lnTo>
                  <a:lnTo>
                    <a:pt x="589" y="130"/>
                  </a:lnTo>
                  <a:lnTo>
                    <a:pt x="688" y="151"/>
                  </a:lnTo>
                  <a:lnTo>
                    <a:pt x="786" y="174"/>
                  </a:lnTo>
                  <a:lnTo>
                    <a:pt x="884" y="196"/>
                  </a:lnTo>
                  <a:lnTo>
                    <a:pt x="984" y="219"/>
                  </a:lnTo>
                  <a:lnTo>
                    <a:pt x="1082" y="241"/>
                  </a:lnTo>
                  <a:lnTo>
                    <a:pt x="1181" y="263"/>
                  </a:lnTo>
                  <a:lnTo>
                    <a:pt x="1279" y="284"/>
                  </a:lnTo>
                  <a:lnTo>
                    <a:pt x="1378" y="306"/>
                  </a:lnTo>
                  <a:lnTo>
                    <a:pt x="1476" y="328"/>
                  </a:lnTo>
                  <a:lnTo>
                    <a:pt x="1575" y="349"/>
                  </a:lnTo>
                  <a:lnTo>
                    <a:pt x="1575" y="401"/>
                  </a:lnTo>
                  <a:lnTo>
                    <a:pt x="1575" y="452"/>
                  </a:lnTo>
                  <a:lnTo>
                    <a:pt x="1576" y="504"/>
                  </a:lnTo>
                  <a:lnTo>
                    <a:pt x="1576" y="556"/>
                  </a:lnTo>
                  <a:lnTo>
                    <a:pt x="1576" y="608"/>
                  </a:lnTo>
                  <a:lnTo>
                    <a:pt x="1578" y="660"/>
                  </a:lnTo>
                  <a:lnTo>
                    <a:pt x="1578" y="712"/>
                  </a:lnTo>
                  <a:lnTo>
                    <a:pt x="1579" y="764"/>
                  </a:lnTo>
                  <a:lnTo>
                    <a:pt x="1579" y="815"/>
                  </a:lnTo>
                  <a:lnTo>
                    <a:pt x="1579" y="867"/>
                  </a:lnTo>
                  <a:lnTo>
                    <a:pt x="1580" y="919"/>
                  </a:lnTo>
                  <a:lnTo>
                    <a:pt x="1580" y="971"/>
                  </a:lnTo>
                  <a:lnTo>
                    <a:pt x="1580" y="1023"/>
                  </a:lnTo>
                  <a:lnTo>
                    <a:pt x="1581" y="1074"/>
                  </a:lnTo>
                  <a:lnTo>
                    <a:pt x="1581" y="1127"/>
                  </a:lnTo>
                  <a:lnTo>
                    <a:pt x="1582" y="1178"/>
                  </a:lnTo>
                  <a:lnTo>
                    <a:pt x="1483" y="1157"/>
                  </a:lnTo>
                  <a:lnTo>
                    <a:pt x="1384" y="1135"/>
                  </a:lnTo>
                  <a:lnTo>
                    <a:pt x="1285" y="1114"/>
                  </a:lnTo>
                  <a:lnTo>
                    <a:pt x="1186" y="1092"/>
                  </a:lnTo>
                  <a:lnTo>
                    <a:pt x="1088" y="1069"/>
                  </a:lnTo>
                  <a:lnTo>
                    <a:pt x="989" y="1047"/>
                  </a:lnTo>
                  <a:lnTo>
                    <a:pt x="890" y="1024"/>
                  </a:lnTo>
                  <a:lnTo>
                    <a:pt x="792" y="1002"/>
                  </a:lnTo>
                  <a:lnTo>
                    <a:pt x="693" y="980"/>
                  </a:lnTo>
                  <a:lnTo>
                    <a:pt x="595" y="958"/>
                  </a:lnTo>
                  <a:lnTo>
                    <a:pt x="496" y="935"/>
                  </a:lnTo>
                  <a:lnTo>
                    <a:pt x="397" y="913"/>
                  </a:lnTo>
                  <a:lnTo>
                    <a:pt x="299" y="891"/>
                  </a:lnTo>
                  <a:lnTo>
                    <a:pt x="200" y="870"/>
                  </a:lnTo>
                  <a:lnTo>
                    <a:pt x="102" y="848"/>
                  </a:lnTo>
                  <a:lnTo>
                    <a:pt x="3" y="827"/>
                  </a:lnTo>
                  <a:lnTo>
                    <a:pt x="3" y="775"/>
                  </a:lnTo>
                  <a:lnTo>
                    <a:pt x="3" y="724"/>
                  </a:lnTo>
                  <a:lnTo>
                    <a:pt x="3" y="671"/>
                  </a:lnTo>
                  <a:lnTo>
                    <a:pt x="2" y="620"/>
                  </a:lnTo>
                  <a:lnTo>
                    <a:pt x="2" y="568"/>
                  </a:lnTo>
                  <a:lnTo>
                    <a:pt x="2" y="516"/>
                  </a:lnTo>
                  <a:lnTo>
                    <a:pt x="2" y="465"/>
                  </a:lnTo>
                  <a:lnTo>
                    <a:pt x="2" y="413"/>
                  </a:lnTo>
                  <a:lnTo>
                    <a:pt x="1" y="362"/>
                  </a:lnTo>
                  <a:lnTo>
                    <a:pt x="1" y="309"/>
                  </a:lnTo>
                  <a:lnTo>
                    <a:pt x="1" y="258"/>
                  </a:lnTo>
                  <a:lnTo>
                    <a:pt x="1" y="206"/>
                  </a:lnTo>
                  <a:lnTo>
                    <a:pt x="0" y="155"/>
                  </a:lnTo>
                  <a:lnTo>
                    <a:pt x="0" y="103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75080" y="5577120"/>
              <a:ext cx="87120" cy="91440"/>
            </a:xfrm>
            <a:custGeom>
              <a:avLst/>
              <a:gdLst/>
              <a:ahLst/>
              <a:rect l="l" t="t" r="r" b="b"/>
              <a:pathLst>
                <a:path w="646" h="644">
                  <a:moveTo>
                    <a:pt x="321" y="8"/>
                  </a:moveTo>
                  <a:lnTo>
                    <a:pt x="337" y="12"/>
                  </a:lnTo>
                  <a:lnTo>
                    <a:pt x="353" y="16"/>
                  </a:lnTo>
                  <a:lnTo>
                    <a:pt x="370" y="22"/>
                  </a:lnTo>
                  <a:lnTo>
                    <a:pt x="385" y="28"/>
                  </a:lnTo>
                  <a:lnTo>
                    <a:pt x="401" y="35"/>
                  </a:lnTo>
                  <a:lnTo>
                    <a:pt x="416" y="43"/>
                  </a:lnTo>
                  <a:lnTo>
                    <a:pt x="432" y="50"/>
                  </a:lnTo>
                  <a:lnTo>
                    <a:pt x="446" y="59"/>
                  </a:lnTo>
                  <a:lnTo>
                    <a:pt x="460" y="69"/>
                  </a:lnTo>
                  <a:lnTo>
                    <a:pt x="474" y="78"/>
                  </a:lnTo>
                  <a:lnTo>
                    <a:pt x="488" y="89"/>
                  </a:lnTo>
                  <a:lnTo>
                    <a:pt x="501" y="100"/>
                  </a:lnTo>
                  <a:lnTo>
                    <a:pt x="515" y="111"/>
                  </a:lnTo>
                  <a:lnTo>
                    <a:pt x="527" y="123"/>
                  </a:lnTo>
                  <a:lnTo>
                    <a:pt x="539" y="136"/>
                  </a:lnTo>
                  <a:lnTo>
                    <a:pt x="549" y="149"/>
                  </a:lnTo>
                  <a:lnTo>
                    <a:pt x="560" y="162"/>
                  </a:lnTo>
                  <a:lnTo>
                    <a:pt x="571" y="175"/>
                  </a:lnTo>
                  <a:lnTo>
                    <a:pt x="581" y="190"/>
                  </a:lnTo>
                  <a:lnTo>
                    <a:pt x="590" y="204"/>
                  </a:lnTo>
                  <a:lnTo>
                    <a:pt x="598" y="218"/>
                  </a:lnTo>
                  <a:lnTo>
                    <a:pt x="606" y="233"/>
                  </a:lnTo>
                  <a:lnTo>
                    <a:pt x="614" y="248"/>
                  </a:lnTo>
                  <a:lnTo>
                    <a:pt x="620" y="264"/>
                  </a:lnTo>
                  <a:lnTo>
                    <a:pt x="626" y="279"/>
                  </a:lnTo>
                  <a:lnTo>
                    <a:pt x="631" y="295"/>
                  </a:lnTo>
                  <a:lnTo>
                    <a:pt x="636" y="311"/>
                  </a:lnTo>
                  <a:lnTo>
                    <a:pt x="640" y="327"/>
                  </a:lnTo>
                  <a:lnTo>
                    <a:pt x="643" y="342"/>
                  </a:lnTo>
                  <a:lnTo>
                    <a:pt x="645" y="359"/>
                  </a:lnTo>
                  <a:lnTo>
                    <a:pt x="646" y="375"/>
                  </a:lnTo>
                  <a:lnTo>
                    <a:pt x="646" y="391"/>
                  </a:lnTo>
                  <a:lnTo>
                    <a:pt x="646" y="408"/>
                  </a:lnTo>
                  <a:lnTo>
                    <a:pt x="645" y="423"/>
                  </a:lnTo>
                  <a:lnTo>
                    <a:pt x="643" y="438"/>
                  </a:lnTo>
                  <a:lnTo>
                    <a:pt x="641" y="453"/>
                  </a:lnTo>
                  <a:lnTo>
                    <a:pt x="637" y="468"/>
                  </a:lnTo>
                  <a:lnTo>
                    <a:pt x="632" y="482"/>
                  </a:lnTo>
                  <a:lnTo>
                    <a:pt x="628" y="495"/>
                  </a:lnTo>
                  <a:lnTo>
                    <a:pt x="621" y="508"/>
                  </a:lnTo>
                  <a:lnTo>
                    <a:pt x="615" y="521"/>
                  </a:lnTo>
                  <a:lnTo>
                    <a:pt x="608" y="533"/>
                  </a:lnTo>
                  <a:lnTo>
                    <a:pt x="601" y="544"/>
                  </a:lnTo>
                  <a:lnTo>
                    <a:pt x="592" y="556"/>
                  </a:lnTo>
                  <a:lnTo>
                    <a:pt x="583" y="566"/>
                  </a:lnTo>
                  <a:lnTo>
                    <a:pt x="573" y="575"/>
                  </a:lnTo>
                  <a:lnTo>
                    <a:pt x="564" y="585"/>
                  </a:lnTo>
                  <a:lnTo>
                    <a:pt x="553" y="594"/>
                  </a:lnTo>
                  <a:lnTo>
                    <a:pt x="541" y="602"/>
                  </a:lnTo>
                  <a:lnTo>
                    <a:pt x="530" y="609"/>
                  </a:lnTo>
                  <a:lnTo>
                    <a:pt x="517" y="616"/>
                  </a:lnTo>
                  <a:lnTo>
                    <a:pt x="505" y="622"/>
                  </a:lnTo>
                  <a:lnTo>
                    <a:pt x="492" y="627"/>
                  </a:lnTo>
                  <a:lnTo>
                    <a:pt x="477" y="632"/>
                  </a:lnTo>
                  <a:lnTo>
                    <a:pt x="464" y="635"/>
                  </a:lnTo>
                  <a:lnTo>
                    <a:pt x="449" y="639"/>
                  </a:lnTo>
                  <a:lnTo>
                    <a:pt x="435" y="642"/>
                  </a:lnTo>
                  <a:lnTo>
                    <a:pt x="420" y="643"/>
                  </a:lnTo>
                  <a:lnTo>
                    <a:pt x="404" y="644"/>
                  </a:lnTo>
                  <a:lnTo>
                    <a:pt x="389" y="644"/>
                  </a:lnTo>
                  <a:lnTo>
                    <a:pt x="373" y="644"/>
                  </a:lnTo>
                  <a:lnTo>
                    <a:pt x="357" y="643"/>
                  </a:lnTo>
                  <a:lnTo>
                    <a:pt x="340" y="640"/>
                  </a:lnTo>
                  <a:lnTo>
                    <a:pt x="324" y="637"/>
                  </a:lnTo>
                  <a:lnTo>
                    <a:pt x="307" y="633"/>
                  </a:lnTo>
                  <a:lnTo>
                    <a:pt x="291" y="629"/>
                  </a:lnTo>
                  <a:lnTo>
                    <a:pt x="275" y="623"/>
                  </a:lnTo>
                  <a:lnTo>
                    <a:pt x="258" y="617"/>
                  </a:lnTo>
                  <a:lnTo>
                    <a:pt x="243" y="610"/>
                  </a:lnTo>
                  <a:lnTo>
                    <a:pt x="228" y="603"/>
                  </a:lnTo>
                  <a:lnTo>
                    <a:pt x="213" y="594"/>
                  </a:lnTo>
                  <a:lnTo>
                    <a:pt x="199" y="585"/>
                  </a:lnTo>
                  <a:lnTo>
                    <a:pt x="184" y="575"/>
                  </a:lnTo>
                  <a:lnTo>
                    <a:pt x="170" y="566"/>
                  </a:lnTo>
                  <a:lnTo>
                    <a:pt x="156" y="556"/>
                  </a:lnTo>
                  <a:lnTo>
                    <a:pt x="143" y="545"/>
                  </a:lnTo>
                  <a:lnTo>
                    <a:pt x="131" y="533"/>
                  </a:lnTo>
                  <a:lnTo>
                    <a:pt x="118" y="521"/>
                  </a:lnTo>
                  <a:lnTo>
                    <a:pt x="107" y="509"/>
                  </a:lnTo>
                  <a:lnTo>
                    <a:pt x="95" y="496"/>
                  </a:lnTo>
                  <a:lnTo>
                    <a:pt x="85" y="483"/>
                  </a:lnTo>
                  <a:lnTo>
                    <a:pt x="74" y="469"/>
                  </a:lnTo>
                  <a:lnTo>
                    <a:pt x="64" y="454"/>
                  </a:lnTo>
                  <a:lnTo>
                    <a:pt x="56" y="440"/>
                  </a:lnTo>
                  <a:lnTo>
                    <a:pt x="47" y="426"/>
                  </a:lnTo>
                  <a:lnTo>
                    <a:pt x="39" y="411"/>
                  </a:lnTo>
                  <a:lnTo>
                    <a:pt x="32" y="396"/>
                  </a:lnTo>
                  <a:lnTo>
                    <a:pt x="25" y="380"/>
                  </a:lnTo>
                  <a:lnTo>
                    <a:pt x="20" y="365"/>
                  </a:lnTo>
                  <a:lnTo>
                    <a:pt x="14" y="350"/>
                  </a:lnTo>
                  <a:lnTo>
                    <a:pt x="10" y="333"/>
                  </a:lnTo>
                  <a:lnTo>
                    <a:pt x="7" y="318"/>
                  </a:lnTo>
                  <a:lnTo>
                    <a:pt x="3" y="302"/>
                  </a:lnTo>
                  <a:lnTo>
                    <a:pt x="1" y="286"/>
                  </a:lnTo>
                  <a:lnTo>
                    <a:pt x="0" y="269"/>
                  </a:lnTo>
                  <a:lnTo>
                    <a:pt x="0" y="253"/>
                  </a:lnTo>
                  <a:lnTo>
                    <a:pt x="0" y="238"/>
                  </a:lnTo>
                  <a:lnTo>
                    <a:pt x="1" y="221"/>
                  </a:lnTo>
                  <a:lnTo>
                    <a:pt x="3" y="206"/>
                  </a:lnTo>
                  <a:lnTo>
                    <a:pt x="6" y="192"/>
                  </a:lnTo>
                  <a:lnTo>
                    <a:pt x="10" y="177"/>
                  </a:lnTo>
                  <a:lnTo>
                    <a:pt x="14" y="163"/>
                  </a:lnTo>
                  <a:lnTo>
                    <a:pt x="19" y="149"/>
                  </a:lnTo>
                  <a:lnTo>
                    <a:pt x="24" y="136"/>
                  </a:lnTo>
                  <a:lnTo>
                    <a:pt x="31" y="124"/>
                  </a:lnTo>
                  <a:lnTo>
                    <a:pt x="38" y="112"/>
                  </a:lnTo>
                  <a:lnTo>
                    <a:pt x="46" y="100"/>
                  </a:lnTo>
                  <a:lnTo>
                    <a:pt x="54" y="89"/>
                  </a:lnTo>
                  <a:lnTo>
                    <a:pt x="63" y="80"/>
                  </a:lnTo>
                  <a:lnTo>
                    <a:pt x="72" y="70"/>
                  </a:lnTo>
                  <a:lnTo>
                    <a:pt x="82" y="60"/>
                  </a:lnTo>
                  <a:lnTo>
                    <a:pt x="93" y="51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9"/>
                  </a:lnTo>
                  <a:lnTo>
                    <a:pt x="141" y="23"/>
                  </a:lnTo>
                  <a:lnTo>
                    <a:pt x="154" y="17"/>
                  </a:lnTo>
                  <a:lnTo>
                    <a:pt x="167" y="13"/>
                  </a:lnTo>
                  <a:lnTo>
                    <a:pt x="181" y="9"/>
                  </a:lnTo>
                  <a:lnTo>
                    <a:pt x="195" y="5"/>
                  </a:lnTo>
                  <a:lnTo>
                    <a:pt x="209" y="3"/>
                  </a:lnTo>
                  <a:lnTo>
                    <a:pt x="225" y="1"/>
                  </a:lnTo>
                  <a:lnTo>
                    <a:pt x="240" y="1"/>
                  </a:lnTo>
                  <a:lnTo>
                    <a:pt x="255" y="0"/>
                  </a:lnTo>
                  <a:lnTo>
                    <a:pt x="272" y="1"/>
                  </a:lnTo>
                  <a:lnTo>
                    <a:pt x="288" y="2"/>
                  </a:lnTo>
                  <a:lnTo>
                    <a:pt x="304" y="4"/>
                  </a:lnTo>
                  <a:lnTo>
                    <a:pt x="321" y="8"/>
                  </a:lnTo>
                  <a:close/>
                  <a:moveTo>
                    <a:pt x="363" y="388"/>
                  </a:moveTo>
                  <a:lnTo>
                    <a:pt x="371" y="376"/>
                  </a:lnTo>
                  <a:lnTo>
                    <a:pt x="378" y="365"/>
                  </a:lnTo>
                  <a:lnTo>
                    <a:pt x="385" y="354"/>
                  </a:lnTo>
                  <a:lnTo>
                    <a:pt x="392" y="342"/>
                  </a:lnTo>
                  <a:lnTo>
                    <a:pt x="418" y="361"/>
                  </a:lnTo>
                  <a:lnTo>
                    <a:pt x="442" y="380"/>
                  </a:lnTo>
                  <a:lnTo>
                    <a:pt x="467" y="399"/>
                  </a:lnTo>
                  <a:lnTo>
                    <a:pt x="492" y="418"/>
                  </a:lnTo>
                  <a:lnTo>
                    <a:pt x="516" y="437"/>
                  </a:lnTo>
                  <a:lnTo>
                    <a:pt x="541" y="456"/>
                  </a:lnTo>
                  <a:lnTo>
                    <a:pt x="566" y="475"/>
                  </a:lnTo>
                  <a:lnTo>
                    <a:pt x="591" y="494"/>
                  </a:lnTo>
                  <a:lnTo>
                    <a:pt x="583" y="505"/>
                  </a:lnTo>
                  <a:lnTo>
                    <a:pt x="576" y="515"/>
                  </a:lnTo>
                  <a:lnTo>
                    <a:pt x="568" y="527"/>
                  </a:lnTo>
                  <a:lnTo>
                    <a:pt x="561" y="538"/>
                  </a:lnTo>
                  <a:lnTo>
                    <a:pt x="536" y="520"/>
                  </a:lnTo>
                  <a:lnTo>
                    <a:pt x="511" y="501"/>
                  </a:lnTo>
                  <a:lnTo>
                    <a:pt x="486" y="482"/>
                  </a:lnTo>
                  <a:lnTo>
                    <a:pt x="462" y="463"/>
                  </a:lnTo>
                  <a:lnTo>
                    <a:pt x="437" y="445"/>
                  </a:lnTo>
                  <a:lnTo>
                    <a:pt x="412" y="425"/>
                  </a:lnTo>
                  <a:lnTo>
                    <a:pt x="388" y="406"/>
                  </a:lnTo>
                  <a:lnTo>
                    <a:pt x="363" y="388"/>
                  </a:lnTo>
                  <a:close/>
                  <a:moveTo>
                    <a:pt x="92" y="444"/>
                  </a:moveTo>
                  <a:lnTo>
                    <a:pt x="83" y="429"/>
                  </a:lnTo>
                  <a:lnTo>
                    <a:pt x="75" y="415"/>
                  </a:lnTo>
                  <a:lnTo>
                    <a:pt x="68" y="401"/>
                  </a:lnTo>
                  <a:lnTo>
                    <a:pt x="59" y="387"/>
                  </a:lnTo>
                  <a:lnTo>
                    <a:pt x="84" y="378"/>
                  </a:lnTo>
                  <a:lnTo>
                    <a:pt x="108" y="368"/>
                  </a:lnTo>
                  <a:lnTo>
                    <a:pt x="132" y="360"/>
                  </a:lnTo>
                  <a:lnTo>
                    <a:pt x="156" y="351"/>
                  </a:lnTo>
                  <a:lnTo>
                    <a:pt x="180" y="341"/>
                  </a:lnTo>
                  <a:lnTo>
                    <a:pt x="204" y="332"/>
                  </a:lnTo>
                  <a:lnTo>
                    <a:pt x="228" y="323"/>
                  </a:lnTo>
                  <a:lnTo>
                    <a:pt x="252" y="314"/>
                  </a:lnTo>
                  <a:lnTo>
                    <a:pt x="260" y="328"/>
                  </a:lnTo>
                  <a:lnTo>
                    <a:pt x="268" y="343"/>
                  </a:lnTo>
                  <a:lnTo>
                    <a:pt x="276" y="357"/>
                  </a:lnTo>
                  <a:lnTo>
                    <a:pt x="285" y="372"/>
                  </a:lnTo>
                  <a:lnTo>
                    <a:pt x="260" y="380"/>
                  </a:lnTo>
                  <a:lnTo>
                    <a:pt x="236" y="390"/>
                  </a:lnTo>
                  <a:lnTo>
                    <a:pt x="212" y="399"/>
                  </a:lnTo>
                  <a:lnTo>
                    <a:pt x="188" y="408"/>
                  </a:lnTo>
                  <a:lnTo>
                    <a:pt x="164" y="417"/>
                  </a:lnTo>
                  <a:lnTo>
                    <a:pt x="140" y="426"/>
                  </a:lnTo>
                  <a:lnTo>
                    <a:pt x="116" y="435"/>
                  </a:lnTo>
                  <a:lnTo>
                    <a:pt x="92" y="444"/>
                  </a:lnTo>
                  <a:close/>
                  <a:moveTo>
                    <a:pt x="290" y="34"/>
                  </a:moveTo>
                  <a:lnTo>
                    <a:pt x="305" y="37"/>
                  </a:lnTo>
                  <a:lnTo>
                    <a:pt x="321" y="40"/>
                  </a:lnTo>
                  <a:lnTo>
                    <a:pt x="337" y="44"/>
                  </a:lnTo>
                  <a:lnTo>
                    <a:pt x="352" y="47"/>
                  </a:lnTo>
                  <a:lnTo>
                    <a:pt x="352" y="75"/>
                  </a:lnTo>
                  <a:lnTo>
                    <a:pt x="352" y="102"/>
                  </a:lnTo>
                  <a:lnTo>
                    <a:pt x="352" y="130"/>
                  </a:lnTo>
                  <a:lnTo>
                    <a:pt x="352" y="157"/>
                  </a:lnTo>
                  <a:lnTo>
                    <a:pt x="353" y="185"/>
                  </a:lnTo>
                  <a:lnTo>
                    <a:pt x="353" y="213"/>
                  </a:lnTo>
                  <a:lnTo>
                    <a:pt x="353" y="240"/>
                  </a:lnTo>
                  <a:lnTo>
                    <a:pt x="353" y="267"/>
                  </a:lnTo>
                  <a:lnTo>
                    <a:pt x="338" y="264"/>
                  </a:lnTo>
                  <a:lnTo>
                    <a:pt x="322" y="260"/>
                  </a:lnTo>
                  <a:lnTo>
                    <a:pt x="306" y="257"/>
                  </a:lnTo>
                  <a:lnTo>
                    <a:pt x="291" y="254"/>
                  </a:lnTo>
                  <a:lnTo>
                    <a:pt x="291" y="227"/>
                  </a:lnTo>
                  <a:lnTo>
                    <a:pt x="291" y="199"/>
                  </a:lnTo>
                  <a:lnTo>
                    <a:pt x="290" y="171"/>
                  </a:lnTo>
                  <a:lnTo>
                    <a:pt x="290" y="144"/>
                  </a:lnTo>
                  <a:lnTo>
                    <a:pt x="290" y="117"/>
                  </a:lnTo>
                  <a:lnTo>
                    <a:pt x="290" y="89"/>
                  </a:lnTo>
                  <a:lnTo>
                    <a:pt x="290" y="61"/>
                  </a:lnTo>
                  <a:lnTo>
                    <a:pt x="290" y="3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77680" y="5600520"/>
              <a:ext cx="87840" cy="91440"/>
            </a:xfrm>
            <a:custGeom>
              <a:avLst/>
              <a:gdLst/>
              <a:ahLst/>
              <a:rect l="l" t="t" r="r" b="b"/>
              <a:pathLst>
                <a:path w="647" h="644">
                  <a:moveTo>
                    <a:pt x="45" y="100"/>
                  </a:moveTo>
                  <a:lnTo>
                    <a:pt x="55" y="88"/>
                  </a:lnTo>
                  <a:lnTo>
                    <a:pt x="64" y="77"/>
                  </a:lnTo>
                  <a:lnTo>
                    <a:pt x="75" y="67"/>
                  </a:lnTo>
                  <a:lnTo>
                    <a:pt x="85" y="57"/>
                  </a:lnTo>
                  <a:lnTo>
                    <a:pt x="97" y="48"/>
                  </a:lnTo>
                  <a:lnTo>
                    <a:pt x="107" y="41"/>
                  </a:lnTo>
                  <a:lnTo>
                    <a:pt x="119" y="33"/>
                  </a:lnTo>
                  <a:lnTo>
                    <a:pt x="133" y="27"/>
                  </a:lnTo>
                  <a:lnTo>
                    <a:pt x="146" y="21"/>
                  </a:lnTo>
                  <a:lnTo>
                    <a:pt x="159" y="16"/>
                  </a:lnTo>
                  <a:lnTo>
                    <a:pt x="173" y="11"/>
                  </a:lnTo>
                  <a:lnTo>
                    <a:pt x="186" y="8"/>
                  </a:lnTo>
                  <a:lnTo>
                    <a:pt x="201" y="5"/>
                  </a:lnTo>
                  <a:lnTo>
                    <a:pt x="215" y="3"/>
                  </a:lnTo>
                  <a:lnTo>
                    <a:pt x="229" y="1"/>
                  </a:lnTo>
                  <a:lnTo>
                    <a:pt x="245" y="0"/>
                  </a:lnTo>
                  <a:lnTo>
                    <a:pt x="260" y="0"/>
                  </a:lnTo>
                  <a:lnTo>
                    <a:pt x="275" y="1"/>
                  </a:lnTo>
                  <a:lnTo>
                    <a:pt x="291" y="4"/>
                  </a:lnTo>
                  <a:lnTo>
                    <a:pt x="307" y="6"/>
                  </a:lnTo>
                  <a:lnTo>
                    <a:pt x="322" y="8"/>
                  </a:lnTo>
                  <a:lnTo>
                    <a:pt x="337" y="12"/>
                  </a:lnTo>
                  <a:lnTo>
                    <a:pt x="354" y="17"/>
                  </a:lnTo>
                  <a:lnTo>
                    <a:pt x="369" y="22"/>
                  </a:lnTo>
                  <a:lnTo>
                    <a:pt x="384" y="28"/>
                  </a:lnTo>
                  <a:lnTo>
                    <a:pt x="400" y="34"/>
                  </a:lnTo>
                  <a:lnTo>
                    <a:pt x="415" y="42"/>
                  </a:lnTo>
                  <a:lnTo>
                    <a:pt x="431" y="51"/>
                  </a:lnTo>
                  <a:lnTo>
                    <a:pt x="445" y="59"/>
                  </a:lnTo>
                  <a:lnTo>
                    <a:pt x="461" y="69"/>
                  </a:lnTo>
                  <a:lnTo>
                    <a:pt x="476" y="79"/>
                  </a:lnTo>
                  <a:lnTo>
                    <a:pt x="490" y="90"/>
                  </a:lnTo>
                  <a:lnTo>
                    <a:pt x="504" y="102"/>
                  </a:lnTo>
                  <a:lnTo>
                    <a:pt x="517" y="114"/>
                  </a:lnTo>
                  <a:lnTo>
                    <a:pt x="530" y="127"/>
                  </a:lnTo>
                  <a:lnTo>
                    <a:pt x="542" y="140"/>
                  </a:lnTo>
                  <a:lnTo>
                    <a:pt x="554" y="153"/>
                  </a:lnTo>
                  <a:lnTo>
                    <a:pt x="565" y="167"/>
                  </a:lnTo>
                  <a:lnTo>
                    <a:pt x="575" y="181"/>
                  </a:lnTo>
                  <a:lnTo>
                    <a:pt x="585" y="195"/>
                  </a:lnTo>
                  <a:lnTo>
                    <a:pt x="593" y="210"/>
                  </a:lnTo>
                  <a:lnTo>
                    <a:pt x="602" y="224"/>
                  </a:lnTo>
                  <a:lnTo>
                    <a:pt x="609" y="239"/>
                  </a:lnTo>
                  <a:lnTo>
                    <a:pt x="616" y="254"/>
                  </a:lnTo>
                  <a:lnTo>
                    <a:pt x="623" y="270"/>
                  </a:lnTo>
                  <a:lnTo>
                    <a:pt x="628" y="285"/>
                  </a:lnTo>
                  <a:lnTo>
                    <a:pt x="633" y="300"/>
                  </a:lnTo>
                  <a:lnTo>
                    <a:pt x="637" y="315"/>
                  </a:lnTo>
                  <a:lnTo>
                    <a:pt x="640" y="332"/>
                  </a:lnTo>
                  <a:lnTo>
                    <a:pt x="643" y="347"/>
                  </a:lnTo>
                  <a:lnTo>
                    <a:pt x="645" y="362"/>
                  </a:lnTo>
                  <a:lnTo>
                    <a:pt x="646" y="377"/>
                  </a:lnTo>
                  <a:lnTo>
                    <a:pt x="647" y="393"/>
                  </a:lnTo>
                  <a:lnTo>
                    <a:pt x="646" y="408"/>
                  </a:lnTo>
                  <a:lnTo>
                    <a:pt x="645" y="422"/>
                  </a:lnTo>
                  <a:lnTo>
                    <a:pt x="644" y="437"/>
                  </a:lnTo>
                  <a:lnTo>
                    <a:pt x="640" y="452"/>
                  </a:lnTo>
                  <a:lnTo>
                    <a:pt x="637" y="467"/>
                  </a:lnTo>
                  <a:lnTo>
                    <a:pt x="634" y="480"/>
                  </a:lnTo>
                  <a:lnTo>
                    <a:pt x="628" y="494"/>
                  </a:lnTo>
                  <a:lnTo>
                    <a:pt x="623" y="507"/>
                  </a:lnTo>
                  <a:lnTo>
                    <a:pt x="616" y="520"/>
                  </a:lnTo>
                  <a:lnTo>
                    <a:pt x="609" y="533"/>
                  </a:lnTo>
                  <a:lnTo>
                    <a:pt x="600" y="545"/>
                  </a:lnTo>
                  <a:lnTo>
                    <a:pt x="591" y="557"/>
                  </a:lnTo>
                  <a:lnTo>
                    <a:pt x="583" y="568"/>
                  </a:lnTo>
                  <a:lnTo>
                    <a:pt x="572" y="578"/>
                  </a:lnTo>
                  <a:lnTo>
                    <a:pt x="561" y="588"/>
                  </a:lnTo>
                  <a:lnTo>
                    <a:pt x="550" y="596"/>
                  </a:lnTo>
                  <a:lnTo>
                    <a:pt x="538" y="604"/>
                  </a:lnTo>
                  <a:lnTo>
                    <a:pt x="526" y="612"/>
                  </a:lnTo>
                  <a:lnTo>
                    <a:pt x="514" y="618"/>
                  </a:lnTo>
                  <a:lnTo>
                    <a:pt x="501" y="624"/>
                  </a:lnTo>
                  <a:lnTo>
                    <a:pt x="488" y="629"/>
                  </a:lnTo>
                  <a:lnTo>
                    <a:pt x="474" y="634"/>
                  </a:lnTo>
                  <a:lnTo>
                    <a:pt x="459" y="637"/>
                  </a:lnTo>
                  <a:lnTo>
                    <a:pt x="445" y="640"/>
                  </a:lnTo>
                  <a:lnTo>
                    <a:pt x="431" y="642"/>
                  </a:lnTo>
                  <a:lnTo>
                    <a:pt x="416" y="643"/>
                  </a:lnTo>
                  <a:lnTo>
                    <a:pt x="401" y="644"/>
                  </a:lnTo>
                  <a:lnTo>
                    <a:pt x="385" y="644"/>
                  </a:lnTo>
                  <a:lnTo>
                    <a:pt x="370" y="643"/>
                  </a:lnTo>
                  <a:lnTo>
                    <a:pt x="355" y="642"/>
                  </a:lnTo>
                  <a:lnTo>
                    <a:pt x="340" y="639"/>
                  </a:lnTo>
                  <a:lnTo>
                    <a:pt x="323" y="637"/>
                  </a:lnTo>
                  <a:lnTo>
                    <a:pt x="308" y="632"/>
                  </a:lnTo>
                  <a:lnTo>
                    <a:pt x="292" y="628"/>
                  </a:lnTo>
                  <a:lnTo>
                    <a:pt x="276" y="623"/>
                  </a:lnTo>
                  <a:lnTo>
                    <a:pt x="261" y="617"/>
                  </a:lnTo>
                  <a:lnTo>
                    <a:pt x="245" y="611"/>
                  </a:lnTo>
                  <a:lnTo>
                    <a:pt x="229" y="603"/>
                  </a:lnTo>
                  <a:lnTo>
                    <a:pt x="214" y="594"/>
                  </a:lnTo>
                  <a:lnTo>
                    <a:pt x="199" y="586"/>
                  </a:lnTo>
                  <a:lnTo>
                    <a:pt x="185" y="576"/>
                  </a:lnTo>
                  <a:lnTo>
                    <a:pt x="170" y="566"/>
                  </a:lnTo>
                  <a:lnTo>
                    <a:pt x="155" y="554"/>
                  </a:lnTo>
                  <a:lnTo>
                    <a:pt x="141" y="543"/>
                  </a:lnTo>
                  <a:lnTo>
                    <a:pt x="128" y="530"/>
                  </a:lnTo>
                  <a:lnTo>
                    <a:pt x="115" y="518"/>
                  </a:lnTo>
                  <a:lnTo>
                    <a:pt x="103" y="505"/>
                  </a:lnTo>
                  <a:lnTo>
                    <a:pt x="91" y="492"/>
                  </a:lnTo>
                  <a:lnTo>
                    <a:pt x="80" y="478"/>
                  </a:lnTo>
                  <a:lnTo>
                    <a:pt x="70" y="464"/>
                  </a:lnTo>
                  <a:lnTo>
                    <a:pt x="61" y="449"/>
                  </a:lnTo>
                  <a:lnTo>
                    <a:pt x="52" y="435"/>
                  </a:lnTo>
                  <a:lnTo>
                    <a:pt x="43" y="420"/>
                  </a:lnTo>
                  <a:lnTo>
                    <a:pt x="36" y="405"/>
                  </a:lnTo>
                  <a:lnTo>
                    <a:pt x="29" y="391"/>
                  </a:lnTo>
                  <a:lnTo>
                    <a:pt x="22" y="375"/>
                  </a:lnTo>
                  <a:lnTo>
                    <a:pt x="17" y="360"/>
                  </a:lnTo>
                  <a:lnTo>
                    <a:pt x="13" y="344"/>
                  </a:lnTo>
                  <a:lnTo>
                    <a:pt x="8" y="328"/>
                  </a:lnTo>
                  <a:lnTo>
                    <a:pt x="5" y="313"/>
                  </a:lnTo>
                  <a:lnTo>
                    <a:pt x="3" y="298"/>
                  </a:lnTo>
                  <a:lnTo>
                    <a:pt x="1" y="283"/>
                  </a:lnTo>
                  <a:lnTo>
                    <a:pt x="0" y="267"/>
                  </a:lnTo>
                  <a:lnTo>
                    <a:pt x="0" y="252"/>
                  </a:lnTo>
                  <a:lnTo>
                    <a:pt x="0" y="237"/>
                  </a:lnTo>
                  <a:lnTo>
                    <a:pt x="1" y="222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8" y="178"/>
                  </a:lnTo>
                  <a:lnTo>
                    <a:pt x="13" y="164"/>
                  </a:lnTo>
                  <a:lnTo>
                    <a:pt x="18" y="151"/>
                  </a:lnTo>
                  <a:lnTo>
                    <a:pt x="24" y="137"/>
                  </a:lnTo>
                  <a:lnTo>
                    <a:pt x="30" y="124"/>
                  </a:lnTo>
                  <a:lnTo>
                    <a:pt x="38" y="112"/>
                  </a:lnTo>
                  <a:lnTo>
                    <a:pt x="45" y="100"/>
                  </a:lnTo>
                  <a:close/>
                  <a:moveTo>
                    <a:pt x="394" y="334"/>
                  </a:moveTo>
                  <a:lnTo>
                    <a:pt x="386" y="319"/>
                  </a:lnTo>
                  <a:lnTo>
                    <a:pt x="379" y="304"/>
                  </a:lnTo>
                  <a:lnTo>
                    <a:pt x="371" y="289"/>
                  </a:lnTo>
                  <a:lnTo>
                    <a:pt x="364" y="274"/>
                  </a:lnTo>
                  <a:lnTo>
                    <a:pt x="388" y="266"/>
                  </a:lnTo>
                  <a:lnTo>
                    <a:pt x="413" y="259"/>
                  </a:lnTo>
                  <a:lnTo>
                    <a:pt x="438" y="251"/>
                  </a:lnTo>
                  <a:lnTo>
                    <a:pt x="462" y="243"/>
                  </a:lnTo>
                  <a:lnTo>
                    <a:pt x="487" y="236"/>
                  </a:lnTo>
                  <a:lnTo>
                    <a:pt x="512" y="227"/>
                  </a:lnTo>
                  <a:lnTo>
                    <a:pt x="536" y="219"/>
                  </a:lnTo>
                  <a:lnTo>
                    <a:pt x="561" y="211"/>
                  </a:lnTo>
                  <a:lnTo>
                    <a:pt x="568" y="226"/>
                  </a:lnTo>
                  <a:lnTo>
                    <a:pt x="576" y="241"/>
                  </a:lnTo>
                  <a:lnTo>
                    <a:pt x="584" y="255"/>
                  </a:lnTo>
                  <a:lnTo>
                    <a:pt x="591" y="270"/>
                  </a:lnTo>
                  <a:lnTo>
                    <a:pt x="566" y="278"/>
                  </a:lnTo>
                  <a:lnTo>
                    <a:pt x="542" y="286"/>
                  </a:lnTo>
                  <a:lnTo>
                    <a:pt x="517" y="294"/>
                  </a:lnTo>
                  <a:lnTo>
                    <a:pt x="492" y="301"/>
                  </a:lnTo>
                  <a:lnTo>
                    <a:pt x="467" y="310"/>
                  </a:lnTo>
                  <a:lnTo>
                    <a:pt x="443" y="317"/>
                  </a:lnTo>
                  <a:lnTo>
                    <a:pt x="418" y="325"/>
                  </a:lnTo>
                  <a:lnTo>
                    <a:pt x="394" y="334"/>
                  </a:lnTo>
                  <a:close/>
                  <a:moveTo>
                    <a:pt x="354" y="611"/>
                  </a:moveTo>
                  <a:lnTo>
                    <a:pt x="338" y="607"/>
                  </a:lnTo>
                  <a:lnTo>
                    <a:pt x="323" y="604"/>
                  </a:lnTo>
                  <a:lnTo>
                    <a:pt x="308" y="601"/>
                  </a:lnTo>
                  <a:lnTo>
                    <a:pt x="293" y="598"/>
                  </a:lnTo>
                  <a:lnTo>
                    <a:pt x="293" y="570"/>
                  </a:lnTo>
                  <a:lnTo>
                    <a:pt x="293" y="543"/>
                  </a:lnTo>
                  <a:lnTo>
                    <a:pt x="293" y="515"/>
                  </a:lnTo>
                  <a:lnTo>
                    <a:pt x="292" y="487"/>
                  </a:lnTo>
                  <a:lnTo>
                    <a:pt x="292" y="460"/>
                  </a:lnTo>
                  <a:lnTo>
                    <a:pt x="292" y="432"/>
                  </a:lnTo>
                  <a:lnTo>
                    <a:pt x="292" y="405"/>
                  </a:lnTo>
                  <a:lnTo>
                    <a:pt x="292" y="377"/>
                  </a:lnTo>
                  <a:lnTo>
                    <a:pt x="308" y="381"/>
                  </a:lnTo>
                  <a:lnTo>
                    <a:pt x="323" y="384"/>
                  </a:lnTo>
                  <a:lnTo>
                    <a:pt x="338" y="387"/>
                  </a:lnTo>
                  <a:lnTo>
                    <a:pt x="354" y="391"/>
                  </a:lnTo>
                  <a:lnTo>
                    <a:pt x="354" y="418"/>
                  </a:lnTo>
                  <a:lnTo>
                    <a:pt x="354" y="446"/>
                  </a:lnTo>
                  <a:lnTo>
                    <a:pt x="354" y="473"/>
                  </a:lnTo>
                  <a:lnTo>
                    <a:pt x="354" y="501"/>
                  </a:lnTo>
                  <a:lnTo>
                    <a:pt x="354" y="528"/>
                  </a:lnTo>
                  <a:lnTo>
                    <a:pt x="354" y="556"/>
                  </a:lnTo>
                  <a:lnTo>
                    <a:pt x="354" y="583"/>
                  </a:lnTo>
                  <a:lnTo>
                    <a:pt x="354" y="611"/>
                  </a:lnTo>
                  <a:close/>
                  <a:moveTo>
                    <a:pt x="58" y="144"/>
                  </a:moveTo>
                  <a:lnTo>
                    <a:pt x="66" y="133"/>
                  </a:lnTo>
                  <a:lnTo>
                    <a:pt x="74" y="122"/>
                  </a:lnTo>
                  <a:lnTo>
                    <a:pt x="82" y="110"/>
                  </a:lnTo>
                  <a:lnTo>
                    <a:pt x="90" y="100"/>
                  </a:lnTo>
                  <a:lnTo>
                    <a:pt x="114" y="119"/>
                  </a:lnTo>
                  <a:lnTo>
                    <a:pt x="139" y="139"/>
                  </a:lnTo>
                  <a:lnTo>
                    <a:pt x="163" y="158"/>
                  </a:lnTo>
                  <a:lnTo>
                    <a:pt x="187" y="178"/>
                  </a:lnTo>
                  <a:lnTo>
                    <a:pt x="211" y="198"/>
                  </a:lnTo>
                  <a:lnTo>
                    <a:pt x="236" y="217"/>
                  </a:lnTo>
                  <a:lnTo>
                    <a:pt x="260" y="237"/>
                  </a:lnTo>
                  <a:lnTo>
                    <a:pt x="284" y="256"/>
                  </a:lnTo>
                  <a:lnTo>
                    <a:pt x="276" y="267"/>
                  </a:lnTo>
                  <a:lnTo>
                    <a:pt x="269" y="278"/>
                  </a:lnTo>
                  <a:lnTo>
                    <a:pt x="260" y="289"/>
                  </a:lnTo>
                  <a:lnTo>
                    <a:pt x="252" y="300"/>
                  </a:lnTo>
                  <a:lnTo>
                    <a:pt x="228" y="280"/>
                  </a:lnTo>
                  <a:lnTo>
                    <a:pt x="203" y="261"/>
                  </a:lnTo>
                  <a:lnTo>
                    <a:pt x="179" y="241"/>
                  </a:lnTo>
                  <a:lnTo>
                    <a:pt x="155" y="222"/>
                  </a:lnTo>
                  <a:lnTo>
                    <a:pt x="131" y="203"/>
                  </a:lnTo>
                  <a:lnTo>
                    <a:pt x="106" y="183"/>
                  </a:lnTo>
                  <a:lnTo>
                    <a:pt x="82" y="164"/>
                  </a:lnTo>
                  <a:lnTo>
                    <a:pt x="58" y="14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054680" y="5350320"/>
              <a:ext cx="150840" cy="65880"/>
            </a:xfrm>
            <a:custGeom>
              <a:avLst/>
              <a:gdLst/>
              <a:ahLst/>
              <a:rect l="l" t="t" r="r" b="b"/>
              <a:pathLst>
                <a:path w="1115" h="465">
                  <a:moveTo>
                    <a:pt x="0" y="0"/>
                  </a:moveTo>
                  <a:lnTo>
                    <a:pt x="1115" y="248"/>
                  </a:lnTo>
                  <a:lnTo>
                    <a:pt x="1115" y="465"/>
                  </a:lnTo>
                  <a:lnTo>
                    <a:pt x="0" y="2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6720" y="5425200"/>
              <a:ext cx="252360" cy="82800"/>
            </a:xfrm>
            <a:custGeom>
              <a:avLst/>
              <a:gdLst/>
              <a:ahLst/>
              <a:rect l="l" t="t" r="r" b="b"/>
              <a:pathLst>
                <a:path w="1860" h="586">
                  <a:moveTo>
                    <a:pt x="0" y="0"/>
                  </a:moveTo>
                  <a:lnTo>
                    <a:pt x="683" y="168"/>
                  </a:lnTo>
                  <a:lnTo>
                    <a:pt x="683" y="295"/>
                  </a:lnTo>
                  <a:lnTo>
                    <a:pt x="0" y="128"/>
                  </a:lnTo>
                  <a:lnTo>
                    <a:pt x="0" y="0"/>
                  </a:lnTo>
                  <a:close/>
                  <a:moveTo>
                    <a:pt x="895" y="220"/>
                  </a:moveTo>
                  <a:lnTo>
                    <a:pt x="1860" y="459"/>
                  </a:lnTo>
                  <a:lnTo>
                    <a:pt x="1860" y="586"/>
                  </a:lnTo>
                  <a:lnTo>
                    <a:pt x="895" y="348"/>
                  </a:lnTo>
                  <a:lnTo>
                    <a:pt x="895" y="22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73520" y="5504760"/>
              <a:ext cx="129600" cy="48240"/>
            </a:xfrm>
            <a:custGeom>
              <a:avLst/>
              <a:gdLst/>
              <a:ahLst/>
              <a:rect l="l" t="t" r="r" b="b"/>
              <a:pathLst>
                <a:path w="955" h="342">
                  <a:moveTo>
                    <a:pt x="0" y="0"/>
                  </a:moveTo>
                  <a:lnTo>
                    <a:pt x="955" y="216"/>
                  </a:lnTo>
                  <a:lnTo>
                    <a:pt x="955" y="342"/>
                  </a:lnTo>
                  <a:lnTo>
                    <a:pt x="0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40040" y="5474160"/>
              <a:ext cx="10800" cy="279000"/>
            </a:xfrm>
            <a:custGeom>
              <a:avLst/>
              <a:gdLst/>
              <a:ahLst/>
              <a:rect l="l" t="t" r="r" b="b"/>
              <a:pathLst>
                <a:path w="80" h="1961">
                  <a:moveTo>
                    <a:pt x="0" y="0"/>
                  </a:moveTo>
                  <a:lnTo>
                    <a:pt x="80" y="20"/>
                  </a:lnTo>
                  <a:lnTo>
                    <a:pt x="80" y="1961"/>
                  </a:lnTo>
                  <a:lnTo>
                    <a:pt x="0" y="194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40040" y="5783400"/>
              <a:ext cx="10800" cy="409680"/>
            </a:xfrm>
            <a:custGeom>
              <a:avLst/>
              <a:gdLst/>
              <a:ahLst/>
              <a:rect l="l" t="t" r="r" b="b"/>
              <a:pathLst>
                <a:path w="80" h="2876">
                  <a:moveTo>
                    <a:pt x="0" y="0"/>
                  </a:moveTo>
                  <a:lnTo>
                    <a:pt x="80" y="19"/>
                  </a:lnTo>
                  <a:lnTo>
                    <a:pt x="80" y="2876"/>
                  </a:lnTo>
                  <a:lnTo>
                    <a:pt x="0" y="285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73120" y="5670720"/>
              <a:ext cx="10800" cy="409680"/>
            </a:xfrm>
            <a:custGeom>
              <a:avLst/>
              <a:gdLst/>
              <a:ahLst/>
              <a:rect l="l" t="t" r="r" b="b"/>
              <a:pathLst>
                <a:path w="78" h="2876">
                  <a:moveTo>
                    <a:pt x="0" y="0"/>
                  </a:moveTo>
                  <a:lnTo>
                    <a:pt x="78" y="20"/>
                  </a:lnTo>
                  <a:lnTo>
                    <a:pt x="78" y="2876"/>
                  </a:lnTo>
                  <a:lnTo>
                    <a:pt x="0" y="28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999240" y="5641200"/>
              <a:ext cx="107280" cy="61200"/>
            </a:xfrm>
            <a:custGeom>
              <a:avLst/>
              <a:gdLst/>
              <a:ahLst/>
              <a:rect l="l" t="t" r="r" b="b"/>
              <a:pathLst>
                <a:path w="793" h="433">
                  <a:moveTo>
                    <a:pt x="0" y="0"/>
                  </a:moveTo>
                  <a:lnTo>
                    <a:pt x="174" y="42"/>
                  </a:lnTo>
                  <a:lnTo>
                    <a:pt x="174" y="280"/>
                  </a:lnTo>
                  <a:lnTo>
                    <a:pt x="0" y="237"/>
                  </a:lnTo>
                  <a:lnTo>
                    <a:pt x="0" y="0"/>
                  </a:lnTo>
                  <a:close/>
                  <a:moveTo>
                    <a:pt x="303" y="74"/>
                  </a:moveTo>
                  <a:lnTo>
                    <a:pt x="478" y="118"/>
                  </a:lnTo>
                  <a:lnTo>
                    <a:pt x="478" y="355"/>
                  </a:lnTo>
                  <a:lnTo>
                    <a:pt x="303" y="312"/>
                  </a:lnTo>
                  <a:lnTo>
                    <a:pt x="303" y="74"/>
                  </a:lnTo>
                  <a:close/>
                  <a:moveTo>
                    <a:pt x="606" y="149"/>
                  </a:moveTo>
                  <a:lnTo>
                    <a:pt x="793" y="196"/>
                  </a:lnTo>
                  <a:lnTo>
                    <a:pt x="793" y="433"/>
                  </a:lnTo>
                  <a:lnTo>
                    <a:pt x="606" y="387"/>
                  </a:lnTo>
                  <a:lnTo>
                    <a:pt x="606" y="149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204440" y="586188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4"/>
                  </a:lnTo>
                  <a:lnTo>
                    <a:pt x="547" y="196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204440" y="58820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204440" y="5902200"/>
              <a:ext cx="74160" cy="2844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204440" y="592272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04440" y="59432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7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8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7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9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204440" y="5963760"/>
              <a:ext cx="74160" cy="2736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204440" y="59835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204440" y="600408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5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0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79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7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204440" y="6024960"/>
              <a:ext cx="74160" cy="2700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4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3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204440" y="60447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2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8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6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204440" y="606528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3"/>
                  </a:lnTo>
                  <a:lnTo>
                    <a:pt x="547" y="196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76400" y="597528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915" y="228"/>
                  </a:lnTo>
                  <a:lnTo>
                    <a:pt x="915" y="300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676400" y="59958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76400" y="6015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2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76400" y="60361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76400" y="6055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6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7"/>
                  </a:lnTo>
                  <a:lnTo>
                    <a:pt x="571" y="141"/>
                  </a:lnTo>
                  <a:lnTo>
                    <a:pt x="629" y="155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5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299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28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76400" y="607644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9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4"/>
                  </a:lnTo>
                  <a:lnTo>
                    <a:pt x="915" y="283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8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3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676400" y="6096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6"/>
                  </a:lnTo>
                  <a:lnTo>
                    <a:pt x="915" y="264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676400" y="6116400"/>
              <a:ext cx="124200" cy="4320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676400" y="6136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3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676400" y="6157440"/>
              <a:ext cx="124200" cy="4212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76400" y="6177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915" y="227"/>
                  </a:lnTo>
                  <a:lnTo>
                    <a:pt x="915" y="299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159440" y="5586480"/>
              <a:ext cx="36000" cy="47520"/>
            </a:xfrm>
            <a:custGeom>
              <a:avLst/>
              <a:gdLst/>
              <a:ahLst/>
              <a:rect l="l" t="t" r="r" b="b"/>
              <a:pathLst>
                <a:path w="267" h="334">
                  <a:moveTo>
                    <a:pt x="134" y="334"/>
                  </a:moveTo>
                  <a:lnTo>
                    <a:pt x="147" y="333"/>
                  </a:lnTo>
                  <a:lnTo>
                    <a:pt x="160" y="331"/>
                  </a:lnTo>
                  <a:lnTo>
                    <a:pt x="173" y="326"/>
                  </a:lnTo>
                  <a:lnTo>
                    <a:pt x="185" y="321"/>
                  </a:lnTo>
                  <a:lnTo>
                    <a:pt x="197" y="313"/>
                  </a:lnTo>
                  <a:lnTo>
                    <a:pt x="208" y="306"/>
                  </a:lnTo>
                  <a:lnTo>
                    <a:pt x="218" y="296"/>
                  </a:lnTo>
                  <a:lnTo>
                    <a:pt x="227" y="285"/>
                  </a:lnTo>
                  <a:lnTo>
                    <a:pt x="236" y="273"/>
                  </a:lnTo>
                  <a:lnTo>
                    <a:pt x="244" y="260"/>
                  </a:lnTo>
                  <a:lnTo>
                    <a:pt x="250" y="247"/>
                  </a:lnTo>
                  <a:lnTo>
                    <a:pt x="256" y="231"/>
                  </a:lnTo>
                  <a:lnTo>
                    <a:pt x="261" y="216"/>
                  </a:lnTo>
                  <a:lnTo>
                    <a:pt x="264" y="201"/>
                  </a:lnTo>
                  <a:lnTo>
                    <a:pt x="265" y="185"/>
                  </a:lnTo>
                  <a:lnTo>
                    <a:pt x="267" y="167"/>
                  </a:lnTo>
                  <a:lnTo>
                    <a:pt x="265" y="150"/>
                  </a:lnTo>
                  <a:lnTo>
                    <a:pt x="264" y="133"/>
                  </a:lnTo>
                  <a:lnTo>
                    <a:pt x="261" y="117"/>
                  </a:lnTo>
                  <a:lnTo>
                    <a:pt x="256" y="102"/>
                  </a:lnTo>
                  <a:lnTo>
                    <a:pt x="250" y="88"/>
                  </a:lnTo>
                  <a:lnTo>
                    <a:pt x="244" y="73"/>
                  </a:lnTo>
                  <a:lnTo>
                    <a:pt x="236" y="61"/>
                  </a:lnTo>
                  <a:lnTo>
                    <a:pt x="227" y="49"/>
                  </a:lnTo>
                  <a:lnTo>
                    <a:pt x="218" y="39"/>
                  </a:lnTo>
                  <a:lnTo>
                    <a:pt x="208" y="29"/>
                  </a:lnTo>
                  <a:lnTo>
                    <a:pt x="197" y="20"/>
                  </a:lnTo>
                  <a:lnTo>
                    <a:pt x="185" y="13"/>
                  </a:lnTo>
                  <a:lnTo>
                    <a:pt x="173" y="8"/>
                  </a:lnTo>
                  <a:lnTo>
                    <a:pt x="160" y="4"/>
                  </a:lnTo>
                  <a:lnTo>
                    <a:pt x="147" y="1"/>
                  </a:lnTo>
                  <a:lnTo>
                    <a:pt x="134" y="0"/>
                  </a:lnTo>
                  <a:lnTo>
                    <a:pt x="119" y="1"/>
                  </a:lnTo>
                  <a:lnTo>
                    <a:pt x="106" y="4"/>
                  </a:lnTo>
                  <a:lnTo>
                    <a:pt x="93" y="8"/>
                  </a:lnTo>
                  <a:lnTo>
                    <a:pt x="81" y="13"/>
                  </a:lnTo>
                  <a:lnTo>
                    <a:pt x="69" y="20"/>
                  </a:lnTo>
                  <a:lnTo>
                    <a:pt x="58" y="29"/>
                  </a:lnTo>
                  <a:lnTo>
                    <a:pt x="49" y="39"/>
                  </a:lnTo>
                  <a:lnTo>
                    <a:pt x="39" y="49"/>
                  </a:lnTo>
                  <a:lnTo>
                    <a:pt x="30" y="61"/>
                  </a:lnTo>
                  <a:lnTo>
                    <a:pt x="22" y="73"/>
                  </a:lnTo>
                  <a:lnTo>
                    <a:pt x="16" y="88"/>
                  </a:lnTo>
                  <a:lnTo>
                    <a:pt x="10" y="102"/>
                  </a:lnTo>
                  <a:lnTo>
                    <a:pt x="6" y="117"/>
                  </a:lnTo>
                  <a:lnTo>
                    <a:pt x="3" y="133"/>
                  </a:lnTo>
                  <a:lnTo>
                    <a:pt x="1" y="150"/>
                  </a:lnTo>
                  <a:lnTo>
                    <a:pt x="0" y="167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6" y="216"/>
                  </a:lnTo>
                  <a:lnTo>
                    <a:pt x="10" y="231"/>
                  </a:lnTo>
                  <a:lnTo>
                    <a:pt x="16" y="247"/>
                  </a:lnTo>
                  <a:lnTo>
                    <a:pt x="22" y="260"/>
                  </a:lnTo>
                  <a:lnTo>
                    <a:pt x="30" y="273"/>
                  </a:lnTo>
                  <a:lnTo>
                    <a:pt x="39" y="285"/>
                  </a:lnTo>
                  <a:lnTo>
                    <a:pt x="49" y="296"/>
                  </a:lnTo>
                  <a:lnTo>
                    <a:pt x="58" y="306"/>
                  </a:lnTo>
                  <a:lnTo>
                    <a:pt x="69" y="313"/>
                  </a:lnTo>
                  <a:lnTo>
                    <a:pt x="81" y="321"/>
                  </a:lnTo>
                  <a:lnTo>
                    <a:pt x="93" y="326"/>
                  </a:lnTo>
                  <a:lnTo>
                    <a:pt x="106" y="331"/>
                  </a:lnTo>
                  <a:lnTo>
                    <a:pt x="119" y="333"/>
                  </a:lnTo>
                  <a:lnTo>
                    <a:pt x="134" y="334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4021200" y="6248520"/>
            <a:ext cx="90000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19615800">
            <a:off x="6670800" y="5293800"/>
            <a:ext cx="76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470640" y="5332320"/>
            <a:ext cx="112680" cy="11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299200" y="4425840"/>
            <a:ext cx="148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 may push data for repor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10160" y="5052960"/>
            <a:ext cx="119160" cy="293760"/>
          </a:xfrm>
          <a:custGeom>
            <a:avLst/>
            <a:gdLst/>
            <a:ahLst/>
            <a:rect l="l" t="t" r="r" b="b"/>
            <a:pathLst>
              <a:path w="75" h="186">
                <a:moveTo>
                  <a:pt x="0" y="0"/>
                </a:moveTo>
                <a:lnTo>
                  <a:pt x="75" y="0"/>
                </a:lnTo>
                <a:lnTo>
                  <a:pt x="75" y="18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rot="20028600">
            <a:off x="6378840" y="5476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REP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rot="19083600">
            <a:off x="7045560" y="504756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046240" y="4888080"/>
            <a:ext cx="1077840" cy="833400"/>
            <a:chOff x="2046240" y="4888080"/>
            <a:chExt cx="1077840" cy="833400"/>
          </a:xfrm>
        </p:grpSpPr>
        <p:pic>
          <p:nvPicPr>
            <p:cNvPr id="731" name="" descr=""/>
            <p:cNvPicPr/>
            <p:nvPr/>
          </p:nvPicPr>
          <p:blipFill>
            <a:blip r:embed="rId3"/>
            <a:stretch/>
          </p:blipFill>
          <p:spPr>
            <a:xfrm>
              <a:off x="2046240" y="4888080"/>
              <a:ext cx="1077840" cy="833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35e77"/>
              </a:outerShdw>
            </a:effectLst>
          </p:spPr>
        </p:pic>
        <p:sp>
          <p:nvSpPr>
            <p:cNvPr id="732" name=""/>
            <p:cNvSpPr/>
            <p:nvPr/>
          </p:nvSpPr>
          <p:spPr>
            <a:xfrm>
              <a:off x="2237760" y="5079960"/>
              <a:ext cx="64692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Publi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Healt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685800" y="53352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4. Non-mandated Clinical Reporting (“Syndromic Surveillance”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7047000" y="3578400"/>
            <a:ext cx="1265040" cy="977760"/>
            <a:chOff x="7047000" y="3578400"/>
            <a:chExt cx="1265040" cy="977760"/>
          </a:xfrm>
        </p:grpSpPr>
        <p:pic>
          <p:nvPicPr>
            <p:cNvPr id="735" name="" descr=""/>
            <p:cNvPicPr/>
            <p:nvPr/>
          </p:nvPicPr>
          <p:blipFill>
            <a:blip r:embed="rId4"/>
            <a:stretch/>
          </p:blipFill>
          <p:spPr>
            <a:xfrm>
              <a:off x="7047000" y="357840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736" name=""/>
            <p:cNvSpPr/>
            <p:nvPr/>
          </p:nvSpPr>
          <p:spPr>
            <a:xfrm>
              <a:off x="7282440" y="381348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 txBox="1"/>
          <p:nvPr/>
        </p:nvSpPr>
        <p:spPr>
          <a:xfrm>
            <a:off x="3200400" y="4616280"/>
            <a:ext cx="380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8" name=""/>
          <p:cNvSpPr/>
          <p:nvPr/>
        </p:nvSpPr>
        <p:spPr>
          <a:xfrm>
            <a:off x="2286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diagnostic data (e.g., ED chief complaints, measured temperature) tied to statistical algorithms can provide real-time outbreak alerting and disease tr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nymized or aggreg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4398840" y="4313160"/>
            <a:ext cx="3378240" cy="163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1100160" y="5394240"/>
            <a:ext cx="3300480" cy="1013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741" name=""/>
          <p:cNvSpPr/>
          <p:nvPr/>
        </p:nvSpPr>
        <p:spPr>
          <a:xfrm>
            <a:off x="4062960" y="47530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e7fc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3975120" y="5205240"/>
            <a:ext cx="1028160" cy="1070280"/>
            <a:chOff x="3975120" y="5205240"/>
            <a:chExt cx="1028160" cy="1070280"/>
          </a:xfrm>
        </p:grpSpPr>
        <p:sp>
          <p:nvSpPr>
            <p:cNvPr id="743" name=""/>
            <p:cNvSpPr/>
            <p:nvPr/>
          </p:nvSpPr>
          <p:spPr>
            <a:xfrm>
              <a:off x="4288680" y="6058440"/>
              <a:ext cx="63360" cy="91440"/>
            </a:xfrm>
            <a:custGeom>
              <a:avLst/>
              <a:gdLst/>
              <a:ahLst/>
              <a:rect l="l" t="t" r="r" b="b"/>
              <a:pathLst>
                <a:path w="469" h="644">
                  <a:moveTo>
                    <a:pt x="81" y="644"/>
                  </a:moveTo>
                  <a:lnTo>
                    <a:pt x="0" y="474"/>
                  </a:lnTo>
                  <a:lnTo>
                    <a:pt x="85" y="137"/>
                  </a:lnTo>
                  <a:lnTo>
                    <a:pt x="469" y="0"/>
                  </a:lnTo>
                  <a:lnTo>
                    <a:pt x="469" y="417"/>
                  </a:lnTo>
                  <a:lnTo>
                    <a:pt x="81" y="6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990600" y="6037200"/>
              <a:ext cx="309240" cy="112680"/>
            </a:xfrm>
            <a:custGeom>
              <a:avLst/>
              <a:gdLst/>
              <a:ahLst/>
              <a:rect l="l" t="t" r="r" b="b"/>
              <a:pathLst>
                <a:path w="2280" h="791">
                  <a:moveTo>
                    <a:pt x="0" y="0"/>
                  </a:moveTo>
                  <a:lnTo>
                    <a:pt x="0" y="284"/>
                  </a:lnTo>
                  <a:lnTo>
                    <a:pt x="2280" y="791"/>
                  </a:lnTo>
                  <a:lnTo>
                    <a:pt x="228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19320" y="6120720"/>
              <a:ext cx="171360" cy="154800"/>
            </a:xfrm>
            <a:custGeom>
              <a:avLst/>
              <a:gdLst/>
              <a:ahLst/>
              <a:rect l="l" t="t" r="r" b="b"/>
              <a:pathLst>
                <a:path w="1264" h="1086">
                  <a:moveTo>
                    <a:pt x="81" y="1086"/>
                  </a:moveTo>
                  <a:lnTo>
                    <a:pt x="0" y="915"/>
                  </a:lnTo>
                  <a:lnTo>
                    <a:pt x="85" y="580"/>
                  </a:lnTo>
                  <a:lnTo>
                    <a:pt x="1264" y="0"/>
                  </a:lnTo>
                  <a:lnTo>
                    <a:pt x="1264" y="417"/>
                  </a:lnTo>
                  <a:lnTo>
                    <a:pt x="81" y="10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333680" y="6116040"/>
              <a:ext cx="496440" cy="159480"/>
            </a:xfrm>
            <a:custGeom>
              <a:avLst/>
              <a:gdLst/>
              <a:ahLst/>
              <a:rect l="l" t="t" r="r" b="b"/>
              <a:pathLst>
                <a:path w="3663" h="1122">
                  <a:moveTo>
                    <a:pt x="0" y="0"/>
                  </a:moveTo>
                  <a:lnTo>
                    <a:pt x="0" y="284"/>
                  </a:lnTo>
                  <a:lnTo>
                    <a:pt x="3663" y="1122"/>
                  </a:lnTo>
                  <a:lnTo>
                    <a:pt x="3663" y="7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278960" y="5585400"/>
              <a:ext cx="194760" cy="535320"/>
            </a:xfrm>
            <a:custGeom>
              <a:avLst/>
              <a:gdLst/>
              <a:ahLst/>
              <a:rect l="l" t="t" r="r" b="b"/>
              <a:pathLst>
                <a:path w="1438" h="3756">
                  <a:moveTo>
                    <a:pt x="111" y="3756"/>
                  </a:moveTo>
                  <a:lnTo>
                    <a:pt x="0" y="2991"/>
                  </a:lnTo>
                  <a:lnTo>
                    <a:pt x="83" y="618"/>
                  </a:lnTo>
                  <a:lnTo>
                    <a:pt x="1438" y="0"/>
                  </a:lnTo>
                  <a:lnTo>
                    <a:pt x="1438" y="3005"/>
                  </a:lnTo>
                  <a:lnTo>
                    <a:pt x="111" y="3756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75120" y="5614920"/>
              <a:ext cx="319680" cy="505440"/>
            </a:xfrm>
            <a:custGeom>
              <a:avLst/>
              <a:gdLst/>
              <a:ahLst/>
              <a:rect l="l" t="t" r="r" b="b"/>
              <a:pathLst>
                <a:path w="589" h="887">
                  <a:moveTo>
                    <a:pt x="589" y="887"/>
                  </a:moveTo>
                  <a:lnTo>
                    <a:pt x="0" y="751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6"/>
                  </a:lnTo>
                  <a:lnTo>
                    <a:pt x="589" y="887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75840" y="551556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4">
                  <a:moveTo>
                    <a:pt x="0" y="695"/>
                  </a:moveTo>
                  <a:lnTo>
                    <a:pt x="1304" y="0"/>
                  </a:lnTo>
                  <a:lnTo>
                    <a:pt x="3671" y="491"/>
                  </a:lnTo>
                  <a:lnTo>
                    <a:pt x="2343" y="1244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08160" y="5711760"/>
              <a:ext cx="195120" cy="532800"/>
            </a:xfrm>
            <a:custGeom>
              <a:avLst/>
              <a:gdLst/>
              <a:ahLst/>
              <a:rect l="l" t="t" r="r" b="b"/>
              <a:pathLst>
                <a:path w="1440" h="3739">
                  <a:moveTo>
                    <a:pt x="111" y="3739"/>
                  </a:moveTo>
                  <a:lnTo>
                    <a:pt x="0" y="2974"/>
                  </a:lnTo>
                  <a:lnTo>
                    <a:pt x="84" y="619"/>
                  </a:lnTo>
                  <a:lnTo>
                    <a:pt x="1440" y="0"/>
                  </a:lnTo>
                  <a:lnTo>
                    <a:pt x="1440" y="2988"/>
                  </a:lnTo>
                  <a:lnTo>
                    <a:pt x="111" y="3739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313520" y="5695920"/>
              <a:ext cx="510120" cy="549000"/>
            </a:xfrm>
            <a:custGeom>
              <a:avLst/>
              <a:gdLst/>
              <a:ahLst/>
              <a:rect l="l" t="t" r="r" b="b"/>
              <a:pathLst>
                <a:path w="940" h="963">
                  <a:moveTo>
                    <a:pt x="940" y="963"/>
                  </a:moveTo>
                  <a:lnTo>
                    <a:pt x="0" y="749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90"/>
                  </a:lnTo>
                  <a:lnTo>
                    <a:pt x="940" y="96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14600" y="559332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5">
                  <a:moveTo>
                    <a:pt x="0" y="722"/>
                  </a:moveTo>
                  <a:lnTo>
                    <a:pt x="1332" y="0"/>
                  </a:lnTo>
                  <a:lnTo>
                    <a:pt x="5075" y="824"/>
                  </a:lnTo>
                  <a:lnTo>
                    <a:pt x="3762" y="1585"/>
                  </a:lnTo>
                  <a:lnTo>
                    <a:pt x="0" y="722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278960" y="5274360"/>
              <a:ext cx="194760" cy="401760"/>
            </a:xfrm>
            <a:custGeom>
              <a:avLst/>
              <a:gdLst/>
              <a:ahLst/>
              <a:rect l="l" t="t" r="r" b="b"/>
              <a:pathLst>
                <a:path w="1438" h="2822">
                  <a:moveTo>
                    <a:pt x="111" y="2822"/>
                  </a:moveTo>
                  <a:lnTo>
                    <a:pt x="0" y="2057"/>
                  </a:lnTo>
                  <a:lnTo>
                    <a:pt x="83" y="619"/>
                  </a:lnTo>
                  <a:lnTo>
                    <a:pt x="1438" y="0"/>
                  </a:lnTo>
                  <a:lnTo>
                    <a:pt x="1438" y="2072"/>
                  </a:lnTo>
                  <a:lnTo>
                    <a:pt x="111" y="2822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975120" y="5304240"/>
              <a:ext cx="319680" cy="371880"/>
            </a:xfrm>
            <a:custGeom>
              <a:avLst/>
              <a:gdLst/>
              <a:ahLst/>
              <a:rect l="l" t="t" r="r" b="b"/>
              <a:pathLst>
                <a:path w="589" h="653">
                  <a:moveTo>
                    <a:pt x="589" y="653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2"/>
                  </a:lnTo>
                  <a:lnTo>
                    <a:pt x="589" y="65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975840" y="520524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3">
                  <a:moveTo>
                    <a:pt x="0" y="693"/>
                  </a:moveTo>
                  <a:lnTo>
                    <a:pt x="1304" y="0"/>
                  </a:lnTo>
                  <a:lnTo>
                    <a:pt x="3671" y="490"/>
                  </a:lnTo>
                  <a:lnTo>
                    <a:pt x="2343" y="124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08160" y="5401080"/>
              <a:ext cx="195120" cy="402480"/>
            </a:xfrm>
            <a:custGeom>
              <a:avLst/>
              <a:gdLst/>
              <a:ahLst/>
              <a:rect l="l" t="t" r="r" b="b"/>
              <a:pathLst>
                <a:path w="1440" h="2823">
                  <a:moveTo>
                    <a:pt x="111" y="2823"/>
                  </a:moveTo>
                  <a:lnTo>
                    <a:pt x="0" y="2058"/>
                  </a:lnTo>
                  <a:lnTo>
                    <a:pt x="84" y="618"/>
                  </a:lnTo>
                  <a:lnTo>
                    <a:pt x="1440" y="0"/>
                  </a:lnTo>
                  <a:lnTo>
                    <a:pt x="1440" y="2072"/>
                  </a:lnTo>
                  <a:lnTo>
                    <a:pt x="111" y="2823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313520" y="5385240"/>
              <a:ext cx="510120" cy="417240"/>
            </a:xfrm>
            <a:custGeom>
              <a:avLst/>
              <a:gdLst/>
              <a:ahLst/>
              <a:rect l="l" t="t" r="r" b="b"/>
              <a:pathLst>
                <a:path w="940" h="732">
                  <a:moveTo>
                    <a:pt x="940" y="732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89"/>
                  </a:lnTo>
                  <a:lnTo>
                    <a:pt x="940" y="732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314600" y="528264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3">
                  <a:moveTo>
                    <a:pt x="0" y="721"/>
                  </a:moveTo>
                  <a:lnTo>
                    <a:pt x="1332" y="0"/>
                  </a:lnTo>
                  <a:lnTo>
                    <a:pt x="5075" y="823"/>
                  </a:lnTo>
                  <a:lnTo>
                    <a:pt x="3762" y="1583"/>
                  </a:lnTo>
                  <a:lnTo>
                    <a:pt x="0" y="721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362120" y="5549400"/>
              <a:ext cx="214920" cy="168120"/>
            </a:xfrm>
            <a:custGeom>
              <a:avLst/>
              <a:gdLst/>
              <a:ahLst/>
              <a:rect l="l" t="t" r="r" b="b"/>
              <a:pathLst>
                <a:path w="1582" h="1178">
                  <a:moveTo>
                    <a:pt x="0" y="0"/>
                  </a:moveTo>
                  <a:lnTo>
                    <a:pt x="98" y="21"/>
                  </a:lnTo>
                  <a:lnTo>
                    <a:pt x="196" y="42"/>
                  </a:lnTo>
                  <a:lnTo>
                    <a:pt x="294" y="63"/>
                  </a:lnTo>
                  <a:lnTo>
                    <a:pt x="393" y="86"/>
                  </a:lnTo>
                  <a:lnTo>
                    <a:pt x="491" y="108"/>
                  </a:lnTo>
                  <a:lnTo>
                    <a:pt x="589" y="130"/>
                  </a:lnTo>
                  <a:lnTo>
                    <a:pt x="688" y="151"/>
                  </a:lnTo>
                  <a:lnTo>
                    <a:pt x="786" y="174"/>
                  </a:lnTo>
                  <a:lnTo>
                    <a:pt x="884" y="196"/>
                  </a:lnTo>
                  <a:lnTo>
                    <a:pt x="984" y="219"/>
                  </a:lnTo>
                  <a:lnTo>
                    <a:pt x="1082" y="241"/>
                  </a:lnTo>
                  <a:lnTo>
                    <a:pt x="1181" y="263"/>
                  </a:lnTo>
                  <a:lnTo>
                    <a:pt x="1279" y="284"/>
                  </a:lnTo>
                  <a:lnTo>
                    <a:pt x="1378" y="306"/>
                  </a:lnTo>
                  <a:lnTo>
                    <a:pt x="1476" y="328"/>
                  </a:lnTo>
                  <a:lnTo>
                    <a:pt x="1575" y="349"/>
                  </a:lnTo>
                  <a:lnTo>
                    <a:pt x="1575" y="401"/>
                  </a:lnTo>
                  <a:lnTo>
                    <a:pt x="1575" y="452"/>
                  </a:lnTo>
                  <a:lnTo>
                    <a:pt x="1576" y="504"/>
                  </a:lnTo>
                  <a:lnTo>
                    <a:pt x="1576" y="556"/>
                  </a:lnTo>
                  <a:lnTo>
                    <a:pt x="1576" y="608"/>
                  </a:lnTo>
                  <a:lnTo>
                    <a:pt x="1578" y="660"/>
                  </a:lnTo>
                  <a:lnTo>
                    <a:pt x="1578" y="712"/>
                  </a:lnTo>
                  <a:lnTo>
                    <a:pt x="1579" y="764"/>
                  </a:lnTo>
                  <a:lnTo>
                    <a:pt x="1579" y="815"/>
                  </a:lnTo>
                  <a:lnTo>
                    <a:pt x="1579" y="867"/>
                  </a:lnTo>
                  <a:lnTo>
                    <a:pt x="1580" y="919"/>
                  </a:lnTo>
                  <a:lnTo>
                    <a:pt x="1580" y="971"/>
                  </a:lnTo>
                  <a:lnTo>
                    <a:pt x="1580" y="1023"/>
                  </a:lnTo>
                  <a:lnTo>
                    <a:pt x="1581" y="1074"/>
                  </a:lnTo>
                  <a:lnTo>
                    <a:pt x="1581" y="1127"/>
                  </a:lnTo>
                  <a:lnTo>
                    <a:pt x="1582" y="1178"/>
                  </a:lnTo>
                  <a:lnTo>
                    <a:pt x="1483" y="1157"/>
                  </a:lnTo>
                  <a:lnTo>
                    <a:pt x="1384" y="1135"/>
                  </a:lnTo>
                  <a:lnTo>
                    <a:pt x="1285" y="1114"/>
                  </a:lnTo>
                  <a:lnTo>
                    <a:pt x="1186" y="1092"/>
                  </a:lnTo>
                  <a:lnTo>
                    <a:pt x="1088" y="1069"/>
                  </a:lnTo>
                  <a:lnTo>
                    <a:pt x="989" y="1047"/>
                  </a:lnTo>
                  <a:lnTo>
                    <a:pt x="890" y="1024"/>
                  </a:lnTo>
                  <a:lnTo>
                    <a:pt x="792" y="1002"/>
                  </a:lnTo>
                  <a:lnTo>
                    <a:pt x="693" y="980"/>
                  </a:lnTo>
                  <a:lnTo>
                    <a:pt x="595" y="958"/>
                  </a:lnTo>
                  <a:lnTo>
                    <a:pt x="496" y="935"/>
                  </a:lnTo>
                  <a:lnTo>
                    <a:pt x="397" y="913"/>
                  </a:lnTo>
                  <a:lnTo>
                    <a:pt x="299" y="891"/>
                  </a:lnTo>
                  <a:lnTo>
                    <a:pt x="200" y="870"/>
                  </a:lnTo>
                  <a:lnTo>
                    <a:pt x="102" y="848"/>
                  </a:lnTo>
                  <a:lnTo>
                    <a:pt x="3" y="827"/>
                  </a:lnTo>
                  <a:lnTo>
                    <a:pt x="3" y="775"/>
                  </a:lnTo>
                  <a:lnTo>
                    <a:pt x="3" y="724"/>
                  </a:lnTo>
                  <a:lnTo>
                    <a:pt x="3" y="671"/>
                  </a:lnTo>
                  <a:lnTo>
                    <a:pt x="2" y="620"/>
                  </a:lnTo>
                  <a:lnTo>
                    <a:pt x="2" y="568"/>
                  </a:lnTo>
                  <a:lnTo>
                    <a:pt x="2" y="516"/>
                  </a:lnTo>
                  <a:lnTo>
                    <a:pt x="2" y="465"/>
                  </a:lnTo>
                  <a:lnTo>
                    <a:pt x="2" y="413"/>
                  </a:lnTo>
                  <a:lnTo>
                    <a:pt x="1" y="362"/>
                  </a:lnTo>
                  <a:lnTo>
                    <a:pt x="1" y="309"/>
                  </a:lnTo>
                  <a:lnTo>
                    <a:pt x="1" y="258"/>
                  </a:lnTo>
                  <a:lnTo>
                    <a:pt x="1" y="206"/>
                  </a:lnTo>
                  <a:lnTo>
                    <a:pt x="0" y="155"/>
                  </a:lnTo>
                  <a:lnTo>
                    <a:pt x="0" y="103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375080" y="5577120"/>
              <a:ext cx="87120" cy="91440"/>
            </a:xfrm>
            <a:custGeom>
              <a:avLst/>
              <a:gdLst/>
              <a:ahLst/>
              <a:rect l="l" t="t" r="r" b="b"/>
              <a:pathLst>
                <a:path w="646" h="644">
                  <a:moveTo>
                    <a:pt x="321" y="8"/>
                  </a:moveTo>
                  <a:lnTo>
                    <a:pt x="337" y="12"/>
                  </a:lnTo>
                  <a:lnTo>
                    <a:pt x="353" y="16"/>
                  </a:lnTo>
                  <a:lnTo>
                    <a:pt x="370" y="22"/>
                  </a:lnTo>
                  <a:lnTo>
                    <a:pt x="385" y="28"/>
                  </a:lnTo>
                  <a:lnTo>
                    <a:pt x="401" y="35"/>
                  </a:lnTo>
                  <a:lnTo>
                    <a:pt x="416" y="43"/>
                  </a:lnTo>
                  <a:lnTo>
                    <a:pt x="432" y="50"/>
                  </a:lnTo>
                  <a:lnTo>
                    <a:pt x="446" y="59"/>
                  </a:lnTo>
                  <a:lnTo>
                    <a:pt x="460" y="69"/>
                  </a:lnTo>
                  <a:lnTo>
                    <a:pt x="474" y="78"/>
                  </a:lnTo>
                  <a:lnTo>
                    <a:pt x="488" y="89"/>
                  </a:lnTo>
                  <a:lnTo>
                    <a:pt x="501" y="100"/>
                  </a:lnTo>
                  <a:lnTo>
                    <a:pt x="515" y="111"/>
                  </a:lnTo>
                  <a:lnTo>
                    <a:pt x="527" y="123"/>
                  </a:lnTo>
                  <a:lnTo>
                    <a:pt x="539" y="136"/>
                  </a:lnTo>
                  <a:lnTo>
                    <a:pt x="549" y="149"/>
                  </a:lnTo>
                  <a:lnTo>
                    <a:pt x="560" y="162"/>
                  </a:lnTo>
                  <a:lnTo>
                    <a:pt x="571" y="175"/>
                  </a:lnTo>
                  <a:lnTo>
                    <a:pt x="581" y="190"/>
                  </a:lnTo>
                  <a:lnTo>
                    <a:pt x="590" y="204"/>
                  </a:lnTo>
                  <a:lnTo>
                    <a:pt x="598" y="218"/>
                  </a:lnTo>
                  <a:lnTo>
                    <a:pt x="606" y="233"/>
                  </a:lnTo>
                  <a:lnTo>
                    <a:pt x="614" y="248"/>
                  </a:lnTo>
                  <a:lnTo>
                    <a:pt x="620" y="264"/>
                  </a:lnTo>
                  <a:lnTo>
                    <a:pt x="626" y="279"/>
                  </a:lnTo>
                  <a:lnTo>
                    <a:pt x="631" y="295"/>
                  </a:lnTo>
                  <a:lnTo>
                    <a:pt x="636" y="311"/>
                  </a:lnTo>
                  <a:lnTo>
                    <a:pt x="640" y="327"/>
                  </a:lnTo>
                  <a:lnTo>
                    <a:pt x="643" y="342"/>
                  </a:lnTo>
                  <a:lnTo>
                    <a:pt x="645" y="359"/>
                  </a:lnTo>
                  <a:lnTo>
                    <a:pt x="646" y="375"/>
                  </a:lnTo>
                  <a:lnTo>
                    <a:pt x="646" y="391"/>
                  </a:lnTo>
                  <a:lnTo>
                    <a:pt x="646" y="408"/>
                  </a:lnTo>
                  <a:lnTo>
                    <a:pt x="645" y="423"/>
                  </a:lnTo>
                  <a:lnTo>
                    <a:pt x="643" y="438"/>
                  </a:lnTo>
                  <a:lnTo>
                    <a:pt x="641" y="453"/>
                  </a:lnTo>
                  <a:lnTo>
                    <a:pt x="637" y="468"/>
                  </a:lnTo>
                  <a:lnTo>
                    <a:pt x="632" y="482"/>
                  </a:lnTo>
                  <a:lnTo>
                    <a:pt x="628" y="495"/>
                  </a:lnTo>
                  <a:lnTo>
                    <a:pt x="621" y="508"/>
                  </a:lnTo>
                  <a:lnTo>
                    <a:pt x="615" y="521"/>
                  </a:lnTo>
                  <a:lnTo>
                    <a:pt x="608" y="533"/>
                  </a:lnTo>
                  <a:lnTo>
                    <a:pt x="601" y="544"/>
                  </a:lnTo>
                  <a:lnTo>
                    <a:pt x="592" y="556"/>
                  </a:lnTo>
                  <a:lnTo>
                    <a:pt x="583" y="566"/>
                  </a:lnTo>
                  <a:lnTo>
                    <a:pt x="573" y="575"/>
                  </a:lnTo>
                  <a:lnTo>
                    <a:pt x="564" y="585"/>
                  </a:lnTo>
                  <a:lnTo>
                    <a:pt x="553" y="594"/>
                  </a:lnTo>
                  <a:lnTo>
                    <a:pt x="541" y="602"/>
                  </a:lnTo>
                  <a:lnTo>
                    <a:pt x="530" y="609"/>
                  </a:lnTo>
                  <a:lnTo>
                    <a:pt x="517" y="616"/>
                  </a:lnTo>
                  <a:lnTo>
                    <a:pt x="505" y="622"/>
                  </a:lnTo>
                  <a:lnTo>
                    <a:pt x="492" y="627"/>
                  </a:lnTo>
                  <a:lnTo>
                    <a:pt x="477" y="632"/>
                  </a:lnTo>
                  <a:lnTo>
                    <a:pt x="464" y="635"/>
                  </a:lnTo>
                  <a:lnTo>
                    <a:pt x="449" y="639"/>
                  </a:lnTo>
                  <a:lnTo>
                    <a:pt x="435" y="642"/>
                  </a:lnTo>
                  <a:lnTo>
                    <a:pt x="420" y="643"/>
                  </a:lnTo>
                  <a:lnTo>
                    <a:pt x="404" y="644"/>
                  </a:lnTo>
                  <a:lnTo>
                    <a:pt x="389" y="644"/>
                  </a:lnTo>
                  <a:lnTo>
                    <a:pt x="373" y="644"/>
                  </a:lnTo>
                  <a:lnTo>
                    <a:pt x="357" y="643"/>
                  </a:lnTo>
                  <a:lnTo>
                    <a:pt x="340" y="640"/>
                  </a:lnTo>
                  <a:lnTo>
                    <a:pt x="324" y="637"/>
                  </a:lnTo>
                  <a:lnTo>
                    <a:pt x="307" y="633"/>
                  </a:lnTo>
                  <a:lnTo>
                    <a:pt x="291" y="629"/>
                  </a:lnTo>
                  <a:lnTo>
                    <a:pt x="275" y="623"/>
                  </a:lnTo>
                  <a:lnTo>
                    <a:pt x="258" y="617"/>
                  </a:lnTo>
                  <a:lnTo>
                    <a:pt x="243" y="610"/>
                  </a:lnTo>
                  <a:lnTo>
                    <a:pt x="228" y="603"/>
                  </a:lnTo>
                  <a:lnTo>
                    <a:pt x="213" y="594"/>
                  </a:lnTo>
                  <a:lnTo>
                    <a:pt x="199" y="585"/>
                  </a:lnTo>
                  <a:lnTo>
                    <a:pt x="184" y="575"/>
                  </a:lnTo>
                  <a:lnTo>
                    <a:pt x="170" y="566"/>
                  </a:lnTo>
                  <a:lnTo>
                    <a:pt x="156" y="556"/>
                  </a:lnTo>
                  <a:lnTo>
                    <a:pt x="143" y="545"/>
                  </a:lnTo>
                  <a:lnTo>
                    <a:pt x="131" y="533"/>
                  </a:lnTo>
                  <a:lnTo>
                    <a:pt x="118" y="521"/>
                  </a:lnTo>
                  <a:lnTo>
                    <a:pt x="107" y="509"/>
                  </a:lnTo>
                  <a:lnTo>
                    <a:pt x="95" y="496"/>
                  </a:lnTo>
                  <a:lnTo>
                    <a:pt x="85" y="483"/>
                  </a:lnTo>
                  <a:lnTo>
                    <a:pt x="74" y="469"/>
                  </a:lnTo>
                  <a:lnTo>
                    <a:pt x="64" y="454"/>
                  </a:lnTo>
                  <a:lnTo>
                    <a:pt x="56" y="440"/>
                  </a:lnTo>
                  <a:lnTo>
                    <a:pt x="47" y="426"/>
                  </a:lnTo>
                  <a:lnTo>
                    <a:pt x="39" y="411"/>
                  </a:lnTo>
                  <a:lnTo>
                    <a:pt x="32" y="396"/>
                  </a:lnTo>
                  <a:lnTo>
                    <a:pt x="25" y="380"/>
                  </a:lnTo>
                  <a:lnTo>
                    <a:pt x="20" y="365"/>
                  </a:lnTo>
                  <a:lnTo>
                    <a:pt x="14" y="350"/>
                  </a:lnTo>
                  <a:lnTo>
                    <a:pt x="10" y="333"/>
                  </a:lnTo>
                  <a:lnTo>
                    <a:pt x="7" y="318"/>
                  </a:lnTo>
                  <a:lnTo>
                    <a:pt x="3" y="302"/>
                  </a:lnTo>
                  <a:lnTo>
                    <a:pt x="1" y="286"/>
                  </a:lnTo>
                  <a:lnTo>
                    <a:pt x="0" y="269"/>
                  </a:lnTo>
                  <a:lnTo>
                    <a:pt x="0" y="253"/>
                  </a:lnTo>
                  <a:lnTo>
                    <a:pt x="0" y="238"/>
                  </a:lnTo>
                  <a:lnTo>
                    <a:pt x="1" y="221"/>
                  </a:lnTo>
                  <a:lnTo>
                    <a:pt x="3" y="206"/>
                  </a:lnTo>
                  <a:lnTo>
                    <a:pt x="6" y="192"/>
                  </a:lnTo>
                  <a:lnTo>
                    <a:pt x="10" y="177"/>
                  </a:lnTo>
                  <a:lnTo>
                    <a:pt x="14" y="163"/>
                  </a:lnTo>
                  <a:lnTo>
                    <a:pt x="19" y="149"/>
                  </a:lnTo>
                  <a:lnTo>
                    <a:pt x="24" y="136"/>
                  </a:lnTo>
                  <a:lnTo>
                    <a:pt x="31" y="124"/>
                  </a:lnTo>
                  <a:lnTo>
                    <a:pt x="38" y="112"/>
                  </a:lnTo>
                  <a:lnTo>
                    <a:pt x="46" y="100"/>
                  </a:lnTo>
                  <a:lnTo>
                    <a:pt x="54" y="89"/>
                  </a:lnTo>
                  <a:lnTo>
                    <a:pt x="63" y="80"/>
                  </a:lnTo>
                  <a:lnTo>
                    <a:pt x="72" y="70"/>
                  </a:lnTo>
                  <a:lnTo>
                    <a:pt x="82" y="60"/>
                  </a:lnTo>
                  <a:lnTo>
                    <a:pt x="93" y="51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9"/>
                  </a:lnTo>
                  <a:lnTo>
                    <a:pt x="141" y="23"/>
                  </a:lnTo>
                  <a:lnTo>
                    <a:pt x="154" y="17"/>
                  </a:lnTo>
                  <a:lnTo>
                    <a:pt x="167" y="13"/>
                  </a:lnTo>
                  <a:lnTo>
                    <a:pt x="181" y="9"/>
                  </a:lnTo>
                  <a:lnTo>
                    <a:pt x="195" y="5"/>
                  </a:lnTo>
                  <a:lnTo>
                    <a:pt x="209" y="3"/>
                  </a:lnTo>
                  <a:lnTo>
                    <a:pt x="225" y="1"/>
                  </a:lnTo>
                  <a:lnTo>
                    <a:pt x="240" y="1"/>
                  </a:lnTo>
                  <a:lnTo>
                    <a:pt x="255" y="0"/>
                  </a:lnTo>
                  <a:lnTo>
                    <a:pt x="272" y="1"/>
                  </a:lnTo>
                  <a:lnTo>
                    <a:pt x="288" y="2"/>
                  </a:lnTo>
                  <a:lnTo>
                    <a:pt x="304" y="4"/>
                  </a:lnTo>
                  <a:lnTo>
                    <a:pt x="321" y="8"/>
                  </a:lnTo>
                  <a:close/>
                  <a:moveTo>
                    <a:pt x="363" y="388"/>
                  </a:moveTo>
                  <a:lnTo>
                    <a:pt x="371" y="376"/>
                  </a:lnTo>
                  <a:lnTo>
                    <a:pt x="378" y="365"/>
                  </a:lnTo>
                  <a:lnTo>
                    <a:pt x="385" y="354"/>
                  </a:lnTo>
                  <a:lnTo>
                    <a:pt x="392" y="342"/>
                  </a:lnTo>
                  <a:lnTo>
                    <a:pt x="418" y="361"/>
                  </a:lnTo>
                  <a:lnTo>
                    <a:pt x="442" y="380"/>
                  </a:lnTo>
                  <a:lnTo>
                    <a:pt x="467" y="399"/>
                  </a:lnTo>
                  <a:lnTo>
                    <a:pt x="492" y="418"/>
                  </a:lnTo>
                  <a:lnTo>
                    <a:pt x="516" y="437"/>
                  </a:lnTo>
                  <a:lnTo>
                    <a:pt x="541" y="456"/>
                  </a:lnTo>
                  <a:lnTo>
                    <a:pt x="566" y="475"/>
                  </a:lnTo>
                  <a:lnTo>
                    <a:pt x="591" y="494"/>
                  </a:lnTo>
                  <a:lnTo>
                    <a:pt x="583" y="505"/>
                  </a:lnTo>
                  <a:lnTo>
                    <a:pt x="576" y="515"/>
                  </a:lnTo>
                  <a:lnTo>
                    <a:pt x="568" y="527"/>
                  </a:lnTo>
                  <a:lnTo>
                    <a:pt x="561" y="538"/>
                  </a:lnTo>
                  <a:lnTo>
                    <a:pt x="536" y="520"/>
                  </a:lnTo>
                  <a:lnTo>
                    <a:pt x="511" y="501"/>
                  </a:lnTo>
                  <a:lnTo>
                    <a:pt x="486" y="482"/>
                  </a:lnTo>
                  <a:lnTo>
                    <a:pt x="462" y="463"/>
                  </a:lnTo>
                  <a:lnTo>
                    <a:pt x="437" y="445"/>
                  </a:lnTo>
                  <a:lnTo>
                    <a:pt x="412" y="425"/>
                  </a:lnTo>
                  <a:lnTo>
                    <a:pt x="388" y="406"/>
                  </a:lnTo>
                  <a:lnTo>
                    <a:pt x="363" y="388"/>
                  </a:lnTo>
                  <a:close/>
                  <a:moveTo>
                    <a:pt x="92" y="444"/>
                  </a:moveTo>
                  <a:lnTo>
                    <a:pt x="83" y="429"/>
                  </a:lnTo>
                  <a:lnTo>
                    <a:pt x="75" y="415"/>
                  </a:lnTo>
                  <a:lnTo>
                    <a:pt x="68" y="401"/>
                  </a:lnTo>
                  <a:lnTo>
                    <a:pt x="59" y="387"/>
                  </a:lnTo>
                  <a:lnTo>
                    <a:pt x="84" y="378"/>
                  </a:lnTo>
                  <a:lnTo>
                    <a:pt x="108" y="368"/>
                  </a:lnTo>
                  <a:lnTo>
                    <a:pt x="132" y="360"/>
                  </a:lnTo>
                  <a:lnTo>
                    <a:pt x="156" y="351"/>
                  </a:lnTo>
                  <a:lnTo>
                    <a:pt x="180" y="341"/>
                  </a:lnTo>
                  <a:lnTo>
                    <a:pt x="204" y="332"/>
                  </a:lnTo>
                  <a:lnTo>
                    <a:pt x="228" y="323"/>
                  </a:lnTo>
                  <a:lnTo>
                    <a:pt x="252" y="314"/>
                  </a:lnTo>
                  <a:lnTo>
                    <a:pt x="260" y="328"/>
                  </a:lnTo>
                  <a:lnTo>
                    <a:pt x="268" y="343"/>
                  </a:lnTo>
                  <a:lnTo>
                    <a:pt x="276" y="357"/>
                  </a:lnTo>
                  <a:lnTo>
                    <a:pt x="285" y="372"/>
                  </a:lnTo>
                  <a:lnTo>
                    <a:pt x="260" y="380"/>
                  </a:lnTo>
                  <a:lnTo>
                    <a:pt x="236" y="390"/>
                  </a:lnTo>
                  <a:lnTo>
                    <a:pt x="212" y="399"/>
                  </a:lnTo>
                  <a:lnTo>
                    <a:pt x="188" y="408"/>
                  </a:lnTo>
                  <a:lnTo>
                    <a:pt x="164" y="417"/>
                  </a:lnTo>
                  <a:lnTo>
                    <a:pt x="140" y="426"/>
                  </a:lnTo>
                  <a:lnTo>
                    <a:pt x="116" y="435"/>
                  </a:lnTo>
                  <a:lnTo>
                    <a:pt x="92" y="444"/>
                  </a:lnTo>
                  <a:close/>
                  <a:moveTo>
                    <a:pt x="290" y="34"/>
                  </a:moveTo>
                  <a:lnTo>
                    <a:pt x="305" y="37"/>
                  </a:lnTo>
                  <a:lnTo>
                    <a:pt x="321" y="40"/>
                  </a:lnTo>
                  <a:lnTo>
                    <a:pt x="337" y="44"/>
                  </a:lnTo>
                  <a:lnTo>
                    <a:pt x="352" y="47"/>
                  </a:lnTo>
                  <a:lnTo>
                    <a:pt x="352" y="75"/>
                  </a:lnTo>
                  <a:lnTo>
                    <a:pt x="352" y="102"/>
                  </a:lnTo>
                  <a:lnTo>
                    <a:pt x="352" y="130"/>
                  </a:lnTo>
                  <a:lnTo>
                    <a:pt x="352" y="157"/>
                  </a:lnTo>
                  <a:lnTo>
                    <a:pt x="353" y="185"/>
                  </a:lnTo>
                  <a:lnTo>
                    <a:pt x="353" y="213"/>
                  </a:lnTo>
                  <a:lnTo>
                    <a:pt x="353" y="240"/>
                  </a:lnTo>
                  <a:lnTo>
                    <a:pt x="353" y="267"/>
                  </a:lnTo>
                  <a:lnTo>
                    <a:pt x="338" y="264"/>
                  </a:lnTo>
                  <a:lnTo>
                    <a:pt x="322" y="260"/>
                  </a:lnTo>
                  <a:lnTo>
                    <a:pt x="306" y="257"/>
                  </a:lnTo>
                  <a:lnTo>
                    <a:pt x="291" y="254"/>
                  </a:lnTo>
                  <a:lnTo>
                    <a:pt x="291" y="227"/>
                  </a:lnTo>
                  <a:lnTo>
                    <a:pt x="291" y="199"/>
                  </a:lnTo>
                  <a:lnTo>
                    <a:pt x="290" y="171"/>
                  </a:lnTo>
                  <a:lnTo>
                    <a:pt x="290" y="144"/>
                  </a:lnTo>
                  <a:lnTo>
                    <a:pt x="290" y="117"/>
                  </a:lnTo>
                  <a:lnTo>
                    <a:pt x="290" y="89"/>
                  </a:lnTo>
                  <a:lnTo>
                    <a:pt x="290" y="61"/>
                  </a:lnTo>
                  <a:lnTo>
                    <a:pt x="290" y="3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477680" y="5600520"/>
              <a:ext cx="87840" cy="91440"/>
            </a:xfrm>
            <a:custGeom>
              <a:avLst/>
              <a:gdLst/>
              <a:ahLst/>
              <a:rect l="l" t="t" r="r" b="b"/>
              <a:pathLst>
                <a:path w="647" h="644">
                  <a:moveTo>
                    <a:pt x="45" y="100"/>
                  </a:moveTo>
                  <a:lnTo>
                    <a:pt x="55" y="88"/>
                  </a:lnTo>
                  <a:lnTo>
                    <a:pt x="64" y="77"/>
                  </a:lnTo>
                  <a:lnTo>
                    <a:pt x="75" y="67"/>
                  </a:lnTo>
                  <a:lnTo>
                    <a:pt x="85" y="57"/>
                  </a:lnTo>
                  <a:lnTo>
                    <a:pt x="97" y="48"/>
                  </a:lnTo>
                  <a:lnTo>
                    <a:pt x="107" y="41"/>
                  </a:lnTo>
                  <a:lnTo>
                    <a:pt x="119" y="33"/>
                  </a:lnTo>
                  <a:lnTo>
                    <a:pt x="133" y="27"/>
                  </a:lnTo>
                  <a:lnTo>
                    <a:pt x="146" y="21"/>
                  </a:lnTo>
                  <a:lnTo>
                    <a:pt x="159" y="16"/>
                  </a:lnTo>
                  <a:lnTo>
                    <a:pt x="173" y="11"/>
                  </a:lnTo>
                  <a:lnTo>
                    <a:pt x="186" y="8"/>
                  </a:lnTo>
                  <a:lnTo>
                    <a:pt x="201" y="5"/>
                  </a:lnTo>
                  <a:lnTo>
                    <a:pt x="215" y="3"/>
                  </a:lnTo>
                  <a:lnTo>
                    <a:pt x="229" y="1"/>
                  </a:lnTo>
                  <a:lnTo>
                    <a:pt x="245" y="0"/>
                  </a:lnTo>
                  <a:lnTo>
                    <a:pt x="260" y="0"/>
                  </a:lnTo>
                  <a:lnTo>
                    <a:pt x="275" y="1"/>
                  </a:lnTo>
                  <a:lnTo>
                    <a:pt x="291" y="4"/>
                  </a:lnTo>
                  <a:lnTo>
                    <a:pt x="307" y="6"/>
                  </a:lnTo>
                  <a:lnTo>
                    <a:pt x="322" y="8"/>
                  </a:lnTo>
                  <a:lnTo>
                    <a:pt x="337" y="12"/>
                  </a:lnTo>
                  <a:lnTo>
                    <a:pt x="354" y="17"/>
                  </a:lnTo>
                  <a:lnTo>
                    <a:pt x="369" y="22"/>
                  </a:lnTo>
                  <a:lnTo>
                    <a:pt x="384" y="28"/>
                  </a:lnTo>
                  <a:lnTo>
                    <a:pt x="400" y="34"/>
                  </a:lnTo>
                  <a:lnTo>
                    <a:pt x="415" y="42"/>
                  </a:lnTo>
                  <a:lnTo>
                    <a:pt x="431" y="51"/>
                  </a:lnTo>
                  <a:lnTo>
                    <a:pt x="445" y="59"/>
                  </a:lnTo>
                  <a:lnTo>
                    <a:pt x="461" y="69"/>
                  </a:lnTo>
                  <a:lnTo>
                    <a:pt x="476" y="79"/>
                  </a:lnTo>
                  <a:lnTo>
                    <a:pt x="490" y="90"/>
                  </a:lnTo>
                  <a:lnTo>
                    <a:pt x="504" y="102"/>
                  </a:lnTo>
                  <a:lnTo>
                    <a:pt x="517" y="114"/>
                  </a:lnTo>
                  <a:lnTo>
                    <a:pt x="530" y="127"/>
                  </a:lnTo>
                  <a:lnTo>
                    <a:pt x="542" y="140"/>
                  </a:lnTo>
                  <a:lnTo>
                    <a:pt x="554" y="153"/>
                  </a:lnTo>
                  <a:lnTo>
                    <a:pt x="565" y="167"/>
                  </a:lnTo>
                  <a:lnTo>
                    <a:pt x="575" y="181"/>
                  </a:lnTo>
                  <a:lnTo>
                    <a:pt x="585" y="195"/>
                  </a:lnTo>
                  <a:lnTo>
                    <a:pt x="593" y="210"/>
                  </a:lnTo>
                  <a:lnTo>
                    <a:pt x="602" y="224"/>
                  </a:lnTo>
                  <a:lnTo>
                    <a:pt x="609" y="239"/>
                  </a:lnTo>
                  <a:lnTo>
                    <a:pt x="616" y="254"/>
                  </a:lnTo>
                  <a:lnTo>
                    <a:pt x="623" y="270"/>
                  </a:lnTo>
                  <a:lnTo>
                    <a:pt x="628" y="285"/>
                  </a:lnTo>
                  <a:lnTo>
                    <a:pt x="633" y="300"/>
                  </a:lnTo>
                  <a:lnTo>
                    <a:pt x="637" y="315"/>
                  </a:lnTo>
                  <a:lnTo>
                    <a:pt x="640" y="332"/>
                  </a:lnTo>
                  <a:lnTo>
                    <a:pt x="643" y="347"/>
                  </a:lnTo>
                  <a:lnTo>
                    <a:pt x="645" y="362"/>
                  </a:lnTo>
                  <a:lnTo>
                    <a:pt x="646" y="377"/>
                  </a:lnTo>
                  <a:lnTo>
                    <a:pt x="647" y="393"/>
                  </a:lnTo>
                  <a:lnTo>
                    <a:pt x="646" y="408"/>
                  </a:lnTo>
                  <a:lnTo>
                    <a:pt x="645" y="422"/>
                  </a:lnTo>
                  <a:lnTo>
                    <a:pt x="644" y="437"/>
                  </a:lnTo>
                  <a:lnTo>
                    <a:pt x="640" y="452"/>
                  </a:lnTo>
                  <a:lnTo>
                    <a:pt x="637" y="467"/>
                  </a:lnTo>
                  <a:lnTo>
                    <a:pt x="634" y="480"/>
                  </a:lnTo>
                  <a:lnTo>
                    <a:pt x="628" y="494"/>
                  </a:lnTo>
                  <a:lnTo>
                    <a:pt x="623" y="507"/>
                  </a:lnTo>
                  <a:lnTo>
                    <a:pt x="616" y="520"/>
                  </a:lnTo>
                  <a:lnTo>
                    <a:pt x="609" y="533"/>
                  </a:lnTo>
                  <a:lnTo>
                    <a:pt x="600" y="545"/>
                  </a:lnTo>
                  <a:lnTo>
                    <a:pt x="591" y="557"/>
                  </a:lnTo>
                  <a:lnTo>
                    <a:pt x="583" y="568"/>
                  </a:lnTo>
                  <a:lnTo>
                    <a:pt x="572" y="578"/>
                  </a:lnTo>
                  <a:lnTo>
                    <a:pt x="561" y="588"/>
                  </a:lnTo>
                  <a:lnTo>
                    <a:pt x="550" y="596"/>
                  </a:lnTo>
                  <a:lnTo>
                    <a:pt x="538" y="604"/>
                  </a:lnTo>
                  <a:lnTo>
                    <a:pt x="526" y="612"/>
                  </a:lnTo>
                  <a:lnTo>
                    <a:pt x="514" y="618"/>
                  </a:lnTo>
                  <a:lnTo>
                    <a:pt x="501" y="624"/>
                  </a:lnTo>
                  <a:lnTo>
                    <a:pt x="488" y="629"/>
                  </a:lnTo>
                  <a:lnTo>
                    <a:pt x="474" y="634"/>
                  </a:lnTo>
                  <a:lnTo>
                    <a:pt x="459" y="637"/>
                  </a:lnTo>
                  <a:lnTo>
                    <a:pt x="445" y="640"/>
                  </a:lnTo>
                  <a:lnTo>
                    <a:pt x="431" y="642"/>
                  </a:lnTo>
                  <a:lnTo>
                    <a:pt x="416" y="643"/>
                  </a:lnTo>
                  <a:lnTo>
                    <a:pt x="401" y="644"/>
                  </a:lnTo>
                  <a:lnTo>
                    <a:pt x="385" y="644"/>
                  </a:lnTo>
                  <a:lnTo>
                    <a:pt x="370" y="643"/>
                  </a:lnTo>
                  <a:lnTo>
                    <a:pt x="355" y="642"/>
                  </a:lnTo>
                  <a:lnTo>
                    <a:pt x="340" y="639"/>
                  </a:lnTo>
                  <a:lnTo>
                    <a:pt x="323" y="637"/>
                  </a:lnTo>
                  <a:lnTo>
                    <a:pt x="308" y="632"/>
                  </a:lnTo>
                  <a:lnTo>
                    <a:pt x="292" y="628"/>
                  </a:lnTo>
                  <a:lnTo>
                    <a:pt x="276" y="623"/>
                  </a:lnTo>
                  <a:lnTo>
                    <a:pt x="261" y="617"/>
                  </a:lnTo>
                  <a:lnTo>
                    <a:pt x="245" y="611"/>
                  </a:lnTo>
                  <a:lnTo>
                    <a:pt x="229" y="603"/>
                  </a:lnTo>
                  <a:lnTo>
                    <a:pt x="214" y="594"/>
                  </a:lnTo>
                  <a:lnTo>
                    <a:pt x="199" y="586"/>
                  </a:lnTo>
                  <a:lnTo>
                    <a:pt x="185" y="576"/>
                  </a:lnTo>
                  <a:lnTo>
                    <a:pt x="170" y="566"/>
                  </a:lnTo>
                  <a:lnTo>
                    <a:pt x="155" y="554"/>
                  </a:lnTo>
                  <a:lnTo>
                    <a:pt x="141" y="543"/>
                  </a:lnTo>
                  <a:lnTo>
                    <a:pt x="128" y="530"/>
                  </a:lnTo>
                  <a:lnTo>
                    <a:pt x="115" y="518"/>
                  </a:lnTo>
                  <a:lnTo>
                    <a:pt x="103" y="505"/>
                  </a:lnTo>
                  <a:lnTo>
                    <a:pt x="91" y="492"/>
                  </a:lnTo>
                  <a:lnTo>
                    <a:pt x="80" y="478"/>
                  </a:lnTo>
                  <a:lnTo>
                    <a:pt x="70" y="464"/>
                  </a:lnTo>
                  <a:lnTo>
                    <a:pt x="61" y="449"/>
                  </a:lnTo>
                  <a:lnTo>
                    <a:pt x="52" y="435"/>
                  </a:lnTo>
                  <a:lnTo>
                    <a:pt x="43" y="420"/>
                  </a:lnTo>
                  <a:lnTo>
                    <a:pt x="36" y="405"/>
                  </a:lnTo>
                  <a:lnTo>
                    <a:pt x="29" y="391"/>
                  </a:lnTo>
                  <a:lnTo>
                    <a:pt x="22" y="375"/>
                  </a:lnTo>
                  <a:lnTo>
                    <a:pt x="17" y="360"/>
                  </a:lnTo>
                  <a:lnTo>
                    <a:pt x="13" y="344"/>
                  </a:lnTo>
                  <a:lnTo>
                    <a:pt x="8" y="328"/>
                  </a:lnTo>
                  <a:lnTo>
                    <a:pt x="5" y="313"/>
                  </a:lnTo>
                  <a:lnTo>
                    <a:pt x="3" y="298"/>
                  </a:lnTo>
                  <a:lnTo>
                    <a:pt x="1" y="283"/>
                  </a:lnTo>
                  <a:lnTo>
                    <a:pt x="0" y="267"/>
                  </a:lnTo>
                  <a:lnTo>
                    <a:pt x="0" y="252"/>
                  </a:lnTo>
                  <a:lnTo>
                    <a:pt x="0" y="237"/>
                  </a:lnTo>
                  <a:lnTo>
                    <a:pt x="1" y="222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8" y="178"/>
                  </a:lnTo>
                  <a:lnTo>
                    <a:pt x="13" y="164"/>
                  </a:lnTo>
                  <a:lnTo>
                    <a:pt x="18" y="151"/>
                  </a:lnTo>
                  <a:lnTo>
                    <a:pt x="24" y="137"/>
                  </a:lnTo>
                  <a:lnTo>
                    <a:pt x="30" y="124"/>
                  </a:lnTo>
                  <a:lnTo>
                    <a:pt x="38" y="112"/>
                  </a:lnTo>
                  <a:lnTo>
                    <a:pt x="45" y="100"/>
                  </a:lnTo>
                  <a:close/>
                  <a:moveTo>
                    <a:pt x="394" y="334"/>
                  </a:moveTo>
                  <a:lnTo>
                    <a:pt x="386" y="319"/>
                  </a:lnTo>
                  <a:lnTo>
                    <a:pt x="379" y="304"/>
                  </a:lnTo>
                  <a:lnTo>
                    <a:pt x="371" y="289"/>
                  </a:lnTo>
                  <a:lnTo>
                    <a:pt x="364" y="274"/>
                  </a:lnTo>
                  <a:lnTo>
                    <a:pt x="388" y="266"/>
                  </a:lnTo>
                  <a:lnTo>
                    <a:pt x="413" y="259"/>
                  </a:lnTo>
                  <a:lnTo>
                    <a:pt x="438" y="251"/>
                  </a:lnTo>
                  <a:lnTo>
                    <a:pt x="462" y="243"/>
                  </a:lnTo>
                  <a:lnTo>
                    <a:pt x="487" y="236"/>
                  </a:lnTo>
                  <a:lnTo>
                    <a:pt x="512" y="227"/>
                  </a:lnTo>
                  <a:lnTo>
                    <a:pt x="536" y="219"/>
                  </a:lnTo>
                  <a:lnTo>
                    <a:pt x="561" y="211"/>
                  </a:lnTo>
                  <a:lnTo>
                    <a:pt x="568" y="226"/>
                  </a:lnTo>
                  <a:lnTo>
                    <a:pt x="576" y="241"/>
                  </a:lnTo>
                  <a:lnTo>
                    <a:pt x="584" y="255"/>
                  </a:lnTo>
                  <a:lnTo>
                    <a:pt x="591" y="270"/>
                  </a:lnTo>
                  <a:lnTo>
                    <a:pt x="566" y="278"/>
                  </a:lnTo>
                  <a:lnTo>
                    <a:pt x="542" y="286"/>
                  </a:lnTo>
                  <a:lnTo>
                    <a:pt x="517" y="294"/>
                  </a:lnTo>
                  <a:lnTo>
                    <a:pt x="492" y="301"/>
                  </a:lnTo>
                  <a:lnTo>
                    <a:pt x="467" y="310"/>
                  </a:lnTo>
                  <a:lnTo>
                    <a:pt x="443" y="317"/>
                  </a:lnTo>
                  <a:lnTo>
                    <a:pt x="418" y="325"/>
                  </a:lnTo>
                  <a:lnTo>
                    <a:pt x="394" y="334"/>
                  </a:lnTo>
                  <a:close/>
                  <a:moveTo>
                    <a:pt x="354" y="611"/>
                  </a:moveTo>
                  <a:lnTo>
                    <a:pt x="338" y="607"/>
                  </a:lnTo>
                  <a:lnTo>
                    <a:pt x="323" y="604"/>
                  </a:lnTo>
                  <a:lnTo>
                    <a:pt x="308" y="601"/>
                  </a:lnTo>
                  <a:lnTo>
                    <a:pt x="293" y="598"/>
                  </a:lnTo>
                  <a:lnTo>
                    <a:pt x="293" y="570"/>
                  </a:lnTo>
                  <a:lnTo>
                    <a:pt x="293" y="543"/>
                  </a:lnTo>
                  <a:lnTo>
                    <a:pt x="293" y="515"/>
                  </a:lnTo>
                  <a:lnTo>
                    <a:pt x="292" y="487"/>
                  </a:lnTo>
                  <a:lnTo>
                    <a:pt x="292" y="460"/>
                  </a:lnTo>
                  <a:lnTo>
                    <a:pt x="292" y="432"/>
                  </a:lnTo>
                  <a:lnTo>
                    <a:pt x="292" y="405"/>
                  </a:lnTo>
                  <a:lnTo>
                    <a:pt x="292" y="377"/>
                  </a:lnTo>
                  <a:lnTo>
                    <a:pt x="308" y="381"/>
                  </a:lnTo>
                  <a:lnTo>
                    <a:pt x="323" y="384"/>
                  </a:lnTo>
                  <a:lnTo>
                    <a:pt x="338" y="387"/>
                  </a:lnTo>
                  <a:lnTo>
                    <a:pt x="354" y="391"/>
                  </a:lnTo>
                  <a:lnTo>
                    <a:pt x="354" y="418"/>
                  </a:lnTo>
                  <a:lnTo>
                    <a:pt x="354" y="446"/>
                  </a:lnTo>
                  <a:lnTo>
                    <a:pt x="354" y="473"/>
                  </a:lnTo>
                  <a:lnTo>
                    <a:pt x="354" y="501"/>
                  </a:lnTo>
                  <a:lnTo>
                    <a:pt x="354" y="528"/>
                  </a:lnTo>
                  <a:lnTo>
                    <a:pt x="354" y="556"/>
                  </a:lnTo>
                  <a:lnTo>
                    <a:pt x="354" y="583"/>
                  </a:lnTo>
                  <a:lnTo>
                    <a:pt x="354" y="611"/>
                  </a:lnTo>
                  <a:close/>
                  <a:moveTo>
                    <a:pt x="58" y="144"/>
                  </a:moveTo>
                  <a:lnTo>
                    <a:pt x="66" y="133"/>
                  </a:lnTo>
                  <a:lnTo>
                    <a:pt x="74" y="122"/>
                  </a:lnTo>
                  <a:lnTo>
                    <a:pt x="82" y="110"/>
                  </a:lnTo>
                  <a:lnTo>
                    <a:pt x="90" y="100"/>
                  </a:lnTo>
                  <a:lnTo>
                    <a:pt x="114" y="119"/>
                  </a:lnTo>
                  <a:lnTo>
                    <a:pt x="139" y="139"/>
                  </a:lnTo>
                  <a:lnTo>
                    <a:pt x="163" y="158"/>
                  </a:lnTo>
                  <a:lnTo>
                    <a:pt x="187" y="178"/>
                  </a:lnTo>
                  <a:lnTo>
                    <a:pt x="211" y="198"/>
                  </a:lnTo>
                  <a:lnTo>
                    <a:pt x="236" y="217"/>
                  </a:lnTo>
                  <a:lnTo>
                    <a:pt x="260" y="237"/>
                  </a:lnTo>
                  <a:lnTo>
                    <a:pt x="284" y="256"/>
                  </a:lnTo>
                  <a:lnTo>
                    <a:pt x="276" y="267"/>
                  </a:lnTo>
                  <a:lnTo>
                    <a:pt x="269" y="278"/>
                  </a:lnTo>
                  <a:lnTo>
                    <a:pt x="260" y="289"/>
                  </a:lnTo>
                  <a:lnTo>
                    <a:pt x="252" y="300"/>
                  </a:lnTo>
                  <a:lnTo>
                    <a:pt x="228" y="280"/>
                  </a:lnTo>
                  <a:lnTo>
                    <a:pt x="203" y="261"/>
                  </a:lnTo>
                  <a:lnTo>
                    <a:pt x="179" y="241"/>
                  </a:lnTo>
                  <a:lnTo>
                    <a:pt x="155" y="222"/>
                  </a:lnTo>
                  <a:lnTo>
                    <a:pt x="131" y="203"/>
                  </a:lnTo>
                  <a:lnTo>
                    <a:pt x="106" y="183"/>
                  </a:lnTo>
                  <a:lnTo>
                    <a:pt x="82" y="164"/>
                  </a:lnTo>
                  <a:lnTo>
                    <a:pt x="58" y="14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054680" y="5350320"/>
              <a:ext cx="150840" cy="65880"/>
            </a:xfrm>
            <a:custGeom>
              <a:avLst/>
              <a:gdLst/>
              <a:ahLst/>
              <a:rect l="l" t="t" r="r" b="b"/>
              <a:pathLst>
                <a:path w="1115" h="465">
                  <a:moveTo>
                    <a:pt x="0" y="0"/>
                  </a:moveTo>
                  <a:lnTo>
                    <a:pt x="1115" y="248"/>
                  </a:lnTo>
                  <a:lnTo>
                    <a:pt x="1115" y="465"/>
                  </a:lnTo>
                  <a:lnTo>
                    <a:pt x="0" y="2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56720" y="5425200"/>
              <a:ext cx="252360" cy="82800"/>
            </a:xfrm>
            <a:custGeom>
              <a:avLst/>
              <a:gdLst/>
              <a:ahLst/>
              <a:rect l="l" t="t" r="r" b="b"/>
              <a:pathLst>
                <a:path w="1860" h="586">
                  <a:moveTo>
                    <a:pt x="0" y="0"/>
                  </a:moveTo>
                  <a:lnTo>
                    <a:pt x="683" y="168"/>
                  </a:lnTo>
                  <a:lnTo>
                    <a:pt x="683" y="295"/>
                  </a:lnTo>
                  <a:lnTo>
                    <a:pt x="0" y="128"/>
                  </a:lnTo>
                  <a:lnTo>
                    <a:pt x="0" y="0"/>
                  </a:lnTo>
                  <a:close/>
                  <a:moveTo>
                    <a:pt x="895" y="220"/>
                  </a:moveTo>
                  <a:lnTo>
                    <a:pt x="1860" y="459"/>
                  </a:lnTo>
                  <a:lnTo>
                    <a:pt x="1860" y="586"/>
                  </a:lnTo>
                  <a:lnTo>
                    <a:pt x="895" y="348"/>
                  </a:lnTo>
                  <a:lnTo>
                    <a:pt x="895" y="22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673520" y="5504760"/>
              <a:ext cx="129600" cy="48240"/>
            </a:xfrm>
            <a:custGeom>
              <a:avLst/>
              <a:gdLst/>
              <a:ahLst/>
              <a:rect l="l" t="t" r="r" b="b"/>
              <a:pathLst>
                <a:path w="955" h="342">
                  <a:moveTo>
                    <a:pt x="0" y="0"/>
                  </a:moveTo>
                  <a:lnTo>
                    <a:pt x="955" y="216"/>
                  </a:lnTo>
                  <a:lnTo>
                    <a:pt x="955" y="342"/>
                  </a:lnTo>
                  <a:lnTo>
                    <a:pt x="0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0040" y="5474160"/>
              <a:ext cx="10800" cy="279000"/>
            </a:xfrm>
            <a:custGeom>
              <a:avLst/>
              <a:gdLst/>
              <a:ahLst/>
              <a:rect l="l" t="t" r="r" b="b"/>
              <a:pathLst>
                <a:path w="80" h="1961">
                  <a:moveTo>
                    <a:pt x="0" y="0"/>
                  </a:moveTo>
                  <a:lnTo>
                    <a:pt x="80" y="20"/>
                  </a:lnTo>
                  <a:lnTo>
                    <a:pt x="80" y="1961"/>
                  </a:lnTo>
                  <a:lnTo>
                    <a:pt x="0" y="194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640040" y="5783400"/>
              <a:ext cx="10800" cy="409680"/>
            </a:xfrm>
            <a:custGeom>
              <a:avLst/>
              <a:gdLst/>
              <a:ahLst/>
              <a:rect l="l" t="t" r="r" b="b"/>
              <a:pathLst>
                <a:path w="80" h="2876">
                  <a:moveTo>
                    <a:pt x="0" y="0"/>
                  </a:moveTo>
                  <a:lnTo>
                    <a:pt x="80" y="19"/>
                  </a:lnTo>
                  <a:lnTo>
                    <a:pt x="80" y="2876"/>
                  </a:lnTo>
                  <a:lnTo>
                    <a:pt x="0" y="285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173120" y="5670720"/>
              <a:ext cx="10800" cy="409680"/>
            </a:xfrm>
            <a:custGeom>
              <a:avLst/>
              <a:gdLst/>
              <a:ahLst/>
              <a:rect l="l" t="t" r="r" b="b"/>
              <a:pathLst>
                <a:path w="78" h="2876">
                  <a:moveTo>
                    <a:pt x="0" y="0"/>
                  </a:moveTo>
                  <a:lnTo>
                    <a:pt x="78" y="20"/>
                  </a:lnTo>
                  <a:lnTo>
                    <a:pt x="78" y="2876"/>
                  </a:lnTo>
                  <a:lnTo>
                    <a:pt x="0" y="28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999240" y="5641200"/>
              <a:ext cx="107280" cy="61200"/>
            </a:xfrm>
            <a:custGeom>
              <a:avLst/>
              <a:gdLst/>
              <a:ahLst/>
              <a:rect l="l" t="t" r="r" b="b"/>
              <a:pathLst>
                <a:path w="793" h="433">
                  <a:moveTo>
                    <a:pt x="0" y="0"/>
                  </a:moveTo>
                  <a:lnTo>
                    <a:pt x="174" y="42"/>
                  </a:lnTo>
                  <a:lnTo>
                    <a:pt x="174" y="280"/>
                  </a:lnTo>
                  <a:lnTo>
                    <a:pt x="0" y="237"/>
                  </a:lnTo>
                  <a:lnTo>
                    <a:pt x="0" y="0"/>
                  </a:lnTo>
                  <a:close/>
                  <a:moveTo>
                    <a:pt x="303" y="74"/>
                  </a:moveTo>
                  <a:lnTo>
                    <a:pt x="478" y="118"/>
                  </a:lnTo>
                  <a:lnTo>
                    <a:pt x="478" y="355"/>
                  </a:lnTo>
                  <a:lnTo>
                    <a:pt x="303" y="312"/>
                  </a:lnTo>
                  <a:lnTo>
                    <a:pt x="303" y="74"/>
                  </a:lnTo>
                  <a:close/>
                  <a:moveTo>
                    <a:pt x="606" y="149"/>
                  </a:moveTo>
                  <a:lnTo>
                    <a:pt x="793" y="196"/>
                  </a:lnTo>
                  <a:lnTo>
                    <a:pt x="793" y="433"/>
                  </a:lnTo>
                  <a:lnTo>
                    <a:pt x="606" y="387"/>
                  </a:lnTo>
                  <a:lnTo>
                    <a:pt x="606" y="149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204440" y="586188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4"/>
                  </a:lnTo>
                  <a:lnTo>
                    <a:pt x="547" y="196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04440" y="58820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204440" y="5902200"/>
              <a:ext cx="74160" cy="2844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204440" y="592272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204440" y="59432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7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8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7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9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204440" y="5963760"/>
              <a:ext cx="74160" cy="2736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204440" y="59835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204440" y="600408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5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0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79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7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204440" y="6024960"/>
              <a:ext cx="74160" cy="2700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4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3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204440" y="60447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2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8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6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204440" y="606528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3"/>
                  </a:lnTo>
                  <a:lnTo>
                    <a:pt x="547" y="196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76400" y="597528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915" y="228"/>
                  </a:lnTo>
                  <a:lnTo>
                    <a:pt x="915" y="300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76400" y="59958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76400" y="6015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2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76400" y="60361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676400" y="6055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6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7"/>
                  </a:lnTo>
                  <a:lnTo>
                    <a:pt x="571" y="141"/>
                  </a:lnTo>
                  <a:lnTo>
                    <a:pt x="629" y="155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5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299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28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676400" y="607644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9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4"/>
                  </a:lnTo>
                  <a:lnTo>
                    <a:pt x="915" y="283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8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3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676400" y="6096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6"/>
                  </a:lnTo>
                  <a:lnTo>
                    <a:pt x="915" y="264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676400" y="6116400"/>
              <a:ext cx="124200" cy="4320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676400" y="6136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3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676400" y="6157440"/>
              <a:ext cx="124200" cy="4212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76400" y="6177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915" y="227"/>
                  </a:lnTo>
                  <a:lnTo>
                    <a:pt x="915" y="299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59440" y="5586480"/>
              <a:ext cx="36000" cy="47520"/>
            </a:xfrm>
            <a:custGeom>
              <a:avLst/>
              <a:gdLst/>
              <a:ahLst/>
              <a:rect l="l" t="t" r="r" b="b"/>
              <a:pathLst>
                <a:path w="267" h="334">
                  <a:moveTo>
                    <a:pt x="134" y="334"/>
                  </a:moveTo>
                  <a:lnTo>
                    <a:pt x="147" y="333"/>
                  </a:lnTo>
                  <a:lnTo>
                    <a:pt x="160" y="331"/>
                  </a:lnTo>
                  <a:lnTo>
                    <a:pt x="173" y="326"/>
                  </a:lnTo>
                  <a:lnTo>
                    <a:pt x="185" y="321"/>
                  </a:lnTo>
                  <a:lnTo>
                    <a:pt x="197" y="313"/>
                  </a:lnTo>
                  <a:lnTo>
                    <a:pt x="208" y="306"/>
                  </a:lnTo>
                  <a:lnTo>
                    <a:pt x="218" y="296"/>
                  </a:lnTo>
                  <a:lnTo>
                    <a:pt x="227" y="285"/>
                  </a:lnTo>
                  <a:lnTo>
                    <a:pt x="236" y="273"/>
                  </a:lnTo>
                  <a:lnTo>
                    <a:pt x="244" y="260"/>
                  </a:lnTo>
                  <a:lnTo>
                    <a:pt x="250" y="247"/>
                  </a:lnTo>
                  <a:lnTo>
                    <a:pt x="256" y="231"/>
                  </a:lnTo>
                  <a:lnTo>
                    <a:pt x="261" y="216"/>
                  </a:lnTo>
                  <a:lnTo>
                    <a:pt x="264" y="201"/>
                  </a:lnTo>
                  <a:lnTo>
                    <a:pt x="265" y="185"/>
                  </a:lnTo>
                  <a:lnTo>
                    <a:pt x="267" y="167"/>
                  </a:lnTo>
                  <a:lnTo>
                    <a:pt x="265" y="150"/>
                  </a:lnTo>
                  <a:lnTo>
                    <a:pt x="264" y="133"/>
                  </a:lnTo>
                  <a:lnTo>
                    <a:pt x="261" y="117"/>
                  </a:lnTo>
                  <a:lnTo>
                    <a:pt x="256" y="102"/>
                  </a:lnTo>
                  <a:lnTo>
                    <a:pt x="250" y="88"/>
                  </a:lnTo>
                  <a:lnTo>
                    <a:pt x="244" y="73"/>
                  </a:lnTo>
                  <a:lnTo>
                    <a:pt x="236" y="61"/>
                  </a:lnTo>
                  <a:lnTo>
                    <a:pt x="227" y="49"/>
                  </a:lnTo>
                  <a:lnTo>
                    <a:pt x="218" y="39"/>
                  </a:lnTo>
                  <a:lnTo>
                    <a:pt x="208" y="29"/>
                  </a:lnTo>
                  <a:lnTo>
                    <a:pt x="197" y="20"/>
                  </a:lnTo>
                  <a:lnTo>
                    <a:pt x="185" y="13"/>
                  </a:lnTo>
                  <a:lnTo>
                    <a:pt x="173" y="8"/>
                  </a:lnTo>
                  <a:lnTo>
                    <a:pt x="160" y="4"/>
                  </a:lnTo>
                  <a:lnTo>
                    <a:pt x="147" y="1"/>
                  </a:lnTo>
                  <a:lnTo>
                    <a:pt x="134" y="0"/>
                  </a:lnTo>
                  <a:lnTo>
                    <a:pt x="119" y="1"/>
                  </a:lnTo>
                  <a:lnTo>
                    <a:pt x="106" y="4"/>
                  </a:lnTo>
                  <a:lnTo>
                    <a:pt x="93" y="8"/>
                  </a:lnTo>
                  <a:lnTo>
                    <a:pt x="81" y="13"/>
                  </a:lnTo>
                  <a:lnTo>
                    <a:pt x="69" y="20"/>
                  </a:lnTo>
                  <a:lnTo>
                    <a:pt x="58" y="29"/>
                  </a:lnTo>
                  <a:lnTo>
                    <a:pt x="49" y="39"/>
                  </a:lnTo>
                  <a:lnTo>
                    <a:pt x="39" y="49"/>
                  </a:lnTo>
                  <a:lnTo>
                    <a:pt x="30" y="61"/>
                  </a:lnTo>
                  <a:lnTo>
                    <a:pt x="22" y="73"/>
                  </a:lnTo>
                  <a:lnTo>
                    <a:pt x="16" y="88"/>
                  </a:lnTo>
                  <a:lnTo>
                    <a:pt x="10" y="102"/>
                  </a:lnTo>
                  <a:lnTo>
                    <a:pt x="6" y="117"/>
                  </a:lnTo>
                  <a:lnTo>
                    <a:pt x="3" y="133"/>
                  </a:lnTo>
                  <a:lnTo>
                    <a:pt x="1" y="150"/>
                  </a:lnTo>
                  <a:lnTo>
                    <a:pt x="0" y="167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6" y="216"/>
                  </a:lnTo>
                  <a:lnTo>
                    <a:pt x="10" y="231"/>
                  </a:lnTo>
                  <a:lnTo>
                    <a:pt x="16" y="247"/>
                  </a:lnTo>
                  <a:lnTo>
                    <a:pt x="22" y="260"/>
                  </a:lnTo>
                  <a:lnTo>
                    <a:pt x="30" y="273"/>
                  </a:lnTo>
                  <a:lnTo>
                    <a:pt x="39" y="285"/>
                  </a:lnTo>
                  <a:lnTo>
                    <a:pt x="49" y="296"/>
                  </a:lnTo>
                  <a:lnTo>
                    <a:pt x="58" y="306"/>
                  </a:lnTo>
                  <a:lnTo>
                    <a:pt x="69" y="313"/>
                  </a:lnTo>
                  <a:lnTo>
                    <a:pt x="81" y="321"/>
                  </a:lnTo>
                  <a:lnTo>
                    <a:pt x="93" y="326"/>
                  </a:lnTo>
                  <a:lnTo>
                    <a:pt x="106" y="331"/>
                  </a:lnTo>
                  <a:lnTo>
                    <a:pt x="119" y="333"/>
                  </a:lnTo>
                  <a:lnTo>
                    <a:pt x="134" y="334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4021200" y="6248520"/>
            <a:ext cx="90000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rot="19615800">
            <a:off x="6670800" y="5293800"/>
            <a:ext cx="76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470640" y="5332320"/>
            <a:ext cx="112680" cy="11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99200" y="4425840"/>
            <a:ext cx="148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 may push data for repor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410160" y="5052960"/>
            <a:ext cx="119160" cy="293760"/>
          </a:xfrm>
          <a:custGeom>
            <a:avLst/>
            <a:gdLst/>
            <a:ahLst/>
            <a:rect l="l" t="t" r="r" b="b"/>
            <a:pathLst>
              <a:path w="75" h="186">
                <a:moveTo>
                  <a:pt x="0" y="0"/>
                </a:moveTo>
                <a:lnTo>
                  <a:pt x="75" y="0"/>
                </a:lnTo>
                <a:lnTo>
                  <a:pt x="75" y="18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rot="20028600">
            <a:off x="6378840" y="5476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REP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9083600">
            <a:off x="7045560" y="504756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2046240" y="4888080"/>
            <a:ext cx="1077840" cy="833400"/>
            <a:chOff x="2046240" y="4888080"/>
            <a:chExt cx="1077840" cy="833400"/>
          </a:xfrm>
        </p:grpSpPr>
        <p:pic>
          <p:nvPicPr>
            <p:cNvPr id="800" name="" descr=""/>
            <p:cNvPicPr/>
            <p:nvPr/>
          </p:nvPicPr>
          <p:blipFill>
            <a:blip r:embed="rId3"/>
            <a:stretch/>
          </p:blipFill>
          <p:spPr>
            <a:xfrm>
              <a:off x="2046240" y="4888080"/>
              <a:ext cx="1077840" cy="833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35e77"/>
              </a:outerShdw>
            </a:effectLst>
          </p:spPr>
        </p:pic>
        <p:sp>
          <p:nvSpPr>
            <p:cNvPr id="801" name=""/>
            <p:cNvSpPr/>
            <p:nvPr/>
          </p:nvSpPr>
          <p:spPr>
            <a:xfrm>
              <a:off x="2237760" y="5079960"/>
              <a:ext cx="64692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Publi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Healt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685800" y="380880"/>
            <a:ext cx="8153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5. Population-level Quality Repor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7047000" y="3578400"/>
            <a:ext cx="1265040" cy="977760"/>
            <a:chOff x="7047000" y="3578400"/>
            <a:chExt cx="1265040" cy="977760"/>
          </a:xfrm>
        </p:grpSpPr>
        <p:pic>
          <p:nvPicPr>
            <p:cNvPr id="804" name="" descr=""/>
            <p:cNvPicPr/>
            <p:nvPr/>
          </p:nvPicPr>
          <p:blipFill>
            <a:blip r:embed="rId4"/>
            <a:stretch/>
          </p:blipFill>
          <p:spPr>
            <a:xfrm>
              <a:off x="7047000" y="357840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805" name=""/>
            <p:cNvSpPr/>
            <p:nvPr/>
          </p:nvSpPr>
          <p:spPr>
            <a:xfrm>
              <a:off x="7282440" y="381348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 txBox="1"/>
          <p:nvPr/>
        </p:nvSpPr>
        <p:spPr>
          <a:xfrm>
            <a:off x="3200400" y="4616280"/>
            <a:ext cx="380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7" name=""/>
          <p:cNvSpPr/>
          <p:nvPr/>
        </p:nvSpPr>
        <p:spPr>
          <a:xfrm>
            <a:off x="2286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data elements (medications, procedures, diagnoses) needed for performance indicato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ing to quality data wareho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eudonymized or aggreg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1194120" y="4271400"/>
            <a:ext cx="6996960" cy="38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" y="8994"/>
                </a:moveTo>
                <a:arcTo wR="10800" hR="10800" stAng="-10222562" swAng="2218990"/>
                <a:lnTo>
                  <a:pt x="10800" y="10800"/>
                </a:lnTo>
                <a:close/>
              </a:path>
              <a:path fill="none" w="21600" h="21600">
                <a:moveTo>
                  <a:pt x="152" y="8994"/>
                </a:moveTo>
                <a:arcTo wR="10800" hR="10800" stAng="-10222562" swAng="2218990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130760" y="4369320"/>
            <a:ext cx="6618600" cy="366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435" y="2278"/>
                </a:moveTo>
                <a:arcTo wR="10800" hR="10800" stAng="-3125804" swAng="2515549"/>
                <a:lnTo>
                  <a:pt x="10800" y="10800"/>
                </a:lnTo>
                <a:close/>
              </a:path>
              <a:path fill="none" w="21600" h="21600">
                <a:moveTo>
                  <a:pt x="17435" y="2278"/>
                </a:moveTo>
                <a:arcTo wR="10800" hR="10800" stAng="-3125804" swAng="2515549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304280" y="4345200"/>
            <a:ext cx="6951240" cy="370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4" y="7128"/>
                </a:moveTo>
                <a:arcTo wR="10800" hR="10800" stAng="-9607279" swAng="1997849"/>
                <a:lnTo>
                  <a:pt x="10800" y="10800"/>
                </a:lnTo>
                <a:close/>
              </a:path>
              <a:path fill="none" w="21600" h="21600">
                <a:moveTo>
                  <a:pt x="644" y="7128"/>
                </a:moveTo>
                <a:arcTo wR="10800" hR="10800" stAng="-9607279" swAng="1997849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4195800" y="4064040"/>
            <a:ext cx="581040" cy="858960"/>
            <a:chOff x="4195800" y="4064040"/>
            <a:chExt cx="581040" cy="858960"/>
          </a:xfrm>
        </p:grpSpPr>
        <p:sp>
          <p:nvSpPr>
            <p:cNvPr id="812" name=""/>
            <p:cNvSpPr/>
            <p:nvPr/>
          </p:nvSpPr>
          <p:spPr>
            <a:xfrm>
              <a:off x="4195800" y="4064040"/>
              <a:ext cx="581040" cy="858960"/>
            </a:xfrm>
            <a:custGeom>
              <a:avLst/>
              <a:gdLst/>
              <a:ahLst/>
              <a:rect l="l" t="t" r="r" b="b"/>
              <a:pathLst>
                <a:path w="11550" h="16335">
                  <a:moveTo>
                    <a:pt x="2457" y="36"/>
                  </a:moveTo>
                  <a:lnTo>
                    <a:pt x="11550" y="2030"/>
                  </a:lnTo>
                  <a:lnTo>
                    <a:pt x="11550" y="15073"/>
                  </a:lnTo>
                  <a:lnTo>
                    <a:pt x="9463" y="14616"/>
                  </a:lnTo>
                  <a:lnTo>
                    <a:pt x="9463" y="16335"/>
                  </a:lnTo>
                  <a:lnTo>
                    <a:pt x="295" y="14325"/>
                  </a:lnTo>
                  <a:lnTo>
                    <a:pt x="295" y="14322"/>
                  </a:lnTo>
                  <a:lnTo>
                    <a:pt x="267" y="14312"/>
                  </a:lnTo>
                  <a:lnTo>
                    <a:pt x="236" y="14300"/>
                  </a:lnTo>
                  <a:lnTo>
                    <a:pt x="202" y="14286"/>
                  </a:lnTo>
                  <a:lnTo>
                    <a:pt x="164" y="14270"/>
                  </a:lnTo>
                  <a:lnTo>
                    <a:pt x="149" y="14261"/>
                  </a:lnTo>
                  <a:lnTo>
                    <a:pt x="135" y="14253"/>
                  </a:lnTo>
                  <a:lnTo>
                    <a:pt x="121" y="14244"/>
                  </a:lnTo>
                  <a:lnTo>
                    <a:pt x="108" y="14235"/>
                  </a:lnTo>
                  <a:lnTo>
                    <a:pt x="97" y="14225"/>
                  </a:lnTo>
                  <a:lnTo>
                    <a:pt x="86" y="14215"/>
                  </a:lnTo>
                  <a:lnTo>
                    <a:pt x="77" y="14204"/>
                  </a:lnTo>
                  <a:lnTo>
                    <a:pt x="67" y="14194"/>
                  </a:lnTo>
                  <a:lnTo>
                    <a:pt x="58" y="14184"/>
                  </a:lnTo>
                  <a:lnTo>
                    <a:pt x="51" y="14173"/>
                  </a:lnTo>
                  <a:lnTo>
                    <a:pt x="44" y="14161"/>
                  </a:lnTo>
                  <a:lnTo>
                    <a:pt x="38" y="14151"/>
                  </a:lnTo>
                  <a:lnTo>
                    <a:pt x="27" y="14129"/>
                  </a:lnTo>
                  <a:lnTo>
                    <a:pt x="18" y="14108"/>
                  </a:lnTo>
                  <a:lnTo>
                    <a:pt x="12" y="14088"/>
                  </a:lnTo>
                  <a:lnTo>
                    <a:pt x="7" y="14069"/>
                  </a:lnTo>
                  <a:lnTo>
                    <a:pt x="4" y="14051"/>
                  </a:lnTo>
                  <a:lnTo>
                    <a:pt x="2" y="14037"/>
                  </a:lnTo>
                  <a:lnTo>
                    <a:pt x="0" y="14015"/>
                  </a:lnTo>
                  <a:lnTo>
                    <a:pt x="0" y="14007"/>
                  </a:lnTo>
                  <a:lnTo>
                    <a:pt x="2" y="14005"/>
                  </a:lnTo>
                  <a:lnTo>
                    <a:pt x="2" y="1402"/>
                  </a:lnTo>
                  <a:lnTo>
                    <a:pt x="2" y="1393"/>
                  </a:lnTo>
                  <a:lnTo>
                    <a:pt x="2" y="1384"/>
                  </a:lnTo>
                  <a:lnTo>
                    <a:pt x="2" y="1381"/>
                  </a:lnTo>
                  <a:lnTo>
                    <a:pt x="2" y="1381"/>
                  </a:lnTo>
                  <a:lnTo>
                    <a:pt x="5" y="1356"/>
                  </a:lnTo>
                  <a:lnTo>
                    <a:pt x="9" y="1329"/>
                  </a:lnTo>
                  <a:lnTo>
                    <a:pt x="16" y="1302"/>
                  </a:lnTo>
                  <a:lnTo>
                    <a:pt x="27" y="1273"/>
                  </a:lnTo>
                  <a:lnTo>
                    <a:pt x="38" y="1245"/>
                  </a:lnTo>
                  <a:lnTo>
                    <a:pt x="52" y="1215"/>
                  </a:lnTo>
                  <a:lnTo>
                    <a:pt x="68" y="1184"/>
                  </a:lnTo>
                  <a:lnTo>
                    <a:pt x="87" y="1154"/>
                  </a:lnTo>
                  <a:lnTo>
                    <a:pt x="108" y="1122"/>
                  </a:lnTo>
                  <a:lnTo>
                    <a:pt x="131" y="1090"/>
                  </a:lnTo>
                  <a:lnTo>
                    <a:pt x="155" y="1058"/>
                  </a:lnTo>
                  <a:lnTo>
                    <a:pt x="182" y="1025"/>
                  </a:lnTo>
                  <a:lnTo>
                    <a:pt x="210" y="992"/>
                  </a:lnTo>
                  <a:lnTo>
                    <a:pt x="241" y="959"/>
                  </a:lnTo>
                  <a:lnTo>
                    <a:pt x="273" y="925"/>
                  </a:lnTo>
                  <a:lnTo>
                    <a:pt x="307" y="891"/>
                  </a:lnTo>
                  <a:lnTo>
                    <a:pt x="343" y="858"/>
                  </a:lnTo>
                  <a:lnTo>
                    <a:pt x="381" y="823"/>
                  </a:lnTo>
                  <a:lnTo>
                    <a:pt x="420" y="789"/>
                  </a:lnTo>
                  <a:lnTo>
                    <a:pt x="460" y="754"/>
                  </a:lnTo>
                  <a:lnTo>
                    <a:pt x="503" y="721"/>
                  </a:lnTo>
                  <a:lnTo>
                    <a:pt x="547" y="686"/>
                  </a:lnTo>
                  <a:lnTo>
                    <a:pt x="593" y="652"/>
                  </a:lnTo>
                  <a:lnTo>
                    <a:pt x="640" y="619"/>
                  </a:lnTo>
                  <a:lnTo>
                    <a:pt x="688" y="585"/>
                  </a:lnTo>
                  <a:lnTo>
                    <a:pt x="738" y="551"/>
                  </a:lnTo>
                  <a:lnTo>
                    <a:pt x="789" y="519"/>
                  </a:lnTo>
                  <a:lnTo>
                    <a:pt x="841" y="486"/>
                  </a:lnTo>
                  <a:lnTo>
                    <a:pt x="895" y="453"/>
                  </a:lnTo>
                  <a:lnTo>
                    <a:pt x="951" y="422"/>
                  </a:lnTo>
                  <a:lnTo>
                    <a:pt x="1006" y="391"/>
                  </a:lnTo>
                  <a:lnTo>
                    <a:pt x="1063" y="360"/>
                  </a:lnTo>
                  <a:lnTo>
                    <a:pt x="1117" y="332"/>
                  </a:lnTo>
                  <a:lnTo>
                    <a:pt x="1171" y="305"/>
                  </a:lnTo>
                  <a:lnTo>
                    <a:pt x="1224" y="279"/>
                  </a:lnTo>
                  <a:lnTo>
                    <a:pt x="1278" y="254"/>
                  </a:lnTo>
                  <a:lnTo>
                    <a:pt x="1331" y="231"/>
                  </a:lnTo>
                  <a:lnTo>
                    <a:pt x="1383" y="208"/>
                  </a:lnTo>
                  <a:lnTo>
                    <a:pt x="1435" y="187"/>
                  </a:lnTo>
                  <a:lnTo>
                    <a:pt x="1488" y="166"/>
                  </a:lnTo>
                  <a:lnTo>
                    <a:pt x="1540" y="147"/>
                  </a:lnTo>
                  <a:lnTo>
                    <a:pt x="1590" y="129"/>
                  </a:lnTo>
                  <a:lnTo>
                    <a:pt x="1640" y="112"/>
                  </a:lnTo>
                  <a:lnTo>
                    <a:pt x="1690" y="96"/>
                  </a:lnTo>
                  <a:lnTo>
                    <a:pt x="1739" y="82"/>
                  </a:lnTo>
                  <a:lnTo>
                    <a:pt x="1787" y="68"/>
                  </a:lnTo>
                  <a:lnTo>
                    <a:pt x="1834" y="56"/>
                  </a:lnTo>
                  <a:lnTo>
                    <a:pt x="1880" y="45"/>
                  </a:lnTo>
                  <a:lnTo>
                    <a:pt x="1926" y="35"/>
                  </a:lnTo>
                  <a:lnTo>
                    <a:pt x="1969" y="27"/>
                  </a:lnTo>
                  <a:lnTo>
                    <a:pt x="2013" y="19"/>
                  </a:lnTo>
                  <a:lnTo>
                    <a:pt x="2055" y="13"/>
                  </a:lnTo>
                  <a:lnTo>
                    <a:pt x="2096" y="8"/>
                  </a:lnTo>
                  <a:lnTo>
                    <a:pt x="2136" y="4"/>
                  </a:lnTo>
                  <a:lnTo>
                    <a:pt x="2175" y="1"/>
                  </a:lnTo>
                  <a:lnTo>
                    <a:pt x="2212" y="0"/>
                  </a:lnTo>
                  <a:lnTo>
                    <a:pt x="2248" y="0"/>
                  </a:lnTo>
                  <a:lnTo>
                    <a:pt x="2283" y="1"/>
                  </a:lnTo>
                  <a:lnTo>
                    <a:pt x="2316" y="4"/>
                  </a:lnTo>
                  <a:lnTo>
                    <a:pt x="2347" y="7"/>
                  </a:lnTo>
                  <a:lnTo>
                    <a:pt x="2378" y="12"/>
                  </a:lnTo>
                  <a:lnTo>
                    <a:pt x="2405" y="18"/>
                  </a:lnTo>
                  <a:lnTo>
                    <a:pt x="2433" y="27"/>
                  </a:lnTo>
                  <a:lnTo>
                    <a:pt x="2457" y="36"/>
                  </a:lnTo>
                  <a:close/>
                  <a:moveTo>
                    <a:pt x="2383" y="1711"/>
                  </a:moveTo>
                  <a:lnTo>
                    <a:pt x="2383" y="215"/>
                  </a:lnTo>
                  <a:lnTo>
                    <a:pt x="2372" y="214"/>
                  </a:lnTo>
                  <a:lnTo>
                    <a:pt x="2360" y="213"/>
                  </a:lnTo>
                  <a:lnTo>
                    <a:pt x="2338" y="212"/>
                  </a:lnTo>
                  <a:lnTo>
                    <a:pt x="2316" y="212"/>
                  </a:lnTo>
                  <a:lnTo>
                    <a:pt x="2291" y="213"/>
                  </a:lnTo>
                  <a:lnTo>
                    <a:pt x="2265" y="215"/>
                  </a:lnTo>
                  <a:lnTo>
                    <a:pt x="2238" y="218"/>
                  </a:lnTo>
                  <a:lnTo>
                    <a:pt x="2210" y="222"/>
                  </a:lnTo>
                  <a:lnTo>
                    <a:pt x="2181" y="227"/>
                  </a:lnTo>
                  <a:lnTo>
                    <a:pt x="2150" y="232"/>
                  </a:lnTo>
                  <a:lnTo>
                    <a:pt x="2118" y="238"/>
                  </a:lnTo>
                  <a:lnTo>
                    <a:pt x="2086" y="245"/>
                  </a:lnTo>
                  <a:lnTo>
                    <a:pt x="2051" y="253"/>
                  </a:lnTo>
                  <a:lnTo>
                    <a:pt x="2016" y="262"/>
                  </a:lnTo>
                  <a:lnTo>
                    <a:pt x="1981" y="272"/>
                  </a:lnTo>
                  <a:lnTo>
                    <a:pt x="1944" y="283"/>
                  </a:lnTo>
                  <a:lnTo>
                    <a:pt x="1906" y="294"/>
                  </a:lnTo>
                  <a:lnTo>
                    <a:pt x="1867" y="306"/>
                  </a:lnTo>
                  <a:lnTo>
                    <a:pt x="1827" y="320"/>
                  </a:lnTo>
                  <a:lnTo>
                    <a:pt x="1788" y="334"/>
                  </a:lnTo>
                  <a:lnTo>
                    <a:pt x="1747" y="349"/>
                  </a:lnTo>
                  <a:lnTo>
                    <a:pt x="1704" y="364"/>
                  </a:lnTo>
                  <a:lnTo>
                    <a:pt x="1662" y="381"/>
                  </a:lnTo>
                  <a:lnTo>
                    <a:pt x="1618" y="399"/>
                  </a:lnTo>
                  <a:lnTo>
                    <a:pt x="1574" y="418"/>
                  </a:lnTo>
                  <a:lnTo>
                    <a:pt x="1529" y="436"/>
                  </a:lnTo>
                  <a:lnTo>
                    <a:pt x="1484" y="456"/>
                  </a:lnTo>
                  <a:lnTo>
                    <a:pt x="1439" y="477"/>
                  </a:lnTo>
                  <a:lnTo>
                    <a:pt x="1393" y="499"/>
                  </a:lnTo>
                  <a:lnTo>
                    <a:pt x="1346" y="522"/>
                  </a:lnTo>
                  <a:lnTo>
                    <a:pt x="1299" y="545"/>
                  </a:lnTo>
                  <a:lnTo>
                    <a:pt x="1251" y="570"/>
                  </a:lnTo>
                  <a:lnTo>
                    <a:pt x="1203" y="594"/>
                  </a:lnTo>
                  <a:lnTo>
                    <a:pt x="1154" y="620"/>
                  </a:lnTo>
                  <a:lnTo>
                    <a:pt x="1104" y="663"/>
                  </a:lnTo>
                  <a:lnTo>
                    <a:pt x="1054" y="703"/>
                  </a:lnTo>
                  <a:lnTo>
                    <a:pt x="1005" y="743"/>
                  </a:lnTo>
                  <a:lnTo>
                    <a:pt x="956" y="782"/>
                  </a:lnTo>
                  <a:lnTo>
                    <a:pt x="908" y="820"/>
                  </a:lnTo>
                  <a:lnTo>
                    <a:pt x="861" y="858"/>
                  </a:lnTo>
                  <a:lnTo>
                    <a:pt x="814" y="895"/>
                  </a:lnTo>
                  <a:lnTo>
                    <a:pt x="768" y="934"/>
                  </a:lnTo>
                  <a:lnTo>
                    <a:pt x="723" y="973"/>
                  </a:lnTo>
                  <a:lnTo>
                    <a:pt x="678" y="1012"/>
                  </a:lnTo>
                  <a:lnTo>
                    <a:pt x="634" y="1053"/>
                  </a:lnTo>
                  <a:lnTo>
                    <a:pt x="591" y="1094"/>
                  </a:lnTo>
                  <a:lnTo>
                    <a:pt x="548" y="1137"/>
                  </a:lnTo>
                  <a:lnTo>
                    <a:pt x="506" y="1182"/>
                  </a:lnTo>
                  <a:lnTo>
                    <a:pt x="466" y="1230"/>
                  </a:lnTo>
                  <a:lnTo>
                    <a:pt x="425" y="1279"/>
                  </a:lnTo>
                  <a:lnTo>
                    <a:pt x="434" y="1280"/>
                  </a:lnTo>
                  <a:lnTo>
                    <a:pt x="460" y="1285"/>
                  </a:lnTo>
                  <a:lnTo>
                    <a:pt x="505" y="1295"/>
                  </a:lnTo>
                  <a:lnTo>
                    <a:pt x="567" y="1308"/>
                  </a:lnTo>
                  <a:lnTo>
                    <a:pt x="644" y="1325"/>
                  </a:lnTo>
                  <a:lnTo>
                    <a:pt x="737" y="1345"/>
                  </a:lnTo>
                  <a:lnTo>
                    <a:pt x="845" y="1369"/>
                  </a:lnTo>
                  <a:lnTo>
                    <a:pt x="968" y="1396"/>
                  </a:lnTo>
                  <a:lnTo>
                    <a:pt x="1104" y="1426"/>
                  </a:lnTo>
                  <a:lnTo>
                    <a:pt x="1253" y="1459"/>
                  </a:lnTo>
                  <a:lnTo>
                    <a:pt x="1414" y="1495"/>
                  </a:lnTo>
                  <a:lnTo>
                    <a:pt x="1587" y="1533"/>
                  </a:lnTo>
                  <a:lnTo>
                    <a:pt x="1770" y="1574"/>
                  </a:lnTo>
                  <a:lnTo>
                    <a:pt x="1965" y="1618"/>
                  </a:lnTo>
                  <a:lnTo>
                    <a:pt x="2170" y="1663"/>
                  </a:lnTo>
                  <a:lnTo>
                    <a:pt x="2383" y="17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211640" y="4073400"/>
              <a:ext cx="552960" cy="838440"/>
            </a:xfrm>
            <a:custGeom>
              <a:avLst/>
              <a:gdLst/>
              <a:ahLst/>
              <a:rect l="l" t="t" r="r" b="b"/>
              <a:pathLst>
                <a:path w="10995" h="15972">
                  <a:moveTo>
                    <a:pt x="0" y="1150"/>
                  </a:moveTo>
                  <a:lnTo>
                    <a:pt x="4" y="1144"/>
                  </a:lnTo>
                  <a:lnTo>
                    <a:pt x="20" y="1128"/>
                  </a:lnTo>
                  <a:lnTo>
                    <a:pt x="43" y="1102"/>
                  </a:lnTo>
                  <a:lnTo>
                    <a:pt x="77" y="1067"/>
                  </a:lnTo>
                  <a:lnTo>
                    <a:pt x="118" y="1025"/>
                  </a:lnTo>
                  <a:lnTo>
                    <a:pt x="167" y="976"/>
                  </a:lnTo>
                  <a:lnTo>
                    <a:pt x="224" y="921"/>
                  </a:lnTo>
                  <a:lnTo>
                    <a:pt x="287" y="862"/>
                  </a:lnTo>
                  <a:lnTo>
                    <a:pt x="358" y="800"/>
                  </a:lnTo>
                  <a:lnTo>
                    <a:pt x="433" y="735"/>
                  </a:lnTo>
                  <a:lnTo>
                    <a:pt x="474" y="701"/>
                  </a:lnTo>
                  <a:lnTo>
                    <a:pt x="516" y="667"/>
                  </a:lnTo>
                  <a:lnTo>
                    <a:pt x="559" y="633"/>
                  </a:lnTo>
                  <a:lnTo>
                    <a:pt x="603" y="600"/>
                  </a:lnTo>
                  <a:lnTo>
                    <a:pt x="648" y="566"/>
                  </a:lnTo>
                  <a:lnTo>
                    <a:pt x="695" y="532"/>
                  </a:lnTo>
                  <a:lnTo>
                    <a:pt x="742" y="499"/>
                  </a:lnTo>
                  <a:lnTo>
                    <a:pt x="791" y="466"/>
                  </a:lnTo>
                  <a:lnTo>
                    <a:pt x="840" y="434"/>
                  </a:lnTo>
                  <a:lnTo>
                    <a:pt x="891" y="403"/>
                  </a:lnTo>
                  <a:lnTo>
                    <a:pt x="942" y="372"/>
                  </a:lnTo>
                  <a:lnTo>
                    <a:pt x="994" y="342"/>
                  </a:lnTo>
                  <a:lnTo>
                    <a:pt x="1046" y="314"/>
                  </a:lnTo>
                  <a:lnTo>
                    <a:pt x="1098" y="287"/>
                  </a:lnTo>
                  <a:lnTo>
                    <a:pt x="1150" y="262"/>
                  </a:lnTo>
                  <a:lnTo>
                    <a:pt x="1201" y="238"/>
                  </a:lnTo>
                  <a:lnTo>
                    <a:pt x="1252" y="216"/>
                  </a:lnTo>
                  <a:lnTo>
                    <a:pt x="1302" y="195"/>
                  </a:lnTo>
                  <a:lnTo>
                    <a:pt x="1351" y="176"/>
                  </a:lnTo>
                  <a:lnTo>
                    <a:pt x="1399" y="158"/>
                  </a:lnTo>
                  <a:lnTo>
                    <a:pt x="1447" y="141"/>
                  </a:lnTo>
                  <a:lnTo>
                    <a:pt x="1494" y="125"/>
                  </a:lnTo>
                  <a:lnTo>
                    <a:pt x="1539" y="111"/>
                  </a:lnTo>
                  <a:lnTo>
                    <a:pt x="1584" y="97"/>
                  </a:lnTo>
                  <a:lnTo>
                    <a:pt x="1627" y="85"/>
                  </a:lnTo>
                  <a:lnTo>
                    <a:pt x="1668" y="74"/>
                  </a:lnTo>
                  <a:lnTo>
                    <a:pt x="1708" y="64"/>
                  </a:lnTo>
                  <a:lnTo>
                    <a:pt x="1747" y="55"/>
                  </a:lnTo>
                  <a:lnTo>
                    <a:pt x="1820" y="39"/>
                  </a:lnTo>
                  <a:lnTo>
                    <a:pt x="1884" y="27"/>
                  </a:lnTo>
                  <a:lnTo>
                    <a:pt x="1941" y="18"/>
                  </a:lnTo>
                  <a:lnTo>
                    <a:pt x="1989" y="11"/>
                  </a:lnTo>
                  <a:lnTo>
                    <a:pt x="2028" y="6"/>
                  </a:lnTo>
                  <a:lnTo>
                    <a:pt x="2057" y="2"/>
                  </a:lnTo>
                  <a:lnTo>
                    <a:pt x="2075" y="1"/>
                  </a:lnTo>
                  <a:lnTo>
                    <a:pt x="2081" y="0"/>
                  </a:lnTo>
                  <a:lnTo>
                    <a:pt x="10995" y="2050"/>
                  </a:lnTo>
                  <a:lnTo>
                    <a:pt x="10995" y="14835"/>
                  </a:lnTo>
                  <a:lnTo>
                    <a:pt x="10896" y="14879"/>
                  </a:lnTo>
                  <a:lnTo>
                    <a:pt x="10702" y="15011"/>
                  </a:lnTo>
                  <a:lnTo>
                    <a:pt x="10590" y="14991"/>
                  </a:lnTo>
                  <a:lnTo>
                    <a:pt x="10671" y="15073"/>
                  </a:lnTo>
                  <a:lnTo>
                    <a:pt x="10192" y="15409"/>
                  </a:lnTo>
                  <a:lnTo>
                    <a:pt x="10059" y="15399"/>
                  </a:lnTo>
                  <a:lnTo>
                    <a:pt x="10096" y="15456"/>
                  </a:lnTo>
                  <a:lnTo>
                    <a:pt x="9976" y="15548"/>
                  </a:lnTo>
                  <a:lnTo>
                    <a:pt x="9875" y="15542"/>
                  </a:lnTo>
                  <a:lnTo>
                    <a:pt x="9906" y="15593"/>
                  </a:lnTo>
                  <a:lnTo>
                    <a:pt x="9316" y="15972"/>
                  </a:lnTo>
                  <a:lnTo>
                    <a:pt x="9150" y="15938"/>
                  </a:lnTo>
                  <a:lnTo>
                    <a:pt x="9150" y="3126"/>
                  </a:lnTo>
                  <a:lnTo>
                    <a:pt x="0" y="11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4282920" y="4290120"/>
              <a:ext cx="294840" cy="391680"/>
              <a:chOff x="4282920" y="4290120"/>
              <a:chExt cx="294840" cy="391680"/>
            </a:xfrm>
          </p:grpSpPr>
          <p:sp>
            <p:nvSpPr>
              <p:cNvPr id="815" name=""/>
              <p:cNvSpPr/>
              <p:nvPr/>
            </p:nvSpPr>
            <p:spPr>
              <a:xfrm>
                <a:off x="4435560" y="4610520"/>
                <a:ext cx="25200" cy="24840"/>
              </a:xfrm>
              <a:custGeom>
                <a:avLst/>
                <a:gdLst/>
                <a:ahLst/>
                <a:rect l="l" t="t" r="r" b="b"/>
                <a:pathLst>
                  <a:path w="488" h="499">
                    <a:moveTo>
                      <a:pt x="0" y="0"/>
                    </a:moveTo>
                    <a:lnTo>
                      <a:pt x="16" y="13"/>
                    </a:lnTo>
                    <a:lnTo>
                      <a:pt x="30" y="27"/>
                    </a:lnTo>
                    <a:lnTo>
                      <a:pt x="39" y="34"/>
                    </a:lnTo>
                    <a:lnTo>
                      <a:pt x="48" y="42"/>
                    </a:lnTo>
                    <a:lnTo>
                      <a:pt x="56" y="49"/>
                    </a:lnTo>
                    <a:lnTo>
                      <a:pt x="66" y="57"/>
                    </a:lnTo>
                    <a:lnTo>
                      <a:pt x="75" y="65"/>
                    </a:lnTo>
                    <a:lnTo>
                      <a:pt x="84" y="74"/>
                    </a:lnTo>
                    <a:lnTo>
                      <a:pt x="92" y="81"/>
                    </a:lnTo>
                    <a:lnTo>
                      <a:pt x="101" y="89"/>
                    </a:lnTo>
                    <a:lnTo>
                      <a:pt x="113" y="98"/>
                    </a:lnTo>
                    <a:lnTo>
                      <a:pt x="123" y="107"/>
                    </a:lnTo>
                    <a:lnTo>
                      <a:pt x="133" y="117"/>
                    </a:lnTo>
                    <a:lnTo>
                      <a:pt x="144" y="125"/>
                    </a:lnTo>
                    <a:lnTo>
                      <a:pt x="153" y="135"/>
                    </a:lnTo>
                    <a:lnTo>
                      <a:pt x="164" y="144"/>
                    </a:lnTo>
                    <a:lnTo>
                      <a:pt x="174" y="153"/>
                    </a:lnTo>
                    <a:lnTo>
                      <a:pt x="184" y="162"/>
                    </a:lnTo>
                    <a:lnTo>
                      <a:pt x="194" y="173"/>
                    </a:lnTo>
                    <a:lnTo>
                      <a:pt x="205" y="182"/>
                    </a:lnTo>
                    <a:lnTo>
                      <a:pt x="216" y="192"/>
                    </a:lnTo>
                    <a:lnTo>
                      <a:pt x="227" y="201"/>
                    </a:lnTo>
                    <a:lnTo>
                      <a:pt x="237" y="210"/>
                    </a:lnTo>
                    <a:lnTo>
                      <a:pt x="248" y="220"/>
                    </a:lnTo>
                    <a:lnTo>
                      <a:pt x="259" y="230"/>
                    </a:lnTo>
                    <a:lnTo>
                      <a:pt x="269" y="239"/>
                    </a:lnTo>
                    <a:lnTo>
                      <a:pt x="279" y="248"/>
                    </a:lnTo>
                    <a:lnTo>
                      <a:pt x="289" y="258"/>
                    </a:lnTo>
                    <a:lnTo>
                      <a:pt x="299" y="269"/>
                    </a:lnTo>
                    <a:lnTo>
                      <a:pt x="309" y="279"/>
                    </a:lnTo>
                    <a:lnTo>
                      <a:pt x="319" y="288"/>
                    </a:lnTo>
                    <a:lnTo>
                      <a:pt x="329" y="298"/>
                    </a:lnTo>
                    <a:lnTo>
                      <a:pt x="339" y="307"/>
                    </a:lnTo>
                    <a:lnTo>
                      <a:pt x="348" y="318"/>
                    </a:lnTo>
                    <a:lnTo>
                      <a:pt x="358" y="326"/>
                    </a:lnTo>
                    <a:lnTo>
                      <a:pt x="367" y="335"/>
                    </a:lnTo>
                    <a:lnTo>
                      <a:pt x="375" y="343"/>
                    </a:lnTo>
                    <a:lnTo>
                      <a:pt x="384" y="352"/>
                    </a:lnTo>
                    <a:lnTo>
                      <a:pt x="392" y="361"/>
                    </a:lnTo>
                    <a:lnTo>
                      <a:pt x="400" y="370"/>
                    </a:lnTo>
                    <a:lnTo>
                      <a:pt x="409" y="379"/>
                    </a:lnTo>
                    <a:lnTo>
                      <a:pt x="416" y="388"/>
                    </a:lnTo>
                    <a:lnTo>
                      <a:pt x="429" y="402"/>
                    </a:lnTo>
                    <a:lnTo>
                      <a:pt x="442" y="418"/>
                    </a:lnTo>
                    <a:lnTo>
                      <a:pt x="453" y="431"/>
                    </a:lnTo>
                    <a:lnTo>
                      <a:pt x="464" y="445"/>
                    </a:lnTo>
                    <a:lnTo>
                      <a:pt x="472" y="455"/>
                    </a:lnTo>
                    <a:lnTo>
                      <a:pt x="480" y="467"/>
                    </a:lnTo>
                    <a:lnTo>
                      <a:pt x="484" y="476"/>
                    </a:lnTo>
                    <a:lnTo>
                      <a:pt x="488" y="485"/>
                    </a:lnTo>
                    <a:lnTo>
                      <a:pt x="488" y="491"/>
                    </a:lnTo>
                    <a:lnTo>
                      <a:pt x="488" y="497"/>
                    </a:lnTo>
                    <a:lnTo>
                      <a:pt x="485" y="498"/>
                    </a:lnTo>
                    <a:lnTo>
                      <a:pt x="482" y="499"/>
                    </a:lnTo>
                    <a:lnTo>
                      <a:pt x="476" y="499"/>
                    </a:lnTo>
                    <a:lnTo>
                      <a:pt x="470" y="498"/>
                    </a:lnTo>
                    <a:lnTo>
                      <a:pt x="462" y="496"/>
                    </a:lnTo>
                    <a:lnTo>
                      <a:pt x="455" y="493"/>
                    </a:lnTo>
                    <a:lnTo>
                      <a:pt x="444" y="489"/>
                    </a:lnTo>
                    <a:lnTo>
                      <a:pt x="434" y="484"/>
                    </a:lnTo>
                    <a:lnTo>
                      <a:pt x="422" y="479"/>
                    </a:lnTo>
                    <a:lnTo>
                      <a:pt x="411" y="473"/>
                    </a:lnTo>
                    <a:lnTo>
                      <a:pt x="396" y="465"/>
                    </a:lnTo>
                    <a:lnTo>
                      <a:pt x="382" y="456"/>
                    </a:lnTo>
                    <a:lnTo>
                      <a:pt x="374" y="452"/>
                    </a:lnTo>
                    <a:lnTo>
                      <a:pt x="367" y="448"/>
                    </a:lnTo>
                    <a:lnTo>
                      <a:pt x="359" y="443"/>
                    </a:lnTo>
                    <a:lnTo>
                      <a:pt x="350" y="439"/>
                    </a:lnTo>
                    <a:lnTo>
                      <a:pt x="342" y="434"/>
                    </a:lnTo>
                    <a:lnTo>
                      <a:pt x="333" y="429"/>
                    </a:lnTo>
                    <a:lnTo>
                      <a:pt x="325" y="424"/>
                    </a:lnTo>
                    <a:lnTo>
                      <a:pt x="317" y="419"/>
                    </a:lnTo>
                    <a:lnTo>
                      <a:pt x="308" y="414"/>
                    </a:lnTo>
                    <a:lnTo>
                      <a:pt x="298" y="407"/>
                    </a:lnTo>
                    <a:lnTo>
                      <a:pt x="290" y="402"/>
                    </a:lnTo>
                    <a:lnTo>
                      <a:pt x="281" y="396"/>
                    </a:lnTo>
                    <a:lnTo>
                      <a:pt x="272" y="390"/>
                    </a:lnTo>
                    <a:lnTo>
                      <a:pt x="262" y="384"/>
                    </a:lnTo>
                    <a:lnTo>
                      <a:pt x="252" y="378"/>
                    </a:lnTo>
                    <a:lnTo>
                      <a:pt x="243" y="371"/>
                    </a:lnTo>
                    <a:lnTo>
                      <a:pt x="233" y="365"/>
                    </a:lnTo>
                    <a:lnTo>
                      <a:pt x="223" y="358"/>
                    </a:lnTo>
                    <a:lnTo>
                      <a:pt x="214" y="352"/>
                    </a:lnTo>
                    <a:lnTo>
                      <a:pt x="203" y="346"/>
                    </a:lnTo>
                    <a:lnTo>
                      <a:pt x="193" y="340"/>
                    </a:lnTo>
                    <a:lnTo>
                      <a:pt x="183" y="334"/>
                    </a:lnTo>
                    <a:lnTo>
                      <a:pt x="174" y="327"/>
                    </a:lnTo>
                    <a:lnTo>
                      <a:pt x="164" y="321"/>
                    </a:lnTo>
                    <a:lnTo>
                      <a:pt x="153" y="314"/>
                    </a:lnTo>
                    <a:lnTo>
                      <a:pt x="143" y="306"/>
                    </a:lnTo>
                    <a:lnTo>
                      <a:pt x="134" y="300"/>
                    </a:lnTo>
                    <a:lnTo>
                      <a:pt x="124" y="293"/>
                    </a:lnTo>
                    <a:lnTo>
                      <a:pt x="114" y="286"/>
                    </a:lnTo>
                    <a:lnTo>
                      <a:pt x="103" y="280"/>
                    </a:lnTo>
                    <a:lnTo>
                      <a:pt x="92" y="273"/>
                    </a:lnTo>
                    <a:lnTo>
                      <a:pt x="82" y="266"/>
                    </a:lnTo>
                    <a:lnTo>
                      <a:pt x="72" y="259"/>
                    </a:lnTo>
                    <a:lnTo>
                      <a:pt x="60" y="252"/>
                    </a:lnTo>
                    <a:lnTo>
                      <a:pt x="50" y="246"/>
                    </a:lnTo>
                    <a:lnTo>
                      <a:pt x="40" y="239"/>
                    </a:lnTo>
                    <a:lnTo>
                      <a:pt x="30" y="233"/>
                    </a:lnTo>
                    <a:lnTo>
                      <a:pt x="20" y="226"/>
                    </a:lnTo>
                    <a:lnTo>
                      <a:pt x="10" y="219"/>
                    </a:lnTo>
                    <a:lnTo>
                      <a:pt x="0" y="212"/>
                    </a:lnTo>
                    <a:lnTo>
                      <a:pt x="0" y="186"/>
                    </a:lnTo>
                    <a:lnTo>
                      <a:pt x="0" y="159"/>
                    </a:lnTo>
                    <a:lnTo>
                      <a:pt x="0" y="134"/>
                    </a:lnTo>
                    <a:lnTo>
                      <a:pt x="0" y="107"/>
                    </a:lnTo>
                    <a:lnTo>
                      <a:pt x="0" y="81"/>
                    </a:lnTo>
                    <a:lnTo>
                      <a:pt x="0" y="54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82920" y="4299480"/>
                <a:ext cx="294840" cy="101880"/>
              </a:xfrm>
              <a:custGeom>
                <a:avLst/>
                <a:gdLst/>
                <a:ahLst/>
                <a:rect l="l" t="t" r="r" b="b"/>
                <a:pathLst>
                  <a:path w="5855" h="1948">
                    <a:moveTo>
                      <a:pt x="2796" y="1633"/>
                    </a:moveTo>
                    <a:lnTo>
                      <a:pt x="2796" y="1633"/>
                    </a:lnTo>
                    <a:lnTo>
                      <a:pt x="2795" y="1633"/>
                    </a:lnTo>
                    <a:lnTo>
                      <a:pt x="2792" y="1634"/>
                    </a:lnTo>
                    <a:lnTo>
                      <a:pt x="2789" y="1635"/>
                    </a:lnTo>
                    <a:lnTo>
                      <a:pt x="2783" y="1635"/>
                    </a:lnTo>
                    <a:lnTo>
                      <a:pt x="2777" y="1635"/>
                    </a:lnTo>
                    <a:lnTo>
                      <a:pt x="2769" y="1636"/>
                    </a:lnTo>
                    <a:lnTo>
                      <a:pt x="2763" y="1637"/>
                    </a:lnTo>
                    <a:lnTo>
                      <a:pt x="2753" y="1638"/>
                    </a:lnTo>
                    <a:lnTo>
                      <a:pt x="2743" y="1639"/>
                    </a:lnTo>
                    <a:lnTo>
                      <a:pt x="2731" y="1639"/>
                    </a:lnTo>
                    <a:lnTo>
                      <a:pt x="2719" y="1639"/>
                    </a:lnTo>
                    <a:lnTo>
                      <a:pt x="2704" y="1639"/>
                    </a:lnTo>
                    <a:lnTo>
                      <a:pt x="2689" y="1638"/>
                    </a:lnTo>
                    <a:lnTo>
                      <a:pt x="2681" y="1638"/>
                    </a:lnTo>
                    <a:lnTo>
                      <a:pt x="2672" y="1637"/>
                    </a:lnTo>
                    <a:lnTo>
                      <a:pt x="2665" y="1637"/>
                    </a:lnTo>
                    <a:lnTo>
                      <a:pt x="2657" y="1636"/>
                    </a:lnTo>
                    <a:lnTo>
                      <a:pt x="2647" y="1636"/>
                    </a:lnTo>
                    <a:lnTo>
                      <a:pt x="2637" y="1636"/>
                    </a:lnTo>
                    <a:lnTo>
                      <a:pt x="2626" y="1635"/>
                    </a:lnTo>
                    <a:lnTo>
                      <a:pt x="2617" y="1635"/>
                    </a:lnTo>
                    <a:lnTo>
                      <a:pt x="2606" y="1634"/>
                    </a:lnTo>
                    <a:lnTo>
                      <a:pt x="2595" y="1633"/>
                    </a:lnTo>
                    <a:lnTo>
                      <a:pt x="2585" y="1632"/>
                    </a:lnTo>
                    <a:lnTo>
                      <a:pt x="2573" y="1631"/>
                    </a:lnTo>
                    <a:lnTo>
                      <a:pt x="2562" y="1630"/>
                    </a:lnTo>
                    <a:lnTo>
                      <a:pt x="2550" y="1627"/>
                    </a:lnTo>
                    <a:lnTo>
                      <a:pt x="2538" y="1626"/>
                    </a:lnTo>
                    <a:lnTo>
                      <a:pt x="2525" y="1625"/>
                    </a:lnTo>
                    <a:lnTo>
                      <a:pt x="2512" y="1623"/>
                    </a:lnTo>
                    <a:lnTo>
                      <a:pt x="2498" y="1621"/>
                    </a:lnTo>
                    <a:lnTo>
                      <a:pt x="2484" y="1619"/>
                    </a:lnTo>
                    <a:lnTo>
                      <a:pt x="2470" y="1617"/>
                    </a:lnTo>
                    <a:lnTo>
                      <a:pt x="2455" y="1616"/>
                    </a:lnTo>
                    <a:lnTo>
                      <a:pt x="2441" y="1614"/>
                    </a:lnTo>
                    <a:lnTo>
                      <a:pt x="2425" y="1612"/>
                    </a:lnTo>
                    <a:lnTo>
                      <a:pt x="2410" y="1610"/>
                    </a:lnTo>
                    <a:lnTo>
                      <a:pt x="2395" y="1607"/>
                    </a:lnTo>
                    <a:lnTo>
                      <a:pt x="2378" y="1604"/>
                    </a:lnTo>
                    <a:lnTo>
                      <a:pt x="2362" y="1600"/>
                    </a:lnTo>
                    <a:lnTo>
                      <a:pt x="2347" y="1597"/>
                    </a:lnTo>
                    <a:lnTo>
                      <a:pt x="2328" y="1594"/>
                    </a:lnTo>
                    <a:lnTo>
                      <a:pt x="2311" y="1591"/>
                    </a:lnTo>
                    <a:lnTo>
                      <a:pt x="2293" y="1588"/>
                    </a:lnTo>
                    <a:lnTo>
                      <a:pt x="2275" y="1585"/>
                    </a:lnTo>
                    <a:lnTo>
                      <a:pt x="2256" y="1580"/>
                    </a:lnTo>
                    <a:lnTo>
                      <a:pt x="2238" y="1575"/>
                    </a:lnTo>
                    <a:lnTo>
                      <a:pt x="2218" y="1571"/>
                    </a:lnTo>
                    <a:lnTo>
                      <a:pt x="2200" y="1566"/>
                    </a:lnTo>
                    <a:lnTo>
                      <a:pt x="2180" y="1561"/>
                    </a:lnTo>
                    <a:lnTo>
                      <a:pt x="2161" y="1555"/>
                    </a:lnTo>
                    <a:lnTo>
                      <a:pt x="2143" y="1550"/>
                    </a:lnTo>
                    <a:lnTo>
                      <a:pt x="2123" y="1544"/>
                    </a:lnTo>
                    <a:lnTo>
                      <a:pt x="2106" y="1538"/>
                    </a:lnTo>
                    <a:lnTo>
                      <a:pt x="2088" y="1532"/>
                    </a:lnTo>
                    <a:lnTo>
                      <a:pt x="2072" y="1525"/>
                    </a:lnTo>
                    <a:lnTo>
                      <a:pt x="2055" y="1519"/>
                    </a:lnTo>
                    <a:lnTo>
                      <a:pt x="2038" y="1512"/>
                    </a:lnTo>
                    <a:lnTo>
                      <a:pt x="2023" y="1504"/>
                    </a:lnTo>
                    <a:lnTo>
                      <a:pt x="2008" y="1497"/>
                    </a:lnTo>
                    <a:lnTo>
                      <a:pt x="1991" y="1489"/>
                    </a:lnTo>
                    <a:lnTo>
                      <a:pt x="1978" y="1482"/>
                    </a:lnTo>
                    <a:lnTo>
                      <a:pt x="1965" y="1473"/>
                    </a:lnTo>
                    <a:lnTo>
                      <a:pt x="1952" y="1466"/>
                    </a:lnTo>
                    <a:lnTo>
                      <a:pt x="1938" y="1458"/>
                    </a:lnTo>
                    <a:lnTo>
                      <a:pt x="1925" y="1449"/>
                    </a:lnTo>
                    <a:lnTo>
                      <a:pt x="1913" y="1440"/>
                    </a:lnTo>
                    <a:lnTo>
                      <a:pt x="1901" y="1430"/>
                    </a:lnTo>
                    <a:lnTo>
                      <a:pt x="1888" y="1422"/>
                    </a:lnTo>
                    <a:lnTo>
                      <a:pt x="1877" y="1414"/>
                    </a:lnTo>
                    <a:lnTo>
                      <a:pt x="1866" y="1405"/>
                    </a:lnTo>
                    <a:lnTo>
                      <a:pt x="1856" y="1397"/>
                    </a:lnTo>
                    <a:lnTo>
                      <a:pt x="1844" y="1388"/>
                    </a:lnTo>
                    <a:lnTo>
                      <a:pt x="1835" y="1378"/>
                    </a:lnTo>
                    <a:lnTo>
                      <a:pt x="1826" y="1369"/>
                    </a:lnTo>
                    <a:lnTo>
                      <a:pt x="1816" y="1360"/>
                    </a:lnTo>
                    <a:lnTo>
                      <a:pt x="1807" y="1351"/>
                    </a:lnTo>
                    <a:lnTo>
                      <a:pt x="1799" y="1342"/>
                    </a:lnTo>
                    <a:lnTo>
                      <a:pt x="1791" y="1332"/>
                    </a:lnTo>
                    <a:lnTo>
                      <a:pt x="1783" y="1324"/>
                    </a:lnTo>
                    <a:lnTo>
                      <a:pt x="1775" y="1315"/>
                    </a:lnTo>
                    <a:lnTo>
                      <a:pt x="1768" y="1306"/>
                    </a:lnTo>
                    <a:lnTo>
                      <a:pt x="1761" y="1298"/>
                    </a:lnTo>
                    <a:lnTo>
                      <a:pt x="1754" y="1290"/>
                    </a:lnTo>
                    <a:lnTo>
                      <a:pt x="1747" y="1280"/>
                    </a:lnTo>
                    <a:lnTo>
                      <a:pt x="1741" y="1272"/>
                    </a:lnTo>
                    <a:lnTo>
                      <a:pt x="1736" y="1264"/>
                    </a:lnTo>
                    <a:lnTo>
                      <a:pt x="1731" y="1256"/>
                    </a:lnTo>
                    <a:lnTo>
                      <a:pt x="1725" y="1247"/>
                    </a:lnTo>
                    <a:lnTo>
                      <a:pt x="1716" y="1233"/>
                    </a:lnTo>
                    <a:lnTo>
                      <a:pt x="1708" y="1219"/>
                    </a:lnTo>
                    <a:lnTo>
                      <a:pt x="1700" y="1205"/>
                    </a:lnTo>
                    <a:lnTo>
                      <a:pt x="1693" y="1191"/>
                    </a:lnTo>
                    <a:lnTo>
                      <a:pt x="1687" y="1180"/>
                    </a:lnTo>
                    <a:lnTo>
                      <a:pt x="1681" y="1170"/>
                    </a:lnTo>
                    <a:lnTo>
                      <a:pt x="1678" y="1161"/>
                    </a:lnTo>
                    <a:lnTo>
                      <a:pt x="1676" y="1153"/>
                    </a:lnTo>
                    <a:lnTo>
                      <a:pt x="1673" y="1149"/>
                    </a:lnTo>
                    <a:lnTo>
                      <a:pt x="1672" y="1144"/>
                    </a:lnTo>
                    <a:lnTo>
                      <a:pt x="1671" y="1142"/>
                    </a:lnTo>
                    <a:lnTo>
                      <a:pt x="1670" y="1138"/>
                    </a:lnTo>
                    <a:lnTo>
                      <a:pt x="1669" y="1139"/>
                    </a:lnTo>
                    <a:lnTo>
                      <a:pt x="1668" y="1141"/>
                    </a:lnTo>
                    <a:lnTo>
                      <a:pt x="1665" y="1143"/>
                    </a:lnTo>
                    <a:lnTo>
                      <a:pt x="1664" y="1144"/>
                    </a:lnTo>
                    <a:lnTo>
                      <a:pt x="1661" y="1146"/>
                    </a:lnTo>
                    <a:lnTo>
                      <a:pt x="1658" y="1148"/>
                    </a:lnTo>
                    <a:lnTo>
                      <a:pt x="1653" y="1151"/>
                    </a:lnTo>
                    <a:lnTo>
                      <a:pt x="1647" y="1154"/>
                    </a:lnTo>
                    <a:lnTo>
                      <a:pt x="1641" y="1158"/>
                    </a:lnTo>
                    <a:lnTo>
                      <a:pt x="1636" y="1162"/>
                    </a:lnTo>
                    <a:lnTo>
                      <a:pt x="1628" y="1165"/>
                    </a:lnTo>
                    <a:lnTo>
                      <a:pt x="1621" y="1168"/>
                    </a:lnTo>
                    <a:lnTo>
                      <a:pt x="1612" y="1172"/>
                    </a:lnTo>
                    <a:lnTo>
                      <a:pt x="1604" y="1175"/>
                    </a:lnTo>
                    <a:lnTo>
                      <a:pt x="1593" y="1179"/>
                    </a:lnTo>
                    <a:lnTo>
                      <a:pt x="1583" y="1182"/>
                    </a:lnTo>
                    <a:lnTo>
                      <a:pt x="1572" y="1186"/>
                    </a:lnTo>
                    <a:lnTo>
                      <a:pt x="1562" y="1191"/>
                    </a:lnTo>
                    <a:lnTo>
                      <a:pt x="1549" y="1194"/>
                    </a:lnTo>
                    <a:lnTo>
                      <a:pt x="1537" y="1197"/>
                    </a:lnTo>
                    <a:lnTo>
                      <a:pt x="1524" y="1199"/>
                    </a:lnTo>
                    <a:lnTo>
                      <a:pt x="1510" y="1200"/>
                    </a:lnTo>
                    <a:lnTo>
                      <a:pt x="1495" y="1202"/>
                    </a:lnTo>
                    <a:lnTo>
                      <a:pt x="1480" y="1203"/>
                    </a:lnTo>
                    <a:lnTo>
                      <a:pt x="1472" y="1204"/>
                    </a:lnTo>
                    <a:lnTo>
                      <a:pt x="1464" y="1204"/>
                    </a:lnTo>
                    <a:lnTo>
                      <a:pt x="1455" y="1204"/>
                    </a:lnTo>
                    <a:lnTo>
                      <a:pt x="1448" y="1204"/>
                    </a:lnTo>
                    <a:lnTo>
                      <a:pt x="1439" y="1203"/>
                    </a:lnTo>
                    <a:lnTo>
                      <a:pt x="1431" y="1203"/>
                    </a:lnTo>
                    <a:lnTo>
                      <a:pt x="1422" y="1203"/>
                    </a:lnTo>
                    <a:lnTo>
                      <a:pt x="1414" y="1202"/>
                    </a:lnTo>
                    <a:lnTo>
                      <a:pt x="1404" y="1201"/>
                    </a:lnTo>
                    <a:lnTo>
                      <a:pt x="1395" y="1200"/>
                    </a:lnTo>
                    <a:lnTo>
                      <a:pt x="1386" y="1198"/>
                    </a:lnTo>
                    <a:lnTo>
                      <a:pt x="1377" y="1197"/>
                    </a:lnTo>
                    <a:lnTo>
                      <a:pt x="1367" y="1195"/>
                    </a:lnTo>
                    <a:lnTo>
                      <a:pt x="1357" y="1192"/>
                    </a:lnTo>
                    <a:lnTo>
                      <a:pt x="1347" y="1190"/>
                    </a:lnTo>
                    <a:lnTo>
                      <a:pt x="1338" y="1187"/>
                    </a:lnTo>
                    <a:lnTo>
                      <a:pt x="1324" y="1183"/>
                    </a:lnTo>
                    <a:lnTo>
                      <a:pt x="1309" y="1179"/>
                    </a:lnTo>
                    <a:lnTo>
                      <a:pt x="1295" y="1174"/>
                    </a:lnTo>
                    <a:lnTo>
                      <a:pt x="1281" y="1170"/>
                    </a:lnTo>
                    <a:lnTo>
                      <a:pt x="1268" y="1164"/>
                    </a:lnTo>
                    <a:lnTo>
                      <a:pt x="1255" y="1158"/>
                    </a:lnTo>
                    <a:lnTo>
                      <a:pt x="1243" y="1152"/>
                    </a:lnTo>
                    <a:lnTo>
                      <a:pt x="1231" y="1146"/>
                    </a:lnTo>
                    <a:lnTo>
                      <a:pt x="1220" y="1138"/>
                    </a:lnTo>
                    <a:lnTo>
                      <a:pt x="1207" y="1132"/>
                    </a:lnTo>
                    <a:lnTo>
                      <a:pt x="1196" y="1125"/>
                    </a:lnTo>
                    <a:lnTo>
                      <a:pt x="1185" y="1119"/>
                    </a:lnTo>
                    <a:lnTo>
                      <a:pt x="1175" y="1112"/>
                    </a:lnTo>
                    <a:lnTo>
                      <a:pt x="1164" y="1104"/>
                    </a:lnTo>
                    <a:lnTo>
                      <a:pt x="1155" y="1097"/>
                    </a:lnTo>
                    <a:lnTo>
                      <a:pt x="1145" y="1089"/>
                    </a:lnTo>
                    <a:lnTo>
                      <a:pt x="1137" y="1081"/>
                    </a:lnTo>
                    <a:lnTo>
                      <a:pt x="1128" y="1074"/>
                    </a:lnTo>
                    <a:lnTo>
                      <a:pt x="1120" y="1067"/>
                    </a:lnTo>
                    <a:lnTo>
                      <a:pt x="1111" y="1059"/>
                    </a:lnTo>
                    <a:lnTo>
                      <a:pt x="1103" y="1051"/>
                    </a:lnTo>
                    <a:lnTo>
                      <a:pt x="1096" y="1043"/>
                    </a:lnTo>
                    <a:lnTo>
                      <a:pt x="1089" y="1034"/>
                    </a:lnTo>
                    <a:lnTo>
                      <a:pt x="1082" y="1026"/>
                    </a:lnTo>
                    <a:lnTo>
                      <a:pt x="1075" y="1018"/>
                    </a:lnTo>
                    <a:lnTo>
                      <a:pt x="1069" y="1009"/>
                    </a:lnTo>
                    <a:lnTo>
                      <a:pt x="1061" y="1001"/>
                    </a:lnTo>
                    <a:lnTo>
                      <a:pt x="1055" y="992"/>
                    </a:lnTo>
                    <a:lnTo>
                      <a:pt x="1050" y="984"/>
                    </a:lnTo>
                    <a:lnTo>
                      <a:pt x="1044" y="975"/>
                    </a:lnTo>
                    <a:lnTo>
                      <a:pt x="1039" y="967"/>
                    </a:lnTo>
                    <a:lnTo>
                      <a:pt x="1033" y="959"/>
                    </a:lnTo>
                    <a:lnTo>
                      <a:pt x="1030" y="951"/>
                    </a:lnTo>
                    <a:lnTo>
                      <a:pt x="1026" y="942"/>
                    </a:lnTo>
                    <a:lnTo>
                      <a:pt x="1022" y="934"/>
                    </a:lnTo>
                    <a:lnTo>
                      <a:pt x="1017" y="926"/>
                    </a:lnTo>
                    <a:lnTo>
                      <a:pt x="1014" y="919"/>
                    </a:lnTo>
                    <a:lnTo>
                      <a:pt x="1010" y="911"/>
                    </a:lnTo>
                    <a:lnTo>
                      <a:pt x="1007" y="903"/>
                    </a:lnTo>
                    <a:lnTo>
                      <a:pt x="1003" y="894"/>
                    </a:lnTo>
                    <a:lnTo>
                      <a:pt x="997" y="881"/>
                    </a:lnTo>
                    <a:lnTo>
                      <a:pt x="992" y="868"/>
                    </a:lnTo>
                    <a:lnTo>
                      <a:pt x="988" y="856"/>
                    </a:lnTo>
                    <a:lnTo>
                      <a:pt x="984" y="842"/>
                    </a:lnTo>
                    <a:lnTo>
                      <a:pt x="981" y="832"/>
                    </a:lnTo>
                    <a:lnTo>
                      <a:pt x="978" y="822"/>
                    </a:lnTo>
                    <a:lnTo>
                      <a:pt x="976" y="814"/>
                    </a:lnTo>
                    <a:lnTo>
                      <a:pt x="974" y="806"/>
                    </a:lnTo>
                    <a:lnTo>
                      <a:pt x="973" y="802"/>
                    </a:lnTo>
                    <a:lnTo>
                      <a:pt x="972" y="796"/>
                    </a:lnTo>
                    <a:lnTo>
                      <a:pt x="972" y="795"/>
                    </a:lnTo>
                    <a:lnTo>
                      <a:pt x="972" y="793"/>
                    </a:lnTo>
                    <a:lnTo>
                      <a:pt x="971" y="793"/>
                    </a:lnTo>
                    <a:lnTo>
                      <a:pt x="969" y="794"/>
                    </a:lnTo>
                    <a:lnTo>
                      <a:pt x="964" y="795"/>
                    </a:lnTo>
                    <a:lnTo>
                      <a:pt x="959" y="796"/>
                    </a:lnTo>
                    <a:lnTo>
                      <a:pt x="952" y="797"/>
                    </a:lnTo>
                    <a:lnTo>
                      <a:pt x="945" y="798"/>
                    </a:lnTo>
                    <a:lnTo>
                      <a:pt x="935" y="800"/>
                    </a:lnTo>
                    <a:lnTo>
                      <a:pt x="926" y="801"/>
                    </a:lnTo>
                    <a:lnTo>
                      <a:pt x="911" y="801"/>
                    </a:lnTo>
                    <a:lnTo>
                      <a:pt x="897" y="800"/>
                    </a:lnTo>
                    <a:lnTo>
                      <a:pt x="889" y="798"/>
                    </a:lnTo>
                    <a:lnTo>
                      <a:pt x="881" y="797"/>
                    </a:lnTo>
                    <a:lnTo>
                      <a:pt x="871" y="796"/>
                    </a:lnTo>
                    <a:lnTo>
                      <a:pt x="863" y="795"/>
                    </a:lnTo>
                    <a:lnTo>
                      <a:pt x="853" y="792"/>
                    </a:lnTo>
                    <a:lnTo>
                      <a:pt x="843" y="790"/>
                    </a:lnTo>
                    <a:lnTo>
                      <a:pt x="832" y="787"/>
                    </a:lnTo>
                    <a:lnTo>
                      <a:pt x="821" y="785"/>
                    </a:lnTo>
                    <a:lnTo>
                      <a:pt x="809" y="782"/>
                    </a:lnTo>
                    <a:lnTo>
                      <a:pt x="797" y="779"/>
                    </a:lnTo>
                    <a:lnTo>
                      <a:pt x="784" y="775"/>
                    </a:lnTo>
                    <a:lnTo>
                      <a:pt x="771" y="772"/>
                    </a:lnTo>
                    <a:lnTo>
                      <a:pt x="749" y="762"/>
                    </a:lnTo>
                    <a:lnTo>
                      <a:pt x="727" y="752"/>
                    </a:lnTo>
                    <a:lnTo>
                      <a:pt x="704" y="741"/>
                    </a:lnTo>
                    <a:lnTo>
                      <a:pt x="682" y="730"/>
                    </a:lnTo>
                    <a:lnTo>
                      <a:pt x="666" y="719"/>
                    </a:lnTo>
                    <a:lnTo>
                      <a:pt x="651" y="707"/>
                    </a:lnTo>
                    <a:lnTo>
                      <a:pt x="636" y="694"/>
                    </a:lnTo>
                    <a:lnTo>
                      <a:pt x="620" y="681"/>
                    </a:lnTo>
                    <a:lnTo>
                      <a:pt x="610" y="668"/>
                    </a:lnTo>
                    <a:lnTo>
                      <a:pt x="599" y="655"/>
                    </a:lnTo>
                    <a:lnTo>
                      <a:pt x="589" y="640"/>
                    </a:lnTo>
                    <a:lnTo>
                      <a:pt x="578" y="627"/>
                    </a:lnTo>
                    <a:lnTo>
                      <a:pt x="571" y="613"/>
                    </a:lnTo>
                    <a:lnTo>
                      <a:pt x="565" y="598"/>
                    </a:lnTo>
                    <a:lnTo>
                      <a:pt x="558" y="585"/>
                    </a:lnTo>
                    <a:lnTo>
                      <a:pt x="552" y="571"/>
                    </a:lnTo>
                    <a:lnTo>
                      <a:pt x="549" y="558"/>
                    </a:lnTo>
                    <a:lnTo>
                      <a:pt x="546" y="545"/>
                    </a:lnTo>
                    <a:lnTo>
                      <a:pt x="543" y="532"/>
                    </a:lnTo>
                    <a:lnTo>
                      <a:pt x="541" y="519"/>
                    </a:lnTo>
                    <a:lnTo>
                      <a:pt x="540" y="509"/>
                    </a:lnTo>
                    <a:lnTo>
                      <a:pt x="539" y="498"/>
                    </a:lnTo>
                    <a:lnTo>
                      <a:pt x="539" y="488"/>
                    </a:lnTo>
                    <a:lnTo>
                      <a:pt x="538" y="478"/>
                    </a:lnTo>
                    <a:lnTo>
                      <a:pt x="538" y="464"/>
                    </a:lnTo>
                    <a:lnTo>
                      <a:pt x="538" y="448"/>
                    </a:lnTo>
                    <a:lnTo>
                      <a:pt x="539" y="444"/>
                    </a:lnTo>
                    <a:lnTo>
                      <a:pt x="541" y="439"/>
                    </a:lnTo>
                    <a:lnTo>
                      <a:pt x="538" y="440"/>
                    </a:lnTo>
                    <a:lnTo>
                      <a:pt x="537" y="440"/>
                    </a:lnTo>
                    <a:lnTo>
                      <a:pt x="530" y="440"/>
                    </a:lnTo>
                    <a:lnTo>
                      <a:pt x="526" y="440"/>
                    </a:lnTo>
                    <a:lnTo>
                      <a:pt x="517" y="441"/>
                    </a:lnTo>
                    <a:lnTo>
                      <a:pt x="508" y="441"/>
                    </a:lnTo>
                    <a:lnTo>
                      <a:pt x="497" y="441"/>
                    </a:lnTo>
                    <a:lnTo>
                      <a:pt x="487" y="440"/>
                    </a:lnTo>
                    <a:lnTo>
                      <a:pt x="471" y="440"/>
                    </a:lnTo>
                    <a:lnTo>
                      <a:pt x="457" y="439"/>
                    </a:lnTo>
                    <a:lnTo>
                      <a:pt x="448" y="438"/>
                    </a:lnTo>
                    <a:lnTo>
                      <a:pt x="439" y="437"/>
                    </a:lnTo>
                    <a:lnTo>
                      <a:pt x="429" y="436"/>
                    </a:lnTo>
                    <a:lnTo>
                      <a:pt x="421" y="435"/>
                    </a:lnTo>
                    <a:lnTo>
                      <a:pt x="410" y="433"/>
                    </a:lnTo>
                    <a:lnTo>
                      <a:pt x="399" y="431"/>
                    </a:lnTo>
                    <a:lnTo>
                      <a:pt x="389" y="429"/>
                    </a:lnTo>
                    <a:lnTo>
                      <a:pt x="378" y="427"/>
                    </a:lnTo>
                    <a:lnTo>
                      <a:pt x="366" y="424"/>
                    </a:lnTo>
                    <a:lnTo>
                      <a:pt x="354" y="420"/>
                    </a:lnTo>
                    <a:lnTo>
                      <a:pt x="343" y="417"/>
                    </a:lnTo>
                    <a:lnTo>
                      <a:pt x="330" y="414"/>
                    </a:lnTo>
                    <a:lnTo>
                      <a:pt x="316" y="409"/>
                    </a:lnTo>
                    <a:lnTo>
                      <a:pt x="303" y="404"/>
                    </a:lnTo>
                    <a:lnTo>
                      <a:pt x="289" y="399"/>
                    </a:lnTo>
                    <a:lnTo>
                      <a:pt x="275" y="394"/>
                    </a:lnTo>
                    <a:lnTo>
                      <a:pt x="262" y="388"/>
                    </a:lnTo>
                    <a:lnTo>
                      <a:pt x="250" y="382"/>
                    </a:lnTo>
                    <a:lnTo>
                      <a:pt x="238" y="375"/>
                    </a:lnTo>
                    <a:lnTo>
                      <a:pt x="226" y="369"/>
                    </a:lnTo>
                    <a:lnTo>
                      <a:pt x="216" y="362"/>
                    </a:lnTo>
                    <a:lnTo>
                      <a:pt x="206" y="354"/>
                    </a:lnTo>
                    <a:lnTo>
                      <a:pt x="195" y="347"/>
                    </a:lnTo>
                    <a:lnTo>
                      <a:pt x="184" y="341"/>
                    </a:lnTo>
                    <a:lnTo>
                      <a:pt x="175" y="333"/>
                    </a:lnTo>
                    <a:lnTo>
                      <a:pt x="166" y="325"/>
                    </a:lnTo>
                    <a:lnTo>
                      <a:pt x="156" y="318"/>
                    </a:lnTo>
                    <a:lnTo>
                      <a:pt x="147" y="309"/>
                    </a:lnTo>
                    <a:lnTo>
                      <a:pt x="138" y="301"/>
                    </a:lnTo>
                    <a:lnTo>
                      <a:pt x="130" y="294"/>
                    </a:lnTo>
                    <a:lnTo>
                      <a:pt x="122" y="286"/>
                    </a:lnTo>
                    <a:lnTo>
                      <a:pt x="115" y="278"/>
                    </a:lnTo>
                    <a:lnTo>
                      <a:pt x="108" y="270"/>
                    </a:lnTo>
                    <a:lnTo>
                      <a:pt x="102" y="260"/>
                    </a:lnTo>
                    <a:lnTo>
                      <a:pt x="95" y="252"/>
                    </a:lnTo>
                    <a:lnTo>
                      <a:pt x="88" y="243"/>
                    </a:lnTo>
                    <a:lnTo>
                      <a:pt x="82" y="235"/>
                    </a:lnTo>
                    <a:lnTo>
                      <a:pt x="77" y="226"/>
                    </a:lnTo>
                    <a:lnTo>
                      <a:pt x="72" y="217"/>
                    </a:lnTo>
                    <a:lnTo>
                      <a:pt x="67" y="207"/>
                    </a:lnTo>
                    <a:lnTo>
                      <a:pt x="62" y="199"/>
                    </a:lnTo>
                    <a:lnTo>
                      <a:pt x="57" y="191"/>
                    </a:lnTo>
                    <a:lnTo>
                      <a:pt x="53" y="182"/>
                    </a:lnTo>
                    <a:lnTo>
                      <a:pt x="49" y="174"/>
                    </a:lnTo>
                    <a:lnTo>
                      <a:pt x="45" y="164"/>
                    </a:lnTo>
                    <a:lnTo>
                      <a:pt x="40" y="156"/>
                    </a:lnTo>
                    <a:lnTo>
                      <a:pt x="36" y="148"/>
                    </a:lnTo>
                    <a:lnTo>
                      <a:pt x="32" y="140"/>
                    </a:lnTo>
                    <a:lnTo>
                      <a:pt x="29" y="132"/>
                    </a:lnTo>
                    <a:lnTo>
                      <a:pt x="26" y="123"/>
                    </a:lnTo>
                    <a:lnTo>
                      <a:pt x="23" y="114"/>
                    </a:lnTo>
                    <a:lnTo>
                      <a:pt x="21" y="106"/>
                    </a:lnTo>
                    <a:lnTo>
                      <a:pt x="17" y="92"/>
                    </a:lnTo>
                    <a:lnTo>
                      <a:pt x="13" y="78"/>
                    </a:lnTo>
                    <a:lnTo>
                      <a:pt x="10" y="65"/>
                    </a:lnTo>
                    <a:lnTo>
                      <a:pt x="7" y="53"/>
                    </a:lnTo>
                    <a:lnTo>
                      <a:pt x="5" y="42"/>
                    </a:lnTo>
                    <a:lnTo>
                      <a:pt x="3" y="32"/>
                    </a:lnTo>
                    <a:lnTo>
                      <a:pt x="2" y="24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7" y="2"/>
                    </a:lnTo>
                    <a:lnTo>
                      <a:pt x="17" y="4"/>
                    </a:lnTo>
                    <a:lnTo>
                      <a:pt x="27" y="6"/>
                    </a:lnTo>
                    <a:lnTo>
                      <a:pt x="35" y="8"/>
                    </a:lnTo>
                    <a:lnTo>
                      <a:pt x="43" y="10"/>
                    </a:lnTo>
                    <a:lnTo>
                      <a:pt x="52" y="12"/>
                    </a:lnTo>
                    <a:lnTo>
                      <a:pt x="61" y="14"/>
                    </a:lnTo>
                    <a:lnTo>
                      <a:pt x="72" y="17"/>
                    </a:lnTo>
                    <a:lnTo>
                      <a:pt x="83" y="21"/>
                    </a:lnTo>
                    <a:lnTo>
                      <a:pt x="95" y="23"/>
                    </a:lnTo>
                    <a:lnTo>
                      <a:pt x="107" y="26"/>
                    </a:lnTo>
                    <a:lnTo>
                      <a:pt x="120" y="29"/>
                    </a:lnTo>
                    <a:lnTo>
                      <a:pt x="134" y="32"/>
                    </a:lnTo>
                    <a:lnTo>
                      <a:pt x="149" y="36"/>
                    </a:lnTo>
                    <a:lnTo>
                      <a:pt x="163" y="39"/>
                    </a:lnTo>
                    <a:lnTo>
                      <a:pt x="179" y="43"/>
                    </a:lnTo>
                    <a:lnTo>
                      <a:pt x="197" y="47"/>
                    </a:lnTo>
                    <a:lnTo>
                      <a:pt x="213" y="51"/>
                    </a:lnTo>
                    <a:lnTo>
                      <a:pt x="230" y="55"/>
                    </a:lnTo>
                    <a:lnTo>
                      <a:pt x="250" y="59"/>
                    </a:lnTo>
                    <a:lnTo>
                      <a:pt x="268" y="64"/>
                    </a:lnTo>
                    <a:lnTo>
                      <a:pt x="288" y="69"/>
                    </a:lnTo>
                    <a:lnTo>
                      <a:pt x="307" y="74"/>
                    </a:lnTo>
                    <a:lnTo>
                      <a:pt x="327" y="78"/>
                    </a:lnTo>
                    <a:lnTo>
                      <a:pt x="348" y="83"/>
                    </a:lnTo>
                    <a:lnTo>
                      <a:pt x="369" y="87"/>
                    </a:lnTo>
                    <a:lnTo>
                      <a:pt x="391" y="92"/>
                    </a:lnTo>
                    <a:lnTo>
                      <a:pt x="413" y="96"/>
                    </a:lnTo>
                    <a:lnTo>
                      <a:pt x="437" y="101"/>
                    </a:lnTo>
                    <a:lnTo>
                      <a:pt x="459" y="106"/>
                    </a:lnTo>
                    <a:lnTo>
                      <a:pt x="483" y="111"/>
                    </a:lnTo>
                    <a:lnTo>
                      <a:pt x="507" y="117"/>
                    </a:lnTo>
                    <a:lnTo>
                      <a:pt x="532" y="122"/>
                    </a:lnTo>
                    <a:lnTo>
                      <a:pt x="556" y="127"/>
                    </a:lnTo>
                    <a:lnTo>
                      <a:pt x="581" y="132"/>
                    </a:lnTo>
                    <a:lnTo>
                      <a:pt x="606" y="138"/>
                    </a:lnTo>
                    <a:lnTo>
                      <a:pt x="632" y="144"/>
                    </a:lnTo>
                    <a:lnTo>
                      <a:pt x="658" y="149"/>
                    </a:lnTo>
                    <a:lnTo>
                      <a:pt x="684" y="155"/>
                    </a:lnTo>
                    <a:lnTo>
                      <a:pt x="711" y="160"/>
                    </a:lnTo>
                    <a:lnTo>
                      <a:pt x="739" y="166"/>
                    </a:lnTo>
                    <a:lnTo>
                      <a:pt x="766" y="172"/>
                    </a:lnTo>
                    <a:lnTo>
                      <a:pt x="794" y="177"/>
                    </a:lnTo>
                    <a:lnTo>
                      <a:pt x="821" y="183"/>
                    </a:lnTo>
                    <a:lnTo>
                      <a:pt x="850" y="188"/>
                    </a:lnTo>
                    <a:lnTo>
                      <a:pt x="878" y="194"/>
                    </a:lnTo>
                    <a:lnTo>
                      <a:pt x="906" y="199"/>
                    </a:lnTo>
                    <a:lnTo>
                      <a:pt x="935" y="205"/>
                    </a:lnTo>
                    <a:lnTo>
                      <a:pt x="963" y="210"/>
                    </a:lnTo>
                    <a:lnTo>
                      <a:pt x="993" y="216"/>
                    </a:lnTo>
                    <a:lnTo>
                      <a:pt x="1022" y="221"/>
                    </a:lnTo>
                    <a:lnTo>
                      <a:pt x="1050" y="227"/>
                    </a:lnTo>
                    <a:lnTo>
                      <a:pt x="1080" y="232"/>
                    </a:lnTo>
                    <a:lnTo>
                      <a:pt x="1109" y="238"/>
                    </a:lnTo>
                    <a:lnTo>
                      <a:pt x="1139" y="243"/>
                    </a:lnTo>
                    <a:lnTo>
                      <a:pt x="1169" y="248"/>
                    </a:lnTo>
                    <a:lnTo>
                      <a:pt x="1199" y="253"/>
                    </a:lnTo>
                    <a:lnTo>
                      <a:pt x="1229" y="258"/>
                    </a:lnTo>
                    <a:lnTo>
                      <a:pt x="1258" y="264"/>
                    </a:lnTo>
                    <a:lnTo>
                      <a:pt x="1289" y="268"/>
                    </a:lnTo>
                    <a:lnTo>
                      <a:pt x="1320" y="273"/>
                    </a:lnTo>
                    <a:lnTo>
                      <a:pt x="1350" y="277"/>
                    </a:lnTo>
                    <a:lnTo>
                      <a:pt x="1381" y="282"/>
                    </a:lnTo>
                    <a:lnTo>
                      <a:pt x="1406" y="285"/>
                    </a:lnTo>
                    <a:lnTo>
                      <a:pt x="1433" y="288"/>
                    </a:lnTo>
                    <a:lnTo>
                      <a:pt x="1460" y="292"/>
                    </a:lnTo>
                    <a:lnTo>
                      <a:pt x="1486" y="295"/>
                    </a:lnTo>
                    <a:lnTo>
                      <a:pt x="1510" y="296"/>
                    </a:lnTo>
                    <a:lnTo>
                      <a:pt x="1533" y="298"/>
                    </a:lnTo>
                    <a:lnTo>
                      <a:pt x="1557" y="299"/>
                    </a:lnTo>
                    <a:lnTo>
                      <a:pt x="1580" y="301"/>
                    </a:lnTo>
                    <a:lnTo>
                      <a:pt x="1600" y="302"/>
                    </a:lnTo>
                    <a:lnTo>
                      <a:pt x="1621" y="303"/>
                    </a:lnTo>
                    <a:lnTo>
                      <a:pt x="1641" y="303"/>
                    </a:lnTo>
                    <a:lnTo>
                      <a:pt x="1662" y="304"/>
                    </a:lnTo>
                    <a:lnTo>
                      <a:pt x="1679" y="304"/>
                    </a:lnTo>
                    <a:lnTo>
                      <a:pt x="1697" y="304"/>
                    </a:lnTo>
                    <a:lnTo>
                      <a:pt x="1715" y="305"/>
                    </a:lnTo>
                    <a:lnTo>
                      <a:pt x="1733" y="304"/>
                    </a:lnTo>
                    <a:lnTo>
                      <a:pt x="1748" y="304"/>
                    </a:lnTo>
                    <a:lnTo>
                      <a:pt x="1764" y="303"/>
                    </a:lnTo>
                    <a:lnTo>
                      <a:pt x="1779" y="302"/>
                    </a:lnTo>
                    <a:lnTo>
                      <a:pt x="1795" y="301"/>
                    </a:lnTo>
                    <a:lnTo>
                      <a:pt x="1809" y="300"/>
                    </a:lnTo>
                    <a:lnTo>
                      <a:pt x="1823" y="299"/>
                    </a:lnTo>
                    <a:lnTo>
                      <a:pt x="1836" y="298"/>
                    </a:lnTo>
                    <a:lnTo>
                      <a:pt x="1851" y="297"/>
                    </a:lnTo>
                    <a:lnTo>
                      <a:pt x="1863" y="295"/>
                    </a:lnTo>
                    <a:lnTo>
                      <a:pt x="1875" y="293"/>
                    </a:lnTo>
                    <a:lnTo>
                      <a:pt x="1888" y="291"/>
                    </a:lnTo>
                    <a:lnTo>
                      <a:pt x="1901" y="289"/>
                    </a:lnTo>
                    <a:lnTo>
                      <a:pt x="1912" y="287"/>
                    </a:lnTo>
                    <a:lnTo>
                      <a:pt x="1923" y="286"/>
                    </a:lnTo>
                    <a:lnTo>
                      <a:pt x="1934" y="284"/>
                    </a:lnTo>
                    <a:lnTo>
                      <a:pt x="1945" y="283"/>
                    </a:lnTo>
                    <a:lnTo>
                      <a:pt x="1955" y="281"/>
                    </a:lnTo>
                    <a:lnTo>
                      <a:pt x="1965" y="280"/>
                    </a:lnTo>
                    <a:lnTo>
                      <a:pt x="1975" y="278"/>
                    </a:lnTo>
                    <a:lnTo>
                      <a:pt x="1984" y="277"/>
                    </a:lnTo>
                    <a:lnTo>
                      <a:pt x="1995" y="275"/>
                    </a:lnTo>
                    <a:lnTo>
                      <a:pt x="2004" y="273"/>
                    </a:lnTo>
                    <a:lnTo>
                      <a:pt x="2013" y="271"/>
                    </a:lnTo>
                    <a:lnTo>
                      <a:pt x="2022" y="269"/>
                    </a:lnTo>
                    <a:lnTo>
                      <a:pt x="2031" y="268"/>
                    </a:lnTo>
                    <a:lnTo>
                      <a:pt x="2039" y="267"/>
                    </a:lnTo>
                    <a:lnTo>
                      <a:pt x="2049" y="265"/>
                    </a:lnTo>
                    <a:lnTo>
                      <a:pt x="2058" y="264"/>
                    </a:lnTo>
                    <a:lnTo>
                      <a:pt x="2067" y="264"/>
                    </a:lnTo>
                    <a:lnTo>
                      <a:pt x="2077" y="264"/>
                    </a:lnTo>
                    <a:lnTo>
                      <a:pt x="2086" y="263"/>
                    </a:lnTo>
                    <a:lnTo>
                      <a:pt x="2096" y="263"/>
                    </a:lnTo>
                    <a:lnTo>
                      <a:pt x="2106" y="264"/>
                    </a:lnTo>
                    <a:lnTo>
                      <a:pt x="2116" y="264"/>
                    </a:lnTo>
                    <a:lnTo>
                      <a:pt x="2126" y="264"/>
                    </a:lnTo>
                    <a:lnTo>
                      <a:pt x="2135" y="264"/>
                    </a:lnTo>
                    <a:lnTo>
                      <a:pt x="2146" y="265"/>
                    </a:lnTo>
                    <a:lnTo>
                      <a:pt x="2157" y="266"/>
                    </a:lnTo>
                    <a:lnTo>
                      <a:pt x="2167" y="267"/>
                    </a:lnTo>
                    <a:lnTo>
                      <a:pt x="2177" y="268"/>
                    </a:lnTo>
                    <a:lnTo>
                      <a:pt x="2189" y="270"/>
                    </a:lnTo>
                    <a:lnTo>
                      <a:pt x="2201" y="272"/>
                    </a:lnTo>
                    <a:lnTo>
                      <a:pt x="2212" y="274"/>
                    </a:lnTo>
                    <a:lnTo>
                      <a:pt x="2223" y="277"/>
                    </a:lnTo>
                    <a:lnTo>
                      <a:pt x="2245" y="283"/>
                    </a:lnTo>
                    <a:lnTo>
                      <a:pt x="2266" y="290"/>
                    </a:lnTo>
                    <a:lnTo>
                      <a:pt x="2288" y="296"/>
                    </a:lnTo>
                    <a:lnTo>
                      <a:pt x="2309" y="302"/>
                    </a:lnTo>
                    <a:lnTo>
                      <a:pt x="2324" y="309"/>
                    </a:lnTo>
                    <a:lnTo>
                      <a:pt x="2340" y="317"/>
                    </a:lnTo>
                    <a:lnTo>
                      <a:pt x="2355" y="324"/>
                    </a:lnTo>
                    <a:lnTo>
                      <a:pt x="2370" y="330"/>
                    </a:lnTo>
                    <a:lnTo>
                      <a:pt x="2381" y="338"/>
                    </a:lnTo>
                    <a:lnTo>
                      <a:pt x="2393" y="346"/>
                    </a:lnTo>
                    <a:lnTo>
                      <a:pt x="2404" y="354"/>
                    </a:lnTo>
                    <a:lnTo>
                      <a:pt x="2414" y="363"/>
                    </a:lnTo>
                    <a:lnTo>
                      <a:pt x="2422" y="371"/>
                    </a:lnTo>
                    <a:lnTo>
                      <a:pt x="2429" y="379"/>
                    </a:lnTo>
                    <a:lnTo>
                      <a:pt x="2437" y="387"/>
                    </a:lnTo>
                    <a:lnTo>
                      <a:pt x="2445" y="395"/>
                    </a:lnTo>
                    <a:lnTo>
                      <a:pt x="2449" y="404"/>
                    </a:lnTo>
                    <a:lnTo>
                      <a:pt x="2454" y="414"/>
                    </a:lnTo>
                    <a:lnTo>
                      <a:pt x="2459" y="422"/>
                    </a:lnTo>
                    <a:lnTo>
                      <a:pt x="2464" y="431"/>
                    </a:lnTo>
                    <a:lnTo>
                      <a:pt x="2467" y="439"/>
                    </a:lnTo>
                    <a:lnTo>
                      <a:pt x="2470" y="448"/>
                    </a:lnTo>
                    <a:lnTo>
                      <a:pt x="2473" y="456"/>
                    </a:lnTo>
                    <a:lnTo>
                      <a:pt x="2476" y="466"/>
                    </a:lnTo>
                    <a:lnTo>
                      <a:pt x="2478" y="474"/>
                    </a:lnTo>
                    <a:lnTo>
                      <a:pt x="2480" y="482"/>
                    </a:lnTo>
                    <a:lnTo>
                      <a:pt x="2484" y="490"/>
                    </a:lnTo>
                    <a:lnTo>
                      <a:pt x="2486" y="497"/>
                    </a:lnTo>
                    <a:lnTo>
                      <a:pt x="2489" y="507"/>
                    </a:lnTo>
                    <a:lnTo>
                      <a:pt x="2492" y="515"/>
                    </a:lnTo>
                    <a:lnTo>
                      <a:pt x="2495" y="523"/>
                    </a:lnTo>
                    <a:lnTo>
                      <a:pt x="2498" y="531"/>
                    </a:lnTo>
                    <a:lnTo>
                      <a:pt x="2502" y="539"/>
                    </a:lnTo>
                    <a:lnTo>
                      <a:pt x="2505" y="546"/>
                    </a:lnTo>
                    <a:lnTo>
                      <a:pt x="2508" y="554"/>
                    </a:lnTo>
                    <a:lnTo>
                      <a:pt x="2512" y="562"/>
                    </a:lnTo>
                    <a:lnTo>
                      <a:pt x="2519" y="576"/>
                    </a:lnTo>
                    <a:lnTo>
                      <a:pt x="2527" y="590"/>
                    </a:lnTo>
                    <a:lnTo>
                      <a:pt x="2537" y="603"/>
                    </a:lnTo>
                    <a:lnTo>
                      <a:pt x="2546" y="616"/>
                    </a:lnTo>
                    <a:lnTo>
                      <a:pt x="2555" y="628"/>
                    </a:lnTo>
                    <a:lnTo>
                      <a:pt x="2565" y="639"/>
                    </a:lnTo>
                    <a:lnTo>
                      <a:pt x="2576" y="649"/>
                    </a:lnTo>
                    <a:lnTo>
                      <a:pt x="2588" y="659"/>
                    </a:lnTo>
                    <a:lnTo>
                      <a:pt x="2599" y="667"/>
                    </a:lnTo>
                    <a:lnTo>
                      <a:pt x="2611" y="674"/>
                    </a:lnTo>
                    <a:lnTo>
                      <a:pt x="2625" y="682"/>
                    </a:lnTo>
                    <a:lnTo>
                      <a:pt x="2640" y="689"/>
                    </a:lnTo>
                    <a:lnTo>
                      <a:pt x="2647" y="691"/>
                    </a:lnTo>
                    <a:lnTo>
                      <a:pt x="2655" y="694"/>
                    </a:lnTo>
                    <a:lnTo>
                      <a:pt x="2663" y="696"/>
                    </a:lnTo>
                    <a:lnTo>
                      <a:pt x="2671" y="698"/>
                    </a:lnTo>
                    <a:lnTo>
                      <a:pt x="2686" y="702"/>
                    </a:lnTo>
                    <a:lnTo>
                      <a:pt x="2701" y="704"/>
                    </a:lnTo>
                    <a:lnTo>
                      <a:pt x="2713" y="706"/>
                    </a:lnTo>
                    <a:lnTo>
                      <a:pt x="2727" y="708"/>
                    </a:lnTo>
                    <a:lnTo>
                      <a:pt x="2738" y="709"/>
                    </a:lnTo>
                    <a:lnTo>
                      <a:pt x="2749" y="709"/>
                    </a:lnTo>
                    <a:lnTo>
                      <a:pt x="2758" y="709"/>
                    </a:lnTo>
                    <a:lnTo>
                      <a:pt x="2766" y="708"/>
                    </a:lnTo>
                    <a:lnTo>
                      <a:pt x="2774" y="707"/>
                    </a:lnTo>
                    <a:lnTo>
                      <a:pt x="2781" y="707"/>
                    </a:lnTo>
                    <a:lnTo>
                      <a:pt x="2785" y="706"/>
                    </a:lnTo>
                    <a:lnTo>
                      <a:pt x="2789" y="705"/>
                    </a:lnTo>
                    <a:lnTo>
                      <a:pt x="2792" y="704"/>
                    </a:lnTo>
                    <a:lnTo>
                      <a:pt x="2795" y="704"/>
                    </a:lnTo>
                    <a:lnTo>
                      <a:pt x="2796" y="704"/>
                    </a:lnTo>
                    <a:lnTo>
                      <a:pt x="2796" y="703"/>
                    </a:lnTo>
                    <a:lnTo>
                      <a:pt x="2831" y="711"/>
                    </a:lnTo>
                    <a:lnTo>
                      <a:pt x="2864" y="719"/>
                    </a:lnTo>
                    <a:lnTo>
                      <a:pt x="2898" y="727"/>
                    </a:lnTo>
                    <a:lnTo>
                      <a:pt x="2933" y="735"/>
                    </a:lnTo>
                    <a:lnTo>
                      <a:pt x="2966" y="743"/>
                    </a:lnTo>
                    <a:lnTo>
                      <a:pt x="3001" y="752"/>
                    </a:lnTo>
                    <a:lnTo>
                      <a:pt x="3035" y="760"/>
                    </a:lnTo>
                    <a:lnTo>
                      <a:pt x="3070" y="768"/>
                    </a:lnTo>
                    <a:lnTo>
                      <a:pt x="3071" y="769"/>
                    </a:lnTo>
                    <a:lnTo>
                      <a:pt x="3071" y="770"/>
                    </a:lnTo>
                    <a:lnTo>
                      <a:pt x="3074" y="772"/>
                    </a:lnTo>
                    <a:lnTo>
                      <a:pt x="3078" y="774"/>
                    </a:lnTo>
                    <a:lnTo>
                      <a:pt x="3081" y="777"/>
                    </a:lnTo>
                    <a:lnTo>
                      <a:pt x="3085" y="779"/>
                    </a:lnTo>
                    <a:lnTo>
                      <a:pt x="3092" y="783"/>
                    </a:lnTo>
                    <a:lnTo>
                      <a:pt x="3099" y="787"/>
                    </a:lnTo>
                    <a:lnTo>
                      <a:pt x="3108" y="792"/>
                    </a:lnTo>
                    <a:lnTo>
                      <a:pt x="3118" y="797"/>
                    </a:lnTo>
                    <a:lnTo>
                      <a:pt x="3128" y="802"/>
                    </a:lnTo>
                    <a:lnTo>
                      <a:pt x="3139" y="806"/>
                    </a:lnTo>
                    <a:lnTo>
                      <a:pt x="3151" y="810"/>
                    </a:lnTo>
                    <a:lnTo>
                      <a:pt x="3165" y="815"/>
                    </a:lnTo>
                    <a:lnTo>
                      <a:pt x="3180" y="819"/>
                    </a:lnTo>
                    <a:lnTo>
                      <a:pt x="3194" y="824"/>
                    </a:lnTo>
                    <a:lnTo>
                      <a:pt x="3209" y="826"/>
                    </a:lnTo>
                    <a:lnTo>
                      <a:pt x="3225" y="828"/>
                    </a:lnTo>
                    <a:lnTo>
                      <a:pt x="3238" y="828"/>
                    </a:lnTo>
                    <a:lnTo>
                      <a:pt x="3252" y="827"/>
                    </a:lnTo>
                    <a:lnTo>
                      <a:pt x="3265" y="825"/>
                    </a:lnTo>
                    <a:lnTo>
                      <a:pt x="3277" y="823"/>
                    </a:lnTo>
                    <a:lnTo>
                      <a:pt x="3287" y="819"/>
                    </a:lnTo>
                    <a:lnTo>
                      <a:pt x="3298" y="814"/>
                    </a:lnTo>
                    <a:lnTo>
                      <a:pt x="3307" y="808"/>
                    </a:lnTo>
                    <a:lnTo>
                      <a:pt x="3318" y="801"/>
                    </a:lnTo>
                    <a:lnTo>
                      <a:pt x="3327" y="791"/>
                    </a:lnTo>
                    <a:lnTo>
                      <a:pt x="3336" y="783"/>
                    </a:lnTo>
                    <a:lnTo>
                      <a:pt x="3343" y="772"/>
                    </a:lnTo>
                    <a:lnTo>
                      <a:pt x="3351" y="762"/>
                    </a:lnTo>
                    <a:lnTo>
                      <a:pt x="3359" y="749"/>
                    </a:lnTo>
                    <a:lnTo>
                      <a:pt x="3365" y="737"/>
                    </a:lnTo>
                    <a:lnTo>
                      <a:pt x="3371" y="724"/>
                    </a:lnTo>
                    <a:lnTo>
                      <a:pt x="3377" y="710"/>
                    </a:lnTo>
                    <a:lnTo>
                      <a:pt x="3382" y="696"/>
                    </a:lnTo>
                    <a:lnTo>
                      <a:pt x="3387" y="682"/>
                    </a:lnTo>
                    <a:lnTo>
                      <a:pt x="3393" y="668"/>
                    </a:lnTo>
                    <a:lnTo>
                      <a:pt x="3399" y="654"/>
                    </a:lnTo>
                    <a:lnTo>
                      <a:pt x="3409" y="640"/>
                    </a:lnTo>
                    <a:lnTo>
                      <a:pt x="3419" y="627"/>
                    </a:lnTo>
                    <a:lnTo>
                      <a:pt x="3433" y="618"/>
                    </a:lnTo>
                    <a:lnTo>
                      <a:pt x="3447" y="608"/>
                    </a:lnTo>
                    <a:lnTo>
                      <a:pt x="3458" y="606"/>
                    </a:lnTo>
                    <a:lnTo>
                      <a:pt x="3469" y="602"/>
                    </a:lnTo>
                    <a:lnTo>
                      <a:pt x="3480" y="599"/>
                    </a:lnTo>
                    <a:lnTo>
                      <a:pt x="3491" y="596"/>
                    </a:lnTo>
                    <a:lnTo>
                      <a:pt x="3507" y="597"/>
                    </a:lnTo>
                    <a:lnTo>
                      <a:pt x="3523" y="598"/>
                    </a:lnTo>
                    <a:lnTo>
                      <a:pt x="3538" y="598"/>
                    </a:lnTo>
                    <a:lnTo>
                      <a:pt x="3555" y="599"/>
                    </a:lnTo>
                    <a:lnTo>
                      <a:pt x="3576" y="602"/>
                    </a:lnTo>
                    <a:lnTo>
                      <a:pt x="3597" y="607"/>
                    </a:lnTo>
                    <a:lnTo>
                      <a:pt x="3619" y="610"/>
                    </a:lnTo>
                    <a:lnTo>
                      <a:pt x="3640" y="614"/>
                    </a:lnTo>
                    <a:lnTo>
                      <a:pt x="3652" y="617"/>
                    </a:lnTo>
                    <a:lnTo>
                      <a:pt x="3663" y="620"/>
                    </a:lnTo>
                    <a:lnTo>
                      <a:pt x="3674" y="623"/>
                    </a:lnTo>
                    <a:lnTo>
                      <a:pt x="3686" y="627"/>
                    </a:lnTo>
                    <a:lnTo>
                      <a:pt x="3696" y="631"/>
                    </a:lnTo>
                    <a:lnTo>
                      <a:pt x="3707" y="634"/>
                    </a:lnTo>
                    <a:lnTo>
                      <a:pt x="3717" y="638"/>
                    </a:lnTo>
                    <a:lnTo>
                      <a:pt x="3727" y="642"/>
                    </a:lnTo>
                    <a:lnTo>
                      <a:pt x="3736" y="646"/>
                    </a:lnTo>
                    <a:lnTo>
                      <a:pt x="3746" y="651"/>
                    </a:lnTo>
                    <a:lnTo>
                      <a:pt x="3757" y="656"/>
                    </a:lnTo>
                    <a:lnTo>
                      <a:pt x="3767" y="660"/>
                    </a:lnTo>
                    <a:lnTo>
                      <a:pt x="3776" y="665"/>
                    </a:lnTo>
                    <a:lnTo>
                      <a:pt x="3785" y="670"/>
                    </a:lnTo>
                    <a:lnTo>
                      <a:pt x="3795" y="674"/>
                    </a:lnTo>
                    <a:lnTo>
                      <a:pt x="3805" y="679"/>
                    </a:lnTo>
                    <a:lnTo>
                      <a:pt x="3814" y="684"/>
                    </a:lnTo>
                    <a:lnTo>
                      <a:pt x="3822" y="690"/>
                    </a:lnTo>
                    <a:lnTo>
                      <a:pt x="3831" y="695"/>
                    </a:lnTo>
                    <a:lnTo>
                      <a:pt x="3840" y="702"/>
                    </a:lnTo>
                    <a:lnTo>
                      <a:pt x="3850" y="708"/>
                    </a:lnTo>
                    <a:lnTo>
                      <a:pt x="3859" y="714"/>
                    </a:lnTo>
                    <a:lnTo>
                      <a:pt x="3868" y="720"/>
                    </a:lnTo>
                    <a:lnTo>
                      <a:pt x="3878" y="727"/>
                    </a:lnTo>
                    <a:lnTo>
                      <a:pt x="3887" y="733"/>
                    </a:lnTo>
                    <a:lnTo>
                      <a:pt x="3898" y="739"/>
                    </a:lnTo>
                    <a:lnTo>
                      <a:pt x="3908" y="745"/>
                    </a:lnTo>
                    <a:lnTo>
                      <a:pt x="3918" y="752"/>
                    </a:lnTo>
                    <a:lnTo>
                      <a:pt x="3929" y="759"/>
                    </a:lnTo>
                    <a:lnTo>
                      <a:pt x="3940" y="766"/>
                    </a:lnTo>
                    <a:lnTo>
                      <a:pt x="3953" y="772"/>
                    </a:lnTo>
                    <a:lnTo>
                      <a:pt x="3964" y="779"/>
                    </a:lnTo>
                    <a:lnTo>
                      <a:pt x="3976" y="787"/>
                    </a:lnTo>
                    <a:lnTo>
                      <a:pt x="3987" y="794"/>
                    </a:lnTo>
                    <a:lnTo>
                      <a:pt x="4000" y="803"/>
                    </a:lnTo>
                    <a:lnTo>
                      <a:pt x="4012" y="811"/>
                    </a:lnTo>
                    <a:lnTo>
                      <a:pt x="4025" y="818"/>
                    </a:lnTo>
                    <a:lnTo>
                      <a:pt x="4039" y="826"/>
                    </a:lnTo>
                    <a:lnTo>
                      <a:pt x="4053" y="833"/>
                    </a:lnTo>
                    <a:lnTo>
                      <a:pt x="4067" y="841"/>
                    </a:lnTo>
                    <a:lnTo>
                      <a:pt x="4082" y="850"/>
                    </a:lnTo>
                    <a:lnTo>
                      <a:pt x="4098" y="858"/>
                    </a:lnTo>
                    <a:lnTo>
                      <a:pt x="4113" y="866"/>
                    </a:lnTo>
                    <a:lnTo>
                      <a:pt x="4128" y="874"/>
                    </a:lnTo>
                    <a:lnTo>
                      <a:pt x="4147" y="882"/>
                    </a:lnTo>
                    <a:lnTo>
                      <a:pt x="4164" y="890"/>
                    </a:lnTo>
                    <a:lnTo>
                      <a:pt x="4182" y="900"/>
                    </a:lnTo>
                    <a:lnTo>
                      <a:pt x="4200" y="908"/>
                    </a:lnTo>
                    <a:lnTo>
                      <a:pt x="4220" y="916"/>
                    </a:lnTo>
                    <a:lnTo>
                      <a:pt x="4241" y="925"/>
                    </a:lnTo>
                    <a:lnTo>
                      <a:pt x="4261" y="934"/>
                    </a:lnTo>
                    <a:lnTo>
                      <a:pt x="4281" y="942"/>
                    </a:lnTo>
                    <a:lnTo>
                      <a:pt x="4305" y="953"/>
                    </a:lnTo>
                    <a:lnTo>
                      <a:pt x="4328" y="962"/>
                    </a:lnTo>
                    <a:lnTo>
                      <a:pt x="4352" y="971"/>
                    </a:lnTo>
                    <a:lnTo>
                      <a:pt x="4375" y="980"/>
                    </a:lnTo>
                    <a:lnTo>
                      <a:pt x="4401" y="990"/>
                    </a:lnTo>
                    <a:lnTo>
                      <a:pt x="4427" y="1000"/>
                    </a:lnTo>
                    <a:lnTo>
                      <a:pt x="4454" y="1009"/>
                    </a:lnTo>
                    <a:lnTo>
                      <a:pt x="4480" y="1018"/>
                    </a:lnTo>
                    <a:lnTo>
                      <a:pt x="4510" y="1027"/>
                    </a:lnTo>
                    <a:lnTo>
                      <a:pt x="4541" y="1037"/>
                    </a:lnTo>
                    <a:lnTo>
                      <a:pt x="4571" y="1048"/>
                    </a:lnTo>
                    <a:lnTo>
                      <a:pt x="4602" y="1057"/>
                    </a:lnTo>
                    <a:lnTo>
                      <a:pt x="4632" y="1066"/>
                    </a:lnTo>
                    <a:lnTo>
                      <a:pt x="4661" y="1075"/>
                    </a:lnTo>
                    <a:lnTo>
                      <a:pt x="4691" y="1084"/>
                    </a:lnTo>
                    <a:lnTo>
                      <a:pt x="4720" y="1094"/>
                    </a:lnTo>
                    <a:lnTo>
                      <a:pt x="4750" y="1102"/>
                    </a:lnTo>
                    <a:lnTo>
                      <a:pt x="4779" y="1110"/>
                    </a:lnTo>
                    <a:lnTo>
                      <a:pt x="4808" y="1119"/>
                    </a:lnTo>
                    <a:lnTo>
                      <a:pt x="4838" y="1127"/>
                    </a:lnTo>
                    <a:lnTo>
                      <a:pt x="4866" y="1135"/>
                    </a:lnTo>
                    <a:lnTo>
                      <a:pt x="4895" y="1144"/>
                    </a:lnTo>
                    <a:lnTo>
                      <a:pt x="4924" y="1152"/>
                    </a:lnTo>
                    <a:lnTo>
                      <a:pt x="4952" y="1160"/>
                    </a:lnTo>
                    <a:lnTo>
                      <a:pt x="4980" y="1168"/>
                    </a:lnTo>
                    <a:lnTo>
                      <a:pt x="5008" y="1175"/>
                    </a:lnTo>
                    <a:lnTo>
                      <a:pt x="5036" y="1183"/>
                    </a:lnTo>
                    <a:lnTo>
                      <a:pt x="5065" y="1191"/>
                    </a:lnTo>
                    <a:lnTo>
                      <a:pt x="5091" y="1198"/>
                    </a:lnTo>
                    <a:lnTo>
                      <a:pt x="5119" y="1206"/>
                    </a:lnTo>
                    <a:lnTo>
                      <a:pt x="5146" y="1213"/>
                    </a:lnTo>
                    <a:lnTo>
                      <a:pt x="5173" y="1221"/>
                    </a:lnTo>
                    <a:lnTo>
                      <a:pt x="5198" y="1227"/>
                    </a:lnTo>
                    <a:lnTo>
                      <a:pt x="5225" y="1233"/>
                    </a:lnTo>
                    <a:lnTo>
                      <a:pt x="5250" y="1241"/>
                    </a:lnTo>
                    <a:lnTo>
                      <a:pt x="5276" y="1247"/>
                    </a:lnTo>
                    <a:lnTo>
                      <a:pt x="5300" y="1253"/>
                    </a:lnTo>
                    <a:lnTo>
                      <a:pt x="5325" y="1259"/>
                    </a:lnTo>
                    <a:lnTo>
                      <a:pt x="5348" y="1266"/>
                    </a:lnTo>
                    <a:lnTo>
                      <a:pt x="5374" y="1272"/>
                    </a:lnTo>
                    <a:lnTo>
                      <a:pt x="5396" y="1278"/>
                    </a:lnTo>
                    <a:lnTo>
                      <a:pt x="5419" y="1283"/>
                    </a:lnTo>
                    <a:lnTo>
                      <a:pt x="5442" y="1290"/>
                    </a:lnTo>
                    <a:lnTo>
                      <a:pt x="5465" y="1296"/>
                    </a:lnTo>
                    <a:lnTo>
                      <a:pt x="5485" y="1301"/>
                    </a:lnTo>
                    <a:lnTo>
                      <a:pt x="5507" y="1307"/>
                    </a:lnTo>
                    <a:lnTo>
                      <a:pt x="5527" y="1312"/>
                    </a:lnTo>
                    <a:lnTo>
                      <a:pt x="5548" y="1317"/>
                    </a:lnTo>
                    <a:lnTo>
                      <a:pt x="5567" y="1321"/>
                    </a:lnTo>
                    <a:lnTo>
                      <a:pt x="5586" y="1326"/>
                    </a:lnTo>
                    <a:lnTo>
                      <a:pt x="5605" y="1330"/>
                    </a:lnTo>
                    <a:lnTo>
                      <a:pt x="5623" y="1334"/>
                    </a:lnTo>
                    <a:lnTo>
                      <a:pt x="5640" y="1339"/>
                    </a:lnTo>
                    <a:lnTo>
                      <a:pt x="5658" y="1343"/>
                    </a:lnTo>
                    <a:lnTo>
                      <a:pt x="5674" y="1347"/>
                    </a:lnTo>
                    <a:lnTo>
                      <a:pt x="5691" y="1351"/>
                    </a:lnTo>
                    <a:lnTo>
                      <a:pt x="5705" y="1354"/>
                    </a:lnTo>
                    <a:lnTo>
                      <a:pt x="5719" y="1358"/>
                    </a:lnTo>
                    <a:lnTo>
                      <a:pt x="5733" y="1361"/>
                    </a:lnTo>
                    <a:lnTo>
                      <a:pt x="5747" y="1364"/>
                    </a:lnTo>
                    <a:lnTo>
                      <a:pt x="5759" y="1367"/>
                    </a:lnTo>
                    <a:lnTo>
                      <a:pt x="5770" y="1369"/>
                    </a:lnTo>
                    <a:lnTo>
                      <a:pt x="5781" y="1372"/>
                    </a:lnTo>
                    <a:lnTo>
                      <a:pt x="5792" y="1375"/>
                    </a:lnTo>
                    <a:lnTo>
                      <a:pt x="5801" y="1377"/>
                    </a:lnTo>
                    <a:lnTo>
                      <a:pt x="5810" y="1379"/>
                    </a:lnTo>
                    <a:lnTo>
                      <a:pt x="5818" y="1381"/>
                    </a:lnTo>
                    <a:lnTo>
                      <a:pt x="5826" y="1383"/>
                    </a:lnTo>
                    <a:lnTo>
                      <a:pt x="5836" y="1386"/>
                    </a:lnTo>
                    <a:lnTo>
                      <a:pt x="5847" y="1388"/>
                    </a:lnTo>
                    <a:lnTo>
                      <a:pt x="5851" y="1389"/>
                    </a:lnTo>
                    <a:lnTo>
                      <a:pt x="5855" y="1390"/>
                    </a:lnTo>
                    <a:lnTo>
                      <a:pt x="5855" y="1392"/>
                    </a:lnTo>
                    <a:lnTo>
                      <a:pt x="5855" y="1394"/>
                    </a:lnTo>
                    <a:lnTo>
                      <a:pt x="5853" y="1399"/>
                    </a:lnTo>
                    <a:lnTo>
                      <a:pt x="5851" y="1403"/>
                    </a:lnTo>
                    <a:lnTo>
                      <a:pt x="5849" y="1411"/>
                    </a:lnTo>
                    <a:lnTo>
                      <a:pt x="5847" y="1418"/>
                    </a:lnTo>
                    <a:lnTo>
                      <a:pt x="5842" y="1427"/>
                    </a:lnTo>
                    <a:lnTo>
                      <a:pt x="5838" y="1437"/>
                    </a:lnTo>
                    <a:lnTo>
                      <a:pt x="5833" y="1449"/>
                    </a:lnTo>
                    <a:lnTo>
                      <a:pt x="5828" y="1460"/>
                    </a:lnTo>
                    <a:lnTo>
                      <a:pt x="5822" y="1472"/>
                    </a:lnTo>
                    <a:lnTo>
                      <a:pt x="5817" y="1484"/>
                    </a:lnTo>
                    <a:lnTo>
                      <a:pt x="5809" y="1497"/>
                    </a:lnTo>
                    <a:lnTo>
                      <a:pt x="5801" y="1509"/>
                    </a:lnTo>
                    <a:lnTo>
                      <a:pt x="5791" y="1522"/>
                    </a:lnTo>
                    <a:lnTo>
                      <a:pt x="5782" y="1536"/>
                    </a:lnTo>
                    <a:lnTo>
                      <a:pt x="5770" y="1548"/>
                    </a:lnTo>
                    <a:lnTo>
                      <a:pt x="5759" y="1560"/>
                    </a:lnTo>
                    <a:lnTo>
                      <a:pt x="5745" y="1572"/>
                    </a:lnTo>
                    <a:lnTo>
                      <a:pt x="5733" y="1584"/>
                    </a:lnTo>
                    <a:lnTo>
                      <a:pt x="5725" y="1590"/>
                    </a:lnTo>
                    <a:lnTo>
                      <a:pt x="5717" y="1595"/>
                    </a:lnTo>
                    <a:lnTo>
                      <a:pt x="5709" y="1599"/>
                    </a:lnTo>
                    <a:lnTo>
                      <a:pt x="5702" y="1604"/>
                    </a:lnTo>
                    <a:lnTo>
                      <a:pt x="5692" y="1608"/>
                    </a:lnTo>
                    <a:lnTo>
                      <a:pt x="5684" y="1612"/>
                    </a:lnTo>
                    <a:lnTo>
                      <a:pt x="5676" y="1616"/>
                    </a:lnTo>
                    <a:lnTo>
                      <a:pt x="5667" y="1620"/>
                    </a:lnTo>
                    <a:lnTo>
                      <a:pt x="5657" y="1623"/>
                    </a:lnTo>
                    <a:lnTo>
                      <a:pt x="5646" y="1626"/>
                    </a:lnTo>
                    <a:lnTo>
                      <a:pt x="5636" y="1630"/>
                    </a:lnTo>
                    <a:lnTo>
                      <a:pt x="5626" y="1633"/>
                    </a:lnTo>
                    <a:lnTo>
                      <a:pt x="5615" y="1635"/>
                    </a:lnTo>
                    <a:lnTo>
                      <a:pt x="5604" y="1636"/>
                    </a:lnTo>
                    <a:lnTo>
                      <a:pt x="5592" y="1637"/>
                    </a:lnTo>
                    <a:lnTo>
                      <a:pt x="5582" y="1639"/>
                    </a:lnTo>
                    <a:lnTo>
                      <a:pt x="5570" y="1638"/>
                    </a:lnTo>
                    <a:lnTo>
                      <a:pt x="5558" y="1638"/>
                    </a:lnTo>
                    <a:lnTo>
                      <a:pt x="5545" y="1637"/>
                    </a:lnTo>
                    <a:lnTo>
                      <a:pt x="5533" y="1637"/>
                    </a:lnTo>
                    <a:lnTo>
                      <a:pt x="5519" y="1635"/>
                    </a:lnTo>
                    <a:lnTo>
                      <a:pt x="5505" y="1632"/>
                    </a:lnTo>
                    <a:lnTo>
                      <a:pt x="5490" y="1630"/>
                    </a:lnTo>
                    <a:lnTo>
                      <a:pt x="5477" y="1627"/>
                    </a:lnTo>
                    <a:lnTo>
                      <a:pt x="5466" y="1625"/>
                    </a:lnTo>
                    <a:lnTo>
                      <a:pt x="5456" y="1622"/>
                    </a:lnTo>
                    <a:lnTo>
                      <a:pt x="5444" y="1620"/>
                    </a:lnTo>
                    <a:lnTo>
                      <a:pt x="5433" y="1617"/>
                    </a:lnTo>
                    <a:lnTo>
                      <a:pt x="5424" y="1614"/>
                    </a:lnTo>
                    <a:lnTo>
                      <a:pt x="5414" y="1611"/>
                    </a:lnTo>
                    <a:lnTo>
                      <a:pt x="5404" y="1609"/>
                    </a:lnTo>
                    <a:lnTo>
                      <a:pt x="5395" y="1606"/>
                    </a:lnTo>
                    <a:lnTo>
                      <a:pt x="5381" y="1601"/>
                    </a:lnTo>
                    <a:lnTo>
                      <a:pt x="5368" y="1596"/>
                    </a:lnTo>
                    <a:lnTo>
                      <a:pt x="5357" y="1591"/>
                    </a:lnTo>
                    <a:lnTo>
                      <a:pt x="5345" y="1586"/>
                    </a:lnTo>
                    <a:lnTo>
                      <a:pt x="5338" y="1584"/>
                    </a:lnTo>
                    <a:lnTo>
                      <a:pt x="5332" y="1582"/>
                    </a:lnTo>
                    <a:lnTo>
                      <a:pt x="5327" y="1578"/>
                    </a:lnTo>
                    <a:lnTo>
                      <a:pt x="5322" y="1574"/>
                    </a:lnTo>
                    <a:lnTo>
                      <a:pt x="5319" y="1573"/>
                    </a:lnTo>
                    <a:lnTo>
                      <a:pt x="5316" y="1571"/>
                    </a:lnTo>
                    <a:lnTo>
                      <a:pt x="5315" y="1571"/>
                    </a:lnTo>
                    <a:lnTo>
                      <a:pt x="5314" y="1571"/>
                    </a:lnTo>
                    <a:lnTo>
                      <a:pt x="5315" y="1577"/>
                    </a:lnTo>
                    <a:lnTo>
                      <a:pt x="5316" y="1584"/>
                    </a:lnTo>
                    <a:lnTo>
                      <a:pt x="5316" y="1598"/>
                    </a:lnTo>
                    <a:lnTo>
                      <a:pt x="5316" y="1611"/>
                    </a:lnTo>
                    <a:lnTo>
                      <a:pt x="5315" y="1622"/>
                    </a:lnTo>
                    <a:lnTo>
                      <a:pt x="5314" y="1633"/>
                    </a:lnTo>
                    <a:lnTo>
                      <a:pt x="5313" y="1644"/>
                    </a:lnTo>
                    <a:lnTo>
                      <a:pt x="5312" y="1655"/>
                    </a:lnTo>
                    <a:lnTo>
                      <a:pt x="5309" y="1666"/>
                    </a:lnTo>
                    <a:lnTo>
                      <a:pt x="5305" y="1678"/>
                    </a:lnTo>
                    <a:lnTo>
                      <a:pt x="5302" y="1689"/>
                    </a:lnTo>
                    <a:lnTo>
                      <a:pt x="5298" y="1699"/>
                    </a:lnTo>
                    <a:lnTo>
                      <a:pt x="5292" y="1711"/>
                    </a:lnTo>
                    <a:lnTo>
                      <a:pt x="5286" y="1723"/>
                    </a:lnTo>
                    <a:lnTo>
                      <a:pt x="5280" y="1735"/>
                    </a:lnTo>
                    <a:lnTo>
                      <a:pt x="5275" y="1746"/>
                    </a:lnTo>
                    <a:lnTo>
                      <a:pt x="5264" y="1756"/>
                    </a:lnTo>
                    <a:lnTo>
                      <a:pt x="5252" y="1765"/>
                    </a:lnTo>
                    <a:lnTo>
                      <a:pt x="5241" y="1773"/>
                    </a:lnTo>
                    <a:lnTo>
                      <a:pt x="5231" y="1783"/>
                    </a:lnTo>
                    <a:lnTo>
                      <a:pt x="5215" y="1789"/>
                    </a:lnTo>
                    <a:lnTo>
                      <a:pt x="5198" y="1794"/>
                    </a:lnTo>
                    <a:lnTo>
                      <a:pt x="5183" y="1799"/>
                    </a:lnTo>
                    <a:lnTo>
                      <a:pt x="5168" y="1804"/>
                    </a:lnTo>
                    <a:lnTo>
                      <a:pt x="5145" y="1805"/>
                    </a:lnTo>
                    <a:lnTo>
                      <a:pt x="5124" y="1805"/>
                    </a:lnTo>
                    <a:lnTo>
                      <a:pt x="5101" y="1805"/>
                    </a:lnTo>
                    <a:lnTo>
                      <a:pt x="5080" y="1805"/>
                    </a:lnTo>
                    <a:lnTo>
                      <a:pt x="5067" y="1803"/>
                    </a:lnTo>
                    <a:lnTo>
                      <a:pt x="5053" y="1801"/>
                    </a:lnTo>
                    <a:lnTo>
                      <a:pt x="5039" y="1799"/>
                    </a:lnTo>
                    <a:lnTo>
                      <a:pt x="5026" y="1797"/>
                    </a:lnTo>
                    <a:lnTo>
                      <a:pt x="5016" y="1794"/>
                    </a:lnTo>
                    <a:lnTo>
                      <a:pt x="5004" y="1791"/>
                    </a:lnTo>
                    <a:lnTo>
                      <a:pt x="4993" y="1788"/>
                    </a:lnTo>
                    <a:lnTo>
                      <a:pt x="4982" y="1785"/>
                    </a:lnTo>
                    <a:lnTo>
                      <a:pt x="4974" y="1782"/>
                    </a:lnTo>
                    <a:lnTo>
                      <a:pt x="4965" y="1778"/>
                    </a:lnTo>
                    <a:lnTo>
                      <a:pt x="4957" y="1775"/>
                    </a:lnTo>
                    <a:lnTo>
                      <a:pt x="4949" y="1770"/>
                    </a:lnTo>
                    <a:lnTo>
                      <a:pt x="4937" y="1763"/>
                    </a:lnTo>
                    <a:lnTo>
                      <a:pt x="4926" y="1755"/>
                    </a:lnTo>
                    <a:lnTo>
                      <a:pt x="4916" y="1749"/>
                    </a:lnTo>
                    <a:lnTo>
                      <a:pt x="4907" y="1743"/>
                    </a:lnTo>
                    <a:lnTo>
                      <a:pt x="4901" y="1737"/>
                    </a:lnTo>
                    <a:lnTo>
                      <a:pt x="4896" y="1730"/>
                    </a:lnTo>
                    <a:lnTo>
                      <a:pt x="4892" y="1727"/>
                    </a:lnTo>
                    <a:lnTo>
                      <a:pt x="4890" y="1722"/>
                    </a:lnTo>
                    <a:lnTo>
                      <a:pt x="4888" y="1721"/>
                    </a:lnTo>
                    <a:lnTo>
                      <a:pt x="4888" y="1720"/>
                    </a:lnTo>
                    <a:lnTo>
                      <a:pt x="4888" y="1722"/>
                    </a:lnTo>
                    <a:lnTo>
                      <a:pt x="4888" y="1723"/>
                    </a:lnTo>
                    <a:lnTo>
                      <a:pt x="4887" y="1729"/>
                    </a:lnTo>
                    <a:lnTo>
                      <a:pt x="4886" y="1732"/>
                    </a:lnTo>
                    <a:lnTo>
                      <a:pt x="4884" y="1739"/>
                    </a:lnTo>
                    <a:lnTo>
                      <a:pt x="4882" y="1745"/>
                    </a:lnTo>
                    <a:lnTo>
                      <a:pt x="4879" y="1754"/>
                    </a:lnTo>
                    <a:lnTo>
                      <a:pt x="4876" y="1763"/>
                    </a:lnTo>
                    <a:lnTo>
                      <a:pt x="4872" y="1773"/>
                    </a:lnTo>
                    <a:lnTo>
                      <a:pt x="4867" y="1784"/>
                    </a:lnTo>
                    <a:lnTo>
                      <a:pt x="4861" y="1794"/>
                    </a:lnTo>
                    <a:lnTo>
                      <a:pt x="4856" y="1805"/>
                    </a:lnTo>
                    <a:lnTo>
                      <a:pt x="4849" y="1817"/>
                    </a:lnTo>
                    <a:lnTo>
                      <a:pt x="4842" y="1830"/>
                    </a:lnTo>
                    <a:lnTo>
                      <a:pt x="4834" y="1841"/>
                    </a:lnTo>
                    <a:lnTo>
                      <a:pt x="4826" y="1852"/>
                    </a:lnTo>
                    <a:lnTo>
                      <a:pt x="4814" y="1863"/>
                    </a:lnTo>
                    <a:lnTo>
                      <a:pt x="4804" y="1875"/>
                    </a:lnTo>
                    <a:lnTo>
                      <a:pt x="4791" y="1886"/>
                    </a:lnTo>
                    <a:lnTo>
                      <a:pt x="4778" y="1897"/>
                    </a:lnTo>
                    <a:lnTo>
                      <a:pt x="4763" y="1906"/>
                    </a:lnTo>
                    <a:lnTo>
                      <a:pt x="4748" y="1916"/>
                    </a:lnTo>
                    <a:lnTo>
                      <a:pt x="4740" y="1921"/>
                    </a:lnTo>
                    <a:lnTo>
                      <a:pt x="4731" y="1924"/>
                    </a:lnTo>
                    <a:lnTo>
                      <a:pt x="4723" y="1928"/>
                    </a:lnTo>
                    <a:lnTo>
                      <a:pt x="4714" y="1932"/>
                    </a:lnTo>
                    <a:lnTo>
                      <a:pt x="4704" y="1935"/>
                    </a:lnTo>
                    <a:lnTo>
                      <a:pt x="4695" y="1937"/>
                    </a:lnTo>
                    <a:lnTo>
                      <a:pt x="4685" y="1940"/>
                    </a:lnTo>
                    <a:lnTo>
                      <a:pt x="4675" y="1942"/>
                    </a:lnTo>
                    <a:lnTo>
                      <a:pt x="4663" y="1944"/>
                    </a:lnTo>
                    <a:lnTo>
                      <a:pt x="4652" y="1946"/>
                    </a:lnTo>
                    <a:lnTo>
                      <a:pt x="4641" y="1947"/>
                    </a:lnTo>
                    <a:lnTo>
                      <a:pt x="4630" y="1948"/>
                    </a:lnTo>
                    <a:lnTo>
                      <a:pt x="4616" y="1948"/>
                    </a:lnTo>
                    <a:lnTo>
                      <a:pt x="4603" y="1948"/>
                    </a:lnTo>
                    <a:lnTo>
                      <a:pt x="4591" y="1948"/>
                    </a:lnTo>
                    <a:lnTo>
                      <a:pt x="4578" y="1948"/>
                    </a:lnTo>
                    <a:lnTo>
                      <a:pt x="4563" y="1946"/>
                    </a:lnTo>
                    <a:lnTo>
                      <a:pt x="4549" y="1944"/>
                    </a:lnTo>
                    <a:lnTo>
                      <a:pt x="4535" y="1942"/>
                    </a:lnTo>
                    <a:lnTo>
                      <a:pt x="4520" y="1940"/>
                    </a:lnTo>
                    <a:lnTo>
                      <a:pt x="4509" y="1938"/>
                    </a:lnTo>
                    <a:lnTo>
                      <a:pt x="4498" y="1935"/>
                    </a:lnTo>
                    <a:lnTo>
                      <a:pt x="4488" y="1933"/>
                    </a:lnTo>
                    <a:lnTo>
                      <a:pt x="4476" y="1930"/>
                    </a:lnTo>
                    <a:lnTo>
                      <a:pt x="4466" y="1927"/>
                    </a:lnTo>
                    <a:lnTo>
                      <a:pt x="4456" y="1924"/>
                    </a:lnTo>
                    <a:lnTo>
                      <a:pt x="4445" y="1921"/>
                    </a:lnTo>
                    <a:lnTo>
                      <a:pt x="4435" y="1917"/>
                    </a:lnTo>
                    <a:lnTo>
                      <a:pt x="4425" y="1914"/>
                    </a:lnTo>
                    <a:lnTo>
                      <a:pt x="4416" y="1911"/>
                    </a:lnTo>
                    <a:lnTo>
                      <a:pt x="4406" y="1908"/>
                    </a:lnTo>
                    <a:lnTo>
                      <a:pt x="4397" y="1905"/>
                    </a:lnTo>
                    <a:lnTo>
                      <a:pt x="4388" y="1901"/>
                    </a:lnTo>
                    <a:lnTo>
                      <a:pt x="4378" y="1897"/>
                    </a:lnTo>
                    <a:lnTo>
                      <a:pt x="4370" y="1893"/>
                    </a:lnTo>
                    <a:lnTo>
                      <a:pt x="4361" y="1888"/>
                    </a:lnTo>
                    <a:lnTo>
                      <a:pt x="4353" y="1885"/>
                    </a:lnTo>
                    <a:lnTo>
                      <a:pt x="4345" y="1881"/>
                    </a:lnTo>
                    <a:lnTo>
                      <a:pt x="4336" y="1877"/>
                    </a:lnTo>
                    <a:lnTo>
                      <a:pt x="4327" y="1873"/>
                    </a:lnTo>
                    <a:lnTo>
                      <a:pt x="4313" y="1864"/>
                    </a:lnTo>
                    <a:lnTo>
                      <a:pt x="4298" y="1855"/>
                    </a:lnTo>
                    <a:lnTo>
                      <a:pt x="4285" y="1847"/>
                    </a:lnTo>
                    <a:lnTo>
                      <a:pt x="4271" y="1838"/>
                    </a:lnTo>
                    <a:lnTo>
                      <a:pt x="4259" y="1830"/>
                    </a:lnTo>
                    <a:lnTo>
                      <a:pt x="4248" y="1821"/>
                    </a:lnTo>
                    <a:lnTo>
                      <a:pt x="4237" y="1813"/>
                    </a:lnTo>
                    <a:lnTo>
                      <a:pt x="4225" y="1804"/>
                    </a:lnTo>
                    <a:lnTo>
                      <a:pt x="4217" y="1797"/>
                    </a:lnTo>
                    <a:lnTo>
                      <a:pt x="4208" y="1788"/>
                    </a:lnTo>
                    <a:lnTo>
                      <a:pt x="4200" y="1782"/>
                    </a:lnTo>
                    <a:lnTo>
                      <a:pt x="4192" y="1773"/>
                    </a:lnTo>
                    <a:lnTo>
                      <a:pt x="4185" y="1767"/>
                    </a:lnTo>
                    <a:lnTo>
                      <a:pt x="4179" y="1761"/>
                    </a:lnTo>
                    <a:lnTo>
                      <a:pt x="4173" y="1756"/>
                    </a:lnTo>
                    <a:lnTo>
                      <a:pt x="4169" y="1750"/>
                    </a:lnTo>
                    <a:lnTo>
                      <a:pt x="4166" y="1747"/>
                    </a:lnTo>
                    <a:lnTo>
                      <a:pt x="4163" y="1743"/>
                    </a:lnTo>
                    <a:lnTo>
                      <a:pt x="4161" y="1741"/>
                    </a:lnTo>
                    <a:lnTo>
                      <a:pt x="4159" y="1739"/>
                    </a:lnTo>
                    <a:lnTo>
                      <a:pt x="4158" y="1737"/>
                    </a:lnTo>
                    <a:lnTo>
                      <a:pt x="4157" y="1736"/>
                    </a:lnTo>
                    <a:lnTo>
                      <a:pt x="4157" y="1738"/>
                    </a:lnTo>
                    <a:lnTo>
                      <a:pt x="4157" y="1740"/>
                    </a:lnTo>
                    <a:lnTo>
                      <a:pt x="4155" y="1743"/>
                    </a:lnTo>
                    <a:lnTo>
                      <a:pt x="4153" y="1747"/>
                    </a:lnTo>
                    <a:lnTo>
                      <a:pt x="4150" y="1753"/>
                    </a:lnTo>
                    <a:lnTo>
                      <a:pt x="4147" y="1759"/>
                    </a:lnTo>
                    <a:lnTo>
                      <a:pt x="4143" y="1768"/>
                    </a:lnTo>
                    <a:lnTo>
                      <a:pt x="4140" y="1778"/>
                    </a:lnTo>
                    <a:lnTo>
                      <a:pt x="4133" y="1788"/>
                    </a:lnTo>
                    <a:lnTo>
                      <a:pt x="4126" y="1797"/>
                    </a:lnTo>
                    <a:lnTo>
                      <a:pt x="4120" y="1807"/>
                    </a:lnTo>
                    <a:lnTo>
                      <a:pt x="4113" y="1817"/>
                    </a:lnTo>
                    <a:lnTo>
                      <a:pt x="4103" y="1829"/>
                    </a:lnTo>
                    <a:lnTo>
                      <a:pt x="4094" y="1839"/>
                    </a:lnTo>
                    <a:lnTo>
                      <a:pt x="4081" y="1851"/>
                    </a:lnTo>
                    <a:lnTo>
                      <a:pt x="4069" y="1862"/>
                    </a:lnTo>
                    <a:lnTo>
                      <a:pt x="4055" y="1873"/>
                    </a:lnTo>
                    <a:lnTo>
                      <a:pt x="4039" y="1883"/>
                    </a:lnTo>
                    <a:lnTo>
                      <a:pt x="4031" y="1888"/>
                    </a:lnTo>
                    <a:lnTo>
                      <a:pt x="4022" y="1892"/>
                    </a:lnTo>
                    <a:lnTo>
                      <a:pt x="4014" y="1897"/>
                    </a:lnTo>
                    <a:lnTo>
                      <a:pt x="4006" y="1901"/>
                    </a:lnTo>
                    <a:lnTo>
                      <a:pt x="3996" y="1905"/>
                    </a:lnTo>
                    <a:lnTo>
                      <a:pt x="3985" y="1908"/>
                    </a:lnTo>
                    <a:lnTo>
                      <a:pt x="3975" y="1912"/>
                    </a:lnTo>
                    <a:lnTo>
                      <a:pt x="3966" y="1915"/>
                    </a:lnTo>
                    <a:lnTo>
                      <a:pt x="3955" y="1918"/>
                    </a:lnTo>
                    <a:lnTo>
                      <a:pt x="3942" y="1922"/>
                    </a:lnTo>
                    <a:lnTo>
                      <a:pt x="3931" y="1925"/>
                    </a:lnTo>
                    <a:lnTo>
                      <a:pt x="3920" y="1927"/>
                    </a:lnTo>
                    <a:lnTo>
                      <a:pt x="3907" y="1929"/>
                    </a:lnTo>
                    <a:lnTo>
                      <a:pt x="3892" y="1931"/>
                    </a:lnTo>
                    <a:lnTo>
                      <a:pt x="3879" y="1933"/>
                    </a:lnTo>
                    <a:lnTo>
                      <a:pt x="3866" y="1935"/>
                    </a:lnTo>
                    <a:lnTo>
                      <a:pt x="3852" y="1935"/>
                    </a:lnTo>
                    <a:lnTo>
                      <a:pt x="3837" y="1934"/>
                    </a:lnTo>
                    <a:lnTo>
                      <a:pt x="3822" y="1934"/>
                    </a:lnTo>
                    <a:lnTo>
                      <a:pt x="3807" y="1934"/>
                    </a:lnTo>
                    <a:lnTo>
                      <a:pt x="3790" y="1932"/>
                    </a:lnTo>
                    <a:lnTo>
                      <a:pt x="3773" y="1931"/>
                    </a:lnTo>
                    <a:lnTo>
                      <a:pt x="3757" y="1929"/>
                    </a:lnTo>
                    <a:lnTo>
                      <a:pt x="3739" y="1927"/>
                    </a:lnTo>
                    <a:lnTo>
                      <a:pt x="3721" y="1923"/>
                    </a:lnTo>
                    <a:lnTo>
                      <a:pt x="3702" y="1919"/>
                    </a:lnTo>
                    <a:lnTo>
                      <a:pt x="3682" y="1916"/>
                    </a:lnTo>
                    <a:lnTo>
                      <a:pt x="3664" y="1912"/>
                    </a:lnTo>
                    <a:lnTo>
                      <a:pt x="3644" y="1908"/>
                    </a:lnTo>
                    <a:lnTo>
                      <a:pt x="3626" y="1904"/>
                    </a:lnTo>
                    <a:lnTo>
                      <a:pt x="3607" y="1899"/>
                    </a:lnTo>
                    <a:lnTo>
                      <a:pt x="3588" y="1895"/>
                    </a:lnTo>
                    <a:lnTo>
                      <a:pt x="3571" y="1890"/>
                    </a:lnTo>
                    <a:lnTo>
                      <a:pt x="3552" y="1885"/>
                    </a:lnTo>
                    <a:lnTo>
                      <a:pt x="3535" y="1879"/>
                    </a:lnTo>
                    <a:lnTo>
                      <a:pt x="3519" y="1874"/>
                    </a:lnTo>
                    <a:lnTo>
                      <a:pt x="3501" y="1869"/>
                    </a:lnTo>
                    <a:lnTo>
                      <a:pt x="3485" y="1865"/>
                    </a:lnTo>
                    <a:lnTo>
                      <a:pt x="3469" y="1861"/>
                    </a:lnTo>
                    <a:lnTo>
                      <a:pt x="3452" y="1857"/>
                    </a:lnTo>
                    <a:lnTo>
                      <a:pt x="3438" y="1852"/>
                    </a:lnTo>
                    <a:lnTo>
                      <a:pt x="3423" y="1846"/>
                    </a:lnTo>
                    <a:lnTo>
                      <a:pt x="3408" y="1841"/>
                    </a:lnTo>
                    <a:lnTo>
                      <a:pt x="3393" y="1836"/>
                    </a:lnTo>
                    <a:lnTo>
                      <a:pt x="3380" y="1832"/>
                    </a:lnTo>
                    <a:lnTo>
                      <a:pt x="3367" y="1827"/>
                    </a:lnTo>
                    <a:lnTo>
                      <a:pt x="3353" y="1822"/>
                    </a:lnTo>
                    <a:lnTo>
                      <a:pt x="3340" y="1817"/>
                    </a:lnTo>
                    <a:lnTo>
                      <a:pt x="3328" y="1813"/>
                    </a:lnTo>
                    <a:lnTo>
                      <a:pt x="3316" y="1809"/>
                    </a:lnTo>
                    <a:lnTo>
                      <a:pt x="3304" y="1805"/>
                    </a:lnTo>
                    <a:lnTo>
                      <a:pt x="3292" y="1800"/>
                    </a:lnTo>
                    <a:lnTo>
                      <a:pt x="3281" y="1796"/>
                    </a:lnTo>
                    <a:lnTo>
                      <a:pt x="3271" y="1792"/>
                    </a:lnTo>
                    <a:lnTo>
                      <a:pt x="3259" y="1788"/>
                    </a:lnTo>
                    <a:lnTo>
                      <a:pt x="3248" y="1784"/>
                    </a:lnTo>
                    <a:lnTo>
                      <a:pt x="3238" y="1780"/>
                    </a:lnTo>
                    <a:lnTo>
                      <a:pt x="3228" y="1776"/>
                    </a:lnTo>
                    <a:lnTo>
                      <a:pt x="3219" y="1770"/>
                    </a:lnTo>
                    <a:lnTo>
                      <a:pt x="3208" y="1766"/>
                    </a:lnTo>
                    <a:lnTo>
                      <a:pt x="3200" y="1763"/>
                    </a:lnTo>
                    <a:lnTo>
                      <a:pt x="3191" y="1759"/>
                    </a:lnTo>
                    <a:lnTo>
                      <a:pt x="3183" y="1756"/>
                    </a:lnTo>
                    <a:lnTo>
                      <a:pt x="3175" y="1752"/>
                    </a:lnTo>
                    <a:lnTo>
                      <a:pt x="3160" y="1746"/>
                    </a:lnTo>
                    <a:lnTo>
                      <a:pt x="3147" y="1740"/>
                    </a:lnTo>
                    <a:lnTo>
                      <a:pt x="3135" y="1734"/>
                    </a:lnTo>
                    <a:lnTo>
                      <a:pt x="3123" y="1729"/>
                    </a:lnTo>
                    <a:lnTo>
                      <a:pt x="3112" y="1723"/>
                    </a:lnTo>
                    <a:lnTo>
                      <a:pt x="3103" y="1717"/>
                    </a:lnTo>
                    <a:lnTo>
                      <a:pt x="3096" y="1713"/>
                    </a:lnTo>
                    <a:lnTo>
                      <a:pt x="3089" y="1708"/>
                    </a:lnTo>
                    <a:lnTo>
                      <a:pt x="3083" y="1706"/>
                    </a:lnTo>
                    <a:lnTo>
                      <a:pt x="3078" y="1703"/>
                    </a:lnTo>
                    <a:lnTo>
                      <a:pt x="3074" y="1701"/>
                    </a:lnTo>
                    <a:lnTo>
                      <a:pt x="3071" y="1698"/>
                    </a:lnTo>
                    <a:lnTo>
                      <a:pt x="3071" y="1698"/>
                    </a:lnTo>
                    <a:lnTo>
                      <a:pt x="3070" y="1698"/>
                    </a:lnTo>
                    <a:lnTo>
                      <a:pt x="3035" y="1690"/>
                    </a:lnTo>
                    <a:lnTo>
                      <a:pt x="3001" y="1682"/>
                    </a:lnTo>
                    <a:lnTo>
                      <a:pt x="2966" y="1673"/>
                    </a:lnTo>
                    <a:lnTo>
                      <a:pt x="2933" y="1665"/>
                    </a:lnTo>
                    <a:lnTo>
                      <a:pt x="2898" y="1657"/>
                    </a:lnTo>
                    <a:lnTo>
                      <a:pt x="2864" y="1649"/>
                    </a:lnTo>
                    <a:lnTo>
                      <a:pt x="2831" y="1641"/>
                    </a:lnTo>
                    <a:lnTo>
                      <a:pt x="2796" y="1633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55280" y="4367520"/>
                <a:ext cx="68040" cy="78840"/>
              </a:xfrm>
              <a:custGeom>
                <a:avLst/>
                <a:gdLst/>
                <a:ahLst/>
                <a:rect l="l" t="t" r="r" b="b"/>
                <a:pathLst>
                  <a:path w="1344" h="1480">
                    <a:moveTo>
                      <a:pt x="1344" y="1480"/>
                    </a:moveTo>
                    <a:lnTo>
                      <a:pt x="1335" y="1478"/>
                    </a:lnTo>
                    <a:lnTo>
                      <a:pt x="1327" y="1475"/>
                    </a:lnTo>
                    <a:lnTo>
                      <a:pt x="1317" y="1471"/>
                    </a:lnTo>
                    <a:lnTo>
                      <a:pt x="1306" y="1468"/>
                    </a:lnTo>
                    <a:lnTo>
                      <a:pt x="1296" y="1466"/>
                    </a:lnTo>
                    <a:lnTo>
                      <a:pt x="1287" y="1463"/>
                    </a:lnTo>
                    <a:lnTo>
                      <a:pt x="1277" y="1460"/>
                    </a:lnTo>
                    <a:lnTo>
                      <a:pt x="1267" y="1457"/>
                    </a:lnTo>
                    <a:lnTo>
                      <a:pt x="1256" y="1453"/>
                    </a:lnTo>
                    <a:lnTo>
                      <a:pt x="1247" y="1449"/>
                    </a:lnTo>
                    <a:lnTo>
                      <a:pt x="1236" y="1446"/>
                    </a:lnTo>
                    <a:lnTo>
                      <a:pt x="1225" y="1442"/>
                    </a:lnTo>
                    <a:lnTo>
                      <a:pt x="1215" y="1440"/>
                    </a:lnTo>
                    <a:lnTo>
                      <a:pt x="1205" y="1438"/>
                    </a:lnTo>
                    <a:lnTo>
                      <a:pt x="1194" y="1434"/>
                    </a:lnTo>
                    <a:lnTo>
                      <a:pt x="1183" y="1430"/>
                    </a:lnTo>
                    <a:lnTo>
                      <a:pt x="1156" y="1422"/>
                    </a:lnTo>
                    <a:lnTo>
                      <a:pt x="1130" y="1414"/>
                    </a:lnTo>
                    <a:lnTo>
                      <a:pt x="1102" y="1405"/>
                    </a:lnTo>
                    <a:lnTo>
                      <a:pt x="1076" y="1395"/>
                    </a:lnTo>
                    <a:lnTo>
                      <a:pt x="1049" y="1384"/>
                    </a:lnTo>
                    <a:lnTo>
                      <a:pt x="1022" y="1374"/>
                    </a:lnTo>
                    <a:lnTo>
                      <a:pt x="995" y="1363"/>
                    </a:lnTo>
                    <a:lnTo>
                      <a:pt x="969" y="1351"/>
                    </a:lnTo>
                    <a:lnTo>
                      <a:pt x="941" y="1339"/>
                    </a:lnTo>
                    <a:lnTo>
                      <a:pt x="914" y="1326"/>
                    </a:lnTo>
                    <a:lnTo>
                      <a:pt x="888" y="1313"/>
                    </a:lnTo>
                    <a:lnTo>
                      <a:pt x="861" y="1300"/>
                    </a:lnTo>
                    <a:lnTo>
                      <a:pt x="835" y="1287"/>
                    </a:lnTo>
                    <a:lnTo>
                      <a:pt x="809" y="1273"/>
                    </a:lnTo>
                    <a:lnTo>
                      <a:pt x="784" y="1260"/>
                    </a:lnTo>
                    <a:lnTo>
                      <a:pt x="757" y="1245"/>
                    </a:lnTo>
                    <a:lnTo>
                      <a:pt x="732" y="1230"/>
                    </a:lnTo>
                    <a:lnTo>
                      <a:pt x="706" y="1215"/>
                    </a:lnTo>
                    <a:lnTo>
                      <a:pt x="682" y="1199"/>
                    </a:lnTo>
                    <a:lnTo>
                      <a:pt x="656" y="1184"/>
                    </a:lnTo>
                    <a:lnTo>
                      <a:pt x="631" y="1168"/>
                    </a:lnTo>
                    <a:lnTo>
                      <a:pt x="605" y="1150"/>
                    </a:lnTo>
                    <a:lnTo>
                      <a:pt x="581" y="1134"/>
                    </a:lnTo>
                    <a:lnTo>
                      <a:pt x="556" y="1118"/>
                    </a:lnTo>
                    <a:lnTo>
                      <a:pt x="533" y="1101"/>
                    </a:lnTo>
                    <a:lnTo>
                      <a:pt x="510" y="1085"/>
                    </a:lnTo>
                    <a:lnTo>
                      <a:pt x="487" y="1068"/>
                    </a:lnTo>
                    <a:lnTo>
                      <a:pt x="464" y="1050"/>
                    </a:lnTo>
                    <a:lnTo>
                      <a:pt x="442" y="1033"/>
                    </a:lnTo>
                    <a:lnTo>
                      <a:pt x="420" y="1015"/>
                    </a:lnTo>
                    <a:lnTo>
                      <a:pt x="399" y="996"/>
                    </a:lnTo>
                    <a:lnTo>
                      <a:pt x="376" y="978"/>
                    </a:lnTo>
                    <a:lnTo>
                      <a:pt x="357" y="959"/>
                    </a:lnTo>
                    <a:lnTo>
                      <a:pt x="337" y="940"/>
                    </a:lnTo>
                    <a:lnTo>
                      <a:pt x="317" y="922"/>
                    </a:lnTo>
                    <a:lnTo>
                      <a:pt x="297" y="902"/>
                    </a:lnTo>
                    <a:lnTo>
                      <a:pt x="278" y="883"/>
                    </a:lnTo>
                    <a:lnTo>
                      <a:pt x="260" y="863"/>
                    </a:lnTo>
                    <a:lnTo>
                      <a:pt x="242" y="844"/>
                    </a:lnTo>
                    <a:lnTo>
                      <a:pt x="223" y="825"/>
                    </a:lnTo>
                    <a:lnTo>
                      <a:pt x="207" y="805"/>
                    </a:lnTo>
                    <a:lnTo>
                      <a:pt x="191" y="786"/>
                    </a:lnTo>
                    <a:lnTo>
                      <a:pt x="175" y="766"/>
                    </a:lnTo>
                    <a:lnTo>
                      <a:pt x="159" y="747"/>
                    </a:lnTo>
                    <a:lnTo>
                      <a:pt x="145" y="728"/>
                    </a:lnTo>
                    <a:lnTo>
                      <a:pt x="131" y="708"/>
                    </a:lnTo>
                    <a:lnTo>
                      <a:pt x="117" y="688"/>
                    </a:lnTo>
                    <a:lnTo>
                      <a:pt x="104" y="667"/>
                    </a:lnTo>
                    <a:lnTo>
                      <a:pt x="93" y="648"/>
                    </a:lnTo>
                    <a:lnTo>
                      <a:pt x="81" y="629"/>
                    </a:lnTo>
                    <a:lnTo>
                      <a:pt x="70" y="608"/>
                    </a:lnTo>
                    <a:lnTo>
                      <a:pt x="60" y="589"/>
                    </a:lnTo>
                    <a:lnTo>
                      <a:pt x="52" y="569"/>
                    </a:lnTo>
                    <a:lnTo>
                      <a:pt x="44" y="550"/>
                    </a:lnTo>
                    <a:lnTo>
                      <a:pt x="35" y="531"/>
                    </a:lnTo>
                    <a:lnTo>
                      <a:pt x="28" y="510"/>
                    </a:lnTo>
                    <a:lnTo>
                      <a:pt x="22" y="491"/>
                    </a:lnTo>
                    <a:lnTo>
                      <a:pt x="18" y="472"/>
                    </a:lnTo>
                    <a:lnTo>
                      <a:pt x="13" y="453"/>
                    </a:lnTo>
                    <a:lnTo>
                      <a:pt x="8" y="434"/>
                    </a:lnTo>
                    <a:lnTo>
                      <a:pt x="6" y="415"/>
                    </a:lnTo>
                    <a:lnTo>
                      <a:pt x="4" y="396"/>
                    </a:lnTo>
                    <a:lnTo>
                      <a:pt x="2" y="377"/>
                    </a:lnTo>
                    <a:lnTo>
                      <a:pt x="0" y="359"/>
                    </a:lnTo>
                    <a:lnTo>
                      <a:pt x="1" y="338"/>
                    </a:lnTo>
                    <a:lnTo>
                      <a:pt x="3" y="315"/>
                    </a:lnTo>
                    <a:lnTo>
                      <a:pt x="5" y="294"/>
                    </a:lnTo>
                    <a:lnTo>
                      <a:pt x="6" y="271"/>
                    </a:lnTo>
                    <a:lnTo>
                      <a:pt x="11" y="254"/>
                    </a:lnTo>
                    <a:lnTo>
                      <a:pt x="16" y="236"/>
                    </a:lnTo>
                    <a:lnTo>
                      <a:pt x="21" y="218"/>
                    </a:lnTo>
                    <a:lnTo>
                      <a:pt x="26" y="200"/>
                    </a:lnTo>
                    <a:lnTo>
                      <a:pt x="34" y="186"/>
                    </a:lnTo>
                    <a:lnTo>
                      <a:pt x="41" y="171"/>
                    </a:lnTo>
                    <a:lnTo>
                      <a:pt x="50" y="156"/>
                    </a:lnTo>
                    <a:lnTo>
                      <a:pt x="58" y="142"/>
                    </a:lnTo>
                    <a:lnTo>
                      <a:pt x="67" y="129"/>
                    </a:lnTo>
                    <a:lnTo>
                      <a:pt x="77" y="118"/>
                    </a:lnTo>
                    <a:lnTo>
                      <a:pt x="87" y="106"/>
                    </a:lnTo>
                    <a:lnTo>
                      <a:pt x="98" y="94"/>
                    </a:lnTo>
                    <a:lnTo>
                      <a:pt x="110" y="85"/>
                    </a:lnTo>
                    <a:lnTo>
                      <a:pt x="122" y="76"/>
                    </a:lnTo>
                    <a:lnTo>
                      <a:pt x="134" y="67"/>
                    </a:lnTo>
                    <a:lnTo>
                      <a:pt x="148" y="58"/>
                    </a:lnTo>
                    <a:lnTo>
                      <a:pt x="161" y="51"/>
                    </a:lnTo>
                    <a:lnTo>
                      <a:pt x="175" y="45"/>
                    </a:lnTo>
                    <a:lnTo>
                      <a:pt x="190" y="37"/>
                    </a:lnTo>
                    <a:lnTo>
                      <a:pt x="204" y="31"/>
                    </a:lnTo>
                    <a:lnTo>
                      <a:pt x="218" y="26"/>
                    </a:lnTo>
                    <a:lnTo>
                      <a:pt x="233" y="22"/>
                    </a:lnTo>
                    <a:lnTo>
                      <a:pt x="248" y="18"/>
                    </a:lnTo>
                    <a:lnTo>
                      <a:pt x="263" y="13"/>
                    </a:lnTo>
                    <a:lnTo>
                      <a:pt x="279" y="11"/>
                    </a:lnTo>
                    <a:lnTo>
                      <a:pt x="296" y="8"/>
                    </a:lnTo>
                    <a:lnTo>
                      <a:pt x="312" y="6"/>
                    </a:lnTo>
                    <a:lnTo>
                      <a:pt x="328" y="4"/>
                    </a:lnTo>
                    <a:lnTo>
                      <a:pt x="345" y="3"/>
                    </a:lnTo>
                    <a:lnTo>
                      <a:pt x="361" y="2"/>
                    </a:lnTo>
                    <a:lnTo>
                      <a:pt x="377" y="1"/>
                    </a:lnTo>
                    <a:lnTo>
                      <a:pt x="395" y="0"/>
                    </a:lnTo>
                    <a:lnTo>
                      <a:pt x="411" y="0"/>
                    </a:lnTo>
                    <a:lnTo>
                      <a:pt x="428" y="1"/>
                    </a:lnTo>
                    <a:lnTo>
                      <a:pt x="445" y="1"/>
                    </a:lnTo>
                    <a:lnTo>
                      <a:pt x="462" y="1"/>
                    </a:lnTo>
                    <a:lnTo>
                      <a:pt x="479" y="3"/>
                    </a:lnTo>
                    <a:lnTo>
                      <a:pt x="496" y="5"/>
                    </a:lnTo>
                    <a:lnTo>
                      <a:pt x="513" y="6"/>
                    </a:lnTo>
                    <a:lnTo>
                      <a:pt x="531" y="8"/>
                    </a:lnTo>
                    <a:lnTo>
                      <a:pt x="546" y="10"/>
                    </a:lnTo>
                    <a:lnTo>
                      <a:pt x="562" y="12"/>
                    </a:lnTo>
                    <a:lnTo>
                      <a:pt x="579" y="15"/>
                    </a:lnTo>
                    <a:lnTo>
                      <a:pt x="594" y="17"/>
                    </a:lnTo>
                    <a:lnTo>
                      <a:pt x="609" y="19"/>
                    </a:lnTo>
                    <a:lnTo>
                      <a:pt x="623" y="21"/>
                    </a:lnTo>
                    <a:lnTo>
                      <a:pt x="639" y="24"/>
                    </a:lnTo>
                    <a:lnTo>
                      <a:pt x="654" y="26"/>
                    </a:lnTo>
                    <a:lnTo>
                      <a:pt x="667" y="29"/>
                    </a:lnTo>
                    <a:lnTo>
                      <a:pt x="682" y="32"/>
                    </a:lnTo>
                    <a:lnTo>
                      <a:pt x="695" y="35"/>
                    </a:lnTo>
                    <a:lnTo>
                      <a:pt x="709" y="37"/>
                    </a:lnTo>
                    <a:lnTo>
                      <a:pt x="721" y="41"/>
                    </a:lnTo>
                    <a:lnTo>
                      <a:pt x="733" y="44"/>
                    </a:lnTo>
                    <a:lnTo>
                      <a:pt x="745" y="47"/>
                    </a:lnTo>
                    <a:lnTo>
                      <a:pt x="757" y="50"/>
                    </a:lnTo>
                    <a:lnTo>
                      <a:pt x="767" y="52"/>
                    </a:lnTo>
                    <a:lnTo>
                      <a:pt x="777" y="54"/>
                    </a:lnTo>
                    <a:lnTo>
                      <a:pt x="787" y="56"/>
                    </a:lnTo>
                    <a:lnTo>
                      <a:pt x="797" y="59"/>
                    </a:lnTo>
                    <a:lnTo>
                      <a:pt x="810" y="62"/>
                    </a:lnTo>
                    <a:lnTo>
                      <a:pt x="824" y="66"/>
                    </a:lnTo>
                    <a:lnTo>
                      <a:pt x="838" y="69"/>
                    </a:lnTo>
                    <a:lnTo>
                      <a:pt x="851" y="73"/>
                    </a:lnTo>
                    <a:lnTo>
                      <a:pt x="863" y="78"/>
                    </a:lnTo>
                    <a:lnTo>
                      <a:pt x="876" y="84"/>
                    </a:lnTo>
                    <a:lnTo>
                      <a:pt x="888" y="90"/>
                    </a:lnTo>
                    <a:lnTo>
                      <a:pt x="901" y="96"/>
                    </a:lnTo>
                    <a:lnTo>
                      <a:pt x="912" y="102"/>
                    </a:lnTo>
                    <a:lnTo>
                      <a:pt x="924" y="108"/>
                    </a:lnTo>
                    <a:lnTo>
                      <a:pt x="935" y="114"/>
                    </a:lnTo>
                    <a:lnTo>
                      <a:pt x="946" y="120"/>
                    </a:lnTo>
                    <a:lnTo>
                      <a:pt x="956" y="127"/>
                    </a:lnTo>
                    <a:lnTo>
                      <a:pt x="966" y="133"/>
                    </a:lnTo>
                    <a:lnTo>
                      <a:pt x="977" y="141"/>
                    </a:lnTo>
                    <a:lnTo>
                      <a:pt x="986" y="148"/>
                    </a:lnTo>
                    <a:lnTo>
                      <a:pt x="996" y="155"/>
                    </a:lnTo>
                    <a:lnTo>
                      <a:pt x="1005" y="162"/>
                    </a:lnTo>
                    <a:lnTo>
                      <a:pt x="1014" y="169"/>
                    </a:lnTo>
                    <a:lnTo>
                      <a:pt x="1025" y="176"/>
                    </a:lnTo>
                    <a:lnTo>
                      <a:pt x="1033" y="186"/>
                    </a:lnTo>
                    <a:lnTo>
                      <a:pt x="1041" y="194"/>
                    </a:lnTo>
                    <a:lnTo>
                      <a:pt x="1049" y="203"/>
                    </a:lnTo>
                    <a:lnTo>
                      <a:pt x="1057" y="211"/>
                    </a:lnTo>
                    <a:lnTo>
                      <a:pt x="1066" y="219"/>
                    </a:lnTo>
                    <a:lnTo>
                      <a:pt x="1073" y="228"/>
                    </a:lnTo>
                    <a:lnTo>
                      <a:pt x="1080" y="238"/>
                    </a:lnTo>
                    <a:lnTo>
                      <a:pt x="1088" y="246"/>
                    </a:lnTo>
                    <a:lnTo>
                      <a:pt x="1094" y="255"/>
                    </a:lnTo>
                    <a:lnTo>
                      <a:pt x="1100" y="264"/>
                    </a:lnTo>
                    <a:lnTo>
                      <a:pt x="1106" y="273"/>
                    </a:lnTo>
                    <a:lnTo>
                      <a:pt x="1113" y="281"/>
                    </a:lnTo>
                    <a:lnTo>
                      <a:pt x="1119" y="292"/>
                    </a:lnTo>
                    <a:lnTo>
                      <a:pt x="1125" y="301"/>
                    </a:lnTo>
                    <a:lnTo>
                      <a:pt x="1130" y="310"/>
                    </a:lnTo>
                    <a:lnTo>
                      <a:pt x="1136" y="319"/>
                    </a:lnTo>
                    <a:lnTo>
                      <a:pt x="1140" y="328"/>
                    </a:lnTo>
                    <a:lnTo>
                      <a:pt x="1144" y="338"/>
                    </a:lnTo>
                    <a:lnTo>
                      <a:pt x="1149" y="347"/>
                    </a:lnTo>
                    <a:lnTo>
                      <a:pt x="1153" y="356"/>
                    </a:lnTo>
                    <a:lnTo>
                      <a:pt x="1156" y="365"/>
                    </a:lnTo>
                    <a:lnTo>
                      <a:pt x="1160" y="374"/>
                    </a:lnTo>
                    <a:lnTo>
                      <a:pt x="1164" y="384"/>
                    </a:lnTo>
                    <a:lnTo>
                      <a:pt x="1168" y="393"/>
                    </a:lnTo>
                    <a:lnTo>
                      <a:pt x="1171" y="403"/>
                    </a:lnTo>
                    <a:lnTo>
                      <a:pt x="1174" y="412"/>
                    </a:lnTo>
                    <a:lnTo>
                      <a:pt x="1177" y="421"/>
                    </a:lnTo>
                    <a:lnTo>
                      <a:pt x="1180" y="431"/>
                    </a:lnTo>
                    <a:lnTo>
                      <a:pt x="1182" y="439"/>
                    </a:lnTo>
                    <a:lnTo>
                      <a:pt x="1184" y="448"/>
                    </a:lnTo>
                    <a:lnTo>
                      <a:pt x="1187" y="456"/>
                    </a:lnTo>
                    <a:lnTo>
                      <a:pt x="1189" y="465"/>
                    </a:lnTo>
                    <a:lnTo>
                      <a:pt x="1190" y="473"/>
                    </a:lnTo>
                    <a:lnTo>
                      <a:pt x="1191" y="482"/>
                    </a:lnTo>
                    <a:lnTo>
                      <a:pt x="1192" y="490"/>
                    </a:lnTo>
                    <a:lnTo>
                      <a:pt x="1193" y="498"/>
                    </a:lnTo>
                    <a:lnTo>
                      <a:pt x="1194" y="512"/>
                    </a:lnTo>
                    <a:lnTo>
                      <a:pt x="1195" y="527"/>
                    </a:lnTo>
                    <a:lnTo>
                      <a:pt x="1195" y="541"/>
                    </a:lnTo>
                    <a:lnTo>
                      <a:pt x="1195" y="555"/>
                    </a:lnTo>
                    <a:lnTo>
                      <a:pt x="1193" y="568"/>
                    </a:lnTo>
                    <a:lnTo>
                      <a:pt x="1191" y="583"/>
                    </a:lnTo>
                    <a:lnTo>
                      <a:pt x="1185" y="593"/>
                    </a:lnTo>
                    <a:lnTo>
                      <a:pt x="1180" y="603"/>
                    </a:lnTo>
                    <a:lnTo>
                      <a:pt x="1171" y="613"/>
                    </a:lnTo>
                    <a:lnTo>
                      <a:pt x="1161" y="622"/>
                    </a:lnTo>
                    <a:lnTo>
                      <a:pt x="1147" y="630"/>
                    </a:lnTo>
                    <a:lnTo>
                      <a:pt x="1133" y="637"/>
                    </a:lnTo>
                    <a:lnTo>
                      <a:pt x="1124" y="639"/>
                    </a:lnTo>
                    <a:lnTo>
                      <a:pt x="1115" y="641"/>
                    </a:lnTo>
                    <a:lnTo>
                      <a:pt x="1105" y="642"/>
                    </a:lnTo>
                    <a:lnTo>
                      <a:pt x="1096" y="644"/>
                    </a:lnTo>
                    <a:lnTo>
                      <a:pt x="1084" y="645"/>
                    </a:lnTo>
                    <a:lnTo>
                      <a:pt x="1072" y="646"/>
                    </a:lnTo>
                    <a:lnTo>
                      <a:pt x="1059" y="646"/>
                    </a:lnTo>
                    <a:lnTo>
                      <a:pt x="1048" y="647"/>
                    </a:lnTo>
                    <a:lnTo>
                      <a:pt x="1033" y="645"/>
                    </a:lnTo>
                    <a:lnTo>
                      <a:pt x="1018" y="644"/>
                    </a:lnTo>
                    <a:lnTo>
                      <a:pt x="1001" y="642"/>
                    </a:lnTo>
                    <a:lnTo>
                      <a:pt x="986" y="641"/>
                    </a:lnTo>
                    <a:lnTo>
                      <a:pt x="966" y="637"/>
                    </a:lnTo>
                    <a:lnTo>
                      <a:pt x="947" y="633"/>
                    </a:lnTo>
                    <a:lnTo>
                      <a:pt x="928" y="628"/>
                    </a:lnTo>
                    <a:lnTo>
                      <a:pt x="908" y="624"/>
                    </a:lnTo>
                    <a:lnTo>
                      <a:pt x="898" y="621"/>
                    </a:lnTo>
                    <a:lnTo>
                      <a:pt x="888" y="618"/>
                    </a:lnTo>
                    <a:lnTo>
                      <a:pt x="879" y="615"/>
                    </a:lnTo>
                    <a:lnTo>
                      <a:pt x="868" y="612"/>
                    </a:lnTo>
                    <a:lnTo>
                      <a:pt x="859" y="610"/>
                    </a:lnTo>
                    <a:lnTo>
                      <a:pt x="850" y="607"/>
                    </a:lnTo>
                    <a:lnTo>
                      <a:pt x="842" y="605"/>
                    </a:lnTo>
                    <a:lnTo>
                      <a:pt x="833" y="602"/>
                    </a:lnTo>
                    <a:lnTo>
                      <a:pt x="825" y="599"/>
                    </a:lnTo>
                    <a:lnTo>
                      <a:pt x="817" y="596"/>
                    </a:lnTo>
                    <a:lnTo>
                      <a:pt x="809" y="592"/>
                    </a:lnTo>
                    <a:lnTo>
                      <a:pt x="801" y="589"/>
                    </a:lnTo>
                    <a:lnTo>
                      <a:pt x="787" y="582"/>
                    </a:lnTo>
                    <a:lnTo>
                      <a:pt x="771" y="573"/>
                    </a:lnTo>
                    <a:lnTo>
                      <a:pt x="758" y="566"/>
                    </a:lnTo>
                    <a:lnTo>
                      <a:pt x="746" y="559"/>
                    </a:lnTo>
                    <a:lnTo>
                      <a:pt x="734" y="551"/>
                    </a:lnTo>
                    <a:lnTo>
                      <a:pt x="721" y="544"/>
                    </a:lnTo>
                    <a:lnTo>
                      <a:pt x="710" y="536"/>
                    </a:lnTo>
                    <a:lnTo>
                      <a:pt x="699" y="527"/>
                    </a:lnTo>
                    <a:lnTo>
                      <a:pt x="689" y="518"/>
                    </a:lnTo>
                    <a:lnTo>
                      <a:pt x="680" y="509"/>
                    </a:lnTo>
                    <a:lnTo>
                      <a:pt x="670" y="501"/>
                    </a:lnTo>
                    <a:lnTo>
                      <a:pt x="662" y="493"/>
                    </a:lnTo>
                    <a:lnTo>
                      <a:pt x="653" y="484"/>
                    </a:lnTo>
                    <a:lnTo>
                      <a:pt x="644" y="474"/>
                    </a:lnTo>
                    <a:lnTo>
                      <a:pt x="635" y="465"/>
                    </a:lnTo>
                    <a:lnTo>
                      <a:pt x="626" y="456"/>
                    </a:lnTo>
                    <a:lnTo>
                      <a:pt x="618" y="448"/>
                    </a:lnTo>
                    <a:lnTo>
                      <a:pt x="610" y="439"/>
                    </a:lnTo>
                    <a:lnTo>
                      <a:pt x="601" y="431"/>
                    </a:lnTo>
                    <a:lnTo>
                      <a:pt x="592" y="422"/>
                    </a:lnTo>
                    <a:lnTo>
                      <a:pt x="583" y="414"/>
                    </a:lnTo>
                    <a:lnTo>
                      <a:pt x="573" y="406"/>
                    </a:lnTo>
                    <a:lnTo>
                      <a:pt x="564" y="398"/>
                    </a:lnTo>
                    <a:lnTo>
                      <a:pt x="556" y="390"/>
                    </a:lnTo>
                    <a:lnTo>
                      <a:pt x="546" y="382"/>
                    </a:lnTo>
                    <a:lnTo>
                      <a:pt x="536" y="373"/>
                    </a:lnTo>
                    <a:lnTo>
                      <a:pt x="527" y="368"/>
                    </a:lnTo>
                    <a:lnTo>
                      <a:pt x="519" y="364"/>
                    </a:lnTo>
                    <a:lnTo>
                      <a:pt x="510" y="359"/>
                    </a:lnTo>
                    <a:lnTo>
                      <a:pt x="502" y="355"/>
                    </a:lnTo>
                    <a:lnTo>
                      <a:pt x="494" y="353"/>
                    </a:lnTo>
                    <a:lnTo>
                      <a:pt x="487" y="350"/>
                    </a:lnTo>
                    <a:lnTo>
                      <a:pt x="478" y="348"/>
                    </a:lnTo>
                    <a:lnTo>
                      <a:pt x="470" y="346"/>
                    </a:lnTo>
                    <a:lnTo>
                      <a:pt x="462" y="346"/>
                    </a:lnTo>
                    <a:lnTo>
                      <a:pt x="454" y="346"/>
                    </a:lnTo>
                    <a:lnTo>
                      <a:pt x="446" y="346"/>
                    </a:lnTo>
                    <a:lnTo>
                      <a:pt x="439" y="346"/>
                    </a:lnTo>
                    <a:lnTo>
                      <a:pt x="425" y="351"/>
                    </a:lnTo>
                    <a:lnTo>
                      <a:pt x="412" y="356"/>
                    </a:lnTo>
                    <a:lnTo>
                      <a:pt x="402" y="364"/>
                    </a:lnTo>
                    <a:lnTo>
                      <a:pt x="393" y="373"/>
                    </a:lnTo>
                    <a:lnTo>
                      <a:pt x="388" y="388"/>
                    </a:lnTo>
                    <a:lnTo>
                      <a:pt x="382" y="401"/>
                    </a:lnTo>
                    <a:lnTo>
                      <a:pt x="382" y="410"/>
                    </a:lnTo>
                    <a:lnTo>
                      <a:pt x="382" y="418"/>
                    </a:lnTo>
                    <a:lnTo>
                      <a:pt x="382" y="426"/>
                    </a:lnTo>
                    <a:lnTo>
                      <a:pt x="382" y="436"/>
                    </a:lnTo>
                    <a:lnTo>
                      <a:pt x="387" y="446"/>
                    </a:lnTo>
                    <a:lnTo>
                      <a:pt x="391" y="457"/>
                    </a:lnTo>
                    <a:lnTo>
                      <a:pt x="395" y="468"/>
                    </a:lnTo>
                    <a:lnTo>
                      <a:pt x="399" y="480"/>
                    </a:lnTo>
                    <a:lnTo>
                      <a:pt x="406" y="493"/>
                    </a:lnTo>
                    <a:lnTo>
                      <a:pt x="414" y="507"/>
                    </a:lnTo>
                    <a:lnTo>
                      <a:pt x="421" y="514"/>
                    </a:lnTo>
                    <a:lnTo>
                      <a:pt x="427" y="522"/>
                    </a:lnTo>
                    <a:lnTo>
                      <a:pt x="434" y="530"/>
                    </a:lnTo>
                    <a:lnTo>
                      <a:pt x="441" y="538"/>
                    </a:lnTo>
                    <a:lnTo>
                      <a:pt x="449" y="546"/>
                    </a:lnTo>
                    <a:lnTo>
                      <a:pt x="456" y="554"/>
                    </a:lnTo>
                    <a:lnTo>
                      <a:pt x="464" y="561"/>
                    </a:lnTo>
                    <a:lnTo>
                      <a:pt x="472" y="569"/>
                    </a:lnTo>
                    <a:lnTo>
                      <a:pt x="482" y="578"/>
                    </a:lnTo>
                    <a:lnTo>
                      <a:pt x="491" y="587"/>
                    </a:lnTo>
                    <a:lnTo>
                      <a:pt x="501" y="596"/>
                    </a:lnTo>
                    <a:lnTo>
                      <a:pt x="510" y="604"/>
                    </a:lnTo>
                    <a:lnTo>
                      <a:pt x="521" y="613"/>
                    </a:lnTo>
                    <a:lnTo>
                      <a:pt x="534" y="622"/>
                    </a:lnTo>
                    <a:lnTo>
                      <a:pt x="545" y="633"/>
                    </a:lnTo>
                    <a:lnTo>
                      <a:pt x="556" y="642"/>
                    </a:lnTo>
                    <a:lnTo>
                      <a:pt x="568" y="651"/>
                    </a:lnTo>
                    <a:lnTo>
                      <a:pt x="582" y="660"/>
                    </a:lnTo>
                    <a:lnTo>
                      <a:pt x="595" y="669"/>
                    </a:lnTo>
                    <a:lnTo>
                      <a:pt x="608" y="678"/>
                    </a:lnTo>
                    <a:lnTo>
                      <a:pt x="621" y="688"/>
                    </a:lnTo>
                    <a:lnTo>
                      <a:pt x="636" y="698"/>
                    </a:lnTo>
                    <a:lnTo>
                      <a:pt x="650" y="707"/>
                    </a:lnTo>
                    <a:lnTo>
                      <a:pt x="663" y="717"/>
                    </a:lnTo>
                    <a:lnTo>
                      <a:pt x="679" y="727"/>
                    </a:lnTo>
                    <a:lnTo>
                      <a:pt x="695" y="736"/>
                    </a:lnTo>
                    <a:lnTo>
                      <a:pt x="710" y="745"/>
                    </a:lnTo>
                    <a:lnTo>
                      <a:pt x="726" y="754"/>
                    </a:lnTo>
                    <a:lnTo>
                      <a:pt x="743" y="764"/>
                    </a:lnTo>
                    <a:lnTo>
                      <a:pt x="759" y="775"/>
                    </a:lnTo>
                    <a:lnTo>
                      <a:pt x="776" y="784"/>
                    </a:lnTo>
                    <a:lnTo>
                      <a:pt x="793" y="794"/>
                    </a:lnTo>
                    <a:lnTo>
                      <a:pt x="810" y="803"/>
                    </a:lnTo>
                    <a:lnTo>
                      <a:pt x="828" y="813"/>
                    </a:lnTo>
                    <a:lnTo>
                      <a:pt x="845" y="823"/>
                    </a:lnTo>
                    <a:lnTo>
                      <a:pt x="862" y="833"/>
                    </a:lnTo>
                    <a:lnTo>
                      <a:pt x="881" y="842"/>
                    </a:lnTo>
                    <a:lnTo>
                      <a:pt x="900" y="850"/>
                    </a:lnTo>
                    <a:lnTo>
                      <a:pt x="918" y="859"/>
                    </a:lnTo>
                    <a:lnTo>
                      <a:pt x="937" y="869"/>
                    </a:lnTo>
                    <a:lnTo>
                      <a:pt x="956" y="878"/>
                    </a:lnTo>
                    <a:lnTo>
                      <a:pt x="976" y="887"/>
                    </a:lnTo>
                    <a:lnTo>
                      <a:pt x="995" y="896"/>
                    </a:lnTo>
                    <a:lnTo>
                      <a:pt x="1014" y="905"/>
                    </a:lnTo>
                    <a:lnTo>
                      <a:pt x="1034" y="913"/>
                    </a:lnTo>
                    <a:lnTo>
                      <a:pt x="1054" y="923"/>
                    </a:lnTo>
                    <a:lnTo>
                      <a:pt x="1074" y="931"/>
                    </a:lnTo>
                    <a:lnTo>
                      <a:pt x="1093" y="939"/>
                    </a:lnTo>
                    <a:lnTo>
                      <a:pt x="1113" y="947"/>
                    </a:lnTo>
                    <a:lnTo>
                      <a:pt x="1134" y="955"/>
                    </a:lnTo>
                    <a:lnTo>
                      <a:pt x="1154" y="963"/>
                    </a:lnTo>
                    <a:lnTo>
                      <a:pt x="1176" y="971"/>
                    </a:lnTo>
                    <a:lnTo>
                      <a:pt x="1196" y="979"/>
                    </a:lnTo>
                    <a:lnTo>
                      <a:pt x="1217" y="986"/>
                    </a:lnTo>
                    <a:lnTo>
                      <a:pt x="1238" y="994"/>
                    </a:lnTo>
                    <a:lnTo>
                      <a:pt x="1259" y="1001"/>
                    </a:lnTo>
                    <a:lnTo>
                      <a:pt x="1280" y="1007"/>
                    </a:lnTo>
                    <a:lnTo>
                      <a:pt x="1301" y="1015"/>
                    </a:lnTo>
                    <a:lnTo>
                      <a:pt x="1323" y="1021"/>
                    </a:lnTo>
                    <a:lnTo>
                      <a:pt x="1344" y="1027"/>
                    </a:lnTo>
                    <a:lnTo>
                      <a:pt x="1344" y="1084"/>
                    </a:lnTo>
                    <a:lnTo>
                      <a:pt x="1344" y="1140"/>
                    </a:lnTo>
                    <a:lnTo>
                      <a:pt x="1344" y="1197"/>
                    </a:lnTo>
                    <a:lnTo>
                      <a:pt x="1344" y="1253"/>
                    </a:lnTo>
                    <a:lnTo>
                      <a:pt x="1344" y="1311"/>
                    </a:lnTo>
                    <a:lnTo>
                      <a:pt x="1344" y="1367"/>
                    </a:lnTo>
                    <a:lnTo>
                      <a:pt x="1344" y="1424"/>
                    </a:lnTo>
                    <a:lnTo>
                      <a:pt x="1344" y="148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416120" y="444168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165" h="111">
                    <a:moveTo>
                      <a:pt x="2" y="61"/>
                    </a:moveTo>
                    <a:lnTo>
                      <a:pt x="1" y="61"/>
                    </a:lnTo>
                    <a:lnTo>
                      <a:pt x="0" y="61"/>
                    </a:lnTo>
                    <a:lnTo>
                      <a:pt x="12" y="65"/>
                    </a:lnTo>
                    <a:lnTo>
                      <a:pt x="24" y="68"/>
                    </a:lnTo>
                    <a:lnTo>
                      <a:pt x="34" y="70"/>
                    </a:lnTo>
                    <a:lnTo>
                      <a:pt x="44" y="73"/>
                    </a:lnTo>
                    <a:lnTo>
                      <a:pt x="54" y="76"/>
                    </a:lnTo>
                    <a:lnTo>
                      <a:pt x="64" y="79"/>
                    </a:lnTo>
                    <a:lnTo>
                      <a:pt x="73" y="83"/>
                    </a:lnTo>
                    <a:lnTo>
                      <a:pt x="84" y="86"/>
                    </a:lnTo>
                    <a:lnTo>
                      <a:pt x="95" y="90"/>
                    </a:lnTo>
                    <a:lnTo>
                      <a:pt x="106" y="93"/>
                    </a:lnTo>
                    <a:lnTo>
                      <a:pt x="115" y="95"/>
                    </a:lnTo>
                    <a:lnTo>
                      <a:pt x="125" y="97"/>
                    </a:lnTo>
                    <a:lnTo>
                      <a:pt x="135" y="100"/>
                    </a:lnTo>
                    <a:lnTo>
                      <a:pt x="144" y="105"/>
                    </a:lnTo>
                    <a:lnTo>
                      <a:pt x="153" y="108"/>
                    </a:lnTo>
                    <a:lnTo>
                      <a:pt x="161" y="111"/>
                    </a:lnTo>
                    <a:lnTo>
                      <a:pt x="162" y="95"/>
                    </a:lnTo>
                    <a:lnTo>
                      <a:pt x="163" y="81"/>
                    </a:lnTo>
                    <a:lnTo>
                      <a:pt x="164" y="66"/>
                    </a:lnTo>
                    <a:lnTo>
                      <a:pt x="165" y="51"/>
                    </a:lnTo>
                    <a:lnTo>
                      <a:pt x="157" y="47"/>
                    </a:lnTo>
                    <a:lnTo>
                      <a:pt x="148" y="44"/>
                    </a:lnTo>
                    <a:lnTo>
                      <a:pt x="137" y="41"/>
                    </a:lnTo>
                    <a:lnTo>
                      <a:pt x="125" y="37"/>
                    </a:lnTo>
                    <a:lnTo>
                      <a:pt x="115" y="35"/>
                    </a:lnTo>
                    <a:lnTo>
                      <a:pt x="106" y="32"/>
                    </a:lnTo>
                    <a:lnTo>
                      <a:pt x="97" y="30"/>
                    </a:lnTo>
                    <a:lnTo>
                      <a:pt x="88" y="27"/>
                    </a:lnTo>
                    <a:lnTo>
                      <a:pt x="77" y="23"/>
                    </a:lnTo>
                    <a:lnTo>
                      <a:pt x="68" y="20"/>
                    </a:lnTo>
                    <a:lnTo>
                      <a:pt x="56" y="16"/>
                    </a:lnTo>
                    <a:lnTo>
                      <a:pt x="44" y="12"/>
                    </a:lnTo>
                    <a:lnTo>
                      <a:pt x="34" y="10"/>
                    </a:lnTo>
                    <a:lnTo>
                      <a:pt x="24" y="8"/>
                    </a:lnTo>
                    <a:lnTo>
                      <a:pt x="14" y="5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6"/>
                    </a:lnTo>
                    <a:lnTo>
                      <a:pt x="2" y="31"/>
                    </a:lnTo>
                    <a:lnTo>
                      <a:pt x="2" y="46"/>
                    </a:lnTo>
                    <a:lnTo>
                      <a:pt x="2" y="61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380480" y="4387680"/>
                <a:ext cx="122760" cy="114480"/>
              </a:xfrm>
              <a:custGeom>
                <a:avLst/>
                <a:gdLst/>
                <a:ahLst/>
                <a:rect l="l" t="t" r="r" b="b"/>
                <a:pathLst>
                  <a:path w="2434" h="2183">
                    <a:moveTo>
                      <a:pt x="1639" y="14"/>
                    </a:moveTo>
                    <a:lnTo>
                      <a:pt x="1649" y="16"/>
                    </a:lnTo>
                    <a:lnTo>
                      <a:pt x="1659" y="18"/>
                    </a:lnTo>
                    <a:lnTo>
                      <a:pt x="1669" y="20"/>
                    </a:lnTo>
                    <a:lnTo>
                      <a:pt x="1679" y="23"/>
                    </a:lnTo>
                    <a:lnTo>
                      <a:pt x="1691" y="26"/>
                    </a:lnTo>
                    <a:lnTo>
                      <a:pt x="1703" y="28"/>
                    </a:lnTo>
                    <a:lnTo>
                      <a:pt x="1715" y="31"/>
                    </a:lnTo>
                    <a:lnTo>
                      <a:pt x="1727" y="34"/>
                    </a:lnTo>
                    <a:lnTo>
                      <a:pt x="1740" y="37"/>
                    </a:lnTo>
                    <a:lnTo>
                      <a:pt x="1754" y="41"/>
                    </a:lnTo>
                    <a:lnTo>
                      <a:pt x="1767" y="45"/>
                    </a:lnTo>
                    <a:lnTo>
                      <a:pt x="1780" y="48"/>
                    </a:lnTo>
                    <a:lnTo>
                      <a:pt x="1795" y="53"/>
                    </a:lnTo>
                    <a:lnTo>
                      <a:pt x="1811" y="59"/>
                    </a:lnTo>
                    <a:lnTo>
                      <a:pt x="1827" y="63"/>
                    </a:lnTo>
                    <a:lnTo>
                      <a:pt x="1842" y="67"/>
                    </a:lnTo>
                    <a:lnTo>
                      <a:pt x="1858" y="73"/>
                    </a:lnTo>
                    <a:lnTo>
                      <a:pt x="1873" y="78"/>
                    </a:lnTo>
                    <a:lnTo>
                      <a:pt x="1889" y="83"/>
                    </a:lnTo>
                    <a:lnTo>
                      <a:pt x="1906" y="88"/>
                    </a:lnTo>
                    <a:lnTo>
                      <a:pt x="1921" y="94"/>
                    </a:lnTo>
                    <a:lnTo>
                      <a:pt x="1937" y="100"/>
                    </a:lnTo>
                    <a:lnTo>
                      <a:pt x="1954" y="108"/>
                    </a:lnTo>
                    <a:lnTo>
                      <a:pt x="1971" y="114"/>
                    </a:lnTo>
                    <a:lnTo>
                      <a:pt x="1987" y="121"/>
                    </a:lnTo>
                    <a:lnTo>
                      <a:pt x="2005" y="129"/>
                    </a:lnTo>
                    <a:lnTo>
                      <a:pt x="2022" y="136"/>
                    </a:lnTo>
                    <a:lnTo>
                      <a:pt x="2038" y="143"/>
                    </a:lnTo>
                    <a:lnTo>
                      <a:pt x="2056" y="152"/>
                    </a:lnTo>
                    <a:lnTo>
                      <a:pt x="2072" y="162"/>
                    </a:lnTo>
                    <a:lnTo>
                      <a:pt x="2090" y="171"/>
                    </a:lnTo>
                    <a:lnTo>
                      <a:pt x="2106" y="179"/>
                    </a:lnTo>
                    <a:lnTo>
                      <a:pt x="2122" y="190"/>
                    </a:lnTo>
                    <a:lnTo>
                      <a:pt x="2137" y="200"/>
                    </a:lnTo>
                    <a:lnTo>
                      <a:pt x="2154" y="211"/>
                    </a:lnTo>
                    <a:lnTo>
                      <a:pt x="2170" y="221"/>
                    </a:lnTo>
                    <a:lnTo>
                      <a:pt x="2185" y="233"/>
                    </a:lnTo>
                    <a:lnTo>
                      <a:pt x="2201" y="244"/>
                    </a:lnTo>
                    <a:lnTo>
                      <a:pt x="2216" y="257"/>
                    </a:lnTo>
                    <a:lnTo>
                      <a:pt x="2232" y="268"/>
                    </a:lnTo>
                    <a:lnTo>
                      <a:pt x="2246" y="281"/>
                    </a:lnTo>
                    <a:lnTo>
                      <a:pt x="2259" y="294"/>
                    </a:lnTo>
                    <a:lnTo>
                      <a:pt x="2273" y="308"/>
                    </a:lnTo>
                    <a:lnTo>
                      <a:pt x="2287" y="321"/>
                    </a:lnTo>
                    <a:lnTo>
                      <a:pt x="2300" y="335"/>
                    </a:lnTo>
                    <a:lnTo>
                      <a:pt x="2312" y="350"/>
                    </a:lnTo>
                    <a:lnTo>
                      <a:pt x="2324" y="364"/>
                    </a:lnTo>
                    <a:lnTo>
                      <a:pt x="2337" y="378"/>
                    </a:lnTo>
                    <a:lnTo>
                      <a:pt x="2347" y="395"/>
                    </a:lnTo>
                    <a:lnTo>
                      <a:pt x="2356" y="413"/>
                    </a:lnTo>
                    <a:lnTo>
                      <a:pt x="2366" y="430"/>
                    </a:lnTo>
                    <a:lnTo>
                      <a:pt x="2376" y="447"/>
                    </a:lnTo>
                    <a:lnTo>
                      <a:pt x="2385" y="466"/>
                    </a:lnTo>
                    <a:lnTo>
                      <a:pt x="2393" y="484"/>
                    </a:lnTo>
                    <a:lnTo>
                      <a:pt x="2400" y="503"/>
                    </a:lnTo>
                    <a:lnTo>
                      <a:pt x="2408" y="521"/>
                    </a:lnTo>
                    <a:lnTo>
                      <a:pt x="2413" y="540"/>
                    </a:lnTo>
                    <a:lnTo>
                      <a:pt x="2418" y="561"/>
                    </a:lnTo>
                    <a:lnTo>
                      <a:pt x="2423" y="581"/>
                    </a:lnTo>
                    <a:lnTo>
                      <a:pt x="2428" y="602"/>
                    </a:lnTo>
                    <a:lnTo>
                      <a:pt x="2429" y="624"/>
                    </a:lnTo>
                    <a:lnTo>
                      <a:pt x="2431" y="647"/>
                    </a:lnTo>
                    <a:lnTo>
                      <a:pt x="2433" y="669"/>
                    </a:lnTo>
                    <a:lnTo>
                      <a:pt x="2434" y="692"/>
                    </a:lnTo>
                    <a:lnTo>
                      <a:pt x="2432" y="709"/>
                    </a:lnTo>
                    <a:lnTo>
                      <a:pt x="2429" y="726"/>
                    </a:lnTo>
                    <a:lnTo>
                      <a:pt x="2428" y="745"/>
                    </a:lnTo>
                    <a:lnTo>
                      <a:pt x="2426" y="762"/>
                    </a:lnTo>
                    <a:lnTo>
                      <a:pt x="2421" y="778"/>
                    </a:lnTo>
                    <a:lnTo>
                      <a:pt x="2416" y="796"/>
                    </a:lnTo>
                    <a:lnTo>
                      <a:pt x="2411" y="813"/>
                    </a:lnTo>
                    <a:lnTo>
                      <a:pt x="2406" y="830"/>
                    </a:lnTo>
                    <a:lnTo>
                      <a:pt x="2398" y="846"/>
                    </a:lnTo>
                    <a:lnTo>
                      <a:pt x="2390" y="860"/>
                    </a:lnTo>
                    <a:lnTo>
                      <a:pt x="2383" y="875"/>
                    </a:lnTo>
                    <a:lnTo>
                      <a:pt x="2374" y="891"/>
                    </a:lnTo>
                    <a:lnTo>
                      <a:pt x="2363" y="905"/>
                    </a:lnTo>
                    <a:lnTo>
                      <a:pt x="2352" y="919"/>
                    </a:lnTo>
                    <a:lnTo>
                      <a:pt x="2342" y="935"/>
                    </a:lnTo>
                    <a:lnTo>
                      <a:pt x="2330" y="949"/>
                    </a:lnTo>
                    <a:lnTo>
                      <a:pt x="2316" y="962"/>
                    </a:lnTo>
                    <a:lnTo>
                      <a:pt x="2303" y="975"/>
                    </a:lnTo>
                    <a:lnTo>
                      <a:pt x="2289" y="989"/>
                    </a:lnTo>
                    <a:lnTo>
                      <a:pt x="2275" y="1002"/>
                    </a:lnTo>
                    <a:lnTo>
                      <a:pt x="2259" y="1013"/>
                    </a:lnTo>
                    <a:lnTo>
                      <a:pt x="2244" y="1025"/>
                    </a:lnTo>
                    <a:lnTo>
                      <a:pt x="2228" y="1038"/>
                    </a:lnTo>
                    <a:lnTo>
                      <a:pt x="2212" y="1049"/>
                    </a:lnTo>
                    <a:lnTo>
                      <a:pt x="2194" y="1060"/>
                    </a:lnTo>
                    <a:lnTo>
                      <a:pt x="2175" y="1070"/>
                    </a:lnTo>
                    <a:lnTo>
                      <a:pt x="2157" y="1082"/>
                    </a:lnTo>
                    <a:lnTo>
                      <a:pt x="2139" y="1092"/>
                    </a:lnTo>
                    <a:lnTo>
                      <a:pt x="2118" y="1102"/>
                    </a:lnTo>
                    <a:lnTo>
                      <a:pt x="2099" y="1111"/>
                    </a:lnTo>
                    <a:lnTo>
                      <a:pt x="2078" y="1120"/>
                    </a:lnTo>
                    <a:lnTo>
                      <a:pt x="2059" y="1130"/>
                    </a:lnTo>
                    <a:lnTo>
                      <a:pt x="2036" y="1138"/>
                    </a:lnTo>
                    <a:lnTo>
                      <a:pt x="2015" y="1146"/>
                    </a:lnTo>
                    <a:lnTo>
                      <a:pt x="1993" y="1153"/>
                    </a:lnTo>
                    <a:lnTo>
                      <a:pt x="1971" y="1161"/>
                    </a:lnTo>
                    <a:lnTo>
                      <a:pt x="1948" y="1167"/>
                    </a:lnTo>
                    <a:lnTo>
                      <a:pt x="1924" y="1174"/>
                    </a:lnTo>
                    <a:lnTo>
                      <a:pt x="1901" y="1181"/>
                    </a:lnTo>
                    <a:lnTo>
                      <a:pt x="1878" y="1187"/>
                    </a:lnTo>
                    <a:lnTo>
                      <a:pt x="1854" y="1192"/>
                    </a:lnTo>
                    <a:lnTo>
                      <a:pt x="1829" y="1197"/>
                    </a:lnTo>
                    <a:lnTo>
                      <a:pt x="1805" y="1202"/>
                    </a:lnTo>
                    <a:lnTo>
                      <a:pt x="1780" y="1207"/>
                    </a:lnTo>
                    <a:lnTo>
                      <a:pt x="1755" y="1210"/>
                    </a:lnTo>
                    <a:lnTo>
                      <a:pt x="1730" y="1212"/>
                    </a:lnTo>
                    <a:lnTo>
                      <a:pt x="1705" y="1215"/>
                    </a:lnTo>
                    <a:lnTo>
                      <a:pt x="1679" y="1218"/>
                    </a:lnTo>
                    <a:lnTo>
                      <a:pt x="1654" y="1220"/>
                    </a:lnTo>
                    <a:lnTo>
                      <a:pt x="1627" y="1222"/>
                    </a:lnTo>
                    <a:lnTo>
                      <a:pt x="1601" y="1224"/>
                    </a:lnTo>
                    <a:lnTo>
                      <a:pt x="1576" y="1227"/>
                    </a:lnTo>
                    <a:lnTo>
                      <a:pt x="1549" y="1227"/>
                    </a:lnTo>
                    <a:lnTo>
                      <a:pt x="1523" y="1227"/>
                    </a:lnTo>
                    <a:lnTo>
                      <a:pt x="1496" y="1227"/>
                    </a:lnTo>
                    <a:lnTo>
                      <a:pt x="1471" y="1227"/>
                    </a:lnTo>
                    <a:lnTo>
                      <a:pt x="1443" y="1224"/>
                    </a:lnTo>
                    <a:lnTo>
                      <a:pt x="1417" y="1222"/>
                    </a:lnTo>
                    <a:lnTo>
                      <a:pt x="1390" y="1220"/>
                    </a:lnTo>
                    <a:lnTo>
                      <a:pt x="1363" y="1218"/>
                    </a:lnTo>
                    <a:lnTo>
                      <a:pt x="1336" y="1215"/>
                    </a:lnTo>
                    <a:lnTo>
                      <a:pt x="1310" y="1211"/>
                    </a:lnTo>
                    <a:lnTo>
                      <a:pt x="1283" y="1207"/>
                    </a:lnTo>
                    <a:lnTo>
                      <a:pt x="1255" y="1203"/>
                    </a:lnTo>
                    <a:lnTo>
                      <a:pt x="1231" y="1199"/>
                    </a:lnTo>
                    <a:lnTo>
                      <a:pt x="1205" y="1196"/>
                    </a:lnTo>
                    <a:lnTo>
                      <a:pt x="1180" y="1192"/>
                    </a:lnTo>
                    <a:lnTo>
                      <a:pt x="1154" y="1188"/>
                    </a:lnTo>
                    <a:lnTo>
                      <a:pt x="1131" y="1184"/>
                    </a:lnTo>
                    <a:lnTo>
                      <a:pt x="1107" y="1181"/>
                    </a:lnTo>
                    <a:lnTo>
                      <a:pt x="1084" y="1177"/>
                    </a:lnTo>
                    <a:lnTo>
                      <a:pt x="1060" y="1173"/>
                    </a:lnTo>
                    <a:lnTo>
                      <a:pt x="1039" y="1171"/>
                    </a:lnTo>
                    <a:lnTo>
                      <a:pt x="1019" y="1168"/>
                    </a:lnTo>
                    <a:lnTo>
                      <a:pt x="998" y="1165"/>
                    </a:lnTo>
                    <a:lnTo>
                      <a:pt x="977" y="1163"/>
                    </a:lnTo>
                    <a:lnTo>
                      <a:pt x="958" y="1161"/>
                    </a:lnTo>
                    <a:lnTo>
                      <a:pt x="940" y="1159"/>
                    </a:lnTo>
                    <a:lnTo>
                      <a:pt x="922" y="1158"/>
                    </a:lnTo>
                    <a:lnTo>
                      <a:pt x="903" y="1156"/>
                    </a:lnTo>
                    <a:lnTo>
                      <a:pt x="887" y="1154"/>
                    </a:lnTo>
                    <a:lnTo>
                      <a:pt x="870" y="1153"/>
                    </a:lnTo>
                    <a:lnTo>
                      <a:pt x="854" y="1152"/>
                    </a:lnTo>
                    <a:lnTo>
                      <a:pt x="838" y="1150"/>
                    </a:lnTo>
                    <a:lnTo>
                      <a:pt x="824" y="1150"/>
                    </a:lnTo>
                    <a:lnTo>
                      <a:pt x="809" y="1151"/>
                    </a:lnTo>
                    <a:lnTo>
                      <a:pt x="794" y="1151"/>
                    </a:lnTo>
                    <a:lnTo>
                      <a:pt x="780" y="1151"/>
                    </a:lnTo>
                    <a:lnTo>
                      <a:pt x="767" y="1151"/>
                    </a:lnTo>
                    <a:lnTo>
                      <a:pt x="755" y="1152"/>
                    </a:lnTo>
                    <a:lnTo>
                      <a:pt x="742" y="1152"/>
                    </a:lnTo>
                    <a:lnTo>
                      <a:pt x="730" y="1153"/>
                    </a:lnTo>
                    <a:lnTo>
                      <a:pt x="719" y="1154"/>
                    </a:lnTo>
                    <a:lnTo>
                      <a:pt x="708" y="1155"/>
                    </a:lnTo>
                    <a:lnTo>
                      <a:pt x="697" y="1156"/>
                    </a:lnTo>
                    <a:lnTo>
                      <a:pt x="686" y="1157"/>
                    </a:lnTo>
                    <a:lnTo>
                      <a:pt x="677" y="1159"/>
                    </a:lnTo>
                    <a:lnTo>
                      <a:pt x="668" y="1161"/>
                    </a:lnTo>
                    <a:lnTo>
                      <a:pt x="659" y="1164"/>
                    </a:lnTo>
                    <a:lnTo>
                      <a:pt x="650" y="1166"/>
                    </a:lnTo>
                    <a:lnTo>
                      <a:pt x="636" y="1171"/>
                    </a:lnTo>
                    <a:lnTo>
                      <a:pt x="620" y="1177"/>
                    </a:lnTo>
                    <a:lnTo>
                      <a:pt x="608" y="1185"/>
                    </a:lnTo>
                    <a:lnTo>
                      <a:pt x="597" y="1192"/>
                    </a:lnTo>
                    <a:lnTo>
                      <a:pt x="587" y="1200"/>
                    </a:lnTo>
                    <a:lnTo>
                      <a:pt x="576" y="1209"/>
                    </a:lnTo>
                    <a:lnTo>
                      <a:pt x="569" y="1219"/>
                    </a:lnTo>
                    <a:lnTo>
                      <a:pt x="563" y="1230"/>
                    </a:lnTo>
                    <a:lnTo>
                      <a:pt x="558" y="1242"/>
                    </a:lnTo>
                    <a:lnTo>
                      <a:pt x="553" y="1254"/>
                    </a:lnTo>
                    <a:lnTo>
                      <a:pt x="551" y="1268"/>
                    </a:lnTo>
                    <a:lnTo>
                      <a:pt x="549" y="1284"/>
                    </a:lnTo>
                    <a:lnTo>
                      <a:pt x="548" y="1298"/>
                    </a:lnTo>
                    <a:lnTo>
                      <a:pt x="547" y="1312"/>
                    </a:lnTo>
                    <a:lnTo>
                      <a:pt x="551" y="1337"/>
                    </a:lnTo>
                    <a:lnTo>
                      <a:pt x="554" y="1361"/>
                    </a:lnTo>
                    <a:lnTo>
                      <a:pt x="557" y="1385"/>
                    </a:lnTo>
                    <a:lnTo>
                      <a:pt x="561" y="1408"/>
                    </a:lnTo>
                    <a:lnTo>
                      <a:pt x="569" y="1430"/>
                    </a:lnTo>
                    <a:lnTo>
                      <a:pt x="577" y="1450"/>
                    </a:lnTo>
                    <a:lnTo>
                      <a:pt x="586" y="1471"/>
                    </a:lnTo>
                    <a:lnTo>
                      <a:pt x="595" y="1491"/>
                    </a:lnTo>
                    <a:lnTo>
                      <a:pt x="607" y="1508"/>
                    </a:lnTo>
                    <a:lnTo>
                      <a:pt x="619" y="1526"/>
                    </a:lnTo>
                    <a:lnTo>
                      <a:pt x="632" y="1543"/>
                    </a:lnTo>
                    <a:lnTo>
                      <a:pt x="645" y="1560"/>
                    </a:lnTo>
                    <a:lnTo>
                      <a:pt x="659" y="1576"/>
                    </a:lnTo>
                    <a:lnTo>
                      <a:pt x="673" y="1591"/>
                    </a:lnTo>
                    <a:lnTo>
                      <a:pt x="688" y="1606"/>
                    </a:lnTo>
                    <a:lnTo>
                      <a:pt x="702" y="1621"/>
                    </a:lnTo>
                    <a:lnTo>
                      <a:pt x="716" y="1632"/>
                    </a:lnTo>
                    <a:lnTo>
                      <a:pt x="731" y="1644"/>
                    </a:lnTo>
                    <a:lnTo>
                      <a:pt x="745" y="1655"/>
                    </a:lnTo>
                    <a:lnTo>
                      <a:pt x="760" y="1667"/>
                    </a:lnTo>
                    <a:lnTo>
                      <a:pt x="772" y="1675"/>
                    </a:lnTo>
                    <a:lnTo>
                      <a:pt x="785" y="1682"/>
                    </a:lnTo>
                    <a:lnTo>
                      <a:pt x="797" y="1690"/>
                    </a:lnTo>
                    <a:lnTo>
                      <a:pt x="809" y="1698"/>
                    </a:lnTo>
                    <a:lnTo>
                      <a:pt x="818" y="1703"/>
                    </a:lnTo>
                    <a:lnTo>
                      <a:pt x="827" y="1708"/>
                    </a:lnTo>
                    <a:lnTo>
                      <a:pt x="835" y="1713"/>
                    </a:lnTo>
                    <a:lnTo>
                      <a:pt x="844" y="1719"/>
                    </a:lnTo>
                    <a:lnTo>
                      <a:pt x="851" y="1723"/>
                    </a:lnTo>
                    <a:lnTo>
                      <a:pt x="857" y="1726"/>
                    </a:lnTo>
                    <a:lnTo>
                      <a:pt x="859" y="1783"/>
                    </a:lnTo>
                    <a:lnTo>
                      <a:pt x="861" y="1840"/>
                    </a:lnTo>
                    <a:lnTo>
                      <a:pt x="863" y="1897"/>
                    </a:lnTo>
                    <a:lnTo>
                      <a:pt x="865" y="1954"/>
                    </a:lnTo>
                    <a:lnTo>
                      <a:pt x="867" y="2012"/>
                    </a:lnTo>
                    <a:lnTo>
                      <a:pt x="869" y="2069"/>
                    </a:lnTo>
                    <a:lnTo>
                      <a:pt x="872" y="2126"/>
                    </a:lnTo>
                    <a:lnTo>
                      <a:pt x="874" y="2183"/>
                    </a:lnTo>
                    <a:lnTo>
                      <a:pt x="868" y="2182"/>
                    </a:lnTo>
                    <a:lnTo>
                      <a:pt x="863" y="2180"/>
                    </a:lnTo>
                    <a:lnTo>
                      <a:pt x="849" y="2173"/>
                    </a:lnTo>
                    <a:lnTo>
                      <a:pt x="836" y="2165"/>
                    </a:lnTo>
                    <a:lnTo>
                      <a:pt x="825" y="2160"/>
                    </a:lnTo>
                    <a:lnTo>
                      <a:pt x="814" y="2156"/>
                    </a:lnTo>
                    <a:lnTo>
                      <a:pt x="804" y="2149"/>
                    </a:lnTo>
                    <a:lnTo>
                      <a:pt x="794" y="2144"/>
                    </a:lnTo>
                    <a:lnTo>
                      <a:pt x="780" y="2137"/>
                    </a:lnTo>
                    <a:lnTo>
                      <a:pt x="765" y="2129"/>
                    </a:lnTo>
                    <a:lnTo>
                      <a:pt x="752" y="2122"/>
                    </a:lnTo>
                    <a:lnTo>
                      <a:pt x="738" y="2114"/>
                    </a:lnTo>
                    <a:lnTo>
                      <a:pt x="721" y="2105"/>
                    </a:lnTo>
                    <a:lnTo>
                      <a:pt x="705" y="2095"/>
                    </a:lnTo>
                    <a:lnTo>
                      <a:pt x="689" y="2085"/>
                    </a:lnTo>
                    <a:lnTo>
                      <a:pt x="672" y="2076"/>
                    </a:lnTo>
                    <a:lnTo>
                      <a:pt x="655" y="2066"/>
                    </a:lnTo>
                    <a:lnTo>
                      <a:pt x="637" y="2054"/>
                    </a:lnTo>
                    <a:lnTo>
                      <a:pt x="618" y="2044"/>
                    </a:lnTo>
                    <a:lnTo>
                      <a:pt x="601" y="2033"/>
                    </a:lnTo>
                    <a:lnTo>
                      <a:pt x="581" y="2020"/>
                    </a:lnTo>
                    <a:lnTo>
                      <a:pt x="560" y="2007"/>
                    </a:lnTo>
                    <a:lnTo>
                      <a:pt x="541" y="1993"/>
                    </a:lnTo>
                    <a:lnTo>
                      <a:pt x="521" y="1981"/>
                    </a:lnTo>
                    <a:lnTo>
                      <a:pt x="501" y="1967"/>
                    </a:lnTo>
                    <a:lnTo>
                      <a:pt x="480" y="1952"/>
                    </a:lnTo>
                    <a:lnTo>
                      <a:pt x="461" y="1938"/>
                    </a:lnTo>
                    <a:lnTo>
                      <a:pt x="442" y="1923"/>
                    </a:lnTo>
                    <a:lnTo>
                      <a:pt x="420" y="1907"/>
                    </a:lnTo>
                    <a:lnTo>
                      <a:pt x="400" y="1892"/>
                    </a:lnTo>
                    <a:lnTo>
                      <a:pt x="379" y="1876"/>
                    </a:lnTo>
                    <a:lnTo>
                      <a:pt x="359" y="1859"/>
                    </a:lnTo>
                    <a:lnTo>
                      <a:pt x="340" y="1843"/>
                    </a:lnTo>
                    <a:lnTo>
                      <a:pt x="320" y="1826"/>
                    </a:lnTo>
                    <a:lnTo>
                      <a:pt x="301" y="1809"/>
                    </a:lnTo>
                    <a:lnTo>
                      <a:pt x="281" y="1792"/>
                    </a:lnTo>
                    <a:lnTo>
                      <a:pt x="263" y="1774"/>
                    </a:lnTo>
                    <a:lnTo>
                      <a:pt x="244" y="1754"/>
                    </a:lnTo>
                    <a:lnTo>
                      <a:pt x="225" y="1736"/>
                    </a:lnTo>
                    <a:lnTo>
                      <a:pt x="206" y="1718"/>
                    </a:lnTo>
                    <a:lnTo>
                      <a:pt x="190" y="1697"/>
                    </a:lnTo>
                    <a:lnTo>
                      <a:pt x="173" y="1678"/>
                    </a:lnTo>
                    <a:lnTo>
                      <a:pt x="157" y="1657"/>
                    </a:lnTo>
                    <a:lnTo>
                      <a:pt x="141" y="1638"/>
                    </a:lnTo>
                    <a:lnTo>
                      <a:pt x="126" y="1618"/>
                    </a:lnTo>
                    <a:lnTo>
                      <a:pt x="112" y="1597"/>
                    </a:lnTo>
                    <a:lnTo>
                      <a:pt x="99" y="1577"/>
                    </a:lnTo>
                    <a:lnTo>
                      <a:pt x="84" y="1556"/>
                    </a:lnTo>
                    <a:lnTo>
                      <a:pt x="74" y="1534"/>
                    </a:lnTo>
                    <a:lnTo>
                      <a:pt x="63" y="1512"/>
                    </a:lnTo>
                    <a:lnTo>
                      <a:pt x="52" y="1491"/>
                    </a:lnTo>
                    <a:lnTo>
                      <a:pt x="40" y="1469"/>
                    </a:lnTo>
                    <a:lnTo>
                      <a:pt x="33" y="1446"/>
                    </a:lnTo>
                    <a:lnTo>
                      <a:pt x="26" y="1424"/>
                    </a:lnTo>
                    <a:lnTo>
                      <a:pt x="18" y="1400"/>
                    </a:lnTo>
                    <a:lnTo>
                      <a:pt x="11" y="1378"/>
                    </a:lnTo>
                    <a:lnTo>
                      <a:pt x="8" y="1354"/>
                    </a:lnTo>
                    <a:lnTo>
                      <a:pt x="5" y="1331"/>
                    </a:lnTo>
                    <a:lnTo>
                      <a:pt x="2" y="1308"/>
                    </a:lnTo>
                    <a:lnTo>
                      <a:pt x="0" y="1285"/>
                    </a:lnTo>
                    <a:lnTo>
                      <a:pt x="1" y="1261"/>
                    </a:lnTo>
                    <a:lnTo>
                      <a:pt x="1" y="1239"/>
                    </a:lnTo>
                    <a:lnTo>
                      <a:pt x="2" y="1216"/>
                    </a:lnTo>
                    <a:lnTo>
                      <a:pt x="4" y="1193"/>
                    </a:lnTo>
                    <a:lnTo>
                      <a:pt x="7" y="1172"/>
                    </a:lnTo>
                    <a:lnTo>
                      <a:pt x="10" y="1151"/>
                    </a:lnTo>
                    <a:lnTo>
                      <a:pt x="13" y="1131"/>
                    </a:lnTo>
                    <a:lnTo>
                      <a:pt x="17" y="1109"/>
                    </a:lnTo>
                    <a:lnTo>
                      <a:pt x="23" y="1091"/>
                    </a:lnTo>
                    <a:lnTo>
                      <a:pt x="30" y="1071"/>
                    </a:lnTo>
                    <a:lnTo>
                      <a:pt x="36" y="1053"/>
                    </a:lnTo>
                    <a:lnTo>
                      <a:pt x="44" y="1034"/>
                    </a:lnTo>
                    <a:lnTo>
                      <a:pt x="52" y="1016"/>
                    </a:lnTo>
                    <a:lnTo>
                      <a:pt x="61" y="999"/>
                    </a:lnTo>
                    <a:lnTo>
                      <a:pt x="70" y="981"/>
                    </a:lnTo>
                    <a:lnTo>
                      <a:pt x="79" y="964"/>
                    </a:lnTo>
                    <a:lnTo>
                      <a:pt x="89" y="948"/>
                    </a:lnTo>
                    <a:lnTo>
                      <a:pt x="101" y="932"/>
                    </a:lnTo>
                    <a:lnTo>
                      <a:pt x="112" y="917"/>
                    </a:lnTo>
                    <a:lnTo>
                      <a:pt x="123" y="901"/>
                    </a:lnTo>
                    <a:lnTo>
                      <a:pt x="136" y="888"/>
                    </a:lnTo>
                    <a:lnTo>
                      <a:pt x="150" y="874"/>
                    </a:lnTo>
                    <a:lnTo>
                      <a:pt x="163" y="861"/>
                    </a:lnTo>
                    <a:lnTo>
                      <a:pt x="176" y="847"/>
                    </a:lnTo>
                    <a:lnTo>
                      <a:pt x="192" y="835"/>
                    </a:lnTo>
                    <a:lnTo>
                      <a:pt x="207" y="823"/>
                    </a:lnTo>
                    <a:lnTo>
                      <a:pt x="221" y="811"/>
                    </a:lnTo>
                    <a:lnTo>
                      <a:pt x="236" y="800"/>
                    </a:lnTo>
                    <a:lnTo>
                      <a:pt x="253" y="790"/>
                    </a:lnTo>
                    <a:lnTo>
                      <a:pt x="270" y="779"/>
                    </a:lnTo>
                    <a:lnTo>
                      <a:pt x="288" y="770"/>
                    </a:lnTo>
                    <a:lnTo>
                      <a:pt x="304" y="759"/>
                    </a:lnTo>
                    <a:lnTo>
                      <a:pt x="322" y="752"/>
                    </a:lnTo>
                    <a:lnTo>
                      <a:pt x="340" y="744"/>
                    </a:lnTo>
                    <a:lnTo>
                      <a:pt x="358" y="734"/>
                    </a:lnTo>
                    <a:lnTo>
                      <a:pt x="375" y="726"/>
                    </a:lnTo>
                    <a:lnTo>
                      <a:pt x="395" y="720"/>
                    </a:lnTo>
                    <a:lnTo>
                      <a:pt x="414" y="714"/>
                    </a:lnTo>
                    <a:lnTo>
                      <a:pt x="434" y="708"/>
                    </a:lnTo>
                    <a:lnTo>
                      <a:pt x="454" y="702"/>
                    </a:lnTo>
                    <a:lnTo>
                      <a:pt x="474" y="698"/>
                    </a:lnTo>
                    <a:lnTo>
                      <a:pt x="496" y="693"/>
                    </a:lnTo>
                    <a:lnTo>
                      <a:pt x="516" y="688"/>
                    </a:lnTo>
                    <a:lnTo>
                      <a:pt x="538" y="684"/>
                    </a:lnTo>
                    <a:lnTo>
                      <a:pt x="558" y="681"/>
                    </a:lnTo>
                    <a:lnTo>
                      <a:pt x="579" y="678"/>
                    </a:lnTo>
                    <a:lnTo>
                      <a:pt x="600" y="675"/>
                    </a:lnTo>
                    <a:lnTo>
                      <a:pt x="620" y="671"/>
                    </a:lnTo>
                    <a:lnTo>
                      <a:pt x="643" y="671"/>
                    </a:lnTo>
                    <a:lnTo>
                      <a:pt x="665" y="670"/>
                    </a:lnTo>
                    <a:lnTo>
                      <a:pt x="688" y="670"/>
                    </a:lnTo>
                    <a:lnTo>
                      <a:pt x="710" y="669"/>
                    </a:lnTo>
                    <a:lnTo>
                      <a:pt x="733" y="669"/>
                    </a:lnTo>
                    <a:lnTo>
                      <a:pt x="755" y="670"/>
                    </a:lnTo>
                    <a:lnTo>
                      <a:pt x="778" y="671"/>
                    </a:lnTo>
                    <a:lnTo>
                      <a:pt x="800" y="671"/>
                    </a:lnTo>
                    <a:lnTo>
                      <a:pt x="823" y="674"/>
                    </a:lnTo>
                    <a:lnTo>
                      <a:pt x="845" y="677"/>
                    </a:lnTo>
                    <a:lnTo>
                      <a:pt x="866" y="680"/>
                    </a:lnTo>
                    <a:lnTo>
                      <a:pt x="889" y="682"/>
                    </a:lnTo>
                    <a:lnTo>
                      <a:pt x="912" y="687"/>
                    </a:lnTo>
                    <a:lnTo>
                      <a:pt x="935" y="692"/>
                    </a:lnTo>
                    <a:lnTo>
                      <a:pt x="958" y="697"/>
                    </a:lnTo>
                    <a:lnTo>
                      <a:pt x="982" y="701"/>
                    </a:lnTo>
                    <a:lnTo>
                      <a:pt x="1004" y="706"/>
                    </a:lnTo>
                    <a:lnTo>
                      <a:pt x="1027" y="710"/>
                    </a:lnTo>
                    <a:lnTo>
                      <a:pt x="1050" y="715"/>
                    </a:lnTo>
                    <a:lnTo>
                      <a:pt x="1073" y="720"/>
                    </a:lnTo>
                    <a:lnTo>
                      <a:pt x="1095" y="724"/>
                    </a:lnTo>
                    <a:lnTo>
                      <a:pt x="1118" y="728"/>
                    </a:lnTo>
                    <a:lnTo>
                      <a:pt x="1140" y="731"/>
                    </a:lnTo>
                    <a:lnTo>
                      <a:pt x="1162" y="735"/>
                    </a:lnTo>
                    <a:lnTo>
                      <a:pt x="1185" y="738"/>
                    </a:lnTo>
                    <a:lnTo>
                      <a:pt x="1207" y="741"/>
                    </a:lnTo>
                    <a:lnTo>
                      <a:pt x="1230" y="744"/>
                    </a:lnTo>
                    <a:lnTo>
                      <a:pt x="1251" y="746"/>
                    </a:lnTo>
                    <a:lnTo>
                      <a:pt x="1274" y="748"/>
                    </a:lnTo>
                    <a:lnTo>
                      <a:pt x="1295" y="750"/>
                    </a:lnTo>
                    <a:lnTo>
                      <a:pt x="1317" y="751"/>
                    </a:lnTo>
                    <a:lnTo>
                      <a:pt x="1339" y="753"/>
                    </a:lnTo>
                    <a:lnTo>
                      <a:pt x="1361" y="753"/>
                    </a:lnTo>
                    <a:lnTo>
                      <a:pt x="1383" y="754"/>
                    </a:lnTo>
                    <a:lnTo>
                      <a:pt x="1404" y="755"/>
                    </a:lnTo>
                    <a:lnTo>
                      <a:pt x="1427" y="755"/>
                    </a:lnTo>
                    <a:lnTo>
                      <a:pt x="1447" y="756"/>
                    </a:lnTo>
                    <a:lnTo>
                      <a:pt x="1467" y="756"/>
                    </a:lnTo>
                    <a:lnTo>
                      <a:pt x="1487" y="756"/>
                    </a:lnTo>
                    <a:lnTo>
                      <a:pt x="1508" y="757"/>
                    </a:lnTo>
                    <a:lnTo>
                      <a:pt x="1527" y="756"/>
                    </a:lnTo>
                    <a:lnTo>
                      <a:pt x="1547" y="755"/>
                    </a:lnTo>
                    <a:lnTo>
                      <a:pt x="1567" y="754"/>
                    </a:lnTo>
                    <a:lnTo>
                      <a:pt x="1587" y="753"/>
                    </a:lnTo>
                    <a:lnTo>
                      <a:pt x="1607" y="752"/>
                    </a:lnTo>
                    <a:lnTo>
                      <a:pt x="1625" y="750"/>
                    </a:lnTo>
                    <a:lnTo>
                      <a:pt x="1644" y="749"/>
                    </a:lnTo>
                    <a:lnTo>
                      <a:pt x="1663" y="747"/>
                    </a:lnTo>
                    <a:lnTo>
                      <a:pt x="1681" y="745"/>
                    </a:lnTo>
                    <a:lnTo>
                      <a:pt x="1698" y="743"/>
                    </a:lnTo>
                    <a:lnTo>
                      <a:pt x="1717" y="742"/>
                    </a:lnTo>
                    <a:lnTo>
                      <a:pt x="1735" y="740"/>
                    </a:lnTo>
                    <a:lnTo>
                      <a:pt x="1751" y="736"/>
                    </a:lnTo>
                    <a:lnTo>
                      <a:pt x="1767" y="734"/>
                    </a:lnTo>
                    <a:lnTo>
                      <a:pt x="1782" y="731"/>
                    </a:lnTo>
                    <a:lnTo>
                      <a:pt x="1799" y="728"/>
                    </a:lnTo>
                    <a:lnTo>
                      <a:pt x="1813" y="725"/>
                    </a:lnTo>
                    <a:lnTo>
                      <a:pt x="1828" y="721"/>
                    </a:lnTo>
                    <a:lnTo>
                      <a:pt x="1842" y="718"/>
                    </a:lnTo>
                    <a:lnTo>
                      <a:pt x="1858" y="715"/>
                    </a:lnTo>
                    <a:lnTo>
                      <a:pt x="1871" y="711"/>
                    </a:lnTo>
                    <a:lnTo>
                      <a:pt x="1883" y="707"/>
                    </a:lnTo>
                    <a:lnTo>
                      <a:pt x="1897" y="703"/>
                    </a:lnTo>
                    <a:lnTo>
                      <a:pt x="1910" y="698"/>
                    </a:lnTo>
                    <a:lnTo>
                      <a:pt x="1921" y="695"/>
                    </a:lnTo>
                    <a:lnTo>
                      <a:pt x="1932" y="691"/>
                    </a:lnTo>
                    <a:lnTo>
                      <a:pt x="1942" y="686"/>
                    </a:lnTo>
                    <a:lnTo>
                      <a:pt x="1954" y="682"/>
                    </a:lnTo>
                    <a:lnTo>
                      <a:pt x="1963" y="677"/>
                    </a:lnTo>
                    <a:lnTo>
                      <a:pt x="1972" y="672"/>
                    </a:lnTo>
                    <a:lnTo>
                      <a:pt x="1981" y="668"/>
                    </a:lnTo>
                    <a:lnTo>
                      <a:pt x="1990" y="663"/>
                    </a:lnTo>
                    <a:lnTo>
                      <a:pt x="2005" y="653"/>
                    </a:lnTo>
                    <a:lnTo>
                      <a:pt x="2019" y="644"/>
                    </a:lnTo>
                    <a:lnTo>
                      <a:pt x="2027" y="632"/>
                    </a:lnTo>
                    <a:lnTo>
                      <a:pt x="2036" y="621"/>
                    </a:lnTo>
                    <a:lnTo>
                      <a:pt x="2039" y="614"/>
                    </a:lnTo>
                    <a:lnTo>
                      <a:pt x="2044" y="606"/>
                    </a:lnTo>
                    <a:lnTo>
                      <a:pt x="2047" y="599"/>
                    </a:lnTo>
                    <a:lnTo>
                      <a:pt x="2051" y="590"/>
                    </a:lnTo>
                    <a:lnTo>
                      <a:pt x="2051" y="582"/>
                    </a:lnTo>
                    <a:lnTo>
                      <a:pt x="2052" y="575"/>
                    </a:lnTo>
                    <a:lnTo>
                      <a:pt x="2052" y="567"/>
                    </a:lnTo>
                    <a:lnTo>
                      <a:pt x="2053" y="559"/>
                    </a:lnTo>
                    <a:lnTo>
                      <a:pt x="2050" y="545"/>
                    </a:lnTo>
                    <a:lnTo>
                      <a:pt x="2047" y="529"/>
                    </a:lnTo>
                    <a:lnTo>
                      <a:pt x="2038" y="516"/>
                    </a:lnTo>
                    <a:lnTo>
                      <a:pt x="2030" y="502"/>
                    </a:lnTo>
                    <a:lnTo>
                      <a:pt x="2018" y="490"/>
                    </a:lnTo>
                    <a:lnTo>
                      <a:pt x="2007" y="479"/>
                    </a:lnTo>
                    <a:lnTo>
                      <a:pt x="1991" y="471"/>
                    </a:lnTo>
                    <a:lnTo>
                      <a:pt x="1976" y="463"/>
                    </a:lnTo>
                    <a:lnTo>
                      <a:pt x="1968" y="460"/>
                    </a:lnTo>
                    <a:lnTo>
                      <a:pt x="1959" y="457"/>
                    </a:lnTo>
                    <a:lnTo>
                      <a:pt x="1950" y="455"/>
                    </a:lnTo>
                    <a:lnTo>
                      <a:pt x="1941" y="452"/>
                    </a:lnTo>
                    <a:lnTo>
                      <a:pt x="1930" y="452"/>
                    </a:lnTo>
                    <a:lnTo>
                      <a:pt x="1920" y="452"/>
                    </a:lnTo>
                    <a:lnTo>
                      <a:pt x="1910" y="451"/>
                    </a:lnTo>
                    <a:lnTo>
                      <a:pt x="1900" y="451"/>
                    </a:lnTo>
                    <a:lnTo>
                      <a:pt x="1888" y="452"/>
                    </a:lnTo>
                    <a:lnTo>
                      <a:pt x="1878" y="454"/>
                    </a:lnTo>
                    <a:lnTo>
                      <a:pt x="1868" y="456"/>
                    </a:lnTo>
                    <a:lnTo>
                      <a:pt x="1858" y="458"/>
                    </a:lnTo>
                    <a:lnTo>
                      <a:pt x="1849" y="463"/>
                    </a:lnTo>
                    <a:lnTo>
                      <a:pt x="1840" y="466"/>
                    </a:lnTo>
                    <a:lnTo>
                      <a:pt x="1831" y="470"/>
                    </a:lnTo>
                    <a:lnTo>
                      <a:pt x="1822" y="474"/>
                    </a:lnTo>
                    <a:lnTo>
                      <a:pt x="1814" y="479"/>
                    </a:lnTo>
                    <a:lnTo>
                      <a:pt x="1807" y="482"/>
                    </a:lnTo>
                    <a:lnTo>
                      <a:pt x="1798" y="488"/>
                    </a:lnTo>
                    <a:lnTo>
                      <a:pt x="1788" y="492"/>
                    </a:lnTo>
                    <a:lnTo>
                      <a:pt x="1779" y="498"/>
                    </a:lnTo>
                    <a:lnTo>
                      <a:pt x="1771" y="503"/>
                    </a:lnTo>
                    <a:lnTo>
                      <a:pt x="1761" y="507"/>
                    </a:lnTo>
                    <a:lnTo>
                      <a:pt x="1753" y="512"/>
                    </a:lnTo>
                    <a:lnTo>
                      <a:pt x="1742" y="517"/>
                    </a:lnTo>
                    <a:lnTo>
                      <a:pt x="1732" y="521"/>
                    </a:lnTo>
                    <a:lnTo>
                      <a:pt x="1722" y="525"/>
                    </a:lnTo>
                    <a:lnTo>
                      <a:pt x="1713" y="528"/>
                    </a:lnTo>
                    <a:lnTo>
                      <a:pt x="1701" y="532"/>
                    </a:lnTo>
                    <a:lnTo>
                      <a:pt x="1689" y="535"/>
                    </a:lnTo>
                    <a:lnTo>
                      <a:pt x="1676" y="537"/>
                    </a:lnTo>
                    <a:lnTo>
                      <a:pt x="1663" y="539"/>
                    </a:lnTo>
                    <a:lnTo>
                      <a:pt x="1648" y="540"/>
                    </a:lnTo>
                    <a:lnTo>
                      <a:pt x="1635" y="540"/>
                    </a:lnTo>
                    <a:lnTo>
                      <a:pt x="1627" y="540"/>
                    </a:lnTo>
                    <a:lnTo>
                      <a:pt x="1618" y="539"/>
                    </a:lnTo>
                    <a:lnTo>
                      <a:pt x="1610" y="539"/>
                    </a:lnTo>
                    <a:lnTo>
                      <a:pt x="1601" y="538"/>
                    </a:lnTo>
                    <a:lnTo>
                      <a:pt x="1592" y="537"/>
                    </a:lnTo>
                    <a:lnTo>
                      <a:pt x="1583" y="536"/>
                    </a:lnTo>
                    <a:lnTo>
                      <a:pt x="1574" y="535"/>
                    </a:lnTo>
                    <a:lnTo>
                      <a:pt x="1566" y="534"/>
                    </a:lnTo>
                    <a:lnTo>
                      <a:pt x="1556" y="532"/>
                    </a:lnTo>
                    <a:lnTo>
                      <a:pt x="1545" y="530"/>
                    </a:lnTo>
                    <a:lnTo>
                      <a:pt x="1535" y="528"/>
                    </a:lnTo>
                    <a:lnTo>
                      <a:pt x="1526" y="527"/>
                    </a:lnTo>
                    <a:lnTo>
                      <a:pt x="1507" y="522"/>
                    </a:lnTo>
                    <a:lnTo>
                      <a:pt x="1488" y="517"/>
                    </a:lnTo>
                    <a:lnTo>
                      <a:pt x="1470" y="512"/>
                    </a:lnTo>
                    <a:lnTo>
                      <a:pt x="1450" y="507"/>
                    </a:lnTo>
                    <a:lnTo>
                      <a:pt x="1435" y="501"/>
                    </a:lnTo>
                    <a:lnTo>
                      <a:pt x="1420" y="494"/>
                    </a:lnTo>
                    <a:lnTo>
                      <a:pt x="1404" y="488"/>
                    </a:lnTo>
                    <a:lnTo>
                      <a:pt x="1389" y="482"/>
                    </a:lnTo>
                    <a:lnTo>
                      <a:pt x="1377" y="477"/>
                    </a:lnTo>
                    <a:lnTo>
                      <a:pt x="1365" y="471"/>
                    </a:lnTo>
                    <a:lnTo>
                      <a:pt x="1353" y="465"/>
                    </a:lnTo>
                    <a:lnTo>
                      <a:pt x="1341" y="459"/>
                    </a:lnTo>
                    <a:lnTo>
                      <a:pt x="1332" y="453"/>
                    </a:lnTo>
                    <a:lnTo>
                      <a:pt x="1323" y="445"/>
                    </a:lnTo>
                    <a:lnTo>
                      <a:pt x="1315" y="439"/>
                    </a:lnTo>
                    <a:lnTo>
                      <a:pt x="1305" y="432"/>
                    </a:lnTo>
                    <a:lnTo>
                      <a:pt x="1291" y="419"/>
                    </a:lnTo>
                    <a:lnTo>
                      <a:pt x="1278" y="406"/>
                    </a:lnTo>
                    <a:lnTo>
                      <a:pt x="1269" y="391"/>
                    </a:lnTo>
                    <a:lnTo>
                      <a:pt x="1259" y="377"/>
                    </a:lnTo>
                    <a:lnTo>
                      <a:pt x="1253" y="364"/>
                    </a:lnTo>
                    <a:lnTo>
                      <a:pt x="1247" y="351"/>
                    </a:lnTo>
                    <a:lnTo>
                      <a:pt x="1245" y="336"/>
                    </a:lnTo>
                    <a:lnTo>
                      <a:pt x="1243" y="321"/>
                    </a:lnTo>
                    <a:lnTo>
                      <a:pt x="1243" y="308"/>
                    </a:lnTo>
                    <a:lnTo>
                      <a:pt x="1242" y="292"/>
                    </a:lnTo>
                    <a:lnTo>
                      <a:pt x="1243" y="279"/>
                    </a:lnTo>
                    <a:lnTo>
                      <a:pt x="1243" y="266"/>
                    </a:lnTo>
                    <a:lnTo>
                      <a:pt x="1245" y="258"/>
                    </a:lnTo>
                    <a:lnTo>
                      <a:pt x="1246" y="249"/>
                    </a:lnTo>
                    <a:lnTo>
                      <a:pt x="1248" y="242"/>
                    </a:lnTo>
                    <a:lnTo>
                      <a:pt x="1249" y="234"/>
                    </a:lnTo>
                    <a:lnTo>
                      <a:pt x="1253" y="219"/>
                    </a:lnTo>
                    <a:lnTo>
                      <a:pt x="1257" y="204"/>
                    </a:lnTo>
                    <a:lnTo>
                      <a:pt x="1260" y="196"/>
                    </a:lnTo>
                    <a:lnTo>
                      <a:pt x="1264" y="188"/>
                    </a:lnTo>
                    <a:lnTo>
                      <a:pt x="1267" y="180"/>
                    </a:lnTo>
                    <a:lnTo>
                      <a:pt x="1270" y="172"/>
                    </a:lnTo>
                    <a:lnTo>
                      <a:pt x="1277" y="158"/>
                    </a:lnTo>
                    <a:lnTo>
                      <a:pt x="1286" y="142"/>
                    </a:lnTo>
                    <a:lnTo>
                      <a:pt x="1294" y="129"/>
                    </a:lnTo>
                    <a:lnTo>
                      <a:pt x="1303" y="114"/>
                    </a:lnTo>
                    <a:lnTo>
                      <a:pt x="1315" y="100"/>
                    </a:lnTo>
                    <a:lnTo>
                      <a:pt x="1326" y="87"/>
                    </a:lnTo>
                    <a:lnTo>
                      <a:pt x="1338" y="76"/>
                    </a:lnTo>
                    <a:lnTo>
                      <a:pt x="1351" y="64"/>
                    </a:lnTo>
                    <a:lnTo>
                      <a:pt x="1367" y="53"/>
                    </a:lnTo>
                    <a:lnTo>
                      <a:pt x="1381" y="42"/>
                    </a:lnTo>
                    <a:lnTo>
                      <a:pt x="1389" y="38"/>
                    </a:lnTo>
                    <a:lnTo>
                      <a:pt x="1397" y="33"/>
                    </a:lnTo>
                    <a:lnTo>
                      <a:pt x="1404" y="29"/>
                    </a:lnTo>
                    <a:lnTo>
                      <a:pt x="1413" y="24"/>
                    </a:lnTo>
                    <a:lnTo>
                      <a:pt x="1422" y="21"/>
                    </a:lnTo>
                    <a:lnTo>
                      <a:pt x="1431" y="18"/>
                    </a:lnTo>
                    <a:lnTo>
                      <a:pt x="1441" y="16"/>
                    </a:lnTo>
                    <a:lnTo>
                      <a:pt x="1450" y="13"/>
                    </a:lnTo>
                    <a:lnTo>
                      <a:pt x="1461" y="11"/>
                    </a:lnTo>
                    <a:lnTo>
                      <a:pt x="1471" y="9"/>
                    </a:lnTo>
                    <a:lnTo>
                      <a:pt x="1481" y="6"/>
                    </a:lnTo>
                    <a:lnTo>
                      <a:pt x="1492" y="4"/>
                    </a:lnTo>
                    <a:lnTo>
                      <a:pt x="1502" y="3"/>
                    </a:lnTo>
                    <a:lnTo>
                      <a:pt x="1514" y="2"/>
                    </a:lnTo>
                    <a:lnTo>
                      <a:pt x="1525" y="1"/>
                    </a:lnTo>
                    <a:lnTo>
                      <a:pt x="1536" y="0"/>
                    </a:lnTo>
                    <a:lnTo>
                      <a:pt x="1548" y="1"/>
                    </a:lnTo>
                    <a:lnTo>
                      <a:pt x="1561" y="2"/>
                    </a:lnTo>
                    <a:lnTo>
                      <a:pt x="1573" y="2"/>
                    </a:lnTo>
                    <a:lnTo>
                      <a:pt x="1585" y="2"/>
                    </a:lnTo>
                    <a:lnTo>
                      <a:pt x="1598" y="5"/>
                    </a:lnTo>
                    <a:lnTo>
                      <a:pt x="1613" y="8"/>
                    </a:lnTo>
                    <a:lnTo>
                      <a:pt x="1626" y="11"/>
                    </a:lnTo>
                    <a:lnTo>
                      <a:pt x="1639" y="14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388040" y="4449600"/>
                <a:ext cx="90360" cy="100800"/>
              </a:xfrm>
              <a:custGeom>
                <a:avLst/>
                <a:gdLst/>
                <a:ahLst/>
                <a:rect l="l" t="t" r="r" b="b"/>
                <a:pathLst>
                  <a:path w="1801" h="1905">
                    <a:moveTo>
                      <a:pt x="957" y="0"/>
                    </a:moveTo>
                    <a:lnTo>
                      <a:pt x="963" y="3"/>
                    </a:lnTo>
                    <a:lnTo>
                      <a:pt x="970" y="5"/>
                    </a:lnTo>
                    <a:lnTo>
                      <a:pt x="978" y="10"/>
                    </a:lnTo>
                    <a:lnTo>
                      <a:pt x="986" y="14"/>
                    </a:lnTo>
                    <a:lnTo>
                      <a:pt x="994" y="18"/>
                    </a:lnTo>
                    <a:lnTo>
                      <a:pt x="1003" y="22"/>
                    </a:lnTo>
                    <a:lnTo>
                      <a:pt x="1016" y="29"/>
                    </a:lnTo>
                    <a:lnTo>
                      <a:pt x="1027" y="35"/>
                    </a:lnTo>
                    <a:lnTo>
                      <a:pt x="1039" y="42"/>
                    </a:lnTo>
                    <a:lnTo>
                      <a:pt x="1050" y="48"/>
                    </a:lnTo>
                    <a:lnTo>
                      <a:pt x="1065" y="58"/>
                    </a:lnTo>
                    <a:lnTo>
                      <a:pt x="1079" y="68"/>
                    </a:lnTo>
                    <a:lnTo>
                      <a:pt x="1093" y="77"/>
                    </a:lnTo>
                    <a:lnTo>
                      <a:pt x="1106" y="88"/>
                    </a:lnTo>
                    <a:lnTo>
                      <a:pt x="1120" y="100"/>
                    </a:lnTo>
                    <a:lnTo>
                      <a:pt x="1133" y="111"/>
                    </a:lnTo>
                    <a:lnTo>
                      <a:pt x="1146" y="122"/>
                    </a:lnTo>
                    <a:lnTo>
                      <a:pt x="1161" y="134"/>
                    </a:lnTo>
                    <a:lnTo>
                      <a:pt x="1172" y="149"/>
                    </a:lnTo>
                    <a:lnTo>
                      <a:pt x="1184" y="163"/>
                    </a:lnTo>
                    <a:lnTo>
                      <a:pt x="1196" y="177"/>
                    </a:lnTo>
                    <a:lnTo>
                      <a:pt x="1208" y="192"/>
                    </a:lnTo>
                    <a:lnTo>
                      <a:pt x="1217" y="208"/>
                    </a:lnTo>
                    <a:lnTo>
                      <a:pt x="1225" y="224"/>
                    </a:lnTo>
                    <a:lnTo>
                      <a:pt x="1233" y="242"/>
                    </a:lnTo>
                    <a:lnTo>
                      <a:pt x="1242" y="258"/>
                    </a:lnTo>
                    <a:lnTo>
                      <a:pt x="1245" y="276"/>
                    </a:lnTo>
                    <a:lnTo>
                      <a:pt x="1247" y="296"/>
                    </a:lnTo>
                    <a:lnTo>
                      <a:pt x="1250" y="314"/>
                    </a:lnTo>
                    <a:lnTo>
                      <a:pt x="1253" y="333"/>
                    </a:lnTo>
                    <a:lnTo>
                      <a:pt x="1252" y="342"/>
                    </a:lnTo>
                    <a:lnTo>
                      <a:pt x="1251" y="351"/>
                    </a:lnTo>
                    <a:lnTo>
                      <a:pt x="1250" y="361"/>
                    </a:lnTo>
                    <a:lnTo>
                      <a:pt x="1249" y="370"/>
                    </a:lnTo>
                    <a:lnTo>
                      <a:pt x="1247" y="378"/>
                    </a:lnTo>
                    <a:lnTo>
                      <a:pt x="1245" y="388"/>
                    </a:lnTo>
                    <a:lnTo>
                      <a:pt x="1244" y="397"/>
                    </a:lnTo>
                    <a:lnTo>
                      <a:pt x="1242" y="406"/>
                    </a:lnTo>
                    <a:lnTo>
                      <a:pt x="1234" y="421"/>
                    </a:lnTo>
                    <a:lnTo>
                      <a:pt x="1226" y="437"/>
                    </a:lnTo>
                    <a:lnTo>
                      <a:pt x="1216" y="451"/>
                    </a:lnTo>
                    <a:lnTo>
                      <a:pt x="1206" y="464"/>
                    </a:lnTo>
                    <a:lnTo>
                      <a:pt x="1194" y="476"/>
                    </a:lnTo>
                    <a:lnTo>
                      <a:pt x="1182" y="489"/>
                    </a:lnTo>
                    <a:lnTo>
                      <a:pt x="1169" y="499"/>
                    </a:lnTo>
                    <a:lnTo>
                      <a:pt x="1154" y="510"/>
                    </a:lnTo>
                    <a:lnTo>
                      <a:pt x="1146" y="515"/>
                    </a:lnTo>
                    <a:lnTo>
                      <a:pt x="1138" y="520"/>
                    </a:lnTo>
                    <a:lnTo>
                      <a:pt x="1131" y="525"/>
                    </a:lnTo>
                    <a:lnTo>
                      <a:pt x="1123" y="531"/>
                    </a:lnTo>
                    <a:lnTo>
                      <a:pt x="1114" y="535"/>
                    </a:lnTo>
                    <a:lnTo>
                      <a:pt x="1105" y="539"/>
                    </a:lnTo>
                    <a:lnTo>
                      <a:pt x="1097" y="543"/>
                    </a:lnTo>
                    <a:lnTo>
                      <a:pt x="1089" y="547"/>
                    </a:lnTo>
                    <a:lnTo>
                      <a:pt x="1080" y="550"/>
                    </a:lnTo>
                    <a:lnTo>
                      <a:pt x="1071" y="554"/>
                    </a:lnTo>
                    <a:lnTo>
                      <a:pt x="1061" y="557"/>
                    </a:lnTo>
                    <a:lnTo>
                      <a:pt x="1053" y="560"/>
                    </a:lnTo>
                    <a:lnTo>
                      <a:pt x="1043" y="564"/>
                    </a:lnTo>
                    <a:lnTo>
                      <a:pt x="1034" y="567"/>
                    </a:lnTo>
                    <a:lnTo>
                      <a:pt x="1025" y="570"/>
                    </a:lnTo>
                    <a:lnTo>
                      <a:pt x="1015" y="573"/>
                    </a:lnTo>
                    <a:lnTo>
                      <a:pt x="1005" y="576"/>
                    </a:lnTo>
                    <a:lnTo>
                      <a:pt x="996" y="579"/>
                    </a:lnTo>
                    <a:lnTo>
                      <a:pt x="987" y="581"/>
                    </a:lnTo>
                    <a:lnTo>
                      <a:pt x="978" y="583"/>
                    </a:lnTo>
                    <a:lnTo>
                      <a:pt x="968" y="586"/>
                    </a:lnTo>
                    <a:lnTo>
                      <a:pt x="957" y="588"/>
                    </a:lnTo>
                    <a:lnTo>
                      <a:pt x="947" y="590"/>
                    </a:lnTo>
                    <a:lnTo>
                      <a:pt x="938" y="592"/>
                    </a:lnTo>
                    <a:lnTo>
                      <a:pt x="928" y="593"/>
                    </a:lnTo>
                    <a:lnTo>
                      <a:pt x="919" y="595"/>
                    </a:lnTo>
                    <a:lnTo>
                      <a:pt x="909" y="596"/>
                    </a:lnTo>
                    <a:lnTo>
                      <a:pt x="899" y="597"/>
                    </a:lnTo>
                    <a:lnTo>
                      <a:pt x="890" y="598"/>
                    </a:lnTo>
                    <a:lnTo>
                      <a:pt x="881" y="600"/>
                    </a:lnTo>
                    <a:lnTo>
                      <a:pt x="871" y="601"/>
                    </a:lnTo>
                    <a:lnTo>
                      <a:pt x="861" y="602"/>
                    </a:lnTo>
                    <a:lnTo>
                      <a:pt x="852" y="603"/>
                    </a:lnTo>
                    <a:lnTo>
                      <a:pt x="843" y="604"/>
                    </a:lnTo>
                    <a:lnTo>
                      <a:pt x="833" y="604"/>
                    </a:lnTo>
                    <a:lnTo>
                      <a:pt x="824" y="605"/>
                    </a:lnTo>
                    <a:lnTo>
                      <a:pt x="815" y="606"/>
                    </a:lnTo>
                    <a:lnTo>
                      <a:pt x="807" y="606"/>
                    </a:lnTo>
                    <a:lnTo>
                      <a:pt x="798" y="606"/>
                    </a:lnTo>
                    <a:lnTo>
                      <a:pt x="790" y="607"/>
                    </a:lnTo>
                    <a:lnTo>
                      <a:pt x="781" y="608"/>
                    </a:lnTo>
                    <a:lnTo>
                      <a:pt x="772" y="609"/>
                    </a:lnTo>
                    <a:lnTo>
                      <a:pt x="762" y="610"/>
                    </a:lnTo>
                    <a:lnTo>
                      <a:pt x="752" y="611"/>
                    </a:lnTo>
                    <a:lnTo>
                      <a:pt x="741" y="611"/>
                    </a:lnTo>
                    <a:lnTo>
                      <a:pt x="729" y="612"/>
                    </a:lnTo>
                    <a:lnTo>
                      <a:pt x="716" y="612"/>
                    </a:lnTo>
                    <a:lnTo>
                      <a:pt x="704" y="613"/>
                    </a:lnTo>
                    <a:lnTo>
                      <a:pt x="691" y="614"/>
                    </a:lnTo>
                    <a:lnTo>
                      <a:pt x="678" y="616"/>
                    </a:lnTo>
                    <a:lnTo>
                      <a:pt x="664" y="618"/>
                    </a:lnTo>
                    <a:lnTo>
                      <a:pt x="651" y="620"/>
                    </a:lnTo>
                    <a:lnTo>
                      <a:pt x="636" y="622"/>
                    </a:lnTo>
                    <a:lnTo>
                      <a:pt x="620" y="625"/>
                    </a:lnTo>
                    <a:lnTo>
                      <a:pt x="606" y="627"/>
                    </a:lnTo>
                    <a:lnTo>
                      <a:pt x="591" y="629"/>
                    </a:lnTo>
                    <a:lnTo>
                      <a:pt x="574" y="632"/>
                    </a:lnTo>
                    <a:lnTo>
                      <a:pt x="559" y="636"/>
                    </a:lnTo>
                    <a:lnTo>
                      <a:pt x="543" y="639"/>
                    </a:lnTo>
                    <a:lnTo>
                      <a:pt x="528" y="642"/>
                    </a:lnTo>
                    <a:lnTo>
                      <a:pt x="510" y="646"/>
                    </a:lnTo>
                    <a:lnTo>
                      <a:pt x="493" y="650"/>
                    </a:lnTo>
                    <a:lnTo>
                      <a:pt x="476" y="654"/>
                    </a:lnTo>
                    <a:lnTo>
                      <a:pt x="460" y="658"/>
                    </a:lnTo>
                    <a:lnTo>
                      <a:pt x="443" y="663"/>
                    </a:lnTo>
                    <a:lnTo>
                      <a:pt x="426" y="668"/>
                    </a:lnTo>
                    <a:lnTo>
                      <a:pt x="410" y="674"/>
                    </a:lnTo>
                    <a:lnTo>
                      <a:pt x="394" y="679"/>
                    </a:lnTo>
                    <a:lnTo>
                      <a:pt x="377" y="685"/>
                    </a:lnTo>
                    <a:lnTo>
                      <a:pt x="360" y="691"/>
                    </a:lnTo>
                    <a:lnTo>
                      <a:pt x="343" y="697"/>
                    </a:lnTo>
                    <a:lnTo>
                      <a:pt x="326" y="703"/>
                    </a:lnTo>
                    <a:lnTo>
                      <a:pt x="310" y="710"/>
                    </a:lnTo>
                    <a:lnTo>
                      <a:pt x="294" y="717"/>
                    </a:lnTo>
                    <a:lnTo>
                      <a:pt x="277" y="726"/>
                    </a:lnTo>
                    <a:lnTo>
                      <a:pt x="262" y="733"/>
                    </a:lnTo>
                    <a:lnTo>
                      <a:pt x="247" y="742"/>
                    </a:lnTo>
                    <a:lnTo>
                      <a:pt x="232" y="751"/>
                    </a:lnTo>
                    <a:lnTo>
                      <a:pt x="217" y="759"/>
                    </a:lnTo>
                    <a:lnTo>
                      <a:pt x="202" y="768"/>
                    </a:lnTo>
                    <a:lnTo>
                      <a:pt x="189" y="779"/>
                    </a:lnTo>
                    <a:lnTo>
                      <a:pt x="174" y="790"/>
                    </a:lnTo>
                    <a:lnTo>
                      <a:pt x="160" y="800"/>
                    </a:lnTo>
                    <a:lnTo>
                      <a:pt x="147" y="810"/>
                    </a:lnTo>
                    <a:lnTo>
                      <a:pt x="133" y="822"/>
                    </a:lnTo>
                    <a:lnTo>
                      <a:pt x="121" y="833"/>
                    </a:lnTo>
                    <a:lnTo>
                      <a:pt x="109" y="845"/>
                    </a:lnTo>
                    <a:lnTo>
                      <a:pt x="97" y="856"/>
                    </a:lnTo>
                    <a:lnTo>
                      <a:pt x="86" y="871"/>
                    </a:lnTo>
                    <a:lnTo>
                      <a:pt x="76" y="884"/>
                    </a:lnTo>
                    <a:lnTo>
                      <a:pt x="67" y="898"/>
                    </a:lnTo>
                    <a:lnTo>
                      <a:pt x="57" y="911"/>
                    </a:lnTo>
                    <a:lnTo>
                      <a:pt x="49" y="927"/>
                    </a:lnTo>
                    <a:lnTo>
                      <a:pt x="42" y="942"/>
                    </a:lnTo>
                    <a:lnTo>
                      <a:pt x="33" y="957"/>
                    </a:lnTo>
                    <a:lnTo>
                      <a:pt x="25" y="973"/>
                    </a:lnTo>
                    <a:lnTo>
                      <a:pt x="20" y="991"/>
                    </a:lnTo>
                    <a:lnTo>
                      <a:pt x="15" y="1008"/>
                    </a:lnTo>
                    <a:lnTo>
                      <a:pt x="10" y="1026"/>
                    </a:lnTo>
                    <a:lnTo>
                      <a:pt x="6" y="1043"/>
                    </a:lnTo>
                    <a:lnTo>
                      <a:pt x="4" y="1063"/>
                    </a:lnTo>
                    <a:lnTo>
                      <a:pt x="3" y="1082"/>
                    </a:lnTo>
                    <a:lnTo>
                      <a:pt x="1" y="1100"/>
                    </a:lnTo>
                    <a:lnTo>
                      <a:pt x="0" y="1120"/>
                    </a:lnTo>
                    <a:lnTo>
                      <a:pt x="2" y="1140"/>
                    </a:lnTo>
                    <a:lnTo>
                      <a:pt x="3" y="1159"/>
                    </a:lnTo>
                    <a:lnTo>
                      <a:pt x="5" y="1180"/>
                    </a:lnTo>
                    <a:lnTo>
                      <a:pt x="7" y="1200"/>
                    </a:lnTo>
                    <a:lnTo>
                      <a:pt x="13" y="1220"/>
                    </a:lnTo>
                    <a:lnTo>
                      <a:pt x="19" y="1239"/>
                    </a:lnTo>
                    <a:lnTo>
                      <a:pt x="25" y="1259"/>
                    </a:lnTo>
                    <a:lnTo>
                      <a:pt x="31" y="1278"/>
                    </a:lnTo>
                    <a:lnTo>
                      <a:pt x="40" y="1297"/>
                    </a:lnTo>
                    <a:lnTo>
                      <a:pt x="49" y="1316"/>
                    </a:lnTo>
                    <a:lnTo>
                      <a:pt x="58" y="1334"/>
                    </a:lnTo>
                    <a:lnTo>
                      <a:pt x="67" y="1352"/>
                    </a:lnTo>
                    <a:lnTo>
                      <a:pt x="78" y="1371"/>
                    </a:lnTo>
                    <a:lnTo>
                      <a:pt x="90" y="1389"/>
                    </a:lnTo>
                    <a:lnTo>
                      <a:pt x="101" y="1408"/>
                    </a:lnTo>
                    <a:lnTo>
                      <a:pt x="113" y="1426"/>
                    </a:lnTo>
                    <a:lnTo>
                      <a:pt x="126" y="1443"/>
                    </a:lnTo>
                    <a:lnTo>
                      <a:pt x="140" y="1460"/>
                    </a:lnTo>
                    <a:lnTo>
                      <a:pt x="153" y="1477"/>
                    </a:lnTo>
                    <a:lnTo>
                      <a:pt x="166" y="1493"/>
                    </a:lnTo>
                    <a:lnTo>
                      <a:pt x="181" y="1510"/>
                    </a:lnTo>
                    <a:lnTo>
                      <a:pt x="198" y="1526"/>
                    </a:lnTo>
                    <a:lnTo>
                      <a:pt x="213" y="1542"/>
                    </a:lnTo>
                    <a:lnTo>
                      <a:pt x="228" y="1558"/>
                    </a:lnTo>
                    <a:lnTo>
                      <a:pt x="245" y="1573"/>
                    </a:lnTo>
                    <a:lnTo>
                      <a:pt x="261" y="1589"/>
                    </a:lnTo>
                    <a:lnTo>
                      <a:pt x="277" y="1605"/>
                    </a:lnTo>
                    <a:lnTo>
                      <a:pt x="294" y="1620"/>
                    </a:lnTo>
                    <a:lnTo>
                      <a:pt x="311" y="1633"/>
                    </a:lnTo>
                    <a:lnTo>
                      <a:pt x="327" y="1648"/>
                    </a:lnTo>
                    <a:lnTo>
                      <a:pt x="345" y="1662"/>
                    </a:lnTo>
                    <a:lnTo>
                      <a:pt x="362" y="1675"/>
                    </a:lnTo>
                    <a:lnTo>
                      <a:pt x="378" y="1688"/>
                    </a:lnTo>
                    <a:lnTo>
                      <a:pt x="396" y="1701"/>
                    </a:lnTo>
                    <a:lnTo>
                      <a:pt x="413" y="1714"/>
                    </a:lnTo>
                    <a:lnTo>
                      <a:pt x="430" y="1726"/>
                    </a:lnTo>
                    <a:lnTo>
                      <a:pt x="446" y="1737"/>
                    </a:lnTo>
                    <a:lnTo>
                      <a:pt x="462" y="1749"/>
                    </a:lnTo>
                    <a:lnTo>
                      <a:pt x="479" y="1760"/>
                    </a:lnTo>
                    <a:lnTo>
                      <a:pt x="496" y="1771"/>
                    </a:lnTo>
                    <a:lnTo>
                      <a:pt x="511" y="1781"/>
                    </a:lnTo>
                    <a:lnTo>
                      <a:pt x="526" y="1790"/>
                    </a:lnTo>
                    <a:lnTo>
                      <a:pt x="542" y="1800"/>
                    </a:lnTo>
                    <a:lnTo>
                      <a:pt x="557" y="1809"/>
                    </a:lnTo>
                    <a:lnTo>
                      <a:pt x="570" y="1817"/>
                    </a:lnTo>
                    <a:lnTo>
                      <a:pt x="584" y="1825"/>
                    </a:lnTo>
                    <a:lnTo>
                      <a:pt x="597" y="1834"/>
                    </a:lnTo>
                    <a:lnTo>
                      <a:pt x="611" y="1843"/>
                    </a:lnTo>
                    <a:lnTo>
                      <a:pt x="622" y="1849"/>
                    </a:lnTo>
                    <a:lnTo>
                      <a:pt x="634" y="1856"/>
                    </a:lnTo>
                    <a:lnTo>
                      <a:pt x="645" y="1863"/>
                    </a:lnTo>
                    <a:lnTo>
                      <a:pt x="656" y="1869"/>
                    </a:lnTo>
                    <a:lnTo>
                      <a:pt x="665" y="1874"/>
                    </a:lnTo>
                    <a:lnTo>
                      <a:pt x="675" y="1879"/>
                    </a:lnTo>
                    <a:lnTo>
                      <a:pt x="684" y="1884"/>
                    </a:lnTo>
                    <a:lnTo>
                      <a:pt x="693" y="1889"/>
                    </a:lnTo>
                    <a:lnTo>
                      <a:pt x="704" y="1896"/>
                    </a:lnTo>
                    <a:lnTo>
                      <a:pt x="716" y="1901"/>
                    </a:lnTo>
                    <a:lnTo>
                      <a:pt x="720" y="1903"/>
                    </a:lnTo>
                    <a:lnTo>
                      <a:pt x="725" y="1905"/>
                    </a:lnTo>
                    <a:lnTo>
                      <a:pt x="723" y="1853"/>
                    </a:lnTo>
                    <a:lnTo>
                      <a:pt x="720" y="1801"/>
                    </a:lnTo>
                    <a:lnTo>
                      <a:pt x="719" y="1748"/>
                    </a:lnTo>
                    <a:lnTo>
                      <a:pt x="717" y="1695"/>
                    </a:lnTo>
                    <a:lnTo>
                      <a:pt x="715" y="1643"/>
                    </a:lnTo>
                    <a:lnTo>
                      <a:pt x="714" y="1590"/>
                    </a:lnTo>
                    <a:lnTo>
                      <a:pt x="712" y="1538"/>
                    </a:lnTo>
                    <a:lnTo>
                      <a:pt x="710" y="1486"/>
                    </a:lnTo>
                    <a:lnTo>
                      <a:pt x="706" y="1484"/>
                    </a:lnTo>
                    <a:lnTo>
                      <a:pt x="703" y="1482"/>
                    </a:lnTo>
                    <a:lnTo>
                      <a:pt x="691" y="1475"/>
                    </a:lnTo>
                    <a:lnTo>
                      <a:pt x="679" y="1468"/>
                    </a:lnTo>
                    <a:lnTo>
                      <a:pt x="670" y="1463"/>
                    </a:lnTo>
                    <a:lnTo>
                      <a:pt x="662" y="1458"/>
                    </a:lnTo>
                    <a:lnTo>
                      <a:pt x="654" y="1453"/>
                    </a:lnTo>
                    <a:lnTo>
                      <a:pt x="647" y="1447"/>
                    </a:lnTo>
                    <a:lnTo>
                      <a:pt x="638" y="1439"/>
                    </a:lnTo>
                    <a:lnTo>
                      <a:pt x="629" y="1432"/>
                    </a:lnTo>
                    <a:lnTo>
                      <a:pt x="619" y="1424"/>
                    </a:lnTo>
                    <a:lnTo>
                      <a:pt x="611" y="1417"/>
                    </a:lnTo>
                    <a:lnTo>
                      <a:pt x="601" y="1407"/>
                    </a:lnTo>
                    <a:lnTo>
                      <a:pt x="592" y="1396"/>
                    </a:lnTo>
                    <a:lnTo>
                      <a:pt x="583" y="1387"/>
                    </a:lnTo>
                    <a:lnTo>
                      <a:pt x="573" y="1377"/>
                    </a:lnTo>
                    <a:lnTo>
                      <a:pt x="565" y="1366"/>
                    </a:lnTo>
                    <a:lnTo>
                      <a:pt x="557" y="1354"/>
                    </a:lnTo>
                    <a:lnTo>
                      <a:pt x="549" y="1342"/>
                    </a:lnTo>
                    <a:lnTo>
                      <a:pt x="541" y="1331"/>
                    </a:lnTo>
                    <a:lnTo>
                      <a:pt x="535" y="1318"/>
                    </a:lnTo>
                    <a:lnTo>
                      <a:pt x="529" y="1303"/>
                    </a:lnTo>
                    <a:lnTo>
                      <a:pt x="523" y="1290"/>
                    </a:lnTo>
                    <a:lnTo>
                      <a:pt x="517" y="1276"/>
                    </a:lnTo>
                    <a:lnTo>
                      <a:pt x="515" y="1261"/>
                    </a:lnTo>
                    <a:lnTo>
                      <a:pt x="513" y="1244"/>
                    </a:lnTo>
                    <a:lnTo>
                      <a:pt x="511" y="1229"/>
                    </a:lnTo>
                    <a:lnTo>
                      <a:pt x="509" y="1214"/>
                    </a:lnTo>
                    <a:lnTo>
                      <a:pt x="509" y="1206"/>
                    </a:lnTo>
                    <a:lnTo>
                      <a:pt x="509" y="1199"/>
                    </a:lnTo>
                    <a:lnTo>
                      <a:pt x="510" y="1193"/>
                    </a:lnTo>
                    <a:lnTo>
                      <a:pt x="511" y="1186"/>
                    </a:lnTo>
                    <a:lnTo>
                      <a:pt x="513" y="1178"/>
                    </a:lnTo>
                    <a:lnTo>
                      <a:pt x="515" y="1171"/>
                    </a:lnTo>
                    <a:lnTo>
                      <a:pt x="518" y="1165"/>
                    </a:lnTo>
                    <a:lnTo>
                      <a:pt x="521" y="1158"/>
                    </a:lnTo>
                    <a:lnTo>
                      <a:pt x="525" y="1151"/>
                    </a:lnTo>
                    <a:lnTo>
                      <a:pt x="530" y="1143"/>
                    </a:lnTo>
                    <a:lnTo>
                      <a:pt x="535" y="1137"/>
                    </a:lnTo>
                    <a:lnTo>
                      <a:pt x="541" y="1131"/>
                    </a:lnTo>
                    <a:lnTo>
                      <a:pt x="548" y="1125"/>
                    </a:lnTo>
                    <a:lnTo>
                      <a:pt x="555" y="1118"/>
                    </a:lnTo>
                    <a:lnTo>
                      <a:pt x="565" y="1112"/>
                    </a:lnTo>
                    <a:lnTo>
                      <a:pt x="576" y="1106"/>
                    </a:lnTo>
                    <a:lnTo>
                      <a:pt x="587" y="1100"/>
                    </a:lnTo>
                    <a:lnTo>
                      <a:pt x="599" y="1095"/>
                    </a:lnTo>
                    <a:lnTo>
                      <a:pt x="612" y="1089"/>
                    </a:lnTo>
                    <a:lnTo>
                      <a:pt x="627" y="1084"/>
                    </a:lnTo>
                    <a:lnTo>
                      <a:pt x="635" y="1081"/>
                    </a:lnTo>
                    <a:lnTo>
                      <a:pt x="643" y="1079"/>
                    </a:lnTo>
                    <a:lnTo>
                      <a:pt x="651" y="1076"/>
                    </a:lnTo>
                    <a:lnTo>
                      <a:pt x="659" y="1073"/>
                    </a:lnTo>
                    <a:lnTo>
                      <a:pt x="668" y="1071"/>
                    </a:lnTo>
                    <a:lnTo>
                      <a:pt x="679" y="1069"/>
                    </a:lnTo>
                    <a:lnTo>
                      <a:pt x="689" y="1067"/>
                    </a:lnTo>
                    <a:lnTo>
                      <a:pt x="699" y="1065"/>
                    </a:lnTo>
                    <a:lnTo>
                      <a:pt x="710" y="1063"/>
                    </a:lnTo>
                    <a:lnTo>
                      <a:pt x="721" y="1060"/>
                    </a:lnTo>
                    <a:lnTo>
                      <a:pt x="733" y="1058"/>
                    </a:lnTo>
                    <a:lnTo>
                      <a:pt x="744" y="1057"/>
                    </a:lnTo>
                    <a:lnTo>
                      <a:pt x="756" y="1054"/>
                    </a:lnTo>
                    <a:lnTo>
                      <a:pt x="769" y="1052"/>
                    </a:lnTo>
                    <a:lnTo>
                      <a:pt x="782" y="1050"/>
                    </a:lnTo>
                    <a:lnTo>
                      <a:pt x="794" y="1048"/>
                    </a:lnTo>
                    <a:lnTo>
                      <a:pt x="809" y="1047"/>
                    </a:lnTo>
                    <a:lnTo>
                      <a:pt x="824" y="1046"/>
                    </a:lnTo>
                    <a:lnTo>
                      <a:pt x="839" y="1045"/>
                    </a:lnTo>
                    <a:lnTo>
                      <a:pt x="854" y="1045"/>
                    </a:lnTo>
                    <a:lnTo>
                      <a:pt x="871" y="1043"/>
                    </a:lnTo>
                    <a:lnTo>
                      <a:pt x="887" y="1042"/>
                    </a:lnTo>
                    <a:lnTo>
                      <a:pt x="903" y="1041"/>
                    </a:lnTo>
                    <a:lnTo>
                      <a:pt x="920" y="1040"/>
                    </a:lnTo>
                    <a:lnTo>
                      <a:pt x="937" y="1038"/>
                    </a:lnTo>
                    <a:lnTo>
                      <a:pt x="955" y="1037"/>
                    </a:lnTo>
                    <a:lnTo>
                      <a:pt x="973" y="1036"/>
                    </a:lnTo>
                    <a:lnTo>
                      <a:pt x="991" y="1034"/>
                    </a:lnTo>
                    <a:lnTo>
                      <a:pt x="1009" y="1033"/>
                    </a:lnTo>
                    <a:lnTo>
                      <a:pt x="1028" y="1032"/>
                    </a:lnTo>
                    <a:lnTo>
                      <a:pt x="1046" y="1031"/>
                    </a:lnTo>
                    <a:lnTo>
                      <a:pt x="1065" y="1029"/>
                    </a:lnTo>
                    <a:lnTo>
                      <a:pt x="1083" y="1028"/>
                    </a:lnTo>
                    <a:lnTo>
                      <a:pt x="1101" y="1025"/>
                    </a:lnTo>
                    <a:lnTo>
                      <a:pt x="1120" y="1023"/>
                    </a:lnTo>
                    <a:lnTo>
                      <a:pt x="1138" y="1021"/>
                    </a:lnTo>
                    <a:lnTo>
                      <a:pt x="1157" y="1019"/>
                    </a:lnTo>
                    <a:lnTo>
                      <a:pt x="1176" y="1016"/>
                    </a:lnTo>
                    <a:lnTo>
                      <a:pt x="1195" y="1013"/>
                    </a:lnTo>
                    <a:lnTo>
                      <a:pt x="1214" y="1010"/>
                    </a:lnTo>
                    <a:lnTo>
                      <a:pt x="1233" y="1007"/>
                    </a:lnTo>
                    <a:lnTo>
                      <a:pt x="1251" y="1003"/>
                    </a:lnTo>
                    <a:lnTo>
                      <a:pt x="1271" y="999"/>
                    </a:lnTo>
                    <a:lnTo>
                      <a:pt x="1289" y="996"/>
                    </a:lnTo>
                    <a:lnTo>
                      <a:pt x="1308" y="991"/>
                    </a:lnTo>
                    <a:lnTo>
                      <a:pt x="1326" y="987"/>
                    </a:lnTo>
                    <a:lnTo>
                      <a:pt x="1343" y="983"/>
                    </a:lnTo>
                    <a:lnTo>
                      <a:pt x="1362" y="979"/>
                    </a:lnTo>
                    <a:lnTo>
                      <a:pt x="1379" y="974"/>
                    </a:lnTo>
                    <a:lnTo>
                      <a:pt x="1397" y="969"/>
                    </a:lnTo>
                    <a:lnTo>
                      <a:pt x="1415" y="962"/>
                    </a:lnTo>
                    <a:lnTo>
                      <a:pt x="1433" y="957"/>
                    </a:lnTo>
                    <a:lnTo>
                      <a:pt x="1449" y="951"/>
                    </a:lnTo>
                    <a:lnTo>
                      <a:pt x="1467" y="944"/>
                    </a:lnTo>
                    <a:lnTo>
                      <a:pt x="1484" y="938"/>
                    </a:lnTo>
                    <a:lnTo>
                      <a:pt x="1500" y="932"/>
                    </a:lnTo>
                    <a:lnTo>
                      <a:pt x="1517" y="924"/>
                    </a:lnTo>
                    <a:lnTo>
                      <a:pt x="1532" y="917"/>
                    </a:lnTo>
                    <a:lnTo>
                      <a:pt x="1547" y="908"/>
                    </a:lnTo>
                    <a:lnTo>
                      <a:pt x="1563" y="901"/>
                    </a:lnTo>
                    <a:lnTo>
                      <a:pt x="1577" y="893"/>
                    </a:lnTo>
                    <a:lnTo>
                      <a:pt x="1591" y="884"/>
                    </a:lnTo>
                    <a:lnTo>
                      <a:pt x="1606" y="876"/>
                    </a:lnTo>
                    <a:lnTo>
                      <a:pt x="1620" y="866"/>
                    </a:lnTo>
                    <a:lnTo>
                      <a:pt x="1632" y="857"/>
                    </a:lnTo>
                    <a:lnTo>
                      <a:pt x="1645" y="847"/>
                    </a:lnTo>
                    <a:lnTo>
                      <a:pt x="1659" y="837"/>
                    </a:lnTo>
                    <a:lnTo>
                      <a:pt x="1671" y="827"/>
                    </a:lnTo>
                    <a:lnTo>
                      <a:pt x="1682" y="815"/>
                    </a:lnTo>
                    <a:lnTo>
                      <a:pt x="1693" y="803"/>
                    </a:lnTo>
                    <a:lnTo>
                      <a:pt x="1705" y="791"/>
                    </a:lnTo>
                    <a:lnTo>
                      <a:pt x="1715" y="779"/>
                    </a:lnTo>
                    <a:lnTo>
                      <a:pt x="1724" y="765"/>
                    </a:lnTo>
                    <a:lnTo>
                      <a:pt x="1733" y="753"/>
                    </a:lnTo>
                    <a:lnTo>
                      <a:pt x="1741" y="740"/>
                    </a:lnTo>
                    <a:lnTo>
                      <a:pt x="1751" y="728"/>
                    </a:lnTo>
                    <a:lnTo>
                      <a:pt x="1758" y="712"/>
                    </a:lnTo>
                    <a:lnTo>
                      <a:pt x="1765" y="698"/>
                    </a:lnTo>
                    <a:lnTo>
                      <a:pt x="1771" y="684"/>
                    </a:lnTo>
                    <a:lnTo>
                      <a:pt x="1778" y="668"/>
                    </a:lnTo>
                    <a:lnTo>
                      <a:pt x="1782" y="652"/>
                    </a:lnTo>
                    <a:lnTo>
                      <a:pt x="1786" y="636"/>
                    </a:lnTo>
                    <a:lnTo>
                      <a:pt x="1790" y="619"/>
                    </a:lnTo>
                    <a:lnTo>
                      <a:pt x="1795" y="603"/>
                    </a:lnTo>
                    <a:lnTo>
                      <a:pt x="1797" y="585"/>
                    </a:lnTo>
                    <a:lnTo>
                      <a:pt x="1798" y="566"/>
                    </a:lnTo>
                    <a:lnTo>
                      <a:pt x="1799" y="548"/>
                    </a:lnTo>
                    <a:lnTo>
                      <a:pt x="1801" y="530"/>
                    </a:lnTo>
                    <a:lnTo>
                      <a:pt x="1800" y="511"/>
                    </a:lnTo>
                    <a:lnTo>
                      <a:pt x="1799" y="492"/>
                    </a:lnTo>
                    <a:lnTo>
                      <a:pt x="1798" y="473"/>
                    </a:lnTo>
                    <a:lnTo>
                      <a:pt x="1797" y="454"/>
                    </a:lnTo>
                    <a:lnTo>
                      <a:pt x="1795" y="437"/>
                    </a:lnTo>
                    <a:lnTo>
                      <a:pt x="1791" y="418"/>
                    </a:lnTo>
                    <a:lnTo>
                      <a:pt x="1789" y="401"/>
                    </a:lnTo>
                    <a:lnTo>
                      <a:pt x="1786" y="383"/>
                    </a:lnTo>
                    <a:lnTo>
                      <a:pt x="1783" y="366"/>
                    </a:lnTo>
                    <a:lnTo>
                      <a:pt x="1779" y="349"/>
                    </a:lnTo>
                    <a:lnTo>
                      <a:pt x="1776" y="333"/>
                    </a:lnTo>
                    <a:lnTo>
                      <a:pt x="1773" y="315"/>
                    </a:lnTo>
                    <a:lnTo>
                      <a:pt x="1767" y="299"/>
                    </a:lnTo>
                    <a:lnTo>
                      <a:pt x="1762" y="283"/>
                    </a:lnTo>
                    <a:lnTo>
                      <a:pt x="1757" y="266"/>
                    </a:lnTo>
                    <a:lnTo>
                      <a:pt x="1751" y="250"/>
                    </a:lnTo>
                    <a:lnTo>
                      <a:pt x="1744" y="235"/>
                    </a:lnTo>
                    <a:lnTo>
                      <a:pt x="1738" y="218"/>
                    </a:lnTo>
                    <a:lnTo>
                      <a:pt x="1731" y="203"/>
                    </a:lnTo>
                    <a:lnTo>
                      <a:pt x="1725" y="187"/>
                    </a:lnTo>
                    <a:lnTo>
                      <a:pt x="1718" y="171"/>
                    </a:lnTo>
                    <a:lnTo>
                      <a:pt x="1710" y="157"/>
                    </a:lnTo>
                    <a:lnTo>
                      <a:pt x="1703" y="142"/>
                    </a:lnTo>
                    <a:lnTo>
                      <a:pt x="1695" y="126"/>
                    </a:lnTo>
                    <a:lnTo>
                      <a:pt x="1686" y="112"/>
                    </a:lnTo>
                    <a:lnTo>
                      <a:pt x="1678" y="98"/>
                    </a:lnTo>
                    <a:lnTo>
                      <a:pt x="1670" y="84"/>
                    </a:lnTo>
                    <a:lnTo>
                      <a:pt x="1662" y="70"/>
                    </a:lnTo>
                    <a:lnTo>
                      <a:pt x="1652" y="57"/>
                    </a:lnTo>
                    <a:lnTo>
                      <a:pt x="1642" y="44"/>
                    </a:lnTo>
                    <a:lnTo>
                      <a:pt x="1632" y="30"/>
                    </a:lnTo>
                    <a:lnTo>
                      <a:pt x="1623" y="17"/>
                    </a:lnTo>
                    <a:lnTo>
                      <a:pt x="1620" y="17"/>
                    </a:lnTo>
                    <a:lnTo>
                      <a:pt x="1618" y="17"/>
                    </a:lnTo>
                    <a:lnTo>
                      <a:pt x="1609" y="19"/>
                    </a:lnTo>
                    <a:lnTo>
                      <a:pt x="1600" y="21"/>
                    </a:lnTo>
                    <a:lnTo>
                      <a:pt x="1585" y="24"/>
                    </a:lnTo>
                    <a:lnTo>
                      <a:pt x="1570" y="26"/>
                    </a:lnTo>
                    <a:lnTo>
                      <a:pt x="1561" y="27"/>
                    </a:lnTo>
                    <a:lnTo>
                      <a:pt x="1552" y="28"/>
                    </a:lnTo>
                    <a:lnTo>
                      <a:pt x="1542" y="28"/>
                    </a:lnTo>
                    <a:lnTo>
                      <a:pt x="1534" y="29"/>
                    </a:lnTo>
                    <a:lnTo>
                      <a:pt x="1522" y="31"/>
                    </a:lnTo>
                    <a:lnTo>
                      <a:pt x="1511" y="32"/>
                    </a:lnTo>
                    <a:lnTo>
                      <a:pt x="1499" y="33"/>
                    </a:lnTo>
                    <a:lnTo>
                      <a:pt x="1488" y="34"/>
                    </a:lnTo>
                    <a:lnTo>
                      <a:pt x="1475" y="35"/>
                    </a:lnTo>
                    <a:lnTo>
                      <a:pt x="1463" y="36"/>
                    </a:lnTo>
                    <a:lnTo>
                      <a:pt x="1450" y="36"/>
                    </a:lnTo>
                    <a:lnTo>
                      <a:pt x="1438" y="37"/>
                    </a:lnTo>
                    <a:lnTo>
                      <a:pt x="1425" y="37"/>
                    </a:lnTo>
                    <a:lnTo>
                      <a:pt x="1411" y="39"/>
                    </a:lnTo>
                    <a:lnTo>
                      <a:pt x="1397" y="39"/>
                    </a:lnTo>
                    <a:lnTo>
                      <a:pt x="1384" y="39"/>
                    </a:lnTo>
                    <a:lnTo>
                      <a:pt x="1370" y="39"/>
                    </a:lnTo>
                    <a:lnTo>
                      <a:pt x="1356" y="39"/>
                    </a:lnTo>
                    <a:lnTo>
                      <a:pt x="1341" y="37"/>
                    </a:lnTo>
                    <a:lnTo>
                      <a:pt x="1328" y="37"/>
                    </a:lnTo>
                    <a:lnTo>
                      <a:pt x="1319" y="36"/>
                    </a:lnTo>
                    <a:lnTo>
                      <a:pt x="1311" y="36"/>
                    </a:lnTo>
                    <a:lnTo>
                      <a:pt x="1302" y="35"/>
                    </a:lnTo>
                    <a:lnTo>
                      <a:pt x="1293" y="35"/>
                    </a:lnTo>
                    <a:lnTo>
                      <a:pt x="1285" y="34"/>
                    </a:lnTo>
                    <a:lnTo>
                      <a:pt x="1277" y="33"/>
                    </a:lnTo>
                    <a:lnTo>
                      <a:pt x="1268" y="32"/>
                    </a:lnTo>
                    <a:lnTo>
                      <a:pt x="1260" y="31"/>
                    </a:lnTo>
                    <a:lnTo>
                      <a:pt x="1251" y="30"/>
                    </a:lnTo>
                    <a:lnTo>
                      <a:pt x="1244" y="30"/>
                    </a:lnTo>
                    <a:lnTo>
                      <a:pt x="1236" y="30"/>
                    </a:lnTo>
                    <a:lnTo>
                      <a:pt x="1228" y="29"/>
                    </a:lnTo>
                    <a:lnTo>
                      <a:pt x="1220" y="28"/>
                    </a:lnTo>
                    <a:lnTo>
                      <a:pt x="1211" y="27"/>
                    </a:lnTo>
                    <a:lnTo>
                      <a:pt x="1202" y="26"/>
                    </a:lnTo>
                    <a:lnTo>
                      <a:pt x="1194" y="26"/>
                    </a:lnTo>
                    <a:lnTo>
                      <a:pt x="1186" y="25"/>
                    </a:lnTo>
                    <a:lnTo>
                      <a:pt x="1178" y="24"/>
                    </a:lnTo>
                    <a:lnTo>
                      <a:pt x="1171" y="23"/>
                    </a:lnTo>
                    <a:lnTo>
                      <a:pt x="1163" y="22"/>
                    </a:lnTo>
                    <a:lnTo>
                      <a:pt x="1147" y="22"/>
                    </a:lnTo>
                    <a:lnTo>
                      <a:pt x="1133" y="21"/>
                    </a:lnTo>
                    <a:lnTo>
                      <a:pt x="1118" y="19"/>
                    </a:lnTo>
                    <a:lnTo>
                      <a:pt x="1102" y="16"/>
                    </a:lnTo>
                    <a:lnTo>
                      <a:pt x="1090" y="15"/>
                    </a:lnTo>
                    <a:lnTo>
                      <a:pt x="1077" y="14"/>
                    </a:lnTo>
                    <a:lnTo>
                      <a:pt x="1064" y="13"/>
                    </a:lnTo>
                    <a:lnTo>
                      <a:pt x="1050" y="12"/>
                    </a:lnTo>
                    <a:lnTo>
                      <a:pt x="1039" y="11"/>
                    </a:lnTo>
                    <a:lnTo>
                      <a:pt x="1027" y="8"/>
                    </a:lnTo>
                    <a:lnTo>
                      <a:pt x="1017" y="7"/>
                    </a:lnTo>
                    <a:lnTo>
                      <a:pt x="1007" y="6"/>
                    </a:lnTo>
                    <a:lnTo>
                      <a:pt x="999" y="5"/>
                    </a:lnTo>
                    <a:lnTo>
                      <a:pt x="991" y="4"/>
                    </a:lnTo>
                    <a:lnTo>
                      <a:pt x="984" y="4"/>
                    </a:lnTo>
                    <a:lnTo>
                      <a:pt x="978" y="3"/>
                    </a:lnTo>
                    <a:lnTo>
                      <a:pt x="972" y="3"/>
                    </a:lnTo>
                    <a:lnTo>
                      <a:pt x="966" y="2"/>
                    </a:lnTo>
                    <a:lnTo>
                      <a:pt x="962" y="1"/>
                    </a:lnTo>
                    <a:lnTo>
                      <a:pt x="959" y="1"/>
                    </a:lnTo>
                    <a:lnTo>
                      <a:pt x="958" y="0"/>
                    </a:lnTo>
                    <a:lnTo>
                      <a:pt x="957" y="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398480" y="4500720"/>
                <a:ext cx="70920" cy="84960"/>
              </a:xfrm>
              <a:custGeom>
                <a:avLst/>
                <a:gdLst/>
                <a:ahLst/>
                <a:rect l="l" t="t" r="r" b="b"/>
                <a:pathLst>
                  <a:path w="1421" h="1621">
                    <a:moveTo>
                      <a:pt x="752" y="62"/>
                    </a:moveTo>
                    <a:lnTo>
                      <a:pt x="753" y="81"/>
                    </a:lnTo>
                    <a:lnTo>
                      <a:pt x="755" y="100"/>
                    </a:lnTo>
                    <a:lnTo>
                      <a:pt x="756" y="119"/>
                    </a:lnTo>
                    <a:lnTo>
                      <a:pt x="758" y="138"/>
                    </a:lnTo>
                    <a:lnTo>
                      <a:pt x="763" y="142"/>
                    </a:lnTo>
                    <a:lnTo>
                      <a:pt x="769" y="146"/>
                    </a:lnTo>
                    <a:lnTo>
                      <a:pt x="780" y="156"/>
                    </a:lnTo>
                    <a:lnTo>
                      <a:pt x="792" y="165"/>
                    </a:lnTo>
                    <a:lnTo>
                      <a:pt x="800" y="173"/>
                    </a:lnTo>
                    <a:lnTo>
                      <a:pt x="808" y="180"/>
                    </a:lnTo>
                    <a:lnTo>
                      <a:pt x="818" y="189"/>
                    </a:lnTo>
                    <a:lnTo>
                      <a:pt x="826" y="196"/>
                    </a:lnTo>
                    <a:lnTo>
                      <a:pt x="836" y="206"/>
                    </a:lnTo>
                    <a:lnTo>
                      <a:pt x="847" y="216"/>
                    </a:lnTo>
                    <a:lnTo>
                      <a:pt x="857" y="226"/>
                    </a:lnTo>
                    <a:lnTo>
                      <a:pt x="868" y="237"/>
                    </a:lnTo>
                    <a:lnTo>
                      <a:pt x="878" y="248"/>
                    </a:lnTo>
                    <a:lnTo>
                      <a:pt x="888" y="260"/>
                    </a:lnTo>
                    <a:lnTo>
                      <a:pt x="898" y="271"/>
                    </a:lnTo>
                    <a:lnTo>
                      <a:pt x="907" y="283"/>
                    </a:lnTo>
                    <a:lnTo>
                      <a:pt x="917" y="295"/>
                    </a:lnTo>
                    <a:lnTo>
                      <a:pt x="925" y="306"/>
                    </a:lnTo>
                    <a:lnTo>
                      <a:pt x="933" y="318"/>
                    </a:lnTo>
                    <a:lnTo>
                      <a:pt x="941" y="331"/>
                    </a:lnTo>
                    <a:lnTo>
                      <a:pt x="947" y="343"/>
                    </a:lnTo>
                    <a:lnTo>
                      <a:pt x="953" y="355"/>
                    </a:lnTo>
                    <a:lnTo>
                      <a:pt x="959" y="368"/>
                    </a:lnTo>
                    <a:lnTo>
                      <a:pt x="966" y="380"/>
                    </a:lnTo>
                    <a:lnTo>
                      <a:pt x="968" y="392"/>
                    </a:lnTo>
                    <a:lnTo>
                      <a:pt x="970" y="404"/>
                    </a:lnTo>
                    <a:lnTo>
                      <a:pt x="973" y="416"/>
                    </a:lnTo>
                    <a:lnTo>
                      <a:pt x="975" y="429"/>
                    </a:lnTo>
                    <a:lnTo>
                      <a:pt x="975" y="440"/>
                    </a:lnTo>
                    <a:lnTo>
                      <a:pt x="974" y="451"/>
                    </a:lnTo>
                    <a:lnTo>
                      <a:pt x="971" y="461"/>
                    </a:lnTo>
                    <a:lnTo>
                      <a:pt x="968" y="470"/>
                    </a:lnTo>
                    <a:lnTo>
                      <a:pt x="963" y="480"/>
                    </a:lnTo>
                    <a:lnTo>
                      <a:pt x="957" y="489"/>
                    </a:lnTo>
                    <a:lnTo>
                      <a:pt x="951" y="497"/>
                    </a:lnTo>
                    <a:lnTo>
                      <a:pt x="945" y="506"/>
                    </a:lnTo>
                    <a:lnTo>
                      <a:pt x="937" y="513"/>
                    </a:lnTo>
                    <a:lnTo>
                      <a:pt x="928" y="520"/>
                    </a:lnTo>
                    <a:lnTo>
                      <a:pt x="919" y="528"/>
                    </a:lnTo>
                    <a:lnTo>
                      <a:pt x="909" y="534"/>
                    </a:lnTo>
                    <a:lnTo>
                      <a:pt x="897" y="539"/>
                    </a:lnTo>
                    <a:lnTo>
                      <a:pt x="886" y="544"/>
                    </a:lnTo>
                    <a:lnTo>
                      <a:pt x="874" y="550"/>
                    </a:lnTo>
                    <a:lnTo>
                      <a:pt x="861" y="555"/>
                    </a:lnTo>
                    <a:lnTo>
                      <a:pt x="847" y="560"/>
                    </a:lnTo>
                    <a:lnTo>
                      <a:pt x="834" y="564"/>
                    </a:lnTo>
                    <a:lnTo>
                      <a:pt x="820" y="567"/>
                    </a:lnTo>
                    <a:lnTo>
                      <a:pt x="804" y="572"/>
                    </a:lnTo>
                    <a:lnTo>
                      <a:pt x="795" y="573"/>
                    </a:lnTo>
                    <a:lnTo>
                      <a:pt x="787" y="575"/>
                    </a:lnTo>
                    <a:lnTo>
                      <a:pt x="779" y="576"/>
                    </a:lnTo>
                    <a:lnTo>
                      <a:pt x="771" y="578"/>
                    </a:lnTo>
                    <a:lnTo>
                      <a:pt x="761" y="579"/>
                    </a:lnTo>
                    <a:lnTo>
                      <a:pt x="753" y="581"/>
                    </a:lnTo>
                    <a:lnTo>
                      <a:pt x="745" y="582"/>
                    </a:lnTo>
                    <a:lnTo>
                      <a:pt x="736" y="584"/>
                    </a:lnTo>
                    <a:lnTo>
                      <a:pt x="727" y="585"/>
                    </a:lnTo>
                    <a:lnTo>
                      <a:pt x="719" y="587"/>
                    </a:lnTo>
                    <a:lnTo>
                      <a:pt x="709" y="588"/>
                    </a:lnTo>
                    <a:lnTo>
                      <a:pt x="700" y="589"/>
                    </a:lnTo>
                    <a:lnTo>
                      <a:pt x="691" y="590"/>
                    </a:lnTo>
                    <a:lnTo>
                      <a:pt x="682" y="591"/>
                    </a:lnTo>
                    <a:lnTo>
                      <a:pt x="672" y="592"/>
                    </a:lnTo>
                    <a:lnTo>
                      <a:pt x="662" y="592"/>
                    </a:lnTo>
                    <a:lnTo>
                      <a:pt x="652" y="594"/>
                    </a:lnTo>
                    <a:lnTo>
                      <a:pt x="643" y="595"/>
                    </a:lnTo>
                    <a:lnTo>
                      <a:pt x="633" y="596"/>
                    </a:lnTo>
                    <a:lnTo>
                      <a:pt x="624" y="597"/>
                    </a:lnTo>
                    <a:lnTo>
                      <a:pt x="613" y="598"/>
                    </a:lnTo>
                    <a:lnTo>
                      <a:pt x="603" y="599"/>
                    </a:lnTo>
                    <a:lnTo>
                      <a:pt x="593" y="599"/>
                    </a:lnTo>
                    <a:lnTo>
                      <a:pt x="584" y="600"/>
                    </a:lnTo>
                    <a:lnTo>
                      <a:pt x="573" y="601"/>
                    </a:lnTo>
                    <a:lnTo>
                      <a:pt x="562" y="602"/>
                    </a:lnTo>
                    <a:lnTo>
                      <a:pt x="552" y="603"/>
                    </a:lnTo>
                    <a:lnTo>
                      <a:pt x="541" y="604"/>
                    </a:lnTo>
                    <a:lnTo>
                      <a:pt x="530" y="605"/>
                    </a:lnTo>
                    <a:lnTo>
                      <a:pt x="518" y="606"/>
                    </a:lnTo>
                    <a:lnTo>
                      <a:pt x="507" y="607"/>
                    </a:lnTo>
                    <a:lnTo>
                      <a:pt x="496" y="607"/>
                    </a:lnTo>
                    <a:lnTo>
                      <a:pt x="484" y="608"/>
                    </a:lnTo>
                    <a:lnTo>
                      <a:pt x="471" y="610"/>
                    </a:lnTo>
                    <a:lnTo>
                      <a:pt x="459" y="611"/>
                    </a:lnTo>
                    <a:lnTo>
                      <a:pt x="448" y="612"/>
                    </a:lnTo>
                    <a:lnTo>
                      <a:pt x="436" y="614"/>
                    </a:lnTo>
                    <a:lnTo>
                      <a:pt x="423" y="616"/>
                    </a:lnTo>
                    <a:lnTo>
                      <a:pt x="412" y="617"/>
                    </a:lnTo>
                    <a:lnTo>
                      <a:pt x="400" y="619"/>
                    </a:lnTo>
                    <a:lnTo>
                      <a:pt x="388" y="622"/>
                    </a:lnTo>
                    <a:lnTo>
                      <a:pt x="375" y="624"/>
                    </a:lnTo>
                    <a:lnTo>
                      <a:pt x="364" y="626"/>
                    </a:lnTo>
                    <a:lnTo>
                      <a:pt x="352" y="629"/>
                    </a:lnTo>
                    <a:lnTo>
                      <a:pt x="340" y="632"/>
                    </a:lnTo>
                    <a:lnTo>
                      <a:pt x="327" y="635"/>
                    </a:lnTo>
                    <a:lnTo>
                      <a:pt x="314" y="638"/>
                    </a:lnTo>
                    <a:lnTo>
                      <a:pt x="302" y="641"/>
                    </a:lnTo>
                    <a:lnTo>
                      <a:pt x="291" y="645"/>
                    </a:lnTo>
                    <a:lnTo>
                      <a:pt x="280" y="649"/>
                    </a:lnTo>
                    <a:lnTo>
                      <a:pt x="268" y="654"/>
                    </a:lnTo>
                    <a:lnTo>
                      <a:pt x="257" y="658"/>
                    </a:lnTo>
                    <a:lnTo>
                      <a:pt x="245" y="663"/>
                    </a:lnTo>
                    <a:lnTo>
                      <a:pt x="234" y="667"/>
                    </a:lnTo>
                    <a:lnTo>
                      <a:pt x="222" y="673"/>
                    </a:lnTo>
                    <a:lnTo>
                      <a:pt x="211" y="678"/>
                    </a:lnTo>
                    <a:lnTo>
                      <a:pt x="200" y="684"/>
                    </a:lnTo>
                    <a:lnTo>
                      <a:pt x="189" y="691"/>
                    </a:lnTo>
                    <a:lnTo>
                      <a:pt x="178" y="697"/>
                    </a:lnTo>
                    <a:lnTo>
                      <a:pt x="167" y="703"/>
                    </a:lnTo>
                    <a:lnTo>
                      <a:pt x="157" y="711"/>
                    </a:lnTo>
                    <a:lnTo>
                      <a:pt x="147" y="719"/>
                    </a:lnTo>
                    <a:lnTo>
                      <a:pt x="137" y="727"/>
                    </a:lnTo>
                    <a:lnTo>
                      <a:pt x="126" y="735"/>
                    </a:lnTo>
                    <a:lnTo>
                      <a:pt x="117" y="744"/>
                    </a:lnTo>
                    <a:lnTo>
                      <a:pt x="109" y="753"/>
                    </a:lnTo>
                    <a:lnTo>
                      <a:pt x="100" y="763"/>
                    </a:lnTo>
                    <a:lnTo>
                      <a:pt x="91" y="773"/>
                    </a:lnTo>
                    <a:lnTo>
                      <a:pt x="83" y="783"/>
                    </a:lnTo>
                    <a:lnTo>
                      <a:pt x="75" y="794"/>
                    </a:lnTo>
                    <a:lnTo>
                      <a:pt x="67" y="804"/>
                    </a:lnTo>
                    <a:lnTo>
                      <a:pt x="59" y="814"/>
                    </a:lnTo>
                    <a:lnTo>
                      <a:pt x="53" y="828"/>
                    </a:lnTo>
                    <a:lnTo>
                      <a:pt x="47" y="841"/>
                    </a:lnTo>
                    <a:lnTo>
                      <a:pt x="42" y="854"/>
                    </a:lnTo>
                    <a:lnTo>
                      <a:pt x="36" y="868"/>
                    </a:lnTo>
                    <a:lnTo>
                      <a:pt x="30" y="882"/>
                    </a:lnTo>
                    <a:lnTo>
                      <a:pt x="25" y="896"/>
                    </a:lnTo>
                    <a:lnTo>
                      <a:pt x="20" y="910"/>
                    </a:lnTo>
                    <a:lnTo>
                      <a:pt x="15" y="926"/>
                    </a:lnTo>
                    <a:lnTo>
                      <a:pt x="12" y="943"/>
                    </a:lnTo>
                    <a:lnTo>
                      <a:pt x="9" y="960"/>
                    </a:lnTo>
                    <a:lnTo>
                      <a:pt x="6" y="977"/>
                    </a:lnTo>
                    <a:lnTo>
                      <a:pt x="3" y="994"/>
                    </a:lnTo>
                    <a:lnTo>
                      <a:pt x="2" y="1014"/>
                    </a:lnTo>
                    <a:lnTo>
                      <a:pt x="2" y="1033"/>
                    </a:lnTo>
                    <a:lnTo>
                      <a:pt x="1" y="1052"/>
                    </a:lnTo>
                    <a:lnTo>
                      <a:pt x="0" y="1072"/>
                    </a:lnTo>
                    <a:lnTo>
                      <a:pt x="1" y="1086"/>
                    </a:lnTo>
                    <a:lnTo>
                      <a:pt x="3" y="1101"/>
                    </a:lnTo>
                    <a:lnTo>
                      <a:pt x="4" y="1117"/>
                    </a:lnTo>
                    <a:lnTo>
                      <a:pt x="6" y="1131"/>
                    </a:lnTo>
                    <a:lnTo>
                      <a:pt x="10" y="1146"/>
                    </a:lnTo>
                    <a:lnTo>
                      <a:pt x="13" y="1161"/>
                    </a:lnTo>
                    <a:lnTo>
                      <a:pt x="17" y="1175"/>
                    </a:lnTo>
                    <a:lnTo>
                      <a:pt x="21" y="1189"/>
                    </a:lnTo>
                    <a:lnTo>
                      <a:pt x="27" y="1203"/>
                    </a:lnTo>
                    <a:lnTo>
                      <a:pt x="34" y="1217"/>
                    </a:lnTo>
                    <a:lnTo>
                      <a:pt x="41" y="1230"/>
                    </a:lnTo>
                    <a:lnTo>
                      <a:pt x="47" y="1243"/>
                    </a:lnTo>
                    <a:lnTo>
                      <a:pt x="56" y="1257"/>
                    </a:lnTo>
                    <a:lnTo>
                      <a:pt x="64" y="1269"/>
                    </a:lnTo>
                    <a:lnTo>
                      <a:pt x="72" y="1282"/>
                    </a:lnTo>
                    <a:lnTo>
                      <a:pt x="81" y="1294"/>
                    </a:lnTo>
                    <a:lnTo>
                      <a:pt x="91" y="1307"/>
                    </a:lnTo>
                    <a:lnTo>
                      <a:pt x="101" y="1319"/>
                    </a:lnTo>
                    <a:lnTo>
                      <a:pt x="111" y="1331"/>
                    </a:lnTo>
                    <a:lnTo>
                      <a:pt x="121" y="1343"/>
                    </a:lnTo>
                    <a:lnTo>
                      <a:pt x="132" y="1355"/>
                    </a:lnTo>
                    <a:lnTo>
                      <a:pt x="144" y="1366"/>
                    </a:lnTo>
                    <a:lnTo>
                      <a:pt x="155" y="1377"/>
                    </a:lnTo>
                    <a:lnTo>
                      <a:pt x="166" y="1388"/>
                    </a:lnTo>
                    <a:lnTo>
                      <a:pt x="178" y="1399"/>
                    </a:lnTo>
                    <a:lnTo>
                      <a:pt x="191" y="1410"/>
                    </a:lnTo>
                    <a:lnTo>
                      <a:pt x="203" y="1421"/>
                    </a:lnTo>
                    <a:lnTo>
                      <a:pt x="215" y="1431"/>
                    </a:lnTo>
                    <a:lnTo>
                      <a:pt x="227" y="1441"/>
                    </a:lnTo>
                    <a:lnTo>
                      <a:pt x="240" y="1451"/>
                    </a:lnTo>
                    <a:lnTo>
                      <a:pt x="252" y="1461"/>
                    </a:lnTo>
                    <a:lnTo>
                      <a:pt x="265" y="1470"/>
                    </a:lnTo>
                    <a:lnTo>
                      <a:pt x="276" y="1478"/>
                    </a:lnTo>
                    <a:lnTo>
                      <a:pt x="289" y="1486"/>
                    </a:lnTo>
                    <a:lnTo>
                      <a:pt x="301" y="1494"/>
                    </a:lnTo>
                    <a:lnTo>
                      <a:pt x="312" y="1503"/>
                    </a:lnTo>
                    <a:lnTo>
                      <a:pt x="324" y="1511"/>
                    </a:lnTo>
                    <a:lnTo>
                      <a:pt x="336" y="1518"/>
                    </a:lnTo>
                    <a:lnTo>
                      <a:pt x="348" y="1526"/>
                    </a:lnTo>
                    <a:lnTo>
                      <a:pt x="360" y="1534"/>
                    </a:lnTo>
                    <a:lnTo>
                      <a:pt x="371" y="1540"/>
                    </a:lnTo>
                    <a:lnTo>
                      <a:pt x="384" y="1547"/>
                    </a:lnTo>
                    <a:lnTo>
                      <a:pt x="395" y="1553"/>
                    </a:lnTo>
                    <a:lnTo>
                      <a:pt x="406" y="1559"/>
                    </a:lnTo>
                    <a:lnTo>
                      <a:pt x="415" y="1565"/>
                    </a:lnTo>
                    <a:lnTo>
                      <a:pt x="426" y="1571"/>
                    </a:lnTo>
                    <a:lnTo>
                      <a:pt x="436" y="1577"/>
                    </a:lnTo>
                    <a:lnTo>
                      <a:pt x="446" y="1582"/>
                    </a:lnTo>
                    <a:lnTo>
                      <a:pt x="454" y="1586"/>
                    </a:lnTo>
                    <a:lnTo>
                      <a:pt x="462" y="1590"/>
                    </a:lnTo>
                    <a:lnTo>
                      <a:pt x="471" y="1594"/>
                    </a:lnTo>
                    <a:lnTo>
                      <a:pt x="480" y="1599"/>
                    </a:lnTo>
                    <a:lnTo>
                      <a:pt x="493" y="1606"/>
                    </a:lnTo>
                    <a:lnTo>
                      <a:pt x="505" y="1612"/>
                    </a:lnTo>
                    <a:lnTo>
                      <a:pt x="513" y="1615"/>
                    </a:lnTo>
                    <a:lnTo>
                      <a:pt x="521" y="1618"/>
                    </a:lnTo>
                    <a:lnTo>
                      <a:pt x="525" y="1620"/>
                    </a:lnTo>
                    <a:lnTo>
                      <a:pt x="528" y="1621"/>
                    </a:lnTo>
                    <a:lnTo>
                      <a:pt x="528" y="1584"/>
                    </a:lnTo>
                    <a:lnTo>
                      <a:pt x="528" y="1548"/>
                    </a:lnTo>
                    <a:lnTo>
                      <a:pt x="528" y="1511"/>
                    </a:lnTo>
                    <a:lnTo>
                      <a:pt x="528" y="1474"/>
                    </a:lnTo>
                    <a:lnTo>
                      <a:pt x="528" y="1437"/>
                    </a:lnTo>
                    <a:lnTo>
                      <a:pt x="528" y="1401"/>
                    </a:lnTo>
                    <a:lnTo>
                      <a:pt x="528" y="1363"/>
                    </a:lnTo>
                    <a:lnTo>
                      <a:pt x="528" y="1326"/>
                    </a:lnTo>
                    <a:lnTo>
                      <a:pt x="525" y="1324"/>
                    </a:lnTo>
                    <a:lnTo>
                      <a:pt x="521" y="1323"/>
                    </a:lnTo>
                    <a:lnTo>
                      <a:pt x="514" y="1319"/>
                    </a:lnTo>
                    <a:lnTo>
                      <a:pt x="507" y="1314"/>
                    </a:lnTo>
                    <a:lnTo>
                      <a:pt x="496" y="1306"/>
                    </a:lnTo>
                    <a:lnTo>
                      <a:pt x="486" y="1296"/>
                    </a:lnTo>
                    <a:lnTo>
                      <a:pt x="475" y="1285"/>
                    </a:lnTo>
                    <a:lnTo>
                      <a:pt x="464" y="1273"/>
                    </a:lnTo>
                    <a:lnTo>
                      <a:pt x="452" y="1259"/>
                    </a:lnTo>
                    <a:lnTo>
                      <a:pt x="440" y="1243"/>
                    </a:lnTo>
                    <a:lnTo>
                      <a:pt x="435" y="1234"/>
                    </a:lnTo>
                    <a:lnTo>
                      <a:pt x="429" y="1225"/>
                    </a:lnTo>
                    <a:lnTo>
                      <a:pt x="423" y="1216"/>
                    </a:lnTo>
                    <a:lnTo>
                      <a:pt x="417" y="1206"/>
                    </a:lnTo>
                    <a:lnTo>
                      <a:pt x="414" y="1195"/>
                    </a:lnTo>
                    <a:lnTo>
                      <a:pt x="411" y="1185"/>
                    </a:lnTo>
                    <a:lnTo>
                      <a:pt x="407" y="1175"/>
                    </a:lnTo>
                    <a:lnTo>
                      <a:pt x="404" y="1165"/>
                    </a:lnTo>
                    <a:lnTo>
                      <a:pt x="402" y="1152"/>
                    </a:lnTo>
                    <a:lnTo>
                      <a:pt x="401" y="1140"/>
                    </a:lnTo>
                    <a:lnTo>
                      <a:pt x="399" y="1128"/>
                    </a:lnTo>
                    <a:lnTo>
                      <a:pt x="398" y="1115"/>
                    </a:lnTo>
                    <a:lnTo>
                      <a:pt x="400" y="1105"/>
                    </a:lnTo>
                    <a:lnTo>
                      <a:pt x="402" y="1095"/>
                    </a:lnTo>
                    <a:lnTo>
                      <a:pt x="406" y="1086"/>
                    </a:lnTo>
                    <a:lnTo>
                      <a:pt x="410" y="1078"/>
                    </a:lnTo>
                    <a:lnTo>
                      <a:pt x="417" y="1070"/>
                    </a:lnTo>
                    <a:lnTo>
                      <a:pt x="424" y="1063"/>
                    </a:lnTo>
                    <a:lnTo>
                      <a:pt x="434" y="1056"/>
                    </a:lnTo>
                    <a:lnTo>
                      <a:pt x="444" y="1049"/>
                    </a:lnTo>
                    <a:lnTo>
                      <a:pt x="455" y="1043"/>
                    </a:lnTo>
                    <a:lnTo>
                      <a:pt x="467" y="1037"/>
                    </a:lnTo>
                    <a:lnTo>
                      <a:pt x="482" y="1033"/>
                    </a:lnTo>
                    <a:lnTo>
                      <a:pt x="496" y="1028"/>
                    </a:lnTo>
                    <a:lnTo>
                      <a:pt x="510" y="1024"/>
                    </a:lnTo>
                    <a:lnTo>
                      <a:pt x="526" y="1019"/>
                    </a:lnTo>
                    <a:lnTo>
                      <a:pt x="534" y="1018"/>
                    </a:lnTo>
                    <a:lnTo>
                      <a:pt x="542" y="1016"/>
                    </a:lnTo>
                    <a:lnTo>
                      <a:pt x="551" y="1015"/>
                    </a:lnTo>
                    <a:lnTo>
                      <a:pt x="559" y="1013"/>
                    </a:lnTo>
                    <a:lnTo>
                      <a:pt x="568" y="1011"/>
                    </a:lnTo>
                    <a:lnTo>
                      <a:pt x="577" y="1008"/>
                    </a:lnTo>
                    <a:lnTo>
                      <a:pt x="586" y="1007"/>
                    </a:lnTo>
                    <a:lnTo>
                      <a:pt x="595" y="1005"/>
                    </a:lnTo>
                    <a:lnTo>
                      <a:pt x="604" y="1004"/>
                    </a:lnTo>
                    <a:lnTo>
                      <a:pt x="614" y="1002"/>
                    </a:lnTo>
                    <a:lnTo>
                      <a:pt x="624" y="1001"/>
                    </a:lnTo>
                    <a:lnTo>
                      <a:pt x="634" y="1000"/>
                    </a:lnTo>
                    <a:lnTo>
                      <a:pt x="643" y="999"/>
                    </a:lnTo>
                    <a:lnTo>
                      <a:pt x="653" y="997"/>
                    </a:lnTo>
                    <a:lnTo>
                      <a:pt x="662" y="996"/>
                    </a:lnTo>
                    <a:lnTo>
                      <a:pt x="673" y="995"/>
                    </a:lnTo>
                    <a:lnTo>
                      <a:pt x="682" y="994"/>
                    </a:lnTo>
                    <a:lnTo>
                      <a:pt x="692" y="993"/>
                    </a:lnTo>
                    <a:lnTo>
                      <a:pt x="702" y="991"/>
                    </a:lnTo>
                    <a:lnTo>
                      <a:pt x="712" y="990"/>
                    </a:lnTo>
                    <a:lnTo>
                      <a:pt x="722" y="990"/>
                    </a:lnTo>
                    <a:lnTo>
                      <a:pt x="732" y="989"/>
                    </a:lnTo>
                    <a:lnTo>
                      <a:pt x="742" y="988"/>
                    </a:lnTo>
                    <a:lnTo>
                      <a:pt x="752" y="987"/>
                    </a:lnTo>
                    <a:lnTo>
                      <a:pt x="761" y="986"/>
                    </a:lnTo>
                    <a:lnTo>
                      <a:pt x="772" y="985"/>
                    </a:lnTo>
                    <a:lnTo>
                      <a:pt x="782" y="984"/>
                    </a:lnTo>
                    <a:lnTo>
                      <a:pt x="792" y="983"/>
                    </a:lnTo>
                    <a:lnTo>
                      <a:pt x="801" y="982"/>
                    </a:lnTo>
                    <a:lnTo>
                      <a:pt x="811" y="982"/>
                    </a:lnTo>
                    <a:lnTo>
                      <a:pt x="822" y="981"/>
                    </a:lnTo>
                    <a:lnTo>
                      <a:pt x="832" y="980"/>
                    </a:lnTo>
                    <a:lnTo>
                      <a:pt x="841" y="979"/>
                    </a:lnTo>
                    <a:lnTo>
                      <a:pt x="850" y="978"/>
                    </a:lnTo>
                    <a:lnTo>
                      <a:pt x="860" y="977"/>
                    </a:lnTo>
                    <a:lnTo>
                      <a:pt x="870" y="975"/>
                    </a:lnTo>
                    <a:lnTo>
                      <a:pt x="879" y="974"/>
                    </a:lnTo>
                    <a:lnTo>
                      <a:pt x="889" y="974"/>
                    </a:lnTo>
                    <a:lnTo>
                      <a:pt x="898" y="973"/>
                    </a:lnTo>
                    <a:lnTo>
                      <a:pt x="907" y="972"/>
                    </a:lnTo>
                    <a:lnTo>
                      <a:pt x="918" y="971"/>
                    </a:lnTo>
                    <a:lnTo>
                      <a:pt x="929" y="970"/>
                    </a:lnTo>
                    <a:lnTo>
                      <a:pt x="939" y="969"/>
                    </a:lnTo>
                    <a:lnTo>
                      <a:pt x="949" y="968"/>
                    </a:lnTo>
                    <a:lnTo>
                      <a:pt x="960" y="966"/>
                    </a:lnTo>
                    <a:lnTo>
                      <a:pt x="972" y="965"/>
                    </a:lnTo>
                    <a:lnTo>
                      <a:pt x="982" y="964"/>
                    </a:lnTo>
                    <a:lnTo>
                      <a:pt x="993" y="962"/>
                    </a:lnTo>
                    <a:lnTo>
                      <a:pt x="1004" y="960"/>
                    </a:lnTo>
                    <a:lnTo>
                      <a:pt x="1017" y="958"/>
                    </a:lnTo>
                    <a:lnTo>
                      <a:pt x="1028" y="957"/>
                    </a:lnTo>
                    <a:lnTo>
                      <a:pt x="1039" y="956"/>
                    </a:lnTo>
                    <a:lnTo>
                      <a:pt x="1050" y="954"/>
                    </a:lnTo>
                    <a:lnTo>
                      <a:pt x="1062" y="952"/>
                    </a:lnTo>
                    <a:lnTo>
                      <a:pt x="1073" y="950"/>
                    </a:lnTo>
                    <a:lnTo>
                      <a:pt x="1085" y="948"/>
                    </a:lnTo>
                    <a:lnTo>
                      <a:pt x="1096" y="946"/>
                    </a:lnTo>
                    <a:lnTo>
                      <a:pt x="1108" y="943"/>
                    </a:lnTo>
                    <a:lnTo>
                      <a:pt x="1119" y="940"/>
                    </a:lnTo>
                    <a:lnTo>
                      <a:pt x="1130" y="938"/>
                    </a:lnTo>
                    <a:lnTo>
                      <a:pt x="1142" y="934"/>
                    </a:lnTo>
                    <a:lnTo>
                      <a:pt x="1153" y="931"/>
                    </a:lnTo>
                    <a:lnTo>
                      <a:pt x="1165" y="927"/>
                    </a:lnTo>
                    <a:lnTo>
                      <a:pt x="1176" y="924"/>
                    </a:lnTo>
                    <a:lnTo>
                      <a:pt x="1187" y="919"/>
                    </a:lnTo>
                    <a:lnTo>
                      <a:pt x="1198" y="915"/>
                    </a:lnTo>
                    <a:lnTo>
                      <a:pt x="1209" y="909"/>
                    </a:lnTo>
                    <a:lnTo>
                      <a:pt x="1220" y="904"/>
                    </a:lnTo>
                    <a:lnTo>
                      <a:pt x="1230" y="898"/>
                    </a:lnTo>
                    <a:lnTo>
                      <a:pt x="1239" y="893"/>
                    </a:lnTo>
                    <a:lnTo>
                      <a:pt x="1249" y="887"/>
                    </a:lnTo>
                    <a:lnTo>
                      <a:pt x="1260" y="882"/>
                    </a:lnTo>
                    <a:lnTo>
                      <a:pt x="1269" y="874"/>
                    </a:lnTo>
                    <a:lnTo>
                      <a:pt x="1279" y="867"/>
                    </a:lnTo>
                    <a:lnTo>
                      <a:pt x="1288" y="859"/>
                    </a:lnTo>
                    <a:lnTo>
                      <a:pt x="1297" y="852"/>
                    </a:lnTo>
                    <a:lnTo>
                      <a:pt x="1307" y="844"/>
                    </a:lnTo>
                    <a:lnTo>
                      <a:pt x="1316" y="835"/>
                    </a:lnTo>
                    <a:lnTo>
                      <a:pt x="1324" y="827"/>
                    </a:lnTo>
                    <a:lnTo>
                      <a:pt x="1333" y="819"/>
                    </a:lnTo>
                    <a:lnTo>
                      <a:pt x="1341" y="808"/>
                    </a:lnTo>
                    <a:lnTo>
                      <a:pt x="1348" y="798"/>
                    </a:lnTo>
                    <a:lnTo>
                      <a:pt x="1356" y="787"/>
                    </a:lnTo>
                    <a:lnTo>
                      <a:pt x="1364" y="777"/>
                    </a:lnTo>
                    <a:lnTo>
                      <a:pt x="1369" y="764"/>
                    </a:lnTo>
                    <a:lnTo>
                      <a:pt x="1375" y="751"/>
                    </a:lnTo>
                    <a:lnTo>
                      <a:pt x="1381" y="739"/>
                    </a:lnTo>
                    <a:lnTo>
                      <a:pt x="1387" y="727"/>
                    </a:lnTo>
                    <a:lnTo>
                      <a:pt x="1391" y="712"/>
                    </a:lnTo>
                    <a:lnTo>
                      <a:pt x="1396" y="698"/>
                    </a:lnTo>
                    <a:lnTo>
                      <a:pt x="1401" y="685"/>
                    </a:lnTo>
                    <a:lnTo>
                      <a:pt x="1405" y="671"/>
                    </a:lnTo>
                    <a:lnTo>
                      <a:pt x="1408" y="653"/>
                    </a:lnTo>
                    <a:lnTo>
                      <a:pt x="1411" y="637"/>
                    </a:lnTo>
                    <a:lnTo>
                      <a:pt x="1414" y="619"/>
                    </a:lnTo>
                    <a:lnTo>
                      <a:pt x="1417" y="602"/>
                    </a:lnTo>
                    <a:lnTo>
                      <a:pt x="1418" y="584"/>
                    </a:lnTo>
                    <a:lnTo>
                      <a:pt x="1419" y="564"/>
                    </a:lnTo>
                    <a:lnTo>
                      <a:pt x="1420" y="546"/>
                    </a:lnTo>
                    <a:lnTo>
                      <a:pt x="1421" y="528"/>
                    </a:lnTo>
                    <a:lnTo>
                      <a:pt x="1420" y="508"/>
                    </a:lnTo>
                    <a:lnTo>
                      <a:pt x="1418" y="490"/>
                    </a:lnTo>
                    <a:lnTo>
                      <a:pt x="1417" y="470"/>
                    </a:lnTo>
                    <a:lnTo>
                      <a:pt x="1415" y="451"/>
                    </a:lnTo>
                    <a:lnTo>
                      <a:pt x="1411" y="433"/>
                    </a:lnTo>
                    <a:lnTo>
                      <a:pt x="1407" y="414"/>
                    </a:lnTo>
                    <a:lnTo>
                      <a:pt x="1404" y="396"/>
                    </a:lnTo>
                    <a:lnTo>
                      <a:pt x="1399" y="378"/>
                    </a:lnTo>
                    <a:lnTo>
                      <a:pt x="1393" y="359"/>
                    </a:lnTo>
                    <a:lnTo>
                      <a:pt x="1387" y="341"/>
                    </a:lnTo>
                    <a:lnTo>
                      <a:pt x="1381" y="323"/>
                    </a:lnTo>
                    <a:lnTo>
                      <a:pt x="1375" y="305"/>
                    </a:lnTo>
                    <a:lnTo>
                      <a:pt x="1367" y="288"/>
                    </a:lnTo>
                    <a:lnTo>
                      <a:pt x="1360" y="271"/>
                    </a:lnTo>
                    <a:lnTo>
                      <a:pt x="1352" y="254"/>
                    </a:lnTo>
                    <a:lnTo>
                      <a:pt x="1343" y="237"/>
                    </a:lnTo>
                    <a:lnTo>
                      <a:pt x="1333" y="221"/>
                    </a:lnTo>
                    <a:lnTo>
                      <a:pt x="1323" y="205"/>
                    </a:lnTo>
                    <a:lnTo>
                      <a:pt x="1314" y="190"/>
                    </a:lnTo>
                    <a:lnTo>
                      <a:pt x="1304" y="173"/>
                    </a:lnTo>
                    <a:lnTo>
                      <a:pt x="1292" y="158"/>
                    </a:lnTo>
                    <a:lnTo>
                      <a:pt x="1282" y="143"/>
                    </a:lnTo>
                    <a:lnTo>
                      <a:pt x="1271" y="126"/>
                    </a:lnTo>
                    <a:lnTo>
                      <a:pt x="1260" y="111"/>
                    </a:lnTo>
                    <a:lnTo>
                      <a:pt x="1248" y="97"/>
                    </a:lnTo>
                    <a:lnTo>
                      <a:pt x="1236" y="82"/>
                    </a:lnTo>
                    <a:lnTo>
                      <a:pt x="1224" y="68"/>
                    </a:lnTo>
                    <a:lnTo>
                      <a:pt x="1213" y="54"/>
                    </a:lnTo>
                    <a:lnTo>
                      <a:pt x="1199" y="41"/>
                    </a:lnTo>
                    <a:lnTo>
                      <a:pt x="1186" y="26"/>
                    </a:lnTo>
                    <a:lnTo>
                      <a:pt x="1173" y="13"/>
                    </a:lnTo>
                    <a:lnTo>
                      <a:pt x="1161" y="0"/>
                    </a:lnTo>
                    <a:lnTo>
                      <a:pt x="1158" y="0"/>
                    </a:lnTo>
                    <a:lnTo>
                      <a:pt x="1154" y="0"/>
                    </a:lnTo>
                    <a:lnTo>
                      <a:pt x="1147" y="3"/>
                    </a:lnTo>
                    <a:lnTo>
                      <a:pt x="1140" y="5"/>
                    </a:lnTo>
                    <a:lnTo>
                      <a:pt x="1129" y="7"/>
                    </a:lnTo>
                    <a:lnTo>
                      <a:pt x="1119" y="9"/>
                    </a:lnTo>
                    <a:lnTo>
                      <a:pt x="1105" y="13"/>
                    </a:lnTo>
                    <a:lnTo>
                      <a:pt x="1093" y="16"/>
                    </a:lnTo>
                    <a:lnTo>
                      <a:pt x="1085" y="17"/>
                    </a:lnTo>
                    <a:lnTo>
                      <a:pt x="1077" y="19"/>
                    </a:lnTo>
                    <a:lnTo>
                      <a:pt x="1069" y="21"/>
                    </a:lnTo>
                    <a:lnTo>
                      <a:pt x="1061" y="22"/>
                    </a:lnTo>
                    <a:lnTo>
                      <a:pt x="1052" y="24"/>
                    </a:lnTo>
                    <a:lnTo>
                      <a:pt x="1044" y="26"/>
                    </a:lnTo>
                    <a:lnTo>
                      <a:pt x="1036" y="28"/>
                    </a:lnTo>
                    <a:lnTo>
                      <a:pt x="1027" y="30"/>
                    </a:lnTo>
                    <a:lnTo>
                      <a:pt x="1018" y="31"/>
                    </a:lnTo>
                    <a:lnTo>
                      <a:pt x="1008" y="33"/>
                    </a:lnTo>
                    <a:lnTo>
                      <a:pt x="1000" y="34"/>
                    </a:lnTo>
                    <a:lnTo>
                      <a:pt x="991" y="36"/>
                    </a:lnTo>
                    <a:lnTo>
                      <a:pt x="983" y="38"/>
                    </a:lnTo>
                    <a:lnTo>
                      <a:pt x="975" y="39"/>
                    </a:lnTo>
                    <a:lnTo>
                      <a:pt x="966" y="39"/>
                    </a:lnTo>
                    <a:lnTo>
                      <a:pt x="957" y="40"/>
                    </a:lnTo>
                    <a:lnTo>
                      <a:pt x="949" y="41"/>
                    </a:lnTo>
                    <a:lnTo>
                      <a:pt x="940" y="42"/>
                    </a:lnTo>
                    <a:lnTo>
                      <a:pt x="932" y="43"/>
                    </a:lnTo>
                    <a:lnTo>
                      <a:pt x="924" y="44"/>
                    </a:lnTo>
                    <a:lnTo>
                      <a:pt x="915" y="45"/>
                    </a:lnTo>
                    <a:lnTo>
                      <a:pt x="905" y="46"/>
                    </a:lnTo>
                    <a:lnTo>
                      <a:pt x="897" y="47"/>
                    </a:lnTo>
                    <a:lnTo>
                      <a:pt x="888" y="48"/>
                    </a:lnTo>
                    <a:lnTo>
                      <a:pt x="879" y="49"/>
                    </a:lnTo>
                    <a:lnTo>
                      <a:pt x="871" y="50"/>
                    </a:lnTo>
                    <a:lnTo>
                      <a:pt x="862" y="51"/>
                    </a:lnTo>
                    <a:lnTo>
                      <a:pt x="854" y="52"/>
                    </a:lnTo>
                    <a:lnTo>
                      <a:pt x="846" y="53"/>
                    </a:lnTo>
                    <a:lnTo>
                      <a:pt x="838" y="53"/>
                    </a:lnTo>
                    <a:lnTo>
                      <a:pt x="830" y="54"/>
                    </a:lnTo>
                    <a:lnTo>
                      <a:pt x="822" y="54"/>
                    </a:lnTo>
                    <a:lnTo>
                      <a:pt x="807" y="56"/>
                    </a:lnTo>
                    <a:lnTo>
                      <a:pt x="794" y="58"/>
                    </a:lnTo>
                    <a:lnTo>
                      <a:pt x="783" y="59"/>
                    </a:lnTo>
                    <a:lnTo>
                      <a:pt x="772" y="60"/>
                    </a:lnTo>
                    <a:lnTo>
                      <a:pt x="765" y="61"/>
                    </a:lnTo>
                    <a:lnTo>
                      <a:pt x="758" y="62"/>
                    </a:lnTo>
                    <a:lnTo>
                      <a:pt x="755" y="62"/>
                    </a:lnTo>
                    <a:lnTo>
                      <a:pt x="752" y="62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404240" y="4550400"/>
                <a:ext cx="53280" cy="64800"/>
              </a:xfrm>
              <a:custGeom>
                <a:avLst/>
                <a:gdLst/>
                <a:ahLst/>
                <a:rect l="l" t="t" r="r" b="b"/>
                <a:pathLst>
                  <a:path w="1093" h="1229">
                    <a:moveTo>
                      <a:pt x="653" y="45"/>
                    </a:moveTo>
                    <a:lnTo>
                      <a:pt x="655" y="69"/>
                    </a:lnTo>
                    <a:lnTo>
                      <a:pt x="657" y="94"/>
                    </a:lnTo>
                    <a:lnTo>
                      <a:pt x="659" y="118"/>
                    </a:lnTo>
                    <a:lnTo>
                      <a:pt x="661" y="143"/>
                    </a:lnTo>
                    <a:lnTo>
                      <a:pt x="664" y="145"/>
                    </a:lnTo>
                    <a:lnTo>
                      <a:pt x="668" y="147"/>
                    </a:lnTo>
                    <a:lnTo>
                      <a:pt x="675" y="156"/>
                    </a:lnTo>
                    <a:lnTo>
                      <a:pt x="681" y="164"/>
                    </a:lnTo>
                    <a:lnTo>
                      <a:pt x="684" y="174"/>
                    </a:lnTo>
                    <a:lnTo>
                      <a:pt x="687" y="182"/>
                    </a:lnTo>
                    <a:lnTo>
                      <a:pt x="690" y="191"/>
                    </a:lnTo>
                    <a:lnTo>
                      <a:pt x="693" y="199"/>
                    </a:lnTo>
                    <a:lnTo>
                      <a:pt x="694" y="214"/>
                    </a:lnTo>
                    <a:lnTo>
                      <a:pt x="695" y="231"/>
                    </a:lnTo>
                    <a:lnTo>
                      <a:pt x="696" y="246"/>
                    </a:lnTo>
                    <a:lnTo>
                      <a:pt x="697" y="262"/>
                    </a:lnTo>
                    <a:lnTo>
                      <a:pt x="694" y="271"/>
                    </a:lnTo>
                    <a:lnTo>
                      <a:pt x="691" y="279"/>
                    </a:lnTo>
                    <a:lnTo>
                      <a:pt x="686" y="286"/>
                    </a:lnTo>
                    <a:lnTo>
                      <a:pt x="681" y="293"/>
                    </a:lnTo>
                    <a:lnTo>
                      <a:pt x="672" y="299"/>
                    </a:lnTo>
                    <a:lnTo>
                      <a:pt x="663" y="306"/>
                    </a:lnTo>
                    <a:lnTo>
                      <a:pt x="653" y="315"/>
                    </a:lnTo>
                    <a:lnTo>
                      <a:pt x="643" y="322"/>
                    </a:lnTo>
                    <a:lnTo>
                      <a:pt x="631" y="328"/>
                    </a:lnTo>
                    <a:lnTo>
                      <a:pt x="620" y="334"/>
                    </a:lnTo>
                    <a:lnTo>
                      <a:pt x="606" y="340"/>
                    </a:lnTo>
                    <a:lnTo>
                      <a:pt x="593" y="344"/>
                    </a:lnTo>
                    <a:lnTo>
                      <a:pt x="581" y="349"/>
                    </a:lnTo>
                    <a:lnTo>
                      <a:pt x="567" y="354"/>
                    </a:lnTo>
                    <a:lnTo>
                      <a:pt x="554" y="359"/>
                    </a:lnTo>
                    <a:lnTo>
                      <a:pt x="542" y="365"/>
                    </a:lnTo>
                    <a:lnTo>
                      <a:pt x="533" y="367"/>
                    </a:lnTo>
                    <a:lnTo>
                      <a:pt x="525" y="369"/>
                    </a:lnTo>
                    <a:lnTo>
                      <a:pt x="511" y="371"/>
                    </a:lnTo>
                    <a:lnTo>
                      <a:pt x="498" y="372"/>
                    </a:lnTo>
                    <a:lnTo>
                      <a:pt x="490" y="374"/>
                    </a:lnTo>
                    <a:lnTo>
                      <a:pt x="482" y="376"/>
                    </a:lnTo>
                    <a:lnTo>
                      <a:pt x="475" y="377"/>
                    </a:lnTo>
                    <a:lnTo>
                      <a:pt x="466" y="379"/>
                    </a:lnTo>
                    <a:lnTo>
                      <a:pt x="456" y="380"/>
                    </a:lnTo>
                    <a:lnTo>
                      <a:pt x="447" y="382"/>
                    </a:lnTo>
                    <a:lnTo>
                      <a:pt x="438" y="383"/>
                    </a:lnTo>
                    <a:lnTo>
                      <a:pt x="429" y="384"/>
                    </a:lnTo>
                    <a:lnTo>
                      <a:pt x="417" y="386"/>
                    </a:lnTo>
                    <a:lnTo>
                      <a:pt x="406" y="388"/>
                    </a:lnTo>
                    <a:lnTo>
                      <a:pt x="396" y="390"/>
                    </a:lnTo>
                    <a:lnTo>
                      <a:pt x="385" y="392"/>
                    </a:lnTo>
                    <a:lnTo>
                      <a:pt x="373" y="394"/>
                    </a:lnTo>
                    <a:lnTo>
                      <a:pt x="363" y="397"/>
                    </a:lnTo>
                    <a:lnTo>
                      <a:pt x="352" y="399"/>
                    </a:lnTo>
                    <a:lnTo>
                      <a:pt x="341" y="401"/>
                    </a:lnTo>
                    <a:lnTo>
                      <a:pt x="329" y="405"/>
                    </a:lnTo>
                    <a:lnTo>
                      <a:pt x="316" y="408"/>
                    </a:lnTo>
                    <a:lnTo>
                      <a:pt x="305" y="412"/>
                    </a:lnTo>
                    <a:lnTo>
                      <a:pt x="293" y="415"/>
                    </a:lnTo>
                    <a:lnTo>
                      <a:pt x="282" y="418"/>
                    </a:lnTo>
                    <a:lnTo>
                      <a:pt x="269" y="421"/>
                    </a:lnTo>
                    <a:lnTo>
                      <a:pt x="257" y="425"/>
                    </a:lnTo>
                    <a:lnTo>
                      <a:pt x="246" y="428"/>
                    </a:lnTo>
                    <a:lnTo>
                      <a:pt x="234" y="432"/>
                    </a:lnTo>
                    <a:lnTo>
                      <a:pt x="221" y="436"/>
                    </a:lnTo>
                    <a:lnTo>
                      <a:pt x="209" y="440"/>
                    </a:lnTo>
                    <a:lnTo>
                      <a:pt x="198" y="444"/>
                    </a:lnTo>
                    <a:lnTo>
                      <a:pt x="187" y="449"/>
                    </a:lnTo>
                    <a:lnTo>
                      <a:pt x="175" y="454"/>
                    </a:lnTo>
                    <a:lnTo>
                      <a:pt x="164" y="459"/>
                    </a:lnTo>
                    <a:lnTo>
                      <a:pt x="154" y="465"/>
                    </a:lnTo>
                    <a:lnTo>
                      <a:pt x="143" y="470"/>
                    </a:lnTo>
                    <a:lnTo>
                      <a:pt x="133" y="476"/>
                    </a:lnTo>
                    <a:lnTo>
                      <a:pt x="122" y="481"/>
                    </a:lnTo>
                    <a:lnTo>
                      <a:pt x="112" y="487"/>
                    </a:lnTo>
                    <a:lnTo>
                      <a:pt x="103" y="493"/>
                    </a:lnTo>
                    <a:lnTo>
                      <a:pt x="94" y="500"/>
                    </a:lnTo>
                    <a:lnTo>
                      <a:pt x="86" y="506"/>
                    </a:lnTo>
                    <a:lnTo>
                      <a:pt x="76" y="513"/>
                    </a:lnTo>
                    <a:lnTo>
                      <a:pt x="68" y="520"/>
                    </a:lnTo>
                    <a:lnTo>
                      <a:pt x="59" y="527"/>
                    </a:lnTo>
                    <a:lnTo>
                      <a:pt x="52" y="534"/>
                    </a:lnTo>
                    <a:lnTo>
                      <a:pt x="44" y="541"/>
                    </a:lnTo>
                    <a:lnTo>
                      <a:pt x="38" y="549"/>
                    </a:lnTo>
                    <a:lnTo>
                      <a:pt x="31" y="559"/>
                    </a:lnTo>
                    <a:lnTo>
                      <a:pt x="25" y="567"/>
                    </a:lnTo>
                    <a:lnTo>
                      <a:pt x="20" y="576"/>
                    </a:lnTo>
                    <a:lnTo>
                      <a:pt x="16" y="585"/>
                    </a:lnTo>
                    <a:lnTo>
                      <a:pt x="13" y="594"/>
                    </a:lnTo>
                    <a:lnTo>
                      <a:pt x="10" y="603"/>
                    </a:lnTo>
                    <a:lnTo>
                      <a:pt x="6" y="613"/>
                    </a:lnTo>
                    <a:lnTo>
                      <a:pt x="5" y="624"/>
                    </a:lnTo>
                    <a:lnTo>
                      <a:pt x="3" y="634"/>
                    </a:lnTo>
                    <a:lnTo>
                      <a:pt x="2" y="645"/>
                    </a:lnTo>
                    <a:lnTo>
                      <a:pt x="0" y="657"/>
                    </a:lnTo>
                    <a:lnTo>
                      <a:pt x="1" y="668"/>
                    </a:lnTo>
                    <a:lnTo>
                      <a:pt x="2" y="679"/>
                    </a:lnTo>
                    <a:lnTo>
                      <a:pt x="3" y="690"/>
                    </a:lnTo>
                    <a:lnTo>
                      <a:pt x="4" y="700"/>
                    </a:lnTo>
                    <a:lnTo>
                      <a:pt x="7" y="713"/>
                    </a:lnTo>
                    <a:lnTo>
                      <a:pt x="11" y="725"/>
                    </a:lnTo>
                    <a:lnTo>
                      <a:pt x="14" y="736"/>
                    </a:lnTo>
                    <a:lnTo>
                      <a:pt x="18" y="748"/>
                    </a:lnTo>
                    <a:lnTo>
                      <a:pt x="23" y="761"/>
                    </a:lnTo>
                    <a:lnTo>
                      <a:pt x="28" y="773"/>
                    </a:lnTo>
                    <a:lnTo>
                      <a:pt x="35" y="785"/>
                    </a:lnTo>
                    <a:lnTo>
                      <a:pt x="40" y="798"/>
                    </a:lnTo>
                    <a:lnTo>
                      <a:pt x="47" y="811"/>
                    </a:lnTo>
                    <a:lnTo>
                      <a:pt x="54" y="823"/>
                    </a:lnTo>
                    <a:lnTo>
                      <a:pt x="60" y="834"/>
                    </a:lnTo>
                    <a:lnTo>
                      <a:pt x="67" y="846"/>
                    </a:lnTo>
                    <a:lnTo>
                      <a:pt x="75" y="859"/>
                    </a:lnTo>
                    <a:lnTo>
                      <a:pt x="84" y="870"/>
                    </a:lnTo>
                    <a:lnTo>
                      <a:pt x="92" y="882"/>
                    </a:lnTo>
                    <a:lnTo>
                      <a:pt x="100" y="894"/>
                    </a:lnTo>
                    <a:lnTo>
                      <a:pt x="109" y="907"/>
                    </a:lnTo>
                    <a:lnTo>
                      <a:pt x="118" y="919"/>
                    </a:lnTo>
                    <a:lnTo>
                      <a:pt x="127" y="930"/>
                    </a:lnTo>
                    <a:lnTo>
                      <a:pt x="136" y="942"/>
                    </a:lnTo>
                    <a:lnTo>
                      <a:pt x="145" y="955"/>
                    </a:lnTo>
                    <a:lnTo>
                      <a:pt x="155" y="966"/>
                    </a:lnTo>
                    <a:lnTo>
                      <a:pt x="164" y="977"/>
                    </a:lnTo>
                    <a:lnTo>
                      <a:pt x="173" y="988"/>
                    </a:lnTo>
                    <a:lnTo>
                      <a:pt x="184" y="999"/>
                    </a:lnTo>
                    <a:lnTo>
                      <a:pt x="195" y="1010"/>
                    </a:lnTo>
                    <a:lnTo>
                      <a:pt x="205" y="1021"/>
                    </a:lnTo>
                    <a:lnTo>
                      <a:pt x="215" y="1032"/>
                    </a:lnTo>
                    <a:lnTo>
                      <a:pt x="225" y="1042"/>
                    </a:lnTo>
                    <a:lnTo>
                      <a:pt x="236" y="1054"/>
                    </a:lnTo>
                    <a:lnTo>
                      <a:pt x="246" y="1064"/>
                    </a:lnTo>
                    <a:lnTo>
                      <a:pt x="255" y="1074"/>
                    </a:lnTo>
                    <a:lnTo>
                      <a:pt x="265" y="1083"/>
                    </a:lnTo>
                    <a:lnTo>
                      <a:pt x="274" y="1092"/>
                    </a:lnTo>
                    <a:lnTo>
                      <a:pt x="284" y="1102"/>
                    </a:lnTo>
                    <a:lnTo>
                      <a:pt x="293" y="1111"/>
                    </a:lnTo>
                    <a:lnTo>
                      <a:pt x="302" y="1119"/>
                    </a:lnTo>
                    <a:lnTo>
                      <a:pt x="310" y="1127"/>
                    </a:lnTo>
                    <a:lnTo>
                      <a:pt x="319" y="1135"/>
                    </a:lnTo>
                    <a:lnTo>
                      <a:pt x="329" y="1144"/>
                    </a:lnTo>
                    <a:lnTo>
                      <a:pt x="337" y="1151"/>
                    </a:lnTo>
                    <a:lnTo>
                      <a:pt x="345" y="1159"/>
                    </a:lnTo>
                    <a:lnTo>
                      <a:pt x="353" y="1166"/>
                    </a:lnTo>
                    <a:lnTo>
                      <a:pt x="361" y="1173"/>
                    </a:lnTo>
                    <a:lnTo>
                      <a:pt x="374" y="1185"/>
                    </a:lnTo>
                    <a:lnTo>
                      <a:pt x="389" y="1198"/>
                    </a:lnTo>
                    <a:lnTo>
                      <a:pt x="399" y="1207"/>
                    </a:lnTo>
                    <a:lnTo>
                      <a:pt x="410" y="1215"/>
                    </a:lnTo>
                    <a:lnTo>
                      <a:pt x="417" y="1221"/>
                    </a:lnTo>
                    <a:lnTo>
                      <a:pt x="425" y="1226"/>
                    </a:lnTo>
                    <a:lnTo>
                      <a:pt x="427" y="1228"/>
                    </a:lnTo>
                    <a:lnTo>
                      <a:pt x="429" y="1229"/>
                    </a:lnTo>
                    <a:lnTo>
                      <a:pt x="429" y="1190"/>
                    </a:lnTo>
                    <a:lnTo>
                      <a:pt x="429" y="1153"/>
                    </a:lnTo>
                    <a:lnTo>
                      <a:pt x="429" y="1114"/>
                    </a:lnTo>
                    <a:lnTo>
                      <a:pt x="429" y="1076"/>
                    </a:lnTo>
                    <a:lnTo>
                      <a:pt x="429" y="1037"/>
                    </a:lnTo>
                    <a:lnTo>
                      <a:pt x="429" y="1000"/>
                    </a:lnTo>
                    <a:lnTo>
                      <a:pt x="429" y="961"/>
                    </a:lnTo>
                    <a:lnTo>
                      <a:pt x="429" y="922"/>
                    </a:lnTo>
                    <a:lnTo>
                      <a:pt x="427" y="919"/>
                    </a:lnTo>
                    <a:lnTo>
                      <a:pt x="425" y="916"/>
                    </a:lnTo>
                    <a:lnTo>
                      <a:pt x="419" y="906"/>
                    </a:lnTo>
                    <a:lnTo>
                      <a:pt x="414" y="895"/>
                    </a:lnTo>
                    <a:lnTo>
                      <a:pt x="411" y="887"/>
                    </a:lnTo>
                    <a:lnTo>
                      <a:pt x="408" y="879"/>
                    </a:lnTo>
                    <a:lnTo>
                      <a:pt x="405" y="871"/>
                    </a:lnTo>
                    <a:lnTo>
                      <a:pt x="402" y="863"/>
                    </a:lnTo>
                    <a:lnTo>
                      <a:pt x="401" y="852"/>
                    </a:lnTo>
                    <a:lnTo>
                      <a:pt x="400" y="841"/>
                    </a:lnTo>
                    <a:lnTo>
                      <a:pt x="399" y="830"/>
                    </a:lnTo>
                    <a:lnTo>
                      <a:pt x="398" y="819"/>
                    </a:lnTo>
                    <a:lnTo>
                      <a:pt x="401" y="810"/>
                    </a:lnTo>
                    <a:lnTo>
                      <a:pt x="405" y="800"/>
                    </a:lnTo>
                    <a:lnTo>
                      <a:pt x="412" y="793"/>
                    </a:lnTo>
                    <a:lnTo>
                      <a:pt x="420" y="786"/>
                    </a:lnTo>
                    <a:lnTo>
                      <a:pt x="434" y="784"/>
                    </a:lnTo>
                    <a:lnTo>
                      <a:pt x="446" y="780"/>
                    </a:lnTo>
                    <a:lnTo>
                      <a:pt x="454" y="780"/>
                    </a:lnTo>
                    <a:lnTo>
                      <a:pt x="462" y="779"/>
                    </a:lnTo>
                    <a:lnTo>
                      <a:pt x="470" y="778"/>
                    </a:lnTo>
                    <a:lnTo>
                      <a:pt x="478" y="777"/>
                    </a:lnTo>
                    <a:lnTo>
                      <a:pt x="487" y="777"/>
                    </a:lnTo>
                    <a:lnTo>
                      <a:pt x="496" y="776"/>
                    </a:lnTo>
                    <a:lnTo>
                      <a:pt x="505" y="775"/>
                    </a:lnTo>
                    <a:lnTo>
                      <a:pt x="514" y="774"/>
                    </a:lnTo>
                    <a:lnTo>
                      <a:pt x="525" y="774"/>
                    </a:lnTo>
                    <a:lnTo>
                      <a:pt x="535" y="773"/>
                    </a:lnTo>
                    <a:lnTo>
                      <a:pt x="545" y="773"/>
                    </a:lnTo>
                    <a:lnTo>
                      <a:pt x="556" y="772"/>
                    </a:lnTo>
                    <a:lnTo>
                      <a:pt x="566" y="770"/>
                    </a:lnTo>
                    <a:lnTo>
                      <a:pt x="577" y="769"/>
                    </a:lnTo>
                    <a:lnTo>
                      <a:pt x="587" y="767"/>
                    </a:lnTo>
                    <a:lnTo>
                      <a:pt x="597" y="765"/>
                    </a:lnTo>
                    <a:lnTo>
                      <a:pt x="608" y="763"/>
                    </a:lnTo>
                    <a:lnTo>
                      <a:pt x="620" y="761"/>
                    </a:lnTo>
                    <a:lnTo>
                      <a:pt x="631" y="758"/>
                    </a:lnTo>
                    <a:lnTo>
                      <a:pt x="641" y="756"/>
                    </a:lnTo>
                    <a:lnTo>
                      <a:pt x="653" y="753"/>
                    </a:lnTo>
                    <a:lnTo>
                      <a:pt x="665" y="749"/>
                    </a:lnTo>
                    <a:lnTo>
                      <a:pt x="679" y="747"/>
                    </a:lnTo>
                    <a:lnTo>
                      <a:pt x="693" y="745"/>
                    </a:lnTo>
                    <a:lnTo>
                      <a:pt x="701" y="744"/>
                    </a:lnTo>
                    <a:lnTo>
                      <a:pt x="708" y="743"/>
                    </a:lnTo>
                    <a:lnTo>
                      <a:pt x="717" y="742"/>
                    </a:lnTo>
                    <a:lnTo>
                      <a:pt x="725" y="740"/>
                    </a:lnTo>
                    <a:lnTo>
                      <a:pt x="734" y="739"/>
                    </a:lnTo>
                    <a:lnTo>
                      <a:pt x="742" y="739"/>
                    </a:lnTo>
                    <a:lnTo>
                      <a:pt x="750" y="738"/>
                    </a:lnTo>
                    <a:lnTo>
                      <a:pt x="759" y="736"/>
                    </a:lnTo>
                    <a:lnTo>
                      <a:pt x="768" y="735"/>
                    </a:lnTo>
                    <a:lnTo>
                      <a:pt x="777" y="733"/>
                    </a:lnTo>
                    <a:lnTo>
                      <a:pt x="786" y="731"/>
                    </a:lnTo>
                    <a:lnTo>
                      <a:pt x="795" y="729"/>
                    </a:lnTo>
                    <a:lnTo>
                      <a:pt x="804" y="728"/>
                    </a:lnTo>
                    <a:lnTo>
                      <a:pt x="813" y="726"/>
                    </a:lnTo>
                    <a:lnTo>
                      <a:pt x="823" y="724"/>
                    </a:lnTo>
                    <a:lnTo>
                      <a:pt x="832" y="722"/>
                    </a:lnTo>
                    <a:lnTo>
                      <a:pt x="842" y="719"/>
                    </a:lnTo>
                    <a:lnTo>
                      <a:pt x="852" y="716"/>
                    </a:lnTo>
                    <a:lnTo>
                      <a:pt x="863" y="714"/>
                    </a:lnTo>
                    <a:lnTo>
                      <a:pt x="872" y="711"/>
                    </a:lnTo>
                    <a:lnTo>
                      <a:pt x="882" y="708"/>
                    </a:lnTo>
                    <a:lnTo>
                      <a:pt x="891" y="703"/>
                    </a:lnTo>
                    <a:lnTo>
                      <a:pt x="900" y="699"/>
                    </a:lnTo>
                    <a:lnTo>
                      <a:pt x="910" y="696"/>
                    </a:lnTo>
                    <a:lnTo>
                      <a:pt x="919" y="691"/>
                    </a:lnTo>
                    <a:lnTo>
                      <a:pt x="928" y="686"/>
                    </a:lnTo>
                    <a:lnTo>
                      <a:pt x="937" y="681"/>
                    </a:lnTo>
                    <a:lnTo>
                      <a:pt x="946" y="676"/>
                    </a:lnTo>
                    <a:lnTo>
                      <a:pt x="954" y="670"/>
                    </a:lnTo>
                    <a:lnTo>
                      <a:pt x="963" y="664"/>
                    </a:lnTo>
                    <a:lnTo>
                      <a:pt x="971" y="658"/>
                    </a:lnTo>
                    <a:lnTo>
                      <a:pt x="980" y="651"/>
                    </a:lnTo>
                    <a:lnTo>
                      <a:pt x="988" y="643"/>
                    </a:lnTo>
                    <a:lnTo>
                      <a:pt x="995" y="635"/>
                    </a:lnTo>
                    <a:lnTo>
                      <a:pt x="1003" y="627"/>
                    </a:lnTo>
                    <a:lnTo>
                      <a:pt x="1012" y="619"/>
                    </a:lnTo>
                    <a:lnTo>
                      <a:pt x="1018" y="610"/>
                    </a:lnTo>
                    <a:lnTo>
                      <a:pt x="1024" y="600"/>
                    </a:lnTo>
                    <a:lnTo>
                      <a:pt x="1031" y="590"/>
                    </a:lnTo>
                    <a:lnTo>
                      <a:pt x="1037" y="581"/>
                    </a:lnTo>
                    <a:lnTo>
                      <a:pt x="1043" y="570"/>
                    </a:lnTo>
                    <a:lnTo>
                      <a:pt x="1049" y="558"/>
                    </a:lnTo>
                    <a:lnTo>
                      <a:pt x="1055" y="546"/>
                    </a:lnTo>
                    <a:lnTo>
                      <a:pt x="1062" y="534"/>
                    </a:lnTo>
                    <a:lnTo>
                      <a:pt x="1066" y="521"/>
                    </a:lnTo>
                    <a:lnTo>
                      <a:pt x="1070" y="506"/>
                    </a:lnTo>
                    <a:lnTo>
                      <a:pt x="1075" y="492"/>
                    </a:lnTo>
                    <a:lnTo>
                      <a:pt x="1079" y="478"/>
                    </a:lnTo>
                    <a:lnTo>
                      <a:pt x="1082" y="462"/>
                    </a:lnTo>
                    <a:lnTo>
                      <a:pt x="1084" y="445"/>
                    </a:lnTo>
                    <a:lnTo>
                      <a:pt x="1087" y="429"/>
                    </a:lnTo>
                    <a:lnTo>
                      <a:pt x="1089" y="413"/>
                    </a:lnTo>
                    <a:lnTo>
                      <a:pt x="1090" y="393"/>
                    </a:lnTo>
                    <a:lnTo>
                      <a:pt x="1091" y="375"/>
                    </a:lnTo>
                    <a:lnTo>
                      <a:pt x="1092" y="355"/>
                    </a:lnTo>
                    <a:lnTo>
                      <a:pt x="1093" y="337"/>
                    </a:lnTo>
                    <a:lnTo>
                      <a:pt x="1092" y="325"/>
                    </a:lnTo>
                    <a:lnTo>
                      <a:pt x="1092" y="312"/>
                    </a:lnTo>
                    <a:lnTo>
                      <a:pt x="1091" y="301"/>
                    </a:lnTo>
                    <a:lnTo>
                      <a:pt x="1091" y="289"/>
                    </a:lnTo>
                    <a:lnTo>
                      <a:pt x="1089" y="277"/>
                    </a:lnTo>
                    <a:lnTo>
                      <a:pt x="1088" y="266"/>
                    </a:lnTo>
                    <a:lnTo>
                      <a:pt x="1086" y="253"/>
                    </a:lnTo>
                    <a:lnTo>
                      <a:pt x="1085" y="241"/>
                    </a:lnTo>
                    <a:lnTo>
                      <a:pt x="1083" y="230"/>
                    </a:lnTo>
                    <a:lnTo>
                      <a:pt x="1081" y="218"/>
                    </a:lnTo>
                    <a:lnTo>
                      <a:pt x="1079" y="206"/>
                    </a:lnTo>
                    <a:lnTo>
                      <a:pt x="1077" y="195"/>
                    </a:lnTo>
                    <a:lnTo>
                      <a:pt x="1074" y="184"/>
                    </a:lnTo>
                    <a:lnTo>
                      <a:pt x="1071" y="174"/>
                    </a:lnTo>
                    <a:lnTo>
                      <a:pt x="1068" y="163"/>
                    </a:lnTo>
                    <a:lnTo>
                      <a:pt x="1066" y="152"/>
                    </a:lnTo>
                    <a:lnTo>
                      <a:pt x="1062" y="142"/>
                    </a:lnTo>
                    <a:lnTo>
                      <a:pt x="1058" y="132"/>
                    </a:lnTo>
                    <a:lnTo>
                      <a:pt x="1053" y="121"/>
                    </a:lnTo>
                    <a:lnTo>
                      <a:pt x="1049" y="110"/>
                    </a:lnTo>
                    <a:lnTo>
                      <a:pt x="1045" y="100"/>
                    </a:lnTo>
                    <a:lnTo>
                      <a:pt x="1041" y="91"/>
                    </a:lnTo>
                    <a:lnTo>
                      <a:pt x="1038" y="82"/>
                    </a:lnTo>
                    <a:lnTo>
                      <a:pt x="1034" y="72"/>
                    </a:lnTo>
                    <a:lnTo>
                      <a:pt x="1029" y="62"/>
                    </a:lnTo>
                    <a:lnTo>
                      <a:pt x="1024" y="54"/>
                    </a:lnTo>
                    <a:lnTo>
                      <a:pt x="1019" y="45"/>
                    </a:lnTo>
                    <a:lnTo>
                      <a:pt x="1014" y="35"/>
                    </a:lnTo>
                    <a:lnTo>
                      <a:pt x="1009" y="27"/>
                    </a:lnTo>
                    <a:lnTo>
                      <a:pt x="1002" y="17"/>
                    </a:lnTo>
                    <a:lnTo>
                      <a:pt x="997" y="9"/>
                    </a:lnTo>
                    <a:lnTo>
                      <a:pt x="991" y="0"/>
                    </a:lnTo>
                    <a:lnTo>
                      <a:pt x="989" y="1"/>
                    </a:lnTo>
                    <a:lnTo>
                      <a:pt x="987" y="1"/>
                    </a:lnTo>
                    <a:lnTo>
                      <a:pt x="982" y="2"/>
                    </a:lnTo>
                    <a:lnTo>
                      <a:pt x="978" y="3"/>
                    </a:lnTo>
                    <a:lnTo>
                      <a:pt x="970" y="5"/>
                    </a:lnTo>
                    <a:lnTo>
                      <a:pt x="962" y="7"/>
                    </a:lnTo>
                    <a:lnTo>
                      <a:pt x="950" y="10"/>
                    </a:lnTo>
                    <a:lnTo>
                      <a:pt x="940" y="12"/>
                    </a:lnTo>
                    <a:lnTo>
                      <a:pt x="927" y="15"/>
                    </a:lnTo>
                    <a:lnTo>
                      <a:pt x="915" y="17"/>
                    </a:lnTo>
                    <a:lnTo>
                      <a:pt x="900" y="20"/>
                    </a:lnTo>
                    <a:lnTo>
                      <a:pt x="886" y="22"/>
                    </a:lnTo>
                    <a:lnTo>
                      <a:pt x="872" y="25"/>
                    </a:lnTo>
                    <a:lnTo>
                      <a:pt x="856" y="27"/>
                    </a:lnTo>
                    <a:lnTo>
                      <a:pt x="841" y="29"/>
                    </a:lnTo>
                    <a:lnTo>
                      <a:pt x="827" y="30"/>
                    </a:lnTo>
                    <a:lnTo>
                      <a:pt x="811" y="32"/>
                    </a:lnTo>
                    <a:lnTo>
                      <a:pt x="796" y="33"/>
                    </a:lnTo>
                    <a:lnTo>
                      <a:pt x="782" y="34"/>
                    </a:lnTo>
                    <a:lnTo>
                      <a:pt x="767" y="34"/>
                    </a:lnTo>
                    <a:lnTo>
                      <a:pt x="752" y="36"/>
                    </a:lnTo>
                    <a:lnTo>
                      <a:pt x="737" y="37"/>
                    </a:lnTo>
                    <a:lnTo>
                      <a:pt x="724" y="38"/>
                    </a:lnTo>
                    <a:lnTo>
                      <a:pt x="711" y="39"/>
                    </a:lnTo>
                    <a:lnTo>
                      <a:pt x="699" y="40"/>
                    </a:lnTo>
                    <a:lnTo>
                      <a:pt x="687" y="41"/>
                    </a:lnTo>
                    <a:lnTo>
                      <a:pt x="679" y="43"/>
                    </a:lnTo>
                    <a:lnTo>
                      <a:pt x="670" y="43"/>
                    </a:lnTo>
                    <a:lnTo>
                      <a:pt x="663" y="44"/>
                    </a:lnTo>
                    <a:lnTo>
                      <a:pt x="657" y="44"/>
                    </a:lnTo>
                    <a:lnTo>
                      <a:pt x="655" y="45"/>
                    </a:lnTo>
                    <a:lnTo>
                      <a:pt x="653" y="45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398480" y="4587480"/>
                <a:ext cx="57600" cy="35280"/>
              </a:xfrm>
              <a:custGeom>
                <a:avLst/>
                <a:gdLst/>
                <a:ahLst/>
                <a:rect l="l" t="t" r="r" b="b"/>
                <a:pathLst>
                  <a:path w="1138" h="693">
                    <a:moveTo>
                      <a:pt x="727" y="83"/>
                    </a:moveTo>
                    <a:lnTo>
                      <a:pt x="727" y="108"/>
                    </a:lnTo>
                    <a:lnTo>
                      <a:pt x="727" y="133"/>
                    </a:lnTo>
                    <a:lnTo>
                      <a:pt x="727" y="158"/>
                    </a:lnTo>
                    <a:lnTo>
                      <a:pt x="727" y="183"/>
                    </a:lnTo>
                    <a:lnTo>
                      <a:pt x="728" y="185"/>
                    </a:lnTo>
                    <a:lnTo>
                      <a:pt x="729" y="188"/>
                    </a:lnTo>
                    <a:lnTo>
                      <a:pt x="732" y="196"/>
                    </a:lnTo>
                    <a:lnTo>
                      <a:pt x="735" y="203"/>
                    </a:lnTo>
                    <a:lnTo>
                      <a:pt x="737" y="213"/>
                    </a:lnTo>
                    <a:lnTo>
                      <a:pt x="739" y="225"/>
                    </a:lnTo>
                    <a:lnTo>
                      <a:pt x="740" y="236"/>
                    </a:lnTo>
                    <a:lnTo>
                      <a:pt x="741" y="246"/>
                    </a:lnTo>
                    <a:lnTo>
                      <a:pt x="739" y="253"/>
                    </a:lnTo>
                    <a:lnTo>
                      <a:pt x="737" y="259"/>
                    </a:lnTo>
                    <a:lnTo>
                      <a:pt x="730" y="268"/>
                    </a:lnTo>
                    <a:lnTo>
                      <a:pt x="723" y="275"/>
                    </a:lnTo>
                    <a:lnTo>
                      <a:pt x="712" y="285"/>
                    </a:lnTo>
                    <a:lnTo>
                      <a:pt x="702" y="294"/>
                    </a:lnTo>
                    <a:lnTo>
                      <a:pt x="687" y="304"/>
                    </a:lnTo>
                    <a:lnTo>
                      <a:pt x="673" y="314"/>
                    </a:lnTo>
                    <a:lnTo>
                      <a:pt x="664" y="319"/>
                    </a:lnTo>
                    <a:lnTo>
                      <a:pt x="656" y="324"/>
                    </a:lnTo>
                    <a:lnTo>
                      <a:pt x="647" y="329"/>
                    </a:lnTo>
                    <a:lnTo>
                      <a:pt x="637" y="333"/>
                    </a:lnTo>
                    <a:lnTo>
                      <a:pt x="627" y="339"/>
                    </a:lnTo>
                    <a:lnTo>
                      <a:pt x="616" y="343"/>
                    </a:lnTo>
                    <a:lnTo>
                      <a:pt x="605" y="348"/>
                    </a:lnTo>
                    <a:lnTo>
                      <a:pt x="593" y="353"/>
                    </a:lnTo>
                    <a:lnTo>
                      <a:pt x="582" y="359"/>
                    </a:lnTo>
                    <a:lnTo>
                      <a:pt x="570" y="365"/>
                    </a:lnTo>
                    <a:lnTo>
                      <a:pt x="559" y="371"/>
                    </a:lnTo>
                    <a:lnTo>
                      <a:pt x="546" y="376"/>
                    </a:lnTo>
                    <a:lnTo>
                      <a:pt x="533" y="381"/>
                    </a:lnTo>
                    <a:lnTo>
                      <a:pt x="519" y="386"/>
                    </a:lnTo>
                    <a:lnTo>
                      <a:pt x="506" y="391"/>
                    </a:lnTo>
                    <a:lnTo>
                      <a:pt x="492" y="396"/>
                    </a:lnTo>
                    <a:lnTo>
                      <a:pt x="478" y="402"/>
                    </a:lnTo>
                    <a:lnTo>
                      <a:pt x="463" y="407"/>
                    </a:lnTo>
                    <a:lnTo>
                      <a:pt x="454" y="411"/>
                    </a:lnTo>
                    <a:lnTo>
                      <a:pt x="444" y="415"/>
                    </a:lnTo>
                    <a:lnTo>
                      <a:pt x="436" y="418"/>
                    </a:lnTo>
                    <a:lnTo>
                      <a:pt x="427" y="422"/>
                    </a:lnTo>
                    <a:lnTo>
                      <a:pt x="417" y="425"/>
                    </a:lnTo>
                    <a:lnTo>
                      <a:pt x="408" y="429"/>
                    </a:lnTo>
                    <a:lnTo>
                      <a:pt x="398" y="433"/>
                    </a:lnTo>
                    <a:lnTo>
                      <a:pt x="389" y="436"/>
                    </a:lnTo>
                    <a:lnTo>
                      <a:pt x="379" y="441"/>
                    </a:lnTo>
                    <a:lnTo>
                      <a:pt x="369" y="445"/>
                    </a:lnTo>
                    <a:lnTo>
                      <a:pt x="359" y="449"/>
                    </a:lnTo>
                    <a:lnTo>
                      <a:pt x="349" y="453"/>
                    </a:lnTo>
                    <a:lnTo>
                      <a:pt x="338" y="459"/>
                    </a:lnTo>
                    <a:lnTo>
                      <a:pt x="328" y="464"/>
                    </a:lnTo>
                    <a:lnTo>
                      <a:pt x="318" y="469"/>
                    </a:lnTo>
                    <a:lnTo>
                      <a:pt x="308" y="474"/>
                    </a:lnTo>
                    <a:lnTo>
                      <a:pt x="297" y="479"/>
                    </a:lnTo>
                    <a:lnTo>
                      <a:pt x="286" y="484"/>
                    </a:lnTo>
                    <a:lnTo>
                      <a:pt x="276" y="489"/>
                    </a:lnTo>
                    <a:lnTo>
                      <a:pt x="266" y="494"/>
                    </a:lnTo>
                    <a:lnTo>
                      <a:pt x="254" y="499"/>
                    </a:lnTo>
                    <a:lnTo>
                      <a:pt x="244" y="504"/>
                    </a:lnTo>
                    <a:lnTo>
                      <a:pt x="234" y="510"/>
                    </a:lnTo>
                    <a:lnTo>
                      <a:pt x="224" y="515"/>
                    </a:lnTo>
                    <a:lnTo>
                      <a:pt x="214" y="520"/>
                    </a:lnTo>
                    <a:lnTo>
                      <a:pt x="202" y="525"/>
                    </a:lnTo>
                    <a:lnTo>
                      <a:pt x="192" y="530"/>
                    </a:lnTo>
                    <a:lnTo>
                      <a:pt x="182" y="535"/>
                    </a:lnTo>
                    <a:lnTo>
                      <a:pt x="172" y="540"/>
                    </a:lnTo>
                    <a:lnTo>
                      <a:pt x="162" y="545"/>
                    </a:lnTo>
                    <a:lnTo>
                      <a:pt x="151" y="551"/>
                    </a:lnTo>
                    <a:lnTo>
                      <a:pt x="142" y="557"/>
                    </a:lnTo>
                    <a:lnTo>
                      <a:pt x="133" y="562"/>
                    </a:lnTo>
                    <a:lnTo>
                      <a:pt x="124" y="567"/>
                    </a:lnTo>
                    <a:lnTo>
                      <a:pt x="115" y="573"/>
                    </a:lnTo>
                    <a:lnTo>
                      <a:pt x="106" y="578"/>
                    </a:lnTo>
                    <a:lnTo>
                      <a:pt x="98" y="583"/>
                    </a:lnTo>
                    <a:lnTo>
                      <a:pt x="90" y="588"/>
                    </a:lnTo>
                    <a:lnTo>
                      <a:pt x="82" y="593"/>
                    </a:lnTo>
                    <a:lnTo>
                      <a:pt x="74" y="598"/>
                    </a:lnTo>
                    <a:lnTo>
                      <a:pt x="59" y="609"/>
                    </a:lnTo>
                    <a:lnTo>
                      <a:pt x="46" y="618"/>
                    </a:lnTo>
                    <a:lnTo>
                      <a:pt x="35" y="627"/>
                    </a:lnTo>
                    <a:lnTo>
                      <a:pt x="24" y="635"/>
                    </a:lnTo>
                    <a:lnTo>
                      <a:pt x="17" y="643"/>
                    </a:lnTo>
                    <a:lnTo>
                      <a:pt x="8" y="651"/>
                    </a:lnTo>
                    <a:lnTo>
                      <a:pt x="4" y="659"/>
                    </a:lnTo>
                    <a:lnTo>
                      <a:pt x="0" y="666"/>
                    </a:lnTo>
                    <a:lnTo>
                      <a:pt x="0" y="672"/>
                    </a:lnTo>
                    <a:lnTo>
                      <a:pt x="0" y="677"/>
                    </a:lnTo>
                    <a:lnTo>
                      <a:pt x="4" y="682"/>
                    </a:lnTo>
                    <a:lnTo>
                      <a:pt x="10" y="686"/>
                    </a:lnTo>
                    <a:lnTo>
                      <a:pt x="22" y="688"/>
                    </a:lnTo>
                    <a:lnTo>
                      <a:pt x="34" y="691"/>
                    </a:lnTo>
                    <a:lnTo>
                      <a:pt x="42" y="692"/>
                    </a:lnTo>
                    <a:lnTo>
                      <a:pt x="50" y="692"/>
                    </a:lnTo>
                    <a:lnTo>
                      <a:pt x="58" y="692"/>
                    </a:lnTo>
                    <a:lnTo>
                      <a:pt x="67" y="693"/>
                    </a:lnTo>
                    <a:lnTo>
                      <a:pt x="76" y="693"/>
                    </a:lnTo>
                    <a:lnTo>
                      <a:pt x="86" y="693"/>
                    </a:lnTo>
                    <a:lnTo>
                      <a:pt x="96" y="693"/>
                    </a:lnTo>
                    <a:lnTo>
                      <a:pt x="106" y="692"/>
                    </a:lnTo>
                    <a:lnTo>
                      <a:pt x="118" y="692"/>
                    </a:lnTo>
                    <a:lnTo>
                      <a:pt x="130" y="691"/>
                    </a:lnTo>
                    <a:lnTo>
                      <a:pt x="141" y="690"/>
                    </a:lnTo>
                    <a:lnTo>
                      <a:pt x="153" y="689"/>
                    </a:lnTo>
                    <a:lnTo>
                      <a:pt x="167" y="688"/>
                    </a:lnTo>
                    <a:lnTo>
                      <a:pt x="179" y="686"/>
                    </a:lnTo>
                    <a:lnTo>
                      <a:pt x="192" y="685"/>
                    </a:lnTo>
                    <a:lnTo>
                      <a:pt x="205" y="683"/>
                    </a:lnTo>
                    <a:lnTo>
                      <a:pt x="220" y="682"/>
                    </a:lnTo>
                    <a:lnTo>
                      <a:pt x="235" y="680"/>
                    </a:lnTo>
                    <a:lnTo>
                      <a:pt x="249" y="679"/>
                    </a:lnTo>
                    <a:lnTo>
                      <a:pt x="264" y="677"/>
                    </a:lnTo>
                    <a:lnTo>
                      <a:pt x="279" y="675"/>
                    </a:lnTo>
                    <a:lnTo>
                      <a:pt x="293" y="673"/>
                    </a:lnTo>
                    <a:lnTo>
                      <a:pt x="309" y="671"/>
                    </a:lnTo>
                    <a:lnTo>
                      <a:pt x="323" y="669"/>
                    </a:lnTo>
                    <a:lnTo>
                      <a:pt x="338" y="667"/>
                    </a:lnTo>
                    <a:lnTo>
                      <a:pt x="355" y="664"/>
                    </a:lnTo>
                    <a:lnTo>
                      <a:pt x="370" y="662"/>
                    </a:lnTo>
                    <a:lnTo>
                      <a:pt x="385" y="659"/>
                    </a:lnTo>
                    <a:lnTo>
                      <a:pt x="399" y="657"/>
                    </a:lnTo>
                    <a:lnTo>
                      <a:pt x="415" y="654"/>
                    </a:lnTo>
                    <a:lnTo>
                      <a:pt x="430" y="651"/>
                    </a:lnTo>
                    <a:lnTo>
                      <a:pt x="444" y="648"/>
                    </a:lnTo>
                    <a:lnTo>
                      <a:pt x="460" y="645"/>
                    </a:lnTo>
                    <a:lnTo>
                      <a:pt x="474" y="642"/>
                    </a:lnTo>
                    <a:lnTo>
                      <a:pt x="489" y="639"/>
                    </a:lnTo>
                    <a:lnTo>
                      <a:pt x="505" y="636"/>
                    </a:lnTo>
                    <a:lnTo>
                      <a:pt x="519" y="634"/>
                    </a:lnTo>
                    <a:lnTo>
                      <a:pt x="533" y="631"/>
                    </a:lnTo>
                    <a:lnTo>
                      <a:pt x="547" y="629"/>
                    </a:lnTo>
                    <a:lnTo>
                      <a:pt x="562" y="626"/>
                    </a:lnTo>
                    <a:lnTo>
                      <a:pt x="575" y="623"/>
                    </a:lnTo>
                    <a:lnTo>
                      <a:pt x="587" y="621"/>
                    </a:lnTo>
                    <a:lnTo>
                      <a:pt x="601" y="618"/>
                    </a:lnTo>
                    <a:lnTo>
                      <a:pt x="614" y="616"/>
                    </a:lnTo>
                    <a:lnTo>
                      <a:pt x="625" y="614"/>
                    </a:lnTo>
                    <a:lnTo>
                      <a:pt x="636" y="611"/>
                    </a:lnTo>
                    <a:lnTo>
                      <a:pt x="648" y="609"/>
                    </a:lnTo>
                    <a:lnTo>
                      <a:pt x="660" y="607"/>
                    </a:lnTo>
                    <a:lnTo>
                      <a:pt x="669" y="603"/>
                    </a:lnTo>
                    <a:lnTo>
                      <a:pt x="679" y="600"/>
                    </a:lnTo>
                    <a:lnTo>
                      <a:pt x="689" y="598"/>
                    </a:lnTo>
                    <a:lnTo>
                      <a:pt x="700" y="595"/>
                    </a:lnTo>
                    <a:lnTo>
                      <a:pt x="714" y="592"/>
                    </a:lnTo>
                    <a:lnTo>
                      <a:pt x="729" y="588"/>
                    </a:lnTo>
                    <a:lnTo>
                      <a:pt x="744" y="585"/>
                    </a:lnTo>
                    <a:lnTo>
                      <a:pt x="757" y="581"/>
                    </a:lnTo>
                    <a:lnTo>
                      <a:pt x="771" y="578"/>
                    </a:lnTo>
                    <a:lnTo>
                      <a:pt x="785" y="574"/>
                    </a:lnTo>
                    <a:lnTo>
                      <a:pt x="794" y="571"/>
                    </a:lnTo>
                    <a:lnTo>
                      <a:pt x="801" y="569"/>
                    </a:lnTo>
                    <a:lnTo>
                      <a:pt x="809" y="566"/>
                    </a:lnTo>
                    <a:lnTo>
                      <a:pt x="817" y="563"/>
                    </a:lnTo>
                    <a:lnTo>
                      <a:pt x="825" y="560"/>
                    </a:lnTo>
                    <a:lnTo>
                      <a:pt x="833" y="558"/>
                    </a:lnTo>
                    <a:lnTo>
                      <a:pt x="843" y="554"/>
                    </a:lnTo>
                    <a:lnTo>
                      <a:pt x="851" y="552"/>
                    </a:lnTo>
                    <a:lnTo>
                      <a:pt x="859" y="548"/>
                    </a:lnTo>
                    <a:lnTo>
                      <a:pt x="868" y="545"/>
                    </a:lnTo>
                    <a:lnTo>
                      <a:pt x="876" y="541"/>
                    </a:lnTo>
                    <a:lnTo>
                      <a:pt x="884" y="538"/>
                    </a:lnTo>
                    <a:lnTo>
                      <a:pt x="893" y="535"/>
                    </a:lnTo>
                    <a:lnTo>
                      <a:pt x="901" y="531"/>
                    </a:lnTo>
                    <a:lnTo>
                      <a:pt x="909" y="528"/>
                    </a:lnTo>
                    <a:lnTo>
                      <a:pt x="916" y="524"/>
                    </a:lnTo>
                    <a:lnTo>
                      <a:pt x="925" y="520"/>
                    </a:lnTo>
                    <a:lnTo>
                      <a:pt x="933" y="516"/>
                    </a:lnTo>
                    <a:lnTo>
                      <a:pt x="942" y="512"/>
                    </a:lnTo>
                    <a:lnTo>
                      <a:pt x="951" y="508"/>
                    </a:lnTo>
                    <a:lnTo>
                      <a:pt x="958" y="502"/>
                    </a:lnTo>
                    <a:lnTo>
                      <a:pt x="966" y="497"/>
                    </a:lnTo>
                    <a:lnTo>
                      <a:pt x="974" y="492"/>
                    </a:lnTo>
                    <a:lnTo>
                      <a:pt x="982" y="488"/>
                    </a:lnTo>
                    <a:lnTo>
                      <a:pt x="990" y="483"/>
                    </a:lnTo>
                    <a:lnTo>
                      <a:pt x="998" y="478"/>
                    </a:lnTo>
                    <a:lnTo>
                      <a:pt x="1006" y="473"/>
                    </a:lnTo>
                    <a:lnTo>
                      <a:pt x="1014" y="468"/>
                    </a:lnTo>
                    <a:lnTo>
                      <a:pt x="1027" y="455"/>
                    </a:lnTo>
                    <a:lnTo>
                      <a:pt x="1042" y="443"/>
                    </a:lnTo>
                    <a:lnTo>
                      <a:pt x="1055" y="431"/>
                    </a:lnTo>
                    <a:lnTo>
                      <a:pt x="1067" y="418"/>
                    </a:lnTo>
                    <a:lnTo>
                      <a:pt x="1078" y="403"/>
                    </a:lnTo>
                    <a:lnTo>
                      <a:pt x="1090" y="388"/>
                    </a:lnTo>
                    <a:lnTo>
                      <a:pt x="1095" y="380"/>
                    </a:lnTo>
                    <a:lnTo>
                      <a:pt x="1100" y="372"/>
                    </a:lnTo>
                    <a:lnTo>
                      <a:pt x="1105" y="364"/>
                    </a:lnTo>
                    <a:lnTo>
                      <a:pt x="1110" y="355"/>
                    </a:lnTo>
                    <a:lnTo>
                      <a:pt x="1113" y="346"/>
                    </a:lnTo>
                    <a:lnTo>
                      <a:pt x="1116" y="338"/>
                    </a:lnTo>
                    <a:lnTo>
                      <a:pt x="1119" y="329"/>
                    </a:lnTo>
                    <a:lnTo>
                      <a:pt x="1123" y="320"/>
                    </a:lnTo>
                    <a:lnTo>
                      <a:pt x="1125" y="310"/>
                    </a:lnTo>
                    <a:lnTo>
                      <a:pt x="1128" y="301"/>
                    </a:lnTo>
                    <a:lnTo>
                      <a:pt x="1130" y="292"/>
                    </a:lnTo>
                    <a:lnTo>
                      <a:pt x="1134" y="282"/>
                    </a:lnTo>
                    <a:lnTo>
                      <a:pt x="1135" y="272"/>
                    </a:lnTo>
                    <a:lnTo>
                      <a:pt x="1135" y="260"/>
                    </a:lnTo>
                    <a:lnTo>
                      <a:pt x="1136" y="250"/>
                    </a:lnTo>
                    <a:lnTo>
                      <a:pt x="1138" y="239"/>
                    </a:lnTo>
                    <a:lnTo>
                      <a:pt x="1137" y="231"/>
                    </a:lnTo>
                    <a:lnTo>
                      <a:pt x="1137" y="223"/>
                    </a:lnTo>
                    <a:lnTo>
                      <a:pt x="1136" y="215"/>
                    </a:lnTo>
                    <a:lnTo>
                      <a:pt x="1136" y="206"/>
                    </a:lnTo>
                    <a:lnTo>
                      <a:pt x="1134" y="198"/>
                    </a:lnTo>
                    <a:lnTo>
                      <a:pt x="1132" y="191"/>
                    </a:lnTo>
                    <a:lnTo>
                      <a:pt x="1130" y="183"/>
                    </a:lnTo>
                    <a:lnTo>
                      <a:pt x="1129" y="175"/>
                    </a:lnTo>
                    <a:lnTo>
                      <a:pt x="1126" y="168"/>
                    </a:lnTo>
                    <a:lnTo>
                      <a:pt x="1123" y="159"/>
                    </a:lnTo>
                    <a:lnTo>
                      <a:pt x="1120" y="151"/>
                    </a:lnTo>
                    <a:lnTo>
                      <a:pt x="1117" y="144"/>
                    </a:lnTo>
                    <a:lnTo>
                      <a:pt x="1114" y="136"/>
                    </a:lnTo>
                    <a:lnTo>
                      <a:pt x="1110" y="128"/>
                    </a:lnTo>
                    <a:lnTo>
                      <a:pt x="1107" y="121"/>
                    </a:lnTo>
                    <a:lnTo>
                      <a:pt x="1103" y="112"/>
                    </a:lnTo>
                    <a:lnTo>
                      <a:pt x="1095" y="98"/>
                    </a:lnTo>
                    <a:lnTo>
                      <a:pt x="1086" y="84"/>
                    </a:lnTo>
                    <a:lnTo>
                      <a:pt x="1075" y="71"/>
                    </a:lnTo>
                    <a:lnTo>
                      <a:pt x="1066" y="55"/>
                    </a:lnTo>
                    <a:lnTo>
                      <a:pt x="1054" y="40"/>
                    </a:lnTo>
                    <a:lnTo>
                      <a:pt x="1042" y="26"/>
                    </a:lnTo>
                    <a:lnTo>
                      <a:pt x="1029" y="12"/>
                    </a:lnTo>
                    <a:lnTo>
                      <a:pt x="1018" y="0"/>
                    </a:lnTo>
                    <a:lnTo>
                      <a:pt x="1016" y="0"/>
                    </a:lnTo>
                    <a:lnTo>
                      <a:pt x="1014" y="1"/>
                    </a:lnTo>
                    <a:lnTo>
                      <a:pt x="1009" y="2"/>
                    </a:lnTo>
                    <a:lnTo>
                      <a:pt x="1004" y="3"/>
                    </a:lnTo>
                    <a:lnTo>
                      <a:pt x="998" y="5"/>
                    </a:lnTo>
                    <a:lnTo>
                      <a:pt x="991" y="7"/>
                    </a:lnTo>
                    <a:lnTo>
                      <a:pt x="980" y="10"/>
                    </a:lnTo>
                    <a:lnTo>
                      <a:pt x="970" y="13"/>
                    </a:lnTo>
                    <a:lnTo>
                      <a:pt x="959" y="16"/>
                    </a:lnTo>
                    <a:lnTo>
                      <a:pt x="948" y="20"/>
                    </a:lnTo>
                    <a:lnTo>
                      <a:pt x="936" y="25"/>
                    </a:lnTo>
                    <a:lnTo>
                      <a:pt x="924" y="29"/>
                    </a:lnTo>
                    <a:lnTo>
                      <a:pt x="912" y="33"/>
                    </a:lnTo>
                    <a:lnTo>
                      <a:pt x="899" y="37"/>
                    </a:lnTo>
                    <a:lnTo>
                      <a:pt x="885" y="41"/>
                    </a:lnTo>
                    <a:lnTo>
                      <a:pt x="872" y="45"/>
                    </a:lnTo>
                    <a:lnTo>
                      <a:pt x="860" y="48"/>
                    </a:lnTo>
                    <a:lnTo>
                      <a:pt x="847" y="52"/>
                    </a:lnTo>
                    <a:lnTo>
                      <a:pt x="833" y="56"/>
                    </a:lnTo>
                    <a:lnTo>
                      <a:pt x="821" y="60"/>
                    </a:lnTo>
                    <a:lnTo>
                      <a:pt x="809" y="64"/>
                    </a:lnTo>
                    <a:lnTo>
                      <a:pt x="797" y="68"/>
                    </a:lnTo>
                    <a:lnTo>
                      <a:pt x="784" y="70"/>
                    </a:lnTo>
                    <a:lnTo>
                      <a:pt x="773" y="72"/>
                    </a:lnTo>
                    <a:lnTo>
                      <a:pt x="764" y="75"/>
                    </a:lnTo>
                    <a:lnTo>
                      <a:pt x="756" y="77"/>
                    </a:lnTo>
                    <a:lnTo>
                      <a:pt x="747" y="79"/>
                    </a:lnTo>
                    <a:lnTo>
                      <a:pt x="739" y="80"/>
                    </a:lnTo>
                    <a:lnTo>
                      <a:pt x="735" y="81"/>
                    </a:lnTo>
                    <a:lnTo>
                      <a:pt x="731" y="82"/>
                    </a:lnTo>
                    <a:lnTo>
                      <a:pt x="729" y="83"/>
                    </a:lnTo>
                    <a:lnTo>
                      <a:pt x="727" y="83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411800" y="4290120"/>
                <a:ext cx="38160" cy="40320"/>
              </a:xfrm>
              <a:custGeom>
                <a:avLst/>
                <a:gdLst/>
                <a:ahLst/>
                <a:rect l="l" t="t" r="r" b="b"/>
                <a:pathLst>
                  <a:path w="739" h="766">
                    <a:moveTo>
                      <a:pt x="371" y="757"/>
                    </a:moveTo>
                    <a:lnTo>
                      <a:pt x="380" y="758"/>
                    </a:lnTo>
                    <a:lnTo>
                      <a:pt x="389" y="760"/>
                    </a:lnTo>
                    <a:lnTo>
                      <a:pt x="399" y="762"/>
                    </a:lnTo>
                    <a:lnTo>
                      <a:pt x="409" y="763"/>
                    </a:lnTo>
                    <a:lnTo>
                      <a:pt x="418" y="764"/>
                    </a:lnTo>
                    <a:lnTo>
                      <a:pt x="426" y="765"/>
                    </a:lnTo>
                    <a:lnTo>
                      <a:pt x="435" y="765"/>
                    </a:lnTo>
                    <a:lnTo>
                      <a:pt x="445" y="766"/>
                    </a:lnTo>
                    <a:lnTo>
                      <a:pt x="454" y="766"/>
                    </a:lnTo>
                    <a:lnTo>
                      <a:pt x="462" y="766"/>
                    </a:lnTo>
                    <a:lnTo>
                      <a:pt x="471" y="766"/>
                    </a:lnTo>
                    <a:lnTo>
                      <a:pt x="480" y="766"/>
                    </a:lnTo>
                    <a:lnTo>
                      <a:pt x="488" y="765"/>
                    </a:lnTo>
                    <a:lnTo>
                      <a:pt x="497" y="763"/>
                    </a:lnTo>
                    <a:lnTo>
                      <a:pt x="506" y="762"/>
                    </a:lnTo>
                    <a:lnTo>
                      <a:pt x="514" y="760"/>
                    </a:lnTo>
                    <a:lnTo>
                      <a:pt x="522" y="759"/>
                    </a:lnTo>
                    <a:lnTo>
                      <a:pt x="530" y="757"/>
                    </a:lnTo>
                    <a:lnTo>
                      <a:pt x="537" y="756"/>
                    </a:lnTo>
                    <a:lnTo>
                      <a:pt x="546" y="754"/>
                    </a:lnTo>
                    <a:lnTo>
                      <a:pt x="561" y="747"/>
                    </a:lnTo>
                    <a:lnTo>
                      <a:pt x="575" y="741"/>
                    </a:lnTo>
                    <a:lnTo>
                      <a:pt x="591" y="734"/>
                    </a:lnTo>
                    <a:lnTo>
                      <a:pt x="606" y="728"/>
                    </a:lnTo>
                    <a:lnTo>
                      <a:pt x="619" y="719"/>
                    </a:lnTo>
                    <a:lnTo>
                      <a:pt x="631" y="710"/>
                    </a:lnTo>
                    <a:lnTo>
                      <a:pt x="644" y="699"/>
                    </a:lnTo>
                    <a:lnTo>
                      <a:pt x="655" y="687"/>
                    </a:lnTo>
                    <a:lnTo>
                      <a:pt x="665" y="676"/>
                    </a:lnTo>
                    <a:lnTo>
                      <a:pt x="675" y="664"/>
                    </a:lnTo>
                    <a:lnTo>
                      <a:pt x="684" y="652"/>
                    </a:lnTo>
                    <a:lnTo>
                      <a:pt x="695" y="638"/>
                    </a:lnTo>
                    <a:lnTo>
                      <a:pt x="702" y="624"/>
                    </a:lnTo>
                    <a:lnTo>
                      <a:pt x="709" y="610"/>
                    </a:lnTo>
                    <a:lnTo>
                      <a:pt x="713" y="602"/>
                    </a:lnTo>
                    <a:lnTo>
                      <a:pt x="716" y="594"/>
                    </a:lnTo>
                    <a:lnTo>
                      <a:pt x="719" y="585"/>
                    </a:lnTo>
                    <a:lnTo>
                      <a:pt x="723" y="577"/>
                    </a:lnTo>
                    <a:lnTo>
                      <a:pt x="725" y="569"/>
                    </a:lnTo>
                    <a:lnTo>
                      <a:pt x="727" y="561"/>
                    </a:lnTo>
                    <a:lnTo>
                      <a:pt x="729" y="553"/>
                    </a:lnTo>
                    <a:lnTo>
                      <a:pt x="731" y="544"/>
                    </a:lnTo>
                    <a:lnTo>
                      <a:pt x="732" y="535"/>
                    </a:lnTo>
                    <a:lnTo>
                      <a:pt x="735" y="526"/>
                    </a:lnTo>
                    <a:lnTo>
                      <a:pt x="736" y="517"/>
                    </a:lnTo>
                    <a:lnTo>
                      <a:pt x="738" y="508"/>
                    </a:lnTo>
                    <a:lnTo>
                      <a:pt x="738" y="498"/>
                    </a:lnTo>
                    <a:lnTo>
                      <a:pt x="739" y="488"/>
                    </a:lnTo>
                    <a:lnTo>
                      <a:pt x="739" y="479"/>
                    </a:lnTo>
                    <a:lnTo>
                      <a:pt x="739" y="469"/>
                    </a:lnTo>
                    <a:lnTo>
                      <a:pt x="739" y="460"/>
                    </a:lnTo>
                    <a:lnTo>
                      <a:pt x="739" y="450"/>
                    </a:lnTo>
                    <a:lnTo>
                      <a:pt x="738" y="440"/>
                    </a:lnTo>
                    <a:lnTo>
                      <a:pt x="738" y="430"/>
                    </a:lnTo>
                    <a:lnTo>
                      <a:pt x="736" y="421"/>
                    </a:lnTo>
                    <a:lnTo>
                      <a:pt x="735" y="412"/>
                    </a:lnTo>
                    <a:lnTo>
                      <a:pt x="732" y="403"/>
                    </a:lnTo>
                    <a:lnTo>
                      <a:pt x="731" y="393"/>
                    </a:lnTo>
                    <a:lnTo>
                      <a:pt x="729" y="384"/>
                    </a:lnTo>
                    <a:lnTo>
                      <a:pt x="727" y="374"/>
                    </a:lnTo>
                    <a:lnTo>
                      <a:pt x="725" y="365"/>
                    </a:lnTo>
                    <a:lnTo>
                      <a:pt x="723" y="355"/>
                    </a:lnTo>
                    <a:lnTo>
                      <a:pt x="719" y="345"/>
                    </a:lnTo>
                    <a:lnTo>
                      <a:pt x="716" y="336"/>
                    </a:lnTo>
                    <a:lnTo>
                      <a:pt x="713" y="327"/>
                    </a:lnTo>
                    <a:lnTo>
                      <a:pt x="709" y="318"/>
                    </a:lnTo>
                    <a:lnTo>
                      <a:pt x="706" y="309"/>
                    </a:lnTo>
                    <a:lnTo>
                      <a:pt x="702" y="299"/>
                    </a:lnTo>
                    <a:lnTo>
                      <a:pt x="699" y="291"/>
                    </a:lnTo>
                    <a:lnTo>
                      <a:pt x="695" y="282"/>
                    </a:lnTo>
                    <a:lnTo>
                      <a:pt x="690" y="274"/>
                    </a:lnTo>
                    <a:lnTo>
                      <a:pt x="684" y="265"/>
                    </a:lnTo>
                    <a:lnTo>
                      <a:pt x="680" y="257"/>
                    </a:lnTo>
                    <a:lnTo>
                      <a:pt x="675" y="247"/>
                    </a:lnTo>
                    <a:lnTo>
                      <a:pt x="670" y="239"/>
                    </a:lnTo>
                    <a:lnTo>
                      <a:pt x="665" y="230"/>
                    </a:lnTo>
                    <a:lnTo>
                      <a:pt x="660" y="221"/>
                    </a:lnTo>
                    <a:lnTo>
                      <a:pt x="655" y="212"/>
                    </a:lnTo>
                    <a:lnTo>
                      <a:pt x="649" y="205"/>
                    </a:lnTo>
                    <a:lnTo>
                      <a:pt x="644" y="196"/>
                    </a:lnTo>
                    <a:lnTo>
                      <a:pt x="638" y="188"/>
                    </a:lnTo>
                    <a:lnTo>
                      <a:pt x="631" y="180"/>
                    </a:lnTo>
                    <a:lnTo>
                      <a:pt x="619" y="166"/>
                    </a:lnTo>
                    <a:lnTo>
                      <a:pt x="606" y="150"/>
                    </a:lnTo>
                    <a:lnTo>
                      <a:pt x="591" y="137"/>
                    </a:lnTo>
                    <a:lnTo>
                      <a:pt x="575" y="123"/>
                    </a:lnTo>
                    <a:lnTo>
                      <a:pt x="561" y="110"/>
                    </a:lnTo>
                    <a:lnTo>
                      <a:pt x="546" y="96"/>
                    </a:lnTo>
                    <a:lnTo>
                      <a:pt x="537" y="91"/>
                    </a:lnTo>
                    <a:lnTo>
                      <a:pt x="530" y="85"/>
                    </a:lnTo>
                    <a:lnTo>
                      <a:pt x="522" y="80"/>
                    </a:lnTo>
                    <a:lnTo>
                      <a:pt x="514" y="74"/>
                    </a:lnTo>
                    <a:lnTo>
                      <a:pt x="506" y="69"/>
                    </a:lnTo>
                    <a:lnTo>
                      <a:pt x="497" y="64"/>
                    </a:lnTo>
                    <a:lnTo>
                      <a:pt x="488" y="58"/>
                    </a:lnTo>
                    <a:lnTo>
                      <a:pt x="480" y="52"/>
                    </a:lnTo>
                    <a:lnTo>
                      <a:pt x="471" y="48"/>
                    </a:lnTo>
                    <a:lnTo>
                      <a:pt x="462" y="44"/>
                    </a:lnTo>
                    <a:lnTo>
                      <a:pt x="454" y="40"/>
                    </a:lnTo>
                    <a:lnTo>
                      <a:pt x="445" y="35"/>
                    </a:lnTo>
                    <a:lnTo>
                      <a:pt x="435" y="32"/>
                    </a:lnTo>
                    <a:lnTo>
                      <a:pt x="426" y="28"/>
                    </a:lnTo>
                    <a:lnTo>
                      <a:pt x="418" y="25"/>
                    </a:lnTo>
                    <a:lnTo>
                      <a:pt x="409" y="21"/>
                    </a:lnTo>
                    <a:lnTo>
                      <a:pt x="399" y="18"/>
                    </a:lnTo>
                    <a:lnTo>
                      <a:pt x="389" y="15"/>
                    </a:lnTo>
                    <a:lnTo>
                      <a:pt x="380" y="12"/>
                    </a:lnTo>
                    <a:lnTo>
                      <a:pt x="371" y="9"/>
                    </a:lnTo>
                    <a:lnTo>
                      <a:pt x="361" y="7"/>
                    </a:lnTo>
                    <a:lnTo>
                      <a:pt x="352" y="6"/>
                    </a:lnTo>
                    <a:lnTo>
                      <a:pt x="342" y="4"/>
                    </a:lnTo>
                    <a:lnTo>
                      <a:pt x="333" y="3"/>
                    </a:lnTo>
                    <a:lnTo>
                      <a:pt x="323" y="2"/>
                    </a:lnTo>
                    <a:lnTo>
                      <a:pt x="314" y="1"/>
                    </a:lnTo>
                    <a:lnTo>
                      <a:pt x="305" y="0"/>
                    </a:lnTo>
                    <a:lnTo>
                      <a:pt x="296" y="0"/>
                    </a:lnTo>
                    <a:lnTo>
                      <a:pt x="286" y="0"/>
                    </a:lnTo>
                    <a:lnTo>
                      <a:pt x="278" y="0"/>
                    </a:lnTo>
                    <a:lnTo>
                      <a:pt x="270" y="0"/>
                    </a:lnTo>
                    <a:lnTo>
                      <a:pt x="261" y="0"/>
                    </a:lnTo>
                    <a:lnTo>
                      <a:pt x="252" y="1"/>
                    </a:lnTo>
                    <a:lnTo>
                      <a:pt x="243" y="3"/>
                    </a:lnTo>
                    <a:lnTo>
                      <a:pt x="234" y="4"/>
                    </a:lnTo>
                    <a:lnTo>
                      <a:pt x="225" y="5"/>
                    </a:lnTo>
                    <a:lnTo>
                      <a:pt x="218" y="7"/>
                    </a:lnTo>
                    <a:lnTo>
                      <a:pt x="210" y="10"/>
                    </a:lnTo>
                    <a:lnTo>
                      <a:pt x="202" y="11"/>
                    </a:lnTo>
                    <a:lnTo>
                      <a:pt x="193" y="13"/>
                    </a:lnTo>
                    <a:lnTo>
                      <a:pt x="179" y="19"/>
                    </a:lnTo>
                    <a:lnTo>
                      <a:pt x="164" y="25"/>
                    </a:lnTo>
                    <a:lnTo>
                      <a:pt x="150" y="32"/>
                    </a:lnTo>
                    <a:lnTo>
                      <a:pt x="136" y="39"/>
                    </a:lnTo>
                    <a:lnTo>
                      <a:pt x="122" y="47"/>
                    </a:lnTo>
                    <a:lnTo>
                      <a:pt x="109" y="56"/>
                    </a:lnTo>
                    <a:lnTo>
                      <a:pt x="96" y="67"/>
                    </a:lnTo>
                    <a:lnTo>
                      <a:pt x="84" y="77"/>
                    </a:lnTo>
                    <a:lnTo>
                      <a:pt x="74" y="89"/>
                    </a:lnTo>
                    <a:lnTo>
                      <a:pt x="65" y="102"/>
                    </a:lnTo>
                    <a:lnTo>
                      <a:pt x="55" y="115"/>
                    </a:lnTo>
                    <a:lnTo>
                      <a:pt x="44" y="128"/>
                    </a:lnTo>
                    <a:lnTo>
                      <a:pt x="37" y="142"/>
                    </a:lnTo>
                    <a:lnTo>
                      <a:pt x="30" y="157"/>
                    </a:lnTo>
                    <a:lnTo>
                      <a:pt x="27" y="164"/>
                    </a:lnTo>
                    <a:lnTo>
                      <a:pt x="24" y="172"/>
                    </a:lnTo>
                    <a:lnTo>
                      <a:pt x="20" y="180"/>
                    </a:lnTo>
                    <a:lnTo>
                      <a:pt x="17" y="187"/>
                    </a:lnTo>
                    <a:lnTo>
                      <a:pt x="15" y="196"/>
                    </a:lnTo>
                    <a:lnTo>
                      <a:pt x="13" y="205"/>
                    </a:lnTo>
                    <a:lnTo>
                      <a:pt x="11" y="214"/>
                    </a:lnTo>
                    <a:lnTo>
                      <a:pt x="9" y="222"/>
                    </a:lnTo>
                    <a:lnTo>
                      <a:pt x="7" y="230"/>
                    </a:lnTo>
                    <a:lnTo>
                      <a:pt x="6" y="239"/>
                    </a:lnTo>
                    <a:lnTo>
                      <a:pt x="4" y="247"/>
                    </a:lnTo>
                    <a:lnTo>
                      <a:pt x="2" y="257"/>
                    </a:lnTo>
                    <a:lnTo>
                      <a:pt x="1" y="266"/>
                    </a:lnTo>
                    <a:lnTo>
                      <a:pt x="1" y="275"/>
                    </a:lnTo>
                    <a:lnTo>
                      <a:pt x="1" y="284"/>
                    </a:lnTo>
                    <a:lnTo>
                      <a:pt x="0" y="293"/>
                    </a:lnTo>
                    <a:lnTo>
                      <a:pt x="1" y="304"/>
                    </a:lnTo>
                    <a:lnTo>
                      <a:pt x="1" y="314"/>
                    </a:lnTo>
                    <a:lnTo>
                      <a:pt x="1" y="323"/>
                    </a:lnTo>
                    <a:lnTo>
                      <a:pt x="2" y="333"/>
                    </a:lnTo>
                    <a:lnTo>
                      <a:pt x="4" y="342"/>
                    </a:lnTo>
                    <a:lnTo>
                      <a:pt x="6" y="353"/>
                    </a:lnTo>
                    <a:lnTo>
                      <a:pt x="7" y="363"/>
                    </a:lnTo>
                    <a:lnTo>
                      <a:pt x="9" y="373"/>
                    </a:lnTo>
                    <a:lnTo>
                      <a:pt x="11" y="382"/>
                    </a:lnTo>
                    <a:lnTo>
                      <a:pt x="13" y="390"/>
                    </a:lnTo>
                    <a:lnTo>
                      <a:pt x="15" y="400"/>
                    </a:lnTo>
                    <a:lnTo>
                      <a:pt x="17" y="409"/>
                    </a:lnTo>
                    <a:lnTo>
                      <a:pt x="20" y="418"/>
                    </a:lnTo>
                    <a:lnTo>
                      <a:pt x="24" y="428"/>
                    </a:lnTo>
                    <a:lnTo>
                      <a:pt x="27" y="438"/>
                    </a:lnTo>
                    <a:lnTo>
                      <a:pt x="30" y="448"/>
                    </a:lnTo>
                    <a:lnTo>
                      <a:pt x="34" y="457"/>
                    </a:lnTo>
                    <a:lnTo>
                      <a:pt x="37" y="466"/>
                    </a:lnTo>
                    <a:lnTo>
                      <a:pt x="41" y="474"/>
                    </a:lnTo>
                    <a:lnTo>
                      <a:pt x="44" y="483"/>
                    </a:lnTo>
                    <a:lnTo>
                      <a:pt x="49" y="492"/>
                    </a:lnTo>
                    <a:lnTo>
                      <a:pt x="55" y="501"/>
                    </a:lnTo>
                    <a:lnTo>
                      <a:pt x="60" y="510"/>
                    </a:lnTo>
                    <a:lnTo>
                      <a:pt x="65" y="518"/>
                    </a:lnTo>
                    <a:lnTo>
                      <a:pt x="69" y="527"/>
                    </a:lnTo>
                    <a:lnTo>
                      <a:pt x="74" y="535"/>
                    </a:lnTo>
                    <a:lnTo>
                      <a:pt x="79" y="542"/>
                    </a:lnTo>
                    <a:lnTo>
                      <a:pt x="84" y="551"/>
                    </a:lnTo>
                    <a:lnTo>
                      <a:pt x="90" y="560"/>
                    </a:lnTo>
                    <a:lnTo>
                      <a:pt x="96" y="568"/>
                    </a:lnTo>
                    <a:lnTo>
                      <a:pt x="103" y="576"/>
                    </a:lnTo>
                    <a:lnTo>
                      <a:pt x="109" y="584"/>
                    </a:lnTo>
                    <a:lnTo>
                      <a:pt x="115" y="592"/>
                    </a:lnTo>
                    <a:lnTo>
                      <a:pt x="122" y="601"/>
                    </a:lnTo>
                    <a:lnTo>
                      <a:pt x="129" y="608"/>
                    </a:lnTo>
                    <a:lnTo>
                      <a:pt x="136" y="616"/>
                    </a:lnTo>
                    <a:lnTo>
                      <a:pt x="150" y="629"/>
                    </a:lnTo>
                    <a:lnTo>
                      <a:pt x="164" y="641"/>
                    </a:lnTo>
                    <a:lnTo>
                      <a:pt x="179" y="656"/>
                    </a:lnTo>
                    <a:lnTo>
                      <a:pt x="193" y="669"/>
                    </a:lnTo>
                    <a:lnTo>
                      <a:pt x="202" y="675"/>
                    </a:lnTo>
                    <a:lnTo>
                      <a:pt x="210" y="680"/>
                    </a:lnTo>
                    <a:lnTo>
                      <a:pt x="218" y="685"/>
                    </a:lnTo>
                    <a:lnTo>
                      <a:pt x="225" y="690"/>
                    </a:lnTo>
                    <a:lnTo>
                      <a:pt x="234" y="697"/>
                    </a:lnTo>
                    <a:lnTo>
                      <a:pt x="243" y="703"/>
                    </a:lnTo>
                    <a:lnTo>
                      <a:pt x="252" y="708"/>
                    </a:lnTo>
                    <a:lnTo>
                      <a:pt x="261" y="714"/>
                    </a:lnTo>
                    <a:lnTo>
                      <a:pt x="270" y="718"/>
                    </a:lnTo>
                    <a:lnTo>
                      <a:pt x="278" y="722"/>
                    </a:lnTo>
                    <a:lnTo>
                      <a:pt x="286" y="726"/>
                    </a:lnTo>
                    <a:lnTo>
                      <a:pt x="296" y="729"/>
                    </a:lnTo>
                    <a:lnTo>
                      <a:pt x="305" y="733"/>
                    </a:lnTo>
                    <a:lnTo>
                      <a:pt x="314" y="737"/>
                    </a:lnTo>
                    <a:lnTo>
                      <a:pt x="323" y="742"/>
                    </a:lnTo>
                    <a:lnTo>
                      <a:pt x="333" y="745"/>
                    </a:lnTo>
                    <a:lnTo>
                      <a:pt x="342" y="748"/>
                    </a:lnTo>
                    <a:lnTo>
                      <a:pt x="352" y="751"/>
                    </a:lnTo>
                    <a:lnTo>
                      <a:pt x="361" y="754"/>
                    </a:lnTo>
                    <a:lnTo>
                      <a:pt x="371" y="757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423680" y="4323960"/>
                <a:ext cx="12960" cy="357840"/>
              </a:xfrm>
              <a:custGeom>
                <a:avLst/>
                <a:gdLst/>
                <a:ahLst/>
                <a:rect l="l" t="t" r="r" b="b"/>
                <a:pathLst>
                  <a:path w="274" h="6801">
                    <a:moveTo>
                      <a:pt x="31" y="6518"/>
                    </a:moveTo>
                    <a:lnTo>
                      <a:pt x="31" y="6531"/>
                    </a:lnTo>
                    <a:lnTo>
                      <a:pt x="32" y="6543"/>
                    </a:lnTo>
                    <a:lnTo>
                      <a:pt x="32" y="6555"/>
                    </a:lnTo>
                    <a:lnTo>
                      <a:pt x="33" y="6567"/>
                    </a:lnTo>
                    <a:lnTo>
                      <a:pt x="35" y="6580"/>
                    </a:lnTo>
                    <a:lnTo>
                      <a:pt x="36" y="6592"/>
                    </a:lnTo>
                    <a:lnTo>
                      <a:pt x="38" y="6604"/>
                    </a:lnTo>
                    <a:lnTo>
                      <a:pt x="40" y="6618"/>
                    </a:lnTo>
                    <a:lnTo>
                      <a:pt x="43" y="6629"/>
                    </a:lnTo>
                    <a:lnTo>
                      <a:pt x="45" y="6641"/>
                    </a:lnTo>
                    <a:lnTo>
                      <a:pt x="48" y="6652"/>
                    </a:lnTo>
                    <a:lnTo>
                      <a:pt x="50" y="6664"/>
                    </a:lnTo>
                    <a:lnTo>
                      <a:pt x="54" y="6674"/>
                    </a:lnTo>
                    <a:lnTo>
                      <a:pt x="57" y="6684"/>
                    </a:lnTo>
                    <a:lnTo>
                      <a:pt x="60" y="6694"/>
                    </a:lnTo>
                    <a:lnTo>
                      <a:pt x="64" y="6704"/>
                    </a:lnTo>
                    <a:lnTo>
                      <a:pt x="68" y="6715"/>
                    </a:lnTo>
                    <a:lnTo>
                      <a:pt x="73" y="6723"/>
                    </a:lnTo>
                    <a:lnTo>
                      <a:pt x="78" y="6732"/>
                    </a:lnTo>
                    <a:lnTo>
                      <a:pt x="83" y="6741"/>
                    </a:lnTo>
                    <a:lnTo>
                      <a:pt x="91" y="6755"/>
                    </a:lnTo>
                    <a:lnTo>
                      <a:pt x="100" y="6770"/>
                    </a:lnTo>
                    <a:lnTo>
                      <a:pt x="111" y="6780"/>
                    </a:lnTo>
                    <a:lnTo>
                      <a:pt x="122" y="6790"/>
                    </a:lnTo>
                    <a:lnTo>
                      <a:pt x="134" y="6796"/>
                    </a:lnTo>
                    <a:lnTo>
                      <a:pt x="146" y="6801"/>
                    </a:lnTo>
                    <a:lnTo>
                      <a:pt x="156" y="6801"/>
                    </a:lnTo>
                    <a:lnTo>
                      <a:pt x="167" y="6801"/>
                    </a:lnTo>
                    <a:lnTo>
                      <a:pt x="179" y="6796"/>
                    </a:lnTo>
                    <a:lnTo>
                      <a:pt x="190" y="6790"/>
                    </a:lnTo>
                    <a:lnTo>
                      <a:pt x="199" y="6781"/>
                    </a:lnTo>
                    <a:lnTo>
                      <a:pt x="209" y="6771"/>
                    </a:lnTo>
                    <a:lnTo>
                      <a:pt x="217" y="6756"/>
                    </a:lnTo>
                    <a:lnTo>
                      <a:pt x="226" y="6742"/>
                    </a:lnTo>
                    <a:lnTo>
                      <a:pt x="229" y="6734"/>
                    </a:lnTo>
                    <a:lnTo>
                      <a:pt x="233" y="6725"/>
                    </a:lnTo>
                    <a:lnTo>
                      <a:pt x="236" y="6717"/>
                    </a:lnTo>
                    <a:lnTo>
                      <a:pt x="239" y="6707"/>
                    </a:lnTo>
                    <a:lnTo>
                      <a:pt x="242" y="6697"/>
                    </a:lnTo>
                    <a:lnTo>
                      <a:pt x="244" y="6687"/>
                    </a:lnTo>
                    <a:lnTo>
                      <a:pt x="247" y="6677"/>
                    </a:lnTo>
                    <a:lnTo>
                      <a:pt x="249" y="6666"/>
                    </a:lnTo>
                    <a:lnTo>
                      <a:pt x="251" y="6654"/>
                    </a:lnTo>
                    <a:lnTo>
                      <a:pt x="253" y="6643"/>
                    </a:lnTo>
                    <a:lnTo>
                      <a:pt x="255" y="6631"/>
                    </a:lnTo>
                    <a:lnTo>
                      <a:pt x="257" y="6620"/>
                    </a:lnTo>
                    <a:lnTo>
                      <a:pt x="258" y="6607"/>
                    </a:lnTo>
                    <a:lnTo>
                      <a:pt x="258" y="6595"/>
                    </a:lnTo>
                    <a:lnTo>
                      <a:pt x="258" y="6584"/>
                    </a:lnTo>
                    <a:lnTo>
                      <a:pt x="259" y="6572"/>
                    </a:lnTo>
                    <a:lnTo>
                      <a:pt x="259" y="6505"/>
                    </a:lnTo>
                    <a:lnTo>
                      <a:pt x="259" y="6439"/>
                    </a:lnTo>
                    <a:lnTo>
                      <a:pt x="259" y="6373"/>
                    </a:lnTo>
                    <a:lnTo>
                      <a:pt x="259" y="6305"/>
                    </a:lnTo>
                    <a:lnTo>
                      <a:pt x="259" y="6239"/>
                    </a:lnTo>
                    <a:lnTo>
                      <a:pt x="260" y="6172"/>
                    </a:lnTo>
                    <a:lnTo>
                      <a:pt x="260" y="6106"/>
                    </a:lnTo>
                    <a:lnTo>
                      <a:pt x="260" y="6040"/>
                    </a:lnTo>
                    <a:lnTo>
                      <a:pt x="260" y="5973"/>
                    </a:lnTo>
                    <a:lnTo>
                      <a:pt x="260" y="5907"/>
                    </a:lnTo>
                    <a:lnTo>
                      <a:pt x="260" y="5841"/>
                    </a:lnTo>
                    <a:lnTo>
                      <a:pt x="260" y="5773"/>
                    </a:lnTo>
                    <a:lnTo>
                      <a:pt x="261" y="5707"/>
                    </a:lnTo>
                    <a:lnTo>
                      <a:pt x="261" y="5641"/>
                    </a:lnTo>
                    <a:lnTo>
                      <a:pt x="261" y="5574"/>
                    </a:lnTo>
                    <a:lnTo>
                      <a:pt x="261" y="5507"/>
                    </a:lnTo>
                    <a:lnTo>
                      <a:pt x="261" y="5437"/>
                    </a:lnTo>
                    <a:lnTo>
                      <a:pt x="261" y="5368"/>
                    </a:lnTo>
                    <a:lnTo>
                      <a:pt x="262" y="5298"/>
                    </a:lnTo>
                    <a:lnTo>
                      <a:pt x="262" y="5228"/>
                    </a:lnTo>
                    <a:lnTo>
                      <a:pt x="262" y="5159"/>
                    </a:lnTo>
                    <a:lnTo>
                      <a:pt x="262" y="5088"/>
                    </a:lnTo>
                    <a:lnTo>
                      <a:pt x="262" y="5019"/>
                    </a:lnTo>
                    <a:lnTo>
                      <a:pt x="262" y="4949"/>
                    </a:lnTo>
                    <a:lnTo>
                      <a:pt x="263" y="4879"/>
                    </a:lnTo>
                    <a:lnTo>
                      <a:pt x="263" y="4810"/>
                    </a:lnTo>
                    <a:lnTo>
                      <a:pt x="263" y="4740"/>
                    </a:lnTo>
                    <a:lnTo>
                      <a:pt x="263" y="4671"/>
                    </a:lnTo>
                    <a:lnTo>
                      <a:pt x="263" y="4600"/>
                    </a:lnTo>
                    <a:lnTo>
                      <a:pt x="263" y="4531"/>
                    </a:lnTo>
                    <a:lnTo>
                      <a:pt x="263" y="4461"/>
                    </a:lnTo>
                    <a:lnTo>
                      <a:pt x="264" y="4392"/>
                    </a:lnTo>
                    <a:lnTo>
                      <a:pt x="264" y="4323"/>
                    </a:lnTo>
                    <a:lnTo>
                      <a:pt x="264" y="4252"/>
                    </a:lnTo>
                    <a:lnTo>
                      <a:pt x="264" y="4183"/>
                    </a:lnTo>
                    <a:lnTo>
                      <a:pt x="264" y="4113"/>
                    </a:lnTo>
                    <a:lnTo>
                      <a:pt x="264" y="4043"/>
                    </a:lnTo>
                    <a:lnTo>
                      <a:pt x="265" y="3973"/>
                    </a:lnTo>
                    <a:lnTo>
                      <a:pt x="265" y="3904"/>
                    </a:lnTo>
                    <a:lnTo>
                      <a:pt x="265" y="3834"/>
                    </a:lnTo>
                    <a:lnTo>
                      <a:pt x="265" y="3764"/>
                    </a:lnTo>
                    <a:lnTo>
                      <a:pt x="265" y="3695"/>
                    </a:lnTo>
                    <a:lnTo>
                      <a:pt x="266" y="3624"/>
                    </a:lnTo>
                    <a:lnTo>
                      <a:pt x="266" y="3555"/>
                    </a:lnTo>
                    <a:lnTo>
                      <a:pt x="266" y="3485"/>
                    </a:lnTo>
                    <a:lnTo>
                      <a:pt x="266" y="3415"/>
                    </a:lnTo>
                    <a:lnTo>
                      <a:pt x="267" y="3346"/>
                    </a:lnTo>
                    <a:lnTo>
                      <a:pt x="267" y="3275"/>
                    </a:lnTo>
                    <a:lnTo>
                      <a:pt x="267" y="3207"/>
                    </a:lnTo>
                    <a:lnTo>
                      <a:pt x="267" y="3137"/>
                    </a:lnTo>
                    <a:lnTo>
                      <a:pt x="267" y="3068"/>
                    </a:lnTo>
                    <a:lnTo>
                      <a:pt x="267" y="2999"/>
                    </a:lnTo>
                    <a:lnTo>
                      <a:pt x="267" y="2930"/>
                    </a:lnTo>
                    <a:lnTo>
                      <a:pt x="268" y="2862"/>
                    </a:lnTo>
                    <a:lnTo>
                      <a:pt x="268" y="2792"/>
                    </a:lnTo>
                    <a:lnTo>
                      <a:pt x="268" y="2724"/>
                    </a:lnTo>
                    <a:lnTo>
                      <a:pt x="268" y="2654"/>
                    </a:lnTo>
                    <a:lnTo>
                      <a:pt x="268" y="2586"/>
                    </a:lnTo>
                    <a:lnTo>
                      <a:pt x="268" y="2517"/>
                    </a:lnTo>
                    <a:lnTo>
                      <a:pt x="268" y="2447"/>
                    </a:lnTo>
                    <a:lnTo>
                      <a:pt x="268" y="2379"/>
                    </a:lnTo>
                    <a:lnTo>
                      <a:pt x="268" y="2309"/>
                    </a:lnTo>
                    <a:lnTo>
                      <a:pt x="270" y="2241"/>
                    </a:lnTo>
                    <a:lnTo>
                      <a:pt x="270" y="2171"/>
                    </a:lnTo>
                    <a:lnTo>
                      <a:pt x="270" y="2102"/>
                    </a:lnTo>
                    <a:lnTo>
                      <a:pt x="270" y="2034"/>
                    </a:lnTo>
                    <a:lnTo>
                      <a:pt x="270" y="1964"/>
                    </a:lnTo>
                    <a:lnTo>
                      <a:pt x="270" y="1895"/>
                    </a:lnTo>
                    <a:lnTo>
                      <a:pt x="270" y="1826"/>
                    </a:lnTo>
                    <a:lnTo>
                      <a:pt x="270" y="1757"/>
                    </a:lnTo>
                    <a:lnTo>
                      <a:pt x="270" y="1688"/>
                    </a:lnTo>
                    <a:lnTo>
                      <a:pt x="271" y="1618"/>
                    </a:lnTo>
                    <a:lnTo>
                      <a:pt x="271" y="1550"/>
                    </a:lnTo>
                    <a:lnTo>
                      <a:pt x="271" y="1480"/>
                    </a:lnTo>
                    <a:lnTo>
                      <a:pt x="271" y="1411"/>
                    </a:lnTo>
                    <a:lnTo>
                      <a:pt x="271" y="1341"/>
                    </a:lnTo>
                    <a:lnTo>
                      <a:pt x="271" y="1273"/>
                    </a:lnTo>
                    <a:lnTo>
                      <a:pt x="272" y="1204"/>
                    </a:lnTo>
                    <a:lnTo>
                      <a:pt x="272" y="1134"/>
                    </a:lnTo>
                    <a:lnTo>
                      <a:pt x="272" y="1065"/>
                    </a:lnTo>
                    <a:lnTo>
                      <a:pt x="272" y="1002"/>
                    </a:lnTo>
                    <a:lnTo>
                      <a:pt x="272" y="940"/>
                    </a:lnTo>
                    <a:lnTo>
                      <a:pt x="272" y="878"/>
                    </a:lnTo>
                    <a:lnTo>
                      <a:pt x="272" y="816"/>
                    </a:lnTo>
                    <a:lnTo>
                      <a:pt x="272" y="753"/>
                    </a:lnTo>
                    <a:lnTo>
                      <a:pt x="273" y="691"/>
                    </a:lnTo>
                    <a:lnTo>
                      <a:pt x="273" y="629"/>
                    </a:lnTo>
                    <a:lnTo>
                      <a:pt x="273" y="566"/>
                    </a:lnTo>
                    <a:lnTo>
                      <a:pt x="273" y="503"/>
                    </a:lnTo>
                    <a:lnTo>
                      <a:pt x="273" y="441"/>
                    </a:lnTo>
                    <a:lnTo>
                      <a:pt x="273" y="379"/>
                    </a:lnTo>
                    <a:lnTo>
                      <a:pt x="273" y="316"/>
                    </a:lnTo>
                    <a:lnTo>
                      <a:pt x="273" y="253"/>
                    </a:lnTo>
                    <a:lnTo>
                      <a:pt x="273" y="191"/>
                    </a:lnTo>
                    <a:lnTo>
                      <a:pt x="274" y="129"/>
                    </a:lnTo>
                    <a:lnTo>
                      <a:pt x="274" y="66"/>
                    </a:lnTo>
                    <a:lnTo>
                      <a:pt x="239" y="58"/>
                    </a:lnTo>
                    <a:lnTo>
                      <a:pt x="205" y="50"/>
                    </a:lnTo>
                    <a:lnTo>
                      <a:pt x="170" y="41"/>
                    </a:lnTo>
                    <a:lnTo>
                      <a:pt x="137" y="33"/>
                    </a:lnTo>
                    <a:lnTo>
                      <a:pt x="102" y="24"/>
                    </a:lnTo>
                    <a:lnTo>
                      <a:pt x="68" y="16"/>
                    </a:lnTo>
                    <a:lnTo>
                      <a:pt x="35" y="8"/>
                    </a:lnTo>
                    <a:lnTo>
                      <a:pt x="0" y="0"/>
                    </a:lnTo>
                    <a:lnTo>
                      <a:pt x="1" y="63"/>
                    </a:lnTo>
                    <a:lnTo>
                      <a:pt x="1" y="125"/>
                    </a:lnTo>
                    <a:lnTo>
                      <a:pt x="1" y="189"/>
                    </a:lnTo>
                    <a:lnTo>
                      <a:pt x="1" y="251"/>
                    </a:lnTo>
                    <a:lnTo>
                      <a:pt x="1" y="313"/>
                    </a:lnTo>
                    <a:lnTo>
                      <a:pt x="2" y="377"/>
                    </a:lnTo>
                    <a:lnTo>
                      <a:pt x="2" y="439"/>
                    </a:lnTo>
                    <a:lnTo>
                      <a:pt x="2" y="501"/>
                    </a:lnTo>
                    <a:lnTo>
                      <a:pt x="2" y="563"/>
                    </a:lnTo>
                    <a:lnTo>
                      <a:pt x="3" y="627"/>
                    </a:lnTo>
                    <a:lnTo>
                      <a:pt x="3" y="689"/>
                    </a:lnTo>
                    <a:lnTo>
                      <a:pt x="3" y="751"/>
                    </a:lnTo>
                    <a:lnTo>
                      <a:pt x="3" y="815"/>
                    </a:lnTo>
                    <a:lnTo>
                      <a:pt x="4" y="877"/>
                    </a:lnTo>
                    <a:lnTo>
                      <a:pt x="4" y="939"/>
                    </a:lnTo>
                    <a:lnTo>
                      <a:pt x="4" y="1001"/>
                    </a:lnTo>
                    <a:lnTo>
                      <a:pt x="5" y="1071"/>
                    </a:lnTo>
                    <a:lnTo>
                      <a:pt x="5" y="1140"/>
                    </a:lnTo>
                    <a:lnTo>
                      <a:pt x="5" y="1210"/>
                    </a:lnTo>
                    <a:lnTo>
                      <a:pt x="6" y="1279"/>
                    </a:lnTo>
                    <a:lnTo>
                      <a:pt x="6" y="1349"/>
                    </a:lnTo>
                    <a:lnTo>
                      <a:pt x="7" y="1418"/>
                    </a:lnTo>
                    <a:lnTo>
                      <a:pt x="7" y="1487"/>
                    </a:lnTo>
                    <a:lnTo>
                      <a:pt x="7" y="1557"/>
                    </a:lnTo>
                    <a:lnTo>
                      <a:pt x="8" y="1626"/>
                    </a:lnTo>
                    <a:lnTo>
                      <a:pt x="8" y="1695"/>
                    </a:lnTo>
                    <a:lnTo>
                      <a:pt x="8" y="1764"/>
                    </a:lnTo>
                    <a:lnTo>
                      <a:pt x="9" y="1834"/>
                    </a:lnTo>
                    <a:lnTo>
                      <a:pt x="9" y="1903"/>
                    </a:lnTo>
                    <a:lnTo>
                      <a:pt x="9" y="1972"/>
                    </a:lnTo>
                    <a:lnTo>
                      <a:pt x="10" y="2042"/>
                    </a:lnTo>
                    <a:lnTo>
                      <a:pt x="10" y="2110"/>
                    </a:lnTo>
                    <a:lnTo>
                      <a:pt x="10" y="2180"/>
                    </a:lnTo>
                    <a:lnTo>
                      <a:pt x="11" y="2249"/>
                    </a:lnTo>
                    <a:lnTo>
                      <a:pt x="11" y="2317"/>
                    </a:lnTo>
                    <a:lnTo>
                      <a:pt x="12" y="2387"/>
                    </a:lnTo>
                    <a:lnTo>
                      <a:pt x="12" y="2455"/>
                    </a:lnTo>
                    <a:lnTo>
                      <a:pt x="12" y="2525"/>
                    </a:lnTo>
                    <a:lnTo>
                      <a:pt x="13" y="2594"/>
                    </a:lnTo>
                    <a:lnTo>
                      <a:pt x="13" y="2664"/>
                    </a:lnTo>
                    <a:lnTo>
                      <a:pt x="13" y="2732"/>
                    </a:lnTo>
                    <a:lnTo>
                      <a:pt x="14" y="2801"/>
                    </a:lnTo>
                    <a:lnTo>
                      <a:pt x="14" y="2871"/>
                    </a:lnTo>
                    <a:lnTo>
                      <a:pt x="15" y="2939"/>
                    </a:lnTo>
                    <a:lnTo>
                      <a:pt x="15" y="3009"/>
                    </a:lnTo>
                    <a:lnTo>
                      <a:pt x="16" y="3078"/>
                    </a:lnTo>
                    <a:lnTo>
                      <a:pt x="16" y="3147"/>
                    </a:lnTo>
                    <a:lnTo>
                      <a:pt x="16" y="3216"/>
                    </a:lnTo>
                    <a:lnTo>
                      <a:pt x="17" y="3286"/>
                    </a:lnTo>
                    <a:lnTo>
                      <a:pt x="17" y="3357"/>
                    </a:lnTo>
                    <a:lnTo>
                      <a:pt x="17" y="3426"/>
                    </a:lnTo>
                    <a:lnTo>
                      <a:pt x="17" y="3497"/>
                    </a:lnTo>
                    <a:lnTo>
                      <a:pt x="18" y="3566"/>
                    </a:lnTo>
                    <a:lnTo>
                      <a:pt x="18" y="3636"/>
                    </a:lnTo>
                    <a:lnTo>
                      <a:pt x="18" y="3706"/>
                    </a:lnTo>
                    <a:lnTo>
                      <a:pt x="19" y="3776"/>
                    </a:lnTo>
                    <a:lnTo>
                      <a:pt x="19" y="3846"/>
                    </a:lnTo>
                    <a:lnTo>
                      <a:pt x="19" y="3916"/>
                    </a:lnTo>
                    <a:lnTo>
                      <a:pt x="20" y="3986"/>
                    </a:lnTo>
                    <a:lnTo>
                      <a:pt x="20" y="4056"/>
                    </a:lnTo>
                    <a:lnTo>
                      <a:pt x="20" y="4126"/>
                    </a:lnTo>
                    <a:lnTo>
                      <a:pt x="21" y="4195"/>
                    </a:lnTo>
                    <a:lnTo>
                      <a:pt x="21" y="4265"/>
                    </a:lnTo>
                    <a:lnTo>
                      <a:pt x="21" y="4335"/>
                    </a:lnTo>
                    <a:lnTo>
                      <a:pt x="21" y="4404"/>
                    </a:lnTo>
                    <a:lnTo>
                      <a:pt x="22" y="4475"/>
                    </a:lnTo>
                    <a:lnTo>
                      <a:pt x="22" y="4544"/>
                    </a:lnTo>
                    <a:lnTo>
                      <a:pt x="22" y="4614"/>
                    </a:lnTo>
                    <a:lnTo>
                      <a:pt x="22" y="4684"/>
                    </a:lnTo>
                    <a:lnTo>
                      <a:pt x="23" y="4753"/>
                    </a:lnTo>
                    <a:lnTo>
                      <a:pt x="23" y="4823"/>
                    </a:lnTo>
                    <a:lnTo>
                      <a:pt x="23" y="4893"/>
                    </a:lnTo>
                    <a:lnTo>
                      <a:pt x="24" y="4963"/>
                    </a:lnTo>
                    <a:lnTo>
                      <a:pt x="24" y="5033"/>
                    </a:lnTo>
                    <a:lnTo>
                      <a:pt x="24" y="5103"/>
                    </a:lnTo>
                    <a:lnTo>
                      <a:pt x="25" y="5173"/>
                    </a:lnTo>
                    <a:lnTo>
                      <a:pt x="25" y="5242"/>
                    </a:lnTo>
                    <a:lnTo>
                      <a:pt x="27" y="5313"/>
                    </a:lnTo>
                    <a:lnTo>
                      <a:pt x="27" y="5382"/>
                    </a:lnTo>
                    <a:lnTo>
                      <a:pt x="27" y="5453"/>
                    </a:lnTo>
                    <a:lnTo>
                      <a:pt x="27" y="5519"/>
                    </a:lnTo>
                    <a:lnTo>
                      <a:pt x="28" y="5585"/>
                    </a:lnTo>
                    <a:lnTo>
                      <a:pt x="28" y="5653"/>
                    </a:lnTo>
                    <a:lnTo>
                      <a:pt x="28" y="5719"/>
                    </a:lnTo>
                    <a:lnTo>
                      <a:pt x="28" y="5786"/>
                    </a:lnTo>
                    <a:lnTo>
                      <a:pt x="29" y="5853"/>
                    </a:lnTo>
                    <a:lnTo>
                      <a:pt x="29" y="5919"/>
                    </a:lnTo>
                    <a:lnTo>
                      <a:pt x="29" y="5986"/>
                    </a:lnTo>
                    <a:lnTo>
                      <a:pt x="29" y="6052"/>
                    </a:lnTo>
                    <a:lnTo>
                      <a:pt x="29" y="6119"/>
                    </a:lnTo>
                    <a:lnTo>
                      <a:pt x="30" y="6186"/>
                    </a:lnTo>
                    <a:lnTo>
                      <a:pt x="30" y="6252"/>
                    </a:lnTo>
                    <a:lnTo>
                      <a:pt x="30" y="6318"/>
                    </a:lnTo>
                    <a:lnTo>
                      <a:pt x="30" y="6385"/>
                    </a:lnTo>
                    <a:lnTo>
                      <a:pt x="30" y="6451"/>
                    </a:lnTo>
                    <a:lnTo>
                      <a:pt x="31" y="6518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6" name=""/>
          <p:cNvSpPr/>
          <p:nvPr/>
        </p:nvSpPr>
        <p:spPr>
          <a:xfrm>
            <a:off x="609480" y="3962520"/>
            <a:ext cx="150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vider asks if there are records for his/her pat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525760" y="4908600"/>
            <a:ext cx="128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 send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cation of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y reco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943280" y="4743360"/>
            <a:ext cx="428400" cy="1800"/>
          </a:xfrm>
          <a:custGeom>
            <a:avLst/>
            <a:gdLst/>
            <a:ahLst/>
            <a:rect l="l" t="t" r="r" b="b"/>
            <a:pathLst>
              <a:path w="270" h="1">
                <a:moveTo>
                  <a:pt x="0" y="0"/>
                </a:moveTo>
                <a:lnTo>
                  <a:pt x="27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95680" y="4689360"/>
            <a:ext cx="166680" cy="239760"/>
          </a:xfrm>
          <a:custGeom>
            <a:avLst/>
            <a:gdLst/>
            <a:ahLst/>
            <a:rect l="l" t="t" r="r" b="b"/>
            <a:pathLst>
              <a:path w="321" h="93">
                <a:moveTo>
                  <a:pt x="0" y="0"/>
                </a:moveTo>
                <a:lnTo>
                  <a:pt x="0" y="93"/>
                </a:lnTo>
                <a:lnTo>
                  <a:pt x="321" y="9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151280" y="4293000"/>
            <a:ext cx="6994080" cy="369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24" y="2555"/>
                </a:moveTo>
                <a:arcTo wR="10800" hR="10800" stAng="-7814136" swAng="1777837"/>
                <a:lnTo>
                  <a:pt x="10800" y="10800"/>
                </a:lnTo>
                <a:close/>
              </a:path>
              <a:path fill="none" w="21600" h="21600">
                <a:moveTo>
                  <a:pt x="3824" y="2555"/>
                </a:moveTo>
                <a:arcTo wR="10800" hR="10800" stAng="-7814136" swAng="177783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46520" y="4383360"/>
            <a:ext cx="7441200" cy="357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28" y="1609"/>
                </a:moveTo>
                <a:arcTo wR="10800" hR="10800" stAng="-7300773" swAng="1375128"/>
                <a:lnTo>
                  <a:pt x="10800" y="10800"/>
                </a:lnTo>
                <a:close/>
              </a:path>
              <a:path fill="none" w="21600" h="21600">
                <a:moveTo>
                  <a:pt x="5128" y="1609"/>
                </a:moveTo>
                <a:arcTo wR="10800" hR="10800" stAng="-7300773" swAng="1375128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333520" y="468324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638440" y="4651200"/>
            <a:ext cx="11268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19920" y="3657600"/>
            <a:ext cx="141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nds index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338880" y="465300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000440" y="4347720"/>
            <a:ext cx="6771240" cy="366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5" y="88"/>
                </a:moveTo>
                <a:arcTo wR="10800" hR="10800" stAng="-4961270" swAng="1729707"/>
                <a:lnTo>
                  <a:pt x="10800" y="10800"/>
                </a:lnTo>
                <a:close/>
              </a:path>
              <a:path fill="none" w="21600" h="21600">
                <a:moveTo>
                  <a:pt x="12175" y="88"/>
                </a:moveTo>
                <a:arcTo wR="10800" hR="10800" stAng="-4961270" swAng="172970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rot="2025600">
            <a:off x="6692040" y="4744800"/>
            <a:ext cx="87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61a5"/>
                </a:solidFill>
                <a:latin typeface="Arial"/>
              </a:rPr>
              <a:t>LOC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388200" y="4421160"/>
            <a:ext cx="0" cy="27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765000" y="5648400"/>
            <a:ext cx="1265400" cy="97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a820a"/>
            </a:outerShdw>
          </a:effectLst>
        </p:spPr>
      </p:pic>
      <p:sp>
        <p:nvSpPr>
          <p:cNvPr id="840" name=""/>
          <p:cNvSpPr/>
          <p:nvPr/>
        </p:nvSpPr>
        <p:spPr>
          <a:xfrm>
            <a:off x="924480" y="5827680"/>
            <a:ext cx="89388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Individ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rovid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57200" y="4572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ind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7047000" y="5665680"/>
            <a:ext cx="1265040" cy="977760"/>
            <a:chOff x="7047000" y="5665680"/>
            <a:chExt cx="1265040" cy="977760"/>
          </a:xfrm>
        </p:grpSpPr>
        <p:pic>
          <p:nvPicPr>
            <p:cNvPr id="843" name="" descr=""/>
            <p:cNvPicPr/>
            <p:nvPr/>
          </p:nvPicPr>
          <p:blipFill>
            <a:blip r:embed="rId2"/>
            <a:stretch/>
          </p:blipFill>
          <p:spPr>
            <a:xfrm>
              <a:off x="7047000" y="566568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844" name=""/>
            <p:cNvSpPr/>
            <p:nvPr/>
          </p:nvSpPr>
          <p:spPr>
            <a:xfrm>
              <a:off x="7282440" y="590076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3660120" y="370188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atient Ind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ter Patient Inde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a “Record Locator Servic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graphic data + ADT mess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94120" y="4271400"/>
            <a:ext cx="6996960" cy="38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" y="8994"/>
                </a:moveTo>
                <a:arcTo wR="10800" hR="10800" stAng="-10222562" swAng="2218990"/>
                <a:lnTo>
                  <a:pt x="10800" y="10800"/>
                </a:lnTo>
                <a:close/>
              </a:path>
              <a:path fill="none" w="21600" h="21600">
                <a:moveTo>
                  <a:pt x="152" y="8994"/>
                </a:moveTo>
                <a:arcTo wR="10800" hR="10800" stAng="-10222562" swAng="2218990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130760" y="4369320"/>
            <a:ext cx="6618600" cy="366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435" y="2278"/>
                </a:moveTo>
                <a:arcTo wR="10800" hR="10800" stAng="-3125804" swAng="2515549"/>
                <a:lnTo>
                  <a:pt x="10800" y="10800"/>
                </a:lnTo>
                <a:close/>
              </a:path>
              <a:path fill="none" w="21600" h="21600">
                <a:moveTo>
                  <a:pt x="17435" y="2278"/>
                </a:moveTo>
                <a:arcTo wR="10800" hR="10800" stAng="-3125804" swAng="2515549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304280" y="4345200"/>
            <a:ext cx="6951240" cy="370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4" y="7128"/>
                </a:moveTo>
                <a:arcTo wR="10800" hR="10800" stAng="-9607279" swAng="1997849"/>
                <a:lnTo>
                  <a:pt x="10800" y="10800"/>
                </a:lnTo>
                <a:close/>
              </a:path>
              <a:path fill="none" w="21600" h="21600">
                <a:moveTo>
                  <a:pt x="644" y="7128"/>
                </a:moveTo>
                <a:arcTo wR="10800" hR="10800" stAng="-9607279" swAng="1997849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4195800" y="4064040"/>
            <a:ext cx="581040" cy="858960"/>
            <a:chOff x="4195800" y="4064040"/>
            <a:chExt cx="581040" cy="858960"/>
          </a:xfrm>
        </p:grpSpPr>
        <p:sp>
          <p:nvSpPr>
            <p:cNvPr id="851" name=""/>
            <p:cNvSpPr/>
            <p:nvPr/>
          </p:nvSpPr>
          <p:spPr>
            <a:xfrm>
              <a:off x="4195800" y="4064040"/>
              <a:ext cx="581040" cy="858960"/>
            </a:xfrm>
            <a:custGeom>
              <a:avLst/>
              <a:gdLst/>
              <a:ahLst/>
              <a:rect l="l" t="t" r="r" b="b"/>
              <a:pathLst>
                <a:path w="11550" h="16335">
                  <a:moveTo>
                    <a:pt x="2457" y="36"/>
                  </a:moveTo>
                  <a:lnTo>
                    <a:pt x="11550" y="2030"/>
                  </a:lnTo>
                  <a:lnTo>
                    <a:pt x="11550" y="15073"/>
                  </a:lnTo>
                  <a:lnTo>
                    <a:pt x="9463" y="14616"/>
                  </a:lnTo>
                  <a:lnTo>
                    <a:pt x="9463" y="16335"/>
                  </a:lnTo>
                  <a:lnTo>
                    <a:pt x="295" y="14325"/>
                  </a:lnTo>
                  <a:lnTo>
                    <a:pt x="295" y="14322"/>
                  </a:lnTo>
                  <a:lnTo>
                    <a:pt x="267" y="14312"/>
                  </a:lnTo>
                  <a:lnTo>
                    <a:pt x="236" y="14300"/>
                  </a:lnTo>
                  <a:lnTo>
                    <a:pt x="202" y="14286"/>
                  </a:lnTo>
                  <a:lnTo>
                    <a:pt x="164" y="14270"/>
                  </a:lnTo>
                  <a:lnTo>
                    <a:pt x="149" y="14261"/>
                  </a:lnTo>
                  <a:lnTo>
                    <a:pt x="135" y="14253"/>
                  </a:lnTo>
                  <a:lnTo>
                    <a:pt x="121" y="14244"/>
                  </a:lnTo>
                  <a:lnTo>
                    <a:pt x="108" y="14235"/>
                  </a:lnTo>
                  <a:lnTo>
                    <a:pt x="97" y="14225"/>
                  </a:lnTo>
                  <a:lnTo>
                    <a:pt x="86" y="14215"/>
                  </a:lnTo>
                  <a:lnTo>
                    <a:pt x="77" y="14204"/>
                  </a:lnTo>
                  <a:lnTo>
                    <a:pt x="67" y="14194"/>
                  </a:lnTo>
                  <a:lnTo>
                    <a:pt x="58" y="14184"/>
                  </a:lnTo>
                  <a:lnTo>
                    <a:pt x="51" y="14173"/>
                  </a:lnTo>
                  <a:lnTo>
                    <a:pt x="44" y="14161"/>
                  </a:lnTo>
                  <a:lnTo>
                    <a:pt x="38" y="14151"/>
                  </a:lnTo>
                  <a:lnTo>
                    <a:pt x="27" y="14129"/>
                  </a:lnTo>
                  <a:lnTo>
                    <a:pt x="18" y="14108"/>
                  </a:lnTo>
                  <a:lnTo>
                    <a:pt x="12" y="14088"/>
                  </a:lnTo>
                  <a:lnTo>
                    <a:pt x="7" y="14069"/>
                  </a:lnTo>
                  <a:lnTo>
                    <a:pt x="4" y="14051"/>
                  </a:lnTo>
                  <a:lnTo>
                    <a:pt x="2" y="14037"/>
                  </a:lnTo>
                  <a:lnTo>
                    <a:pt x="0" y="14015"/>
                  </a:lnTo>
                  <a:lnTo>
                    <a:pt x="0" y="14007"/>
                  </a:lnTo>
                  <a:lnTo>
                    <a:pt x="2" y="14005"/>
                  </a:lnTo>
                  <a:lnTo>
                    <a:pt x="2" y="1402"/>
                  </a:lnTo>
                  <a:lnTo>
                    <a:pt x="2" y="1393"/>
                  </a:lnTo>
                  <a:lnTo>
                    <a:pt x="2" y="1384"/>
                  </a:lnTo>
                  <a:lnTo>
                    <a:pt x="2" y="1381"/>
                  </a:lnTo>
                  <a:lnTo>
                    <a:pt x="2" y="1381"/>
                  </a:lnTo>
                  <a:lnTo>
                    <a:pt x="5" y="1356"/>
                  </a:lnTo>
                  <a:lnTo>
                    <a:pt x="9" y="1329"/>
                  </a:lnTo>
                  <a:lnTo>
                    <a:pt x="16" y="1302"/>
                  </a:lnTo>
                  <a:lnTo>
                    <a:pt x="27" y="1273"/>
                  </a:lnTo>
                  <a:lnTo>
                    <a:pt x="38" y="1245"/>
                  </a:lnTo>
                  <a:lnTo>
                    <a:pt x="52" y="1215"/>
                  </a:lnTo>
                  <a:lnTo>
                    <a:pt x="68" y="1184"/>
                  </a:lnTo>
                  <a:lnTo>
                    <a:pt x="87" y="1154"/>
                  </a:lnTo>
                  <a:lnTo>
                    <a:pt x="108" y="1122"/>
                  </a:lnTo>
                  <a:lnTo>
                    <a:pt x="131" y="1090"/>
                  </a:lnTo>
                  <a:lnTo>
                    <a:pt x="155" y="1058"/>
                  </a:lnTo>
                  <a:lnTo>
                    <a:pt x="182" y="1025"/>
                  </a:lnTo>
                  <a:lnTo>
                    <a:pt x="210" y="992"/>
                  </a:lnTo>
                  <a:lnTo>
                    <a:pt x="241" y="959"/>
                  </a:lnTo>
                  <a:lnTo>
                    <a:pt x="273" y="925"/>
                  </a:lnTo>
                  <a:lnTo>
                    <a:pt x="307" y="891"/>
                  </a:lnTo>
                  <a:lnTo>
                    <a:pt x="343" y="858"/>
                  </a:lnTo>
                  <a:lnTo>
                    <a:pt x="381" y="823"/>
                  </a:lnTo>
                  <a:lnTo>
                    <a:pt x="420" y="789"/>
                  </a:lnTo>
                  <a:lnTo>
                    <a:pt x="460" y="754"/>
                  </a:lnTo>
                  <a:lnTo>
                    <a:pt x="503" y="721"/>
                  </a:lnTo>
                  <a:lnTo>
                    <a:pt x="547" y="686"/>
                  </a:lnTo>
                  <a:lnTo>
                    <a:pt x="593" y="652"/>
                  </a:lnTo>
                  <a:lnTo>
                    <a:pt x="640" y="619"/>
                  </a:lnTo>
                  <a:lnTo>
                    <a:pt x="688" y="585"/>
                  </a:lnTo>
                  <a:lnTo>
                    <a:pt x="738" y="551"/>
                  </a:lnTo>
                  <a:lnTo>
                    <a:pt x="789" y="519"/>
                  </a:lnTo>
                  <a:lnTo>
                    <a:pt x="841" y="486"/>
                  </a:lnTo>
                  <a:lnTo>
                    <a:pt x="895" y="453"/>
                  </a:lnTo>
                  <a:lnTo>
                    <a:pt x="951" y="422"/>
                  </a:lnTo>
                  <a:lnTo>
                    <a:pt x="1006" y="391"/>
                  </a:lnTo>
                  <a:lnTo>
                    <a:pt x="1063" y="360"/>
                  </a:lnTo>
                  <a:lnTo>
                    <a:pt x="1117" y="332"/>
                  </a:lnTo>
                  <a:lnTo>
                    <a:pt x="1171" y="305"/>
                  </a:lnTo>
                  <a:lnTo>
                    <a:pt x="1224" y="279"/>
                  </a:lnTo>
                  <a:lnTo>
                    <a:pt x="1278" y="254"/>
                  </a:lnTo>
                  <a:lnTo>
                    <a:pt x="1331" y="231"/>
                  </a:lnTo>
                  <a:lnTo>
                    <a:pt x="1383" y="208"/>
                  </a:lnTo>
                  <a:lnTo>
                    <a:pt x="1435" y="187"/>
                  </a:lnTo>
                  <a:lnTo>
                    <a:pt x="1488" y="166"/>
                  </a:lnTo>
                  <a:lnTo>
                    <a:pt x="1540" y="147"/>
                  </a:lnTo>
                  <a:lnTo>
                    <a:pt x="1590" y="129"/>
                  </a:lnTo>
                  <a:lnTo>
                    <a:pt x="1640" y="112"/>
                  </a:lnTo>
                  <a:lnTo>
                    <a:pt x="1690" y="96"/>
                  </a:lnTo>
                  <a:lnTo>
                    <a:pt x="1739" y="82"/>
                  </a:lnTo>
                  <a:lnTo>
                    <a:pt x="1787" y="68"/>
                  </a:lnTo>
                  <a:lnTo>
                    <a:pt x="1834" y="56"/>
                  </a:lnTo>
                  <a:lnTo>
                    <a:pt x="1880" y="45"/>
                  </a:lnTo>
                  <a:lnTo>
                    <a:pt x="1926" y="35"/>
                  </a:lnTo>
                  <a:lnTo>
                    <a:pt x="1969" y="27"/>
                  </a:lnTo>
                  <a:lnTo>
                    <a:pt x="2013" y="19"/>
                  </a:lnTo>
                  <a:lnTo>
                    <a:pt x="2055" y="13"/>
                  </a:lnTo>
                  <a:lnTo>
                    <a:pt x="2096" y="8"/>
                  </a:lnTo>
                  <a:lnTo>
                    <a:pt x="2136" y="4"/>
                  </a:lnTo>
                  <a:lnTo>
                    <a:pt x="2175" y="1"/>
                  </a:lnTo>
                  <a:lnTo>
                    <a:pt x="2212" y="0"/>
                  </a:lnTo>
                  <a:lnTo>
                    <a:pt x="2248" y="0"/>
                  </a:lnTo>
                  <a:lnTo>
                    <a:pt x="2283" y="1"/>
                  </a:lnTo>
                  <a:lnTo>
                    <a:pt x="2316" y="4"/>
                  </a:lnTo>
                  <a:lnTo>
                    <a:pt x="2347" y="7"/>
                  </a:lnTo>
                  <a:lnTo>
                    <a:pt x="2378" y="12"/>
                  </a:lnTo>
                  <a:lnTo>
                    <a:pt x="2405" y="18"/>
                  </a:lnTo>
                  <a:lnTo>
                    <a:pt x="2433" y="27"/>
                  </a:lnTo>
                  <a:lnTo>
                    <a:pt x="2457" y="36"/>
                  </a:lnTo>
                  <a:close/>
                  <a:moveTo>
                    <a:pt x="2383" y="1711"/>
                  </a:moveTo>
                  <a:lnTo>
                    <a:pt x="2383" y="215"/>
                  </a:lnTo>
                  <a:lnTo>
                    <a:pt x="2372" y="214"/>
                  </a:lnTo>
                  <a:lnTo>
                    <a:pt x="2360" y="213"/>
                  </a:lnTo>
                  <a:lnTo>
                    <a:pt x="2338" y="212"/>
                  </a:lnTo>
                  <a:lnTo>
                    <a:pt x="2316" y="212"/>
                  </a:lnTo>
                  <a:lnTo>
                    <a:pt x="2291" y="213"/>
                  </a:lnTo>
                  <a:lnTo>
                    <a:pt x="2265" y="215"/>
                  </a:lnTo>
                  <a:lnTo>
                    <a:pt x="2238" y="218"/>
                  </a:lnTo>
                  <a:lnTo>
                    <a:pt x="2210" y="222"/>
                  </a:lnTo>
                  <a:lnTo>
                    <a:pt x="2181" y="227"/>
                  </a:lnTo>
                  <a:lnTo>
                    <a:pt x="2150" y="232"/>
                  </a:lnTo>
                  <a:lnTo>
                    <a:pt x="2118" y="238"/>
                  </a:lnTo>
                  <a:lnTo>
                    <a:pt x="2086" y="245"/>
                  </a:lnTo>
                  <a:lnTo>
                    <a:pt x="2051" y="253"/>
                  </a:lnTo>
                  <a:lnTo>
                    <a:pt x="2016" y="262"/>
                  </a:lnTo>
                  <a:lnTo>
                    <a:pt x="1981" y="272"/>
                  </a:lnTo>
                  <a:lnTo>
                    <a:pt x="1944" y="283"/>
                  </a:lnTo>
                  <a:lnTo>
                    <a:pt x="1906" y="294"/>
                  </a:lnTo>
                  <a:lnTo>
                    <a:pt x="1867" y="306"/>
                  </a:lnTo>
                  <a:lnTo>
                    <a:pt x="1827" y="320"/>
                  </a:lnTo>
                  <a:lnTo>
                    <a:pt x="1788" y="334"/>
                  </a:lnTo>
                  <a:lnTo>
                    <a:pt x="1747" y="349"/>
                  </a:lnTo>
                  <a:lnTo>
                    <a:pt x="1704" y="364"/>
                  </a:lnTo>
                  <a:lnTo>
                    <a:pt x="1662" y="381"/>
                  </a:lnTo>
                  <a:lnTo>
                    <a:pt x="1618" y="399"/>
                  </a:lnTo>
                  <a:lnTo>
                    <a:pt x="1574" y="418"/>
                  </a:lnTo>
                  <a:lnTo>
                    <a:pt x="1529" y="436"/>
                  </a:lnTo>
                  <a:lnTo>
                    <a:pt x="1484" y="456"/>
                  </a:lnTo>
                  <a:lnTo>
                    <a:pt x="1439" y="477"/>
                  </a:lnTo>
                  <a:lnTo>
                    <a:pt x="1393" y="499"/>
                  </a:lnTo>
                  <a:lnTo>
                    <a:pt x="1346" y="522"/>
                  </a:lnTo>
                  <a:lnTo>
                    <a:pt x="1299" y="545"/>
                  </a:lnTo>
                  <a:lnTo>
                    <a:pt x="1251" y="570"/>
                  </a:lnTo>
                  <a:lnTo>
                    <a:pt x="1203" y="594"/>
                  </a:lnTo>
                  <a:lnTo>
                    <a:pt x="1154" y="620"/>
                  </a:lnTo>
                  <a:lnTo>
                    <a:pt x="1104" y="663"/>
                  </a:lnTo>
                  <a:lnTo>
                    <a:pt x="1054" y="703"/>
                  </a:lnTo>
                  <a:lnTo>
                    <a:pt x="1005" y="743"/>
                  </a:lnTo>
                  <a:lnTo>
                    <a:pt x="956" y="782"/>
                  </a:lnTo>
                  <a:lnTo>
                    <a:pt x="908" y="820"/>
                  </a:lnTo>
                  <a:lnTo>
                    <a:pt x="861" y="858"/>
                  </a:lnTo>
                  <a:lnTo>
                    <a:pt x="814" y="895"/>
                  </a:lnTo>
                  <a:lnTo>
                    <a:pt x="768" y="934"/>
                  </a:lnTo>
                  <a:lnTo>
                    <a:pt x="723" y="973"/>
                  </a:lnTo>
                  <a:lnTo>
                    <a:pt x="678" y="1012"/>
                  </a:lnTo>
                  <a:lnTo>
                    <a:pt x="634" y="1053"/>
                  </a:lnTo>
                  <a:lnTo>
                    <a:pt x="591" y="1094"/>
                  </a:lnTo>
                  <a:lnTo>
                    <a:pt x="548" y="1137"/>
                  </a:lnTo>
                  <a:lnTo>
                    <a:pt x="506" y="1182"/>
                  </a:lnTo>
                  <a:lnTo>
                    <a:pt x="466" y="1230"/>
                  </a:lnTo>
                  <a:lnTo>
                    <a:pt x="425" y="1279"/>
                  </a:lnTo>
                  <a:lnTo>
                    <a:pt x="434" y="1280"/>
                  </a:lnTo>
                  <a:lnTo>
                    <a:pt x="460" y="1285"/>
                  </a:lnTo>
                  <a:lnTo>
                    <a:pt x="505" y="1295"/>
                  </a:lnTo>
                  <a:lnTo>
                    <a:pt x="567" y="1308"/>
                  </a:lnTo>
                  <a:lnTo>
                    <a:pt x="644" y="1325"/>
                  </a:lnTo>
                  <a:lnTo>
                    <a:pt x="737" y="1345"/>
                  </a:lnTo>
                  <a:lnTo>
                    <a:pt x="845" y="1369"/>
                  </a:lnTo>
                  <a:lnTo>
                    <a:pt x="968" y="1396"/>
                  </a:lnTo>
                  <a:lnTo>
                    <a:pt x="1104" y="1426"/>
                  </a:lnTo>
                  <a:lnTo>
                    <a:pt x="1253" y="1459"/>
                  </a:lnTo>
                  <a:lnTo>
                    <a:pt x="1414" y="1495"/>
                  </a:lnTo>
                  <a:lnTo>
                    <a:pt x="1587" y="1533"/>
                  </a:lnTo>
                  <a:lnTo>
                    <a:pt x="1770" y="1574"/>
                  </a:lnTo>
                  <a:lnTo>
                    <a:pt x="1965" y="1618"/>
                  </a:lnTo>
                  <a:lnTo>
                    <a:pt x="2170" y="1663"/>
                  </a:lnTo>
                  <a:lnTo>
                    <a:pt x="2383" y="17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211640" y="4073400"/>
              <a:ext cx="552960" cy="838440"/>
            </a:xfrm>
            <a:custGeom>
              <a:avLst/>
              <a:gdLst/>
              <a:ahLst/>
              <a:rect l="l" t="t" r="r" b="b"/>
              <a:pathLst>
                <a:path w="10995" h="15972">
                  <a:moveTo>
                    <a:pt x="0" y="1150"/>
                  </a:moveTo>
                  <a:lnTo>
                    <a:pt x="4" y="1144"/>
                  </a:lnTo>
                  <a:lnTo>
                    <a:pt x="20" y="1128"/>
                  </a:lnTo>
                  <a:lnTo>
                    <a:pt x="43" y="1102"/>
                  </a:lnTo>
                  <a:lnTo>
                    <a:pt x="77" y="1067"/>
                  </a:lnTo>
                  <a:lnTo>
                    <a:pt x="118" y="1025"/>
                  </a:lnTo>
                  <a:lnTo>
                    <a:pt x="167" y="976"/>
                  </a:lnTo>
                  <a:lnTo>
                    <a:pt x="224" y="921"/>
                  </a:lnTo>
                  <a:lnTo>
                    <a:pt x="287" y="862"/>
                  </a:lnTo>
                  <a:lnTo>
                    <a:pt x="358" y="800"/>
                  </a:lnTo>
                  <a:lnTo>
                    <a:pt x="433" y="735"/>
                  </a:lnTo>
                  <a:lnTo>
                    <a:pt x="474" y="701"/>
                  </a:lnTo>
                  <a:lnTo>
                    <a:pt x="516" y="667"/>
                  </a:lnTo>
                  <a:lnTo>
                    <a:pt x="559" y="633"/>
                  </a:lnTo>
                  <a:lnTo>
                    <a:pt x="603" y="600"/>
                  </a:lnTo>
                  <a:lnTo>
                    <a:pt x="648" y="566"/>
                  </a:lnTo>
                  <a:lnTo>
                    <a:pt x="695" y="532"/>
                  </a:lnTo>
                  <a:lnTo>
                    <a:pt x="742" y="499"/>
                  </a:lnTo>
                  <a:lnTo>
                    <a:pt x="791" y="466"/>
                  </a:lnTo>
                  <a:lnTo>
                    <a:pt x="840" y="434"/>
                  </a:lnTo>
                  <a:lnTo>
                    <a:pt x="891" y="403"/>
                  </a:lnTo>
                  <a:lnTo>
                    <a:pt x="942" y="372"/>
                  </a:lnTo>
                  <a:lnTo>
                    <a:pt x="994" y="342"/>
                  </a:lnTo>
                  <a:lnTo>
                    <a:pt x="1046" y="314"/>
                  </a:lnTo>
                  <a:lnTo>
                    <a:pt x="1098" y="287"/>
                  </a:lnTo>
                  <a:lnTo>
                    <a:pt x="1150" y="262"/>
                  </a:lnTo>
                  <a:lnTo>
                    <a:pt x="1201" y="238"/>
                  </a:lnTo>
                  <a:lnTo>
                    <a:pt x="1252" y="216"/>
                  </a:lnTo>
                  <a:lnTo>
                    <a:pt x="1302" y="195"/>
                  </a:lnTo>
                  <a:lnTo>
                    <a:pt x="1351" y="176"/>
                  </a:lnTo>
                  <a:lnTo>
                    <a:pt x="1399" y="158"/>
                  </a:lnTo>
                  <a:lnTo>
                    <a:pt x="1447" y="141"/>
                  </a:lnTo>
                  <a:lnTo>
                    <a:pt x="1494" y="125"/>
                  </a:lnTo>
                  <a:lnTo>
                    <a:pt x="1539" y="111"/>
                  </a:lnTo>
                  <a:lnTo>
                    <a:pt x="1584" y="97"/>
                  </a:lnTo>
                  <a:lnTo>
                    <a:pt x="1627" y="85"/>
                  </a:lnTo>
                  <a:lnTo>
                    <a:pt x="1668" y="74"/>
                  </a:lnTo>
                  <a:lnTo>
                    <a:pt x="1708" y="64"/>
                  </a:lnTo>
                  <a:lnTo>
                    <a:pt x="1747" y="55"/>
                  </a:lnTo>
                  <a:lnTo>
                    <a:pt x="1820" y="39"/>
                  </a:lnTo>
                  <a:lnTo>
                    <a:pt x="1884" y="27"/>
                  </a:lnTo>
                  <a:lnTo>
                    <a:pt x="1941" y="18"/>
                  </a:lnTo>
                  <a:lnTo>
                    <a:pt x="1989" y="11"/>
                  </a:lnTo>
                  <a:lnTo>
                    <a:pt x="2028" y="6"/>
                  </a:lnTo>
                  <a:lnTo>
                    <a:pt x="2057" y="2"/>
                  </a:lnTo>
                  <a:lnTo>
                    <a:pt x="2075" y="1"/>
                  </a:lnTo>
                  <a:lnTo>
                    <a:pt x="2081" y="0"/>
                  </a:lnTo>
                  <a:lnTo>
                    <a:pt x="10995" y="2050"/>
                  </a:lnTo>
                  <a:lnTo>
                    <a:pt x="10995" y="14835"/>
                  </a:lnTo>
                  <a:lnTo>
                    <a:pt x="10896" y="14879"/>
                  </a:lnTo>
                  <a:lnTo>
                    <a:pt x="10702" y="15011"/>
                  </a:lnTo>
                  <a:lnTo>
                    <a:pt x="10590" y="14991"/>
                  </a:lnTo>
                  <a:lnTo>
                    <a:pt x="10671" y="15073"/>
                  </a:lnTo>
                  <a:lnTo>
                    <a:pt x="10192" y="15409"/>
                  </a:lnTo>
                  <a:lnTo>
                    <a:pt x="10059" y="15399"/>
                  </a:lnTo>
                  <a:lnTo>
                    <a:pt x="10096" y="15456"/>
                  </a:lnTo>
                  <a:lnTo>
                    <a:pt x="9976" y="15548"/>
                  </a:lnTo>
                  <a:lnTo>
                    <a:pt x="9875" y="15542"/>
                  </a:lnTo>
                  <a:lnTo>
                    <a:pt x="9906" y="15593"/>
                  </a:lnTo>
                  <a:lnTo>
                    <a:pt x="9316" y="15972"/>
                  </a:lnTo>
                  <a:lnTo>
                    <a:pt x="9150" y="15938"/>
                  </a:lnTo>
                  <a:lnTo>
                    <a:pt x="9150" y="3126"/>
                  </a:lnTo>
                  <a:lnTo>
                    <a:pt x="0" y="11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53" name=""/>
            <p:cNvGrpSpPr/>
            <p:nvPr/>
          </p:nvGrpSpPr>
          <p:grpSpPr>
            <a:xfrm>
              <a:off x="4282920" y="4290120"/>
              <a:ext cx="294840" cy="391680"/>
              <a:chOff x="4282920" y="4290120"/>
              <a:chExt cx="294840" cy="391680"/>
            </a:xfrm>
          </p:grpSpPr>
          <p:sp>
            <p:nvSpPr>
              <p:cNvPr id="854" name=""/>
              <p:cNvSpPr/>
              <p:nvPr/>
            </p:nvSpPr>
            <p:spPr>
              <a:xfrm>
                <a:off x="4435560" y="4610520"/>
                <a:ext cx="25200" cy="24840"/>
              </a:xfrm>
              <a:custGeom>
                <a:avLst/>
                <a:gdLst/>
                <a:ahLst/>
                <a:rect l="l" t="t" r="r" b="b"/>
                <a:pathLst>
                  <a:path w="488" h="499">
                    <a:moveTo>
                      <a:pt x="0" y="0"/>
                    </a:moveTo>
                    <a:lnTo>
                      <a:pt x="16" y="13"/>
                    </a:lnTo>
                    <a:lnTo>
                      <a:pt x="30" y="27"/>
                    </a:lnTo>
                    <a:lnTo>
                      <a:pt x="39" y="34"/>
                    </a:lnTo>
                    <a:lnTo>
                      <a:pt x="48" y="42"/>
                    </a:lnTo>
                    <a:lnTo>
                      <a:pt x="56" y="49"/>
                    </a:lnTo>
                    <a:lnTo>
                      <a:pt x="66" y="57"/>
                    </a:lnTo>
                    <a:lnTo>
                      <a:pt x="75" y="65"/>
                    </a:lnTo>
                    <a:lnTo>
                      <a:pt x="84" y="74"/>
                    </a:lnTo>
                    <a:lnTo>
                      <a:pt x="92" y="81"/>
                    </a:lnTo>
                    <a:lnTo>
                      <a:pt x="101" y="89"/>
                    </a:lnTo>
                    <a:lnTo>
                      <a:pt x="113" y="98"/>
                    </a:lnTo>
                    <a:lnTo>
                      <a:pt x="123" y="107"/>
                    </a:lnTo>
                    <a:lnTo>
                      <a:pt x="133" y="117"/>
                    </a:lnTo>
                    <a:lnTo>
                      <a:pt x="144" y="125"/>
                    </a:lnTo>
                    <a:lnTo>
                      <a:pt x="153" y="135"/>
                    </a:lnTo>
                    <a:lnTo>
                      <a:pt x="164" y="144"/>
                    </a:lnTo>
                    <a:lnTo>
                      <a:pt x="174" y="153"/>
                    </a:lnTo>
                    <a:lnTo>
                      <a:pt x="184" y="162"/>
                    </a:lnTo>
                    <a:lnTo>
                      <a:pt x="194" y="173"/>
                    </a:lnTo>
                    <a:lnTo>
                      <a:pt x="205" y="182"/>
                    </a:lnTo>
                    <a:lnTo>
                      <a:pt x="216" y="192"/>
                    </a:lnTo>
                    <a:lnTo>
                      <a:pt x="227" y="201"/>
                    </a:lnTo>
                    <a:lnTo>
                      <a:pt x="237" y="210"/>
                    </a:lnTo>
                    <a:lnTo>
                      <a:pt x="248" y="220"/>
                    </a:lnTo>
                    <a:lnTo>
                      <a:pt x="259" y="230"/>
                    </a:lnTo>
                    <a:lnTo>
                      <a:pt x="269" y="239"/>
                    </a:lnTo>
                    <a:lnTo>
                      <a:pt x="279" y="248"/>
                    </a:lnTo>
                    <a:lnTo>
                      <a:pt x="289" y="258"/>
                    </a:lnTo>
                    <a:lnTo>
                      <a:pt x="299" y="269"/>
                    </a:lnTo>
                    <a:lnTo>
                      <a:pt x="309" y="279"/>
                    </a:lnTo>
                    <a:lnTo>
                      <a:pt x="319" y="288"/>
                    </a:lnTo>
                    <a:lnTo>
                      <a:pt x="329" y="298"/>
                    </a:lnTo>
                    <a:lnTo>
                      <a:pt x="339" y="307"/>
                    </a:lnTo>
                    <a:lnTo>
                      <a:pt x="348" y="318"/>
                    </a:lnTo>
                    <a:lnTo>
                      <a:pt x="358" y="326"/>
                    </a:lnTo>
                    <a:lnTo>
                      <a:pt x="367" y="335"/>
                    </a:lnTo>
                    <a:lnTo>
                      <a:pt x="375" y="343"/>
                    </a:lnTo>
                    <a:lnTo>
                      <a:pt x="384" y="352"/>
                    </a:lnTo>
                    <a:lnTo>
                      <a:pt x="392" y="361"/>
                    </a:lnTo>
                    <a:lnTo>
                      <a:pt x="400" y="370"/>
                    </a:lnTo>
                    <a:lnTo>
                      <a:pt x="409" y="379"/>
                    </a:lnTo>
                    <a:lnTo>
                      <a:pt x="416" y="388"/>
                    </a:lnTo>
                    <a:lnTo>
                      <a:pt x="429" y="402"/>
                    </a:lnTo>
                    <a:lnTo>
                      <a:pt x="442" y="418"/>
                    </a:lnTo>
                    <a:lnTo>
                      <a:pt x="453" y="431"/>
                    </a:lnTo>
                    <a:lnTo>
                      <a:pt x="464" y="445"/>
                    </a:lnTo>
                    <a:lnTo>
                      <a:pt x="472" y="455"/>
                    </a:lnTo>
                    <a:lnTo>
                      <a:pt x="480" y="467"/>
                    </a:lnTo>
                    <a:lnTo>
                      <a:pt x="484" y="476"/>
                    </a:lnTo>
                    <a:lnTo>
                      <a:pt x="488" y="485"/>
                    </a:lnTo>
                    <a:lnTo>
                      <a:pt x="488" y="491"/>
                    </a:lnTo>
                    <a:lnTo>
                      <a:pt x="488" y="497"/>
                    </a:lnTo>
                    <a:lnTo>
                      <a:pt x="485" y="498"/>
                    </a:lnTo>
                    <a:lnTo>
                      <a:pt x="482" y="499"/>
                    </a:lnTo>
                    <a:lnTo>
                      <a:pt x="476" y="499"/>
                    </a:lnTo>
                    <a:lnTo>
                      <a:pt x="470" y="498"/>
                    </a:lnTo>
                    <a:lnTo>
                      <a:pt x="462" y="496"/>
                    </a:lnTo>
                    <a:lnTo>
                      <a:pt x="455" y="493"/>
                    </a:lnTo>
                    <a:lnTo>
                      <a:pt x="444" y="489"/>
                    </a:lnTo>
                    <a:lnTo>
                      <a:pt x="434" y="484"/>
                    </a:lnTo>
                    <a:lnTo>
                      <a:pt x="422" y="479"/>
                    </a:lnTo>
                    <a:lnTo>
                      <a:pt x="411" y="473"/>
                    </a:lnTo>
                    <a:lnTo>
                      <a:pt x="396" y="465"/>
                    </a:lnTo>
                    <a:lnTo>
                      <a:pt x="382" y="456"/>
                    </a:lnTo>
                    <a:lnTo>
                      <a:pt x="374" y="452"/>
                    </a:lnTo>
                    <a:lnTo>
                      <a:pt x="367" y="448"/>
                    </a:lnTo>
                    <a:lnTo>
                      <a:pt x="359" y="443"/>
                    </a:lnTo>
                    <a:lnTo>
                      <a:pt x="350" y="439"/>
                    </a:lnTo>
                    <a:lnTo>
                      <a:pt x="342" y="434"/>
                    </a:lnTo>
                    <a:lnTo>
                      <a:pt x="333" y="429"/>
                    </a:lnTo>
                    <a:lnTo>
                      <a:pt x="325" y="424"/>
                    </a:lnTo>
                    <a:lnTo>
                      <a:pt x="317" y="419"/>
                    </a:lnTo>
                    <a:lnTo>
                      <a:pt x="308" y="414"/>
                    </a:lnTo>
                    <a:lnTo>
                      <a:pt x="298" y="407"/>
                    </a:lnTo>
                    <a:lnTo>
                      <a:pt x="290" y="402"/>
                    </a:lnTo>
                    <a:lnTo>
                      <a:pt x="281" y="396"/>
                    </a:lnTo>
                    <a:lnTo>
                      <a:pt x="272" y="390"/>
                    </a:lnTo>
                    <a:lnTo>
                      <a:pt x="262" y="384"/>
                    </a:lnTo>
                    <a:lnTo>
                      <a:pt x="252" y="378"/>
                    </a:lnTo>
                    <a:lnTo>
                      <a:pt x="243" y="371"/>
                    </a:lnTo>
                    <a:lnTo>
                      <a:pt x="233" y="365"/>
                    </a:lnTo>
                    <a:lnTo>
                      <a:pt x="223" y="358"/>
                    </a:lnTo>
                    <a:lnTo>
                      <a:pt x="214" y="352"/>
                    </a:lnTo>
                    <a:lnTo>
                      <a:pt x="203" y="346"/>
                    </a:lnTo>
                    <a:lnTo>
                      <a:pt x="193" y="340"/>
                    </a:lnTo>
                    <a:lnTo>
                      <a:pt x="183" y="334"/>
                    </a:lnTo>
                    <a:lnTo>
                      <a:pt x="174" y="327"/>
                    </a:lnTo>
                    <a:lnTo>
                      <a:pt x="164" y="321"/>
                    </a:lnTo>
                    <a:lnTo>
                      <a:pt x="153" y="314"/>
                    </a:lnTo>
                    <a:lnTo>
                      <a:pt x="143" y="306"/>
                    </a:lnTo>
                    <a:lnTo>
                      <a:pt x="134" y="300"/>
                    </a:lnTo>
                    <a:lnTo>
                      <a:pt x="124" y="293"/>
                    </a:lnTo>
                    <a:lnTo>
                      <a:pt x="114" y="286"/>
                    </a:lnTo>
                    <a:lnTo>
                      <a:pt x="103" y="280"/>
                    </a:lnTo>
                    <a:lnTo>
                      <a:pt x="92" y="273"/>
                    </a:lnTo>
                    <a:lnTo>
                      <a:pt x="82" y="266"/>
                    </a:lnTo>
                    <a:lnTo>
                      <a:pt x="72" y="259"/>
                    </a:lnTo>
                    <a:lnTo>
                      <a:pt x="60" y="252"/>
                    </a:lnTo>
                    <a:lnTo>
                      <a:pt x="50" y="246"/>
                    </a:lnTo>
                    <a:lnTo>
                      <a:pt x="40" y="239"/>
                    </a:lnTo>
                    <a:lnTo>
                      <a:pt x="30" y="233"/>
                    </a:lnTo>
                    <a:lnTo>
                      <a:pt x="20" y="226"/>
                    </a:lnTo>
                    <a:lnTo>
                      <a:pt x="10" y="219"/>
                    </a:lnTo>
                    <a:lnTo>
                      <a:pt x="0" y="212"/>
                    </a:lnTo>
                    <a:lnTo>
                      <a:pt x="0" y="186"/>
                    </a:lnTo>
                    <a:lnTo>
                      <a:pt x="0" y="159"/>
                    </a:lnTo>
                    <a:lnTo>
                      <a:pt x="0" y="134"/>
                    </a:lnTo>
                    <a:lnTo>
                      <a:pt x="0" y="107"/>
                    </a:lnTo>
                    <a:lnTo>
                      <a:pt x="0" y="81"/>
                    </a:lnTo>
                    <a:lnTo>
                      <a:pt x="0" y="54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282920" y="4299480"/>
                <a:ext cx="294840" cy="101880"/>
              </a:xfrm>
              <a:custGeom>
                <a:avLst/>
                <a:gdLst/>
                <a:ahLst/>
                <a:rect l="l" t="t" r="r" b="b"/>
                <a:pathLst>
                  <a:path w="5855" h="1948">
                    <a:moveTo>
                      <a:pt x="2796" y="1633"/>
                    </a:moveTo>
                    <a:lnTo>
                      <a:pt x="2796" y="1633"/>
                    </a:lnTo>
                    <a:lnTo>
                      <a:pt x="2795" y="1633"/>
                    </a:lnTo>
                    <a:lnTo>
                      <a:pt x="2792" y="1634"/>
                    </a:lnTo>
                    <a:lnTo>
                      <a:pt x="2789" y="1635"/>
                    </a:lnTo>
                    <a:lnTo>
                      <a:pt x="2783" y="1635"/>
                    </a:lnTo>
                    <a:lnTo>
                      <a:pt x="2777" y="1635"/>
                    </a:lnTo>
                    <a:lnTo>
                      <a:pt x="2769" y="1636"/>
                    </a:lnTo>
                    <a:lnTo>
                      <a:pt x="2763" y="1637"/>
                    </a:lnTo>
                    <a:lnTo>
                      <a:pt x="2753" y="1638"/>
                    </a:lnTo>
                    <a:lnTo>
                      <a:pt x="2743" y="1639"/>
                    </a:lnTo>
                    <a:lnTo>
                      <a:pt x="2731" y="1639"/>
                    </a:lnTo>
                    <a:lnTo>
                      <a:pt x="2719" y="1639"/>
                    </a:lnTo>
                    <a:lnTo>
                      <a:pt x="2704" y="1639"/>
                    </a:lnTo>
                    <a:lnTo>
                      <a:pt x="2689" y="1638"/>
                    </a:lnTo>
                    <a:lnTo>
                      <a:pt x="2681" y="1638"/>
                    </a:lnTo>
                    <a:lnTo>
                      <a:pt x="2672" y="1637"/>
                    </a:lnTo>
                    <a:lnTo>
                      <a:pt x="2665" y="1637"/>
                    </a:lnTo>
                    <a:lnTo>
                      <a:pt x="2657" y="1636"/>
                    </a:lnTo>
                    <a:lnTo>
                      <a:pt x="2647" y="1636"/>
                    </a:lnTo>
                    <a:lnTo>
                      <a:pt x="2637" y="1636"/>
                    </a:lnTo>
                    <a:lnTo>
                      <a:pt x="2626" y="1635"/>
                    </a:lnTo>
                    <a:lnTo>
                      <a:pt x="2617" y="1635"/>
                    </a:lnTo>
                    <a:lnTo>
                      <a:pt x="2606" y="1634"/>
                    </a:lnTo>
                    <a:lnTo>
                      <a:pt x="2595" y="1633"/>
                    </a:lnTo>
                    <a:lnTo>
                      <a:pt x="2585" y="1632"/>
                    </a:lnTo>
                    <a:lnTo>
                      <a:pt x="2573" y="1631"/>
                    </a:lnTo>
                    <a:lnTo>
                      <a:pt x="2562" y="1630"/>
                    </a:lnTo>
                    <a:lnTo>
                      <a:pt x="2550" y="1627"/>
                    </a:lnTo>
                    <a:lnTo>
                      <a:pt x="2538" y="1626"/>
                    </a:lnTo>
                    <a:lnTo>
                      <a:pt x="2525" y="1625"/>
                    </a:lnTo>
                    <a:lnTo>
                      <a:pt x="2512" y="1623"/>
                    </a:lnTo>
                    <a:lnTo>
                      <a:pt x="2498" y="1621"/>
                    </a:lnTo>
                    <a:lnTo>
                      <a:pt x="2484" y="1619"/>
                    </a:lnTo>
                    <a:lnTo>
                      <a:pt x="2470" y="1617"/>
                    </a:lnTo>
                    <a:lnTo>
                      <a:pt x="2455" y="1616"/>
                    </a:lnTo>
                    <a:lnTo>
                      <a:pt x="2441" y="1614"/>
                    </a:lnTo>
                    <a:lnTo>
                      <a:pt x="2425" y="1612"/>
                    </a:lnTo>
                    <a:lnTo>
                      <a:pt x="2410" y="1610"/>
                    </a:lnTo>
                    <a:lnTo>
                      <a:pt x="2395" y="1607"/>
                    </a:lnTo>
                    <a:lnTo>
                      <a:pt x="2378" y="1604"/>
                    </a:lnTo>
                    <a:lnTo>
                      <a:pt x="2362" y="1600"/>
                    </a:lnTo>
                    <a:lnTo>
                      <a:pt x="2347" y="1597"/>
                    </a:lnTo>
                    <a:lnTo>
                      <a:pt x="2328" y="1594"/>
                    </a:lnTo>
                    <a:lnTo>
                      <a:pt x="2311" y="1591"/>
                    </a:lnTo>
                    <a:lnTo>
                      <a:pt x="2293" y="1588"/>
                    </a:lnTo>
                    <a:lnTo>
                      <a:pt x="2275" y="1585"/>
                    </a:lnTo>
                    <a:lnTo>
                      <a:pt x="2256" y="1580"/>
                    </a:lnTo>
                    <a:lnTo>
                      <a:pt x="2238" y="1575"/>
                    </a:lnTo>
                    <a:lnTo>
                      <a:pt x="2218" y="1571"/>
                    </a:lnTo>
                    <a:lnTo>
                      <a:pt x="2200" y="1566"/>
                    </a:lnTo>
                    <a:lnTo>
                      <a:pt x="2180" y="1561"/>
                    </a:lnTo>
                    <a:lnTo>
                      <a:pt x="2161" y="1555"/>
                    </a:lnTo>
                    <a:lnTo>
                      <a:pt x="2143" y="1550"/>
                    </a:lnTo>
                    <a:lnTo>
                      <a:pt x="2123" y="1544"/>
                    </a:lnTo>
                    <a:lnTo>
                      <a:pt x="2106" y="1538"/>
                    </a:lnTo>
                    <a:lnTo>
                      <a:pt x="2088" y="1532"/>
                    </a:lnTo>
                    <a:lnTo>
                      <a:pt x="2072" y="1525"/>
                    </a:lnTo>
                    <a:lnTo>
                      <a:pt x="2055" y="1519"/>
                    </a:lnTo>
                    <a:lnTo>
                      <a:pt x="2038" y="1512"/>
                    </a:lnTo>
                    <a:lnTo>
                      <a:pt x="2023" y="1504"/>
                    </a:lnTo>
                    <a:lnTo>
                      <a:pt x="2008" y="1497"/>
                    </a:lnTo>
                    <a:lnTo>
                      <a:pt x="1991" y="1489"/>
                    </a:lnTo>
                    <a:lnTo>
                      <a:pt x="1978" y="1482"/>
                    </a:lnTo>
                    <a:lnTo>
                      <a:pt x="1965" y="1473"/>
                    </a:lnTo>
                    <a:lnTo>
                      <a:pt x="1952" y="1466"/>
                    </a:lnTo>
                    <a:lnTo>
                      <a:pt x="1938" y="1458"/>
                    </a:lnTo>
                    <a:lnTo>
                      <a:pt x="1925" y="1449"/>
                    </a:lnTo>
                    <a:lnTo>
                      <a:pt x="1913" y="1440"/>
                    </a:lnTo>
                    <a:lnTo>
                      <a:pt x="1901" y="1430"/>
                    </a:lnTo>
                    <a:lnTo>
                      <a:pt x="1888" y="1422"/>
                    </a:lnTo>
                    <a:lnTo>
                      <a:pt x="1877" y="1414"/>
                    </a:lnTo>
                    <a:lnTo>
                      <a:pt x="1866" y="1405"/>
                    </a:lnTo>
                    <a:lnTo>
                      <a:pt x="1856" y="1397"/>
                    </a:lnTo>
                    <a:lnTo>
                      <a:pt x="1844" y="1388"/>
                    </a:lnTo>
                    <a:lnTo>
                      <a:pt x="1835" y="1378"/>
                    </a:lnTo>
                    <a:lnTo>
                      <a:pt x="1826" y="1369"/>
                    </a:lnTo>
                    <a:lnTo>
                      <a:pt x="1816" y="1360"/>
                    </a:lnTo>
                    <a:lnTo>
                      <a:pt x="1807" y="1351"/>
                    </a:lnTo>
                    <a:lnTo>
                      <a:pt x="1799" y="1342"/>
                    </a:lnTo>
                    <a:lnTo>
                      <a:pt x="1791" y="1332"/>
                    </a:lnTo>
                    <a:lnTo>
                      <a:pt x="1783" y="1324"/>
                    </a:lnTo>
                    <a:lnTo>
                      <a:pt x="1775" y="1315"/>
                    </a:lnTo>
                    <a:lnTo>
                      <a:pt x="1768" y="1306"/>
                    </a:lnTo>
                    <a:lnTo>
                      <a:pt x="1761" y="1298"/>
                    </a:lnTo>
                    <a:lnTo>
                      <a:pt x="1754" y="1290"/>
                    </a:lnTo>
                    <a:lnTo>
                      <a:pt x="1747" y="1280"/>
                    </a:lnTo>
                    <a:lnTo>
                      <a:pt x="1741" y="1272"/>
                    </a:lnTo>
                    <a:lnTo>
                      <a:pt x="1736" y="1264"/>
                    </a:lnTo>
                    <a:lnTo>
                      <a:pt x="1731" y="1256"/>
                    </a:lnTo>
                    <a:lnTo>
                      <a:pt x="1725" y="1247"/>
                    </a:lnTo>
                    <a:lnTo>
                      <a:pt x="1716" y="1233"/>
                    </a:lnTo>
                    <a:lnTo>
                      <a:pt x="1708" y="1219"/>
                    </a:lnTo>
                    <a:lnTo>
                      <a:pt x="1700" y="1205"/>
                    </a:lnTo>
                    <a:lnTo>
                      <a:pt x="1693" y="1191"/>
                    </a:lnTo>
                    <a:lnTo>
                      <a:pt x="1687" y="1180"/>
                    </a:lnTo>
                    <a:lnTo>
                      <a:pt x="1681" y="1170"/>
                    </a:lnTo>
                    <a:lnTo>
                      <a:pt x="1678" y="1161"/>
                    </a:lnTo>
                    <a:lnTo>
                      <a:pt x="1676" y="1153"/>
                    </a:lnTo>
                    <a:lnTo>
                      <a:pt x="1673" y="1149"/>
                    </a:lnTo>
                    <a:lnTo>
                      <a:pt x="1672" y="1144"/>
                    </a:lnTo>
                    <a:lnTo>
                      <a:pt x="1671" y="1142"/>
                    </a:lnTo>
                    <a:lnTo>
                      <a:pt x="1670" y="1138"/>
                    </a:lnTo>
                    <a:lnTo>
                      <a:pt x="1669" y="1139"/>
                    </a:lnTo>
                    <a:lnTo>
                      <a:pt x="1668" y="1141"/>
                    </a:lnTo>
                    <a:lnTo>
                      <a:pt x="1665" y="1143"/>
                    </a:lnTo>
                    <a:lnTo>
                      <a:pt x="1664" y="1144"/>
                    </a:lnTo>
                    <a:lnTo>
                      <a:pt x="1661" y="1146"/>
                    </a:lnTo>
                    <a:lnTo>
                      <a:pt x="1658" y="1148"/>
                    </a:lnTo>
                    <a:lnTo>
                      <a:pt x="1653" y="1151"/>
                    </a:lnTo>
                    <a:lnTo>
                      <a:pt x="1647" y="1154"/>
                    </a:lnTo>
                    <a:lnTo>
                      <a:pt x="1641" y="1158"/>
                    </a:lnTo>
                    <a:lnTo>
                      <a:pt x="1636" y="1162"/>
                    </a:lnTo>
                    <a:lnTo>
                      <a:pt x="1628" y="1165"/>
                    </a:lnTo>
                    <a:lnTo>
                      <a:pt x="1621" y="1168"/>
                    </a:lnTo>
                    <a:lnTo>
                      <a:pt x="1612" y="1172"/>
                    </a:lnTo>
                    <a:lnTo>
                      <a:pt x="1604" y="1175"/>
                    </a:lnTo>
                    <a:lnTo>
                      <a:pt x="1593" y="1179"/>
                    </a:lnTo>
                    <a:lnTo>
                      <a:pt x="1583" y="1182"/>
                    </a:lnTo>
                    <a:lnTo>
                      <a:pt x="1572" y="1186"/>
                    </a:lnTo>
                    <a:lnTo>
                      <a:pt x="1562" y="1191"/>
                    </a:lnTo>
                    <a:lnTo>
                      <a:pt x="1549" y="1194"/>
                    </a:lnTo>
                    <a:lnTo>
                      <a:pt x="1537" y="1197"/>
                    </a:lnTo>
                    <a:lnTo>
                      <a:pt x="1524" y="1199"/>
                    </a:lnTo>
                    <a:lnTo>
                      <a:pt x="1510" y="1200"/>
                    </a:lnTo>
                    <a:lnTo>
                      <a:pt x="1495" y="1202"/>
                    </a:lnTo>
                    <a:lnTo>
                      <a:pt x="1480" y="1203"/>
                    </a:lnTo>
                    <a:lnTo>
                      <a:pt x="1472" y="1204"/>
                    </a:lnTo>
                    <a:lnTo>
                      <a:pt x="1464" y="1204"/>
                    </a:lnTo>
                    <a:lnTo>
                      <a:pt x="1455" y="1204"/>
                    </a:lnTo>
                    <a:lnTo>
                      <a:pt x="1448" y="1204"/>
                    </a:lnTo>
                    <a:lnTo>
                      <a:pt x="1439" y="1203"/>
                    </a:lnTo>
                    <a:lnTo>
                      <a:pt x="1431" y="1203"/>
                    </a:lnTo>
                    <a:lnTo>
                      <a:pt x="1422" y="1203"/>
                    </a:lnTo>
                    <a:lnTo>
                      <a:pt x="1414" y="1202"/>
                    </a:lnTo>
                    <a:lnTo>
                      <a:pt x="1404" y="1201"/>
                    </a:lnTo>
                    <a:lnTo>
                      <a:pt x="1395" y="1200"/>
                    </a:lnTo>
                    <a:lnTo>
                      <a:pt x="1386" y="1198"/>
                    </a:lnTo>
                    <a:lnTo>
                      <a:pt x="1377" y="1197"/>
                    </a:lnTo>
                    <a:lnTo>
                      <a:pt x="1367" y="1195"/>
                    </a:lnTo>
                    <a:lnTo>
                      <a:pt x="1357" y="1192"/>
                    </a:lnTo>
                    <a:lnTo>
                      <a:pt x="1347" y="1190"/>
                    </a:lnTo>
                    <a:lnTo>
                      <a:pt x="1338" y="1187"/>
                    </a:lnTo>
                    <a:lnTo>
                      <a:pt x="1324" y="1183"/>
                    </a:lnTo>
                    <a:lnTo>
                      <a:pt x="1309" y="1179"/>
                    </a:lnTo>
                    <a:lnTo>
                      <a:pt x="1295" y="1174"/>
                    </a:lnTo>
                    <a:lnTo>
                      <a:pt x="1281" y="1170"/>
                    </a:lnTo>
                    <a:lnTo>
                      <a:pt x="1268" y="1164"/>
                    </a:lnTo>
                    <a:lnTo>
                      <a:pt x="1255" y="1158"/>
                    </a:lnTo>
                    <a:lnTo>
                      <a:pt x="1243" y="1152"/>
                    </a:lnTo>
                    <a:lnTo>
                      <a:pt x="1231" y="1146"/>
                    </a:lnTo>
                    <a:lnTo>
                      <a:pt x="1220" y="1138"/>
                    </a:lnTo>
                    <a:lnTo>
                      <a:pt x="1207" y="1132"/>
                    </a:lnTo>
                    <a:lnTo>
                      <a:pt x="1196" y="1125"/>
                    </a:lnTo>
                    <a:lnTo>
                      <a:pt x="1185" y="1119"/>
                    </a:lnTo>
                    <a:lnTo>
                      <a:pt x="1175" y="1112"/>
                    </a:lnTo>
                    <a:lnTo>
                      <a:pt x="1164" y="1104"/>
                    </a:lnTo>
                    <a:lnTo>
                      <a:pt x="1155" y="1097"/>
                    </a:lnTo>
                    <a:lnTo>
                      <a:pt x="1145" y="1089"/>
                    </a:lnTo>
                    <a:lnTo>
                      <a:pt x="1137" y="1081"/>
                    </a:lnTo>
                    <a:lnTo>
                      <a:pt x="1128" y="1074"/>
                    </a:lnTo>
                    <a:lnTo>
                      <a:pt x="1120" y="1067"/>
                    </a:lnTo>
                    <a:lnTo>
                      <a:pt x="1111" y="1059"/>
                    </a:lnTo>
                    <a:lnTo>
                      <a:pt x="1103" y="1051"/>
                    </a:lnTo>
                    <a:lnTo>
                      <a:pt x="1096" y="1043"/>
                    </a:lnTo>
                    <a:lnTo>
                      <a:pt x="1089" y="1034"/>
                    </a:lnTo>
                    <a:lnTo>
                      <a:pt x="1082" y="1026"/>
                    </a:lnTo>
                    <a:lnTo>
                      <a:pt x="1075" y="1018"/>
                    </a:lnTo>
                    <a:lnTo>
                      <a:pt x="1069" y="1009"/>
                    </a:lnTo>
                    <a:lnTo>
                      <a:pt x="1061" y="1001"/>
                    </a:lnTo>
                    <a:lnTo>
                      <a:pt x="1055" y="992"/>
                    </a:lnTo>
                    <a:lnTo>
                      <a:pt x="1050" y="984"/>
                    </a:lnTo>
                    <a:lnTo>
                      <a:pt x="1044" y="975"/>
                    </a:lnTo>
                    <a:lnTo>
                      <a:pt x="1039" y="967"/>
                    </a:lnTo>
                    <a:lnTo>
                      <a:pt x="1033" y="959"/>
                    </a:lnTo>
                    <a:lnTo>
                      <a:pt x="1030" y="951"/>
                    </a:lnTo>
                    <a:lnTo>
                      <a:pt x="1026" y="942"/>
                    </a:lnTo>
                    <a:lnTo>
                      <a:pt x="1022" y="934"/>
                    </a:lnTo>
                    <a:lnTo>
                      <a:pt x="1017" y="926"/>
                    </a:lnTo>
                    <a:lnTo>
                      <a:pt x="1014" y="919"/>
                    </a:lnTo>
                    <a:lnTo>
                      <a:pt x="1010" y="911"/>
                    </a:lnTo>
                    <a:lnTo>
                      <a:pt x="1007" y="903"/>
                    </a:lnTo>
                    <a:lnTo>
                      <a:pt x="1003" y="894"/>
                    </a:lnTo>
                    <a:lnTo>
                      <a:pt x="997" y="881"/>
                    </a:lnTo>
                    <a:lnTo>
                      <a:pt x="992" y="868"/>
                    </a:lnTo>
                    <a:lnTo>
                      <a:pt x="988" y="856"/>
                    </a:lnTo>
                    <a:lnTo>
                      <a:pt x="984" y="842"/>
                    </a:lnTo>
                    <a:lnTo>
                      <a:pt x="981" y="832"/>
                    </a:lnTo>
                    <a:lnTo>
                      <a:pt x="978" y="822"/>
                    </a:lnTo>
                    <a:lnTo>
                      <a:pt x="976" y="814"/>
                    </a:lnTo>
                    <a:lnTo>
                      <a:pt x="974" y="806"/>
                    </a:lnTo>
                    <a:lnTo>
                      <a:pt x="973" y="802"/>
                    </a:lnTo>
                    <a:lnTo>
                      <a:pt x="972" y="796"/>
                    </a:lnTo>
                    <a:lnTo>
                      <a:pt x="972" y="795"/>
                    </a:lnTo>
                    <a:lnTo>
                      <a:pt x="972" y="793"/>
                    </a:lnTo>
                    <a:lnTo>
                      <a:pt x="971" y="793"/>
                    </a:lnTo>
                    <a:lnTo>
                      <a:pt x="969" y="794"/>
                    </a:lnTo>
                    <a:lnTo>
                      <a:pt x="964" y="795"/>
                    </a:lnTo>
                    <a:lnTo>
                      <a:pt x="959" y="796"/>
                    </a:lnTo>
                    <a:lnTo>
                      <a:pt x="952" y="797"/>
                    </a:lnTo>
                    <a:lnTo>
                      <a:pt x="945" y="798"/>
                    </a:lnTo>
                    <a:lnTo>
                      <a:pt x="935" y="800"/>
                    </a:lnTo>
                    <a:lnTo>
                      <a:pt x="926" y="801"/>
                    </a:lnTo>
                    <a:lnTo>
                      <a:pt x="911" y="801"/>
                    </a:lnTo>
                    <a:lnTo>
                      <a:pt x="897" y="800"/>
                    </a:lnTo>
                    <a:lnTo>
                      <a:pt x="889" y="798"/>
                    </a:lnTo>
                    <a:lnTo>
                      <a:pt x="881" y="797"/>
                    </a:lnTo>
                    <a:lnTo>
                      <a:pt x="871" y="796"/>
                    </a:lnTo>
                    <a:lnTo>
                      <a:pt x="863" y="795"/>
                    </a:lnTo>
                    <a:lnTo>
                      <a:pt x="853" y="792"/>
                    </a:lnTo>
                    <a:lnTo>
                      <a:pt x="843" y="790"/>
                    </a:lnTo>
                    <a:lnTo>
                      <a:pt x="832" y="787"/>
                    </a:lnTo>
                    <a:lnTo>
                      <a:pt x="821" y="785"/>
                    </a:lnTo>
                    <a:lnTo>
                      <a:pt x="809" y="782"/>
                    </a:lnTo>
                    <a:lnTo>
                      <a:pt x="797" y="779"/>
                    </a:lnTo>
                    <a:lnTo>
                      <a:pt x="784" y="775"/>
                    </a:lnTo>
                    <a:lnTo>
                      <a:pt x="771" y="772"/>
                    </a:lnTo>
                    <a:lnTo>
                      <a:pt x="749" y="762"/>
                    </a:lnTo>
                    <a:lnTo>
                      <a:pt x="727" y="752"/>
                    </a:lnTo>
                    <a:lnTo>
                      <a:pt x="704" y="741"/>
                    </a:lnTo>
                    <a:lnTo>
                      <a:pt x="682" y="730"/>
                    </a:lnTo>
                    <a:lnTo>
                      <a:pt x="666" y="719"/>
                    </a:lnTo>
                    <a:lnTo>
                      <a:pt x="651" y="707"/>
                    </a:lnTo>
                    <a:lnTo>
                      <a:pt x="636" y="694"/>
                    </a:lnTo>
                    <a:lnTo>
                      <a:pt x="620" y="681"/>
                    </a:lnTo>
                    <a:lnTo>
                      <a:pt x="610" y="668"/>
                    </a:lnTo>
                    <a:lnTo>
                      <a:pt x="599" y="655"/>
                    </a:lnTo>
                    <a:lnTo>
                      <a:pt x="589" y="640"/>
                    </a:lnTo>
                    <a:lnTo>
                      <a:pt x="578" y="627"/>
                    </a:lnTo>
                    <a:lnTo>
                      <a:pt x="571" y="613"/>
                    </a:lnTo>
                    <a:lnTo>
                      <a:pt x="565" y="598"/>
                    </a:lnTo>
                    <a:lnTo>
                      <a:pt x="558" y="585"/>
                    </a:lnTo>
                    <a:lnTo>
                      <a:pt x="552" y="571"/>
                    </a:lnTo>
                    <a:lnTo>
                      <a:pt x="549" y="558"/>
                    </a:lnTo>
                    <a:lnTo>
                      <a:pt x="546" y="545"/>
                    </a:lnTo>
                    <a:lnTo>
                      <a:pt x="543" y="532"/>
                    </a:lnTo>
                    <a:lnTo>
                      <a:pt x="541" y="519"/>
                    </a:lnTo>
                    <a:lnTo>
                      <a:pt x="540" y="509"/>
                    </a:lnTo>
                    <a:lnTo>
                      <a:pt x="539" y="498"/>
                    </a:lnTo>
                    <a:lnTo>
                      <a:pt x="539" y="488"/>
                    </a:lnTo>
                    <a:lnTo>
                      <a:pt x="538" y="478"/>
                    </a:lnTo>
                    <a:lnTo>
                      <a:pt x="538" y="464"/>
                    </a:lnTo>
                    <a:lnTo>
                      <a:pt x="538" y="448"/>
                    </a:lnTo>
                    <a:lnTo>
                      <a:pt x="539" y="444"/>
                    </a:lnTo>
                    <a:lnTo>
                      <a:pt x="541" y="439"/>
                    </a:lnTo>
                    <a:lnTo>
                      <a:pt x="538" y="440"/>
                    </a:lnTo>
                    <a:lnTo>
                      <a:pt x="537" y="440"/>
                    </a:lnTo>
                    <a:lnTo>
                      <a:pt x="530" y="440"/>
                    </a:lnTo>
                    <a:lnTo>
                      <a:pt x="526" y="440"/>
                    </a:lnTo>
                    <a:lnTo>
                      <a:pt x="517" y="441"/>
                    </a:lnTo>
                    <a:lnTo>
                      <a:pt x="508" y="441"/>
                    </a:lnTo>
                    <a:lnTo>
                      <a:pt x="497" y="441"/>
                    </a:lnTo>
                    <a:lnTo>
                      <a:pt x="487" y="440"/>
                    </a:lnTo>
                    <a:lnTo>
                      <a:pt x="471" y="440"/>
                    </a:lnTo>
                    <a:lnTo>
                      <a:pt x="457" y="439"/>
                    </a:lnTo>
                    <a:lnTo>
                      <a:pt x="448" y="438"/>
                    </a:lnTo>
                    <a:lnTo>
                      <a:pt x="439" y="437"/>
                    </a:lnTo>
                    <a:lnTo>
                      <a:pt x="429" y="436"/>
                    </a:lnTo>
                    <a:lnTo>
                      <a:pt x="421" y="435"/>
                    </a:lnTo>
                    <a:lnTo>
                      <a:pt x="410" y="433"/>
                    </a:lnTo>
                    <a:lnTo>
                      <a:pt x="399" y="431"/>
                    </a:lnTo>
                    <a:lnTo>
                      <a:pt x="389" y="429"/>
                    </a:lnTo>
                    <a:lnTo>
                      <a:pt x="378" y="427"/>
                    </a:lnTo>
                    <a:lnTo>
                      <a:pt x="366" y="424"/>
                    </a:lnTo>
                    <a:lnTo>
                      <a:pt x="354" y="420"/>
                    </a:lnTo>
                    <a:lnTo>
                      <a:pt x="343" y="417"/>
                    </a:lnTo>
                    <a:lnTo>
                      <a:pt x="330" y="414"/>
                    </a:lnTo>
                    <a:lnTo>
                      <a:pt x="316" y="409"/>
                    </a:lnTo>
                    <a:lnTo>
                      <a:pt x="303" y="404"/>
                    </a:lnTo>
                    <a:lnTo>
                      <a:pt x="289" y="399"/>
                    </a:lnTo>
                    <a:lnTo>
                      <a:pt x="275" y="394"/>
                    </a:lnTo>
                    <a:lnTo>
                      <a:pt x="262" y="388"/>
                    </a:lnTo>
                    <a:lnTo>
                      <a:pt x="250" y="382"/>
                    </a:lnTo>
                    <a:lnTo>
                      <a:pt x="238" y="375"/>
                    </a:lnTo>
                    <a:lnTo>
                      <a:pt x="226" y="369"/>
                    </a:lnTo>
                    <a:lnTo>
                      <a:pt x="216" y="362"/>
                    </a:lnTo>
                    <a:lnTo>
                      <a:pt x="206" y="354"/>
                    </a:lnTo>
                    <a:lnTo>
                      <a:pt x="195" y="347"/>
                    </a:lnTo>
                    <a:lnTo>
                      <a:pt x="184" y="341"/>
                    </a:lnTo>
                    <a:lnTo>
                      <a:pt x="175" y="333"/>
                    </a:lnTo>
                    <a:lnTo>
                      <a:pt x="166" y="325"/>
                    </a:lnTo>
                    <a:lnTo>
                      <a:pt x="156" y="318"/>
                    </a:lnTo>
                    <a:lnTo>
                      <a:pt x="147" y="309"/>
                    </a:lnTo>
                    <a:lnTo>
                      <a:pt x="138" y="301"/>
                    </a:lnTo>
                    <a:lnTo>
                      <a:pt x="130" y="294"/>
                    </a:lnTo>
                    <a:lnTo>
                      <a:pt x="122" y="286"/>
                    </a:lnTo>
                    <a:lnTo>
                      <a:pt x="115" y="278"/>
                    </a:lnTo>
                    <a:lnTo>
                      <a:pt x="108" y="270"/>
                    </a:lnTo>
                    <a:lnTo>
                      <a:pt x="102" y="260"/>
                    </a:lnTo>
                    <a:lnTo>
                      <a:pt x="95" y="252"/>
                    </a:lnTo>
                    <a:lnTo>
                      <a:pt x="88" y="243"/>
                    </a:lnTo>
                    <a:lnTo>
                      <a:pt x="82" y="235"/>
                    </a:lnTo>
                    <a:lnTo>
                      <a:pt x="77" y="226"/>
                    </a:lnTo>
                    <a:lnTo>
                      <a:pt x="72" y="217"/>
                    </a:lnTo>
                    <a:lnTo>
                      <a:pt x="67" y="207"/>
                    </a:lnTo>
                    <a:lnTo>
                      <a:pt x="62" y="199"/>
                    </a:lnTo>
                    <a:lnTo>
                      <a:pt x="57" y="191"/>
                    </a:lnTo>
                    <a:lnTo>
                      <a:pt x="53" y="182"/>
                    </a:lnTo>
                    <a:lnTo>
                      <a:pt x="49" y="174"/>
                    </a:lnTo>
                    <a:lnTo>
                      <a:pt x="45" y="164"/>
                    </a:lnTo>
                    <a:lnTo>
                      <a:pt x="40" y="156"/>
                    </a:lnTo>
                    <a:lnTo>
                      <a:pt x="36" y="148"/>
                    </a:lnTo>
                    <a:lnTo>
                      <a:pt x="32" y="140"/>
                    </a:lnTo>
                    <a:lnTo>
                      <a:pt x="29" y="132"/>
                    </a:lnTo>
                    <a:lnTo>
                      <a:pt x="26" y="123"/>
                    </a:lnTo>
                    <a:lnTo>
                      <a:pt x="23" y="114"/>
                    </a:lnTo>
                    <a:lnTo>
                      <a:pt x="21" y="106"/>
                    </a:lnTo>
                    <a:lnTo>
                      <a:pt x="17" y="92"/>
                    </a:lnTo>
                    <a:lnTo>
                      <a:pt x="13" y="78"/>
                    </a:lnTo>
                    <a:lnTo>
                      <a:pt x="10" y="65"/>
                    </a:lnTo>
                    <a:lnTo>
                      <a:pt x="7" y="53"/>
                    </a:lnTo>
                    <a:lnTo>
                      <a:pt x="5" y="42"/>
                    </a:lnTo>
                    <a:lnTo>
                      <a:pt x="3" y="32"/>
                    </a:lnTo>
                    <a:lnTo>
                      <a:pt x="2" y="24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7" y="2"/>
                    </a:lnTo>
                    <a:lnTo>
                      <a:pt x="17" y="4"/>
                    </a:lnTo>
                    <a:lnTo>
                      <a:pt x="27" y="6"/>
                    </a:lnTo>
                    <a:lnTo>
                      <a:pt x="35" y="8"/>
                    </a:lnTo>
                    <a:lnTo>
                      <a:pt x="43" y="10"/>
                    </a:lnTo>
                    <a:lnTo>
                      <a:pt x="52" y="12"/>
                    </a:lnTo>
                    <a:lnTo>
                      <a:pt x="61" y="14"/>
                    </a:lnTo>
                    <a:lnTo>
                      <a:pt x="72" y="17"/>
                    </a:lnTo>
                    <a:lnTo>
                      <a:pt x="83" y="21"/>
                    </a:lnTo>
                    <a:lnTo>
                      <a:pt x="95" y="23"/>
                    </a:lnTo>
                    <a:lnTo>
                      <a:pt x="107" y="26"/>
                    </a:lnTo>
                    <a:lnTo>
                      <a:pt x="120" y="29"/>
                    </a:lnTo>
                    <a:lnTo>
                      <a:pt x="134" y="32"/>
                    </a:lnTo>
                    <a:lnTo>
                      <a:pt x="149" y="36"/>
                    </a:lnTo>
                    <a:lnTo>
                      <a:pt x="163" y="39"/>
                    </a:lnTo>
                    <a:lnTo>
                      <a:pt x="179" y="43"/>
                    </a:lnTo>
                    <a:lnTo>
                      <a:pt x="197" y="47"/>
                    </a:lnTo>
                    <a:lnTo>
                      <a:pt x="213" y="51"/>
                    </a:lnTo>
                    <a:lnTo>
                      <a:pt x="230" y="55"/>
                    </a:lnTo>
                    <a:lnTo>
                      <a:pt x="250" y="59"/>
                    </a:lnTo>
                    <a:lnTo>
                      <a:pt x="268" y="64"/>
                    </a:lnTo>
                    <a:lnTo>
                      <a:pt x="288" y="69"/>
                    </a:lnTo>
                    <a:lnTo>
                      <a:pt x="307" y="74"/>
                    </a:lnTo>
                    <a:lnTo>
                      <a:pt x="327" y="78"/>
                    </a:lnTo>
                    <a:lnTo>
                      <a:pt x="348" y="83"/>
                    </a:lnTo>
                    <a:lnTo>
                      <a:pt x="369" y="87"/>
                    </a:lnTo>
                    <a:lnTo>
                      <a:pt x="391" y="92"/>
                    </a:lnTo>
                    <a:lnTo>
                      <a:pt x="413" y="96"/>
                    </a:lnTo>
                    <a:lnTo>
                      <a:pt x="437" y="101"/>
                    </a:lnTo>
                    <a:lnTo>
                      <a:pt x="459" y="106"/>
                    </a:lnTo>
                    <a:lnTo>
                      <a:pt x="483" y="111"/>
                    </a:lnTo>
                    <a:lnTo>
                      <a:pt x="507" y="117"/>
                    </a:lnTo>
                    <a:lnTo>
                      <a:pt x="532" y="122"/>
                    </a:lnTo>
                    <a:lnTo>
                      <a:pt x="556" y="127"/>
                    </a:lnTo>
                    <a:lnTo>
                      <a:pt x="581" y="132"/>
                    </a:lnTo>
                    <a:lnTo>
                      <a:pt x="606" y="138"/>
                    </a:lnTo>
                    <a:lnTo>
                      <a:pt x="632" y="144"/>
                    </a:lnTo>
                    <a:lnTo>
                      <a:pt x="658" y="149"/>
                    </a:lnTo>
                    <a:lnTo>
                      <a:pt x="684" y="155"/>
                    </a:lnTo>
                    <a:lnTo>
                      <a:pt x="711" y="160"/>
                    </a:lnTo>
                    <a:lnTo>
                      <a:pt x="739" y="166"/>
                    </a:lnTo>
                    <a:lnTo>
                      <a:pt x="766" y="172"/>
                    </a:lnTo>
                    <a:lnTo>
                      <a:pt x="794" y="177"/>
                    </a:lnTo>
                    <a:lnTo>
                      <a:pt x="821" y="183"/>
                    </a:lnTo>
                    <a:lnTo>
                      <a:pt x="850" y="188"/>
                    </a:lnTo>
                    <a:lnTo>
                      <a:pt x="878" y="194"/>
                    </a:lnTo>
                    <a:lnTo>
                      <a:pt x="906" y="199"/>
                    </a:lnTo>
                    <a:lnTo>
                      <a:pt x="935" y="205"/>
                    </a:lnTo>
                    <a:lnTo>
                      <a:pt x="963" y="210"/>
                    </a:lnTo>
                    <a:lnTo>
                      <a:pt x="993" y="216"/>
                    </a:lnTo>
                    <a:lnTo>
                      <a:pt x="1022" y="221"/>
                    </a:lnTo>
                    <a:lnTo>
                      <a:pt x="1050" y="227"/>
                    </a:lnTo>
                    <a:lnTo>
                      <a:pt x="1080" y="232"/>
                    </a:lnTo>
                    <a:lnTo>
                      <a:pt x="1109" y="238"/>
                    </a:lnTo>
                    <a:lnTo>
                      <a:pt x="1139" y="243"/>
                    </a:lnTo>
                    <a:lnTo>
                      <a:pt x="1169" y="248"/>
                    </a:lnTo>
                    <a:lnTo>
                      <a:pt x="1199" y="253"/>
                    </a:lnTo>
                    <a:lnTo>
                      <a:pt x="1229" y="258"/>
                    </a:lnTo>
                    <a:lnTo>
                      <a:pt x="1258" y="264"/>
                    </a:lnTo>
                    <a:lnTo>
                      <a:pt x="1289" y="268"/>
                    </a:lnTo>
                    <a:lnTo>
                      <a:pt x="1320" y="273"/>
                    </a:lnTo>
                    <a:lnTo>
                      <a:pt x="1350" y="277"/>
                    </a:lnTo>
                    <a:lnTo>
                      <a:pt x="1381" y="282"/>
                    </a:lnTo>
                    <a:lnTo>
                      <a:pt x="1406" y="285"/>
                    </a:lnTo>
                    <a:lnTo>
                      <a:pt x="1433" y="288"/>
                    </a:lnTo>
                    <a:lnTo>
                      <a:pt x="1460" y="292"/>
                    </a:lnTo>
                    <a:lnTo>
                      <a:pt x="1486" y="295"/>
                    </a:lnTo>
                    <a:lnTo>
                      <a:pt x="1510" y="296"/>
                    </a:lnTo>
                    <a:lnTo>
                      <a:pt x="1533" y="298"/>
                    </a:lnTo>
                    <a:lnTo>
                      <a:pt x="1557" y="299"/>
                    </a:lnTo>
                    <a:lnTo>
                      <a:pt x="1580" y="301"/>
                    </a:lnTo>
                    <a:lnTo>
                      <a:pt x="1600" y="302"/>
                    </a:lnTo>
                    <a:lnTo>
                      <a:pt x="1621" y="303"/>
                    </a:lnTo>
                    <a:lnTo>
                      <a:pt x="1641" y="303"/>
                    </a:lnTo>
                    <a:lnTo>
                      <a:pt x="1662" y="304"/>
                    </a:lnTo>
                    <a:lnTo>
                      <a:pt x="1679" y="304"/>
                    </a:lnTo>
                    <a:lnTo>
                      <a:pt x="1697" y="304"/>
                    </a:lnTo>
                    <a:lnTo>
                      <a:pt x="1715" y="305"/>
                    </a:lnTo>
                    <a:lnTo>
                      <a:pt x="1733" y="304"/>
                    </a:lnTo>
                    <a:lnTo>
                      <a:pt x="1748" y="304"/>
                    </a:lnTo>
                    <a:lnTo>
                      <a:pt x="1764" y="303"/>
                    </a:lnTo>
                    <a:lnTo>
                      <a:pt x="1779" y="302"/>
                    </a:lnTo>
                    <a:lnTo>
                      <a:pt x="1795" y="301"/>
                    </a:lnTo>
                    <a:lnTo>
                      <a:pt x="1809" y="300"/>
                    </a:lnTo>
                    <a:lnTo>
                      <a:pt x="1823" y="299"/>
                    </a:lnTo>
                    <a:lnTo>
                      <a:pt x="1836" y="298"/>
                    </a:lnTo>
                    <a:lnTo>
                      <a:pt x="1851" y="297"/>
                    </a:lnTo>
                    <a:lnTo>
                      <a:pt x="1863" y="295"/>
                    </a:lnTo>
                    <a:lnTo>
                      <a:pt x="1875" y="293"/>
                    </a:lnTo>
                    <a:lnTo>
                      <a:pt x="1888" y="291"/>
                    </a:lnTo>
                    <a:lnTo>
                      <a:pt x="1901" y="289"/>
                    </a:lnTo>
                    <a:lnTo>
                      <a:pt x="1912" y="287"/>
                    </a:lnTo>
                    <a:lnTo>
                      <a:pt x="1923" y="286"/>
                    </a:lnTo>
                    <a:lnTo>
                      <a:pt x="1934" y="284"/>
                    </a:lnTo>
                    <a:lnTo>
                      <a:pt x="1945" y="283"/>
                    </a:lnTo>
                    <a:lnTo>
                      <a:pt x="1955" y="281"/>
                    </a:lnTo>
                    <a:lnTo>
                      <a:pt x="1965" y="280"/>
                    </a:lnTo>
                    <a:lnTo>
                      <a:pt x="1975" y="278"/>
                    </a:lnTo>
                    <a:lnTo>
                      <a:pt x="1984" y="277"/>
                    </a:lnTo>
                    <a:lnTo>
                      <a:pt x="1995" y="275"/>
                    </a:lnTo>
                    <a:lnTo>
                      <a:pt x="2004" y="273"/>
                    </a:lnTo>
                    <a:lnTo>
                      <a:pt x="2013" y="271"/>
                    </a:lnTo>
                    <a:lnTo>
                      <a:pt x="2022" y="269"/>
                    </a:lnTo>
                    <a:lnTo>
                      <a:pt x="2031" y="268"/>
                    </a:lnTo>
                    <a:lnTo>
                      <a:pt x="2039" y="267"/>
                    </a:lnTo>
                    <a:lnTo>
                      <a:pt x="2049" y="265"/>
                    </a:lnTo>
                    <a:lnTo>
                      <a:pt x="2058" y="264"/>
                    </a:lnTo>
                    <a:lnTo>
                      <a:pt x="2067" y="264"/>
                    </a:lnTo>
                    <a:lnTo>
                      <a:pt x="2077" y="264"/>
                    </a:lnTo>
                    <a:lnTo>
                      <a:pt x="2086" y="263"/>
                    </a:lnTo>
                    <a:lnTo>
                      <a:pt x="2096" y="263"/>
                    </a:lnTo>
                    <a:lnTo>
                      <a:pt x="2106" y="264"/>
                    </a:lnTo>
                    <a:lnTo>
                      <a:pt x="2116" y="264"/>
                    </a:lnTo>
                    <a:lnTo>
                      <a:pt x="2126" y="264"/>
                    </a:lnTo>
                    <a:lnTo>
                      <a:pt x="2135" y="264"/>
                    </a:lnTo>
                    <a:lnTo>
                      <a:pt x="2146" y="265"/>
                    </a:lnTo>
                    <a:lnTo>
                      <a:pt x="2157" y="266"/>
                    </a:lnTo>
                    <a:lnTo>
                      <a:pt x="2167" y="267"/>
                    </a:lnTo>
                    <a:lnTo>
                      <a:pt x="2177" y="268"/>
                    </a:lnTo>
                    <a:lnTo>
                      <a:pt x="2189" y="270"/>
                    </a:lnTo>
                    <a:lnTo>
                      <a:pt x="2201" y="272"/>
                    </a:lnTo>
                    <a:lnTo>
                      <a:pt x="2212" y="274"/>
                    </a:lnTo>
                    <a:lnTo>
                      <a:pt x="2223" y="277"/>
                    </a:lnTo>
                    <a:lnTo>
                      <a:pt x="2245" y="283"/>
                    </a:lnTo>
                    <a:lnTo>
                      <a:pt x="2266" y="290"/>
                    </a:lnTo>
                    <a:lnTo>
                      <a:pt x="2288" y="296"/>
                    </a:lnTo>
                    <a:lnTo>
                      <a:pt x="2309" y="302"/>
                    </a:lnTo>
                    <a:lnTo>
                      <a:pt x="2324" y="309"/>
                    </a:lnTo>
                    <a:lnTo>
                      <a:pt x="2340" y="317"/>
                    </a:lnTo>
                    <a:lnTo>
                      <a:pt x="2355" y="324"/>
                    </a:lnTo>
                    <a:lnTo>
                      <a:pt x="2370" y="330"/>
                    </a:lnTo>
                    <a:lnTo>
                      <a:pt x="2381" y="338"/>
                    </a:lnTo>
                    <a:lnTo>
                      <a:pt x="2393" y="346"/>
                    </a:lnTo>
                    <a:lnTo>
                      <a:pt x="2404" y="354"/>
                    </a:lnTo>
                    <a:lnTo>
                      <a:pt x="2414" y="363"/>
                    </a:lnTo>
                    <a:lnTo>
                      <a:pt x="2422" y="371"/>
                    </a:lnTo>
                    <a:lnTo>
                      <a:pt x="2429" y="379"/>
                    </a:lnTo>
                    <a:lnTo>
                      <a:pt x="2437" y="387"/>
                    </a:lnTo>
                    <a:lnTo>
                      <a:pt x="2445" y="395"/>
                    </a:lnTo>
                    <a:lnTo>
                      <a:pt x="2449" y="404"/>
                    </a:lnTo>
                    <a:lnTo>
                      <a:pt x="2454" y="414"/>
                    </a:lnTo>
                    <a:lnTo>
                      <a:pt x="2459" y="422"/>
                    </a:lnTo>
                    <a:lnTo>
                      <a:pt x="2464" y="431"/>
                    </a:lnTo>
                    <a:lnTo>
                      <a:pt x="2467" y="439"/>
                    </a:lnTo>
                    <a:lnTo>
                      <a:pt x="2470" y="448"/>
                    </a:lnTo>
                    <a:lnTo>
                      <a:pt x="2473" y="456"/>
                    </a:lnTo>
                    <a:lnTo>
                      <a:pt x="2476" y="466"/>
                    </a:lnTo>
                    <a:lnTo>
                      <a:pt x="2478" y="474"/>
                    </a:lnTo>
                    <a:lnTo>
                      <a:pt x="2480" y="482"/>
                    </a:lnTo>
                    <a:lnTo>
                      <a:pt x="2484" y="490"/>
                    </a:lnTo>
                    <a:lnTo>
                      <a:pt x="2486" y="497"/>
                    </a:lnTo>
                    <a:lnTo>
                      <a:pt x="2489" y="507"/>
                    </a:lnTo>
                    <a:lnTo>
                      <a:pt x="2492" y="515"/>
                    </a:lnTo>
                    <a:lnTo>
                      <a:pt x="2495" y="523"/>
                    </a:lnTo>
                    <a:lnTo>
                      <a:pt x="2498" y="531"/>
                    </a:lnTo>
                    <a:lnTo>
                      <a:pt x="2502" y="539"/>
                    </a:lnTo>
                    <a:lnTo>
                      <a:pt x="2505" y="546"/>
                    </a:lnTo>
                    <a:lnTo>
                      <a:pt x="2508" y="554"/>
                    </a:lnTo>
                    <a:lnTo>
                      <a:pt x="2512" y="562"/>
                    </a:lnTo>
                    <a:lnTo>
                      <a:pt x="2519" y="576"/>
                    </a:lnTo>
                    <a:lnTo>
                      <a:pt x="2527" y="590"/>
                    </a:lnTo>
                    <a:lnTo>
                      <a:pt x="2537" y="603"/>
                    </a:lnTo>
                    <a:lnTo>
                      <a:pt x="2546" y="616"/>
                    </a:lnTo>
                    <a:lnTo>
                      <a:pt x="2555" y="628"/>
                    </a:lnTo>
                    <a:lnTo>
                      <a:pt x="2565" y="639"/>
                    </a:lnTo>
                    <a:lnTo>
                      <a:pt x="2576" y="649"/>
                    </a:lnTo>
                    <a:lnTo>
                      <a:pt x="2588" y="659"/>
                    </a:lnTo>
                    <a:lnTo>
                      <a:pt x="2599" y="667"/>
                    </a:lnTo>
                    <a:lnTo>
                      <a:pt x="2611" y="674"/>
                    </a:lnTo>
                    <a:lnTo>
                      <a:pt x="2625" y="682"/>
                    </a:lnTo>
                    <a:lnTo>
                      <a:pt x="2640" y="689"/>
                    </a:lnTo>
                    <a:lnTo>
                      <a:pt x="2647" y="691"/>
                    </a:lnTo>
                    <a:lnTo>
                      <a:pt x="2655" y="694"/>
                    </a:lnTo>
                    <a:lnTo>
                      <a:pt x="2663" y="696"/>
                    </a:lnTo>
                    <a:lnTo>
                      <a:pt x="2671" y="698"/>
                    </a:lnTo>
                    <a:lnTo>
                      <a:pt x="2686" y="702"/>
                    </a:lnTo>
                    <a:lnTo>
                      <a:pt x="2701" y="704"/>
                    </a:lnTo>
                    <a:lnTo>
                      <a:pt x="2713" y="706"/>
                    </a:lnTo>
                    <a:lnTo>
                      <a:pt x="2727" y="708"/>
                    </a:lnTo>
                    <a:lnTo>
                      <a:pt x="2738" y="709"/>
                    </a:lnTo>
                    <a:lnTo>
                      <a:pt x="2749" y="709"/>
                    </a:lnTo>
                    <a:lnTo>
                      <a:pt x="2758" y="709"/>
                    </a:lnTo>
                    <a:lnTo>
                      <a:pt x="2766" y="708"/>
                    </a:lnTo>
                    <a:lnTo>
                      <a:pt x="2774" y="707"/>
                    </a:lnTo>
                    <a:lnTo>
                      <a:pt x="2781" y="707"/>
                    </a:lnTo>
                    <a:lnTo>
                      <a:pt x="2785" y="706"/>
                    </a:lnTo>
                    <a:lnTo>
                      <a:pt x="2789" y="705"/>
                    </a:lnTo>
                    <a:lnTo>
                      <a:pt x="2792" y="704"/>
                    </a:lnTo>
                    <a:lnTo>
                      <a:pt x="2795" y="704"/>
                    </a:lnTo>
                    <a:lnTo>
                      <a:pt x="2796" y="704"/>
                    </a:lnTo>
                    <a:lnTo>
                      <a:pt x="2796" y="703"/>
                    </a:lnTo>
                    <a:lnTo>
                      <a:pt x="2831" y="711"/>
                    </a:lnTo>
                    <a:lnTo>
                      <a:pt x="2864" y="719"/>
                    </a:lnTo>
                    <a:lnTo>
                      <a:pt x="2898" y="727"/>
                    </a:lnTo>
                    <a:lnTo>
                      <a:pt x="2933" y="735"/>
                    </a:lnTo>
                    <a:lnTo>
                      <a:pt x="2966" y="743"/>
                    </a:lnTo>
                    <a:lnTo>
                      <a:pt x="3001" y="752"/>
                    </a:lnTo>
                    <a:lnTo>
                      <a:pt x="3035" y="760"/>
                    </a:lnTo>
                    <a:lnTo>
                      <a:pt x="3070" y="768"/>
                    </a:lnTo>
                    <a:lnTo>
                      <a:pt x="3071" y="769"/>
                    </a:lnTo>
                    <a:lnTo>
                      <a:pt x="3071" y="770"/>
                    </a:lnTo>
                    <a:lnTo>
                      <a:pt x="3074" y="772"/>
                    </a:lnTo>
                    <a:lnTo>
                      <a:pt x="3078" y="774"/>
                    </a:lnTo>
                    <a:lnTo>
                      <a:pt x="3081" y="777"/>
                    </a:lnTo>
                    <a:lnTo>
                      <a:pt x="3085" y="779"/>
                    </a:lnTo>
                    <a:lnTo>
                      <a:pt x="3092" y="783"/>
                    </a:lnTo>
                    <a:lnTo>
                      <a:pt x="3099" y="787"/>
                    </a:lnTo>
                    <a:lnTo>
                      <a:pt x="3108" y="792"/>
                    </a:lnTo>
                    <a:lnTo>
                      <a:pt x="3118" y="797"/>
                    </a:lnTo>
                    <a:lnTo>
                      <a:pt x="3128" y="802"/>
                    </a:lnTo>
                    <a:lnTo>
                      <a:pt x="3139" y="806"/>
                    </a:lnTo>
                    <a:lnTo>
                      <a:pt x="3151" y="810"/>
                    </a:lnTo>
                    <a:lnTo>
                      <a:pt x="3165" y="815"/>
                    </a:lnTo>
                    <a:lnTo>
                      <a:pt x="3180" y="819"/>
                    </a:lnTo>
                    <a:lnTo>
                      <a:pt x="3194" y="824"/>
                    </a:lnTo>
                    <a:lnTo>
                      <a:pt x="3209" y="826"/>
                    </a:lnTo>
                    <a:lnTo>
                      <a:pt x="3225" y="828"/>
                    </a:lnTo>
                    <a:lnTo>
                      <a:pt x="3238" y="828"/>
                    </a:lnTo>
                    <a:lnTo>
                      <a:pt x="3252" y="827"/>
                    </a:lnTo>
                    <a:lnTo>
                      <a:pt x="3265" y="825"/>
                    </a:lnTo>
                    <a:lnTo>
                      <a:pt x="3277" y="823"/>
                    </a:lnTo>
                    <a:lnTo>
                      <a:pt x="3287" y="819"/>
                    </a:lnTo>
                    <a:lnTo>
                      <a:pt x="3298" y="814"/>
                    </a:lnTo>
                    <a:lnTo>
                      <a:pt x="3307" y="808"/>
                    </a:lnTo>
                    <a:lnTo>
                      <a:pt x="3318" y="801"/>
                    </a:lnTo>
                    <a:lnTo>
                      <a:pt x="3327" y="791"/>
                    </a:lnTo>
                    <a:lnTo>
                      <a:pt x="3336" y="783"/>
                    </a:lnTo>
                    <a:lnTo>
                      <a:pt x="3343" y="772"/>
                    </a:lnTo>
                    <a:lnTo>
                      <a:pt x="3351" y="762"/>
                    </a:lnTo>
                    <a:lnTo>
                      <a:pt x="3359" y="749"/>
                    </a:lnTo>
                    <a:lnTo>
                      <a:pt x="3365" y="737"/>
                    </a:lnTo>
                    <a:lnTo>
                      <a:pt x="3371" y="724"/>
                    </a:lnTo>
                    <a:lnTo>
                      <a:pt x="3377" y="710"/>
                    </a:lnTo>
                    <a:lnTo>
                      <a:pt x="3382" y="696"/>
                    </a:lnTo>
                    <a:lnTo>
                      <a:pt x="3387" y="682"/>
                    </a:lnTo>
                    <a:lnTo>
                      <a:pt x="3393" y="668"/>
                    </a:lnTo>
                    <a:lnTo>
                      <a:pt x="3399" y="654"/>
                    </a:lnTo>
                    <a:lnTo>
                      <a:pt x="3409" y="640"/>
                    </a:lnTo>
                    <a:lnTo>
                      <a:pt x="3419" y="627"/>
                    </a:lnTo>
                    <a:lnTo>
                      <a:pt x="3433" y="618"/>
                    </a:lnTo>
                    <a:lnTo>
                      <a:pt x="3447" y="608"/>
                    </a:lnTo>
                    <a:lnTo>
                      <a:pt x="3458" y="606"/>
                    </a:lnTo>
                    <a:lnTo>
                      <a:pt x="3469" y="602"/>
                    </a:lnTo>
                    <a:lnTo>
                      <a:pt x="3480" y="599"/>
                    </a:lnTo>
                    <a:lnTo>
                      <a:pt x="3491" y="596"/>
                    </a:lnTo>
                    <a:lnTo>
                      <a:pt x="3507" y="597"/>
                    </a:lnTo>
                    <a:lnTo>
                      <a:pt x="3523" y="598"/>
                    </a:lnTo>
                    <a:lnTo>
                      <a:pt x="3538" y="598"/>
                    </a:lnTo>
                    <a:lnTo>
                      <a:pt x="3555" y="599"/>
                    </a:lnTo>
                    <a:lnTo>
                      <a:pt x="3576" y="602"/>
                    </a:lnTo>
                    <a:lnTo>
                      <a:pt x="3597" y="607"/>
                    </a:lnTo>
                    <a:lnTo>
                      <a:pt x="3619" y="610"/>
                    </a:lnTo>
                    <a:lnTo>
                      <a:pt x="3640" y="614"/>
                    </a:lnTo>
                    <a:lnTo>
                      <a:pt x="3652" y="617"/>
                    </a:lnTo>
                    <a:lnTo>
                      <a:pt x="3663" y="620"/>
                    </a:lnTo>
                    <a:lnTo>
                      <a:pt x="3674" y="623"/>
                    </a:lnTo>
                    <a:lnTo>
                      <a:pt x="3686" y="627"/>
                    </a:lnTo>
                    <a:lnTo>
                      <a:pt x="3696" y="631"/>
                    </a:lnTo>
                    <a:lnTo>
                      <a:pt x="3707" y="634"/>
                    </a:lnTo>
                    <a:lnTo>
                      <a:pt x="3717" y="638"/>
                    </a:lnTo>
                    <a:lnTo>
                      <a:pt x="3727" y="642"/>
                    </a:lnTo>
                    <a:lnTo>
                      <a:pt x="3736" y="646"/>
                    </a:lnTo>
                    <a:lnTo>
                      <a:pt x="3746" y="651"/>
                    </a:lnTo>
                    <a:lnTo>
                      <a:pt x="3757" y="656"/>
                    </a:lnTo>
                    <a:lnTo>
                      <a:pt x="3767" y="660"/>
                    </a:lnTo>
                    <a:lnTo>
                      <a:pt x="3776" y="665"/>
                    </a:lnTo>
                    <a:lnTo>
                      <a:pt x="3785" y="670"/>
                    </a:lnTo>
                    <a:lnTo>
                      <a:pt x="3795" y="674"/>
                    </a:lnTo>
                    <a:lnTo>
                      <a:pt x="3805" y="679"/>
                    </a:lnTo>
                    <a:lnTo>
                      <a:pt x="3814" y="684"/>
                    </a:lnTo>
                    <a:lnTo>
                      <a:pt x="3822" y="690"/>
                    </a:lnTo>
                    <a:lnTo>
                      <a:pt x="3831" y="695"/>
                    </a:lnTo>
                    <a:lnTo>
                      <a:pt x="3840" y="702"/>
                    </a:lnTo>
                    <a:lnTo>
                      <a:pt x="3850" y="708"/>
                    </a:lnTo>
                    <a:lnTo>
                      <a:pt x="3859" y="714"/>
                    </a:lnTo>
                    <a:lnTo>
                      <a:pt x="3868" y="720"/>
                    </a:lnTo>
                    <a:lnTo>
                      <a:pt x="3878" y="727"/>
                    </a:lnTo>
                    <a:lnTo>
                      <a:pt x="3887" y="733"/>
                    </a:lnTo>
                    <a:lnTo>
                      <a:pt x="3898" y="739"/>
                    </a:lnTo>
                    <a:lnTo>
                      <a:pt x="3908" y="745"/>
                    </a:lnTo>
                    <a:lnTo>
                      <a:pt x="3918" y="752"/>
                    </a:lnTo>
                    <a:lnTo>
                      <a:pt x="3929" y="759"/>
                    </a:lnTo>
                    <a:lnTo>
                      <a:pt x="3940" y="766"/>
                    </a:lnTo>
                    <a:lnTo>
                      <a:pt x="3953" y="772"/>
                    </a:lnTo>
                    <a:lnTo>
                      <a:pt x="3964" y="779"/>
                    </a:lnTo>
                    <a:lnTo>
                      <a:pt x="3976" y="787"/>
                    </a:lnTo>
                    <a:lnTo>
                      <a:pt x="3987" y="794"/>
                    </a:lnTo>
                    <a:lnTo>
                      <a:pt x="4000" y="803"/>
                    </a:lnTo>
                    <a:lnTo>
                      <a:pt x="4012" y="811"/>
                    </a:lnTo>
                    <a:lnTo>
                      <a:pt x="4025" y="818"/>
                    </a:lnTo>
                    <a:lnTo>
                      <a:pt x="4039" y="826"/>
                    </a:lnTo>
                    <a:lnTo>
                      <a:pt x="4053" y="833"/>
                    </a:lnTo>
                    <a:lnTo>
                      <a:pt x="4067" y="841"/>
                    </a:lnTo>
                    <a:lnTo>
                      <a:pt x="4082" y="850"/>
                    </a:lnTo>
                    <a:lnTo>
                      <a:pt x="4098" y="858"/>
                    </a:lnTo>
                    <a:lnTo>
                      <a:pt x="4113" y="866"/>
                    </a:lnTo>
                    <a:lnTo>
                      <a:pt x="4128" y="874"/>
                    </a:lnTo>
                    <a:lnTo>
                      <a:pt x="4147" y="882"/>
                    </a:lnTo>
                    <a:lnTo>
                      <a:pt x="4164" y="890"/>
                    </a:lnTo>
                    <a:lnTo>
                      <a:pt x="4182" y="900"/>
                    </a:lnTo>
                    <a:lnTo>
                      <a:pt x="4200" y="908"/>
                    </a:lnTo>
                    <a:lnTo>
                      <a:pt x="4220" y="916"/>
                    </a:lnTo>
                    <a:lnTo>
                      <a:pt x="4241" y="925"/>
                    </a:lnTo>
                    <a:lnTo>
                      <a:pt x="4261" y="934"/>
                    </a:lnTo>
                    <a:lnTo>
                      <a:pt x="4281" y="942"/>
                    </a:lnTo>
                    <a:lnTo>
                      <a:pt x="4305" y="953"/>
                    </a:lnTo>
                    <a:lnTo>
                      <a:pt x="4328" y="962"/>
                    </a:lnTo>
                    <a:lnTo>
                      <a:pt x="4352" y="971"/>
                    </a:lnTo>
                    <a:lnTo>
                      <a:pt x="4375" y="980"/>
                    </a:lnTo>
                    <a:lnTo>
                      <a:pt x="4401" y="990"/>
                    </a:lnTo>
                    <a:lnTo>
                      <a:pt x="4427" y="1000"/>
                    </a:lnTo>
                    <a:lnTo>
                      <a:pt x="4454" y="1009"/>
                    </a:lnTo>
                    <a:lnTo>
                      <a:pt x="4480" y="1018"/>
                    </a:lnTo>
                    <a:lnTo>
                      <a:pt x="4510" y="1027"/>
                    </a:lnTo>
                    <a:lnTo>
                      <a:pt x="4541" y="1037"/>
                    </a:lnTo>
                    <a:lnTo>
                      <a:pt x="4571" y="1048"/>
                    </a:lnTo>
                    <a:lnTo>
                      <a:pt x="4602" y="1057"/>
                    </a:lnTo>
                    <a:lnTo>
                      <a:pt x="4632" y="1066"/>
                    </a:lnTo>
                    <a:lnTo>
                      <a:pt x="4661" y="1075"/>
                    </a:lnTo>
                    <a:lnTo>
                      <a:pt x="4691" y="1084"/>
                    </a:lnTo>
                    <a:lnTo>
                      <a:pt x="4720" y="1094"/>
                    </a:lnTo>
                    <a:lnTo>
                      <a:pt x="4750" y="1102"/>
                    </a:lnTo>
                    <a:lnTo>
                      <a:pt x="4779" y="1110"/>
                    </a:lnTo>
                    <a:lnTo>
                      <a:pt x="4808" y="1119"/>
                    </a:lnTo>
                    <a:lnTo>
                      <a:pt x="4838" y="1127"/>
                    </a:lnTo>
                    <a:lnTo>
                      <a:pt x="4866" y="1135"/>
                    </a:lnTo>
                    <a:lnTo>
                      <a:pt x="4895" y="1144"/>
                    </a:lnTo>
                    <a:lnTo>
                      <a:pt x="4924" y="1152"/>
                    </a:lnTo>
                    <a:lnTo>
                      <a:pt x="4952" y="1160"/>
                    </a:lnTo>
                    <a:lnTo>
                      <a:pt x="4980" y="1168"/>
                    </a:lnTo>
                    <a:lnTo>
                      <a:pt x="5008" y="1175"/>
                    </a:lnTo>
                    <a:lnTo>
                      <a:pt x="5036" y="1183"/>
                    </a:lnTo>
                    <a:lnTo>
                      <a:pt x="5065" y="1191"/>
                    </a:lnTo>
                    <a:lnTo>
                      <a:pt x="5091" y="1198"/>
                    </a:lnTo>
                    <a:lnTo>
                      <a:pt x="5119" y="1206"/>
                    </a:lnTo>
                    <a:lnTo>
                      <a:pt x="5146" y="1213"/>
                    </a:lnTo>
                    <a:lnTo>
                      <a:pt x="5173" y="1221"/>
                    </a:lnTo>
                    <a:lnTo>
                      <a:pt x="5198" y="1227"/>
                    </a:lnTo>
                    <a:lnTo>
                      <a:pt x="5225" y="1233"/>
                    </a:lnTo>
                    <a:lnTo>
                      <a:pt x="5250" y="1241"/>
                    </a:lnTo>
                    <a:lnTo>
                      <a:pt x="5276" y="1247"/>
                    </a:lnTo>
                    <a:lnTo>
                      <a:pt x="5300" y="1253"/>
                    </a:lnTo>
                    <a:lnTo>
                      <a:pt x="5325" y="1259"/>
                    </a:lnTo>
                    <a:lnTo>
                      <a:pt x="5348" y="1266"/>
                    </a:lnTo>
                    <a:lnTo>
                      <a:pt x="5374" y="1272"/>
                    </a:lnTo>
                    <a:lnTo>
                      <a:pt x="5396" y="1278"/>
                    </a:lnTo>
                    <a:lnTo>
                      <a:pt x="5419" y="1283"/>
                    </a:lnTo>
                    <a:lnTo>
                      <a:pt x="5442" y="1290"/>
                    </a:lnTo>
                    <a:lnTo>
                      <a:pt x="5465" y="1296"/>
                    </a:lnTo>
                    <a:lnTo>
                      <a:pt x="5485" y="1301"/>
                    </a:lnTo>
                    <a:lnTo>
                      <a:pt x="5507" y="1307"/>
                    </a:lnTo>
                    <a:lnTo>
                      <a:pt x="5527" y="1312"/>
                    </a:lnTo>
                    <a:lnTo>
                      <a:pt x="5548" y="1317"/>
                    </a:lnTo>
                    <a:lnTo>
                      <a:pt x="5567" y="1321"/>
                    </a:lnTo>
                    <a:lnTo>
                      <a:pt x="5586" y="1326"/>
                    </a:lnTo>
                    <a:lnTo>
                      <a:pt x="5605" y="1330"/>
                    </a:lnTo>
                    <a:lnTo>
                      <a:pt x="5623" y="1334"/>
                    </a:lnTo>
                    <a:lnTo>
                      <a:pt x="5640" y="1339"/>
                    </a:lnTo>
                    <a:lnTo>
                      <a:pt x="5658" y="1343"/>
                    </a:lnTo>
                    <a:lnTo>
                      <a:pt x="5674" y="1347"/>
                    </a:lnTo>
                    <a:lnTo>
                      <a:pt x="5691" y="1351"/>
                    </a:lnTo>
                    <a:lnTo>
                      <a:pt x="5705" y="1354"/>
                    </a:lnTo>
                    <a:lnTo>
                      <a:pt x="5719" y="1358"/>
                    </a:lnTo>
                    <a:lnTo>
                      <a:pt x="5733" y="1361"/>
                    </a:lnTo>
                    <a:lnTo>
                      <a:pt x="5747" y="1364"/>
                    </a:lnTo>
                    <a:lnTo>
                      <a:pt x="5759" y="1367"/>
                    </a:lnTo>
                    <a:lnTo>
                      <a:pt x="5770" y="1369"/>
                    </a:lnTo>
                    <a:lnTo>
                      <a:pt x="5781" y="1372"/>
                    </a:lnTo>
                    <a:lnTo>
                      <a:pt x="5792" y="1375"/>
                    </a:lnTo>
                    <a:lnTo>
                      <a:pt x="5801" y="1377"/>
                    </a:lnTo>
                    <a:lnTo>
                      <a:pt x="5810" y="1379"/>
                    </a:lnTo>
                    <a:lnTo>
                      <a:pt x="5818" y="1381"/>
                    </a:lnTo>
                    <a:lnTo>
                      <a:pt x="5826" y="1383"/>
                    </a:lnTo>
                    <a:lnTo>
                      <a:pt x="5836" y="1386"/>
                    </a:lnTo>
                    <a:lnTo>
                      <a:pt x="5847" y="1388"/>
                    </a:lnTo>
                    <a:lnTo>
                      <a:pt x="5851" y="1389"/>
                    </a:lnTo>
                    <a:lnTo>
                      <a:pt x="5855" y="1390"/>
                    </a:lnTo>
                    <a:lnTo>
                      <a:pt x="5855" y="1392"/>
                    </a:lnTo>
                    <a:lnTo>
                      <a:pt x="5855" y="1394"/>
                    </a:lnTo>
                    <a:lnTo>
                      <a:pt x="5853" y="1399"/>
                    </a:lnTo>
                    <a:lnTo>
                      <a:pt x="5851" y="1403"/>
                    </a:lnTo>
                    <a:lnTo>
                      <a:pt x="5849" y="1411"/>
                    </a:lnTo>
                    <a:lnTo>
                      <a:pt x="5847" y="1418"/>
                    </a:lnTo>
                    <a:lnTo>
                      <a:pt x="5842" y="1427"/>
                    </a:lnTo>
                    <a:lnTo>
                      <a:pt x="5838" y="1437"/>
                    </a:lnTo>
                    <a:lnTo>
                      <a:pt x="5833" y="1449"/>
                    </a:lnTo>
                    <a:lnTo>
                      <a:pt x="5828" y="1460"/>
                    </a:lnTo>
                    <a:lnTo>
                      <a:pt x="5822" y="1472"/>
                    </a:lnTo>
                    <a:lnTo>
                      <a:pt x="5817" y="1484"/>
                    </a:lnTo>
                    <a:lnTo>
                      <a:pt x="5809" y="1497"/>
                    </a:lnTo>
                    <a:lnTo>
                      <a:pt x="5801" y="1509"/>
                    </a:lnTo>
                    <a:lnTo>
                      <a:pt x="5791" y="1522"/>
                    </a:lnTo>
                    <a:lnTo>
                      <a:pt x="5782" y="1536"/>
                    </a:lnTo>
                    <a:lnTo>
                      <a:pt x="5770" y="1548"/>
                    </a:lnTo>
                    <a:lnTo>
                      <a:pt x="5759" y="1560"/>
                    </a:lnTo>
                    <a:lnTo>
                      <a:pt x="5745" y="1572"/>
                    </a:lnTo>
                    <a:lnTo>
                      <a:pt x="5733" y="1584"/>
                    </a:lnTo>
                    <a:lnTo>
                      <a:pt x="5725" y="1590"/>
                    </a:lnTo>
                    <a:lnTo>
                      <a:pt x="5717" y="1595"/>
                    </a:lnTo>
                    <a:lnTo>
                      <a:pt x="5709" y="1599"/>
                    </a:lnTo>
                    <a:lnTo>
                      <a:pt x="5702" y="1604"/>
                    </a:lnTo>
                    <a:lnTo>
                      <a:pt x="5692" y="1608"/>
                    </a:lnTo>
                    <a:lnTo>
                      <a:pt x="5684" y="1612"/>
                    </a:lnTo>
                    <a:lnTo>
                      <a:pt x="5676" y="1616"/>
                    </a:lnTo>
                    <a:lnTo>
                      <a:pt x="5667" y="1620"/>
                    </a:lnTo>
                    <a:lnTo>
                      <a:pt x="5657" y="1623"/>
                    </a:lnTo>
                    <a:lnTo>
                      <a:pt x="5646" y="1626"/>
                    </a:lnTo>
                    <a:lnTo>
                      <a:pt x="5636" y="1630"/>
                    </a:lnTo>
                    <a:lnTo>
                      <a:pt x="5626" y="1633"/>
                    </a:lnTo>
                    <a:lnTo>
                      <a:pt x="5615" y="1635"/>
                    </a:lnTo>
                    <a:lnTo>
                      <a:pt x="5604" y="1636"/>
                    </a:lnTo>
                    <a:lnTo>
                      <a:pt x="5592" y="1637"/>
                    </a:lnTo>
                    <a:lnTo>
                      <a:pt x="5582" y="1639"/>
                    </a:lnTo>
                    <a:lnTo>
                      <a:pt x="5570" y="1638"/>
                    </a:lnTo>
                    <a:lnTo>
                      <a:pt x="5558" y="1638"/>
                    </a:lnTo>
                    <a:lnTo>
                      <a:pt x="5545" y="1637"/>
                    </a:lnTo>
                    <a:lnTo>
                      <a:pt x="5533" y="1637"/>
                    </a:lnTo>
                    <a:lnTo>
                      <a:pt x="5519" y="1635"/>
                    </a:lnTo>
                    <a:lnTo>
                      <a:pt x="5505" y="1632"/>
                    </a:lnTo>
                    <a:lnTo>
                      <a:pt x="5490" y="1630"/>
                    </a:lnTo>
                    <a:lnTo>
                      <a:pt x="5477" y="1627"/>
                    </a:lnTo>
                    <a:lnTo>
                      <a:pt x="5466" y="1625"/>
                    </a:lnTo>
                    <a:lnTo>
                      <a:pt x="5456" y="1622"/>
                    </a:lnTo>
                    <a:lnTo>
                      <a:pt x="5444" y="1620"/>
                    </a:lnTo>
                    <a:lnTo>
                      <a:pt x="5433" y="1617"/>
                    </a:lnTo>
                    <a:lnTo>
                      <a:pt x="5424" y="1614"/>
                    </a:lnTo>
                    <a:lnTo>
                      <a:pt x="5414" y="1611"/>
                    </a:lnTo>
                    <a:lnTo>
                      <a:pt x="5404" y="1609"/>
                    </a:lnTo>
                    <a:lnTo>
                      <a:pt x="5395" y="1606"/>
                    </a:lnTo>
                    <a:lnTo>
                      <a:pt x="5381" y="1601"/>
                    </a:lnTo>
                    <a:lnTo>
                      <a:pt x="5368" y="1596"/>
                    </a:lnTo>
                    <a:lnTo>
                      <a:pt x="5357" y="1591"/>
                    </a:lnTo>
                    <a:lnTo>
                      <a:pt x="5345" y="1586"/>
                    </a:lnTo>
                    <a:lnTo>
                      <a:pt x="5338" y="1584"/>
                    </a:lnTo>
                    <a:lnTo>
                      <a:pt x="5332" y="1582"/>
                    </a:lnTo>
                    <a:lnTo>
                      <a:pt x="5327" y="1578"/>
                    </a:lnTo>
                    <a:lnTo>
                      <a:pt x="5322" y="1574"/>
                    </a:lnTo>
                    <a:lnTo>
                      <a:pt x="5319" y="1573"/>
                    </a:lnTo>
                    <a:lnTo>
                      <a:pt x="5316" y="1571"/>
                    </a:lnTo>
                    <a:lnTo>
                      <a:pt x="5315" y="1571"/>
                    </a:lnTo>
                    <a:lnTo>
                      <a:pt x="5314" y="1571"/>
                    </a:lnTo>
                    <a:lnTo>
                      <a:pt x="5315" y="1577"/>
                    </a:lnTo>
                    <a:lnTo>
                      <a:pt x="5316" y="1584"/>
                    </a:lnTo>
                    <a:lnTo>
                      <a:pt x="5316" y="1598"/>
                    </a:lnTo>
                    <a:lnTo>
                      <a:pt x="5316" y="1611"/>
                    </a:lnTo>
                    <a:lnTo>
                      <a:pt x="5315" y="1622"/>
                    </a:lnTo>
                    <a:lnTo>
                      <a:pt x="5314" y="1633"/>
                    </a:lnTo>
                    <a:lnTo>
                      <a:pt x="5313" y="1644"/>
                    </a:lnTo>
                    <a:lnTo>
                      <a:pt x="5312" y="1655"/>
                    </a:lnTo>
                    <a:lnTo>
                      <a:pt x="5309" y="1666"/>
                    </a:lnTo>
                    <a:lnTo>
                      <a:pt x="5305" y="1678"/>
                    </a:lnTo>
                    <a:lnTo>
                      <a:pt x="5302" y="1689"/>
                    </a:lnTo>
                    <a:lnTo>
                      <a:pt x="5298" y="1699"/>
                    </a:lnTo>
                    <a:lnTo>
                      <a:pt x="5292" y="1711"/>
                    </a:lnTo>
                    <a:lnTo>
                      <a:pt x="5286" y="1723"/>
                    </a:lnTo>
                    <a:lnTo>
                      <a:pt x="5280" y="1735"/>
                    </a:lnTo>
                    <a:lnTo>
                      <a:pt x="5275" y="1746"/>
                    </a:lnTo>
                    <a:lnTo>
                      <a:pt x="5264" y="1756"/>
                    </a:lnTo>
                    <a:lnTo>
                      <a:pt x="5252" y="1765"/>
                    </a:lnTo>
                    <a:lnTo>
                      <a:pt x="5241" y="1773"/>
                    </a:lnTo>
                    <a:lnTo>
                      <a:pt x="5231" y="1783"/>
                    </a:lnTo>
                    <a:lnTo>
                      <a:pt x="5215" y="1789"/>
                    </a:lnTo>
                    <a:lnTo>
                      <a:pt x="5198" y="1794"/>
                    </a:lnTo>
                    <a:lnTo>
                      <a:pt x="5183" y="1799"/>
                    </a:lnTo>
                    <a:lnTo>
                      <a:pt x="5168" y="1804"/>
                    </a:lnTo>
                    <a:lnTo>
                      <a:pt x="5145" y="1805"/>
                    </a:lnTo>
                    <a:lnTo>
                      <a:pt x="5124" y="1805"/>
                    </a:lnTo>
                    <a:lnTo>
                      <a:pt x="5101" y="1805"/>
                    </a:lnTo>
                    <a:lnTo>
                      <a:pt x="5080" y="1805"/>
                    </a:lnTo>
                    <a:lnTo>
                      <a:pt x="5067" y="1803"/>
                    </a:lnTo>
                    <a:lnTo>
                      <a:pt x="5053" y="1801"/>
                    </a:lnTo>
                    <a:lnTo>
                      <a:pt x="5039" y="1799"/>
                    </a:lnTo>
                    <a:lnTo>
                      <a:pt x="5026" y="1797"/>
                    </a:lnTo>
                    <a:lnTo>
                      <a:pt x="5016" y="1794"/>
                    </a:lnTo>
                    <a:lnTo>
                      <a:pt x="5004" y="1791"/>
                    </a:lnTo>
                    <a:lnTo>
                      <a:pt x="4993" y="1788"/>
                    </a:lnTo>
                    <a:lnTo>
                      <a:pt x="4982" y="1785"/>
                    </a:lnTo>
                    <a:lnTo>
                      <a:pt x="4974" y="1782"/>
                    </a:lnTo>
                    <a:lnTo>
                      <a:pt x="4965" y="1778"/>
                    </a:lnTo>
                    <a:lnTo>
                      <a:pt x="4957" y="1775"/>
                    </a:lnTo>
                    <a:lnTo>
                      <a:pt x="4949" y="1770"/>
                    </a:lnTo>
                    <a:lnTo>
                      <a:pt x="4937" y="1763"/>
                    </a:lnTo>
                    <a:lnTo>
                      <a:pt x="4926" y="1755"/>
                    </a:lnTo>
                    <a:lnTo>
                      <a:pt x="4916" y="1749"/>
                    </a:lnTo>
                    <a:lnTo>
                      <a:pt x="4907" y="1743"/>
                    </a:lnTo>
                    <a:lnTo>
                      <a:pt x="4901" y="1737"/>
                    </a:lnTo>
                    <a:lnTo>
                      <a:pt x="4896" y="1730"/>
                    </a:lnTo>
                    <a:lnTo>
                      <a:pt x="4892" y="1727"/>
                    </a:lnTo>
                    <a:lnTo>
                      <a:pt x="4890" y="1722"/>
                    </a:lnTo>
                    <a:lnTo>
                      <a:pt x="4888" y="1721"/>
                    </a:lnTo>
                    <a:lnTo>
                      <a:pt x="4888" y="1720"/>
                    </a:lnTo>
                    <a:lnTo>
                      <a:pt x="4888" y="1722"/>
                    </a:lnTo>
                    <a:lnTo>
                      <a:pt x="4888" y="1723"/>
                    </a:lnTo>
                    <a:lnTo>
                      <a:pt x="4887" y="1729"/>
                    </a:lnTo>
                    <a:lnTo>
                      <a:pt x="4886" y="1732"/>
                    </a:lnTo>
                    <a:lnTo>
                      <a:pt x="4884" y="1739"/>
                    </a:lnTo>
                    <a:lnTo>
                      <a:pt x="4882" y="1745"/>
                    </a:lnTo>
                    <a:lnTo>
                      <a:pt x="4879" y="1754"/>
                    </a:lnTo>
                    <a:lnTo>
                      <a:pt x="4876" y="1763"/>
                    </a:lnTo>
                    <a:lnTo>
                      <a:pt x="4872" y="1773"/>
                    </a:lnTo>
                    <a:lnTo>
                      <a:pt x="4867" y="1784"/>
                    </a:lnTo>
                    <a:lnTo>
                      <a:pt x="4861" y="1794"/>
                    </a:lnTo>
                    <a:lnTo>
                      <a:pt x="4856" y="1805"/>
                    </a:lnTo>
                    <a:lnTo>
                      <a:pt x="4849" y="1817"/>
                    </a:lnTo>
                    <a:lnTo>
                      <a:pt x="4842" y="1830"/>
                    </a:lnTo>
                    <a:lnTo>
                      <a:pt x="4834" y="1841"/>
                    </a:lnTo>
                    <a:lnTo>
                      <a:pt x="4826" y="1852"/>
                    </a:lnTo>
                    <a:lnTo>
                      <a:pt x="4814" y="1863"/>
                    </a:lnTo>
                    <a:lnTo>
                      <a:pt x="4804" y="1875"/>
                    </a:lnTo>
                    <a:lnTo>
                      <a:pt x="4791" y="1886"/>
                    </a:lnTo>
                    <a:lnTo>
                      <a:pt x="4778" y="1897"/>
                    </a:lnTo>
                    <a:lnTo>
                      <a:pt x="4763" y="1906"/>
                    </a:lnTo>
                    <a:lnTo>
                      <a:pt x="4748" y="1916"/>
                    </a:lnTo>
                    <a:lnTo>
                      <a:pt x="4740" y="1921"/>
                    </a:lnTo>
                    <a:lnTo>
                      <a:pt x="4731" y="1924"/>
                    </a:lnTo>
                    <a:lnTo>
                      <a:pt x="4723" y="1928"/>
                    </a:lnTo>
                    <a:lnTo>
                      <a:pt x="4714" y="1932"/>
                    </a:lnTo>
                    <a:lnTo>
                      <a:pt x="4704" y="1935"/>
                    </a:lnTo>
                    <a:lnTo>
                      <a:pt x="4695" y="1937"/>
                    </a:lnTo>
                    <a:lnTo>
                      <a:pt x="4685" y="1940"/>
                    </a:lnTo>
                    <a:lnTo>
                      <a:pt x="4675" y="1942"/>
                    </a:lnTo>
                    <a:lnTo>
                      <a:pt x="4663" y="1944"/>
                    </a:lnTo>
                    <a:lnTo>
                      <a:pt x="4652" y="1946"/>
                    </a:lnTo>
                    <a:lnTo>
                      <a:pt x="4641" y="1947"/>
                    </a:lnTo>
                    <a:lnTo>
                      <a:pt x="4630" y="1948"/>
                    </a:lnTo>
                    <a:lnTo>
                      <a:pt x="4616" y="1948"/>
                    </a:lnTo>
                    <a:lnTo>
                      <a:pt x="4603" y="1948"/>
                    </a:lnTo>
                    <a:lnTo>
                      <a:pt x="4591" y="1948"/>
                    </a:lnTo>
                    <a:lnTo>
                      <a:pt x="4578" y="1948"/>
                    </a:lnTo>
                    <a:lnTo>
                      <a:pt x="4563" y="1946"/>
                    </a:lnTo>
                    <a:lnTo>
                      <a:pt x="4549" y="1944"/>
                    </a:lnTo>
                    <a:lnTo>
                      <a:pt x="4535" y="1942"/>
                    </a:lnTo>
                    <a:lnTo>
                      <a:pt x="4520" y="1940"/>
                    </a:lnTo>
                    <a:lnTo>
                      <a:pt x="4509" y="1938"/>
                    </a:lnTo>
                    <a:lnTo>
                      <a:pt x="4498" y="1935"/>
                    </a:lnTo>
                    <a:lnTo>
                      <a:pt x="4488" y="1933"/>
                    </a:lnTo>
                    <a:lnTo>
                      <a:pt x="4476" y="1930"/>
                    </a:lnTo>
                    <a:lnTo>
                      <a:pt x="4466" y="1927"/>
                    </a:lnTo>
                    <a:lnTo>
                      <a:pt x="4456" y="1924"/>
                    </a:lnTo>
                    <a:lnTo>
                      <a:pt x="4445" y="1921"/>
                    </a:lnTo>
                    <a:lnTo>
                      <a:pt x="4435" y="1917"/>
                    </a:lnTo>
                    <a:lnTo>
                      <a:pt x="4425" y="1914"/>
                    </a:lnTo>
                    <a:lnTo>
                      <a:pt x="4416" y="1911"/>
                    </a:lnTo>
                    <a:lnTo>
                      <a:pt x="4406" y="1908"/>
                    </a:lnTo>
                    <a:lnTo>
                      <a:pt x="4397" y="1905"/>
                    </a:lnTo>
                    <a:lnTo>
                      <a:pt x="4388" y="1901"/>
                    </a:lnTo>
                    <a:lnTo>
                      <a:pt x="4378" y="1897"/>
                    </a:lnTo>
                    <a:lnTo>
                      <a:pt x="4370" y="1893"/>
                    </a:lnTo>
                    <a:lnTo>
                      <a:pt x="4361" y="1888"/>
                    </a:lnTo>
                    <a:lnTo>
                      <a:pt x="4353" y="1885"/>
                    </a:lnTo>
                    <a:lnTo>
                      <a:pt x="4345" y="1881"/>
                    </a:lnTo>
                    <a:lnTo>
                      <a:pt x="4336" y="1877"/>
                    </a:lnTo>
                    <a:lnTo>
                      <a:pt x="4327" y="1873"/>
                    </a:lnTo>
                    <a:lnTo>
                      <a:pt x="4313" y="1864"/>
                    </a:lnTo>
                    <a:lnTo>
                      <a:pt x="4298" y="1855"/>
                    </a:lnTo>
                    <a:lnTo>
                      <a:pt x="4285" y="1847"/>
                    </a:lnTo>
                    <a:lnTo>
                      <a:pt x="4271" y="1838"/>
                    </a:lnTo>
                    <a:lnTo>
                      <a:pt x="4259" y="1830"/>
                    </a:lnTo>
                    <a:lnTo>
                      <a:pt x="4248" y="1821"/>
                    </a:lnTo>
                    <a:lnTo>
                      <a:pt x="4237" y="1813"/>
                    </a:lnTo>
                    <a:lnTo>
                      <a:pt x="4225" y="1804"/>
                    </a:lnTo>
                    <a:lnTo>
                      <a:pt x="4217" y="1797"/>
                    </a:lnTo>
                    <a:lnTo>
                      <a:pt x="4208" y="1788"/>
                    </a:lnTo>
                    <a:lnTo>
                      <a:pt x="4200" y="1782"/>
                    </a:lnTo>
                    <a:lnTo>
                      <a:pt x="4192" y="1773"/>
                    </a:lnTo>
                    <a:lnTo>
                      <a:pt x="4185" y="1767"/>
                    </a:lnTo>
                    <a:lnTo>
                      <a:pt x="4179" y="1761"/>
                    </a:lnTo>
                    <a:lnTo>
                      <a:pt x="4173" y="1756"/>
                    </a:lnTo>
                    <a:lnTo>
                      <a:pt x="4169" y="1750"/>
                    </a:lnTo>
                    <a:lnTo>
                      <a:pt x="4166" y="1747"/>
                    </a:lnTo>
                    <a:lnTo>
                      <a:pt x="4163" y="1743"/>
                    </a:lnTo>
                    <a:lnTo>
                      <a:pt x="4161" y="1741"/>
                    </a:lnTo>
                    <a:lnTo>
                      <a:pt x="4159" y="1739"/>
                    </a:lnTo>
                    <a:lnTo>
                      <a:pt x="4158" y="1737"/>
                    </a:lnTo>
                    <a:lnTo>
                      <a:pt x="4157" y="1736"/>
                    </a:lnTo>
                    <a:lnTo>
                      <a:pt x="4157" y="1738"/>
                    </a:lnTo>
                    <a:lnTo>
                      <a:pt x="4157" y="1740"/>
                    </a:lnTo>
                    <a:lnTo>
                      <a:pt x="4155" y="1743"/>
                    </a:lnTo>
                    <a:lnTo>
                      <a:pt x="4153" y="1747"/>
                    </a:lnTo>
                    <a:lnTo>
                      <a:pt x="4150" y="1753"/>
                    </a:lnTo>
                    <a:lnTo>
                      <a:pt x="4147" y="1759"/>
                    </a:lnTo>
                    <a:lnTo>
                      <a:pt x="4143" y="1768"/>
                    </a:lnTo>
                    <a:lnTo>
                      <a:pt x="4140" y="1778"/>
                    </a:lnTo>
                    <a:lnTo>
                      <a:pt x="4133" y="1788"/>
                    </a:lnTo>
                    <a:lnTo>
                      <a:pt x="4126" y="1797"/>
                    </a:lnTo>
                    <a:lnTo>
                      <a:pt x="4120" y="1807"/>
                    </a:lnTo>
                    <a:lnTo>
                      <a:pt x="4113" y="1817"/>
                    </a:lnTo>
                    <a:lnTo>
                      <a:pt x="4103" y="1829"/>
                    </a:lnTo>
                    <a:lnTo>
                      <a:pt x="4094" y="1839"/>
                    </a:lnTo>
                    <a:lnTo>
                      <a:pt x="4081" y="1851"/>
                    </a:lnTo>
                    <a:lnTo>
                      <a:pt x="4069" y="1862"/>
                    </a:lnTo>
                    <a:lnTo>
                      <a:pt x="4055" y="1873"/>
                    </a:lnTo>
                    <a:lnTo>
                      <a:pt x="4039" y="1883"/>
                    </a:lnTo>
                    <a:lnTo>
                      <a:pt x="4031" y="1888"/>
                    </a:lnTo>
                    <a:lnTo>
                      <a:pt x="4022" y="1892"/>
                    </a:lnTo>
                    <a:lnTo>
                      <a:pt x="4014" y="1897"/>
                    </a:lnTo>
                    <a:lnTo>
                      <a:pt x="4006" y="1901"/>
                    </a:lnTo>
                    <a:lnTo>
                      <a:pt x="3996" y="1905"/>
                    </a:lnTo>
                    <a:lnTo>
                      <a:pt x="3985" y="1908"/>
                    </a:lnTo>
                    <a:lnTo>
                      <a:pt x="3975" y="1912"/>
                    </a:lnTo>
                    <a:lnTo>
                      <a:pt x="3966" y="1915"/>
                    </a:lnTo>
                    <a:lnTo>
                      <a:pt x="3955" y="1918"/>
                    </a:lnTo>
                    <a:lnTo>
                      <a:pt x="3942" y="1922"/>
                    </a:lnTo>
                    <a:lnTo>
                      <a:pt x="3931" y="1925"/>
                    </a:lnTo>
                    <a:lnTo>
                      <a:pt x="3920" y="1927"/>
                    </a:lnTo>
                    <a:lnTo>
                      <a:pt x="3907" y="1929"/>
                    </a:lnTo>
                    <a:lnTo>
                      <a:pt x="3892" y="1931"/>
                    </a:lnTo>
                    <a:lnTo>
                      <a:pt x="3879" y="1933"/>
                    </a:lnTo>
                    <a:lnTo>
                      <a:pt x="3866" y="1935"/>
                    </a:lnTo>
                    <a:lnTo>
                      <a:pt x="3852" y="1935"/>
                    </a:lnTo>
                    <a:lnTo>
                      <a:pt x="3837" y="1934"/>
                    </a:lnTo>
                    <a:lnTo>
                      <a:pt x="3822" y="1934"/>
                    </a:lnTo>
                    <a:lnTo>
                      <a:pt x="3807" y="1934"/>
                    </a:lnTo>
                    <a:lnTo>
                      <a:pt x="3790" y="1932"/>
                    </a:lnTo>
                    <a:lnTo>
                      <a:pt x="3773" y="1931"/>
                    </a:lnTo>
                    <a:lnTo>
                      <a:pt x="3757" y="1929"/>
                    </a:lnTo>
                    <a:lnTo>
                      <a:pt x="3739" y="1927"/>
                    </a:lnTo>
                    <a:lnTo>
                      <a:pt x="3721" y="1923"/>
                    </a:lnTo>
                    <a:lnTo>
                      <a:pt x="3702" y="1919"/>
                    </a:lnTo>
                    <a:lnTo>
                      <a:pt x="3682" y="1916"/>
                    </a:lnTo>
                    <a:lnTo>
                      <a:pt x="3664" y="1912"/>
                    </a:lnTo>
                    <a:lnTo>
                      <a:pt x="3644" y="1908"/>
                    </a:lnTo>
                    <a:lnTo>
                      <a:pt x="3626" y="1904"/>
                    </a:lnTo>
                    <a:lnTo>
                      <a:pt x="3607" y="1899"/>
                    </a:lnTo>
                    <a:lnTo>
                      <a:pt x="3588" y="1895"/>
                    </a:lnTo>
                    <a:lnTo>
                      <a:pt x="3571" y="1890"/>
                    </a:lnTo>
                    <a:lnTo>
                      <a:pt x="3552" y="1885"/>
                    </a:lnTo>
                    <a:lnTo>
                      <a:pt x="3535" y="1879"/>
                    </a:lnTo>
                    <a:lnTo>
                      <a:pt x="3519" y="1874"/>
                    </a:lnTo>
                    <a:lnTo>
                      <a:pt x="3501" y="1869"/>
                    </a:lnTo>
                    <a:lnTo>
                      <a:pt x="3485" y="1865"/>
                    </a:lnTo>
                    <a:lnTo>
                      <a:pt x="3469" y="1861"/>
                    </a:lnTo>
                    <a:lnTo>
                      <a:pt x="3452" y="1857"/>
                    </a:lnTo>
                    <a:lnTo>
                      <a:pt x="3438" y="1852"/>
                    </a:lnTo>
                    <a:lnTo>
                      <a:pt x="3423" y="1846"/>
                    </a:lnTo>
                    <a:lnTo>
                      <a:pt x="3408" y="1841"/>
                    </a:lnTo>
                    <a:lnTo>
                      <a:pt x="3393" y="1836"/>
                    </a:lnTo>
                    <a:lnTo>
                      <a:pt x="3380" y="1832"/>
                    </a:lnTo>
                    <a:lnTo>
                      <a:pt x="3367" y="1827"/>
                    </a:lnTo>
                    <a:lnTo>
                      <a:pt x="3353" y="1822"/>
                    </a:lnTo>
                    <a:lnTo>
                      <a:pt x="3340" y="1817"/>
                    </a:lnTo>
                    <a:lnTo>
                      <a:pt x="3328" y="1813"/>
                    </a:lnTo>
                    <a:lnTo>
                      <a:pt x="3316" y="1809"/>
                    </a:lnTo>
                    <a:lnTo>
                      <a:pt x="3304" y="1805"/>
                    </a:lnTo>
                    <a:lnTo>
                      <a:pt x="3292" y="1800"/>
                    </a:lnTo>
                    <a:lnTo>
                      <a:pt x="3281" y="1796"/>
                    </a:lnTo>
                    <a:lnTo>
                      <a:pt x="3271" y="1792"/>
                    </a:lnTo>
                    <a:lnTo>
                      <a:pt x="3259" y="1788"/>
                    </a:lnTo>
                    <a:lnTo>
                      <a:pt x="3248" y="1784"/>
                    </a:lnTo>
                    <a:lnTo>
                      <a:pt x="3238" y="1780"/>
                    </a:lnTo>
                    <a:lnTo>
                      <a:pt x="3228" y="1776"/>
                    </a:lnTo>
                    <a:lnTo>
                      <a:pt x="3219" y="1770"/>
                    </a:lnTo>
                    <a:lnTo>
                      <a:pt x="3208" y="1766"/>
                    </a:lnTo>
                    <a:lnTo>
                      <a:pt x="3200" y="1763"/>
                    </a:lnTo>
                    <a:lnTo>
                      <a:pt x="3191" y="1759"/>
                    </a:lnTo>
                    <a:lnTo>
                      <a:pt x="3183" y="1756"/>
                    </a:lnTo>
                    <a:lnTo>
                      <a:pt x="3175" y="1752"/>
                    </a:lnTo>
                    <a:lnTo>
                      <a:pt x="3160" y="1746"/>
                    </a:lnTo>
                    <a:lnTo>
                      <a:pt x="3147" y="1740"/>
                    </a:lnTo>
                    <a:lnTo>
                      <a:pt x="3135" y="1734"/>
                    </a:lnTo>
                    <a:lnTo>
                      <a:pt x="3123" y="1729"/>
                    </a:lnTo>
                    <a:lnTo>
                      <a:pt x="3112" y="1723"/>
                    </a:lnTo>
                    <a:lnTo>
                      <a:pt x="3103" y="1717"/>
                    </a:lnTo>
                    <a:lnTo>
                      <a:pt x="3096" y="1713"/>
                    </a:lnTo>
                    <a:lnTo>
                      <a:pt x="3089" y="1708"/>
                    </a:lnTo>
                    <a:lnTo>
                      <a:pt x="3083" y="1706"/>
                    </a:lnTo>
                    <a:lnTo>
                      <a:pt x="3078" y="1703"/>
                    </a:lnTo>
                    <a:lnTo>
                      <a:pt x="3074" y="1701"/>
                    </a:lnTo>
                    <a:lnTo>
                      <a:pt x="3071" y="1698"/>
                    </a:lnTo>
                    <a:lnTo>
                      <a:pt x="3071" y="1698"/>
                    </a:lnTo>
                    <a:lnTo>
                      <a:pt x="3070" y="1698"/>
                    </a:lnTo>
                    <a:lnTo>
                      <a:pt x="3035" y="1690"/>
                    </a:lnTo>
                    <a:lnTo>
                      <a:pt x="3001" y="1682"/>
                    </a:lnTo>
                    <a:lnTo>
                      <a:pt x="2966" y="1673"/>
                    </a:lnTo>
                    <a:lnTo>
                      <a:pt x="2933" y="1665"/>
                    </a:lnTo>
                    <a:lnTo>
                      <a:pt x="2898" y="1657"/>
                    </a:lnTo>
                    <a:lnTo>
                      <a:pt x="2864" y="1649"/>
                    </a:lnTo>
                    <a:lnTo>
                      <a:pt x="2831" y="1641"/>
                    </a:lnTo>
                    <a:lnTo>
                      <a:pt x="2796" y="1633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355280" y="4367520"/>
                <a:ext cx="68040" cy="78840"/>
              </a:xfrm>
              <a:custGeom>
                <a:avLst/>
                <a:gdLst/>
                <a:ahLst/>
                <a:rect l="l" t="t" r="r" b="b"/>
                <a:pathLst>
                  <a:path w="1344" h="1480">
                    <a:moveTo>
                      <a:pt x="1344" y="1480"/>
                    </a:moveTo>
                    <a:lnTo>
                      <a:pt x="1335" y="1478"/>
                    </a:lnTo>
                    <a:lnTo>
                      <a:pt x="1327" y="1475"/>
                    </a:lnTo>
                    <a:lnTo>
                      <a:pt x="1317" y="1471"/>
                    </a:lnTo>
                    <a:lnTo>
                      <a:pt x="1306" y="1468"/>
                    </a:lnTo>
                    <a:lnTo>
                      <a:pt x="1296" y="1466"/>
                    </a:lnTo>
                    <a:lnTo>
                      <a:pt x="1287" y="1463"/>
                    </a:lnTo>
                    <a:lnTo>
                      <a:pt x="1277" y="1460"/>
                    </a:lnTo>
                    <a:lnTo>
                      <a:pt x="1267" y="1457"/>
                    </a:lnTo>
                    <a:lnTo>
                      <a:pt x="1256" y="1453"/>
                    </a:lnTo>
                    <a:lnTo>
                      <a:pt x="1247" y="1449"/>
                    </a:lnTo>
                    <a:lnTo>
                      <a:pt x="1236" y="1446"/>
                    </a:lnTo>
                    <a:lnTo>
                      <a:pt x="1225" y="1442"/>
                    </a:lnTo>
                    <a:lnTo>
                      <a:pt x="1215" y="1440"/>
                    </a:lnTo>
                    <a:lnTo>
                      <a:pt x="1205" y="1438"/>
                    </a:lnTo>
                    <a:lnTo>
                      <a:pt x="1194" y="1434"/>
                    </a:lnTo>
                    <a:lnTo>
                      <a:pt x="1183" y="1430"/>
                    </a:lnTo>
                    <a:lnTo>
                      <a:pt x="1156" y="1422"/>
                    </a:lnTo>
                    <a:lnTo>
                      <a:pt x="1130" y="1414"/>
                    </a:lnTo>
                    <a:lnTo>
                      <a:pt x="1102" y="1405"/>
                    </a:lnTo>
                    <a:lnTo>
                      <a:pt x="1076" y="1395"/>
                    </a:lnTo>
                    <a:lnTo>
                      <a:pt x="1049" y="1384"/>
                    </a:lnTo>
                    <a:lnTo>
                      <a:pt x="1022" y="1374"/>
                    </a:lnTo>
                    <a:lnTo>
                      <a:pt x="995" y="1363"/>
                    </a:lnTo>
                    <a:lnTo>
                      <a:pt x="969" y="1351"/>
                    </a:lnTo>
                    <a:lnTo>
                      <a:pt x="941" y="1339"/>
                    </a:lnTo>
                    <a:lnTo>
                      <a:pt x="914" y="1326"/>
                    </a:lnTo>
                    <a:lnTo>
                      <a:pt x="888" y="1313"/>
                    </a:lnTo>
                    <a:lnTo>
                      <a:pt x="861" y="1300"/>
                    </a:lnTo>
                    <a:lnTo>
                      <a:pt x="835" y="1287"/>
                    </a:lnTo>
                    <a:lnTo>
                      <a:pt x="809" y="1273"/>
                    </a:lnTo>
                    <a:lnTo>
                      <a:pt x="784" y="1260"/>
                    </a:lnTo>
                    <a:lnTo>
                      <a:pt x="757" y="1245"/>
                    </a:lnTo>
                    <a:lnTo>
                      <a:pt x="732" y="1230"/>
                    </a:lnTo>
                    <a:lnTo>
                      <a:pt x="706" y="1215"/>
                    </a:lnTo>
                    <a:lnTo>
                      <a:pt x="682" y="1199"/>
                    </a:lnTo>
                    <a:lnTo>
                      <a:pt x="656" y="1184"/>
                    </a:lnTo>
                    <a:lnTo>
                      <a:pt x="631" y="1168"/>
                    </a:lnTo>
                    <a:lnTo>
                      <a:pt x="605" y="1150"/>
                    </a:lnTo>
                    <a:lnTo>
                      <a:pt x="581" y="1134"/>
                    </a:lnTo>
                    <a:lnTo>
                      <a:pt x="556" y="1118"/>
                    </a:lnTo>
                    <a:lnTo>
                      <a:pt x="533" y="1101"/>
                    </a:lnTo>
                    <a:lnTo>
                      <a:pt x="510" y="1085"/>
                    </a:lnTo>
                    <a:lnTo>
                      <a:pt x="487" y="1068"/>
                    </a:lnTo>
                    <a:lnTo>
                      <a:pt x="464" y="1050"/>
                    </a:lnTo>
                    <a:lnTo>
                      <a:pt x="442" y="1033"/>
                    </a:lnTo>
                    <a:lnTo>
                      <a:pt x="420" y="1015"/>
                    </a:lnTo>
                    <a:lnTo>
                      <a:pt x="399" y="996"/>
                    </a:lnTo>
                    <a:lnTo>
                      <a:pt x="376" y="978"/>
                    </a:lnTo>
                    <a:lnTo>
                      <a:pt x="357" y="959"/>
                    </a:lnTo>
                    <a:lnTo>
                      <a:pt x="337" y="940"/>
                    </a:lnTo>
                    <a:lnTo>
                      <a:pt x="317" y="922"/>
                    </a:lnTo>
                    <a:lnTo>
                      <a:pt x="297" y="902"/>
                    </a:lnTo>
                    <a:lnTo>
                      <a:pt x="278" y="883"/>
                    </a:lnTo>
                    <a:lnTo>
                      <a:pt x="260" y="863"/>
                    </a:lnTo>
                    <a:lnTo>
                      <a:pt x="242" y="844"/>
                    </a:lnTo>
                    <a:lnTo>
                      <a:pt x="223" y="825"/>
                    </a:lnTo>
                    <a:lnTo>
                      <a:pt x="207" y="805"/>
                    </a:lnTo>
                    <a:lnTo>
                      <a:pt x="191" y="786"/>
                    </a:lnTo>
                    <a:lnTo>
                      <a:pt x="175" y="766"/>
                    </a:lnTo>
                    <a:lnTo>
                      <a:pt x="159" y="747"/>
                    </a:lnTo>
                    <a:lnTo>
                      <a:pt x="145" y="728"/>
                    </a:lnTo>
                    <a:lnTo>
                      <a:pt x="131" y="708"/>
                    </a:lnTo>
                    <a:lnTo>
                      <a:pt x="117" y="688"/>
                    </a:lnTo>
                    <a:lnTo>
                      <a:pt x="104" y="667"/>
                    </a:lnTo>
                    <a:lnTo>
                      <a:pt x="93" y="648"/>
                    </a:lnTo>
                    <a:lnTo>
                      <a:pt x="81" y="629"/>
                    </a:lnTo>
                    <a:lnTo>
                      <a:pt x="70" y="608"/>
                    </a:lnTo>
                    <a:lnTo>
                      <a:pt x="60" y="589"/>
                    </a:lnTo>
                    <a:lnTo>
                      <a:pt x="52" y="569"/>
                    </a:lnTo>
                    <a:lnTo>
                      <a:pt x="44" y="550"/>
                    </a:lnTo>
                    <a:lnTo>
                      <a:pt x="35" y="531"/>
                    </a:lnTo>
                    <a:lnTo>
                      <a:pt x="28" y="510"/>
                    </a:lnTo>
                    <a:lnTo>
                      <a:pt x="22" y="491"/>
                    </a:lnTo>
                    <a:lnTo>
                      <a:pt x="18" y="472"/>
                    </a:lnTo>
                    <a:lnTo>
                      <a:pt x="13" y="453"/>
                    </a:lnTo>
                    <a:lnTo>
                      <a:pt x="8" y="434"/>
                    </a:lnTo>
                    <a:lnTo>
                      <a:pt x="6" y="415"/>
                    </a:lnTo>
                    <a:lnTo>
                      <a:pt x="4" y="396"/>
                    </a:lnTo>
                    <a:lnTo>
                      <a:pt x="2" y="377"/>
                    </a:lnTo>
                    <a:lnTo>
                      <a:pt x="0" y="359"/>
                    </a:lnTo>
                    <a:lnTo>
                      <a:pt x="1" y="338"/>
                    </a:lnTo>
                    <a:lnTo>
                      <a:pt x="3" y="315"/>
                    </a:lnTo>
                    <a:lnTo>
                      <a:pt x="5" y="294"/>
                    </a:lnTo>
                    <a:lnTo>
                      <a:pt x="6" y="271"/>
                    </a:lnTo>
                    <a:lnTo>
                      <a:pt x="11" y="254"/>
                    </a:lnTo>
                    <a:lnTo>
                      <a:pt x="16" y="236"/>
                    </a:lnTo>
                    <a:lnTo>
                      <a:pt x="21" y="218"/>
                    </a:lnTo>
                    <a:lnTo>
                      <a:pt x="26" y="200"/>
                    </a:lnTo>
                    <a:lnTo>
                      <a:pt x="34" y="186"/>
                    </a:lnTo>
                    <a:lnTo>
                      <a:pt x="41" y="171"/>
                    </a:lnTo>
                    <a:lnTo>
                      <a:pt x="50" y="156"/>
                    </a:lnTo>
                    <a:lnTo>
                      <a:pt x="58" y="142"/>
                    </a:lnTo>
                    <a:lnTo>
                      <a:pt x="67" y="129"/>
                    </a:lnTo>
                    <a:lnTo>
                      <a:pt x="77" y="118"/>
                    </a:lnTo>
                    <a:lnTo>
                      <a:pt x="87" y="106"/>
                    </a:lnTo>
                    <a:lnTo>
                      <a:pt x="98" y="94"/>
                    </a:lnTo>
                    <a:lnTo>
                      <a:pt x="110" y="85"/>
                    </a:lnTo>
                    <a:lnTo>
                      <a:pt x="122" y="76"/>
                    </a:lnTo>
                    <a:lnTo>
                      <a:pt x="134" y="67"/>
                    </a:lnTo>
                    <a:lnTo>
                      <a:pt x="148" y="58"/>
                    </a:lnTo>
                    <a:lnTo>
                      <a:pt x="161" y="51"/>
                    </a:lnTo>
                    <a:lnTo>
                      <a:pt x="175" y="45"/>
                    </a:lnTo>
                    <a:lnTo>
                      <a:pt x="190" y="37"/>
                    </a:lnTo>
                    <a:lnTo>
                      <a:pt x="204" y="31"/>
                    </a:lnTo>
                    <a:lnTo>
                      <a:pt x="218" y="26"/>
                    </a:lnTo>
                    <a:lnTo>
                      <a:pt x="233" y="22"/>
                    </a:lnTo>
                    <a:lnTo>
                      <a:pt x="248" y="18"/>
                    </a:lnTo>
                    <a:lnTo>
                      <a:pt x="263" y="13"/>
                    </a:lnTo>
                    <a:lnTo>
                      <a:pt x="279" y="11"/>
                    </a:lnTo>
                    <a:lnTo>
                      <a:pt x="296" y="8"/>
                    </a:lnTo>
                    <a:lnTo>
                      <a:pt x="312" y="6"/>
                    </a:lnTo>
                    <a:lnTo>
                      <a:pt x="328" y="4"/>
                    </a:lnTo>
                    <a:lnTo>
                      <a:pt x="345" y="3"/>
                    </a:lnTo>
                    <a:lnTo>
                      <a:pt x="361" y="2"/>
                    </a:lnTo>
                    <a:lnTo>
                      <a:pt x="377" y="1"/>
                    </a:lnTo>
                    <a:lnTo>
                      <a:pt x="395" y="0"/>
                    </a:lnTo>
                    <a:lnTo>
                      <a:pt x="411" y="0"/>
                    </a:lnTo>
                    <a:lnTo>
                      <a:pt x="428" y="1"/>
                    </a:lnTo>
                    <a:lnTo>
                      <a:pt x="445" y="1"/>
                    </a:lnTo>
                    <a:lnTo>
                      <a:pt x="462" y="1"/>
                    </a:lnTo>
                    <a:lnTo>
                      <a:pt x="479" y="3"/>
                    </a:lnTo>
                    <a:lnTo>
                      <a:pt x="496" y="5"/>
                    </a:lnTo>
                    <a:lnTo>
                      <a:pt x="513" y="6"/>
                    </a:lnTo>
                    <a:lnTo>
                      <a:pt x="531" y="8"/>
                    </a:lnTo>
                    <a:lnTo>
                      <a:pt x="546" y="10"/>
                    </a:lnTo>
                    <a:lnTo>
                      <a:pt x="562" y="12"/>
                    </a:lnTo>
                    <a:lnTo>
                      <a:pt x="579" y="15"/>
                    </a:lnTo>
                    <a:lnTo>
                      <a:pt x="594" y="17"/>
                    </a:lnTo>
                    <a:lnTo>
                      <a:pt x="609" y="19"/>
                    </a:lnTo>
                    <a:lnTo>
                      <a:pt x="623" y="21"/>
                    </a:lnTo>
                    <a:lnTo>
                      <a:pt x="639" y="24"/>
                    </a:lnTo>
                    <a:lnTo>
                      <a:pt x="654" y="26"/>
                    </a:lnTo>
                    <a:lnTo>
                      <a:pt x="667" y="29"/>
                    </a:lnTo>
                    <a:lnTo>
                      <a:pt x="682" y="32"/>
                    </a:lnTo>
                    <a:lnTo>
                      <a:pt x="695" y="35"/>
                    </a:lnTo>
                    <a:lnTo>
                      <a:pt x="709" y="37"/>
                    </a:lnTo>
                    <a:lnTo>
                      <a:pt x="721" y="41"/>
                    </a:lnTo>
                    <a:lnTo>
                      <a:pt x="733" y="44"/>
                    </a:lnTo>
                    <a:lnTo>
                      <a:pt x="745" y="47"/>
                    </a:lnTo>
                    <a:lnTo>
                      <a:pt x="757" y="50"/>
                    </a:lnTo>
                    <a:lnTo>
                      <a:pt x="767" y="52"/>
                    </a:lnTo>
                    <a:lnTo>
                      <a:pt x="777" y="54"/>
                    </a:lnTo>
                    <a:lnTo>
                      <a:pt x="787" y="56"/>
                    </a:lnTo>
                    <a:lnTo>
                      <a:pt x="797" y="59"/>
                    </a:lnTo>
                    <a:lnTo>
                      <a:pt x="810" y="62"/>
                    </a:lnTo>
                    <a:lnTo>
                      <a:pt x="824" y="66"/>
                    </a:lnTo>
                    <a:lnTo>
                      <a:pt x="838" y="69"/>
                    </a:lnTo>
                    <a:lnTo>
                      <a:pt x="851" y="73"/>
                    </a:lnTo>
                    <a:lnTo>
                      <a:pt x="863" y="78"/>
                    </a:lnTo>
                    <a:lnTo>
                      <a:pt x="876" y="84"/>
                    </a:lnTo>
                    <a:lnTo>
                      <a:pt x="888" y="90"/>
                    </a:lnTo>
                    <a:lnTo>
                      <a:pt x="901" y="96"/>
                    </a:lnTo>
                    <a:lnTo>
                      <a:pt x="912" y="102"/>
                    </a:lnTo>
                    <a:lnTo>
                      <a:pt x="924" y="108"/>
                    </a:lnTo>
                    <a:lnTo>
                      <a:pt x="935" y="114"/>
                    </a:lnTo>
                    <a:lnTo>
                      <a:pt x="946" y="120"/>
                    </a:lnTo>
                    <a:lnTo>
                      <a:pt x="956" y="127"/>
                    </a:lnTo>
                    <a:lnTo>
                      <a:pt x="966" y="133"/>
                    </a:lnTo>
                    <a:lnTo>
                      <a:pt x="977" y="141"/>
                    </a:lnTo>
                    <a:lnTo>
                      <a:pt x="986" y="148"/>
                    </a:lnTo>
                    <a:lnTo>
                      <a:pt x="996" y="155"/>
                    </a:lnTo>
                    <a:lnTo>
                      <a:pt x="1005" y="162"/>
                    </a:lnTo>
                    <a:lnTo>
                      <a:pt x="1014" y="169"/>
                    </a:lnTo>
                    <a:lnTo>
                      <a:pt x="1025" y="176"/>
                    </a:lnTo>
                    <a:lnTo>
                      <a:pt x="1033" y="186"/>
                    </a:lnTo>
                    <a:lnTo>
                      <a:pt x="1041" y="194"/>
                    </a:lnTo>
                    <a:lnTo>
                      <a:pt x="1049" y="203"/>
                    </a:lnTo>
                    <a:lnTo>
                      <a:pt x="1057" y="211"/>
                    </a:lnTo>
                    <a:lnTo>
                      <a:pt x="1066" y="219"/>
                    </a:lnTo>
                    <a:lnTo>
                      <a:pt x="1073" y="228"/>
                    </a:lnTo>
                    <a:lnTo>
                      <a:pt x="1080" y="238"/>
                    </a:lnTo>
                    <a:lnTo>
                      <a:pt x="1088" y="246"/>
                    </a:lnTo>
                    <a:lnTo>
                      <a:pt x="1094" y="255"/>
                    </a:lnTo>
                    <a:lnTo>
                      <a:pt x="1100" y="264"/>
                    </a:lnTo>
                    <a:lnTo>
                      <a:pt x="1106" y="273"/>
                    </a:lnTo>
                    <a:lnTo>
                      <a:pt x="1113" y="281"/>
                    </a:lnTo>
                    <a:lnTo>
                      <a:pt x="1119" y="292"/>
                    </a:lnTo>
                    <a:lnTo>
                      <a:pt x="1125" y="301"/>
                    </a:lnTo>
                    <a:lnTo>
                      <a:pt x="1130" y="310"/>
                    </a:lnTo>
                    <a:lnTo>
                      <a:pt x="1136" y="319"/>
                    </a:lnTo>
                    <a:lnTo>
                      <a:pt x="1140" y="328"/>
                    </a:lnTo>
                    <a:lnTo>
                      <a:pt x="1144" y="338"/>
                    </a:lnTo>
                    <a:lnTo>
                      <a:pt x="1149" y="347"/>
                    </a:lnTo>
                    <a:lnTo>
                      <a:pt x="1153" y="356"/>
                    </a:lnTo>
                    <a:lnTo>
                      <a:pt x="1156" y="365"/>
                    </a:lnTo>
                    <a:lnTo>
                      <a:pt x="1160" y="374"/>
                    </a:lnTo>
                    <a:lnTo>
                      <a:pt x="1164" y="384"/>
                    </a:lnTo>
                    <a:lnTo>
                      <a:pt x="1168" y="393"/>
                    </a:lnTo>
                    <a:lnTo>
                      <a:pt x="1171" y="403"/>
                    </a:lnTo>
                    <a:lnTo>
                      <a:pt x="1174" y="412"/>
                    </a:lnTo>
                    <a:lnTo>
                      <a:pt x="1177" y="421"/>
                    </a:lnTo>
                    <a:lnTo>
                      <a:pt x="1180" y="431"/>
                    </a:lnTo>
                    <a:lnTo>
                      <a:pt x="1182" y="439"/>
                    </a:lnTo>
                    <a:lnTo>
                      <a:pt x="1184" y="448"/>
                    </a:lnTo>
                    <a:lnTo>
                      <a:pt x="1187" y="456"/>
                    </a:lnTo>
                    <a:lnTo>
                      <a:pt x="1189" y="465"/>
                    </a:lnTo>
                    <a:lnTo>
                      <a:pt x="1190" y="473"/>
                    </a:lnTo>
                    <a:lnTo>
                      <a:pt x="1191" y="482"/>
                    </a:lnTo>
                    <a:lnTo>
                      <a:pt x="1192" y="490"/>
                    </a:lnTo>
                    <a:lnTo>
                      <a:pt x="1193" y="498"/>
                    </a:lnTo>
                    <a:lnTo>
                      <a:pt x="1194" y="512"/>
                    </a:lnTo>
                    <a:lnTo>
                      <a:pt x="1195" y="527"/>
                    </a:lnTo>
                    <a:lnTo>
                      <a:pt x="1195" y="541"/>
                    </a:lnTo>
                    <a:lnTo>
                      <a:pt x="1195" y="555"/>
                    </a:lnTo>
                    <a:lnTo>
                      <a:pt x="1193" y="568"/>
                    </a:lnTo>
                    <a:lnTo>
                      <a:pt x="1191" y="583"/>
                    </a:lnTo>
                    <a:lnTo>
                      <a:pt x="1185" y="593"/>
                    </a:lnTo>
                    <a:lnTo>
                      <a:pt x="1180" y="603"/>
                    </a:lnTo>
                    <a:lnTo>
                      <a:pt x="1171" y="613"/>
                    </a:lnTo>
                    <a:lnTo>
                      <a:pt x="1161" y="622"/>
                    </a:lnTo>
                    <a:lnTo>
                      <a:pt x="1147" y="630"/>
                    </a:lnTo>
                    <a:lnTo>
                      <a:pt x="1133" y="637"/>
                    </a:lnTo>
                    <a:lnTo>
                      <a:pt x="1124" y="639"/>
                    </a:lnTo>
                    <a:lnTo>
                      <a:pt x="1115" y="641"/>
                    </a:lnTo>
                    <a:lnTo>
                      <a:pt x="1105" y="642"/>
                    </a:lnTo>
                    <a:lnTo>
                      <a:pt x="1096" y="644"/>
                    </a:lnTo>
                    <a:lnTo>
                      <a:pt x="1084" y="645"/>
                    </a:lnTo>
                    <a:lnTo>
                      <a:pt x="1072" y="646"/>
                    </a:lnTo>
                    <a:lnTo>
                      <a:pt x="1059" y="646"/>
                    </a:lnTo>
                    <a:lnTo>
                      <a:pt x="1048" y="647"/>
                    </a:lnTo>
                    <a:lnTo>
                      <a:pt x="1033" y="645"/>
                    </a:lnTo>
                    <a:lnTo>
                      <a:pt x="1018" y="644"/>
                    </a:lnTo>
                    <a:lnTo>
                      <a:pt x="1001" y="642"/>
                    </a:lnTo>
                    <a:lnTo>
                      <a:pt x="986" y="641"/>
                    </a:lnTo>
                    <a:lnTo>
                      <a:pt x="966" y="637"/>
                    </a:lnTo>
                    <a:lnTo>
                      <a:pt x="947" y="633"/>
                    </a:lnTo>
                    <a:lnTo>
                      <a:pt x="928" y="628"/>
                    </a:lnTo>
                    <a:lnTo>
                      <a:pt x="908" y="624"/>
                    </a:lnTo>
                    <a:lnTo>
                      <a:pt x="898" y="621"/>
                    </a:lnTo>
                    <a:lnTo>
                      <a:pt x="888" y="618"/>
                    </a:lnTo>
                    <a:lnTo>
                      <a:pt x="879" y="615"/>
                    </a:lnTo>
                    <a:lnTo>
                      <a:pt x="868" y="612"/>
                    </a:lnTo>
                    <a:lnTo>
                      <a:pt x="859" y="610"/>
                    </a:lnTo>
                    <a:lnTo>
                      <a:pt x="850" y="607"/>
                    </a:lnTo>
                    <a:lnTo>
                      <a:pt x="842" y="605"/>
                    </a:lnTo>
                    <a:lnTo>
                      <a:pt x="833" y="602"/>
                    </a:lnTo>
                    <a:lnTo>
                      <a:pt x="825" y="599"/>
                    </a:lnTo>
                    <a:lnTo>
                      <a:pt x="817" y="596"/>
                    </a:lnTo>
                    <a:lnTo>
                      <a:pt x="809" y="592"/>
                    </a:lnTo>
                    <a:lnTo>
                      <a:pt x="801" y="589"/>
                    </a:lnTo>
                    <a:lnTo>
                      <a:pt x="787" y="582"/>
                    </a:lnTo>
                    <a:lnTo>
                      <a:pt x="771" y="573"/>
                    </a:lnTo>
                    <a:lnTo>
                      <a:pt x="758" y="566"/>
                    </a:lnTo>
                    <a:lnTo>
                      <a:pt x="746" y="559"/>
                    </a:lnTo>
                    <a:lnTo>
                      <a:pt x="734" y="551"/>
                    </a:lnTo>
                    <a:lnTo>
                      <a:pt x="721" y="544"/>
                    </a:lnTo>
                    <a:lnTo>
                      <a:pt x="710" y="536"/>
                    </a:lnTo>
                    <a:lnTo>
                      <a:pt x="699" y="527"/>
                    </a:lnTo>
                    <a:lnTo>
                      <a:pt x="689" y="518"/>
                    </a:lnTo>
                    <a:lnTo>
                      <a:pt x="680" y="509"/>
                    </a:lnTo>
                    <a:lnTo>
                      <a:pt x="670" y="501"/>
                    </a:lnTo>
                    <a:lnTo>
                      <a:pt x="662" y="493"/>
                    </a:lnTo>
                    <a:lnTo>
                      <a:pt x="653" y="484"/>
                    </a:lnTo>
                    <a:lnTo>
                      <a:pt x="644" y="474"/>
                    </a:lnTo>
                    <a:lnTo>
                      <a:pt x="635" y="465"/>
                    </a:lnTo>
                    <a:lnTo>
                      <a:pt x="626" y="456"/>
                    </a:lnTo>
                    <a:lnTo>
                      <a:pt x="618" y="448"/>
                    </a:lnTo>
                    <a:lnTo>
                      <a:pt x="610" y="439"/>
                    </a:lnTo>
                    <a:lnTo>
                      <a:pt x="601" y="431"/>
                    </a:lnTo>
                    <a:lnTo>
                      <a:pt x="592" y="422"/>
                    </a:lnTo>
                    <a:lnTo>
                      <a:pt x="583" y="414"/>
                    </a:lnTo>
                    <a:lnTo>
                      <a:pt x="573" y="406"/>
                    </a:lnTo>
                    <a:lnTo>
                      <a:pt x="564" y="398"/>
                    </a:lnTo>
                    <a:lnTo>
                      <a:pt x="556" y="390"/>
                    </a:lnTo>
                    <a:lnTo>
                      <a:pt x="546" y="382"/>
                    </a:lnTo>
                    <a:lnTo>
                      <a:pt x="536" y="373"/>
                    </a:lnTo>
                    <a:lnTo>
                      <a:pt x="527" y="368"/>
                    </a:lnTo>
                    <a:lnTo>
                      <a:pt x="519" y="364"/>
                    </a:lnTo>
                    <a:lnTo>
                      <a:pt x="510" y="359"/>
                    </a:lnTo>
                    <a:lnTo>
                      <a:pt x="502" y="355"/>
                    </a:lnTo>
                    <a:lnTo>
                      <a:pt x="494" y="353"/>
                    </a:lnTo>
                    <a:lnTo>
                      <a:pt x="487" y="350"/>
                    </a:lnTo>
                    <a:lnTo>
                      <a:pt x="478" y="348"/>
                    </a:lnTo>
                    <a:lnTo>
                      <a:pt x="470" y="346"/>
                    </a:lnTo>
                    <a:lnTo>
                      <a:pt x="462" y="346"/>
                    </a:lnTo>
                    <a:lnTo>
                      <a:pt x="454" y="346"/>
                    </a:lnTo>
                    <a:lnTo>
                      <a:pt x="446" y="346"/>
                    </a:lnTo>
                    <a:lnTo>
                      <a:pt x="439" y="346"/>
                    </a:lnTo>
                    <a:lnTo>
                      <a:pt x="425" y="351"/>
                    </a:lnTo>
                    <a:lnTo>
                      <a:pt x="412" y="356"/>
                    </a:lnTo>
                    <a:lnTo>
                      <a:pt x="402" y="364"/>
                    </a:lnTo>
                    <a:lnTo>
                      <a:pt x="393" y="373"/>
                    </a:lnTo>
                    <a:lnTo>
                      <a:pt x="388" y="388"/>
                    </a:lnTo>
                    <a:lnTo>
                      <a:pt x="382" y="401"/>
                    </a:lnTo>
                    <a:lnTo>
                      <a:pt x="382" y="410"/>
                    </a:lnTo>
                    <a:lnTo>
                      <a:pt x="382" y="418"/>
                    </a:lnTo>
                    <a:lnTo>
                      <a:pt x="382" y="426"/>
                    </a:lnTo>
                    <a:lnTo>
                      <a:pt x="382" y="436"/>
                    </a:lnTo>
                    <a:lnTo>
                      <a:pt x="387" y="446"/>
                    </a:lnTo>
                    <a:lnTo>
                      <a:pt x="391" y="457"/>
                    </a:lnTo>
                    <a:lnTo>
                      <a:pt x="395" y="468"/>
                    </a:lnTo>
                    <a:lnTo>
                      <a:pt x="399" y="480"/>
                    </a:lnTo>
                    <a:lnTo>
                      <a:pt x="406" y="493"/>
                    </a:lnTo>
                    <a:lnTo>
                      <a:pt x="414" y="507"/>
                    </a:lnTo>
                    <a:lnTo>
                      <a:pt x="421" y="514"/>
                    </a:lnTo>
                    <a:lnTo>
                      <a:pt x="427" y="522"/>
                    </a:lnTo>
                    <a:lnTo>
                      <a:pt x="434" y="530"/>
                    </a:lnTo>
                    <a:lnTo>
                      <a:pt x="441" y="538"/>
                    </a:lnTo>
                    <a:lnTo>
                      <a:pt x="449" y="546"/>
                    </a:lnTo>
                    <a:lnTo>
                      <a:pt x="456" y="554"/>
                    </a:lnTo>
                    <a:lnTo>
                      <a:pt x="464" y="561"/>
                    </a:lnTo>
                    <a:lnTo>
                      <a:pt x="472" y="569"/>
                    </a:lnTo>
                    <a:lnTo>
                      <a:pt x="482" y="578"/>
                    </a:lnTo>
                    <a:lnTo>
                      <a:pt x="491" y="587"/>
                    </a:lnTo>
                    <a:lnTo>
                      <a:pt x="501" y="596"/>
                    </a:lnTo>
                    <a:lnTo>
                      <a:pt x="510" y="604"/>
                    </a:lnTo>
                    <a:lnTo>
                      <a:pt x="521" y="613"/>
                    </a:lnTo>
                    <a:lnTo>
                      <a:pt x="534" y="622"/>
                    </a:lnTo>
                    <a:lnTo>
                      <a:pt x="545" y="633"/>
                    </a:lnTo>
                    <a:lnTo>
                      <a:pt x="556" y="642"/>
                    </a:lnTo>
                    <a:lnTo>
                      <a:pt x="568" y="651"/>
                    </a:lnTo>
                    <a:lnTo>
                      <a:pt x="582" y="660"/>
                    </a:lnTo>
                    <a:lnTo>
                      <a:pt x="595" y="669"/>
                    </a:lnTo>
                    <a:lnTo>
                      <a:pt x="608" y="678"/>
                    </a:lnTo>
                    <a:lnTo>
                      <a:pt x="621" y="688"/>
                    </a:lnTo>
                    <a:lnTo>
                      <a:pt x="636" y="698"/>
                    </a:lnTo>
                    <a:lnTo>
                      <a:pt x="650" y="707"/>
                    </a:lnTo>
                    <a:lnTo>
                      <a:pt x="663" y="717"/>
                    </a:lnTo>
                    <a:lnTo>
                      <a:pt x="679" y="727"/>
                    </a:lnTo>
                    <a:lnTo>
                      <a:pt x="695" y="736"/>
                    </a:lnTo>
                    <a:lnTo>
                      <a:pt x="710" y="745"/>
                    </a:lnTo>
                    <a:lnTo>
                      <a:pt x="726" y="754"/>
                    </a:lnTo>
                    <a:lnTo>
                      <a:pt x="743" y="764"/>
                    </a:lnTo>
                    <a:lnTo>
                      <a:pt x="759" y="775"/>
                    </a:lnTo>
                    <a:lnTo>
                      <a:pt x="776" y="784"/>
                    </a:lnTo>
                    <a:lnTo>
                      <a:pt x="793" y="794"/>
                    </a:lnTo>
                    <a:lnTo>
                      <a:pt x="810" y="803"/>
                    </a:lnTo>
                    <a:lnTo>
                      <a:pt x="828" y="813"/>
                    </a:lnTo>
                    <a:lnTo>
                      <a:pt x="845" y="823"/>
                    </a:lnTo>
                    <a:lnTo>
                      <a:pt x="862" y="833"/>
                    </a:lnTo>
                    <a:lnTo>
                      <a:pt x="881" y="842"/>
                    </a:lnTo>
                    <a:lnTo>
                      <a:pt x="900" y="850"/>
                    </a:lnTo>
                    <a:lnTo>
                      <a:pt x="918" y="859"/>
                    </a:lnTo>
                    <a:lnTo>
                      <a:pt x="937" y="869"/>
                    </a:lnTo>
                    <a:lnTo>
                      <a:pt x="956" y="878"/>
                    </a:lnTo>
                    <a:lnTo>
                      <a:pt x="976" y="887"/>
                    </a:lnTo>
                    <a:lnTo>
                      <a:pt x="995" y="896"/>
                    </a:lnTo>
                    <a:lnTo>
                      <a:pt x="1014" y="905"/>
                    </a:lnTo>
                    <a:lnTo>
                      <a:pt x="1034" y="913"/>
                    </a:lnTo>
                    <a:lnTo>
                      <a:pt x="1054" y="923"/>
                    </a:lnTo>
                    <a:lnTo>
                      <a:pt x="1074" y="931"/>
                    </a:lnTo>
                    <a:lnTo>
                      <a:pt x="1093" y="939"/>
                    </a:lnTo>
                    <a:lnTo>
                      <a:pt x="1113" y="947"/>
                    </a:lnTo>
                    <a:lnTo>
                      <a:pt x="1134" y="955"/>
                    </a:lnTo>
                    <a:lnTo>
                      <a:pt x="1154" y="963"/>
                    </a:lnTo>
                    <a:lnTo>
                      <a:pt x="1176" y="971"/>
                    </a:lnTo>
                    <a:lnTo>
                      <a:pt x="1196" y="979"/>
                    </a:lnTo>
                    <a:lnTo>
                      <a:pt x="1217" y="986"/>
                    </a:lnTo>
                    <a:lnTo>
                      <a:pt x="1238" y="994"/>
                    </a:lnTo>
                    <a:lnTo>
                      <a:pt x="1259" y="1001"/>
                    </a:lnTo>
                    <a:lnTo>
                      <a:pt x="1280" y="1007"/>
                    </a:lnTo>
                    <a:lnTo>
                      <a:pt x="1301" y="1015"/>
                    </a:lnTo>
                    <a:lnTo>
                      <a:pt x="1323" y="1021"/>
                    </a:lnTo>
                    <a:lnTo>
                      <a:pt x="1344" y="1027"/>
                    </a:lnTo>
                    <a:lnTo>
                      <a:pt x="1344" y="1084"/>
                    </a:lnTo>
                    <a:lnTo>
                      <a:pt x="1344" y="1140"/>
                    </a:lnTo>
                    <a:lnTo>
                      <a:pt x="1344" y="1197"/>
                    </a:lnTo>
                    <a:lnTo>
                      <a:pt x="1344" y="1253"/>
                    </a:lnTo>
                    <a:lnTo>
                      <a:pt x="1344" y="1311"/>
                    </a:lnTo>
                    <a:lnTo>
                      <a:pt x="1344" y="1367"/>
                    </a:lnTo>
                    <a:lnTo>
                      <a:pt x="1344" y="1424"/>
                    </a:lnTo>
                    <a:lnTo>
                      <a:pt x="1344" y="148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416120" y="444168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165" h="111">
                    <a:moveTo>
                      <a:pt x="2" y="61"/>
                    </a:moveTo>
                    <a:lnTo>
                      <a:pt x="1" y="61"/>
                    </a:lnTo>
                    <a:lnTo>
                      <a:pt x="0" y="61"/>
                    </a:lnTo>
                    <a:lnTo>
                      <a:pt x="12" y="65"/>
                    </a:lnTo>
                    <a:lnTo>
                      <a:pt x="24" y="68"/>
                    </a:lnTo>
                    <a:lnTo>
                      <a:pt x="34" y="70"/>
                    </a:lnTo>
                    <a:lnTo>
                      <a:pt x="44" y="73"/>
                    </a:lnTo>
                    <a:lnTo>
                      <a:pt x="54" y="76"/>
                    </a:lnTo>
                    <a:lnTo>
                      <a:pt x="64" y="79"/>
                    </a:lnTo>
                    <a:lnTo>
                      <a:pt x="73" y="83"/>
                    </a:lnTo>
                    <a:lnTo>
                      <a:pt x="84" y="86"/>
                    </a:lnTo>
                    <a:lnTo>
                      <a:pt x="95" y="90"/>
                    </a:lnTo>
                    <a:lnTo>
                      <a:pt x="106" y="93"/>
                    </a:lnTo>
                    <a:lnTo>
                      <a:pt x="115" y="95"/>
                    </a:lnTo>
                    <a:lnTo>
                      <a:pt x="125" y="97"/>
                    </a:lnTo>
                    <a:lnTo>
                      <a:pt x="135" y="100"/>
                    </a:lnTo>
                    <a:lnTo>
                      <a:pt x="144" y="105"/>
                    </a:lnTo>
                    <a:lnTo>
                      <a:pt x="153" y="108"/>
                    </a:lnTo>
                    <a:lnTo>
                      <a:pt x="161" y="111"/>
                    </a:lnTo>
                    <a:lnTo>
                      <a:pt x="162" y="95"/>
                    </a:lnTo>
                    <a:lnTo>
                      <a:pt x="163" y="81"/>
                    </a:lnTo>
                    <a:lnTo>
                      <a:pt x="164" y="66"/>
                    </a:lnTo>
                    <a:lnTo>
                      <a:pt x="165" y="51"/>
                    </a:lnTo>
                    <a:lnTo>
                      <a:pt x="157" y="47"/>
                    </a:lnTo>
                    <a:lnTo>
                      <a:pt x="148" y="44"/>
                    </a:lnTo>
                    <a:lnTo>
                      <a:pt x="137" y="41"/>
                    </a:lnTo>
                    <a:lnTo>
                      <a:pt x="125" y="37"/>
                    </a:lnTo>
                    <a:lnTo>
                      <a:pt x="115" y="35"/>
                    </a:lnTo>
                    <a:lnTo>
                      <a:pt x="106" y="32"/>
                    </a:lnTo>
                    <a:lnTo>
                      <a:pt x="97" y="30"/>
                    </a:lnTo>
                    <a:lnTo>
                      <a:pt x="88" y="27"/>
                    </a:lnTo>
                    <a:lnTo>
                      <a:pt x="77" y="23"/>
                    </a:lnTo>
                    <a:lnTo>
                      <a:pt x="68" y="20"/>
                    </a:lnTo>
                    <a:lnTo>
                      <a:pt x="56" y="16"/>
                    </a:lnTo>
                    <a:lnTo>
                      <a:pt x="44" y="12"/>
                    </a:lnTo>
                    <a:lnTo>
                      <a:pt x="34" y="10"/>
                    </a:lnTo>
                    <a:lnTo>
                      <a:pt x="24" y="8"/>
                    </a:lnTo>
                    <a:lnTo>
                      <a:pt x="14" y="5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6"/>
                    </a:lnTo>
                    <a:lnTo>
                      <a:pt x="2" y="31"/>
                    </a:lnTo>
                    <a:lnTo>
                      <a:pt x="2" y="46"/>
                    </a:lnTo>
                    <a:lnTo>
                      <a:pt x="2" y="61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380480" y="4387680"/>
                <a:ext cx="122760" cy="114480"/>
              </a:xfrm>
              <a:custGeom>
                <a:avLst/>
                <a:gdLst/>
                <a:ahLst/>
                <a:rect l="l" t="t" r="r" b="b"/>
                <a:pathLst>
                  <a:path w="2434" h="2183">
                    <a:moveTo>
                      <a:pt x="1639" y="14"/>
                    </a:moveTo>
                    <a:lnTo>
                      <a:pt x="1649" y="16"/>
                    </a:lnTo>
                    <a:lnTo>
                      <a:pt x="1659" y="18"/>
                    </a:lnTo>
                    <a:lnTo>
                      <a:pt x="1669" y="20"/>
                    </a:lnTo>
                    <a:lnTo>
                      <a:pt x="1679" y="23"/>
                    </a:lnTo>
                    <a:lnTo>
                      <a:pt x="1691" y="26"/>
                    </a:lnTo>
                    <a:lnTo>
                      <a:pt x="1703" y="28"/>
                    </a:lnTo>
                    <a:lnTo>
                      <a:pt x="1715" y="31"/>
                    </a:lnTo>
                    <a:lnTo>
                      <a:pt x="1727" y="34"/>
                    </a:lnTo>
                    <a:lnTo>
                      <a:pt x="1740" y="37"/>
                    </a:lnTo>
                    <a:lnTo>
                      <a:pt x="1754" y="41"/>
                    </a:lnTo>
                    <a:lnTo>
                      <a:pt x="1767" y="45"/>
                    </a:lnTo>
                    <a:lnTo>
                      <a:pt x="1780" y="48"/>
                    </a:lnTo>
                    <a:lnTo>
                      <a:pt x="1795" y="53"/>
                    </a:lnTo>
                    <a:lnTo>
                      <a:pt x="1811" y="59"/>
                    </a:lnTo>
                    <a:lnTo>
                      <a:pt x="1827" y="63"/>
                    </a:lnTo>
                    <a:lnTo>
                      <a:pt x="1842" y="67"/>
                    </a:lnTo>
                    <a:lnTo>
                      <a:pt x="1858" y="73"/>
                    </a:lnTo>
                    <a:lnTo>
                      <a:pt x="1873" y="78"/>
                    </a:lnTo>
                    <a:lnTo>
                      <a:pt x="1889" y="83"/>
                    </a:lnTo>
                    <a:lnTo>
                      <a:pt x="1906" y="88"/>
                    </a:lnTo>
                    <a:lnTo>
                      <a:pt x="1921" y="94"/>
                    </a:lnTo>
                    <a:lnTo>
                      <a:pt x="1937" y="100"/>
                    </a:lnTo>
                    <a:lnTo>
                      <a:pt x="1954" y="108"/>
                    </a:lnTo>
                    <a:lnTo>
                      <a:pt x="1971" y="114"/>
                    </a:lnTo>
                    <a:lnTo>
                      <a:pt x="1987" y="121"/>
                    </a:lnTo>
                    <a:lnTo>
                      <a:pt x="2005" y="129"/>
                    </a:lnTo>
                    <a:lnTo>
                      <a:pt x="2022" y="136"/>
                    </a:lnTo>
                    <a:lnTo>
                      <a:pt x="2038" y="143"/>
                    </a:lnTo>
                    <a:lnTo>
                      <a:pt x="2056" y="152"/>
                    </a:lnTo>
                    <a:lnTo>
                      <a:pt x="2072" y="162"/>
                    </a:lnTo>
                    <a:lnTo>
                      <a:pt x="2090" y="171"/>
                    </a:lnTo>
                    <a:lnTo>
                      <a:pt x="2106" y="179"/>
                    </a:lnTo>
                    <a:lnTo>
                      <a:pt x="2122" y="190"/>
                    </a:lnTo>
                    <a:lnTo>
                      <a:pt x="2137" y="200"/>
                    </a:lnTo>
                    <a:lnTo>
                      <a:pt x="2154" y="211"/>
                    </a:lnTo>
                    <a:lnTo>
                      <a:pt x="2170" y="221"/>
                    </a:lnTo>
                    <a:lnTo>
                      <a:pt x="2185" y="233"/>
                    </a:lnTo>
                    <a:lnTo>
                      <a:pt x="2201" y="244"/>
                    </a:lnTo>
                    <a:lnTo>
                      <a:pt x="2216" y="257"/>
                    </a:lnTo>
                    <a:lnTo>
                      <a:pt x="2232" y="268"/>
                    </a:lnTo>
                    <a:lnTo>
                      <a:pt x="2246" y="281"/>
                    </a:lnTo>
                    <a:lnTo>
                      <a:pt x="2259" y="294"/>
                    </a:lnTo>
                    <a:lnTo>
                      <a:pt x="2273" y="308"/>
                    </a:lnTo>
                    <a:lnTo>
                      <a:pt x="2287" y="321"/>
                    </a:lnTo>
                    <a:lnTo>
                      <a:pt x="2300" y="335"/>
                    </a:lnTo>
                    <a:lnTo>
                      <a:pt x="2312" y="350"/>
                    </a:lnTo>
                    <a:lnTo>
                      <a:pt x="2324" y="364"/>
                    </a:lnTo>
                    <a:lnTo>
                      <a:pt x="2337" y="378"/>
                    </a:lnTo>
                    <a:lnTo>
                      <a:pt x="2347" y="395"/>
                    </a:lnTo>
                    <a:lnTo>
                      <a:pt x="2356" y="413"/>
                    </a:lnTo>
                    <a:lnTo>
                      <a:pt x="2366" y="430"/>
                    </a:lnTo>
                    <a:lnTo>
                      <a:pt x="2376" y="447"/>
                    </a:lnTo>
                    <a:lnTo>
                      <a:pt x="2385" y="466"/>
                    </a:lnTo>
                    <a:lnTo>
                      <a:pt x="2393" y="484"/>
                    </a:lnTo>
                    <a:lnTo>
                      <a:pt x="2400" y="503"/>
                    </a:lnTo>
                    <a:lnTo>
                      <a:pt x="2408" y="521"/>
                    </a:lnTo>
                    <a:lnTo>
                      <a:pt x="2413" y="540"/>
                    </a:lnTo>
                    <a:lnTo>
                      <a:pt x="2418" y="561"/>
                    </a:lnTo>
                    <a:lnTo>
                      <a:pt x="2423" y="581"/>
                    </a:lnTo>
                    <a:lnTo>
                      <a:pt x="2428" y="602"/>
                    </a:lnTo>
                    <a:lnTo>
                      <a:pt x="2429" y="624"/>
                    </a:lnTo>
                    <a:lnTo>
                      <a:pt x="2431" y="647"/>
                    </a:lnTo>
                    <a:lnTo>
                      <a:pt x="2433" y="669"/>
                    </a:lnTo>
                    <a:lnTo>
                      <a:pt x="2434" y="692"/>
                    </a:lnTo>
                    <a:lnTo>
                      <a:pt x="2432" y="709"/>
                    </a:lnTo>
                    <a:lnTo>
                      <a:pt x="2429" y="726"/>
                    </a:lnTo>
                    <a:lnTo>
                      <a:pt x="2428" y="745"/>
                    </a:lnTo>
                    <a:lnTo>
                      <a:pt x="2426" y="762"/>
                    </a:lnTo>
                    <a:lnTo>
                      <a:pt x="2421" y="778"/>
                    </a:lnTo>
                    <a:lnTo>
                      <a:pt x="2416" y="796"/>
                    </a:lnTo>
                    <a:lnTo>
                      <a:pt x="2411" y="813"/>
                    </a:lnTo>
                    <a:lnTo>
                      <a:pt x="2406" y="830"/>
                    </a:lnTo>
                    <a:lnTo>
                      <a:pt x="2398" y="846"/>
                    </a:lnTo>
                    <a:lnTo>
                      <a:pt x="2390" y="860"/>
                    </a:lnTo>
                    <a:lnTo>
                      <a:pt x="2383" y="875"/>
                    </a:lnTo>
                    <a:lnTo>
                      <a:pt x="2374" y="891"/>
                    </a:lnTo>
                    <a:lnTo>
                      <a:pt x="2363" y="905"/>
                    </a:lnTo>
                    <a:lnTo>
                      <a:pt x="2352" y="919"/>
                    </a:lnTo>
                    <a:lnTo>
                      <a:pt x="2342" y="935"/>
                    </a:lnTo>
                    <a:lnTo>
                      <a:pt x="2330" y="949"/>
                    </a:lnTo>
                    <a:lnTo>
                      <a:pt x="2316" y="962"/>
                    </a:lnTo>
                    <a:lnTo>
                      <a:pt x="2303" y="975"/>
                    </a:lnTo>
                    <a:lnTo>
                      <a:pt x="2289" y="989"/>
                    </a:lnTo>
                    <a:lnTo>
                      <a:pt x="2275" y="1002"/>
                    </a:lnTo>
                    <a:lnTo>
                      <a:pt x="2259" y="1013"/>
                    </a:lnTo>
                    <a:lnTo>
                      <a:pt x="2244" y="1025"/>
                    </a:lnTo>
                    <a:lnTo>
                      <a:pt x="2228" y="1038"/>
                    </a:lnTo>
                    <a:lnTo>
                      <a:pt x="2212" y="1049"/>
                    </a:lnTo>
                    <a:lnTo>
                      <a:pt x="2194" y="1060"/>
                    </a:lnTo>
                    <a:lnTo>
                      <a:pt x="2175" y="1070"/>
                    </a:lnTo>
                    <a:lnTo>
                      <a:pt x="2157" y="1082"/>
                    </a:lnTo>
                    <a:lnTo>
                      <a:pt x="2139" y="1092"/>
                    </a:lnTo>
                    <a:lnTo>
                      <a:pt x="2118" y="1102"/>
                    </a:lnTo>
                    <a:lnTo>
                      <a:pt x="2099" y="1111"/>
                    </a:lnTo>
                    <a:lnTo>
                      <a:pt x="2078" y="1120"/>
                    </a:lnTo>
                    <a:lnTo>
                      <a:pt x="2059" y="1130"/>
                    </a:lnTo>
                    <a:lnTo>
                      <a:pt x="2036" y="1138"/>
                    </a:lnTo>
                    <a:lnTo>
                      <a:pt x="2015" y="1146"/>
                    </a:lnTo>
                    <a:lnTo>
                      <a:pt x="1993" y="1153"/>
                    </a:lnTo>
                    <a:lnTo>
                      <a:pt x="1971" y="1161"/>
                    </a:lnTo>
                    <a:lnTo>
                      <a:pt x="1948" y="1167"/>
                    </a:lnTo>
                    <a:lnTo>
                      <a:pt x="1924" y="1174"/>
                    </a:lnTo>
                    <a:lnTo>
                      <a:pt x="1901" y="1181"/>
                    </a:lnTo>
                    <a:lnTo>
                      <a:pt x="1878" y="1187"/>
                    </a:lnTo>
                    <a:lnTo>
                      <a:pt x="1854" y="1192"/>
                    </a:lnTo>
                    <a:lnTo>
                      <a:pt x="1829" y="1197"/>
                    </a:lnTo>
                    <a:lnTo>
                      <a:pt x="1805" y="1202"/>
                    </a:lnTo>
                    <a:lnTo>
                      <a:pt x="1780" y="1207"/>
                    </a:lnTo>
                    <a:lnTo>
                      <a:pt x="1755" y="1210"/>
                    </a:lnTo>
                    <a:lnTo>
                      <a:pt x="1730" y="1212"/>
                    </a:lnTo>
                    <a:lnTo>
                      <a:pt x="1705" y="1215"/>
                    </a:lnTo>
                    <a:lnTo>
                      <a:pt x="1679" y="1218"/>
                    </a:lnTo>
                    <a:lnTo>
                      <a:pt x="1654" y="1220"/>
                    </a:lnTo>
                    <a:lnTo>
                      <a:pt x="1627" y="1222"/>
                    </a:lnTo>
                    <a:lnTo>
                      <a:pt x="1601" y="1224"/>
                    </a:lnTo>
                    <a:lnTo>
                      <a:pt x="1576" y="1227"/>
                    </a:lnTo>
                    <a:lnTo>
                      <a:pt x="1549" y="1227"/>
                    </a:lnTo>
                    <a:lnTo>
                      <a:pt x="1523" y="1227"/>
                    </a:lnTo>
                    <a:lnTo>
                      <a:pt x="1496" y="1227"/>
                    </a:lnTo>
                    <a:lnTo>
                      <a:pt x="1471" y="1227"/>
                    </a:lnTo>
                    <a:lnTo>
                      <a:pt x="1443" y="1224"/>
                    </a:lnTo>
                    <a:lnTo>
                      <a:pt x="1417" y="1222"/>
                    </a:lnTo>
                    <a:lnTo>
                      <a:pt x="1390" y="1220"/>
                    </a:lnTo>
                    <a:lnTo>
                      <a:pt x="1363" y="1218"/>
                    </a:lnTo>
                    <a:lnTo>
                      <a:pt x="1336" y="1215"/>
                    </a:lnTo>
                    <a:lnTo>
                      <a:pt x="1310" y="1211"/>
                    </a:lnTo>
                    <a:lnTo>
                      <a:pt x="1283" y="1207"/>
                    </a:lnTo>
                    <a:lnTo>
                      <a:pt x="1255" y="1203"/>
                    </a:lnTo>
                    <a:lnTo>
                      <a:pt x="1231" y="1199"/>
                    </a:lnTo>
                    <a:lnTo>
                      <a:pt x="1205" y="1196"/>
                    </a:lnTo>
                    <a:lnTo>
                      <a:pt x="1180" y="1192"/>
                    </a:lnTo>
                    <a:lnTo>
                      <a:pt x="1154" y="1188"/>
                    </a:lnTo>
                    <a:lnTo>
                      <a:pt x="1131" y="1184"/>
                    </a:lnTo>
                    <a:lnTo>
                      <a:pt x="1107" y="1181"/>
                    </a:lnTo>
                    <a:lnTo>
                      <a:pt x="1084" y="1177"/>
                    </a:lnTo>
                    <a:lnTo>
                      <a:pt x="1060" y="1173"/>
                    </a:lnTo>
                    <a:lnTo>
                      <a:pt x="1039" y="1171"/>
                    </a:lnTo>
                    <a:lnTo>
                      <a:pt x="1019" y="1168"/>
                    </a:lnTo>
                    <a:lnTo>
                      <a:pt x="998" y="1165"/>
                    </a:lnTo>
                    <a:lnTo>
                      <a:pt x="977" y="1163"/>
                    </a:lnTo>
                    <a:lnTo>
                      <a:pt x="958" y="1161"/>
                    </a:lnTo>
                    <a:lnTo>
                      <a:pt x="940" y="1159"/>
                    </a:lnTo>
                    <a:lnTo>
                      <a:pt x="922" y="1158"/>
                    </a:lnTo>
                    <a:lnTo>
                      <a:pt x="903" y="1156"/>
                    </a:lnTo>
                    <a:lnTo>
                      <a:pt x="887" y="1154"/>
                    </a:lnTo>
                    <a:lnTo>
                      <a:pt x="870" y="1153"/>
                    </a:lnTo>
                    <a:lnTo>
                      <a:pt x="854" y="1152"/>
                    </a:lnTo>
                    <a:lnTo>
                      <a:pt x="838" y="1150"/>
                    </a:lnTo>
                    <a:lnTo>
                      <a:pt x="824" y="1150"/>
                    </a:lnTo>
                    <a:lnTo>
                      <a:pt x="809" y="1151"/>
                    </a:lnTo>
                    <a:lnTo>
                      <a:pt x="794" y="1151"/>
                    </a:lnTo>
                    <a:lnTo>
                      <a:pt x="780" y="1151"/>
                    </a:lnTo>
                    <a:lnTo>
                      <a:pt x="767" y="1151"/>
                    </a:lnTo>
                    <a:lnTo>
                      <a:pt x="755" y="1152"/>
                    </a:lnTo>
                    <a:lnTo>
                      <a:pt x="742" y="1152"/>
                    </a:lnTo>
                    <a:lnTo>
                      <a:pt x="730" y="1153"/>
                    </a:lnTo>
                    <a:lnTo>
                      <a:pt x="719" y="1154"/>
                    </a:lnTo>
                    <a:lnTo>
                      <a:pt x="708" y="1155"/>
                    </a:lnTo>
                    <a:lnTo>
                      <a:pt x="697" y="1156"/>
                    </a:lnTo>
                    <a:lnTo>
                      <a:pt x="686" y="1157"/>
                    </a:lnTo>
                    <a:lnTo>
                      <a:pt x="677" y="1159"/>
                    </a:lnTo>
                    <a:lnTo>
                      <a:pt x="668" y="1161"/>
                    </a:lnTo>
                    <a:lnTo>
                      <a:pt x="659" y="1164"/>
                    </a:lnTo>
                    <a:lnTo>
                      <a:pt x="650" y="1166"/>
                    </a:lnTo>
                    <a:lnTo>
                      <a:pt x="636" y="1171"/>
                    </a:lnTo>
                    <a:lnTo>
                      <a:pt x="620" y="1177"/>
                    </a:lnTo>
                    <a:lnTo>
                      <a:pt x="608" y="1185"/>
                    </a:lnTo>
                    <a:lnTo>
                      <a:pt x="597" y="1192"/>
                    </a:lnTo>
                    <a:lnTo>
                      <a:pt x="587" y="1200"/>
                    </a:lnTo>
                    <a:lnTo>
                      <a:pt x="576" y="1209"/>
                    </a:lnTo>
                    <a:lnTo>
                      <a:pt x="569" y="1219"/>
                    </a:lnTo>
                    <a:lnTo>
                      <a:pt x="563" y="1230"/>
                    </a:lnTo>
                    <a:lnTo>
                      <a:pt x="558" y="1242"/>
                    </a:lnTo>
                    <a:lnTo>
                      <a:pt x="553" y="1254"/>
                    </a:lnTo>
                    <a:lnTo>
                      <a:pt x="551" y="1268"/>
                    </a:lnTo>
                    <a:lnTo>
                      <a:pt x="549" y="1284"/>
                    </a:lnTo>
                    <a:lnTo>
                      <a:pt x="548" y="1298"/>
                    </a:lnTo>
                    <a:lnTo>
                      <a:pt x="547" y="1312"/>
                    </a:lnTo>
                    <a:lnTo>
                      <a:pt x="551" y="1337"/>
                    </a:lnTo>
                    <a:lnTo>
                      <a:pt x="554" y="1361"/>
                    </a:lnTo>
                    <a:lnTo>
                      <a:pt x="557" y="1385"/>
                    </a:lnTo>
                    <a:lnTo>
                      <a:pt x="561" y="1408"/>
                    </a:lnTo>
                    <a:lnTo>
                      <a:pt x="569" y="1430"/>
                    </a:lnTo>
                    <a:lnTo>
                      <a:pt x="577" y="1450"/>
                    </a:lnTo>
                    <a:lnTo>
                      <a:pt x="586" y="1471"/>
                    </a:lnTo>
                    <a:lnTo>
                      <a:pt x="595" y="1491"/>
                    </a:lnTo>
                    <a:lnTo>
                      <a:pt x="607" y="1508"/>
                    </a:lnTo>
                    <a:lnTo>
                      <a:pt x="619" y="1526"/>
                    </a:lnTo>
                    <a:lnTo>
                      <a:pt x="632" y="1543"/>
                    </a:lnTo>
                    <a:lnTo>
                      <a:pt x="645" y="1560"/>
                    </a:lnTo>
                    <a:lnTo>
                      <a:pt x="659" y="1576"/>
                    </a:lnTo>
                    <a:lnTo>
                      <a:pt x="673" y="1591"/>
                    </a:lnTo>
                    <a:lnTo>
                      <a:pt x="688" y="1606"/>
                    </a:lnTo>
                    <a:lnTo>
                      <a:pt x="702" y="1621"/>
                    </a:lnTo>
                    <a:lnTo>
                      <a:pt x="716" y="1632"/>
                    </a:lnTo>
                    <a:lnTo>
                      <a:pt x="731" y="1644"/>
                    </a:lnTo>
                    <a:lnTo>
                      <a:pt x="745" y="1655"/>
                    </a:lnTo>
                    <a:lnTo>
                      <a:pt x="760" y="1667"/>
                    </a:lnTo>
                    <a:lnTo>
                      <a:pt x="772" y="1675"/>
                    </a:lnTo>
                    <a:lnTo>
                      <a:pt x="785" y="1682"/>
                    </a:lnTo>
                    <a:lnTo>
                      <a:pt x="797" y="1690"/>
                    </a:lnTo>
                    <a:lnTo>
                      <a:pt x="809" y="1698"/>
                    </a:lnTo>
                    <a:lnTo>
                      <a:pt x="818" y="1703"/>
                    </a:lnTo>
                    <a:lnTo>
                      <a:pt x="827" y="1708"/>
                    </a:lnTo>
                    <a:lnTo>
                      <a:pt x="835" y="1713"/>
                    </a:lnTo>
                    <a:lnTo>
                      <a:pt x="844" y="1719"/>
                    </a:lnTo>
                    <a:lnTo>
                      <a:pt x="851" y="1723"/>
                    </a:lnTo>
                    <a:lnTo>
                      <a:pt x="857" y="1726"/>
                    </a:lnTo>
                    <a:lnTo>
                      <a:pt x="859" y="1783"/>
                    </a:lnTo>
                    <a:lnTo>
                      <a:pt x="861" y="1840"/>
                    </a:lnTo>
                    <a:lnTo>
                      <a:pt x="863" y="1897"/>
                    </a:lnTo>
                    <a:lnTo>
                      <a:pt x="865" y="1954"/>
                    </a:lnTo>
                    <a:lnTo>
                      <a:pt x="867" y="2012"/>
                    </a:lnTo>
                    <a:lnTo>
                      <a:pt x="869" y="2069"/>
                    </a:lnTo>
                    <a:lnTo>
                      <a:pt x="872" y="2126"/>
                    </a:lnTo>
                    <a:lnTo>
                      <a:pt x="874" y="2183"/>
                    </a:lnTo>
                    <a:lnTo>
                      <a:pt x="868" y="2182"/>
                    </a:lnTo>
                    <a:lnTo>
                      <a:pt x="863" y="2180"/>
                    </a:lnTo>
                    <a:lnTo>
                      <a:pt x="849" y="2173"/>
                    </a:lnTo>
                    <a:lnTo>
                      <a:pt x="836" y="2165"/>
                    </a:lnTo>
                    <a:lnTo>
                      <a:pt x="825" y="2160"/>
                    </a:lnTo>
                    <a:lnTo>
                      <a:pt x="814" y="2156"/>
                    </a:lnTo>
                    <a:lnTo>
                      <a:pt x="804" y="2149"/>
                    </a:lnTo>
                    <a:lnTo>
                      <a:pt x="794" y="2144"/>
                    </a:lnTo>
                    <a:lnTo>
                      <a:pt x="780" y="2137"/>
                    </a:lnTo>
                    <a:lnTo>
                      <a:pt x="765" y="2129"/>
                    </a:lnTo>
                    <a:lnTo>
                      <a:pt x="752" y="2122"/>
                    </a:lnTo>
                    <a:lnTo>
                      <a:pt x="738" y="2114"/>
                    </a:lnTo>
                    <a:lnTo>
                      <a:pt x="721" y="2105"/>
                    </a:lnTo>
                    <a:lnTo>
                      <a:pt x="705" y="2095"/>
                    </a:lnTo>
                    <a:lnTo>
                      <a:pt x="689" y="2085"/>
                    </a:lnTo>
                    <a:lnTo>
                      <a:pt x="672" y="2076"/>
                    </a:lnTo>
                    <a:lnTo>
                      <a:pt x="655" y="2066"/>
                    </a:lnTo>
                    <a:lnTo>
                      <a:pt x="637" y="2054"/>
                    </a:lnTo>
                    <a:lnTo>
                      <a:pt x="618" y="2044"/>
                    </a:lnTo>
                    <a:lnTo>
                      <a:pt x="601" y="2033"/>
                    </a:lnTo>
                    <a:lnTo>
                      <a:pt x="581" y="2020"/>
                    </a:lnTo>
                    <a:lnTo>
                      <a:pt x="560" y="2007"/>
                    </a:lnTo>
                    <a:lnTo>
                      <a:pt x="541" y="1993"/>
                    </a:lnTo>
                    <a:lnTo>
                      <a:pt x="521" y="1981"/>
                    </a:lnTo>
                    <a:lnTo>
                      <a:pt x="501" y="1967"/>
                    </a:lnTo>
                    <a:lnTo>
                      <a:pt x="480" y="1952"/>
                    </a:lnTo>
                    <a:lnTo>
                      <a:pt x="461" y="1938"/>
                    </a:lnTo>
                    <a:lnTo>
                      <a:pt x="442" y="1923"/>
                    </a:lnTo>
                    <a:lnTo>
                      <a:pt x="420" y="1907"/>
                    </a:lnTo>
                    <a:lnTo>
                      <a:pt x="400" y="1892"/>
                    </a:lnTo>
                    <a:lnTo>
                      <a:pt x="379" y="1876"/>
                    </a:lnTo>
                    <a:lnTo>
                      <a:pt x="359" y="1859"/>
                    </a:lnTo>
                    <a:lnTo>
                      <a:pt x="340" y="1843"/>
                    </a:lnTo>
                    <a:lnTo>
                      <a:pt x="320" y="1826"/>
                    </a:lnTo>
                    <a:lnTo>
                      <a:pt x="301" y="1809"/>
                    </a:lnTo>
                    <a:lnTo>
                      <a:pt x="281" y="1792"/>
                    </a:lnTo>
                    <a:lnTo>
                      <a:pt x="263" y="1774"/>
                    </a:lnTo>
                    <a:lnTo>
                      <a:pt x="244" y="1754"/>
                    </a:lnTo>
                    <a:lnTo>
                      <a:pt x="225" y="1736"/>
                    </a:lnTo>
                    <a:lnTo>
                      <a:pt x="206" y="1718"/>
                    </a:lnTo>
                    <a:lnTo>
                      <a:pt x="190" y="1697"/>
                    </a:lnTo>
                    <a:lnTo>
                      <a:pt x="173" y="1678"/>
                    </a:lnTo>
                    <a:lnTo>
                      <a:pt x="157" y="1657"/>
                    </a:lnTo>
                    <a:lnTo>
                      <a:pt x="141" y="1638"/>
                    </a:lnTo>
                    <a:lnTo>
                      <a:pt x="126" y="1618"/>
                    </a:lnTo>
                    <a:lnTo>
                      <a:pt x="112" y="1597"/>
                    </a:lnTo>
                    <a:lnTo>
                      <a:pt x="99" y="1577"/>
                    </a:lnTo>
                    <a:lnTo>
                      <a:pt x="84" y="1556"/>
                    </a:lnTo>
                    <a:lnTo>
                      <a:pt x="74" y="1534"/>
                    </a:lnTo>
                    <a:lnTo>
                      <a:pt x="63" y="1512"/>
                    </a:lnTo>
                    <a:lnTo>
                      <a:pt x="52" y="1491"/>
                    </a:lnTo>
                    <a:lnTo>
                      <a:pt x="40" y="1469"/>
                    </a:lnTo>
                    <a:lnTo>
                      <a:pt x="33" y="1446"/>
                    </a:lnTo>
                    <a:lnTo>
                      <a:pt x="26" y="1424"/>
                    </a:lnTo>
                    <a:lnTo>
                      <a:pt x="18" y="1400"/>
                    </a:lnTo>
                    <a:lnTo>
                      <a:pt x="11" y="1378"/>
                    </a:lnTo>
                    <a:lnTo>
                      <a:pt x="8" y="1354"/>
                    </a:lnTo>
                    <a:lnTo>
                      <a:pt x="5" y="1331"/>
                    </a:lnTo>
                    <a:lnTo>
                      <a:pt x="2" y="1308"/>
                    </a:lnTo>
                    <a:lnTo>
                      <a:pt x="0" y="1285"/>
                    </a:lnTo>
                    <a:lnTo>
                      <a:pt x="1" y="1261"/>
                    </a:lnTo>
                    <a:lnTo>
                      <a:pt x="1" y="1239"/>
                    </a:lnTo>
                    <a:lnTo>
                      <a:pt x="2" y="1216"/>
                    </a:lnTo>
                    <a:lnTo>
                      <a:pt x="4" y="1193"/>
                    </a:lnTo>
                    <a:lnTo>
                      <a:pt x="7" y="1172"/>
                    </a:lnTo>
                    <a:lnTo>
                      <a:pt x="10" y="1151"/>
                    </a:lnTo>
                    <a:lnTo>
                      <a:pt x="13" y="1131"/>
                    </a:lnTo>
                    <a:lnTo>
                      <a:pt x="17" y="1109"/>
                    </a:lnTo>
                    <a:lnTo>
                      <a:pt x="23" y="1091"/>
                    </a:lnTo>
                    <a:lnTo>
                      <a:pt x="30" y="1071"/>
                    </a:lnTo>
                    <a:lnTo>
                      <a:pt x="36" y="1053"/>
                    </a:lnTo>
                    <a:lnTo>
                      <a:pt x="44" y="1034"/>
                    </a:lnTo>
                    <a:lnTo>
                      <a:pt x="52" y="1016"/>
                    </a:lnTo>
                    <a:lnTo>
                      <a:pt x="61" y="999"/>
                    </a:lnTo>
                    <a:lnTo>
                      <a:pt x="70" y="981"/>
                    </a:lnTo>
                    <a:lnTo>
                      <a:pt x="79" y="964"/>
                    </a:lnTo>
                    <a:lnTo>
                      <a:pt x="89" y="948"/>
                    </a:lnTo>
                    <a:lnTo>
                      <a:pt x="101" y="932"/>
                    </a:lnTo>
                    <a:lnTo>
                      <a:pt x="112" y="917"/>
                    </a:lnTo>
                    <a:lnTo>
                      <a:pt x="123" y="901"/>
                    </a:lnTo>
                    <a:lnTo>
                      <a:pt x="136" y="888"/>
                    </a:lnTo>
                    <a:lnTo>
                      <a:pt x="150" y="874"/>
                    </a:lnTo>
                    <a:lnTo>
                      <a:pt x="163" y="861"/>
                    </a:lnTo>
                    <a:lnTo>
                      <a:pt x="176" y="847"/>
                    </a:lnTo>
                    <a:lnTo>
                      <a:pt x="192" y="835"/>
                    </a:lnTo>
                    <a:lnTo>
                      <a:pt x="207" y="823"/>
                    </a:lnTo>
                    <a:lnTo>
                      <a:pt x="221" y="811"/>
                    </a:lnTo>
                    <a:lnTo>
                      <a:pt x="236" y="800"/>
                    </a:lnTo>
                    <a:lnTo>
                      <a:pt x="253" y="790"/>
                    </a:lnTo>
                    <a:lnTo>
                      <a:pt x="270" y="779"/>
                    </a:lnTo>
                    <a:lnTo>
                      <a:pt x="288" y="770"/>
                    </a:lnTo>
                    <a:lnTo>
                      <a:pt x="304" y="759"/>
                    </a:lnTo>
                    <a:lnTo>
                      <a:pt x="322" y="752"/>
                    </a:lnTo>
                    <a:lnTo>
                      <a:pt x="340" y="744"/>
                    </a:lnTo>
                    <a:lnTo>
                      <a:pt x="358" y="734"/>
                    </a:lnTo>
                    <a:lnTo>
                      <a:pt x="375" y="726"/>
                    </a:lnTo>
                    <a:lnTo>
                      <a:pt x="395" y="720"/>
                    </a:lnTo>
                    <a:lnTo>
                      <a:pt x="414" y="714"/>
                    </a:lnTo>
                    <a:lnTo>
                      <a:pt x="434" y="708"/>
                    </a:lnTo>
                    <a:lnTo>
                      <a:pt x="454" y="702"/>
                    </a:lnTo>
                    <a:lnTo>
                      <a:pt x="474" y="698"/>
                    </a:lnTo>
                    <a:lnTo>
                      <a:pt x="496" y="693"/>
                    </a:lnTo>
                    <a:lnTo>
                      <a:pt x="516" y="688"/>
                    </a:lnTo>
                    <a:lnTo>
                      <a:pt x="538" y="684"/>
                    </a:lnTo>
                    <a:lnTo>
                      <a:pt x="558" y="681"/>
                    </a:lnTo>
                    <a:lnTo>
                      <a:pt x="579" y="678"/>
                    </a:lnTo>
                    <a:lnTo>
                      <a:pt x="600" y="675"/>
                    </a:lnTo>
                    <a:lnTo>
                      <a:pt x="620" y="671"/>
                    </a:lnTo>
                    <a:lnTo>
                      <a:pt x="643" y="671"/>
                    </a:lnTo>
                    <a:lnTo>
                      <a:pt x="665" y="670"/>
                    </a:lnTo>
                    <a:lnTo>
                      <a:pt x="688" y="670"/>
                    </a:lnTo>
                    <a:lnTo>
                      <a:pt x="710" y="669"/>
                    </a:lnTo>
                    <a:lnTo>
                      <a:pt x="733" y="669"/>
                    </a:lnTo>
                    <a:lnTo>
                      <a:pt x="755" y="670"/>
                    </a:lnTo>
                    <a:lnTo>
                      <a:pt x="778" y="671"/>
                    </a:lnTo>
                    <a:lnTo>
                      <a:pt x="800" y="671"/>
                    </a:lnTo>
                    <a:lnTo>
                      <a:pt x="823" y="674"/>
                    </a:lnTo>
                    <a:lnTo>
                      <a:pt x="845" y="677"/>
                    </a:lnTo>
                    <a:lnTo>
                      <a:pt x="866" y="680"/>
                    </a:lnTo>
                    <a:lnTo>
                      <a:pt x="889" y="682"/>
                    </a:lnTo>
                    <a:lnTo>
                      <a:pt x="912" y="687"/>
                    </a:lnTo>
                    <a:lnTo>
                      <a:pt x="935" y="692"/>
                    </a:lnTo>
                    <a:lnTo>
                      <a:pt x="958" y="697"/>
                    </a:lnTo>
                    <a:lnTo>
                      <a:pt x="982" y="701"/>
                    </a:lnTo>
                    <a:lnTo>
                      <a:pt x="1004" y="706"/>
                    </a:lnTo>
                    <a:lnTo>
                      <a:pt x="1027" y="710"/>
                    </a:lnTo>
                    <a:lnTo>
                      <a:pt x="1050" y="715"/>
                    </a:lnTo>
                    <a:lnTo>
                      <a:pt x="1073" y="720"/>
                    </a:lnTo>
                    <a:lnTo>
                      <a:pt x="1095" y="724"/>
                    </a:lnTo>
                    <a:lnTo>
                      <a:pt x="1118" y="728"/>
                    </a:lnTo>
                    <a:lnTo>
                      <a:pt x="1140" y="731"/>
                    </a:lnTo>
                    <a:lnTo>
                      <a:pt x="1162" y="735"/>
                    </a:lnTo>
                    <a:lnTo>
                      <a:pt x="1185" y="738"/>
                    </a:lnTo>
                    <a:lnTo>
                      <a:pt x="1207" y="741"/>
                    </a:lnTo>
                    <a:lnTo>
                      <a:pt x="1230" y="744"/>
                    </a:lnTo>
                    <a:lnTo>
                      <a:pt x="1251" y="746"/>
                    </a:lnTo>
                    <a:lnTo>
                      <a:pt x="1274" y="748"/>
                    </a:lnTo>
                    <a:lnTo>
                      <a:pt x="1295" y="750"/>
                    </a:lnTo>
                    <a:lnTo>
                      <a:pt x="1317" y="751"/>
                    </a:lnTo>
                    <a:lnTo>
                      <a:pt x="1339" y="753"/>
                    </a:lnTo>
                    <a:lnTo>
                      <a:pt x="1361" y="753"/>
                    </a:lnTo>
                    <a:lnTo>
                      <a:pt x="1383" y="754"/>
                    </a:lnTo>
                    <a:lnTo>
                      <a:pt x="1404" y="755"/>
                    </a:lnTo>
                    <a:lnTo>
                      <a:pt x="1427" y="755"/>
                    </a:lnTo>
                    <a:lnTo>
                      <a:pt x="1447" y="756"/>
                    </a:lnTo>
                    <a:lnTo>
                      <a:pt x="1467" y="756"/>
                    </a:lnTo>
                    <a:lnTo>
                      <a:pt x="1487" y="756"/>
                    </a:lnTo>
                    <a:lnTo>
                      <a:pt x="1508" y="757"/>
                    </a:lnTo>
                    <a:lnTo>
                      <a:pt x="1527" y="756"/>
                    </a:lnTo>
                    <a:lnTo>
                      <a:pt x="1547" y="755"/>
                    </a:lnTo>
                    <a:lnTo>
                      <a:pt x="1567" y="754"/>
                    </a:lnTo>
                    <a:lnTo>
                      <a:pt x="1587" y="753"/>
                    </a:lnTo>
                    <a:lnTo>
                      <a:pt x="1607" y="752"/>
                    </a:lnTo>
                    <a:lnTo>
                      <a:pt x="1625" y="750"/>
                    </a:lnTo>
                    <a:lnTo>
                      <a:pt x="1644" y="749"/>
                    </a:lnTo>
                    <a:lnTo>
                      <a:pt x="1663" y="747"/>
                    </a:lnTo>
                    <a:lnTo>
                      <a:pt x="1681" y="745"/>
                    </a:lnTo>
                    <a:lnTo>
                      <a:pt x="1698" y="743"/>
                    </a:lnTo>
                    <a:lnTo>
                      <a:pt x="1717" y="742"/>
                    </a:lnTo>
                    <a:lnTo>
                      <a:pt x="1735" y="740"/>
                    </a:lnTo>
                    <a:lnTo>
                      <a:pt x="1751" y="736"/>
                    </a:lnTo>
                    <a:lnTo>
                      <a:pt x="1767" y="734"/>
                    </a:lnTo>
                    <a:lnTo>
                      <a:pt x="1782" y="731"/>
                    </a:lnTo>
                    <a:lnTo>
                      <a:pt x="1799" y="728"/>
                    </a:lnTo>
                    <a:lnTo>
                      <a:pt x="1813" y="725"/>
                    </a:lnTo>
                    <a:lnTo>
                      <a:pt x="1828" y="721"/>
                    </a:lnTo>
                    <a:lnTo>
                      <a:pt x="1842" y="718"/>
                    </a:lnTo>
                    <a:lnTo>
                      <a:pt x="1858" y="715"/>
                    </a:lnTo>
                    <a:lnTo>
                      <a:pt x="1871" y="711"/>
                    </a:lnTo>
                    <a:lnTo>
                      <a:pt x="1883" y="707"/>
                    </a:lnTo>
                    <a:lnTo>
                      <a:pt x="1897" y="703"/>
                    </a:lnTo>
                    <a:lnTo>
                      <a:pt x="1910" y="698"/>
                    </a:lnTo>
                    <a:lnTo>
                      <a:pt x="1921" y="695"/>
                    </a:lnTo>
                    <a:lnTo>
                      <a:pt x="1932" y="691"/>
                    </a:lnTo>
                    <a:lnTo>
                      <a:pt x="1942" y="686"/>
                    </a:lnTo>
                    <a:lnTo>
                      <a:pt x="1954" y="682"/>
                    </a:lnTo>
                    <a:lnTo>
                      <a:pt x="1963" y="677"/>
                    </a:lnTo>
                    <a:lnTo>
                      <a:pt x="1972" y="672"/>
                    </a:lnTo>
                    <a:lnTo>
                      <a:pt x="1981" y="668"/>
                    </a:lnTo>
                    <a:lnTo>
                      <a:pt x="1990" y="663"/>
                    </a:lnTo>
                    <a:lnTo>
                      <a:pt x="2005" y="653"/>
                    </a:lnTo>
                    <a:lnTo>
                      <a:pt x="2019" y="644"/>
                    </a:lnTo>
                    <a:lnTo>
                      <a:pt x="2027" y="632"/>
                    </a:lnTo>
                    <a:lnTo>
                      <a:pt x="2036" y="621"/>
                    </a:lnTo>
                    <a:lnTo>
                      <a:pt x="2039" y="614"/>
                    </a:lnTo>
                    <a:lnTo>
                      <a:pt x="2044" y="606"/>
                    </a:lnTo>
                    <a:lnTo>
                      <a:pt x="2047" y="599"/>
                    </a:lnTo>
                    <a:lnTo>
                      <a:pt x="2051" y="590"/>
                    </a:lnTo>
                    <a:lnTo>
                      <a:pt x="2051" y="582"/>
                    </a:lnTo>
                    <a:lnTo>
                      <a:pt x="2052" y="575"/>
                    </a:lnTo>
                    <a:lnTo>
                      <a:pt x="2052" y="567"/>
                    </a:lnTo>
                    <a:lnTo>
                      <a:pt x="2053" y="559"/>
                    </a:lnTo>
                    <a:lnTo>
                      <a:pt x="2050" y="545"/>
                    </a:lnTo>
                    <a:lnTo>
                      <a:pt x="2047" y="529"/>
                    </a:lnTo>
                    <a:lnTo>
                      <a:pt x="2038" y="516"/>
                    </a:lnTo>
                    <a:lnTo>
                      <a:pt x="2030" y="502"/>
                    </a:lnTo>
                    <a:lnTo>
                      <a:pt x="2018" y="490"/>
                    </a:lnTo>
                    <a:lnTo>
                      <a:pt x="2007" y="479"/>
                    </a:lnTo>
                    <a:lnTo>
                      <a:pt x="1991" y="471"/>
                    </a:lnTo>
                    <a:lnTo>
                      <a:pt x="1976" y="463"/>
                    </a:lnTo>
                    <a:lnTo>
                      <a:pt x="1968" y="460"/>
                    </a:lnTo>
                    <a:lnTo>
                      <a:pt x="1959" y="457"/>
                    </a:lnTo>
                    <a:lnTo>
                      <a:pt x="1950" y="455"/>
                    </a:lnTo>
                    <a:lnTo>
                      <a:pt x="1941" y="452"/>
                    </a:lnTo>
                    <a:lnTo>
                      <a:pt x="1930" y="452"/>
                    </a:lnTo>
                    <a:lnTo>
                      <a:pt x="1920" y="452"/>
                    </a:lnTo>
                    <a:lnTo>
                      <a:pt x="1910" y="451"/>
                    </a:lnTo>
                    <a:lnTo>
                      <a:pt x="1900" y="451"/>
                    </a:lnTo>
                    <a:lnTo>
                      <a:pt x="1888" y="452"/>
                    </a:lnTo>
                    <a:lnTo>
                      <a:pt x="1878" y="454"/>
                    </a:lnTo>
                    <a:lnTo>
                      <a:pt x="1868" y="456"/>
                    </a:lnTo>
                    <a:lnTo>
                      <a:pt x="1858" y="458"/>
                    </a:lnTo>
                    <a:lnTo>
                      <a:pt x="1849" y="463"/>
                    </a:lnTo>
                    <a:lnTo>
                      <a:pt x="1840" y="466"/>
                    </a:lnTo>
                    <a:lnTo>
                      <a:pt x="1831" y="470"/>
                    </a:lnTo>
                    <a:lnTo>
                      <a:pt x="1822" y="474"/>
                    </a:lnTo>
                    <a:lnTo>
                      <a:pt x="1814" y="479"/>
                    </a:lnTo>
                    <a:lnTo>
                      <a:pt x="1807" y="482"/>
                    </a:lnTo>
                    <a:lnTo>
                      <a:pt x="1798" y="488"/>
                    </a:lnTo>
                    <a:lnTo>
                      <a:pt x="1788" y="492"/>
                    </a:lnTo>
                    <a:lnTo>
                      <a:pt x="1779" y="498"/>
                    </a:lnTo>
                    <a:lnTo>
                      <a:pt x="1771" y="503"/>
                    </a:lnTo>
                    <a:lnTo>
                      <a:pt x="1761" y="507"/>
                    </a:lnTo>
                    <a:lnTo>
                      <a:pt x="1753" y="512"/>
                    </a:lnTo>
                    <a:lnTo>
                      <a:pt x="1742" y="517"/>
                    </a:lnTo>
                    <a:lnTo>
                      <a:pt x="1732" y="521"/>
                    </a:lnTo>
                    <a:lnTo>
                      <a:pt x="1722" y="525"/>
                    </a:lnTo>
                    <a:lnTo>
                      <a:pt x="1713" y="528"/>
                    </a:lnTo>
                    <a:lnTo>
                      <a:pt x="1701" y="532"/>
                    </a:lnTo>
                    <a:lnTo>
                      <a:pt x="1689" y="535"/>
                    </a:lnTo>
                    <a:lnTo>
                      <a:pt x="1676" y="537"/>
                    </a:lnTo>
                    <a:lnTo>
                      <a:pt x="1663" y="539"/>
                    </a:lnTo>
                    <a:lnTo>
                      <a:pt x="1648" y="540"/>
                    </a:lnTo>
                    <a:lnTo>
                      <a:pt x="1635" y="540"/>
                    </a:lnTo>
                    <a:lnTo>
                      <a:pt x="1627" y="540"/>
                    </a:lnTo>
                    <a:lnTo>
                      <a:pt x="1618" y="539"/>
                    </a:lnTo>
                    <a:lnTo>
                      <a:pt x="1610" y="539"/>
                    </a:lnTo>
                    <a:lnTo>
                      <a:pt x="1601" y="538"/>
                    </a:lnTo>
                    <a:lnTo>
                      <a:pt x="1592" y="537"/>
                    </a:lnTo>
                    <a:lnTo>
                      <a:pt x="1583" y="536"/>
                    </a:lnTo>
                    <a:lnTo>
                      <a:pt x="1574" y="535"/>
                    </a:lnTo>
                    <a:lnTo>
                      <a:pt x="1566" y="534"/>
                    </a:lnTo>
                    <a:lnTo>
                      <a:pt x="1556" y="532"/>
                    </a:lnTo>
                    <a:lnTo>
                      <a:pt x="1545" y="530"/>
                    </a:lnTo>
                    <a:lnTo>
                      <a:pt x="1535" y="528"/>
                    </a:lnTo>
                    <a:lnTo>
                      <a:pt x="1526" y="527"/>
                    </a:lnTo>
                    <a:lnTo>
                      <a:pt x="1507" y="522"/>
                    </a:lnTo>
                    <a:lnTo>
                      <a:pt x="1488" y="517"/>
                    </a:lnTo>
                    <a:lnTo>
                      <a:pt x="1470" y="512"/>
                    </a:lnTo>
                    <a:lnTo>
                      <a:pt x="1450" y="507"/>
                    </a:lnTo>
                    <a:lnTo>
                      <a:pt x="1435" y="501"/>
                    </a:lnTo>
                    <a:lnTo>
                      <a:pt x="1420" y="494"/>
                    </a:lnTo>
                    <a:lnTo>
                      <a:pt x="1404" y="488"/>
                    </a:lnTo>
                    <a:lnTo>
                      <a:pt x="1389" y="482"/>
                    </a:lnTo>
                    <a:lnTo>
                      <a:pt x="1377" y="477"/>
                    </a:lnTo>
                    <a:lnTo>
                      <a:pt x="1365" y="471"/>
                    </a:lnTo>
                    <a:lnTo>
                      <a:pt x="1353" y="465"/>
                    </a:lnTo>
                    <a:lnTo>
                      <a:pt x="1341" y="459"/>
                    </a:lnTo>
                    <a:lnTo>
                      <a:pt x="1332" y="453"/>
                    </a:lnTo>
                    <a:lnTo>
                      <a:pt x="1323" y="445"/>
                    </a:lnTo>
                    <a:lnTo>
                      <a:pt x="1315" y="439"/>
                    </a:lnTo>
                    <a:lnTo>
                      <a:pt x="1305" y="432"/>
                    </a:lnTo>
                    <a:lnTo>
                      <a:pt x="1291" y="419"/>
                    </a:lnTo>
                    <a:lnTo>
                      <a:pt x="1278" y="406"/>
                    </a:lnTo>
                    <a:lnTo>
                      <a:pt x="1269" y="391"/>
                    </a:lnTo>
                    <a:lnTo>
                      <a:pt x="1259" y="377"/>
                    </a:lnTo>
                    <a:lnTo>
                      <a:pt x="1253" y="364"/>
                    </a:lnTo>
                    <a:lnTo>
                      <a:pt x="1247" y="351"/>
                    </a:lnTo>
                    <a:lnTo>
                      <a:pt x="1245" y="336"/>
                    </a:lnTo>
                    <a:lnTo>
                      <a:pt x="1243" y="321"/>
                    </a:lnTo>
                    <a:lnTo>
                      <a:pt x="1243" y="308"/>
                    </a:lnTo>
                    <a:lnTo>
                      <a:pt x="1242" y="292"/>
                    </a:lnTo>
                    <a:lnTo>
                      <a:pt x="1243" y="279"/>
                    </a:lnTo>
                    <a:lnTo>
                      <a:pt x="1243" y="266"/>
                    </a:lnTo>
                    <a:lnTo>
                      <a:pt x="1245" y="258"/>
                    </a:lnTo>
                    <a:lnTo>
                      <a:pt x="1246" y="249"/>
                    </a:lnTo>
                    <a:lnTo>
                      <a:pt x="1248" y="242"/>
                    </a:lnTo>
                    <a:lnTo>
                      <a:pt x="1249" y="234"/>
                    </a:lnTo>
                    <a:lnTo>
                      <a:pt x="1253" y="219"/>
                    </a:lnTo>
                    <a:lnTo>
                      <a:pt x="1257" y="204"/>
                    </a:lnTo>
                    <a:lnTo>
                      <a:pt x="1260" y="196"/>
                    </a:lnTo>
                    <a:lnTo>
                      <a:pt x="1264" y="188"/>
                    </a:lnTo>
                    <a:lnTo>
                      <a:pt x="1267" y="180"/>
                    </a:lnTo>
                    <a:lnTo>
                      <a:pt x="1270" y="172"/>
                    </a:lnTo>
                    <a:lnTo>
                      <a:pt x="1277" y="158"/>
                    </a:lnTo>
                    <a:lnTo>
                      <a:pt x="1286" y="142"/>
                    </a:lnTo>
                    <a:lnTo>
                      <a:pt x="1294" y="129"/>
                    </a:lnTo>
                    <a:lnTo>
                      <a:pt x="1303" y="114"/>
                    </a:lnTo>
                    <a:lnTo>
                      <a:pt x="1315" y="100"/>
                    </a:lnTo>
                    <a:lnTo>
                      <a:pt x="1326" y="87"/>
                    </a:lnTo>
                    <a:lnTo>
                      <a:pt x="1338" y="76"/>
                    </a:lnTo>
                    <a:lnTo>
                      <a:pt x="1351" y="64"/>
                    </a:lnTo>
                    <a:lnTo>
                      <a:pt x="1367" y="53"/>
                    </a:lnTo>
                    <a:lnTo>
                      <a:pt x="1381" y="42"/>
                    </a:lnTo>
                    <a:lnTo>
                      <a:pt x="1389" y="38"/>
                    </a:lnTo>
                    <a:lnTo>
                      <a:pt x="1397" y="33"/>
                    </a:lnTo>
                    <a:lnTo>
                      <a:pt x="1404" y="29"/>
                    </a:lnTo>
                    <a:lnTo>
                      <a:pt x="1413" y="24"/>
                    </a:lnTo>
                    <a:lnTo>
                      <a:pt x="1422" y="21"/>
                    </a:lnTo>
                    <a:lnTo>
                      <a:pt x="1431" y="18"/>
                    </a:lnTo>
                    <a:lnTo>
                      <a:pt x="1441" y="16"/>
                    </a:lnTo>
                    <a:lnTo>
                      <a:pt x="1450" y="13"/>
                    </a:lnTo>
                    <a:lnTo>
                      <a:pt x="1461" y="11"/>
                    </a:lnTo>
                    <a:lnTo>
                      <a:pt x="1471" y="9"/>
                    </a:lnTo>
                    <a:lnTo>
                      <a:pt x="1481" y="6"/>
                    </a:lnTo>
                    <a:lnTo>
                      <a:pt x="1492" y="4"/>
                    </a:lnTo>
                    <a:lnTo>
                      <a:pt x="1502" y="3"/>
                    </a:lnTo>
                    <a:lnTo>
                      <a:pt x="1514" y="2"/>
                    </a:lnTo>
                    <a:lnTo>
                      <a:pt x="1525" y="1"/>
                    </a:lnTo>
                    <a:lnTo>
                      <a:pt x="1536" y="0"/>
                    </a:lnTo>
                    <a:lnTo>
                      <a:pt x="1548" y="1"/>
                    </a:lnTo>
                    <a:lnTo>
                      <a:pt x="1561" y="2"/>
                    </a:lnTo>
                    <a:lnTo>
                      <a:pt x="1573" y="2"/>
                    </a:lnTo>
                    <a:lnTo>
                      <a:pt x="1585" y="2"/>
                    </a:lnTo>
                    <a:lnTo>
                      <a:pt x="1598" y="5"/>
                    </a:lnTo>
                    <a:lnTo>
                      <a:pt x="1613" y="8"/>
                    </a:lnTo>
                    <a:lnTo>
                      <a:pt x="1626" y="11"/>
                    </a:lnTo>
                    <a:lnTo>
                      <a:pt x="1639" y="14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388040" y="4449600"/>
                <a:ext cx="90360" cy="100800"/>
              </a:xfrm>
              <a:custGeom>
                <a:avLst/>
                <a:gdLst/>
                <a:ahLst/>
                <a:rect l="l" t="t" r="r" b="b"/>
                <a:pathLst>
                  <a:path w="1801" h="1905">
                    <a:moveTo>
                      <a:pt x="957" y="0"/>
                    </a:moveTo>
                    <a:lnTo>
                      <a:pt x="963" y="3"/>
                    </a:lnTo>
                    <a:lnTo>
                      <a:pt x="970" y="5"/>
                    </a:lnTo>
                    <a:lnTo>
                      <a:pt x="978" y="10"/>
                    </a:lnTo>
                    <a:lnTo>
                      <a:pt x="986" y="14"/>
                    </a:lnTo>
                    <a:lnTo>
                      <a:pt x="994" y="18"/>
                    </a:lnTo>
                    <a:lnTo>
                      <a:pt x="1003" y="22"/>
                    </a:lnTo>
                    <a:lnTo>
                      <a:pt x="1016" y="29"/>
                    </a:lnTo>
                    <a:lnTo>
                      <a:pt x="1027" y="35"/>
                    </a:lnTo>
                    <a:lnTo>
                      <a:pt x="1039" y="42"/>
                    </a:lnTo>
                    <a:lnTo>
                      <a:pt x="1050" y="48"/>
                    </a:lnTo>
                    <a:lnTo>
                      <a:pt x="1065" y="58"/>
                    </a:lnTo>
                    <a:lnTo>
                      <a:pt x="1079" y="68"/>
                    </a:lnTo>
                    <a:lnTo>
                      <a:pt x="1093" y="77"/>
                    </a:lnTo>
                    <a:lnTo>
                      <a:pt x="1106" y="88"/>
                    </a:lnTo>
                    <a:lnTo>
                      <a:pt x="1120" y="100"/>
                    </a:lnTo>
                    <a:lnTo>
                      <a:pt x="1133" y="111"/>
                    </a:lnTo>
                    <a:lnTo>
                      <a:pt x="1146" y="122"/>
                    </a:lnTo>
                    <a:lnTo>
                      <a:pt x="1161" y="134"/>
                    </a:lnTo>
                    <a:lnTo>
                      <a:pt x="1172" y="149"/>
                    </a:lnTo>
                    <a:lnTo>
                      <a:pt x="1184" y="163"/>
                    </a:lnTo>
                    <a:lnTo>
                      <a:pt x="1196" y="177"/>
                    </a:lnTo>
                    <a:lnTo>
                      <a:pt x="1208" y="192"/>
                    </a:lnTo>
                    <a:lnTo>
                      <a:pt x="1217" y="208"/>
                    </a:lnTo>
                    <a:lnTo>
                      <a:pt x="1225" y="224"/>
                    </a:lnTo>
                    <a:lnTo>
                      <a:pt x="1233" y="242"/>
                    </a:lnTo>
                    <a:lnTo>
                      <a:pt x="1242" y="258"/>
                    </a:lnTo>
                    <a:lnTo>
                      <a:pt x="1245" y="276"/>
                    </a:lnTo>
                    <a:lnTo>
                      <a:pt x="1247" y="296"/>
                    </a:lnTo>
                    <a:lnTo>
                      <a:pt x="1250" y="314"/>
                    </a:lnTo>
                    <a:lnTo>
                      <a:pt x="1253" y="333"/>
                    </a:lnTo>
                    <a:lnTo>
                      <a:pt x="1252" y="342"/>
                    </a:lnTo>
                    <a:lnTo>
                      <a:pt x="1251" y="351"/>
                    </a:lnTo>
                    <a:lnTo>
                      <a:pt x="1250" y="361"/>
                    </a:lnTo>
                    <a:lnTo>
                      <a:pt x="1249" y="370"/>
                    </a:lnTo>
                    <a:lnTo>
                      <a:pt x="1247" y="378"/>
                    </a:lnTo>
                    <a:lnTo>
                      <a:pt x="1245" y="388"/>
                    </a:lnTo>
                    <a:lnTo>
                      <a:pt x="1244" y="397"/>
                    </a:lnTo>
                    <a:lnTo>
                      <a:pt x="1242" y="406"/>
                    </a:lnTo>
                    <a:lnTo>
                      <a:pt x="1234" y="421"/>
                    </a:lnTo>
                    <a:lnTo>
                      <a:pt x="1226" y="437"/>
                    </a:lnTo>
                    <a:lnTo>
                      <a:pt x="1216" y="451"/>
                    </a:lnTo>
                    <a:lnTo>
                      <a:pt x="1206" y="464"/>
                    </a:lnTo>
                    <a:lnTo>
                      <a:pt x="1194" y="476"/>
                    </a:lnTo>
                    <a:lnTo>
                      <a:pt x="1182" y="489"/>
                    </a:lnTo>
                    <a:lnTo>
                      <a:pt x="1169" y="499"/>
                    </a:lnTo>
                    <a:lnTo>
                      <a:pt x="1154" y="510"/>
                    </a:lnTo>
                    <a:lnTo>
                      <a:pt x="1146" y="515"/>
                    </a:lnTo>
                    <a:lnTo>
                      <a:pt x="1138" y="520"/>
                    </a:lnTo>
                    <a:lnTo>
                      <a:pt x="1131" y="525"/>
                    </a:lnTo>
                    <a:lnTo>
                      <a:pt x="1123" y="531"/>
                    </a:lnTo>
                    <a:lnTo>
                      <a:pt x="1114" y="535"/>
                    </a:lnTo>
                    <a:lnTo>
                      <a:pt x="1105" y="539"/>
                    </a:lnTo>
                    <a:lnTo>
                      <a:pt x="1097" y="543"/>
                    </a:lnTo>
                    <a:lnTo>
                      <a:pt x="1089" y="547"/>
                    </a:lnTo>
                    <a:lnTo>
                      <a:pt x="1080" y="550"/>
                    </a:lnTo>
                    <a:lnTo>
                      <a:pt x="1071" y="554"/>
                    </a:lnTo>
                    <a:lnTo>
                      <a:pt x="1061" y="557"/>
                    </a:lnTo>
                    <a:lnTo>
                      <a:pt x="1053" y="560"/>
                    </a:lnTo>
                    <a:lnTo>
                      <a:pt x="1043" y="564"/>
                    </a:lnTo>
                    <a:lnTo>
                      <a:pt x="1034" y="567"/>
                    </a:lnTo>
                    <a:lnTo>
                      <a:pt x="1025" y="570"/>
                    </a:lnTo>
                    <a:lnTo>
                      <a:pt x="1015" y="573"/>
                    </a:lnTo>
                    <a:lnTo>
                      <a:pt x="1005" y="576"/>
                    </a:lnTo>
                    <a:lnTo>
                      <a:pt x="996" y="579"/>
                    </a:lnTo>
                    <a:lnTo>
                      <a:pt x="987" y="581"/>
                    </a:lnTo>
                    <a:lnTo>
                      <a:pt x="978" y="583"/>
                    </a:lnTo>
                    <a:lnTo>
                      <a:pt x="968" y="586"/>
                    </a:lnTo>
                    <a:lnTo>
                      <a:pt x="957" y="588"/>
                    </a:lnTo>
                    <a:lnTo>
                      <a:pt x="947" y="590"/>
                    </a:lnTo>
                    <a:lnTo>
                      <a:pt x="938" y="592"/>
                    </a:lnTo>
                    <a:lnTo>
                      <a:pt x="928" y="593"/>
                    </a:lnTo>
                    <a:lnTo>
                      <a:pt x="919" y="595"/>
                    </a:lnTo>
                    <a:lnTo>
                      <a:pt x="909" y="596"/>
                    </a:lnTo>
                    <a:lnTo>
                      <a:pt x="899" y="597"/>
                    </a:lnTo>
                    <a:lnTo>
                      <a:pt x="890" y="598"/>
                    </a:lnTo>
                    <a:lnTo>
                      <a:pt x="881" y="600"/>
                    </a:lnTo>
                    <a:lnTo>
                      <a:pt x="871" y="601"/>
                    </a:lnTo>
                    <a:lnTo>
                      <a:pt x="861" y="602"/>
                    </a:lnTo>
                    <a:lnTo>
                      <a:pt x="852" y="603"/>
                    </a:lnTo>
                    <a:lnTo>
                      <a:pt x="843" y="604"/>
                    </a:lnTo>
                    <a:lnTo>
                      <a:pt x="833" y="604"/>
                    </a:lnTo>
                    <a:lnTo>
                      <a:pt x="824" y="605"/>
                    </a:lnTo>
                    <a:lnTo>
                      <a:pt x="815" y="606"/>
                    </a:lnTo>
                    <a:lnTo>
                      <a:pt x="807" y="606"/>
                    </a:lnTo>
                    <a:lnTo>
                      <a:pt x="798" y="606"/>
                    </a:lnTo>
                    <a:lnTo>
                      <a:pt x="790" y="607"/>
                    </a:lnTo>
                    <a:lnTo>
                      <a:pt x="781" y="608"/>
                    </a:lnTo>
                    <a:lnTo>
                      <a:pt x="772" y="609"/>
                    </a:lnTo>
                    <a:lnTo>
                      <a:pt x="762" y="610"/>
                    </a:lnTo>
                    <a:lnTo>
                      <a:pt x="752" y="611"/>
                    </a:lnTo>
                    <a:lnTo>
                      <a:pt x="741" y="611"/>
                    </a:lnTo>
                    <a:lnTo>
                      <a:pt x="729" y="612"/>
                    </a:lnTo>
                    <a:lnTo>
                      <a:pt x="716" y="612"/>
                    </a:lnTo>
                    <a:lnTo>
                      <a:pt x="704" y="613"/>
                    </a:lnTo>
                    <a:lnTo>
                      <a:pt x="691" y="614"/>
                    </a:lnTo>
                    <a:lnTo>
                      <a:pt x="678" y="616"/>
                    </a:lnTo>
                    <a:lnTo>
                      <a:pt x="664" y="618"/>
                    </a:lnTo>
                    <a:lnTo>
                      <a:pt x="651" y="620"/>
                    </a:lnTo>
                    <a:lnTo>
                      <a:pt x="636" y="622"/>
                    </a:lnTo>
                    <a:lnTo>
                      <a:pt x="620" y="625"/>
                    </a:lnTo>
                    <a:lnTo>
                      <a:pt x="606" y="627"/>
                    </a:lnTo>
                    <a:lnTo>
                      <a:pt x="591" y="629"/>
                    </a:lnTo>
                    <a:lnTo>
                      <a:pt x="574" y="632"/>
                    </a:lnTo>
                    <a:lnTo>
                      <a:pt x="559" y="636"/>
                    </a:lnTo>
                    <a:lnTo>
                      <a:pt x="543" y="639"/>
                    </a:lnTo>
                    <a:lnTo>
                      <a:pt x="528" y="642"/>
                    </a:lnTo>
                    <a:lnTo>
                      <a:pt x="510" y="646"/>
                    </a:lnTo>
                    <a:lnTo>
                      <a:pt x="493" y="650"/>
                    </a:lnTo>
                    <a:lnTo>
                      <a:pt x="476" y="654"/>
                    </a:lnTo>
                    <a:lnTo>
                      <a:pt x="460" y="658"/>
                    </a:lnTo>
                    <a:lnTo>
                      <a:pt x="443" y="663"/>
                    </a:lnTo>
                    <a:lnTo>
                      <a:pt x="426" y="668"/>
                    </a:lnTo>
                    <a:lnTo>
                      <a:pt x="410" y="674"/>
                    </a:lnTo>
                    <a:lnTo>
                      <a:pt x="394" y="679"/>
                    </a:lnTo>
                    <a:lnTo>
                      <a:pt x="377" y="685"/>
                    </a:lnTo>
                    <a:lnTo>
                      <a:pt x="360" y="691"/>
                    </a:lnTo>
                    <a:lnTo>
                      <a:pt x="343" y="697"/>
                    </a:lnTo>
                    <a:lnTo>
                      <a:pt x="326" y="703"/>
                    </a:lnTo>
                    <a:lnTo>
                      <a:pt x="310" y="710"/>
                    </a:lnTo>
                    <a:lnTo>
                      <a:pt x="294" y="717"/>
                    </a:lnTo>
                    <a:lnTo>
                      <a:pt x="277" y="726"/>
                    </a:lnTo>
                    <a:lnTo>
                      <a:pt x="262" y="733"/>
                    </a:lnTo>
                    <a:lnTo>
                      <a:pt x="247" y="742"/>
                    </a:lnTo>
                    <a:lnTo>
                      <a:pt x="232" y="751"/>
                    </a:lnTo>
                    <a:lnTo>
                      <a:pt x="217" y="759"/>
                    </a:lnTo>
                    <a:lnTo>
                      <a:pt x="202" y="768"/>
                    </a:lnTo>
                    <a:lnTo>
                      <a:pt x="189" y="779"/>
                    </a:lnTo>
                    <a:lnTo>
                      <a:pt x="174" y="790"/>
                    </a:lnTo>
                    <a:lnTo>
                      <a:pt x="160" y="800"/>
                    </a:lnTo>
                    <a:lnTo>
                      <a:pt x="147" y="810"/>
                    </a:lnTo>
                    <a:lnTo>
                      <a:pt x="133" y="822"/>
                    </a:lnTo>
                    <a:lnTo>
                      <a:pt x="121" y="833"/>
                    </a:lnTo>
                    <a:lnTo>
                      <a:pt x="109" y="845"/>
                    </a:lnTo>
                    <a:lnTo>
                      <a:pt x="97" y="856"/>
                    </a:lnTo>
                    <a:lnTo>
                      <a:pt x="86" y="871"/>
                    </a:lnTo>
                    <a:lnTo>
                      <a:pt x="76" y="884"/>
                    </a:lnTo>
                    <a:lnTo>
                      <a:pt x="67" y="898"/>
                    </a:lnTo>
                    <a:lnTo>
                      <a:pt x="57" y="911"/>
                    </a:lnTo>
                    <a:lnTo>
                      <a:pt x="49" y="927"/>
                    </a:lnTo>
                    <a:lnTo>
                      <a:pt x="42" y="942"/>
                    </a:lnTo>
                    <a:lnTo>
                      <a:pt x="33" y="957"/>
                    </a:lnTo>
                    <a:lnTo>
                      <a:pt x="25" y="973"/>
                    </a:lnTo>
                    <a:lnTo>
                      <a:pt x="20" y="991"/>
                    </a:lnTo>
                    <a:lnTo>
                      <a:pt x="15" y="1008"/>
                    </a:lnTo>
                    <a:lnTo>
                      <a:pt x="10" y="1026"/>
                    </a:lnTo>
                    <a:lnTo>
                      <a:pt x="6" y="1043"/>
                    </a:lnTo>
                    <a:lnTo>
                      <a:pt x="4" y="1063"/>
                    </a:lnTo>
                    <a:lnTo>
                      <a:pt x="3" y="1082"/>
                    </a:lnTo>
                    <a:lnTo>
                      <a:pt x="1" y="1100"/>
                    </a:lnTo>
                    <a:lnTo>
                      <a:pt x="0" y="1120"/>
                    </a:lnTo>
                    <a:lnTo>
                      <a:pt x="2" y="1140"/>
                    </a:lnTo>
                    <a:lnTo>
                      <a:pt x="3" y="1159"/>
                    </a:lnTo>
                    <a:lnTo>
                      <a:pt x="5" y="1180"/>
                    </a:lnTo>
                    <a:lnTo>
                      <a:pt x="7" y="1200"/>
                    </a:lnTo>
                    <a:lnTo>
                      <a:pt x="13" y="1220"/>
                    </a:lnTo>
                    <a:lnTo>
                      <a:pt x="19" y="1239"/>
                    </a:lnTo>
                    <a:lnTo>
                      <a:pt x="25" y="1259"/>
                    </a:lnTo>
                    <a:lnTo>
                      <a:pt x="31" y="1278"/>
                    </a:lnTo>
                    <a:lnTo>
                      <a:pt x="40" y="1297"/>
                    </a:lnTo>
                    <a:lnTo>
                      <a:pt x="49" y="1316"/>
                    </a:lnTo>
                    <a:lnTo>
                      <a:pt x="58" y="1334"/>
                    </a:lnTo>
                    <a:lnTo>
                      <a:pt x="67" y="1352"/>
                    </a:lnTo>
                    <a:lnTo>
                      <a:pt x="78" y="1371"/>
                    </a:lnTo>
                    <a:lnTo>
                      <a:pt x="90" y="1389"/>
                    </a:lnTo>
                    <a:lnTo>
                      <a:pt x="101" y="1408"/>
                    </a:lnTo>
                    <a:lnTo>
                      <a:pt x="113" y="1426"/>
                    </a:lnTo>
                    <a:lnTo>
                      <a:pt x="126" y="1443"/>
                    </a:lnTo>
                    <a:lnTo>
                      <a:pt x="140" y="1460"/>
                    </a:lnTo>
                    <a:lnTo>
                      <a:pt x="153" y="1477"/>
                    </a:lnTo>
                    <a:lnTo>
                      <a:pt x="166" y="1493"/>
                    </a:lnTo>
                    <a:lnTo>
                      <a:pt x="181" y="1510"/>
                    </a:lnTo>
                    <a:lnTo>
                      <a:pt x="198" y="1526"/>
                    </a:lnTo>
                    <a:lnTo>
                      <a:pt x="213" y="1542"/>
                    </a:lnTo>
                    <a:lnTo>
                      <a:pt x="228" y="1558"/>
                    </a:lnTo>
                    <a:lnTo>
                      <a:pt x="245" y="1573"/>
                    </a:lnTo>
                    <a:lnTo>
                      <a:pt x="261" y="1589"/>
                    </a:lnTo>
                    <a:lnTo>
                      <a:pt x="277" y="1605"/>
                    </a:lnTo>
                    <a:lnTo>
                      <a:pt x="294" y="1620"/>
                    </a:lnTo>
                    <a:lnTo>
                      <a:pt x="311" y="1633"/>
                    </a:lnTo>
                    <a:lnTo>
                      <a:pt x="327" y="1648"/>
                    </a:lnTo>
                    <a:lnTo>
                      <a:pt x="345" y="1662"/>
                    </a:lnTo>
                    <a:lnTo>
                      <a:pt x="362" y="1675"/>
                    </a:lnTo>
                    <a:lnTo>
                      <a:pt x="378" y="1688"/>
                    </a:lnTo>
                    <a:lnTo>
                      <a:pt x="396" y="1701"/>
                    </a:lnTo>
                    <a:lnTo>
                      <a:pt x="413" y="1714"/>
                    </a:lnTo>
                    <a:lnTo>
                      <a:pt x="430" y="1726"/>
                    </a:lnTo>
                    <a:lnTo>
                      <a:pt x="446" y="1737"/>
                    </a:lnTo>
                    <a:lnTo>
                      <a:pt x="462" y="1749"/>
                    </a:lnTo>
                    <a:lnTo>
                      <a:pt x="479" y="1760"/>
                    </a:lnTo>
                    <a:lnTo>
                      <a:pt x="496" y="1771"/>
                    </a:lnTo>
                    <a:lnTo>
                      <a:pt x="511" y="1781"/>
                    </a:lnTo>
                    <a:lnTo>
                      <a:pt x="526" y="1790"/>
                    </a:lnTo>
                    <a:lnTo>
                      <a:pt x="542" y="1800"/>
                    </a:lnTo>
                    <a:lnTo>
                      <a:pt x="557" y="1809"/>
                    </a:lnTo>
                    <a:lnTo>
                      <a:pt x="570" y="1817"/>
                    </a:lnTo>
                    <a:lnTo>
                      <a:pt x="584" y="1825"/>
                    </a:lnTo>
                    <a:lnTo>
                      <a:pt x="597" y="1834"/>
                    </a:lnTo>
                    <a:lnTo>
                      <a:pt x="611" y="1843"/>
                    </a:lnTo>
                    <a:lnTo>
                      <a:pt x="622" y="1849"/>
                    </a:lnTo>
                    <a:lnTo>
                      <a:pt x="634" y="1856"/>
                    </a:lnTo>
                    <a:lnTo>
                      <a:pt x="645" y="1863"/>
                    </a:lnTo>
                    <a:lnTo>
                      <a:pt x="656" y="1869"/>
                    </a:lnTo>
                    <a:lnTo>
                      <a:pt x="665" y="1874"/>
                    </a:lnTo>
                    <a:lnTo>
                      <a:pt x="675" y="1879"/>
                    </a:lnTo>
                    <a:lnTo>
                      <a:pt x="684" y="1884"/>
                    </a:lnTo>
                    <a:lnTo>
                      <a:pt x="693" y="1889"/>
                    </a:lnTo>
                    <a:lnTo>
                      <a:pt x="704" y="1896"/>
                    </a:lnTo>
                    <a:lnTo>
                      <a:pt x="716" y="1901"/>
                    </a:lnTo>
                    <a:lnTo>
                      <a:pt x="720" y="1903"/>
                    </a:lnTo>
                    <a:lnTo>
                      <a:pt x="725" y="1905"/>
                    </a:lnTo>
                    <a:lnTo>
                      <a:pt x="723" y="1853"/>
                    </a:lnTo>
                    <a:lnTo>
                      <a:pt x="720" y="1801"/>
                    </a:lnTo>
                    <a:lnTo>
                      <a:pt x="719" y="1748"/>
                    </a:lnTo>
                    <a:lnTo>
                      <a:pt x="717" y="1695"/>
                    </a:lnTo>
                    <a:lnTo>
                      <a:pt x="715" y="1643"/>
                    </a:lnTo>
                    <a:lnTo>
                      <a:pt x="714" y="1590"/>
                    </a:lnTo>
                    <a:lnTo>
                      <a:pt x="712" y="1538"/>
                    </a:lnTo>
                    <a:lnTo>
                      <a:pt x="710" y="1486"/>
                    </a:lnTo>
                    <a:lnTo>
                      <a:pt x="706" y="1484"/>
                    </a:lnTo>
                    <a:lnTo>
                      <a:pt x="703" y="1482"/>
                    </a:lnTo>
                    <a:lnTo>
                      <a:pt x="691" y="1475"/>
                    </a:lnTo>
                    <a:lnTo>
                      <a:pt x="679" y="1468"/>
                    </a:lnTo>
                    <a:lnTo>
                      <a:pt x="670" y="1463"/>
                    </a:lnTo>
                    <a:lnTo>
                      <a:pt x="662" y="1458"/>
                    </a:lnTo>
                    <a:lnTo>
                      <a:pt x="654" y="1453"/>
                    </a:lnTo>
                    <a:lnTo>
                      <a:pt x="647" y="1447"/>
                    </a:lnTo>
                    <a:lnTo>
                      <a:pt x="638" y="1439"/>
                    </a:lnTo>
                    <a:lnTo>
                      <a:pt x="629" y="1432"/>
                    </a:lnTo>
                    <a:lnTo>
                      <a:pt x="619" y="1424"/>
                    </a:lnTo>
                    <a:lnTo>
                      <a:pt x="611" y="1417"/>
                    </a:lnTo>
                    <a:lnTo>
                      <a:pt x="601" y="1407"/>
                    </a:lnTo>
                    <a:lnTo>
                      <a:pt x="592" y="1396"/>
                    </a:lnTo>
                    <a:lnTo>
                      <a:pt x="583" y="1387"/>
                    </a:lnTo>
                    <a:lnTo>
                      <a:pt x="573" y="1377"/>
                    </a:lnTo>
                    <a:lnTo>
                      <a:pt x="565" y="1366"/>
                    </a:lnTo>
                    <a:lnTo>
                      <a:pt x="557" y="1354"/>
                    </a:lnTo>
                    <a:lnTo>
                      <a:pt x="549" y="1342"/>
                    </a:lnTo>
                    <a:lnTo>
                      <a:pt x="541" y="1331"/>
                    </a:lnTo>
                    <a:lnTo>
                      <a:pt x="535" y="1318"/>
                    </a:lnTo>
                    <a:lnTo>
                      <a:pt x="529" y="1303"/>
                    </a:lnTo>
                    <a:lnTo>
                      <a:pt x="523" y="1290"/>
                    </a:lnTo>
                    <a:lnTo>
                      <a:pt x="517" y="1276"/>
                    </a:lnTo>
                    <a:lnTo>
                      <a:pt x="515" y="1261"/>
                    </a:lnTo>
                    <a:lnTo>
                      <a:pt x="513" y="1244"/>
                    </a:lnTo>
                    <a:lnTo>
                      <a:pt x="511" y="1229"/>
                    </a:lnTo>
                    <a:lnTo>
                      <a:pt x="509" y="1214"/>
                    </a:lnTo>
                    <a:lnTo>
                      <a:pt x="509" y="1206"/>
                    </a:lnTo>
                    <a:lnTo>
                      <a:pt x="509" y="1199"/>
                    </a:lnTo>
                    <a:lnTo>
                      <a:pt x="510" y="1193"/>
                    </a:lnTo>
                    <a:lnTo>
                      <a:pt x="511" y="1186"/>
                    </a:lnTo>
                    <a:lnTo>
                      <a:pt x="513" y="1178"/>
                    </a:lnTo>
                    <a:lnTo>
                      <a:pt x="515" y="1171"/>
                    </a:lnTo>
                    <a:lnTo>
                      <a:pt x="518" y="1165"/>
                    </a:lnTo>
                    <a:lnTo>
                      <a:pt x="521" y="1158"/>
                    </a:lnTo>
                    <a:lnTo>
                      <a:pt x="525" y="1151"/>
                    </a:lnTo>
                    <a:lnTo>
                      <a:pt x="530" y="1143"/>
                    </a:lnTo>
                    <a:lnTo>
                      <a:pt x="535" y="1137"/>
                    </a:lnTo>
                    <a:lnTo>
                      <a:pt x="541" y="1131"/>
                    </a:lnTo>
                    <a:lnTo>
                      <a:pt x="548" y="1125"/>
                    </a:lnTo>
                    <a:lnTo>
                      <a:pt x="555" y="1118"/>
                    </a:lnTo>
                    <a:lnTo>
                      <a:pt x="565" y="1112"/>
                    </a:lnTo>
                    <a:lnTo>
                      <a:pt x="576" y="1106"/>
                    </a:lnTo>
                    <a:lnTo>
                      <a:pt x="587" y="1100"/>
                    </a:lnTo>
                    <a:lnTo>
                      <a:pt x="599" y="1095"/>
                    </a:lnTo>
                    <a:lnTo>
                      <a:pt x="612" y="1089"/>
                    </a:lnTo>
                    <a:lnTo>
                      <a:pt x="627" y="1084"/>
                    </a:lnTo>
                    <a:lnTo>
                      <a:pt x="635" y="1081"/>
                    </a:lnTo>
                    <a:lnTo>
                      <a:pt x="643" y="1079"/>
                    </a:lnTo>
                    <a:lnTo>
                      <a:pt x="651" y="1076"/>
                    </a:lnTo>
                    <a:lnTo>
                      <a:pt x="659" y="1073"/>
                    </a:lnTo>
                    <a:lnTo>
                      <a:pt x="668" y="1071"/>
                    </a:lnTo>
                    <a:lnTo>
                      <a:pt x="679" y="1069"/>
                    </a:lnTo>
                    <a:lnTo>
                      <a:pt x="689" y="1067"/>
                    </a:lnTo>
                    <a:lnTo>
                      <a:pt x="699" y="1065"/>
                    </a:lnTo>
                    <a:lnTo>
                      <a:pt x="710" y="1063"/>
                    </a:lnTo>
                    <a:lnTo>
                      <a:pt x="721" y="1060"/>
                    </a:lnTo>
                    <a:lnTo>
                      <a:pt x="733" y="1058"/>
                    </a:lnTo>
                    <a:lnTo>
                      <a:pt x="744" y="1057"/>
                    </a:lnTo>
                    <a:lnTo>
                      <a:pt x="756" y="1054"/>
                    </a:lnTo>
                    <a:lnTo>
                      <a:pt x="769" y="1052"/>
                    </a:lnTo>
                    <a:lnTo>
                      <a:pt x="782" y="1050"/>
                    </a:lnTo>
                    <a:lnTo>
                      <a:pt x="794" y="1048"/>
                    </a:lnTo>
                    <a:lnTo>
                      <a:pt x="809" y="1047"/>
                    </a:lnTo>
                    <a:lnTo>
                      <a:pt x="824" y="1046"/>
                    </a:lnTo>
                    <a:lnTo>
                      <a:pt x="839" y="1045"/>
                    </a:lnTo>
                    <a:lnTo>
                      <a:pt x="854" y="1045"/>
                    </a:lnTo>
                    <a:lnTo>
                      <a:pt x="871" y="1043"/>
                    </a:lnTo>
                    <a:lnTo>
                      <a:pt x="887" y="1042"/>
                    </a:lnTo>
                    <a:lnTo>
                      <a:pt x="903" y="1041"/>
                    </a:lnTo>
                    <a:lnTo>
                      <a:pt x="920" y="1040"/>
                    </a:lnTo>
                    <a:lnTo>
                      <a:pt x="937" y="1038"/>
                    </a:lnTo>
                    <a:lnTo>
                      <a:pt x="955" y="1037"/>
                    </a:lnTo>
                    <a:lnTo>
                      <a:pt x="973" y="1036"/>
                    </a:lnTo>
                    <a:lnTo>
                      <a:pt x="991" y="1034"/>
                    </a:lnTo>
                    <a:lnTo>
                      <a:pt x="1009" y="1033"/>
                    </a:lnTo>
                    <a:lnTo>
                      <a:pt x="1028" y="1032"/>
                    </a:lnTo>
                    <a:lnTo>
                      <a:pt x="1046" y="1031"/>
                    </a:lnTo>
                    <a:lnTo>
                      <a:pt x="1065" y="1029"/>
                    </a:lnTo>
                    <a:lnTo>
                      <a:pt x="1083" y="1028"/>
                    </a:lnTo>
                    <a:lnTo>
                      <a:pt x="1101" y="1025"/>
                    </a:lnTo>
                    <a:lnTo>
                      <a:pt x="1120" y="1023"/>
                    </a:lnTo>
                    <a:lnTo>
                      <a:pt x="1138" y="1021"/>
                    </a:lnTo>
                    <a:lnTo>
                      <a:pt x="1157" y="1019"/>
                    </a:lnTo>
                    <a:lnTo>
                      <a:pt x="1176" y="1016"/>
                    </a:lnTo>
                    <a:lnTo>
                      <a:pt x="1195" y="1013"/>
                    </a:lnTo>
                    <a:lnTo>
                      <a:pt x="1214" y="1010"/>
                    </a:lnTo>
                    <a:lnTo>
                      <a:pt x="1233" y="1007"/>
                    </a:lnTo>
                    <a:lnTo>
                      <a:pt x="1251" y="1003"/>
                    </a:lnTo>
                    <a:lnTo>
                      <a:pt x="1271" y="999"/>
                    </a:lnTo>
                    <a:lnTo>
                      <a:pt x="1289" y="996"/>
                    </a:lnTo>
                    <a:lnTo>
                      <a:pt x="1308" y="991"/>
                    </a:lnTo>
                    <a:lnTo>
                      <a:pt x="1326" y="987"/>
                    </a:lnTo>
                    <a:lnTo>
                      <a:pt x="1343" y="983"/>
                    </a:lnTo>
                    <a:lnTo>
                      <a:pt x="1362" y="979"/>
                    </a:lnTo>
                    <a:lnTo>
                      <a:pt x="1379" y="974"/>
                    </a:lnTo>
                    <a:lnTo>
                      <a:pt x="1397" y="969"/>
                    </a:lnTo>
                    <a:lnTo>
                      <a:pt x="1415" y="962"/>
                    </a:lnTo>
                    <a:lnTo>
                      <a:pt x="1433" y="957"/>
                    </a:lnTo>
                    <a:lnTo>
                      <a:pt x="1449" y="951"/>
                    </a:lnTo>
                    <a:lnTo>
                      <a:pt x="1467" y="944"/>
                    </a:lnTo>
                    <a:lnTo>
                      <a:pt x="1484" y="938"/>
                    </a:lnTo>
                    <a:lnTo>
                      <a:pt x="1500" y="932"/>
                    </a:lnTo>
                    <a:lnTo>
                      <a:pt x="1517" y="924"/>
                    </a:lnTo>
                    <a:lnTo>
                      <a:pt x="1532" y="917"/>
                    </a:lnTo>
                    <a:lnTo>
                      <a:pt x="1547" y="908"/>
                    </a:lnTo>
                    <a:lnTo>
                      <a:pt x="1563" y="901"/>
                    </a:lnTo>
                    <a:lnTo>
                      <a:pt x="1577" y="893"/>
                    </a:lnTo>
                    <a:lnTo>
                      <a:pt x="1591" y="884"/>
                    </a:lnTo>
                    <a:lnTo>
                      <a:pt x="1606" y="876"/>
                    </a:lnTo>
                    <a:lnTo>
                      <a:pt x="1620" y="866"/>
                    </a:lnTo>
                    <a:lnTo>
                      <a:pt x="1632" y="857"/>
                    </a:lnTo>
                    <a:lnTo>
                      <a:pt x="1645" y="847"/>
                    </a:lnTo>
                    <a:lnTo>
                      <a:pt x="1659" y="837"/>
                    </a:lnTo>
                    <a:lnTo>
                      <a:pt x="1671" y="827"/>
                    </a:lnTo>
                    <a:lnTo>
                      <a:pt x="1682" y="815"/>
                    </a:lnTo>
                    <a:lnTo>
                      <a:pt x="1693" y="803"/>
                    </a:lnTo>
                    <a:lnTo>
                      <a:pt x="1705" y="791"/>
                    </a:lnTo>
                    <a:lnTo>
                      <a:pt x="1715" y="779"/>
                    </a:lnTo>
                    <a:lnTo>
                      <a:pt x="1724" y="765"/>
                    </a:lnTo>
                    <a:lnTo>
                      <a:pt x="1733" y="753"/>
                    </a:lnTo>
                    <a:lnTo>
                      <a:pt x="1741" y="740"/>
                    </a:lnTo>
                    <a:lnTo>
                      <a:pt x="1751" y="728"/>
                    </a:lnTo>
                    <a:lnTo>
                      <a:pt x="1758" y="712"/>
                    </a:lnTo>
                    <a:lnTo>
                      <a:pt x="1765" y="698"/>
                    </a:lnTo>
                    <a:lnTo>
                      <a:pt x="1771" y="684"/>
                    </a:lnTo>
                    <a:lnTo>
                      <a:pt x="1778" y="668"/>
                    </a:lnTo>
                    <a:lnTo>
                      <a:pt x="1782" y="652"/>
                    </a:lnTo>
                    <a:lnTo>
                      <a:pt x="1786" y="636"/>
                    </a:lnTo>
                    <a:lnTo>
                      <a:pt x="1790" y="619"/>
                    </a:lnTo>
                    <a:lnTo>
                      <a:pt x="1795" y="603"/>
                    </a:lnTo>
                    <a:lnTo>
                      <a:pt x="1797" y="585"/>
                    </a:lnTo>
                    <a:lnTo>
                      <a:pt x="1798" y="566"/>
                    </a:lnTo>
                    <a:lnTo>
                      <a:pt x="1799" y="548"/>
                    </a:lnTo>
                    <a:lnTo>
                      <a:pt x="1801" y="530"/>
                    </a:lnTo>
                    <a:lnTo>
                      <a:pt x="1800" y="511"/>
                    </a:lnTo>
                    <a:lnTo>
                      <a:pt x="1799" y="492"/>
                    </a:lnTo>
                    <a:lnTo>
                      <a:pt x="1798" y="473"/>
                    </a:lnTo>
                    <a:lnTo>
                      <a:pt x="1797" y="454"/>
                    </a:lnTo>
                    <a:lnTo>
                      <a:pt x="1795" y="437"/>
                    </a:lnTo>
                    <a:lnTo>
                      <a:pt x="1791" y="418"/>
                    </a:lnTo>
                    <a:lnTo>
                      <a:pt x="1789" y="401"/>
                    </a:lnTo>
                    <a:lnTo>
                      <a:pt x="1786" y="383"/>
                    </a:lnTo>
                    <a:lnTo>
                      <a:pt x="1783" y="366"/>
                    </a:lnTo>
                    <a:lnTo>
                      <a:pt x="1779" y="349"/>
                    </a:lnTo>
                    <a:lnTo>
                      <a:pt x="1776" y="333"/>
                    </a:lnTo>
                    <a:lnTo>
                      <a:pt x="1773" y="315"/>
                    </a:lnTo>
                    <a:lnTo>
                      <a:pt x="1767" y="299"/>
                    </a:lnTo>
                    <a:lnTo>
                      <a:pt x="1762" y="283"/>
                    </a:lnTo>
                    <a:lnTo>
                      <a:pt x="1757" y="266"/>
                    </a:lnTo>
                    <a:lnTo>
                      <a:pt x="1751" y="250"/>
                    </a:lnTo>
                    <a:lnTo>
                      <a:pt x="1744" y="235"/>
                    </a:lnTo>
                    <a:lnTo>
                      <a:pt x="1738" y="218"/>
                    </a:lnTo>
                    <a:lnTo>
                      <a:pt x="1731" y="203"/>
                    </a:lnTo>
                    <a:lnTo>
                      <a:pt x="1725" y="187"/>
                    </a:lnTo>
                    <a:lnTo>
                      <a:pt x="1718" y="171"/>
                    </a:lnTo>
                    <a:lnTo>
                      <a:pt x="1710" y="157"/>
                    </a:lnTo>
                    <a:lnTo>
                      <a:pt x="1703" y="142"/>
                    </a:lnTo>
                    <a:lnTo>
                      <a:pt x="1695" y="126"/>
                    </a:lnTo>
                    <a:lnTo>
                      <a:pt x="1686" y="112"/>
                    </a:lnTo>
                    <a:lnTo>
                      <a:pt x="1678" y="98"/>
                    </a:lnTo>
                    <a:lnTo>
                      <a:pt x="1670" y="84"/>
                    </a:lnTo>
                    <a:lnTo>
                      <a:pt x="1662" y="70"/>
                    </a:lnTo>
                    <a:lnTo>
                      <a:pt x="1652" y="57"/>
                    </a:lnTo>
                    <a:lnTo>
                      <a:pt x="1642" y="44"/>
                    </a:lnTo>
                    <a:lnTo>
                      <a:pt x="1632" y="30"/>
                    </a:lnTo>
                    <a:lnTo>
                      <a:pt x="1623" y="17"/>
                    </a:lnTo>
                    <a:lnTo>
                      <a:pt x="1620" y="17"/>
                    </a:lnTo>
                    <a:lnTo>
                      <a:pt x="1618" y="17"/>
                    </a:lnTo>
                    <a:lnTo>
                      <a:pt x="1609" y="19"/>
                    </a:lnTo>
                    <a:lnTo>
                      <a:pt x="1600" y="21"/>
                    </a:lnTo>
                    <a:lnTo>
                      <a:pt x="1585" y="24"/>
                    </a:lnTo>
                    <a:lnTo>
                      <a:pt x="1570" y="26"/>
                    </a:lnTo>
                    <a:lnTo>
                      <a:pt x="1561" y="27"/>
                    </a:lnTo>
                    <a:lnTo>
                      <a:pt x="1552" y="28"/>
                    </a:lnTo>
                    <a:lnTo>
                      <a:pt x="1542" y="28"/>
                    </a:lnTo>
                    <a:lnTo>
                      <a:pt x="1534" y="29"/>
                    </a:lnTo>
                    <a:lnTo>
                      <a:pt x="1522" y="31"/>
                    </a:lnTo>
                    <a:lnTo>
                      <a:pt x="1511" y="32"/>
                    </a:lnTo>
                    <a:lnTo>
                      <a:pt x="1499" y="33"/>
                    </a:lnTo>
                    <a:lnTo>
                      <a:pt x="1488" y="34"/>
                    </a:lnTo>
                    <a:lnTo>
                      <a:pt x="1475" y="35"/>
                    </a:lnTo>
                    <a:lnTo>
                      <a:pt x="1463" y="36"/>
                    </a:lnTo>
                    <a:lnTo>
                      <a:pt x="1450" y="36"/>
                    </a:lnTo>
                    <a:lnTo>
                      <a:pt x="1438" y="37"/>
                    </a:lnTo>
                    <a:lnTo>
                      <a:pt x="1425" y="37"/>
                    </a:lnTo>
                    <a:lnTo>
                      <a:pt x="1411" y="39"/>
                    </a:lnTo>
                    <a:lnTo>
                      <a:pt x="1397" y="39"/>
                    </a:lnTo>
                    <a:lnTo>
                      <a:pt x="1384" y="39"/>
                    </a:lnTo>
                    <a:lnTo>
                      <a:pt x="1370" y="39"/>
                    </a:lnTo>
                    <a:lnTo>
                      <a:pt x="1356" y="39"/>
                    </a:lnTo>
                    <a:lnTo>
                      <a:pt x="1341" y="37"/>
                    </a:lnTo>
                    <a:lnTo>
                      <a:pt x="1328" y="37"/>
                    </a:lnTo>
                    <a:lnTo>
                      <a:pt x="1319" y="36"/>
                    </a:lnTo>
                    <a:lnTo>
                      <a:pt x="1311" y="36"/>
                    </a:lnTo>
                    <a:lnTo>
                      <a:pt x="1302" y="35"/>
                    </a:lnTo>
                    <a:lnTo>
                      <a:pt x="1293" y="35"/>
                    </a:lnTo>
                    <a:lnTo>
                      <a:pt x="1285" y="34"/>
                    </a:lnTo>
                    <a:lnTo>
                      <a:pt x="1277" y="33"/>
                    </a:lnTo>
                    <a:lnTo>
                      <a:pt x="1268" y="32"/>
                    </a:lnTo>
                    <a:lnTo>
                      <a:pt x="1260" y="31"/>
                    </a:lnTo>
                    <a:lnTo>
                      <a:pt x="1251" y="30"/>
                    </a:lnTo>
                    <a:lnTo>
                      <a:pt x="1244" y="30"/>
                    </a:lnTo>
                    <a:lnTo>
                      <a:pt x="1236" y="30"/>
                    </a:lnTo>
                    <a:lnTo>
                      <a:pt x="1228" y="29"/>
                    </a:lnTo>
                    <a:lnTo>
                      <a:pt x="1220" y="28"/>
                    </a:lnTo>
                    <a:lnTo>
                      <a:pt x="1211" y="27"/>
                    </a:lnTo>
                    <a:lnTo>
                      <a:pt x="1202" y="26"/>
                    </a:lnTo>
                    <a:lnTo>
                      <a:pt x="1194" y="26"/>
                    </a:lnTo>
                    <a:lnTo>
                      <a:pt x="1186" y="25"/>
                    </a:lnTo>
                    <a:lnTo>
                      <a:pt x="1178" y="24"/>
                    </a:lnTo>
                    <a:lnTo>
                      <a:pt x="1171" y="23"/>
                    </a:lnTo>
                    <a:lnTo>
                      <a:pt x="1163" y="22"/>
                    </a:lnTo>
                    <a:lnTo>
                      <a:pt x="1147" y="22"/>
                    </a:lnTo>
                    <a:lnTo>
                      <a:pt x="1133" y="21"/>
                    </a:lnTo>
                    <a:lnTo>
                      <a:pt x="1118" y="19"/>
                    </a:lnTo>
                    <a:lnTo>
                      <a:pt x="1102" y="16"/>
                    </a:lnTo>
                    <a:lnTo>
                      <a:pt x="1090" y="15"/>
                    </a:lnTo>
                    <a:lnTo>
                      <a:pt x="1077" y="14"/>
                    </a:lnTo>
                    <a:lnTo>
                      <a:pt x="1064" y="13"/>
                    </a:lnTo>
                    <a:lnTo>
                      <a:pt x="1050" y="12"/>
                    </a:lnTo>
                    <a:lnTo>
                      <a:pt x="1039" y="11"/>
                    </a:lnTo>
                    <a:lnTo>
                      <a:pt x="1027" y="8"/>
                    </a:lnTo>
                    <a:lnTo>
                      <a:pt x="1017" y="7"/>
                    </a:lnTo>
                    <a:lnTo>
                      <a:pt x="1007" y="6"/>
                    </a:lnTo>
                    <a:lnTo>
                      <a:pt x="999" y="5"/>
                    </a:lnTo>
                    <a:lnTo>
                      <a:pt x="991" y="4"/>
                    </a:lnTo>
                    <a:lnTo>
                      <a:pt x="984" y="4"/>
                    </a:lnTo>
                    <a:lnTo>
                      <a:pt x="978" y="3"/>
                    </a:lnTo>
                    <a:lnTo>
                      <a:pt x="972" y="3"/>
                    </a:lnTo>
                    <a:lnTo>
                      <a:pt x="966" y="2"/>
                    </a:lnTo>
                    <a:lnTo>
                      <a:pt x="962" y="1"/>
                    </a:lnTo>
                    <a:lnTo>
                      <a:pt x="959" y="1"/>
                    </a:lnTo>
                    <a:lnTo>
                      <a:pt x="958" y="0"/>
                    </a:lnTo>
                    <a:lnTo>
                      <a:pt x="957" y="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398480" y="4500720"/>
                <a:ext cx="70920" cy="84960"/>
              </a:xfrm>
              <a:custGeom>
                <a:avLst/>
                <a:gdLst/>
                <a:ahLst/>
                <a:rect l="l" t="t" r="r" b="b"/>
                <a:pathLst>
                  <a:path w="1421" h="1621">
                    <a:moveTo>
                      <a:pt x="752" y="62"/>
                    </a:moveTo>
                    <a:lnTo>
                      <a:pt x="753" y="81"/>
                    </a:lnTo>
                    <a:lnTo>
                      <a:pt x="755" y="100"/>
                    </a:lnTo>
                    <a:lnTo>
                      <a:pt x="756" y="119"/>
                    </a:lnTo>
                    <a:lnTo>
                      <a:pt x="758" y="138"/>
                    </a:lnTo>
                    <a:lnTo>
                      <a:pt x="763" y="142"/>
                    </a:lnTo>
                    <a:lnTo>
                      <a:pt x="769" y="146"/>
                    </a:lnTo>
                    <a:lnTo>
                      <a:pt x="780" y="156"/>
                    </a:lnTo>
                    <a:lnTo>
                      <a:pt x="792" y="165"/>
                    </a:lnTo>
                    <a:lnTo>
                      <a:pt x="800" y="173"/>
                    </a:lnTo>
                    <a:lnTo>
                      <a:pt x="808" y="180"/>
                    </a:lnTo>
                    <a:lnTo>
                      <a:pt x="818" y="189"/>
                    </a:lnTo>
                    <a:lnTo>
                      <a:pt x="826" y="196"/>
                    </a:lnTo>
                    <a:lnTo>
                      <a:pt x="836" y="206"/>
                    </a:lnTo>
                    <a:lnTo>
                      <a:pt x="847" y="216"/>
                    </a:lnTo>
                    <a:lnTo>
                      <a:pt x="857" y="226"/>
                    </a:lnTo>
                    <a:lnTo>
                      <a:pt x="868" y="237"/>
                    </a:lnTo>
                    <a:lnTo>
                      <a:pt x="878" y="248"/>
                    </a:lnTo>
                    <a:lnTo>
                      <a:pt x="888" y="260"/>
                    </a:lnTo>
                    <a:lnTo>
                      <a:pt x="898" y="271"/>
                    </a:lnTo>
                    <a:lnTo>
                      <a:pt x="907" y="283"/>
                    </a:lnTo>
                    <a:lnTo>
                      <a:pt x="917" y="295"/>
                    </a:lnTo>
                    <a:lnTo>
                      <a:pt x="925" y="306"/>
                    </a:lnTo>
                    <a:lnTo>
                      <a:pt x="933" y="318"/>
                    </a:lnTo>
                    <a:lnTo>
                      <a:pt x="941" y="331"/>
                    </a:lnTo>
                    <a:lnTo>
                      <a:pt x="947" y="343"/>
                    </a:lnTo>
                    <a:lnTo>
                      <a:pt x="953" y="355"/>
                    </a:lnTo>
                    <a:lnTo>
                      <a:pt x="959" y="368"/>
                    </a:lnTo>
                    <a:lnTo>
                      <a:pt x="966" y="380"/>
                    </a:lnTo>
                    <a:lnTo>
                      <a:pt x="968" y="392"/>
                    </a:lnTo>
                    <a:lnTo>
                      <a:pt x="970" y="404"/>
                    </a:lnTo>
                    <a:lnTo>
                      <a:pt x="973" y="416"/>
                    </a:lnTo>
                    <a:lnTo>
                      <a:pt x="975" y="429"/>
                    </a:lnTo>
                    <a:lnTo>
                      <a:pt x="975" y="440"/>
                    </a:lnTo>
                    <a:lnTo>
                      <a:pt x="974" y="451"/>
                    </a:lnTo>
                    <a:lnTo>
                      <a:pt x="971" y="461"/>
                    </a:lnTo>
                    <a:lnTo>
                      <a:pt x="968" y="470"/>
                    </a:lnTo>
                    <a:lnTo>
                      <a:pt x="963" y="480"/>
                    </a:lnTo>
                    <a:lnTo>
                      <a:pt x="957" y="489"/>
                    </a:lnTo>
                    <a:lnTo>
                      <a:pt x="951" y="497"/>
                    </a:lnTo>
                    <a:lnTo>
                      <a:pt x="945" y="506"/>
                    </a:lnTo>
                    <a:lnTo>
                      <a:pt x="937" y="513"/>
                    </a:lnTo>
                    <a:lnTo>
                      <a:pt x="928" y="520"/>
                    </a:lnTo>
                    <a:lnTo>
                      <a:pt x="919" y="528"/>
                    </a:lnTo>
                    <a:lnTo>
                      <a:pt x="909" y="534"/>
                    </a:lnTo>
                    <a:lnTo>
                      <a:pt x="897" y="539"/>
                    </a:lnTo>
                    <a:lnTo>
                      <a:pt x="886" y="544"/>
                    </a:lnTo>
                    <a:lnTo>
                      <a:pt x="874" y="550"/>
                    </a:lnTo>
                    <a:lnTo>
                      <a:pt x="861" y="555"/>
                    </a:lnTo>
                    <a:lnTo>
                      <a:pt x="847" y="560"/>
                    </a:lnTo>
                    <a:lnTo>
                      <a:pt x="834" y="564"/>
                    </a:lnTo>
                    <a:lnTo>
                      <a:pt x="820" y="567"/>
                    </a:lnTo>
                    <a:lnTo>
                      <a:pt x="804" y="572"/>
                    </a:lnTo>
                    <a:lnTo>
                      <a:pt x="795" y="573"/>
                    </a:lnTo>
                    <a:lnTo>
                      <a:pt x="787" y="575"/>
                    </a:lnTo>
                    <a:lnTo>
                      <a:pt x="779" y="576"/>
                    </a:lnTo>
                    <a:lnTo>
                      <a:pt x="771" y="578"/>
                    </a:lnTo>
                    <a:lnTo>
                      <a:pt x="761" y="579"/>
                    </a:lnTo>
                    <a:lnTo>
                      <a:pt x="753" y="581"/>
                    </a:lnTo>
                    <a:lnTo>
                      <a:pt x="745" y="582"/>
                    </a:lnTo>
                    <a:lnTo>
                      <a:pt x="736" y="584"/>
                    </a:lnTo>
                    <a:lnTo>
                      <a:pt x="727" y="585"/>
                    </a:lnTo>
                    <a:lnTo>
                      <a:pt x="719" y="587"/>
                    </a:lnTo>
                    <a:lnTo>
                      <a:pt x="709" y="588"/>
                    </a:lnTo>
                    <a:lnTo>
                      <a:pt x="700" y="589"/>
                    </a:lnTo>
                    <a:lnTo>
                      <a:pt x="691" y="590"/>
                    </a:lnTo>
                    <a:lnTo>
                      <a:pt x="682" y="591"/>
                    </a:lnTo>
                    <a:lnTo>
                      <a:pt x="672" y="592"/>
                    </a:lnTo>
                    <a:lnTo>
                      <a:pt x="662" y="592"/>
                    </a:lnTo>
                    <a:lnTo>
                      <a:pt x="652" y="594"/>
                    </a:lnTo>
                    <a:lnTo>
                      <a:pt x="643" y="595"/>
                    </a:lnTo>
                    <a:lnTo>
                      <a:pt x="633" y="596"/>
                    </a:lnTo>
                    <a:lnTo>
                      <a:pt x="624" y="597"/>
                    </a:lnTo>
                    <a:lnTo>
                      <a:pt x="613" y="598"/>
                    </a:lnTo>
                    <a:lnTo>
                      <a:pt x="603" y="599"/>
                    </a:lnTo>
                    <a:lnTo>
                      <a:pt x="593" y="599"/>
                    </a:lnTo>
                    <a:lnTo>
                      <a:pt x="584" y="600"/>
                    </a:lnTo>
                    <a:lnTo>
                      <a:pt x="573" y="601"/>
                    </a:lnTo>
                    <a:lnTo>
                      <a:pt x="562" y="602"/>
                    </a:lnTo>
                    <a:lnTo>
                      <a:pt x="552" y="603"/>
                    </a:lnTo>
                    <a:lnTo>
                      <a:pt x="541" y="604"/>
                    </a:lnTo>
                    <a:lnTo>
                      <a:pt x="530" y="605"/>
                    </a:lnTo>
                    <a:lnTo>
                      <a:pt x="518" y="606"/>
                    </a:lnTo>
                    <a:lnTo>
                      <a:pt x="507" y="607"/>
                    </a:lnTo>
                    <a:lnTo>
                      <a:pt x="496" y="607"/>
                    </a:lnTo>
                    <a:lnTo>
                      <a:pt x="484" y="608"/>
                    </a:lnTo>
                    <a:lnTo>
                      <a:pt x="471" y="610"/>
                    </a:lnTo>
                    <a:lnTo>
                      <a:pt x="459" y="611"/>
                    </a:lnTo>
                    <a:lnTo>
                      <a:pt x="448" y="612"/>
                    </a:lnTo>
                    <a:lnTo>
                      <a:pt x="436" y="614"/>
                    </a:lnTo>
                    <a:lnTo>
                      <a:pt x="423" y="616"/>
                    </a:lnTo>
                    <a:lnTo>
                      <a:pt x="412" y="617"/>
                    </a:lnTo>
                    <a:lnTo>
                      <a:pt x="400" y="619"/>
                    </a:lnTo>
                    <a:lnTo>
                      <a:pt x="388" y="622"/>
                    </a:lnTo>
                    <a:lnTo>
                      <a:pt x="375" y="624"/>
                    </a:lnTo>
                    <a:lnTo>
                      <a:pt x="364" y="626"/>
                    </a:lnTo>
                    <a:lnTo>
                      <a:pt x="352" y="629"/>
                    </a:lnTo>
                    <a:lnTo>
                      <a:pt x="340" y="632"/>
                    </a:lnTo>
                    <a:lnTo>
                      <a:pt x="327" y="635"/>
                    </a:lnTo>
                    <a:lnTo>
                      <a:pt x="314" y="638"/>
                    </a:lnTo>
                    <a:lnTo>
                      <a:pt x="302" y="641"/>
                    </a:lnTo>
                    <a:lnTo>
                      <a:pt x="291" y="645"/>
                    </a:lnTo>
                    <a:lnTo>
                      <a:pt x="280" y="649"/>
                    </a:lnTo>
                    <a:lnTo>
                      <a:pt x="268" y="654"/>
                    </a:lnTo>
                    <a:lnTo>
                      <a:pt x="257" y="658"/>
                    </a:lnTo>
                    <a:lnTo>
                      <a:pt x="245" y="663"/>
                    </a:lnTo>
                    <a:lnTo>
                      <a:pt x="234" y="667"/>
                    </a:lnTo>
                    <a:lnTo>
                      <a:pt x="222" y="673"/>
                    </a:lnTo>
                    <a:lnTo>
                      <a:pt x="211" y="678"/>
                    </a:lnTo>
                    <a:lnTo>
                      <a:pt x="200" y="684"/>
                    </a:lnTo>
                    <a:lnTo>
                      <a:pt x="189" y="691"/>
                    </a:lnTo>
                    <a:lnTo>
                      <a:pt x="178" y="697"/>
                    </a:lnTo>
                    <a:lnTo>
                      <a:pt x="167" y="703"/>
                    </a:lnTo>
                    <a:lnTo>
                      <a:pt x="157" y="711"/>
                    </a:lnTo>
                    <a:lnTo>
                      <a:pt x="147" y="719"/>
                    </a:lnTo>
                    <a:lnTo>
                      <a:pt x="137" y="727"/>
                    </a:lnTo>
                    <a:lnTo>
                      <a:pt x="126" y="735"/>
                    </a:lnTo>
                    <a:lnTo>
                      <a:pt x="117" y="744"/>
                    </a:lnTo>
                    <a:lnTo>
                      <a:pt x="109" y="753"/>
                    </a:lnTo>
                    <a:lnTo>
                      <a:pt x="100" y="763"/>
                    </a:lnTo>
                    <a:lnTo>
                      <a:pt x="91" y="773"/>
                    </a:lnTo>
                    <a:lnTo>
                      <a:pt x="83" y="783"/>
                    </a:lnTo>
                    <a:lnTo>
                      <a:pt x="75" y="794"/>
                    </a:lnTo>
                    <a:lnTo>
                      <a:pt x="67" y="804"/>
                    </a:lnTo>
                    <a:lnTo>
                      <a:pt x="59" y="814"/>
                    </a:lnTo>
                    <a:lnTo>
                      <a:pt x="53" y="828"/>
                    </a:lnTo>
                    <a:lnTo>
                      <a:pt x="47" y="841"/>
                    </a:lnTo>
                    <a:lnTo>
                      <a:pt x="42" y="854"/>
                    </a:lnTo>
                    <a:lnTo>
                      <a:pt x="36" y="868"/>
                    </a:lnTo>
                    <a:lnTo>
                      <a:pt x="30" y="882"/>
                    </a:lnTo>
                    <a:lnTo>
                      <a:pt x="25" y="896"/>
                    </a:lnTo>
                    <a:lnTo>
                      <a:pt x="20" y="910"/>
                    </a:lnTo>
                    <a:lnTo>
                      <a:pt x="15" y="926"/>
                    </a:lnTo>
                    <a:lnTo>
                      <a:pt x="12" y="943"/>
                    </a:lnTo>
                    <a:lnTo>
                      <a:pt x="9" y="960"/>
                    </a:lnTo>
                    <a:lnTo>
                      <a:pt x="6" y="977"/>
                    </a:lnTo>
                    <a:lnTo>
                      <a:pt x="3" y="994"/>
                    </a:lnTo>
                    <a:lnTo>
                      <a:pt x="2" y="1014"/>
                    </a:lnTo>
                    <a:lnTo>
                      <a:pt x="2" y="1033"/>
                    </a:lnTo>
                    <a:lnTo>
                      <a:pt x="1" y="1052"/>
                    </a:lnTo>
                    <a:lnTo>
                      <a:pt x="0" y="1072"/>
                    </a:lnTo>
                    <a:lnTo>
                      <a:pt x="1" y="1086"/>
                    </a:lnTo>
                    <a:lnTo>
                      <a:pt x="3" y="1101"/>
                    </a:lnTo>
                    <a:lnTo>
                      <a:pt x="4" y="1117"/>
                    </a:lnTo>
                    <a:lnTo>
                      <a:pt x="6" y="1131"/>
                    </a:lnTo>
                    <a:lnTo>
                      <a:pt x="10" y="1146"/>
                    </a:lnTo>
                    <a:lnTo>
                      <a:pt x="13" y="1161"/>
                    </a:lnTo>
                    <a:lnTo>
                      <a:pt x="17" y="1175"/>
                    </a:lnTo>
                    <a:lnTo>
                      <a:pt x="21" y="1189"/>
                    </a:lnTo>
                    <a:lnTo>
                      <a:pt x="27" y="1203"/>
                    </a:lnTo>
                    <a:lnTo>
                      <a:pt x="34" y="1217"/>
                    </a:lnTo>
                    <a:lnTo>
                      <a:pt x="41" y="1230"/>
                    </a:lnTo>
                    <a:lnTo>
                      <a:pt x="47" y="1243"/>
                    </a:lnTo>
                    <a:lnTo>
                      <a:pt x="56" y="1257"/>
                    </a:lnTo>
                    <a:lnTo>
                      <a:pt x="64" y="1269"/>
                    </a:lnTo>
                    <a:lnTo>
                      <a:pt x="72" y="1282"/>
                    </a:lnTo>
                    <a:lnTo>
                      <a:pt x="81" y="1294"/>
                    </a:lnTo>
                    <a:lnTo>
                      <a:pt x="91" y="1307"/>
                    </a:lnTo>
                    <a:lnTo>
                      <a:pt x="101" y="1319"/>
                    </a:lnTo>
                    <a:lnTo>
                      <a:pt x="111" y="1331"/>
                    </a:lnTo>
                    <a:lnTo>
                      <a:pt x="121" y="1343"/>
                    </a:lnTo>
                    <a:lnTo>
                      <a:pt x="132" y="1355"/>
                    </a:lnTo>
                    <a:lnTo>
                      <a:pt x="144" y="1366"/>
                    </a:lnTo>
                    <a:lnTo>
                      <a:pt x="155" y="1377"/>
                    </a:lnTo>
                    <a:lnTo>
                      <a:pt x="166" y="1388"/>
                    </a:lnTo>
                    <a:lnTo>
                      <a:pt x="178" y="1399"/>
                    </a:lnTo>
                    <a:lnTo>
                      <a:pt x="191" y="1410"/>
                    </a:lnTo>
                    <a:lnTo>
                      <a:pt x="203" y="1421"/>
                    </a:lnTo>
                    <a:lnTo>
                      <a:pt x="215" y="1431"/>
                    </a:lnTo>
                    <a:lnTo>
                      <a:pt x="227" y="1441"/>
                    </a:lnTo>
                    <a:lnTo>
                      <a:pt x="240" y="1451"/>
                    </a:lnTo>
                    <a:lnTo>
                      <a:pt x="252" y="1461"/>
                    </a:lnTo>
                    <a:lnTo>
                      <a:pt x="265" y="1470"/>
                    </a:lnTo>
                    <a:lnTo>
                      <a:pt x="276" y="1478"/>
                    </a:lnTo>
                    <a:lnTo>
                      <a:pt x="289" y="1486"/>
                    </a:lnTo>
                    <a:lnTo>
                      <a:pt x="301" y="1494"/>
                    </a:lnTo>
                    <a:lnTo>
                      <a:pt x="312" y="1503"/>
                    </a:lnTo>
                    <a:lnTo>
                      <a:pt x="324" y="1511"/>
                    </a:lnTo>
                    <a:lnTo>
                      <a:pt x="336" y="1518"/>
                    </a:lnTo>
                    <a:lnTo>
                      <a:pt x="348" y="1526"/>
                    </a:lnTo>
                    <a:lnTo>
                      <a:pt x="360" y="1534"/>
                    </a:lnTo>
                    <a:lnTo>
                      <a:pt x="371" y="1540"/>
                    </a:lnTo>
                    <a:lnTo>
                      <a:pt x="384" y="1547"/>
                    </a:lnTo>
                    <a:lnTo>
                      <a:pt x="395" y="1553"/>
                    </a:lnTo>
                    <a:lnTo>
                      <a:pt x="406" y="1559"/>
                    </a:lnTo>
                    <a:lnTo>
                      <a:pt x="415" y="1565"/>
                    </a:lnTo>
                    <a:lnTo>
                      <a:pt x="426" y="1571"/>
                    </a:lnTo>
                    <a:lnTo>
                      <a:pt x="436" y="1577"/>
                    </a:lnTo>
                    <a:lnTo>
                      <a:pt x="446" y="1582"/>
                    </a:lnTo>
                    <a:lnTo>
                      <a:pt x="454" y="1586"/>
                    </a:lnTo>
                    <a:lnTo>
                      <a:pt x="462" y="1590"/>
                    </a:lnTo>
                    <a:lnTo>
                      <a:pt x="471" y="1594"/>
                    </a:lnTo>
                    <a:lnTo>
                      <a:pt x="480" y="1599"/>
                    </a:lnTo>
                    <a:lnTo>
                      <a:pt x="493" y="1606"/>
                    </a:lnTo>
                    <a:lnTo>
                      <a:pt x="505" y="1612"/>
                    </a:lnTo>
                    <a:lnTo>
                      <a:pt x="513" y="1615"/>
                    </a:lnTo>
                    <a:lnTo>
                      <a:pt x="521" y="1618"/>
                    </a:lnTo>
                    <a:lnTo>
                      <a:pt x="525" y="1620"/>
                    </a:lnTo>
                    <a:lnTo>
                      <a:pt x="528" y="1621"/>
                    </a:lnTo>
                    <a:lnTo>
                      <a:pt x="528" y="1584"/>
                    </a:lnTo>
                    <a:lnTo>
                      <a:pt x="528" y="1548"/>
                    </a:lnTo>
                    <a:lnTo>
                      <a:pt x="528" y="1511"/>
                    </a:lnTo>
                    <a:lnTo>
                      <a:pt x="528" y="1474"/>
                    </a:lnTo>
                    <a:lnTo>
                      <a:pt x="528" y="1437"/>
                    </a:lnTo>
                    <a:lnTo>
                      <a:pt x="528" y="1401"/>
                    </a:lnTo>
                    <a:lnTo>
                      <a:pt x="528" y="1363"/>
                    </a:lnTo>
                    <a:lnTo>
                      <a:pt x="528" y="1326"/>
                    </a:lnTo>
                    <a:lnTo>
                      <a:pt x="525" y="1324"/>
                    </a:lnTo>
                    <a:lnTo>
                      <a:pt x="521" y="1323"/>
                    </a:lnTo>
                    <a:lnTo>
                      <a:pt x="514" y="1319"/>
                    </a:lnTo>
                    <a:lnTo>
                      <a:pt x="507" y="1314"/>
                    </a:lnTo>
                    <a:lnTo>
                      <a:pt x="496" y="1306"/>
                    </a:lnTo>
                    <a:lnTo>
                      <a:pt x="486" y="1296"/>
                    </a:lnTo>
                    <a:lnTo>
                      <a:pt x="475" y="1285"/>
                    </a:lnTo>
                    <a:lnTo>
                      <a:pt x="464" y="1273"/>
                    </a:lnTo>
                    <a:lnTo>
                      <a:pt x="452" y="1259"/>
                    </a:lnTo>
                    <a:lnTo>
                      <a:pt x="440" y="1243"/>
                    </a:lnTo>
                    <a:lnTo>
                      <a:pt x="435" y="1234"/>
                    </a:lnTo>
                    <a:lnTo>
                      <a:pt x="429" y="1225"/>
                    </a:lnTo>
                    <a:lnTo>
                      <a:pt x="423" y="1216"/>
                    </a:lnTo>
                    <a:lnTo>
                      <a:pt x="417" y="1206"/>
                    </a:lnTo>
                    <a:lnTo>
                      <a:pt x="414" y="1195"/>
                    </a:lnTo>
                    <a:lnTo>
                      <a:pt x="411" y="1185"/>
                    </a:lnTo>
                    <a:lnTo>
                      <a:pt x="407" y="1175"/>
                    </a:lnTo>
                    <a:lnTo>
                      <a:pt x="404" y="1165"/>
                    </a:lnTo>
                    <a:lnTo>
                      <a:pt x="402" y="1152"/>
                    </a:lnTo>
                    <a:lnTo>
                      <a:pt x="401" y="1140"/>
                    </a:lnTo>
                    <a:lnTo>
                      <a:pt x="399" y="1128"/>
                    </a:lnTo>
                    <a:lnTo>
                      <a:pt x="398" y="1115"/>
                    </a:lnTo>
                    <a:lnTo>
                      <a:pt x="400" y="1105"/>
                    </a:lnTo>
                    <a:lnTo>
                      <a:pt x="402" y="1095"/>
                    </a:lnTo>
                    <a:lnTo>
                      <a:pt x="406" y="1086"/>
                    </a:lnTo>
                    <a:lnTo>
                      <a:pt x="410" y="1078"/>
                    </a:lnTo>
                    <a:lnTo>
                      <a:pt x="417" y="1070"/>
                    </a:lnTo>
                    <a:lnTo>
                      <a:pt x="424" y="1063"/>
                    </a:lnTo>
                    <a:lnTo>
                      <a:pt x="434" y="1056"/>
                    </a:lnTo>
                    <a:lnTo>
                      <a:pt x="444" y="1049"/>
                    </a:lnTo>
                    <a:lnTo>
                      <a:pt x="455" y="1043"/>
                    </a:lnTo>
                    <a:lnTo>
                      <a:pt x="467" y="1037"/>
                    </a:lnTo>
                    <a:lnTo>
                      <a:pt x="482" y="1033"/>
                    </a:lnTo>
                    <a:lnTo>
                      <a:pt x="496" y="1028"/>
                    </a:lnTo>
                    <a:lnTo>
                      <a:pt x="510" y="1024"/>
                    </a:lnTo>
                    <a:lnTo>
                      <a:pt x="526" y="1019"/>
                    </a:lnTo>
                    <a:lnTo>
                      <a:pt x="534" y="1018"/>
                    </a:lnTo>
                    <a:lnTo>
                      <a:pt x="542" y="1016"/>
                    </a:lnTo>
                    <a:lnTo>
                      <a:pt x="551" y="1015"/>
                    </a:lnTo>
                    <a:lnTo>
                      <a:pt x="559" y="1013"/>
                    </a:lnTo>
                    <a:lnTo>
                      <a:pt x="568" y="1011"/>
                    </a:lnTo>
                    <a:lnTo>
                      <a:pt x="577" y="1008"/>
                    </a:lnTo>
                    <a:lnTo>
                      <a:pt x="586" y="1007"/>
                    </a:lnTo>
                    <a:lnTo>
                      <a:pt x="595" y="1005"/>
                    </a:lnTo>
                    <a:lnTo>
                      <a:pt x="604" y="1004"/>
                    </a:lnTo>
                    <a:lnTo>
                      <a:pt x="614" y="1002"/>
                    </a:lnTo>
                    <a:lnTo>
                      <a:pt x="624" y="1001"/>
                    </a:lnTo>
                    <a:lnTo>
                      <a:pt x="634" y="1000"/>
                    </a:lnTo>
                    <a:lnTo>
                      <a:pt x="643" y="999"/>
                    </a:lnTo>
                    <a:lnTo>
                      <a:pt x="653" y="997"/>
                    </a:lnTo>
                    <a:lnTo>
                      <a:pt x="662" y="996"/>
                    </a:lnTo>
                    <a:lnTo>
                      <a:pt x="673" y="995"/>
                    </a:lnTo>
                    <a:lnTo>
                      <a:pt x="682" y="994"/>
                    </a:lnTo>
                    <a:lnTo>
                      <a:pt x="692" y="993"/>
                    </a:lnTo>
                    <a:lnTo>
                      <a:pt x="702" y="991"/>
                    </a:lnTo>
                    <a:lnTo>
                      <a:pt x="712" y="990"/>
                    </a:lnTo>
                    <a:lnTo>
                      <a:pt x="722" y="990"/>
                    </a:lnTo>
                    <a:lnTo>
                      <a:pt x="732" y="989"/>
                    </a:lnTo>
                    <a:lnTo>
                      <a:pt x="742" y="988"/>
                    </a:lnTo>
                    <a:lnTo>
                      <a:pt x="752" y="987"/>
                    </a:lnTo>
                    <a:lnTo>
                      <a:pt x="761" y="986"/>
                    </a:lnTo>
                    <a:lnTo>
                      <a:pt x="772" y="985"/>
                    </a:lnTo>
                    <a:lnTo>
                      <a:pt x="782" y="984"/>
                    </a:lnTo>
                    <a:lnTo>
                      <a:pt x="792" y="983"/>
                    </a:lnTo>
                    <a:lnTo>
                      <a:pt x="801" y="982"/>
                    </a:lnTo>
                    <a:lnTo>
                      <a:pt x="811" y="982"/>
                    </a:lnTo>
                    <a:lnTo>
                      <a:pt x="822" y="981"/>
                    </a:lnTo>
                    <a:lnTo>
                      <a:pt x="832" y="980"/>
                    </a:lnTo>
                    <a:lnTo>
                      <a:pt x="841" y="979"/>
                    </a:lnTo>
                    <a:lnTo>
                      <a:pt x="850" y="978"/>
                    </a:lnTo>
                    <a:lnTo>
                      <a:pt x="860" y="977"/>
                    </a:lnTo>
                    <a:lnTo>
                      <a:pt x="870" y="975"/>
                    </a:lnTo>
                    <a:lnTo>
                      <a:pt x="879" y="974"/>
                    </a:lnTo>
                    <a:lnTo>
                      <a:pt x="889" y="974"/>
                    </a:lnTo>
                    <a:lnTo>
                      <a:pt x="898" y="973"/>
                    </a:lnTo>
                    <a:lnTo>
                      <a:pt x="907" y="972"/>
                    </a:lnTo>
                    <a:lnTo>
                      <a:pt x="918" y="971"/>
                    </a:lnTo>
                    <a:lnTo>
                      <a:pt x="929" y="970"/>
                    </a:lnTo>
                    <a:lnTo>
                      <a:pt x="939" y="969"/>
                    </a:lnTo>
                    <a:lnTo>
                      <a:pt x="949" y="968"/>
                    </a:lnTo>
                    <a:lnTo>
                      <a:pt x="960" y="966"/>
                    </a:lnTo>
                    <a:lnTo>
                      <a:pt x="972" y="965"/>
                    </a:lnTo>
                    <a:lnTo>
                      <a:pt x="982" y="964"/>
                    </a:lnTo>
                    <a:lnTo>
                      <a:pt x="993" y="962"/>
                    </a:lnTo>
                    <a:lnTo>
                      <a:pt x="1004" y="960"/>
                    </a:lnTo>
                    <a:lnTo>
                      <a:pt x="1017" y="958"/>
                    </a:lnTo>
                    <a:lnTo>
                      <a:pt x="1028" y="957"/>
                    </a:lnTo>
                    <a:lnTo>
                      <a:pt x="1039" y="956"/>
                    </a:lnTo>
                    <a:lnTo>
                      <a:pt x="1050" y="954"/>
                    </a:lnTo>
                    <a:lnTo>
                      <a:pt x="1062" y="952"/>
                    </a:lnTo>
                    <a:lnTo>
                      <a:pt x="1073" y="950"/>
                    </a:lnTo>
                    <a:lnTo>
                      <a:pt x="1085" y="948"/>
                    </a:lnTo>
                    <a:lnTo>
                      <a:pt x="1096" y="946"/>
                    </a:lnTo>
                    <a:lnTo>
                      <a:pt x="1108" y="943"/>
                    </a:lnTo>
                    <a:lnTo>
                      <a:pt x="1119" y="940"/>
                    </a:lnTo>
                    <a:lnTo>
                      <a:pt x="1130" y="938"/>
                    </a:lnTo>
                    <a:lnTo>
                      <a:pt x="1142" y="934"/>
                    </a:lnTo>
                    <a:lnTo>
                      <a:pt x="1153" y="931"/>
                    </a:lnTo>
                    <a:lnTo>
                      <a:pt x="1165" y="927"/>
                    </a:lnTo>
                    <a:lnTo>
                      <a:pt x="1176" y="924"/>
                    </a:lnTo>
                    <a:lnTo>
                      <a:pt x="1187" y="919"/>
                    </a:lnTo>
                    <a:lnTo>
                      <a:pt x="1198" y="915"/>
                    </a:lnTo>
                    <a:lnTo>
                      <a:pt x="1209" y="909"/>
                    </a:lnTo>
                    <a:lnTo>
                      <a:pt x="1220" y="904"/>
                    </a:lnTo>
                    <a:lnTo>
                      <a:pt x="1230" y="898"/>
                    </a:lnTo>
                    <a:lnTo>
                      <a:pt x="1239" y="893"/>
                    </a:lnTo>
                    <a:lnTo>
                      <a:pt x="1249" y="887"/>
                    </a:lnTo>
                    <a:lnTo>
                      <a:pt x="1260" y="882"/>
                    </a:lnTo>
                    <a:lnTo>
                      <a:pt x="1269" y="874"/>
                    </a:lnTo>
                    <a:lnTo>
                      <a:pt x="1279" y="867"/>
                    </a:lnTo>
                    <a:lnTo>
                      <a:pt x="1288" y="859"/>
                    </a:lnTo>
                    <a:lnTo>
                      <a:pt x="1297" y="852"/>
                    </a:lnTo>
                    <a:lnTo>
                      <a:pt x="1307" y="844"/>
                    </a:lnTo>
                    <a:lnTo>
                      <a:pt x="1316" y="835"/>
                    </a:lnTo>
                    <a:lnTo>
                      <a:pt x="1324" y="827"/>
                    </a:lnTo>
                    <a:lnTo>
                      <a:pt x="1333" y="819"/>
                    </a:lnTo>
                    <a:lnTo>
                      <a:pt x="1341" y="808"/>
                    </a:lnTo>
                    <a:lnTo>
                      <a:pt x="1348" y="798"/>
                    </a:lnTo>
                    <a:lnTo>
                      <a:pt x="1356" y="787"/>
                    </a:lnTo>
                    <a:lnTo>
                      <a:pt x="1364" y="777"/>
                    </a:lnTo>
                    <a:lnTo>
                      <a:pt x="1369" y="764"/>
                    </a:lnTo>
                    <a:lnTo>
                      <a:pt x="1375" y="751"/>
                    </a:lnTo>
                    <a:lnTo>
                      <a:pt x="1381" y="739"/>
                    </a:lnTo>
                    <a:lnTo>
                      <a:pt x="1387" y="727"/>
                    </a:lnTo>
                    <a:lnTo>
                      <a:pt x="1391" y="712"/>
                    </a:lnTo>
                    <a:lnTo>
                      <a:pt x="1396" y="698"/>
                    </a:lnTo>
                    <a:lnTo>
                      <a:pt x="1401" y="685"/>
                    </a:lnTo>
                    <a:lnTo>
                      <a:pt x="1405" y="671"/>
                    </a:lnTo>
                    <a:lnTo>
                      <a:pt x="1408" y="653"/>
                    </a:lnTo>
                    <a:lnTo>
                      <a:pt x="1411" y="637"/>
                    </a:lnTo>
                    <a:lnTo>
                      <a:pt x="1414" y="619"/>
                    </a:lnTo>
                    <a:lnTo>
                      <a:pt x="1417" y="602"/>
                    </a:lnTo>
                    <a:lnTo>
                      <a:pt x="1418" y="584"/>
                    </a:lnTo>
                    <a:lnTo>
                      <a:pt x="1419" y="564"/>
                    </a:lnTo>
                    <a:lnTo>
                      <a:pt x="1420" y="546"/>
                    </a:lnTo>
                    <a:lnTo>
                      <a:pt x="1421" y="528"/>
                    </a:lnTo>
                    <a:lnTo>
                      <a:pt x="1420" y="508"/>
                    </a:lnTo>
                    <a:lnTo>
                      <a:pt x="1418" y="490"/>
                    </a:lnTo>
                    <a:lnTo>
                      <a:pt x="1417" y="470"/>
                    </a:lnTo>
                    <a:lnTo>
                      <a:pt x="1415" y="451"/>
                    </a:lnTo>
                    <a:lnTo>
                      <a:pt x="1411" y="433"/>
                    </a:lnTo>
                    <a:lnTo>
                      <a:pt x="1407" y="414"/>
                    </a:lnTo>
                    <a:lnTo>
                      <a:pt x="1404" y="396"/>
                    </a:lnTo>
                    <a:lnTo>
                      <a:pt x="1399" y="378"/>
                    </a:lnTo>
                    <a:lnTo>
                      <a:pt x="1393" y="359"/>
                    </a:lnTo>
                    <a:lnTo>
                      <a:pt x="1387" y="341"/>
                    </a:lnTo>
                    <a:lnTo>
                      <a:pt x="1381" y="323"/>
                    </a:lnTo>
                    <a:lnTo>
                      <a:pt x="1375" y="305"/>
                    </a:lnTo>
                    <a:lnTo>
                      <a:pt x="1367" y="288"/>
                    </a:lnTo>
                    <a:lnTo>
                      <a:pt x="1360" y="271"/>
                    </a:lnTo>
                    <a:lnTo>
                      <a:pt x="1352" y="254"/>
                    </a:lnTo>
                    <a:lnTo>
                      <a:pt x="1343" y="237"/>
                    </a:lnTo>
                    <a:lnTo>
                      <a:pt x="1333" y="221"/>
                    </a:lnTo>
                    <a:lnTo>
                      <a:pt x="1323" y="205"/>
                    </a:lnTo>
                    <a:lnTo>
                      <a:pt x="1314" y="190"/>
                    </a:lnTo>
                    <a:lnTo>
                      <a:pt x="1304" y="173"/>
                    </a:lnTo>
                    <a:lnTo>
                      <a:pt x="1292" y="158"/>
                    </a:lnTo>
                    <a:lnTo>
                      <a:pt x="1282" y="143"/>
                    </a:lnTo>
                    <a:lnTo>
                      <a:pt x="1271" y="126"/>
                    </a:lnTo>
                    <a:lnTo>
                      <a:pt x="1260" y="111"/>
                    </a:lnTo>
                    <a:lnTo>
                      <a:pt x="1248" y="97"/>
                    </a:lnTo>
                    <a:lnTo>
                      <a:pt x="1236" y="82"/>
                    </a:lnTo>
                    <a:lnTo>
                      <a:pt x="1224" y="68"/>
                    </a:lnTo>
                    <a:lnTo>
                      <a:pt x="1213" y="54"/>
                    </a:lnTo>
                    <a:lnTo>
                      <a:pt x="1199" y="41"/>
                    </a:lnTo>
                    <a:lnTo>
                      <a:pt x="1186" y="26"/>
                    </a:lnTo>
                    <a:lnTo>
                      <a:pt x="1173" y="13"/>
                    </a:lnTo>
                    <a:lnTo>
                      <a:pt x="1161" y="0"/>
                    </a:lnTo>
                    <a:lnTo>
                      <a:pt x="1158" y="0"/>
                    </a:lnTo>
                    <a:lnTo>
                      <a:pt x="1154" y="0"/>
                    </a:lnTo>
                    <a:lnTo>
                      <a:pt x="1147" y="3"/>
                    </a:lnTo>
                    <a:lnTo>
                      <a:pt x="1140" y="5"/>
                    </a:lnTo>
                    <a:lnTo>
                      <a:pt x="1129" y="7"/>
                    </a:lnTo>
                    <a:lnTo>
                      <a:pt x="1119" y="9"/>
                    </a:lnTo>
                    <a:lnTo>
                      <a:pt x="1105" y="13"/>
                    </a:lnTo>
                    <a:lnTo>
                      <a:pt x="1093" y="16"/>
                    </a:lnTo>
                    <a:lnTo>
                      <a:pt x="1085" y="17"/>
                    </a:lnTo>
                    <a:lnTo>
                      <a:pt x="1077" y="19"/>
                    </a:lnTo>
                    <a:lnTo>
                      <a:pt x="1069" y="21"/>
                    </a:lnTo>
                    <a:lnTo>
                      <a:pt x="1061" y="22"/>
                    </a:lnTo>
                    <a:lnTo>
                      <a:pt x="1052" y="24"/>
                    </a:lnTo>
                    <a:lnTo>
                      <a:pt x="1044" y="26"/>
                    </a:lnTo>
                    <a:lnTo>
                      <a:pt x="1036" y="28"/>
                    </a:lnTo>
                    <a:lnTo>
                      <a:pt x="1027" y="30"/>
                    </a:lnTo>
                    <a:lnTo>
                      <a:pt x="1018" y="31"/>
                    </a:lnTo>
                    <a:lnTo>
                      <a:pt x="1008" y="33"/>
                    </a:lnTo>
                    <a:lnTo>
                      <a:pt x="1000" y="34"/>
                    </a:lnTo>
                    <a:lnTo>
                      <a:pt x="991" y="36"/>
                    </a:lnTo>
                    <a:lnTo>
                      <a:pt x="983" y="38"/>
                    </a:lnTo>
                    <a:lnTo>
                      <a:pt x="975" y="39"/>
                    </a:lnTo>
                    <a:lnTo>
                      <a:pt x="966" y="39"/>
                    </a:lnTo>
                    <a:lnTo>
                      <a:pt x="957" y="40"/>
                    </a:lnTo>
                    <a:lnTo>
                      <a:pt x="949" y="41"/>
                    </a:lnTo>
                    <a:lnTo>
                      <a:pt x="940" y="42"/>
                    </a:lnTo>
                    <a:lnTo>
                      <a:pt x="932" y="43"/>
                    </a:lnTo>
                    <a:lnTo>
                      <a:pt x="924" y="44"/>
                    </a:lnTo>
                    <a:lnTo>
                      <a:pt x="915" y="45"/>
                    </a:lnTo>
                    <a:lnTo>
                      <a:pt x="905" y="46"/>
                    </a:lnTo>
                    <a:lnTo>
                      <a:pt x="897" y="47"/>
                    </a:lnTo>
                    <a:lnTo>
                      <a:pt x="888" y="48"/>
                    </a:lnTo>
                    <a:lnTo>
                      <a:pt x="879" y="49"/>
                    </a:lnTo>
                    <a:lnTo>
                      <a:pt x="871" y="50"/>
                    </a:lnTo>
                    <a:lnTo>
                      <a:pt x="862" y="51"/>
                    </a:lnTo>
                    <a:lnTo>
                      <a:pt x="854" y="52"/>
                    </a:lnTo>
                    <a:lnTo>
                      <a:pt x="846" y="53"/>
                    </a:lnTo>
                    <a:lnTo>
                      <a:pt x="838" y="53"/>
                    </a:lnTo>
                    <a:lnTo>
                      <a:pt x="830" y="54"/>
                    </a:lnTo>
                    <a:lnTo>
                      <a:pt x="822" y="54"/>
                    </a:lnTo>
                    <a:lnTo>
                      <a:pt x="807" y="56"/>
                    </a:lnTo>
                    <a:lnTo>
                      <a:pt x="794" y="58"/>
                    </a:lnTo>
                    <a:lnTo>
                      <a:pt x="783" y="59"/>
                    </a:lnTo>
                    <a:lnTo>
                      <a:pt x="772" y="60"/>
                    </a:lnTo>
                    <a:lnTo>
                      <a:pt x="765" y="61"/>
                    </a:lnTo>
                    <a:lnTo>
                      <a:pt x="758" y="62"/>
                    </a:lnTo>
                    <a:lnTo>
                      <a:pt x="755" y="62"/>
                    </a:lnTo>
                    <a:lnTo>
                      <a:pt x="752" y="62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404240" y="4550400"/>
                <a:ext cx="53280" cy="64800"/>
              </a:xfrm>
              <a:custGeom>
                <a:avLst/>
                <a:gdLst/>
                <a:ahLst/>
                <a:rect l="l" t="t" r="r" b="b"/>
                <a:pathLst>
                  <a:path w="1093" h="1229">
                    <a:moveTo>
                      <a:pt x="653" y="45"/>
                    </a:moveTo>
                    <a:lnTo>
                      <a:pt x="655" y="69"/>
                    </a:lnTo>
                    <a:lnTo>
                      <a:pt x="657" y="94"/>
                    </a:lnTo>
                    <a:lnTo>
                      <a:pt x="659" y="118"/>
                    </a:lnTo>
                    <a:lnTo>
                      <a:pt x="661" y="143"/>
                    </a:lnTo>
                    <a:lnTo>
                      <a:pt x="664" y="145"/>
                    </a:lnTo>
                    <a:lnTo>
                      <a:pt x="668" y="147"/>
                    </a:lnTo>
                    <a:lnTo>
                      <a:pt x="675" y="156"/>
                    </a:lnTo>
                    <a:lnTo>
                      <a:pt x="681" y="164"/>
                    </a:lnTo>
                    <a:lnTo>
                      <a:pt x="684" y="174"/>
                    </a:lnTo>
                    <a:lnTo>
                      <a:pt x="687" y="182"/>
                    </a:lnTo>
                    <a:lnTo>
                      <a:pt x="690" y="191"/>
                    </a:lnTo>
                    <a:lnTo>
                      <a:pt x="693" y="199"/>
                    </a:lnTo>
                    <a:lnTo>
                      <a:pt x="694" y="214"/>
                    </a:lnTo>
                    <a:lnTo>
                      <a:pt x="695" y="231"/>
                    </a:lnTo>
                    <a:lnTo>
                      <a:pt x="696" y="246"/>
                    </a:lnTo>
                    <a:lnTo>
                      <a:pt x="697" y="262"/>
                    </a:lnTo>
                    <a:lnTo>
                      <a:pt x="694" y="271"/>
                    </a:lnTo>
                    <a:lnTo>
                      <a:pt x="691" y="279"/>
                    </a:lnTo>
                    <a:lnTo>
                      <a:pt x="686" y="286"/>
                    </a:lnTo>
                    <a:lnTo>
                      <a:pt x="681" y="293"/>
                    </a:lnTo>
                    <a:lnTo>
                      <a:pt x="672" y="299"/>
                    </a:lnTo>
                    <a:lnTo>
                      <a:pt x="663" y="306"/>
                    </a:lnTo>
                    <a:lnTo>
                      <a:pt x="653" y="315"/>
                    </a:lnTo>
                    <a:lnTo>
                      <a:pt x="643" y="322"/>
                    </a:lnTo>
                    <a:lnTo>
                      <a:pt x="631" y="328"/>
                    </a:lnTo>
                    <a:lnTo>
                      <a:pt x="620" y="334"/>
                    </a:lnTo>
                    <a:lnTo>
                      <a:pt x="606" y="340"/>
                    </a:lnTo>
                    <a:lnTo>
                      <a:pt x="593" y="344"/>
                    </a:lnTo>
                    <a:lnTo>
                      <a:pt x="581" y="349"/>
                    </a:lnTo>
                    <a:lnTo>
                      <a:pt x="567" y="354"/>
                    </a:lnTo>
                    <a:lnTo>
                      <a:pt x="554" y="359"/>
                    </a:lnTo>
                    <a:lnTo>
                      <a:pt x="542" y="365"/>
                    </a:lnTo>
                    <a:lnTo>
                      <a:pt x="533" y="367"/>
                    </a:lnTo>
                    <a:lnTo>
                      <a:pt x="525" y="369"/>
                    </a:lnTo>
                    <a:lnTo>
                      <a:pt x="511" y="371"/>
                    </a:lnTo>
                    <a:lnTo>
                      <a:pt x="498" y="372"/>
                    </a:lnTo>
                    <a:lnTo>
                      <a:pt x="490" y="374"/>
                    </a:lnTo>
                    <a:lnTo>
                      <a:pt x="482" y="376"/>
                    </a:lnTo>
                    <a:lnTo>
                      <a:pt x="475" y="377"/>
                    </a:lnTo>
                    <a:lnTo>
                      <a:pt x="466" y="379"/>
                    </a:lnTo>
                    <a:lnTo>
                      <a:pt x="456" y="380"/>
                    </a:lnTo>
                    <a:lnTo>
                      <a:pt x="447" y="382"/>
                    </a:lnTo>
                    <a:lnTo>
                      <a:pt x="438" y="383"/>
                    </a:lnTo>
                    <a:lnTo>
                      <a:pt x="429" y="384"/>
                    </a:lnTo>
                    <a:lnTo>
                      <a:pt x="417" y="386"/>
                    </a:lnTo>
                    <a:lnTo>
                      <a:pt x="406" y="388"/>
                    </a:lnTo>
                    <a:lnTo>
                      <a:pt x="396" y="390"/>
                    </a:lnTo>
                    <a:lnTo>
                      <a:pt x="385" y="392"/>
                    </a:lnTo>
                    <a:lnTo>
                      <a:pt x="373" y="394"/>
                    </a:lnTo>
                    <a:lnTo>
                      <a:pt x="363" y="397"/>
                    </a:lnTo>
                    <a:lnTo>
                      <a:pt x="352" y="399"/>
                    </a:lnTo>
                    <a:lnTo>
                      <a:pt x="341" y="401"/>
                    </a:lnTo>
                    <a:lnTo>
                      <a:pt x="329" y="405"/>
                    </a:lnTo>
                    <a:lnTo>
                      <a:pt x="316" y="408"/>
                    </a:lnTo>
                    <a:lnTo>
                      <a:pt x="305" y="412"/>
                    </a:lnTo>
                    <a:lnTo>
                      <a:pt x="293" y="415"/>
                    </a:lnTo>
                    <a:lnTo>
                      <a:pt x="282" y="418"/>
                    </a:lnTo>
                    <a:lnTo>
                      <a:pt x="269" y="421"/>
                    </a:lnTo>
                    <a:lnTo>
                      <a:pt x="257" y="425"/>
                    </a:lnTo>
                    <a:lnTo>
                      <a:pt x="246" y="428"/>
                    </a:lnTo>
                    <a:lnTo>
                      <a:pt x="234" y="432"/>
                    </a:lnTo>
                    <a:lnTo>
                      <a:pt x="221" y="436"/>
                    </a:lnTo>
                    <a:lnTo>
                      <a:pt x="209" y="440"/>
                    </a:lnTo>
                    <a:lnTo>
                      <a:pt x="198" y="444"/>
                    </a:lnTo>
                    <a:lnTo>
                      <a:pt x="187" y="449"/>
                    </a:lnTo>
                    <a:lnTo>
                      <a:pt x="175" y="454"/>
                    </a:lnTo>
                    <a:lnTo>
                      <a:pt x="164" y="459"/>
                    </a:lnTo>
                    <a:lnTo>
                      <a:pt x="154" y="465"/>
                    </a:lnTo>
                    <a:lnTo>
                      <a:pt x="143" y="470"/>
                    </a:lnTo>
                    <a:lnTo>
                      <a:pt x="133" y="476"/>
                    </a:lnTo>
                    <a:lnTo>
                      <a:pt x="122" y="481"/>
                    </a:lnTo>
                    <a:lnTo>
                      <a:pt x="112" y="487"/>
                    </a:lnTo>
                    <a:lnTo>
                      <a:pt x="103" y="493"/>
                    </a:lnTo>
                    <a:lnTo>
                      <a:pt x="94" y="500"/>
                    </a:lnTo>
                    <a:lnTo>
                      <a:pt x="86" y="506"/>
                    </a:lnTo>
                    <a:lnTo>
                      <a:pt x="76" y="513"/>
                    </a:lnTo>
                    <a:lnTo>
                      <a:pt x="68" y="520"/>
                    </a:lnTo>
                    <a:lnTo>
                      <a:pt x="59" y="527"/>
                    </a:lnTo>
                    <a:lnTo>
                      <a:pt x="52" y="534"/>
                    </a:lnTo>
                    <a:lnTo>
                      <a:pt x="44" y="541"/>
                    </a:lnTo>
                    <a:lnTo>
                      <a:pt x="38" y="549"/>
                    </a:lnTo>
                    <a:lnTo>
                      <a:pt x="31" y="559"/>
                    </a:lnTo>
                    <a:lnTo>
                      <a:pt x="25" y="567"/>
                    </a:lnTo>
                    <a:lnTo>
                      <a:pt x="20" y="576"/>
                    </a:lnTo>
                    <a:lnTo>
                      <a:pt x="16" y="585"/>
                    </a:lnTo>
                    <a:lnTo>
                      <a:pt x="13" y="594"/>
                    </a:lnTo>
                    <a:lnTo>
                      <a:pt x="10" y="603"/>
                    </a:lnTo>
                    <a:lnTo>
                      <a:pt x="6" y="613"/>
                    </a:lnTo>
                    <a:lnTo>
                      <a:pt x="5" y="624"/>
                    </a:lnTo>
                    <a:lnTo>
                      <a:pt x="3" y="634"/>
                    </a:lnTo>
                    <a:lnTo>
                      <a:pt x="2" y="645"/>
                    </a:lnTo>
                    <a:lnTo>
                      <a:pt x="0" y="657"/>
                    </a:lnTo>
                    <a:lnTo>
                      <a:pt x="1" y="668"/>
                    </a:lnTo>
                    <a:lnTo>
                      <a:pt x="2" y="679"/>
                    </a:lnTo>
                    <a:lnTo>
                      <a:pt x="3" y="690"/>
                    </a:lnTo>
                    <a:lnTo>
                      <a:pt x="4" y="700"/>
                    </a:lnTo>
                    <a:lnTo>
                      <a:pt x="7" y="713"/>
                    </a:lnTo>
                    <a:lnTo>
                      <a:pt x="11" y="725"/>
                    </a:lnTo>
                    <a:lnTo>
                      <a:pt x="14" y="736"/>
                    </a:lnTo>
                    <a:lnTo>
                      <a:pt x="18" y="748"/>
                    </a:lnTo>
                    <a:lnTo>
                      <a:pt x="23" y="761"/>
                    </a:lnTo>
                    <a:lnTo>
                      <a:pt x="28" y="773"/>
                    </a:lnTo>
                    <a:lnTo>
                      <a:pt x="35" y="785"/>
                    </a:lnTo>
                    <a:lnTo>
                      <a:pt x="40" y="798"/>
                    </a:lnTo>
                    <a:lnTo>
                      <a:pt x="47" y="811"/>
                    </a:lnTo>
                    <a:lnTo>
                      <a:pt x="54" y="823"/>
                    </a:lnTo>
                    <a:lnTo>
                      <a:pt x="60" y="834"/>
                    </a:lnTo>
                    <a:lnTo>
                      <a:pt x="67" y="846"/>
                    </a:lnTo>
                    <a:lnTo>
                      <a:pt x="75" y="859"/>
                    </a:lnTo>
                    <a:lnTo>
                      <a:pt x="84" y="870"/>
                    </a:lnTo>
                    <a:lnTo>
                      <a:pt x="92" y="882"/>
                    </a:lnTo>
                    <a:lnTo>
                      <a:pt x="100" y="894"/>
                    </a:lnTo>
                    <a:lnTo>
                      <a:pt x="109" y="907"/>
                    </a:lnTo>
                    <a:lnTo>
                      <a:pt x="118" y="919"/>
                    </a:lnTo>
                    <a:lnTo>
                      <a:pt x="127" y="930"/>
                    </a:lnTo>
                    <a:lnTo>
                      <a:pt x="136" y="942"/>
                    </a:lnTo>
                    <a:lnTo>
                      <a:pt x="145" y="955"/>
                    </a:lnTo>
                    <a:lnTo>
                      <a:pt x="155" y="966"/>
                    </a:lnTo>
                    <a:lnTo>
                      <a:pt x="164" y="977"/>
                    </a:lnTo>
                    <a:lnTo>
                      <a:pt x="173" y="988"/>
                    </a:lnTo>
                    <a:lnTo>
                      <a:pt x="184" y="999"/>
                    </a:lnTo>
                    <a:lnTo>
                      <a:pt x="195" y="1010"/>
                    </a:lnTo>
                    <a:lnTo>
                      <a:pt x="205" y="1021"/>
                    </a:lnTo>
                    <a:lnTo>
                      <a:pt x="215" y="1032"/>
                    </a:lnTo>
                    <a:lnTo>
                      <a:pt x="225" y="1042"/>
                    </a:lnTo>
                    <a:lnTo>
                      <a:pt x="236" y="1054"/>
                    </a:lnTo>
                    <a:lnTo>
                      <a:pt x="246" y="1064"/>
                    </a:lnTo>
                    <a:lnTo>
                      <a:pt x="255" y="1074"/>
                    </a:lnTo>
                    <a:lnTo>
                      <a:pt x="265" y="1083"/>
                    </a:lnTo>
                    <a:lnTo>
                      <a:pt x="274" y="1092"/>
                    </a:lnTo>
                    <a:lnTo>
                      <a:pt x="284" y="1102"/>
                    </a:lnTo>
                    <a:lnTo>
                      <a:pt x="293" y="1111"/>
                    </a:lnTo>
                    <a:lnTo>
                      <a:pt x="302" y="1119"/>
                    </a:lnTo>
                    <a:lnTo>
                      <a:pt x="310" y="1127"/>
                    </a:lnTo>
                    <a:lnTo>
                      <a:pt x="319" y="1135"/>
                    </a:lnTo>
                    <a:lnTo>
                      <a:pt x="329" y="1144"/>
                    </a:lnTo>
                    <a:lnTo>
                      <a:pt x="337" y="1151"/>
                    </a:lnTo>
                    <a:lnTo>
                      <a:pt x="345" y="1159"/>
                    </a:lnTo>
                    <a:lnTo>
                      <a:pt x="353" y="1166"/>
                    </a:lnTo>
                    <a:lnTo>
                      <a:pt x="361" y="1173"/>
                    </a:lnTo>
                    <a:lnTo>
                      <a:pt x="374" y="1185"/>
                    </a:lnTo>
                    <a:lnTo>
                      <a:pt x="389" y="1198"/>
                    </a:lnTo>
                    <a:lnTo>
                      <a:pt x="399" y="1207"/>
                    </a:lnTo>
                    <a:lnTo>
                      <a:pt x="410" y="1215"/>
                    </a:lnTo>
                    <a:lnTo>
                      <a:pt x="417" y="1221"/>
                    </a:lnTo>
                    <a:lnTo>
                      <a:pt x="425" y="1226"/>
                    </a:lnTo>
                    <a:lnTo>
                      <a:pt x="427" y="1228"/>
                    </a:lnTo>
                    <a:lnTo>
                      <a:pt x="429" y="1229"/>
                    </a:lnTo>
                    <a:lnTo>
                      <a:pt x="429" y="1190"/>
                    </a:lnTo>
                    <a:lnTo>
                      <a:pt x="429" y="1153"/>
                    </a:lnTo>
                    <a:lnTo>
                      <a:pt x="429" y="1114"/>
                    </a:lnTo>
                    <a:lnTo>
                      <a:pt x="429" y="1076"/>
                    </a:lnTo>
                    <a:lnTo>
                      <a:pt x="429" y="1037"/>
                    </a:lnTo>
                    <a:lnTo>
                      <a:pt x="429" y="1000"/>
                    </a:lnTo>
                    <a:lnTo>
                      <a:pt x="429" y="961"/>
                    </a:lnTo>
                    <a:lnTo>
                      <a:pt x="429" y="922"/>
                    </a:lnTo>
                    <a:lnTo>
                      <a:pt x="427" y="919"/>
                    </a:lnTo>
                    <a:lnTo>
                      <a:pt x="425" y="916"/>
                    </a:lnTo>
                    <a:lnTo>
                      <a:pt x="419" y="906"/>
                    </a:lnTo>
                    <a:lnTo>
                      <a:pt x="414" y="895"/>
                    </a:lnTo>
                    <a:lnTo>
                      <a:pt x="411" y="887"/>
                    </a:lnTo>
                    <a:lnTo>
                      <a:pt x="408" y="879"/>
                    </a:lnTo>
                    <a:lnTo>
                      <a:pt x="405" y="871"/>
                    </a:lnTo>
                    <a:lnTo>
                      <a:pt x="402" y="863"/>
                    </a:lnTo>
                    <a:lnTo>
                      <a:pt x="401" y="852"/>
                    </a:lnTo>
                    <a:lnTo>
                      <a:pt x="400" y="841"/>
                    </a:lnTo>
                    <a:lnTo>
                      <a:pt x="399" y="830"/>
                    </a:lnTo>
                    <a:lnTo>
                      <a:pt x="398" y="819"/>
                    </a:lnTo>
                    <a:lnTo>
                      <a:pt x="401" y="810"/>
                    </a:lnTo>
                    <a:lnTo>
                      <a:pt x="405" y="800"/>
                    </a:lnTo>
                    <a:lnTo>
                      <a:pt x="412" y="793"/>
                    </a:lnTo>
                    <a:lnTo>
                      <a:pt x="420" y="786"/>
                    </a:lnTo>
                    <a:lnTo>
                      <a:pt x="434" y="784"/>
                    </a:lnTo>
                    <a:lnTo>
                      <a:pt x="446" y="780"/>
                    </a:lnTo>
                    <a:lnTo>
                      <a:pt x="454" y="780"/>
                    </a:lnTo>
                    <a:lnTo>
                      <a:pt x="462" y="779"/>
                    </a:lnTo>
                    <a:lnTo>
                      <a:pt x="470" y="778"/>
                    </a:lnTo>
                    <a:lnTo>
                      <a:pt x="478" y="777"/>
                    </a:lnTo>
                    <a:lnTo>
                      <a:pt x="487" y="777"/>
                    </a:lnTo>
                    <a:lnTo>
                      <a:pt x="496" y="776"/>
                    </a:lnTo>
                    <a:lnTo>
                      <a:pt x="505" y="775"/>
                    </a:lnTo>
                    <a:lnTo>
                      <a:pt x="514" y="774"/>
                    </a:lnTo>
                    <a:lnTo>
                      <a:pt x="525" y="774"/>
                    </a:lnTo>
                    <a:lnTo>
                      <a:pt x="535" y="773"/>
                    </a:lnTo>
                    <a:lnTo>
                      <a:pt x="545" y="773"/>
                    </a:lnTo>
                    <a:lnTo>
                      <a:pt x="556" y="772"/>
                    </a:lnTo>
                    <a:lnTo>
                      <a:pt x="566" y="770"/>
                    </a:lnTo>
                    <a:lnTo>
                      <a:pt x="577" y="769"/>
                    </a:lnTo>
                    <a:lnTo>
                      <a:pt x="587" y="767"/>
                    </a:lnTo>
                    <a:lnTo>
                      <a:pt x="597" y="765"/>
                    </a:lnTo>
                    <a:lnTo>
                      <a:pt x="608" y="763"/>
                    </a:lnTo>
                    <a:lnTo>
                      <a:pt x="620" y="761"/>
                    </a:lnTo>
                    <a:lnTo>
                      <a:pt x="631" y="758"/>
                    </a:lnTo>
                    <a:lnTo>
                      <a:pt x="641" y="756"/>
                    </a:lnTo>
                    <a:lnTo>
                      <a:pt x="653" y="753"/>
                    </a:lnTo>
                    <a:lnTo>
                      <a:pt x="665" y="749"/>
                    </a:lnTo>
                    <a:lnTo>
                      <a:pt x="679" y="747"/>
                    </a:lnTo>
                    <a:lnTo>
                      <a:pt x="693" y="745"/>
                    </a:lnTo>
                    <a:lnTo>
                      <a:pt x="701" y="744"/>
                    </a:lnTo>
                    <a:lnTo>
                      <a:pt x="708" y="743"/>
                    </a:lnTo>
                    <a:lnTo>
                      <a:pt x="717" y="742"/>
                    </a:lnTo>
                    <a:lnTo>
                      <a:pt x="725" y="740"/>
                    </a:lnTo>
                    <a:lnTo>
                      <a:pt x="734" y="739"/>
                    </a:lnTo>
                    <a:lnTo>
                      <a:pt x="742" y="739"/>
                    </a:lnTo>
                    <a:lnTo>
                      <a:pt x="750" y="738"/>
                    </a:lnTo>
                    <a:lnTo>
                      <a:pt x="759" y="736"/>
                    </a:lnTo>
                    <a:lnTo>
                      <a:pt x="768" y="735"/>
                    </a:lnTo>
                    <a:lnTo>
                      <a:pt x="777" y="733"/>
                    </a:lnTo>
                    <a:lnTo>
                      <a:pt x="786" y="731"/>
                    </a:lnTo>
                    <a:lnTo>
                      <a:pt x="795" y="729"/>
                    </a:lnTo>
                    <a:lnTo>
                      <a:pt x="804" y="728"/>
                    </a:lnTo>
                    <a:lnTo>
                      <a:pt x="813" y="726"/>
                    </a:lnTo>
                    <a:lnTo>
                      <a:pt x="823" y="724"/>
                    </a:lnTo>
                    <a:lnTo>
                      <a:pt x="832" y="722"/>
                    </a:lnTo>
                    <a:lnTo>
                      <a:pt x="842" y="719"/>
                    </a:lnTo>
                    <a:lnTo>
                      <a:pt x="852" y="716"/>
                    </a:lnTo>
                    <a:lnTo>
                      <a:pt x="863" y="714"/>
                    </a:lnTo>
                    <a:lnTo>
                      <a:pt x="872" y="711"/>
                    </a:lnTo>
                    <a:lnTo>
                      <a:pt x="882" y="708"/>
                    </a:lnTo>
                    <a:lnTo>
                      <a:pt x="891" y="703"/>
                    </a:lnTo>
                    <a:lnTo>
                      <a:pt x="900" y="699"/>
                    </a:lnTo>
                    <a:lnTo>
                      <a:pt x="910" y="696"/>
                    </a:lnTo>
                    <a:lnTo>
                      <a:pt x="919" y="691"/>
                    </a:lnTo>
                    <a:lnTo>
                      <a:pt x="928" y="686"/>
                    </a:lnTo>
                    <a:lnTo>
                      <a:pt x="937" y="681"/>
                    </a:lnTo>
                    <a:lnTo>
                      <a:pt x="946" y="676"/>
                    </a:lnTo>
                    <a:lnTo>
                      <a:pt x="954" y="670"/>
                    </a:lnTo>
                    <a:lnTo>
                      <a:pt x="963" y="664"/>
                    </a:lnTo>
                    <a:lnTo>
                      <a:pt x="971" y="658"/>
                    </a:lnTo>
                    <a:lnTo>
                      <a:pt x="980" y="651"/>
                    </a:lnTo>
                    <a:lnTo>
                      <a:pt x="988" y="643"/>
                    </a:lnTo>
                    <a:lnTo>
                      <a:pt x="995" y="635"/>
                    </a:lnTo>
                    <a:lnTo>
                      <a:pt x="1003" y="627"/>
                    </a:lnTo>
                    <a:lnTo>
                      <a:pt x="1012" y="619"/>
                    </a:lnTo>
                    <a:lnTo>
                      <a:pt x="1018" y="610"/>
                    </a:lnTo>
                    <a:lnTo>
                      <a:pt x="1024" y="600"/>
                    </a:lnTo>
                    <a:lnTo>
                      <a:pt x="1031" y="590"/>
                    </a:lnTo>
                    <a:lnTo>
                      <a:pt x="1037" y="581"/>
                    </a:lnTo>
                    <a:lnTo>
                      <a:pt x="1043" y="570"/>
                    </a:lnTo>
                    <a:lnTo>
                      <a:pt x="1049" y="558"/>
                    </a:lnTo>
                    <a:lnTo>
                      <a:pt x="1055" y="546"/>
                    </a:lnTo>
                    <a:lnTo>
                      <a:pt x="1062" y="534"/>
                    </a:lnTo>
                    <a:lnTo>
                      <a:pt x="1066" y="521"/>
                    </a:lnTo>
                    <a:lnTo>
                      <a:pt x="1070" y="506"/>
                    </a:lnTo>
                    <a:lnTo>
                      <a:pt x="1075" y="492"/>
                    </a:lnTo>
                    <a:lnTo>
                      <a:pt x="1079" y="478"/>
                    </a:lnTo>
                    <a:lnTo>
                      <a:pt x="1082" y="462"/>
                    </a:lnTo>
                    <a:lnTo>
                      <a:pt x="1084" y="445"/>
                    </a:lnTo>
                    <a:lnTo>
                      <a:pt x="1087" y="429"/>
                    </a:lnTo>
                    <a:lnTo>
                      <a:pt x="1089" y="413"/>
                    </a:lnTo>
                    <a:lnTo>
                      <a:pt x="1090" y="393"/>
                    </a:lnTo>
                    <a:lnTo>
                      <a:pt x="1091" y="375"/>
                    </a:lnTo>
                    <a:lnTo>
                      <a:pt x="1092" y="355"/>
                    </a:lnTo>
                    <a:lnTo>
                      <a:pt x="1093" y="337"/>
                    </a:lnTo>
                    <a:lnTo>
                      <a:pt x="1092" y="325"/>
                    </a:lnTo>
                    <a:lnTo>
                      <a:pt x="1092" y="312"/>
                    </a:lnTo>
                    <a:lnTo>
                      <a:pt x="1091" y="301"/>
                    </a:lnTo>
                    <a:lnTo>
                      <a:pt x="1091" y="289"/>
                    </a:lnTo>
                    <a:lnTo>
                      <a:pt x="1089" y="277"/>
                    </a:lnTo>
                    <a:lnTo>
                      <a:pt x="1088" y="266"/>
                    </a:lnTo>
                    <a:lnTo>
                      <a:pt x="1086" y="253"/>
                    </a:lnTo>
                    <a:lnTo>
                      <a:pt x="1085" y="241"/>
                    </a:lnTo>
                    <a:lnTo>
                      <a:pt x="1083" y="230"/>
                    </a:lnTo>
                    <a:lnTo>
                      <a:pt x="1081" y="218"/>
                    </a:lnTo>
                    <a:lnTo>
                      <a:pt x="1079" y="206"/>
                    </a:lnTo>
                    <a:lnTo>
                      <a:pt x="1077" y="195"/>
                    </a:lnTo>
                    <a:lnTo>
                      <a:pt x="1074" y="184"/>
                    </a:lnTo>
                    <a:lnTo>
                      <a:pt x="1071" y="174"/>
                    </a:lnTo>
                    <a:lnTo>
                      <a:pt x="1068" y="163"/>
                    </a:lnTo>
                    <a:lnTo>
                      <a:pt x="1066" y="152"/>
                    </a:lnTo>
                    <a:lnTo>
                      <a:pt x="1062" y="142"/>
                    </a:lnTo>
                    <a:lnTo>
                      <a:pt x="1058" y="132"/>
                    </a:lnTo>
                    <a:lnTo>
                      <a:pt x="1053" y="121"/>
                    </a:lnTo>
                    <a:lnTo>
                      <a:pt x="1049" y="110"/>
                    </a:lnTo>
                    <a:lnTo>
                      <a:pt x="1045" y="100"/>
                    </a:lnTo>
                    <a:lnTo>
                      <a:pt x="1041" y="91"/>
                    </a:lnTo>
                    <a:lnTo>
                      <a:pt x="1038" y="82"/>
                    </a:lnTo>
                    <a:lnTo>
                      <a:pt x="1034" y="72"/>
                    </a:lnTo>
                    <a:lnTo>
                      <a:pt x="1029" y="62"/>
                    </a:lnTo>
                    <a:lnTo>
                      <a:pt x="1024" y="54"/>
                    </a:lnTo>
                    <a:lnTo>
                      <a:pt x="1019" y="45"/>
                    </a:lnTo>
                    <a:lnTo>
                      <a:pt x="1014" y="35"/>
                    </a:lnTo>
                    <a:lnTo>
                      <a:pt x="1009" y="27"/>
                    </a:lnTo>
                    <a:lnTo>
                      <a:pt x="1002" y="17"/>
                    </a:lnTo>
                    <a:lnTo>
                      <a:pt x="997" y="9"/>
                    </a:lnTo>
                    <a:lnTo>
                      <a:pt x="991" y="0"/>
                    </a:lnTo>
                    <a:lnTo>
                      <a:pt x="989" y="1"/>
                    </a:lnTo>
                    <a:lnTo>
                      <a:pt x="987" y="1"/>
                    </a:lnTo>
                    <a:lnTo>
                      <a:pt x="982" y="2"/>
                    </a:lnTo>
                    <a:lnTo>
                      <a:pt x="978" y="3"/>
                    </a:lnTo>
                    <a:lnTo>
                      <a:pt x="970" y="5"/>
                    </a:lnTo>
                    <a:lnTo>
                      <a:pt x="962" y="7"/>
                    </a:lnTo>
                    <a:lnTo>
                      <a:pt x="950" y="10"/>
                    </a:lnTo>
                    <a:lnTo>
                      <a:pt x="940" y="12"/>
                    </a:lnTo>
                    <a:lnTo>
                      <a:pt x="927" y="15"/>
                    </a:lnTo>
                    <a:lnTo>
                      <a:pt x="915" y="17"/>
                    </a:lnTo>
                    <a:lnTo>
                      <a:pt x="900" y="20"/>
                    </a:lnTo>
                    <a:lnTo>
                      <a:pt x="886" y="22"/>
                    </a:lnTo>
                    <a:lnTo>
                      <a:pt x="872" y="25"/>
                    </a:lnTo>
                    <a:lnTo>
                      <a:pt x="856" y="27"/>
                    </a:lnTo>
                    <a:lnTo>
                      <a:pt x="841" y="29"/>
                    </a:lnTo>
                    <a:lnTo>
                      <a:pt x="827" y="30"/>
                    </a:lnTo>
                    <a:lnTo>
                      <a:pt x="811" y="32"/>
                    </a:lnTo>
                    <a:lnTo>
                      <a:pt x="796" y="33"/>
                    </a:lnTo>
                    <a:lnTo>
                      <a:pt x="782" y="34"/>
                    </a:lnTo>
                    <a:lnTo>
                      <a:pt x="767" y="34"/>
                    </a:lnTo>
                    <a:lnTo>
                      <a:pt x="752" y="36"/>
                    </a:lnTo>
                    <a:lnTo>
                      <a:pt x="737" y="37"/>
                    </a:lnTo>
                    <a:lnTo>
                      <a:pt x="724" y="38"/>
                    </a:lnTo>
                    <a:lnTo>
                      <a:pt x="711" y="39"/>
                    </a:lnTo>
                    <a:lnTo>
                      <a:pt x="699" y="40"/>
                    </a:lnTo>
                    <a:lnTo>
                      <a:pt x="687" y="41"/>
                    </a:lnTo>
                    <a:lnTo>
                      <a:pt x="679" y="43"/>
                    </a:lnTo>
                    <a:lnTo>
                      <a:pt x="670" y="43"/>
                    </a:lnTo>
                    <a:lnTo>
                      <a:pt x="663" y="44"/>
                    </a:lnTo>
                    <a:lnTo>
                      <a:pt x="657" y="44"/>
                    </a:lnTo>
                    <a:lnTo>
                      <a:pt x="655" y="45"/>
                    </a:lnTo>
                    <a:lnTo>
                      <a:pt x="653" y="45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398480" y="4587480"/>
                <a:ext cx="57600" cy="35280"/>
              </a:xfrm>
              <a:custGeom>
                <a:avLst/>
                <a:gdLst/>
                <a:ahLst/>
                <a:rect l="l" t="t" r="r" b="b"/>
                <a:pathLst>
                  <a:path w="1138" h="693">
                    <a:moveTo>
                      <a:pt x="727" y="83"/>
                    </a:moveTo>
                    <a:lnTo>
                      <a:pt x="727" y="108"/>
                    </a:lnTo>
                    <a:lnTo>
                      <a:pt x="727" y="133"/>
                    </a:lnTo>
                    <a:lnTo>
                      <a:pt x="727" y="158"/>
                    </a:lnTo>
                    <a:lnTo>
                      <a:pt x="727" y="183"/>
                    </a:lnTo>
                    <a:lnTo>
                      <a:pt x="728" y="185"/>
                    </a:lnTo>
                    <a:lnTo>
                      <a:pt x="729" y="188"/>
                    </a:lnTo>
                    <a:lnTo>
                      <a:pt x="732" y="196"/>
                    </a:lnTo>
                    <a:lnTo>
                      <a:pt x="735" y="203"/>
                    </a:lnTo>
                    <a:lnTo>
                      <a:pt x="737" y="213"/>
                    </a:lnTo>
                    <a:lnTo>
                      <a:pt x="739" y="225"/>
                    </a:lnTo>
                    <a:lnTo>
                      <a:pt x="740" y="236"/>
                    </a:lnTo>
                    <a:lnTo>
                      <a:pt x="741" y="246"/>
                    </a:lnTo>
                    <a:lnTo>
                      <a:pt x="739" y="253"/>
                    </a:lnTo>
                    <a:lnTo>
                      <a:pt x="737" y="259"/>
                    </a:lnTo>
                    <a:lnTo>
                      <a:pt x="730" y="268"/>
                    </a:lnTo>
                    <a:lnTo>
                      <a:pt x="723" y="275"/>
                    </a:lnTo>
                    <a:lnTo>
                      <a:pt x="712" y="285"/>
                    </a:lnTo>
                    <a:lnTo>
                      <a:pt x="702" y="294"/>
                    </a:lnTo>
                    <a:lnTo>
                      <a:pt x="687" y="304"/>
                    </a:lnTo>
                    <a:lnTo>
                      <a:pt x="673" y="314"/>
                    </a:lnTo>
                    <a:lnTo>
                      <a:pt x="664" y="319"/>
                    </a:lnTo>
                    <a:lnTo>
                      <a:pt x="656" y="324"/>
                    </a:lnTo>
                    <a:lnTo>
                      <a:pt x="647" y="329"/>
                    </a:lnTo>
                    <a:lnTo>
                      <a:pt x="637" y="333"/>
                    </a:lnTo>
                    <a:lnTo>
                      <a:pt x="627" y="339"/>
                    </a:lnTo>
                    <a:lnTo>
                      <a:pt x="616" y="343"/>
                    </a:lnTo>
                    <a:lnTo>
                      <a:pt x="605" y="348"/>
                    </a:lnTo>
                    <a:lnTo>
                      <a:pt x="593" y="353"/>
                    </a:lnTo>
                    <a:lnTo>
                      <a:pt x="582" y="359"/>
                    </a:lnTo>
                    <a:lnTo>
                      <a:pt x="570" y="365"/>
                    </a:lnTo>
                    <a:lnTo>
                      <a:pt x="559" y="371"/>
                    </a:lnTo>
                    <a:lnTo>
                      <a:pt x="546" y="376"/>
                    </a:lnTo>
                    <a:lnTo>
                      <a:pt x="533" y="381"/>
                    </a:lnTo>
                    <a:lnTo>
                      <a:pt x="519" y="386"/>
                    </a:lnTo>
                    <a:lnTo>
                      <a:pt x="506" y="391"/>
                    </a:lnTo>
                    <a:lnTo>
                      <a:pt x="492" y="396"/>
                    </a:lnTo>
                    <a:lnTo>
                      <a:pt x="478" y="402"/>
                    </a:lnTo>
                    <a:lnTo>
                      <a:pt x="463" y="407"/>
                    </a:lnTo>
                    <a:lnTo>
                      <a:pt x="454" y="411"/>
                    </a:lnTo>
                    <a:lnTo>
                      <a:pt x="444" y="415"/>
                    </a:lnTo>
                    <a:lnTo>
                      <a:pt x="436" y="418"/>
                    </a:lnTo>
                    <a:lnTo>
                      <a:pt x="427" y="422"/>
                    </a:lnTo>
                    <a:lnTo>
                      <a:pt x="417" y="425"/>
                    </a:lnTo>
                    <a:lnTo>
                      <a:pt x="408" y="429"/>
                    </a:lnTo>
                    <a:lnTo>
                      <a:pt x="398" y="433"/>
                    </a:lnTo>
                    <a:lnTo>
                      <a:pt x="389" y="436"/>
                    </a:lnTo>
                    <a:lnTo>
                      <a:pt x="379" y="441"/>
                    </a:lnTo>
                    <a:lnTo>
                      <a:pt x="369" y="445"/>
                    </a:lnTo>
                    <a:lnTo>
                      <a:pt x="359" y="449"/>
                    </a:lnTo>
                    <a:lnTo>
                      <a:pt x="349" y="453"/>
                    </a:lnTo>
                    <a:lnTo>
                      <a:pt x="338" y="459"/>
                    </a:lnTo>
                    <a:lnTo>
                      <a:pt x="328" y="464"/>
                    </a:lnTo>
                    <a:lnTo>
                      <a:pt x="318" y="469"/>
                    </a:lnTo>
                    <a:lnTo>
                      <a:pt x="308" y="474"/>
                    </a:lnTo>
                    <a:lnTo>
                      <a:pt x="297" y="479"/>
                    </a:lnTo>
                    <a:lnTo>
                      <a:pt x="286" y="484"/>
                    </a:lnTo>
                    <a:lnTo>
                      <a:pt x="276" y="489"/>
                    </a:lnTo>
                    <a:lnTo>
                      <a:pt x="266" y="494"/>
                    </a:lnTo>
                    <a:lnTo>
                      <a:pt x="254" y="499"/>
                    </a:lnTo>
                    <a:lnTo>
                      <a:pt x="244" y="504"/>
                    </a:lnTo>
                    <a:lnTo>
                      <a:pt x="234" y="510"/>
                    </a:lnTo>
                    <a:lnTo>
                      <a:pt x="224" y="515"/>
                    </a:lnTo>
                    <a:lnTo>
                      <a:pt x="214" y="520"/>
                    </a:lnTo>
                    <a:lnTo>
                      <a:pt x="202" y="525"/>
                    </a:lnTo>
                    <a:lnTo>
                      <a:pt x="192" y="530"/>
                    </a:lnTo>
                    <a:lnTo>
                      <a:pt x="182" y="535"/>
                    </a:lnTo>
                    <a:lnTo>
                      <a:pt x="172" y="540"/>
                    </a:lnTo>
                    <a:lnTo>
                      <a:pt x="162" y="545"/>
                    </a:lnTo>
                    <a:lnTo>
                      <a:pt x="151" y="551"/>
                    </a:lnTo>
                    <a:lnTo>
                      <a:pt x="142" y="557"/>
                    </a:lnTo>
                    <a:lnTo>
                      <a:pt x="133" y="562"/>
                    </a:lnTo>
                    <a:lnTo>
                      <a:pt x="124" y="567"/>
                    </a:lnTo>
                    <a:lnTo>
                      <a:pt x="115" y="573"/>
                    </a:lnTo>
                    <a:lnTo>
                      <a:pt x="106" y="578"/>
                    </a:lnTo>
                    <a:lnTo>
                      <a:pt x="98" y="583"/>
                    </a:lnTo>
                    <a:lnTo>
                      <a:pt x="90" y="588"/>
                    </a:lnTo>
                    <a:lnTo>
                      <a:pt x="82" y="593"/>
                    </a:lnTo>
                    <a:lnTo>
                      <a:pt x="74" y="598"/>
                    </a:lnTo>
                    <a:lnTo>
                      <a:pt x="59" y="609"/>
                    </a:lnTo>
                    <a:lnTo>
                      <a:pt x="46" y="618"/>
                    </a:lnTo>
                    <a:lnTo>
                      <a:pt x="35" y="627"/>
                    </a:lnTo>
                    <a:lnTo>
                      <a:pt x="24" y="635"/>
                    </a:lnTo>
                    <a:lnTo>
                      <a:pt x="17" y="643"/>
                    </a:lnTo>
                    <a:lnTo>
                      <a:pt x="8" y="651"/>
                    </a:lnTo>
                    <a:lnTo>
                      <a:pt x="4" y="659"/>
                    </a:lnTo>
                    <a:lnTo>
                      <a:pt x="0" y="666"/>
                    </a:lnTo>
                    <a:lnTo>
                      <a:pt x="0" y="672"/>
                    </a:lnTo>
                    <a:lnTo>
                      <a:pt x="0" y="677"/>
                    </a:lnTo>
                    <a:lnTo>
                      <a:pt x="4" y="682"/>
                    </a:lnTo>
                    <a:lnTo>
                      <a:pt x="10" y="686"/>
                    </a:lnTo>
                    <a:lnTo>
                      <a:pt x="22" y="688"/>
                    </a:lnTo>
                    <a:lnTo>
                      <a:pt x="34" y="691"/>
                    </a:lnTo>
                    <a:lnTo>
                      <a:pt x="42" y="692"/>
                    </a:lnTo>
                    <a:lnTo>
                      <a:pt x="50" y="692"/>
                    </a:lnTo>
                    <a:lnTo>
                      <a:pt x="58" y="692"/>
                    </a:lnTo>
                    <a:lnTo>
                      <a:pt x="67" y="693"/>
                    </a:lnTo>
                    <a:lnTo>
                      <a:pt x="76" y="693"/>
                    </a:lnTo>
                    <a:lnTo>
                      <a:pt x="86" y="693"/>
                    </a:lnTo>
                    <a:lnTo>
                      <a:pt x="96" y="693"/>
                    </a:lnTo>
                    <a:lnTo>
                      <a:pt x="106" y="692"/>
                    </a:lnTo>
                    <a:lnTo>
                      <a:pt x="118" y="692"/>
                    </a:lnTo>
                    <a:lnTo>
                      <a:pt x="130" y="691"/>
                    </a:lnTo>
                    <a:lnTo>
                      <a:pt x="141" y="690"/>
                    </a:lnTo>
                    <a:lnTo>
                      <a:pt x="153" y="689"/>
                    </a:lnTo>
                    <a:lnTo>
                      <a:pt x="167" y="688"/>
                    </a:lnTo>
                    <a:lnTo>
                      <a:pt x="179" y="686"/>
                    </a:lnTo>
                    <a:lnTo>
                      <a:pt x="192" y="685"/>
                    </a:lnTo>
                    <a:lnTo>
                      <a:pt x="205" y="683"/>
                    </a:lnTo>
                    <a:lnTo>
                      <a:pt x="220" y="682"/>
                    </a:lnTo>
                    <a:lnTo>
                      <a:pt x="235" y="680"/>
                    </a:lnTo>
                    <a:lnTo>
                      <a:pt x="249" y="679"/>
                    </a:lnTo>
                    <a:lnTo>
                      <a:pt x="264" y="677"/>
                    </a:lnTo>
                    <a:lnTo>
                      <a:pt x="279" y="675"/>
                    </a:lnTo>
                    <a:lnTo>
                      <a:pt x="293" y="673"/>
                    </a:lnTo>
                    <a:lnTo>
                      <a:pt x="309" y="671"/>
                    </a:lnTo>
                    <a:lnTo>
                      <a:pt x="323" y="669"/>
                    </a:lnTo>
                    <a:lnTo>
                      <a:pt x="338" y="667"/>
                    </a:lnTo>
                    <a:lnTo>
                      <a:pt x="355" y="664"/>
                    </a:lnTo>
                    <a:lnTo>
                      <a:pt x="370" y="662"/>
                    </a:lnTo>
                    <a:lnTo>
                      <a:pt x="385" y="659"/>
                    </a:lnTo>
                    <a:lnTo>
                      <a:pt x="399" y="657"/>
                    </a:lnTo>
                    <a:lnTo>
                      <a:pt x="415" y="654"/>
                    </a:lnTo>
                    <a:lnTo>
                      <a:pt x="430" y="651"/>
                    </a:lnTo>
                    <a:lnTo>
                      <a:pt x="444" y="648"/>
                    </a:lnTo>
                    <a:lnTo>
                      <a:pt x="460" y="645"/>
                    </a:lnTo>
                    <a:lnTo>
                      <a:pt x="474" y="642"/>
                    </a:lnTo>
                    <a:lnTo>
                      <a:pt x="489" y="639"/>
                    </a:lnTo>
                    <a:lnTo>
                      <a:pt x="505" y="636"/>
                    </a:lnTo>
                    <a:lnTo>
                      <a:pt x="519" y="634"/>
                    </a:lnTo>
                    <a:lnTo>
                      <a:pt x="533" y="631"/>
                    </a:lnTo>
                    <a:lnTo>
                      <a:pt x="547" y="629"/>
                    </a:lnTo>
                    <a:lnTo>
                      <a:pt x="562" y="626"/>
                    </a:lnTo>
                    <a:lnTo>
                      <a:pt x="575" y="623"/>
                    </a:lnTo>
                    <a:lnTo>
                      <a:pt x="587" y="621"/>
                    </a:lnTo>
                    <a:lnTo>
                      <a:pt x="601" y="618"/>
                    </a:lnTo>
                    <a:lnTo>
                      <a:pt x="614" y="616"/>
                    </a:lnTo>
                    <a:lnTo>
                      <a:pt x="625" y="614"/>
                    </a:lnTo>
                    <a:lnTo>
                      <a:pt x="636" y="611"/>
                    </a:lnTo>
                    <a:lnTo>
                      <a:pt x="648" y="609"/>
                    </a:lnTo>
                    <a:lnTo>
                      <a:pt x="660" y="607"/>
                    </a:lnTo>
                    <a:lnTo>
                      <a:pt x="669" y="603"/>
                    </a:lnTo>
                    <a:lnTo>
                      <a:pt x="679" y="600"/>
                    </a:lnTo>
                    <a:lnTo>
                      <a:pt x="689" y="598"/>
                    </a:lnTo>
                    <a:lnTo>
                      <a:pt x="700" y="595"/>
                    </a:lnTo>
                    <a:lnTo>
                      <a:pt x="714" y="592"/>
                    </a:lnTo>
                    <a:lnTo>
                      <a:pt x="729" y="588"/>
                    </a:lnTo>
                    <a:lnTo>
                      <a:pt x="744" y="585"/>
                    </a:lnTo>
                    <a:lnTo>
                      <a:pt x="757" y="581"/>
                    </a:lnTo>
                    <a:lnTo>
                      <a:pt x="771" y="578"/>
                    </a:lnTo>
                    <a:lnTo>
                      <a:pt x="785" y="574"/>
                    </a:lnTo>
                    <a:lnTo>
                      <a:pt x="794" y="571"/>
                    </a:lnTo>
                    <a:lnTo>
                      <a:pt x="801" y="569"/>
                    </a:lnTo>
                    <a:lnTo>
                      <a:pt x="809" y="566"/>
                    </a:lnTo>
                    <a:lnTo>
                      <a:pt x="817" y="563"/>
                    </a:lnTo>
                    <a:lnTo>
                      <a:pt x="825" y="560"/>
                    </a:lnTo>
                    <a:lnTo>
                      <a:pt x="833" y="558"/>
                    </a:lnTo>
                    <a:lnTo>
                      <a:pt x="843" y="554"/>
                    </a:lnTo>
                    <a:lnTo>
                      <a:pt x="851" y="552"/>
                    </a:lnTo>
                    <a:lnTo>
                      <a:pt x="859" y="548"/>
                    </a:lnTo>
                    <a:lnTo>
                      <a:pt x="868" y="545"/>
                    </a:lnTo>
                    <a:lnTo>
                      <a:pt x="876" y="541"/>
                    </a:lnTo>
                    <a:lnTo>
                      <a:pt x="884" y="538"/>
                    </a:lnTo>
                    <a:lnTo>
                      <a:pt x="893" y="535"/>
                    </a:lnTo>
                    <a:lnTo>
                      <a:pt x="901" y="531"/>
                    </a:lnTo>
                    <a:lnTo>
                      <a:pt x="909" y="528"/>
                    </a:lnTo>
                    <a:lnTo>
                      <a:pt x="916" y="524"/>
                    </a:lnTo>
                    <a:lnTo>
                      <a:pt x="925" y="520"/>
                    </a:lnTo>
                    <a:lnTo>
                      <a:pt x="933" y="516"/>
                    </a:lnTo>
                    <a:lnTo>
                      <a:pt x="942" y="512"/>
                    </a:lnTo>
                    <a:lnTo>
                      <a:pt x="951" y="508"/>
                    </a:lnTo>
                    <a:lnTo>
                      <a:pt x="958" y="502"/>
                    </a:lnTo>
                    <a:lnTo>
                      <a:pt x="966" y="497"/>
                    </a:lnTo>
                    <a:lnTo>
                      <a:pt x="974" y="492"/>
                    </a:lnTo>
                    <a:lnTo>
                      <a:pt x="982" y="488"/>
                    </a:lnTo>
                    <a:lnTo>
                      <a:pt x="990" y="483"/>
                    </a:lnTo>
                    <a:lnTo>
                      <a:pt x="998" y="478"/>
                    </a:lnTo>
                    <a:lnTo>
                      <a:pt x="1006" y="473"/>
                    </a:lnTo>
                    <a:lnTo>
                      <a:pt x="1014" y="468"/>
                    </a:lnTo>
                    <a:lnTo>
                      <a:pt x="1027" y="455"/>
                    </a:lnTo>
                    <a:lnTo>
                      <a:pt x="1042" y="443"/>
                    </a:lnTo>
                    <a:lnTo>
                      <a:pt x="1055" y="431"/>
                    </a:lnTo>
                    <a:lnTo>
                      <a:pt x="1067" y="418"/>
                    </a:lnTo>
                    <a:lnTo>
                      <a:pt x="1078" y="403"/>
                    </a:lnTo>
                    <a:lnTo>
                      <a:pt x="1090" y="388"/>
                    </a:lnTo>
                    <a:lnTo>
                      <a:pt x="1095" y="380"/>
                    </a:lnTo>
                    <a:lnTo>
                      <a:pt x="1100" y="372"/>
                    </a:lnTo>
                    <a:lnTo>
                      <a:pt x="1105" y="364"/>
                    </a:lnTo>
                    <a:lnTo>
                      <a:pt x="1110" y="355"/>
                    </a:lnTo>
                    <a:lnTo>
                      <a:pt x="1113" y="346"/>
                    </a:lnTo>
                    <a:lnTo>
                      <a:pt x="1116" y="338"/>
                    </a:lnTo>
                    <a:lnTo>
                      <a:pt x="1119" y="329"/>
                    </a:lnTo>
                    <a:lnTo>
                      <a:pt x="1123" y="320"/>
                    </a:lnTo>
                    <a:lnTo>
                      <a:pt x="1125" y="310"/>
                    </a:lnTo>
                    <a:lnTo>
                      <a:pt x="1128" y="301"/>
                    </a:lnTo>
                    <a:lnTo>
                      <a:pt x="1130" y="292"/>
                    </a:lnTo>
                    <a:lnTo>
                      <a:pt x="1134" y="282"/>
                    </a:lnTo>
                    <a:lnTo>
                      <a:pt x="1135" y="272"/>
                    </a:lnTo>
                    <a:lnTo>
                      <a:pt x="1135" y="260"/>
                    </a:lnTo>
                    <a:lnTo>
                      <a:pt x="1136" y="250"/>
                    </a:lnTo>
                    <a:lnTo>
                      <a:pt x="1138" y="239"/>
                    </a:lnTo>
                    <a:lnTo>
                      <a:pt x="1137" y="231"/>
                    </a:lnTo>
                    <a:lnTo>
                      <a:pt x="1137" y="223"/>
                    </a:lnTo>
                    <a:lnTo>
                      <a:pt x="1136" y="215"/>
                    </a:lnTo>
                    <a:lnTo>
                      <a:pt x="1136" y="206"/>
                    </a:lnTo>
                    <a:lnTo>
                      <a:pt x="1134" y="198"/>
                    </a:lnTo>
                    <a:lnTo>
                      <a:pt x="1132" y="191"/>
                    </a:lnTo>
                    <a:lnTo>
                      <a:pt x="1130" y="183"/>
                    </a:lnTo>
                    <a:lnTo>
                      <a:pt x="1129" y="175"/>
                    </a:lnTo>
                    <a:lnTo>
                      <a:pt x="1126" y="168"/>
                    </a:lnTo>
                    <a:lnTo>
                      <a:pt x="1123" y="159"/>
                    </a:lnTo>
                    <a:lnTo>
                      <a:pt x="1120" y="151"/>
                    </a:lnTo>
                    <a:lnTo>
                      <a:pt x="1117" y="144"/>
                    </a:lnTo>
                    <a:lnTo>
                      <a:pt x="1114" y="136"/>
                    </a:lnTo>
                    <a:lnTo>
                      <a:pt x="1110" y="128"/>
                    </a:lnTo>
                    <a:lnTo>
                      <a:pt x="1107" y="121"/>
                    </a:lnTo>
                    <a:lnTo>
                      <a:pt x="1103" y="112"/>
                    </a:lnTo>
                    <a:lnTo>
                      <a:pt x="1095" y="98"/>
                    </a:lnTo>
                    <a:lnTo>
                      <a:pt x="1086" y="84"/>
                    </a:lnTo>
                    <a:lnTo>
                      <a:pt x="1075" y="71"/>
                    </a:lnTo>
                    <a:lnTo>
                      <a:pt x="1066" y="55"/>
                    </a:lnTo>
                    <a:lnTo>
                      <a:pt x="1054" y="40"/>
                    </a:lnTo>
                    <a:lnTo>
                      <a:pt x="1042" y="26"/>
                    </a:lnTo>
                    <a:lnTo>
                      <a:pt x="1029" y="12"/>
                    </a:lnTo>
                    <a:lnTo>
                      <a:pt x="1018" y="0"/>
                    </a:lnTo>
                    <a:lnTo>
                      <a:pt x="1016" y="0"/>
                    </a:lnTo>
                    <a:lnTo>
                      <a:pt x="1014" y="1"/>
                    </a:lnTo>
                    <a:lnTo>
                      <a:pt x="1009" y="2"/>
                    </a:lnTo>
                    <a:lnTo>
                      <a:pt x="1004" y="3"/>
                    </a:lnTo>
                    <a:lnTo>
                      <a:pt x="998" y="5"/>
                    </a:lnTo>
                    <a:lnTo>
                      <a:pt x="991" y="7"/>
                    </a:lnTo>
                    <a:lnTo>
                      <a:pt x="980" y="10"/>
                    </a:lnTo>
                    <a:lnTo>
                      <a:pt x="970" y="13"/>
                    </a:lnTo>
                    <a:lnTo>
                      <a:pt x="959" y="16"/>
                    </a:lnTo>
                    <a:lnTo>
                      <a:pt x="948" y="20"/>
                    </a:lnTo>
                    <a:lnTo>
                      <a:pt x="936" y="25"/>
                    </a:lnTo>
                    <a:lnTo>
                      <a:pt x="924" y="29"/>
                    </a:lnTo>
                    <a:lnTo>
                      <a:pt x="912" y="33"/>
                    </a:lnTo>
                    <a:lnTo>
                      <a:pt x="899" y="37"/>
                    </a:lnTo>
                    <a:lnTo>
                      <a:pt x="885" y="41"/>
                    </a:lnTo>
                    <a:lnTo>
                      <a:pt x="872" y="45"/>
                    </a:lnTo>
                    <a:lnTo>
                      <a:pt x="860" y="48"/>
                    </a:lnTo>
                    <a:lnTo>
                      <a:pt x="847" y="52"/>
                    </a:lnTo>
                    <a:lnTo>
                      <a:pt x="833" y="56"/>
                    </a:lnTo>
                    <a:lnTo>
                      <a:pt x="821" y="60"/>
                    </a:lnTo>
                    <a:lnTo>
                      <a:pt x="809" y="64"/>
                    </a:lnTo>
                    <a:lnTo>
                      <a:pt x="797" y="68"/>
                    </a:lnTo>
                    <a:lnTo>
                      <a:pt x="784" y="70"/>
                    </a:lnTo>
                    <a:lnTo>
                      <a:pt x="773" y="72"/>
                    </a:lnTo>
                    <a:lnTo>
                      <a:pt x="764" y="75"/>
                    </a:lnTo>
                    <a:lnTo>
                      <a:pt x="756" y="77"/>
                    </a:lnTo>
                    <a:lnTo>
                      <a:pt x="747" y="79"/>
                    </a:lnTo>
                    <a:lnTo>
                      <a:pt x="739" y="80"/>
                    </a:lnTo>
                    <a:lnTo>
                      <a:pt x="735" y="81"/>
                    </a:lnTo>
                    <a:lnTo>
                      <a:pt x="731" y="82"/>
                    </a:lnTo>
                    <a:lnTo>
                      <a:pt x="729" y="83"/>
                    </a:lnTo>
                    <a:lnTo>
                      <a:pt x="727" y="83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411800" y="4290120"/>
                <a:ext cx="38160" cy="40320"/>
              </a:xfrm>
              <a:custGeom>
                <a:avLst/>
                <a:gdLst/>
                <a:ahLst/>
                <a:rect l="l" t="t" r="r" b="b"/>
                <a:pathLst>
                  <a:path w="739" h="766">
                    <a:moveTo>
                      <a:pt x="371" y="757"/>
                    </a:moveTo>
                    <a:lnTo>
                      <a:pt x="380" y="758"/>
                    </a:lnTo>
                    <a:lnTo>
                      <a:pt x="389" y="760"/>
                    </a:lnTo>
                    <a:lnTo>
                      <a:pt x="399" y="762"/>
                    </a:lnTo>
                    <a:lnTo>
                      <a:pt x="409" y="763"/>
                    </a:lnTo>
                    <a:lnTo>
                      <a:pt x="418" y="764"/>
                    </a:lnTo>
                    <a:lnTo>
                      <a:pt x="426" y="765"/>
                    </a:lnTo>
                    <a:lnTo>
                      <a:pt x="435" y="765"/>
                    </a:lnTo>
                    <a:lnTo>
                      <a:pt x="445" y="766"/>
                    </a:lnTo>
                    <a:lnTo>
                      <a:pt x="454" y="766"/>
                    </a:lnTo>
                    <a:lnTo>
                      <a:pt x="462" y="766"/>
                    </a:lnTo>
                    <a:lnTo>
                      <a:pt x="471" y="766"/>
                    </a:lnTo>
                    <a:lnTo>
                      <a:pt x="480" y="766"/>
                    </a:lnTo>
                    <a:lnTo>
                      <a:pt x="488" y="765"/>
                    </a:lnTo>
                    <a:lnTo>
                      <a:pt x="497" y="763"/>
                    </a:lnTo>
                    <a:lnTo>
                      <a:pt x="506" y="762"/>
                    </a:lnTo>
                    <a:lnTo>
                      <a:pt x="514" y="760"/>
                    </a:lnTo>
                    <a:lnTo>
                      <a:pt x="522" y="759"/>
                    </a:lnTo>
                    <a:lnTo>
                      <a:pt x="530" y="757"/>
                    </a:lnTo>
                    <a:lnTo>
                      <a:pt x="537" y="756"/>
                    </a:lnTo>
                    <a:lnTo>
                      <a:pt x="546" y="754"/>
                    </a:lnTo>
                    <a:lnTo>
                      <a:pt x="561" y="747"/>
                    </a:lnTo>
                    <a:lnTo>
                      <a:pt x="575" y="741"/>
                    </a:lnTo>
                    <a:lnTo>
                      <a:pt x="591" y="734"/>
                    </a:lnTo>
                    <a:lnTo>
                      <a:pt x="606" y="728"/>
                    </a:lnTo>
                    <a:lnTo>
                      <a:pt x="619" y="719"/>
                    </a:lnTo>
                    <a:lnTo>
                      <a:pt x="631" y="710"/>
                    </a:lnTo>
                    <a:lnTo>
                      <a:pt x="644" y="699"/>
                    </a:lnTo>
                    <a:lnTo>
                      <a:pt x="655" y="687"/>
                    </a:lnTo>
                    <a:lnTo>
                      <a:pt x="665" y="676"/>
                    </a:lnTo>
                    <a:lnTo>
                      <a:pt x="675" y="664"/>
                    </a:lnTo>
                    <a:lnTo>
                      <a:pt x="684" y="652"/>
                    </a:lnTo>
                    <a:lnTo>
                      <a:pt x="695" y="638"/>
                    </a:lnTo>
                    <a:lnTo>
                      <a:pt x="702" y="624"/>
                    </a:lnTo>
                    <a:lnTo>
                      <a:pt x="709" y="610"/>
                    </a:lnTo>
                    <a:lnTo>
                      <a:pt x="713" y="602"/>
                    </a:lnTo>
                    <a:lnTo>
                      <a:pt x="716" y="594"/>
                    </a:lnTo>
                    <a:lnTo>
                      <a:pt x="719" y="585"/>
                    </a:lnTo>
                    <a:lnTo>
                      <a:pt x="723" y="577"/>
                    </a:lnTo>
                    <a:lnTo>
                      <a:pt x="725" y="569"/>
                    </a:lnTo>
                    <a:lnTo>
                      <a:pt x="727" y="561"/>
                    </a:lnTo>
                    <a:lnTo>
                      <a:pt x="729" y="553"/>
                    </a:lnTo>
                    <a:lnTo>
                      <a:pt x="731" y="544"/>
                    </a:lnTo>
                    <a:lnTo>
                      <a:pt x="732" y="535"/>
                    </a:lnTo>
                    <a:lnTo>
                      <a:pt x="735" y="526"/>
                    </a:lnTo>
                    <a:lnTo>
                      <a:pt x="736" y="517"/>
                    </a:lnTo>
                    <a:lnTo>
                      <a:pt x="738" y="508"/>
                    </a:lnTo>
                    <a:lnTo>
                      <a:pt x="738" y="498"/>
                    </a:lnTo>
                    <a:lnTo>
                      <a:pt x="739" y="488"/>
                    </a:lnTo>
                    <a:lnTo>
                      <a:pt x="739" y="479"/>
                    </a:lnTo>
                    <a:lnTo>
                      <a:pt x="739" y="469"/>
                    </a:lnTo>
                    <a:lnTo>
                      <a:pt x="739" y="460"/>
                    </a:lnTo>
                    <a:lnTo>
                      <a:pt x="739" y="450"/>
                    </a:lnTo>
                    <a:lnTo>
                      <a:pt x="738" y="440"/>
                    </a:lnTo>
                    <a:lnTo>
                      <a:pt x="738" y="430"/>
                    </a:lnTo>
                    <a:lnTo>
                      <a:pt x="736" y="421"/>
                    </a:lnTo>
                    <a:lnTo>
                      <a:pt x="735" y="412"/>
                    </a:lnTo>
                    <a:lnTo>
                      <a:pt x="732" y="403"/>
                    </a:lnTo>
                    <a:lnTo>
                      <a:pt x="731" y="393"/>
                    </a:lnTo>
                    <a:lnTo>
                      <a:pt x="729" y="384"/>
                    </a:lnTo>
                    <a:lnTo>
                      <a:pt x="727" y="374"/>
                    </a:lnTo>
                    <a:lnTo>
                      <a:pt x="725" y="365"/>
                    </a:lnTo>
                    <a:lnTo>
                      <a:pt x="723" y="355"/>
                    </a:lnTo>
                    <a:lnTo>
                      <a:pt x="719" y="345"/>
                    </a:lnTo>
                    <a:lnTo>
                      <a:pt x="716" y="336"/>
                    </a:lnTo>
                    <a:lnTo>
                      <a:pt x="713" y="327"/>
                    </a:lnTo>
                    <a:lnTo>
                      <a:pt x="709" y="318"/>
                    </a:lnTo>
                    <a:lnTo>
                      <a:pt x="706" y="309"/>
                    </a:lnTo>
                    <a:lnTo>
                      <a:pt x="702" y="299"/>
                    </a:lnTo>
                    <a:lnTo>
                      <a:pt x="699" y="291"/>
                    </a:lnTo>
                    <a:lnTo>
                      <a:pt x="695" y="282"/>
                    </a:lnTo>
                    <a:lnTo>
                      <a:pt x="690" y="274"/>
                    </a:lnTo>
                    <a:lnTo>
                      <a:pt x="684" y="265"/>
                    </a:lnTo>
                    <a:lnTo>
                      <a:pt x="680" y="257"/>
                    </a:lnTo>
                    <a:lnTo>
                      <a:pt x="675" y="247"/>
                    </a:lnTo>
                    <a:lnTo>
                      <a:pt x="670" y="239"/>
                    </a:lnTo>
                    <a:lnTo>
                      <a:pt x="665" y="230"/>
                    </a:lnTo>
                    <a:lnTo>
                      <a:pt x="660" y="221"/>
                    </a:lnTo>
                    <a:lnTo>
                      <a:pt x="655" y="212"/>
                    </a:lnTo>
                    <a:lnTo>
                      <a:pt x="649" y="205"/>
                    </a:lnTo>
                    <a:lnTo>
                      <a:pt x="644" y="196"/>
                    </a:lnTo>
                    <a:lnTo>
                      <a:pt x="638" y="188"/>
                    </a:lnTo>
                    <a:lnTo>
                      <a:pt x="631" y="180"/>
                    </a:lnTo>
                    <a:lnTo>
                      <a:pt x="619" y="166"/>
                    </a:lnTo>
                    <a:lnTo>
                      <a:pt x="606" y="150"/>
                    </a:lnTo>
                    <a:lnTo>
                      <a:pt x="591" y="137"/>
                    </a:lnTo>
                    <a:lnTo>
                      <a:pt x="575" y="123"/>
                    </a:lnTo>
                    <a:lnTo>
                      <a:pt x="561" y="110"/>
                    </a:lnTo>
                    <a:lnTo>
                      <a:pt x="546" y="96"/>
                    </a:lnTo>
                    <a:lnTo>
                      <a:pt x="537" y="91"/>
                    </a:lnTo>
                    <a:lnTo>
                      <a:pt x="530" y="85"/>
                    </a:lnTo>
                    <a:lnTo>
                      <a:pt x="522" y="80"/>
                    </a:lnTo>
                    <a:lnTo>
                      <a:pt x="514" y="74"/>
                    </a:lnTo>
                    <a:lnTo>
                      <a:pt x="506" y="69"/>
                    </a:lnTo>
                    <a:lnTo>
                      <a:pt x="497" y="64"/>
                    </a:lnTo>
                    <a:lnTo>
                      <a:pt x="488" y="58"/>
                    </a:lnTo>
                    <a:lnTo>
                      <a:pt x="480" y="52"/>
                    </a:lnTo>
                    <a:lnTo>
                      <a:pt x="471" y="48"/>
                    </a:lnTo>
                    <a:lnTo>
                      <a:pt x="462" y="44"/>
                    </a:lnTo>
                    <a:lnTo>
                      <a:pt x="454" y="40"/>
                    </a:lnTo>
                    <a:lnTo>
                      <a:pt x="445" y="35"/>
                    </a:lnTo>
                    <a:lnTo>
                      <a:pt x="435" y="32"/>
                    </a:lnTo>
                    <a:lnTo>
                      <a:pt x="426" y="28"/>
                    </a:lnTo>
                    <a:lnTo>
                      <a:pt x="418" y="25"/>
                    </a:lnTo>
                    <a:lnTo>
                      <a:pt x="409" y="21"/>
                    </a:lnTo>
                    <a:lnTo>
                      <a:pt x="399" y="18"/>
                    </a:lnTo>
                    <a:lnTo>
                      <a:pt x="389" y="15"/>
                    </a:lnTo>
                    <a:lnTo>
                      <a:pt x="380" y="12"/>
                    </a:lnTo>
                    <a:lnTo>
                      <a:pt x="371" y="9"/>
                    </a:lnTo>
                    <a:lnTo>
                      <a:pt x="361" y="7"/>
                    </a:lnTo>
                    <a:lnTo>
                      <a:pt x="352" y="6"/>
                    </a:lnTo>
                    <a:lnTo>
                      <a:pt x="342" y="4"/>
                    </a:lnTo>
                    <a:lnTo>
                      <a:pt x="333" y="3"/>
                    </a:lnTo>
                    <a:lnTo>
                      <a:pt x="323" y="2"/>
                    </a:lnTo>
                    <a:lnTo>
                      <a:pt x="314" y="1"/>
                    </a:lnTo>
                    <a:lnTo>
                      <a:pt x="305" y="0"/>
                    </a:lnTo>
                    <a:lnTo>
                      <a:pt x="296" y="0"/>
                    </a:lnTo>
                    <a:lnTo>
                      <a:pt x="286" y="0"/>
                    </a:lnTo>
                    <a:lnTo>
                      <a:pt x="278" y="0"/>
                    </a:lnTo>
                    <a:lnTo>
                      <a:pt x="270" y="0"/>
                    </a:lnTo>
                    <a:lnTo>
                      <a:pt x="261" y="0"/>
                    </a:lnTo>
                    <a:lnTo>
                      <a:pt x="252" y="1"/>
                    </a:lnTo>
                    <a:lnTo>
                      <a:pt x="243" y="3"/>
                    </a:lnTo>
                    <a:lnTo>
                      <a:pt x="234" y="4"/>
                    </a:lnTo>
                    <a:lnTo>
                      <a:pt x="225" y="5"/>
                    </a:lnTo>
                    <a:lnTo>
                      <a:pt x="218" y="7"/>
                    </a:lnTo>
                    <a:lnTo>
                      <a:pt x="210" y="10"/>
                    </a:lnTo>
                    <a:lnTo>
                      <a:pt x="202" y="11"/>
                    </a:lnTo>
                    <a:lnTo>
                      <a:pt x="193" y="13"/>
                    </a:lnTo>
                    <a:lnTo>
                      <a:pt x="179" y="19"/>
                    </a:lnTo>
                    <a:lnTo>
                      <a:pt x="164" y="25"/>
                    </a:lnTo>
                    <a:lnTo>
                      <a:pt x="150" y="32"/>
                    </a:lnTo>
                    <a:lnTo>
                      <a:pt x="136" y="39"/>
                    </a:lnTo>
                    <a:lnTo>
                      <a:pt x="122" y="47"/>
                    </a:lnTo>
                    <a:lnTo>
                      <a:pt x="109" y="56"/>
                    </a:lnTo>
                    <a:lnTo>
                      <a:pt x="96" y="67"/>
                    </a:lnTo>
                    <a:lnTo>
                      <a:pt x="84" y="77"/>
                    </a:lnTo>
                    <a:lnTo>
                      <a:pt x="74" y="89"/>
                    </a:lnTo>
                    <a:lnTo>
                      <a:pt x="65" y="102"/>
                    </a:lnTo>
                    <a:lnTo>
                      <a:pt x="55" y="115"/>
                    </a:lnTo>
                    <a:lnTo>
                      <a:pt x="44" y="128"/>
                    </a:lnTo>
                    <a:lnTo>
                      <a:pt x="37" y="142"/>
                    </a:lnTo>
                    <a:lnTo>
                      <a:pt x="30" y="157"/>
                    </a:lnTo>
                    <a:lnTo>
                      <a:pt x="27" y="164"/>
                    </a:lnTo>
                    <a:lnTo>
                      <a:pt x="24" y="172"/>
                    </a:lnTo>
                    <a:lnTo>
                      <a:pt x="20" y="180"/>
                    </a:lnTo>
                    <a:lnTo>
                      <a:pt x="17" y="187"/>
                    </a:lnTo>
                    <a:lnTo>
                      <a:pt x="15" y="196"/>
                    </a:lnTo>
                    <a:lnTo>
                      <a:pt x="13" y="205"/>
                    </a:lnTo>
                    <a:lnTo>
                      <a:pt x="11" y="214"/>
                    </a:lnTo>
                    <a:lnTo>
                      <a:pt x="9" y="222"/>
                    </a:lnTo>
                    <a:lnTo>
                      <a:pt x="7" y="230"/>
                    </a:lnTo>
                    <a:lnTo>
                      <a:pt x="6" y="239"/>
                    </a:lnTo>
                    <a:lnTo>
                      <a:pt x="4" y="247"/>
                    </a:lnTo>
                    <a:lnTo>
                      <a:pt x="2" y="257"/>
                    </a:lnTo>
                    <a:lnTo>
                      <a:pt x="1" y="266"/>
                    </a:lnTo>
                    <a:lnTo>
                      <a:pt x="1" y="275"/>
                    </a:lnTo>
                    <a:lnTo>
                      <a:pt x="1" y="284"/>
                    </a:lnTo>
                    <a:lnTo>
                      <a:pt x="0" y="293"/>
                    </a:lnTo>
                    <a:lnTo>
                      <a:pt x="1" y="304"/>
                    </a:lnTo>
                    <a:lnTo>
                      <a:pt x="1" y="314"/>
                    </a:lnTo>
                    <a:lnTo>
                      <a:pt x="1" y="323"/>
                    </a:lnTo>
                    <a:lnTo>
                      <a:pt x="2" y="333"/>
                    </a:lnTo>
                    <a:lnTo>
                      <a:pt x="4" y="342"/>
                    </a:lnTo>
                    <a:lnTo>
                      <a:pt x="6" y="353"/>
                    </a:lnTo>
                    <a:lnTo>
                      <a:pt x="7" y="363"/>
                    </a:lnTo>
                    <a:lnTo>
                      <a:pt x="9" y="373"/>
                    </a:lnTo>
                    <a:lnTo>
                      <a:pt x="11" y="382"/>
                    </a:lnTo>
                    <a:lnTo>
                      <a:pt x="13" y="390"/>
                    </a:lnTo>
                    <a:lnTo>
                      <a:pt x="15" y="400"/>
                    </a:lnTo>
                    <a:lnTo>
                      <a:pt x="17" y="409"/>
                    </a:lnTo>
                    <a:lnTo>
                      <a:pt x="20" y="418"/>
                    </a:lnTo>
                    <a:lnTo>
                      <a:pt x="24" y="428"/>
                    </a:lnTo>
                    <a:lnTo>
                      <a:pt x="27" y="438"/>
                    </a:lnTo>
                    <a:lnTo>
                      <a:pt x="30" y="448"/>
                    </a:lnTo>
                    <a:lnTo>
                      <a:pt x="34" y="457"/>
                    </a:lnTo>
                    <a:lnTo>
                      <a:pt x="37" y="466"/>
                    </a:lnTo>
                    <a:lnTo>
                      <a:pt x="41" y="474"/>
                    </a:lnTo>
                    <a:lnTo>
                      <a:pt x="44" y="483"/>
                    </a:lnTo>
                    <a:lnTo>
                      <a:pt x="49" y="492"/>
                    </a:lnTo>
                    <a:lnTo>
                      <a:pt x="55" y="501"/>
                    </a:lnTo>
                    <a:lnTo>
                      <a:pt x="60" y="510"/>
                    </a:lnTo>
                    <a:lnTo>
                      <a:pt x="65" y="518"/>
                    </a:lnTo>
                    <a:lnTo>
                      <a:pt x="69" y="527"/>
                    </a:lnTo>
                    <a:lnTo>
                      <a:pt x="74" y="535"/>
                    </a:lnTo>
                    <a:lnTo>
                      <a:pt x="79" y="542"/>
                    </a:lnTo>
                    <a:lnTo>
                      <a:pt x="84" y="551"/>
                    </a:lnTo>
                    <a:lnTo>
                      <a:pt x="90" y="560"/>
                    </a:lnTo>
                    <a:lnTo>
                      <a:pt x="96" y="568"/>
                    </a:lnTo>
                    <a:lnTo>
                      <a:pt x="103" y="576"/>
                    </a:lnTo>
                    <a:lnTo>
                      <a:pt x="109" y="584"/>
                    </a:lnTo>
                    <a:lnTo>
                      <a:pt x="115" y="592"/>
                    </a:lnTo>
                    <a:lnTo>
                      <a:pt x="122" y="601"/>
                    </a:lnTo>
                    <a:lnTo>
                      <a:pt x="129" y="608"/>
                    </a:lnTo>
                    <a:lnTo>
                      <a:pt x="136" y="616"/>
                    </a:lnTo>
                    <a:lnTo>
                      <a:pt x="150" y="629"/>
                    </a:lnTo>
                    <a:lnTo>
                      <a:pt x="164" y="641"/>
                    </a:lnTo>
                    <a:lnTo>
                      <a:pt x="179" y="656"/>
                    </a:lnTo>
                    <a:lnTo>
                      <a:pt x="193" y="669"/>
                    </a:lnTo>
                    <a:lnTo>
                      <a:pt x="202" y="675"/>
                    </a:lnTo>
                    <a:lnTo>
                      <a:pt x="210" y="680"/>
                    </a:lnTo>
                    <a:lnTo>
                      <a:pt x="218" y="685"/>
                    </a:lnTo>
                    <a:lnTo>
                      <a:pt x="225" y="690"/>
                    </a:lnTo>
                    <a:lnTo>
                      <a:pt x="234" y="697"/>
                    </a:lnTo>
                    <a:lnTo>
                      <a:pt x="243" y="703"/>
                    </a:lnTo>
                    <a:lnTo>
                      <a:pt x="252" y="708"/>
                    </a:lnTo>
                    <a:lnTo>
                      <a:pt x="261" y="714"/>
                    </a:lnTo>
                    <a:lnTo>
                      <a:pt x="270" y="718"/>
                    </a:lnTo>
                    <a:lnTo>
                      <a:pt x="278" y="722"/>
                    </a:lnTo>
                    <a:lnTo>
                      <a:pt x="286" y="726"/>
                    </a:lnTo>
                    <a:lnTo>
                      <a:pt x="296" y="729"/>
                    </a:lnTo>
                    <a:lnTo>
                      <a:pt x="305" y="733"/>
                    </a:lnTo>
                    <a:lnTo>
                      <a:pt x="314" y="737"/>
                    </a:lnTo>
                    <a:lnTo>
                      <a:pt x="323" y="742"/>
                    </a:lnTo>
                    <a:lnTo>
                      <a:pt x="333" y="745"/>
                    </a:lnTo>
                    <a:lnTo>
                      <a:pt x="342" y="748"/>
                    </a:lnTo>
                    <a:lnTo>
                      <a:pt x="352" y="751"/>
                    </a:lnTo>
                    <a:lnTo>
                      <a:pt x="361" y="754"/>
                    </a:lnTo>
                    <a:lnTo>
                      <a:pt x="371" y="757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423680" y="4323960"/>
                <a:ext cx="12960" cy="357840"/>
              </a:xfrm>
              <a:custGeom>
                <a:avLst/>
                <a:gdLst/>
                <a:ahLst/>
                <a:rect l="l" t="t" r="r" b="b"/>
                <a:pathLst>
                  <a:path w="274" h="6801">
                    <a:moveTo>
                      <a:pt x="31" y="6518"/>
                    </a:moveTo>
                    <a:lnTo>
                      <a:pt x="31" y="6531"/>
                    </a:lnTo>
                    <a:lnTo>
                      <a:pt x="32" y="6543"/>
                    </a:lnTo>
                    <a:lnTo>
                      <a:pt x="32" y="6555"/>
                    </a:lnTo>
                    <a:lnTo>
                      <a:pt x="33" y="6567"/>
                    </a:lnTo>
                    <a:lnTo>
                      <a:pt x="35" y="6580"/>
                    </a:lnTo>
                    <a:lnTo>
                      <a:pt x="36" y="6592"/>
                    </a:lnTo>
                    <a:lnTo>
                      <a:pt x="38" y="6604"/>
                    </a:lnTo>
                    <a:lnTo>
                      <a:pt x="40" y="6618"/>
                    </a:lnTo>
                    <a:lnTo>
                      <a:pt x="43" y="6629"/>
                    </a:lnTo>
                    <a:lnTo>
                      <a:pt x="45" y="6641"/>
                    </a:lnTo>
                    <a:lnTo>
                      <a:pt x="48" y="6652"/>
                    </a:lnTo>
                    <a:lnTo>
                      <a:pt x="50" y="6664"/>
                    </a:lnTo>
                    <a:lnTo>
                      <a:pt x="54" y="6674"/>
                    </a:lnTo>
                    <a:lnTo>
                      <a:pt x="57" y="6684"/>
                    </a:lnTo>
                    <a:lnTo>
                      <a:pt x="60" y="6694"/>
                    </a:lnTo>
                    <a:lnTo>
                      <a:pt x="64" y="6704"/>
                    </a:lnTo>
                    <a:lnTo>
                      <a:pt x="68" y="6715"/>
                    </a:lnTo>
                    <a:lnTo>
                      <a:pt x="73" y="6723"/>
                    </a:lnTo>
                    <a:lnTo>
                      <a:pt x="78" y="6732"/>
                    </a:lnTo>
                    <a:lnTo>
                      <a:pt x="83" y="6741"/>
                    </a:lnTo>
                    <a:lnTo>
                      <a:pt x="91" y="6755"/>
                    </a:lnTo>
                    <a:lnTo>
                      <a:pt x="100" y="6770"/>
                    </a:lnTo>
                    <a:lnTo>
                      <a:pt x="111" y="6780"/>
                    </a:lnTo>
                    <a:lnTo>
                      <a:pt x="122" y="6790"/>
                    </a:lnTo>
                    <a:lnTo>
                      <a:pt x="134" y="6796"/>
                    </a:lnTo>
                    <a:lnTo>
                      <a:pt x="146" y="6801"/>
                    </a:lnTo>
                    <a:lnTo>
                      <a:pt x="156" y="6801"/>
                    </a:lnTo>
                    <a:lnTo>
                      <a:pt x="167" y="6801"/>
                    </a:lnTo>
                    <a:lnTo>
                      <a:pt x="179" y="6796"/>
                    </a:lnTo>
                    <a:lnTo>
                      <a:pt x="190" y="6790"/>
                    </a:lnTo>
                    <a:lnTo>
                      <a:pt x="199" y="6781"/>
                    </a:lnTo>
                    <a:lnTo>
                      <a:pt x="209" y="6771"/>
                    </a:lnTo>
                    <a:lnTo>
                      <a:pt x="217" y="6756"/>
                    </a:lnTo>
                    <a:lnTo>
                      <a:pt x="226" y="6742"/>
                    </a:lnTo>
                    <a:lnTo>
                      <a:pt x="229" y="6734"/>
                    </a:lnTo>
                    <a:lnTo>
                      <a:pt x="233" y="6725"/>
                    </a:lnTo>
                    <a:lnTo>
                      <a:pt x="236" y="6717"/>
                    </a:lnTo>
                    <a:lnTo>
                      <a:pt x="239" y="6707"/>
                    </a:lnTo>
                    <a:lnTo>
                      <a:pt x="242" y="6697"/>
                    </a:lnTo>
                    <a:lnTo>
                      <a:pt x="244" y="6687"/>
                    </a:lnTo>
                    <a:lnTo>
                      <a:pt x="247" y="6677"/>
                    </a:lnTo>
                    <a:lnTo>
                      <a:pt x="249" y="6666"/>
                    </a:lnTo>
                    <a:lnTo>
                      <a:pt x="251" y="6654"/>
                    </a:lnTo>
                    <a:lnTo>
                      <a:pt x="253" y="6643"/>
                    </a:lnTo>
                    <a:lnTo>
                      <a:pt x="255" y="6631"/>
                    </a:lnTo>
                    <a:lnTo>
                      <a:pt x="257" y="6620"/>
                    </a:lnTo>
                    <a:lnTo>
                      <a:pt x="258" y="6607"/>
                    </a:lnTo>
                    <a:lnTo>
                      <a:pt x="258" y="6595"/>
                    </a:lnTo>
                    <a:lnTo>
                      <a:pt x="258" y="6584"/>
                    </a:lnTo>
                    <a:lnTo>
                      <a:pt x="259" y="6572"/>
                    </a:lnTo>
                    <a:lnTo>
                      <a:pt x="259" y="6505"/>
                    </a:lnTo>
                    <a:lnTo>
                      <a:pt x="259" y="6439"/>
                    </a:lnTo>
                    <a:lnTo>
                      <a:pt x="259" y="6373"/>
                    </a:lnTo>
                    <a:lnTo>
                      <a:pt x="259" y="6305"/>
                    </a:lnTo>
                    <a:lnTo>
                      <a:pt x="259" y="6239"/>
                    </a:lnTo>
                    <a:lnTo>
                      <a:pt x="260" y="6172"/>
                    </a:lnTo>
                    <a:lnTo>
                      <a:pt x="260" y="6106"/>
                    </a:lnTo>
                    <a:lnTo>
                      <a:pt x="260" y="6040"/>
                    </a:lnTo>
                    <a:lnTo>
                      <a:pt x="260" y="5973"/>
                    </a:lnTo>
                    <a:lnTo>
                      <a:pt x="260" y="5907"/>
                    </a:lnTo>
                    <a:lnTo>
                      <a:pt x="260" y="5841"/>
                    </a:lnTo>
                    <a:lnTo>
                      <a:pt x="260" y="5773"/>
                    </a:lnTo>
                    <a:lnTo>
                      <a:pt x="261" y="5707"/>
                    </a:lnTo>
                    <a:lnTo>
                      <a:pt x="261" y="5641"/>
                    </a:lnTo>
                    <a:lnTo>
                      <a:pt x="261" y="5574"/>
                    </a:lnTo>
                    <a:lnTo>
                      <a:pt x="261" y="5507"/>
                    </a:lnTo>
                    <a:lnTo>
                      <a:pt x="261" y="5437"/>
                    </a:lnTo>
                    <a:lnTo>
                      <a:pt x="261" y="5368"/>
                    </a:lnTo>
                    <a:lnTo>
                      <a:pt x="262" y="5298"/>
                    </a:lnTo>
                    <a:lnTo>
                      <a:pt x="262" y="5228"/>
                    </a:lnTo>
                    <a:lnTo>
                      <a:pt x="262" y="5159"/>
                    </a:lnTo>
                    <a:lnTo>
                      <a:pt x="262" y="5088"/>
                    </a:lnTo>
                    <a:lnTo>
                      <a:pt x="262" y="5019"/>
                    </a:lnTo>
                    <a:lnTo>
                      <a:pt x="262" y="4949"/>
                    </a:lnTo>
                    <a:lnTo>
                      <a:pt x="263" y="4879"/>
                    </a:lnTo>
                    <a:lnTo>
                      <a:pt x="263" y="4810"/>
                    </a:lnTo>
                    <a:lnTo>
                      <a:pt x="263" y="4740"/>
                    </a:lnTo>
                    <a:lnTo>
                      <a:pt x="263" y="4671"/>
                    </a:lnTo>
                    <a:lnTo>
                      <a:pt x="263" y="4600"/>
                    </a:lnTo>
                    <a:lnTo>
                      <a:pt x="263" y="4531"/>
                    </a:lnTo>
                    <a:lnTo>
                      <a:pt x="263" y="4461"/>
                    </a:lnTo>
                    <a:lnTo>
                      <a:pt x="264" y="4392"/>
                    </a:lnTo>
                    <a:lnTo>
                      <a:pt x="264" y="4323"/>
                    </a:lnTo>
                    <a:lnTo>
                      <a:pt x="264" y="4252"/>
                    </a:lnTo>
                    <a:lnTo>
                      <a:pt x="264" y="4183"/>
                    </a:lnTo>
                    <a:lnTo>
                      <a:pt x="264" y="4113"/>
                    </a:lnTo>
                    <a:lnTo>
                      <a:pt x="264" y="4043"/>
                    </a:lnTo>
                    <a:lnTo>
                      <a:pt x="265" y="3973"/>
                    </a:lnTo>
                    <a:lnTo>
                      <a:pt x="265" y="3904"/>
                    </a:lnTo>
                    <a:lnTo>
                      <a:pt x="265" y="3834"/>
                    </a:lnTo>
                    <a:lnTo>
                      <a:pt x="265" y="3764"/>
                    </a:lnTo>
                    <a:lnTo>
                      <a:pt x="265" y="3695"/>
                    </a:lnTo>
                    <a:lnTo>
                      <a:pt x="266" y="3624"/>
                    </a:lnTo>
                    <a:lnTo>
                      <a:pt x="266" y="3555"/>
                    </a:lnTo>
                    <a:lnTo>
                      <a:pt x="266" y="3485"/>
                    </a:lnTo>
                    <a:lnTo>
                      <a:pt x="266" y="3415"/>
                    </a:lnTo>
                    <a:lnTo>
                      <a:pt x="267" y="3346"/>
                    </a:lnTo>
                    <a:lnTo>
                      <a:pt x="267" y="3275"/>
                    </a:lnTo>
                    <a:lnTo>
                      <a:pt x="267" y="3207"/>
                    </a:lnTo>
                    <a:lnTo>
                      <a:pt x="267" y="3137"/>
                    </a:lnTo>
                    <a:lnTo>
                      <a:pt x="267" y="3068"/>
                    </a:lnTo>
                    <a:lnTo>
                      <a:pt x="267" y="2999"/>
                    </a:lnTo>
                    <a:lnTo>
                      <a:pt x="267" y="2930"/>
                    </a:lnTo>
                    <a:lnTo>
                      <a:pt x="268" y="2862"/>
                    </a:lnTo>
                    <a:lnTo>
                      <a:pt x="268" y="2792"/>
                    </a:lnTo>
                    <a:lnTo>
                      <a:pt x="268" y="2724"/>
                    </a:lnTo>
                    <a:lnTo>
                      <a:pt x="268" y="2654"/>
                    </a:lnTo>
                    <a:lnTo>
                      <a:pt x="268" y="2586"/>
                    </a:lnTo>
                    <a:lnTo>
                      <a:pt x="268" y="2517"/>
                    </a:lnTo>
                    <a:lnTo>
                      <a:pt x="268" y="2447"/>
                    </a:lnTo>
                    <a:lnTo>
                      <a:pt x="268" y="2379"/>
                    </a:lnTo>
                    <a:lnTo>
                      <a:pt x="268" y="2309"/>
                    </a:lnTo>
                    <a:lnTo>
                      <a:pt x="270" y="2241"/>
                    </a:lnTo>
                    <a:lnTo>
                      <a:pt x="270" y="2171"/>
                    </a:lnTo>
                    <a:lnTo>
                      <a:pt x="270" y="2102"/>
                    </a:lnTo>
                    <a:lnTo>
                      <a:pt x="270" y="2034"/>
                    </a:lnTo>
                    <a:lnTo>
                      <a:pt x="270" y="1964"/>
                    </a:lnTo>
                    <a:lnTo>
                      <a:pt x="270" y="1895"/>
                    </a:lnTo>
                    <a:lnTo>
                      <a:pt x="270" y="1826"/>
                    </a:lnTo>
                    <a:lnTo>
                      <a:pt x="270" y="1757"/>
                    </a:lnTo>
                    <a:lnTo>
                      <a:pt x="270" y="1688"/>
                    </a:lnTo>
                    <a:lnTo>
                      <a:pt x="271" y="1618"/>
                    </a:lnTo>
                    <a:lnTo>
                      <a:pt x="271" y="1550"/>
                    </a:lnTo>
                    <a:lnTo>
                      <a:pt x="271" y="1480"/>
                    </a:lnTo>
                    <a:lnTo>
                      <a:pt x="271" y="1411"/>
                    </a:lnTo>
                    <a:lnTo>
                      <a:pt x="271" y="1341"/>
                    </a:lnTo>
                    <a:lnTo>
                      <a:pt x="271" y="1273"/>
                    </a:lnTo>
                    <a:lnTo>
                      <a:pt x="272" y="1204"/>
                    </a:lnTo>
                    <a:lnTo>
                      <a:pt x="272" y="1134"/>
                    </a:lnTo>
                    <a:lnTo>
                      <a:pt x="272" y="1065"/>
                    </a:lnTo>
                    <a:lnTo>
                      <a:pt x="272" y="1002"/>
                    </a:lnTo>
                    <a:lnTo>
                      <a:pt x="272" y="940"/>
                    </a:lnTo>
                    <a:lnTo>
                      <a:pt x="272" y="878"/>
                    </a:lnTo>
                    <a:lnTo>
                      <a:pt x="272" y="816"/>
                    </a:lnTo>
                    <a:lnTo>
                      <a:pt x="272" y="753"/>
                    </a:lnTo>
                    <a:lnTo>
                      <a:pt x="273" y="691"/>
                    </a:lnTo>
                    <a:lnTo>
                      <a:pt x="273" y="629"/>
                    </a:lnTo>
                    <a:lnTo>
                      <a:pt x="273" y="566"/>
                    </a:lnTo>
                    <a:lnTo>
                      <a:pt x="273" y="503"/>
                    </a:lnTo>
                    <a:lnTo>
                      <a:pt x="273" y="441"/>
                    </a:lnTo>
                    <a:lnTo>
                      <a:pt x="273" y="379"/>
                    </a:lnTo>
                    <a:lnTo>
                      <a:pt x="273" y="316"/>
                    </a:lnTo>
                    <a:lnTo>
                      <a:pt x="273" y="253"/>
                    </a:lnTo>
                    <a:lnTo>
                      <a:pt x="273" y="191"/>
                    </a:lnTo>
                    <a:lnTo>
                      <a:pt x="274" y="129"/>
                    </a:lnTo>
                    <a:lnTo>
                      <a:pt x="274" y="66"/>
                    </a:lnTo>
                    <a:lnTo>
                      <a:pt x="239" y="58"/>
                    </a:lnTo>
                    <a:lnTo>
                      <a:pt x="205" y="50"/>
                    </a:lnTo>
                    <a:lnTo>
                      <a:pt x="170" y="41"/>
                    </a:lnTo>
                    <a:lnTo>
                      <a:pt x="137" y="33"/>
                    </a:lnTo>
                    <a:lnTo>
                      <a:pt x="102" y="24"/>
                    </a:lnTo>
                    <a:lnTo>
                      <a:pt x="68" y="16"/>
                    </a:lnTo>
                    <a:lnTo>
                      <a:pt x="35" y="8"/>
                    </a:lnTo>
                    <a:lnTo>
                      <a:pt x="0" y="0"/>
                    </a:lnTo>
                    <a:lnTo>
                      <a:pt x="1" y="63"/>
                    </a:lnTo>
                    <a:lnTo>
                      <a:pt x="1" y="125"/>
                    </a:lnTo>
                    <a:lnTo>
                      <a:pt x="1" y="189"/>
                    </a:lnTo>
                    <a:lnTo>
                      <a:pt x="1" y="251"/>
                    </a:lnTo>
                    <a:lnTo>
                      <a:pt x="1" y="313"/>
                    </a:lnTo>
                    <a:lnTo>
                      <a:pt x="2" y="377"/>
                    </a:lnTo>
                    <a:lnTo>
                      <a:pt x="2" y="439"/>
                    </a:lnTo>
                    <a:lnTo>
                      <a:pt x="2" y="501"/>
                    </a:lnTo>
                    <a:lnTo>
                      <a:pt x="2" y="563"/>
                    </a:lnTo>
                    <a:lnTo>
                      <a:pt x="3" y="627"/>
                    </a:lnTo>
                    <a:lnTo>
                      <a:pt x="3" y="689"/>
                    </a:lnTo>
                    <a:lnTo>
                      <a:pt x="3" y="751"/>
                    </a:lnTo>
                    <a:lnTo>
                      <a:pt x="3" y="815"/>
                    </a:lnTo>
                    <a:lnTo>
                      <a:pt x="4" y="877"/>
                    </a:lnTo>
                    <a:lnTo>
                      <a:pt x="4" y="939"/>
                    </a:lnTo>
                    <a:lnTo>
                      <a:pt x="4" y="1001"/>
                    </a:lnTo>
                    <a:lnTo>
                      <a:pt x="5" y="1071"/>
                    </a:lnTo>
                    <a:lnTo>
                      <a:pt x="5" y="1140"/>
                    </a:lnTo>
                    <a:lnTo>
                      <a:pt x="5" y="1210"/>
                    </a:lnTo>
                    <a:lnTo>
                      <a:pt x="6" y="1279"/>
                    </a:lnTo>
                    <a:lnTo>
                      <a:pt x="6" y="1349"/>
                    </a:lnTo>
                    <a:lnTo>
                      <a:pt x="7" y="1418"/>
                    </a:lnTo>
                    <a:lnTo>
                      <a:pt x="7" y="1487"/>
                    </a:lnTo>
                    <a:lnTo>
                      <a:pt x="7" y="1557"/>
                    </a:lnTo>
                    <a:lnTo>
                      <a:pt x="8" y="1626"/>
                    </a:lnTo>
                    <a:lnTo>
                      <a:pt x="8" y="1695"/>
                    </a:lnTo>
                    <a:lnTo>
                      <a:pt x="8" y="1764"/>
                    </a:lnTo>
                    <a:lnTo>
                      <a:pt x="9" y="1834"/>
                    </a:lnTo>
                    <a:lnTo>
                      <a:pt x="9" y="1903"/>
                    </a:lnTo>
                    <a:lnTo>
                      <a:pt x="9" y="1972"/>
                    </a:lnTo>
                    <a:lnTo>
                      <a:pt x="10" y="2042"/>
                    </a:lnTo>
                    <a:lnTo>
                      <a:pt x="10" y="2110"/>
                    </a:lnTo>
                    <a:lnTo>
                      <a:pt x="10" y="2180"/>
                    </a:lnTo>
                    <a:lnTo>
                      <a:pt x="11" y="2249"/>
                    </a:lnTo>
                    <a:lnTo>
                      <a:pt x="11" y="2317"/>
                    </a:lnTo>
                    <a:lnTo>
                      <a:pt x="12" y="2387"/>
                    </a:lnTo>
                    <a:lnTo>
                      <a:pt x="12" y="2455"/>
                    </a:lnTo>
                    <a:lnTo>
                      <a:pt x="12" y="2525"/>
                    </a:lnTo>
                    <a:lnTo>
                      <a:pt x="13" y="2594"/>
                    </a:lnTo>
                    <a:lnTo>
                      <a:pt x="13" y="2664"/>
                    </a:lnTo>
                    <a:lnTo>
                      <a:pt x="13" y="2732"/>
                    </a:lnTo>
                    <a:lnTo>
                      <a:pt x="14" y="2801"/>
                    </a:lnTo>
                    <a:lnTo>
                      <a:pt x="14" y="2871"/>
                    </a:lnTo>
                    <a:lnTo>
                      <a:pt x="15" y="2939"/>
                    </a:lnTo>
                    <a:lnTo>
                      <a:pt x="15" y="3009"/>
                    </a:lnTo>
                    <a:lnTo>
                      <a:pt x="16" y="3078"/>
                    </a:lnTo>
                    <a:lnTo>
                      <a:pt x="16" y="3147"/>
                    </a:lnTo>
                    <a:lnTo>
                      <a:pt x="16" y="3216"/>
                    </a:lnTo>
                    <a:lnTo>
                      <a:pt x="17" y="3286"/>
                    </a:lnTo>
                    <a:lnTo>
                      <a:pt x="17" y="3357"/>
                    </a:lnTo>
                    <a:lnTo>
                      <a:pt x="17" y="3426"/>
                    </a:lnTo>
                    <a:lnTo>
                      <a:pt x="17" y="3497"/>
                    </a:lnTo>
                    <a:lnTo>
                      <a:pt x="18" y="3566"/>
                    </a:lnTo>
                    <a:lnTo>
                      <a:pt x="18" y="3636"/>
                    </a:lnTo>
                    <a:lnTo>
                      <a:pt x="18" y="3706"/>
                    </a:lnTo>
                    <a:lnTo>
                      <a:pt x="19" y="3776"/>
                    </a:lnTo>
                    <a:lnTo>
                      <a:pt x="19" y="3846"/>
                    </a:lnTo>
                    <a:lnTo>
                      <a:pt x="19" y="3916"/>
                    </a:lnTo>
                    <a:lnTo>
                      <a:pt x="20" y="3986"/>
                    </a:lnTo>
                    <a:lnTo>
                      <a:pt x="20" y="4056"/>
                    </a:lnTo>
                    <a:lnTo>
                      <a:pt x="20" y="4126"/>
                    </a:lnTo>
                    <a:lnTo>
                      <a:pt x="21" y="4195"/>
                    </a:lnTo>
                    <a:lnTo>
                      <a:pt x="21" y="4265"/>
                    </a:lnTo>
                    <a:lnTo>
                      <a:pt x="21" y="4335"/>
                    </a:lnTo>
                    <a:lnTo>
                      <a:pt x="21" y="4404"/>
                    </a:lnTo>
                    <a:lnTo>
                      <a:pt x="22" y="4475"/>
                    </a:lnTo>
                    <a:lnTo>
                      <a:pt x="22" y="4544"/>
                    </a:lnTo>
                    <a:lnTo>
                      <a:pt x="22" y="4614"/>
                    </a:lnTo>
                    <a:lnTo>
                      <a:pt x="22" y="4684"/>
                    </a:lnTo>
                    <a:lnTo>
                      <a:pt x="23" y="4753"/>
                    </a:lnTo>
                    <a:lnTo>
                      <a:pt x="23" y="4823"/>
                    </a:lnTo>
                    <a:lnTo>
                      <a:pt x="23" y="4893"/>
                    </a:lnTo>
                    <a:lnTo>
                      <a:pt x="24" y="4963"/>
                    </a:lnTo>
                    <a:lnTo>
                      <a:pt x="24" y="5033"/>
                    </a:lnTo>
                    <a:lnTo>
                      <a:pt x="24" y="5103"/>
                    </a:lnTo>
                    <a:lnTo>
                      <a:pt x="25" y="5173"/>
                    </a:lnTo>
                    <a:lnTo>
                      <a:pt x="25" y="5242"/>
                    </a:lnTo>
                    <a:lnTo>
                      <a:pt x="27" y="5313"/>
                    </a:lnTo>
                    <a:lnTo>
                      <a:pt x="27" y="5382"/>
                    </a:lnTo>
                    <a:lnTo>
                      <a:pt x="27" y="5453"/>
                    </a:lnTo>
                    <a:lnTo>
                      <a:pt x="27" y="5519"/>
                    </a:lnTo>
                    <a:lnTo>
                      <a:pt x="28" y="5585"/>
                    </a:lnTo>
                    <a:lnTo>
                      <a:pt x="28" y="5653"/>
                    </a:lnTo>
                    <a:lnTo>
                      <a:pt x="28" y="5719"/>
                    </a:lnTo>
                    <a:lnTo>
                      <a:pt x="28" y="5786"/>
                    </a:lnTo>
                    <a:lnTo>
                      <a:pt x="29" y="5853"/>
                    </a:lnTo>
                    <a:lnTo>
                      <a:pt x="29" y="5919"/>
                    </a:lnTo>
                    <a:lnTo>
                      <a:pt x="29" y="5986"/>
                    </a:lnTo>
                    <a:lnTo>
                      <a:pt x="29" y="6052"/>
                    </a:lnTo>
                    <a:lnTo>
                      <a:pt x="29" y="6119"/>
                    </a:lnTo>
                    <a:lnTo>
                      <a:pt x="30" y="6186"/>
                    </a:lnTo>
                    <a:lnTo>
                      <a:pt x="30" y="6252"/>
                    </a:lnTo>
                    <a:lnTo>
                      <a:pt x="30" y="6318"/>
                    </a:lnTo>
                    <a:lnTo>
                      <a:pt x="30" y="6385"/>
                    </a:lnTo>
                    <a:lnTo>
                      <a:pt x="30" y="6451"/>
                    </a:lnTo>
                    <a:lnTo>
                      <a:pt x="31" y="6518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5" name=""/>
          <p:cNvSpPr/>
          <p:nvPr/>
        </p:nvSpPr>
        <p:spPr>
          <a:xfrm>
            <a:off x="609480" y="3962520"/>
            <a:ext cx="150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ll center asks if there are records for missing per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525760" y="4908600"/>
            <a:ext cx="128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 send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cation of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y reco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943280" y="4743360"/>
            <a:ext cx="428400" cy="1800"/>
          </a:xfrm>
          <a:custGeom>
            <a:avLst/>
            <a:gdLst/>
            <a:ahLst/>
            <a:rect l="l" t="t" r="r" b="b"/>
            <a:pathLst>
              <a:path w="270" h="1">
                <a:moveTo>
                  <a:pt x="0" y="0"/>
                </a:moveTo>
                <a:lnTo>
                  <a:pt x="27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695680" y="4689360"/>
            <a:ext cx="166680" cy="239760"/>
          </a:xfrm>
          <a:custGeom>
            <a:avLst/>
            <a:gdLst/>
            <a:ahLst/>
            <a:rect l="l" t="t" r="r" b="b"/>
            <a:pathLst>
              <a:path w="321" h="93">
                <a:moveTo>
                  <a:pt x="0" y="0"/>
                </a:moveTo>
                <a:lnTo>
                  <a:pt x="0" y="93"/>
                </a:lnTo>
                <a:lnTo>
                  <a:pt x="321" y="9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51280" y="4293000"/>
            <a:ext cx="6994080" cy="369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24" y="2555"/>
                </a:moveTo>
                <a:arcTo wR="10800" hR="10800" stAng="-7814136" swAng="1777837"/>
                <a:lnTo>
                  <a:pt x="10800" y="10800"/>
                </a:lnTo>
                <a:close/>
              </a:path>
              <a:path fill="none" w="21600" h="21600">
                <a:moveTo>
                  <a:pt x="3824" y="2555"/>
                </a:moveTo>
                <a:arcTo wR="10800" hR="10800" stAng="-7814136" swAng="177783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046520" y="4383360"/>
            <a:ext cx="7441200" cy="357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28" y="1609"/>
                </a:moveTo>
                <a:arcTo wR="10800" hR="10800" stAng="-7300773" swAng="1375128"/>
                <a:lnTo>
                  <a:pt x="10800" y="10800"/>
                </a:lnTo>
                <a:close/>
              </a:path>
              <a:path fill="none" w="21600" h="21600">
                <a:moveTo>
                  <a:pt x="5128" y="1609"/>
                </a:moveTo>
                <a:arcTo wR="10800" hR="10800" stAng="-7300773" swAng="1375128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333520" y="468324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638440" y="4651200"/>
            <a:ext cx="11268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019920" y="3657600"/>
            <a:ext cx="141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nds index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338880" y="465300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000440" y="4347720"/>
            <a:ext cx="6771240" cy="366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5" y="88"/>
                </a:moveTo>
                <a:arcTo wR="10800" hR="10800" stAng="-4961270" swAng="1729707"/>
                <a:lnTo>
                  <a:pt x="10800" y="10800"/>
                </a:lnTo>
                <a:close/>
              </a:path>
              <a:path fill="none" w="21600" h="21600">
                <a:moveTo>
                  <a:pt x="12175" y="88"/>
                </a:moveTo>
                <a:arcTo wR="10800" hR="10800" stAng="-4961270" swAng="172970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rot="2025600">
            <a:off x="6692040" y="4744800"/>
            <a:ext cx="87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61a5"/>
                </a:solidFill>
                <a:latin typeface="Arial"/>
              </a:rPr>
              <a:t>LOC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388200" y="4421160"/>
            <a:ext cx="0" cy="27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1"/>
          <a:stretch/>
        </p:blipFill>
        <p:spPr>
          <a:xfrm>
            <a:off x="765000" y="5648400"/>
            <a:ext cx="1265400" cy="97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a820a"/>
            </a:outerShdw>
          </a:effectLst>
        </p:spPr>
      </p:pic>
      <p:sp>
        <p:nvSpPr>
          <p:cNvPr id="879" name=""/>
          <p:cNvSpPr/>
          <p:nvPr/>
        </p:nvSpPr>
        <p:spPr>
          <a:xfrm>
            <a:off x="850680" y="5827680"/>
            <a:ext cx="107244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Emergenc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Call Cen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57200" y="8380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7047000" y="5665680"/>
            <a:ext cx="1265040" cy="977760"/>
            <a:chOff x="7047000" y="5665680"/>
            <a:chExt cx="1265040" cy="977760"/>
          </a:xfrm>
        </p:grpSpPr>
        <p:pic>
          <p:nvPicPr>
            <p:cNvPr id="882" name="" descr=""/>
            <p:cNvPicPr/>
            <p:nvPr/>
          </p:nvPicPr>
          <p:blipFill>
            <a:blip r:embed="rId2"/>
            <a:stretch/>
          </p:blipFill>
          <p:spPr>
            <a:xfrm>
              <a:off x="7047000" y="566568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883" name=""/>
            <p:cNvSpPr/>
            <p:nvPr/>
          </p:nvSpPr>
          <p:spPr>
            <a:xfrm>
              <a:off x="7282440" y="590076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3660120" y="370188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atient Ind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6. Mass Casualty Ev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location and confusion (9/11, Katri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need to meet overwhelming volume of “missing person” requ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LS, limited to recent ADT mess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2514600" y="377208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4144320" y="4835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f79d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3517920" y="5291280"/>
            <a:ext cx="1076400" cy="365040"/>
            <a:chOff x="3517920" y="5291280"/>
            <a:chExt cx="1076400" cy="365040"/>
          </a:xfrm>
        </p:grpSpPr>
        <p:sp>
          <p:nvSpPr>
            <p:cNvPr id="890" name=""/>
            <p:cNvSpPr/>
            <p:nvPr/>
          </p:nvSpPr>
          <p:spPr>
            <a:xfrm>
              <a:off x="3843000" y="5298480"/>
              <a:ext cx="73332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3517920" y="5291280"/>
              <a:ext cx="1076400" cy="365040"/>
              <a:chOff x="3517920" y="5291280"/>
              <a:chExt cx="1076400" cy="365040"/>
            </a:xfrm>
          </p:grpSpPr>
          <p:sp>
            <p:nvSpPr>
              <p:cNvPr id="892" name=""/>
              <p:cNvSpPr/>
              <p:nvPr/>
            </p:nvSpPr>
            <p:spPr>
              <a:xfrm>
                <a:off x="3828960" y="529128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1859" y="0"/>
                    </a:moveTo>
                    <a:lnTo>
                      <a:pt x="11172" y="0"/>
                    </a:lnTo>
                    <a:lnTo>
                      <a:pt x="9313" y="5108"/>
                    </a:lnTo>
                    <a:lnTo>
                      <a:pt x="0" y="5108"/>
                    </a:lnTo>
                    <a:lnTo>
                      <a:pt x="1859" y="0"/>
                    </a:lnTo>
                    <a:close/>
                    <a:moveTo>
                      <a:pt x="2396" y="351"/>
                    </a:moveTo>
                    <a:lnTo>
                      <a:pt x="5553" y="2686"/>
                    </a:lnTo>
                    <a:lnTo>
                      <a:pt x="10409" y="351"/>
                    </a:lnTo>
                    <a:lnTo>
                      <a:pt x="2396" y="351"/>
                    </a:lnTo>
                    <a:close/>
                    <a:moveTo>
                      <a:pt x="10618" y="560"/>
                    </a:moveTo>
                    <a:lnTo>
                      <a:pt x="5503" y="3019"/>
                    </a:lnTo>
                    <a:lnTo>
                      <a:pt x="5416" y="3060"/>
                    </a:lnTo>
                    <a:lnTo>
                      <a:pt x="5360" y="3019"/>
                    </a:lnTo>
                    <a:lnTo>
                      <a:pt x="2012" y="543"/>
                    </a:lnTo>
                    <a:lnTo>
                      <a:pt x="477" y="4757"/>
                    </a:lnTo>
                    <a:lnTo>
                      <a:pt x="9091" y="4757"/>
                    </a:lnTo>
                    <a:lnTo>
                      <a:pt x="10618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24480" y="529596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1"/>
                    </a:moveTo>
                    <a:lnTo>
                      <a:pt x="4273" y="715"/>
                    </a:lnTo>
                    <a:lnTo>
                      <a:pt x="4532" y="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02880" y="53564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1"/>
                    </a:moveTo>
                    <a:lnTo>
                      <a:pt x="267" y="365"/>
                    </a:lnTo>
                    <a:lnTo>
                      <a:pt x="534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1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4" y="621"/>
                    </a:lnTo>
                    <a:lnTo>
                      <a:pt x="3472" y="645"/>
                    </a:lnTo>
                    <a:lnTo>
                      <a:pt x="3739" y="668"/>
                    </a:lnTo>
                    <a:lnTo>
                      <a:pt x="4005" y="692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6" y="625"/>
                    </a:lnTo>
                    <a:lnTo>
                      <a:pt x="4322" y="581"/>
                    </a:lnTo>
                    <a:lnTo>
                      <a:pt x="4337" y="536"/>
                    </a:lnTo>
                    <a:lnTo>
                      <a:pt x="4354" y="491"/>
                    </a:lnTo>
                    <a:lnTo>
                      <a:pt x="4370" y="446"/>
                    </a:lnTo>
                    <a:lnTo>
                      <a:pt x="4386" y="401"/>
                    </a:lnTo>
                    <a:lnTo>
                      <a:pt x="4402" y="358"/>
                    </a:lnTo>
                    <a:lnTo>
                      <a:pt x="4419" y="313"/>
                    </a:lnTo>
                    <a:lnTo>
                      <a:pt x="4435" y="268"/>
                    </a:lnTo>
                    <a:lnTo>
                      <a:pt x="4451" y="223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7" y="44"/>
                    </a:lnTo>
                    <a:lnTo>
                      <a:pt x="4533" y="0"/>
                    </a:lnTo>
                    <a:lnTo>
                      <a:pt x="4250" y="22"/>
                    </a:lnTo>
                    <a:lnTo>
                      <a:pt x="3967" y="43"/>
                    </a:lnTo>
                    <a:lnTo>
                      <a:pt x="3683" y="64"/>
                    </a:lnTo>
                    <a:lnTo>
                      <a:pt x="3400" y="86"/>
                    </a:lnTo>
                    <a:lnTo>
                      <a:pt x="3117" y="107"/>
                    </a:lnTo>
                    <a:lnTo>
                      <a:pt x="2834" y="129"/>
                    </a:lnTo>
                    <a:lnTo>
                      <a:pt x="2549" y="149"/>
                    </a:lnTo>
                    <a:lnTo>
                      <a:pt x="2266" y="170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581280" y="541764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0" y="342"/>
                    </a:moveTo>
                    <a:lnTo>
                      <a:pt x="266" y="365"/>
                    </a:lnTo>
                    <a:lnTo>
                      <a:pt x="533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4" y="459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1"/>
                    </a:lnTo>
                    <a:lnTo>
                      <a:pt x="2670" y="575"/>
                    </a:lnTo>
                    <a:lnTo>
                      <a:pt x="2937" y="598"/>
                    </a:lnTo>
                    <a:lnTo>
                      <a:pt x="3204" y="622"/>
                    </a:lnTo>
                    <a:lnTo>
                      <a:pt x="3471" y="645"/>
                    </a:lnTo>
                    <a:lnTo>
                      <a:pt x="3738" y="668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4" y="491"/>
                    </a:lnTo>
                    <a:lnTo>
                      <a:pt x="4369" y="446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8" y="313"/>
                    </a:lnTo>
                    <a:lnTo>
                      <a:pt x="4435" y="268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89"/>
                    </a:lnTo>
                    <a:lnTo>
                      <a:pt x="4516" y="44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2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6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560400" y="5478840"/>
                <a:ext cx="310680" cy="5040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0" y="342"/>
                    </a:moveTo>
                    <a:lnTo>
                      <a:pt x="267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1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2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5" y="622"/>
                    </a:lnTo>
                    <a:lnTo>
                      <a:pt x="3472" y="645"/>
                    </a:lnTo>
                    <a:lnTo>
                      <a:pt x="3739" y="669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1"/>
                    </a:lnTo>
                    <a:lnTo>
                      <a:pt x="4306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5" y="491"/>
                    </a:lnTo>
                    <a:lnTo>
                      <a:pt x="4371" y="447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9" y="313"/>
                    </a:lnTo>
                    <a:lnTo>
                      <a:pt x="4435" y="269"/>
                    </a:lnTo>
                    <a:lnTo>
                      <a:pt x="4451" y="224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6" y="45"/>
                    </a:lnTo>
                    <a:lnTo>
                      <a:pt x="4533" y="0"/>
                    </a:lnTo>
                    <a:lnTo>
                      <a:pt x="4250" y="21"/>
                    </a:lnTo>
                    <a:lnTo>
                      <a:pt x="3967" y="42"/>
                    </a:lnTo>
                    <a:lnTo>
                      <a:pt x="3683" y="64"/>
                    </a:lnTo>
                    <a:lnTo>
                      <a:pt x="3400" y="85"/>
                    </a:lnTo>
                    <a:lnTo>
                      <a:pt x="3117" y="107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539160" y="553968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2"/>
                    </a:moveTo>
                    <a:lnTo>
                      <a:pt x="266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6"/>
                    </a:lnTo>
                    <a:lnTo>
                      <a:pt x="1334" y="458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2"/>
                    </a:lnTo>
                    <a:lnTo>
                      <a:pt x="2670" y="575"/>
                    </a:lnTo>
                    <a:lnTo>
                      <a:pt x="2937" y="599"/>
                    </a:lnTo>
                    <a:lnTo>
                      <a:pt x="3205" y="622"/>
                    </a:lnTo>
                    <a:lnTo>
                      <a:pt x="3471" y="645"/>
                    </a:lnTo>
                    <a:lnTo>
                      <a:pt x="3738" y="669"/>
                    </a:lnTo>
                    <a:lnTo>
                      <a:pt x="4005" y="691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1" y="581"/>
                    </a:lnTo>
                    <a:lnTo>
                      <a:pt x="4338" y="536"/>
                    </a:lnTo>
                    <a:lnTo>
                      <a:pt x="4354" y="492"/>
                    </a:lnTo>
                    <a:lnTo>
                      <a:pt x="4370" y="447"/>
                    </a:lnTo>
                    <a:lnTo>
                      <a:pt x="4387" y="402"/>
                    </a:lnTo>
                    <a:lnTo>
                      <a:pt x="4403" y="357"/>
                    </a:lnTo>
                    <a:lnTo>
                      <a:pt x="4418" y="313"/>
                    </a:lnTo>
                    <a:lnTo>
                      <a:pt x="4434" y="269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90"/>
                    </a:lnTo>
                    <a:lnTo>
                      <a:pt x="4516" y="45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3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7"/>
                    </a:lnTo>
                    <a:lnTo>
                      <a:pt x="2833" y="128"/>
                    </a:lnTo>
                    <a:lnTo>
                      <a:pt x="2549" y="150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7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1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517920" y="560052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2"/>
                    </a:moveTo>
                    <a:lnTo>
                      <a:pt x="4273" y="715"/>
                    </a:lnTo>
                    <a:lnTo>
                      <a:pt x="4533" y="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9" name=""/>
          <p:cNvGrpSpPr/>
          <p:nvPr/>
        </p:nvGrpSpPr>
        <p:grpSpPr>
          <a:xfrm>
            <a:off x="4334040" y="5370480"/>
            <a:ext cx="1075680" cy="365040"/>
            <a:chOff x="4334040" y="5370480"/>
            <a:chExt cx="1075680" cy="365040"/>
          </a:xfrm>
        </p:grpSpPr>
        <p:sp>
          <p:nvSpPr>
            <p:cNvPr id="900" name=""/>
            <p:cNvSpPr/>
            <p:nvPr/>
          </p:nvSpPr>
          <p:spPr>
            <a:xfrm flipH="1">
              <a:off x="4348440" y="5380920"/>
              <a:ext cx="73296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4334040" y="5370480"/>
              <a:ext cx="1075680" cy="365040"/>
              <a:chOff x="4334040" y="5370480"/>
              <a:chExt cx="1075680" cy="365040"/>
            </a:xfrm>
          </p:grpSpPr>
          <p:sp>
            <p:nvSpPr>
              <p:cNvPr id="902" name=""/>
              <p:cNvSpPr/>
              <p:nvPr/>
            </p:nvSpPr>
            <p:spPr>
              <a:xfrm>
                <a:off x="4334040" y="537048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9313" y="0"/>
                    </a:moveTo>
                    <a:lnTo>
                      <a:pt x="0" y="0"/>
                    </a:lnTo>
                    <a:lnTo>
                      <a:pt x="1858" y="5108"/>
                    </a:lnTo>
                    <a:lnTo>
                      <a:pt x="11172" y="5108"/>
                    </a:lnTo>
                    <a:lnTo>
                      <a:pt x="9313" y="0"/>
                    </a:lnTo>
                    <a:close/>
                    <a:moveTo>
                      <a:pt x="8776" y="351"/>
                    </a:moveTo>
                    <a:lnTo>
                      <a:pt x="5619" y="2686"/>
                    </a:lnTo>
                    <a:lnTo>
                      <a:pt x="763" y="351"/>
                    </a:lnTo>
                    <a:lnTo>
                      <a:pt x="8776" y="351"/>
                    </a:lnTo>
                    <a:close/>
                    <a:moveTo>
                      <a:pt x="554" y="560"/>
                    </a:moveTo>
                    <a:lnTo>
                      <a:pt x="5669" y="3019"/>
                    </a:lnTo>
                    <a:lnTo>
                      <a:pt x="5756" y="3061"/>
                    </a:lnTo>
                    <a:lnTo>
                      <a:pt x="5812" y="3019"/>
                    </a:lnTo>
                    <a:lnTo>
                      <a:pt x="9160" y="543"/>
                    </a:lnTo>
                    <a:lnTo>
                      <a:pt x="10695" y="4757"/>
                    </a:lnTo>
                    <a:lnTo>
                      <a:pt x="2081" y="4757"/>
                    </a:lnTo>
                    <a:lnTo>
                      <a:pt x="554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93560" y="5374800"/>
                <a:ext cx="30996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259" y="715"/>
                    </a:lnTo>
                    <a:lnTo>
                      <a:pt x="0" y="0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4800" y="543600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1"/>
                    </a:moveTo>
                    <a:lnTo>
                      <a:pt x="4266" y="365"/>
                    </a:lnTo>
                    <a:lnTo>
                      <a:pt x="3999" y="388"/>
                    </a:lnTo>
                    <a:lnTo>
                      <a:pt x="3732" y="412"/>
                    </a:lnTo>
                    <a:lnTo>
                      <a:pt x="3465" y="435"/>
                    </a:lnTo>
                    <a:lnTo>
                      <a:pt x="3198" y="458"/>
                    </a:lnTo>
                    <a:lnTo>
                      <a:pt x="2930" y="482"/>
                    </a:lnTo>
                    <a:lnTo>
                      <a:pt x="2664" y="505"/>
                    </a:lnTo>
                    <a:lnTo>
                      <a:pt x="2397" y="529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6" y="598"/>
                    </a:lnTo>
                    <a:lnTo>
                      <a:pt x="1329" y="621"/>
                    </a:lnTo>
                    <a:lnTo>
                      <a:pt x="1061" y="645"/>
                    </a:lnTo>
                    <a:lnTo>
                      <a:pt x="794" y="668"/>
                    </a:lnTo>
                    <a:lnTo>
                      <a:pt x="528" y="692"/>
                    </a:lnTo>
                    <a:lnTo>
                      <a:pt x="260" y="715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1"/>
                    </a:lnTo>
                    <a:lnTo>
                      <a:pt x="195" y="536"/>
                    </a:lnTo>
                    <a:lnTo>
                      <a:pt x="179" y="491"/>
                    </a:lnTo>
                    <a:lnTo>
                      <a:pt x="163" y="447"/>
                    </a:lnTo>
                    <a:lnTo>
                      <a:pt x="147" y="402"/>
                    </a:lnTo>
                    <a:lnTo>
                      <a:pt x="131" y="358"/>
                    </a:lnTo>
                    <a:lnTo>
                      <a:pt x="114" y="313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3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2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6"/>
                    </a:lnTo>
                    <a:lnTo>
                      <a:pt x="1416" y="107"/>
                    </a:lnTo>
                    <a:lnTo>
                      <a:pt x="1699" y="129"/>
                    </a:lnTo>
                    <a:lnTo>
                      <a:pt x="1984" y="150"/>
                    </a:lnTo>
                    <a:lnTo>
                      <a:pt x="2267" y="171"/>
                    </a:lnTo>
                    <a:lnTo>
                      <a:pt x="2550" y="193"/>
                    </a:lnTo>
                    <a:lnTo>
                      <a:pt x="2834" y="214"/>
                    </a:lnTo>
                    <a:lnTo>
                      <a:pt x="3117" y="236"/>
                    </a:lnTo>
                    <a:lnTo>
                      <a:pt x="3400" y="257"/>
                    </a:lnTo>
                    <a:lnTo>
                      <a:pt x="3683" y="278"/>
                    </a:lnTo>
                    <a:lnTo>
                      <a:pt x="3967" y="300"/>
                    </a:lnTo>
                    <a:lnTo>
                      <a:pt x="4250" y="321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36040" y="549720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4532" y="341"/>
                    </a:moveTo>
                    <a:lnTo>
                      <a:pt x="4266" y="364"/>
                    </a:lnTo>
                    <a:lnTo>
                      <a:pt x="3999" y="387"/>
                    </a:lnTo>
                    <a:lnTo>
                      <a:pt x="3731" y="411"/>
                    </a:lnTo>
                    <a:lnTo>
                      <a:pt x="3464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0"/>
                    </a:lnTo>
                    <a:lnTo>
                      <a:pt x="1862" y="574"/>
                    </a:lnTo>
                    <a:lnTo>
                      <a:pt x="1595" y="597"/>
                    </a:lnTo>
                    <a:lnTo>
                      <a:pt x="1327" y="621"/>
                    </a:lnTo>
                    <a:lnTo>
                      <a:pt x="1061" y="644"/>
                    </a:lnTo>
                    <a:lnTo>
                      <a:pt x="794" y="667"/>
                    </a:lnTo>
                    <a:lnTo>
                      <a:pt x="527" y="691"/>
                    </a:lnTo>
                    <a:lnTo>
                      <a:pt x="259" y="714"/>
                    </a:lnTo>
                    <a:lnTo>
                      <a:pt x="243" y="669"/>
                    </a:lnTo>
                    <a:lnTo>
                      <a:pt x="227" y="625"/>
                    </a:lnTo>
                    <a:lnTo>
                      <a:pt x="210" y="580"/>
                    </a:lnTo>
                    <a:lnTo>
                      <a:pt x="194" y="535"/>
                    </a:lnTo>
                    <a:lnTo>
                      <a:pt x="178" y="490"/>
                    </a:lnTo>
                    <a:lnTo>
                      <a:pt x="162" y="445"/>
                    </a:lnTo>
                    <a:lnTo>
                      <a:pt x="146" y="402"/>
                    </a:lnTo>
                    <a:lnTo>
                      <a:pt x="130" y="357"/>
                    </a:lnTo>
                    <a:lnTo>
                      <a:pt x="114" y="312"/>
                    </a:lnTo>
                    <a:lnTo>
                      <a:pt x="97" y="267"/>
                    </a:lnTo>
                    <a:lnTo>
                      <a:pt x="81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2" y="88"/>
                    </a:lnTo>
                    <a:lnTo>
                      <a:pt x="16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2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6"/>
                    </a:lnTo>
                    <a:lnTo>
                      <a:pt x="1699" y="128"/>
                    </a:lnTo>
                    <a:lnTo>
                      <a:pt x="1983" y="149"/>
                    </a:lnTo>
                    <a:lnTo>
                      <a:pt x="2266" y="170"/>
                    </a:lnTo>
                    <a:lnTo>
                      <a:pt x="2549" y="192"/>
                    </a:lnTo>
                    <a:lnTo>
                      <a:pt x="2832" y="212"/>
                    </a:lnTo>
                    <a:lnTo>
                      <a:pt x="3116" y="234"/>
                    </a:lnTo>
                    <a:lnTo>
                      <a:pt x="3399" y="255"/>
                    </a:lnTo>
                    <a:lnTo>
                      <a:pt x="3682" y="276"/>
                    </a:lnTo>
                    <a:lnTo>
                      <a:pt x="3966" y="298"/>
                    </a:lnTo>
                    <a:lnTo>
                      <a:pt x="4249" y="319"/>
                    </a:lnTo>
                    <a:lnTo>
                      <a:pt x="4532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57280" y="55580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4533" y="341"/>
                    </a:moveTo>
                    <a:lnTo>
                      <a:pt x="4266" y="364"/>
                    </a:lnTo>
                    <a:lnTo>
                      <a:pt x="3998" y="388"/>
                    </a:lnTo>
                    <a:lnTo>
                      <a:pt x="3732" y="411"/>
                    </a:lnTo>
                    <a:lnTo>
                      <a:pt x="3465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4" y="505"/>
                    </a:lnTo>
                    <a:lnTo>
                      <a:pt x="2397" y="527"/>
                    </a:lnTo>
                    <a:lnTo>
                      <a:pt x="2129" y="551"/>
                    </a:lnTo>
                    <a:lnTo>
                      <a:pt x="1862" y="574"/>
                    </a:lnTo>
                    <a:lnTo>
                      <a:pt x="1596" y="597"/>
                    </a:lnTo>
                    <a:lnTo>
                      <a:pt x="1328" y="621"/>
                    </a:lnTo>
                    <a:lnTo>
                      <a:pt x="1061" y="644"/>
                    </a:lnTo>
                    <a:lnTo>
                      <a:pt x="794" y="668"/>
                    </a:lnTo>
                    <a:lnTo>
                      <a:pt x="528" y="691"/>
                    </a:lnTo>
                    <a:lnTo>
                      <a:pt x="260" y="714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0"/>
                    </a:lnTo>
                    <a:lnTo>
                      <a:pt x="195" y="535"/>
                    </a:lnTo>
                    <a:lnTo>
                      <a:pt x="178" y="490"/>
                    </a:lnTo>
                    <a:lnTo>
                      <a:pt x="162" y="446"/>
                    </a:lnTo>
                    <a:lnTo>
                      <a:pt x="146" y="401"/>
                    </a:lnTo>
                    <a:lnTo>
                      <a:pt x="131" y="357"/>
                    </a:lnTo>
                    <a:lnTo>
                      <a:pt x="114" y="312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3" y="88"/>
                    </a:lnTo>
                    <a:lnTo>
                      <a:pt x="17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1"/>
                    </a:lnTo>
                    <a:lnTo>
                      <a:pt x="850" y="63"/>
                    </a:lnTo>
                    <a:lnTo>
                      <a:pt x="1133" y="84"/>
                    </a:lnTo>
                    <a:lnTo>
                      <a:pt x="1416" y="106"/>
                    </a:lnTo>
                    <a:lnTo>
                      <a:pt x="1700" y="127"/>
                    </a:lnTo>
                    <a:lnTo>
                      <a:pt x="1984" y="148"/>
                    </a:lnTo>
                    <a:lnTo>
                      <a:pt x="2267" y="170"/>
                    </a:lnTo>
                    <a:lnTo>
                      <a:pt x="2550" y="191"/>
                    </a:lnTo>
                    <a:lnTo>
                      <a:pt x="2833" y="213"/>
                    </a:lnTo>
                    <a:lnTo>
                      <a:pt x="3117" y="234"/>
                    </a:lnTo>
                    <a:lnTo>
                      <a:pt x="3400" y="255"/>
                    </a:lnTo>
                    <a:lnTo>
                      <a:pt x="3683" y="277"/>
                    </a:lnTo>
                    <a:lnTo>
                      <a:pt x="3967" y="298"/>
                    </a:lnTo>
                    <a:lnTo>
                      <a:pt x="4250" y="319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78520" y="56192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4266" y="365"/>
                    </a:lnTo>
                    <a:lnTo>
                      <a:pt x="3998" y="389"/>
                    </a:lnTo>
                    <a:lnTo>
                      <a:pt x="3731" y="412"/>
                    </a:lnTo>
                    <a:lnTo>
                      <a:pt x="3464" y="436"/>
                    </a:lnTo>
                    <a:lnTo>
                      <a:pt x="3198" y="459"/>
                    </a:lnTo>
                    <a:lnTo>
                      <a:pt x="2930" y="483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5" y="599"/>
                    </a:lnTo>
                    <a:lnTo>
                      <a:pt x="1327" y="622"/>
                    </a:lnTo>
                    <a:lnTo>
                      <a:pt x="1061" y="645"/>
                    </a:lnTo>
                    <a:lnTo>
                      <a:pt x="794" y="669"/>
                    </a:lnTo>
                    <a:lnTo>
                      <a:pt x="527" y="692"/>
                    </a:lnTo>
                    <a:lnTo>
                      <a:pt x="259" y="715"/>
                    </a:lnTo>
                    <a:lnTo>
                      <a:pt x="243" y="671"/>
                    </a:lnTo>
                    <a:lnTo>
                      <a:pt x="227" y="626"/>
                    </a:lnTo>
                    <a:lnTo>
                      <a:pt x="211" y="581"/>
                    </a:lnTo>
                    <a:lnTo>
                      <a:pt x="194" y="536"/>
                    </a:lnTo>
                    <a:lnTo>
                      <a:pt x="178" y="492"/>
                    </a:lnTo>
                    <a:lnTo>
                      <a:pt x="162" y="447"/>
                    </a:lnTo>
                    <a:lnTo>
                      <a:pt x="145" y="402"/>
                    </a:lnTo>
                    <a:lnTo>
                      <a:pt x="129" y="357"/>
                    </a:lnTo>
                    <a:lnTo>
                      <a:pt x="113" y="314"/>
                    </a:lnTo>
                    <a:lnTo>
                      <a:pt x="98" y="269"/>
                    </a:lnTo>
                    <a:lnTo>
                      <a:pt x="81" y="224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2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7"/>
                    </a:lnTo>
                    <a:lnTo>
                      <a:pt x="1699" y="128"/>
                    </a:lnTo>
                    <a:lnTo>
                      <a:pt x="1983" y="150"/>
                    </a:lnTo>
                    <a:lnTo>
                      <a:pt x="2266" y="171"/>
                    </a:lnTo>
                    <a:lnTo>
                      <a:pt x="2549" y="192"/>
                    </a:lnTo>
                    <a:lnTo>
                      <a:pt x="2832" y="214"/>
                    </a:lnTo>
                    <a:lnTo>
                      <a:pt x="3116" y="235"/>
                    </a:lnTo>
                    <a:lnTo>
                      <a:pt x="3399" y="256"/>
                    </a:lnTo>
                    <a:lnTo>
                      <a:pt x="3682" y="278"/>
                    </a:lnTo>
                    <a:lnTo>
                      <a:pt x="3965" y="299"/>
                    </a:lnTo>
                    <a:lnTo>
                      <a:pt x="4249" y="321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99400" y="567972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2"/>
                    </a:moveTo>
                    <a:lnTo>
                      <a:pt x="260" y="715"/>
                    </a:lnTo>
                    <a:lnTo>
                      <a:pt x="0" y="0"/>
                    </a:lnTo>
                    <a:lnTo>
                      <a:pt x="4533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9" name=""/>
          <p:cNvSpPr/>
          <p:nvPr/>
        </p:nvSpPr>
        <p:spPr>
          <a:xfrm>
            <a:off x="1187640" y="5538600"/>
            <a:ext cx="6476040" cy="116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55" y="534"/>
                </a:moveTo>
                <a:arcTo wR="10800" hR="10800" stAng="-4314229" swAng="2495760"/>
                <a:lnTo>
                  <a:pt x="10800" y="10800"/>
                </a:lnTo>
                <a:close/>
              </a:path>
              <a:path fill="none" w="21600" h="21600">
                <a:moveTo>
                  <a:pt x="14155" y="534"/>
                </a:moveTo>
                <a:arcTo wR="10800" hR="10800" stAng="-4314229" swAng="2495760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rot="21427800">
            <a:off x="716760" y="5587560"/>
            <a:ext cx="6469920" cy="100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15" y="2017"/>
                </a:moveTo>
                <a:arcTo wR="10800" hR="10800" stAng="-7535328" swAng="1793837"/>
                <a:lnTo>
                  <a:pt x="10800" y="10800"/>
                </a:lnTo>
                <a:close/>
              </a:path>
              <a:path fill="none" w="21600" h="21600">
                <a:moveTo>
                  <a:pt x="4515" y="2017"/>
                </a:moveTo>
                <a:arcTo wR="10800" hR="10800" stAng="-7535328" swAng="179383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1373400" y="5489640"/>
            <a:ext cx="6597360" cy="96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65" y="715"/>
                </a:moveTo>
                <a:arcTo wR="10800" hR="10800" stAng="-4141735" swAng="2545105"/>
                <a:lnTo>
                  <a:pt x="10800" y="10800"/>
                </a:lnTo>
                <a:close/>
              </a:path>
              <a:path fill="none" w="21600" h="21600">
                <a:moveTo>
                  <a:pt x="14665" y="715"/>
                </a:moveTo>
                <a:arcTo wR="10800" hR="10800" stAng="-4141735" swAng="2545105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676520" y="6004080"/>
            <a:ext cx="190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vider ask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 and receives reco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593800" y="5529240"/>
            <a:ext cx="11304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760840" y="561024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646360" y="5605560"/>
            <a:ext cx="171360" cy="258840"/>
          </a:xfrm>
          <a:custGeom>
            <a:avLst/>
            <a:gdLst/>
            <a:ahLst/>
            <a:rect l="l" t="t" r="r" b="b"/>
            <a:pathLst>
              <a:path w="108" h="150">
                <a:moveTo>
                  <a:pt x="0" y="0"/>
                </a:moveTo>
                <a:lnTo>
                  <a:pt x="0" y="150"/>
                </a:lnTo>
                <a:lnTo>
                  <a:pt x="108" y="150"/>
                </a:lnTo>
                <a:lnTo>
                  <a:pt x="108" y="6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732040" y="5864400"/>
            <a:ext cx="0" cy="134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562720" y="5896080"/>
            <a:ext cx="150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ord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e sent to Provi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230880" y="5659560"/>
            <a:ext cx="0" cy="244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175440" y="557532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1"/>
          <a:stretch/>
        </p:blipFill>
        <p:spPr>
          <a:xfrm>
            <a:off x="765000" y="5281560"/>
            <a:ext cx="1265400" cy="978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a820a"/>
            </a:outerShdw>
          </a:effectLst>
        </p:spPr>
      </p:pic>
      <p:sp>
        <p:nvSpPr>
          <p:cNvPr id="921" name=""/>
          <p:cNvSpPr/>
          <p:nvPr/>
        </p:nvSpPr>
        <p:spPr>
          <a:xfrm>
            <a:off x="924480" y="5460840"/>
            <a:ext cx="89388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Individ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rovid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85800" y="5335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et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7047000" y="5299200"/>
            <a:ext cx="1265040" cy="977760"/>
            <a:chOff x="7047000" y="5299200"/>
            <a:chExt cx="1265040" cy="977760"/>
          </a:xfrm>
        </p:grpSpPr>
        <p:pic>
          <p:nvPicPr>
            <p:cNvPr id="924" name="" descr=""/>
            <p:cNvPicPr/>
            <p:nvPr/>
          </p:nvPicPr>
          <p:blipFill>
            <a:blip r:embed="rId2"/>
            <a:stretch/>
          </p:blipFill>
          <p:spPr>
            <a:xfrm>
              <a:off x="7047000" y="529920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925" name=""/>
            <p:cNvSpPr/>
            <p:nvPr/>
          </p:nvSpPr>
          <p:spPr>
            <a:xfrm>
              <a:off x="7282440" y="553428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3432600" y="58276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ssage trans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 queries for patien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ly for treatment purp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s There a Problem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/local officials are not enga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dequate representation of PH perspectives (and state/local officials) in NHIN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st opportunity (at be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s (and investments) that don’t take PH into consideration could have negative imp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4144320" y="4835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f79d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3517920" y="5291280"/>
            <a:ext cx="1076400" cy="365040"/>
            <a:chOff x="3517920" y="5291280"/>
            <a:chExt cx="1076400" cy="365040"/>
          </a:xfrm>
        </p:grpSpPr>
        <p:sp>
          <p:nvSpPr>
            <p:cNvPr id="930" name=""/>
            <p:cNvSpPr/>
            <p:nvPr/>
          </p:nvSpPr>
          <p:spPr>
            <a:xfrm>
              <a:off x="3843000" y="5298480"/>
              <a:ext cx="73332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3517920" y="5291280"/>
              <a:ext cx="1076400" cy="365040"/>
              <a:chOff x="3517920" y="5291280"/>
              <a:chExt cx="1076400" cy="365040"/>
            </a:xfrm>
          </p:grpSpPr>
          <p:sp>
            <p:nvSpPr>
              <p:cNvPr id="932" name=""/>
              <p:cNvSpPr/>
              <p:nvPr/>
            </p:nvSpPr>
            <p:spPr>
              <a:xfrm>
                <a:off x="3828960" y="529128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1859" y="0"/>
                    </a:moveTo>
                    <a:lnTo>
                      <a:pt x="11172" y="0"/>
                    </a:lnTo>
                    <a:lnTo>
                      <a:pt x="9313" y="5108"/>
                    </a:lnTo>
                    <a:lnTo>
                      <a:pt x="0" y="5108"/>
                    </a:lnTo>
                    <a:lnTo>
                      <a:pt x="1859" y="0"/>
                    </a:lnTo>
                    <a:close/>
                    <a:moveTo>
                      <a:pt x="2396" y="351"/>
                    </a:moveTo>
                    <a:lnTo>
                      <a:pt x="5553" y="2686"/>
                    </a:lnTo>
                    <a:lnTo>
                      <a:pt x="10409" y="351"/>
                    </a:lnTo>
                    <a:lnTo>
                      <a:pt x="2396" y="351"/>
                    </a:lnTo>
                    <a:close/>
                    <a:moveTo>
                      <a:pt x="10618" y="560"/>
                    </a:moveTo>
                    <a:lnTo>
                      <a:pt x="5503" y="3019"/>
                    </a:lnTo>
                    <a:lnTo>
                      <a:pt x="5416" y="3060"/>
                    </a:lnTo>
                    <a:lnTo>
                      <a:pt x="5360" y="3019"/>
                    </a:lnTo>
                    <a:lnTo>
                      <a:pt x="2012" y="543"/>
                    </a:lnTo>
                    <a:lnTo>
                      <a:pt x="477" y="4757"/>
                    </a:lnTo>
                    <a:lnTo>
                      <a:pt x="9091" y="4757"/>
                    </a:lnTo>
                    <a:lnTo>
                      <a:pt x="10618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24480" y="529596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1"/>
                    </a:moveTo>
                    <a:lnTo>
                      <a:pt x="4273" y="715"/>
                    </a:lnTo>
                    <a:lnTo>
                      <a:pt x="4532" y="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602880" y="53564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1"/>
                    </a:moveTo>
                    <a:lnTo>
                      <a:pt x="267" y="365"/>
                    </a:lnTo>
                    <a:lnTo>
                      <a:pt x="534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1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4" y="621"/>
                    </a:lnTo>
                    <a:lnTo>
                      <a:pt x="3472" y="645"/>
                    </a:lnTo>
                    <a:lnTo>
                      <a:pt x="3739" y="668"/>
                    </a:lnTo>
                    <a:lnTo>
                      <a:pt x="4005" y="692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6" y="625"/>
                    </a:lnTo>
                    <a:lnTo>
                      <a:pt x="4322" y="581"/>
                    </a:lnTo>
                    <a:lnTo>
                      <a:pt x="4337" y="536"/>
                    </a:lnTo>
                    <a:lnTo>
                      <a:pt x="4354" y="491"/>
                    </a:lnTo>
                    <a:lnTo>
                      <a:pt x="4370" y="446"/>
                    </a:lnTo>
                    <a:lnTo>
                      <a:pt x="4386" y="401"/>
                    </a:lnTo>
                    <a:lnTo>
                      <a:pt x="4402" y="358"/>
                    </a:lnTo>
                    <a:lnTo>
                      <a:pt x="4419" y="313"/>
                    </a:lnTo>
                    <a:lnTo>
                      <a:pt x="4435" y="268"/>
                    </a:lnTo>
                    <a:lnTo>
                      <a:pt x="4451" y="223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7" y="44"/>
                    </a:lnTo>
                    <a:lnTo>
                      <a:pt x="4533" y="0"/>
                    </a:lnTo>
                    <a:lnTo>
                      <a:pt x="4250" y="22"/>
                    </a:lnTo>
                    <a:lnTo>
                      <a:pt x="3967" y="43"/>
                    </a:lnTo>
                    <a:lnTo>
                      <a:pt x="3683" y="64"/>
                    </a:lnTo>
                    <a:lnTo>
                      <a:pt x="3400" y="86"/>
                    </a:lnTo>
                    <a:lnTo>
                      <a:pt x="3117" y="107"/>
                    </a:lnTo>
                    <a:lnTo>
                      <a:pt x="2834" y="129"/>
                    </a:lnTo>
                    <a:lnTo>
                      <a:pt x="2549" y="149"/>
                    </a:lnTo>
                    <a:lnTo>
                      <a:pt x="2266" y="170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81280" y="541764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0" y="342"/>
                    </a:moveTo>
                    <a:lnTo>
                      <a:pt x="266" y="365"/>
                    </a:lnTo>
                    <a:lnTo>
                      <a:pt x="533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4" y="459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1"/>
                    </a:lnTo>
                    <a:lnTo>
                      <a:pt x="2670" y="575"/>
                    </a:lnTo>
                    <a:lnTo>
                      <a:pt x="2937" y="598"/>
                    </a:lnTo>
                    <a:lnTo>
                      <a:pt x="3204" y="622"/>
                    </a:lnTo>
                    <a:lnTo>
                      <a:pt x="3471" y="645"/>
                    </a:lnTo>
                    <a:lnTo>
                      <a:pt x="3738" y="668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4" y="491"/>
                    </a:lnTo>
                    <a:lnTo>
                      <a:pt x="4369" y="446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8" y="313"/>
                    </a:lnTo>
                    <a:lnTo>
                      <a:pt x="4435" y="268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89"/>
                    </a:lnTo>
                    <a:lnTo>
                      <a:pt x="4516" y="44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2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6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560400" y="5478840"/>
                <a:ext cx="310680" cy="5040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0" y="342"/>
                    </a:moveTo>
                    <a:lnTo>
                      <a:pt x="267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1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2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5" y="622"/>
                    </a:lnTo>
                    <a:lnTo>
                      <a:pt x="3472" y="645"/>
                    </a:lnTo>
                    <a:lnTo>
                      <a:pt x="3739" y="669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1"/>
                    </a:lnTo>
                    <a:lnTo>
                      <a:pt x="4306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5" y="491"/>
                    </a:lnTo>
                    <a:lnTo>
                      <a:pt x="4371" y="447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9" y="313"/>
                    </a:lnTo>
                    <a:lnTo>
                      <a:pt x="4435" y="269"/>
                    </a:lnTo>
                    <a:lnTo>
                      <a:pt x="4451" y="224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6" y="45"/>
                    </a:lnTo>
                    <a:lnTo>
                      <a:pt x="4533" y="0"/>
                    </a:lnTo>
                    <a:lnTo>
                      <a:pt x="4250" y="21"/>
                    </a:lnTo>
                    <a:lnTo>
                      <a:pt x="3967" y="42"/>
                    </a:lnTo>
                    <a:lnTo>
                      <a:pt x="3683" y="64"/>
                    </a:lnTo>
                    <a:lnTo>
                      <a:pt x="3400" y="85"/>
                    </a:lnTo>
                    <a:lnTo>
                      <a:pt x="3117" y="107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539160" y="553968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2"/>
                    </a:moveTo>
                    <a:lnTo>
                      <a:pt x="266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6"/>
                    </a:lnTo>
                    <a:lnTo>
                      <a:pt x="1334" y="458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2"/>
                    </a:lnTo>
                    <a:lnTo>
                      <a:pt x="2670" y="575"/>
                    </a:lnTo>
                    <a:lnTo>
                      <a:pt x="2937" y="599"/>
                    </a:lnTo>
                    <a:lnTo>
                      <a:pt x="3205" y="622"/>
                    </a:lnTo>
                    <a:lnTo>
                      <a:pt x="3471" y="645"/>
                    </a:lnTo>
                    <a:lnTo>
                      <a:pt x="3738" y="669"/>
                    </a:lnTo>
                    <a:lnTo>
                      <a:pt x="4005" y="691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1" y="581"/>
                    </a:lnTo>
                    <a:lnTo>
                      <a:pt x="4338" y="536"/>
                    </a:lnTo>
                    <a:lnTo>
                      <a:pt x="4354" y="492"/>
                    </a:lnTo>
                    <a:lnTo>
                      <a:pt x="4370" y="447"/>
                    </a:lnTo>
                    <a:lnTo>
                      <a:pt x="4387" y="402"/>
                    </a:lnTo>
                    <a:lnTo>
                      <a:pt x="4403" y="357"/>
                    </a:lnTo>
                    <a:lnTo>
                      <a:pt x="4418" y="313"/>
                    </a:lnTo>
                    <a:lnTo>
                      <a:pt x="4434" y="269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90"/>
                    </a:lnTo>
                    <a:lnTo>
                      <a:pt x="4516" y="45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3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7"/>
                    </a:lnTo>
                    <a:lnTo>
                      <a:pt x="2833" y="128"/>
                    </a:lnTo>
                    <a:lnTo>
                      <a:pt x="2549" y="150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7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1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517920" y="560052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2"/>
                    </a:moveTo>
                    <a:lnTo>
                      <a:pt x="4273" y="715"/>
                    </a:lnTo>
                    <a:lnTo>
                      <a:pt x="4533" y="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9" name=""/>
          <p:cNvGrpSpPr/>
          <p:nvPr/>
        </p:nvGrpSpPr>
        <p:grpSpPr>
          <a:xfrm>
            <a:off x="4334040" y="5370480"/>
            <a:ext cx="1075680" cy="365040"/>
            <a:chOff x="4334040" y="5370480"/>
            <a:chExt cx="1075680" cy="365040"/>
          </a:xfrm>
        </p:grpSpPr>
        <p:sp>
          <p:nvSpPr>
            <p:cNvPr id="940" name=""/>
            <p:cNvSpPr/>
            <p:nvPr/>
          </p:nvSpPr>
          <p:spPr>
            <a:xfrm flipH="1">
              <a:off x="4348440" y="5380920"/>
              <a:ext cx="73296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4334040" y="5370480"/>
              <a:ext cx="1075680" cy="365040"/>
              <a:chOff x="4334040" y="5370480"/>
              <a:chExt cx="1075680" cy="365040"/>
            </a:xfrm>
          </p:grpSpPr>
          <p:sp>
            <p:nvSpPr>
              <p:cNvPr id="942" name=""/>
              <p:cNvSpPr/>
              <p:nvPr/>
            </p:nvSpPr>
            <p:spPr>
              <a:xfrm>
                <a:off x="4334040" y="537048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9313" y="0"/>
                    </a:moveTo>
                    <a:lnTo>
                      <a:pt x="0" y="0"/>
                    </a:lnTo>
                    <a:lnTo>
                      <a:pt x="1858" y="5108"/>
                    </a:lnTo>
                    <a:lnTo>
                      <a:pt x="11172" y="5108"/>
                    </a:lnTo>
                    <a:lnTo>
                      <a:pt x="9313" y="0"/>
                    </a:lnTo>
                    <a:close/>
                    <a:moveTo>
                      <a:pt x="8776" y="351"/>
                    </a:moveTo>
                    <a:lnTo>
                      <a:pt x="5619" y="2686"/>
                    </a:lnTo>
                    <a:lnTo>
                      <a:pt x="763" y="351"/>
                    </a:lnTo>
                    <a:lnTo>
                      <a:pt x="8776" y="351"/>
                    </a:lnTo>
                    <a:close/>
                    <a:moveTo>
                      <a:pt x="554" y="560"/>
                    </a:moveTo>
                    <a:lnTo>
                      <a:pt x="5669" y="3019"/>
                    </a:lnTo>
                    <a:lnTo>
                      <a:pt x="5756" y="3061"/>
                    </a:lnTo>
                    <a:lnTo>
                      <a:pt x="5812" y="3019"/>
                    </a:lnTo>
                    <a:lnTo>
                      <a:pt x="9160" y="543"/>
                    </a:lnTo>
                    <a:lnTo>
                      <a:pt x="10695" y="4757"/>
                    </a:lnTo>
                    <a:lnTo>
                      <a:pt x="2081" y="4757"/>
                    </a:lnTo>
                    <a:lnTo>
                      <a:pt x="554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993560" y="5374800"/>
                <a:ext cx="30996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259" y="715"/>
                    </a:lnTo>
                    <a:lnTo>
                      <a:pt x="0" y="0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014800" y="543600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1"/>
                    </a:moveTo>
                    <a:lnTo>
                      <a:pt x="4266" y="365"/>
                    </a:lnTo>
                    <a:lnTo>
                      <a:pt x="3999" y="388"/>
                    </a:lnTo>
                    <a:lnTo>
                      <a:pt x="3732" y="412"/>
                    </a:lnTo>
                    <a:lnTo>
                      <a:pt x="3465" y="435"/>
                    </a:lnTo>
                    <a:lnTo>
                      <a:pt x="3198" y="458"/>
                    </a:lnTo>
                    <a:lnTo>
                      <a:pt x="2930" y="482"/>
                    </a:lnTo>
                    <a:lnTo>
                      <a:pt x="2664" y="505"/>
                    </a:lnTo>
                    <a:lnTo>
                      <a:pt x="2397" y="529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6" y="598"/>
                    </a:lnTo>
                    <a:lnTo>
                      <a:pt x="1329" y="621"/>
                    </a:lnTo>
                    <a:lnTo>
                      <a:pt x="1061" y="645"/>
                    </a:lnTo>
                    <a:lnTo>
                      <a:pt x="794" y="668"/>
                    </a:lnTo>
                    <a:lnTo>
                      <a:pt x="528" y="692"/>
                    </a:lnTo>
                    <a:lnTo>
                      <a:pt x="260" y="715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1"/>
                    </a:lnTo>
                    <a:lnTo>
                      <a:pt x="195" y="536"/>
                    </a:lnTo>
                    <a:lnTo>
                      <a:pt x="179" y="491"/>
                    </a:lnTo>
                    <a:lnTo>
                      <a:pt x="163" y="447"/>
                    </a:lnTo>
                    <a:lnTo>
                      <a:pt x="147" y="402"/>
                    </a:lnTo>
                    <a:lnTo>
                      <a:pt x="131" y="358"/>
                    </a:lnTo>
                    <a:lnTo>
                      <a:pt x="114" y="313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3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2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6"/>
                    </a:lnTo>
                    <a:lnTo>
                      <a:pt x="1416" y="107"/>
                    </a:lnTo>
                    <a:lnTo>
                      <a:pt x="1699" y="129"/>
                    </a:lnTo>
                    <a:lnTo>
                      <a:pt x="1984" y="150"/>
                    </a:lnTo>
                    <a:lnTo>
                      <a:pt x="2267" y="171"/>
                    </a:lnTo>
                    <a:lnTo>
                      <a:pt x="2550" y="193"/>
                    </a:lnTo>
                    <a:lnTo>
                      <a:pt x="2834" y="214"/>
                    </a:lnTo>
                    <a:lnTo>
                      <a:pt x="3117" y="236"/>
                    </a:lnTo>
                    <a:lnTo>
                      <a:pt x="3400" y="257"/>
                    </a:lnTo>
                    <a:lnTo>
                      <a:pt x="3683" y="278"/>
                    </a:lnTo>
                    <a:lnTo>
                      <a:pt x="3967" y="300"/>
                    </a:lnTo>
                    <a:lnTo>
                      <a:pt x="4250" y="321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036040" y="549720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4532" y="341"/>
                    </a:moveTo>
                    <a:lnTo>
                      <a:pt x="4266" y="364"/>
                    </a:lnTo>
                    <a:lnTo>
                      <a:pt x="3999" y="387"/>
                    </a:lnTo>
                    <a:lnTo>
                      <a:pt x="3731" y="411"/>
                    </a:lnTo>
                    <a:lnTo>
                      <a:pt x="3464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0"/>
                    </a:lnTo>
                    <a:lnTo>
                      <a:pt x="1862" y="574"/>
                    </a:lnTo>
                    <a:lnTo>
                      <a:pt x="1595" y="597"/>
                    </a:lnTo>
                    <a:lnTo>
                      <a:pt x="1327" y="621"/>
                    </a:lnTo>
                    <a:lnTo>
                      <a:pt x="1061" y="644"/>
                    </a:lnTo>
                    <a:lnTo>
                      <a:pt x="794" y="667"/>
                    </a:lnTo>
                    <a:lnTo>
                      <a:pt x="527" y="691"/>
                    </a:lnTo>
                    <a:lnTo>
                      <a:pt x="259" y="714"/>
                    </a:lnTo>
                    <a:lnTo>
                      <a:pt x="243" y="669"/>
                    </a:lnTo>
                    <a:lnTo>
                      <a:pt x="227" y="625"/>
                    </a:lnTo>
                    <a:lnTo>
                      <a:pt x="210" y="580"/>
                    </a:lnTo>
                    <a:lnTo>
                      <a:pt x="194" y="535"/>
                    </a:lnTo>
                    <a:lnTo>
                      <a:pt x="178" y="490"/>
                    </a:lnTo>
                    <a:lnTo>
                      <a:pt x="162" y="445"/>
                    </a:lnTo>
                    <a:lnTo>
                      <a:pt x="146" y="402"/>
                    </a:lnTo>
                    <a:lnTo>
                      <a:pt x="130" y="357"/>
                    </a:lnTo>
                    <a:lnTo>
                      <a:pt x="114" y="312"/>
                    </a:lnTo>
                    <a:lnTo>
                      <a:pt x="97" y="267"/>
                    </a:lnTo>
                    <a:lnTo>
                      <a:pt x="81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2" y="88"/>
                    </a:lnTo>
                    <a:lnTo>
                      <a:pt x="16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2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6"/>
                    </a:lnTo>
                    <a:lnTo>
                      <a:pt x="1699" y="128"/>
                    </a:lnTo>
                    <a:lnTo>
                      <a:pt x="1983" y="149"/>
                    </a:lnTo>
                    <a:lnTo>
                      <a:pt x="2266" y="170"/>
                    </a:lnTo>
                    <a:lnTo>
                      <a:pt x="2549" y="192"/>
                    </a:lnTo>
                    <a:lnTo>
                      <a:pt x="2832" y="212"/>
                    </a:lnTo>
                    <a:lnTo>
                      <a:pt x="3116" y="234"/>
                    </a:lnTo>
                    <a:lnTo>
                      <a:pt x="3399" y="255"/>
                    </a:lnTo>
                    <a:lnTo>
                      <a:pt x="3682" y="276"/>
                    </a:lnTo>
                    <a:lnTo>
                      <a:pt x="3966" y="298"/>
                    </a:lnTo>
                    <a:lnTo>
                      <a:pt x="4249" y="319"/>
                    </a:lnTo>
                    <a:lnTo>
                      <a:pt x="4532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057280" y="55580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4533" y="341"/>
                    </a:moveTo>
                    <a:lnTo>
                      <a:pt x="4266" y="364"/>
                    </a:lnTo>
                    <a:lnTo>
                      <a:pt x="3998" y="388"/>
                    </a:lnTo>
                    <a:lnTo>
                      <a:pt x="3732" y="411"/>
                    </a:lnTo>
                    <a:lnTo>
                      <a:pt x="3465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4" y="505"/>
                    </a:lnTo>
                    <a:lnTo>
                      <a:pt x="2397" y="527"/>
                    </a:lnTo>
                    <a:lnTo>
                      <a:pt x="2129" y="551"/>
                    </a:lnTo>
                    <a:lnTo>
                      <a:pt x="1862" y="574"/>
                    </a:lnTo>
                    <a:lnTo>
                      <a:pt x="1596" y="597"/>
                    </a:lnTo>
                    <a:lnTo>
                      <a:pt x="1328" y="621"/>
                    </a:lnTo>
                    <a:lnTo>
                      <a:pt x="1061" y="644"/>
                    </a:lnTo>
                    <a:lnTo>
                      <a:pt x="794" y="668"/>
                    </a:lnTo>
                    <a:lnTo>
                      <a:pt x="528" y="691"/>
                    </a:lnTo>
                    <a:lnTo>
                      <a:pt x="260" y="714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0"/>
                    </a:lnTo>
                    <a:lnTo>
                      <a:pt x="195" y="535"/>
                    </a:lnTo>
                    <a:lnTo>
                      <a:pt x="178" y="490"/>
                    </a:lnTo>
                    <a:lnTo>
                      <a:pt x="162" y="446"/>
                    </a:lnTo>
                    <a:lnTo>
                      <a:pt x="146" y="401"/>
                    </a:lnTo>
                    <a:lnTo>
                      <a:pt x="131" y="357"/>
                    </a:lnTo>
                    <a:lnTo>
                      <a:pt x="114" y="312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3" y="88"/>
                    </a:lnTo>
                    <a:lnTo>
                      <a:pt x="17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1"/>
                    </a:lnTo>
                    <a:lnTo>
                      <a:pt x="850" y="63"/>
                    </a:lnTo>
                    <a:lnTo>
                      <a:pt x="1133" y="84"/>
                    </a:lnTo>
                    <a:lnTo>
                      <a:pt x="1416" y="106"/>
                    </a:lnTo>
                    <a:lnTo>
                      <a:pt x="1700" y="127"/>
                    </a:lnTo>
                    <a:lnTo>
                      <a:pt x="1984" y="148"/>
                    </a:lnTo>
                    <a:lnTo>
                      <a:pt x="2267" y="170"/>
                    </a:lnTo>
                    <a:lnTo>
                      <a:pt x="2550" y="191"/>
                    </a:lnTo>
                    <a:lnTo>
                      <a:pt x="2833" y="213"/>
                    </a:lnTo>
                    <a:lnTo>
                      <a:pt x="3117" y="234"/>
                    </a:lnTo>
                    <a:lnTo>
                      <a:pt x="3400" y="255"/>
                    </a:lnTo>
                    <a:lnTo>
                      <a:pt x="3683" y="277"/>
                    </a:lnTo>
                    <a:lnTo>
                      <a:pt x="3967" y="298"/>
                    </a:lnTo>
                    <a:lnTo>
                      <a:pt x="4250" y="319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078520" y="56192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4266" y="365"/>
                    </a:lnTo>
                    <a:lnTo>
                      <a:pt x="3998" y="389"/>
                    </a:lnTo>
                    <a:lnTo>
                      <a:pt x="3731" y="412"/>
                    </a:lnTo>
                    <a:lnTo>
                      <a:pt x="3464" y="436"/>
                    </a:lnTo>
                    <a:lnTo>
                      <a:pt x="3198" y="459"/>
                    </a:lnTo>
                    <a:lnTo>
                      <a:pt x="2930" y="483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5" y="599"/>
                    </a:lnTo>
                    <a:lnTo>
                      <a:pt x="1327" y="622"/>
                    </a:lnTo>
                    <a:lnTo>
                      <a:pt x="1061" y="645"/>
                    </a:lnTo>
                    <a:lnTo>
                      <a:pt x="794" y="669"/>
                    </a:lnTo>
                    <a:lnTo>
                      <a:pt x="527" y="692"/>
                    </a:lnTo>
                    <a:lnTo>
                      <a:pt x="259" y="715"/>
                    </a:lnTo>
                    <a:lnTo>
                      <a:pt x="243" y="671"/>
                    </a:lnTo>
                    <a:lnTo>
                      <a:pt x="227" y="626"/>
                    </a:lnTo>
                    <a:lnTo>
                      <a:pt x="211" y="581"/>
                    </a:lnTo>
                    <a:lnTo>
                      <a:pt x="194" y="536"/>
                    </a:lnTo>
                    <a:lnTo>
                      <a:pt x="178" y="492"/>
                    </a:lnTo>
                    <a:lnTo>
                      <a:pt x="162" y="447"/>
                    </a:lnTo>
                    <a:lnTo>
                      <a:pt x="145" y="402"/>
                    </a:lnTo>
                    <a:lnTo>
                      <a:pt x="129" y="357"/>
                    </a:lnTo>
                    <a:lnTo>
                      <a:pt x="113" y="314"/>
                    </a:lnTo>
                    <a:lnTo>
                      <a:pt x="98" y="269"/>
                    </a:lnTo>
                    <a:lnTo>
                      <a:pt x="81" y="224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2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7"/>
                    </a:lnTo>
                    <a:lnTo>
                      <a:pt x="1699" y="128"/>
                    </a:lnTo>
                    <a:lnTo>
                      <a:pt x="1983" y="150"/>
                    </a:lnTo>
                    <a:lnTo>
                      <a:pt x="2266" y="171"/>
                    </a:lnTo>
                    <a:lnTo>
                      <a:pt x="2549" y="192"/>
                    </a:lnTo>
                    <a:lnTo>
                      <a:pt x="2832" y="214"/>
                    </a:lnTo>
                    <a:lnTo>
                      <a:pt x="3116" y="235"/>
                    </a:lnTo>
                    <a:lnTo>
                      <a:pt x="3399" y="256"/>
                    </a:lnTo>
                    <a:lnTo>
                      <a:pt x="3682" y="278"/>
                    </a:lnTo>
                    <a:lnTo>
                      <a:pt x="3965" y="299"/>
                    </a:lnTo>
                    <a:lnTo>
                      <a:pt x="4249" y="321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099400" y="567972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2"/>
                    </a:moveTo>
                    <a:lnTo>
                      <a:pt x="260" y="715"/>
                    </a:lnTo>
                    <a:lnTo>
                      <a:pt x="0" y="0"/>
                    </a:lnTo>
                    <a:lnTo>
                      <a:pt x="4533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9" name=""/>
          <p:cNvSpPr/>
          <p:nvPr/>
        </p:nvSpPr>
        <p:spPr>
          <a:xfrm>
            <a:off x="1187640" y="5538600"/>
            <a:ext cx="6476040" cy="116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55" y="534"/>
                </a:moveTo>
                <a:arcTo wR="10800" hR="10800" stAng="-4314229" swAng="2495760"/>
                <a:lnTo>
                  <a:pt x="10800" y="10800"/>
                </a:lnTo>
                <a:close/>
              </a:path>
              <a:path fill="none" w="21600" h="21600">
                <a:moveTo>
                  <a:pt x="14155" y="534"/>
                </a:moveTo>
                <a:arcTo wR="10800" hR="10800" stAng="-4314229" swAng="2495760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21427800">
            <a:off x="716760" y="5587560"/>
            <a:ext cx="6469920" cy="100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15" y="2017"/>
                </a:moveTo>
                <a:arcTo wR="10800" hR="10800" stAng="-7535328" swAng="1793837"/>
                <a:lnTo>
                  <a:pt x="10800" y="10800"/>
                </a:lnTo>
                <a:close/>
              </a:path>
              <a:path fill="none" w="21600" h="21600">
                <a:moveTo>
                  <a:pt x="4515" y="2017"/>
                </a:moveTo>
                <a:arcTo wR="10800" hR="10800" stAng="-7535328" swAng="179383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1373400" y="5489640"/>
            <a:ext cx="6597360" cy="96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65" y="715"/>
                </a:moveTo>
                <a:arcTo wR="10800" hR="10800" stAng="-4141735" swAng="2545105"/>
                <a:lnTo>
                  <a:pt x="10800" y="10800"/>
                </a:lnTo>
                <a:close/>
              </a:path>
              <a:path fill="none" w="21600" h="21600">
                <a:moveTo>
                  <a:pt x="14665" y="715"/>
                </a:moveTo>
                <a:arcTo wR="10800" hR="10800" stAng="-4141735" swAng="2545105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828800" y="605160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vider ask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 and receives reco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593800" y="5529240"/>
            <a:ext cx="11304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760840" y="561024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646360" y="5605560"/>
            <a:ext cx="171360" cy="258840"/>
          </a:xfrm>
          <a:custGeom>
            <a:avLst/>
            <a:gdLst/>
            <a:ahLst/>
            <a:rect l="l" t="t" r="r" b="b"/>
            <a:pathLst>
              <a:path w="108" h="150">
                <a:moveTo>
                  <a:pt x="0" y="0"/>
                </a:moveTo>
                <a:lnTo>
                  <a:pt x="0" y="150"/>
                </a:lnTo>
                <a:lnTo>
                  <a:pt x="108" y="150"/>
                </a:lnTo>
                <a:lnTo>
                  <a:pt x="108" y="6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732040" y="5864400"/>
            <a:ext cx="0" cy="134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562720" y="5896080"/>
            <a:ext cx="150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ord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e sent to Provi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230880" y="5659560"/>
            <a:ext cx="0" cy="244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175440" y="557532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762120" y="5257800"/>
            <a:ext cx="1265040" cy="97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a820a"/>
            </a:outerShdw>
          </a:effectLst>
        </p:spPr>
      </p:pic>
      <p:sp>
        <p:nvSpPr>
          <p:cNvPr id="961" name=""/>
          <p:cNvSpPr/>
          <p:nvPr/>
        </p:nvSpPr>
        <p:spPr>
          <a:xfrm>
            <a:off x="992880" y="5410080"/>
            <a:ext cx="89388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Individ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rovid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5800" y="5335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7. Disaster Medical Respon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7047000" y="5299200"/>
            <a:ext cx="1265040" cy="977760"/>
            <a:chOff x="7047000" y="5299200"/>
            <a:chExt cx="1265040" cy="977760"/>
          </a:xfrm>
        </p:grpSpPr>
        <p:pic>
          <p:nvPicPr>
            <p:cNvPr id="964" name="" descr=""/>
            <p:cNvPicPr/>
            <p:nvPr/>
          </p:nvPicPr>
          <p:blipFill>
            <a:blip r:embed="rId2"/>
            <a:stretch/>
          </p:blipFill>
          <p:spPr>
            <a:xfrm>
              <a:off x="7047000" y="529920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965" name=""/>
            <p:cNvSpPr/>
            <p:nvPr/>
          </p:nvSpPr>
          <p:spPr>
            <a:xfrm>
              <a:off x="7282440" y="553428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432600" y="58276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ssage trans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d medical care (including public health issues) for dislocated individuals and refug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zation rules may be relaxed during emerg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2514600" y="529596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4144320" y="4835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f79d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3517920" y="5291280"/>
            <a:ext cx="1076400" cy="365040"/>
            <a:chOff x="3517920" y="5291280"/>
            <a:chExt cx="1076400" cy="365040"/>
          </a:xfrm>
        </p:grpSpPr>
        <p:sp>
          <p:nvSpPr>
            <p:cNvPr id="971" name=""/>
            <p:cNvSpPr/>
            <p:nvPr/>
          </p:nvSpPr>
          <p:spPr>
            <a:xfrm>
              <a:off x="3843000" y="5298480"/>
              <a:ext cx="73332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3517920" y="5291280"/>
              <a:ext cx="1076400" cy="365040"/>
              <a:chOff x="3517920" y="5291280"/>
              <a:chExt cx="1076400" cy="365040"/>
            </a:xfrm>
          </p:grpSpPr>
          <p:sp>
            <p:nvSpPr>
              <p:cNvPr id="973" name=""/>
              <p:cNvSpPr/>
              <p:nvPr/>
            </p:nvSpPr>
            <p:spPr>
              <a:xfrm>
                <a:off x="3828960" y="529128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1859" y="0"/>
                    </a:moveTo>
                    <a:lnTo>
                      <a:pt x="11172" y="0"/>
                    </a:lnTo>
                    <a:lnTo>
                      <a:pt x="9313" y="5108"/>
                    </a:lnTo>
                    <a:lnTo>
                      <a:pt x="0" y="5108"/>
                    </a:lnTo>
                    <a:lnTo>
                      <a:pt x="1859" y="0"/>
                    </a:lnTo>
                    <a:close/>
                    <a:moveTo>
                      <a:pt x="2396" y="351"/>
                    </a:moveTo>
                    <a:lnTo>
                      <a:pt x="5553" y="2686"/>
                    </a:lnTo>
                    <a:lnTo>
                      <a:pt x="10409" y="351"/>
                    </a:lnTo>
                    <a:lnTo>
                      <a:pt x="2396" y="351"/>
                    </a:lnTo>
                    <a:close/>
                    <a:moveTo>
                      <a:pt x="10618" y="560"/>
                    </a:moveTo>
                    <a:lnTo>
                      <a:pt x="5503" y="3019"/>
                    </a:lnTo>
                    <a:lnTo>
                      <a:pt x="5416" y="3060"/>
                    </a:lnTo>
                    <a:lnTo>
                      <a:pt x="5360" y="3019"/>
                    </a:lnTo>
                    <a:lnTo>
                      <a:pt x="2012" y="543"/>
                    </a:lnTo>
                    <a:lnTo>
                      <a:pt x="477" y="4757"/>
                    </a:lnTo>
                    <a:lnTo>
                      <a:pt x="9091" y="4757"/>
                    </a:lnTo>
                    <a:lnTo>
                      <a:pt x="10618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624480" y="529596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1"/>
                    </a:moveTo>
                    <a:lnTo>
                      <a:pt x="4273" y="715"/>
                    </a:lnTo>
                    <a:lnTo>
                      <a:pt x="4532" y="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602880" y="53564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1"/>
                    </a:moveTo>
                    <a:lnTo>
                      <a:pt x="267" y="365"/>
                    </a:lnTo>
                    <a:lnTo>
                      <a:pt x="534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1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4" y="621"/>
                    </a:lnTo>
                    <a:lnTo>
                      <a:pt x="3472" y="645"/>
                    </a:lnTo>
                    <a:lnTo>
                      <a:pt x="3739" y="668"/>
                    </a:lnTo>
                    <a:lnTo>
                      <a:pt x="4005" y="692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6" y="625"/>
                    </a:lnTo>
                    <a:lnTo>
                      <a:pt x="4322" y="581"/>
                    </a:lnTo>
                    <a:lnTo>
                      <a:pt x="4337" y="536"/>
                    </a:lnTo>
                    <a:lnTo>
                      <a:pt x="4354" y="491"/>
                    </a:lnTo>
                    <a:lnTo>
                      <a:pt x="4370" y="446"/>
                    </a:lnTo>
                    <a:lnTo>
                      <a:pt x="4386" y="401"/>
                    </a:lnTo>
                    <a:lnTo>
                      <a:pt x="4402" y="358"/>
                    </a:lnTo>
                    <a:lnTo>
                      <a:pt x="4419" y="313"/>
                    </a:lnTo>
                    <a:lnTo>
                      <a:pt x="4435" y="268"/>
                    </a:lnTo>
                    <a:lnTo>
                      <a:pt x="4451" y="223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7" y="44"/>
                    </a:lnTo>
                    <a:lnTo>
                      <a:pt x="4533" y="0"/>
                    </a:lnTo>
                    <a:lnTo>
                      <a:pt x="4250" y="22"/>
                    </a:lnTo>
                    <a:lnTo>
                      <a:pt x="3967" y="43"/>
                    </a:lnTo>
                    <a:lnTo>
                      <a:pt x="3683" y="64"/>
                    </a:lnTo>
                    <a:lnTo>
                      <a:pt x="3400" y="86"/>
                    </a:lnTo>
                    <a:lnTo>
                      <a:pt x="3117" y="107"/>
                    </a:lnTo>
                    <a:lnTo>
                      <a:pt x="2834" y="129"/>
                    </a:lnTo>
                    <a:lnTo>
                      <a:pt x="2549" y="149"/>
                    </a:lnTo>
                    <a:lnTo>
                      <a:pt x="2266" y="170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581280" y="541764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0" y="342"/>
                    </a:moveTo>
                    <a:lnTo>
                      <a:pt x="266" y="365"/>
                    </a:lnTo>
                    <a:lnTo>
                      <a:pt x="533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4" y="459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1"/>
                    </a:lnTo>
                    <a:lnTo>
                      <a:pt x="2670" y="575"/>
                    </a:lnTo>
                    <a:lnTo>
                      <a:pt x="2937" y="598"/>
                    </a:lnTo>
                    <a:lnTo>
                      <a:pt x="3204" y="622"/>
                    </a:lnTo>
                    <a:lnTo>
                      <a:pt x="3471" y="645"/>
                    </a:lnTo>
                    <a:lnTo>
                      <a:pt x="3738" y="668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4" y="491"/>
                    </a:lnTo>
                    <a:lnTo>
                      <a:pt x="4369" y="446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8" y="313"/>
                    </a:lnTo>
                    <a:lnTo>
                      <a:pt x="4435" y="268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89"/>
                    </a:lnTo>
                    <a:lnTo>
                      <a:pt x="4516" y="44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2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6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560400" y="5478840"/>
                <a:ext cx="310680" cy="5040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0" y="342"/>
                    </a:moveTo>
                    <a:lnTo>
                      <a:pt x="267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1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2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5" y="622"/>
                    </a:lnTo>
                    <a:lnTo>
                      <a:pt x="3472" y="645"/>
                    </a:lnTo>
                    <a:lnTo>
                      <a:pt x="3739" y="669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1"/>
                    </a:lnTo>
                    <a:lnTo>
                      <a:pt x="4306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5" y="491"/>
                    </a:lnTo>
                    <a:lnTo>
                      <a:pt x="4371" y="447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9" y="313"/>
                    </a:lnTo>
                    <a:lnTo>
                      <a:pt x="4435" y="269"/>
                    </a:lnTo>
                    <a:lnTo>
                      <a:pt x="4451" y="224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6" y="45"/>
                    </a:lnTo>
                    <a:lnTo>
                      <a:pt x="4533" y="0"/>
                    </a:lnTo>
                    <a:lnTo>
                      <a:pt x="4250" y="21"/>
                    </a:lnTo>
                    <a:lnTo>
                      <a:pt x="3967" y="42"/>
                    </a:lnTo>
                    <a:lnTo>
                      <a:pt x="3683" y="64"/>
                    </a:lnTo>
                    <a:lnTo>
                      <a:pt x="3400" y="85"/>
                    </a:lnTo>
                    <a:lnTo>
                      <a:pt x="3117" y="107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539160" y="553968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2"/>
                    </a:moveTo>
                    <a:lnTo>
                      <a:pt x="266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6"/>
                    </a:lnTo>
                    <a:lnTo>
                      <a:pt x="1334" y="458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2"/>
                    </a:lnTo>
                    <a:lnTo>
                      <a:pt x="2670" y="575"/>
                    </a:lnTo>
                    <a:lnTo>
                      <a:pt x="2937" y="599"/>
                    </a:lnTo>
                    <a:lnTo>
                      <a:pt x="3205" y="622"/>
                    </a:lnTo>
                    <a:lnTo>
                      <a:pt x="3471" y="645"/>
                    </a:lnTo>
                    <a:lnTo>
                      <a:pt x="3738" y="669"/>
                    </a:lnTo>
                    <a:lnTo>
                      <a:pt x="4005" y="691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1" y="581"/>
                    </a:lnTo>
                    <a:lnTo>
                      <a:pt x="4338" y="536"/>
                    </a:lnTo>
                    <a:lnTo>
                      <a:pt x="4354" y="492"/>
                    </a:lnTo>
                    <a:lnTo>
                      <a:pt x="4370" y="447"/>
                    </a:lnTo>
                    <a:lnTo>
                      <a:pt x="4387" y="402"/>
                    </a:lnTo>
                    <a:lnTo>
                      <a:pt x="4403" y="357"/>
                    </a:lnTo>
                    <a:lnTo>
                      <a:pt x="4418" y="313"/>
                    </a:lnTo>
                    <a:lnTo>
                      <a:pt x="4434" y="269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90"/>
                    </a:lnTo>
                    <a:lnTo>
                      <a:pt x="4516" y="45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3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7"/>
                    </a:lnTo>
                    <a:lnTo>
                      <a:pt x="2833" y="128"/>
                    </a:lnTo>
                    <a:lnTo>
                      <a:pt x="2549" y="150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7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1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517920" y="560052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2"/>
                    </a:moveTo>
                    <a:lnTo>
                      <a:pt x="4273" y="715"/>
                    </a:lnTo>
                    <a:lnTo>
                      <a:pt x="4533" y="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0" name=""/>
          <p:cNvGrpSpPr/>
          <p:nvPr/>
        </p:nvGrpSpPr>
        <p:grpSpPr>
          <a:xfrm>
            <a:off x="4334040" y="5370480"/>
            <a:ext cx="1075680" cy="365040"/>
            <a:chOff x="4334040" y="5370480"/>
            <a:chExt cx="1075680" cy="365040"/>
          </a:xfrm>
        </p:grpSpPr>
        <p:sp>
          <p:nvSpPr>
            <p:cNvPr id="981" name=""/>
            <p:cNvSpPr/>
            <p:nvPr/>
          </p:nvSpPr>
          <p:spPr>
            <a:xfrm flipH="1">
              <a:off x="4348440" y="5380920"/>
              <a:ext cx="73296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82" name=""/>
            <p:cNvGrpSpPr/>
            <p:nvPr/>
          </p:nvGrpSpPr>
          <p:grpSpPr>
            <a:xfrm>
              <a:off x="4334040" y="5370480"/>
              <a:ext cx="1075680" cy="365040"/>
              <a:chOff x="4334040" y="5370480"/>
              <a:chExt cx="1075680" cy="365040"/>
            </a:xfrm>
          </p:grpSpPr>
          <p:sp>
            <p:nvSpPr>
              <p:cNvPr id="983" name=""/>
              <p:cNvSpPr/>
              <p:nvPr/>
            </p:nvSpPr>
            <p:spPr>
              <a:xfrm>
                <a:off x="4334040" y="537048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9313" y="0"/>
                    </a:moveTo>
                    <a:lnTo>
                      <a:pt x="0" y="0"/>
                    </a:lnTo>
                    <a:lnTo>
                      <a:pt x="1858" y="5108"/>
                    </a:lnTo>
                    <a:lnTo>
                      <a:pt x="11172" y="5108"/>
                    </a:lnTo>
                    <a:lnTo>
                      <a:pt x="9313" y="0"/>
                    </a:lnTo>
                    <a:close/>
                    <a:moveTo>
                      <a:pt x="8776" y="351"/>
                    </a:moveTo>
                    <a:lnTo>
                      <a:pt x="5619" y="2686"/>
                    </a:lnTo>
                    <a:lnTo>
                      <a:pt x="763" y="351"/>
                    </a:lnTo>
                    <a:lnTo>
                      <a:pt x="8776" y="351"/>
                    </a:lnTo>
                    <a:close/>
                    <a:moveTo>
                      <a:pt x="554" y="560"/>
                    </a:moveTo>
                    <a:lnTo>
                      <a:pt x="5669" y="3019"/>
                    </a:lnTo>
                    <a:lnTo>
                      <a:pt x="5756" y="3061"/>
                    </a:lnTo>
                    <a:lnTo>
                      <a:pt x="5812" y="3019"/>
                    </a:lnTo>
                    <a:lnTo>
                      <a:pt x="9160" y="543"/>
                    </a:lnTo>
                    <a:lnTo>
                      <a:pt x="10695" y="4757"/>
                    </a:lnTo>
                    <a:lnTo>
                      <a:pt x="2081" y="4757"/>
                    </a:lnTo>
                    <a:lnTo>
                      <a:pt x="554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993560" y="5374800"/>
                <a:ext cx="30996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259" y="715"/>
                    </a:lnTo>
                    <a:lnTo>
                      <a:pt x="0" y="0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014800" y="543600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1"/>
                    </a:moveTo>
                    <a:lnTo>
                      <a:pt x="4266" y="365"/>
                    </a:lnTo>
                    <a:lnTo>
                      <a:pt x="3999" y="388"/>
                    </a:lnTo>
                    <a:lnTo>
                      <a:pt x="3732" y="412"/>
                    </a:lnTo>
                    <a:lnTo>
                      <a:pt x="3465" y="435"/>
                    </a:lnTo>
                    <a:lnTo>
                      <a:pt x="3198" y="458"/>
                    </a:lnTo>
                    <a:lnTo>
                      <a:pt x="2930" y="482"/>
                    </a:lnTo>
                    <a:lnTo>
                      <a:pt x="2664" y="505"/>
                    </a:lnTo>
                    <a:lnTo>
                      <a:pt x="2397" y="529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6" y="598"/>
                    </a:lnTo>
                    <a:lnTo>
                      <a:pt x="1329" y="621"/>
                    </a:lnTo>
                    <a:lnTo>
                      <a:pt x="1061" y="645"/>
                    </a:lnTo>
                    <a:lnTo>
                      <a:pt x="794" y="668"/>
                    </a:lnTo>
                    <a:lnTo>
                      <a:pt x="528" y="692"/>
                    </a:lnTo>
                    <a:lnTo>
                      <a:pt x="260" y="715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1"/>
                    </a:lnTo>
                    <a:lnTo>
                      <a:pt x="195" y="536"/>
                    </a:lnTo>
                    <a:lnTo>
                      <a:pt x="179" y="491"/>
                    </a:lnTo>
                    <a:lnTo>
                      <a:pt x="163" y="447"/>
                    </a:lnTo>
                    <a:lnTo>
                      <a:pt x="147" y="402"/>
                    </a:lnTo>
                    <a:lnTo>
                      <a:pt x="131" y="358"/>
                    </a:lnTo>
                    <a:lnTo>
                      <a:pt x="114" y="313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3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2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6"/>
                    </a:lnTo>
                    <a:lnTo>
                      <a:pt x="1416" y="107"/>
                    </a:lnTo>
                    <a:lnTo>
                      <a:pt x="1699" y="129"/>
                    </a:lnTo>
                    <a:lnTo>
                      <a:pt x="1984" y="150"/>
                    </a:lnTo>
                    <a:lnTo>
                      <a:pt x="2267" y="171"/>
                    </a:lnTo>
                    <a:lnTo>
                      <a:pt x="2550" y="193"/>
                    </a:lnTo>
                    <a:lnTo>
                      <a:pt x="2834" y="214"/>
                    </a:lnTo>
                    <a:lnTo>
                      <a:pt x="3117" y="236"/>
                    </a:lnTo>
                    <a:lnTo>
                      <a:pt x="3400" y="257"/>
                    </a:lnTo>
                    <a:lnTo>
                      <a:pt x="3683" y="278"/>
                    </a:lnTo>
                    <a:lnTo>
                      <a:pt x="3967" y="300"/>
                    </a:lnTo>
                    <a:lnTo>
                      <a:pt x="4250" y="321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036040" y="549720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4532" y="341"/>
                    </a:moveTo>
                    <a:lnTo>
                      <a:pt x="4266" y="364"/>
                    </a:lnTo>
                    <a:lnTo>
                      <a:pt x="3999" y="387"/>
                    </a:lnTo>
                    <a:lnTo>
                      <a:pt x="3731" y="411"/>
                    </a:lnTo>
                    <a:lnTo>
                      <a:pt x="3464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0"/>
                    </a:lnTo>
                    <a:lnTo>
                      <a:pt x="1862" y="574"/>
                    </a:lnTo>
                    <a:lnTo>
                      <a:pt x="1595" y="597"/>
                    </a:lnTo>
                    <a:lnTo>
                      <a:pt x="1327" y="621"/>
                    </a:lnTo>
                    <a:lnTo>
                      <a:pt x="1061" y="644"/>
                    </a:lnTo>
                    <a:lnTo>
                      <a:pt x="794" y="667"/>
                    </a:lnTo>
                    <a:lnTo>
                      <a:pt x="527" y="691"/>
                    </a:lnTo>
                    <a:lnTo>
                      <a:pt x="259" y="714"/>
                    </a:lnTo>
                    <a:lnTo>
                      <a:pt x="243" y="669"/>
                    </a:lnTo>
                    <a:lnTo>
                      <a:pt x="227" y="625"/>
                    </a:lnTo>
                    <a:lnTo>
                      <a:pt x="210" y="580"/>
                    </a:lnTo>
                    <a:lnTo>
                      <a:pt x="194" y="535"/>
                    </a:lnTo>
                    <a:lnTo>
                      <a:pt x="178" y="490"/>
                    </a:lnTo>
                    <a:lnTo>
                      <a:pt x="162" y="445"/>
                    </a:lnTo>
                    <a:lnTo>
                      <a:pt x="146" y="402"/>
                    </a:lnTo>
                    <a:lnTo>
                      <a:pt x="130" y="357"/>
                    </a:lnTo>
                    <a:lnTo>
                      <a:pt x="114" y="312"/>
                    </a:lnTo>
                    <a:lnTo>
                      <a:pt x="97" y="267"/>
                    </a:lnTo>
                    <a:lnTo>
                      <a:pt x="81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2" y="88"/>
                    </a:lnTo>
                    <a:lnTo>
                      <a:pt x="16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2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6"/>
                    </a:lnTo>
                    <a:lnTo>
                      <a:pt x="1699" y="128"/>
                    </a:lnTo>
                    <a:lnTo>
                      <a:pt x="1983" y="149"/>
                    </a:lnTo>
                    <a:lnTo>
                      <a:pt x="2266" y="170"/>
                    </a:lnTo>
                    <a:lnTo>
                      <a:pt x="2549" y="192"/>
                    </a:lnTo>
                    <a:lnTo>
                      <a:pt x="2832" y="212"/>
                    </a:lnTo>
                    <a:lnTo>
                      <a:pt x="3116" y="234"/>
                    </a:lnTo>
                    <a:lnTo>
                      <a:pt x="3399" y="255"/>
                    </a:lnTo>
                    <a:lnTo>
                      <a:pt x="3682" y="276"/>
                    </a:lnTo>
                    <a:lnTo>
                      <a:pt x="3966" y="298"/>
                    </a:lnTo>
                    <a:lnTo>
                      <a:pt x="4249" y="319"/>
                    </a:lnTo>
                    <a:lnTo>
                      <a:pt x="4532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057280" y="55580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4533" y="341"/>
                    </a:moveTo>
                    <a:lnTo>
                      <a:pt x="4266" y="364"/>
                    </a:lnTo>
                    <a:lnTo>
                      <a:pt x="3998" y="388"/>
                    </a:lnTo>
                    <a:lnTo>
                      <a:pt x="3732" y="411"/>
                    </a:lnTo>
                    <a:lnTo>
                      <a:pt x="3465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4" y="505"/>
                    </a:lnTo>
                    <a:lnTo>
                      <a:pt x="2397" y="527"/>
                    </a:lnTo>
                    <a:lnTo>
                      <a:pt x="2129" y="551"/>
                    </a:lnTo>
                    <a:lnTo>
                      <a:pt x="1862" y="574"/>
                    </a:lnTo>
                    <a:lnTo>
                      <a:pt x="1596" y="597"/>
                    </a:lnTo>
                    <a:lnTo>
                      <a:pt x="1328" y="621"/>
                    </a:lnTo>
                    <a:lnTo>
                      <a:pt x="1061" y="644"/>
                    </a:lnTo>
                    <a:lnTo>
                      <a:pt x="794" y="668"/>
                    </a:lnTo>
                    <a:lnTo>
                      <a:pt x="528" y="691"/>
                    </a:lnTo>
                    <a:lnTo>
                      <a:pt x="260" y="714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0"/>
                    </a:lnTo>
                    <a:lnTo>
                      <a:pt x="195" y="535"/>
                    </a:lnTo>
                    <a:lnTo>
                      <a:pt x="178" y="490"/>
                    </a:lnTo>
                    <a:lnTo>
                      <a:pt x="162" y="446"/>
                    </a:lnTo>
                    <a:lnTo>
                      <a:pt x="146" y="401"/>
                    </a:lnTo>
                    <a:lnTo>
                      <a:pt x="131" y="357"/>
                    </a:lnTo>
                    <a:lnTo>
                      <a:pt x="114" y="312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3" y="88"/>
                    </a:lnTo>
                    <a:lnTo>
                      <a:pt x="17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1"/>
                    </a:lnTo>
                    <a:lnTo>
                      <a:pt x="850" y="63"/>
                    </a:lnTo>
                    <a:lnTo>
                      <a:pt x="1133" y="84"/>
                    </a:lnTo>
                    <a:lnTo>
                      <a:pt x="1416" y="106"/>
                    </a:lnTo>
                    <a:lnTo>
                      <a:pt x="1700" y="127"/>
                    </a:lnTo>
                    <a:lnTo>
                      <a:pt x="1984" y="148"/>
                    </a:lnTo>
                    <a:lnTo>
                      <a:pt x="2267" y="170"/>
                    </a:lnTo>
                    <a:lnTo>
                      <a:pt x="2550" y="191"/>
                    </a:lnTo>
                    <a:lnTo>
                      <a:pt x="2833" y="213"/>
                    </a:lnTo>
                    <a:lnTo>
                      <a:pt x="3117" y="234"/>
                    </a:lnTo>
                    <a:lnTo>
                      <a:pt x="3400" y="255"/>
                    </a:lnTo>
                    <a:lnTo>
                      <a:pt x="3683" y="277"/>
                    </a:lnTo>
                    <a:lnTo>
                      <a:pt x="3967" y="298"/>
                    </a:lnTo>
                    <a:lnTo>
                      <a:pt x="4250" y="319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078520" y="56192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4266" y="365"/>
                    </a:lnTo>
                    <a:lnTo>
                      <a:pt x="3998" y="389"/>
                    </a:lnTo>
                    <a:lnTo>
                      <a:pt x="3731" y="412"/>
                    </a:lnTo>
                    <a:lnTo>
                      <a:pt x="3464" y="436"/>
                    </a:lnTo>
                    <a:lnTo>
                      <a:pt x="3198" y="459"/>
                    </a:lnTo>
                    <a:lnTo>
                      <a:pt x="2930" y="483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5" y="599"/>
                    </a:lnTo>
                    <a:lnTo>
                      <a:pt x="1327" y="622"/>
                    </a:lnTo>
                    <a:lnTo>
                      <a:pt x="1061" y="645"/>
                    </a:lnTo>
                    <a:lnTo>
                      <a:pt x="794" y="669"/>
                    </a:lnTo>
                    <a:lnTo>
                      <a:pt x="527" y="692"/>
                    </a:lnTo>
                    <a:lnTo>
                      <a:pt x="259" y="715"/>
                    </a:lnTo>
                    <a:lnTo>
                      <a:pt x="243" y="671"/>
                    </a:lnTo>
                    <a:lnTo>
                      <a:pt x="227" y="626"/>
                    </a:lnTo>
                    <a:lnTo>
                      <a:pt x="211" y="581"/>
                    </a:lnTo>
                    <a:lnTo>
                      <a:pt x="194" y="536"/>
                    </a:lnTo>
                    <a:lnTo>
                      <a:pt x="178" y="492"/>
                    </a:lnTo>
                    <a:lnTo>
                      <a:pt x="162" y="447"/>
                    </a:lnTo>
                    <a:lnTo>
                      <a:pt x="145" y="402"/>
                    </a:lnTo>
                    <a:lnTo>
                      <a:pt x="129" y="357"/>
                    </a:lnTo>
                    <a:lnTo>
                      <a:pt x="113" y="314"/>
                    </a:lnTo>
                    <a:lnTo>
                      <a:pt x="98" y="269"/>
                    </a:lnTo>
                    <a:lnTo>
                      <a:pt x="81" y="224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2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7"/>
                    </a:lnTo>
                    <a:lnTo>
                      <a:pt x="1699" y="128"/>
                    </a:lnTo>
                    <a:lnTo>
                      <a:pt x="1983" y="150"/>
                    </a:lnTo>
                    <a:lnTo>
                      <a:pt x="2266" y="171"/>
                    </a:lnTo>
                    <a:lnTo>
                      <a:pt x="2549" y="192"/>
                    </a:lnTo>
                    <a:lnTo>
                      <a:pt x="2832" y="214"/>
                    </a:lnTo>
                    <a:lnTo>
                      <a:pt x="3116" y="235"/>
                    </a:lnTo>
                    <a:lnTo>
                      <a:pt x="3399" y="256"/>
                    </a:lnTo>
                    <a:lnTo>
                      <a:pt x="3682" y="278"/>
                    </a:lnTo>
                    <a:lnTo>
                      <a:pt x="3965" y="299"/>
                    </a:lnTo>
                    <a:lnTo>
                      <a:pt x="4249" y="321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099400" y="567972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2"/>
                    </a:moveTo>
                    <a:lnTo>
                      <a:pt x="260" y="715"/>
                    </a:lnTo>
                    <a:lnTo>
                      <a:pt x="0" y="0"/>
                    </a:lnTo>
                    <a:lnTo>
                      <a:pt x="4533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0" name=""/>
          <p:cNvSpPr/>
          <p:nvPr/>
        </p:nvSpPr>
        <p:spPr>
          <a:xfrm>
            <a:off x="1187640" y="5538600"/>
            <a:ext cx="6476040" cy="116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55" y="534"/>
                </a:moveTo>
                <a:arcTo wR="10800" hR="10800" stAng="-4314229" swAng="2495760"/>
                <a:lnTo>
                  <a:pt x="10800" y="10800"/>
                </a:lnTo>
                <a:close/>
              </a:path>
              <a:path fill="none" w="21600" h="21600">
                <a:moveTo>
                  <a:pt x="14155" y="534"/>
                </a:moveTo>
                <a:arcTo wR="10800" hR="10800" stAng="-4314229" swAng="2495760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rot="21427800">
            <a:off x="716760" y="5587560"/>
            <a:ext cx="6469920" cy="100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15" y="2017"/>
                </a:moveTo>
                <a:arcTo wR="10800" hR="10800" stAng="-7535328" swAng="1793837"/>
                <a:lnTo>
                  <a:pt x="10800" y="10800"/>
                </a:lnTo>
                <a:close/>
              </a:path>
              <a:path fill="none" w="21600" h="21600">
                <a:moveTo>
                  <a:pt x="4515" y="2017"/>
                </a:moveTo>
                <a:arcTo wR="10800" hR="10800" stAng="-7535328" swAng="179383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1373400" y="5489640"/>
            <a:ext cx="6597360" cy="96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65" y="715"/>
                </a:moveTo>
                <a:arcTo wR="10800" hR="10800" stAng="-4141735" swAng="2545105"/>
                <a:lnTo>
                  <a:pt x="10800" y="10800"/>
                </a:lnTo>
                <a:close/>
              </a:path>
              <a:path fill="none" w="21600" h="21600">
                <a:moveTo>
                  <a:pt x="14665" y="715"/>
                </a:moveTo>
                <a:arcTo wR="10800" hR="10800" stAng="-4141735" swAng="2545105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28800" y="605160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blic Health ask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 and receives reco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593800" y="5529240"/>
            <a:ext cx="11304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760840" y="561024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646360" y="5605560"/>
            <a:ext cx="171360" cy="258840"/>
          </a:xfrm>
          <a:custGeom>
            <a:avLst/>
            <a:gdLst/>
            <a:ahLst/>
            <a:rect l="l" t="t" r="r" b="b"/>
            <a:pathLst>
              <a:path w="108" h="150">
                <a:moveTo>
                  <a:pt x="0" y="0"/>
                </a:moveTo>
                <a:lnTo>
                  <a:pt x="0" y="150"/>
                </a:lnTo>
                <a:lnTo>
                  <a:pt x="108" y="150"/>
                </a:lnTo>
                <a:lnTo>
                  <a:pt x="108" y="6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732040" y="5864400"/>
            <a:ext cx="0" cy="134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562720" y="5896080"/>
            <a:ext cx="150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ord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e sent to Public Healt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230880" y="5659560"/>
            <a:ext cx="0" cy="244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175440" y="557532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762120" y="5257800"/>
            <a:ext cx="1265040" cy="97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a820a"/>
            </a:outerShdw>
          </a:effectLst>
        </p:spPr>
      </p:pic>
      <p:sp>
        <p:nvSpPr>
          <p:cNvPr id="1002" name=""/>
          <p:cNvSpPr/>
          <p:nvPr/>
        </p:nvSpPr>
        <p:spPr>
          <a:xfrm>
            <a:off x="1038600" y="5460840"/>
            <a:ext cx="68220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ubl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85800" y="5335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8. Public Health Investig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7047000" y="5299200"/>
            <a:ext cx="1265040" cy="977760"/>
            <a:chOff x="7047000" y="5299200"/>
            <a:chExt cx="1265040" cy="977760"/>
          </a:xfrm>
        </p:grpSpPr>
        <p:pic>
          <p:nvPicPr>
            <p:cNvPr id="1005" name="" descr=""/>
            <p:cNvPicPr/>
            <p:nvPr/>
          </p:nvPicPr>
          <p:blipFill>
            <a:blip r:embed="rId2"/>
            <a:stretch/>
          </p:blipFill>
          <p:spPr>
            <a:xfrm>
              <a:off x="7047000" y="529920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1006" name=""/>
            <p:cNvSpPr/>
            <p:nvPr/>
          </p:nvSpPr>
          <p:spPr>
            <a:xfrm>
              <a:off x="7282440" y="553428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3432600" y="58276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ssage trans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s reported through other means (e.g., laboratory repor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e leather” epidemiology can be time consuming and labor inten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id investigation feasible (“armchair”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health authorization to receive clinical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2514600" y="529596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4144320" y="4835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f79d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3517920" y="5291280"/>
            <a:ext cx="1076400" cy="365040"/>
            <a:chOff x="3517920" y="5291280"/>
            <a:chExt cx="1076400" cy="365040"/>
          </a:xfrm>
        </p:grpSpPr>
        <p:sp>
          <p:nvSpPr>
            <p:cNvPr id="1012" name=""/>
            <p:cNvSpPr/>
            <p:nvPr/>
          </p:nvSpPr>
          <p:spPr>
            <a:xfrm>
              <a:off x="3843000" y="5298480"/>
              <a:ext cx="73332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13" name=""/>
            <p:cNvGrpSpPr/>
            <p:nvPr/>
          </p:nvGrpSpPr>
          <p:grpSpPr>
            <a:xfrm>
              <a:off x="3517920" y="5291280"/>
              <a:ext cx="1076400" cy="365040"/>
              <a:chOff x="3517920" y="5291280"/>
              <a:chExt cx="1076400" cy="365040"/>
            </a:xfrm>
          </p:grpSpPr>
          <p:sp>
            <p:nvSpPr>
              <p:cNvPr id="1014" name=""/>
              <p:cNvSpPr/>
              <p:nvPr/>
            </p:nvSpPr>
            <p:spPr>
              <a:xfrm>
                <a:off x="3828960" y="529128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1859" y="0"/>
                    </a:moveTo>
                    <a:lnTo>
                      <a:pt x="11172" y="0"/>
                    </a:lnTo>
                    <a:lnTo>
                      <a:pt x="9313" y="5108"/>
                    </a:lnTo>
                    <a:lnTo>
                      <a:pt x="0" y="5108"/>
                    </a:lnTo>
                    <a:lnTo>
                      <a:pt x="1859" y="0"/>
                    </a:lnTo>
                    <a:close/>
                    <a:moveTo>
                      <a:pt x="2396" y="351"/>
                    </a:moveTo>
                    <a:lnTo>
                      <a:pt x="5553" y="2686"/>
                    </a:lnTo>
                    <a:lnTo>
                      <a:pt x="10409" y="351"/>
                    </a:lnTo>
                    <a:lnTo>
                      <a:pt x="2396" y="351"/>
                    </a:lnTo>
                    <a:close/>
                    <a:moveTo>
                      <a:pt x="10618" y="560"/>
                    </a:moveTo>
                    <a:lnTo>
                      <a:pt x="5503" y="3019"/>
                    </a:lnTo>
                    <a:lnTo>
                      <a:pt x="5416" y="3060"/>
                    </a:lnTo>
                    <a:lnTo>
                      <a:pt x="5360" y="3019"/>
                    </a:lnTo>
                    <a:lnTo>
                      <a:pt x="2012" y="543"/>
                    </a:lnTo>
                    <a:lnTo>
                      <a:pt x="477" y="4757"/>
                    </a:lnTo>
                    <a:lnTo>
                      <a:pt x="9091" y="4757"/>
                    </a:lnTo>
                    <a:lnTo>
                      <a:pt x="10618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624480" y="529596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1"/>
                    </a:moveTo>
                    <a:lnTo>
                      <a:pt x="4273" y="715"/>
                    </a:lnTo>
                    <a:lnTo>
                      <a:pt x="4532" y="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602880" y="53564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1"/>
                    </a:moveTo>
                    <a:lnTo>
                      <a:pt x="267" y="365"/>
                    </a:lnTo>
                    <a:lnTo>
                      <a:pt x="534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1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4" y="621"/>
                    </a:lnTo>
                    <a:lnTo>
                      <a:pt x="3472" y="645"/>
                    </a:lnTo>
                    <a:lnTo>
                      <a:pt x="3739" y="668"/>
                    </a:lnTo>
                    <a:lnTo>
                      <a:pt x="4005" y="692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6" y="625"/>
                    </a:lnTo>
                    <a:lnTo>
                      <a:pt x="4322" y="581"/>
                    </a:lnTo>
                    <a:lnTo>
                      <a:pt x="4337" y="536"/>
                    </a:lnTo>
                    <a:lnTo>
                      <a:pt x="4354" y="491"/>
                    </a:lnTo>
                    <a:lnTo>
                      <a:pt x="4370" y="446"/>
                    </a:lnTo>
                    <a:lnTo>
                      <a:pt x="4386" y="401"/>
                    </a:lnTo>
                    <a:lnTo>
                      <a:pt x="4402" y="358"/>
                    </a:lnTo>
                    <a:lnTo>
                      <a:pt x="4419" y="313"/>
                    </a:lnTo>
                    <a:lnTo>
                      <a:pt x="4435" y="268"/>
                    </a:lnTo>
                    <a:lnTo>
                      <a:pt x="4451" y="223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7" y="44"/>
                    </a:lnTo>
                    <a:lnTo>
                      <a:pt x="4533" y="0"/>
                    </a:lnTo>
                    <a:lnTo>
                      <a:pt x="4250" y="22"/>
                    </a:lnTo>
                    <a:lnTo>
                      <a:pt x="3967" y="43"/>
                    </a:lnTo>
                    <a:lnTo>
                      <a:pt x="3683" y="64"/>
                    </a:lnTo>
                    <a:lnTo>
                      <a:pt x="3400" y="86"/>
                    </a:lnTo>
                    <a:lnTo>
                      <a:pt x="3117" y="107"/>
                    </a:lnTo>
                    <a:lnTo>
                      <a:pt x="2834" y="129"/>
                    </a:lnTo>
                    <a:lnTo>
                      <a:pt x="2549" y="149"/>
                    </a:lnTo>
                    <a:lnTo>
                      <a:pt x="2266" y="170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581280" y="541764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0" y="342"/>
                    </a:moveTo>
                    <a:lnTo>
                      <a:pt x="266" y="365"/>
                    </a:lnTo>
                    <a:lnTo>
                      <a:pt x="533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4" y="459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1"/>
                    </a:lnTo>
                    <a:lnTo>
                      <a:pt x="2670" y="575"/>
                    </a:lnTo>
                    <a:lnTo>
                      <a:pt x="2937" y="598"/>
                    </a:lnTo>
                    <a:lnTo>
                      <a:pt x="3204" y="622"/>
                    </a:lnTo>
                    <a:lnTo>
                      <a:pt x="3471" y="645"/>
                    </a:lnTo>
                    <a:lnTo>
                      <a:pt x="3738" y="668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4" y="491"/>
                    </a:lnTo>
                    <a:lnTo>
                      <a:pt x="4369" y="446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8" y="313"/>
                    </a:lnTo>
                    <a:lnTo>
                      <a:pt x="4435" y="268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89"/>
                    </a:lnTo>
                    <a:lnTo>
                      <a:pt x="4516" y="44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2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6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560400" y="5478840"/>
                <a:ext cx="310680" cy="5040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0" y="342"/>
                    </a:moveTo>
                    <a:lnTo>
                      <a:pt x="267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1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2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5" y="622"/>
                    </a:lnTo>
                    <a:lnTo>
                      <a:pt x="3472" y="645"/>
                    </a:lnTo>
                    <a:lnTo>
                      <a:pt x="3739" y="669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1"/>
                    </a:lnTo>
                    <a:lnTo>
                      <a:pt x="4306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5" y="491"/>
                    </a:lnTo>
                    <a:lnTo>
                      <a:pt x="4371" y="447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9" y="313"/>
                    </a:lnTo>
                    <a:lnTo>
                      <a:pt x="4435" y="269"/>
                    </a:lnTo>
                    <a:lnTo>
                      <a:pt x="4451" y="224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6" y="45"/>
                    </a:lnTo>
                    <a:lnTo>
                      <a:pt x="4533" y="0"/>
                    </a:lnTo>
                    <a:lnTo>
                      <a:pt x="4250" y="21"/>
                    </a:lnTo>
                    <a:lnTo>
                      <a:pt x="3967" y="42"/>
                    </a:lnTo>
                    <a:lnTo>
                      <a:pt x="3683" y="64"/>
                    </a:lnTo>
                    <a:lnTo>
                      <a:pt x="3400" y="85"/>
                    </a:lnTo>
                    <a:lnTo>
                      <a:pt x="3117" y="107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539160" y="553968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2"/>
                    </a:moveTo>
                    <a:lnTo>
                      <a:pt x="266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6"/>
                    </a:lnTo>
                    <a:lnTo>
                      <a:pt x="1334" y="458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2"/>
                    </a:lnTo>
                    <a:lnTo>
                      <a:pt x="2670" y="575"/>
                    </a:lnTo>
                    <a:lnTo>
                      <a:pt x="2937" y="599"/>
                    </a:lnTo>
                    <a:lnTo>
                      <a:pt x="3205" y="622"/>
                    </a:lnTo>
                    <a:lnTo>
                      <a:pt x="3471" y="645"/>
                    </a:lnTo>
                    <a:lnTo>
                      <a:pt x="3738" y="669"/>
                    </a:lnTo>
                    <a:lnTo>
                      <a:pt x="4005" y="691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1" y="581"/>
                    </a:lnTo>
                    <a:lnTo>
                      <a:pt x="4338" y="536"/>
                    </a:lnTo>
                    <a:lnTo>
                      <a:pt x="4354" y="492"/>
                    </a:lnTo>
                    <a:lnTo>
                      <a:pt x="4370" y="447"/>
                    </a:lnTo>
                    <a:lnTo>
                      <a:pt x="4387" y="402"/>
                    </a:lnTo>
                    <a:lnTo>
                      <a:pt x="4403" y="357"/>
                    </a:lnTo>
                    <a:lnTo>
                      <a:pt x="4418" y="313"/>
                    </a:lnTo>
                    <a:lnTo>
                      <a:pt x="4434" y="269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90"/>
                    </a:lnTo>
                    <a:lnTo>
                      <a:pt x="4516" y="45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3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7"/>
                    </a:lnTo>
                    <a:lnTo>
                      <a:pt x="2833" y="128"/>
                    </a:lnTo>
                    <a:lnTo>
                      <a:pt x="2549" y="150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7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1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517920" y="560052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2"/>
                    </a:moveTo>
                    <a:lnTo>
                      <a:pt x="4273" y="715"/>
                    </a:lnTo>
                    <a:lnTo>
                      <a:pt x="4533" y="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1" name=""/>
          <p:cNvGrpSpPr/>
          <p:nvPr/>
        </p:nvGrpSpPr>
        <p:grpSpPr>
          <a:xfrm>
            <a:off x="4334040" y="5370480"/>
            <a:ext cx="1075680" cy="365040"/>
            <a:chOff x="4334040" y="5370480"/>
            <a:chExt cx="1075680" cy="365040"/>
          </a:xfrm>
        </p:grpSpPr>
        <p:sp>
          <p:nvSpPr>
            <p:cNvPr id="1022" name=""/>
            <p:cNvSpPr/>
            <p:nvPr/>
          </p:nvSpPr>
          <p:spPr>
            <a:xfrm flipH="1">
              <a:off x="4348440" y="5380920"/>
              <a:ext cx="73296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4334040" y="5370480"/>
              <a:ext cx="1075680" cy="365040"/>
              <a:chOff x="4334040" y="5370480"/>
              <a:chExt cx="1075680" cy="365040"/>
            </a:xfrm>
          </p:grpSpPr>
          <p:sp>
            <p:nvSpPr>
              <p:cNvPr id="1024" name=""/>
              <p:cNvSpPr/>
              <p:nvPr/>
            </p:nvSpPr>
            <p:spPr>
              <a:xfrm>
                <a:off x="4334040" y="537048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9313" y="0"/>
                    </a:moveTo>
                    <a:lnTo>
                      <a:pt x="0" y="0"/>
                    </a:lnTo>
                    <a:lnTo>
                      <a:pt x="1858" y="5108"/>
                    </a:lnTo>
                    <a:lnTo>
                      <a:pt x="11172" y="5108"/>
                    </a:lnTo>
                    <a:lnTo>
                      <a:pt x="9313" y="0"/>
                    </a:lnTo>
                    <a:close/>
                    <a:moveTo>
                      <a:pt x="8776" y="351"/>
                    </a:moveTo>
                    <a:lnTo>
                      <a:pt x="5619" y="2686"/>
                    </a:lnTo>
                    <a:lnTo>
                      <a:pt x="763" y="351"/>
                    </a:lnTo>
                    <a:lnTo>
                      <a:pt x="8776" y="351"/>
                    </a:lnTo>
                    <a:close/>
                    <a:moveTo>
                      <a:pt x="554" y="560"/>
                    </a:moveTo>
                    <a:lnTo>
                      <a:pt x="5669" y="3019"/>
                    </a:lnTo>
                    <a:lnTo>
                      <a:pt x="5756" y="3061"/>
                    </a:lnTo>
                    <a:lnTo>
                      <a:pt x="5812" y="3019"/>
                    </a:lnTo>
                    <a:lnTo>
                      <a:pt x="9160" y="543"/>
                    </a:lnTo>
                    <a:lnTo>
                      <a:pt x="10695" y="4757"/>
                    </a:lnTo>
                    <a:lnTo>
                      <a:pt x="2081" y="4757"/>
                    </a:lnTo>
                    <a:lnTo>
                      <a:pt x="554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993560" y="5374800"/>
                <a:ext cx="30996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259" y="715"/>
                    </a:lnTo>
                    <a:lnTo>
                      <a:pt x="0" y="0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014800" y="543600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1"/>
                    </a:moveTo>
                    <a:lnTo>
                      <a:pt x="4266" y="365"/>
                    </a:lnTo>
                    <a:lnTo>
                      <a:pt x="3999" y="388"/>
                    </a:lnTo>
                    <a:lnTo>
                      <a:pt x="3732" y="412"/>
                    </a:lnTo>
                    <a:lnTo>
                      <a:pt x="3465" y="435"/>
                    </a:lnTo>
                    <a:lnTo>
                      <a:pt x="3198" y="458"/>
                    </a:lnTo>
                    <a:lnTo>
                      <a:pt x="2930" y="482"/>
                    </a:lnTo>
                    <a:lnTo>
                      <a:pt x="2664" y="505"/>
                    </a:lnTo>
                    <a:lnTo>
                      <a:pt x="2397" y="529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6" y="598"/>
                    </a:lnTo>
                    <a:lnTo>
                      <a:pt x="1329" y="621"/>
                    </a:lnTo>
                    <a:lnTo>
                      <a:pt x="1061" y="645"/>
                    </a:lnTo>
                    <a:lnTo>
                      <a:pt x="794" y="668"/>
                    </a:lnTo>
                    <a:lnTo>
                      <a:pt x="528" y="692"/>
                    </a:lnTo>
                    <a:lnTo>
                      <a:pt x="260" y="715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1"/>
                    </a:lnTo>
                    <a:lnTo>
                      <a:pt x="195" y="536"/>
                    </a:lnTo>
                    <a:lnTo>
                      <a:pt x="179" y="491"/>
                    </a:lnTo>
                    <a:lnTo>
                      <a:pt x="163" y="447"/>
                    </a:lnTo>
                    <a:lnTo>
                      <a:pt x="147" y="402"/>
                    </a:lnTo>
                    <a:lnTo>
                      <a:pt x="131" y="358"/>
                    </a:lnTo>
                    <a:lnTo>
                      <a:pt x="114" y="313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3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2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6"/>
                    </a:lnTo>
                    <a:lnTo>
                      <a:pt x="1416" y="107"/>
                    </a:lnTo>
                    <a:lnTo>
                      <a:pt x="1699" y="129"/>
                    </a:lnTo>
                    <a:lnTo>
                      <a:pt x="1984" y="150"/>
                    </a:lnTo>
                    <a:lnTo>
                      <a:pt x="2267" y="171"/>
                    </a:lnTo>
                    <a:lnTo>
                      <a:pt x="2550" y="193"/>
                    </a:lnTo>
                    <a:lnTo>
                      <a:pt x="2834" y="214"/>
                    </a:lnTo>
                    <a:lnTo>
                      <a:pt x="3117" y="236"/>
                    </a:lnTo>
                    <a:lnTo>
                      <a:pt x="3400" y="257"/>
                    </a:lnTo>
                    <a:lnTo>
                      <a:pt x="3683" y="278"/>
                    </a:lnTo>
                    <a:lnTo>
                      <a:pt x="3967" y="300"/>
                    </a:lnTo>
                    <a:lnTo>
                      <a:pt x="4250" y="321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036040" y="549720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4532" y="341"/>
                    </a:moveTo>
                    <a:lnTo>
                      <a:pt x="4266" y="364"/>
                    </a:lnTo>
                    <a:lnTo>
                      <a:pt x="3999" y="387"/>
                    </a:lnTo>
                    <a:lnTo>
                      <a:pt x="3731" y="411"/>
                    </a:lnTo>
                    <a:lnTo>
                      <a:pt x="3464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0"/>
                    </a:lnTo>
                    <a:lnTo>
                      <a:pt x="1862" y="574"/>
                    </a:lnTo>
                    <a:lnTo>
                      <a:pt x="1595" y="597"/>
                    </a:lnTo>
                    <a:lnTo>
                      <a:pt x="1327" y="621"/>
                    </a:lnTo>
                    <a:lnTo>
                      <a:pt x="1061" y="644"/>
                    </a:lnTo>
                    <a:lnTo>
                      <a:pt x="794" y="667"/>
                    </a:lnTo>
                    <a:lnTo>
                      <a:pt x="527" y="691"/>
                    </a:lnTo>
                    <a:lnTo>
                      <a:pt x="259" y="714"/>
                    </a:lnTo>
                    <a:lnTo>
                      <a:pt x="243" y="669"/>
                    </a:lnTo>
                    <a:lnTo>
                      <a:pt x="227" y="625"/>
                    </a:lnTo>
                    <a:lnTo>
                      <a:pt x="210" y="580"/>
                    </a:lnTo>
                    <a:lnTo>
                      <a:pt x="194" y="535"/>
                    </a:lnTo>
                    <a:lnTo>
                      <a:pt x="178" y="490"/>
                    </a:lnTo>
                    <a:lnTo>
                      <a:pt x="162" y="445"/>
                    </a:lnTo>
                    <a:lnTo>
                      <a:pt x="146" y="402"/>
                    </a:lnTo>
                    <a:lnTo>
                      <a:pt x="130" y="357"/>
                    </a:lnTo>
                    <a:lnTo>
                      <a:pt x="114" y="312"/>
                    </a:lnTo>
                    <a:lnTo>
                      <a:pt x="97" y="267"/>
                    </a:lnTo>
                    <a:lnTo>
                      <a:pt x="81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2" y="88"/>
                    </a:lnTo>
                    <a:lnTo>
                      <a:pt x="16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2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6"/>
                    </a:lnTo>
                    <a:lnTo>
                      <a:pt x="1699" y="128"/>
                    </a:lnTo>
                    <a:lnTo>
                      <a:pt x="1983" y="149"/>
                    </a:lnTo>
                    <a:lnTo>
                      <a:pt x="2266" y="170"/>
                    </a:lnTo>
                    <a:lnTo>
                      <a:pt x="2549" y="192"/>
                    </a:lnTo>
                    <a:lnTo>
                      <a:pt x="2832" y="212"/>
                    </a:lnTo>
                    <a:lnTo>
                      <a:pt x="3116" y="234"/>
                    </a:lnTo>
                    <a:lnTo>
                      <a:pt x="3399" y="255"/>
                    </a:lnTo>
                    <a:lnTo>
                      <a:pt x="3682" y="276"/>
                    </a:lnTo>
                    <a:lnTo>
                      <a:pt x="3966" y="298"/>
                    </a:lnTo>
                    <a:lnTo>
                      <a:pt x="4249" y="319"/>
                    </a:lnTo>
                    <a:lnTo>
                      <a:pt x="4532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057280" y="55580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4533" y="341"/>
                    </a:moveTo>
                    <a:lnTo>
                      <a:pt x="4266" y="364"/>
                    </a:lnTo>
                    <a:lnTo>
                      <a:pt x="3998" y="388"/>
                    </a:lnTo>
                    <a:lnTo>
                      <a:pt x="3732" y="411"/>
                    </a:lnTo>
                    <a:lnTo>
                      <a:pt x="3465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4" y="505"/>
                    </a:lnTo>
                    <a:lnTo>
                      <a:pt x="2397" y="527"/>
                    </a:lnTo>
                    <a:lnTo>
                      <a:pt x="2129" y="551"/>
                    </a:lnTo>
                    <a:lnTo>
                      <a:pt x="1862" y="574"/>
                    </a:lnTo>
                    <a:lnTo>
                      <a:pt x="1596" y="597"/>
                    </a:lnTo>
                    <a:lnTo>
                      <a:pt x="1328" y="621"/>
                    </a:lnTo>
                    <a:lnTo>
                      <a:pt x="1061" y="644"/>
                    </a:lnTo>
                    <a:lnTo>
                      <a:pt x="794" y="668"/>
                    </a:lnTo>
                    <a:lnTo>
                      <a:pt x="528" y="691"/>
                    </a:lnTo>
                    <a:lnTo>
                      <a:pt x="260" y="714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0"/>
                    </a:lnTo>
                    <a:lnTo>
                      <a:pt x="195" y="535"/>
                    </a:lnTo>
                    <a:lnTo>
                      <a:pt x="178" y="490"/>
                    </a:lnTo>
                    <a:lnTo>
                      <a:pt x="162" y="446"/>
                    </a:lnTo>
                    <a:lnTo>
                      <a:pt x="146" y="401"/>
                    </a:lnTo>
                    <a:lnTo>
                      <a:pt x="131" y="357"/>
                    </a:lnTo>
                    <a:lnTo>
                      <a:pt x="114" y="312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3" y="88"/>
                    </a:lnTo>
                    <a:lnTo>
                      <a:pt x="17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1"/>
                    </a:lnTo>
                    <a:lnTo>
                      <a:pt x="850" y="63"/>
                    </a:lnTo>
                    <a:lnTo>
                      <a:pt x="1133" y="84"/>
                    </a:lnTo>
                    <a:lnTo>
                      <a:pt x="1416" y="106"/>
                    </a:lnTo>
                    <a:lnTo>
                      <a:pt x="1700" y="127"/>
                    </a:lnTo>
                    <a:lnTo>
                      <a:pt x="1984" y="148"/>
                    </a:lnTo>
                    <a:lnTo>
                      <a:pt x="2267" y="170"/>
                    </a:lnTo>
                    <a:lnTo>
                      <a:pt x="2550" y="191"/>
                    </a:lnTo>
                    <a:lnTo>
                      <a:pt x="2833" y="213"/>
                    </a:lnTo>
                    <a:lnTo>
                      <a:pt x="3117" y="234"/>
                    </a:lnTo>
                    <a:lnTo>
                      <a:pt x="3400" y="255"/>
                    </a:lnTo>
                    <a:lnTo>
                      <a:pt x="3683" y="277"/>
                    </a:lnTo>
                    <a:lnTo>
                      <a:pt x="3967" y="298"/>
                    </a:lnTo>
                    <a:lnTo>
                      <a:pt x="4250" y="319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078520" y="56192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4266" y="365"/>
                    </a:lnTo>
                    <a:lnTo>
                      <a:pt x="3998" y="389"/>
                    </a:lnTo>
                    <a:lnTo>
                      <a:pt x="3731" y="412"/>
                    </a:lnTo>
                    <a:lnTo>
                      <a:pt x="3464" y="436"/>
                    </a:lnTo>
                    <a:lnTo>
                      <a:pt x="3198" y="459"/>
                    </a:lnTo>
                    <a:lnTo>
                      <a:pt x="2930" y="483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5" y="599"/>
                    </a:lnTo>
                    <a:lnTo>
                      <a:pt x="1327" y="622"/>
                    </a:lnTo>
                    <a:lnTo>
                      <a:pt x="1061" y="645"/>
                    </a:lnTo>
                    <a:lnTo>
                      <a:pt x="794" y="669"/>
                    </a:lnTo>
                    <a:lnTo>
                      <a:pt x="527" y="692"/>
                    </a:lnTo>
                    <a:lnTo>
                      <a:pt x="259" y="715"/>
                    </a:lnTo>
                    <a:lnTo>
                      <a:pt x="243" y="671"/>
                    </a:lnTo>
                    <a:lnTo>
                      <a:pt x="227" y="626"/>
                    </a:lnTo>
                    <a:lnTo>
                      <a:pt x="211" y="581"/>
                    </a:lnTo>
                    <a:lnTo>
                      <a:pt x="194" y="536"/>
                    </a:lnTo>
                    <a:lnTo>
                      <a:pt x="178" y="492"/>
                    </a:lnTo>
                    <a:lnTo>
                      <a:pt x="162" y="447"/>
                    </a:lnTo>
                    <a:lnTo>
                      <a:pt x="145" y="402"/>
                    </a:lnTo>
                    <a:lnTo>
                      <a:pt x="129" y="357"/>
                    </a:lnTo>
                    <a:lnTo>
                      <a:pt x="113" y="314"/>
                    </a:lnTo>
                    <a:lnTo>
                      <a:pt x="98" y="269"/>
                    </a:lnTo>
                    <a:lnTo>
                      <a:pt x="81" y="224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2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7"/>
                    </a:lnTo>
                    <a:lnTo>
                      <a:pt x="1699" y="128"/>
                    </a:lnTo>
                    <a:lnTo>
                      <a:pt x="1983" y="150"/>
                    </a:lnTo>
                    <a:lnTo>
                      <a:pt x="2266" y="171"/>
                    </a:lnTo>
                    <a:lnTo>
                      <a:pt x="2549" y="192"/>
                    </a:lnTo>
                    <a:lnTo>
                      <a:pt x="2832" y="214"/>
                    </a:lnTo>
                    <a:lnTo>
                      <a:pt x="3116" y="235"/>
                    </a:lnTo>
                    <a:lnTo>
                      <a:pt x="3399" y="256"/>
                    </a:lnTo>
                    <a:lnTo>
                      <a:pt x="3682" y="278"/>
                    </a:lnTo>
                    <a:lnTo>
                      <a:pt x="3965" y="299"/>
                    </a:lnTo>
                    <a:lnTo>
                      <a:pt x="4249" y="321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099400" y="567972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2"/>
                    </a:moveTo>
                    <a:lnTo>
                      <a:pt x="260" y="715"/>
                    </a:lnTo>
                    <a:lnTo>
                      <a:pt x="0" y="0"/>
                    </a:lnTo>
                    <a:lnTo>
                      <a:pt x="4533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1" name=""/>
          <p:cNvSpPr/>
          <p:nvPr/>
        </p:nvSpPr>
        <p:spPr>
          <a:xfrm>
            <a:off x="1187640" y="5538600"/>
            <a:ext cx="6476040" cy="116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55" y="534"/>
                </a:moveTo>
                <a:arcTo wR="10800" hR="10800" stAng="-4314229" swAng="2495760"/>
                <a:lnTo>
                  <a:pt x="10800" y="10800"/>
                </a:lnTo>
                <a:close/>
              </a:path>
              <a:path fill="none" w="21600" h="21600">
                <a:moveTo>
                  <a:pt x="14155" y="534"/>
                </a:moveTo>
                <a:arcTo wR="10800" hR="10800" stAng="-4314229" swAng="2495760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rot="21427800">
            <a:off x="716760" y="5587560"/>
            <a:ext cx="6469920" cy="100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15" y="2017"/>
                </a:moveTo>
                <a:arcTo wR="10800" hR="10800" stAng="-7535328" swAng="1793837"/>
                <a:lnTo>
                  <a:pt x="10800" y="10800"/>
                </a:lnTo>
                <a:close/>
              </a:path>
              <a:path fill="none" w="21600" h="21600">
                <a:moveTo>
                  <a:pt x="4515" y="2017"/>
                </a:moveTo>
                <a:arcTo wR="10800" hR="10800" stAng="-7535328" swAng="179383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1373400" y="5489640"/>
            <a:ext cx="6597360" cy="96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65" y="715"/>
                </a:moveTo>
                <a:arcTo wR="10800" hR="10800" stAng="-4141735" swAng="2545105"/>
                <a:lnTo>
                  <a:pt x="10800" y="10800"/>
                </a:lnTo>
                <a:close/>
              </a:path>
              <a:path fill="none" w="21600" h="21600">
                <a:moveTo>
                  <a:pt x="14665" y="715"/>
                </a:moveTo>
                <a:arcTo wR="10800" hR="10800" stAng="-4141735" swAng="2545105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828800" y="605160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vider ask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 and receives reco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593800" y="5529240"/>
            <a:ext cx="11304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760840" y="561024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646360" y="5605560"/>
            <a:ext cx="171360" cy="258840"/>
          </a:xfrm>
          <a:custGeom>
            <a:avLst/>
            <a:gdLst/>
            <a:ahLst/>
            <a:rect l="l" t="t" r="r" b="b"/>
            <a:pathLst>
              <a:path w="108" h="150">
                <a:moveTo>
                  <a:pt x="0" y="0"/>
                </a:moveTo>
                <a:lnTo>
                  <a:pt x="0" y="150"/>
                </a:lnTo>
                <a:lnTo>
                  <a:pt x="108" y="150"/>
                </a:lnTo>
                <a:lnTo>
                  <a:pt x="108" y="6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732040" y="5864400"/>
            <a:ext cx="0" cy="134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562720" y="5896080"/>
            <a:ext cx="150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ord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e sent to Provi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230880" y="5659560"/>
            <a:ext cx="0" cy="244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175440" y="557532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762120" y="5257800"/>
            <a:ext cx="1265040" cy="97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a820a"/>
            </a:outerShdw>
          </a:effectLst>
        </p:spPr>
      </p:pic>
      <p:sp>
        <p:nvSpPr>
          <p:cNvPr id="1043" name=""/>
          <p:cNvSpPr/>
          <p:nvPr/>
        </p:nvSpPr>
        <p:spPr>
          <a:xfrm>
            <a:off x="992880" y="5410080"/>
            <a:ext cx="89388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Individ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rovid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5800" y="5335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9. Patient-level Public Health Aler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7047000" y="5299200"/>
            <a:ext cx="1265040" cy="977760"/>
            <a:chOff x="7047000" y="5299200"/>
            <a:chExt cx="1265040" cy="977760"/>
          </a:xfrm>
        </p:grpSpPr>
        <p:pic>
          <p:nvPicPr>
            <p:cNvPr id="1046" name="" descr=""/>
            <p:cNvPicPr/>
            <p:nvPr/>
          </p:nvPicPr>
          <p:blipFill>
            <a:blip r:embed="rId2"/>
            <a:stretch/>
          </p:blipFill>
          <p:spPr>
            <a:xfrm>
              <a:off x="7047000" y="529920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1047" name=""/>
            <p:cNvSpPr/>
            <p:nvPr/>
          </p:nvSpPr>
          <p:spPr>
            <a:xfrm>
              <a:off x="7354440" y="5534280"/>
              <a:ext cx="64692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Publi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Healt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3432600" y="58276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ssage trans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Health acts as data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 physician querying HIE could receive patient-specific public health alert (e.g. active TB, sought-for contac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ion, decreased nosocomial sp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notification back to public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6095880" y="5181480"/>
            <a:ext cx="381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4144320" y="4835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f79d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3517920" y="5291280"/>
            <a:ext cx="1076400" cy="365040"/>
            <a:chOff x="3517920" y="5291280"/>
            <a:chExt cx="1076400" cy="365040"/>
          </a:xfrm>
        </p:grpSpPr>
        <p:sp>
          <p:nvSpPr>
            <p:cNvPr id="1053" name=""/>
            <p:cNvSpPr/>
            <p:nvPr/>
          </p:nvSpPr>
          <p:spPr>
            <a:xfrm>
              <a:off x="3843000" y="5298480"/>
              <a:ext cx="73332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3517920" y="5291280"/>
              <a:ext cx="1076400" cy="365040"/>
              <a:chOff x="3517920" y="5291280"/>
              <a:chExt cx="1076400" cy="365040"/>
            </a:xfrm>
          </p:grpSpPr>
          <p:sp>
            <p:nvSpPr>
              <p:cNvPr id="1055" name=""/>
              <p:cNvSpPr/>
              <p:nvPr/>
            </p:nvSpPr>
            <p:spPr>
              <a:xfrm>
                <a:off x="3828960" y="529128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1859" y="0"/>
                    </a:moveTo>
                    <a:lnTo>
                      <a:pt x="11172" y="0"/>
                    </a:lnTo>
                    <a:lnTo>
                      <a:pt x="9313" y="5108"/>
                    </a:lnTo>
                    <a:lnTo>
                      <a:pt x="0" y="5108"/>
                    </a:lnTo>
                    <a:lnTo>
                      <a:pt x="1859" y="0"/>
                    </a:lnTo>
                    <a:close/>
                    <a:moveTo>
                      <a:pt x="2396" y="351"/>
                    </a:moveTo>
                    <a:lnTo>
                      <a:pt x="5553" y="2686"/>
                    </a:lnTo>
                    <a:lnTo>
                      <a:pt x="10409" y="351"/>
                    </a:lnTo>
                    <a:lnTo>
                      <a:pt x="2396" y="351"/>
                    </a:lnTo>
                    <a:close/>
                    <a:moveTo>
                      <a:pt x="10618" y="560"/>
                    </a:moveTo>
                    <a:lnTo>
                      <a:pt x="5503" y="3019"/>
                    </a:lnTo>
                    <a:lnTo>
                      <a:pt x="5416" y="3060"/>
                    </a:lnTo>
                    <a:lnTo>
                      <a:pt x="5360" y="3019"/>
                    </a:lnTo>
                    <a:lnTo>
                      <a:pt x="2012" y="543"/>
                    </a:lnTo>
                    <a:lnTo>
                      <a:pt x="477" y="4757"/>
                    </a:lnTo>
                    <a:lnTo>
                      <a:pt x="9091" y="4757"/>
                    </a:lnTo>
                    <a:lnTo>
                      <a:pt x="10618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24480" y="529596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1"/>
                    </a:moveTo>
                    <a:lnTo>
                      <a:pt x="4273" y="715"/>
                    </a:lnTo>
                    <a:lnTo>
                      <a:pt x="4532" y="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602880" y="53564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1"/>
                    </a:moveTo>
                    <a:lnTo>
                      <a:pt x="267" y="365"/>
                    </a:lnTo>
                    <a:lnTo>
                      <a:pt x="534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1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4" y="621"/>
                    </a:lnTo>
                    <a:lnTo>
                      <a:pt x="3472" y="645"/>
                    </a:lnTo>
                    <a:lnTo>
                      <a:pt x="3739" y="668"/>
                    </a:lnTo>
                    <a:lnTo>
                      <a:pt x="4005" y="692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6" y="625"/>
                    </a:lnTo>
                    <a:lnTo>
                      <a:pt x="4322" y="581"/>
                    </a:lnTo>
                    <a:lnTo>
                      <a:pt x="4337" y="536"/>
                    </a:lnTo>
                    <a:lnTo>
                      <a:pt x="4354" y="491"/>
                    </a:lnTo>
                    <a:lnTo>
                      <a:pt x="4370" y="446"/>
                    </a:lnTo>
                    <a:lnTo>
                      <a:pt x="4386" y="401"/>
                    </a:lnTo>
                    <a:lnTo>
                      <a:pt x="4402" y="358"/>
                    </a:lnTo>
                    <a:lnTo>
                      <a:pt x="4419" y="313"/>
                    </a:lnTo>
                    <a:lnTo>
                      <a:pt x="4435" y="268"/>
                    </a:lnTo>
                    <a:lnTo>
                      <a:pt x="4451" y="223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7" y="44"/>
                    </a:lnTo>
                    <a:lnTo>
                      <a:pt x="4533" y="0"/>
                    </a:lnTo>
                    <a:lnTo>
                      <a:pt x="4250" y="22"/>
                    </a:lnTo>
                    <a:lnTo>
                      <a:pt x="3967" y="43"/>
                    </a:lnTo>
                    <a:lnTo>
                      <a:pt x="3683" y="64"/>
                    </a:lnTo>
                    <a:lnTo>
                      <a:pt x="3400" y="86"/>
                    </a:lnTo>
                    <a:lnTo>
                      <a:pt x="3117" y="107"/>
                    </a:lnTo>
                    <a:lnTo>
                      <a:pt x="2834" y="129"/>
                    </a:lnTo>
                    <a:lnTo>
                      <a:pt x="2549" y="149"/>
                    </a:lnTo>
                    <a:lnTo>
                      <a:pt x="2266" y="170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581280" y="541764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0" y="342"/>
                    </a:moveTo>
                    <a:lnTo>
                      <a:pt x="266" y="365"/>
                    </a:lnTo>
                    <a:lnTo>
                      <a:pt x="533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4" y="459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1"/>
                    </a:lnTo>
                    <a:lnTo>
                      <a:pt x="2670" y="575"/>
                    </a:lnTo>
                    <a:lnTo>
                      <a:pt x="2937" y="598"/>
                    </a:lnTo>
                    <a:lnTo>
                      <a:pt x="3204" y="622"/>
                    </a:lnTo>
                    <a:lnTo>
                      <a:pt x="3471" y="645"/>
                    </a:lnTo>
                    <a:lnTo>
                      <a:pt x="3738" y="668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4" y="491"/>
                    </a:lnTo>
                    <a:lnTo>
                      <a:pt x="4369" y="446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8" y="313"/>
                    </a:lnTo>
                    <a:lnTo>
                      <a:pt x="4435" y="268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89"/>
                    </a:lnTo>
                    <a:lnTo>
                      <a:pt x="4516" y="44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2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6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560400" y="5478840"/>
                <a:ext cx="310680" cy="5040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0" y="342"/>
                    </a:moveTo>
                    <a:lnTo>
                      <a:pt x="267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1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2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5" y="622"/>
                    </a:lnTo>
                    <a:lnTo>
                      <a:pt x="3472" y="645"/>
                    </a:lnTo>
                    <a:lnTo>
                      <a:pt x="3739" y="669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1"/>
                    </a:lnTo>
                    <a:lnTo>
                      <a:pt x="4306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5" y="491"/>
                    </a:lnTo>
                    <a:lnTo>
                      <a:pt x="4371" y="447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9" y="313"/>
                    </a:lnTo>
                    <a:lnTo>
                      <a:pt x="4435" y="269"/>
                    </a:lnTo>
                    <a:lnTo>
                      <a:pt x="4451" y="224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6" y="45"/>
                    </a:lnTo>
                    <a:lnTo>
                      <a:pt x="4533" y="0"/>
                    </a:lnTo>
                    <a:lnTo>
                      <a:pt x="4250" y="21"/>
                    </a:lnTo>
                    <a:lnTo>
                      <a:pt x="3967" y="42"/>
                    </a:lnTo>
                    <a:lnTo>
                      <a:pt x="3683" y="64"/>
                    </a:lnTo>
                    <a:lnTo>
                      <a:pt x="3400" y="85"/>
                    </a:lnTo>
                    <a:lnTo>
                      <a:pt x="3117" y="107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539160" y="553968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2"/>
                    </a:moveTo>
                    <a:lnTo>
                      <a:pt x="266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6"/>
                    </a:lnTo>
                    <a:lnTo>
                      <a:pt x="1334" y="458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2"/>
                    </a:lnTo>
                    <a:lnTo>
                      <a:pt x="2670" y="575"/>
                    </a:lnTo>
                    <a:lnTo>
                      <a:pt x="2937" y="599"/>
                    </a:lnTo>
                    <a:lnTo>
                      <a:pt x="3205" y="622"/>
                    </a:lnTo>
                    <a:lnTo>
                      <a:pt x="3471" y="645"/>
                    </a:lnTo>
                    <a:lnTo>
                      <a:pt x="3738" y="669"/>
                    </a:lnTo>
                    <a:lnTo>
                      <a:pt x="4005" y="691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1" y="581"/>
                    </a:lnTo>
                    <a:lnTo>
                      <a:pt x="4338" y="536"/>
                    </a:lnTo>
                    <a:lnTo>
                      <a:pt x="4354" y="492"/>
                    </a:lnTo>
                    <a:lnTo>
                      <a:pt x="4370" y="447"/>
                    </a:lnTo>
                    <a:lnTo>
                      <a:pt x="4387" y="402"/>
                    </a:lnTo>
                    <a:lnTo>
                      <a:pt x="4403" y="357"/>
                    </a:lnTo>
                    <a:lnTo>
                      <a:pt x="4418" y="313"/>
                    </a:lnTo>
                    <a:lnTo>
                      <a:pt x="4434" y="269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90"/>
                    </a:lnTo>
                    <a:lnTo>
                      <a:pt x="4516" y="45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3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7"/>
                    </a:lnTo>
                    <a:lnTo>
                      <a:pt x="2833" y="128"/>
                    </a:lnTo>
                    <a:lnTo>
                      <a:pt x="2549" y="150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7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1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517920" y="560052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2"/>
                    </a:moveTo>
                    <a:lnTo>
                      <a:pt x="4273" y="715"/>
                    </a:lnTo>
                    <a:lnTo>
                      <a:pt x="4533" y="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2" name=""/>
          <p:cNvGrpSpPr/>
          <p:nvPr/>
        </p:nvGrpSpPr>
        <p:grpSpPr>
          <a:xfrm>
            <a:off x="4334040" y="5370480"/>
            <a:ext cx="1075680" cy="365040"/>
            <a:chOff x="4334040" y="5370480"/>
            <a:chExt cx="1075680" cy="365040"/>
          </a:xfrm>
        </p:grpSpPr>
        <p:sp>
          <p:nvSpPr>
            <p:cNvPr id="1063" name=""/>
            <p:cNvSpPr/>
            <p:nvPr/>
          </p:nvSpPr>
          <p:spPr>
            <a:xfrm flipH="1">
              <a:off x="4348440" y="5380920"/>
              <a:ext cx="73296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4" name=""/>
            <p:cNvGrpSpPr/>
            <p:nvPr/>
          </p:nvGrpSpPr>
          <p:grpSpPr>
            <a:xfrm>
              <a:off x="4334040" y="5370480"/>
              <a:ext cx="1075680" cy="365040"/>
              <a:chOff x="4334040" y="5370480"/>
              <a:chExt cx="1075680" cy="365040"/>
            </a:xfrm>
          </p:grpSpPr>
          <p:sp>
            <p:nvSpPr>
              <p:cNvPr id="1065" name=""/>
              <p:cNvSpPr/>
              <p:nvPr/>
            </p:nvSpPr>
            <p:spPr>
              <a:xfrm>
                <a:off x="4334040" y="537048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9313" y="0"/>
                    </a:moveTo>
                    <a:lnTo>
                      <a:pt x="0" y="0"/>
                    </a:lnTo>
                    <a:lnTo>
                      <a:pt x="1858" y="5108"/>
                    </a:lnTo>
                    <a:lnTo>
                      <a:pt x="11172" y="5108"/>
                    </a:lnTo>
                    <a:lnTo>
                      <a:pt x="9313" y="0"/>
                    </a:lnTo>
                    <a:close/>
                    <a:moveTo>
                      <a:pt x="8776" y="351"/>
                    </a:moveTo>
                    <a:lnTo>
                      <a:pt x="5619" y="2686"/>
                    </a:lnTo>
                    <a:lnTo>
                      <a:pt x="763" y="351"/>
                    </a:lnTo>
                    <a:lnTo>
                      <a:pt x="8776" y="351"/>
                    </a:lnTo>
                    <a:close/>
                    <a:moveTo>
                      <a:pt x="554" y="560"/>
                    </a:moveTo>
                    <a:lnTo>
                      <a:pt x="5669" y="3019"/>
                    </a:lnTo>
                    <a:lnTo>
                      <a:pt x="5756" y="3061"/>
                    </a:lnTo>
                    <a:lnTo>
                      <a:pt x="5812" y="3019"/>
                    </a:lnTo>
                    <a:lnTo>
                      <a:pt x="9160" y="543"/>
                    </a:lnTo>
                    <a:lnTo>
                      <a:pt x="10695" y="4757"/>
                    </a:lnTo>
                    <a:lnTo>
                      <a:pt x="2081" y="4757"/>
                    </a:lnTo>
                    <a:lnTo>
                      <a:pt x="554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93560" y="5374800"/>
                <a:ext cx="30996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259" y="715"/>
                    </a:lnTo>
                    <a:lnTo>
                      <a:pt x="0" y="0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014800" y="543600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1"/>
                    </a:moveTo>
                    <a:lnTo>
                      <a:pt x="4266" y="365"/>
                    </a:lnTo>
                    <a:lnTo>
                      <a:pt x="3999" y="388"/>
                    </a:lnTo>
                    <a:lnTo>
                      <a:pt x="3732" y="412"/>
                    </a:lnTo>
                    <a:lnTo>
                      <a:pt x="3465" y="435"/>
                    </a:lnTo>
                    <a:lnTo>
                      <a:pt x="3198" y="458"/>
                    </a:lnTo>
                    <a:lnTo>
                      <a:pt x="2930" y="482"/>
                    </a:lnTo>
                    <a:lnTo>
                      <a:pt x="2664" y="505"/>
                    </a:lnTo>
                    <a:lnTo>
                      <a:pt x="2397" y="529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6" y="598"/>
                    </a:lnTo>
                    <a:lnTo>
                      <a:pt x="1329" y="621"/>
                    </a:lnTo>
                    <a:lnTo>
                      <a:pt x="1061" y="645"/>
                    </a:lnTo>
                    <a:lnTo>
                      <a:pt x="794" y="668"/>
                    </a:lnTo>
                    <a:lnTo>
                      <a:pt x="528" y="692"/>
                    </a:lnTo>
                    <a:lnTo>
                      <a:pt x="260" y="715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1"/>
                    </a:lnTo>
                    <a:lnTo>
                      <a:pt x="195" y="536"/>
                    </a:lnTo>
                    <a:lnTo>
                      <a:pt x="179" y="491"/>
                    </a:lnTo>
                    <a:lnTo>
                      <a:pt x="163" y="447"/>
                    </a:lnTo>
                    <a:lnTo>
                      <a:pt x="147" y="402"/>
                    </a:lnTo>
                    <a:lnTo>
                      <a:pt x="131" y="358"/>
                    </a:lnTo>
                    <a:lnTo>
                      <a:pt x="114" y="313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3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2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6"/>
                    </a:lnTo>
                    <a:lnTo>
                      <a:pt x="1416" y="107"/>
                    </a:lnTo>
                    <a:lnTo>
                      <a:pt x="1699" y="129"/>
                    </a:lnTo>
                    <a:lnTo>
                      <a:pt x="1984" y="150"/>
                    </a:lnTo>
                    <a:lnTo>
                      <a:pt x="2267" y="171"/>
                    </a:lnTo>
                    <a:lnTo>
                      <a:pt x="2550" y="193"/>
                    </a:lnTo>
                    <a:lnTo>
                      <a:pt x="2834" y="214"/>
                    </a:lnTo>
                    <a:lnTo>
                      <a:pt x="3117" y="236"/>
                    </a:lnTo>
                    <a:lnTo>
                      <a:pt x="3400" y="257"/>
                    </a:lnTo>
                    <a:lnTo>
                      <a:pt x="3683" y="278"/>
                    </a:lnTo>
                    <a:lnTo>
                      <a:pt x="3967" y="300"/>
                    </a:lnTo>
                    <a:lnTo>
                      <a:pt x="4250" y="321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036040" y="549720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4532" y="341"/>
                    </a:moveTo>
                    <a:lnTo>
                      <a:pt x="4266" y="364"/>
                    </a:lnTo>
                    <a:lnTo>
                      <a:pt x="3999" y="387"/>
                    </a:lnTo>
                    <a:lnTo>
                      <a:pt x="3731" y="411"/>
                    </a:lnTo>
                    <a:lnTo>
                      <a:pt x="3464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0"/>
                    </a:lnTo>
                    <a:lnTo>
                      <a:pt x="1862" y="574"/>
                    </a:lnTo>
                    <a:lnTo>
                      <a:pt x="1595" y="597"/>
                    </a:lnTo>
                    <a:lnTo>
                      <a:pt x="1327" y="621"/>
                    </a:lnTo>
                    <a:lnTo>
                      <a:pt x="1061" y="644"/>
                    </a:lnTo>
                    <a:lnTo>
                      <a:pt x="794" y="667"/>
                    </a:lnTo>
                    <a:lnTo>
                      <a:pt x="527" y="691"/>
                    </a:lnTo>
                    <a:lnTo>
                      <a:pt x="259" y="714"/>
                    </a:lnTo>
                    <a:lnTo>
                      <a:pt x="243" y="669"/>
                    </a:lnTo>
                    <a:lnTo>
                      <a:pt x="227" y="625"/>
                    </a:lnTo>
                    <a:lnTo>
                      <a:pt x="210" y="580"/>
                    </a:lnTo>
                    <a:lnTo>
                      <a:pt x="194" y="535"/>
                    </a:lnTo>
                    <a:lnTo>
                      <a:pt x="178" y="490"/>
                    </a:lnTo>
                    <a:lnTo>
                      <a:pt x="162" y="445"/>
                    </a:lnTo>
                    <a:lnTo>
                      <a:pt x="146" y="402"/>
                    </a:lnTo>
                    <a:lnTo>
                      <a:pt x="130" y="357"/>
                    </a:lnTo>
                    <a:lnTo>
                      <a:pt x="114" y="312"/>
                    </a:lnTo>
                    <a:lnTo>
                      <a:pt x="97" y="267"/>
                    </a:lnTo>
                    <a:lnTo>
                      <a:pt x="81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2" y="88"/>
                    </a:lnTo>
                    <a:lnTo>
                      <a:pt x="16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2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6"/>
                    </a:lnTo>
                    <a:lnTo>
                      <a:pt x="1699" y="128"/>
                    </a:lnTo>
                    <a:lnTo>
                      <a:pt x="1983" y="149"/>
                    </a:lnTo>
                    <a:lnTo>
                      <a:pt x="2266" y="170"/>
                    </a:lnTo>
                    <a:lnTo>
                      <a:pt x="2549" y="192"/>
                    </a:lnTo>
                    <a:lnTo>
                      <a:pt x="2832" y="212"/>
                    </a:lnTo>
                    <a:lnTo>
                      <a:pt x="3116" y="234"/>
                    </a:lnTo>
                    <a:lnTo>
                      <a:pt x="3399" y="255"/>
                    </a:lnTo>
                    <a:lnTo>
                      <a:pt x="3682" y="276"/>
                    </a:lnTo>
                    <a:lnTo>
                      <a:pt x="3966" y="298"/>
                    </a:lnTo>
                    <a:lnTo>
                      <a:pt x="4249" y="319"/>
                    </a:lnTo>
                    <a:lnTo>
                      <a:pt x="4532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057280" y="55580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4533" y="341"/>
                    </a:moveTo>
                    <a:lnTo>
                      <a:pt x="4266" y="364"/>
                    </a:lnTo>
                    <a:lnTo>
                      <a:pt x="3998" y="388"/>
                    </a:lnTo>
                    <a:lnTo>
                      <a:pt x="3732" y="411"/>
                    </a:lnTo>
                    <a:lnTo>
                      <a:pt x="3465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4" y="505"/>
                    </a:lnTo>
                    <a:lnTo>
                      <a:pt x="2397" y="527"/>
                    </a:lnTo>
                    <a:lnTo>
                      <a:pt x="2129" y="551"/>
                    </a:lnTo>
                    <a:lnTo>
                      <a:pt x="1862" y="574"/>
                    </a:lnTo>
                    <a:lnTo>
                      <a:pt x="1596" y="597"/>
                    </a:lnTo>
                    <a:lnTo>
                      <a:pt x="1328" y="621"/>
                    </a:lnTo>
                    <a:lnTo>
                      <a:pt x="1061" y="644"/>
                    </a:lnTo>
                    <a:lnTo>
                      <a:pt x="794" y="668"/>
                    </a:lnTo>
                    <a:lnTo>
                      <a:pt x="528" y="691"/>
                    </a:lnTo>
                    <a:lnTo>
                      <a:pt x="260" y="714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0"/>
                    </a:lnTo>
                    <a:lnTo>
                      <a:pt x="195" y="535"/>
                    </a:lnTo>
                    <a:lnTo>
                      <a:pt x="178" y="490"/>
                    </a:lnTo>
                    <a:lnTo>
                      <a:pt x="162" y="446"/>
                    </a:lnTo>
                    <a:lnTo>
                      <a:pt x="146" y="401"/>
                    </a:lnTo>
                    <a:lnTo>
                      <a:pt x="131" y="357"/>
                    </a:lnTo>
                    <a:lnTo>
                      <a:pt x="114" y="312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3" y="88"/>
                    </a:lnTo>
                    <a:lnTo>
                      <a:pt x="17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1"/>
                    </a:lnTo>
                    <a:lnTo>
                      <a:pt x="850" y="63"/>
                    </a:lnTo>
                    <a:lnTo>
                      <a:pt x="1133" y="84"/>
                    </a:lnTo>
                    <a:lnTo>
                      <a:pt x="1416" y="106"/>
                    </a:lnTo>
                    <a:lnTo>
                      <a:pt x="1700" y="127"/>
                    </a:lnTo>
                    <a:lnTo>
                      <a:pt x="1984" y="148"/>
                    </a:lnTo>
                    <a:lnTo>
                      <a:pt x="2267" y="170"/>
                    </a:lnTo>
                    <a:lnTo>
                      <a:pt x="2550" y="191"/>
                    </a:lnTo>
                    <a:lnTo>
                      <a:pt x="2833" y="213"/>
                    </a:lnTo>
                    <a:lnTo>
                      <a:pt x="3117" y="234"/>
                    </a:lnTo>
                    <a:lnTo>
                      <a:pt x="3400" y="255"/>
                    </a:lnTo>
                    <a:lnTo>
                      <a:pt x="3683" y="277"/>
                    </a:lnTo>
                    <a:lnTo>
                      <a:pt x="3967" y="298"/>
                    </a:lnTo>
                    <a:lnTo>
                      <a:pt x="4250" y="319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078520" y="56192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4266" y="365"/>
                    </a:lnTo>
                    <a:lnTo>
                      <a:pt x="3998" y="389"/>
                    </a:lnTo>
                    <a:lnTo>
                      <a:pt x="3731" y="412"/>
                    </a:lnTo>
                    <a:lnTo>
                      <a:pt x="3464" y="436"/>
                    </a:lnTo>
                    <a:lnTo>
                      <a:pt x="3198" y="459"/>
                    </a:lnTo>
                    <a:lnTo>
                      <a:pt x="2930" y="483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5" y="599"/>
                    </a:lnTo>
                    <a:lnTo>
                      <a:pt x="1327" y="622"/>
                    </a:lnTo>
                    <a:lnTo>
                      <a:pt x="1061" y="645"/>
                    </a:lnTo>
                    <a:lnTo>
                      <a:pt x="794" y="669"/>
                    </a:lnTo>
                    <a:lnTo>
                      <a:pt x="527" y="692"/>
                    </a:lnTo>
                    <a:lnTo>
                      <a:pt x="259" y="715"/>
                    </a:lnTo>
                    <a:lnTo>
                      <a:pt x="243" y="671"/>
                    </a:lnTo>
                    <a:lnTo>
                      <a:pt x="227" y="626"/>
                    </a:lnTo>
                    <a:lnTo>
                      <a:pt x="211" y="581"/>
                    </a:lnTo>
                    <a:lnTo>
                      <a:pt x="194" y="536"/>
                    </a:lnTo>
                    <a:lnTo>
                      <a:pt x="178" y="492"/>
                    </a:lnTo>
                    <a:lnTo>
                      <a:pt x="162" y="447"/>
                    </a:lnTo>
                    <a:lnTo>
                      <a:pt x="145" y="402"/>
                    </a:lnTo>
                    <a:lnTo>
                      <a:pt x="129" y="357"/>
                    </a:lnTo>
                    <a:lnTo>
                      <a:pt x="113" y="314"/>
                    </a:lnTo>
                    <a:lnTo>
                      <a:pt x="98" y="269"/>
                    </a:lnTo>
                    <a:lnTo>
                      <a:pt x="81" y="224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2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7"/>
                    </a:lnTo>
                    <a:lnTo>
                      <a:pt x="1699" y="128"/>
                    </a:lnTo>
                    <a:lnTo>
                      <a:pt x="1983" y="150"/>
                    </a:lnTo>
                    <a:lnTo>
                      <a:pt x="2266" y="171"/>
                    </a:lnTo>
                    <a:lnTo>
                      <a:pt x="2549" y="192"/>
                    </a:lnTo>
                    <a:lnTo>
                      <a:pt x="2832" y="214"/>
                    </a:lnTo>
                    <a:lnTo>
                      <a:pt x="3116" y="235"/>
                    </a:lnTo>
                    <a:lnTo>
                      <a:pt x="3399" y="256"/>
                    </a:lnTo>
                    <a:lnTo>
                      <a:pt x="3682" y="278"/>
                    </a:lnTo>
                    <a:lnTo>
                      <a:pt x="3965" y="299"/>
                    </a:lnTo>
                    <a:lnTo>
                      <a:pt x="4249" y="321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099400" y="567972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2"/>
                    </a:moveTo>
                    <a:lnTo>
                      <a:pt x="260" y="715"/>
                    </a:lnTo>
                    <a:lnTo>
                      <a:pt x="0" y="0"/>
                    </a:lnTo>
                    <a:lnTo>
                      <a:pt x="4533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2" name=""/>
          <p:cNvSpPr/>
          <p:nvPr/>
        </p:nvSpPr>
        <p:spPr>
          <a:xfrm>
            <a:off x="1187640" y="5538600"/>
            <a:ext cx="6476040" cy="116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55" y="534"/>
                </a:moveTo>
                <a:arcTo wR="10800" hR="10800" stAng="-4314229" swAng="2495760"/>
                <a:lnTo>
                  <a:pt x="10800" y="10800"/>
                </a:lnTo>
                <a:close/>
              </a:path>
              <a:path fill="none" w="21600" h="21600">
                <a:moveTo>
                  <a:pt x="14155" y="534"/>
                </a:moveTo>
                <a:arcTo wR="10800" hR="10800" stAng="-4314229" swAng="2495760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rot="21427800">
            <a:off x="716760" y="5587560"/>
            <a:ext cx="6469920" cy="100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15" y="2017"/>
                </a:moveTo>
                <a:arcTo wR="10800" hR="10800" stAng="-7535328" swAng="1793837"/>
                <a:lnTo>
                  <a:pt x="10800" y="10800"/>
                </a:lnTo>
                <a:close/>
              </a:path>
              <a:path fill="none" w="21600" h="21600">
                <a:moveTo>
                  <a:pt x="4515" y="2017"/>
                </a:moveTo>
                <a:arcTo wR="10800" hR="10800" stAng="-7535328" swAng="179383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1373400" y="5489640"/>
            <a:ext cx="6597360" cy="96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65" y="715"/>
                </a:moveTo>
                <a:arcTo wR="10800" hR="10800" stAng="-4141735" swAng="2545105"/>
                <a:lnTo>
                  <a:pt x="10800" y="10800"/>
                </a:lnTo>
                <a:close/>
              </a:path>
              <a:path fill="none" w="21600" h="21600">
                <a:moveTo>
                  <a:pt x="14665" y="715"/>
                </a:moveTo>
                <a:arcTo wR="10800" hR="10800" stAng="-4141735" swAng="2545105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605160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vider ask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 and receives reco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593800" y="5529240"/>
            <a:ext cx="11304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60840" y="561024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646360" y="5605560"/>
            <a:ext cx="171360" cy="258840"/>
          </a:xfrm>
          <a:custGeom>
            <a:avLst/>
            <a:gdLst/>
            <a:ahLst/>
            <a:rect l="l" t="t" r="r" b="b"/>
            <a:pathLst>
              <a:path w="108" h="150">
                <a:moveTo>
                  <a:pt x="0" y="0"/>
                </a:moveTo>
                <a:lnTo>
                  <a:pt x="0" y="150"/>
                </a:lnTo>
                <a:lnTo>
                  <a:pt x="108" y="150"/>
                </a:lnTo>
                <a:lnTo>
                  <a:pt x="108" y="6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732040" y="5864400"/>
            <a:ext cx="0" cy="134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562720" y="5896080"/>
            <a:ext cx="150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ord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e sent to Provi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230880" y="5659560"/>
            <a:ext cx="0" cy="244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175440" y="557532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3" name="" descr=""/>
          <p:cNvPicPr/>
          <p:nvPr/>
        </p:nvPicPr>
        <p:blipFill>
          <a:blip r:embed="rId1"/>
          <a:stretch/>
        </p:blipFill>
        <p:spPr>
          <a:xfrm>
            <a:off x="762120" y="5257800"/>
            <a:ext cx="1265040" cy="97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a820a"/>
            </a:outerShdw>
          </a:effectLst>
        </p:spPr>
      </p:pic>
      <p:sp>
        <p:nvSpPr>
          <p:cNvPr id="1084" name=""/>
          <p:cNvSpPr/>
          <p:nvPr/>
        </p:nvSpPr>
        <p:spPr>
          <a:xfrm>
            <a:off x="992880" y="5410080"/>
            <a:ext cx="89388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Individ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rovid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6320" y="45720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0. Population-level Public Health Aler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7047000" y="5299200"/>
            <a:ext cx="1265040" cy="977760"/>
            <a:chOff x="7047000" y="5299200"/>
            <a:chExt cx="1265040" cy="977760"/>
          </a:xfrm>
        </p:grpSpPr>
        <p:pic>
          <p:nvPicPr>
            <p:cNvPr id="1087" name="" descr=""/>
            <p:cNvPicPr/>
            <p:nvPr/>
          </p:nvPicPr>
          <p:blipFill>
            <a:blip r:embed="rId2"/>
            <a:stretch/>
          </p:blipFill>
          <p:spPr>
            <a:xfrm>
              <a:off x="7047000" y="529920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1088" name=""/>
            <p:cNvSpPr/>
            <p:nvPr/>
          </p:nvSpPr>
          <p:spPr>
            <a:xfrm>
              <a:off x="7354440" y="5534280"/>
              <a:ext cx="64692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Publi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Healt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3432600" y="58276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ssage trans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 serves as gateway for relevant epidemiologic data to providers (pati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in context of patient and practice (e.g. age/zip, ED vs. Ambulat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nds in influenza or asth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ve services recommend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5867280" y="5181480"/>
            <a:ext cx="609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" descr=""/>
          <p:cNvPicPr/>
          <p:nvPr/>
        </p:nvPicPr>
        <p:blipFill>
          <a:blip r:embed="rId1"/>
          <a:stretch/>
        </p:blipFill>
        <p:spPr>
          <a:xfrm>
            <a:off x="1378080" y="3219480"/>
            <a:ext cx="6318000" cy="633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a820a">
                <a:alpha val="50000"/>
              </a:srgbClr>
            </a:outerShdw>
          </a:effectLst>
        </p:spPr>
      </p:pic>
      <p:pic>
        <p:nvPicPr>
          <p:cNvPr id="1093" name="" descr=""/>
          <p:cNvPicPr/>
          <p:nvPr/>
        </p:nvPicPr>
        <p:blipFill>
          <a:blip r:embed="rId2"/>
          <a:stretch/>
        </p:blipFill>
        <p:spPr>
          <a:xfrm>
            <a:off x="1165320" y="1698480"/>
            <a:ext cx="6630840" cy="163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2346c"/>
            </a:outerShdw>
          </a:effectLst>
        </p:spPr>
      </p:pic>
      <p:sp>
        <p:nvSpPr>
          <p:cNvPr id="1094" name=""/>
          <p:cNvSpPr/>
          <p:nvPr/>
        </p:nvSpPr>
        <p:spPr>
          <a:xfrm>
            <a:off x="4144320" y="2651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f79d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3517920" y="3106800"/>
            <a:ext cx="1076400" cy="365040"/>
            <a:chOff x="3517920" y="3106800"/>
            <a:chExt cx="1076400" cy="365040"/>
          </a:xfrm>
        </p:grpSpPr>
        <p:sp>
          <p:nvSpPr>
            <p:cNvPr id="1096" name=""/>
            <p:cNvSpPr/>
            <p:nvPr/>
          </p:nvSpPr>
          <p:spPr>
            <a:xfrm>
              <a:off x="3843000" y="3114000"/>
              <a:ext cx="73332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7" name=""/>
            <p:cNvGrpSpPr/>
            <p:nvPr/>
          </p:nvGrpSpPr>
          <p:grpSpPr>
            <a:xfrm>
              <a:off x="3517920" y="3106800"/>
              <a:ext cx="1076400" cy="365040"/>
              <a:chOff x="3517920" y="3106800"/>
              <a:chExt cx="1076400" cy="365040"/>
            </a:xfrm>
          </p:grpSpPr>
          <p:sp>
            <p:nvSpPr>
              <p:cNvPr id="1098" name=""/>
              <p:cNvSpPr/>
              <p:nvPr/>
            </p:nvSpPr>
            <p:spPr>
              <a:xfrm>
                <a:off x="3828960" y="310680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1859" y="0"/>
                    </a:moveTo>
                    <a:lnTo>
                      <a:pt x="11172" y="0"/>
                    </a:lnTo>
                    <a:lnTo>
                      <a:pt x="9313" y="5108"/>
                    </a:lnTo>
                    <a:lnTo>
                      <a:pt x="0" y="5108"/>
                    </a:lnTo>
                    <a:lnTo>
                      <a:pt x="1859" y="0"/>
                    </a:lnTo>
                    <a:close/>
                    <a:moveTo>
                      <a:pt x="2396" y="351"/>
                    </a:moveTo>
                    <a:lnTo>
                      <a:pt x="5553" y="2686"/>
                    </a:lnTo>
                    <a:lnTo>
                      <a:pt x="10409" y="351"/>
                    </a:lnTo>
                    <a:lnTo>
                      <a:pt x="2396" y="351"/>
                    </a:lnTo>
                    <a:close/>
                    <a:moveTo>
                      <a:pt x="10618" y="560"/>
                    </a:moveTo>
                    <a:lnTo>
                      <a:pt x="5503" y="3019"/>
                    </a:lnTo>
                    <a:lnTo>
                      <a:pt x="5416" y="3060"/>
                    </a:lnTo>
                    <a:lnTo>
                      <a:pt x="5360" y="3019"/>
                    </a:lnTo>
                    <a:lnTo>
                      <a:pt x="2012" y="543"/>
                    </a:lnTo>
                    <a:lnTo>
                      <a:pt x="477" y="4757"/>
                    </a:lnTo>
                    <a:lnTo>
                      <a:pt x="9091" y="4757"/>
                    </a:lnTo>
                    <a:lnTo>
                      <a:pt x="10618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624480" y="311148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1"/>
                    </a:moveTo>
                    <a:lnTo>
                      <a:pt x="4273" y="715"/>
                    </a:lnTo>
                    <a:lnTo>
                      <a:pt x="4532" y="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602880" y="317196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1"/>
                    </a:moveTo>
                    <a:lnTo>
                      <a:pt x="267" y="365"/>
                    </a:lnTo>
                    <a:lnTo>
                      <a:pt x="534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1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4" y="621"/>
                    </a:lnTo>
                    <a:lnTo>
                      <a:pt x="3472" y="645"/>
                    </a:lnTo>
                    <a:lnTo>
                      <a:pt x="3739" y="668"/>
                    </a:lnTo>
                    <a:lnTo>
                      <a:pt x="4005" y="692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6" y="625"/>
                    </a:lnTo>
                    <a:lnTo>
                      <a:pt x="4322" y="581"/>
                    </a:lnTo>
                    <a:lnTo>
                      <a:pt x="4337" y="536"/>
                    </a:lnTo>
                    <a:lnTo>
                      <a:pt x="4354" y="491"/>
                    </a:lnTo>
                    <a:lnTo>
                      <a:pt x="4370" y="446"/>
                    </a:lnTo>
                    <a:lnTo>
                      <a:pt x="4386" y="401"/>
                    </a:lnTo>
                    <a:lnTo>
                      <a:pt x="4402" y="358"/>
                    </a:lnTo>
                    <a:lnTo>
                      <a:pt x="4419" y="313"/>
                    </a:lnTo>
                    <a:lnTo>
                      <a:pt x="4435" y="268"/>
                    </a:lnTo>
                    <a:lnTo>
                      <a:pt x="4451" y="223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7" y="44"/>
                    </a:lnTo>
                    <a:lnTo>
                      <a:pt x="4533" y="0"/>
                    </a:lnTo>
                    <a:lnTo>
                      <a:pt x="4250" y="22"/>
                    </a:lnTo>
                    <a:lnTo>
                      <a:pt x="3967" y="43"/>
                    </a:lnTo>
                    <a:lnTo>
                      <a:pt x="3683" y="64"/>
                    </a:lnTo>
                    <a:lnTo>
                      <a:pt x="3400" y="86"/>
                    </a:lnTo>
                    <a:lnTo>
                      <a:pt x="3117" y="107"/>
                    </a:lnTo>
                    <a:lnTo>
                      <a:pt x="2834" y="129"/>
                    </a:lnTo>
                    <a:lnTo>
                      <a:pt x="2549" y="149"/>
                    </a:lnTo>
                    <a:lnTo>
                      <a:pt x="2266" y="170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581280" y="323316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0" y="342"/>
                    </a:moveTo>
                    <a:lnTo>
                      <a:pt x="266" y="365"/>
                    </a:lnTo>
                    <a:lnTo>
                      <a:pt x="533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4" y="459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1"/>
                    </a:lnTo>
                    <a:lnTo>
                      <a:pt x="2670" y="575"/>
                    </a:lnTo>
                    <a:lnTo>
                      <a:pt x="2937" y="598"/>
                    </a:lnTo>
                    <a:lnTo>
                      <a:pt x="3204" y="622"/>
                    </a:lnTo>
                    <a:lnTo>
                      <a:pt x="3471" y="645"/>
                    </a:lnTo>
                    <a:lnTo>
                      <a:pt x="3738" y="668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4" y="491"/>
                    </a:lnTo>
                    <a:lnTo>
                      <a:pt x="4369" y="446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8" y="313"/>
                    </a:lnTo>
                    <a:lnTo>
                      <a:pt x="4435" y="268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89"/>
                    </a:lnTo>
                    <a:lnTo>
                      <a:pt x="4516" y="44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2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6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560400" y="3294360"/>
                <a:ext cx="310680" cy="5040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0" y="342"/>
                    </a:moveTo>
                    <a:lnTo>
                      <a:pt x="267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1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2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5" y="622"/>
                    </a:lnTo>
                    <a:lnTo>
                      <a:pt x="3472" y="645"/>
                    </a:lnTo>
                    <a:lnTo>
                      <a:pt x="3739" y="669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1"/>
                    </a:lnTo>
                    <a:lnTo>
                      <a:pt x="4306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5" y="491"/>
                    </a:lnTo>
                    <a:lnTo>
                      <a:pt x="4371" y="447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9" y="313"/>
                    </a:lnTo>
                    <a:lnTo>
                      <a:pt x="4435" y="269"/>
                    </a:lnTo>
                    <a:lnTo>
                      <a:pt x="4451" y="224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6" y="45"/>
                    </a:lnTo>
                    <a:lnTo>
                      <a:pt x="4533" y="0"/>
                    </a:lnTo>
                    <a:lnTo>
                      <a:pt x="4250" y="21"/>
                    </a:lnTo>
                    <a:lnTo>
                      <a:pt x="3967" y="42"/>
                    </a:lnTo>
                    <a:lnTo>
                      <a:pt x="3683" y="64"/>
                    </a:lnTo>
                    <a:lnTo>
                      <a:pt x="3400" y="85"/>
                    </a:lnTo>
                    <a:lnTo>
                      <a:pt x="3117" y="107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539160" y="335520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2"/>
                    </a:moveTo>
                    <a:lnTo>
                      <a:pt x="266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6"/>
                    </a:lnTo>
                    <a:lnTo>
                      <a:pt x="1334" y="458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2"/>
                    </a:lnTo>
                    <a:lnTo>
                      <a:pt x="2670" y="575"/>
                    </a:lnTo>
                    <a:lnTo>
                      <a:pt x="2937" y="599"/>
                    </a:lnTo>
                    <a:lnTo>
                      <a:pt x="3205" y="622"/>
                    </a:lnTo>
                    <a:lnTo>
                      <a:pt x="3471" y="645"/>
                    </a:lnTo>
                    <a:lnTo>
                      <a:pt x="3738" y="669"/>
                    </a:lnTo>
                    <a:lnTo>
                      <a:pt x="4005" y="691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1" y="581"/>
                    </a:lnTo>
                    <a:lnTo>
                      <a:pt x="4338" y="536"/>
                    </a:lnTo>
                    <a:lnTo>
                      <a:pt x="4354" y="492"/>
                    </a:lnTo>
                    <a:lnTo>
                      <a:pt x="4370" y="447"/>
                    </a:lnTo>
                    <a:lnTo>
                      <a:pt x="4387" y="402"/>
                    </a:lnTo>
                    <a:lnTo>
                      <a:pt x="4403" y="357"/>
                    </a:lnTo>
                    <a:lnTo>
                      <a:pt x="4418" y="313"/>
                    </a:lnTo>
                    <a:lnTo>
                      <a:pt x="4434" y="269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90"/>
                    </a:lnTo>
                    <a:lnTo>
                      <a:pt x="4516" y="45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3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7"/>
                    </a:lnTo>
                    <a:lnTo>
                      <a:pt x="2833" y="128"/>
                    </a:lnTo>
                    <a:lnTo>
                      <a:pt x="2549" y="150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7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1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517920" y="341604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2"/>
                    </a:moveTo>
                    <a:lnTo>
                      <a:pt x="4273" y="715"/>
                    </a:lnTo>
                    <a:lnTo>
                      <a:pt x="4533" y="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4334040" y="3186000"/>
            <a:ext cx="1075680" cy="365400"/>
            <a:chOff x="4334040" y="3186000"/>
            <a:chExt cx="1075680" cy="365400"/>
          </a:xfrm>
        </p:grpSpPr>
        <p:sp>
          <p:nvSpPr>
            <p:cNvPr id="1106" name=""/>
            <p:cNvSpPr/>
            <p:nvPr/>
          </p:nvSpPr>
          <p:spPr>
            <a:xfrm flipH="1">
              <a:off x="4348440" y="3196440"/>
              <a:ext cx="732960" cy="34452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334040" y="3186000"/>
              <a:ext cx="1075680" cy="365400"/>
              <a:chOff x="4334040" y="3186000"/>
              <a:chExt cx="1075680" cy="365400"/>
            </a:xfrm>
          </p:grpSpPr>
          <p:sp>
            <p:nvSpPr>
              <p:cNvPr id="1108" name=""/>
              <p:cNvSpPr/>
              <p:nvPr/>
            </p:nvSpPr>
            <p:spPr>
              <a:xfrm>
                <a:off x="4334040" y="3186000"/>
                <a:ext cx="765360" cy="36540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9313" y="0"/>
                    </a:moveTo>
                    <a:lnTo>
                      <a:pt x="0" y="0"/>
                    </a:lnTo>
                    <a:lnTo>
                      <a:pt x="1858" y="5108"/>
                    </a:lnTo>
                    <a:lnTo>
                      <a:pt x="11172" y="5108"/>
                    </a:lnTo>
                    <a:lnTo>
                      <a:pt x="9313" y="0"/>
                    </a:lnTo>
                    <a:close/>
                    <a:moveTo>
                      <a:pt x="8776" y="351"/>
                    </a:moveTo>
                    <a:lnTo>
                      <a:pt x="5619" y="2686"/>
                    </a:lnTo>
                    <a:lnTo>
                      <a:pt x="763" y="351"/>
                    </a:lnTo>
                    <a:lnTo>
                      <a:pt x="8776" y="351"/>
                    </a:lnTo>
                    <a:close/>
                    <a:moveTo>
                      <a:pt x="554" y="560"/>
                    </a:moveTo>
                    <a:lnTo>
                      <a:pt x="5669" y="3019"/>
                    </a:lnTo>
                    <a:lnTo>
                      <a:pt x="5756" y="3061"/>
                    </a:lnTo>
                    <a:lnTo>
                      <a:pt x="5812" y="3019"/>
                    </a:lnTo>
                    <a:lnTo>
                      <a:pt x="9160" y="543"/>
                    </a:lnTo>
                    <a:lnTo>
                      <a:pt x="10695" y="4757"/>
                    </a:lnTo>
                    <a:lnTo>
                      <a:pt x="2081" y="4757"/>
                    </a:lnTo>
                    <a:lnTo>
                      <a:pt x="554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993560" y="3190320"/>
                <a:ext cx="30996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259" y="715"/>
                    </a:lnTo>
                    <a:lnTo>
                      <a:pt x="0" y="0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014800" y="325152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1"/>
                    </a:moveTo>
                    <a:lnTo>
                      <a:pt x="4266" y="365"/>
                    </a:lnTo>
                    <a:lnTo>
                      <a:pt x="3999" y="388"/>
                    </a:lnTo>
                    <a:lnTo>
                      <a:pt x="3732" y="412"/>
                    </a:lnTo>
                    <a:lnTo>
                      <a:pt x="3465" y="435"/>
                    </a:lnTo>
                    <a:lnTo>
                      <a:pt x="3198" y="458"/>
                    </a:lnTo>
                    <a:lnTo>
                      <a:pt x="2930" y="482"/>
                    </a:lnTo>
                    <a:lnTo>
                      <a:pt x="2664" y="505"/>
                    </a:lnTo>
                    <a:lnTo>
                      <a:pt x="2397" y="529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6" y="598"/>
                    </a:lnTo>
                    <a:lnTo>
                      <a:pt x="1329" y="621"/>
                    </a:lnTo>
                    <a:lnTo>
                      <a:pt x="1061" y="645"/>
                    </a:lnTo>
                    <a:lnTo>
                      <a:pt x="794" y="668"/>
                    </a:lnTo>
                    <a:lnTo>
                      <a:pt x="528" y="692"/>
                    </a:lnTo>
                    <a:lnTo>
                      <a:pt x="260" y="715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1"/>
                    </a:lnTo>
                    <a:lnTo>
                      <a:pt x="195" y="536"/>
                    </a:lnTo>
                    <a:lnTo>
                      <a:pt x="179" y="491"/>
                    </a:lnTo>
                    <a:lnTo>
                      <a:pt x="163" y="447"/>
                    </a:lnTo>
                    <a:lnTo>
                      <a:pt x="147" y="402"/>
                    </a:lnTo>
                    <a:lnTo>
                      <a:pt x="131" y="358"/>
                    </a:lnTo>
                    <a:lnTo>
                      <a:pt x="114" y="313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3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2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6"/>
                    </a:lnTo>
                    <a:lnTo>
                      <a:pt x="1416" y="107"/>
                    </a:lnTo>
                    <a:lnTo>
                      <a:pt x="1699" y="129"/>
                    </a:lnTo>
                    <a:lnTo>
                      <a:pt x="1984" y="150"/>
                    </a:lnTo>
                    <a:lnTo>
                      <a:pt x="2267" y="171"/>
                    </a:lnTo>
                    <a:lnTo>
                      <a:pt x="2550" y="193"/>
                    </a:lnTo>
                    <a:lnTo>
                      <a:pt x="2834" y="214"/>
                    </a:lnTo>
                    <a:lnTo>
                      <a:pt x="3117" y="236"/>
                    </a:lnTo>
                    <a:lnTo>
                      <a:pt x="3400" y="257"/>
                    </a:lnTo>
                    <a:lnTo>
                      <a:pt x="3683" y="278"/>
                    </a:lnTo>
                    <a:lnTo>
                      <a:pt x="3967" y="300"/>
                    </a:lnTo>
                    <a:lnTo>
                      <a:pt x="4250" y="321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036040" y="331272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4532" y="341"/>
                    </a:moveTo>
                    <a:lnTo>
                      <a:pt x="4266" y="364"/>
                    </a:lnTo>
                    <a:lnTo>
                      <a:pt x="3999" y="387"/>
                    </a:lnTo>
                    <a:lnTo>
                      <a:pt x="3731" y="411"/>
                    </a:lnTo>
                    <a:lnTo>
                      <a:pt x="3464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0"/>
                    </a:lnTo>
                    <a:lnTo>
                      <a:pt x="1862" y="574"/>
                    </a:lnTo>
                    <a:lnTo>
                      <a:pt x="1595" y="597"/>
                    </a:lnTo>
                    <a:lnTo>
                      <a:pt x="1327" y="621"/>
                    </a:lnTo>
                    <a:lnTo>
                      <a:pt x="1061" y="644"/>
                    </a:lnTo>
                    <a:lnTo>
                      <a:pt x="794" y="667"/>
                    </a:lnTo>
                    <a:lnTo>
                      <a:pt x="527" y="691"/>
                    </a:lnTo>
                    <a:lnTo>
                      <a:pt x="259" y="714"/>
                    </a:lnTo>
                    <a:lnTo>
                      <a:pt x="243" y="669"/>
                    </a:lnTo>
                    <a:lnTo>
                      <a:pt x="227" y="625"/>
                    </a:lnTo>
                    <a:lnTo>
                      <a:pt x="210" y="580"/>
                    </a:lnTo>
                    <a:lnTo>
                      <a:pt x="194" y="535"/>
                    </a:lnTo>
                    <a:lnTo>
                      <a:pt x="178" y="490"/>
                    </a:lnTo>
                    <a:lnTo>
                      <a:pt x="162" y="445"/>
                    </a:lnTo>
                    <a:lnTo>
                      <a:pt x="146" y="402"/>
                    </a:lnTo>
                    <a:lnTo>
                      <a:pt x="130" y="357"/>
                    </a:lnTo>
                    <a:lnTo>
                      <a:pt x="114" y="312"/>
                    </a:lnTo>
                    <a:lnTo>
                      <a:pt x="97" y="267"/>
                    </a:lnTo>
                    <a:lnTo>
                      <a:pt x="81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2" y="88"/>
                    </a:lnTo>
                    <a:lnTo>
                      <a:pt x="16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2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6"/>
                    </a:lnTo>
                    <a:lnTo>
                      <a:pt x="1699" y="128"/>
                    </a:lnTo>
                    <a:lnTo>
                      <a:pt x="1983" y="149"/>
                    </a:lnTo>
                    <a:lnTo>
                      <a:pt x="2266" y="170"/>
                    </a:lnTo>
                    <a:lnTo>
                      <a:pt x="2549" y="192"/>
                    </a:lnTo>
                    <a:lnTo>
                      <a:pt x="2832" y="212"/>
                    </a:lnTo>
                    <a:lnTo>
                      <a:pt x="3116" y="234"/>
                    </a:lnTo>
                    <a:lnTo>
                      <a:pt x="3399" y="255"/>
                    </a:lnTo>
                    <a:lnTo>
                      <a:pt x="3682" y="276"/>
                    </a:lnTo>
                    <a:lnTo>
                      <a:pt x="3966" y="298"/>
                    </a:lnTo>
                    <a:lnTo>
                      <a:pt x="4249" y="319"/>
                    </a:lnTo>
                    <a:lnTo>
                      <a:pt x="4532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057280" y="337356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4533" y="341"/>
                    </a:moveTo>
                    <a:lnTo>
                      <a:pt x="4266" y="364"/>
                    </a:lnTo>
                    <a:lnTo>
                      <a:pt x="3998" y="388"/>
                    </a:lnTo>
                    <a:lnTo>
                      <a:pt x="3732" y="411"/>
                    </a:lnTo>
                    <a:lnTo>
                      <a:pt x="3465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4" y="505"/>
                    </a:lnTo>
                    <a:lnTo>
                      <a:pt x="2397" y="527"/>
                    </a:lnTo>
                    <a:lnTo>
                      <a:pt x="2129" y="551"/>
                    </a:lnTo>
                    <a:lnTo>
                      <a:pt x="1862" y="574"/>
                    </a:lnTo>
                    <a:lnTo>
                      <a:pt x="1596" y="597"/>
                    </a:lnTo>
                    <a:lnTo>
                      <a:pt x="1328" y="621"/>
                    </a:lnTo>
                    <a:lnTo>
                      <a:pt x="1061" y="644"/>
                    </a:lnTo>
                    <a:lnTo>
                      <a:pt x="794" y="668"/>
                    </a:lnTo>
                    <a:lnTo>
                      <a:pt x="528" y="691"/>
                    </a:lnTo>
                    <a:lnTo>
                      <a:pt x="260" y="714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0"/>
                    </a:lnTo>
                    <a:lnTo>
                      <a:pt x="195" y="535"/>
                    </a:lnTo>
                    <a:lnTo>
                      <a:pt x="178" y="490"/>
                    </a:lnTo>
                    <a:lnTo>
                      <a:pt x="162" y="446"/>
                    </a:lnTo>
                    <a:lnTo>
                      <a:pt x="146" y="401"/>
                    </a:lnTo>
                    <a:lnTo>
                      <a:pt x="131" y="357"/>
                    </a:lnTo>
                    <a:lnTo>
                      <a:pt x="114" y="312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3" y="88"/>
                    </a:lnTo>
                    <a:lnTo>
                      <a:pt x="17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1"/>
                    </a:lnTo>
                    <a:lnTo>
                      <a:pt x="850" y="63"/>
                    </a:lnTo>
                    <a:lnTo>
                      <a:pt x="1133" y="84"/>
                    </a:lnTo>
                    <a:lnTo>
                      <a:pt x="1416" y="106"/>
                    </a:lnTo>
                    <a:lnTo>
                      <a:pt x="1700" y="127"/>
                    </a:lnTo>
                    <a:lnTo>
                      <a:pt x="1984" y="148"/>
                    </a:lnTo>
                    <a:lnTo>
                      <a:pt x="2267" y="170"/>
                    </a:lnTo>
                    <a:lnTo>
                      <a:pt x="2550" y="191"/>
                    </a:lnTo>
                    <a:lnTo>
                      <a:pt x="2833" y="213"/>
                    </a:lnTo>
                    <a:lnTo>
                      <a:pt x="3117" y="234"/>
                    </a:lnTo>
                    <a:lnTo>
                      <a:pt x="3400" y="255"/>
                    </a:lnTo>
                    <a:lnTo>
                      <a:pt x="3683" y="277"/>
                    </a:lnTo>
                    <a:lnTo>
                      <a:pt x="3967" y="298"/>
                    </a:lnTo>
                    <a:lnTo>
                      <a:pt x="4250" y="319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078520" y="343476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4266" y="365"/>
                    </a:lnTo>
                    <a:lnTo>
                      <a:pt x="3998" y="389"/>
                    </a:lnTo>
                    <a:lnTo>
                      <a:pt x="3731" y="412"/>
                    </a:lnTo>
                    <a:lnTo>
                      <a:pt x="3464" y="436"/>
                    </a:lnTo>
                    <a:lnTo>
                      <a:pt x="3198" y="459"/>
                    </a:lnTo>
                    <a:lnTo>
                      <a:pt x="2930" y="483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5" y="599"/>
                    </a:lnTo>
                    <a:lnTo>
                      <a:pt x="1327" y="622"/>
                    </a:lnTo>
                    <a:lnTo>
                      <a:pt x="1061" y="645"/>
                    </a:lnTo>
                    <a:lnTo>
                      <a:pt x="794" y="669"/>
                    </a:lnTo>
                    <a:lnTo>
                      <a:pt x="527" y="692"/>
                    </a:lnTo>
                    <a:lnTo>
                      <a:pt x="259" y="715"/>
                    </a:lnTo>
                    <a:lnTo>
                      <a:pt x="243" y="671"/>
                    </a:lnTo>
                    <a:lnTo>
                      <a:pt x="227" y="626"/>
                    </a:lnTo>
                    <a:lnTo>
                      <a:pt x="211" y="581"/>
                    </a:lnTo>
                    <a:lnTo>
                      <a:pt x="194" y="536"/>
                    </a:lnTo>
                    <a:lnTo>
                      <a:pt x="178" y="492"/>
                    </a:lnTo>
                    <a:lnTo>
                      <a:pt x="162" y="447"/>
                    </a:lnTo>
                    <a:lnTo>
                      <a:pt x="145" y="402"/>
                    </a:lnTo>
                    <a:lnTo>
                      <a:pt x="129" y="357"/>
                    </a:lnTo>
                    <a:lnTo>
                      <a:pt x="113" y="314"/>
                    </a:lnTo>
                    <a:lnTo>
                      <a:pt x="98" y="269"/>
                    </a:lnTo>
                    <a:lnTo>
                      <a:pt x="81" y="224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2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7"/>
                    </a:lnTo>
                    <a:lnTo>
                      <a:pt x="1699" y="128"/>
                    </a:lnTo>
                    <a:lnTo>
                      <a:pt x="1983" y="150"/>
                    </a:lnTo>
                    <a:lnTo>
                      <a:pt x="2266" y="171"/>
                    </a:lnTo>
                    <a:lnTo>
                      <a:pt x="2549" y="192"/>
                    </a:lnTo>
                    <a:lnTo>
                      <a:pt x="2832" y="214"/>
                    </a:lnTo>
                    <a:lnTo>
                      <a:pt x="3116" y="235"/>
                    </a:lnTo>
                    <a:lnTo>
                      <a:pt x="3399" y="256"/>
                    </a:lnTo>
                    <a:lnTo>
                      <a:pt x="3682" y="278"/>
                    </a:lnTo>
                    <a:lnTo>
                      <a:pt x="3965" y="299"/>
                    </a:lnTo>
                    <a:lnTo>
                      <a:pt x="4249" y="321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099400" y="349560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2"/>
                    </a:moveTo>
                    <a:lnTo>
                      <a:pt x="260" y="715"/>
                    </a:lnTo>
                    <a:lnTo>
                      <a:pt x="0" y="0"/>
                    </a:lnTo>
                    <a:lnTo>
                      <a:pt x="4533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5" name=""/>
          <p:cNvSpPr/>
          <p:nvPr/>
        </p:nvSpPr>
        <p:spPr>
          <a:xfrm>
            <a:off x="1194120" y="1720080"/>
            <a:ext cx="6996960" cy="3805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" y="8994"/>
                </a:moveTo>
                <a:arcTo wR="10800" hR="10800" stAng="-10222562" swAng="2218990"/>
                <a:lnTo>
                  <a:pt x="10800" y="10800"/>
                </a:lnTo>
                <a:close/>
              </a:path>
              <a:path fill="none" w="21600" h="21600">
                <a:moveTo>
                  <a:pt x="152" y="8994"/>
                </a:moveTo>
                <a:arcTo wR="10800" hR="10800" stAng="-10222562" swAng="2218990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304280" y="1793880"/>
            <a:ext cx="6951240" cy="370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4" y="7128"/>
                </a:moveTo>
                <a:arcTo wR="10800" hR="10800" stAng="-9607279" swAng="1997849"/>
                <a:lnTo>
                  <a:pt x="10800" y="10800"/>
                </a:lnTo>
                <a:close/>
              </a:path>
              <a:path fill="none" w="21600" h="21600">
                <a:moveTo>
                  <a:pt x="644" y="7128"/>
                </a:moveTo>
                <a:arcTo wR="10800" hR="10800" stAng="-9607279" swAng="1997849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187640" y="3354120"/>
            <a:ext cx="6476040" cy="116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55" y="534"/>
                </a:moveTo>
                <a:arcTo wR="10800" hR="10800" stAng="-4314229" swAng="2495760"/>
                <a:lnTo>
                  <a:pt x="10800" y="10800"/>
                </a:lnTo>
                <a:close/>
              </a:path>
              <a:path fill="none" w="21600" h="21600">
                <a:moveTo>
                  <a:pt x="14155" y="534"/>
                </a:moveTo>
                <a:arcTo wR="10800" hR="10800" stAng="-4314229" swAng="2495760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rot="21427800">
            <a:off x="716760" y="3403080"/>
            <a:ext cx="6469920" cy="100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15" y="2017"/>
                </a:moveTo>
                <a:arcTo wR="10800" hR="10800" stAng="-7535328" swAng="1793837"/>
                <a:lnTo>
                  <a:pt x="10800" y="10800"/>
                </a:lnTo>
                <a:close/>
              </a:path>
              <a:path fill="none" w="21600" h="21600">
                <a:moveTo>
                  <a:pt x="4515" y="2017"/>
                </a:moveTo>
                <a:arcTo wR="10800" hR="10800" stAng="-7535328" swAng="179383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1373400" y="3305160"/>
            <a:ext cx="6597360" cy="965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65" y="715"/>
                </a:moveTo>
                <a:arcTo wR="10800" hR="10800" stAng="-4141735" swAng="2545105"/>
                <a:lnTo>
                  <a:pt x="10800" y="10800"/>
                </a:lnTo>
                <a:close/>
              </a:path>
              <a:path fill="none" w="21600" h="21600">
                <a:moveTo>
                  <a:pt x="14665" y="715"/>
                </a:moveTo>
                <a:arcTo wR="10800" hR="10800" stAng="-4141735" swAng="2545105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113000" y="1106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abcf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4195800" y="1512720"/>
            <a:ext cx="581040" cy="858960"/>
            <a:chOff x="4195800" y="1512720"/>
            <a:chExt cx="581040" cy="858960"/>
          </a:xfrm>
        </p:grpSpPr>
        <p:sp>
          <p:nvSpPr>
            <p:cNvPr id="1122" name=""/>
            <p:cNvSpPr/>
            <p:nvPr/>
          </p:nvSpPr>
          <p:spPr>
            <a:xfrm>
              <a:off x="4195800" y="1512720"/>
              <a:ext cx="581040" cy="858960"/>
            </a:xfrm>
            <a:custGeom>
              <a:avLst/>
              <a:gdLst/>
              <a:ahLst/>
              <a:rect l="l" t="t" r="r" b="b"/>
              <a:pathLst>
                <a:path w="11550" h="16335">
                  <a:moveTo>
                    <a:pt x="2457" y="36"/>
                  </a:moveTo>
                  <a:lnTo>
                    <a:pt x="11550" y="2030"/>
                  </a:lnTo>
                  <a:lnTo>
                    <a:pt x="11550" y="15073"/>
                  </a:lnTo>
                  <a:lnTo>
                    <a:pt x="9463" y="14616"/>
                  </a:lnTo>
                  <a:lnTo>
                    <a:pt x="9463" y="16335"/>
                  </a:lnTo>
                  <a:lnTo>
                    <a:pt x="295" y="14325"/>
                  </a:lnTo>
                  <a:lnTo>
                    <a:pt x="295" y="14322"/>
                  </a:lnTo>
                  <a:lnTo>
                    <a:pt x="267" y="14312"/>
                  </a:lnTo>
                  <a:lnTo>
                    <a:pt x="236" y="14300"/>
                  </a:lnTo>
                  <a:lnTo>
                    <a:pt x="202" y="14286"/>
                  </a:lnTo>
                  <a:lnTo>
                    <a:pt x="164" y="14270"/>
                  </a:lnTo>
                  <a:lnTo>
                    <a:pt x="149" y="14261"/>
                  </a:lnTo>
                  <a:lnTo>
                    <a:pt x="135" y="14253"/>
                  </a:lnTo>
                  <a:lnTo>
                    <a:pt x="121" y="14244"/>
                  </a:lnTo>
                  <a:lnTo>
                    <a:pt x="108" y="14235"/>
                  </a:lnTo>
                  <a:lnTo>
                    <a:pt x="97" y="14225"/>
                  </a:lnTo>
                  <a:lnTo>
                    <a:pt x="86" y="14215"/>
                  </a:lnTo>
                  <a:lnTo>
                    <a:pt x="77" y="14204"/>
                  </a:lnTo>
                  <a:lnTo>
                    <a:pt x="67" y="14194"/>
                  </a:lnTo>
                  <a:lnTo>
                    <a:pt x="58" y="14184"/>
                  </a:lnTo>
                  <a:lnTo>
                    <a:pt x="51" y="14173"/>
                  </a:lnTo>
                  <a:lnTo>
                    <a:pt x="44" y="14161"/>
                  </a:lnTo>
                  <a:lnTo>
                    <a:pt x="38" y="14151"/>
                  </a:lnTo>
                  <a:lnTo>
                    <a:pt x="27" y="14129"/>
                  </a:lnTo>
                  <a:lnTo>
                    <a:pt x="18" y="14108"/>
                  </a:lnTo>
                  <a:lnTo>
                    <a:pt x="12" y="14088"/>
                  </a:lnTo>
                  <a:lnTo>
                    <a:pt x="7" y="14069"/>
                  </a:lnTo>
                  <a:lnTo>
                    <a:pt x="4" y="14051"/>
                  </a:lnTo>
                  <a:lnTo>
                    <a:pt x="2" y="14037"/>
                  </a:lnTo>
                  <a:lnTo>
                    <a:pt x="0" y="14015"/>
                  </a:lnTo>
                  <a:lnTo>
                    <a:pt x="0" y="14007"/>
                  </a:lnTo>
                  <a:lnTo>
                    <a:pt x="2" y="14005"/>
                  </a:lnTo>
                  <a:lnTo>
                    <a:pt x="2" y="1402"/>
                  </a:lnTo>
                  <a:lnTo>
                    <a:pt x="2" y="1393"/>
                  </a:lnTo>
                  <a:lnTo>
                    <a:pt x="2" y="1384"/>
                  </a:lnTo>
                  <a:lnTo>
                    <a:pt x="2" y="1381"/>
                  </a:lnTo>
                  <a:lnTo>
                    <a:pt x="2" y="1381"/>
                  </a:lnTo>
                  <a:lnTo>
                    <a:pt x="5" y="1356"/>
                  </a:lnTo>
                  <a:lnTo>
                    <a:pt x="9" y="1329"/>
                  </a:lnTo>
                  <a:lnTo>
                    <a:pt x="16" y="1302"/>
                  </a:lnTo>
                  <a:lnTo>
                    <a:pt x="27" y="1273"/>
                  </a:lnTo>
                  <a:lnTo>
                    <a:pt x="38" y="1245"/>
                  </a:lnTo>
                  <a:lnTo>
                    <a:pt x="52" y="1215"/>
                  </a:lnTo>
                  <a:lnTo>
                    <a:pt x="68" y="1184"/>
                  </a:lnTo>
                  <a:lnTo>
                    <a:pt x="87" y="1154"/>
                  </a:lnTo>
                  <a:lnTo>
                    <a:pt x="108" y="1122"/>
                  </a:lnTo>
                  <a:lnTo>
                    <a:pt x="131" y="1090"/>
                  </a:lnTo>
                  <a:lnTo>
                    <a:pt x="155" y="1058"/>
                  </a:lnTo>
                  <a:lnTo>
                    <a:pt x="182" y="1025"/>
                  </a:lnTo>
                  <a:lnTo>
                    <a:pt x="210" y="992"/>
                  </a:lnTo>
                  <a:lnTo>
                    <a:pt x="241" y="959"/>
                  </a:lnTo>
                  <a:lnTo>
                    <a:pt x="273" y="925"/>
                  </a:lnTo>
                  <a:lnTo>
                    <a:pt x="307" y="891"/>
                  </a:lnTo>
                  <a:lnTo>
                    <a:pt x="343" y="858"/>
                  </a:lnTo>
                  <a:lnTo>
                    <a:pt x="381" y="823"/>
                  </a:lnTo>
                  <a:lnTo>
                    <a:pt x="420" y="789"/>
                  </a:lnTo>
                  <a:lnTo>
                    <a:pt x="460" y="754"/>
                  </a:lnTo>
                  <a:lnTo>
                    <a:pt x="503" y="721"/>
                  </a:lnTo>
                  <a:lnTo>
                    <a:pt x="547" y="686"/>
                  </a:lnTo>
                  <a:lnTo>
                    <a:pt x="593" y="652"/>
                  </a:lnTo>
                  <a:lnTo>
                    <a:pt x="640" y="619"/>
                  </a:lnTo>
                  <a:lnTo>
                    <a:pt x="688" y="585"/>
                  </a:lnTo>
                  <a:lnTo>
                    <a:pt x="738" y="551"/>
                  </a:lnTo>
                  <a:lnTo>
                    <a:pt x="789" y="519"/>
                  </a:lnTo>
                  <a:lnTo>
                    <a:pt x="841" y="486"/>
                  </a:lnTo>
                  <a:lnTo>
                    <a:pt x="895" y="453"/>
                  </a:lnTo>
                  <a:lnTo>
                    <a:pt x="951" y="422"/>
                  </a:lnTo>
                  <a:lnTo>
                    <a:pt x="1006" y="391"/>
                  </a:lnTo>
                  <a:lnTo>
                    <a:pt x="1063" y="360"/>
                  </a:lnTo>
                  <a:lnTo>
                    <a:pt x="1117" y="332"/>
                  </a:lnTo>
                  <a:lnTo>
                    <a:pt x="1171" y="305"/>
                  </a:lnTo>
                  <a:lnTo>
                    <a:pt x="1224" y="279"/>
                  </a:lnTo>
                  <a:lnTo>
                    <a:pt x="1278" y="254"/>
                  </a:lnTo>
                  <a:lnTo>
                    <a:pt x="1331" y="231"/>
                  </a:lnTo>
                  <a:lnTo>
                    <a:pt x="1383" y="208"/>
                  </a:lnTo>
                  <a:lnTo>
                    <a:pt x="1435" y="187"/>
                  </a:lnTo>
                  <a:lnTo>
                    <a:pt x="1488" y="166"/>
                  </a:lnTo>
                  <a:lnTo>
                    <a:pt x="1540" y="147"/>
                  </a:lnTo>
                  <a:lnTo>
                    <a:pt x="1590" y="129"/>
                  </a:lnTo>
                  <a:lnTo>
                    <a:pt x="1640" y="112"/>
                  </a:lnTo>
                  <a:lnTo>
                    <a:pt x="1690" y="96"/>
                  </a:lnTo>
                  <a:lnTo>
                    <a:pt x="1739" y="82"/>
                  </a:lnTo>
                  <a:lnTo>
                    <a:pt x="1787" y="68"/>
                  </a:lnTo>
                  <a:lnTo>
                    <a:pt x="1834" y="56"/>
                  </a:lnTo>
                  <a:lnTo>
                    <a:pt x="1880" y="45"/>
                  </a:lnTo>
                  <a:lnTo>
                    <a:pt x="1926" y="35"/>
                  </a:lnTo>
                  <a:lnTo>
                    <a:pt x="1969" y="27"/>
                  </a:lnTo>
                  <a:lnTo>
                    <a:pt x="2013" y="19"/>
                  </a:lnTo>
                  <a:lnTo>
                    <a:pt x="2055" y="13"/>
                  </a:lnTo>
                  <a:lnTo>
                    <a:pt x="2096" y="8"/>
                  </a:lnTo>
                  <a:lnTo>
                    <a:pt x="2136" y="4"/>
                  </a:lnTo>
                  <a:lnTo>
                    <a:pt x="2175" y="1"/>
                  </a:lnTo>
                  <a:lnTo>
                    <a:pt x="2212" y="0"/>
                  </a:lnTo>
                  <a:lnTo>
                    <a:pt x="2248" y="0"/>
                  </a:lnTo>
                  <a:lnTo>
                    <a:pt x="2283" y="1"/>
                  </a:lnTo>
                  <a:lnTo>
                    <a:pt x="2316" y="4"/>
                  </a:lnTo>
                  <a:lnTo>
                    <a:pt x="2347" y="7"/>
                  </a:lnTo>
                  <a:lnTo>
                    <a:pt x="2378" y="12"/>
                  </a:lnTo>
                  <a:lnTo>
                    <a:pt x="2405" y="18"/>
                  </a:lnTo>
                  <a:lnTo>
                    <a:pt x="2433" y="27"/>
                  </a:lnTo>
                  <a:lnTo>
                    <a:pt x="2457" y="36"/>
                  </a:lnTo>
                  <a:close/>
                  <a:moveTo>
                    <a:pt x="2383" y="1711"/>
                  </a:moveTo>
                  <a:lnTo>
                    <a:pt x="2383" y="215"/>
                  </a:lnTo>
                  <a:lnTo>
                    <a:pt x="2372" y="214"/>
                  </a:lnTo>
                  <a:lnTo>
                    <a:pt x="2360" y="213"/>
                  </a:lnTo>
                  <a:lnTo>
                    <a:pt x="2338" y="212"/>
                  </a:lnTo>
                  <a:lnTo>
                    <a:pt x="2316" y="212"/>
                  </a:lnTo>
                  <a:lnTo>
                    <a:pt x="2291" y="213"/>
                  </a:lnTo>
                  <a:lnTo>
                    <a:pt x="2265" y="215"/>
                  </a:lnTo>
                  <a:lnTo>
                    <a:pt x="2238" y="218"/>
                  </a:lnTo>
                  <a:lnTo>
                    <a:pt x="2210" y="222"/>
                  </a:lnTo>
                  <a:lnTo>
                    <a:pt x="2181" y="227"/>
                  </a:lnTo>
                  <a:lnTo>
                    <a:pt x="2150" y="232"/>
                  </a:lnTo>
                  <a:lnTo>
                    <a:pt x="2118" y="238"/>
                  </a:lnTo>
                  <a:lnTo>
                    <a:pt x="2086" y="245"/>
                  </a:lnTo>
                  <a:lnTo>
                    <a:pt x="2051" y="253"/>
                  </a:lnTo>
                  <a:lnTo>
                    <a:pt x="2016" y="262"/>
                  </a:lnTo>
                  <a:lnTo>
                    <a:pt x="1981" y="272"/>
                  </a:lnTo>
                  <a:lnTo>
                    <a:pt x="1944" y="283"/>
                  </a:lnTo>
                  <a:lnTo>
                    <a:pt x="1906" y="294"/>
                  </a:lnTo>
                  <a:lnTo>
                    <a:pt x="1867" y="306"/>
                  </a:lnTo>
                  <a:lnTo>
                    <a:pt x="1827" y="320"/>
                  </a:lnTo>
                  <a:lnTo>
                    <a:pt x="1788" y="334"/>
                  </a:lnTo>
                  <a:lnTo>
                    <a:pt x="1747" y="349"/>
                  </a:lnTo>
                  <a:lnTo>
                    <a:pt x="1704" y="364"/>
                  </a:lnTo>
                  <a:lnTo>
                    <a:pt x="1662" y="381"/>
                  </a:lnTo>
                  <a:lnTo>
                    <a:pt x="1618" y="399"/>
                  </a:lnTo>
                  <a:lnTo>
                    <a:pt x="1574" y="418"/>
                  </a:lnTo>
                  <a:lnTo>
                    <a:pt x="1529" y="436"/>
                  </a:lnTo>
                  <a:lnTo>
                    <a:pt x="1484" y="456"/>
                  </a:lnTo>
                  <a:lnTo>
                    <a:pt x="1439" y="477"/>
                  </a:lnTo>
                  <a:lnTo>
                    <a:pt x="1393" y="499"/>
                  </a:lnTo>
                  <a:lnTo>
                    <a:pt x="1346" y="522"/>
                  </a:lnTo>
                  <a:lnTo>
                    <a:pt x="1299" y="545"/>
                  </a:lnTo>
                  <a:lnTo>
                    <a:pt x="1251" y="570"/>
                  </a:lnTo>
                  <a:lnTo>
                    <a:pt x="1203" y="594"/>
                  </a:lnTo>
                  <a:lnTo>
                    <a:pt x="1154" y="620"/>
                  </a:lnTo>
                  <a:lnTo>
                    <a:pt x="1104" y="663"/>
                  </a:lnTo>
                  <a:lnTo>
                    <a:pt x="1054" y="703"/>
                  </a:lnTo>
                  <a:lnTo>
                    <a:pt x="1005" y="743"/>
                  </a:lnTo>
                  <a:lnTo>
                    <a:pt x="956" y="782"/>
                  </a:lnTo>
                  <a:lnTo>
                    <a:pt x="908" y="820"/>
                  </a:lnTo>
                  <a:lnTo>
                    <a:pt x="861" y="858"/>
                  </a:lnTo>
                  <a:lnTo>
                    <a:pt x="814" y="895"/>
                  </a:lnTo>
                  <a:lnTo>
                    <a:pt x="768" y="934"/>
                  </a:lnTo>
                  <a:lnTo>
                    <a:pt x="723" y="973"/>
                  </a:lnTo>
                  <a:lnTo>
                    <a:pt x="678" y="1012"/>
                  </a:lnTo>
                  <a:lnTo>
                    <a:pt x="634" y="1053"/>
                  </a:lnTo>
                  <a:lnTo>
                    <a:pt x="591" y="1094"/>
                  </a:lnTo>
                  <a:lnTo>
                    <a:pt x="548" y="1137"/>
                  </a:lnTo>
                  <a:lnTo>
                    <a:pt x="506" y="1182"/>
                  </a:lnTo>
                  <a:lnTo>
                    <a:pt x="466" y="1230"/>
                  </a:lnTo>
                  <a:lnTo>
                    <a:pt x="425" y="1279"/>
                  </a:lnTo>
                  <a:lnTo>
                    <a:pt x="434" y="1280"/>
                  </a:lnTo>
                  <a:lnTo>
                    <a:pt x="460" y="1285"/>
                  </a:lnTo>
                  <a:lnTo>
                    <a:pt x="505" y="1295"/>
                  </a:lnTo>
                  <a:lnTo>
                    <a:pt x="567" y="1308"/>
                  </a:lnTo>
                  <a:lnTo>
                    <a:pt x="644" y="1325"/>
                  </a:lnTo>
                  <a:lnTo>
                    <a:pt x="737" y="1345"/>
                  </a:lnTo>
                  <a:lnTo>
                    <a:pt x="845" y="1369"/>
                  </a:lnTo>
                  <a:lnTo>
                    <a:pt x="968" y="1396"/>
                  </a:lnTo>
                  <a:lnTo>
                    <a:pt x="1104" y="1426"/>
                  </a:lnTo>
                  <a:lnTo>
                    <a:pt x="1253" y="1459"/>
                  </a:lnTo>
                  <a:lnTo>
                    <a:pt x="1414" y="1495"/>
                  </a:lnTo>
                  <a:lnTo>
                    <a:pt x="1587" y="1533"/>
                  </a:lnTo>
                  <a:lnTo>
                    <a:pt x="1770" y="1574"/>
                  </a:lnTo>
                  <a:lnTo>
                    <a:pt x="1965" y="1618"/>
                  </a:lnTo>
                  <a:lnTo>
                    <a:pt x="2170" y="1663"/>
                  </a:lnTo>
                  <a:lnTo>
                    <a:pt x="2383" y="17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211640" y="1522080"/>
              <a:ext cx="552960" cy="838440"/>
            </a:xfrm>
            <a:custGeom>
              <a:avLst/>
              <a:gdLst/>
              <a:ahLst/>
              <a:rect l="l" t="t" r="r" b="b"/>
              <a:pathLst>
                <a:path w="10995" h="15972">
                  <a:moveTo>
                    <a:pt x="0" y="1150"/>
                  </a:moveTo>
                  <a:lnTo>
                    <a:pt x="4" y="1144"/>
                  </a:lnTo>
                  <a:lnTo>
                    <a:pt x="20" y="1128"/>
                  </a:lnTo>
                  <a:lnTo>
                    <a:pt x="43" y="1102"/>
                  </a:lnTo>
                  <a:lnTo>
                    <a:pt x="77" y="1067"/>
                  </a:lnTo>
                  <a:lnTo>
                    <a:pt x="118" y="1025"/>
                  </a:lnTo>
                  <a:lnTo>
                    <a:pt x="167" y="976"/>
                  </a:lnTo>
                  <a:lnTo>
                    <a:pt x="224" y="921"/>
                  </a:lnTo>
                  <a:lnTo>
                    <a:pt x="287" y="862"/>
                  </a:lnTo>
                  <a:lnTo>
                    <a:pt x="358" y="800"/>
                  </a:lnTo>
                  <a:lnTo>
                    <a:pt x="433" y="735"/>
                  </a:lnTo>
                  <a:lnTo>
                    <a:pt x="474" y="701"/>
                  </a:lnTo>
                  <a:lnTo>
                    <a:pt x="516" y="667"/>
                  </a:lnTo>
                  <a:lnTo>
                    <a:pt x="559" y="633"/>
                  </a:lnTo>
                  <a:lnTo>
                    <a:pt x="603" y="600"/>
                  </a:lnTo>
                  <a:lnTo>
                    <a:pt x="648" y="566"/>
                  </a:lnTo>
                  <a:lnTo>
                    <a:pt x="695" y="532"/>
                  </a:lnTo>
                  <a:lnTo>
                    <a:pt x="742" y="499"/>
                  </a:lnTo>
                  <a:lnTo>
                    <a:pt x="791" y="466"/>
                  </a:lnTo>
                  <a:lnTo>
                    <a:pt x="840" y="434"/>
                  </a:lnTo>
                  <a:lnTo>
                    <a:pt x="891" y="403"/>
                  </a:lnTo>
                  <a:lnTo>
                    <a:pt x="942" y="372"/>
                  </a:lnTo>
                  <a:lnTo>
                    <a:pt x="994" y="342"/>
                  </a:lnTo>
                  <a:lnTo>
                    <a:pt x="1046" y="314"/>
                  </a:lnTo>
                  <a:lnTo>
                    <a:pt x="1098" y="287"/>
                  </a:lnTo>
                  <a:lnTo>
                    <a:pt x="1150" y="262"/>
                  </a:lnTo>
                  <a:lnTo>
                    <a:pt x="1201" y="238"/>
                  </a:lnTo>
                  <a:lnTo>
                    <a:pt x="1252" y="216"/>
                  </a:lnTo>
                  <a:lnTo>
                    <a:pt x="1302" y="195"/>
                  </a:lnTo>
                  <a:lnTo>
                    <a:pt x="1351" y="176"/>
                  </a:lnTo>
                  <a:lnTo>
                    <a:pt x="1399" y="158"/>
                  </a:lnTo>
                  <a:lnTo>
                    <a:pt x="1447" y="141"/>
                  </a:lnTo>
                  <a:lnTo>
                    <a:pt x="1494" y="125"/>
                  </a:lnTo>
                  <a:lnTo>
                    <a:pt x="1539" y="111"/>
                  </a:lnTo>
                  <a:lnTo>
                    <a:pt x="1584" y="97"/>
                  </a:lnTo>
                  <a:lnTo>
                    <a:pt x="1627" y="85"/>
                  </a:lnTo>
                  <a:lnTo>
                    <a:pt x="1668" y="74"/>
                  </a:lnTo>
                  <a:lnTo>
                    <a:pt x="1708" y="64"/>
                  </a:lnTo>
                  <a:lnTo>
                    <a:pt x="1747" y="55"/>
                  </a:lnTo>
                  <a:lnTo>
                    <a:pt x="1820" y="39"/>
                  </a:lnTo>
                  <a:lnTo>
                    <a:pt x="1884" y="27"/>
                  </a:lnTo>
                  <a:lnTo>
                    <a:pt x="1941" y="18"/>
                  </a:lnTo>
                  <a:lnTo>
                    <a:pt x="1989" y="11"/>
                  </a:lnTo>
                  <a:lnTo>
                    <a:pt x="2028" y="6"/>
                  </a:lnTo>
                  <a:lnTo>
                    <a:pt x="2057" y="2"/>
                  </a:lnTo>
                  <a:lnTo>
                    <a:pt x="2075" y="1"/>
                  </a:lnTo>
                  <a:lnTo>
                    <a:pt x="2081" y="0"/>
                  </a:lnTo>
                  <a:lnTo>
                    <a:pt x="10995" y="2050"/>
                  </a:lnTo>
                  <a:lnTo>
                    <a:pt x="10995" y="14835"/>
                  </a:lnTo>
                  <a:lnTo>
                    <a:pt x="10896" y="14879"/>
                  </a:lnTo>
                  <a:lnTo>
                    <a:pt x="10702" y="15011"/>
                  </a:lnTo>
                  <a:lnTo>
                    <a:pt x="10590" y="14991"/>
                  </a:lnTo>
                  <a:lnTo>
                    <a:pt x="10671" y="15073"/>
                  </a:lnTo>
                  <a:lnTo>
                    <a:pt x="10192" y="15409"/>
                  </a:lnTo>
                  <a:lnTo>
                    <a:pt x="10059" y="15399"/>
                  </a:lnTo>
                  <a:lnTo>
                    <a:pt x="10096" y="15456"/>
                  </a:lnTo>
                  <a:lnTo>
                    <a:pt x="9976" y="15548"/>
                  </a:lnTo>
                  <a:lnTo>
                    <a:pt x="9875" y="15542"/>
                  </a:lnTo>
                  <a:lnTo>
                    <a:pt x="9906" y="15593"/>
                  </a:lnTo>
                  <a:lnTo>
                    <a:pt x="9316" y="15972"/>
                  </a:lnTo>
                  <a:lnTo>
                    <a:pt x="9150" y="15938"/>
                  </a:lnTo>
                  <a:lnTo>
                    <a:pt x="9150" y="3126"/>
                  </a:lnTo>
                  <a:lnTo>
                    <a:pt x="0" y="11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4" name=""/>
            <p:cNvGrpSpPr/>
            <p:nvPr/>
          </p:nvGrpSpPr>
          <p:grpSpPr>
            <a:xfrm>
              <a:off x="4282920" y="1738800"/>
              <a:ext cx="294840" cy="391680"/>
              <a:chOff x="4282920" y="1738800"/>
              <a:chExt cx="294840" cy="391680"/>
            </a:xfrm>
          </p:grpSpPr>
          <p:sp>
            <p:nvSpPr>
              <p:cNvPr id="1125" name=""/>
              <p:cNvSpPr/>
              <p:nvPr/>
            </p:nvSpPr>
            <p:spPr>
              <a:xfrm>
                <a:off x="4435560" y="2059200"/>
                <a:ext cx="25200" cy="24840"/>
              </a:xfrm>
              <a:custGeom>
                <a:avLst/>
                <a:gdLst/>
                <a:ahLst/>
                <a:rect l="l" t="t" r="r" b="b"/>
                <a:pathLst>
                  <a:path w="488" h="499">
                    <a:moveTo>
                      <a:pt x="0" y="0"/>
                    </a:moveTo>
                    <a:lnTo>
                      <a:pt x="16" y="13"/>
                    </a:lnTo>
                    <a:lnTo>
                      <a:pt x="30" y="27"/>
                    </a:lnTo>
                    <a:lnTo>
                      <a:pt x="39" y="34"/>
                    </a:lnTo>
                    <a:lnTo>
                      <a:pt x="48" y="42"/>
                    </a:lnTo>
                    <a:lnTo>
                      <a:pt x="56" y="49"/>
                    </a:lnTo>
                    <a:lnTo>
                      <a:pt x="66" y="57"/>
                    </a:lnTo>
                    <a:lnTo>
                      <a:pt x="75" y="65"/>
                    </a:lnTo>
                    <a:lnTo>
                      <a:pt x="84" y="74"/>
                    </a:lnTo>
                    <a:lnTo>
                      <a:pt x="92" y="81"/>
                    </a:lnTo>
                    <a:lnTo>
                      <a:pt x="101" y="89"/>
                    </a:lnTo>
                    <a:lnTo>
                      <a:pt x="113" y="98"/>
                    </a:lnTo>
                    <a:lnTo>
                      <a:pt x="123" y="107"/>
                    </a:lnTo>
                    <a:lnTo>
                      <a:pt x="133" y="117"/>
                    </a:lnTo>
                    <a:lnTo>
                      <a:pt x="144" y="125"/>
                    </a:lnTo>
                    <a:lnTo>
                      <a:pt x="153" y="135"/>
                    </a:lnTo>
                    <a:lnTo>
                      <a:pt x="164" y="144"/>
                    </a:lnTo>
                    <a:lnTo>
                      <a:pt x="174" y="153"/>
                    </a:lnTo>
                    <a:lnTo>
                      <a:pt x="184" y="162"/>
                    </a:lnTo>
                    <a:lnTo>
                      <a:pt x="194" y="173"/>
                    </a:lnTo>
                    <a:lnTo>
                      <a:pt x="205" y="182"/>
                    </a:lnTo>
                    <a:lnTo>
                      <a:pt x="216" y="192"/>
                    </a:lnTo>
                    <a:lnTo>
                      <a:pt x="227" y="201"/>
                    </a:lnTo>
                    <a:lnTo>
                      <a:pt x="237" y="210"/>
                    </a:lnTo>
                    <a:lnTo>
                      <a:pt x="248" y="220"/>
                    </a:lnTo>
                    <a:lnTo>
                      <a:pt x="259" y="230"/>
                    </a:lnTo>
                    <a:lnTo>
                      <a:pt x="269" y="239"/>
                    </a:lnTo>
                    <a:lnTo>
                      <a:pt x="279" y="248"/>
                    </a:lnTo>
                    <a:lnTo>
                      <a:pt x="289" y="258"/>
                    </a:lnTo>
                    <a:lnTo>
                      <a:pt x="299" y="269"/>
                    </a:lnTo>
                    <a:lnTo>
                      <a:pt x="309" y="279"/>
                    </a:lnTo>
                    <a:lnTo>
                      <a:pt x="319" y="288"/>
                    </a:lnTo>
                    <a:lnTo>
                      <a:pt x="329" y="298"/>
                    </a:lnTo>
                    <a:lnTo>
                      <a:pt x="339" y="307"/>
                    </a:lnTo>
                    <a:lnTo>
                      <a:pt x="348" y="318"/>
                    </a:lnTo>
                    <a:lnTo>
                      <a:pt x="358" y="326"/>
                    </a:lnTo>
                    <a:lnTo>
                      <a:pt x="367" y="335"/>
                    </a:lnTo>
                    <a:lnTo>
                      <a:pt x="375" y="343"/>
                    </a:lnTo>
                    <a:lnTo>
                      <a:pt x="384" y="352"/>
                    </a:lnTo>
                    <a:lnTo>
                      <a:pt x="392" y="361"/>
                    </a:lnTo>
                    <a:lnTo>
                      <a:pt x="400" y="370"/>
                    </a:lnTo>
                    <a:lnTo>
                      <a:pt x="409" y="379"/>
                    </a:lnTo>
                    <a:lnTo>
                      <a:pt x="416" y="388"/>
                    </a:lnTo>
                    <a:lnTo>
                      <a:pt x="429" y="402"/>
                    </a:lnTo>
                    <a:lnTo>
                      <a:pt x="442" y="418"/>
                    </a:lnTo>
                    <a:lnTo>
                      <a:pt x="453" y="431"/>
                    </a:lnTo>
                    <a:lnTo>
                      <a:pt x="464" y="445"/>
                    </a:lnTo>
                    <a:lnTo>
                      <a:pt x="472" y="455"/>
                    </a:lnTo>
                    <a:lnTo>
                      <a:pt x="480" y="467"/>
                    </a:lnTo>
                    <a:lnTo>
                      <a:pt x="484" y="476"/>
                    </a:lnTo>
                    <a:lnTo>
                      <a:pt x="488" y="485"/>
                    </a:lnTo>
                    <a:lnTo>
                      <a:pt x="488" y="491"/>
                    </a:lnTo>
                    <a:lnTo>
                      <a:pt x="488" y="497"/>
                    </a:lnTo>
                    <a:lnTo>
                      <a:pt x="485" y="498"/>
                    </a:lnTo>
                    <a:lnTo>
                      <a:pt x="482" y="499"/>
                    </a:lnTo>
                    <a:lnTo>
                      <a:pt x="476" y="499"/>
                    </a:lnTo>
                    <a:lnTo>
                      <a:pt x="470" y="498"/>
                    </a:lnTo>
                    <a:lnTo>
                      <a:pt x="462" y="496"/>
                    </a:lnTo>
                    <a:lnTo>
                      <a:pt x="455" y="493"/>
                    </a:lnTo>
                    <a:lnTo>
                      <a:pt x="444" y="489"/>
                    </a:lnTo>
                    <a:lnTo>
                      <a:pt x="434" y="484"/>
                    </a:lnTo>
                    <a:lnTo>
                      <a:pt x="422" y="479"/>
                    </a:lnTo>
                    <a:lnTo>
                      <a:pt x="411" y="473"/>
                    </a:lnTo>
                    <a:lnTo>
                      <a:pt x="396" y="465"/>
                    </a:lnTo>
                    <a:lnTo>
                      <a:pt x="382" y="456"/>
                    </a:lnTo>
                    <a:lnTo>
                      <a:pt x="374" y="452"/>
                    </a:lnTo>
                    <a:lnTo>
                      <a:pt x="367" y="448"/>
                    </a:lnTo>
                    <a:lnTo>
                      <a:pt x="359" y="443"/>
                    </a:lnTo>
                    <a:lnTo>
                      <a:pt x="350" y="439"/>
                    </a:lnTo>
                    <a:lnTo>
                      <a:pt x="342" y="434"/>
                    </a:lnTo>
                    <a:lnTo>
                      <a:pt x="333" y="429"/>
                    </a:lnTo>
                    <a:lnTo>
                      <a:pt x="325" y="424"/>
                    </a:lnTo>
                    <a:lnTo>
                      <a:pt x="317" y="419"/>
                    </a:lnTo>
                    <a:lnTo>
                      <a:pt x="308" y="414"/>
                    </a:lnTo>
                    <a:lnTo>
                      <a:pt x="298" y="407"/>
                    </a:lnTo>
                    <a:lnTo>
                      <a:pt x="290" y="402"/>
                    </a:lnTo>
                    <a:lnTo>
                      <a:pt x="281" y="396"/>
                    </a:lnTo>
                    <a:lnTo>
                      <a:pt x="272" y="390"/>
                    </a:lnTo>
                    <a:lnTo>
                      <a:pt x="262" y="384"/>
                    </a:lnTo>
                    <a:lnTo>
                      <a:pt x="252" y="378"/>
                    </a:lnTo>
                    <a:lnTo>
                      <a:pt x="243" y="371"/>
                    </a:lnTo>
                    <a:lnTo>
                      <a:pt x="233" y="365"/>
                    </a:lnTo>
                    <a:lnTo>
                      <a:pt x="223" y="358"/>
                    </a:lnTo>
                    <a:lnTo>
                      <a:pt x="214" y="352"/>
                    </a:lnTo>
                    <a:lnTo>
                      <a:pt x="203" y="346"/>
                    </a:lnTo>
                    <a:lnTo>
                      <a:pt x="193" y="340"/>
                    </a:lnTo>
                    <a:lnTo>
                      <a:pt x="183" y="334"/>
                    </a:lnTo>
                    <a:lnTo>
                      <a:pt x="174" y="327"/>
                    </a:lnTo>
                    <a:lnTo>
                      <a:pt x="164" y="321"/>
                    </a:lnTo>
                    <a:lnTo>
                      <a:pt x="153" y="314"/>
                    </a:lnTo>
                    <a:lnTo>
                      <a:pt x="143" y="306"/>
                    </a:lnTo>
                    <a:lnTo>
                      <a:pt x="134" y="300"/>
                    </a:lnTo>
                    <a:lnTo>
                      <a:pt x="124" y="293"/>
                    </a:lnTo>
                    <a:lnTo>
                      <a:pt x="114" y="286"/>
                    </a:lnTo>
                    <a:lnTo>
                      <a:pt x="103" y="280"/>
                    </a:lnTo>
                    <a:lnTo>
                      <a:pt x="92" y="273"/>
                    </a:lnTo>
                    <a:lnTo>
                      <a:pt x="82" y="266"/>
                    </a:lnTo>
                    <a:lnTo>
                      <a:pt x="72" y="259"/>
                    </a:lnTo>
                    <a:lnTo>
                      <a:pt x="60" y="252"/>
                    </a:lnTo>
                    <a:lnTo>
                      <a:pt x="50" y="246"/>
                    </a:lnTo>
                    <a:lnTo>
                      <a:pt x="40" y="239"/>
                    </a:lnTo>
                    <a:lnTo>
                      <a:pt x="30" y="233"/>
                    </a:lnTo>
                    <a:lnTo>
                      <a:pt x="20" y="226"/>
                    </a:lnTo>
                    <a:lnTo>
                      <a:pt x="10" y="219"/>
                    </a:lnTo>
                    <a:lnTo>
                      <a:pt x="0" y="212"/>
                    </a:lnTo>
                    <a:lnTo>
                      <a:pt x="0" y="186"/>
                    </a:lnTo>
                    <a:lnTo>
                      <a:pt x="0" y="159"/>
                    </a:lnTo>
                    <a:lnTo>
                      <a:pt x="0" y="134"/>
                    </a:lnTo>
                    <a:lnTo>
                      <a:pt x="0" y="107"/>
                    </a:lnTo>
                    <a:lnTo>
                      <a:pt x="0" y="81"/>
                    </a:lnTo>
                    <a:lnTo>
                      <a:pt x="0" y="54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282920" y="1748160"/>
                <a:ext cx="294840" cy="101880"/>
              </a:xfrm>
              <a:custGeom>
                <a:avLst/>
                <a:gdLst/>
                <a:ahLst/>
                <a:rect l="l" t="t" r="r" b="b"/>
                <a:pathLst>
                  <a:path w="5855" h="1948">
                    <a:moveTo>
                      <a:pt x="2796" y="1633"/>
                    </a:moveTo>
                    <a:lnTo>
                      <a:pt x="2796" y="1633"/>
                    </a:lnTo>
                    <a:lnTo>
                      <a:pt x="2795" y="1633"/>
                    </a:lnTo>
                    <a:lnTo>
                      <a:pt x="2792" y="1634"/>
                    </a:lnTo>
                    <a:lnTo>
                      <a:pt x="2789" y="1635"/>
                    </a:lnTo>
                    <a:lnTo>
                      <a:pt x="2783" y="1635"/>
                    </a:lnTo>
                    <a:lnTo>
                      <a:pt x="2777" y="1635"/>
                    </a:lnTo>
                    <a:lnTo>
                      <a:pt x="2769" y="1636"/>
                    </a:lnTo>
                    <a:lnTo>
                      <a:pt x="2763" y="1637"/>
                    </a:lnTo>
                    <a:lnTo>
                      <a:pt x="2753" y="1638"/>
                    </a:lnTo>
                    <a:lnTo>
                      <a:pt x="2743" y="1639"/>
                    </a:lnTo>
                    <a:lnTo>
                      <a:pt x="2731" y="1639"/>
                    </a:lnTo>
                    <a:lnTo>
                      <a:pt x="2719" y="1639"/>
                    </a:lnTo>
                    <a:lnTo>
                      <a:pt x="2704" y="1639"/>
                    </a:lnTo>
                    <a:lnTo>
                      <a:pt x="2689" y="1638"/>
                    </a:lnTo>
                    <a:lnTo>
                      <a:pt x="2681" y="1638"/>
                    </a:lnTo>
                    <a:lnTo>
                      <a:pt x="2672" y="1637"/>
                    </a:lnTo>
                    <a:lnTo>
                      <a:pt x="2665" y="1637"/>
                    </a:lnTo>
                    <a:lnTo>
                      <a:pt x="2657" y="1636"/>
                    </a:lnTo>
                    <a:lnTo>
                      <a:pt x="2647" y="1636"/>
                    </a:lnTo>
                    <a:lnTo>
                      <a:pt x="2637" y="1636"/>
                    </a:lnTo>
                    <a:lnTo>
                      <a:pt x="2626" y="1635"/>
                    </a:lnTo>
                    <a:lnTo>
                      <a:pt x="2617" y="1635"/>
                    </a:lnTo>
                    <a:lnTo>
                      <a:pt x="2606" y="1634"/>
                    </a:lnTo>
                    <a:lnTo>
                      <a:pt x="2595" y="1633"/>
                    </a:lnTo>
                    <a:lnTo>
                      <a:pt x="2585" y="1632"/>
                    </a:lnTo>
                    <a:lnTo>
                      <a:pt x="2573" y="1631"/>
                    </a:lnTo>
                    <a:lnTo>
                      <a:pt x="2562" y="1630"/>
                    </a:lnTo>
                    <a:lnTo>
                      <a:pt x="2550" y="1627"/>
                    </a:lnTo>
                    <a:lnTo>
                      <a:pt x="2538" y="1626"/>
                    </a:lnTo>
                    <a:lnTo>
                      <a:pt x="2525" y="1625"/>
                    </a:lnTo>
                    <a:lnTo>
                      <a:pt x="2512" y="1623"/>
                    </a:lnTo>
                    <a:lnTo>
                      <a:pt x="2498" y="1621"/>
                    </a:lnTo>
                    <a:lnTo>
                      <a:pt x="2484" y="1619"/>
                    </a:lnTo>
                    <a:lnTo>
                      <a:pt x="2470" y="1617"/>
                    </a:lnTo>
                    <a:lnTo>
                      <a:pt x="2455" y="1616"/>
                    </a:lnTo>
                    <a:lnTo>
                      <a:pt x="2441" y="1614"/>
                    </a:lnTo>
                    <a:lnTo>
                      <a:pt x="2425" y="1612"/>
                    </a:lnTo>
                    <a:lnTo>
                      <a:pt x="2410" y="1610"/>
                    </a:lnTo>
                    <a:lnTo>
                      <a:pt x="2395" y="1607"/>
                    </a:lnTo>
                    <a:lnTo>
                      <a:pt x="2378" y="1604"/>
                    </a:lnTo>
                    <a:lnTo>
                      <a:pt x="2362" y="1600"/>
                    </a:lnTo>
                    <a:lnTo>
                      <a:pt x="2347" y="1597"/>
                    </a:lnTo>
                    <a:lnTo>
                      <a:pt x="2328" y="1594"/>
                    </a:lnTo>
                    <a:lnTo>
                      <a:pt x="2311" y="1591"/>
                    </a:lnTo>
                    <a:lnTo>
                      <a:pt x="2293" y="1588"/>
                    </a:lnTo>
                    <a:lnTo>
                      <a:pt x="2275" y="1585"/>
                    </a:lnTo>
                    <a:lnTo>
                      <a:pt x="2256" y="1580"/>
                    </a:lnTo>
                    <a:lnTo>
                      <a:pt x="2238" y="1575"/>
                    </a:lnTo>
                    <a:lnTo>
                      <a:pt x="2218" y="1571"/>
                    </a:lnTo>
                    <a:lnTo>
                      <a:pt x="2200" y="1566"/>
                    </a:lnTo>
                    <a:lnTo>
                      <a:pt x="2180" y="1561"/>
                    </a:lnTo>
                    <a:lnTo>
                      <a:pt x="2161" y="1555"/>
                    </a:lnTo>
                    <a:lnTo>
                      <a:pt x="2143" y="1550"/>
                    </a:lnTo>
                    <a:lnTo>
                      <a:pt x="2123" y="1544"/>
                    </a:lnTo>
                    <a:lnTo>
                      <a:pt x="2106" y="1538"/>
                    </a:lnTo>
                    <a:lnTo>
                      <a:pt x="2088" y="1532"/>
                    </a:lnTo>
                    <a:lnTo>
                      <a:pt x="2072" y="1525"/>
                    </a:lnTo>
                    <a:lnTo>
                      <a:pt x="2055" y="1519"/>
                    </a:lnTo>
                    <a:lnTo>
                      <a:pt x="2038" y="1512"/>
                    </a:lnTo>
                    <a:lnTo>
                      <a:pt x="2023" y="1504"/>
                    </a:lnTo>
                    <a:lnTo>
                      <a:pt x="2008" y="1497"/>
                    </a:lnTo>
                    <a:lnTo>
                      <a:pt x="1991" y="1489"/>
                    </a:lnTo>
                    <a:lnTo>
                      <a:pt x="1978" y="1482"/>
                    </a:lnTo>
                    <a:lnTo>
                      <a:pt x="1965" y="1473"/>
                    </a:lnTo>
                    <a:lnTo>
                      <a:pt x="1952" y="1466"/>
                    </a:lnTo>
                    <a:lnTo>
                      <a:pt x="1938" y="1458"/>
                    </a:lnTo>
                    <a:lnTo>
                      <a:pt x="1925" y="1449"/>
                    </a:lnTo>
                    <a:lnTo>
                      <a:pt x="1913" y="1440"/>
                    </a:lnTo>
                    <a:lnTo>
                      <a:pt x="1901" y="1430"/>
                    </a:lnTo>
                    <a:lnTo>
                      <a:pt x="1888" y="1422"/>
                    </a:lnTo>
                    <a:lnTo>
                      <a:pt x="1877" y="1414"/>
                    </a:lnTo>
                    <a:lnTo>
                      <a:pt x="1866" y="1405"/>
                    </a:lnTo>
                    <a:lnTo>
                      <a:pt x="1856" y="1397"/>
                    </a:lnTo>
                    <a:lnTo>
                      <a:pt x="1844" y="1388"/>
                    </a:lnTo>
                    <a:lnTo>
                      <a:pt x="1835" y="1378"/>
                    </a:lnTo>
                    <a:lnTo>
                      <a:pt x="1826" y="1369"/>
                    </a:lnTo>
                    <a:lnTo>
                      <a:pt x="1816" y="1360"/>
                    </a:lnTo>
                    <a:lnTo>
                      <a:pt x="1807" y="1351"/>
                    </a:lnTo>
                    <a:lnTo>
                      <a:pt x="1799" y="1342"/>
                    </a:lnTo>
                    <a:lnTo>
                      <a:pt x="1791" y="1332"/>
                    </a:lnTo>
                    <a:lnTo>
                      <a:pt x="1783" y="1324"/>
                    </a:lnTo>
                    <a:lnTo>
                      <a:pt x="1775" y="1315"/>
                    </a:lnTo>
                    <a:lnTo>
                      <a:pt x="1768" y="1306"/>
                    </a:lnTo>
                    <a:lnTo>
                      <a:pt x="1761" y="1298"/>
                    </a:lnTo>
                    <a:lnTo>
                      <a:pt x="1754" y="1290"/>
                    </a:lnTo>
                    <a:lnTo>
                      <a:pt x="1747" y="1280"/>
                    </a:lnTo>
                    <a:lnTo>
                      <a:pt x="1741" y="1272"/>
                    </a:lnTo>
                    <a:lnTo>
                      <a:pt x="1736" y="1264"/>
                    </a:lnTo>
                    <a:lnTo>
                      <a:pt x="1731" y="1256"/>
                    </a:lnTo>
                    <a:lnTo>
                      <a:pt x="1725" y="1247"/>
                    </a:lnTo>
                    <a:lnTo>
                      <a:pt x="1716" y="1233"/>
                    </a:lnTo>
                    <a:lnTo>
                      <a:pt x="1708" y="1219"/>
                    </a:lnTo>
                    <a:lnTo>
                      <a:pt x="1700" y="1205"/>
                    </a:lnTo>
                    <a:lnTo>
                      <a:pt x="1693" y="1191"/>
                    </a:lnTo>
                    <a:lnTo>
                      <a:pt x="1687" y="1180"/>
                    </a:lnTo>
                    <a:lnTo>
                      <a:pt x="1681" y="1170"/>
                    </a:lnTo>
                    <a:lnTo>
                      <a:pt x="1678" y="1161"/>
                    </a:lnTo>
                    <a:lnTo>
                      <a:pt x="1676" y="1153"/>
                    </a:lnTo>
                    <a:lnTo>
                      <a:pt x="1673" y="1149"/>
                    </a:lnTo>
                    <a:lnTo>
                      <a:pt x="1672" y="1144"/>
                    </a:lnTo>
                    <a:lnTo>
                      <a:pt x="1671" y="1142"/>
                    </a:lnTo>
                    <a:lnTo>
                      <a:pt x="1670" y="1138"/>
                    </a:lnTo>
                    <a:lnTo>
                      <a:pt x="1669" y="1139"/>
                    </a:lnTo>
                    <a:lnTo>
                      <a:pt x="1668" y="1141"/>
                    </a:lnTo>
                    <a:lnTo>
                      <a:pt x="1665" y="1143"/>
                    </a:lnTo>
                    <a:lnTo>
                      <a:pt x="1664" y="1144"/>
                    </a:lnTo>
                    <a:lnTo>
                      <a:pt x="1661" y="1146"/>
                    </a:lnTo>
                    <a:lnTo>
                      <a:pt x="1658" y="1148"/>
                    </a:lnTo>
                    <a:lnTo>
                      <a:pt x="1653" y="1151"/>
                    </a:lnTo>
                    <a:lnTo>
                      <a:pt x="1647" y="1154"/>
                    </a:lnTo>
                    <a:lnTo>
                      <a:pt x="1641" y="1158"/>
                    </a:lnTo>
                    <a:lnTo>
                      <a:pt x="1636" y="1162"/>
                    </a:lnTo>
                    <a:lnTo>
                      <a:pt x="1628" y="1165"/>
                    </a:lnTo>
                    <a:lnTo>
                      <a:pt x="1621" y="1168"/>
                    </a:lnTo>
                    <a:lnTo>
                      <a:pt x="1612" y="1172"/>
                    </a:lnTo>
                    <a:lnTo>
                      <a:pt x="1604" y="1175"/>
                    </a:lnTo>
                    <a:lnTo>
                      <a:pt x="1593" y="1179"/>
                    </a:lnTo>
                    <a:lnTo>
                      <a:pt x="1583" y="1182"/>
                    </a:lnTo>
                    <a:lnTo>
                      <a:pt x="1572" y="1186"/>
                    </a:lnTo>
                    <a:lnTo>
                      <a:pt x="1562" y="1191"/>
                    </a:lnTo>
                    <a:lnTo>
                      <a:pt x="1549" y="1194"/>
                    </a:lnTo>
                    <a:lnTo>
                      <a:pt x="1537" y="1197"/>
                    </a:lnTo>
                    <a:lnTo>
                      <a:pt x="1524" y="1199"/>
                    </a:lnTo>
                    <a:lnTo>
                      <a:pt x="1510" y="1200"/>
                    </a:lnTo>
                    <a:lnTo>
                      <a:pt x="1495" y="1202"/>
                    </a:lnTo>
                    <a:lnTo>
                      <a:pt x="1480" y="1203"/>
                    </a:lnTo>
                    <a:lnTo>
                      <a:pt x="1472" y="1204"/>
                    </a:lnTo>
                    <a:lnTo>
                      <a:pt x="1464" y="1204"/>
                    </a:lnTo>
                    <a:lnTo>
                      <a:pt x="1455" y="1204"/>
                    </a:lnTo>
                    <a:lnTo>
                      <a:pt x="1448" y="1204"/>
                    </a:lnTo>
                    <a:lnTo>
                      <a:pt x="1439" y="1203"/>
                    </a:lnTo>
                    <a:lnTo>
                      <a:pt x="1431" y="1203"/>
                    </a:lnTo>
                    <a:lnTo>
                      <a:pt x="1422" y="1203"/>
                    </a:lnTo>
                    <a:lnTo>
                      <a:pt x="1414" y="1202"/>
                    </a:lnTo>
                    <a:lnTo>
                      <a:pt x="1404" y="1201"/>
                    </a:lnTo>
                    <a:lnTo>
                      <a:pt x="1395" y="1200"/>
                    </a:lnTo>
                    <a:lnTo>
                      <a:pt x="1386" y="1198"/>
                    </a:lnTo>
                    <a:lnTo>
                      <a:pt x="1377" y="1197"/>
                    </a:lnTo>
                    <a:lnTo>
                      <a:pt x="1367" y="1195"/>
                    </a:lnTo>
                    <a:lnTo>
                      <a:pt x="1357" y="1192"/>
                    </a:lnTo>
                    <a:lnTo>
                      <a:pt x="1347" y="1190"/>
                    </a:lnTo>
                    <a:lnTo>
                      <a:pt x="1338" y="1187"/>
                    </a:lnTo>
                    <a:lnTo>
                      <a:pt x="1324" y="1183"/>
                    </a:lnTo>
                    <a:lnTo>
                      <a:pt x="1309" y="1179"/>
                    </a:lnTo>
                    <a:lnTo>
                      <a:pt x="1295" y="1174"/>
                    </a:lnTo>
                    <a:lnTo>
                      <a:pt x="1281" y="1170"/>
                    </a:lnTo>
                    <a:lnTo>
                      <a:pt x="1268" y="1164"/>
                    </a:lnTo>
                    <a:lnTo>
                      <a:pt x="1255" y="1158"/>
                    </a:lnTo>
                    <a:lnTo>
                      <a:pt x="1243" y="1152"/>
                    </a:lnTo>
                    <a:lnTo>
                      <a:pt x="1231" y="1146"/>
                    </a:lnTo>
                    <a:lnTo>
                      <a:pt x="1220" y="1138"/>
                    </a:lnTo>
                    <a:lnTo>
                      <a:pt x="1207" y="1132"/>
                    </a:lnTo>
                    <a:lnTo>
                      <a:pt x="1196" y="1125"/>
                    </a:lnTo>
                    <a:lnTo>
                      <a:pt x="1185" y="1119"/>
                    </a:lnTo>
                    <a:lnTo>
                      <a:pt x="1175" y="1112"/>
                    </a:lnTo>
                    <a:lnTo>
                      <a:pt x="1164" y="1104"/>
                    </a:lnTo>
                    <a:lnTo>
                      <a:pt x="1155" y="1097"/>
                    </a:lnTo>
                    <a:lnTo>
                      <a:pt x="1145" y="1089"/>
                    </a:lnTo>
                    <a:lnTo>
                      <a:pt x="1137" y="1081"/>
                    </a:lnTo>
                    <a:lnTo>
                      <a:pt x="1128" y="1074"/>
                    </a:lnTo>
                    <a:lnTo>
                      <a:pt x="1120" y="1067"/>
                    </a:lnTo>
                    <a:lnTo>
                      <a:pt x="1111" y="1059"/>
                    </a:lnTo>
                    <a:lnTo>
                      <a:pt x="1103" y="1051"/>
                    </a:lnTo>
                    <a:lnTo>
                      <a:pt x="1096" y="1043"/>
                    </a:lnTo>
                    <a:lnTo>
                      <a:pt x="1089" y="1034"/>
                    </a:lnTo>
                    <a:lnTo>
                      <a:pt x="1082" y="1026"/>
                    </a:lnTo>
                    <a:lnTo>
                      <a:pt x="1075" y="1018"/>
                    </a:lnTo>
                    <a:lnTo>
                      <a:pt x="1069" y="1009"/>
                    </a:lnTo>
                    <a:lnTo>
                      <a:pt x="1061" y="1001"/>
                    </a:lnTo>
                    <a:lnTo>
                      <a:pt x="1055" y="992"/>
                    </a:lnTo>
                    <a:lnTo>
                      <a:pt x="1050" y="984"/>
                    </a:lnTo>
                    <a:lnTo>
                      <a:pt x="1044" y="975"/>
                    </a:lnTo>
                    <a:lnTo>
                      <a:pt x="1039" y="967"/>
                    </a:lnTo>
                    <a:lnTo>
                      <a:pt x="1033" y="959"/>
                    </a:lnTo>
                    <a:lnTo>
                      <a:pt x="1030" y="951"/>
                    </a:lnTo>
                    <a:lnTo>
                      <a:pt x="1026" y="942"/>
                    </a:lnTo>
                    <a:lnTo>
                      <a:pt x="1022" y="934"/>
                    </a:lnTo>
                    <a:lnTo>
                      <a:pt x="1017" y="926"/>
                    </a:lnTo>
                    <a:lnTo>
                      <a:pt x="1014" y="919"/>
                    </a:lnTo>
                    <a:lnTo>
                      <a:pt x="1010" y="911"/>
                    </a:lnTo>
                    <a:lnTo>
                      <a:pt x="1007" y="903"/>
                    </a:lnTo>
                    <a:lnTo>
                      <a:pt x="1003" y="894"/>
                    </a:lnTo>
                    <a:lnTo>
                      <a:pt x="997" y="881"/>
                    </a:lnTo>
                    <a:lnTo>
                      <a:pt x="992" y="868"/>
                    </a:lnTo>
                    <a:lnTo>
                      <a:pt x="988" y="856"/>
                    </a:lnTo>
                    <a:lnTo>
                      <a:pt x="984" y="842"/>
                    </a:lnTo>
                    <a:lnTo>
                      <a:pt x="981" y="832"/>
                    </a:lnTo>
                    <a:lnTo>
                      <a:pt x="978" y="822"/>
                    </a:lnTo>
                    <a:lnTo>
                      <a:pt x="976" y="814"/>
                    </a:lnTo>
                    <a:lnTo>
                      <a:pt x="974" y="806"/>
                    </a:lnTo>
                    <a:lnTo>
                      <a:pt x="973" y="802"/>
                    </a:lnTo>
                    <a:lnTo>
                      <a:pt x="972" y="796"/>
                    </a:lnTo>
                    <a:lnTo>
                      <a:pt x="972" y="795"/>
                    </a:lnTo>
                    <a:lnTo>
                      <a:pt x="972" y="793"/>
                    </a:lnTo>
                    <a:lnTo>
                      <a:pt x="971" y="793"/>
                    </a:lnTo>
                    <a:lnTo>
                      <a:pt x="969" y="794"/>
                    </a:lnTo>
                    <a:lnTo>
                      <a:pt x="964" y="795"/>
                    </a:lnTo>
                    <a:lnTo>
                      <a:pt x="959" y="796"/>
                    </a:lnTo>
                    <a:lnTo>
                      <a:pt x="952" y="797"/>
                    </a:lnTo>
                    <a:lnTo>
                      <a:pt x="945" y="798"/>
                    </a:lnTo>
                    <a:lnTo>
                      <a:pt x="935" y="800"/>
                    </a:lnTo>
                    <a:lnTo>
                      <a:pt x="926" y="801"/>
                    </a:lnTo>
                    <a:lnTo>
                      <a:pt x="911" y="801"/>
                    </a:lnTo>
                    <a:lnTo>
                      <a:pt x="897" y="800"/>
                    </a:lnTo>
                    <a:lnTo>
                      <a:pt x="889" y="798"/>
                    </a:lnTo>
                    <a:lnTo>
                      <a:pt x="881" y="797"/>
                    </a:lnTo>
                    <a:lnTo>
                      <a:pt x="871" y="796"/>
                    </a:lnTo>
                    <a:lnTo>
                      <a:pt x="863" y="795"/>
                    </a:lnTo>
                    <a:lnTo>
                      <a:pt x="853" y="792"/>
                    </a:lnTo>
                    <a:lnTo>
                      <a:pt x="843" y="790"/>
                    </a:lnTo>
                    <a:lnTo>
                      <a:pt x="832" y="787"/>
                    </a:lnTo>
                    <a:lnTo>
                      <a:pt x="821" y="785"/>
                    </a:lnTo>
                    <a:lnTo>
                      <a:pt x="809" y="782"/>
                    </a:lnTo>
                    <a:lnTo>
                      <a:pt x="797" y="779"/>
                    </a:lnTo>
                    <a:lnTo>
                      <a:pt x="784" y="775"/>
                    </a:lnTo>
                    <a:lnTo>
                      <a:pt x="771" y="772"/>
                    </a:lnTo>
                    <a:lnTo>
                      <a:pt x="749" y="762"/>
                    </a:lnTo>
                    <a:lnTo>
                      <a:pt x="727" y="752"/>
                    </a:lnTo>
                    <a:lnTo>
                      <a:pt x="704" y="741"/>
                    </a:lnTo>
                    <a:lnTo>
                      <a:pt x="682" y="730"/>
                    </a:lnTo>
                    <a:lnTo>
                      <a:pt x="666" y="719"/>
                    </a:lnTo>
                    <a:lnTo>
                      <a:pt x="651" y="707"/>
                    </a:lnTo>
                    <a:lnTo>
                      <a:pt x="636" y="694"/>
                    </a:lnTo>
                    <a:lnTo>
                      <a:pt x="620" y="681"/>
                    </a:lnTo>
                    <a:lnTo>
                      <a:pt x="610" y="668"/>
                    </a:lnTo>
                    <a:lnTo>
                      <a:pt x="599" y="655"/>
                    </a:lnTo>
                    <a:lnTo>
                      <a:pt x="589" y="640"/>
                    </a:lnTo>
                    <a:lnTo>
                      <a:pt x="578" y="627"/>
                    </a:lnTo>
                    <a:lnTo>
                      <a:pt x="571" y="613"/>
                    </a:lnTo>
                    <a:lnTo>
                      <a:pt x="565" y="598"/>
                    </a:lnTo>
                    <a:lnTo>
                      <a:pt x="558" y="585"/>
                    </a:lnTo>
                    <a:lnTo>
                      <a:pt x="552" y="571"/>
                    </a:lnTo>
                    <a:lnTo>
                      <a:pt x="549" y="558"/>
                    </a:lnTo>
                    <a:lnTo>
                      <a:pt x="546" y="545"/>
                    </a:lnTo>
                    <a:lnTo>
                      <a:pt x="543" y="532"/>
                    </a:lnTo>
                    <a:lnTo>
                      <a:pt x="541" y="519"/>
                    </a:lnTo>
                    <a:lnTo>
                      <a:pt x="540" y="509"/>
                    </a:lnTo>
                    <a:lnTo>
                      <a:pt x="539" y="498"/>
                    </a:lnTo>
                    <a:lnTo>
                      <a:pt x="539" y="488"/>
                    </a:lnTo>
                    <a:lnTo>
                      <a:pt x="538" y="478"/>
                    </a:lnTo>
                    <a:lnTo>
                      <a:pt x="538" y="464"/>
                    </a:lnTo>
                    <a:lnTo>
                      <a:pt x="538" y="448"/>
                    </a:lnTo>
                    <a:lnTo>
                      <a:pt x="539" y="444"/>
                    </a:lnTo>
                    <a:lnTo>
                      <a:pt x="541" y="439"/>
                    </a:lnTo>
                    <a:lnTo>
                      <a:pt x="538" y="440"/>
                    </a:lnTo>
                    <a:lnTo>
                      <a:pt x="537" y="440"/>
                    </a:lnTo>
                    <a:lnTo>
                      <a:pt x="530" y="440"/>
                    </a:lnTo>
                    <a:lnTo>
                      <a:pt x="526" y="440"/>
                    </a:lnTo>
                    <a:lnTo>
                      <a:pt x="517" y="441"/>
                    </a:lnTo>
                    <a:lnTo>
                      <a:pt x="508" y="441"/>
                    </a:lnTo>
                    <a:lnTo>
                      <a:pt x="497" y="441"/>
                    </a:lnTo>
                    <a:lnTo>
                      <a:pt x="487" y="440"/>
                    </a:lnTo>
                    <a:lnTo>
                      <a:pt x="471" y="440"/>
                    </a:lnTo>
                    <a:lnTo>
                      <a:pt x="457" y="439"/>
                    </a:lnTo>
                    <a:lnTo>
                      <a:pt x="448" y="438"/>
                    </a:lnTo>
                    <a:lnTo>
                      <a:pt x="439" y="437"/>
                    </a:lnTo>
                    <a:lnTo>
                      <a:pt x="429" y="436"/>
                    </a:lnTo>
                    <a:lnTo>
                      <a:pt x="421" y="435"/>
                    </a:lnTo>
                    <a:lnTo>
                      <a:pt x="410" y="433"/>
                    </a:lnTo>
                    <a:lnTo>
                      <a:pt x="399" y="431"/>
                    </a:lnTo>
                    <a:lnTo>
                      <a:pt x="389" y="429"/>
                    </a:lnTo>
                    <a:lnTo>
                      <a:pt x="378" y="427"/>
                    </a:lnTo>
                    <a:lnTo>
                      <a:pt x="366" y="424"/>
                    </a:lnTo>
                    <a:lnTo>
                      <a:pt x="354" y="420"/>
                    </a:lnTo>
                    <a:lnTo>
                      <a:pt x="343" y="417"/>
                    </a:lnTo>
                    <a:lnTo>
                      <a:pt x="330" y="414"/>
                    </a:lnTo>
                    <a:lnTo>
                      <a:pt x="316" y="409"/>
                    </a:lnTo>
                    <a:lnTo>
                      <a:pt x="303" y="404"/>
                    </a:lnTo>
                    <a:lnTo>
                      <a:pt x="289" y="399"/>
                    </a:lnTo>
                    <a:lnTo>
                      <a:pt x="275" y="394"/>
                    </a:lnTo>
                    <a:lnTo>
                      <a:pt x="262" y="388"/>
                    </a:lnTo>
                    <a:lnTo>
                      <a:pt x="250" y="382"/>
                    </a:lnTo>
                    <a:lnTo>
                      <a:pt x="238" y="375"/>
                    </a:lnTo>
                    <a:lnTo>
                      <a:pt x="226" y="369"/>
                    </a:lnTo>
                    <a:lnTo>
                      <a:pt x="216" y="362"/>
                    </a:lnTo>
                    <a:lnTo>
                      <a:pt x="206" y="354"/>
                    </a:lnTo>
                    <a:lnTo>
                      <a:pt x="195" y="347"/>
                    </a:lnTo>
                    <a:lnTo>
                      <a:pt x="184" y="341"/>
                    </a:lnTo>
                    <a:lnTo>
                      <a:pt x="175" y="333"/>
                    </a:lnTo>
                    <a:lnTo>
                      <a:pt x="166" y="325"/>
                    </a:lnTo>
                    <a:lnTo>
                      <a:pt x="156" y="318"/>
                    </a:lnTo>
                    <a:lnTo>
                      <a:pt x="147" y="309"/>
                    </a:lnTo>
                    <a:lnTo>
                      <a:pt x="138" y="301"/>
                    </a:lnTo>
                    <a:lnTo>
                      <a:pt x="130" y="294"/>
                    </a:lnTo>
                    <a:lnTo>
                      <a:pt x="122" y="286"/>
                    </a:lnTo>
                    <a:lnTo>
                      <a:pt x="115" y="278"/>
                    </a:lnTo>
                    <a:lnTo>
                      <a:pt x="108" y="270"/>
                    </a:lnTo>
                    <a:lnTo>
                      <a:pt x="102" y="260"/>
                    </a:lnTo>
                    <a:lnTo>
                      <a:pt x="95" y="252"/>
                    </a:lnTo>
                    <a:lnTo>
                      <a:pt x="88" y="243"/>
                    </a:lnTo>
                    <a:lnTo>
                      <a:pt x="82" y="235"/>
                    </a:lnTo>
                    <a:lnTo>
                      <a:pt x="77" y="226"/>
                    </a:lnTo>
                    <a:lnTo>
                      <a:pt x="72" y="217"/>
                    </a:lnTo>
                    <a:lnTo>
                      <a:pt x="67" y="207"/>
                    </a:lnTo>
                    <a:lnTo>
                      <a:pt x="62" y="199"/>
                    </a:lnTo>
                    <a:lnTo>
                      <a:pt x="57" y="191"/>
                    </a:lnTo>
                    <a:lnTo>
                      <a:pt x="53" y="182"/>
                    </a:lnTo>
                    <a:lnTo>
                      <a:pt x="49" y="174"/>
                    </a:lnTo>
                    <a:lnTo>
                      <a:pt x="45" y="164"/>
                    </a:lnTo>
                    <a:lnTo>
                      <a:pt x="40" y="156"/>
                    </a:lnTo>
                    <a:lnTo>
                      <a:pt x="36" y="148"/>
                    </a:lnTo>
                    <a:lnTo>
                      <a:pt x="32" y="140"/>
                    </a:lnTo>
                    <a:lnTo>
                      <a:pt x="29" y="132"/>
                    </a:lnTo>
                    <a:lnTo>
                      <a:pt x="26" y="123"/>
                    </a:lnTo>
                    <a:lnTo>
                      <a:pt x="23" y="114"/>
                    </a:lnTo>
                    <a:lnTo>
                      <a:pt x="21" y="106"/>
                    </a:lnTo>
                    <a:lnTo>
                      <a:pt x="17" y="92"/>
                    </a:lnTo>
                    <a:lnTo>
                      <a:pt x="13" y="78"/>
                    </a:lnTo>
                    <a:lnTo>
                      <a:pt x="10" y="65"/>
                    </a:lnTo>
                    <a:lnTo>
                      <a:pt x="7" y="53"/>
                    </a:lnTo>
                    <a:lnTo>
                      <a:pt x="5" y="42"/>
                    </a:lnTo>
                    <a:lnTo>
                      <a:pt x="3" y="32"/>
                    </a:lnTo>
                    <a:lnTo>
                      <a:pt x="2" y="24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7" y="2"/>
                    </a:lnTo>
                    <a:lnTo>
                      <a:pt x="17" y="4"/>
                    </a:lnTo>
                    <a:lnTo>
                      <a:pt x="27" y="6"/>
                    </a:lnTo>
                    <a:lnTo>
                      <a:pt x="35" y="8"/>
                    </a:lnTo>
                    <a:lnTo>
                      <a:pt x="43" y="10"/>
                    </a:lnTo>
                    <a:lnTo>
                      <a:pt x="52" y="12"/>
                    </a:lnTo>
                    <a:lnTo>
                      <a:pt x="61" y="14"/>
                    </a:lnTo>
                    <a:lnTo>
                      <a:pt x="72" y="17"/>
                    </a:lnTo>
                    <a:lnTo>
                      <a:pt x="83" y="21"/>
                    </a:lnTo>
                    <a:lnTo>
                      <a:pt x="95" y="23"/>
                    </a:lnTo>
                    <a:lnTo>
                      <a:pt x="107" y="26"/>
                    </a:lnTo>
                    <a:lnTo>
                      <a:pt x="120" y="29"/>
                    </a:lnTo>
                    <a:lnTo>
                      <a:pt x="134" y="32"/>
                    </a:lnTo>
                    <a:lnTo>
                      <a:pt x="149" y="36"/>
                    </a:lnTo>
                    <a:lnTo>
                      <a:pt x="163" y="39"/>
                    </a:lnTo>
                    <a:lnTo>
                      <a:pt x="179" y="43"/>
                    </a:lnTo>
                    <a:lnTo>
                      <a:pt x="197" y="47"/>
                    </a:lnTo>
                    <a:lnTo>
                      <a:pt x="213" y="51"/>
                    </a:lnTo>
                    <a:lnTo>
                      <a:pt x="230" y="55"/>
                    </a:lnTo>
                    <a:lnTo>
                      <a:pt x="250" y="59"/>
                    </a:lnTo>
                    <a:lnTo>
                      <a:pt x="268" y="64"/>
                    </a:lnTo>
                    <a:lnTo>
                      <a:pt x="288" y="69"/>
                    </a:lnTo>
                    <a:lnTo>
                      <a:pt x="307" y="74"/>
                    </a:lnTo>
                    <a:lnTo>
                      <a:pt x="327" y="78"/>
                    </a:lnTo>
                    <a:lnTo>
                      <a:pt x="348" y="83"/>
                    </a:lnTo>
                    <a:lnTo>
                      <a:pt x="369" y="87"/>
                    </a:lnTo>
                    <a:lnTo>
                      <a:pt x="391" y="92"/>
                    </a:lnTo>
                    <a:lnTo>
                      <a:pt x="413" y="96"/>
                    </a:lnTo>
                    <a:lnTo>
                      <a:pt x="437" y="101"/>
                    </a:lnTo>
                    <a:lnTo>
                      <a:pt x="459" y="106"/>
                    </a:lnTo>
                    <a:lnTo>
                      <a:pt x="483" y="111"/>
                    </a:lnTo>
                    <a:lnTo>
                      <a:pt x="507" y="117"/>
                    </a:lnTo>
                    <a:lnTo>
                      <a:pt x="532" y="122"/>
                    </a:lnTo>
                    <a:lnTo>
                      <a:pt x="556" y="127"/>
                    </a:lnTo>
                    <a:lnTo>
                      <a:pt x="581" y="132"/>
                    </a:lnTo>
                    <a:lnTo>
                      <a:pt x="606" y="138"/>
                    </a:lnTo>
                    <a:lnTo>
                      <a:pt x="632" y="144"/>
                    </a:lnTo>
                    <a:lnTo>
                      <a:pt x="658" y="149"/>
                    </a:lnTo>
                    <a:lnTo>
                      <a:pt x="684" y="155"/>
                    </a:lnTo>
                    <a:lnTo>
                      <a:pt x="711" y="160"/>
                    </a:lnTo>
                    <a:lnTo>
                      <a:pt x="739" y="166"/>
                    </a:lnTo>
                    <a:lnTo>
                      <a:pt x="766" y="172"/>
                    </a:lnTo>
                    <a:lnTo>
                      <a:pt x="794" y="177"/>
                    </a:lnTo>
                    <a:lnTo>
                      <a:pt x="821" y="183"/>
                    </a:lnTo>
                    <a:lnTo>
                      <a:pt x="850" y="188"/>
                    </a:lnTo>
                    <a:lnTo>
                      <a:pt x="878" y="194"/>
                    </a:lnTo>
                    <a:lnTo>
                      <a:pt x="906" y="199"/>
                    </a:lnTo>
                    <a:lnTo>
                      <a:pt x="935" y="205"/>
                    </a:lnTo>
                    <a:lnTo>
                      <a:pt x="963" y="210"/>
                    </a:lnTo>
                    <a:lnTo>
                      <a:pt x="993" y="216"/>
                    </a:lnTo>
                    <a:lnTo>
                      <a:pt x="1022" y="221"/>
                    </a:lnTo>
                    <a:lnTo>
                      <a:pt x="1050" y="227"/>
                    </a:lnTo>
                    <a:lnTo>
                      <a:pt x="1080" y="232"/>
                    </a:lnTo>
                    <a:lnTo>
                      <a:pt x="1109" y="238"/>
                    </a:lnTo>
                    <a:lnTo>
                      <a:pt x="1139" y="243"/>
                    </a:lnTo>
                    <a:lnTo>
                      <a:pt x="1169" y="248"/>
                    </a:lnTo>
                    <a:lnTo>
                      <a:pt x="1199" y="253"/>
                    </a:lnTo>
                    <a:lnTo>
                      <a:pt x="1229" y="258"/>
                    </a:lnTo>
                    <a:lnTo>
                      <a:pt x="1258" y="264"/>
                    </a:lnTo>
                    <a:lnTo>
                      <a:pt x="1289" y="268"/>
                    </a:lnTo>
                    <a:lnTo>
                      <a:pt x="1320" y="273"/>
                    </a:lnTo>
                    <a:lnTo>
                      <a:pt x="1350" y="277"/>
                    </a:lnTo>
                    <a:lnTo>
                      <a:pt x="1381" y="282"/>
                    </a:lnTo>
                    <a:lnTo>
                      <a:pt x="1406" y="285"/>
                    </a:lnTo>
                    <a:lnTo>
                      <a:pt x="1433" y="288"/>
                    </a:lnTo>
                    <a:lnTo>
                      <a:pt x="1460" y="292"/>
                    </a:lnTo>
                    <a:lnTo>
                      <a:pt x="1486" y="295"/>
                    </a:lnTo>
                    <a:lnTo>
                      <a:pt x="1510" y="296"/>
                    </a:lnTo>
                    <a:lnTo>
                      <a:pt x="1533" y="298"/>
                    </a:lnTo>
                    <a:lnTo>
                      <a:pt x="1557" y="299"/>
                    </a:lnTo>
                    <a:lnTo>
                      <a:pt x="1580" y="301"/>
                    </a:lnTo>
                    <a:lnTo>
                      <a:pt x="1600" y="302"/>
                    </a:lnTo>
                    <a:lnTo>
                      <a:pt x="1621" y="303"/>
                    </a:lnTo>
                    <a:lnTo>
                      <a:pt x="1641" y="303"/>
                    </a:lnTo>
                    <a:lnTo>
                      <a:pt x="1662" y="304"/>
                    </a:lnTo>
                    <a:lnTo>
                      <a:pt x="1679" y="304"/>
                    </a:lnTo>
                    <a:lnTo>
                      <a:pt x="1697" y="304"/>
                    </a:lnTo>
                    <a:lnTo>
                      <a:pt x="1715" y="305"/>
                    </a:lnTo>
                    <a:lnTo>
                      <a:pt x="1733" y="304"/>
                    </a:lnTo>
                    <a:lnTo>
                      <a:pt x="1748" y="304"/>
                    </a:lnTo>
                    <a:lnTo>
                      <a:pt x="1764" y="303"/>
                    </a:lnTo>
                    <a:lnTo>
                      <a:pt x="1779" y="302"/>
                    </a:lnTo>
                    <a:lnTo>
                      <a:pt x="1795" y="301"/>
                    </a:lnTo>
                    <a:lnTo>
                      <a:pt x="1809" y="300"/>
                    </a:lnTo>
                    <a:lnTo>
                      <a:pt x="1823" y="299"/>
                    </a:lnTo>
                    <a:lnTo>
                      <a:pt x="1836" y="298"/>
                    </a:lnTo>
                    <a:lnTo>
                      <a:pt x="1851" y="297"/>
                    </a:lnTo>
                    <a:lnTo>
                      <a:pt x="1863" y="295"/>
                    </a:lnTo>
                    <a:lnTo>
                      <a:pt x="1875" y="293"/>
                    </a:lnTo>
                    <a:lnTo>
                      <a:pt x="1888" y="291"/>
                    </a:lnTo>
                    <a:lnTo>
                      <a:pt x="1901" y="289"/>
                    </a:lnTo>
                    <a:lnTo>
                      <a:pt x="1912" y="287"/>
                    </a:lnTo>
                    <a:lnTo>
                      <a:pt x="1923" y="286"/>
                    </a:lnTo>
                    <a:lnTo>
                      <a:pt x="1934" y="284"/>
                    </a:lnTo>
                    <a:lnTo>
                      <a:pt x="1945" y="283"/>
                    </a:lnTo>
                    <a:lnTo>
                      <a:pt x="1955" y="281"/>
                    </a:lnTo>
                    <a:lnTo>
                      <a:pt x="1965" y="280"/>
                    </a:lnTo>
                    <a:lnTo>
                      <a:pt x="1975" y="278"/>
                    </a:lnTo>
                    <a:lnTo>
                      <a:pt x="1984" y="277"/>
                    </a:lnTo>
                    <a:lnTo>
                      <a:pt x="1995" y="275"/>
                    </a:lnTo>
                    <a:lnTo>
                      <a:pt x="2004" y="273"/>
                    </a:lnTo>
                    <a:lnTo>
                      <a:pt x="2013" y="271"/>
                    </a:lnTo>
                    <a:lnTo>
                      <a:pt x="2022" y="269"/>
                    </a:lnTo>
                    <a:lnTo>
                      <a:pt x="2031" y="268"/>
                    </a:lnTo>
                    <a:lnTo>
                      <a:pt x="2039" y="267"/>
                    </a:lnTo>
                    <a:lnTo>
                      <a:pt x="2049" y="265"/>
                    </a:lnTo>
                    <a:lnTo>
                      <a:pt x="2058" y="264"/>
                    </a:lnTo>
                    <a:lnTo>
                      <a:pt x="2067" y="264"/>
                    </a:lnTo>
                    <a:lnTo>
                      <a:pt x="2077" y="264"/>
                    </a:lnTo>
                    <a:lnTo>
                      <a:pt x="2086" y="263"/>
                    </a:lnTo>
                    <a:lnTo>
                      <a:pt x="2096" y="263"/>
                    </a:lnTo>
                    <a:lnTo>
                      <a:pt x="2106" y="264"/>
                    </a:lnTo>
                    <a:lnTo>
                      <a:pt x="2116" y="264"/>
                    </a:lnTo>
                    <a:lnTo>
                      <a:pt x="2126" y="264"/>
                    </a:lnTo>
                    <a:lnTo>
                      <a:pt x="2135" y="264"/>
                    </a:lnTo>
                    <a:lnTo>
                      <a:pt x="2146" y="265"/>
                    </a:lnTo>
                    <a:lnTo>
                      <a:pt x="2157" y="266"/>
                    </a:lnTo>
                    <a:lnTo>
                      <a:pt x="2167" y="267"/>
                    </a:lnTo>
                    <a:lnTo>
                      <a:pt x="2177" y="268"/>
                    </a:lnTo>
                    <a:lnTo>
                      <a:pt x="2189" y="270"/>
                    </a:lnTo>
                    <a:lnTo>
                      <a:pt x="2201" y="272"/>
                    </a:lnTo>
                    <a:lnTo>
                      <a:pt x="2212" y="274"/>
                    </a:lnTo>
                    <a:lnTo>
                      <a:pt x="2223" y="277"/>
                    </a:lnTo>
                    <a:lnTo>
                      <a:pt x="2245" y="283"/>
                    </a:lnTo>
                    <a:lnTo>
                      <a:pt x="2266" y="290"/>
                    </a:lnTo>
                    <a:lnTo>
                      <a:pt x="2288" y="296"/>
                    </a:lnTo>
                    <a:lnTo>
                      <a:pt x="2309" y="302"/>
                    </a:lnTo>
                    <a:lnTo>
                      <a:pt x="2324" y="309"/>
                    </a:lnTo>
                    <a:lnTo>
                      <a:pt x="2340" y="317"/>
                    </a:lnTo>
                    <a:lnTo>
                      <a:pt x="2355" y="324"/>
                    </a:lnTo>
                    <a:lnTo>
                      <a:pt x="2370" y="330"/>
                    </a:lnTo>
                    <a:lnTo>
                      <a:pt x="2381" y="338"/>
                    </a:lnTo>
                    <a:lnTo>
                      <a:pt x="2393" y="346"/>
                    </a:lnTo>
                    <a:lnTo>
                      <a:pt x="2404" y="354"/>
                    </a:lnTo>
                    <a:lnTo>
                      <a:pt x="2414" y="363"/>
                    </a:lnTo>
                    <a:lnTo>
                      <a:pt x="2422" y="371"/>
                    </a:lnTo>
                    <a:lnTo>
                      <a:pt x="2429" y="379"/>
                    </a:lnTo>
                    <a:lnTo>
                      <a:pt x="2437" y="387"/>
                    </a:lnTo>
                    <a:lnTo>
                      <a:pt x="2445" y="395"/>
                    </a:lnTo>
                    <a:lnTo>
                      <a:pt x="2449" y="404"/>
                    </a:lnTo>
                    <a:lnTo>
                      <a:pt x="2454" y="414"/>
                    </a:lnTo>
                    <a:lnTo>
                      <a:pt x="2459" y="422"/>
                    </a:lnTo>
                    <a:lnTo>
                      <a:pt x="2464" y="431"/>
                    </a:lnTo>
                    <a:lnTo>
                      <a:pt x="2467" y="439"/>
                    </a:lnTo>
                    <a:lnTo>
                      <a:pt x="2470" y="448"/>
                    </a:lnTo>
                    <a:lnTo>
                      <a:pt x="2473" y="456"/>
                    </a:lnTo>
                    <a:lnTo>
                      <a:pt x="2476" y="466"/>
                    </a:lnTo>
                    <a:lnTo>
                      <a:pt x="2478" y="474"/>
                    </a:lnTo>
                    <a:lnTo>
                      <a:pt x="2480" y="482"/>
                    </a:lnTo>
                    <a:lnTo>
                      <a:pt x="2484" y="490"/>
                    </a:lnTo>
                    <a:lnTo>
                      <a:pt x="2486" y="497"/>
                    </a:lnTo>
                    <a:lnTo>
                      <a:pt x="2489" y="507"/>
                    </a:lnTo>
                    <a:lnTo>
                      <a:pt x="2492" y="515"/>
                    </a:lnTo>
                    <a:lnTo>
                      <a:pt x="2495" y="523"/>
                    </a:lnTo>
                    <a:lnTo>
                      <a:pt x="2498" y="531"/>
                    </a:lnTo>
                    <a:lnTo>
                      <a:pt x="2502" y="539"/>
                    </a:lnTo>
                    <a:lnTo>
                      <a:pt x="2505" y="546"/>
                    </a:lnTo>
                    <a:lnTo>
                      <a:pt x="2508" y="554"/>
                    </a:lnTo>
                    <a:lnTo>
                      <a:pt x="2512" y="562"/>
                    </a:lnTo>
                    <a:lnTo>
                      <a:pt x="2519" y="576"/>
                    </a:lnTo>
                    <a:lnTo>
                      <a:pt x="2527" y="590"/>
                    </a:lnTo>
                    <a:lnTo>
                      <a:pt x="2537" y="603"/>
                    </a:lnTo>
                    <a:lnTo>
                      <a:pt x="2546" y="616"/>
                    </a:lnTo>
                    <a:lnTo>
                      <a:pt x="2555" y="628"/>
                    </a:lnTo>
                    <a:lnTo>
                      <a:pt x="2565" y="639"/>
                    </a:lnTo>
                    <a:lnTo>
                      <a:pt x="2576" y="649"/>
                    </a:lnTo>
                    <a:lnTo>
                      <a:pt x="2588" y="659"/>
                    </a:lnTo>
                    <a:lnTo>
                      <a:pt x="2599" y="667"/>
                    </a:lnTo>
                    <a:lnTo>
                      <a:pt x="2611" y="674"/>
                    </a:lnTo>
                    <a:lnTo>
                      <a:pt x="2625" y="682"/>
                    </a:lnTo>
                    <a:lnTo>
                      <a:pt x="2640" y="689"/>
                    </a:lnTo>
                    <a:lnTo>
                      <a:pt x="2647" y="691"/>
                    </a:lnTo>
                    <a:lnTo>
                      <a:pt x="2655" y="694"/>
                    </a:lnTo>
                    <a:lnTo>
                      <a:pt x="2663" y="696"/>
                    </a:lnTo>
                    <a:lnTo>
                      <a:pt x="2671" y="698"/>
                    </a:lnTo>
                    <a:lnTo>
                      <a:pt x="2686" y="702"/>
                    </a:lnTo>
                    <a:lnTo>
                      <a:pt x="2701" y="704"/>
                    </a:lnTo>
                    <a:lnTo>
                      <a:pt x="2713" y="706"/>
                    </a:lnTo>
                    <a:lnTo>
                      <a:pt x="2727" y="708"/>
                    </a:lnTo>
                    <a:lnTo>
                      <a:pt x="2738" y="709"/>
                    </a:lnTo>
                    <a:lnTo>
                      <a:pt x="2749" y="709"/>
                    </a:lnTo>
                    <a:lnTo>
                      <a:pt x="2758" y="709"/>
                    </a:lnTo>
                    <a:lnTo>
                      <a:pt x="2766" y="708"/>
                    </a:lnTo>
                    <a:lnTo>
                      <a:pt x="2774" y="707"/>
                    </a:lnTo>
                    <a:lnTo>
                      <a:pt x="2781" y="707"/>
                    </a:lnTo>
                    <a:lnTo>
                      <a:pt x="2785" y="706"/>
                    </a:lnTo>
                    <a:lnTo>
                      <a:pt x="2789" y="705"/>
                    </a:lnTo>
                    <a:lnTo>
                      <a:pt x="2792" y="704"/>
                    </a:lnTo>
                    <a:lnTo>
                      <a:pt x="2795" y="704"/>
                    </a:lnTo>
                    <a:lnTo>
                      <a:pt x="2796" y="704"/>
                    </a:lnTo>
                    <a:lnTo>
                      <a:pt x="2796" y="703"/>
                    </a:lnTo>
                    <a:lnTo>
                      <a:pt x="2831" y="711"/>
                    </a:lnTo>
                    <a:lnTo>
                      <a:pt x="2864" y="719"/>
                    </a:lnTo>
                    <a:lnTo>
                      <a:pt x="2898" y="727"/>
                    </a:lnTo>
                    <a:lnTo>
                      <a:pt x="2933" y="735"/>
                    </a:lnTo>
                    <a:lnTo>
                      <a:pt x="2966" y="743"/>
                    </a:lnTo>
                    <a:lnTo>
                      <a:pt x="3001" y="752"/>
                    </a:lnTo>
                    <a:lnTo>
                      <a:pt x="3035" y="760"/>
                    </a:lnTo>
                    <a:lnTo>
                      <a:pt x="3070" y="768"/>
                    </a:lnTo>
                    <a:lnTo>
                      <a:pt x="3071" y="769"/>
                    </a:lnTo>
                    <a:lnTo>
                      <a:pt x="3071" y="770"/>
                    </a:lnTo>
                    <a:lnTo>
                      <a:pt x="3074" y="772"/>
                    </a:lnTo>
                    <a:lnTo>
                      <a:pt x="3078" y="774"/>
                    </a:lnTo>
                    <a:lnTo>
                      <a:pt x="3081" y="777"/>
                    </a:lnTo>
                    <a:lnTo>
                      <a:pt x="3085" y="779"/>
                    </a:lnTo>
                    <a:lnTo>
                      <a:pt x="3092" y="783"/>
                    </a:lnTo>
                    <a:lnTo>
                      <a:pt x="3099" y="787"/>
                    </a:lnTo>
                    <a:lnTo>
                      <a:pt x="3108" y="792"/>
                    </a:lnTo>
                    <a:lnTo>
                      <a:pt x="3118" y="797"/>
                    </a:lnTo>
                    <a:lnTo>
                      <a:pt x="3128" y="802"/>
                    </a:lnTo>
                    <a:lnTo>
                      <a:pt x="3139" y="806"/>
                    </a:lnTo>
                    <a:lnTo>
                      <a:pt x="3151" y="810"/>
                    </a:lnTo>
                    <a:lnTo>
                      <a:pt x="3165" y="815"/>
                    </a:lnTo>
                    <a:lnTo>
                      <a:pt x="3180" y="819"/>
                    </a:lnTo>
                    <a:lnTo>
                      <a:pt x="3194" y="824"/>
                    </a:lnTo>
                    <a:lnTo>
                      <a:pt x="3209" y="826"/>
                    </a:lnTo>
                    <a:lnTo>
                      <a:pt x="3225" y="828"/>
                    </a:lnTo>
                    <a:lnTo>
                      <a:pt x="3238" y="828"/>
                    </a:lnTo>
                    <a:lnTo>
                      <a:pt x="3252" y="827"/>
                    </a:lnTo>
                    <a:lnTo>
                      <a:pt x="3265" y="825"/>
                    </a:lnTo>
                    <a:lnTo>
                      <a:pt x="3277" y="823"/>
                    </a:lnTo>
                    <a:lnTo>
                      <a:pt x="3287" y="819"/>
                    </a:lnTo>
                    <a:lnTo>
                      <a:pt x="3298" y="814"/>
                    </a:lnTo>
                    <a:lnTo>
                      <a:pt x="3307" y="808"/>
                    </a:lnTo>
                    <a:lnTo>
                      <a:pt x="3318" y="801"/>
                    </a:lnTo>
                    <a:lnTo>
                      <a:pt x="3327" y="791"/>
                    </a:lnTo>
                    <a:lnTo>
                      <a:pt x="3336" y="783"/>
                    </a:lnTo>
                    <a:lnTo>
                      <a:pt x="3343" y="772"/>
                    </a:lnTo>
                    <a:lnTo>
                      <a:pt x="3351" y="762"/>
                    </a:lnTo>
                    <a:lnTo>
                      <a:pt x="3359" y="749"/>
                    </a:lnTo>
                    <a:lnTo>
                      <a:pt x="3365" y="737"/>
                    </a:lnTo>
                    <a:lnTo>
                      <a:pt x="3371" y="724"/>
                    </a:lnTo>
                    <a:lnTo>
                      <a:pt x="3377" y="710"/>
                    </a:lnTo>
                    <a:lnTo>
                      <a:pt x="3382" y="696"/>
                    </a:lnTo>
                    <a:lnTo>
                      <a:pt x="3387" y="682"/>
                    </a:lnTo>
                    <a:lnTo>
                      <a:pt x="3393" y="668"/>
                    </a:lnTo>
                    <a:lnTo>
                      <a:pt x="3399" y="654"/>
                    </a:lnTo>
                    <a:lnTo>
                      <a:pt x="3409" y="640"/>
                    </a:lnTo>
                    <a:lnTo>
                      <a:pt x="3419" y="627"/>
                    </a:lnTo>
                    <a:lnTo>
                      <a:pt x="3433" y="618"/>
                    </a:lnTo>
                    <a:lnTo>
                      <a:pt x="3447" y="608"/>
                    </a:lnTo>
                    <a:lnTo>
                      <a:pt x="3458" y="606"/>
                    </a:lnTo>
                    <a:lnTo>
                      <a:pt x="3469" y="602"/>
                    </a:lnTo>
                    <a:lnTo>
                      <a:pt x="3480" y="599"/>
                    </a:lnTo>
                    <a:lnTo>
                      <a:pt x="3491" y="596"/>
                    </a:lnTo>
                    <a:lnTo>
                      <a:pt x="3507" y="597"/>
                    </a:lnTo>
                    <a:lnTo>
                      <a:pt x="3523" y="598"/>
                    </a:lnTo>
                    <a:lnTo>
                      <a:pt x="3538" y="598"/>
                    </a:lnTo>
                    <a:lnTo>
                      <a:pt x="3555" y="599"/>
                    </a:lnTo>
                    <a:lnTo>
                      <a:pt x="3576" y="602"/>
                    </a:lnTo>
                    <a:lnTo>
                      <a:pt x="3597" y="607"/>
                    </a:lnTo>
                    <a:lnTo>
                      <a:pt x="3619" y="610"/>
                    </a:lnTo>
                    <a:lnTo>
                      <a:pt x="3640" y="614"/>
                    </a:lnTo>
                    <a:lnTo>
                      <a:pt x="3652" y="617"/>
                    </a:lnTo>
                    <a:lnTo>
                      <a:pt x="3663" y="620"/>
                    </a:lnTo>
                    <a:lnTo>
                      <a:pt x="3674" y="623"/>
                    </a:lnTo>
                    <a:lnTo>
                      <a:pt x="3686" y="627"/>
                    </a:lnTo>
                    <a:lnTo>
                      <a:pt x="3696" y="631"/>
                    </a:lnTo>
                    <a:lnTo>
                      <a:pt x="3707" y="634"/>
                    </a:lnTo>
                    <a:lnTo>
                      <a:pt x="3717" y="638"/>
                    </a:lnTo>
                    <a:lnTo>
                      <a:pt x="3727" y="642"/>
                    </a:lnTo>
                    <a:lnTo>
                      <a:pt x="3736" y="646"/>
                    </a:lnTo>
                    <a:lnTo>
                      <a:pt x="3746" y="651"/>
                    </a:lnTo>
                    <a:lnTo>
                      <a:pt x="3757" y="656"/>
                    </a:lnTo>
                    <a:lnTo>
                      <a:pt x="3767" y="660"/>
                    </a:lnTo>
                    <a:lnTo>
                      <a:pt x="3776" y="665"/>
                    </a:lnTo>
                    <a:lnTo>
                      <a:pt x="3785" y="670"/>
                    </a:lnTo>
                    <a:lnTo>
                      <a:pt x="3795" y="674"/>
                    </a:lnTo>
                    <a:lnTo>
                      <a:pt x="3805" y="679"/>
                    </a:lnTo>
                    <a:lnTo>
                      <a:pt x="3814" y="684"/>
                    </a:lnTo>
                    <a:lnTo>
                      <a:pt x="3822" y="690"/>
                    </a:lnTo>
                    <a:lnTo>
                      <a:pt x="3831" y="695"/>
                    </a:lnTo>
                    <a:lnTo>
                      <a:pt x="3840" y="702"/>
                    </a:lnTo>
                    <a:lnTo>
                      <a:pt x="3850" y="708"/>
                    </a:lnTo>
                    <a:lnTo>
                      <a:pt x="3859" y="714"/>
                    </a:lnTo>
                    <a:lnTo>
                      <a:pt x="3868" y="720"/>
                    </a:lnTo>
                    <a:lnTo>
                      <a:pt x="3878" y="727"/>
                    </a:lnTo>
                    <a:lnTo>
                      <a:pt x="3887" y="733"/>
                    </a:lnTo>
                    <a:lnTo>
                      <a:pt x="3898" y="739"/>
                    </a:lnTo>
                    <a:lnTo>
                      <a:pt x="3908" y="745"/>
                    </a:lnTo>
                    <a:lnTo>
                      <a:pt x="3918" y="752"/>
                    </a:lnTo>
                    <a:lnTo>
                      <a:pt x="3929" y="759"/>
                    </a:lnTo>
                    <a:lnTo>
                      <a:pt x="3940" y="766"/>
                    </a:lnTo>
                    <a:lnTo>
                      <a:pt x="3953" y="772"/>
                    </a:lnTo>
                    <a:lnTo>
                      <a:pt x="3964" y="779"/>
                    </a:lnTo>
                    <a:lnTo>
                      <a:pt x="3976" y="787"/>
                    </a:lnTo>
                    <a:lnTo>
                      <a:pt x="3987" y="794"/>
                    </a:lnTo>
                    <a:lnTo>
                      <a:pt x="4000" y="803"/>
                    </a:lnTo>
                    <a:lnTo>
                      <a:pt x="4012" y="811"/>
                    </a:lnTo>
                    <a:lnTo>
                      <a:pt x="4025" y="818"/>
                    </a:lnTo>
                    <a:lnTo>
                      <a:pt x="4039" y="826"/>
                    </a:lnTo>
                    <a:lnTo>
                      <a:pt x="4053" y="833"/>
                    </a:lnTo>
                    <a:lnTo>
                      <a:pt x="4067" y="841"/>
                    </a:lnTo>
                    <a:lnTo>
                      <a:pt x="4082" y="850"/>
                    </a:lnTo>
                    <a:lnTo>
                      <a:pt x="4098" y="858"/>
                    </a:lnTo>
                    <a:lnTo>
                      <a:pt x="4113" y="866"/>
                    </a:lnTo>
                    <a:lnTo>
                      <a:pt x="4128" y="874"/>
                    </a:lnTo>
                    <a:lnTo>
                      <a:pt x="4147" y="882"/>
                    </a:lnTo>
                    <a:lnTo>
                      <a:pt x="4164" y="890"/>
                    </a:lnTo>
                    <a:lnTo>
                      <a:pt x="4182" y="900"/>
                    </a:lnTo>
                    <a:lnTo>
                      <a:pt x="4200" y="908"/>
                    </a:lnTo>
                    <a:lnTo>
                      <a:pt x="4220" y="916"/>
                    </a:lnTo>
                    <a:lnTo>
                      <a:pt x="4241" y="925"/>
                    </a:lnTo>
                    <a:lnTo>
                      <a:pt x="4261" y="934"/>
                    </a:lnTo>
                    <a:lnTo>
                      <a:pt x="4281" y="942"/>
                    </a:lnTo>
                    <a:lnTo>
                      <a:pt x="4305" y="953"/>
                    </a:lnTo>
                    <a:lnTo>
                      <a:pt x="4328" y="962"/>
                    </a:lnTo>
                    <a:lnTo>
                      <a:pt x="4352" y="971"/>
                    </a:lnTo>
                    <a:lnTo>
                      <a:pt x="4375" y="980"/>
                    </a:lnTo>
                    <a:lnTo>
                      <a:pt x="4401" y="990"/>
                    </a:lnTo>
                    <a:lnTo>
                      <a:pt x="4427" y="1000"/>
                    </a:lnTo>
                    <a:lnTo>
                      <a:pt x="4454" y="1009"/>
                    </a:lnTo>
                    <a:lnTo>
                      <a:pt x="4480" y="1018"/>
                    </a:lnTo>
                    <a:lnTo>
                      <a:pt x="4510" y="1027"/>
                    </a:lnTo>
                    <a:lnTo>
                      <a:pt x="4541" y="1037"/>
                    </a:lnTo>
                    <a:lnTo>
                      <a:pt x="4571" y="1048"/>
                    </a:lnTo>
                    <a:lnTo>
                      <a:pt x="4602" y="1057"/>
                    </a:lnTo>
                    <a:lnTo>
                      <a:pt x="4632" y="1066"/>
                    </a:lnTo>
                    <a:lnTo>
                      <a:pt x="4661" y="1075"/>
                    </a:lnTo>
                    <a:lnTo>
                      <a:pt x="4691" y="1084"/>
                    </a:lnTo>
                    <a:lnTo>
                      <a:pt x="4720" y="1094"/>
                    </a:lnTo>
                    <a:lnTo>
                      <a:pt x="4750" y="1102"/>
                    </a:lnTo>
                    <a:lnTo>
                      <a:pt x="4779" y="1110"/>
                    </a:lnTo>
                    <a:lnTo>
                      <a:pt x="4808" y="1119"/>
                    </a:lnTo>
                    <a:lnTo>
                      <a:pt x="4838" y="1127"/>
                    </a:lnTo>
                    <a:lnTo>
                      <a:pt x="4866" y="1135"/>
                    </a:lnTo>
                    <a:lnTo>
                      <a:pt x="4895" y="1144"/>
                    </a:lnTo>
                    <a:lnTo>
                      <a:pt x="4924" y="1152"/>
                    </a:lnTo>
                    <a:lnTo>
                      <a:pt x="4952" y="1160"/>
                    </a:lnTo>
                    <a:lnTo>
                      <a:pt x="4980" y="1168"/>
                    </a:lnTo>
                    <a:lnTo>
                      <a:pt x="5008" y="1175"/>
                    </a:lnTo>
                    <a:lnTo>
                      <a:pt x="5036" y="1183"/>
                    </a:lnTo>
                    <a:lnTo>
                      <a:pt x="5065" y="1191"/>
                    </a:lnTo>
                    <a:lnTo>
                      <a:pt x="5091" y="1198"/>
                    </a:lnTo>
                    <a:lnTo>
                      <a:pt x="5119" y="1206"/>
                    </a:lnTo>
                    <a:lnTo>
                      <a:pt x="5146" y="1213"/>
                    </a:lnTo>
                    <a:lnTo>
                      <a:pt x="5173" y="1221"/>
                    </a:lnTo>
                    <a:lnTo>
                      <a:pt x="5198" y="1227"/>
                    </a:lnTo>
                    <a:lnTo>
                      <a:pt x="5225" y="1233"/>
                    </a:lnTo>
                    <a:lnTo>
                      <a:pt x="5250" y="1241"/>
                    </a:lnTo>
                    <a:lnTo>
                      <a:pt x="5276" y="1247"/>
                    </a:lnTo>
                    <a:lnTo>
                      <a:pt x="5300" y="1253"/>
                    </a:lnTo>
                    <a:lnTo>
                      <a:pt x="5325" y="1259"/>
                    </a:lnTo>
                    <a:lnTo>
                      <a:pt x="5348" y="1266"/>
                    </a:lnTo>
                    <a:lnTo>
                      <a:pt x="5374" y="1272"/>
                    </a:lnTo>
                    <a:lnTo>
                      <a:pt x="5396" y="1278"/>
                    </a:lnTo>
                    <a:lnTo>
                      <a:pt x="5419" y="1283"/>
                    </a:lnTo>
                    <a:lnTo>
                      <a:pt x="5442" y="1290"/>
                    </a:lnTo>
                    <a:lnTo>
                      <a:pt x="5465" y="1296"/>
                    </a:lnTo>
                    <a:lnTo>
                      <a:pt x="5485" y="1301"/>
                    </a:lnTo>
                    <a:lnTo>
                      <a:pt x="5507" y="1307"/>
                    </a:lnTo>
                    <a:lnTo>
                      <a:pt x="5527" y="1312"/>
                    </a:lnTo>
                    <a:lnTo>
                      <a:pt x="5548" y="1317"/>
                    </a:lnTo>
                    <a:lnTo>
                      <a:pt x="5567" y="1321"/>
                    </a:lnTo>
                    <a:lnTo>
                      <a:pt x="5586" y="1326"/>
                    </a:lnTo>
                    <a:lnTo>
                      <a:pt x="5605" y="1330"/>
                    </a:lnTo>
                    <a:lnTo>
                      <a:pt x="5623" y="1334"/>
                    </a:lnTo>
                    <a:lnTo>
                      <a:pt x="5640" y="1339"/>
                    </a:lnTo>
                    <a:lnTo>
                      <a:pt x="5658" y="1343"/>
                    </a:lnTo>
                    <a:lnTo>
                      <a:pt x="5674" y="1347"/>
                    </a:lnTo>
                    <a:lnTo>
                      <a:pt x="5691" y="1351"/>
                    </a:lnTo>
                    <a:lnTo>
                      <a:pt x="5705" y="1354"/>
                    </a:lnTo>
                    <a:lnTo>
                      <a:pt x="5719" y="1358"/>
                    </a:lnTo>
                    <a:lnTo>
                      <a:pt x="5733" y="1361"/>
                    </a:lnTo>
                    <a:lnTo>
                      <a:pt x="5747" y="1364"/>
                    </a:lnTo>
                    <a:lnTo>
                      <a:pt x="5759" y="1367"/>
                    </a:lnTo>
                    <a:lnTo>
                      <a:pt x="5770" y="1369"/>
                    </a:lnTo>
                    <a:lnTo>
                      <a:pt x="5781" y="1372"/>
                    </a:lnTo>
                    <a:lnTo>
                      <a:pt x="5792" y="1375"/>
                    </a:lnTo>
                    <a:lnTo>
                      <a:pt x="5801" y="1377"/>
                    </a:lnTo>
                    <a:lnTo>
                      <a:pt x="5810" y="1379"/>
                    </a:lnTo>
                    <a:lnTo>
                      <a:pt x="5818" y="1381"/>
                    </a:lnTo>
                    <a:lnTo>
                      <a:pt x="5826" y="1383"/>
                    </a:lnTo>
                    <a:lnTo>
                      <a:pt x="5836" y="1386"/>
                    </a:lnTo>
                    <a:lnTo>
                      <a:pt x="5847" y="1388"/>
                    </a:lnTo>
                    <a:lnTo>
                      <a:pt x="5851" y="1389"/>
                    </a:lnTo>
                    <a:lnTo>
                      <a:pt x="5855" y="1390"/>
                    </a:lnTo>
                    <a:lnTo>
                      <a:pt x="5855" y="1392"/>
                    </a:lnTo>
                    <a:lnTo>
                      <a:pt x="5855" y="1394"/>
                    </a:lnTo>
                    <a:lnTo>
                      <a:pt x="5853" y="1399"/>
                    </a:lnTo>
                    <a:lnTo>
                      <a:pt x="5851" y="1403"/>
                    </a:lnTo>
                    <a:lnTo>
                      <a:pt x="5849" y="1411"/>
                    </a:lnTo>
                    <a:lnTo>
                      <a:pt x="5847" y="1418"/>
                    </a:lnTo>
                    <a:lnTo>
                      <a:pt x="5842" y="1427"/>
                    </a:lnTo>
                    <a:lnTo>
                      <a:pt x="5838" y="1437"/>
                    </a:lnTo>
                    <a:lnTo>
                      <a:pt x="5833" y="1449"/>
                    </a:lnTo>
                    <a:lnTo>
                      <a:pt x="5828" y="1460"/>
                    </a:lnTo>
                    <a:lnTo>
                      <a:pt x="5822" y="1472"/>
                    </a:lnTo>
                    <a:lnTo>
                      <a:pt x="5817" y="1484"/>
                    </a:lnTo>
                    <a:lnTo>
                      <a:pt x="5809" y="1497"/>
                    </a:lnTo>
                    <a:lnTo>
                      <a:pt x="5801" y="1509"/>
                    </a:lnTo>
                    <a:lnTo>
                      <a:pt x="5791" y="1522"/>
                    </a:lnTo>
                    <a:lnTo>
                      <a:pt x="5782" y="1536"/>
                    </a:lnTo>
                    <a:lnTo>
                      <a:pt x="5770" y="1548"/>
                    </a:lnTo>
                    <a:lnTo>
                      <a:pt x="5759" y="1560"/>
                    </a:lnTo>
                    <a:lnTo>
                      <a:pt x="5745" y="1572"/>
                    </a:lnTo>
                    <a:lnTo>
                      <a:pt x="5733" y="1584"/>
                    </a:lnTo>
                    <a:lnTo>
                      <a:pt x="5725" y="1590"/>
                    </a:lnTo>
                    <a:lnTo>
                      <a:pt x="5717" y="1595"/>
                    </a:lnTo>
                    <a:lnTo>
                      <a:pt x="5709" y="1599"/>
                    </a:lnTo>
                    <a:lnTo>
                      <a:pt x="5702" y="1604"/>
                    </a:lnTo>
                    <a:lnTo>
                      <a:pt x="5692" y="1608"/>
                    </a:lnTo>
                    <a:lnTo>
                      <a:pt x="5684" y="1612"/>
                    </a:lnTo>
                    <a:lnTo>
                      <a:pt x="5676" y="1616"/>
                    </a:lnTo>
                    <a:lnTo>
                      <a:pt x="5667" y="1620"/>
                    </a:lnTo>
                    <a:lnTo>
                      <a:pt x="5657" y="1623"/>
                    </a:lnTo>
                    <a:lnTo>
                      <a:pt x="5646" y="1626"/>
                    </a:lnTo>
                    <a:lnTo>
                      <a:pt x="5636" y="1630"/>
                    </a:lnTo>
                    <a:lnTo>
                      <a:pt x="5626" y="1633"/>
                    </a:lnTo>
                    <a:lnTo>
                      <a:pt x="5615" y="1635"/>
                    </a:lnTo>
                    <a:lnTo>
                      <a:pt x="5604" y="1636"/>
                    </a:lnTo>
                    <a:lnTo>
                      <a:pt x="5592" y="1637"/>
                    </a:lnTo>
                    <a:lnTo>
                      <a:pt x="5582" y="1639"/>
                    </a:lnTo>
                    <a:lnTo>
                      <a:pt x="5570" y="1638"/>
                    </a:lnTo>
                    <a:lnTo>
                      <a:pt x="5558" y="1638"/>
                    </a:lnTo>
                    <a:lnTo>
                      <a:pt x="5545" y="1637"/>
                    </a:lnTo>
                    <a:lnTo>
                      <a:pt x="5533" y="1637"/>
                    </a:lnTo>
                    <a:lnTo>
                      <a:pt x="5519" y="1635"/>
                    </a:lnTo>
                    <a:lnTo>
                      <a:pt x="5505" y="1632"/>
                    </a:lnTo>
                    <a:lnTo>
                      <a:pt x="5490" y="1630"/>
                    </a:lnTo>
                    <a:lnTo>
                      <a:pt x="5477" y="1627"/>
                    </a:lnTo>
                    <a:lnTo>
                      <a:pt x="5466" y="1625"/>
                    </a:lnTo>
                    <a:lnTo>
                      <a:pt x="5456" y="1622"/>
                    </a:lnTo>
                    <a:lnTo>
                      <a:pt x="5444" y="1620"/>
                    </a:lnTo>
                    <a:lnTo>
                      <a:pt x="5433" y="1617"/>
                    </a:lnTo>
                    <a:lnTo>
                      <a:pt x="5424" y="1614"/>
                    </a:lnTo>
                    <a:lnTo>
                      <a:pt x="5414" y="1611"/>
                    </a:lnTo>
                    <a:lnTo>
                      <a:pt x="5404" y="1609"/>
                    </a:lnTo>
                    <a:lnTo>
                      <a:pt x="5395" y="1606"/>
                    </a:lnTo>
                    <a:lnTo>
                      <a:pt x="5381" y="1601"/>
                    </a:lnTo>
                    <a:lnTo>
                      <a:pt x="5368" y="1596"/>
                    </a:lnTo>
                    <a:lnTo>
                      <a:pt x="5357" y="1591"/>
                    </a:lnTo>
                    <a:lnTo>
                      <a:pt x="5345" y="1586"/>
                    </a:lnTo>
                    <a:lnTo>
                      <a:pt x="5338" y="1584"/>
                    </a:lnTo>
                    <a:lnTo>
                      <a:pt x="5332" y="1582"/>
                    </a:lnTo>
                    <a:lnTo>
                      <a:pt x="5327" y="1578"/>
                    </a:lnTo>
                    <a:lnTo>
                      <a:pt x="5322" y="1574"/>
                    </a:lnTo>
                    <a:lnTo>
                      <a:pt x="5319" y="1573"/>
                    </a:lnTo>
                    <a:lnTo>
                      <a:pt x="5316" y="1571"/>
                    </a:lnTo>
                    <a:lnTo>
                      <a:pt x="5315" y="1571"/>
                    </a:lnTo>
                    <a:lnTo>
                      <a:pt x="5314" y="1571"/>
                    </a:lnTo>
                    <a:lnTo>
                      <a:pt x="5315" y="1577"/>
                    </a:lnTo>
                    <a:lnTo>
                      <a:pt x="5316" y="1584"/>
                    </a:lnTo>
                    <a:lnTo>
                      <a:pt x="5316" y="1598"/>
                    </a:lnTo>
                    <a:lnTo>
                      <a:pt x="5316" y="1611"/>
                    </a:lnTo>
                    <a:lnTo>
                      <a:pt x="5315" y="1622"/>
                    </a:lnTo>
                    <a:lnTo>
                      <a:pt x="5314" y="1633"/>
                    </a:lnTo>
                    <a:lnTo>
                      <a:pt x="5313" y="1644"/>
                    </a:lnTo>
                    <a:lnTo>
                      <a:pt x="5312" y="1655"/>
                    </a:lnTo>
                    <a:lnTo>
                      <a:pt x="5309" y="1666"/>
                    </a:lnTo>
                    <a:lnTo>
                      <a:pt x="5305" y="1678"/>
                    </a:lnTo>
                    <a:lnTo>
                      <a:pt x="5302" y="1689"/>
                    </a:lnTo>
                    <a:lnTo>
                      <a:pt x="5298" y="1699"/>
                    </a:lnTo>
                    <a:lnTo>
                      <a:pt x="5292" y="1711"/>
                    </a:lnTo>
                    <a:lnTo>
                      <a:pt x="5286" y="1723"/>
                    </a:lnTo>
                    <a:lnTo>
                      <a:pt x="5280" y="1735"/>
                    </a:lnTo>
                    <a:lnTo>
                      <a:pt x="5275" y="1746"/>
                    </a:lnTo>
                    <a:lnTo>
                      <a:pt x="5264" y="1756"/>
                    </a:lnTo>
                    <a:lnTo>
                      <a:pt x="5252" y="1765"/>
                    </a:lnTo>
                    <a:lnTo>
                      <a:pt x="5241" y="1773"/>
                    </a:lnTo>
                    <a:lnTo>
                      <a:pt x="5231" y="1783"/>
                    </a:lnTo>
                    <a:lnTo>
                      <a:pt x="5215" y="1789"/>
                    </a:lnTo>
                    <a:lnTo>
                      <a:pt x="5198" y="1794"/>
                    </a:lnTo>
                    <a:lnTo>
                      <a:pt x="5183" y="1799"/>
                    </a:lnTo>
                    <a:lnTo>
                      <a:pt x="5168" y="1804"/>
                    </a:lnTo>
                    <a:lnTo>
                      <a:pt x="5145" y="1805"/>
                    </a:lnTo>
                    <a:lnTo>
                      <a:pt x="5124" y="1805"/>
                    </a:lnTo>
                    <a:lnTo>
                      <a:pt x="5101" y="1805"/>
                    </a:lnTo>
                    <a:lnTo>
                      <a:pt x="5080" y="1805"/>
                    </a:lnTo>
                    <a:lnTo>
                      <a:pt x="5067" y="1803"/>
                    </a:lnTo>
                    <a:lnTo>
                      <a:pt x="5053" y="1801"/>
                    </a:lnTo>
                    <a:lnTo>
                      <a:pt x="5039" y="1799"/>
                    </a:lnTo>
                    <a:lnTo>
                      <a:pt x="5026" y="1797"/>
                    </a:lnTo>
                    <a:lnTo>
                      <a:pt x="5016" y="1794"/>
                    </a:lnTo>
                    <a:lnTo>
                      <a:pt x="5004" y="1791"/>
                    </a:lnTo>
                    <a:lnTo>
                      <a:pt x="4993" y="1788"/>
                    </a:lnTo>
                    <a:lnTo>
                      <a:pt x="4982" y="1785"/>
                    </a:lnTo>
                    <a:lnTo>
                      <a:pt x="4974" y="1782"/>
                    </a:lnTo>
                    <a:lnTo>
                      <a:pt x="4965" y="1778"/>
                    </a:lnTo>
                    <a:lnTo>
                      <a:pt x="4957" y="1775"/>
                    </a:lnTo>
                    <a:lnTo>
                      <a:pt x="4949" y="1770"/>
                    </a:lnTo>
                    <a:lnTo>
                      <a:pt x="4937" y="1763"/>
                    </a:lnTo>
                    <a:lnTo>
                      <a:pt x="4926" y="1755"/>
                    </a:lnTo>
                    <a:lnTo>
                      <a:pt x="4916" y="1749"/>
                    </a:lnTo>
                    <a:lnTo>
                      <a:pt x="4907" y="1743"/>
                    </a:lnTo>
                    <a:lnTo>
                      <a:pt x="4901" y="1737"/>
                    </a:lnTo>
                    <a:lnTo>
                      <a:pt x="4896" y="1730"/>
                    </a:lnTo>
                    <a:lnTo>
                      <a:pt x="4892" y="1727"/>
                    </a:lnTo>
                    <a:lnTo>
                      <a:pt x="4890" y="1722"/>
                    </a:lnTo>
                    <a:lnTo>
                      <a:pt x="4888" y="1721"/>
                    </a:lnTo>
                    <a:lnTo>
                      <a:pt x="4888" y="1720"/>
                    </a:lnTo>
                    <a:lnTo>
                      <a:pt x="4888" y="1722"/>
                    </a:lnTo>
                    <a:lnTo>
                      <a:pt x="4888" y="1723"/>
                    </a:lnTo>
                    <a:lnTo>
                      <a:pt x="4887" y="1729"/>
                    </a:lnTo>
                    <a:lnTo>
                      <a:pt x="4886" y="1732"/>
                    </a:lnTo>
                    <a:lnTo>
                      <a:pt x="4884" y="1739"/>
                    </a:lnTo>
                    <a:lnTo>
                      <a:pt x="4882" y="1745"/>
                    </a:lnTo>
                    <a:lnTo>
                      <a:pt x="4879" y="1754"/>
                    </a:lnTo>
                    <a:lnTo>
                      <a:pt x="4876" y="1763"/>
                    </a:lnTo>
                    <a:lnTo>
                      <a:pt x="4872" y="1773"/>
                    </a:lnTo>
                    <a:lnTo>
                      <a:pt x="4867" y="1784"/>
                    </a:lnTo>
                    <a:lnTo>
                      <a:pt x="4861" y="1794"/>
                    </a:lnTo>
                    <a:lnTo>
                      <a:pt x="4856" y="1805"/>
                    </a:lnTo>
                    <a:lnTo>
                      <a:pt x="4849" y="1817"/>
                    </a:lnTo>
                    <a:lnTo>
                      <a:pt x="4842" y="1830"/>
                    </a:lnTo>
                    <a:lnTo>
                      <a:pt x="4834" y="1841"/>
                    </a:lnTo>
                    <a:lnTo>
                      <a:pt x="4826" y="1852"/>
                    </a:lnTo>
                    <a:lnTo>
                      <a:pt x="4814" y="1863"/>
                    </a:lnTo>
                    <a:lnTo>
                      <a:pt x="4804" y="1875"/>
                    </a:lnTo>
                    <a:lnTo>
                      <a:pt x="4791" y="1886"/>
                    </a:lnTo>
                    <a:lnTo>
                      <a:pt x="4778" y="1897"/>
                    </a:lnTo>
                    <a:lnTo>
                      <a:pt x="4763" y="1906"/>
                    </a:lnTo>
                    <a:lnTo>
                      <a:pt x="4748" y="1916"/>
                    </a:lnTo>
                    <a:lnTo>
                      <a:pt x="4740" y="1921"/>
                    </a:lnTo>
                    <a:lnTo>
                      <a:pt x="4731" y="1924"/>
                    </a:lnTo>
                    <a:lnTo>
                      <a:pt x="4723" y="1928"/>
                    </a:lnTo>
                    <a:lnTo>
                      <a:pt x="4714" y="1932"/>
                    </a:lnTo>
                    <a:lnTo>
                      <a:pt x="4704" y="1935"/>
                    </a:lnTo>
                    <a:lnTo>
                      <a:pt x="4695" y="1937"/>
                    </a:lnTo>
                    <a:lnTo>
                      <a:pt x="4685" y="1940"/>
                    </a:lnTo>
                    <a:lnTo>
                      <a:pt x="4675" y="1942"/>
                    </a:lnTo>
                    <a:lnTo>
                      <a:pt x="4663" y="1944"/>
                    </a:lnTo>
                    <a:lnTo>
                      <a:pt x="4652" y="1946"/>
                    </a:lnTo>
                    <a:lnTo>
                      <a:pt x="4641" y="1947"/>
                    </a:lnTo>
                    <a:lnTo>
                      <a:pt x="4630" y="1948"/>
                    </a:lnTo>
                    <a:lnTo>
                      <a:pt x="4616" y="1948"/>
                    </a:lnTo>
                    <a:lnTo>
                      <a:pt x="4603" y="1948"/>
                    </a:lnTo>
                    <a:lnTo>
                      <a:pt x="4591" y="1948"/>
                    </a:lnTo>
                    <a:lnTo>
                      <a:pt x="4578" y="1948"/>
                    </a:lnTo>
                    <a:lnTo>
                      <a:pt x="4563" y="1946"/>
                    </a:lnTo>
                    <a:lnTo>
                      <a:pt x="4549" y="1944"/>
                    </a:lnTo>
                    <a:lnTo>
                      <a:pt x="4535" y="1942"/>
                    </a:lnTo>
                    <a:lnTo>
                      <a:pt x="4520" y="1940"/>
                    </a:lnTo>
                    <a:lnTo>
                      <a:pt x="4509" y="1938"/>
                    </a:lnTo>
                    <a:lnTo>
                      <a:pt x="4498" y="1935"/>
                    </a:lnTo>
                    <a:lnTo>
                      <a:pt x="4488" y="1933"/>
                    </a:lnTo>
                    <a:lnTo>
                      <a:pt x="4476" y="1930"/>
                    </a:lnTo>
                    <a:lnTo>
                      <a:pt x="4466" y="1927"/>
                    </a:lnTo>
                    <a:lnTo>
                      <a:pt x="4456" y="1924"/>
                    </a:lnTo>
                    <a:lnTo>
                      <a:pt x="4445" y="1921"/>
                    </a:lnTo>
                    <a:lnTo>
                      <a:pt x="4435" y="1917"/>
                    </a:lnTo>
                    <a:lnTo>
                      <a:pt x="4425" y="1914"/>
                    </a:lnTo>
                    <a:lnTo>
                      <a:pt x="4416" y="1911"/>
                    </a:lnTo>
                    <a:lnTo>
                      <a:pt x="4406" y="1908"/>
                    </a:lnTo>
                    <a:lnTo>
                      <a:pt x="4397" y="1905"/>
                    </a:lnTo>
                    <a:lnTo>
                      <a:pt x="4388" y="1901"/>
                    </a:lnTo>
                    <a:lnTo>
                      <a:pt x="4378" y="1897"/>
                    </a:lnTo>
                    <a:lnTo>
                      <a:pt x="4370" y="1893"/>
                    </a:lnTo>
                    <a:lnTo>
                      <a:pt x="4361" y="1888"/>
                    </a:lnTo>
                    <a:lnTo>
                      <a:pt x="4353" y="1885"/>
                    </a:lnTo>
                    <a:lnTo>
                      <a:pt x="4345" y="1881"/>
                    </a:lnTo>
                    <a:lnTo>
                      <a:pt x="4336" y="1877"/>
                    </a:lnTo>
                    <a:lnTo>
                      <a:pt x="4327" y="1873"/>
                    </a:lnTo>
                    <a:lnTo>
                      <a:pt x="4313" y="1864"/>
                    </a:lnTo>
                    <a:lnTo>
                      <a:pt x="4298" y="1855"/>
                    </a:lnTo>
                    <a:lnTo>
                      <a:pt x="4285" y="1847"/>
                    </a:lnTo>
                    <a:lnTo>
                      <a:pt x="4271" y="1838"/>
                    </a:lnTo>
                    <a:lnTo>
                      <a:pt x="4259" y="1830"/>
                    </a:lnTo>
                    <a:lnTo>
                      <a:pt x="4248" y="1821"/>
                    </a:lnTo>
                    <a:lnTo>
                      <a:pt x="4237" y="1813"/>
                    </a:lnTo>
                    <a:lnTo>
                      <a:pt x="4225" y="1804"/>
                    </a:lnTo>
                    <a:lnTo>
                      <a:pt x="4217" y="1797"/>
                    </a:lnTo>
                    <a:lnTo>
                      <a:pt x="4208" y="1788"/>
                    </a:lnTo>
                    <a:lnTo>
                      <a:pt x="4200" y="1782"/>
                    </a:lnTo>
                    <a:lnTo>
                      <a:pt x="4192" y="1773"/>
                    </a:lnTo>
                    <a:lnTo>
                      <a:pt x="4185" y="1767"/>
                    </a:lnTo>
                    <a:lnTo>
                      <a:pt x="4179" y="1761"/>
                    </a:lnTo>
                    <a:lnTo>
                      <a:pt x="4173" y="1756"/>
                    </a:lnTo>
                    <a:lnTo>
                      <a:pt x="4169" y="1750"/>
                    </a:lnTo>
                    <a:lnTo>
                      <a:pt x="4166" y="1747"/>
                    </a:lnTo>
                    <a:lnTo>
                      <a:pt x="4163" y="1743"/>
                    </a:lnTo>
                    <a:lnTo>
                      <a:pt x="4161" y="1741"/>
                    </a:lnTo>
                    <a:lnTo>
                      <a:pt x="4159" y="1739"/>
                    </a:lnTo>
                    <a:lnTo>
                      <a:pt x="4158" y="1737"/>
                    </a:lnTo>
                    <a:lnTo>
                      <a:pt x="4157" y="1736"/>
                    </a:lnTo>
                    <a:lnTo>
                      <a:pt x="4157" y="1738"/>
                    </a:lnTo>
                    <a:lnTo>
                      <a:pt x="4157" y="1740"/>
                    </a:lnTo>
                    <a:lnTo>
                      <a:pt x="4155" y="1743"/>
                    </a:lnTo>
                    <a:lnTo>
                      <a:pt x="4153" y="1747"/>
                    </a:lnTo>
                    <a:lnTo>
                      <a:pt x="4150" y="1753"/>
                    </a:lnTo>
                    <a:lnTo>
                      <a:pt x="4147" y="1759"/>
                    </a:lnTo>
                    <a:lnTo>
                      <a:pt x="4143" y="1768"/>
                    </a:lnTo>
                    <a:lnTo>
                      <a:pt x="4140" y="1778"/>
                    </a:lnTo>
                    <a:lnTo>
                      <a:pt x="4133" y="1788"/>
                    </a:lnTo>
                    <a:lnTo>
                      <a:pt x="4126" y="1797"/>
                    </a:lnTo>
                    <a:lnTo>
                      <a:pt x="4120" y="1807"/>
                    </a:lnTo>
                    <a:lnTo>
                      <a:pt x="4113" y="1817"/>
                    </a:lnTo>
                    <a:lnTo>
                      <a:pt x="4103" y="1829"/>
                    </a:lnTo>
                    <a:lnTo>
                      <a:pt x="4094" y="1839"/>
                    </a:lnTo>
                    <a:lnTo>
                      <a:pt x="4081" y="1851"/>
                    </a:lnTo>
                    <a:lnTo>
                      <a:pt x="4069" y="1862"/>
                    </a:lnTo>
                    <a:lnTo>
                      <a:pt x="4055" y="1873"/>
                    </a:lnTo>
                    <a:lnTo>
                      <a:pt x="4039" y="1883"/>
                    </a:lnTo>
                    <a:lnTo>
                      <a:pt x="4031" y="1888"/>
                    </a:lnTo>
                    <a:lnTo>
                      <a:pt x="4022" y="1892"/>
                    </a:lnTo>
                    <a:lnTo>
                      <a:pt x="4014" y="1897"/>
                    </a:lnTo>
                    <a:lnTo>
                      <a:pt x="4006" y="1901"/>
                    </a:lnTo>
                    <a:lnTo>
                      <a:pt x="3996" y="1905"/>
                    </a:lnTo>
                    <a:lnTo>
                      <a:pt x="3985" y="1908"/>
                    </a:lnTo>
                    <a:lnTo>
                      <a:pt x="3975" y="1912"/>
                    </a:lnTo>
                    <a:lnTo>
                      <a:pt x="3966" y="1915"/>
                    </a:lnTo>
                    <a:lnTo>
                      <a:pt x="3955" y="1918"/>
                    </a:lnTo>
                    <a:lnTo>
                      <a:pt x="3942" y="1922"/>
                    </a:lnTo>
                    <a:lnTo>
                      <a:pt x="3931" y="1925"/>
                    </a:lnTo>
                    <a:lnTo>
                      <a:pt x="3920" y="1927"/>
                    </a:lnTo>
                    <a:lnTo>
                      <a:pt x="3907" y="1929"/>
                    </a:lnTo>
                    <a:lnTo>
                      <a:pt x="3892" y="1931"/>
                    </a:lnTo>
                    <a:lnTo>
                      <a:pt x="3879" y="1933"/>
                    </a:lnTo>
                    <a:lnTo>
                      <a:pt x="3866" y="1935"/>
                    </a:lnTo>
                    <a:lnTo>
                      <a:pt x="3852" y="1935"/>
                    </a:lnTo>
                    <a:lnTo>
                      <a:pt x="3837" y="1934"/>
                    </a:lnTo>
                    <a:lnTo>
                      <a:pt x="3822" y="1934"/>
                    </a:lnTo>
                    <a:lnTo>
                      <a:pt x="3807" y="1934"/>
                    </a:lnTo>
                    <a:lnTo>
                      <a:pt x="3790" y="1932"/>
                    </a:lnTo>
                    <a:lnTo>
                      <a:pt x="3773" y="1931"/>
                    </a:lnTo>
                    <a:lnTo>
                      <a:pt x="3757" y="1929"/>
                    </a:lnTo>
                    <a:lnTo>
                      <a:pt x="3739" y="1927"/>
                    </a:lnTo>
                    <a:lnTo>
                      <a:pt x="3721" y="1923"/>
                    </a:lnTo>
                    <a:lnTo>
                      <a:pt x="3702" y="1919"/>
                    </a:lnTo>
                    <a:lnTo>
                      <a:pt x="3682" y="1916"/>
                    </a:lnTo>
                    <a:lnTo>
                      <a:pt x="3664" y="1912"/>
                    </a:lnTo>
                    <a:lnTo>
                      <a:pt x="3644" y="1908"/>
                    </a:lnTo>
                    <a:lnTo>
                      <a:pt x="3626" y="1904"/>
                    </a:lnTo>
                    <a:lnTo>
                      <a:pt x="3607" y="1899"/>
                    </a:lnTo>
                    <a:lnTo>
                      <a:pt x="3588" y="1895"/>
                    </a:lnTo>
                    <a:lnTo>
                      <a:pt x="3571" y="1890"/>
                    </a:lnTo>
                    <a:lnTo>
                      <a:pt x="3552" y="1885"/>
                    </a:lnTo>
                    <a:lnTo>
                      <a:pt x="3535" y="1879"/>
                    </a:lnTo>
                    <a:lnTo>
                      <a:pt x="3519" y="1874"/>
                    </a:lnTo>
                    <a:lnTo>
                      <a:pt x="3501" y="1869"/>
                    </a:lnTo>
                    <a:lnTo>
                      <a:pt x="3485" y="1865"/>
                    </a:lnTo>
                    <a:lnTo>
                      <a:pt x="3469" y="1861"/>
                    </a:lnTo>
                    <a:lnTo>
                      <a:pt x="3452" y="1857"/>
                    </a:lnTo>
                    <a:lnTo>
                      <a:pt x="3438" y="1852"/>
                    </a:lnTo>
                    <a:lnTo>
                      <a:pt x="3423" y="1846"/>
                    </a:lnTo>
                    <a:lnTo>
                      <a:pt x="3408" y="1841"/>
                    </a:lnTo>
                    <a:lnTo>
                      <a:pt x="3393" y="1836"/>
                    </a:lnTo>
                    <a:lnTo>
                      <a:pt x="3380" y="1832"/>
                    </a:lnTo>
                    <a:lnTo>
                      <a:pt x="3367" y="1827"/>
                    </a:lnTo>
                    <a:lnTo>
                      <a:pt x="3353" y="1822"/>
                    </a:lnTo>
                    <a:lnTo>
                      <a:pt x="3340" y="1817"/>
                    </a:lnTo>
                    <a:lnTo>
                      <a:pt x="3328" y="1813"/>
                    </a:lnTo>
                    <a:lnTo>
                      <a:pt x="3316" y="1809"/>
                    </a:lnTo>
                    <a:lnTo>
                      <a:pt x="3304" y="1805"/>
                    </a:lnTo>
                    <a:lnTo>
                      <a:pt x="3292" y="1800"/>
                    </a:lnTo>
                    <a:lnTo>
                      <a:pt x="3281" y="1796"/>
                    </a:lnTo>
                    <a:lnTo>
                      <a:pt x="3271" y="1792"/>
                    </a:lnTo>
                    <a:lnTo>
                      <a:pt x="3259" y="1788"/>
                    </a:lnTo>
                    <a:lnTo>
                      <a:pt x="3248" y="1784"/>
                    </a:lnTo>
                    <a:lnTo>
                      <a:pt x="3238" y="1780"/>
                    </a:lnTo>
                    <a:lnTo>
                      <a:pt x="3228" y="1776"/>
                    </a:lnTo>
                    <a:lnTo>
                      <a:pt x="3219" y="1770"/>
                    </a:lnTo>
                    <a:lnTo>
                      <a:pt x="3208" y="1766"/>
                    </a:lnTo>
                    <a:lnTo>
                      <a:pt x="3200" y="1763"/>
                    </a:lnTo>
                    <a:lnTo>
                      <a:pt x="3191" y="1759"/>
                    </a:lnTo>
                    <a:lnTo>
                      <a:pt x="3183" y="1756"/>
                    </a:lnTo>
                    <a:lnTo>
                      <a:pt x="3175" y="1752"/>
                    </a:lnTo>
                    <a:lnTo>
                      <a:pt x="3160" y="1746"/>
                    </a:lnTo>
                    <a:lnTo>
                      <a:pt x="3147" y="1740"/>
                    </a:lnTo>
                    <a:lnTo>
                      <a:pt x="3135" y="1734"/>
                    </a:lnTo>
                    <a:lnTo>
                      <a:pt x="3123" y="1729"/>
                    </a:lnTo>
                    <a:lnTo>
                      <a:pt x="3112" y="1723"/>
                    </a:lnTo>
                    <a:lnTo>
                      <a:pt x="3103" y="1717"/>
                    </a:lnTo>
                    <a:lnTo>
                      <a:pt x="3096" y="1713"/>
                    </a:lnTo>
                    <a:lnTo>
                      <a:pt x="3089" y="1708"/>
                    </a:lnTo>
                    <a:lnTo>
                      <a:pt x="3083" y="1706"/>
                    </a:lnTo>
                    <a:lnTo>
                      <a:pt x="3078" y="1703"/>
                    </a:lnTo>
                    <a:lnTo>
                      <a:pt x="3074" y="1701"/>
                    </a:lnTo>
                    <a:lnTo>
                      <a:pt x="3071" y="1698"/>
                    </a:lnTo>
                    <a:lnTo>
                      <a:pt x="3071" y="1698"/>
                    </a:lnTo>
                    <a:lnTo>
                      <a:pt x="3070" y="1698"/>
                    </a:lnTo>
                    <a:lnTo>
                      <a:pt x="3035" y="1690"/>
                    </a:lnTo>
                    <a:lnTo>
                      <a:pt x="3001" y="1682"/>
                    </a:lnTo>
                    <a:lnTo>
                      <a:pt x="2966" y="1673"/>
                    </a:lnTo>
                    <a:lnTo>
                      <a:pt x="2933" y="1665"/>
                    </a:lnTo>
                    <a:lnTo>
                      <a:pt x="2898" y="1657"/>
                    </a:lnTo>
                    <a:lnTo>
                      <a:pt x="2864" y="1649"/>
                    </a:lnTo>
                    <a:lnTo>
                      <a:pt x="2831" y="1641"/>
                    </a:lnTo>
                    <a:lnTo>
                      <a:pt x="2796" y="1633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355280" y="1816200"/>
                <a:ext cx="68040" cy="78840"/>
              </a:xfrm>
              <a:custGeom>
                <a:avLst/>
                <a:gdLst/>
                <a:ahLst/>
                <a:rect l="l" t="t" r="r" b="b"/>
                <a:pathLst>
                  <a:path w="1344" h="1480">
                    <a:moveTo>
                      <a:pt x="1344" y="1480"/>
                    </a:moveTo>
                    <a:lnTo>
                      <a:pt x="1335" y="1478"/>
                    </a:lnTo>
                    <a:lnTo>
                      <a:pt x="1327" y="1475"/>
                    </a:lnTo>
                    <a:lnTo>
                      <a:pt x="1317" y="1471"/>
                    </a:lnTo>
                    <a:lnTo>
                      <a:pt x="1306" y="1468"/>
                    </a:lnTo>
                    <a:lnTo>
                      <a:pt x="1296" y="1466"/>
                    </a:lnTo>
                    <a:lnTo>
                      <a:pt x="1287" y="1463"/>
                    </a:lnTo>
                    <a:lnTo>
                      <a:pt x="1277" y="1460"/>
                    </a:lnTo>
                    <a:lnTo>
                      <a:pt x="1267" y="1457"/>
                    </a:lnTo>
                    <a:lnTo>
                      <a:pt x="1256" y="1453"/>
                    </a:lnTo>
                    <a:lnTo>
                      <a:pt x="1247" y="1449"/>
                    </a:lnTo>
                    <a:lnTo>
                      <a:pt x="1236" y="1446"/>
                    </a:lnTo>
                    <a:lnTo>
                      <a:pt x="1225" y="1442"/>
                    </a:lnTo>
                    <a:lnTo>
                      <a:pt x="1215" y="1440"/>
                    </a:lnTo>
                    <a:lnTo>
                      <a:pt x="1205" y="1438"/>
                    </a:lnTo>
                    <a:lnTo>
                      <a:pt x="1194" y="1434"/>
                    </a:lnTo>
                    <a:lnTo>
                      <a:pt x="1183" y="1430"/>
                    </a:lnTo>
                    <a:lnTo>
                      <a:pt x="1156" y="1422"/>
                    </a:lnTo>
                    <a:lnTo>
                      <a:pt x="1130" y="1414"/>
                    </a:lnTo>
                    <a:lnTo>
                      <a:pt x="1102" y="1405"/>
                    </a:lnTo>
                    <a:lnTo>
                      <a:pt x="1076" y="1395"/>
                    </a:lnTo>
                    <a:lnTo>
                      <a:pt x="1049" y="1384"/>
                    </a:lnTo>
                    <a:lnTo>
                      <a:pt x="1022" y="1374"/>
                    </a:lnTo>
                    <a:lnTo>
                      <a:pt x="995" y="1363"/>
                    </a:lnTo>
                    <a:lnTo>
                      <a:pt x="969" y="1351"/>
                    </a:lnTo>
                    <a:lnTo>
                      <a:pt x="941" y="1339"/>
                    </a:lnTo>
                    <a:lnTo>
                      <a:pt x="914" y="1326"/>
                    </a:lnTo>
                    <a:lnTo>
                      <a:pt x="888" y="1313"/>
                    </a:lnTo>
                    <a:lnTo>
                      <a:pt x="861" y="1300"/>
                    </a:lnTo>
                    <a:lnTo>
                      <a:pt x="835" y="1287"/>
                    </a:lnTo>
                    <a:lnTo>
                      <a:pt x="809" y="1273"/>
                    </a:lnTo>
                    <a:lnTo>
                      <a:pt x="784" y="1260"/>
                    </a:lnTo>
                    <a:lnTo>
                      <a:pt x="757" y="1245"/>
                    </a:lnTo>
                    <a:lnTo>
                      <a:pt x="732" y="1230"/>
                    </a:lnTo>
                    <a:lnTo>
                      <a:pt x="706" y="1215"/>
                    </a:lnTo>
                    <a:lnTo>
                      <a:pt x="682" y="1199"/>
                    </a:lnTo>
                    <a:lnTo>
                      <a:pt x="656" y="1184"/>
                    </a:lnTo>
                    <a:lnTo>
                      <a:pt x="631" y="1168"/>
                    </a:lnTo>
                    <a:lnTo>
                      <a:pt x="605" y="1150"/>
                    </a:lnTo>
                    <a:lnTo>
                      <a:pt x="581" y="1134"/>
                    </a:lnTo>
                    <a:lnTo>
                      <a:pt x="556" y="1118"/>
                    </a:lnTo>
                    <a:lnTo>
                      <a:pt x="533" y="1101"/>
                    </a:lnTo>
                    <a:lnTo>
                      <a:pt x="510" y="1085"/>
                    </a:lnTo>
                    <a:lnTo>
                      <a:pt x="487" y="1068"/>
                    </a:lnTo>
                    <a:lnTo>
                      <a:pt x="464" y="1050"/>
                    </a:lnTo>
                    <a:lnTo>
                      <a:pt x="442" y="1033"/>
                    </a:lnTo>
                    <a:lnTo>
                      <a:pt x="420" y="1015"/>
                    </a:lnTo>
                    <a:lnTo>
                      <a:pt x="399" y="996"/>
                    </a:lnTo>
                    <a:lnTo>
                      <a:pt x="376" y="978"/>
                    </a:lnTo>
                    <a:lnTo>
                      <a:pt x="357" y="959"/>
                    </a:lnTo>
                    <a:lnTo>
                      <a:pt x="337" y="940"/>
                    </a:lnTo>
                    <a:lnTo>
                      <a:pt x="317" y="922"/>
                    </a:lnTo>
                    <a:lnTo>
                      <a:pt x="297" y="902"/>
                    </a:lnTo>
                    <a:lnTo>
                      <a:pt x="278" y="883"/>
                    </a:lnTo>
                    <a:lnTo>
                      <a:pt x="260" y="863"/>
                    </a:lnTo>
                    <a:lnTo>
                      <a:pt x="242" y="844"/>
                    </a:lnTo>
                    <a:lnTo>
                      <a:pt x="223" y="825"/>
                    </a:lnTo>
                    <a:lnTo>
                      <a:pt x="207" y="805"/>
                    </a:lnTo>
                    <a:lnTo>
                      <a:pt x="191" y="786"/>
                    </a:lnTo>
                    <a:lnTo>
                      <a:pt x="175" y="766"/>
                    </a:lnTo>
                    <a:lnTo>
                      <a:pt x="159" y="747"/>
                    </a:lnTo>
                    <a:lnTo>
                      <a:pt x="145" y="728"/>
                    </a:lnTo>
                    <a:lnTo>
                      <a:pt x="131" y="708"/>
                    </a:lnTo>
                    <a:lnTo>
                      <a:pt x="117" y="688"/>
                    </a:lnTo>
                    <a:lnTo>
                      <a:pt x="104" y="667"/>
                    </a:lnTo>
                    <a:lnTo>
                      <a:pt x="93" y="648"/>
                    </a:lnTo>
                    <a:lnTo>
                      <a:pt x="81" y="629"/>
                    </a:lnTo>
                    <a:lnTo>
                      <a:pt x="70" y="608"/>
                    </a:lnTo>
                    <a:lnTo>
                      <a:pt x="60" y="589"/>
                    </a:lnTo>
                    <a:lnTo>
                      <a:pt x="52" y="569"/>
                    </a:lnTo>
                    <a:lnTo>
                      <a:pt x="44" y="550"/>
                    </a:lnTo>
                    <a:lnTo>
                      <a:pt x="35" y="531"/>
                    </a:lnTo>
                    <a:lnTo>
                      <a:pt x="28" y="510"/>
                    </a:lnTo>
                    <a:lnTo>
                      <a:pt x="22" y="491"/>
                    </a:lnTo>
                    <a:lnTo>
                      <a:pt x="18" y="472"/>
                    </a:lnTo>
                    <a:lnTo>
                      <a:pt x="13" y="453"/>
                    </a:lnTo>
                    <a:lnTo>
                      <a:pt x="8" y="434"/>
                    </a:lnTo>
                    <a:lnTo>
                      <a:pt x="6" y="415"/>
                    </a:lnTo>
                    <a:lnTo>
                      <a:pt x="4" y="396"/>
                    </a:lnTo>
                    <a:lnTo>
                      <a:pt x="2" y="377"/>
                    </a:lnTo>
                    <a:lnTo>
                      <a:pt x="0" y="359"/>
                    </a:lnTo>
                    <a:lnTo>
                      <a:pt x="1" y="338"/>
                    </a:lnTo>
                    <a:lnTo>
                      <a:pt x="3" y="315"/>
                    </a:lnTo>
                    <a:lnTo>
                      <a:pt x="5" y="294"/>
                    </a:lnTo>
                    <a:lnTo>
                      <a:pt x="6" y="271"/>
                    </a:lnTo>
                    <a:lnTo>
                      <a:pt x="11" y="254"/>
                    </a:lnTo>
                    <a:lnTo>
                      <a:pt x="16" y="236"/>
                    </a:lnTo>
                    <a:lnTo>
                      <a:pt x="21" y="218"/>
                    </a:lnTo>
                    <a:lnTo>
                      <a:pt x="26" y="200"/>
                    </a:lnTo>
                    <a:lnTo>
                      <a:pt x="34" y="186"/>
                    </a:lnTo>
                    <a:lnTo>
                      <a:pt x="41" y="171"/>
                    </a:lnTo>
                    <a:lnTo>
                      <a:pt x="50" y="156"/>
                    </a:lnTo>
                    <a:lnTo>
                      <a:pt x="58" y="142"/>
                    </a:lnTo>
                    <a:lnTo>
                      <a:pt x="67" y="129"/>
                    </a:lnTo>
                    <a:lnTo>
                      <a:pt x="77" y="118"/>
                    </a:lnTo>
                    <a:lnTo>
                      <a:pt x="87" y="106"/>
                    </a:lnTo>
                    <a:lnTo>
                      <a:pt x="98" y="94"/>
                    </a:lnTo>
                    <a:lnTo>
                      <a:pt x="110" y="85"/>
                    </a:lnTo>
                    <a:lnTo>
                      <a:pt x="122" y="76"/>
                    </a:lnTo>
                    <a:lnTo>
                      <a:pt x="134" y="67"/>
                    </a:lnTo>
                    <a:lnTo>
                      <a:pt x="148" y="58"/>
                    </a:lnTo>
                    <a:lnTo>
                      <a:pt x="161" y="51"/>
                    </a:lnTo>
                    <a:lnTo>
                      <a:pt x="175" y="45"/>
                    </a:lnTo>
                    <a:lnTo>
                      <a:pt x="190" y="37"/>
                    </a:lnTo>
                    <a:lnTo>
                      <a:pt x="204" y="31"/>
                    </a:lnTo>
                    <a:lnTo>
                      <a:pt x="218" y="26"/>
                    </a:lnTo>
                    <a:lnTo>
                      <a:pt x="233" y="22"/>
                    </a:lnTo>
                    <a:lnTo>
                      <a:pt x="248" y="18"/>
                    </a:lnTo>
                    <a:lnTo>
                      <a:pt x="263" y="13"/>
                    </a:lnTo>
                    <a:lnTo>
                      <a:pt x="279" y="11"/>
                    </a:lnTo>
                    <a:lnTo>
                      <a:pt x="296" y="8"/>
                    </a:lnTo>
                    <a:lnTo>
                      <a:pt x="312" y="6"/>
                    </a:lnTo>
                    <a:lnTo>
                      <a:pt x="328" y="4"/>
                    </a:lnTo>
                    <a:lnTo>
                      <a:pt x="345" y="3"/>
                    </a:lnTo>
                    <a:lnTo>
                      <a:pt x="361" y="2"/>
                    </a:lnTo>
                    <a:lnTo>
                      <a:pt x="377" y="1"/>
                    </a:lnTo>
                    <a:lnTo>
                      <a:pt x="395" y="0"/>
                    </a:lnTo>
                    <a:lnTo>
                      <a:pt x="411" y="0"/>
                    </a:lnTo>
                    <a:lnTo>
                      <a:pt x="428" y="1"/>
                    </a:lnTo>
                    <a:lnTo>
                      <a:pt x="445" y="1"/>
                    </a:lnTo>
                    <a:lnTo>
                      <a:pt x="462" y="1"/>
                    </a:lnTo>
                    <a:lnTo>
                      <a:pt x="479" y="3"/>
                    </a:lnTo>
                    <a:lnTo>
                      <a:pt x="496" y="5"/>
                    </a:lnTo>
                    <a:lnTo>
                      <a:pt x="513" y="6"/>
                    </a:lnTo>
                    <a:lnTo>
                      <a:pt x="531" y="8"/>
                    </a:lnTo>
                    <a:lnTo>
                      <a:pt x="546" y="10"/>
                    </a:lnTo>
                    <a:lnTo>
                      <a:pt x="562" y="12"/>
                    </a:lnTo>
                    <a:lnTo>
                      <a:pt x="579" y="15"/>
                    </a:lnTo>
                    <a:lnTo>
                      <a:pt x="594" y="17"/>
                    </a:lnTo>
                    <a:lnTo>
                      <a:pt x="609" y="19"/>
                    </a:lnTo>
                    <a:lnTo>
                      <a:pt x="623" y="21"/>
                    </a:lnTo>
                    <a:lnTo>
                      <a:pt x="639" y="24"/>
                    </a:lnTo>
                    <a:lnTo>
                      <a:pt x="654" y="26"/>
                    </a:lnTo>
                    <a:lnTo>
                      <a:pt x="667" y="29"/>
                    </a:lnTo>
                    <a:lnTo>
                      <a:pt x="682" y="32"/>
                    </a:lnTo>
                    <a:lnTo>
                      <a:pt x="695" y="35"/>
                    </a:lnTo>
                    <a:lnTo>
                      <a:pt x="709" y="37"/>
                    </a:lnTo>
                    <a:lnTo>
                      <a:pt x="721" y="41"/>
                    </a:lnTo>
                    <a:lnTo>
                      <a:pt x="733" y="44"/>
                    </a:lnTo>
                    <a:lnTo>
                      <a:pt x="745" y="47"/>
                    </a:lnTo>
                    <a:lnTo>
                      <a:pt x="757" y="50"/>
                    </a:lnTo>
                    <a:lnTo>
                      <a:pt x="767" y="52"/>
                    </a:lnTo>
                    <a:lnTo>
                      <a:pt x="777" y="54"/>
                    </a:lnTo>
                    <a:lnTo>
                      <a:pt x="787" y="56"/>
                    </a:lnTo>
                    <a:lnTo>
                      <a:pt x="797" y="59"/>
                    </a:lnTo>
                    <a:lnTo>
                      <a:pt x="810" y="62"/>
                    </a:lnTo>
                    <a:lnTo>
                      <a:pt x="824" y="66"/>
                    </a:lnTo>
                    <a:lnTo>
                      <a:pt x="838" y="69"/>
                    </a:lnTo>
                    <a:lnTo>
                      <a:pt x="851" y="73"/>
                    </a:lnTo>
                    <a:lnTo>
                      <a:pt x="863" y="78"/>
                    </a:lnTo>
                    <a:lnTo>
                      <a:pt x="876" y="84"/>
                    </a:lnTo>
                    <a:lnTo>
                      <a:pt x="888" y="90"/>
                    </a:lnTo>
                    <a:lnTo>
                      <a:pt x="901" y="96"/>
                    </a:lnTo>
                    <a:lnTo>
                      <a:pt x="912" y="102"/>
                    </a:lnTo>
                    <a:lnTo>
                      <a:pt x="924" y="108"/>
                    </a:lnTo>
                    <a:lnTo>
                      <a:pt x="935" y="114"/>
                    </a:lnTo>
                    <a:lnTo>
                      <a:pt x="946" y="120"/>
                    </a:lnTo>
                    <a:lnTo>
                      <a:pt x="956" y="127"/>
                    </a:lnTo>
                    <a:lnTo>
                      <a:pt x="966" y="133"/>
                    </a:lnTo>
                    <a:lnTo>
                      <a:pt x="977" y="141"/>
                    </a:lnTo>
                    <a:lnTo>
                      <a:pt x="986" y="148"/>
                    </a:lnTo>
                    <a:lnTo>
                      <a:pt x="996" y="155"/>
                    </a:lnTo>
                    <a:lnTo>
                      <a:pt x="1005" y="162"/>
                    </a:lnTo>
                    <a:lnTo>
                      <a:pt x="1014" y="169"/>
                    </a:lnTo>
                    <a:lnTo>
                      <a:pt x="1025" y="176"/>
                    </a:lnTo>
                    <a:lnTo>
                      <a:pt x="1033" y="186"/>
                    </a:lnTo>
                    <a:lnTo>
                      <a:pt x="1041" y="194"/>
                    </a:lnTo>
                    <a:lnTo>
                      <a:pt x="1049" y="203"/>
                    </a:lnTo>
                    <a:lnTo>
                      <a:pt x="1057" y="211"/>
                    </a:lnTo>
                    <a:lnTo>
                      <a:pt x="1066" y="219"/>
                    </a:lnTo>
                    <a:lnTo>
                      <a:pt x="1073" y="228"/>
                    </a:lnTo>
                    <a:lnTo>
                      <a:pt x="1080" y="238"/>
                    </a:lnTo>
                    <a:lnTo>
                      <a:pt x="1088" y="246"/>
                    </a:lnTo>
                    <a:lnTo>
                      <a:pt x="1094" y="255"/>
                    </a:lnTo>
                    <a:lnTo>
                      <a:pt x="1100" y="264"/>
                    </a:lnTo>
                    <a:lnTo>
                      <a:pt x="1106" y="273"/>
                    </a:lnTo>
                    <a:lnTo>
                      <a:pt x="1113" y="281"/>
                    </a:lnTo>
                    <a:lnTo>
                      <a:pt x="1119" y="292"/>
                    </a:lnTo>
                    <a:lnTo>
                      <a:pt x="1125" y="301"/>
                    </a:lnTo>
                    <a:lnTo>
                      <a:pt x="1130" y="310"/>
                    </a:lnTo>
                    <a:lnTo>
                      <a:pt x="1136" y="319"/>
                    </a:lnTo>
                    <a:lnTo>
                      <a:pt x="1140" y="328"/>
                    </a:lnTo>
                    <a:lnTo>
                      <a:pt x="1144" y="338"/>
                    </a:lnTo>
                    <a:lnTo>
                      <a:pt x="1149" y="347"/>
                    </a:lnTo>
                    <a:lnTo>
                      <a:pt x="1153" y="356"/>
                    </a:lnTo>
                    <a:lnTo>
                      <a:pt x="1156" y="365"/>
                    </a:lnTo>
                    <a:lnTo>
                      <a:pt x="1160" y="374"/>
                    </a:lnTo>
                    <a:lnTo>
                      <a:pt x="1164" y="384"/>
                    </a:lnTo>
                    <a:lnTo>
                      <a:pt x="1168" y="393"/>
                    </a:lnTo>
                    <a:lnTo>
                      <a:pt x="1171" y="403"/>
                    </a:lnTo>
                    <a:lnTo>
                      <a:pt x="1174" y="412"/>
                    </a:lnTo>
                    <a:lnTo>
                      <a:pt x="1177" y="421"/>
                    </a:lnTo>
                    <a:lnTo>
                      <a:pt x="1180" y="431"/>
                    </a:lnTo>
                    <a:lnTo>
                      <a:pt x="1182" y="439"/>
                    </a:lnTo>
                    <a:lnTo>
                      <a:pt x="1184" y="448"/>
                    </a:lnTo>
                    <a:lnTo>
                      <a:pt x="1187" y="456"/>
                    </a:lnTo>
                    <a:lnTo>
                      <a:pt x="1189" y="465"/>
                    </a:lnTo>
                    <a:lnTo>
                      <a:pt x="1190" y="473"/>
                    </a:lnTo>
                    <a:lnTo>
                      <a:pt x="1191" y="482"/>
                    </a:lnTo>
                    <a:lnTo>
                      <a:pt x="1192" y="490"/>
                    </a:lnTo>
                    <a:lnTo>
                      <a:pt x="1193" y="498"/>
                    </a:lnTo>
                    <a:lnTo>
                      <a:pt x="1194" y="512"/>
                    </a:lnTo>
                    <a:lnTo>
                      <a:pt x="1195" y="527"/>
                    </a:lnTo>
                    <a:lnTo>
                      <a:pt x="1195" y="541"/>
                    </a:lnTo>
                    <a:lnTo>
                      <a:pt x="1195" y="555"/>
                    </a:lnTo>
                    <a:lnTo>
                      <a:pt x="1193" y="568"/>
                    </a:lnTo>
                    <a:lnTo>
                      <a:pt x="1191" y="583"/>
                    </a:lnTo>
                    <a:lnTo>
                      <a:pt x="1185" y="593"/>
                    </a:lnTo>
                    <a:lnTo>
                      <a:pt x="1180" y="603"/>
                    </a:lnTo>
                    <a:lnTo>
                      <a:pt x="1171" y="613"/>
                    </a:lnTo>
                    <a:lnTo>
                      <a:pt x="1161" y="622"/>
                    </a:lnTo>
                    <a:lnTo>
                      <a:pt x="1147" y="630"/>
                    </a:lnTo>
                    <a:lnTo>
                      <a:pt x="1133" y="637"/>
                    </a:lnTo>
                    <a:lnTo>
                      <a:pt x="1124" y="639"/>
                    </a:lnTo>
                    <a:lnTo>
                      <a:pt x="1115" y="641"/>
                    </a:lnTo>
                    <a:lnTo>
                      <a:pt x="1105" y="642"/>
                    </a:lnTo>
                    <a:lnTo>
                      <a:pt x="1096" y="644"/>
                    </a:lnTo>
                    <a:lnTo>
                      <a:pt x="1084" y="645"/>
                    </a:lnTo>
                    <a:lnTo>
                      <a:pt x="1072" y="646"/>
                    </a:lnTo>
                    <a:lnTo>
                      <a:pt x="1059" y="646"/>
                    </a:lnTo>
                    <a:lnTo>
                      <a:pt x="1048" y="647"/>
                    </a:lnTo>
                    <a:lnTo>
                      <a:pt x="1033" y="645"/>
                    </a:lnTo>
                    <a:lnTo>
                      <a:pt x="1018" y="644"/>
                    </a:lnTo>
                    <a:lnTo>
                      <a:pt x="1001" y="642"/>
                    </a:lnTo>
                    <a:lnTo>
                      <a:pt x="986" y="641"/>
                    </a:lnTo>
                    <a:lnTo>
                      <a:pt x="966" y="637"/>
                    </a:lnTo>
                    <a:lnTo>
                      <a:pt x="947" y="633"/>
                    </a:lnTo>
                    <a:lnTo>
                      <a:pt x="928" y="628"/>
                    </a:lnTo>
                    <a:lnTo>
                      <a:pt x="908" y="624"/>
                    </a:lnTo>
                    <a:lnTo>
                      <a:pt x="898" y="621"/>
                    </a:lnTo>
                    <a:lnTo>
                      <a:pt x="888" y="618"/>
                    </a:lnTo>
                    <a:lnTo>
                      <a:pt x="879" y="615"/>
                    </a:lnTo>
                    <a:lnTo>
                      <a:pt x="868" y="612"/>
                    </a:lnTo>
                    <a:lnTo>
                      <a:pt x="859" y="610"/>
                    </a:lnTo>
                    <a:lnTo>
                      <a:pt x="850" y="607"/>
                    </a:lnTo>
                    <a:lnTo>
                      <a:pt x="842" y="605"/>
                    </a:lnTo>
                    <a:lnTo>
                      <a:pt x="833" y="602"/>
                    </a:lnTo>
                    <a:lnTo>
                      <a:pt x="825" y="599"/>
                    </a:lnTo>
                    <a:lnTo>
                      <a:pt x="817" y="596"/>
                    </a:lnTo>
                    <a:lnTo>
                      <a:pt x="809" y="592"/>
                    </a:lnTo>
                    <a:lnTo>
                      <a:pt x="801" y="589"/>
                    </a:lnTo>
                    <a:lnTo>
                      <a:pt x="787" y="582"/>
                    </a:lnTo>
                    <a:lnTo>
                      <a:pt x="771" y="573"/>
                    </a:lnTo>
                    <a:lnTo>
                      <a:pt x="758" y="566"/>
                    </a:lnTo>
                    <a:lnTo>
                      <a:pt x="746" y="559"/>
                    </a:lnTo>
                    <a:lnTo>
                      <a:pt x="734" y="551"/>
                    </a:lnTo>
                    <a:lnTo>
                      <a:pt x="721" y="544"/>
                    </a:lnTo>
                    <a:lnTo>
                      <a:pt x="710" y="536"/>
                    </a:lnTo>
                    <a:lnTo>
                      <a:pt x="699" y="527"/>
                    </a:lnTo>
                    <a:lnTo>
                      <a:pt x="689" y="518"/>
                    </a:lnTo>
                    <a:lnTo>
                      <a:pt x="680" y="509"/>
                    </a:lnTo>
                    <a:lnTo>
                      <a:pt x="670" y="501"/>
                    </a:lnTo>
                    <a:lnTo>
                      <a:pt x="662" y="493"/>
                    </a:lnTo>
                    <a:lnTo>
                      <a:pt x="653" y="484"/>
                    </a:lnTo>
                    <a:lnTo>
                      <a:pt x="644" y="474"/>
                    </a:lnTo>
                    <a:lnTo>
                      <a:pt x="635" y="465"/>
                    </a:lnTo>
                    <a:lnTo>
                      <a:pt x="626" y="456"/>
                    </a:lnTo>
                    <a:lnTo>
                      <a:pt x="618" y="448"/>
                    </a:lnTo>
                    <a:lnTo>
                      <a:pt x="610" y="439"/>
                    </a:lnTo>
                    <a:lnTo>
                      <a:pt x="601" y="431"/>
                    </a:lnTo>
                    <a:lnTo>
                      <a:pt x="592" y="422"/>
                    </a:lnTo>
                    <a:lnTo>
                      <a:pt x="583" y="414"/>
                    </a:lnTo>
                    <a:lnTo>
                      <a:pt x="573" y="406"/>
                    </a:lnTo>
                    <a:lnTo>
                      <a:pt x="564" y="398"/>
                    </a:lnTo>
                    <a:lnTo>
                      <a:pt x="556" y="390"/>
                    </a:lnTo>
                    <a:lnTo>
                      <a:pt x="546" y="382"/>
                    </a:lnTo>
                    <a:lnTo>
                      <a:pt x="536" y="373"/>
                    </a:lnTo>
                    <a:lnTo>
                      <a:pt x="527" y="368"/>
                    </a:lnTo>
                    <a:lnTo>
                      <a:pt x="519" y="364"/>
                    </a:lnTo>
                    <a:lnTo>
                      <a:pt x="510" y="359"/>
                    </a:lnTo>
                    <a:lnTo>
                      <a:pt x="502" y="355"/>
                    </a:lnTo>
                    <a:lnTo>
                      <a:pt x="494" y="353"/>
                    </a:lnTo>
                    <a:lnTo>
                      <a:pt x="487" y="350"/>
                    </a:lnTo>
                    <a:lnTo>
                      <a:pt x="478" y="348"/>
                    </a:lnTo>
                    <a:lnTo>
                      <a:pt x="470" y="346"/>
                    </a:lnTo>
                    <a:lnTo>
                      <a:pt x="462" y="346"/>
                    </a:lnTo>
                    <a:lnTo>
                      <a:pt x="454" y="346"/>
                    </a:lnTo>
                    <a:lnTo>
                      <a:pt x="446" y="346"/>
                    </a:lnTo>
                    <a:lnTo>
                      <a:pt x="439" y="346"/>
                    </a:lnTo>
                    <a:lnTo>
                      <a:pt x="425" y="351"/>
                    </a:lnTo>
                    <a:lnTo>
                      <a:pt x="412" y="356"/>
                    </a:lnTo>
                    <a:lnTo>
                      <a:pt x="402" y="364"/>
                    </a:lnTo>
                    <a:lnTo>
                      <a:pt x="393" y="373"/>
                    </a:lnTo>
                    <a:lnTo>
                      <a:pt x="388" y="388"/>
                    </a:lnTo>
                    <a:lnTo>
                      <a:pt x="382" y="401"/>
                    </a:lnTo>
                    <a:lnTo>
                      <a:pt x="382" y="410"/>
                    </a:lnTo>
                    <a:lnTo>
                      <a:pt x="382" y="418"/>
                    </a:lnTo>
                    <a:lnTo>
                      <a:pt x="382" y="426"/>
                    </a:lnTo>
                    <a:lnTo>
                      <a:pt x="382" y="436"/>
                    </a:lnTo>
                    <a:lnTo>
                      <a:pt x="387" y="446"/>
                    </a:lnTo>
                    <a:lnTo>
                      <a:pt x="391" y="457"/>
                    </a:lnTo>
                    <a:lnTo>
                      <a:pt x="395" y="468"/>
                    </a:lnTo>
                    <a:lnTo>
                      <a:pt x="399" y="480"/>
                    </a:lnTo>
                    <a:lnTo>
                      <a:pt x="406" y="493"/>
                    </a:lnTo>
                    <a:lnTo>
                      <a:pt x="414" y="507"/>
                    </a:lnTo>
                    <a:lnTo>
                      <a:pt x="421" y="514"/>
                    </a:lnTo>
                    <a:lnTo>
                      <a:pt x="427" y="522"/>
                    </a:lnTo>
                    <a:lnTo>
                      <a:pt x="434" y="530"/>
                    </a:lnTo>
                    <a:lnTo>
                      <a:pt x="441" y="538"/>
                    </a:lnTo>
                    <a:lnTo>
                      <a:pt x="449" y="546"/>
                    </a:lnTo>
                    <a:lnTo>
                      <a:pt x="456" y="554"/>
                    </a:lnTo>
                    <a:lnTo>
                      <a:pt x="464" y="561"/>
                    </a:lnTo>
                    <a:lnTo>
                      <a:pt x="472" y="569"/>
                    </a:lnTo>
                    <a:lnTo>
                      <a:pt x="482" y="578"/>
                    </a:lnTo>
                    <a:lnTo>
                      <a:pt x="491" y="587"/>
                    </a:lnTo>
                    <a:lnTo>
                      <a:pt x="501" y="596"/>
                    </a:lnTo>
                    <a:lnTo>
                      <a:pt x="510" y="604"/>
                    </a:lnTo>
                    <a:lnTo>
                      <a:pt x="521" y="613"/>
                    </a:lnTo>
                    <a:lnTo>
                      <a:pt x="534" y="622"/>
                    </a:lnTo>
                    <a:lnTo>
                      <a:pt x="545" y="633"/>
                    </a:lnTo>
                    <a:lnTo>
                      <a:pt x="556" y="642"/>
                    </a:lnTo>
                    <a:lnTo>
                      <a:pt x="568" y="651"/>
                    </a:lnTo>
                    <a:lnTo>
                      <a:pt x="582" y="660"/>
                    </a:lnTo>
                    <a:lnTo>
                      <a:pt x="595" y="669"/>
                    </a:lnTo>
                    <a:lnTo>
                      <a:pt x="608" y="678"/>
                    </a:lnTo>
                    <a:lnTo>
                      <a:pt x="621" y="688"/>
                    </a:lnTo>
                    <a:lnTo>
                      <a:pt x="636" y="698"/>
                    </a:lnTo>
                    <a:lnTo>
                      <a:pt x="650" y="707"/>
                    </a:lnTo>
                    <a:lnTo>
                      <a:pt x="663" y="717"/>
                    </a:lnTo>
                    <a:lnTo>
                      <a:pt x="679" y="727"/>
                    </a:lnTo>
                    <a:lnTo>
                      <a:pt x="695" y="736"/>
                    </a:lnTo>
                    <a:lnTo>
                      <a:pt x="710" y="745"/>
                    </a:lnTo>
                    <a:lnTo>
                      <a:pt x="726" y="754"/>
                    </a:lnTo>
                    <a:lnTo>
                      <a:pt x="743" y="764"/>
                    </a:lnTo>
                    <a:lnTo>
                      <a:pt x="759" y="775"/>
                    </a:lnTo>
                    <a:lnTo>
                      <a:pt x="776" y="784"/>
                    </a:lnTo>
                    <a:lnTo>
                      <a:pt x="793" y="794"/>
                    </a:lnTo>
                    <a:lnTo>
                      <a:pt x="810" y="803"/>
                    </a:lnTo>
                    <a:lnTo>
                      <a:pt x="828" y="813"/>
                    </a:lnTo>
                    <a:lnTo>
                      <a:pt x="845" y="823"/>
                    </a:lnTo>
                    <a:lnTo>
                      <a:pt x="862" y="833"/>
                    </a:lnTo>
                    <a:lnTo>
                      <a:pt x="881" y="842"/>
                    </a:lnTo>
                    <a:lnTo>
                      <a:pt x="900" y="850"/>
                    </a:lnTo>
                    <a:lnTo>
                      <a:pt x="918" y="859"/>
                    </a:lnTo>
                    <a:lnTo>
                      <a:pt x="937" y="869"/>
                    </a:lnTo>
                    <a:lnTo>
                      <a:pt x="956" y="878"/>
                    </a:lnTo>
                    <a:lnTo>
                      <a:pt x="976" y="887"/>
                    </a:lnTo>
                    <a:lnTo>
                      <a:pt x="995" y="896"/>
                    </a:lnTo>
                    <a:lnTo>
                      <a:pt x="1014" y="905"/>
                    </a:lnTo>
                    <a:lnTo>
                      <a:pt x="1034" y="913"/>
                    </a:lnTo>
                    <a:lnTo>
                      <a:pt x="1054" y="923"/>
                    </a:lnTo>
                    <a:lnTo>
                      <a:pt x="1074" y="931"/>
                    </a:lnTo>
                    <a:lnTo>
                      <a:pt x="1093" y="939"/>
                    </a:lnTo>
                    <a:lnTo>
                      <a:pt x="1113" y="947"/>
                    </a:lnTo>
                    <a:lnTo>
                      <a:pt x="1134" y="955"/>
                    </a:lnTo>
                    <a:lnTo>
                      <a:pt x="1154" y="963"/>
                    </a:lnTo>
                    <a:lnTo>
                      <a:pt x="1176" y="971"/>
                    </a:lnTo>
                    <a:lnTo>
                      <a:pt x="1196" y="979"/>
                    </a:lnTo>
                    <a:lnTo>
                      <a:pt x="1217" y="986"/>
                    </a:lnTo>
                    <a:lnTo>
                      <a:pt x="1238" y="994"/>
                    </a:lnTo>
                    <a:lnTo>
                      <a:pt x="1259" y="1001"/>
                    </a:lnTo>
                    <a:lnTo>
                      <a:pt x="1280" y="1007"/>
                    </a:lnTo>
                    <a:lnTo>
                      <a:pt x="1301" y="1015"/>
                    </a:lnTo>
                    <a:lnTo>
                      <a:pt x="1323" y="1021"/>
                    </a:lnTo>
                    <a:lnTo>
                      <a:pt x="1344" y="1027"/>
                    </a:lnTo>
                    <a:lnTo>
                      <a:pt x="1344" y="1084"/>
                    </a:lnTo>
                    <a:lnTo>
                      <a:pt x="1344" y="1140"/>
                    </a:lnTo>
                    <a:lnTo>
                      <a:pt x="1344" y="1197"/>
                    </a:lnTo>
                    <a:lnTo>
                      <a:pt x="1344" y="1253"/>
                    </a:lnTo>
                    <a:lnTo>
                      <a:pt x="1344" y="1311"/>
                    </a:lnTo>
                    <a:lnTo>
                      <a:pt x="1344" y="1367"/>
                    </a:lnTo>
                    <a:lnTo>
                      <a:pt x="1344" y="1424"/>
                    </a:lnTo>
                    <a:lnTo>
                      <a:pt x="1344" y="148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416120" y="189036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165" h="111">
                    <a:moveTo>
                      <a:pt x="2" y="61"/>
                    </a:moveTo>
                    <a:lnTo>
                      <a:pt x="1" y="61"/>
                    </a:lnTo>
                    <a:lnTo>
                      <a:pt x="0" y="61"/>
                    </a:lnTo>
                    <a:lnTo>
                      <a:pt x="12" y="65"/>
                    </a:lnTo>
                    <a:lnTo>
                      <a:pt x="24" y="68"/>
                    </a:lnTo>
                    <a:lnTo>
                      <a:pt x="34" y="70"/>
                    </a:lnTo>
                    <a:lnTo>
                      <a:pt x="44" y="73"/>
                    </a:lnTo>
                    <a:lnTo>
                      <a:pt x="54" y="76"/>
                    </a:lnTo>
                    <a:lnTo>
                      <a:pt x="64" y="79"/>
                    </a:lnTo>
                    <a:lnTo>
                      <a:pt x="73" y="83"/>
                    </a:lnTo>
                    <a:lnTo>
                      <a:pt x="84" y="86"/>
                    </a:lnTo>
                    <a:lnTo>
                      <a:pt x="95" y="90"/>
                    </a:lnTo>
                    <a:lnTo>
                      <a:pt x="106" y="93"/>
                    </a:lnTo>
                    <a:lnTo>
                      <a:pt x="115" y="95"/>
                    </a:lnTo>
                    <a:lnTo>
                      <a:pt x="125" y="97"/>
                    </a:lnTo>
                    <a:lnTo>
                      <a:pt x="135" y="100"/>
                    </a:lnTo>
                    <a:lnTo>
                      <a:pt x="144" y="105"/>
                    </a:lnTo>
                    <a:lnTo>
                      <a:pt x="153" y="108"/>
                    </a:lnTo>
                    <a:lnTo>
                      <a:pt x="161" y="111"/>
                    </a:lnTo>
                    <a:lnTo>
                      <a:pt x="162" y="95"/>
                    </a:lnTo>
                    <a:lnTo>
                      <a:pt x="163" y="81"/>
                    </a:lnTo>
                    <a:lnTo>
                      <a:pt x="164" y="66"/>
                    </a:lnTo>
                    <a:lnTo>
                      <a:pt x="165" y="51"/>
                    </a:lnTo>
                    <a:lnTo>
                      <a:pt x="157" y="47"/>
                    </a:lnTo>
                    <a:lnTo>
                      <a:pt x="148" y="44"/>
                    </a:lnTo>
                    <a:lnTo>
                      <a:pt x="137" y="41"/>
                    </a:lnTo>
                    <a:lnTo>
                      <a:pt x="125" y="37"/>
                    </a:lnTo>
                    <a:lnTo>
                      <a:pt x="115" y="35"/>
                    </a:lnTo>
                    <a:lnTo>
                      <a:pt x="106" y="32"/>
                    </a:lnTo>
                    <a:lnTo>
                      <a:pt x="97" y="30"/>
                    </a:lnTo>
                    <a:lnTo>
                      <a:pt x="88" y="27"/>
                    </a:lnTo>
                    <a:lnTo>
                      <a:pt x="77" y="23"/>
                    </a:lnTo>
                    <a:lnTo>
                      <a:pt x="68" y="20"/>
                    </a:lnTo>
                    <a:lnTo>
                      <a:pt x="56" y="16"/>
                    </a:lnTo>
                    <a:lnTo>
                      <a:pt x="44" y="12"/>
                    </a:lnTo>
                    <a:lnTo>
                      <a:pt x="34" y="10"/>
                    </a:lnTo>
                    <a:lnTo>
                      <a:pt x="24" y="8"/>
                    </a:lnTo>
                    <a:lnTo>
                      <a:pt x="14" y="5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6"/>
                    </a:lnTo>
                    <a:lnTo>
                      <a:pt x="2" y="31"/>
                    </a:lnTo>
                    <a:lnTo>
                      <a:pt x="2" y="46"/>
                    </a:lnTo>
                    <a:lnTo>
                      <a:pt x="2" y="61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380480" y="1836360"/>
                <a:ext cx="122760" cy="114480"/>
              </a:xfrm>
              <a:custGeom>
                <a:avLst/>
                <a:gdLst/>
                <a:ahLst/>
                <a:rect l="l" t="t" r="r" b="b"/>
                <a:pathLst>
                  <a:path w="2434" h="2183">
                    <a:moveTo>
                      <a:pt x="1639" y="14"/>
                    </a:moveTo>
                    <a:lnTo>
                      <a:pt x="1649" y="16"/>
                    </a:lnTo>
                    <a:lnTo>
                      <a:pt x="1659" y="18"/>
                    </a:lnTo>
                    <a:lnTo>
                      <a:pt x="1669" y="20"/>
                    </a:lnTo>
                    <a:lnTo>
                      <a:pt x="1679" y="23"/>
                    </a:lnTo>
                    <a:lnTo>
                      <a:pt x="1691" y="26"/>
                    </a:lnTo>
                    <a:lnTo>
                      <a:pt x="1703" y="28"/>
                    </a:lnTo>
                    <a:lnTo>
                      <a:pt x="1715" y="31"/>
                    </a:lnTo>
                    <a:lnTo>
                      <a:pt x="1727" y="34"/>
                    </a:lnTo>
                    <a:lnTo>
                      <a:pt x="1740" y="37"/>
                    </a:lnTo>
                    <a:lnTo>
                      <a:pt x="1754" y="41"/>
                    </a:lnTo>
                    <a:lnTo>
                      <a:pt x="1767" y="45"/>
                    </a:lnTo>
                    <a:lnTo>
                      <a:pt x="1780" y="48"/>
                    </a:lnTo>
                    <a:lnTo>
                      <a:pt x="1795" y="53"/>
                    </a:lnTo>
                    <a:lnTo>
                      <a:pt x="1811" y="59"/>
                    </a:lnTo>
                    <a:lnTo>
                      <a:pt x="1827" y="63"/>
                    </a:lnTo>
                    <a:lnTo>
                      <a:pt x="1842" y="67"/>
                    </a:lnTo>
                    <a:lnTo>
                      <a:pt x="1858" y="73"/>
                    </a:lnTo>
                    <a:lnTo>
                      <a:pt x="1873" y="78"/>
                    </a:lnTo>
                    <a:lnTo>
                      <a:pt x="1889" y="83"/>
                    </a:lnTo>
                    <a:lnTo>
                      <a:pt x="1906" y="88"/>
                    </a:lnTo>
                    <a:lnTo>
                      <a:pt x="1921" y="94"/>
                    </a:lnTo>
                    <a:lnTo>
                      <a:pt x="1937" y="100"/>
                    </a:lnTo>
                    <a:lnTo>
                      <a:pt x="1954" y="108"/>
                    </a:lnTo>
                    <a:lnTo>
                      <a:pt x="1971" y="114"/>
                    </a:lnTo>
                    <a:lnTo>
                      <a:pt x="1987" y="121"/>
                    </a:lnTo>
                    <a:lnTo>
                      <a:pt x="2005" y="129"/>
                    </a:lnTo>
                    <a:lnTo>
                      <a:pt x="2022" y="136"/>
                    </a:lnTo>
                    <a:lnTo>
                      <a:pt x="2038" y="143"/>
                    </a:lnTo>
                    <a:lnTo>
                      <a:pt x="2056" y="152"/>
                    </a:lnTo>
                    <a:lnTo>
                      <a:pt x="2072" y="162"/>
                    </a:lnTo>
                    <a:lnTo>
                      <a:pt x="2090" y="171"/>
                    </a:lnTo>
                    <a:lnTo>
                      <a:pt x="2106" y="179"/>
                    </a:lnTo>
                    <a:lnTo>
                      <a:pt x="2122" y="190"/>
                    </a:lnTo>
                    <a:lnTo>
                      <a:pt x="2137" y="200"/>
                    </a:lnTo>
                    <a:lnTo>
                      <a:pt x="2154" y="211"/>
                    </a:lnTo>
                    <a:lnTo>
                      <a:pt x="2170" y="221"/>
                    </a:lnTo>
                    <a:lnTo>
                      <a:pt x="2185" y="233"/>
                    </a:lnTo>
                    <a:lnTo>
                      <a:pt x="2201" y="244"/>
                    </a:lnTo>
                    <a:lnTo>
                      <a:pt x="2216" y="257"/>
                    </a:lnTo>
                    <a:lnTo>
                      <a:pt x="2232" y="268"/>
                    </a:lnTo>
                    <a:lnTo>
                      <a:pt x="2246" y="281"/>
                    </a:lnTo>
                    <a:lnTo>
                      <a:pt x="2259" y="294"/>
                    </a:lnTo>
                    <a:lnTo>
                      <a:pt x="2273" y="308"/>
                    </a:lnTo>
                    <a:lnTo>
                      <a:pt x="2287" y="321"/>
                    </a:lnTo>
                    <a:lnTo>
                      <a:pt x="2300" y="335"/>
                    </a:lnTo>
                    <a:lnTo>
                      <a:pt x="2312" y="350"/>
                    </a:lnTo>
                    <a:lnTo>
                      <a:pt x="2324" y="364"/>
                    </a:lnTo>
                    <a:lnTo>
                      <a:pt x="2337" y="378"/>
                    </a:lnTo>
                    <a:lnTo>
                      <a:pt x="2347" y="395"/>
                    </a:lnTo>
                    <a:lnTo>
                      <a:pt x="2356" y="413"/>
                    </a:lnTo>
                    <a:lnTo>
                      <a:pt x="2366" y="430"/>
                    </a:lnTo>
                    <a:lnTo>
                      <a:pt x="2376" y="447"/>
                    </a:lnTo>
                    <a:lnTo>
                      <a:pt x="2385" y="466"/>
                    </a:lnTo>
                    <a:lnTo>
                      <a:pt x="2393" y="484"/>
                    </a:lnTo>
                    <a:lnTo>
                      <a:pt x="2400" y="503"/>
                    </a:lnTo>
                    <a:lnTo>
                      <a:pt x="2408" y="521"/>
                    </a:lnTo>
                    <a:lnTo>
                      <a:pt x="2413" y="540"/>
                    </a:lnTo>
                    <a:lnTo>
                      <a:pt x="2418" y="561"/>
                    </a:lnTo>
                    <a:lnTo>
                      <a:pt x="2423" y="581"/>
                    </a:lnTo>
                    <a:lnTo>
                      <a:pt x="2428" y="602"/>
                    </a:lnTo>
                    <a:lnTo>
                      <a:pt x="2429" y="624"/>
                    </a:lnTo>
                    <a:lnTo>
                      <a:pt x="2431" y="647"/>
                    </a:lnTo>
                    <a:lnTo>
                      <a:pt x="2433" y="669"/>
                    </a:lnTo>
                    <a:lnTo>
                      <a:pt x="2434" y="692"/>
                    </a:lnTo>
                    <a:lnTo>
                      <a:pt x="2432" y="709"/>
                    </a:lnTo>
                    <a:lnTo>
                      <a:pt x="2429" y="726"/>
                    </a:lnTo>
                    <a:lnTo>
                      <a:pt x="2428" y="745"/>
                    </a:lnTo>
                    <a:lnTo>
                      <a:pt x="2426" y="762"/>
                    </a:lnTo>
                    <a:lnTo>
                      <a:pt x="2421" y="778"/>
                    </a:lnTo>
                    <a:lnTo>
                      <a:pt x="2416" y="796"/>
                    </a:lnTo>
                    <a:lnTo>
                      <a:pt x="2411" y="813"/>
                    </a:lnTo>
                    <a:lnTo>
                      <a:pt x="2406" y="830"/>
                    </a:lnTo>
                    <a:lnTo>
                      <a:pt x="2398" y="846"/>
                    </a:lnTo>
                    <a:lnTo>
                      <a:pt x="2390" y="860"/>
                    </a:lnTo>
                    <a:lnTo>
                      <a:pt x="2383" y="875"/>
                    </a:lnTo>
                    <a:lnTo>
                      <a:pt x="2374" y="891"/>
                    </a:lnTo>
                    <a:lnTo>
                      <a:pt x="2363" y="905"/>
                    </a:lnTo>
                    <a:lnTo>
                      <a:pt x="2352" y="919"/>
                    </a:lnTo>
                    <a:lnTo>
                      <a:pt x="2342" y="935"/>
                    </a:lnTo>
                    <a:lnTo>
                      <a:pt x="2330" y="949"/>
                    </a:lnTo>
                    <a:lnTo>
                      <a:pt x="2316" y="962"/>
                    </a:lnTo>
                    <a:lnTo>
                      <a:pt x="2303" y="975"/>
                    </a:lnTo>
                    <a:lnTo>
                      <a:pt x="2289" y="989"/>
                    </a:lnTo>
                    <a:lnTo>
                      <a:pt x="2275" y="1002"/>
                    </a:lnTo>
                    <a:lnTo>
                      <a:pt x="2259" y="1013"/>
                    </a:lnTo>
                    <a:lnTo>
                      <a:pt x="2244" y="1025"/>
                    </a:lnTo>
                    <a:lnTo>
                      <a:pt x="2228" y="1038"/>
                    </a:lnTo>
                    <a:lnTo>
                      <a:pt x="2212" y="1049"/>
                    </a:lnTo>
                    <a:lnTo>
                      <a:pt x="2194" y="1060"/>
                    </a:lnTo>
                    <a:lnTo>
                      <a:pt x="2175" y="1070"/>
                    </a:lnTo>
                    <a:lnTo>
                      <a:pt x="2157" y="1082"/>
                    </a:lnTo>
                    <a:lnTo>
                      <a:pt x="2139" y="1092"/>
                    </a:lnTo>
                    <a:lnTo>
                      <a:pt x="2118" y="1102"/>
                    </a:lnTo>
                    <a:lnTo>
                      <a:pt x="2099" y="1111"/>
                    </a:lnTo>
                    <a:lnTo>
                      <a:pt x="2078" y="1120"/>
                    </a:lnTo>
                    <a:lnTo>
                      <a:pt x="2059" y="1130"/>
                    </a:lnTo>
                    <a:lnTo>
                      <a:pt x="2036" y="1138"/>
                    </a:lnTo>
                    <a:lnTo>
                      <a:pt x="2015" y="1146"/>
                    </a:lnTo>
                    <a:lnTo>
                      <a:pt x="1993" y="1153"/>
                    </a:lnTo>
                    <a:lnTo>
                      <a:pt x="1971" y="1161"/>
                    </a:lnTo>
                    <a:lnTo>
                      <a:pt x="1948" y="1167"/>
                    </a:lnTo>
                    <a:lnTo>
                      <a:pt x="1924" y="1174"/>
                    </a:lnTo>
                    <a:lnTo>
                      <a:pt x="1901" y="1181"/>
                    </a:lnTo>
                    <a:lnTo>
                      <a:pt x="1878" y="1187"/>
                    </a:lnTo>
                    <a:lnTo>
                      <a:pt x="1854" y="1192"/>
                    </a:lnTo>
                    <a:lnTo>
                      <a:pt x="1829" y="1197"/>
                    </a:lnTo>
                    <a:lnTo>
                      <a:pt x="1805" y="1202"/>
                    </a:lnTo>
                    <a:lnTo>
                      <a:pt x="1780" y="1207"/>
                    </a:lnTo>
                    <a:lnTo>
                      <a:pt x="1755" y="1210"/>
                    </a:lnTo>
                    <a:lnTo>
                      <a:pt x="1730" y="1212"/>
                    </a:lnTo>
                    <a:lnTo>
                      <a:pt x="1705" y="1215"/>
                    </a:lnTo>
                    <a:lnTo>
                      <a:pt x="1679" y="1218"/>
                    </a:lnTo>
                    <a:lnTo>
                      <a:pt x="1654" y="1220"/>
                    </a:lnTo>
                    <a:lnTo>
                      <a:pt x="1627" y="1222"/>
                    </a:lnTo>
                    <a:lnTo>
                      <a:pt x="1601" y="1224"/>
                    </a:lnTo>
                    <a:lnTo>
                      <a:pt x="1576" y="1227"/>
                    </a:lnTo>
                    <a:lnTo>
                      <a:pt x="1549" y="1227"/>
                    </a:lnTo>
                    <a:lnTo>
                      <a:pt x="1523" y="1227"/>
                    </a:lnTo>
                    <a:lnTo>
                      <a:pt x="1496" y="1227"/>
                    </a:lnTo>
                    <a:lnTo>
                      <a:pt x="1471" y="1227"/>
                    </a:lnTo>
                    <a:lnTo>
                      <a:pt x="1443" y="1224"/>
                    </a:lnTo>
                    <a:lnTo>
                      <a:pt x="1417" y="1222"/>
                    </a:lnTo>
                    <a:lnTo>
                      <a:pt x="1390" y="1220"/>
                    </a:lnTo>
                    <a:lnTo>
                      <a:pt x="1363" y="1218"/>
                    </a:lnTo>
                    <a:lnTo>
                      <a:pt x="1336" y="1215"/>
                    </a:lnTo>
                    <a:lnTo>
                      <a:pt x="1310" y="1211"/>
                    </a:lnTo>
                    <a:lnTo>
                      <a:pt x="1283" y="1207"/>
                    </a:lnTo>
                    <a:lnTo>
                      <a:pt x="1255" y="1203"/>
                    </a:lnTo>
                    <a:lnTo>
                      <a:pt x="1231" y="1199"/>
                    </a:lnTo>
                    <a:lnTo>
                      <a:pt x="1205" y="1196"/>
                    </a:lnTo>
                    <a:lnTo>
                      <a:pt x="1180" y="1192"/>
                    </a:lnTo>
                    <a:lnTo>
                      <a:pt x="1154" y="1188"/>
                    </a:lnTo>
                    <a:lnTo>
                      <a:pt x="1131" y="1184"/>
                    </a:lnTo>
                    <a:lnTo>
                      <a:pt x="1107" y="1181"/>
                    </a:lnTo>
                    <a:lnTo>
                      <a:pt x="1084" y="1177"/>
                    </a:lnTo>
                    <a:lnTo>
                      <a:pt x="1060" y="1173"/>
                    </a:lnTo>
                    <a:lnTo>
                      <a:pt x="1039" y="1171"/>
                    </a:lnTo>
                    <a:lnTo>
                      <a:pt x="1019" y="1168"/>
                    </a:lnTo>
                    <a:lnTo>
                      <a:pt x="998" y="1165"/>
                    </a:lnTo>
                    <a:lnTo>
                      <a:pt x="977" y="1163"/>
                    </a:lnTo>
                    <a:lnTo>
                      <a:pt x="958" y="1161"/>
                    </a:lnTo>
                    <a:lnTo>
                      <a:pt x="940" y="1159"/>
                    </a:lnTo>
                    <a:lnTo>
                      <a:pt x="922" y="1158"/>
                    </a:lnTo>
                    <a:lnTo>
                      <a:pt x="903" y="1156"/>
                    </a:lnTo>
                    <a:lnTo>
                      <a:pt x="887" y="1154"/>
                    </a:lnTo>
                    <a:lnTo>
                      <a:pt x="870" y="1153"/>
                    </a:lnTo>
                    <a:lnTo>
                      <a:pt x="854" y="1152"/>
                    </a:lnTo>
                    <a:lnTo>
                      <a:pt x="838" y="1150"/>
                    </a:lnTo>
                    <a:lnTo>
                      <a:pt x="824" y="1150"/>
                    </a:lnTo>
                    <a:lnTo>
                      <a:pt x="809" y="1151"/>
                    </a:lnTo>
                    <a:lnTo>
                      <a:pt x="794" y="1151"/>
                    </a:lnTo>
                    <a:lnTo>
                      <a:pt x="780" y="1151"/>
                    </a:lnTo>
                    <a:lnTo>
                      <a:pt x="767" y="1151"/>
                    </a:lnTo>
                    <a:lnTo>
                      <a:pt x="755" y="1152"/>
                    </a:lnTo>
                    <a:lnTo>
                      <a:pt x="742" y="1152"/>
                    </a:lnTo>
                    <a:lnTo>
                      <a:pt x="730" y="1153"/>
                    </a:lnTo>
                    <a:lnTo>
                      <a:pt x="719" y="1154"/>
                    </a:lnTo>
                    <a:lnTo>
                      <a:pt x="708" y="1155"/>
                    </a:lnTo>
                    <a:lnTo>
                      <a:pt x="697" y="1156"/>
                    </a:lnTo>
                    <a:lnTo>
                      <a:pt x="686" y="1157"/>
                    </a:lnTo>
                    <a:lnTo>
                      <a:pt x="677" y="1159"/>
                    </a:lnTo>
                    <a:lnTo>
                      <a:pt x="668" y="1161"/>
                    </a:lnTo>
                    <a:lnTo>
                      <a:pt x="659" y="1164"/>
                    </a:lnTo>
                    <a:lnTo>
                      <a:pt x="650" y="1166"/>
                    </a:lnTo>
                    <a:lnTo>
                      <a:pt x="636" y="1171"/>
                    </a:lnTo>
                    <a:lnTo>
                      <a:pt x="620" y="1177"/>
                    </a:lnTo>
                    <a:lnTo>
                      <a:pt x="608" y="1185"/>
                    </a:lnTo>
                    <a:lnTo>
                      <a:pt x="597" y="1192"/>
                    </a:lnTo>
                    <a:lnTo>
                      <a:pt x="587" y="1200"/>
                    </a:lnTo>
                    <a:lnTo>
                      <a:pt x="576" y="1209"/>
                    </a:lnTo>
                    <a:lnTo>
                      <a:pt x="569" y="1219"/>
                    </a:lnTo>
                    <a:lnTo>
                      <a:pt x="563" y="1230"/>
                    </a:lnTo>
                    <a:lnTo>
                      <a:pt x="558" y="1242"/>
                    </a:lnTo>
                    <a:lnTo>
                      <a:pt x="553" y="1254"/>
                    </a:lnTo>
                    <a:lnTo>
                      <a:pt x="551" y="1268"/>
                    </a:lnTo>
                    <a:lnTo>
                      <a:pt x="549" y="1284"/>
                    </a:lnTo>
                    <a:lnTo>
                      <a:pt x="548" y="1298"/>
                    </a:lnTo>
                    <a:lnTo>
                      <a:pt x="547" y="1312"/>
                    </a:lnTo>
                    <a:lnTo>
                      <a:pt x="551" y="1337"/>
                    </a:lnTo>
                    <a:lnTo>
                      <a:pt x="554" y="1361"/>
                    </a:lnTo>
                    <a:lnTo>
                      <a:pt x="557" y="1385"/>
                    </a:lnTo>
                    <a:lnTo>
                      <a:pt x="561" y="1408"/>
                    </a:lnTo>
                    <a:lnTo>
                      <a:pt x="569" y="1430"/>
                    </a:lnTo>
                    <a:lnTo>
                      <a:pt x="577" y="1450"/>
                    </a:lnTo>
                    <a:lnTo>
                      <a:pt x="586" y="1471"/>
                    </a:lnTo>
                    <a:lnTo>
                      <a:pt x="595" y="1491"/>
                    </a:lnTo>
                    <a:lnTo>
                      <a:pt x="607" y="1508"/>
                    </a:lnTo>
                    <a:lnTo>
                      <a:pt x="619" y="1526"/>
                    </a:lnTo>
                    <a:lnTo>
                      <a:pt x="632" y="1543"/>
                    </a:lnTo>
                    <a:lnTo>
                      <a:pt x="645" y="1560"/>
                    </a:lnTo>
                    <a:lnTo>
                      <a:pt x="659" y="1576"/>
                    </a:lnTo>
                    <a:lnTo>
                      <a:pt x="673" y="1591"/>
                    </a:lnTo>
                    <a:lnTo>
                      <a:pt x="688" y="1606"/>
                    </a:lnTo>
                    <a:lnTo>
                      <a:pt x="702" y="1621"/>
                    </a:lnTo>
                    <a:lnTo>
                      <a:pt x="716" y="1632"/>
                    </a:lnTo>
                    <a:lnTo>
                      <a:pt x="731" y="1644"/>
                    </a:lnTo>
                    <a:lnTo>
                      <a:pt x="745" y="1655"/>
                    </a:lnTo>
                    <a:lnTo>
                      <a:pt x="760" y="1667"/>
                    </a:lnTo>
                    <a:lnTo>
                      <a:pt x="772" y="1675"/>
                    </a:lnTo>
                    <a:lnTo>
                      <a:pt x="785" y="1682"/>
                    </a:lnTo>
                    <a:lnTo>
                      <a:pt x="797" y="1690"/>
                    </a:lnTo>
                    <a:lnTo>
                      <a:pt x="809" y="1698"/>
                    </a:lnTo>
                    <a:lnTo>
                      <a:pt x="818" y="1703"/>
                    </a:lnTo>
                    <a:lnTo>
                      <a:pt x="827" y="1708"/>
                    </a:lnTo>
                    <a:lnTo>
                      <a:pt x="835" y="1713"/>
                    </a:lnTo>
                    <a:lnTo>
                      <a:pt x="844" y="1719"/>
                    </a:lnTo>
                    <a:lnTo>
                      <a:pt x="851" y="1723"/>
                    </a:lnTo>
                    <a:lnTo>
                      <a:pt x="857" y="1726"/>
                    </a:lnTo>
                    <a:lnTo>
                      <a:pt x="859" y="1783"/>
                    </a:lnTo>
                    <a:lnTo>
                      <a:pt x="861" y="1840"/>
                    </a:lnTo>
                    <a:lnTo>
                      <a:pt x="863" y="1897"/>
                    </a:lnTo>
                    <a:lnTo>
                      <a:pt x="865" y="1954"/>
                    </a:lnTo>
                    <a:lnTo>
                      <a:pt x="867" y="2012"/>
                    </a:lnTo>
                    <a:lnTo>
                      <a:pt x="869" y="2069"/>
                    </a:lnTo>
                    <a:lnTo>
                      <a:pt x="872" y="2126"/>
                    </a:lnTo>
                    <a:lnTo>
                      <a:pt x="874" y="2183"/>
                    </a:lnTo>
                    <a:lnTo>
                      <a:pt x="868" y="2182"/>
                    </a:lnTo>
                    <a:lnTo>
                      <a:pt x="863" y="2180"/>
                    </a:lnTo>
                    <a:lnTo>
                      <a:pt x="849" y="2173"/>
                    </a:lnTo>
                    <a:lnTo>
                      <a:pt x="836" y="2165"/>
                    </a:lnTo>
                    <a:lnTo>
                      <a:pt x="825" y="2160"/>
                    </a:lnTo>
                    <a:lnTo>
                      <a:pt x="814" y="2156"/>
                    </a:lnTo>
                    <a:lnTo>
                      <a:pt x="804" y="2149"/>
                    </a:lnTo>
                    <a:lnTo>
                      <a:pt x="794" y="2144"/>
                    </a:lnTo>
                    <a:lnTo>
                      <a:pt x="780" y="2137"/>
                    </a:lnTo>
                    <a:lnTo>
                      <a:pt x="765" y="2129"/>
                    </a:lnTo>
                    <a:lnTo>
                      <a:pt x="752" y="2122"/>
                    </a:lnTo>
                    <a:lnTo>
                      <a:pt x="738" y="2114"/>
                    </a:lnTo>
                    <a:lnTo>
                      <a:pt x="721" y="2105"/>
                    </a:lnTo>
                    <a:lnTo>
                      <a:pt x="705" y="2095"/>
                    </a:lnTo>
                    <a:lnTo>
                      <a:pt x="689" y="2085"/>
                    </a:lnTo>
                    <a:lnTo>
                      <a:pt x="672" y="2076"/>
                    </a:lnTo>
                    <a:lnTo>
                      <a:pt x="655" y="2066"/>
                    </a:lnTo>
                    <a:lnTo>
                      <a:pt x="637" y="2054"/>
                    </a:lnTo>
                    <a:lnTo>
                      <a:pt x="618" y="2044"/>
                    </a:lnTo>
                    <a:lnTo>
                      <a:pt x="601" y="2033"/>
                    </a:lnTo>
                    <a:lnTo>
                      <a:pt x="581" y="2020"/>
                    </a:lnTo>
                    <a:lnTo>
                      <a:pt x="560" y="2007"/>
                    </a:lnTo>
                    <a:lnTo>
                      <a:pt x="541" y="1993"/>
                    </a:lnTo>
                    <a:lnTo>
                      <a:pt x="521" y="1981"/>
                    </a:lnTo>
                    <a:lnTo>
                      <a:pt x="501" y="1967"/>
                    </a:lnTo>
                    <a:lnTo>
                      <a:pt x="480" y="1952"/>
                    </a:lnTo>
                    <a:lnTo>
                      <a:pt x="461" y="1938"/>
                    </a:lnTo>
                    <a:lnTo>
                      <a:pt x="442" y="1923"/>
                    </a:lnTo>
                    <a:lnTo>
                      <a:pt x="420" y="1907"/>
                    </a:lnTo>
                    <a:lnTo>
                      <a:pt x="400" y="1892"/>
                    </a:lnTo>
                    <a:lnTo>
                      <a:pt x="379" y="1876"/>
                    </a:lnTo>
                    <a:lnTo>
                      <a:pt x="359" y="1859"/>
                    </a:lnTo>
                    <a:lnTo>
                      <a:pt x="340" y="1843"/>
                    </a:lnTo>
                    <a:lnTo>
                      <a:pt x="320" y="1826"/>
                    </a:lnTo>
                    <a:lnTo>
                      <a:pt x="301" y="1809"/>
                    </a:lnTo>
                    <a:lnTo>
                      <a:pt x="281" y="1792"/>
                    </a:lnTo>
                    <a:lnTo>
                      <a:pt x="263" y="1774"/>
                    </a:lnTo>
                    <a:lnTo>
                      <a:pt x="244" y="1754"/>
                    </a:lnTo>
                    <a:lnTo>
                      <a:pt x="225" y="1736"/>
                    </a:lnTo>
                    <a:lnTo>
                      <a:pt x="206" y="1718"/>
                    </a:lnTo>
                    <a:lnTo>
                      <a:pt x="190" y="1697"/>
                    </a:lnTo>
                    <a:lnTo>
                      <a:pt x="173" y="1678"/>
                    </a:lnTo>
                    <a:lnTo>
                      <a:pt x="157" y="1657"/>
                    </a:lnTo>
                    <a:lnTo>
                      <a:pt x="141" y="1638"/>
                    </a:lnTo>
                    <a:lnTo>
                      <a:pt x="126" y="1618"/>
                    </a:lnTo>
                    <a:lnTo>
                      <a:pt x="112" y="1597"/>
                    </a:lnTo>
                    <a:lnTo>
                      <a:pt x="99" y="1577"/>
                    </a:lnTo>
                    <a:lnTo>
                      <a:pt x="84" y="1556"/>
                    </a:lnTo>
                    <a:lnTo>
                      <a:pt x="74" y="1534"/>
                    </a:lnTo>
                    <a:lnTo>
                      <a:pt x="63" y="1512"/>
                    </a:lnTo>
                    <a:lnTo>
                      <a:pt x="52" y="1491"/>
                    </a:lnTo>
                    <a:lnTo>
                      <a:pt x="40" y="1469"/>
                    </a:lnTo>
                    <a:lnTo>
                      <a:pt x="33" y="1446"/>
                    </a:lnTo>
                    <a:lnTo>
                      <a:pt x="26" y="1424"/>
                    </a:lnTo>
                    <a:lnTo>
                      <a:pt x="18" y="1400"/>
                    </a:lnTo>
                    <a:lnTo>
                      <a:pt x="11" y="1378"/>
                    </a:lnTo>
                    <a:lnTo>
                      <a:pt x="8" y="1354"/>
                    </a:lnTo>
                    <a:lnTo>
                      <a:pt x="5" y="1331"/>
                    </a:lnTo>
                    <a:lnTo>
                      <a:pt x="2" y="1308"/>
                    </a:lnTo>
                    <a:lnTo>
                      <a:pt x="0" y="1285"/>
                    </a:lnTo>
                    <a:lnTo>
                      <a:pt x="1" y="1261"/>
                    </a:lnTo>
                    <a:lnTo>
                      <a:pt x="1" y="1239"/>
                    </a:lnTo>
                    <a:lnTo>
                      <a:pt x="2" y="1216"/>
                    </a:lnTo>
                    <a:lnTo>
                      <a:pt x="4" y="1193"/>
                    </a:lnTo>
                    <a:lnTo>
                      <a:pt x="7" y="1172"/>
                    </a:lnTo>
                    <a:lnTo>
                      <a:pt x="10" y="1151"/>
                    </a:lnTo>
                    <a:lnTo>
                      <a:pt x="13" y="1131"/>
                    </a:lnTo>
                    <a:lnTo>
                      <a:pt x="17" y="1109"/>
                    </a:lnTo>
                    <a:lnTo>
                      <a:pt x="23" y="1091"/>
                    </a:lnTo>
                    <a:lnTo>
                      <a:pt x="30" y="1071"/>
                    </a:lnTo>
                    <a:lnTo>
                      <a:pt x="36" y="1053"/>
                    </a:lnTo>
                    <a:lnTo>
                      <a:pt x="44" y="1034"/>
                    </a:lnTo>
                    <a:lnTo>
                      <a:pt x="52" y="1016"/>
                    </a:lnTo>
                    <a:lnTo>
                      <a:pt x="61" y="999"/>
                    </a:lnTo>
                    <a:lnTo>
                      <a:pt x="70" y="981"/>
                    </a:lnTo>
                    <a:lnTo>
                      <a:pt x="79" y="964"/>
                    </a:lnTo>
                    <a:lnTo>
                      <a:pt x="89" y="948"/>
                    </a:lnTo>
                    <a:lnTo>
                      <a:pt x="101" y="932"/>
                    </a:lnTo>
                    <a:lnTo>
                      <a:pt x="112" y="917"/>
                    </a:lnTo>
                    <a:lnTo>
                      <a:pt x="123" y="901"/>
                    </a:lnTo>
                    <a:lnTo>
                      <a:pt x="136" y="888"/>
                    </a:lnTo>
                    <a:lnTo>
                      <a:pt x="150" y="874"/>
                    </a:lnTo>
                    <a:lnTo>
                      <a:pt x="163" y="861"/>
                    </a:lnTo>
                    <a:lnTo>
                      <a:pt x="176" y="847"/>
                    </a:lnTo>
                    <a:lnTo>
                      <a:pt x="192" y="835"/>
                    </a:lnTo>
                    <a:lnTo>
                      <a:pt x="207" y="823"/>
                    </a:lnTo>
                    <a:lnTo>
                      <a:pt x="221" y="811"/>
                    </a:lnTo>
                    <a:lnTo>
                      <a:pt x="236" y="800"/>
                    </a:lnTo>
                    <a:lnTo>
                      <a:pt x="253" y="790"/>
                    </a:lnTo>
                    <a:lnTo>
                      <a:pt x="270" y="779"/>
                    </a:lnTo>
                    <a:lnTo>
                      <a:pt x="288" y="770"/>
                    </a:lnTo>
                    <a:lnTo>
                      <a:pt x="304" y="759"/>
                    </a:lnTo>
                    <a:lnTo>
                      <a:pt x="322" y="752"/>
                    </a:lnTo>
                    <a:lnTo>
                      <a:pt x="340" y="744"/>
                    </a:lnTo>
                    <a:lnTo>
                      <a:pt x="358" y="734"/>
                    </a:lnTo>
                    <a:lnTo>
                      <a:pt x="375" y="726"/>
                    </a:lnTo>
                    <a:lnTo>
                      <a:pt x="395" y="720"/>
                    </a:lnTo>
                    <a:lnTo>
                      <a:pt x="414" y="714"/>
                    </a:lnTo>
                    <a:lnTo>
                      <a:pt x="434" y="708"/>
                    </a:lnTo>
                    <a:lnTo>
                      <a:pt x="454" y="702"/>
                    </a:lnTo>
                    <a:lnTo>
                      <a:pt x="474" y="698"/>
                    </a:lnTo>
                    <a:lnTo>
                      <a:pt x="496" y="693"/>
                    </a:lnTo>
                    <a:lnTo>
                      <a:pt x="516" y="688"/>
                    </a:lnTo>
                    <a:lnTo>
                      <a:pt x="538" y="684"/>
                    </a:lnTo>
                    <a:lnTo>
                      <a:pt x="558" y="681"/>
                    </a:lnTo>
                    <a:lnTo>
                      <a:pt x="579" y="678"/>
                    </a:lnTo>
                    <a:lnTo>
                      <a:pt x="600" y="675"/>
                    </a:lnTo>
                    <a:lnTo>
                      <a:pt x="620" y="671"/>
                    </a:lnTo>
                    <a:lnTo>
                      <a:pt x="643" y="671"/>
                    </a:lnTo>
                    <a:lnTo>
                      <a:pt x="665" y="670"/>
                    </a:lnTo>
                    <a:lnTo>
                      <a:pt x="688" y="670"/>
                    </a:lnTo>
                    <a:lnTo>
                      <a:pt x="710" y="669"/>
                    </a:lnTo>
                    <a:lnTo>
                      <a:pt x="733" y="669"/>
                    </a:lnTo>
                    <a:lnTo>
                      <a:pt x="755" y="670"/>
                    </a:lnTo>
                    <a:lnTo>
                      <a:pt x="778" y="671"/>
                    </a:lnTo>
                    <a:lnTo>
                      <a:pt x="800" y="671"/>
                    </a:lnTo>
                    <a:lnTo>
                      <a:pt x="823" y="674"/>
                    </a:lnTo>
                    <a:lnTo>
                      <a:pt x="845" y="677"/>
                    </a:lnTo>
                    <a:lnTo>
                      <a:pt x="866" y="680"/>
                    </a:lnTo>
                    <a:lnTo>
                      <a:pt x="889" y="682"/>
                    </a:lnTo>
                    <a:lnTo>
                      <a:pt x="912" y="687"/>
                    </a:lnTo>
                    <a:lnTo>
                      <a:pt x="935" y="692"/>
                    </a:lnTo>
                    <a:lnTo>
                      <a:pt x="958" y="697"/>
                    </a:lnTo>
                    <a:lnTo>
                      <a:pt x="982" y="701"/>
                    </a:lnTo>
                    <a:lnTo>
                      <a:pt x="1004" y="706"/>
                    </a:lnTo>
                    <a:lnTo>
                      <a:pt x="1027" y="710"/>
                    </a:lnTo>
                    <a:lnTo>
                      <a:pt x="1050" y="715"/>
                    </a:lnTo>
                    <a:lnTo>
                      <a:pt x="1073" y="720"/>
                    </a:lnTo>
                    <a:lnTo>
                      <a:pt x="1095" y="724"/>
                    </a:lnTo>
                    <a:lnTo>
                      <a:pt x="1118" y="728"/>
                    </a:lnTo>
                    <a:lnTo>
                      <a:pt x="1140" y="731"/>
                    </a:lnTo>
                    <a:lnTo>
                      <a:pt x="1162" y="735"/>
                    </a:lnTo>
                    <a:lnTo>
                      <a:pt x="1185" y="738"/>
                    </a:lnTo>
                    <a:lnTo>
                      <a:pt x="1207" y="741"/>
                    </a:lnTo>
                    <a:lnTo>
                      <a:pt x="1230" y="744"/>
                    </a:lnTo>
                    <a:lnTo>
                      <a:pt x="1251" y="746"/>
                    </a:lnTo>
                    <a:lnTo>
                      <a:pt x="1274" y="748"/>
                    </a:lnTo>
                    <a:lnTo>
                      <a:pt x="1295" y="750"/>
                    </a:lnTo>
                    <a:lnTo>
                      <a:pt x="1317" y="751"/>
                    </a:lnTo>
                    <a:lnTo>
                      <a:pt x="1339" y="753"/>
                    </a:lnTo>
                    <a:lnTo>
                      <a:pt x="1361" y="753"/>
                    </a:lnTo>
                    <a:lnTo>
                      <a:pt x="1383" y="754"/>
                    </a:lnTo>
                    <a:lnTo>
                      <a:pt x="1404" y="755"/>
                    </a:lnTo>
                    <a:lnTo>
                      <a:pt x="1427" y="755"/>
                    </a:lnTo>
                    <a:lnTo>
                      <a:pt x="1447" y="756"/>
                    </a:lnTo>
                    <a:lnTo>
                      <a:pt x="1467" y="756"/>
                    </a:lnTo>
                    <a:lnTo>
                      <a:pt x="1487" y="756"/>
                    </a:lnTo>
                    <a:lnTo>
                      <a:pt x="1508" y="757"/>
                    </a:lnTo>
                    <a:lnTo>
                      <a:pt x="1527" y="756"/>
                    </a:lnTo>
                    <a:lnTo>
                      <a:pt x="1547" y="755"/>
                    </a:lnTo>
                    <a:lnTo>
                      <a:pt x="1567" y="754"/>
                    </a:lnTo>
                    <a:lnTo>
                      <a:pt x="1587" y="753"/>
                    </a:lnTo>
                    <a:lnTo>
                      <a:pt x="1607" y="752"/>
                    </a:lnTo>
                    <a:lnTo>
                      <a:pt x="1625" y="750"/>
                    </a:lnTo>
                    <a:lnTo>
                      <a:pt x="1644" y="749"/>
                    </a:lnTo>
                    <a:lnTo>
                      <a:pt x="1663" y="747"/>
                    </a:lnTo>
                    <a:lnTo>
                      <a:pt x="1681" y="745"/>
                    </a:lnTo>
                    <a:lnTo>
                      <a:pt x="1698" y="743"/>
                    </a:lnTo>
                    <a:lnTo>
                      <a:pt x="1717" y="742"/>
                    </a:lnTo>
                    <a:lnTo>
                      <a:pt x="1735" y="740"/>
                    </a:lnTo>
                    <a:lnTo>
                      <a:pt x="1751" y="736"/>
                    </a:lnTo>
                    <a:lnTo>
                      <a:pt x="1767" y="734"/>
                    </a:lnTo>
                    <a:lnTo>
                      <a:pt x="1782" y="731"/>
                    </a:lnTo>
                    <a:lnTo>
                      <a:pt x="1799" y="728"/>
                    </a:lnTo>
                    <a:lnTo>
                      <a:pt x="1813" y="725"/>
                    </a:lnTo>
                    <a:lnTo>
                      <a:pt x="1828" y="721"/>
                    </a:lnTo>
                    <a:lnTo>
                      <a:pt x="1842" y="718"/>
                    </a:lnTo>
                    <a:lnTo>
                      <a:pt x="1858" y="715"/>
                    </a:lnTo>
                    <a:lnTo>
                      <a:pt x="1871" y="711"/>
                    </a:lnTo>
                    <a:lnTo>
                      <a:pt x="1883" y="707"/>
                    </a:lnTo>
                    <a:lnTo>
                      <a:pt x="1897" y="703"/>
                    </a:lnTo>
                    <a:lnTo>
                      <a:pt x="1910" y="698"/>
                    </a:lnTo>
                    <a:lnTo>
                      <a:pt x="1921" y="695"/>
                    </a:lnTo>
                    <a:lnTo>
                      <a:pt x="1932" y="691"/>
                    </a:lnTo>
                    <a:lnTo>
                      <a:pt x="1942" y="686"/>
                    </a:lnTo>
                    <a:lnTo>
                      <a:pt x="1954" y="682"/>
                    </a:lnTo>
                    <a:lnTo>
                      <a:pt x="1963" y="677"/>
                    </a:lnTo>
                    <a:lnTo>
                      <a:pt x="1972" y="672"/>
                    </a:lnTo>
                    <a:lnTo>
                      <a:pt x="1981" y="668"/>
                    </a:lnTo>
                    <a:lnTo>
                      <a:pt x="1990" y="663"/>
                    </a:lnTo>
                    <a:lnTo>
                      <a:pt x="2005" y="653"/>
                    </a:lnTo>
                    <a:lnTo>
                      <a:pt x="2019" y="644"/>
                    </a:lnTo>
                    <a:lnTo>
                      <a:pt x="2027" y="632"/>
                    </a:lnTo>
                    <a:lnTo>
                      <a:pt x="2036" y="621"/>
                    </a:lnTo>
                    <a:lnTo>
                      <a:pt x="2039" y="614"/>
                    </a:lnTo>
                    <a:lnTo>
                      <a:pt x="2044" y="606"/>
                    </a:lnTo>
                    <a:lnTo>
                      <a:pt x="2047" y="599"/>
                    </a:lnTo>
                    <a:lnTo>
                      <a:pt x="2051" y="590"/>
                    </a:lnTo>
                    <a:lnTo>
                      <a:pt x="2051" y="582"/>
                    </a:lnTo>
                    <a:lnTo>
                      <a:pt x="2052" y="575"/>
                    </a:lnTo>
                    <a:lnTo>
                      <a:pt x="2052" y="567"/>
                    </a:lnTo>
                    <a:lnTo>
                      <a:pt x="2053" y="559"/>
                    </a:lnTo>
                    <a:lnTo>
                      <a:pt x="2050" y="545"/>
                    </a:lnTo>
                    <a:lnTo>
                      <a:pt x="2047" y="529"/>
                    </a:lnTo>
                    <a:lnTo>
                      <a:pt x="2038" y="516"/>
                    </a:lnTo>
                    <a:lnTo>
                      <a:pt x="2030" y="502"/>
                    </a:lnTo>
                    <a:lnTo>
                      <a:pt x="2018" y="490"/>
                    </a:lnTo>
                    <a:lnTo>
                      <a:pt x="2007" y="479"/>
                    </a:lnTo>
                    <a:lnTo>
                      <a:pt x="1991" y="471"/>
                    </a:lnTo>
                    <a:lnTo>
                      <a:pt x="1976" y="463"/>
                    </a:lnTo>
                    <a:lnTo>
                      <a:pt x="1968" y="460"/>
                    </a:lnTo>
                    <a:lnTo>
                      <a:pt x="1959" y="457"/>
                    </a:lnTo>
                    <a:lnTo>
                      <a:pt x="1950" y="455"/>
                    </a:lnTo>
                    <a:lnTo>
                      <a:pt x="1941" y="452"/>
                    </a:lnTo>
                    <a:lnTo>
                      <a:pt x="1930" y="452"/>
                    </a:lnTo>
                    <a:lnTo>
                      <a:pt x="1920" y="452"/>
                    </a:lnTo>
                    <a:lnTo>
                      <a:pt x="1910" y="451"/>
                    </a:lnTo>
                    <a:lnTo>
                      <a:pt x="1900" y="451"/>
                    </a:lnTo>
                    <a:lnTo>
                      <a:pt x="1888" y="452"/>
                    </a:lnTo>
                    <a:lnTo>
                      <a:pt x="1878" y="454"/>
                    </a:lnTo>
                    <a:lnTo>
                      <a:pt x="1868" y="456"/>
                    </a:lnTo>
                    <a:lnTo>
                      <a:pt x="1858" y="458"/>
                    </a:lnTo>
                    <a:lnTo>
                      <a:pt x="1849" y="463"/>
                    </a:lnTo>
                    <a:lnTo>
                      <a:pt x="1840" y="466"/>
                    </a:lnTo>
                    <a:lnTo>
                      <a:pt x="1831" y="470"/>
                    </a:lnTo>
                    <a:lnTo>
                      <a:pt x="1822" y="474"/>
                    </a:lnTo>
                    <a:lnTo>
                      <a:pt x="1814" y="479"/>
                    </a:lnTo>
                    <a:lnTo>
                      <a:pt x="1807" y="482"/>
                    </a:lnTo>
                    <a:lnTo>
                      <a:pt x="1798" y="488"/>
                    </a:lnTo>
                    <a:lnTo>
                      <a:pt x="1788" y="492"/>
                    </a:lnTo>
                    <a:lnTo>
                      <a:pt x="1779" y="498"/>
                    </a:lnTo>
                    <a:lnTo>
                      <a:pt x="1771" y="503"/>
                    </a:lnTo>
                    <a:lnTo>
                      <a:pt x="1761" y="507"/>
                    </a:lnTo>
                    <a:lnTo>
                      <a:pt x="1753" y="512"/>
                    </a:lnTo>
                    <a:lnTo>
                      <a:pt x="1742" y="517"/>
                    </a:lnTo>
                    <a:lnTo>
                      <a:pt x="1732" y="521"/>
                    </a:lnTo>
                    <a:lnTo>
                      <a:pt x="1722" y="525"/>
                    </a:lnTo>
                    <a:lnTo>
                      <a:pt x="1713" y="528"/>
                    </a:lnTo>
                    <a:lnTo>
                      <a:pt x="1701" y="532"/>
                    </a:lnTo>
                    <a:lnTo>
                      <a:pt x="1689" y="535"/>
                    </a:lnTo>
                    <a:lnTo>
                      <a:pt x="1676" y="537"/>
                    </a:lnTo>
                    <a:lnTo>
                      <a:pt x="1663" y="539"/>
                    </a:lnTo>
                    <a:lnTo>
                      <a:pt x="1648" y="540"/>
                    </a:lnTo>
                    <a:lnTo>
                      <a:pt x="1635" y="540"/>
                    </a:lnTo>
                    <a:lnTo>
                      <a:pt x="1627" y="540"/>
                    </a:lnTo>
                    <a:lnTo>
                      <a:pt x="1618" y="539"/>
                    </a:lnTo>
                    <a:lnTo>
                      <a:pt x="1610" y="539"/>
                    </a:lnTo>
                    <a:lnTo>
                      <a:pt x="1601" y="538"/>
                    </a:lnTo>
                    <a:lnTo>
                      <a:pt x="1592" y="537"/>
                    </a:lnTo>
                    <a:lnTo>
                      <a:pt x="1583" y="536"/>
                    </a:lnTo>
                    <a:lnTo>
                      <a:pt x="1574" y="535"/>
                    </a:lnTo>
                    <a:lnTo>
                      <a:pt x="1566" y="534"/>
                    </a:lnTo>
                    <a:lnTo>
                      <a:pt x="1556" y="532"/>
                    </a:lnTo>
                    <a:lnTo>
                      <a:pt x="1545" y="530"/>
                    </a:lnTo>
                    <a:lnTo>
                      <a:pt x="1535" y="528"/>
                    </a:lnTo>
                    <a:lnTo>
                      <a:pt x="1526" y="527"/>
                    </a:lnTo>
                    <a:lnTo>
                      <a:pt x="1507" y="522"/>
                    </a:lnTo>
                    <a:lnTo>
                      <a:pt x="1488" y="517"/>
                    </a:lnTo>
                    <a:lnTo>
                      <a:pt x="1470" y="512"/>
                    </a:lnTo>
                    <a:lnTo>
                      <a:pt x="1450" y="507"/>
                    </a:lnTo>
                    <a:lnTo>
                      <a:pt x="1435" y="501"/>
                    </a:lnTo>
                    <a:lnTo>
                      <a:pt x="1420" y="494"/>
                    </a:lnTo>
                    <a:lnTo>
                      <a:pt x="1404" y="488"/>
                    </a:lnTo>
                    <a:lnTo>
                      <a:pt x="1389" y="482"/>
                    </a:lnTo>
                    <a:lnTo>
                      <a:pt x="1377" y="477"/>
                    </a:lnTo>
                    <a:lnTo>
                      <a:pt x="1365" y="471"/>
                    </a:lnTo>
                    <a:lnTo>
                      <a:pt x="1353" y="465"/>
                    </a:lnTo>
                    <a:lnTo>
                      <a:pt x="1341" y="459"/>
                    </a:lnTo>
                    <a:lnTo>
                      <a:pt x="1332" y="453"/>
                    </a:lnTo>
                    <a:lnTo>
                      <a:pt x="1323" y="445"/>
                    </a:lnTo>
                    <a:lnTo>
                      <a:pt x="1315" y="439"/>
                    </a:lnTo>
                    <a:lnTo>
                      <a:pt x="1305" y="432"/>
                    </a:lnTo>
                    <a:lnTo>
                      <a:pt x="1291" y="419"/>
                    </a:lnTo>
                    <a:lnTo>
                      <a:pt x="1278" y="406"/>
                    </a:lnTo>
                    <a:lnTo>
                      <a:pt x="1269" y="391"/>
                    </a:lnTo>
                    <a:lnTo>
                      <a:pt x="1259" y="377"/>
                    </a:lnTo>
                    <a:lnTo>
                      <a:pt x="1253" y="364"/>
                    </a:lnTo>
                    <a:lnTo>
                      <a:pt x="1247" y="351"/>
                    </a:lnTo>
                    <a:lnTo>
                      <a:pt x="1245" y="336"/>
                    </a:lnTo>
                    <a:lnTo>
                      <a:pt x="1243" y="321"/>
                    </a:lnTo>
                    <a:lnTo>
                      <a:pt x="1243" y="308"/>
                    </a:lnTo>
                    <a:lnTo>
                      <a:pt x="1242" y="292"/>
                    </a:lnTo>
                    <a:lnTo>
                      <a:pt x="1243" y="279"/>
                    </a:lnTo>
                    <a:lnTo>
                      <a:pt x="1243" y="266"/>
                    </a:lnTo>
                    <a:lnTo>
                      <a:pt x="1245" y="258"/>
                    </a:lnTo>
                    <a:lnTo>
                      <a:pt x="1246" y="249"/>
                    </a:lnTo>
                    <a:lnTo>
                      <a:pt x="1248" y="242"/>
                    </a:lnTo>
                    <a:lnTo>
                      <a:pt x="1249" y="234"/>
                    </a:lnTo>
                    <a:lnTo>
                      <a:pt x="1253" y="219"/>
                    </a:lnTo>
                    <a:lnTo>
                      <a:pt x="1257" y="204"/>
                    </a:lnTo>
                    <a:lnTo>
                      <a:pt x="1260" y="196"/>
                    </a:lnTo>
                    <a:lnTo>
                      <a:pt x="1264" y="188"/>
                    </a:lnTo>
                    <a:lnTo>
                      <a:pt x="1267" y="180"/>
                    </a:lnTo>
                    <a:lnTo>
                      <a:pt x="1270" y="172"/>
                    </a:lnTo>
                    <a:lnTo>
                      <a:pt x="1277" y="158"/>
                    </a:lnTo>
                    <a:lnTo>
                      <a:pt x="1286" y="142"/>
                    </a:lnTo>
                    <a:lnTo>
                      <a:pt x="1294" y="129"/>
                    </a:lnTo>
                    <a:lnTo>
                      <a:pt x="1303" y="114"/>
                    </a:lnTo>
                    <a:lnTo>
                      <a:pt x="1315" y="100"/>
                    </a:lnTo>
                    <a:lnTo>
                      <a:pt x="1326" y="87"/>
                    </a:lnTo>
                    <a:lnTo>
                      <a:pt x="1338" y="76"/>
                    </a:lnTo>
                    <a:lnTo>
                      <a:pt x="1351" y="64"/>
                    </a:lnTo>
                    <a:lnTo>
                      <a:pt x="1367" y="53"/>
                    </a:lnTo>
                    <a:lnTo>
                      <a:pt x="1381" y="42"/>
                    </a:lnTo>
                    <a:lnTo>
                      <a:pt x="1389" y="38"/>
                    </a:lnTo>
                    <a:lnTo>
                      <a:pt x="1397" y="33"/>
                    </a:lnTo>
                    <a:lnTo>
                      <a:pt x="1404" y="29"/>
                    </a:lnTo>
                    <a:lnTo>
                      <a:pt x="1413" y="24"/>
                    </a:lnTo>
                    <a:lnTo>
                      <a:pt x="1422" y="21"/>
                    </a:lnTo>
                    <a:lnTo>
                      <a:pt x="1431" y="18"/>
                    </a:lnTo>
                    <a:lnTo>
                      <a:pt x="1441" y="16"/>
                    </a:lnTo>
                    <a:lnTo>
                      <a:pt x="1450" y="13"/>
                    </a:lnTo>
                    <a:lnTo>
                      <a:pt x="1461" y="11"/>
                    </a:lnTo>
                    <a:lnTo>
                      <a:pt x="1471" y="9"/>
                    </a:lnTo>
                    <a:lnTo>
                      <a:pt x="1481" y="6"/>
                    </a:lnTo>
                    <a:lnTo>
                      <a:pt x="1492" y="4"/>
                    </a:lnTo>
                    <a:lnTo>
                      <a:pt x="1502" y="3"/>
                    </a:lnTo>
                    <a:lnTo>
                      <a:pt x="1514" y="2"/>
                    </a:lnTo>
                    <a:lnTo>
                      <a:pt x="1525" y="1"/>
                    </a:lnTo>
                    <a:lnTo>
                      <a:pt x="1536" y="0"/>
                    </a:lnTo>
                    <a:lnTo>
                      <a:pt x="1548" y="1"/>
                    </a:lnTo>
                    <a:lnTo>
                      <a:pt x="1561" y="2"/>
                    </a:lnTo>
                    <a:lnTo>
                      <a:pt x="1573" y="2"/>
                    </a:lnTo>
                    <a:lnTo>
                      <a:pt x="1585" y="2"/>
                    </a:lnTo>
                    <a:lnTo>
                      <a:pt x="1598" y="5"/>
                    </a:lnTo>
                    <a:lnTo>
                      <a:pt x="1613" y="8"/>
                    </a:lnTo>
                    <a:lnTo>
                      <a:pt x="1626" y="11"/>
                    </a:lnTo>
                    <a:lnTo>
                      <a:pt x="1639" y="14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388040" y="1898280"/>
                <a:ext cx="90360" cy="100800"/>
              </a:xfrm>
              <a:custGeom>
                <a:avLst/>
                <a:gdLst/>
                <a:ahLst/>
                <a:rect l="l" t="t" r="r" b="b"/>
                <a:pathLst>
                  <a:path w="1801" h="1905">
                    <a:moveTo>
                      <a:pt x="957" y="0"/>
                    </a:moveTo>
                    <a:lnTo>
                      <a:pt x="963" y="3"/>
                    </a:lnTo>
                    <a:lnTo>
                      <a:pt x="970" y="5"/>
                    </a:lnTo>
                    <a:lnTo>
                      <a:pt x="978" y="10"/>
                    </a:lnTo>
                    <a:lnTo>
                      <a:pt x="986" y="14"/>
                    </a:lnTo>
                    <a:lnTo>
                      <a:pt x="994" y="18"/>
                    </a:lnTo>
                    <a:lnTo>
                      <a:pt x="1003" y="22"/>
                    </a:lnTo>
                    <a:lnTo>
                      <a:pt x="1016" y="29"/>
                    </a:lnTo>
                    <a:lnTo>
                      <a:pt x="1027" y="35"/>
                    </a:lnTo>
                    <a:lnTo>
                      <a:pt x="1039" y="42"/>
                    </a:lnTo>
                    <a:lnTo>
                      <a:pt x="1050" y="48"/>
                    </a:lnTo>
                    <a:lnTo>
                      <a:pt x="1065" y="58"/>
                    </a:lnTo>
                    <a:lnTo>
                      <a:pt x="1079" y="68"/>
                    </a:lnTo>
                    <a:lnTo>
                      <a:pt x="1093" y="77"/>
                    </a:lnTo>
                    <a:lnTo>
                      <a:pt x="1106" y="88"/>
                    </a:lnTo>
                    <a:lnTo>
                      <a:pt x="1120" y="100"/>
                    </a:lnTo>
                    <a:lnTo>
                      <a:pt x="1133" y="111"/>
                    </a:lnTo>
                    <a:lnTo>
                      <a:pt x="1146" y="122"/>
                    </a:lnTo>
                    <a:lnTo>
                      <a:pt x="1161" y="134"/>
                    </a:lnTo>
                    <a:lnTo>
                      <a:pt x="1172" y="149"/>
                    </a:lnTo>
                    <a:lnTo>
                      <a:pt x="1184" y="163"/>
                    </a:lnTo>
                    <a:lnTo>
                      <a:pt x="1196" y="177"/>
                    </a:lnTo>
                    <a:lnTo>
                      <a:pt x="1208" y="192"/>
                    </a:lnTo>
                    <a:lnTo>
                      <a:pt x="1217" y="208"/>
                    </a:lnTo>
                    <a:lnTo>
                      <a:pt x="1225" y="224"/>
                    </a:lnTo>
                    <a:lnTo>
                      <a:pt x="1233" y="242"/>
                    </a:lnTo>
                    <a:lnTo>
                      <a:pt x="1242" y="258"/>
                    </a:lnTo>
                    <a:lnTo>
                      <a:pt x="1245" y="276"/>
                    </a:lnTo>
                    <a:lnTo>
                      <a:pt x="1247" y="296"/>
                    </a:lnTo>
                    <a:lnTo>
                      <a:pt x="1250" y="314"/>
                    </a:lnTo>
                    <a:lnTo>
                      <a:pt x="1253" y="333"/>
                    </a:lnTo>
                    <a:lnTo>
                      <a:pt x="1252" y="342"/>
                    </a:lnTo>
                    <a:lnTo>
                      <a:pt x="1251" y="351"/>
                    </a:lnTo>
                    <a:lnTo>
                      <a:pt x="1250" y="361"/>
                    </a:lnTo>
                    <a:lnTo>
                      <a:pt x="1249" y="370"/>
                    </a:lnTo>
                    <a:lnTo>
                      <a:pt x="1247" y="378"/>
                    </a:lnTo>
                    <a:lnTo>
                      <a:pt x="1245" y="388"/>
                    </a:lnTo>
                    <a:lnTo>
                      <a:pt x="1244" y="397"/>
                    </a:lnTo>
                    <a:lnTo>
                      <a:pt x="1242" y="406"/>
                    </a:lnTo>
                    <a:lnTo>
                      <a:pt x="1234" y="421"/>
                    </a:lnTo>
                    <a:lnTo>
                      <a:pt x="1226" y="437"/>
                    </a:lnTo>
                    <a:lnTo>
                      <a:pt x="1216" y="451"/>
                    </a:lnTo>
                    <a:lnTo>
                      <a:pt x="1206" y="464"/>
                    </a:lnTo>
                    <a:lnTo>
                      <a:pt x="1194" y="476"/>
                    </a:lnTo>
                    <a:lnTo>
                      <a:pt x="1182" y="489"/>
                    </a:lnTo>
                    <a:lnTo>
                      <a:pt x="1169" y="499"/>
                    </a:lnTo>
                    <a:lnTo>
                      <a:pt x="1154" y="510"/>
                    </a:lnTo>
                    <a:lnTo>
                      <a:pt x="1146" y="515"/>
                    </a:lnTo>
                    <a:lnTo>
                      <a:pt x="1138" y="520"/>
                    </a:lnTo>
                    <a:lnTo>
                      <a:pt x="1131" y="525"/>
                    </a:lnTo>
                    <a:lnTo>
                      <a:pt x="1123" y="531"/>
                    </a:lnTo>
                    <a:lnTo>
                      <a:pt x="1114" y="535"/>
                    </a:lnTo>
                    <a:lnTo>
                      <a:pt x="1105" y="539"/>
                    </a:lnTo>
                    <a:lnTo>
                      <a:pt x="1097" y="543"/>
                    </a:lnTo>
                    <a:lnTo>
                      <a:pt x="1089" y="547"/>
                    </a:lnTo>
                    <a:lnTo>
                      <a:pt x="1080" y="550"/>
                    </a:lnTo>
                    <a:lnTo>
                      <a:pt x="1071" y="554"/>
                    </a:lnTo>
                    <a:lnTo>
                      <a:pt x="1061" y="557"/>
                    </a:lnTo>
                    <a:lnTo>
                      <a:pt x="1053" y="560"/>
                    </a:lnTo>
                    <a:lnTo>
                      <a:pt x="1043" y="564"/>
                    </a:lnTo>
                    <a:lnTo>
                      <a:pt x="1034" y="567"/>
                    </a:lnTo>
                    <a:lnTo>
                      <a:pt x="1025" y="570"/>
                    </a:lnTo>
                    <a:lnTo>
                      <a:pt x="1015" y="573"/>
                    </a:lnTo>
                    <a:lnTo>
                      <a:pt x="1005" y="576"/>
                    </a:lnTo>
                    <a:lnTo>
                      <a:pt x="996" y="579"/>
                    </a:lnTo>
                    <a:lnTo>
                      <a:pt x="987" y="581"/>
                    </a:lnTo>
                    <a:lnTo>
                      <a:pt x="978" y="583"/>
                    </a:lnTo>
                    <a:lnTo>
                      <a:pt x="968" y="586"/>
                    </a:lnTo>
                    <a:lnTo>
                      <a:pt x="957" y="588"/>
                    </a:lnTo>
                    <a:lnTo>
                      <a:pt x="947" y="590"/>
                    </a:lnTo>
                    <a:lnTo>
                      <a:pt x="938" y="592"/>
                    </a:lnTo>
                    <a:lnTo>
                      <a:pt x="928" y="593"/>
                    </a:lnTo>
                    <a:lnTo>
                      <a:pt x="919" y="595"/>
                    </a:lnTo>
                    <a:lnTo>
                      <a:pt x="909" y="596"/>
                    </a:lnTo>
                    <a:lnTo>
                      <a:pt x="899" y="597"/>
                    </a:lnTo>
                    <a:lnTo>
                      <a:pt x="890" y="598"/>
                    </a:lnTo>
                    <a:lnTo>
                      <a:pt x="881" y="600"/>
                    </a:lnTo>
                    <a:lnTo>
                      <a:pt x="871" y="601"/>
                    </a:lnTo>
                    <a:lnTo>
                      <a:pt x="861" y="602"/>
                    </a:lnTo>
                    <a:lnTo>
                      <a:pt x="852" y="603"/>
                    </a:lnTo>
                    <a:lnTo>
                      <a:pt x="843" y="604"/>
                    </a:lnTo>
                    <a:lnTo>
                      <a:pt x="833" y="604"/>
                    </a:lnTo>
                    <a:lnTo>
                      <a:pt x="824" y="605"/>
                    </a:lnTo>
                    <a:lnTo>
                      <a:pt x="815" y="606"/>
                    </a:lnTo>
                    <a:lnTo>
                      <a:pt x="807" y="606"/>
                    </a:lnTo>
                    <a:lnTo>
                      <a:pt x="798" y="606"/>
                    </a:lnTo>
                    <a:lnTo>
                      <a:pt x="790" y="607"/>
                    </a:lnTo>
                    <a:lnTo>
                      <a:pt x="781" y="608"/>
                    </a:lnTo>
                    <a:lnTo>
                      <a:pt x="772" y="609"/>
                    </a:lnTo>
                    <a:lnTo>
                      <a:pt x="762" y="610"/>
                    </a:lnTo>
                    <a:lnTo>
                      <a:pt x="752" y="611"/>
                    </a:lnTo>
                    <a:lnTo>
                      <a:pt x="741" y="611"/>
                    </a:lnTo>
                    <a:lnTo>
                      <a:pt x="729" y="612"/>
                    </a:lnTo>
                    <a:lnTo>
                      <a:pt x="716" y="612"/>
                    </a:lnTo>
                    <a:lnTo>
                      <a:pt x="704" y="613"/>
                    </a:lnTo>
                    <a:lnTo>
                      <a:pt x="691" y="614"/>
                    </a:lnTo>
                    <a:lnTo>
                      <a:pt x="678" y="616"/>
                    </a:lnTo>
                    <a:lnTo>
                      <a:pt x="664" y="618"/>
                    </a:lnTo>
                    <a:lnTo>
                      <a:pt x="651" y="620"/>
                    </a:lnTo>
                    <a:lnTo>
                      <a:pt x="636" y="622"/>
                    </a:lnTo>
                    <a:lnTo>
                      <a:pt x="620" y="625"/>
                    </a:lnTo>
                    <a:lnTo>
                      <a:pt x="606" y="627"/>
                    </a:lnTo>
                    <a:lnTo>
                      <a:pt x="591" y="629"/>
                    </a:lnTo>
                    <a:lnTo>
                      <a:pt x="574" y="632"/>
                    </a:lnTo>
                    <a:lnTo>
                      <a:pt x="559" y="636"/>
                    </a:lnTo>
                    <a:lnTo>
                      <a:pt x="543" y="639"/>
                    </a:lnTo>
                    <a:lnTo>
                      <a:pt x="528" y="642"/>
                    </a:lnTo>
                    <a:lnTo>
                      <a:pt x="510" y="646"/>
                    </a:lnTo>
                    <a:lnTo>
                      <a:pt x="493" y="650"/>
                    </a:lnTo>
                    <a:lnTo>
                      <a:pt x="476" y="654"/>
                    </a:lnTo>
                    <a:lnTo>
                      <a:pt x="460" y="658"/>
                    </a:lnTo>
                    <a:lnTo>
                      <a:pt x="443" y="663"/>
                    </a:lnTo>
                    <a:lnTo>
                      <a:pt x="426" y="668"/>
                    </a:lnTo>
                    <a:lnTo>
                      <a:pt x="410" y="674"/>
                    </a:lnTo>
                    <a:lnTo>
                      <a:pt x="394" y="679"/>
                    </a:lnTo>
                    <a:lnTo>
                      <a:pt x="377" y="685"/>
                    </a:lnTo>
                    <a:lnTo>
                      <a:pt x="360" y="691"/>
                    </a:lnTo>
                    <a:lnTo>
                      <a:pt x="343" y="697"/>
                    </a:lnTo>
                    <a:lnTo>
                      <a:pt x="326" y="703"/>
                    </a:lnTo>
                    <a:lnTo>
                      <a:pt x="310" y="710"/>
                    </a:lnTo>
                    <a:lnTo>
                      <a:pt x="294" y="717"/>
                    </a:lnTo>
                    <a:lnTo>
                      <a:pt x="277" y="726"/>
                    </a:lnTo>
                    <a:lnTo>
                      <a:pt x="262" y="733"/>
                    </a:lnTo>
                    <a:lnTo>
                      <a:pt x="247" y="742"/>
                    </a:lnTo>
                    <a:lnTo>
                      <a:pt x="232" y="751"/>
                    </a:lnTo>
                    <a:lnTo>
                      <a:pt x="217" y="759"/>
                    </a:lnTo>
                    <a:lnTo>
                      <a:pt x="202" y="768"/>
                    </a:lnTo>
                    <a:lnTo>
                      <a:pt x="189" y="779"/>
                    </a:lnTo>
                    <a:lnTo>
                      <a:pt x="174" y="790"/>
                    </a:lnTo>
                    <a:lnTo>
                      <a:pt x="160" y="800"/>
                    </a:lnTo>
                    <a:lnTo>
                      <a:pt x="147" y="810"/>
                    </a:lnTo>
                    <a:lnTo>
                      <a:pt x="133" y="822"/>
                    </a:lnTo>
                    <a:lnTo>
                      <a:pt x="121" y="833"/>
                    </a:lnTo>
                    <a:lnTo>
                      <a:pt x="109" y="845"/>
                    </a:lnTo>
                    <a:lnTo>
                      <a:pt x="97" y="856"/>
                    </a:lnTo>
                    <a:lnTo>
                      <a:pt x="86" y="871"/>
                    </a:lnTo>
                    <a:lnTo>
                      <a:pt x="76" y="884"/>
                    </a:lnTo>
                    <a:lnTo>
                      <a:pt x="67" y="898"/>
                    </a:lnTo>
                    <a:lnTo>
                      <a:pt x="57" y="911"/>
                    </a:lnTo>
                    <a:lnTo>
                      <a:pt x="49" y="927"/>
                    </a:lnTo>
                    <a:lnTo>
                      <a:pt x="42" y="942"/>
                    </a:lnTo>
                    <a:lnTo>
                      <a:pt x="33" y="957"/>
                    </a:lnTo>
                    <a:lnTo>
                      <a:pt x="25" y="973"/>
                    </a:lnTo>
                    <a:lnTo>
                      <a:pt x="20" y="991"/>
                    </a:lnTo>
                    <a:lnTo>
                      <a:pt x="15" y="1008"/>
                    </a:lnTo>
                    <a:lnTo>
                      <a:pt x="10" y="1026"/>
                    </a:lnTo>
                    <a:lnTo>
                      <a:pt x="6" y="1043"/>
                    </a:lnTo>
                    <a:lnTo>
                      <a:pt x="4" y="1063"/>
                    </a:lnTo>
                    <a:lnTo>
                      <a:pt x="3" y="1082"/>
                    </a:lnTo>
                    <a:lnTo>
                      <a:pt x="1" y="1100"/>
                    </a:lnTo>
                    <a:lnTo>
                      <a:pt x="0" y="1120"/>
                    </a:lnTo>
                    <a:lnTo>
                      <a:pt x="2" y="1140"/>
                    </a:lnTo>
                    <a:lnTo>
                      <a:pt x="3" y="1159"/>
                    </a:lnTo>
                    <a:lnTo>
                      <a:pt x="5" y="1180"/>
                    </a:lnTo>
                    <a:lnTo>
                      <a:pt x="7" y="1200"/>
                    </a:lnTo>
                    <a:lnTo>
                      <a:pt x="13" y="1220"/>
                    </a:lnTo>
                    <a:lnTo>
                      <a:pt x="19" y="1239"/>
                    </a:lnTo>
                    <a:lnTo>
                      <a:pt x="25" y="1259"/>
                    </a:lnTo>
                    <a:lnTo>
                      <a:pt x="31" y="1278"/>
                    </a:lnTo>
                    <a:lnTo>
                      <a:pt x="40" y="1297"/>
                    </a:lnTo>
                    <a:lnTo>
                      <a:pt x="49" y="1316"/>
                    </a:lnTo>
                    <a:lnTo>
                      <a:pt x="58" y="1334"/>
                    </a:lnTo>
                    <a:lnTo>
                      <a:pt x="67" y="1352"/>
                    </a:lnTo>
                    <a:lnTo>
                      <a:pt x="78" y="1371"/>
                    </a:lnTo>
                    <a:lnTo>
                      <a:pt x="90" y="1389"/>
                    </a:lnTo>
                    <a:lnTo>
                      <a:pt x="101" y="1408"/>
                    </a:lnTo>
                    <a:lnTo>
                      <a:pt x="113" y="1426"/>
                    </a:lnTo>
                    <a:lnTo>
                      <a:pt x="126" y="1443"/>
                    </a:lnTo>
                    <a:lnTo>
                      <a:pt x="140" y="1460"/>
                    </a:lnTo>
                    <a:lnTo>
                      <a:pt x="153" y="1477"/>
                    </a:lnTo>
                    <a:lnTo>
                      <a:pt x="166" y="1493"/>
                    </a:lnTo>
                    <a:lnTo>
                      <a:pt x="181" y="1510"/>
                    </a:lnTo>
                    <a:lnTo>
                      <a:pt x="198" y="1526"/>
                    </a:lnTo>
                    <a:lnTo>
                      <a:pt x="213" y="1542"/>
                    </a:lnTo>
                    <a:lnTo>
                      <a:pt x="228" y="1558"/>
                    </a:lnTo>
                    <a:lnTo>
                      <a:pt x="245" y="1573"/>
                    </a:lnTo>
                    <a:lnTo>
                      <a:pt x="261" y="1589"/>
                    </a:lnTo>
                    <a:lnTo>
                      <a:pt x="277" y="1605"/>
                    </a:lnTo>
                    <a:lnTo>
                      <a:pt x="294" y="1620"/>
                    </a:lnTo>
                    <a:lnTo>
                      <a:pt x="311" y="1633"/>
                    </a:lnTo>
                    <a:lnTo>
                      <a:pt x="327" y="1648"/>
                    </a:lnTo>
                    <a:lnTo>
                      <a:pt x="345" y="1662"/>
                    </a:lnTo>
                    <a:lnTo>
                      <a:pt x="362" y="1675"/>
                    </a:lnTo>
                    <a:lnTo>
                      <a:pt x="378" y="1688"/>
                    </a:lnTo>
                    <a:lnTo>
                      <a:pt x="396" y="1701"/>
                    </a:lnTo>
                    <a:lnTo>
                      <a:pt x="413" y="1714"/>
                    </a:lnTo>
                    <a:lnTo>
                      <a:pt x="430" y="1726"/>
                    </a:lnTo>
                    <a:lnTo>
                      <a:pt x="446" y="1737"/>
                    </a:lnTo>
                    <a:lnTo>
                      <a:pt x="462" y="1749"/>
                    </a:lnTo>
                    <a:lnTo>
                      <a:pt x="479" y="1760"/>
                    </a:lnTo>
                    <a:lnTo>
                      <a:pt x="496" y="1771"/>
                    </a:lnTo>
                    <a:lnTo>
                      <a:pt x="511" y="1781"/>
                    </a:lnTo>
                    <a:lnTo>
                      <a:pt x="526" y="1790"/>
                    </a:lnTo>
                    <a:lnTo>
                      <a:pt x="542" y="1800"/>
                    </a:lnTo>
                    <a:lnTo>
                      <a:pt x="557" y="1809"/>
                    </a:lnTo>
                    <a:lnTo>
                      <a:pt x="570" y="1817"/>
                    </a:lnTo>
                    <a:lnTo>
                      <a:pt x="584" y="1825"/>
                    </a:lnTo>
                    <a:lnTo>
                      <a:pt x="597" y="1834"/>
                    </a:lnTo>
                    <a:lnTo>
                      <a:pt x="611" y="1843"/>
                    </a:lnTo>
                    <a:lnTo>
                      <a:pt x="622" y="1849"/>
                    </a:lnTo>
                    <a:lnTo>
                      <a:pt x="634" y="1856"/>
                    </a:lnTo>
                    <a:lnTo>
                      <a:pt x="645" y="1863"/>
                    </a:lnTo>
                    <a:lnTo>
                      <a:pt x="656" y="1869"/>
                    </a:lnTo>
                    <a:lnTo>
                      <a:pt x="665" y="1874"/>
                    </a:lnTo>
                    <a:lnTo>
                      <a:pt x="675" y="1879"/>
                    </a:lnTo>
                    <a:lnTo>
                      <a:pt x="684" y="1884"/>
                    </a:lnTo>
                    <a:lnTo>
                      <a:pt x="693" y="1889"/>
                    </a:lnTo>
                    <a:lnTo>
                      <a:pt x="704" y="1896"/>
                    </a:lnTo>
                    <a:lnTo>
                      <a:pt x="716" y="1901"/>
                    </a:lnTo>
                    <a:lnTo>
                      <a:pt x="720" y="1903"/>
                    </a:lnTo>
                    <a:lnTo>
                      <a:pt x="725" y="1905"/>
                    </a:lnTo>
                    <a:lnTo>
                      <a:pt x="723" y="1853"/>
                    </a:lnTo>
                    <a:lnTo>
                      <a:pt x="720" y="1801"/>
                    </a:lnTo>
                    <a:lnTo>
                      <a:pt x="719" y="1748"/>
                    </a:lnTo>
                    <a:lnTo>
                      <a:pt x="717" y="1695"/>
                    </a:lnTo>
                    <a:lnTo>
                      <a:pt x="715" y="1643"/>
                    </a:lnTo>
                    <a:lnTo>
                      <a:pt x="714" y="1590"/>
                    </a:lnTo>
                    <a:lnTo>
                      <a:pt x="712" y="1538"/>
                    </a:lnTo>
                    <a:lnTo>
                      <a:pt x="710" y="1486"/>
                    </a:lnTo>
                    <a:lnTo>
                      <a:pt x="706" y="1484"/>
                    </a:lnTo>
                    <a:lnTo>
                      <a:pt x="703" y="1482"/>
                    </a:lnTo>
                    <a:lnTo>
                      <a:pt x="691" y="1475"/>
                    </a:lnTo>
                    <a:lnTo>
                      <a:pt x="679" y="1468"/>
                    </a:lnTo>
                    <a:lnTo>
                      <a:pt x="670" y="1463"/>
                    </a:lnTo>
                    <a:lnTo>
                      <a:pt x="662" y="1458"/>
                    </a:lnTo>
                    <a:lnTo>
                      <a:pt x="654" y="1453"/>
                    </a:lnTo>
                    <a:lnTo>
                      <a:pt x="647" y="1447"/>
                    </a:lnTo>
                    <a:lnTo>
                      <a:pt x="638" y="1439"/>
                    </a:lnTo>
                    <a:lnTo>
                      <a:pt x="629" y="1432"/>
                    </a:lnTo>
                    <a:lnTo>
                      <a:pt x="619" y="1424"/>
                    </a:lnTo>
                    <a:lnTo>
                      <a:pt x="611" y="1417"/>
                    </a:lnTo>
                    <a:lnTo>
                      <a:pt x="601" y="1407"/>
                    </a:lnTo>
                    <a:lnTo>
                      <a:pt x="592" y="1396"/>
                    </a:lnTo>
                    <a:lnTo>
                      <a:pt x="583" y="1387"/>
                    </a:lnTo>
                    <a:lnTo>
                      <a:pt x="573" y="1377"/>
                    </a:lnTo>
                    <a:lnTo>
                      <a:pt x="565" y="1366"/>
                    </a:lnTo>
                    <a:lnTo>
                      <a:pt x="557" y="1354"/>
                    </a:lnTo>
                    <a:lnTo>
                      <a:pt x="549" y="1342"/>
                    </a:lnTo>
                    <a:lnTo>
                      <a:pt x="541" y="1331"/>
                    </a:lnTo>
                    <a:lnTo>
                      <a:pt x="535" y="1318"/>
                    </a:lnTo>
                    <a:lnTo>
                      <a:pt x="529" y="1303"/>
                    </a:lnTo>
                    <a:lnTo>
                      <a:pt x="523" y="1290"/>
                    </a:lnTo>
                    <a:lnTo>
                      <a:pt x="517" y="1276"/>
                    </a:lnTo>
                    <a:lnTo>
                      <a:pt x="515" y="1261"/>
                    </a:lnTo>
                    <a:lnTo>
                      <a:pt x="513" y="1244"/>
                    </a:lnTo>
                    <a:lnTo>
                      <a:pt x="511" y="1229"/>
                    </a:lnTo>
                    <a:lnTo>
                      <a:pt x="509" y="1214"/>
                    </a:lnTo>
                    <a:lnTo>
                      <a:pt x="509" y="1206"/>
                    </a:lnTo>
                    <a:lnTo>
                      <a:pt x="509" y="1199"/>
                    </a:lnTo>
                    <a:lnTo>
                      <a:pt x="510" y="1193"/>
                    </a:lnTo>
                    <a:lnTo>
                      <a:pt x="511" y="1186"/>
                    </a:lnTo>
                    <a:lnTo>
                      <a:pt x="513" y="1178"/>
                    </a:lnTo>
                    <a:lnTo>
                      <a:pt x="515" y="1171"/>
                    </a:lnTo>
                    <a:lnTo>
                      <a:pt x="518" y="1165"/>
                    </a:lnTo>
                    <a:lnTo>
                      <a:pt x="521" y="1158"/>
                    </a:lnTo>
                    <a:lnTo>
                      <a:pt x="525" y="1151"/>
                    </a:lnTo>
                    <a:lnTo>
                      <a:pt x="530" y="1143"/>
                    </a:lnTo>
                    <a:lnTo>
                      <a:pt x="535" y="1137"/>
                    </a:lnTo>
                    <a:lnTo>
                      <a:pt x="541" y="1131"/>
                    </a:lnTo>
                    <a:lnTo>
                      <a:pt x="548" y="1125"/>
                    </a:lnTo>
                    <a:lnTo>
                      <a:pt x="555" y="1118"/>
                    </a:lnTo>
                    <a:lnTo>
                      <a:pt x="565" y="1112"/>
                    </a:lnTo>
                    <a:lnTo>
                      <a:pt x="576" y="1106"/>
                    </a:lnTo>
                    <a:lnTo>
                      <a:pt x="587" y="1100"/>
                    </a:lnTo>
                    <a:lnTo>
                      <a:pt x="599" y="1095"/>
                    </a:lnTo>
                    <a:lnTo>
                      <a:pt x="612" y="1089"/>
                    </a:lnTo>
                    <a:lnTo>
                      <a:pt x="627" y="1084"/>
                    </a:lnTo>
                    <a:lnTo>
                      <a:pt x="635" y="1081"/>
                    </a:lnTo>
                    <a:lnTo>
                      <a:pt x="643" y="1079"/>
                    </a:lnTo>
                    <a:lnTo>
                      <a:pt x="651" y="1076"/>
                    </a:lnTo>
                    <a:lnTo>
                      <a:pt x="659" y="1073"/>
                    </a:lnTo>
                    <a:lnTo>
                      <a:pt x="668" y="1071"/>
                    </a:lnTo>
                    <a:lnTo>
                      <a:pt x="679" y="1069"/>
                    </a:lnTo>
                    <a:lnTo>
                      <a:pt x="689" y="1067"/>
                    </a:lnTo>
                    <a:lnTo>
                      <a:pt x="699" y="1065"/>
                    </a:lnTo>
                    <a:lnTo>
                      <a:pt x="710" y="1063"/>
                    </a:lnTo>
                    <a:lnTo>
                      <a:pt x="721" y="1060"/>
                    </a:lnTo>
                    <a:lnTo>
                      <a:pt x="733" y="1058"/>
                    </a:lnTo>
                    <a:lnTo>
                      <a:pt x="744" y="1057"/>
                    </a:lnTo>
                    <a:lnTo>
                      <a:pt x="756" y="1054"/>
                    </a:lnTo>
                    <a:lnTo>
                      <a:pt x="769" y="1052"/>
                    </a:lnTo>
                    <a:lnTo>
                      <a:pt x="782" y="1050"/>
                    </a:lnTo>
                    <a:lnTo>
                      <a:pt x="794" y="1048"/>
                    </a:lnTo>
                    <a:lnTo>
                      <a:pt x="809" y="1047"/>
                    </a:lnTo>
                    <a:lnTo>
                      <a:pt x="824" y="1046"/>
                    </a:lnTo>
                    <a:lnTo>
                      <a:pt x="839" y="1045"/>
                    </a:lnTo>
                    <a:lnTo>
                      <a:pt x="854" y="1045"/>
                    </a:lnTo>
                    <a:lnTo>
                      <a:pt x="871" y="1043"/>
                    </a:lnTo>
                    <a:lnTo>
                      <a:pt x="887" y="1042"/>
                    </a:lnTo>
                    <a:lnTo>
                      <a:pt x="903" y="1041"/>
                    </a:lnTo>
                    <a:lnTo>
                      <a:pt x="920" y="1040"/>
                    </a:lnTo>
                    <a:lnTo>
                      <a:pt x="937" y="1038"/>
                    </a:lnTo>
                    <a:lnTo>
                      <a:pt x="955" y="1037"/>
                    </a:lnTo>
                    <a:lnTo>
                      <a:pt x="973" y="1036"/>
                    </a:lnTo>
                    <a:lnTo>
                      <a:pt x="991" y="1034"/>
                    </a:lnTo>
                    <a:lnTo>
                      <a:pt x="1009" y="1033"/>
                    </a:lnTo>
                    <a:lnTo>
                      <a:pt x="1028" y="1032"/>
                    </a:lnTo>
                    <a:lnTo>
                      <a:pt x="1046" y="1031"/>
                    </a:lnTo>
                    <a:lnTo>
                      <a:pt x="1065" y="1029"/>
                    </a:lnTo>
                    <a:lnTo>
                      <a:pt x="1083" y="1028"/>
                    </a:lnTo>
                    <a:lnTo>
                      <a:pt x="1101" y="1025"/>
                    </a:lnTo>
                    <a:lnTo>
                      <a:pt x="1120" y="1023"/>
                    </a:lnTo>
                    <a:lnTo>
                      <a:pt x="1138" y="1021"/>
                    </a:lnTo>
                    <a:lnTo>
                      <a:pt x="1157" y="1019"/>
                    </a:lnTo>
                    <a:lnTo>
                      <a:pt x="1176" y="1016"/>
                    </a:lnTo>
                    <a:lnTo>
                      <a:pt x="1195" y="1013"/>
                    </a:lnTo>
                    <a:lnTo>
                      <a:pt x="1214" y="1010"/>
                    </a:lnTo>
                    <a:lnTo>
                      <a:pt x="1233" y="1007"/>
                    </a:lnTo>
                    <a:lnTo>
                      <a:pt x="1251" y="1003"/>
                    </a:lnTo>
                    <a:lnTo>
                      <a:pt x="1271" y="999"/>
                    </a:lnTo>
                    <a:lnTo>
                      <a:pt x="1289" y="996"/>
                    </a:lnTo>
                    <a:lnTo>
                      <a:pt x="1308" y="991"/>
                    </a:lnTo>
                    <a:lnTo>
                      <a:pt x="1326" y="987"/>
                    </a:lnTo>
                    <a:lnTo>
                      <a:pt x="1343" y="983"/>
                    </a:lnTo>
                    <a:lnTo>
                      <a:pt x="1362" y="979"/>
                    </a:lnTo>
                    <a:lnTo>
                      <a:pt x="1379" y="974"/>
                    </a:lnTo>
                    <a:lnTo>
                      <a:pt x="1397" y="969"/>
                    </a:lnTo>
                    <a:lnTo>
                      <a:pt x="1415" y="962"/>
                    </a:lnTo>
                    <a:lnTo>
                      <a:pt x="1433" y="957"/>
                    </a:lnTo>
                    <a:lnTo>
                      <a:pt x="1449" y="951"/>
                    </a:lnTo>
                    <a:lnTo>
                      <a:pt x="1467" y="944"/>
                    </a:lnTo>
                    <a:lnTo>
                      <a:pt x="1484" y="938"/>
                    </a:lnTo>
                    <a:lnTo>
                      <a:pt x="1500" y="932"/>
                    </a:lnTo>
                    <a:lnTo>
                      <a:pt x="1517" y="924"/>
                    </a:lnTo>
                    <a:lnTo>
                      <a:pt x="1532" y="917"/>
                    </a:lnTo>
                    <a:lnTo>
                      <a:pt x="1547" y="908"/>
                    </a:lnTo>
                    <a:lnTo>
                      <a:pt x="1563" y="901"/>
                    </a:lnTo>
                    <a:lnTo>
                      <a:pt x="1577" y="893"/>
                    </a:lnTo>
                    <a:lnTo>
                      <a:pt x="1591" y="884"/>
                    </a:lnTo>
                    <a:lnTo>
                      <a:pt x="1606" y="876"/>
                    </a:lnTo>
                    <a:lnTo>
                      <a:pt x="1620" y="866"/>
                    </a:lnTo>
                    <a:lnTo>
                      <a:pt x="1632" y="857"/>
                    </a:lnTo>
                    <a:lnTo>
                      <a:pt x="1645" y="847"/>
                    </a:lnTo>
                    <a:lnTo>
                      <a:pt x="1659" y="837"/>
                    </a:lnTo>
                    <a:lnTo>
                      <a:pt x="1671" y="827"/>
                    </a:lnTo>
                    <a:lnTo>
                      <a:pt x="1682" y="815"/>
                    </a:lnTo>
                    <a:lnTo>
                      <a:pt x="1693" y="803"/>
                    </a:lnTo>
                    <a:lnTo>
                      <a:pt x="1705" y="791"/>
                    </a:lnTo>
                    <a:lnTo>
                      <a:pt x="1715" y="779"/>
                    </a:lnTo>
                    <a:lnTo>
                      <a:pt x="1724" y="765"/>
                    </a:lnTo>
                    <a:lnTo>
                      <a:pt x="1733" y="753"/>
                    </a:lnTo>
                    <a:lnTo>
                      <a:pt x="1741" y="740"/>
                    </a:lnTo>
                    <a:lnTo>
                      <a:pt x="1751" y="728"/>
                    </a:lnTo>
                    <a:lnTo>
                      <a:pt x="1758" y="712"/>
                    </a:lnTo>
                    <a:lnTo>
                      <a:pt x="1765" y="698"/>
                    </a:lnTo>
                    <a:lnTo>
                      <a:pt x="1771" y="684"/>
                    </a:lnTo>
                    <a:lnTo>
                      <a:pt x="1778" y="668"/>
                    </a:lnTo>
                    <a:lnTo>
                      <a:pt x="1782" y="652"/>
                    </a:lnTo>
                    <a:lnTo>
                      <a:pt x="1786" y="636"/>
                    </a:lnTo>
                    <a:lnTo>
                      <a:pt x="1790" y="619"/>
                    </a:lnTo>
                    <a:lnTo>
                      <a:pt x="1795" y="603"/>
                    </a:lnTo>
                    <a:lnTo>
                      <a:pt x="1797" y="585"/>
                    </a:lnTo>
                    <a:lnTo>
                      <a:pt x="1798" y="566"/>
                    </a:lnTo>
                    <a:lnTo>
                      <a:pt x="1799" y="548"/>
                    </a:lnTo>
                    <a:lnTo>
                      <a:pt x="1801" y="530"/>
                    </a:lnTo>
                    <a:lnTo>
                      <a:pt x="1800" y="511"/>
                    </a:lnTo>
                    <a:lnTo>
                      <a:pt x="1799" y="492"/>
                    </a:lnTo>
                    <a:lnTo>
                      <a:pt x="1798" y="473"/>
                    </a:lnTo>
                    <a:lnTo>
                      <a:pt x="1797" y="454"/>
                    </a:lnTo>
                    <a:lnTo>
                      <a:pt x="1795" y="437"/>
                    </a:lnTo>
                    <a:lnTo>
                      <a:pt x="1791" y="418"/>
                    </a:lnTo>
                    <a:lnTo>
                      <a:pt x="1789" y="401"/>
                    </a:lnTo>
                    <a:lnTo>
                      <a:pt x="1786" y="383"/>
                    </a:lnTo>
                    <a:lnTo>
                      <a:pt x="1783" y="366"/>
                    </a:lnTo>
                    <a:lnTo>
                      <a:pt x="1779" y="349"/>
                    </a:lnTo>
                    <a:lnTo>
                      <a:pt x="1776" y="333"/>
                    </a:lnTo>
                    <a:lnTo>
                      <a:pt x="1773" y="315"/>
                    </a:lnTo>
                    <a:lnTo>
                      <a:pt x="1767" y="299"/>
                    </a:lnTo>
                    <a:lnTo>
                      <a:pt x="1762" y="283"/>
                    </a:lnTo>
                    <a:lnTo>
                      <a:pt x="1757" y="266"/>
                    </a:lnTo>
                    <a:lnTo>
                      <a:pt x="1751" y="250"/>
                    </a:lnTo>
                    <a:lnTo>
                      <a:pt x="1744" y="235"/>
                    </a:lnTo>
                    <a:lnTo>
                      <a:pt x="1738" y="218"/>
                    </a:lnTo>
                    <a:lnTo>
                      <a:pt x="1731" y="203"/>
                    </a:lnTo>
                    <a:lnTo>
                      <a:pt x="1725" y="187"/>
                    </a:lnTo>
                    <a:lnTo>
                      <a:pt x="1718" y="171"/>
                    </a:lnTo>
                    <a:lnTo>
                      <a:pt x="1710" y="157"/>
                    </a:lnTo>
                    <a:lnTo>
                      <a:pt x="1703" y="142"/>
                    </a:lnTo>
                    <a:lnTo>
                      <a:pt x="1695" y="126"/>
                    </a:lnTo>
                    <a:lnTo>
                      <a:pt x="1686" y="112"/>
                    </a:lnTo>
                    <a:lnTo>
                      <a:pt x="1678" y="98"/>
                    </a:lnTo>
                    <a:lnTo>
                      <a:pt x="1670" y="84"/>
                    </a:lnTo>
                    <a:lnTo>
                      <a:pt x="1662" y="70"/>
                    </a:lnTo>
                    <a:lnTo>
                      <a:pt x="1652" y="57"/>
                    </a:lnTo>
                    <a:lnTo>
                      <a:pt x="1642" y="44"/>
                    </a:lnTo>
                    <a:lnTo>
                      <a:pt x="1632" y="30"/>
                    </a:lnTo>
                    <a:lnTo>
                      <a:pt x="1623" y="17"/>
                    </a:lnTo>
                    <a:lnTo>
                      <a:pt x="1620" y="17"/>
                    </a:lnTo>
                    <a:lnTo>
                      <a:pt x="1618" y="17"/>
                    </a:lnTo>
                    <a:lnTo>
                      <a:pt x="1609" y="19"/>
                    </a:lnTo>
                    <a:lnTo>
                      <a:pt x="1600" y="21"/>
                    </a:lnTo>
                    <a:lnTo>
                      <a:pt x="1585" y="24"/>
                    </a:lnTo>
                    <a:lnTo>
                      <a:pt x="1570" y="26"/>
                    </a:lnTo>
                    <a:lnTo>
                      <a:pt x="1561" y="27"/>
                    </a:lnTo>
                    <a:lnTo>
                      <a:pt x="1552" y="28"/>
                    </a:lnTo>
                    <a:lnTo>
                      <a:pt x="1542" y="28"/>
                    </a:lnTo>
                    <a:lnTo>
                      <a:pt x="1534" y="29"/>
                    </a:lnTo>
                    <a:lnTo>
                      <a:pt x="1522" y="31"/>
                    </a:lnTo>
                    <a:lnTo>
                      <a:pt x="1511" y="32"/>
                    </a:lnTo>
                    <a:lnTo>
                      <a:pt x="1499" y="33"/>
                    </a:lnTo>
                    <a:lnTo>
                      <a:pt x="1488" y="34"/>
                    </a:lnTo>
                    <a:lnTo>
                      <a:pt x="1475" y="35"/>
                    </a:lnTo>
                    <a:lnTo>
                      <a:pt x="1463" y="36"/>
                    </a:lnTo>
                    <a:lnTo>
                      <a:pt x="1450" y="36"/>
                    </a:lnTo>
                    <a:lnTo>
                      <a:pt x="1438" y="37"/>
                    </a:lnTo>
                    <a:lnTo>
                      <a:pt x="1425" y="37"/>
                    </a:lnTo>
                    <a:lnTo>
                      <a:pt x="1411" y="39"/>
                    </a:lnTo>
                    <a:lnTo>
                      <a:pt x="1397" y="39"/>
                    </a:lnTo>
                    <a:lnTo>
                      <a:pt x="1384" y="39"/>
                    </a:lnTo>
                    <a:lnTo>
                      <a:pt x="1370" y="39"/>
                    </a:lnTo>
                    <a:lnTo>
                      <a:pt x="1356" y="39"/>
                    </a:lnTo>
                    <a:lnTo>
                      <a:pt x="1341" y="37"/>
                    </a:lnTo>
                    <a:lnTo>
                      <a:pt x="1328" y="37"/>
                    </a:lnTo>
                    <a:lnTo>
                      <a:pt x="1319" y="36"/>
                    </a:lnTo>
                    <a:lnTo>
                      <a:pt x="1311" y="36"/>
                    </a:lnTo>
                    <a:lnTo>
                      <a:pt x="1302" y="35"/>
                    </a:lnTo>
                    <a:lnTo>
                      <a:pt x="1293" y="35"/>
                    </a:lnTo>
                    <a:lnTo>
                      <a:pt x="1285" y="34"/>
                    </a:lnTo>
                    <a:lnTo>
                      <a:pt x="1277" y="33"/>
                    </a:lnTo>
                    <a:lnTo>
                      <a:pt x="1268" y="32"/>
                    </a:lnTo>
                    <a:lnTo>
                      <a:pt x="1260" y="31"/>
                    </a:lnTo>
                    <a:lnTo>
                      <a:pt x="1251" y="30"/>
                    </a:lnTo>
                    <a:lnTo>
                      <a:pt x="1244" y="30"/>
                    </a:lnTo>
                    <a:lnTo>
                      <a:pt x="1236" y="30"/>
                    </a:lnTo>
                    <a:lnTo>
                      <a:pt x="1228" y="29"/>
                    </a:lnTo>
                    <a:lnTo>
                      <a:pt x="1220" y="28"/>
                    </a:lnTo>
                    <a:lnTo>
                      <a:pt x="1211" y="27"/>
                    </a:lnTo>
                    <a:lnTo>
                      <a:pt x="1202" y="26"/>
                    </a:lnTo>
                    <a:lnTo>
                      <a:pt x="1194" y="26"/>
                    </a:lnTo>
                    <a:lnTo>
                      <a:pt x="1186" y="25"/>
                    </a:lnTo>
                    <a:lnTo>
                      <a:pt x="1178" y="24"/>
                    </a:lnTo>
                    <a:lnTo>
                      <a:pt x="1171" y="23"/>
                    </a:lnTo>
                    <a:lnTo>
                      <a:pt x="1163" y="22"/>
                    </a:lnTo>
                    <a:lnTo>
                      <a:pt x="1147" y="22"/>
                    </a:lnTo>
                    <a:lnTo>
                      <a:pt x="1133" y="21"/>
                    </a:lnTo>
                    <a:lnTo>
                      <a:pt x="1118" y="19"/>
                    </a:lnTo>
                    <a:lnTo>
                      <a:pt x="1102" y="16"/>
                    </a:lnTo>
                    <a:lnTo>
                      <a:pt x="1090" y="15"/>
                    </a:lnTo>
                    <a:lnTo>
                      <a:pt x="1077" y="14"/>
                    </a:lnTo>
                    <a:lnTo>
                      <a:pt x="1064" y="13"/>
                    </a:lnTo>
                    <a:lnTo>
                      <a:pt x="1050" y="12"/>
                    </a:lnTo>
                    <a:lnTo>
                      <a:pt x="1039" y="11"/>
                    </a:lnTo>
                    <a:lnTo>
                      <a:pt x="1027" y="8"/>
                    </a:lnTo>
                    <a:lnTo>
                      <a:pt x="1017" y="7"/>
                    </a:lnTo>
                    <a:lnTo>
                      <a:pt x="1007" y="6"/>
                    </a:lnTo>
                    <a:lnTo>
                      <a:pt x="999" y="5"/>
                    </a:lnTo>
                    <a:lnTo>
                      <a:pt x="991" y="4"/>
                    </a:lnTo>
                    <a:lnTo>
                      <a:pt x="984" y="4"/>
                    </a:lnTo>
                    <a:lnTo>
                      <a:pt x="978" y="3"/>
                    </a:lnTo>
                    <a:lnTo>
                      <a:pt x="972" y="3"/>
                    </a:lnTo>
                    <a:lnTo>
                      <a:pt x="966" y="2"/>
                    </a:lnTo>
                    <a:lnTo>
                      <a:pt x="962" y="1"/>
                    </a:lnTo>
                    <a:lnTo>
                      <a:pt x="959" y="1"/>
                    </a:lnTo>
                    <a:lnTo>
                      <a:pt x="958" y="0"/>
                    </a:lnTo>
                    <a:lnTo>
                      <a:pt x="957" y="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398480" y="1949400"/>
                <a:ext cx="70920" cy="84960"/>
              </a:xfrm>
              <a:custGeom>
                <a:avLst/>
                <a:gdLst/>
                <a:ahLst/>
                <a:rect l="l" t="t" r="r" b="b"/>
                <a:pathLst>
                  <a:path w="1421" h="1621">
                    <a:moveTo>
                      <a:pt x="752" y="62"/>
                    </a:moveTo>
                    <a:lnTo>
                      <a:pt x="753" y="81"/>
                    </a:lnTo>
                    <a:lnTo>
                      <a:pt x="755" y="100"/>
                    </a:lnTo>
                    <a:lnTo>
                      <a:pt x="756" y="119"/>
                    </a:lnTo>
                    <a:lnTo>
                      <a:pt x="758" y="138"/>
                    </a:lnTo>
                    <a:lnTo>
                      <a:pt x="763" y="142"/>
                    </a:lnTo>
                    <a:lnTo>
                      <a:pt x="769" y="146"/>
                    </a:lnTo>
                    <a:lnTo>
                      <a:pt x="780" y="156"/>
                    </a:lnTo>
                    <a:lnTo>
                      <a:pt x="792" y="165"/>
                    </a:lnTo>
                    <a:lnTo>
                      <a:pt x="800" y="173"/>
                    </a:lnTo>
                    <a:lnTo>
                      <a:pt x="808" y="180"/>
                    </a:lnTo>
                    <a:lnTo>
                      <a:pt x="818" y="189"/>
                    </a:lnTo>
                    <a:lnTo>
                      <a:pt x="826" y="196"/>
                    </a:lnTo>
                    <a:lnTo>
                      <a:pt x="836" y="206"/>
                    </a:lnTo>
                    <a:lnTo>
                      <a:pt x="847" y="216"/>
                    </a:lnTo>
                    <a:lnTo>
                      <a:pt x="857" y="226"/>
                    </a:lnTo>
                    <a:lnTo>
                      <a:pt x="868" y="237"/>
                    </a:lnTo>
                    <a:lnTo>
                      <a:pt x="878" y="248"/>
                    </a:lnTo>
                    <a:lnTo>
                      <a:pt x="888" y="260"/>
                    </a:lnTo>
                    <a:lnTo>
                      <a:pt x="898" y="271"/>
                    </a:lnTo>
                    <a:lnTo>
                      <a:pt x="907" y="283"/>
                    </a:lnTo>
                    <a:lnTo>
                      <a:pt x="917" y="295"/>
                    </a:lnTo>
                    <a:lnTo>
                      <a:pt x="925" y="306"/>
                    </a:lnTo>
                    <a:lnTo>
                      <a:pt x="933" y="318"/>
                    </a:lnTo>
                    <a:lnTo>
                      <a:pt x="941" y="331"/>
                    </a:lnTo>
                    <a:lnTo>
                      <a:pt x="947" y="343"/>
                    </a:lnTo>
                    <a:lnTo>
                      <a:pt x="953" y="355"/>
                    </a:lnTo>
                    <a:lnTo>
                      <a:pt x="959" y="368"/>
                    </a:lnTo>
                    <a:lnTo>
                      <a:pt x="966" y="380"/>
                    </a:lnTo>
                    <a:lnTo>
                      <a:pt x="968" y="392"/>
                    </a:lnTo>
                    <a:lnTo>
                      <a:pt x="970" y="404"/>
                    </a:lnTo>
                    <a:lnTo>
                      <a:pt x="973" y="416"/>
                    </a:lnTo>
                    <a:lnTo>
                      <a:pt x="975" y="429"/>
                    </a:lnTo>
                    <a:lnTo>
                      <a:pt x="975" y="440"/>
                    </a:lnTo>
                    <a:lnTo>
                      <a:pt x="974" y="451"/>
                    </a:lnTo>
                    <a:lnTo>
                      <a:pt x="971" y="461"/>
                    </a:lnTo>
                    <a:lnTo>
                      <a:pt x="968" y="470"/>
                    </a:lnTo>
                    <a:lnTo>
                      <a:pt x="963" y="480"/>
                    </a:lnTo>
                    <a:lnTo>
                      <a:pt x="957" y="489"/>
                    </a:lnTo>
                    <a:lnTo>
                      <a:pt x="951" y="497"/>
                    </a:lnTo>
                    <a:lnTo>
                      <a:pt x="945" y="506"/>
                    </a:lnTo>
                    <a:lnTo>
                      <a:pt x="937" y="513"/>
                    </a:lnTo>
                    <a:lnTo>
                      <a:pt x="928" y="520"/>
                    </a:lnTo>
                    <a:lnTo>
                      <a:pt x="919" y="528"/>
                    </a:lnTo>
                    <a:lnTo>
                      <a:pt x="909" y="534"/>
                    </a:lnTo>
                    <a:lnTo>
                      <a:pt x="897" y="539"/>
                    </a:lnTo>
                    <a:lnTo>
                      <a:pt x="886" y="544"/>
                    </a:lnTo>
                    <a:lnTo>
                      <a:pt x="874" y="550"/>
                    </a:lnTo>
                    <a:lnTo>
                      <a:pt x="861" y="555"/>
                    </a:lnTo>
                    <a:lnTo>
                      <a:pt x="847" y="560"/>
                    </a:lnTo>
                    <a:lnTo>
                      <a:pt x="834" y="564"/>
                    </a:lnTo>
                    <a:lnTo>
                      <a:pt x="820" y="567"/>
                    </a:lnTo>
                    <a:lnTo>
                      <a:pt x="804" y="572"/>
                    </a:lnTo>
                    <a:lnTo>
                      <a:pt x="795" y="573"/>
                    </a:lnTo>
                    <a:lnTo>
                      <a:pt x="787" y="575"/>
                    </a:lnTo>
                    <a:lnTo>
                      <a:pt x="779" y="576"/>
                    </a:lnTo>
                    <a:lnTo>
                      <a:pt x="771" y="578"/>
                    </a:lnTo>
                    <a:lnTo>
                      <a:pt x="761" y="579"/>
                    </a:lnTo>
                    <a:lnTo>
                      <a:pt x="753" y="581"/>
                    </a:lnTo>
                    <a:lnTo>
                      <a:pt x="745" y="582"/>
                    </a:lnTo>
                    <a:lnTo>
                      <a:pt x="736" y="584"/>
                    </a:lnTo>
                    <a:lnTo>
                      <a:pt x="727" y="585"/>
                    </a:lnTo>
                    <a:lnTo>
                      <a:pt x="719" y="587"/>
                    </a:lnTo>
                    <a:lnTo>
                      <a:pt x="709" y="588"/>
                    </a:lnTo>
                    <a:lnTo>
                      <a:pt x="700" y="589"/>
                    </a:lnTo>
                    <a:lnTo>
                      <a:pt x="691" y="590"/>
                    </a:lnTo>
                    <a:lnTo>
                      <a:pt x="682" y="591"/>
                    </a:lnTo>
                    <a:lnTo>
                      <a:pt x="672" y="592"/>
                    </a:lnTo>
                    <a:lnTo>
                      <a:pt x="662" y="592"/>
                    </a:lnTo>
                    <a:lnTo>
                      <a:pt x="652" y="594"/>
                    </a:lnTo>
                    <a:lnTo>
                      <a:pt x="643" y="595"/>
                    </a:lnTo>
                    <a:lnTo>
                      <a:pt x="633" y="596"/>
                    </a:lnTo>
                    <a:lnTo>
                      <a:pt x="624" y="597"/>
                    </a:lnTo>
                    <a:lnTo>
                      <a:pt x="613" y="598"/>
                    </a:lnTo>
                    <a:lnTo>
                      <a:pt x="603" y="599"/>
                    </a:lnTo>
                    <a:lnTo>
                      <a:pt x="593" y="599"/>
                    </a:lnTo>
                    <a:lnTo>
                      <a:pt x="584" y="600"/>
                    </a:lnTo>
                    <a:lnTo>
                      <a:pt x="573" y="601"/>
                    </a:lnTo>
                    <a:lnTo>
                      <a:pt x="562" y="602"/>
                    </a:lnTo>
                    <a:lnTo>
                      <a:pt x="552" y="603"/>
                    </a:lnTo>
                    <a:lnTo>
                      <a:pt x="541" y="604"/>
                    </a:lnTo>
                    <a:lnTo>
                      <a:pt x="530" y="605"/>
                    </a:lnTo>
                    <a:lnTo>
                      <a:pt x="518" y="606"/>
                    </a:lnTo>
                    <a:lnTo>
                      <a:pt x="507" y="607"/>
                    </a:lnTo>
                    <a:lnTo>
                      <a:pt x="496" y="607"/>
                    </a:lnTo>
                    <a:lnTo>
                      <a:pt x="484" y="608"/>
                    </a:lnTo>
                    <a:lnTo>
                      <a:pt x="471" y="610"/>
                    </a:lnTo>
                    <a:lnTo>
                      <a:pt x="459" y="611"/>
                    </a:lnTo>
                    <a:lnTo>
                      <a:pt x="448" y="612"/>
                    </a:lnTo>
                    <a:lnTo>
                      <a:pt x="436" y="614"/>
                    </a:lnTo>
                    <a:lnTo>
                      <a:pt x="423" y="616"/>
                    </a:lnTo>
                    <a:lnTo>
                      <a:pt x="412" y="617"/>
                    </a:lnTo>
                    <a:lnTo>
                      <a:pt x="400" y="619"/>
                    </a:lnTo>
                    <a:lnTo>
                      <a:pt x="388" y="622"/>
                    </a:lnTo>
                    <a:lnTo>
                      <a:pt x="375" y="624"/>
                    </a:lnTo>
                    <a:lnTo>
                      <a:pt x="364" y="626"/>
                    </a:lnTo>
                    <a:lnTo>
                      <a:pt x="352" y="629"/>
                    </a:lnTo>
                    <a:lnTo>
                      <a:pt x="340" y="632"/>
                    </a:lnTo>
                    <a:lnTo>
                      <a:pt x="327" y="635"/>
                    </a:lnTo>
                    <a:lnTo>
                      <a:pt x="314" y="638"/>
                    </a:lnTo>
                    <a:lnTo>
                      <a:pt x="302" y="641"/>
                    </a:lnTo>
                    <a:lnTo>
                      <a:pt x="291" y="645"/>
                    </a:lnTo>
                    <a:lnTo>
                      <a:pt x="280" y="649"/>
                    </a:lnTo>
                    <a:lnTo>
                      <a:pt x="268" y="654"/>
                    </a:lnTo>
                    <a:lnTo>
                      <a:pt x="257" y="658"/>
                    </a:lnTo>
                    <a:lnTo>
                      <a:pt x="245" y="663"/>
                    </a:lnTo>
                    <a:lnTo>
                      <a:pt x="234" y="667"/>
                    </a:lnTo>
                    <a:lnTo>
                      <a:pt x="222" y="673"/>
                    </a:lnTo>
                    <a:lnTo>
                      <a:pt x="211" y="678"/>
                    </a:lnTo>
                    <a:lnTo>
                      <a:pt x="200" y="684"/>
                    </a:lnTo>
                    <a:lnTo>
                      <a:pt x="189" y="691"/>
                    </a:lnTo>
                    <a:lnTo>
                      <a:pt x="178" y="697"/>
                    </a:lnTo>
                    <a:lnTo>
                      <a:pt x="167" y="703"/>
                    </a:lnTo>
                    <a:lnTo>
                      <a:pt x="157" y="711"/>
                    </a:lnTo>
                    <a:lnTo>
                      <a:pt x="147" y="719"/>
                    </a:lnTo>
                    <a:lnTo>
                      <a:pt x="137" y="727"/>
                    </a:lnTo>
                    <a:lnTo>
                      <a:pt x="126" y="735"/>
                    </a:lnTo>
                    <a:lnTo>
                      <a:pt x="117" y="744"/>
                    </a:lnTo>
                    <a:lnTo>
                      <a:pt x="109" y="753"/>
                    </a:lnTo>
                    <a:lnTo>
                      <a:pt x="100" y="763"/>
                    </a:lnTo>
                    <a:lnTo>
                      <a:pt x="91" y="773"/>
                    </a:lnTo>
                    <a:lnTo>
                      <a:pt x="83" y="783"/>
                    </a:lnTo>
                    <a:lnTo>
                      <a:pt x="75" y="794"/>
                    </a:lnTo>
                    <a:lnTo>
                      <a:pt x="67" y="804"/>
                    </a:lnTo>
                    <a:lnTo>
                      <a:pt x="59" y="814"/>
                    </a:lnTo>
                    <a:lnTo>
                      <a:pt x="53" y="828"/>
                    </a:lnTo>
                    <a:lnTo>
                      <a:pt x="47" y="841"/>
                    </a:lnTo>
                    <a:lnTo>
                      <a:pt x="42" y="854"/>
                    </a:lnTo>
                    <a:lnTo>
                      <a:pt x="36" y="868"/>
                    </a:lnTo>
                    <a:lnTo>
                      <a:pt x="30" y="882"/>
                    </a:lnTo>
                    <a:lnTo>
                      <a:pt x="25" y="896"/>
                    </a:lnTo>
                    <a:lnTo>
                      <a:pt x="20" y="910"/>
                    </a:lnTo>
                    <a:lnTo>
                      <a:pt x="15" y="926"/>
                    </a:lnTo>
                    <a:lnTo>
                      <a:pt x="12" y="943"/>
                    </a:lnTo>
                    <a:lnTo>
                      <a:pt x="9" y="960"/>
                    </a:lnTo>
                    <a:lnTo>
                      <a:pt x="6" y="977"/>
                    </a:lnTo>
                    <a:lnTo>
                      <a:pt x="3" y="994"/>
                    </a:lnTo>
                    <a:lnTo>
                      <a:pt x="2" y="1014"/>
                    </a:lnTo>
                    <a:lnTo>
                      <a:pt x="2" y="1033"/>
                    </a:lnTo>
                    <a:lnTo>
                      <a:pt x="1" y="1052"/>
                    </a:lnTo>
                    <a:lnTo>
                      <a:pt x="0" y="1072"/>
                    </a:lnTo>
                    <a:lnTo>
                      <a:pt x="1" y="1086"/>
                    </a:lnTo>
                    <a:lnTo>
                      <a:pt x="3" y="1101"/>
                    </a:lnTo>
                    <a:lnTo>
                      <a:pt x="4" y="1117"/>
                    </a:lnTo>
                    <a:lnTo>
                      <a:pt x="6" y="1131"/>
                    </a:lnTo>
                    <a:lnTo>
                      <a:pt x="10" y="1146"/>
                    </a:lnTo>
                    <a:lnTo>
                      <a:pt x="13" y="1161"/>
                    </a:lnTo>
                    <a:lnTo>
                      <a:pt x="17" y="1175"/>
                    </a:lnTo>
                    <a:lnTo>
                      <a:pt x="21" y="1189"/>
                    </a:lnTo>
                    <a:lnTo>
                      <a:pt x="27" y="1203"/>
                    </a:lnTo>
                    <a:lnTo>
                      <a:pt x="34" y="1217"/>
                    </a:lnTo>
                    <a:lnTo>
                      <a:pt x="41" y="1230"/>
                    </a:lnTo>
                    <a:lnTo>
                      <a:pt x="47" y="1243"/>
                    </a:lnTo>
                    <a:lnTo>
                      <a:pt x="56" y="1257"/>
                    </a:lnTo>
                    <a:lnTo>
                      <a:pt x="64" y="1269"/>
                    </a:lnTo>
                    <a:lnTo>
                      <a:pt x="72" y="1282"/>
                    </a:lnTo>
                    <a:lnTo>
                      <a:pt x="81" y="1294"/>
                    </a:lnTo>
                    <a:lnTo>
                      <a:pt x="91" y="1307"/>
                    </a:lnTo>
                    <a:lnTo>
                      <a:pt x="101" y="1319"/>
                    </a:lnTo>
                    <a:lnTo>
                      <a:pt x="111" y="1331"/>
                    </a:lnTo>
                    <a:lnTo>
                      <a:pt x="121" y="1343"/>
                    </a:lnTo>
                    <a:lnTo>
                      <a:pt x="132" y="1355"/>
                    </a:lnTo>
                    <a:lnTo>
                      <a:pt x="144" y="1366"/>
                    </a:lnTo>
                    <a:lnTo>
                      <a:pt x="155" y="1377"/>
                    </a:lnTo>
                    <a:lnTo>
                      <a:pt x="166" y="1388"/>
                    </a:lnTo>
                    <a:lnTo>
                      <a:pt x="178" y="1399"/>
                    </a:lnTo>
                    <a:lnTo>
                      <a:pt x="191" y="1410"/>
                    </a:lnTo>
                    <a:lnTo>
                      <a:pt x="203" y="1421"/>
                    </a:lnTo>
                    <a:lnTo>
                      <a:pt x="215" y="1431"/>
                    </a:lnTo>
                    <a:lnTo>
                      <a:pt x="227" y="1441"/>
                    </a:lnTo>
                    <a:lnTo>
                      <a:pt x="240" y="1451"/>
                    </a:lnTo>
                    <a:lnTo>
                      <a:pt x="252" y="1461"/>
                    </a:lnTo>
                    <a:lnTo>
                      <a:pt x="265" y="1470"/>
                    </a:lnTo>
                    <a:lnTo>
                      <a:pt x="276" y="1478"/>
                    </a:lnTo>
                    <a:lnTo>
                      <a:pt x="289" y="1486"/>
                    </a:lnTo>
                    <a:lnTo>
                      <a:pt x="301" y="1494"/>
                    </a:lnTo>
                    <a:lnTo>
                      <a:pt x="312" y="1503"/>
                    </a:lnTo>
                    <a:lnTo>
                      <a:pt x="324" y="1511"/>
                    </a:lnTo>
                    <a:lnTo>
                      <a:pt x="336" y="1518"/>
                    </a:lnTo>
                    <a:lnTo>
                      <a:pt x="348" y="1526"/>
                    </a:lnTo>
                    <a:lnTo>
                      <a:pt x="360" y="1534"/>
                    </a:lnTo>
                    <a:lnTo>
                      <a:pt x="371" y="1540"/>
                    </a:lnTo>
                    <a:lnTo>
                      <a:pt x="384" y="1547"/>
                    </a:lnTo>
                    <a:lnTo>
                      <a:pt x="395" y="1553"/>
                    </a:lnTo>
                    <a:lnTo>
                      <a:pt x="406" y="1559"/>
                    </a:lnTo>
                    <a:lnTo>
                      <a:pt x="415" y="1565"/>
                    </a:lnTo>
                    <a:lnTo>
                      <a:pt x="426" y="1571"/>
                    </a:lnTo>
                    <a:lnTo>
                      <a:pt x="436" y="1577"/>
                    </a:lnTo>
                    <a:lnTo>
                      <a:pt x="446" y="1582"/>
                    </a:lnTo>
                    <a:lnTo>
                      <a:pt x="454" y="1586"/>
                    </a:lnTo>
                    <a:lnTo>
                      <a:pt x="462" y="1590"/>
                    </a:lnTo>
                    <a:lnTo>
                      <a:pt x="471" y="1594"/>
                    </a:lnTo>
                    <a:lnTo>
                      <a:pt x="480" y="1599"/>
                    </a:lnTo>
                    <a:lnTo>
                      <a:pt x="493" y="1606"/>
                    </a:lnTo>
                    <a:lnTo>
                      <a:pt x="505" y="1612"/>
                    </a:lnTo>
                    <a:lnTo>
                      <a:pt x="513" y="1615"/>
                    </a:lnTo>
                    <a:lnTo>
                      <a:pt x="521" y="1618"/>
                    </a:lnTo>
                    <a:lnTo>
                      <a:pt x="525" y="1620"/>
                    </a:lnTo>
                    <a:lnTo>
                      <a:pt x="528" y="1621"/>
                    </a:lnTo>
                    <a:lnTo>
                      <a:pt x="528" y="1584"/>
                    </a:lnTo>
                    <a:lnTo>
                      <a:pt x="528" y="1548"/>
                    </a:lnTo>
                    <a:lnTo>
                      <a:pt x="528" y="1511"/>
                    </a:lnTo>
                    <a:lnTo>
                      <a:pt x="528" y="1474"/>
                    </a:lnTo>
                    <a:lnTo>
                      <a:pt x="528" y="1437"/>
                    </a:lnTo>
                    <a:lnTo>
                      <a:pt x="528" y="1401"/>
                    </a:lnTo>
                    <a:lnTo>
                      <a:pt x="528" y="1363"/>
                    </a:lnTo>
                    <a:lnTo>
                      <a:pt x="528" y="1326"/>
                    </a:lnTo>
                    <a:lnTo>
                      <a:pt x="525" y="1324"/>
                    </a:lnTo>
                    <a:lnTo>
                      <a:pt x="521" y="1323"/>
                    </a:lnTo>
                    <a:lnTo>
                      <a:pt x="514" y="1319"/>
                    </a:lnTo>
                    <a:lnTo>
                      <a:pt x="507" y="1314"/>
                    </a:lnTo>
                    <a:lnTo>
                      <a:pt x="496" y="1306"/>
                    </a:lnTo>
                    <a:lnTo>
                      <a:pt x="486" y="1296"/>
                    </a:lnTo>
                    <a:lnTo>
                      <a:pt x="475" y="1285"/>
                    </a:lnTo>
                    <a:lnTo>
                      <a:pt x="464" y="1273"/>
                    </a:lnTo>
                    <a:lnTo>
                      <a:pt x="452" y="1259"/>
                    </a:lnTo>
                    <a:lnTo>
                      <a:pt x="440" y="1243"/>
                    </a:lnTo>
                    <a:lnTo>
                      <a:pt x="435" y="1234"/>
                    </a:lnTo>
                    <a:lnTo>
                      <a:pt x="429" y="1225"/>
                    </a:lnTo>
                    <a:lnTo>
                      <a:pt x="423" y="1216"/>
                    </a:lnTo>
                    <a:lnTo>
                      <a:pt x="417" y="1206"/>
                    </a:lnTo>
                    <a:lnTo>
                      <a:pt x="414" y="1195"/>
                    </a:lnTo>
                    <a:lnTo>
                      <a:pt x="411" y="1185"/>
                    </a:lnTo>
                    <a:lnTo>
                      <a:pt x="407" y="1175"/>
                    </a:lnTo>
                    <a:lnTo>
                      <a:pt x="404" y="1165"/>
                    </a:lnTo>
                    <a:lnTo>
                      <a:pt x="402" y="1152"/>
                    </a:lnTo>
                    <a:lnTo>
                      <a:pt x="401" y="1140"/>
                    </a:lnTo>
                    <a:lnTo>
                      <a:pt x="399" y="1128"/>
                    </a:lnTo>
                    <a:lnTo>
                      <a:pt x="398" y="1115"/>
                    </a:lnTo>
                    <a:lnTo>
                      <a:pt x="400" y="1105"/>
                    </a:lnTo>
                    <a:lnTo>
                      <a:pt x="402" y="1095"/>
                    </a:lnTo>
                    <a:lnTo>
                      <a:pt x="406" y="1086"/>
                    </a:lnTo>
                    <a:lnTo>
                      <a:pt x="410" y="1078"/>
                    </a:lnTo>
                    <a:lnTo>
                      <a:pt x="417" y="1070"/>
                    </a:lnTo>
                    <a:lnTo>
                      <a:pt x="424" y="1063"/>
                    </a:lnTo>
                    <a:lnTo>
                      <a:pt x="434" y="1056"/>
                    </a:lnTo>
                    <a:lnTo>
                      <a:pt x="444" y="1049"/>
                    </a:lnTo>
                    <a:lnTo>
                      <a:pt x="455" y="1043"/>
                    </a:lnTo>
                    <a:lnTo>
                      <a:pt x="467" y="1037"/>
                    </a:lnTo>
                    <a:lnTo>
                      <a:pt x="482" y="1033"/>
                    </a:lnTo>
                    <a:lnTo>
                      <a:pt x="496" y="1028"/>
                    </a:lnTo>
                    <a:lnTo>
                      <a:pt x="510" y="1024"/>
                    </a:lnTo>
                    <a:lnTo>
                      <a:pt x="526" y="1019"/>
                    </a:lnTo>
                    <a:lnTo>
                      <a:pt x="534" y="1018"/>
                    </a:lnTo>
                    <a:lnTo>
                      <a:pt x="542" y="1016"/>
                    </a:lnTo>
                    <a:lnTo>
                      <a:pt x="551" y="1015"/>
                    </a:lnTo>
                    <a:lnTo>
                      <a:pt x="559" y="1013"/>
                    </a:lnTo>
                    <a:lnTo>
                      <a:pt x="568" y="1011"/>
                    </a:lnTo>
                    <a:lnTo>
                      <a:pt x="577" y="1008"/>
                    </a:lnTo>
                    <a:lnTo>
                      <a:pt x="586" y="1007"/>
                    </a:lnTo>
                    <a:lnTo>
                      <a:pt x="595" y="1005"/>
                    </a:lnTo>
                    <a:lnTo>
                      <a:pt x="604" y="1004"/>
                    </a:lnTo>
                    <a:lnTo>
                      <a:pt x="614" y="1002"/>
                    </a:lnTo>
                    <a:lnTo>
                      <a:pt x="624" y="1001"/>
                    </a:lnTo>
                    <a:lnTo>
                      <a:pt x="634" y="1000"/>
                    </a:lnTo>
                    <a:lnTo>
                      <a:pt x="643" y="999"/>
                    </a:lnTo>
                    <a:lnTo>
                      <a:pt x="653" y="997"/>
                    </a:lnTo>
                    <a:lnTo>
                      <a:pt x="662" y="996"/>
                    </a:lnTo>
                    <a:lnTo>
                      <a:pt x="673" y="995"/>
                    </a:lnTo>
                    <a:lnTo>
                      <a:pt x="682" y="994"/>
                    </a:lnTo>
                    <a:lnTo>
                      <a:pt x="692" y="993"/>
                    </a:lnTo>
                    <a:lnTo>
                      <a:pt x="702" y="991"/>
                    </a:lnTo>
                    <a:lnTo>
                      <a:pt x="712" y="990"/>
                    </a:lnTo>
                    <a:lnTo>
                      <a:pt x="722" y="990"/>
                    </a:lnTo>
                    <a:lnTo>
                      <a:pt x="732" y="989"/>
                    </a:lnTo>
                    <a:lnTo>
                      <a:pt x="742" y="988"/>
                    </a:lnTo>
                    <a:lnTo>
                      <a:pt x="752" y="987"/>
                    </a:lnTo>
                    <a:lnTo>
                      <a:pt x="761" y="986"/>
                    </a:lnTo>
                    <a:lnTo>
                      <a:pt x="772" y="985"/>
                    </a:lnTo>
                    <a:lnTo>
                      <a:pt x="782" y="984"/>
                    </a:lnTo>
                    <a:lnTo>
                      <a:pt x="792" y="983"/>
                    </a:lnTo>
                    <a:lnTo>
                      <a:pt x="801" y="982"/>
                    </a:lnTo>
                    <a:lnTo>
                      <a:pt x="811" y="982"/>
                    </a:lnTo>
                    <a:lnTo>
                      <a:pt x="822" y="981"/>
                    </a:lnTo>
                    <a:lnTo>
                      <a:pt x="832" y="980"/>
                    </a:lnTo>
                    <a:lnTo>
                      <a:pt x="841" y="979"/>
                    </a:lnTo>
                    <a:lnTo>
                      <a:pt x="850" y="978"/>
                    </a:lnTo>
                    <a:lnTo>
                      <a:pt x="860" y="977"/>
                    </a:lnTo>
                    <a:lnTo>
                      <a:pt x="870" y="975"/>
                    </a:lnTo>
                    <a:lnTo>
                      <a:pt x="879" y="974"/>
                    </a:lnTo>
                    <a:lnTo>
                      <a:pt x="889" y="974"/>
                    </a:lnTo>
                    <a:lnTo>
                      <a:pt x="898" y="973"/>
                    </a:lnTo>
                    <a:lnTo>
                      <a:pt x="907" y="972"/>
                    </a:lnTo>
                    <a:lnTo>
                      <a:pt x="918" y="971"/>
                    </a:lnTo>
                    <a:lnTo>
                      <a:pt x="929" y="970"/>
                    </a:lnTo>
                    <a:lnTo>
                      <a:pt x="939" y="969"/>
                    </a:lnTo>
                    <a:lnTo>
                      <a:pt x="949" y="968"/>
                    </a:lnTo>
                    <a:lnTo>
                      <a:pt x="960" y="966"/>
                    </a:lnTo>
                    <a:lnTo>
                      <a:pt x="972" y="965"/>
                    </a:lnTo>
                    <a:lnTo>
                      <a:pt x="982" y="964"/>
                    </a:lnTo>
                    <a:lnTo>
                      <a:pt x="993" y="962"/>
                    </a:lnTo>
                    <a:lnTo>
                      <a:pt x="1004" y="960"/>
                    </a:lnTo>
                    <a:lnTo>
                      <a:pt x="1017" y="958"/>
                    </a:lnTo>
                    <a:lnTo>
                      <a:pt x="1028" y="957"/>
                    </a:lnTo>
                    <a:lnTo>
                      <a:pt x="1039" y="956"/>
                    </a:lnTo>
                    <a:lnTo>
                      <a:pt x="1050" y="954"/>
                    </a:lnTo>
                    <a:lnTo>
                      <a:pt x="1062" y="952"/>
                    </a:lnTo>
                    <a:lnTo>
                      <a:pt x="1073" y="950"/>
                    </a:lnTo>
                    <a:lnTo>
                      <a:pt x="1085" y="948"/>
                    </a:lnTo>
                    <a:lnTo>
                      <a:pt x="1096" y="946"/>
                    </a:lnTo>
                    <a:lnTo>
                      <a:pt x="1108" y="943"/>
                    </a:lnTo>
                    <a:lnTo>
                      <a:pt x="1119" y="940"/>
                    </a:lnTo>
                    <a:lnTo>
                      <a:pt x="1130" y="938"/>
                    </a:lnTo>
                    <a:lnTo>
                      <a:pt x="1142" y="934"/>
                    </a:lnTo>
                    <a:lnTo>
                      <a:pt x="1153" y="931"/>
                    </a:lnTo>
                    <a:lnTo>
                      <a:pt x="1165" y="927"/>
                    </a:lnTo>
                    <a:lnTo>
                      <a:pt x="1176" y="924"/>
                    </a:lnTo>
                    <a:lnTo>
                      <a:pt x="1187" y="919"/>
                    </a:lnTo>
                    <a:lnTo>
                      <a:pt x="1198" y="915"/>
                    </a:lnTo>
                    <a:lnTo>
                      <a:pt x="1209" y="909"/>
                    </a:lnTo>
                    <a:lnTo>
                      <a:pt x="1220" y="904"/>
                    </a:lnTo>
                    <a:lnTo>
                      <a:pt x="1230" y="898"/>
                    </a:lnTo>
                    <a:lnTo>
                      <a:pt x="1239" y="893"/>
                    </a:lnTo>
                    <a:lnTo>
                      <a:pt x="1249" y="887"/>
                    </a:lnTo>
                    <a:lnTo>
                      <a:pt x="1260" y="882"/>
                    </a:lnTo>
                    <a:lnTo>
                      <a:pt x="1269" y="874"/>
                    </a:lnTo>
                    <a:lnTo>
                      <a:pt x="1279" y="867"/>
                    </a:lnTo>
                    <a:lnTo>
                      <a:pt x="1288" y="859"/>
                    </a:lnTo>
                    <a:lnTo>
                      <a:pt x="1297" y="852"/>
                    </a:lnTo>
                    <a:lnTo>
                      <a:pt x="1307" y="844"/>
                    </a:lnTo>
                    <a:lnTo>
                      <a:pt x="1316" y="835"/>
                    </a:lnTo>
                    <a:lnTo>
                      <a:pt x="1324" y="827"/>
                    </a:lnTo>
                    <a:lnTo>
                      <a:pt x="1333" y="819"/>
                    </a:lnTo>
                    <a:lnTo>
                      <a:pt x="1341" y="808"/>
                    </a:lnTo>
                    <a:lnTo>
                      <a:pt x="1348" y="798"/>
                    </a:lnTo>
                    <a:lnTo>
                      <a:pt x="1356" y="787"/>
                    </a:lnTo>
                    <a:lnTo>
                      <a:pt x="1364" y="777"/>
                    </a:lnTo>
                    <a:lnTo>
                      <a:pt x="1369" y="764"/>
                    </a:lnTo>
                    <a:lnTo>
                      <a:pt x="1375" y="751"/>
                    </a:lnTo>
                    <a:lnTo>
                      <a:pt x="1381" y="739"/>
                    </a:lnTo>
                    <a:lnTo>
                      <a:pt x="1387" y="727"/>
                    </a:lnTo>
                    <a:lnTo>
                      <a:pt x="1391" y="712"/>
                    </a:lnTo>
                    <a:lnTo>
                      <a:pt x="1396" y="698"/>
                    </a:lnTo>
                    <a:lnTo>
                      <a:pt x="1401" y="685"/>
                    </a:lnTo>
                    <a:lnTo>
                      <a:pt x="1405" y="671"/>
                    </a:lnTo>
                    <a:lnTo>
                      <a:pt x="1408" y="653"/>
                    </a:lnTo>
                    <a:lnTo>
                      <a:pt x="1411" y="637"/>
                    </a:lnTo>
                    <a:lnTo>
                      <a:pt x="1414" y="619"/>
                    </a:lnTo>
                    <a:lnTo>
                      <a:pt x="1417" y="602"/>
                    </a:lnTo>
                    <a:lnTo>
                      <a:pt x="1418" y="584"/>
                    </a:lnTo>
                    <a:lnTo>
                      <a:pt x="1419" y="564"/>
                    </a:lnTo>
                    <a:lnTo>
                      <a:pt x="1420" y="546"/>
                    </a:lnTo>
                    <a:lnTo>
                      <a:pt x="1421" y="528"/>
                    </a:lnTo>
                    <a:lnTo>
                      <a:pt x="1420" y="508"/>
                    </a:lnTo>
                    <a:lnTo>
                      <a:pt x="1418" y="490"/>
                    </a:lnTo>
                    <a:lnTo>
                      <a:pt x="1417" y="470"/>
                    </a:lnTo>
                    <a:lnTo>
                      <a:pt x="1415" y="451"/>
                    </a:lnTo>
                    <a:lnTo>
                      <a:pt x="1411" y="433"/>
                    </a:lnTo>
                    <a:lnTo>
                      <a:pt x="1407" y="414"/>
                    </a:lnTo>
                    <a:lnTo>
                      <a:pt x="1404" y="396"/>
                    </a:lnTo>
                    <a:lnTo>
                      <a:pt x="1399" y="378"/>
                    </a:lnTo>
                    <a:lnTo>
                      <a:pt x="1393" y="359"/>
                    </a:lnTo>
                    <a:lnTo>
                      <a:pt x="1387" y="341"/>
                    </a:lnTo>
                    <a:lnTo>
                      <a:pt x="1381" y="323"/>
                    </a:lnTo>
                    <a:lnTo>
                      <a:pt x="1375" y="305"/>
                    </a:lnTo>
                    <a:lnTo>
                      <a:pt x="1367" y="288"/>
                    </a:lnTo>
                    <a:lnTo>
                      <a:pt x="1360" y="271"/>
                    </a:lnTo>
                    <a:lnTo>
                      <a:pt x="1352" y="254"/>
                    </a:lnTo>
                    <a:lnTo>
                      <a:pt x="1343" y="237"/>
                    </a:lnTo>
                    <a:lnTo>
                      <a:pt x="1333" y="221"/>
                    </a:lnTo>
                    <a:lnTo>
                      <a:pt x="1323" y="205"/>
                    </a:lnTo>
                    <a:lnTo>
                      <a:pt x="1314" y="190"/>
                    </a:lnTo>
                    <a:lnTo>
                      <a:pt x="1304" y="173"/>
                    </a:lnTo>
                    <a:lnTo>
                      <a:pt x="1292" y="158"/>
                    </a:lnTo>
                    <a:lnTo>
                      <a:pt x="1282" y="143"/>
                    </a:lnTo>
                    <a:lnTo>
                      <a:pt x="1271" y="126"/>
                    </a:lnTo>
                    <a:lnTo>
                      <a:pt x="1260" y="111"/>
                    </a:lnTo>
                    <a:lnTo>
                      <a:pt x="1248" y="97"/>
                    </a:lnTo>
                    <a:lnTo>
                      <a:pt x="1236" y="82"/>
                    </a:lnTo>
                    <a:lnTo>
                      <a:pt x="1224" y="68"/>
                    </a:lnTo>
                    <a:lnTo>
                      <a:pt x="1213" y="54"/>
                    </a:lnTo>
                    <a:lnTo>
                      <a:pt x="1199" y="41"/>
                    </a:lnTo>
                    <a:lnTo>
                      <a:pt x="1186" y="26"/>
                    </a:lnTo>
                    <a:lnTo>
                      <a:pt x="1173" y="13"/>
                    </a:lnTo>
                    <a:lnTo>
                      <a:pt x="1161" y="0"/>
                    </a:lnTo>
                    <a:lnTo>
                      <a:pt x="1158" y="0"/>
                    </a:lnTo>
                    <a:lnTo>
                      <a:pt x="1154" y="0"/>
                    </a:lnTo>
                    <a:lnTo>
                      <a:pt x="1147" y="3"/>
                    </a:lnTo>
                    <a:lnTo>
                      <a:pt x="1140" y="5"/>
                    </a:lnTo>
                    <a:lnTo>
                      <a:pt x="1129" y="7"/>
                    </a:lnTo>
                    <a:lnTo>
                      <a:pt x="1119" y="9"/>
                    </a:lnTo>
                    <a:lnTo>
                      <a:pt x="1105" y="13"/>
                    </a:lnTo>
                    <a:lnTo>
                      <a:pt x="1093" y="16"/>
                    </a:lnTo>
                    <a:lnTo>
                      <a:pt x="1085" y="17"/>
                    </a:lnTo>
                    <a:lnTo>
                      <a:pt x="1077" y="19"/>
                    </a:lnTo>
                    <a:lnTo>
                      <a:pt x="1069" y="21"/>
                    </a:lnTo>
                    <a:lnTo>
                      <a:pt x="1061" y="22"/>
                    </a:lnTo>
                    <a:lnTo>
                      <a:pt x="1052" y="24"/>
                    </a:lnTo>
                    <a:lnTo>
                      <a:pt x="1044" y="26"/>
                    </a:lnTo>
                    <a:lnTo>
                      <a:pt x="1036" y="28"/>
                    </a:lnTo>
                    <a:lnTo>
                      <a:pt x="1027" y="30"/>
                    </a:lnTo>
                    <a:lnTo>
                      <a:pt x="1018" y="31"/>
                    </a:lnTo>
                    <a:lnTo>
                      <a:pt x="1008" y="33"/>
                    </a:lnTo>
                    <a:lnTo>
                      <a:pt x="1000" y="34"/>
                    </a:lnTo>
                    <a:lnTo>
                      <a:pt x="991" y="36"/>
                    </a:lnTo>
                    <a:lnTo>
                      <a:pt x="983" y="38"/>
                    </a:lnTo>
                    <a:lnTo>
                      <a:pt x="975" y="39"/>
                    </a:lnTo>
                    <a:lnTo>
                      <a:pt x="966" y="39"/>
                    </a:lnTo>
                    <a:lnTo>
                      <a:pt x="957" y="40"/>
                    </a:lnTo>
                    <a:lnTo>
                      <a:pt x="949" y="41"/>
                    </a:lnTo>
                    <a:lnTo>
                      <a:pt x="940" y="42"/>
                    </a:lnTo>
                    <a:lnTo>
                      <a:pt x="932" y="43"/>
                    </a:lnTo>
                    <a:lnTo>
                      <a:pt x="924" y="44"/>
                    </a:lnTo>
                    <a:lnTo>
                      <a:pt x="915" y="45"/>
                    </a:lnTo>
                    <a:lnTo>
                      <a:pt x="905" y="46"/>
                    </a:lnTo>
                    <a:lnTo>
                      <a:pt x="897" y="47"/>
                    </a:lnTo>
                    <a:lnTo>
                      <a:pt x="888" y="48"/>
                    </a:lnTo>
                    <a:lnTo>
                      <a:pt x="879" y="49"/>
                    </a:lnTo>
                    <a:lnTo>
                      <a:pt x="871" y="50"/>
                    </a:lnTo>
                    <a:lnTo>
                      <a:pt x="862" y="51"/>
                    </a:lnTo>
                    <a:lnTo>
                      <a:pt x="854" y="52"/>
                    </a:lnTo>
                    <a:lnTo>
                      <a:pt x="846" y="53"/>
                    </a:lnTo>
                    <a:lnTo>
                      <a:pt x="838" y="53"/>
                    </a:lnTo>
                    <a:lnTo>
                      <a:pt x="830" y="54"/>
                    </a:lnTo>
                    <a:lnTo>
                      <a:pt x="822" y="54"/>
                    </a:lnTo>
                    <a:lnTo>
                      <a:pt x="807" y="56"/>
                    </a:lnTo>
                    <a:lnTo>
                      <a:pt x="794" y="58"/>
                    </a:lnTo>
                    <a:lnTo>
                      <a:pt x="783" y="59"/>
                    </a:lnTo>
                    <a:lnTo>
                      <a:pt x="772" y="60"/>
                    </a:lnTo>
                    <a:lnTo>
                      <a:pt x="765" y="61"/>
                    </a:lnTo>
                    <a:lnTo>
                      <a:pt x="758" y="62"/>
                    </a:lnTo>
                    <a:lnTo>
                      <a:pt x="755" y="62"/>
                    </a:lnTo>
                    <a:lnTo>
                      <a:pt x="752" y="62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404240" y="1999080"/>
                <a:ext cx="53280" cy="64800"/>
              </a:xfrm>
              <a:custGeom>
                <a:avLst/>
                <a:gdLst/>
                <a:ahLst/>
                <a:rect l="l" t="t" r="r" b="b"/>
                <a:pathLst>
                  <a:path w="1093" h="1229">
                    <a:moveTo>
                      <a:pt x="653" y="45"/>
                    </a:moveTo>
                    <a:lnTo>
                      <a:pt x="655" y="69"/>
                    </a:lnTo>
                    <a:lnTo>
                      <a:pt x="657" y="94"/>
                    </a:lnTo>
                    <a:lnTo>
                      <a:pt x="659" y="118"/>
                    </a:lnTo>
                    <a:lnTo>
                      <a:pt x="661" y="143"/>
                    </a:lnTo>
                    <a:lnTo>
                      <a:pt x="664" y="145"/>
                    </a:lnTo>
                    <a:lnTo>
                      <a:pt x="668" y="147"/>
                    </a:lnTo>
                    <a:lnTo>
                      <a:pt x="675" y="156"/>
                    </a:lnTo>
                    <a:lnTo>
                      <a:pt x="681" y="164"/>
                    </a:lnTo>
                    <a:lnTo>
                      <a:pt x="684" y="174"/>
                    </a:lnTo>
                    <a:lnTo>
                      <a:pt x="687" y="182"/>
                    </a:lnTo>
                    <a:lnTo>
                      <a:pt x="690" y="191"/>
                    </a:lnTo>
                    <a:lnTo>
                      <a:pt x="693" y="199"/>
                    </a:lnTo>
                    <a:lnTo>
                      <a:pt x="694" y="214"/>
                    </a:lnTo>
                    <a:lnTo>
                      <a:pt x="695" y="231"/>
                    </a:lnTo>
                    <a:lnTo>
                      <a:pt x="696" y="246"/>
                    </a:lnTo>
                    <a:lnTo>
                      <a:pt x="697" y="262"/>
                    </a:lnTo>
                    <a:lnTo>
                      <a:pt x="694" y="271"/>
                    </a:lnTo>
                    <a:lnTo>
                      <a:pt x="691" y="279"/>
                    </a:lnTo>
                    <a:lnTo>
                      <a:pt x="686" y="286"/>
                    </a:lnTo>
                    <a:lnTo>
                      <a:pt x="681" y="293"/>
                    </a:lnTo>
                    <a:lnTo>
                      <a:pt x="672" y="299"/>
                    </a:lnTo>
                    <a:lnTo>
                      <a:pt x="663" y="306"/>
                    </a:lnTo>
                    <a:lnTo>
                      <a:pt x="653" y="315"/>
                    </a:lnTo>
                    <a:lnTo>
                      <a:pt x="643" y="322"/>
                    </a:lnTo>
                    <a:lnTo>
                      <a:pt x="631" y="328"/>
                    </a:lnTo>
                    <a:lnTo>
                      <a:pt x="620" y="334"/>
                    </a:lnTo>
                    <a:lnTo>
                      <a:pt x="606" y="340"/>
                    </a:lnTo>
                    <a:lnTo>
                      <a:pt x="593" y="344"/>
                    </a:lnTo>
                    <a:lnTo>
                      <a:pt x="581" y="349"/>
                    </a:lnTo>
                    <a:lnTo>
                      <a:pt x="567" y="354"/>
                    </a:lnTo>
                    <a:lnTo>
                      <a:pt x="554" y="359"/>
                    </a:lnTo>
                    <a:lnTo>
                      <a:pt x="542" y="365"/>
                    </a:lnTo>
                    <a:lnTo>
                      <a:pt x="533" y="367"/>
                    </a:lnTo>
                    <a:lnTo>
                      <a:pt x="525" y="369"/>
                    </a:lnTo>
                    <a:lnTo>
                      <a:pt x="511" y="371"/>
                    </a:lnTo>
                    <a:lnTo>
                      <a:pt x="498" y="372"/>
                    </a:lnTo>
                    <a:lnTo>
                      <a:pt x="490" y="374"/>
                    </a:lnTo>
                    <a:lnTo>
                      <a:pt x="482" y="376"/>
                    </a:lnTo>
                    <a:lnTo>
                      <a:pt x="475" y="377"/>
                    </a:lnTo>
                    <a:lnTo>
                      <a:pt x="466" y="379"/>
                    </a:lnTo>
                    <a:lnTo>
                      <a:pt x="456" y="380"/>
                    </a:lnTo>
                    <a:lnTo>
                      <a:pt x="447" y="382"/>
                    </a:lnTo>
                    <a:lnTo>
                      <a:pt x="438" y="383"/>
                    </a:lnTo>
                    <a:lnTo>
                      <a:pt x="429" y="384"/>
                    </a:lnTo>
                    <a:lnTo>
                      <a:pt x="417" y="386"/>
                    </a:lnTo>
                    <a:lnTo>
                      <a:pt x="406" y="388"/>
                    </a:lnTo>
                    <a:lnTo>
                      <a:pt x="396" y="390"/>
                    </a:lnTo>
                    <a:lnTo>
                      <a:pt x="385" y="392"/>
                    </a:lnTo>
                    <a:lnTo>
                      <a:pt x="373" y="394"/>
                    </a:lnTo>
                    <a:lnTo>
                      <a:pt x="363" y="397"/>
                    </a:lnTo>
                    <a:lnTo>
                      <a:pt x="352" y="399"/>
                    </a:lnTo>
                    <a:lnTo>
                      <a:pt x="341" y="401"/>
                    </a:lnTo>
                    <a:lnTo>
                      <a:pt x="329" y="405"/>
                    </a:lnTo>
                    <a:lnTo>
                      <a:pt x="316" y="408"/>
                    </a:lnTo>
                    <a:lnTo>
                      <a:pt x="305" y="412"/>
                    </a:lnTo>
                    <a:lnTo>
                      <a:pt x="293" y="415"/>
                    </a:lnTo>
                    <a:lnTo>
                      <a:pt x="282" y="418"/>
                    </a:lnTo>
                    <a:lnTo>
                      <a:pt x="269" y="421"/>
                    </a:lnTo>
                    <a:lnTo>
                      <a:pt x="257" y="425"/>
                    </a:lnTo>
                    <a:lnTo>
                      <a:pt x="246" y="428"/>
                    </a:lnTo>
                    <a:lnTo>
                      <a:pt x="234" y="432"/>
                    </a:lnTo>
                    <a:lnTo>
                      <a:pt x="221" y="436"/>
                    </a:lnTo>
                    <a:lnTo>
                      <a:pt x="209" y="440"/>
                    </a:lnTo>
                    <a:lnTo>
                      <a:pt x="198" y="444"/>
                    </a:lnTo>
                    <a:lnTo>
                      <a:pt x="187" y="449"/>
                    </a:lnTo>
                    <a:lnTo>
                      <a:pt x="175" y="454"/>
                    </a:lnTo>
                    <a:lnTo>
                      <a:pt x="164" y="459"/>
                    </a:lnTo>
                    <a:lnTo>
                      <a:pt x="154" y="465"/>
                    </a:lnTo>
                    <a:lnTo>
                      <a:pt x="143" y="470"/>
                    </a:lnTo>
                    <a:lnTo>
                      <a:pt x="133" y="476"/>
                    </a:lnTo>
                    <a:lnTo>
                      <a:pt x="122" y="481"/>
                    </a:lnTo>
                    <a:lnTo>
                      <a:pt x="112" y="487"/>
                    </a:lnTo>
                    <a:lnTo>
                      <a:pt x="103" y="493"/>
                    </a:lnTo>
                    <a:lnTo>
                      <a:pt x="94" y="500"/>
                    </a:lnTo>
                    <a:lnTo>
                      <a:pt x="86" y="506"/>
                    </a:lnTo>
                    <a:lnTo>
                      <a:pt x="76" y="513"/>
                    </a:lnTo>
                    <a:lnTo>
                      <a:pt x="68" y="520"/>
                    </a:lnTo>
                    <a:lnTo>
                      <a:pt x="59" y="527"/>
                    </a:lnTo>
                    <a:lnTo>
                      <a:pt x="52" y="534"/>
                    </a:lnTo>
                    <a:lnTo>
                      <a:pt x="44" y="541"/>
                    </a:lnTo>
                    <a:lnTo>
                      <a:pt x="38" y="549"/>
                    </a:lnTo>
                    <a:lnTo>
                      <a:pt x="31" y="559"/>
                    </a:lnTo>
                    <a:lnTo>
                      <a:pt x="25" y="567"/>
                    </a:lnTo>
                    <a:lnTo>
                      <a:pt x="20" y="576"/>
                    </a:lnTo>
                    <a:lnTo>
                      <a:pt x="16" y="585"/>
                    </a:lnTo>
                    <a:lnTo>
                      <a:pt x="13" y="594"/>
                    </a:lnTo>
                    <a:lnTo>
                      <a:pt x="10" y="603"/>
                    </a:lnTo>
                    <a:lnTo>
                      <a:pt x="6" y="613"/>
                    </a:lnTo>
                    <a:lnTo>
                      <a:pt x="5" y="624"/>
                    </a:lnTo>
                    <a:lnTo>
                      <a:pt x="3" y="634"/>
                    </a:lnTo>
                    <a:lnTo>
                      <a:pt x="2" y="645"/>
                    </a:lnTo>
                    <a:lnTo>
                      <a:pt x="0" y="657"/>
                    </a:lnTo>
                    <a:lnTo>
                      <a:pt x="1" y="668"/>
                    </a:lnTo>
                    <a:lnTo>
                      <a:pt x="2" y="679"/>
                    </a:lnTo>
                    <a:lnTo>
                      <a:pt x="3" y="690"/>
                    </a:lnTo>
                    <a:lnTo>
                      <a:pt x="4" y="700"/>
                    </a:lnTo>
                    <a:lnTo>
                      <a:pt x="7" y="713"/>
                    </a:lnTo>
                    <a:lnTo>
                      <a:pt x="11" y="725"/>
                    </a:lnTo>
                    <a:lnTo>
                      <a:pt x="14" y="736"/>
                    </a:lnTo>
                    <a:lnTo>
                      <a:pt x="18" y="748"/>
                    </a:lnTo>
                    <a:lnTo>
                      <a:pt x="23" y="761"/>
                    </a:lnTo>
                    <a:lnTo>
                      <a:pt x="28" y="773"/>
                    </a:lnTo>
                    <a:lnTo>
                      <a:pt x="35" y="785"/>
                    </a:lnTo>
                    <a:lnTo>
                      <a:pt x="40" y="798"/>
                    </a:lnTo>
                    <a:lnTo>
                      <a:pt x="47" y="811"/>
                    </a:lnTo>
                    <a:lnTo>
                      <a:pt x="54" y="823"/>
                    </a:lnTo>
                    <a:lnTo>
                      <a:pt x="60" y="834"/>
                    </a:lnTo>
                    <a:lnTo>
                      <a:pt x="67" y="846"/>
                    </a:lnTo>
                    <a:lnTo>
                      <a:pt x="75" y="859"/>
                    </a:lnTo>
                    <a:lnTo>
                      <a:pt x="84" y="870"/>
                    </a:lnTo>
                    <a:lnTo>
                      <a:pt x="92" y="882"/>
                    </a:lnTo>
                    <a:lnTo>
                      <a:pt x="100" y="894"/>
                    </a:lnTo>
                    <a:lnTo>
                      <a:pt x="109" y="907"/>
                    </a:lnTo>
                    <a:lnTo>
                      <a:pt x="118" y="919"/>
                    </a:lnTo>
                    <a:lnTo>
                      <a:pt x="127" y="930"/>
                    </a:lnTo>
                    <a:lnTo>
                      <a:pt x="136" y="942"/>
                    </a:lnTo>
                    <a:lnTo>
                      <a:pt x="145" y="955"/>
                    </a:lnTo>
                    <a:lnTo>
                      <a:pt x="155" y="966"/>
                    </a:lnTo>
                    <a:lnTo>
                      <a:pt x="164" y="977"/>
                    </a:lnTo>
                    <a:lnTo>
                      <a:pt x="173" y="988"/>
                    </a:lnTo>
                    <a:lnTo>
                      <a:pt x="184" y="999"/>
                    </a:lnTo>
                    <a:lnTo>
                      <a:pt x="195" y="1010"/>
                    </a:lnTo>
                    <a:lnTo>
                      <a:pt x="205" y="1021"/>
                    </a:lnTo>
                    <a:lnTo>
                      <a:pt x="215" y="1032"/>
                    </a:lnTo>
                    <a:lnTo>
                      <a:pt x="225" y="1042"/>
                    </a:lnTo>
                    <a:lnTo>
                      <a:pt x="236" y="1054"/>
                    </a:lnTo>
                    <a:lnTo>
                      <a:pt x="246" y="1064"/>
                    </a:lnTo>
                    <a:lnTo>
                      <a:pt x="255" y="1074"/>
                    </a:lnTo>
                    <a:lnTo>
                      <a:pt x="265" y="1083"/>
                    </a:lnTo>
                    <a:lnTo>
                      <a:pt x="274" y="1092"/>
                    </a:lnTo>
                    <a:lnTo>
                      <a:pt x="284" y="1102"/>
                    </a:lnTo>
                    <a:lnTo>
                      <a:pt x="293" y="1111"/>
                    </a:lnTo>
                    <a:lnTo>
                      <a:pt x="302" y="1119"/>
                    </a:lnTo>
                    <a:lnTo>
                      <a:pt x="310" y="1127"/>
                    </a:lnTo>
                    <a:lnTo>
                      <a:pt x="319" y="1135"/>
                    </a:lnTo>
                    <a:lnTo>
                      <a:pt x="329" y="1144"/>
                    </a:lnTo>
                    <a:lnTo>
                      <a:pt x="337" y="1151"/>
                    </a:lnTo>
                    <a:lnTo>
                      <a:pt x="345" y="1159"/>
                    </a:lnTo>
                    <a:lnTo>
                      <a:pt x="353" y="1166"/>
                    </a:lnTo>
                    <a:lnTo>
                      <a:pt x="361" y="1173"/>
                    </a:lnTo>
                    <a:lnTo>
                      <a:pt x="374" y="1185"/>
                    </a:lnTo>
                    <a:lnTo>
                      <a:pt x="389" y="1198"/>
                    </a:lnTo>
                    <a:lnTo>
                      <a:pt x="399" y="1207"/>
                    </a:lnTo>
                    <a:lnTo>
                      <a:pt x="410" y="1215"/>
                    </a:lnTo>
                    <a:lnTo>
                      <a:pt x="417" y="1221"/>
                    </a:lnTo>
                    <a:lnTo>
                      <a:pt x="425" y="1226"/>
                    </a:lnTo>
                    <a:lnTo>
                      <a:pt x="427" y="1228"/>
                    </a:lnTo>
                    <a:lnTo>
                      <a:pt x="429" y="1229"/>
                    </a:lnTo>
                    <a:lnTo>
                      <a:pt x="429" y="1190"/>
                    </a:lnTo>
                    <a:lnTo>
                      <a:pt x="429" y="1153"/>
                    </a:lnTo>
                    <a:lnTo>
                      <a:pt x="429" y="1114"/>
                    </a:lnTo>
                    <a:lnTo>
                      <a:pt x="429" y="1076"/>
                    </a:lnTo>
                    <a:lnTo>
                      <a:pt x="429" y="1037"/>
                    </a:lnTo>
                    <a:lnTo>
                      <a:pt x="429" y="1000"/>
                    </a:lnTo>
                    <a:lnTo>
                      <a:pt x="429" y="961"/>
                    </a:lnTo>
                    <a:lnTo>
                      <a:pt x="429" y="922"/>
                    </a:lnTo>
                    <a:lnTo>
                      <a:pt x="427" y="919"/>
                    </a:lnTo>
                    <a:lnTo>
                      <a:pt x="425" y="916"/>
                    </a:lnTo>
                    <a:lnTo>
                      <a:pt x="419" y="906"/>
                    </a:lnTo>
                    <a:lnTo>
                      <a:pt x="414" y="895"/>
                    </a:lnTo>
                    <a:lnTo>
                      <a:pt x="411" y="887"/>
                    </a:lnTo>
                    <a:lnTo>
                      <a:pt x="408" y="879"/>
                    </a:lnTo>
                    <a:lnTo>
                      <a:pt x="405" y="871"/>
                    </a:lnTo>
                    <a:lnTo>
                      <a:pt x="402" y="863"/>
                    </a:lnTo>
                    <a:lnTo>
                      <a:pt x="401" y="852"/>
                    </a:lnTo>
                    <a:lnTo>
                      <a:pt x="400" y="841"/>
                    </a:lnTo>
                    <a:lnTo>
                      <a:pt x="399" y="830"/>
                    </a:lnTo>
                    <a:lnTo>
                      <a:pt x="398" y="819"/>
                    </a:lnTo>
                    <a:lnTo>
                      <a:pt x="401" y="810"/>
                    </a:lnTo>
                    <a:lnTo>
                      <a:pt x="405" y="800"/>
                    </a:lnTo>
                    <a:lnTo>
                      <a:pt x="412" y="793"/>
                    </a:lnTo>
                    <a:lnTo>
                      <a:pt x="420" y="786"/>
                    </a:lnTo>
                    <a:lnTo>
                      <a:pt x="434" y="784"/>
                    </a:lnTo>
                    <a:lnTo>
                      <a:pt x="446" y="780"/>
                    </a:lnTo>
                    <a:lnTo>
                      <a:pt x="454" y="780"/>
                    </a:lnTo>
                    <a:lnTo>
                      <a:pt x="462" y="779"/>
                    </a:lnTo>
                    <a:lnTo>
                      <a:pt x="470" y="778"/>
                    </a:lnTo>
                    <a:lnTo>
                      <a:pt x="478" y="777"/>
                    </a:lnTo>
                    <a:lnTo>
                      <a:pt x="487" y="777"/>
                    </a:lnTo>
                    <a:lnTo>
                      <a:pt x="496" y="776"/>
                    </a:lnTo>
                    <a:lnTo>
                      <a:pt x="505" y="775"/>
                    </a:lnTo>
                    <a:lnTo>
                      <a:pt x="514" y="774"/>
                    </a:lnTo>
                    <a:lnTo>
                      <a:pt x="525" y="774"/>
                    </a:lnTo>
                    <a:lnTo>
                      <a:pt x="535" y="773"/>
                    </a:lnTo>
                    <a:lnTo>
                      <a:pt x="545" y="773"/>
                    </a:lnTo>
                    <a:lnTo>
                      <a:pt x="556" y="772"/>
                    </a:lnTo>
                    <a:lnTo>
                      <a:pt x="566" y="770"/>
                    </a:lnTo>
                    <a:lnTo>
                      <a:pt x="577" y="769"/>
                    </a:lnTo>
                    <a:lnTo>
                      <a:pt x="587" y="767"/>
                    </a:lnTo>
                    <a:lnTo>
                      <a:pt x="597" y="765"/>
                    </a:lnTo>
                    <a:lnTo>
                      <a:pt x="608" y="763"/>
                    </a:lnTo>
                    <a:lnTo>
                      <a:pt x="620" y="761"/>
                    </a:lnTo>
                    <a:lnTo>
                      <a:pt x="631" y="758"/>
                    </a:lnTo>
                    <a:lnTo>
                      <a:pt x="641" y="756"/>
                    </a:lnTo>
                    <a:lnTo>
                      <a:pt x="653" y="753"/>
                    </a:lnTo>
                    <a:lnTo>
                      <a:pt x="665" y="749"/>
                    </a:lnTo>
                    <a:lnTo>
                      <a:pt x="679" y="747"/>
                    </a:lnTo>
                    <a:lnTo>
                      <a:pt x="693" y="745"/>
                    </a:lnTo>
                    <a:lnTo>
                      <a:pt x="701" y="744"/>
                    </a:lnTo>
                    <a:lnTo>
                      <a:pt x="708" y="743"/>
                    </a:lnTo>
                    <a:lnTo>
                      <a:pt x="717" y="742"/>
                    </a:lnTo>
                    <a:lnTo>
                      <a:pt x="725" y="740"/>
                    </a:lnTo>
                    <a:lnTo>
                      <a:pt x="734" y="739"/>
                    </a:lnTo>
                    <a:lnTo>
                      <a:pt x="742" y="739"/>
                    </a:lnTo>
                    <a:lnTo>
                      <a:pt x="750" y="738"/>
                    </a:lnTo>
                    <a:lnTo>
                      <a:pt x="759" y="736"/>
                    </a:lnTo>
                    <a:lnTo>
                      <a:pt x="768" y="735"/>
                    </a:lnTo>
                    <a:lnTo>
                      <a:pt x="777" y="733"/>
                    </a:lnTo>
                    <a:lnTo>
                      <a:pt x="786" y="731"/>
                    </a:lnTo>
                    <a:lnTo>
                      <a:pt x="795" y="729"/>
                    </a:lnTo>
                    <a:lnTo>
                      <a:pt x="804" y="728"/>
                    </a:lnTo>
                    <a:lnTo>
                      <a:pt x="813" y="726"/>
                    </a:lnTo>
                    <a:lnTo>
                      <a:pt x="823" y="724"/>
                    </a:lnTo>
                    <a:lnTo>
                      <a:pt x="832" y="722"/>
                    </a:lnTo>
                    <a:lnTo>
                      <a:pt x="842" y="719"/>
                    </a:lnTo>
                    <a:lnTo>
                      <a:pt x="852" y="716"/>
                    </a:lnTo>
                    <a:lnTo>
                      <a:pt x="863" y="714"/>
                    </a:lnTo>
                    <a:lnTo>
                      <a:pt x="872" y="711"/>
                    </a:lnTo>
                    <a:lnTo>
                      <a:pt x="882" y="708"/>
                    </a:lnTo>
                    <a:lnTo>
                      <a:pt x="891" y="703"/>
                    </a:lnTo>
                    <a:lnTo>
                      <a:pt x="900" y="699"/>
                    </a:lnTo>
                    <a:lnTo>
                      <a:pt x="910" y="696"/>
                    </a:lnTo>
                    <a:lnTo>
                      <a:pt x="919" y="691"/>
                    </a:lnTo>
                    <a:lnTo>
                      <a:pt x="928" y="686"/>
                    </a:lnTo>
                    <a:lnTo>
                      <a:pt x="937" y="681"/>
                    </a:lnTo>
                    <a:lnTo>
                      <a:pt x="946" y="676"/>
                    </a:lnTo>
                    <a:lnTo>
                      <a:pt x="954" y="670"/>
                    </a:lnTo>
                    <a:lnTo>
                      <a:pt x="963" y="664"/>
                    </a:lnTo>
                    <a:lnTo>
                      <a:pt x="971" y="658"/>
                    </a:lnTo>
                    <a:lnTo>
                      <a:pt x="980" y="651"/>
                    </a:lnTo>
                    <a:lnTo>
                      <a:pt x="988" y="643"/>
                    </a:lnTo>
                    <a:lnTo>
                      <a:pt x="995" y="635"/>
                    </a:lnTo>
                    <a:lnTo>
                      <a:pt x="1003" y="627"/>
                    </a:lnTo>
                    <a:lnTo>
                      <a:pt x="1012" y="619"/>
                    </a:lnTo>
                    <a:lnTo>
                      <a:pt x="1018" y="610"/>
                    </a:lnTo>
                    <a:lnTo>
                      <a:pt x="1024" y="600"/>
                    </a:lnTo>
                    <a:lnTo>
                      <a:pt x="1031" y="590"/>
                    </a:lnTo>
                    <a:lnTo>
                      <a:pt x="1037" y="581"/>
                    </a:lnTo>
                    <a:lnTo>
                      <a:pt x="1043" y="570"/>
                    </a:lnTo>
                    <a:lnTo>
                      <a:pt x="1049" y="558"/>
                    </a:lnTo>
                    <a:lnTo>
                      <a:pt x="1055" y="546"/>
                    </a:lnTo>
                    <a:lnTo>
                      <a:pt x="1062" y="534"/>
                    </a:lnTo>
                    <a:lnTo>
                      <a:pt x="1066" y="521"/>
                    </a:lnTo>
                    <a:lnTo>
                      <a:pt x="1070" y="506"/>
                    </a:lnTo>
                    <a:lnTo>
                      <a:pt x="1075" y="492"/>
                    </a:lnTo>
                    <a:lnTo>
                      <a:pt x="1079" y="478"/>
                    </a:lnTo>
                    <a:lnTo>
                      <a:pt x="1082" y="462"/>
                    </a:lnTo>
                    <a:lnTo>
                      <a:pt x="1084" y="445"/>
                    </a:lnTo>
                    <a:lnTo>
                      <a:pt x="1087" y="429"/>
                    </a:lnTo>
                    <a:lnTo>
                      <a:pt x="1089" y="413"/>
                    </a:lnTo>
                    <a:lnTo>
                      <a:pt x="1090" y="393"/>
                    </a:lnTo>
                    <a:lnTo>
                      <a:pt x="1091" y="375"/>
                    </a:lnTo>
                    <a:lnTo>
                      <a:pt x="1092" y="355"/>
                    </a:lnTo>
                    <a:lnTo>
                      <a:pt x="1093" y="337"/>
                    </a:lnTo>
                    <a:lnTo>
                      <a:pt x="1092" y="325"/>
                    </a:lnTo>
                    <a:lnTo>
                      <a:pt x="1092" y="312"/>
                    </a:lnTo>
                    <a:lnTo>
                      <a:pt x="1091" y="301"/>
                    </a:lnTo>
                    <a:lnTo>
                      <a:pt x="1091" y="289"/>
                    </a:lnTo>
                    <a:lnTo>
                      <a:pt x="1089" y="277"/>
                    </a:lnTo>
                    <a:lnTo>
                      <a:pt x="1088" y="266"/>
                    </a:lnTo>
                    <a:lnTo>
                      <a:pt x="1086" y="253"/>
                    </a:lnTo>
                    <a:lnTo>
                      <a:pt x="1085" y="241"/>
                    </a:lnTo>
                    <a:lnTo>
                      <a:pt x="1083" y="230"/>
                    </a:lnTo>
                    <a:lnTo>
                      <a:pt x="1081" y="218"/>
                    </a:lnTo>
                    <a:lnTo>
                      <a:pt x="1079" y="206"/>
                    </a:lnTo>
                    <a:lnTo>
                      <a:pt x="1077" y="195"/>
                    </a:lnTo>
                    <a:lnTo>
                      <a:pt x="1074" y="184"/>
                    </a:lnTo>
                    <a:lnTo>
                      <a:pt x="1071" y="174"/>
                    </a:lnTo>
                    <a:lnTo>
                      <a:pt x="1068" y="163"/>
                    </a:lnTo>
                    <a:lnTo>
                      <a:pt x="1066" y="152"/>
                    </a:lnTo>
                    <a:lnTo>
                      <a:pt x="1062" y="142"/>
                    </a:lnTo>
                    <a:lnTo>
                      <a:pt x="1058" y="132"/>
                    </a:lnTo>
                    <a:lnTo>
                      <a:pt x="1053" y="121"/>
                    </a:lnTo>
                    <a:lnTo>
                      <a:pt x="1049" y="110"/>
                    </a:lnTo>
                    <a:lnTo>
                      <a:pt x="1045" y="100"/>
                    </a:lnTo>
                    <a:lnTo>
                      <a:pt x="1041" y="91"/>
                    </a:lnTo>
                    <a:lnTo>
                      <a:pt x="1038" y="82"/>
                    </a:lnTo>
                    <a:lnTo>
                      <a:pt x="1034" y="72"/>
                    </a:lnTo>
                    <a:lnTo>
                      <a:pt x="1029" y="62"/>
                    </a:lnTo>
                    <a:lnTo>
                      <a:pt x="1024" y="54"/>
                    </a:lnTo>
                    <a:lnTo>
                      <a:pt x="1019" y="45"/>
                    </a:lnTo>
                    <a:lnTo>
                      <a:pt x="1014" y="35"/>
                    </a:lnTo>
                    <a:lnTo>
                      <a:pt x="1009" y="27"/>
                    </a:lnTo>
                    <a:lnTo>
                      <a:pt x="1002" y="17"/>
                    </a:lnTo>
                    <a:lnTo>
                      <a:pt x="997" y="9"/>
                    </a:lnTo>
                    <a:lnTo>
                      <a:pt x="991" y="0"/>
                    </a:lnTo>
                    <a:lnTo>
                      <a:pt x="989" y="1"/>
                    </a:lnTo>
                    <a:lnTo>
                      <a:pt x="987" y="1"/>
                    </a:lnTo>
                    <a:lnTo>
                      <a:pt x="982" y="2"/>
                    </a:lnTo>
                    <a:lnTo>
                      <a:pt x="978" y="3"/>
                    </a:lnTo>
                    <a:lnTo>
                      <a:pt x="970" y="5"/>
                    </a:lnTo>
                    <a:lnTo>
                      <a:pt x="962" y="7"/>
                    </a:lnTo>
                    <a:lnTo>
                      <a:pt x="950" y="10"/>
                    </a:lnTo>
                    <a:lnTo>
                      <a:pt x="940" y="12"/>
                    </a:lnTo>
                    <a:lnTo>
                      <a:pt x="927" y="15"/>
                    </a:lnTo>
                    <a:lnTo>
                      <a:pt x="915" y="17"/>
                    </a:lnTo>
                    <a:lnTo>
                      <a:pt x="900" y="20"/>
                    </a:lnTo>
                    <a:lnTo>
                      <a:pt x="886" y="22"/>
                    </a:lnTo>
                    <a:lnTo>
                      <a:pt x="872" y="25"/>
                    </a:lnTo>
                    <a:lnTo>
                      <a:pt x="856" y="27"/>
                    </a:lnTo>
                    <a:lnTo>
                      <a:pt x="841" y="29"/>
                    </a:lnTo>
                    <a:lnTo>
                      <a:pt x="827" y="30"/>
                    </a:lnTo>
                    <a:lnTo>
                      <a:pt x="811" y="32"/>
                    </a:lnTo>
                    <a:lnTo>
                      <a:pt x="796" y="33"/>
                    </a:lnTo>
                    <a:lnTo>
                      <a:pt x="782" y="34"/>
                    </a:lnTo>
                    <a:lnTo>
                      <a:pt x="767" y="34"/>
                    </a:lnTo>
                    <a:lnTo>
                      <a:pt x="752" y="36"/>
                    </a:lnTo>
                    <a:lnTo>
                      <a:pt x="737" y="37"/>
                    </a:lnTo>
                    <a:lnTo>
                      <a:pt x="724" y="38"/>
                    </a:lnTo>
                    <a:lnTo>
                      <a:pt x="711" y="39"/>
                    </a:lnTo>
                    <a:lnTo>
                      <a:pt x="699" y="40"/>
                    </a:lnTo>
                    <a:lnTo>
                      <a:pt x="687" y="41"/>
                    </a:lnTo>
                    <a:lnTo>
                      <a:pt x="679" y="43"/>
                    </a:lnTo>
                    <a:lnTo>
                      <a:pt x="670" y="43"/>
                    </a:lnTo>
                    <a:lnTo>
                      <a:pt x="663" y="44"/>
                    </a:lnTo>
                    <a:lnTo>
                      <a:pt x="657" y="44"/>
                    </a:lnTo>
                    <a:lnTo>
                      <a:pt x="655" y="45"/>
                    </a:lnTo>
                    <a:lnTo>
                      <a:pt x="653" y="45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398480" y="2036160"/>
                <a:ext cx="57600" cy="35280"/>
              </a:xfrm>
              <a:custGeom>
                <a:avLst/>
                <a:gdLst/>
                <a:ahLst/>
                <a:rect l="l" t="t" r="r" b="b"/>
                <a:pathLst>
                  <a:path w="1138" h="693">
                    <a:moveTo>
                      <a:pt x="727" y="83"/>
                    </a:moveTo>
                    <a:lnTo>
                      <a:pt x="727" y="108"/>
                    </a:lnTo>
                    <a:lnTo>
                      <a:pt x="727" y="133"/>
                    </a:lnTo>
                    <a:lnTo>
                      <a:pt x="727" y="158"/>
                    </a:lnTo>
                    <a:lnTo>
                      <a:pt x="727" y="183"/>
                    </a:lnTo>
                    <a:lnTo>
                      <a:pt x="728" y="185"/>
                    </a:lnTo>
                    <a:lnTo>
                      <a:pt x="729" y="188"/>
                    </a:lnTo>
                    <a:lnTo>
                      <a:pt x="732" y="196"/>
                    </a:lnTo>
                    <a:lnTo>
                      <a:pt x="735" y="203"/>
                    </a:lnTo>
                    <a:lnTo>
                      <a:pt x="737" y="213"/>
                    </a:lnTo>
                    <a:lnTo>
                      <a:pt x="739" y="225"/>
                    </a:lnTo>
                    <a:lnTo>
                      <a:pt x="740" y="236"/>
                    </a:lnTo>
                    <a:lnTo>
                      <a:pt x="741" y="246"/>
                    </a:lnTo>
                    <a:lnTo>
                      <a:pt x="739" y="253"/>
                    </a:lnTo>
                    <a:lnTo>
                      <a:pt x="737" y="259"/>
                    </a:lnTo>
                    <a:lnTo>
                      <a:pt x="730" y="268"/>
                    </a:lnTo>
                    <a:lnTo>
                      <a:pt x="723" y="275"/>
                    </a:lnTo>
                    <a:lnTo>
                      <a:pt x="712" y="285"/>
                    </a:lnTo>
                    <a:lnTo>
                      <a:pt x="702" y="294"/>
                    </a:lnTo>
                    <a:lnTo>
                      <a:pt x="687" y="304"/>
                    </a:lnTo>
                    <a:lnTo>
                      <a:pt x="673" y="314"/>
                    </a:lnTo>
                    <a:lnTo>
                      <a:pt x="664" y="319"/>
                    </a:lnTo>
                    <a:lnTo>
                      <a:pt x="656" y="324"/>
                    </a:lnTo>
                    <a:lnTo>
                      <a:pt x="647" y="329"/>
                    </a:lnTo>
                    <a:lnTo>
                      <a:pt x="637" y="333"/>
                    </a:lnTo>
                    <a:lnTo>
                      <a:pt x="627" y="339"/>
                    </a:lnTo>
                    <a:lnTo>
                      <a:pt x="616" y="343"/>
                    </a:lnTo>
                    <a:lnTo>
                      <a:pt x="605" y="348"/>
                    </a:lnTo>
                    <a:lnTo>
                      <a:pt x="593" y="353"/>
                    </a:lnTo>
                    <a:lnTo>
                      <a:pt x="582" y="359"/>
                    </a:lnTo>
                    <a:lnTo>
                      <a:pt x="570" y="365"/>
                    </a:lnTo>
                    <a:lnTo>
                      <a:pt x="559" y="371"/>
                    </a:lnTo>
                    <a:lnTo>
                      <a:pt x="546" y="376"/>
                    </a:lnTo>
                    <a:lnTo>
                      <a:pt x="533" y="381"/>
                    </a:lnTo>
                    <a:lnTo>
                      <a:pt x="519" y="386"/>
                    </a:lnTo>
                    <a:lnTo>
                      <a:pt x="506" y="391"/>
                    </a:lnTo>
                    <a:lnTo>
                      <a:pt x="492" y="396"/>
                    </a:lnTo>
                    <a:lnTo>
                      <a:pt x="478" y="402"/>
                    </a:lnTo>
                    <a:lnTo>
                      <a:pt x="463" y="407"/>
                    </a:lnTo>
                    <a:lnTo>
                      <a:pt x="454" y="411"/>
                    </a:lnTo>
                    <a:lnTo>
                      <a:pt x="444" y="415"/>
                    </a:lnTo>
                    <a:lnTo>
                      <a:pt x="436" y="418"/>
                    </a:lnTo>
                    <a:lnTo>
                      <a:pt x="427" y="422"/>
                    </a:lnTo>
                    <a:lnTo>
                      <a:pt x="417" y="425"/>
                    </a:lnTo>
                    <a:lnTo>
                      <a:pt x="408" y="429"/>
                    </a:lnTo>
                    <a:lnTo>
                      <a:pt x="398" y="433"/>
                    </a:lnTo>
                    <a:lnTo>
                      <a:pt x="389" y="436"/>
                    </a:lnTo>
                    <a:lnTo>
                      <a:pt x="379" y="441"/>
                    </a:lnTo>
                    <a:lnTo>
                      <a:pt x="369" y="445"/>
                    </a:lnTo>
                    <a:lnTo>
                      <a:pt x="359" y="449"/>
                    </a:lnTo>
                    <a:lnTo>
                      <a:pt x="349" y="453"/>
                    </a:lnTo>
                    <a:lnTo>
                      <a:pt x="338" y="459"/>
                    </a:lnTo>
                    <a:lnTo>
                      <a:pt x="328" y="464"/>
                    </a:lnTo>
                    <a:lnTo>
                      <a:pt x="318" y="469"/>
                    </a:lnTo>
                    <a:lnTo>
                      <a:pt x="308" y="474"/>
                    </a:lnTo>
                    <a:lnTo>
                      <a:pt x="297" y="479"/>
                    </a:lnTo>
                    <a:lnTo>
                      <a:pt x="286" y="484"/>
                    </a:lnTo>
                    <a:lnTo>
                      <a:pt x="276" y="489"/>
                    </a:lnTo>
                    <a:lnTo>
                      <a:pt x="266" y="494"/>
                    </a:lnTo>
                    <a:lnTo>
                      <a:pt x="254" y="499"/>
                    </a:lnTo>
                    <a:lnTo>
                      <a:pt x="244" y="504"/>
                    </a:lnTo>
                    <a:lnTo>
                      <a:pt x="234" y="510"/>
                    </a:lnTo>
                    <a:lnTo>
                      <a:pt x="224" y="515"/>
                    </a:lnTo>
                    <a:lnTo>
                      <a:pt x="214" y="520"/>
                    </a:lnTo>
                    <a:lnTo>
                      <a:pt x="202" y="525"/>
                    </a:lnTo>
                    <a:lnTo>
                      <a:pt x="192" y="530"/>
                    </a:lnTo>
                    <a:lnTo>
                      <a:pt x="182" y="535"/>
                    </a:lnTo>
                    <a:lnTo>
                      <a:pt x="172" y="540"/>
                    </a:lnTo>
                    <a:lnTo>
                      <a:pt x="162" y="545"/>
                    </a:lnTo>
                    <a:lnTo>
                      <a:pt x="151" y="551"/>
                    </a:lnTo>
                    <a:lnTo>
                      <a:pt x="142" y="557"/>
                    </a:lnTo>
                    <a:lnTo>
                      <a:pt x="133" y="562"/>
                    </a:lnTo>
                    <a:lnTo>
                      <a:pt x="124" y="567"/>
                    </a:lnTo>
                    <a:lnTo>
                      <a:pt x="115" y="573"/>
                    </a:lnTo>
                    <a:lnTo>
                      <a:pt x="106" y="578"/>
                    </a:lnTo>
                    <a:lnTo>
                      <a:pt x="98" y="583"/>
                    </a:lnTo>
                    <a:lnTo>
                      <a:pt x="90" y="588"/>
                    </a:lnTo>
                    <a:lnTo>
                      <a:pt x="82" y="593"/>
                    </a:lnTo>
                    <a:lnTo>
                      <a:pt x="74" y="598"/>
                    </a:lnTo>
                    <a:lnTo>
                      <a:pt x="59" y="609"/>
                    </a:lnTo>
                    <a:lnTo>
                      <a:pt x="46" y="618"/>
                    </a:lnTo>
                    <a:lnTo>
                      <a:pt x="35" y="627"/>
                    </a:lnTo>
                    <a:lnTo>
                      <a:pt x="24" y="635"/>
                    </a:lnTo>
                    <a:lnTo>
                      <a:pt x="17" y="643"/>
                    </a:lnTo>
                    <a:lnTo>
                      <a:pt x="8" y="651"/>
                    </a:lnTo>
                    <a:lnTo>
                      <a:pt x="4" y="659"/>
                    </a:lnTo>
                    <a:lnTo>
                      <a:pt x="0" y="666"/>
                    </a:lnTo>
                    <a:lnTo>
                      <a:pt x="0" y="672"/>
                    </a:lnTo>
                    <a:lnTo>
                      <a:pt x="0" y="677"/>
                    </a:lnTo>
                    <a:lnTo>
                      <a:pt x="4" y="682"/>
                    </a:lnTo>
                    <a:lnTo>
                      <a:pt x="10" y="686"/>
                    </a:lnTo>
                    <a:lnTo>
                      <a:pt x="22" y="688"/>
                    </a:lnTo>
                    <a:lnTo>
                      <a:pt x="34" y="691"/>
                    </a:lnTo>
                    <a:lnTo>
                      <a:pt x="42" y="692"/>
                    </a:lnTo>
                    <a:lnTo>
                      <a:pt x="50" y="692"/>
                    </a:lnTo>
                    <a:lnTo>
                      <a:pt x="58" y="692"/>
                    </a:lnTo>
                    <a:lnTo>
                      <a:pt x="67" y="693"/>
                    </a:lnTo>
                    <a:lnTo>
                      <a:pt x="76" y="693"/>
                    </a:lnTo>
                    <a:lnTo>
                      <a:pt x="86" y="693"/>
                    </a:lnTo>
                    <a:lnTo>
                      <a:pt x="96" y="693"/>
                    </a:lnTo>
                    <a:lnTo>
                      <a:pt x="106" y="692"/>
                    </a:lnTo>
                    <a:lnTo>
                      <a:pt x="118" y="692"/>
                    </a:lnTo>
                    <a:lnTo>
                      <a:pt x="130" y="691"/>
                    </a:lnTo>
                    <a:lnTo>
                      <a:pt x="141" y="690"/>
                    </a:lnTo>
                    <a:lnTo>
                      <a:pt x="153" y="689"/>
                    </a:lnTo>
                    <a:lnTo>
                      <a:pt x="167" y="688"/>
                    </a:lnTo>
                    <a:lnTo>
                      <a:pt x="179" y="686"/>
                    </a:lnTo>
                    <a:lnTo>
                      <a:pt x="192" y="685"/>
                    </a:lnTo>
                    <a:lnTo>
                      <a:pt x="205" y="683"/>
                    </a:lnTo>
                    <a:lnTo>
                      <a:pt x="220" y="682"/>
                    </a:lnTo>
                    <a:lnTo>
                      <a:pt x="235" y="680"/>
                    </a:lnTo>
                    <a:lnTo>
                      <a:pt x="249" y="679"/>
                    </a:lnTo>
                    <a:lnTo>
                      <a:pt x="264" y="677"/>
                    </a:lnTo>
                    <a:lnTo>
                      <a:pt x="279" y="675"/>
                    </a:lnTo>
                    <a:lnTo>
                      <a:pt x="293" y="673"/>
                    </a:lnTo>
                    <a:lnTo>
                      <a:pt x="309" y="671"/>
                    </a:lnTo>
                    <a:lnTo>
                      <a:pt x="323" y="669"/>
                    </a:lnTo>
                    <a:lnTo>
                      <a:pt x="338" y="667"/>
                    </a:lnTo>
                    <a:lnTo>
                      <a:pt x="355" y="664"/>
                    </a:lnTo>
                    <a:lnTo>
                      <a:pt x="370" y="662"/>
                    </a:lnTo>
                    <a:lnTo>
                      <a:pt x="385" y="659"/>
                    </a:lnTo>
                    <a:lnTo>
                      <a:pt x="399" y="657"/>
                    </a:lnTo>
                    <a:lnTo>
                      <a:pt x="415" y="654"/>
                    </a:lnTo>
                    <a:lnTo>
                      <a:pt x="430" y="651"/>
                    </a:lnTo>
                    <a:lnTo>
                      <a:pt x="444" y="648"/>
                    </a:lnTo>
                    <a:lnTo>
                      <a:pt x="460" y="645"/>
                    </a:lnTo>
                    <a:lnTo>
                      <a:pt x="474" y="642"/>
                    </a:lnTo>
                    <a:lnTo>
                      <a:pt x="489" y="639"/>
                    </a:lnTo>
                    <a:lnTo>
                      <a:pt x="505" y="636"/>
                    </a:lnTo>
                    <a:lnTo>
                      <a:pt x="519" y="634"/>
                    </a:lnTo>
                    <a:lnTo>
                      <a:pt x="533" y="631"/>
                    </a:lnTo>
                    <a:lnTo>
                      <a:pt x="547" y="629"/>
                    </a:lnTo>
                    <a:lnTo>
                      <a:pt x="562" y="626"/>
                    </a:lnTo>
                    <a:lnTo>
                      <a:pt x="575" y="623"/>
                    </a:lnTo>
                    <a:lnTo>
                      <a:pt x="587" y="621"/>
                    </a:lnTo>
                    <a:lnTo>
                      <a:pt x="601" y="618"/>
                    </a:lnTo>
                    <a:lnTo>
                      <a:pt x="614" y="616"/>
                    </a:lnTo>
                    <a:lnTo>
                      <a:pt x="625" y="614"/>
                    </a:lnTo>
                    <a:lnTo>
                      <a:pt x="636" y="611"/>
                    </a:lnTo>
                    <a:lnTo>
                      <a:pt x="648" y="609"/>
                    </a:lnTo>
                    <a:lnTo>
                      <a:pt x="660" y="607"/>
                    </a:lnTo>
                    <a:lnTo>
                      <a:pt x="669" y="603"/>
                    </a:lnTo>
                    <a:lnTo>
                      <a:pt x="679" y="600"/>
                    </a:lnTo>
                    <a:lnTo>
                      <a:pt x="689" y="598"/>
                    </a:lnTo>
                    <a:lnTo>
                      <a:pt x="700" y="595"/>
                    </a:lnTo>
                    <a:lnTo>
                      <a:pt x="714" y="592"/>
                    </a:lnTo>
                    <a:lnTo>
                      <a:pt x="729" y="588"/>
                    </a:lnTo>
                    <a:lnTo>
                      <a:pt x="744" y="585"/>
                    </a:lnTo>
                    <a:lnTo>
                      <a:pt x="757" y="581"/>
                    </a:lnTo>
                    <a:lnTo>
                      <a:pt x="771" y="578"/>
                    </a:lnTo>
                    <a:lnTo>
                      <a:pt x="785" y="574"/>
                    </a:lnTo>
                    <a:lnTo>
                      <a:pt x="794" y="571"/>
                    </a:lnTo>
                    <a:lnTo>
                      <a:pt x="801" y="569"/>
                    </a:lnTo>
                    <a:lnTo>
                      <a:pt x="809" y="566"/>
                    </a:lnTo>
                    <a:lnTo>
                      <a:pt x="817" y="563"/>
                    </a:lnTo>
                    <a:lnTo>
                      <a:pt x="825" y="560"/>
                    </a:lnTo>
                    <a:lnTo>
                      <a:pt x="833" y="558"/>
                    </a:lnTo>
                    <a:lnTo>
                      <a:pt x="843" y="554"/>
                    </a:lnTo>
                    <a:lnTo>
                      <a:pt x="851" y="552"/>
                    </a:lnTo>
                    <a:lnTo>
                      <a:pt x="859" y="548"/>
                    </a:lnTo>
                    <a:lnTo>
                      <a:pt x="868" y="545"/>
                    </a:lnTo>
                    <a:lnTo>
                      <a:pt x="876" y="541"/>
                    </a:lnTo>
                    <a:lnTo>
                      <a:pt x="884" y="538"/>
                    </a:lnTo>
                    <a:lnTo>
                      <a:pt x="893" y="535"/>
                    </a:lnTo>
                    <a:lnTo>
                      <a:pt x="901" y="531"/>
                    </a:lnTo>
                    <a:lnTo>
                      <a:pt x="909" y="528"/>
                    </a:lnTo>
                    <a:lnTo>
                      <a:pt x="916" y="524"/>
                    </a:lnTo>
                    <a:lnTo>
                      <a:pt x="925" y="520"/>
                    </a:lnTo>
                    <a:lnTo>
                      <a:pt x="933" y="516"/>
                    </a:lnTo>
                    <a:lnTo>
                      <a:pt x="942" y="512"/>
                    </a:lnTo>
                    <a:lnTo>
                      <a:pt x="951" y="508"/>
                    </a:lnTo>
                    <a:lnTo>
                      <a:pt x="958" y="502"/>
                    </a:lnTo>
                    <a:lnTo>
                      <a:pt x="966" y="497"/>
                    </a:lnTo>
                    <a:lnTo>
                      <a:pt x="974" y="492"/>
                    </a:lnTo>
                    <a:lnTo>
                      <a:pt x="982" y="488"/>
                    </a:lnTo>
                    <a:lnTo>
                      <a:pt x="990" y="483"/>
                    </a:lnTo>
                    <a:lnTo>
                      <a:pt x="998" y="478"/>
                    </a:lnTo>
                    <a:lnTo>
                      <a:pt x="1006" y="473"/>
                    </a:lnTo>
                    <a:lnTo>
                      <a:pt x="1014" y="468"/>
                    </a:lnTo>
                    <a:lnTo>
                      <a:pt x="1027" y="455"/>
                    </a:lnTo>
                    <a:lnTo>
                      <a:pt x="1042" y="443"/>
                    </a:lnTo>
                    <a:lnTo>
                      <a:pt x="1055" y="431"/>
                    </a:lnTo>
                    <a:lnTo>
                      <a:pt x="1067" y="418"/>
                    </a:lnTo>
                    <a:lnTo>
                      <a:pt x="1078" y="403"/>
                    </a:lnTo>
                    <a:lnTo>
                      <a:pt x="1090" y="388"/>
                    </a:lnTo>
                    <a:lnTo>
                      <a:pt x="1095" y="380"/>
                    </a:lnTo>
                    <a:lnTo>
                      <a:pt x="1100" y="372"/>
                    </a:lnTo>
                    <a:lnTo>
                      <a:pt x="1105" y="364"/>
                    </a:lnTo>
                    <a:lnTo>
                      <a:pt x="1110" y="355"/>
                    </a:lnTo>
                    <a:lnTo>
                      <a:pt x="1113" y="346"/>
                    </a:lnTo>
                    <a:lnTo>
                      <a:pt x="1116" y="338"/>
                    </a:lnTo>
                    <a:lnTo>
                      <a:pt x="1119" y="329"/>
                    </a:lnTo>
                    <a:lnTo>
                      <a:pt x="1123" y="320"/>
                    </a:lnTo>
                    <a:lnTo>
                      <a:pt x="1125" y="310"/>
                    </a:lnTo>
                    <a:lnTo>
                      <a:pt x="1128" y="301"/>
                    </a:lnTo>
                    <a:lnTo>
                      <a:pt x="1130" y="292"/>
                    </a:lnTo>
                    <a:lnTo>
                      <a:pt x="1134" y="282"/>
                    </a:lnTo>
                    <a:lnTo>
                      <a:pt x="1135" y="272"/>
                    </a:lnTo>
                    <a:lnTo>
                      <a:pt x="1135" y="260"/>
                    </a:lnTo>
                    <a:lnTo>
                      <a:pt x="1136" y="250"/>
                    </a:lnTo>
                    <a:lnTo>
                      <a:pt x="1138" y="239"/>
                    </a:lnTo>
                    <a:lnTo>
                      <a:pt x="1137" y="231"/>
                    </a:lnTo>
                    <a:lnTo>
                      <a:pt x="1137" y="223"/>
                    </a:lnTo>
                    <a:lnTo>
                      <a:pt x="1136" y="215"/>
                    </a:lnTo>
                    <a:lnTo>
                      <a:pt x="1136" y="206"/>
                    </a:lnTo>
                    <a:lnTo>
                      <a:pt x="1134" y="198"/>
                    </a:lnTo>
                    <a:lnTo>
                      <a:pt x="1132" y="191"/>
                    </a:lnTo>
                    <a:lnTo>
                      <a:pt x="1130" y="183"/>
                    </a:lnTo>
                    <a:lnTo>
                      <a:pt x="1129" y="175"/>
                    </a:lnTo>
                    <a:lnTo>
                      <a:pt x="1126" y="168"/>
                    </a:lnTo>
                    <a:lnTo>
                      <a:pt x="1123" y="159"/>
                    </a:lnTo>
                    <a:lnTo>
                      <a:pt x="1120" y="151"/>
                    </a:lnTo>
                    <a:lnTo>
                      <a:pt x="1117" y="144"/>
                    </a:lnTo>
                    <a:lnTo>
                      <a:pt x="1114" y="136"/>
                    </a:lnTo>
                    <a:lnTo>
                      <a:pt x="1110" y="128"/>
                    </a:lnTo>
                    <a:lnTo>
                      <a:pt x="1107" y="121"/>
                    </a:lnTo>
                    <a:lnTo>
                      <a:pt x="1103" y="112"/>
                    </a:lnTo>
                    <a:lnTo>
                      <a:pt x="1095" y="98"/>
                    </a:lnTo>
                    <a:lnTo>
                      <a:pt x="1086" y="84"/>
                    </a:lnTo>
                    <a:lnTo>
                      <a:pt x="1075" y="71"/>
                    </a:lnTo>
                    <a:lnTo>
                      <a:pt x="1066" y="55"/>
                    </a:lnTo>
                    <a:lnTo>
                      <a:pt x="1054" y="40"/>
                    </a:lnTo>
                    <a:lnTo>
                      <a:pt x="1042" y="26"/>
                    </a:lnTo>
                    <a:lnTo>
                      <a:pt x="1029" y="12"/>
                    </a:lnTo>
                    <a:lnTo>
                      <a:pt x="1018" y="0"/>
                    </a:lnTo>
                    <a:lnTo>
                      <a:pt x="1016" y="0"/>
                    </a:lnTo>
                    <a:lnTo>
                      <a:pt x="1014" y="1"/>
                    </a:lnTo>
                    <a:lnTo>
                      <a:pt x="1009" y="2"/>
                    </a:lnTo>
                    <a:lnTo>
                      <a:pt x="1004" y="3"/>
                    </a:lnTo>
                    <a:lnTo>
                      <a:pt x="998" y="5"/>
                    </a:lnTo>
                    <a:lnTo>
                      <a:pt x="991" y="7"/>
                    </a:lnTo>
                    <a:lnTo>
                      <a:pt x="980" y="10"/>
                    </a:lnTo>
                    <a:lnTo>
                      <a:pt x="970" y="13"/>
                    </a:lnTo>
                    <a:lnTo>
                      <a:pt x="959" y="16"/>
                    </a:lnTo>
                    <a:lnTo>
                      <a:pt x="948" y="20"/>
                    </a:lnTo>
                    <a:lnTo>
                      <a:pt x="936" y="25"/>
                    </a:lnTo>
                    <a:lnTo>
                      <a:pt x="924" y="29"/>
                    </a:lnTo>
                    <a:lnTo>
                      <a:pt x="912" y="33"/>
                    </a:lnTo>
                    <a:lnTo>
                      <a:pt x="899" y="37"/>
                    </a:lnTo>
                    <a:lnTo>
                      <a:pt x="885" y="41"/>
                    </a:lnTo>
                    <a:lnTo>
                      <a:pt x="872" y="45"/>
                    </a:lnTo>
                    <a:lnTo>
                      <a:pt x="860" y="48"/>
                    </a:lnTo>
                    <a:lnTo>
                      <a:pt x="847" y="52"/>
                    </a:lnTo>
                    <a:lnTo>
                      <a:pt x="833" y="56"/>
                    </a:lnTo>
                    <a:lnTo>
                      <a:pt x="821" y="60"/>
                    </a:lnTo>
                    <a:lnTo>
                      <a:pt x="809" y="64"/>
                    </a:lnTo>
                    <a:lnTo>
                      <a:pt x="797" y="68"/>
                    </a:lnTo>
                    <a:lnTo>
                      <a:pt x="784" y="70"/>
                    </a:lnTo>
                    <a:lnTo>
                      <a:pt x="773" y="72"/>
                    </a:lnTo>
                    <a:lnTo>
                      <a:pt x="764" y="75"/>
                    </a:lnTo>
                    <a:lnTo>
                      <a:pt x="756" y="77"/>
                    </a:lnTo>
                    <a:lnTo>
                      <a:pt x="747" y="79"/>
                    </a:lnTo>
                    <a:lnTo>
                      <a:pt x="739" y="80"/>
                    </a:lnTo>
                    <a:lnTo>
                      <a:pt x="735" y="81"/>
                    </a:lnTo>
                    <a:lnTo>
                      <a:pt x="731" y="82"/>
                    </a:lnTo>
                    <a:lnTo>
                      <a:pt x="729" y="83"/>
                    </a:lnTo>
                    <a:lnTo>
                      <a:pt x="727" y="83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411800" y="1738800"/>
                <a:ext cx="38160" cy="40320"/>
              </a:xfrm>
              <a:custGeom>
                <a:avLst/>
                <a:gdLst/>
                <a:ahLst/>
                <a:rect l="l" t="t" r="r" b="b"/>
                <a:pathLst>
                  <a:path w="739" h="766">
                    <a:moveTo>
                      <a:pt x="371" y="757"/>
                    </a:moveTo>
                    <a:lnTo>
                      <a:pt x="380" y="758"/>
                    </a:lnTo>
                    <a:lnTo>
                      <a:pt x="389" y="760"/>
                    </a:lnTo>
                    <a:lnTo>
                      <a:pt x="399" y="762"/>
                    </a:lnTo>
                    <a:lnTo>
                      <a:pt x="409" y="763"/>
                    </a:lnTo>
                    <a:lnTo>
                      <a:pt x="418" y="764"/>
                    </a:lnTo>
                    <a:lnTo>
                      <a:pt x="426" y="765"/>
                    </a:lnTo>
                    <a:lnTo>
                      <a:pt x="435" y="765"/>
                    </a:lnTo>
                    <a:lnTo>
                      <a:pt x="445" y="766"/>
                    </a:lnTo>
                    <a:lnTo>
                      <a:pt x="454" y="766"/>
                    </a:lnTo>
                    <a:lnTo>
                      <a:pt x="462" y="766"/>
                    </a:lnTo>
                    <a:lnTo>
                      <a:pt x="471" y="766"/>
                    </a:lnTo>
                    <a:lnTo>
                      <a:pt x="480" y="766"/>
                    </a:lnTo>
                    <a:lnTo>
                      <a:pt x="488" y="765"/>
                    </a:lnTo>
                    <a:lnTo>
                      <a:pt x="497" y="763"/>
                    </a:lnTo>
                    <a:lnTo>
                      <a:pt x="506" y="762"/>
                    </a:lnTo>
                    <a:lnTo>
                      <a:pt x="514" y="760"/>
                    </a:lnTo>
                    <a:lnTo>
                      <a:pt x="522" y="759"/>
                    </a:lnTo>
                    <a:lnTo>
                      <a:pt x="530" y="757"/>
                    </a:lnTo>
                    <a:lnTo>
                      <a:pt x="537" y="756"/>
                    </a:lnTo>
                    <a:lnTo>
                      <a:pt x="546" y="754"/>
                    </a:lnTo>
                    <a:lnTo>
                      <a:pt x="561" y="747"/>
                    </a:lnTo>
                    <a:lnTo>
                      <a:pt x="575" y="741"/>
                    </a:lnTo>
                    <a:lnTo>
                      <a:pt x="591" y="734"/>
                    </a:lnTo>
                    <a:lnTo>
                      <a:pt x="606" y="728"/>
                    </a:lnTo>
                    <a:lnTo>
                      <a:pt x="619" y="719"/>
                    </a:lnTo>
                    <a:lnTo>
                      <a:pt x="631" y="710"/>
                    </a:lnTo>
                    <a:lnTo>
                      <a:pt x="644" y="699"/>
                    </a:lnTo>
                    <a:lnTo>
                      <a:pt x="655" y="687"/>
                    </a:lnTo>
                    <a:lnTo>
                      <a:pt x="665" y="676"/>
                    </a:lnTo>
                    <a:lnTo>
                      <a:pt x="675" y="664"/>
                    </a:lnTo>
                    <a:lnTo>
                      <a:pt x="684" y="652"/>
                    </a:lnTo>
                    <a:lnTo>
                      <a:pt x="695" y="638"/>
                    </a:lnTo>
                    <a:lnTo>
                      <a:pt x="702" y="624"/>
                    </a:lnTo>
                    <a:lnTo>
                      <a:pt x="709" y="610"/>
                    </a:lnTo>
                    <a:lnTo>
                      <a:pt x="713" y="602"/>
                    </a:lnTo>
                    <a:lnTo>
                      <a:pt x="716" y="594"/>
                    </a:lnTo>
                    <a:lnTo>
                      <a:pt x="719" y="585"/>
                    </a:lnTo>
                    <a:lnTo>
                      <a:pt x="723" y="577"/>
                    </a:lnTo>
                    <a:lnTo>
                      <a:pt x="725" y="569"/>
                    </a:lnTo>
                    <a:lnTo>
                      <a:pt x="727" y="561"/>
                    </a:lnTo>
                    <a:lnTo>
                      <a:pt x="729" y="553"/>
                    </a:lnTo>
                    <a:lnTo>
                      <a:pt x="731" y="544"/>
                    </a:lnTo>
                    <a:lnTo>
                      <a:pt x="732" y="535"/>
                    </a:lnTo>
                    <a:lnTo>
                      <a:pt x="735" y="526"/>
                    </a:lnTo>
                    <a:lnTo>
                      <a:pt x="736" y="517"/>
                    </a:lnTo>
                    <a:lnTo>
                      <a:pt x="738" y="508"/>
                    </a:lnTo>
                    <a:lnTo>
                      <a:pt x="738" y="498"/>
                    </a:lnTo>
                    <a:lnTo>
                      <a:pt x="739" y="488"/>
                    </a:lnTo>
                    <a:lnTo>
                      <a:pt x="739" y="479"/>
                    </a:lnTo>
                    <a:lnTo>
                      <a:pt x="739" y="469"/>
                    </a:lnTo>
                    <a:lnTo>
                      <a:pt x="739" y="460"/>
                    </a:lnTo>
                    <a:lnTo>
                      <a:pt x="739" y="450"/>
                    </a:lnTo>
                    <a:lnTo>
                      <a:pt x="738" y="440"/>
                    </a:lnTo>
                    <a:lnTo>
                      <a:pt x="738" y="430"/>
                    </a:lnTo>
                    <a:lnTo>
                      <a:pt x="736" y="421"/>
                    </a:lnTo>
                    <a:lnTo>
                      <a:pt x="735" y="412"/>
                    </a:lnTo>
                    <a:lnTo>
                      <a:pt x="732" y="403"/>
                    </a:lnTo>
                    <a:lnTo>
                      <a:pt x="731" y="393"/>
                    </a:lnTo>
                    <a:lnTo>
                      <a:pt x="729" y="384"/>
                    </a:lnTo>
                    <a:lnTo>
                      <a:pt x="727" y="374"/>
                    </a:lnTo>
                    <a:lnTo>
                      <a:pt x="725" y="365"/>
                    </a:lnTo>
                    <a:lnTo>
                      <a:pt x="723" y="355"/>
                    </a:lnTo>
                    <a:lnTo>
                      <a:pt x="719" y="345"/>
                    </a:lnTo>
                    <a:lnTo>
                      <a:pt x="716" y="336"/>
                    </a:lnTo>
                    <a:lnTo>
                      <a:pt x="713" y="327"/>
                    </a:lnTo>
                    <a:lnTo>
                      <a:pt x="709" y="318"/>
                    </a:lnTo>
                    <a:lnTo>
                      <a:pt x="706" y="309"/>
                    </a:lnTo>
                    <a:lnTo>
                      <a:pt x="702" y="299"/>
                    </a:lnTo>
                    <a:lnTo>
                      <a:pt x="699" y="291"/>
                    </a:lnTo>
                    <a:lnTo>
                      <a:pt x="695" y="282"/>
                    </a:lnTo>
                    <a:lnTo>
                      <a:pt x="690" y="274"/>
                    </a:lnTo>
                    <a:lnTo>
                      <a:pt x="684" y="265"/>
                    </a:lnTo>
                    <a:lnTo>
                      <a:pt x="680" y="257"/>
                    </a:lnTo>
                    <a:lnTo>
                      <a:pt x="675" y="247"/>
                    </a:lnTo>
                    <a:lnTo>
                      <a:pt x="670" y="239"/>
                    </a:lnTo>
                    <a:lnTo>
                      <a:pt x="665" y="230"/>
                    </a:lnTo>
                    <a:lnTo>
                      <a:pt x="660" y="221"/>
                    </a:lnTo>
                    <a:lnTo>
                      <a:pt x="655" y="212"/>
                    </a:lnTo>
                    <a:lnTo>
                      <a:pt x="649" y="205"/>
                    </a:lnTo>
                    <a:lnTo>
                      <a:pt x="644" y="196"/>
                    </a:lnTo>
                    <a:lnTo>
                      <a:pt x="638" y="188"/>
                    </a:lnTo>
                    <a:lnTo>
                      <a:pt x="631" y="180"/>
                    </a:lnTo>
                    <a:lnTo>
                      <a:pt x="619" y="166"/>
                    </a:lnTo>
                    <a:lnTo>
                      <a:pt x="606" y="150"/>
                    </a:lnTo>
                    <a:lnTo>
                      <a:pt x="591" y="137"/>
                    </a:lnTo>
                    <a:lnTo>
                      <a:pt x="575" y="123"/>
                    </a:lnTo>
                    <a:lnTo>
                      <a:pt x="561" y="110"/>
                    </a:lnTo>
                    <a:lnTo>
                      <a:pt x="546" y="96"/>
                    </a:lnTo>
                    <a:lnTo>
                      <a:pt x="537" y="91"/>
                    </a:lnTo>
                    <a:lnTo>
                      <a:pt x="530" y="85"/>
                    </a:lnTo>
                    <a:lnTo>
                      <a:pt x="522" y="80"/>
                    </a:lnTo>
                    <a:lnTo>
                      <a:pt x="514" y="74"/>
                    </a:lnTo>
                    <a:lnTo>
                      <a:pt x="506" y="69"/>
                    </a:lnTo>
                    <a:lnTo>
                      <a:pt x="497" y="64"/>
                    </a:lnTo>
                    <a:lnTo>
                      <a:pt x="488" y="58"/>
                    </a:lnTo>
                    <a:lnTo>
                      <a:pt x="480" y="52"/>
                    </a:lnTo>
                    <a:lnTo>
                      <a:pt x="471" y="48"/>
                    </a:lnTo>
                    <a:lnTo>
                      <a:pt x="462" y="44"/>
                    </a:lnTo>
                    <a:lnTo>
                      <a:pt x="454" y="40"/>
                    </a:lnTo>
                    <a:lnTo>
                      <a:pt x="445" y="35"/>
                    </a:lnTo>
                    <a:lnTo>
                      <a:pt x="435" y="32"/>
                    </a:lnTo>
                    <a:lnTo>
                      <a:pt x="426" y="28"/>
                    </a:lnTo>
                    <a:lnTo>
                      <a:pt x="418" y="25"/>
                    </a:lnTo>
                    <a:lnTo>
                      <a:pt x="409" y="21"/>
                    </a:lnTo>
                    <a:lnTo>
                      <a:pt x="399" y="18"/>
                    </a:lnTo>
                    <a:lnTo>
                      <a:pt x="389" y="15"/>
                    </a:lnTo>
                    <a:lnTo>
                      <a:pt x="380" y="12"/>
                    </a:lnTo>
                    <a:lnTo>
                      <a:pt x="371" y="9"/>
                    </a:lnTo>
                    <a:lnTo>
                      <a:pt x="361" y="7"/>
                    </a:lnTo>
                    <a:lnTo>
                      <a:pt x="352" y="6"/>
                    </a:lnTo>
                    <a:lnTo>
                      <a:pt x="342" y="4"/>
                    </a:lnTo>
                    <a:lnTo>
                      <a:pt x="333" y="3"/>
                    </a:lnTo>
                    <a:lnTo>
                      <a:pt x="323" y="2"/>
                    </a:lnTo>
                    <a:lnTo>
                      <a:pt x="314" y="1"/>
                    </a:lnTo>
                    <a:lnTo>
                      <a:pt x="305" y="0"/>
                    </a:lnTo>
                    <a:lnTo>
                      <a:pt x="296" y="0"/>
                    </a:lnTo>
                    <a:lnTo>
                      <a:pt x="286" y="0"/>
                    </a:lnTo>
                    <a:lnTo>
                      <a:pt x="278" y="0"/>
                    </a:lnTo>
                    <a:lnTo>
                      <a:pt x="270" y="0"/>
                    </a:lnTo>
                    <a:lnTo>
                      <a:pt x="261" y="0"/>
                    </a:lnTo>
                    <a:lnTo>
                      <a:pt x="252" y="1"/>
                    </a:lnTo>
                    <a:lnTo>
                      <a:pt x="243" y="3"/>
                    </a:lnTo>
                    <a:lnTo>
                      <a:pt x="234" y="4"/>
                    </a:lnTo>
                    <a:lnTo>
                      <a:pt x="225" y="5"/>
                    </a:lnTo>
                    <a:lnTo>
                      <a:pt x="218" y="7"/>
                    </a:lnTo>
                    <a:lnTo>
                      <a:pt x="210" y="10"/>
                    </a:lnTo>
                    <a:lnTo>
                      <a:pt x="202" y="11"/>
                    </a:lnTo>
                    <a:lnTo>
                      <a:pt x="193" y="13"/>
                    </a:lnTo>
                    <a:lnTo>
                      <a:pt x="179" y="19"/>
                    </a:lnTo>
                    <a:lnTo>
                      <a:pt x="164" y="25"/>
                    </a:lnTo>
                    <a:lnTo>
                      <a:pt x="150" y="32"/>
                    </a:lnTo>
                    <a:lnTo>
                      <a:pt x="136" y="39"/>
                    </a:lnTo>
                    <a:lnTo>
                      <a:pt x="122" y="47"/>
                    </a:lnTo>
                    <a:lnTo>
                      <a:pt x="109" y="56"/>
                    </a:lnTo>
                    <a:lnTo>
                      <a:pt x="96" y="67"/>
                    </a:lnTo>
                    <a:lnTo>
                      <a:pt x="84" y="77"/>
                    </a:lnTo>
                    <a:lnTo>
                      <a:pt x="74" y="89"/>
                    </a:lnTo>
                    <a:lnTo>
                      <a:pt x="65" y="102"/>
                    </a:lnTo>
                    <a:lnTo>
                      <a:pt x="55" y="115"/>
                    </a:lnTo>
                    <a:lnTo>
                      <a:pt x="44" y="128"/>
                    </a:lnTo>
                    <a:lnTo>
                      <a:pt x="37" y="142"/>
                    </a:lnTo>
                    <a:lnTo>
                      <a:pt x="30" y="157"/>
                    </a:lnTo>
                    <a:lnTo>
                      <a:pt x="27" y="164"/>
                    </a:lnTo>
                    <a:lnTo>
                      <a:pt x="24" y="172"/>
                    </a:lnTo>
                    <a:lnTo>
                      <a:pt x="20" y="180"/>
                    </a:lnTo>
                    <a:lnTo>
                      <a:pt x="17" y="187"/>
                    </a:lnTo>
                    <a:lnTo>
                      <a:pt x="15" y="196"/>
                    </a:lnTo>
                    <a:lnTo>
                      <a:pt x="13" y="205"/>
                    </a:lnTo>
                    <a:lnTo>
                      <a:pt x="11" y="214"/>
                    </a:lnTo>
                    <a:lnTo>
                      <a:pt x="9" y="222"/>
                    </a:lnTo>
                    <a:lnTo>
                      <a:pt x="7" y="230"/>
                    </a:lnTo>
                    <a:lnTo>
                      <a:pt x="6" y="239"/>
                    </a:lnTo>
                    <a:lnTo>
                      <a:pt x="4" y="247"/>
                    </a:lnTo>
                    <a:lnTo>
                      <a:pt x="2" y="257"/>
                    </a:lnTo>
                    <a:lnTo>
                      <a:pt x="1" y="266"/>
                    </a:lnTo>
                    <a:lnTo>
                      <a:pt x="1" y="275"/>
                    </a:lnTo>
                    <a:lnTo>
                      <a:pt x="1" y="284"/>
                    </a:lnTo>
                    <a:lnTo>
                      <a:pt x="0" y="293"/>
                    </a:lnTo>
                    <a:lnTo>
                      <a:pt x="1" y="304"/>
                    </a:lnTo>
                    <a:lnTo>
                      <a:pt x="1" y="314"/>
                    </a:lnTo>
                    <a:lnTo>
                      <a:pt x="1" y="323"/>
                    </a:lnTo>
                    <a:lnTo>
                      <a:pt x="2" y="333"/>
                    </a:lnTo>
                    <a:lnTo>
                      <a:pt x="4" y="342"/>
                    </a:lnTo>
                    <a:lnTo>
                      <a:pt x="6" y="353"/>
                    </a:lnTo>
                    <a:lnTo>
                      <a:pt x="7" y="363"/>
                    </a:lnTo>
                    <a:lnTo>
                      <a:pt x="9" y="373"/>
                    </a:lnTo>
                    <a:lnTo>
                      <a:pt x="11" y="382"/>
                    </a:lnTo>
                    <a:lnTo>
                      <a:pt x="13" y="390"/>
                    </a:lnTo>
                    <a:lnTo>
                      <a:pt x="15" y="400"/>
                    </a:lnTo>
                    <a:lnTo>
                      <a:pt x="17" y="409"/>
                    </a:lnTo>
                    <a:lnTo>
                      <a:pt x="20" y="418"/>
                    </a:lnTo>
                    <a:lnTo>
                      <a:pt x="24" y="428"/>
                    </a:lnTo>
                    <a:lnTo>
                      <a:pt x="27" y="438"/>
                    </a:lnTo>
                    <a:lnTo>
                      <a:pt x="30" y="448"/>
                    </a:lnTo>
                    <a:lnTo>
                      <a:pt x="34" y="457"/>
                    </a:lnTo>
                    <a:lnTo>
                      <a:pt x="37" y="466"/>
                    </a:lnTo>
                    <a:lnTo>
                      <a:pt x="41" y="474"/>
                    </a:lnTo>
                    <a:lnTo>
                      <a:pt x="44" y="483"/>
                    </a:lnTo>
                    <a:lnTo>
                      <a:pt x="49" y="492"/>
                    </a:lnTo>
                    <a:lnTo>
                      <a:pt x="55" y="501"/>
                    </a:lnTo>
                    <a:lnTo>
                      <a:pt x="60" y="510"/>
                    </a:lnTo>
                    <a:lnTo>
                      <a:pt x="65" y="518"/>
                    </a:lnTo>
                    <a:lnTo>
                      <a:pt x="69" y="527"/>
                    </a:lnTo>
                    <a:lnTo>
                      <a:pt x="74" y="535"/>
                    </a:lnTo>
                    <a:lnTo>
                      <a:pt x="79" y="542"/>
                    </a:lnTo>
                    <a:lnTo>
                      <a:pt x="84" y="551"/>
                    </a:lnTo>
                    <a:lnTo>
                      <a:pt x="90" y="560"/>
                    </a:lnTo>
                    <a:lnTo>
                      <a:pt x="96" y="568"/>
                    </a:lnTo>
                    <a:lnTo>
                      <a:pt x="103" y="576"/>
                    </a:lnTo>
                    <a:lnTo>
                      <a:pt x="109" y="584"/>
                    </a:lnTo>
                    <a:lnTo>
                      <a:pt x="115" y="592"/>
                    </a:lnTo>
                    <a:lnTo>
                      <a:pt x="122" y="601"/>
                    </a:lnTo>
                    <a:lnTo>
                      <a:pt x="129" y="608"/>
                    </a:lnTo>
                    <a:lnTo>
                      <a:pt x="136" y="616"/>
                    </a:lnTo>
                    <a:lnTo>
                      <a:pt x="150" y="629"/>
                    </a:lnTo>
                    <a:lnTo>
                      <a:pt x="164" y="641"/>
                    </a:lnTo>
                    <a:lnTo>
                      <a:pt x="179" y="656"/>
                    </a:lnTo>
                    <a:lnTo>
                      <a:pt x="193" y="669"/>
                    </a:lnTo>
                    <a:lnTo>
                      <a:pt x="202" y="675"/>
                    </a:lnTo>
                    <a:lnTo>
                      <a:pt x="210" y="680"/>
                    </a:lnTo>
                    <a:lnTo>
                      <a:pt x="218" y="685"/>
                    </a:lnTo>
                    <a:lnTo>
                      <a:pt x="225" y="690"/>
                    </a:lnTo>
                    <a:lnTo>
                      <a:pt x="234" y="697"/>
                    </a:lnTo>
                    <a:lnTo>
                      <a:pt x="243" y="703"/>
                    </a:lnTo>
                    <a:lnTo>
                      <a:pt x="252" y="708"/>
                    </a:lnTo>
                    <a:lnTo>
                      <a:pt x="261" y="714"/>
                    </a:lnTo>
                    <a:lnTo>
                      <a:pt x="270" y="718"/>
                    </a:lnTo>
                    <a:lnTo>
                      <a:pt x="278" y="722"/>
                    </a:lnTo>
                    <a:lnTo>
                      <a:pt x="286" y="726"/>
                    </a:lnTo>
                    <a:lnTo>
                      <a:pt x="296" y="729"/>
                    </a:lnTo>
                    <a:lnTo>
                      <a:pt x="305" y="733"/>
                    </a:lnTo>
                    <a:lnTo>
                      <a:pt x="314" y="737"/>
                    </a:lnTo>
                    <a:lnTo>
                      <a:pt x="323" y="742"/>
                    </a:lnTo>
                    <a:lnTo>
                      <a:pt x="333" y="745"/>
                    </a:lnTo>
                    <a:lnTo>
                      <a:pt x="342" y="748"/>
                    </a:lnTo>
                    <a:lnTo>
                      <a:pt x="352" y="751"/>
                    </a:lnTo>
                    <a:lnTo>
                      <a:pt x="361" y="754"/>
                    </a:lnTo>
                    <a:lnTo>
                      <a:pt x="371" y="757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423680" y="1772640"/>
                <a:ext cx="12960" cy="357840"/>
              </a:xfrm>
              <a:custGeom>
                <a:avLst/>
                <a:gdLst/>
                <a:ahLst/>
                <a:rect l="l" t="t" r="r" b="b"/>
                <a:pathLst>
                  <a:path w="274" h="6801">
                    <a:moveTo>
                      <a:pt x="31" y="6518"/>
                    </a:moveTo>
                    <a:lnTo>
                      <a:pt x="31" y="6531"/>
                    </a:lnTo>
                    <a:lnTo>
                      <a:pt x="32" y="6543"/>
                    </a:lnTo>
                    <a:lnTo>
                      <a:pt x="32" y="6555"/>
                    </a:lnTo>
                    <a:lnTo>
                      <a:pt x="33" y="6567"/>
                    </a:lnTo>
                    <a:lnTo>
                      <a:pt x="35" y="6580"/>
                    </a:lnTo>
                    <a:lnTo>
                      <a:pt x="36" y="6592"/>
                    </a:lnTo>
                    <a:lnTo>
                      <a:pt x="38" y="6604"/>
                    </a:lnTo>
                    <a:lnTo>
                      <a:pt x="40" y="6618"/>
                    </a:lnTo>
                    <a:lnTo>
                      <a:pt x="43" y="6629"/>
                    </a:lnTo>
                    <a:lnTo>
                      <a:pt x="45" y="6641"/>
                    </a:lnTo>
                    <a:lnTo>
                      <a:pt x="48" y="6652"/>
                    </a:lnTo>
                    <a:lnTo>
                      <a:pt x="50" y="6664"/>
                    </a:lnTo>
                    <a:lnTo>
                      <a:pt x="54" y="6674"/>
                    </a:lnTo>
                    <a:lnTo>
                      <a:pt x="57" y="6684"/>
                    </a:lnTo>
                    <a:lnTo>
                      <a:pt x="60" y="6694"/>
                    </a:lnTo>
                    <a:lnTo>
                      <a:pt x="64" y="6704"/>
                    </a:lnTo>
                    <a:lnTo>
                      <a:pt x="68" y="6715"/>
                    </a:lnTo>
                    <a:lnTo>
                      <a:pt x="73" y="6723"/>
                    </a:lnTo>
                    <a:lnTo>
                      <a:pt x="78" y="6732"/>
                    </a:lnTo>
                    <a:lnTo>
                      <a:pt x="83" y="6741"/>
                    </a:lnTo>
                    <a:lnTo>
                      <a:pt x="91" y="6755"/>
                    </a:lnTo>
                    <a:lnTo>
                      <a:pt x="100" y="6770"/>
                    </a:lnTo>
                    <a:lnTo>
                      <a:pt x="111" y="6780"/>
                    </a:lnTo>
                    <a:lnTo>
                      <a:pt x="122" y="6790"/>
                    </a:lnTo>
                    <a:lnTo>
                      <a:pt x="134" y="6796"/>
                    </a:lnTo>
                    <a:lnTo>
                      <a:pt x="146" y="6801"/>
                    </a:lnTo>
                    <a:lnTo>
                      <a:pt x="156" y="6801"/>
                    </a:lnTo>
                    <a:lnTo>
                      <a:pt x="167" y="6801"/>
                    </a:lnTo>
                    <a:lnTo>
                      <a:pt x="179" y="6796"/>
                    </a:lnTo>
                    <a:lnTo>
                      <a:pt x="190" y="6790"/>
                    </a:lnTo>
                    <a:lnTo>
                      <a:pt x="199" y="6781"/>
                    </a:lnTo>
                    <a:lnTo>
                      <a:pt x="209" y="6771"/>
                    </a:lnTo>
                    <a:lnTo>
                      <a:pt x="217" y="6756"/>
                    </a:lnTo>
                    <a:lnTo>
                      <a:pt x="226" y="6742"/>
                    </a:lnTo>
                    <a:lnTo>
                      <a:pt x="229" y="6734"/>
                    </a:lnTo>
                    <a:lnTo>
                      <a:pt x="233" y="6725"/>
                    </a:lnTo>
                    <a:lnTo>
                      <a:pt x="236" y="6717"/>
                    </a:lnTo>
                    <a:lnTo>
                      <a:pt x="239" y="6707"/>
                    </a:lnTo>
                    <a:lnTo>
                      <a:pt x="242" y="6697"/>
                    </a:lnTo>
                    <a:lnTo>
                      <a:pt x="244" y="6687"/>
                    </a:lnTo>
                    <a:lnTo>
                      <a:pt x="247" y="6677"/>
                    </a:lnTo>
                    <a:lnTo>
                      <a:pt x="249" y="6666"/>
                    </a:lnTo>
                    <a:lnTo>
                      <a:pt x="251" y="6654"/>
                    </a:lnTo>
                    <a:lnTo>
                      <a:pt x="253" y="6643"/>
                    </a:lnTo>
                    <a:lnTo>
                      <a:pt x="255" y="6631"/>
                    </a:lnTo>
                    <a:lnTo>
                      <a:pt x="257" y="6620"/>
                    </a:lnTo>
                    <a:lnTo>
                      <a:pt x="258" y="6607"/>
                    </a:lnTo>
                    <a:lnTo>
                      <a:pt x="258" y="6595"/>
                    </a:lnTo>
                    <a:lnTo>
                      <a:pt x="258" y="6584"/>
                    </a:lnTo>
                    <a:lnTo>
                      <a:pt x="259" y="6572"/>
                    </a:lnTo>
                    <a:lnTo>
                      <a:pt x="259" y="6505"/>
                    </a:lnTo>
                    <a:lnTo>
                      <a:pt x="259" y="6439"/>
                    </a:lnTo>
                    <a:lnTo>
                      <a:pt x="259" y="6373"/>
                    </a:lnTo>
                    <a:lnTo>
                      <a:pt x="259" y="6305"/>
                    </a:lnTo>
                    <a:lnTo>
                      <a:pt x="259" y="6239"/>
                    </a:lnTo>
                    <a:lnTo>
                      <a:pt x="260" y="6172"/>
                    </a:lnTo>
                    <a:lnTo>
                      <a:pt x="260" y="6106"/>
                    </a:lnTo>
                    <a:lnTo>
                      <a:pt x="260" y="6040"/>
                    </a:lnTo>
                    <a:lnTo>
                      <a:pt x="260" y="5973"/>
                    </a:lnTo>
                    <a:lnTo>
                      <a:pt x="260" y="5907"/>
                    </a:lnTo>
                    <a:lnTo>
                      <a:pt x="260" y="5841"/>
                    </a:lnTo>
                    <a:lnTo>
                      <a:pt x="260" y="5773"/>
                    </a:lnTo>
                    <a:lnTo>
                      <a:pt x="261" y="5707"/>
                    </a:lnTo>
                    <a:lnTo>
                      <a:pt x="261" y="5641"/>
                    </a:lnTo>
                    <a:lnTo>
                      <a:pt x="261" y="5574"/>
                    </a:lnTo>
                    <a:lnTo>
                      <a:pt x="261" y="5507"/>
                    </a:lnTo>
                    <a:lnTo>
                      <a:pt x="261" y="5437"/>
                    </a:lnTo>
                    <a:lnTo>
                      <a:pt x="261" y="5368"/>
                    </a:lnTo>
                    <a:lnTo>
                      <a:pt x="262" y="5298"/>
                    </a:lnTo>
                    <a:lnTo>
                      <a:pt x="262" y="5228"/>
                    </a:lnTo>
                    <a:lnTo>
                      <a:pt x="262" y="5159"/>
                    </a:lnTo>
                    <a:lnTo>
                      <a:pt x="262" y="5088"/>
                    </a:lnTo>
                    <a:lnTo>
                      <a:pt x="262" y="5019"/>
                    </a:lnTo>
                    <a:lnTo>
                      <a:pt x="262" y="4949"/>
                    </a:lnTo>
                    <a:lnTo>
                      <a:pt x="263" y="4879"/>
                    </a:lnTo>
                    <a:lnTo>
                      <a:pt x="263" y="4810"/>
                    </a:lnTo>
                    <a:lnTo>
                      <a:pt x="263" y="4740"/>
                    </a:lnTo>
                    <a:lnTo>
                      <a:pt x="263" y="4671"/>
                    </a:lnTo>
                    <a:lnTo>
                      <a:pt x="263" y="4600"/>
                    </a:lnTo>
                    <a:lnTo>
                      <a:pt x="263" y="4531"/>
                    </a:lnTo>
                    <a:lnTo>
                      <a:pt x="263" y="4461"/>
                    </a:lnTo>
                    <a:lnTo>
                      <a:pt x="264" y="4392"/>
                    </a:lnTo>
                    <a:lnTo>
                      <a:pt x="264" y="4323"/>
                    </a:lnTo>
                    <a:lnTo>
                      <a:pt x="264" y="4252"/>
                    </a:lnTo>
                    <a:lnTo>
                      <a:pt x="264" y="4183"/>
                    </a:lnTo>
                    <a:lnTo>
                      <a:pt x="264" y="4113"/>
                    </a:lnTo>
                    <a:lnTo>
                      <a:pt x="264" y="4043"/>
                    </a:lnTo>
                    <a:lnTo>
                      <a:pt x="265" y="3973"/>
                    </a:lnTo>
                    <a:lnTo>
                      <a:pt x="265" y="3904"/>
                    </a:lnTo>
                    <a:lnTo>
                      <a:pt x="265" y="3834"/>
                    </a:lnTo>
                    <a:lnTo>
                      <a:pt x="265" y="3764"/>
                    </a:lnTo>
                    <a:lnTo>
                      <a:pt x="265" y="3695"/>
                    </a:lnTo>
                    <a:lnTo>
                      <a:pt x="266" y="3624"/>
                    </a:lnTo>
                    <a:lnTo>
                      <a:pt x="266" y="3555"/>
                    </a:lnTo>
                    <a:lnTo>
                      <a:pt x="266" y="3485"/>
                    </a:lnTo>
                    <a:lnTo>
                      <a:pt x="266" y="3415"/>
                    </a:lnTo>
                    <a:lnTo>
                      <a:pt x="267" y="3346"/>
                    </a:lnTo>
                    <a:lnTo>
                      <a:pt x="267" y="3275"/>
                    </a:lnTo>
                    <a:lnTo>
                      <a:pt x="267" y="3207"/>
                    </a:lnTo>
                    <a:lnTo>
                      <a:pt x="267" y="3137"/>
                    </a:lnTo>
                    <a:lnTo>
                      <a:pt x="267" y="3068"/>
                    </a:lnTo>
                    <a:lnTo>
                      <a:pt x="267" y="2999"/>
                    </a:lnTo>
                    <a:lnTo>
                      <a:pt x="267" y="2930"/>
                    </a:lnTo>
                    <a:lnTo>
                      <a:pt x="268" y="2862"/>
                    </a:lnTo>
                    <a:lnTo>
                      <a:pt x="268" y="2792"/>
                    </a:lnTo>
                    <a:lnTo>
                      <a:pt x="268" y="2724"/>
                    </a:lnTo>
                    <a:lnTo>
                      <a:pt x="268" y="2654"/>
                    </a:lnTo>
                    <a:lnTo>
                      <a:pt x="268" y="2586"/>
                    </a:lnTo>
                    <a:lnTo>
                      <a:pt x="268" y="2517"/>
                    </a:lnTo>
                    <a:lnTo>
                      <a:pt x="268" y="2447"/>
                    </a:lnTo>
                    <a:lnTo>
                      <a:pt x="268" y="2379"/>
                    </a:lnTo>
                    <a:lnTo>
                      <a:pt x="268" y="2309"/>
                    </a:lnTo>
                    <a:lnTo>
                      <a:pt x="270" y="2241"/>
                    </a:lnTo>
                    <a:lnTo>
                      <a:pt x="270" y="2171"/>
                    </a:lnTo>
                    <a:lnTo>
                      <a:pt x="270" y="2102"/>
                    </a:lnTo>
                    <a:lnTo>
                      <a:pt x="270" y="2034"/>
                    </a:lnTo>
                    <a:lnTo>
                      <a:pt x="270" y="1964"/>
                    </a:lnTo>
                    <a:lnTo>
                      <a:pt x="270" y="1895"/>
                    </a:lnTo>
                    <a:lnTo>
                      <a:pt x="270" y="1826"/>
                    </a:lnTo>
                    <a:lnTo>
                      <a:pt x="270" y="1757"/>
                    </a:lnTo>
                    <a:lnTo>
                      <a:pt x="270" y="1688"/>
                    </a:lnTo>
                    <a:lnTo>
                      <a:pt x="271" y="1618"/>
                    </a:lnTo>
                    <a:lnTo>
                      <a:pt x="271" y="1550"/>
                    </a:lnTo>
                    <a:lnTo>
                      <a:pt x="271" y="1480"/>
                    </a:lnTo>
                    <a:lnTo>
                      <a:pt x="271" y="1411"/>
                    </a:lnTo>
                    <a:lnTo>
                      <a:pt x="271" y="1341"/>
                    </a:lnTo>
                    <a:lnTo>
                      <a:pt x="271" y="1273"/>
                    </a:lnTo>
                    <a:lnTo>
                      <a:pt x="272" y="1204"/>
                    </a:lnTo>
                    <a:lnTo>
                      <a:pt x="272" y="1134"/>
                    </a:lnTo>
                    <a:lnTo>
                      <a:pt x="272" y="1065"/>
                    </a:lnTo>
                    <a:lnTo>
                      <a:pt x="272" y="1002"/>
                    </a:lnTo>
                    <a:lnTo>
                      <a:pt x="272" y="940"/>
                    </a:lnTo>
                    <a:lnTo>
                      <a:pt x="272" y="878"/>
                    </a:lnTo>
                    <a:lnTo>
                      <a:pt x="272" y="816"/>
                    </a:lnTo>
                    <a:lnTo>
                      <a:pt x="272" y="753"/>
                    </a:lnTo>
                    <a:lnTo>
                      <a:pt x="273" y="691"/>
                    </a:lnTo>
                    <a:lnTo>
                      <a:pt x="273" y="629"/>
                    </a:lnTo>
                    <a:lnTo>
                      <a:pt x="273" y="566"/>
                    </a:lnTo>
                    <a:lnTo>
                      <a:pt x="273" y="503"/>
                    </a:lnTo>
                    <a:lnTo>
                      <a:pt x="273" y="441"/>
                    </a:lnTo>
                    <a:lnTo>
                      <a:pt x="273" y="379"/>
                    </a:lnTo>
                    <a:lnTo>
                      <a:pt x="273" y="316"/>
                    </a:lnTo>
                    <a:lnTo>
                      <a:pt x="273" y="253"/>
                    </a:lnTo>
                    <a:lnTo>
                      <a:pt x="273" y="191"/>
                    </a:lnTo>
                    <a:lnTo>
                      <a:pt x="274" y="129"/>
                    </a:lnTo>
                    <a:lnTo>
                      <a:pt x="274" y="66"/>
                    </a:lnTo>
                    <a:lnTo>
                      <a:pt x="239" y="58"/>
                    </a:lnTo>
                    <a:lnTo>
                      <a:pt x="205" y="50"/>
                    </a:lnTo>
                    <a:lnTo>
                      <a:pt x="170" y="41"/>
                    </a:lnTo>
                    <a:lnTo>
                      <a:pt x="137" y="33"/>
                    </a:lnTo>
                    <a:lnTo>
                      <a:pt x="102" y="24"/>
                    </a:lnTo>
                    <a:lnTo>
                      <a:pt x="68" y="16"/>
                    </a:lnTo>
                    <a:lnTo>
                      <a:pt x="35" y="8"/>
                    </a:lnTo>
                    <a:lnTo>
                      <a:pt x="0" y="0"/>
                    </a:lnTo>
                    <a:lnTo>
                      <a:pt x="1" y="63"/>
                    </a:lnTo>
                    <a:lnTo>
                      <a:pt x="1" y="125"/>
                    </a:lnTo>
                    <a:lnTo>
                      <a:pt x="1" y="189"/>
                    </a:lnTo>
                    <a:lnTo>
                      <a:pt x="1" y="251"/>
                    </a:lnTo>
                    <a:lnTo>
                      <a:pt x="1" y="313"/>
                    </a:lnTo>
                    <a:lnTo>
                      <a:pt x="2" y="377"/>
                    </a:lnTo>
                    <a:lnTo>
                      <a:pt x="2" y="439"/>
                    </a:lnTo>
                    <a:lnTo>
                      <a:pt x="2" y="501"/>
                    </a:lnTo>
                    <a:lnTo>
                      <a:pt x="2" y="563"/>
                    </a:lnTo>
                    <a:lnTo>
                      <a:pt x="3" y="627"/>
                    </a:lnTo>
                    <a:lnTo>
                      <a:pt x="3" y="689"/>
                    </a:lnTo>
                    <a:lnTo>
                      <a:pt x="3" y="751"/>
                    </a:lnTo>
                    <a:lnTo>
                      <a:pt x="3" y="815"/>
                    </a:lnTo>
                    <a:lnTo>
                      <a:pt x="4" y="877"/>
                    </a:lnTo>
                    <a:lnTo>
                      <a:pt x="4" y="939"/>
                    </a:lnTo>
                    <a:lnTo>
                      <a:pt x="4" y="1001"/>
                    </a:lnTo>
                    <a:lnTo>
                      <a:pt x="5" y="1071"/>
                    </a:lnTo>
                    <a:lnTo>
                      <a:pt x="5" y="1140"/>
                    </a:lnTo>
                    <a:lnTo>
                      <a:pt x="5" y="1210"/>
                    </a:lnTo>
                    <a:lnTo>
                      <a:pt x="6" y="1279"/>
                    </a:lnTo>
                    <a:lnTo>
                      <a:pt x="6" y="1349"/>
                    </a:lnTo>
                    <a:lnTo>
                      <a:pt x="7" y="1418"/>
                    </a:lnTo>
                    <a:lnTo>
                      <a:pt x="7" y="1487"/>
                    </a:lnTo>
                    <a:lnTo>
                      <a:pt x="7" y="1557"/>
                    </a:lnTo>
                    <a:lnTo>
                      <a:pt x="8" y="1626"/>
                    </a:lnTo>
                    <a:lnTo>
                      <a:pt x="8" y="1695"/>
                    </a:lnTo>
                    <a:lnTo>
                      <a:pt x="8" y="1764"/>
                    </a:lnTo>
                    <a:lnTo>
                      <a:pt x="9" y="1834"/>
                    </a:lnTo>
                    <a:lnTo>
                      <a:pt x="9" y="1903"/>
                    </a:lnTo>
                    <a:lnTo>
                      <a:pt x="9" y="1972"/>
                    </a:lnTo>
                    <a:lnTo>
                      <a:pt x="10" y="2042"/>
                    </a:lnTo>
                    <a:lnTo>
                      <a:pt x="10" y="2110"/>
                    </a:lnTo>
                    <a:lnTo>
                      <a:pt x="10" y="2180"/>
                    </a:lnTo>
                    <a:lnTo>
                      <a:pt x="11" y="2249"/>
                    </a:lnTo>
                    <a:lnTo>
                      <a:pt x="11" y="2317"/>
                    </a:lnTo>
                    <a:lnTo>
                      <a:pt x="12" y="2387"/>
                    </a:lnTo>
                    <a:lnTo>
                      <a:pt x="12" y="2455"/>
                    </a:lnTo>
                    <a:lnTo>
                      <a:pt x="12" y="2525"/>
                    </a:lnTo>
                    <a:lnTo>
                      <a:pt x="13" y="2594"/>
                    </a:lnTo>
                    <a:lnTo>
                      <a:pt x="13" y="2664"/>
                    </a:lnTo>
                    <a:lnTo>
                      <a:pt x="13" y="2732"/>
                    </a:lnTo>
                    <a:lnTo>
                      <a:pt x="14" y="2801"/>
                    </a:lnTo>
                    <a:lnTo>
                      <a:pt x="14" y="2871"/>
                    </a:lnTo>
                    <a:lnTo>
                      <a:pt x="15" y="2939"/>
                    </a:lnTo>
                    <a:lnTo>
                      <a:pt x="15" y="3009"/>
                    </a:lnTo>
                    <a:lnTo>
                      <a:pt x="16" y="3078"/>
                    </a:lnTo>
                    <a:lnTo>
                      <a:pt x="16" y="3147"/>
                    </a:lnTo>
                    <a:lnTo>
                      <a:pt x="16" y="3216"/>
                    </a:lnTo>
                    <a:lnTo>
                      <a:pt x="17" y="3286"/>
                    </a:lnTo>
                    <a:lnTo>
                      <a:pt x="17" y="3357"/>
                    </a:lnTo>
                    <a:lnTo>
                      <a:pt x="17" y="3426"/>
                    </a:lnTo>
                    <a:lnTo>
                      <a:pt x="17" y="3497"/>
                    </a:lnTo>
                    <a:lnTo>
                      <a:pt x="18" y="3566"/>
                    </a:lnTo>
                    <a:lnTo>
                      <a:pt x="18" y="3636"/>
                    </a:lnTo>
                    <a:lnTo>
                      <a:pt x="18" y="3706"/>
                    </a:lnTo>
                    <a:lnTo>
                      <a:pt x="19" y="3776"/>
                    </a:lnTo>
                    <a:lnTo>
                      <a:pt x="19" y="3846"/>
                    </a:lnTo>
                    <a:lnTo>
                      <a:pt x="19" y="3916"/>
                    </a:lnTo>
                    <a:lnTo>
                      <a:pt x="20" y="3986"/>
                    </a:lnTo>
                    <a:lnTo>
                      <a:pt x="20" y="4056"/>
                    </a:lnTo>
                    <a:lnTo>
                      <a:pt x="20" y="4126"/>
                    </a:lnTo>
                    <a:lnTo>
                      <a:pt x="21" y="4195"/>
                    </a:lnTo>
                    <a:lnTo>
                      <a:pt x="21" y="4265"/>
                    </a:lnTo>
                    <a:lnTo>
                      <a:pt x="21" y="4335"/>
                    </a:lnTo>
                    <a:lnTo>
                      <a:pt x="21" y="4404"/>
                    </a:lnTo>
                    <a:lnTo>
                      <a:pt x="22" y="4475"/>
                    </a:lnTo>
                    <a:lnTo>
                      <a:pt x="22" y="4544"/>
                    </a:lnTo>
                    <a:lnTo>
                      <a:pt x="22" y="4614"/>
                    </a:lnTo>
                    <a:lnTo>
                      <a:pt x="22" y="4684"/>
                    </a:lnTo>
                    <a:lnTo>
                      <a:pt x="23" y="4753"/>
                    </a:lnTo>
                    <a:lnTo>
                      <a:pt x="23" y="4823"/>
                    </a:lnTo>
                    <a:lnTo>
                      <a:pt x="23" y="4893"/>
                    </a:lnTo>
                    <a:lnTo>
                      <a:pt x="24" y="4963"/>
                    </a:lnTo>
                    <a:lnTo>
                      <a:pt x="24" y="5033"/>
                    </a:lnTo>
                    <a:lnTo>
                      <a:pt x="24" y="5103"/>
                    </a:lnTo>
                    <a:lnTo>
                      <a:pt x="25" y="5173"/>
                    </a:lnTo>
                    <a:lnTo>
                      <a:pt x="25" y="5242"/>
                    </a:lnTo>
                    <a:lnTo>
                      <a:pt x="27" y="5313"/>
                    </a:lnTo>
                    <a:lnTo>
                      <a:pt x="27" y="5382"/>
                    </a:lnTo>
                    <a:lnTo>
                      <a:pt x="27" y="5453"/>
                    </a:lnTo>
                    <a:lnTo>
                      <a:pt x="27" y="5519"/>
                    </a:lnTo>
                    <a:lnTo>
                      <a:pt x="28" y="5585"/>
                    </a:lnTo>
                    <a:lnTo>
                      <a:pt x="28" y="5653"/>
                    </a:lnTo>
                    <a:lnTo>
                      <a:pt x="28" y="5719"/>
                    </a:lnTo>
                    <a:lnTo>
                      <a:pt x="28" y="5786"/>
                    </a:lnTo>
                    <a:lnTo>
                      <a:pt x="29" y="5853"/>
                    </a:lnTo>
                    <a:lnTo>
                      <a:pt x="29" y="5919"/>
                    </a:lnTo>
                    <a:lnTo>
                      <a:pt x="29" y="5986"/>
                    </a:lnTo>
                    <a:lnTo>
                      <a:pt x="29" y="6052"/>
                    </a:lnTo>
                    <a:lnTo>
                      <a:pt x="29" y="6119"/>
                    </a:lnTo>
                    <a:lnTo>
                      <a:pt x="30" y="6186"/>
                    </a:lnTo>
                    <a:lnTo>
                      <a:pt x="30" y="6252"/>
                    </a:lnTo>
                    <a:lnTo>
                      <a:pt x="30" y="6318"/>
                    </a:lnTo>
                    <a:lnTo>
                      <a:pt x="30" y="6385"/>
                    </a:lnTo>
                    <a:lnTo>
                      <a:pt x="30" y="6451"/>
                    </a:lnTo>
                    <a:lnTo>
                      <a:pt x="31" y="6518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6" name=""/>
          <p:cNvSpPr/>
          <p:nvPr/>
        </p:nvSpPr>
        <p:spPr>
          <a:xfrm>
            <a:off x="1151280" y="1742040"/>
            <a:ext cx="6994080" cy="369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24" y="2555"/>
                </a:moveTo>
                <a:arcTo wR="10800" hR="10800" stAng="-7814136" swAng="1777837"/>
                <a:lnTo>
                  <a:pt x="10800" y="10800"/>
                </a:lnTo>
                <a:close/>
              </a:path>
              <a:path fill="none" w="21600" h="21600">
                <a:moveTo>
                  <a:pt x="3824" y="2555"/>
                </a:moveTo>
                <a:arcTo wR="10800" hR="10800" stAng="-7814136" swAng="177783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046520" y="1832040"/>
            <a:ext cx="7441200" cy="357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28" y="1609"/>
                </a:moveTo>
                <a:arcTo wR="10800" hR="10800" stAng="-7300773" swAng="1375128"/>
                <a:lnTo>
                  <a:pt x="10800" y="10800"/>
                </a:lnTo>
                <a:close/>
              </a:path>
              <a:path fill="none" w="21600" h="21600">
                <a:moveTo>
                  <a:pt x="5128" y="1609"/>
                </a:moveTo>
                <a:arcTo wR="10800" hR="10800" stAng="-7300773" swAng="1375128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333520" y="2131920"/>
            <a:ext cx="112680" cy="11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638440" y="2100240"/>
            <a:ext cx="11268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338880" y="2101680"/>
            <a:ext cx="112680" cy="11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000440" y="1796400"/>
            <a:ext cx="6771240" cy="36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5" y="88"/>
                </a:moveTo>
                <a:arcTo wR="10800" hR="10800" stAng="-4961270" swAng="1729707"/>
                <a:lnTo>
                  <a:pt x="10800" y="10800"/>
                </a:lnTo>
                <a:close/>
              </a:path>
              <a:path fill="none" w="21600" h="21600">
                <a:moveTo>
                  <a:pt x="12175" y="88"/>
                </a:moveTo>
                <a:arcTo wR="10800" hR="10800" stAng="-4961270" swAng="172970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rot="2025600">
            <a:off x="6692040" y="2193480"/>
            <a:ext cx="87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61a5"/>
                </a:solidFill>
                <a:latin typeface="Arial"/>
              </a:rPr>
              <a:t>LOC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593800" y="3344760"/>
            <a:ext cx="11304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760840" y="3425760"/>
            <a:ext cx="112680" cy="11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175440" y="339084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6" name="" descr=""/>
          <p:cNvPicPr/>
          <p:nvPr/>
        </p:nvPicPr>
        <p:blipFill>
          <a:blip r:embed="rId3"/>
          <a:stretch/>
        </p:blipFill>
        <p:spPr>
          <a:xfrm>
            <a:off x="765000" y="3097080"/>
            <a:ext cx="1265400" cy="978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a820a"/>
            </a:outerShdw>
          </a:effectLst>
        </p:spPr>
      </p:pic>
      <p:sp>
        <p:nvSpPr>
          <p:cNvPr id="1147" name=""/>
          <p:cNvSpPr/>
          <p:nvPr/>
        </p:nvSpPr>
        <p:spPr>
          <a:xfrm>
            <a:off x="911880" y="3276720"/>
            <a:ext cx="93528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Da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eques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8" name="" descr=""/>
          <p:cNvPicPr/>
          <p:nvPr/>
        </p:nvPicPr>
        <p:blipFill>
          <a:blip r:embed="rId4"/>
          <a:stretch/>
        </p:blipFill>
        <p:spPr>
          <a:xfrm>
            <a:off x="4495680" y="3809880"/>
            <a:ext cx="3378240" cy="163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pic>
        <p:nvPicPr>
          <p:cNvPr id="1149" name="" descr=""/>
          <p:cNvPicPr/>
          <p:nvPr/>
        </p:nvPicPr>
        <p:blipFill>
          <a:blip r:embed="rId5"/>
          <a:stretch/>
        </p:blipFill>
        <p:spPr>
          <a:xfrm>
            <a:off x="1100160" y="4910040"/>
            <a:ext cx="3300480" cy="1013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1150" name=""/>
          <p:cNvSpPr/>
          <p:nvPr/>
        </p:nvSpPr>
        <p:spPr>
          <a:xfrm>
            <a:off x="4212360" y="42894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e7fc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4267080" y="4724280"/>
            <a:ext cx="1028880" cy="1069920"/>
            <a:chOff x="4267080" y="4724280"/>
            <a:chExt cx="1028880" cy="1069920"/>
          </a:xfrm>
        </p:grpSpPr>
        <p:sp>
          <p:nvSpPr>
            <p:cNvPr id="1152" name=""/>
            <p:cNvSpPr/>
            <p:nvPr/>
          </p:nvSpPr>
          <p:spPr>
            <a:xfrm>
              <a:off x="4580640" y="5577120"/>
              <a:ext cx="63360" cy="91440"/>
            </a:xfrm>
            <a:custGeom>
              <a:avLst/>
              <a:gdLst/>
              <a:ahLst/>
              <a:rect l="l" t="t" r="r" b="b"/>
              <a:pathLst>
                <a:path w="469" h="644">
                  <a:moveTo>
                    <a:pt x="81" y="644"/>
                  </a:moveTo>
                  <a:lnTo>
                    <a:pt x="0" y="474"/>
                  </a:lnTo>
                  <a:lnTo>
                    <a:pt x="85" y="137"/>
                  </a:lnTo>
                  <a:lnTo>
                    <a:pt x="469" y="0"/>
                  </a:lnTo>
                  <a:lnTo>
                    <a:pt x="469" y="417"/>
                  </a:lnTo>
                  <a:lnTo>
                    <a:pt x="81" y="6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282560" y="5556240"/>
              <a:ext cx="309600" cy="112680"/>
            </a:xfrm>
            <a:custGeom>
              <a:avLst/>
              <a:gdLst/>
              <a:ahLst/>
              <a:rect l="l" t="t" r="r" b="b"/>
              <a:pathLst>
                <a:path w="2280" h="791">
                  <a:moveTo>
                    <a:pt x="0" y="0"/>
                  </a:moveTo>
                  <a:lnTo>
                    <a:pt x="0" y="284"/>
                  </a:lnTo>
                  <a:lnTo>
                    <a:pt x="2280" y="791"/>
                  </a:lnTo>
                  <a:lnTo>
                    <a:pt x="228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111280" y="5639400"/>
              <a:ext cx="171360" cy="154800"/>
            </a:xfrm>
            <a:custGeom>
              <a:avLst/>
              <a:gdLst/>
              <a:ahLst/>
              <a:rect l="l" t="t" r="r" b="b"/>
              <a:pathLst>
                <a:path w="1264" h="1086">
                  <a:moveTo>
                    <a:pt x="81" y="1086"/>
                  </a:moveTo>
                  <a:lnTo>
                    <a:pt x="0" y="915"/>
                  </a:lnTo>
                  <a:lnTo>
                    <a:pt x="85" y="580"/>
                  </a:lnTo>
                  <a:lnTo>
                    <a:pt x="1264" y="0"/>
                  </a:lnTo>
                  <a:lnTo>
                    <a:pt x="1264" y="417"/>
                  </a:lnTo>
                  <a:lnTo>
                    <a:pt x="81" y="10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625640" y="5634720"/>
              <a:ext cx="496800" cy="159480"/>
            </a:xfrm>
            <a:custGeom>
              <a:avLst/>
              <a:gdLst/>
              <a:ahLst/>
              <a:rect l="l" t="t" r="r" b="b"/>
              <a:pathLst>
                <a:path w="3663" h="1122">
                  <a:moveTo>
                    <a:pt x="0" y="0"/>
                  </a:moveTo>
                  <a:lnTo>
                    <a:pt x="0" y="284"/>
                  </a:lnTo>
                  <a:lnTo>
                    <a:pt x="3663" y="1122"/>
                  </a:lnTo>
                  <a:lnTo>
                    <a:pt x="3663" y="7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570920" y="5104080"/>
              <a:ext cx="194760" cy="534960"/>
            </a:xfrm>
            <a:custGeom>
              <a:avLst/>
              <a:gdLst/>
              <a:ahLst/>
              <a:rect l="l" t="t" r="r" b="b"/>
              <a:pathLst>
                <a:path w="1438" h="3756">
                  <a:moveTo>
                    <a:pt x="111" y="3756"/>
                  </a:moveTo>
                  <a:lnTo>
                    <a:pt x="0" y="2991"/>
                  </a:lnTo>
                  <a:lnTo>
                    <a:pt x="83" y="618"/>
                  </a:lnTo>
                  <a:lnTo>
                    <a:pt x="1438" y="0"/>
                  </a:lnTo>
                  <a:lnTo>
                    <a:pt x="1438" y="3005"/>
                  </a:lnTo>
                  <a:lnTo>
                    <a:pt x="111" y="3756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267080" y="5133600"/>
              <a:ext cx="319680" cy="505440"/>
            </a:xfrm>
            <a:custGeom>
              <a:avLst/>
              <a:gdLst/>
              <a:ahLst/>
              <a:rect l="l" t="t" r="r" b="b"/>
              <a:pathLst>
                <a:path w="589" h="887">
                  <a:moveTo>
                    <a:pt x="589" y="887"/>
                  </a:moveTo>
                  <a:lnTo>
                    <a:pt x="0" y="751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6"/>
                  </a:lnTo>
                  <a:lnTo>
                    <a:pt x="589" y="887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267800" y="5034600"/>
              <a:ext cx="498600" cy="177120"/>
            </a:xfrm>
            <a:custGeom>
              <a:avLst/>
              <a:gdLst/>
              <a:ahLst/>
              <a:rect l="l" t="t" r="r" b="b"/>
              <a:pathLst>
                <a:path w="3671" h="1244">
                  <a:moveTo>
                    <a:pt x="0" y="695"/>
                  </a:moveTo>
                  <a:lnTo>
                    <a:pt x="1304" y="0"/>
                  </a:lnTo>
                  <a:lnTo>
                    <a:pt x="3671" y="491"/>
                  </a:lnTo>
                  <a:lnTo>
                    <a:pt x="2343" y="1244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00480" y="5230800"/>
              <a:ext cx="195120" cy="532800"/>
            </a:xfrm>
            <a:custGeom>
              <a:avLst/>
              <a:gdLst/>
              <a:ahLst/>
              <a:rect l="l" t="t" r="r" b="b"/>
              <a:pathLst>
                <a:path w="1440" h="3739">
                  <a:moveTo>
                    <a:pt x="111" y="3739"/>
                  </a:moveTo>
                  <a:lnTo>
                    <a:pt x="0" y="2974"/>
                  </a:lnTo>
                  <a:lnTo>
                    <a:pt x="84" y="619"/>
                  </a:lnTo>
                  <a:lnTo>
                    <a:pt x="1440" y="0"/>
                  </a:lnTo>
                  <a:lnTo>
                    <a:pt x="1440" y="2988"/>
                  </a:lnTo>
                  <a:lnTo>
                    <a:pt x="111" y="3739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05840" y="5214600"/>
              <a:ext cx="510480" cy="548640"/>
            </a:xfrm>
            <a:custGeom>
              <a:avLst/>
              <a:gdLst/>
              <a:ahLst/>
              <a:rect l="l" t="t" r="r" b="b"/>
              <a:pathLst>
                <a:path w="940" h="963">
                  <a:moveTo>
                    <a:pt x="940" y="963"/>
                  </a:moveTo>
                  <a:lnTo>
                    <a:pt x="0" y="749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90"/>
                  </a:lnTo>
                  <a:lnTo>
                    <a:pt x="940" y="96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606920" y="5112000"/>
              <a:ext cx="689040" cy="225360"/>
            </a:xfrm>
            <a:custGeom>
              <a:avLst/>
              <a:gdLst/>
              <a:ahLst/>
              <a:rect l="l" t="t" r="r" b="b"/>
              <a:pathLst>
                <a:path w="5075" h="1585">
                  <a:moveTo>
                    <a:pt x="0" y="722"/>
                  </a:moveTo>
                  <a:lnTo>
                    <a:pt x="1332" y="0"/>
                  </a:lnTo>
                  <a:lnTo>
                    <a:pt x="5075" y="824"/>
                  </a:lnTo>
                  <a:lnTo>
                    <a:pt x="3762" y="1585"/>
                  </a:lnTo>
                  <a:lnTo>
                    <a:pt x="0" y="722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570920" y="4793400"/>
              <a:ext cx="194760" cy="401760"/>
            </a:xfrm>
            <a:custGeom>
              <a:avLst/>
              <a:gdLst/>
              <a:ahLst/>
              <a:rect l="l" t="t" r="r" b="b"/>
              <a:pathLst>
                <a:path w="1438" h="2822">
                  <a:moveTo>
                    <a:pt x="111" y="2822"/>
                  </a:moveTo>
                  <a:lnTo>
                    <a:pt x="0" y="2057"/>
                  </a:lnTo>
                  <a:lnTo>
                    <a:pt x="83" y="619"/>
                  </a:lnTo>
                  <a:lnTo>
                    <a:pt x="1438" y="0"/>
                  </a:lnTo>
                  <a:lnTo>
                    <a:pt x="1438" y="2072"/>
                  </a:lnTo>
                  <a:lnTo>
                    <a:pt x="111" y="2822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267080" y="4823280"/>
              <a:ext cx="319680" cy="371880"/>
            </a:xfrm>
            <a:custGeom>
              <a:avLst/>
              <a:gdLst/>
              <a:ahLst/>
              <a:rect l="l" t="t" r="r" b="b"/>
              <a:pathLst>
                <a:path w="589" h="653">
                  <a:moveTo>
                    <a:pt x="589" y="653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2"/>
                  </a:lnTo>
                  <a:lnTo>
                    <a:pt x="589" y="65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267800" y="4724280"/>
              <a:ext cx="498600" cy="177120"/>
            </a:xfrm>
            <a:custGeom>
              <a:avLst/>
              <a:gdLst/>
              <a:ahLst/>
              <a:rect l="l" t="t" r="r" b="b"/>
              <a:pathLst>
                <a:path w="3671" h="1243">
                  <a:moveTo>
                    <a:pt x="0" y="693"/>
                  </a:moveTo>
                  <a:lnTo>
                    <a:pt x="1304" y="0"/>
                  </a:lnTo>
                  <a:lnTo>
                    <a:pt x="3671" y="490"/>
                  </a:lnTo>
                  <a:lnTo>
                    <a:pt x="2343" y="124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100480" y="4920120"/>
              <a:ext cx="195120" cy="402120"/>
            </a:xfrm>
            <a:custGeom>
              <a:avLst/>
              <a:gdLst/>
              <a:ahLst/>
              <a:rect l="l" t="t" r="r" b="b"/>
              <a:pathLst>
                <a:path w="1440" h="2823">
                  <a:moveTo>
                    <a:pt x="111" y="2823"/>
                  </a:moveTo>
                  <a:lnTo>
                    <a:pt x="0" y="2058"/>
                  </a:lnTo>
                  <a:lnTo>
                    <a:pt x="84" y="618"/>
                  </a:lnTo>
                  <a:lnTo>
                    <a:pt x="1440" y="0"/>
                  </a:lnTo>
                  <a:lnTo>
                    <a:pt x="1440" y="2072"/>
                  </a:lnTo>
                  <a:lnTo>
                    <a:pt x="111" y="2823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605840" y="4904280"/>
              <a:ext cx="510480" cy="416880"/>
            </a:xfrm>
            <a:custGeom>
              <a:avLst/>
              <a:gdLst/>
              <a:ahLst/>
              <a:rect l="l" t="t" r="r" b="b"/>
              <a:pathLst>
                <a:path w="940" h="732">
                  <a:moveTo>
                    <a:pt x="940" y="732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89"/>
                  </a:lnTo>
                  <a:lnTo>
                    <a:pt x="940" y="732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606920" y="4801680"/>
              <a:ext cx="689040" cy="225360"/>
            </a:xfrm>
            <a:custGeom>
              <a:avLst/>
              <a:gdLst/>
              <a:ahLst/>
              <a:rect l="l" t="t" r="r" b="b"/>
              <a:pathLst>
                <a:path w="5075" h="1583">
                  <a:moveTo>
                    <a:pt x="0" y="721"/>
                  </a:moveTo>
                  <a:lnTo>
                    <a:pt x="1332" y="0"/>
                  </a:lnTo>
                  <a:lnTo>
                    <a:pt x="5075" y="823"/>
                  </a:lnTo>
                  <a:lnTo>
                    <a:pt x="3762" y="1583"/>
                  </a:lnTo>
                  <a:lnTo>
                    <a:pt x="0" y="721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654080" y="5068080"/>
              <a:ext cx="214920" cy="168120"/>
            </a:xfrm>
            <a:custGeom>
              <a:avLst/>
              <a:gdLst/>
              <a:ahLst/>
              <a:rect l="l" t="t" r="r" b="b"/>
              <a:pathLst>
                <a:path w="1582" h="1178">
                  <a:moveTo>
                    <a:pt x="0" y="0"/>
                  </a:moveTo>
                  <a:lnTo>
                    <a:pt x="98" y="21"/>
                  </a:lnTo>
                  <a:lnTo>
                    <a:pt x="196" y="42"/>
                  </a:lnTo>
                  <a:lnTo>
                    <a:pt x="294" y="63"/>
                  </a:lnTo>
                  <a:lnTo>
                    <a:pt x="393" y="86"/>
                  </a:lnTo>
                  <a:lnTo>
                    <a:pt x="491" y="108"/>
                  </a:lnTo>
                  <a:lnTo>
                    <a:pt x="589" y="130"/>
                  </a:lnTo>
                  <a:lnTo>
                    <a:pt x="688" y="151"/>
                  </a:lnTo>
                  <a:lnTo>
                    <a:pt x="786" y="174"/>
                  </a:lnTo>
                  <a:lnTo>
                    <a:pt x="884" y="196"/>
                  </a:lnTo>
                  <a:lnTo>
                    <a:pt x="984" y="219"/>
                  </a:lnTo>
                  <a:lnTo>
                    <a:pt x="1082" y="241"/>
                  </a:lnTo>
                  <a:lnTo>
                    <a:pt x="1181" y="263"/>
                  </a:lnTo>
                  <a:lnTo>
                    <a:pt x="1279" y="284"/>
                  </a:lnTo>
                  <a:lnTo>
                    <a:pt x="1378" y="306"/>
                  </a:lnTo>
                  <a:lnTo>
                    <a:pt x="1476" y="328"/>
                  </a:lnTo>
                  <a:lnTo>
                    <a:pt x="1575" y="349"/>
                  </a:lnTo>
                  <a:lnTo>
                    <a:pt x="1575" y="401"/>
                  </a:lnTo>
                  <a:lnTo>
                    <a:pt x="1575" y="452"/>
                  </a:lnTo>
                  <a:lnTo>
                    <a:pt x="1576" y="504"/>
                  </a:lnTo>
                  <a:lnTo>
                    <a:pt x="1576" y="556"/>
                  </a:lnTo>
                  <a:lnTo>
                    <a:pt x="1576" y="608"/>
                  </a:lnTo>
                  <a:lnTo>
                    <a:pt x="1578" y="660"/>
                  </a:lnTo>
                  <a:lnTo>
                    <a:pt x="1578" y="712"/>
                  </a:lnTo>
                  <a:lnTo>
                    <a:pt x="1579" y="764"/>
                  </a:lnTo>
                  <a:lnTo>
                    <a:pt x="1579" y="815"/>
                  </a:lnTo>
                  <a:lnTo>
                    <a:pt x="1579" y="867"/>
                  </a:lnTo>
                  <a:lnTo>
                    <a:pt x="1580" y="919"/>
                  </a:lnTo>
                  <a:lnTo>
                    <a:pt x="1580" y="971"/>
                  </a:lnTo>
                  <a:lnTo>
                    <a:pt x="1580" y="1023"/>
                  </a:lnTo>
                  <a:lnTo>
                    <a:pt x="1581" y="1074"/>
                  </a:lnTo>
                  <a:lnTo>
                    <a:pt x="1581" y="1127"/>
                  </a:lnTo>
                  <a:lnTo>
                    <a:pt x="1582" y="1178"/>
                  </a:lnTo>
                  <a:lnTo>
                    <a:pt x="1483" y="1157"/>
                  </a:lnTo>
                  <a:lnTo>
                    <a:pt x="1384" y="1135"/>
                  </a:lnTo>
                  <a:lnTo>
                    <a:pt x="1285" y="1114"/>
                  </a:lnTo>
                  <a:lnTo>
                    <a:pt x="1186" y="1092"/>
                  </a:lnTo>
                  <a:lnTo>
                    <a:pt x="1088" y="1069"/>
                  </a:lnTo>
                  <a:lnTo>
                    <a:pt x="989" y="1047"/>
                  </a:lnTo>
                  <a:lnTo>
                    <a:pt x="890" y="1024"/>
                  </a:lnTo>
                  <a:lnTo>
                    <a:pt x="792" y="1002"/>
                  </a:lnTo>
                  <a:lnTo>
                    <a:pt x="693" y="980"/>
                  </a:lnTo>
                  <a:lnTo>
                    <a:pt x="595" y="958"/>
                  </a:lnTo>
                  <a:lnTo>
                    <a:pt x="496" y="935"/>
                  </a:lnTo>
                  <a:lnTo>
                    <a:pt x="397" y="913"/>
                  </a:lnTo>
                  <a:lnTo>
                    <a:pt x="299" y="891"/>
                  </a:lnTo>
                  <a:lnTo>
                    <a:pt x="200" y="870"/>
                  </a:lnTo>
                  <a:lnTo>
                    <a:pt x="102" y="848"/>
                  </a:lnTo>
                  <a:lnTo>
                    <a:pt x="3" y="827"/>
                  </a:lnTo>
                  <a:lnTo>
                    <a:pt x="3" y="775"/>
                  </a:lnTo>
                  <a:lnTo>
                    <a:pt x="3" y="724"/>
                  </a:lnTo>
                  <a:lnTo>
                    <a:pt x="3" y="671"/>
                  </a:lnTo>
                  <a:lnTo>
                    <a:pt x="2" y="620"/>
                  </a:lnTo>
                  <a:lnTo>
                    <a:pt x="2" y="568"/>
                  </a:lnTo>
                  <a:lnTo>
                    <a:pt x="2" y="516"/>
                  </a:lnTo>
                  <a:lnTo>
                    <a:pt x="2" y="465"/>
                  </a:lnTo>
                  <a:lnTo>
                    <a:pt x="2" y="413"/>
                  </a:lnTo>
                  <a:lnTo>
                    <a:pt x="1" y="362"/>
                  </a:lnTo>
                  <a:lnTo>
                    <a:pt x="1" y="309"/>
                  </a:lnTo>
                  <a:lnTo>
                    <a:pt x="1" y="258"/>
                  </a:lnTo>
                  <a:lnTo>
                    <a:pt x="1" y="206"/>
                  </a:lnTo>
                  <a:lnTo>
                    <a:pt x="0" y="155"/>
                  </a:lnTo>
                  <a:lnTo>
                    <a:pt x="0" y="103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667040" y="5096160"/>
              <a:ext cx="87120" cy="91440"/>
            </a:xfrm>
            <a:custGeom>
              <a:avLst/>
              <a:gdLst/>
              <a:ahLst/>
              <a:rect l="l" t="t" r="r" b="b"/>
              <a:pathLst>
                <a:path w="646" h="644">
                  <a:moveTo>
                    <a:pt x="321" y="8"/>
                  </a:moveTo>
                  <a:lnTo>
                    <a:pt x="337" y="12"/>
                  </a:lnTo>
                  <a:lnTo>
                    <a:pt x="353" y="16"/>
                  </a:lnTo>
                  <a:lnTo>
                    <a:pt x="370" y="22"/>
                  </a:lnTo>
                  <a:lnTo>
                    <a:pt x="385" y="28"/>
                  </a:lnTo>
                  <a:lnTo>
                    <a:pt x="401" y="35"/>
                  </a:lnTo>
                  <a:lnTo>
                    <a:pt x="416" y="43"/>
                  </a:lnTo>
                  <a:lnTo>
                    <a:pt x="432" y="50"/>
                  </a:lnTo>
                  <a:lnTo>
                    <a:pt x="446" y="59"/>
                  </a:lnTo>
                  <a:lnTo>
                    <a:pt x="460" y="69"/>
                  </a:lnTo>
                  <a:lnTo>
                    <a:pt x="474" y="78"/>
                  </a:lnTo>
                  <a:lnTo>
                    <a:pt x="488" y="89"/>
                  </a:lnTo>
                  <a:lnTo>
                    <a:pt x="501" y="100"/>
                  </a:lnTo>
                  <a:lnTo>
                    <a:pt x="515" y="111"/>
                  </a:lnTo>
                  <a:lnTo>
                    <a:pt x="527" y="123"/>
                  </a:lnTo>
                  <a:lnTo>
                    <a:pt x="539" y="136"/>
                  </a:lnTo>
                  <a:lnTo>
                    <a:pt x="549" y="149"/>
                  </a:lnTo>
                  <a:lnTo>
                    <a:pt x="560" y="162"/>
                  </a:lnTo>
                  <a:lnTo>
                    <a:pt x="571" y="175"/>
                  </a:lnTo>
                  <a:lnTo>
                    <a:pt x="581" y="190"/>
                  </a:lnTo>
                  <a:lnTo>
                    <a:pt x="590" y="204"/>
                  </a:lnTo>
                  <a:lnTo>
                    <a:pt x="598" y="218"/>
                  </a:lnTo>
                  <a:lnTo>
                    <a:pt x="606" y="233"/>
                  </a:lnTo>
                  <a:lnTo>
                    <a:pt x="614" y="248"/>
                  </a:lnTo>
                  <a:lnTo>
                    <a:pt x="620" y="264"/>
                  </a:lnTo>
                  <a:lnTo>
                    <a:pt x="626" y="279"/>
                  </a:lnTo>
                  <a:lnTo>
                    <a:pt x="631" y="295"/>
                  </a:lnTo>
                  <a:lnTo>
                    <a:pt x="636" y="311"/>
                  </a:lnTo>
                  <a:lnTo>
                    <a:pt x="640" y="327"/>
                  </a:lnTo>
                  <a:lnTo>
                    <a:pt x="643" y="342"/>
                  </a:lnTo>
                  <a:lnTo>
                    <a:pt x="645" y="359"/>
                  </a:lnTo>
                  <a:lnTo>
                    <a:pt x="646" y="375"/>
                  </a:lnTo>
                  <a:lnTo>
                    <a:pt x="646" y="391"/>
                  </a:lnTo>
                  <a:lnTo>
                    <a:pt x="646" y="408"/>
                  </a:lnTo>
                  <a:lnTo>
                    <a:pt x="645" y="423"/>
                  </a:lnTo>
                  <a:lnTo>
                    <a:pt x="643" y="438"/>
                  </a:lnTo>
                  <a:lnTo>
                    <a:pt x="641" y="453"/>
                  </a:lnTo>
                  <a:lnTo>
                    <a:pt x="637" y="468"/>
                  </a:lnTo>
                  <a:lnTo>
                    <a:pt x="632" y="482"/>
                  </a:lnTo>
                  <a:lnTo>
                    <a:pt x="628" y="495"/>
                  </a:lnTo>
                  <a:lnTo>
                    <a:pt x="621" y="508"/>
                  </a:lnTo>
                  <a:lnTo>
                    <a:pt x="615" y="521"/>
                  </a:lnTo>
                  <a:lnTo>
                    <a:pt x="608" y="533"/>
                  </a:lnTo>
                  <a:lnTo>
                    <a:pt x="601" y="544"/>
                  </a:lnTo>
                  <a:lnTo>
                    <a:pt x="592" y="556"/>
                  </a:lnTo>
                  <a:lnTo>
                    <a:pt x="583" y="566"/>
                  </a:lnTo>
                  <a:lnTo>
                    <a:pt x="573" y="575"/>
                  </a:lnTo>
                  <a:lnTo>
                    <a:pt x="564" y="585"/>
                  </a:lnTo>
                  <a:lnTo>
                    <a:pt x="553" y="594"/>
                  </a:lnTo>
                  <a:lnTo>
                    <a:pt x="541" y="602"/>
                  </a:lnTo>
                  <a:lnTo>
                    <a:pt x="530" y="609"/>
                  </a:lnTo>
                  <a:lnTo>
                    <a:pt x="517" y="616"/>
                  </a:lnTo>
                  <a:lnTo>
                    <a:pt x="505" y="622"/>
                  </a:lnTo>
                  <a:lnTo>
                    <a:pt x="492" y="627"/>
                  </a:lnTo>
                  <a:lnTo>
                    <a:pt x="477" y="632"/>
                  </a:lnTo>
                  <a:lnTo>
                    <a:pt x="464" y="635"/>
                  </a:lnTo>
                  <a:lnTo>
                    <a:pt x="449" y="639"/>
                  </a:lnTo>
                  <a:lnTo>
                    <a:pt x="435" y="642"/>
                  </a:lnTo>
                  <a:lnTo>
                    <a:pt x="420" y="643"/>
                  </a:lnTo>
                  <a:lnTo>
                    <a:pt x="404" y="644"/>
                  </a:lnTo>
                  <a:lnTo>
                    <a:pt x="389" y="644"/>
                  </a:lnTo>
                  <a:lnTo>
                    <a:pt x="373" y="644"/>
                  </a:lnTo>
                  <a:lnTo>
                    <a:pt x="357" y="643"/>
                  </a:lnTo>
                  <a:lnTo>
                    <a:pt x="340" y="640"/>
                  </a:lnTo>
                  <a:lnTo>
                    <a:pt x="324" y="637"/>
                  </a:lnTo>
                  <a:lnTo>
                    <a:pt x="307" y="633"/>
                  </a:lnTo>
                  <a:lnTo>
                    <a:pt x="291" y="629"/>
                  </a:lnTo>
                  <a:lnTo>
                    <a:pt x="275" y="623"/>
                  </a:lnTo>
                  <a:lnTo>
                    <a:pt x="258" y="617"/>
                  </a:lnTo>
                  <a:lnTo>
                    <a:pt x="243" y="610"/>
                  </a:lnTo>
                  <a:lnTo>
                    <a:pt x="228" y="603"/>
                  </a:lnTo>
                  <a:lnTo>
                    <a:pt x="213" y="594"/>
                  </a:lnTo>
                  <a:lnTo>
                    <a:pt x="199" y="585"/>
                  </a:lnTo>
                  <a:lnTo>
                    <a:pt x="184" y="575"/>
                  </a:lnTo>
                  <a:lnTo>
                    <a:pt x="170" y="566"/>
                  </a:lnTo>
                  <a:lnTo>
                    <a:pt x="156" y="556"/>
                  </a:lnTo>
                  <a:lnTo>
                    <a:pt x="143" y="545"/>
                  </a:lnTo>
                  <a:lnTo>
                    <a:pt x="131" y="533"/>
                  </a:lnTo>
                  <a:lnTo>
                    <a:pt x="118" y="521"/>
                  </a:lnTo>
                  <a:lnTo>
                    <a:pt x="107" y="509"/>
                  </a:lnTo>
                  <a:lnTo>
                    <a:pt x="95" y="496"/>
                  </a:lnTo>
                  <a:lnTo>
                    <a:pt x="85" y="483"/>
                  </a:lnTo>
                  <a:lnTo>
                    <a:pt x="74" y="469"/>
                  </a:lnTo>
                  <a:lnTo>
                    <a:pt x="64" y="454"/>
                  </a:lnTo>
                  <a:lnTo>
                    <a:pt x="56" y="440"/>
                  </a:lnTo>
                  <a:lnTo>
                    <a:pt x="47" y="426"/>
                  </a:lnTo>
                  <a:lnTo>
                    <a:pt x="39" y="411"/>
                  </a:lnTo>
                  <a:lnTo>
                    <a:pt x="32" y="396"/>
                  </a:lnTo>
                  <a:lnTo>
                    <a:pt x="25" y="380"/>
                  </a:lnTo>
                  <a:lnTo>
                    <a:pt x="20" y="365"/>
                  </a:lnTo>
                  <a:lnTo>
                    <a:pt x="14" y="350"/>
                  </a:lnTo>
                  <a:lnTo>
                    <a:pt x="10" y="333"/>
                  </a:lnTo>
                  <a:lnTo>
                    <a:pt x="7" y="318"/>
                  </a:lnTo>
                  <a:lnTo>
                    <a:pt x="3" y="302"/>
                  </a:lnTo>
                  <a:lnTo>
                    <a:pt x="1" y="286"/>
                  </a:lnTo>
                  <a:lnTo>
                    <a:pt x="0" y="269"/>
                  </a:lnTo>
                  <a:lnTo>
                    <a:pt x="0" y="253"/>
                  </a:lnTo>
                  <a:lnTo>
                    <a:pt x="0" y="238"/>
                  </a:lnTo>
                  <a:lnTo>
                    <a:pt x="1" y="221"/>
                  </a:lnTo>
                  <a:lnTo>
                    <a:pt x="3" y="206"/>
                  </a:lnTo>
                  <a:lnTo>
                    <a:pt x="6" y="192"/>
                  </a:lnTo>
                  <a:lnTo>
                    <a:pt x="10" y="177"/>
                  </a:lnTo>
                  <a:lnTo>
                    <a:pt x="14" y="163"/>
                  </a:lnTo>
                  <a:lnTo>
                    <a:pt x="19" y="149"/>
                  </a:lnTo>
                  <a:lnTo>
                    <a:pt x="24" y="136"/>
                  </a:lnTo>
                  <a:lnTo>
                    <a:pt x="31" y="124"/>
                  </a:lnTo>
                  <a:lnTo>
                    <a:pt x="38" y="112"/>
                  </a:lnTo>
                  <a:lnTo>
                    <a:pt x="46" y="100"/>
                  </a:lnTo>
                  <a:lnTo>
                    <a:pt x="54" y="89"/>
                  </a:lnTo>
                  <a:lnTo>
                    <a:pt x="63" y="80"/>
                  </a:lnTo>
                  <a:lnTo>
                    <a:pt x="72" y="70"/>
                  </a:lnTo>
                  <a:lnTo>
                    <a:pt x="82" y="60"/>
                  </a:lnTo>
                  <a:lnTo>
                    <a:pt x="93" y="51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9"/>
                  </a:lnTo>
                  <a:lnTo>
                    <a:pt x="141" y="23"/>
                  </a:lnTo>
                  <a:lnTo>
                    <a:pt x="154" y="17"/>
                  </a:lnTo>
                  <a:lnTo>
                    <a:pt x="167" y="13"/>
                  </a:lnTo>
                  <a:lnTo>
                    <a:pt x="181" y="9"/>
                  </a:lnTo>
                  <a:lnTo>
                    <a:pt x="195" y="5"/>
                  </a:lnTo>
                  <a:lnTo>
                    <a:pt x="209" y="3"/>
                  </a:lnTo>
                  <a:lnTo>
                    <a:pt x="225" y="1"/>
                  </a:lnTo>
                  <a:lnTo>
                    <a:pt x="240" y="1"/>
                  </a:lnTo>
                  <a:lnTo>
                    <a:pt x="255" y="0"/>
                  </a:lnTo>
                  <a:lnTo>
                    <a:pt x="272" y="1"/>
                  </a:lnTo>
                  <a:lnTo>
                    <a:pt x="288" y="2"/>
                  </a:lnTo>
                  <a:lnTo>
                    <a:pt x="304" y="4"/>
                  </a:lnTo>
                  <a:lnTo>
                    <a:pt x="321" y="8"/>
                  </a:lnTo>
                  <a:close/>
                  <a:moveTo>
                    <a:pt x="363" y="388"/>
                  </a:moveTo>
                  <a:lnTo>
                    <a:pt x="371" y="376"/>
                  </a:lnTo>
                  <a:lnTo>
                    <a:pt x="378" y="365"/>
                  </a:lnTo>
                  <a:lnTo>
                    <a:pt x="385" y="354"/>
                  </a:lnTo>
                  <a:lnTo>
                    <a:pt x="392" y="342"/>
                  </a:lnTo>
                  <a:lnTo>
                    <a:pt x="418" y="361"/>
                  </a:lnTo>
                  <a:lnTo>
                    <a:pt x="442" y="380"/>
                  </a:lnTo>
                  <a:lnTo>
                    <a:pt x="467" y="399"/>
                  </a:lnTo>
                  <a:lnTo>
                    <a:pt x="492" y="418"/>
                  </a:lnTo>
                  <a:lnTo>
                    <a:pt x="516" y="437"/>
                  </a:lnTo>
                  <a:lnTo>
                    <a:pt x="541" y="456"/>
                  </a:lnTo>
                  <a:lnTo>
                    <a:pt x="566" y="475"/>
                  </a:lnTo>
                  <a:lnTo>
                    <a:pt x="591" y="494"/>
                  </a:lnTo>
                  <a:lnTo>
                    <a:pt x="583" y="505"/>
                  </a:lnTo>
                  <a:lnTo>
                    <a:pt x="576" y="515"/>
                  </a:lnTo>
                  <a:lnTo>
                    <a:pt x="568" y="527"/>
                  </a:lnTo>
                  <a:lnTo>
                    <a:pt x="561" y="538"/>
                  </a:lnTo>
                  <a:lnTo>
                    <a:pt x="536" y="520"/>
                  </a:lnTo>
                  <a:lnTo>
                    <a:pt x="511" y="501"/>
                  </a:lnTo>
                  <a:lnTo>
                    <a:pt x="486" y="482"/>
                  </a:lnTo>
                  <a:lnTo>
                    <a:pt x="462" y="463"/>
                  </a:lnTo>
                  <a:lnTo>
                    <a:pt x="437" y="445"/>
                  </a:lnTo>
                  <a:lnTo>
                    <a:pt x="412" y="425"/>
                  </a:lnTo>
                  <a:lnTo>
                    <a:pt x="388" y="406"/>
                  </a:lnTo>
                  <a:lnTo>
                    <a:pt x="363" y="388"/>
                  </a:lnTo>
                  <a:close/>
                  <a:moveTo>
                    <a:pt x="92" y="444"/>
                  </a:moveTo>
                  <a:lnTo>
                    <a:pt x="83" y="429"/>
                  </a:lnTo>
                  <a:lnTo>
                    <a:pt x="75" y="415"/>
                  </a:lnTo>
                  <a:lnTo>
                    <a:pt x="68" y="401"/>
                  </a:lnTo>
                  <a:lnTo>
                    <a:pt x="59" y="387"/>
                  </a:lnTo>
                  <a:lnTo>
                    <a:pt x="84" y="378"/>
                  </a:lnTo>
                  <a:lnTo>
                    <a:pt x="108" y="368"/>
                  </a:lnTo>
                  <a:lnTo>
                    <a:pt x="132" y="360"/>
                  </a:lnTo>
                  <a:lnTo>
                    <a:pt x="156" y="351"/>
                  </a:lnTo>
                  <a:lnTo>
                    <a:pt x="180" y="341"/>
                  </a:lnTo>
                  <a:lnTo>
                    <a:pt x="204" y="332"/>
                  </a:lnTo>
                  <a:lnTo>
                    <a:pt x="228" y="323"/>
                  </a:lnTo>
                  <a:lnTo>
                    <a:pt x="252" y="314"/>
                  </a:lnTo>
                  <a:lnTo>
                    <a:pt x="260" y="328"/>
                  </a:lnTo>
                  <a:lnTo>
                    <a:pt x="268" y="343"/>
                  </a:lnTo>
                  <a:lnTo>
                    <a:pt x="276" y="357"/>
                  </a:lnTo>
                  <a:lnTo>
                    <a:pt x="285" y="372"/>
                  </a:lnTo>
                  <a:lnTo>
                    <a:pt x="260" y="380"/>
                  </a:lnTo>
                  <a:lnTo>
                    <a:pt x="236" y="390"/>
                  </a:lnTo>
                  <a:lnTo>
                    <a:pt x="212" y="399"/>
                  </a:lnTo>
                  <a:lnTo>
                    <a:pt x="188" y="408"/>
                  </a:lnTo>
                  <a:lnTo>
                    <a:pt x="164" y="417"/>
                  </a:lnTo>
                  <a:lnTo>
                    <a:pt x="140" y="426"/>
                  </a:lnTo>
                  <a:lnTo>
                    <a:pt x="116" y="435"/>
                  </a:lnTo>
                  <a:lnTo>
                    <a:pt x="92" y="444"/>
                  </a:lnTo>
                  <a:close/>
                  <a:moveTo>
                    <a:pt x="290" y="34"/>
                  </a:moveTo>
                  <a:lnTo>
                    <a:pt x="305" y="37"/>
                  </a:lnTo>
                  <a:lnTo>
                    <a:pt x="321" y="40"/>
                  </a:lnTo>
                  <a:lnTo>
                    <a:pt x="337" y="44"/>
                  </a:lnTo>
                  <a:lnTo>
                    <a:pt x="352" y="47"/>
                  </a:lnTo>
                  <a:lnTo>
                    <a:pt x="352" y="75"/>
                  </a:lnTo>
                  <a:lnTo>
                    <a:pt x="352" y="102"/>
                  </a:lnTo>
                  <a:lnTo>
                    <a:pt x="352" y="130"/>
                  </a:lnTo>
                  <a:lnTo>
                    <a:pt x="352" y="157"/>
                  </a:lnTo>
                  <a:lnTo>
                    <a:pt x="353" y="185"/>
                  </a:lnTo>
                  <a:lnTo>
                    <a:pt x="353" y="213"/>
                  </a:lnTo>
                  <a:lnTo>
                    <a:pt x="353" y="240"/>
                  </a:lnTo>
                  <a:lnTo>
                    <a:pt x="353" y="267"/>
                  </a:lnTo>
                  <a:lnTo>
                    <a:pt x="338" y="264"/>
                  </a:lnTo>
                  <a:lnTo>
                    <a:pt x="322" y="260"/>
                  </a:lnTo>
                  <a:lnTo>
                    <a:pt x="306" y="257"/>
                  </a:lnTo>
                  <a:lnTo>
                    <a:pt x="291" y="254"/>
                  </a:lnTo>
                  <a:lnTo>
                    <a:pt x="291" y="227"/>
                  </a:lnTo>
                  <a:lnTo>
                    <a:pt x="291" y="199"/>
                  </a:lnTo>
                  <a:lnTo>
                    <a:pt x="290" y="171"/>
                  </a:lnTo>
                  <a:lnTo>
                    <a:pt x="290" y="144"/>
                  </a:lnTo>
                  <a:lnTo>
                    <a:pt x="290" y="117"/>
                  </a:lnTo>
                  <a:lnTo>
                    <a:pt x="290" y="89"/>
                  </a:lnTo>
                  <a:lnTo>
                    <a:pt x="290" y="61"/>
                  </a:lnTo>
                  <a:lnTo>
                    <a:pt x="290" y="3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69640" y="5119560"/>
              <a:ext cx="87840" cy="91440"/>
            </a:xfrm>
            <a:custGeom>
              <a:avLst/>
              <a:gdLst/>
              <a:ahLst/>
              <a:rect l="l" t="t" r="r" b="b"/>
              <a:pathLst>
                <a:path w="647" h="644">
                  <a:moveTo>
                    <a:pt x="45" y="100"/>
                  </a:moveTo>
                  <a:lnTo>
                    <a:pt x="55" y="88"/>
                  </a:lnTo>
                  <a:lnTo>
                    <a:pt x="64" y="77"/>
                  </a:lnTo>
                  <a:lnTo>
                    <a:pt x="75" y="67"/>
                  </a:lnTo>
                  <a:lnTo>
                    <a:pt x="85" y="57"/>
                  </a:lnTo>
                  <a:lnTo>
                    <a:pt x="97" y="48"/>
                  </a:lnTo>
                  <a:lnTo>
                    <a:pt x="107" y="41"/>
                  </a:lnTo>
                  <a:lnTo>
                    <a:pt x="119" y="33"/>
                  </a:lnTo>
                  <a:lnTo>
                    <a:pt x="133" y="27"/>
                  </a:lnTo>
                  <a:lnTo>
                    <a:pt x="146" y="21"/>
                  </a:lnTo>
                  <a:lnTo>
                    <a:pt x="159" y="16"/>
                  </a:lnTo>
                  <a:lnTo>
                    <a:pt x="173" y="11"/>
                  </a:lnTo>
                  <a:lnTo>
                    <a:pt x="186" y="8"/>
                  </a:lnTo>
                  <a:lnTo>
                    <a:pt x="201" y="5"/>
                  </a:lnTo>
                  <a:lnTo>
                    <a:pt x="215" y="3"/>
                  </a:lnTo>
                  <a:lnTo>
                    <a:pt x="229" y="1"/>
                  </a:lnTo>
                  <a:lnTo>
                    <a:pt x="245" y="0"/>
                  </a:lnTo>
                  <a:lnTo>
                    <a:pt x="260" y="0"/>
                  </a:lnTo>
                  <a:lnTo>
                    <a:pt x="275" y="1"/>
                  </a:lnTo>
                  <a:lnTo>
                    <a:pt x="291" y="4"/>
                  </a:lnTo>
                  <a:lnTo>
                    <a:pt x="307" y="6"/>
                  </a:lnTo>
                  <a:lnTo>
                    <a:pt x="322" y="8"/>
                  </a:lnTo>
                  <a:lnTo>
                    <a:pt x="337" y="12"/>
                  </a:lnTo>
                  <a:lnTo>
                    <a:pt x="354" y="17"/>
                  </a:lnTo>
                  <a:lnTo>
                    <a:pt x="369" y="22"/>
                  </a:lnTo>
                  <a:lnTo>
                    <a:pt x="384" y="28"/>
                  </a:lnTo>
                  <a:lnTo>
                    <a:pt x="400" y="34"/>
                  </a:lnTo>
                  <a:lnTo>
                    <a:pt x="415" y="42"/>
                  </a:lnTo>
                  <a:lnTo>
                    <a:pt x="431" y="51"/>
                  </a:lnTo>
                  <a:lnTo>
                    <a:pt x="445" y="59"/>
                  </a:lnTo>
                  <a:lnTo>
                    <a:pt x="461" y="69"/>
                  </a:lnTo>
                  <a:lnTo>
                    <a:pt x="476" y="79"/>
                  </a:lnTo>
                  <a:lnTo>
                    <a:pt x="490" y="90"/>
                  </a:lnTo>
                  <a:lnTo>
                    <a:pt x="504" y="102"/>
                  </a:lnTo>
                  <a:lnTo>
                    <a:pt x="517" y="114"/>
                  </a:lnTo>
                  <a:lnTo>
                    <a:pt x="530" y="127"/>
                  </a:lnTo>
                  <a:lnTo>
                    <a:pt x="542" y="140"/>
                  </a:lnTo>
                  <a:lnTo>
                    <a:pt x="554" y="153"/>
                  </a:lnTo>
                  <a:lnTo>
                    <a:pt x="565" y="167"/>
                  </a:lnTo>
                  <a:lnTo>
                    <a:pt x="575" y="181"/>
                  </a:lnTo>
                  <a:lnTo>
                    <a:pt x="585" y="195"/>
                  </a:lnTo>
                  <a:lnTo>
                    <a:pt x="593" y="210"/>
                  </a:lnTo>
                  <a:lnTo>
                    <a:pt x="602" y="224"/>
                  </a:lnTo>
                  <a:lnTo>
                    <a:pt x="609" y="239"/>
                  </a:lnTo>
                  <a:lnTo>
                    <a:pt x="616" y="254"/>
                  </a:lnTo>
                  <a:lnTo>
                    <a:pt x="623" y="270"/>
                  </a:lnTo>
                  <a:lnTo>
                    <a:pt x="628" y="285"/>
                  </a:lnTo>
                  <a:lnTo>
                    <a:pt x="633" y="300"/>
                  </a:lnTo>
                  <a:lnTo>
                    <a:pt x="637" y="315"/>
                  </a:lnTo>
                  <a:lnTo>
                    <a:pt x="640" y="332"/>
                  </a:lnTo>
                  <a:lnTo>
                    <a:pt x="643" y="347"/>
                  </a:lnTo>
                  <a:lnTo>
                    <a:pt x="645" y="362"/>
                  </a:lnTo>
                  <a:lnTo>
                    <a:pt x="646" y="377"/>
                  </a:lnTo>
                  <a:lnTo>
                    <a:pt x="647" y="393"/>
                  </a:lnTo>
                  <a:lnTo>
                    <a:pt x="646" y="408"/>
                  </a:lnTo>
                  <a:lnTo>
                    <a:pt x="645" y="422"/>
                  </a:lnTo>
                  <a:lnTo>
                    <a:pt x="644" y="437"/>
                  </a:lnTo>
                  <a:lnTo>
                    <a:pt x="640" y="452"/>
                  </a:lnTo>
                  <a:lnTo>
                    <a:pt x="637" y="467"/>
                  </a:lnTo>
                  <a:lnTo>
                    <a:pt x="634" y="480"/>
                  </a:lnTo>
                  <a:lnTo>
                    <a:pt x="628" y="494"/>
                  </a:lnTo>
                  <a:lnTo>
                    <a:pt x="623" y="507"/>
                  </a:lnTo>
                  <a:lnTo>
                    <a:pt x="616" y="520"/>
                  </a:lnTo>
                  <a:lnTo>
                    <a:pt x="609" y="533"/>
                  </a:lnTo>
                  <a:lnTo>
                    <a:pt x="600" y="545"/>
                  </a:lnTo>
                  <a:lnTo>
                    <a:pt x="591" y="557"/>
                  </a:lnTo>
                  <a:lnTo>
                    <a:pt x="583" y="568"/>
                  </a:lnTo>
                  <a:lnTo>
                    <a:pt x="572" y="578"/>
                  </a:lnTo>
                  <a:lnTo>
                    <a:pt x="561" y="588"/>
                  </a:lnTo>
                  <a:lnTo>
                    <a:pt x="550" y="596"/>
                  </a:lnTo>
                  <a:lnTo>
                    <a:pt x="538" y="604"/>
                  </a:lnTo>
                  <a:lnTo>
                    <a:pt x="526" y="612"/>
                  </a:lnTo>
                  <a:lnTo>
                    <a:pt x="514" y="618"/>
                  </a:lnTo>
                  <a:lnTo>
                    <a:pt x="501" y="624"/>
                  </a:lnTo>
                  <a:lnTo>
                    <a:pt x="488" y="629"/>
                  </a:lnTo>
                  <a:lnTo>
                    <a:pt x="474" y="634"/>
                  </a:lnTo>
                  <a:lnTo>
                    <a:pt x="459" y="637"/>
                  </a:lnTo>
                  <a:lnTo>
                    <a:pt x="445" y="640"/>
                  </a:lnTo>
                  <a:lnTo>
                    <a:pt x="431" y="642"/>
                  </a:lnTo>
                  <a:lnTo>
                    <a:pt x="416" y="643"/>
                  </a:lnTo>
                  <a:lnTo>
                    <a:pt x="401" y="644"/>
                  </a:lnTo>
                  <a:lnTo>
                    <a:pt x="385" y="644"/>
                  </a:lnTo>
                  <a:lnTo>
                    <a:pt x="370" y="643"/>
                  </a:lnTo>
                  <a:lnTo>
                    <a:pt x="355" y="642"/>
                  </a:lnTo>
                  <a:lnTo>
                    <a:pt x="340" y="639"/>
                  </a:lnTo>
                  <a:lnTo>
                    <a:pt x="323" y="637"/>
                  </a:lnTo>
                  <a:lnTo>
                    <a:pt x="308" y="632"/>
                  </a:lnTo>
                  <a:lnTo>
                    <a:pt x="292" y="628"/>
                  </a:lnTo>
                  <a:lnTo>
                    <a:pt x="276" y="623"/>
                  </a:lnTo>
                  <a:lnTo>
                    <a:pt x="261" y="617"/>
                  </a:lnTo>
                  <a:lnTo>
                    <a:pt x="245" y="611"/>
                  </a:lnTo>
                  <a:lnTo>
                    <a:pt x="229" y="603"/>
                  </a:lnTo>
                  <a:lnTo>
                    <a:pt x="214" y="594"/>
                  </a:lnTo>
                  <a:lnTo>
                    <a:pt x="199" y="586"/>
                  </a:lnTo>
                  <a:lnTo>
                    <a:pt x="185" y="576"/>
                  </a:lnTo>
                  <a:lnTo>
                    <a:pt x="170" y="566"/>
                  </a:lnTo>
                  <a:lnTo>
                    <a:pt x="155" y="554"/>
                  </a:lnTo>
                  <a:lnTo>
                    <a:pt x="141" y="543"/>
                  </a:lnTo>
                  <a:lnTo>
                    <a:pt x="128" y="530"/>
                  </a:lnTo>
                  <a:lnTo>
                    <a:pt x="115" y="518"/>
                  </a:lnTo>
                  <a:lnTo>
                    <a:pt x="103" y="505"/>
                  </a:lnTo>
                  <a:lnTo>
                    <a:pt x="91" y="492"/>
                  </a:lnTo>
                  <a:lnTo>
                    <a:pt x="80" y="478"/>
                  </a:lnTo>
                  <a:lnTo>
                    <a:pt x="70" y="464"/>
                  </a:lnTo>
                  <a:lnTo>
                    <a:pt x="61" y="449"/>
                  </a:lnTo>
                  <a:lnTo>
                    <a:pt x="52" y="435"/>
                  </a:lnTo>
                  <a:lnTo>
                    <a:pt x="43" y="420"/>
                  </a:lnTo>
                  <a:lnTo>
                    <a:pt x="36" y="405"/>
                  </a:lnTo>
                  <a:lnTo>
                    <a:pt x="29" y="391"/>
                  </a:lnTo>
                  <a:lnTo>
                    <a:pt x="22" y="375"/>
                  </a:lnTo>
                  <a:lnTo>
                    <a:pt x="17" y="360"/>
                  </a:lnTo>
                  <a:lnTo>
                    <a:pt x="13" y="344"/>
                  </a:lnTo>
                  <a:lnTo>
                    <a:pt x="8" y="328"/>
                  </a:lnTo>
                  <a:lnTo>
                    <a:pt x="5" y="313"/>
                  </a:lnTo>
                  <a:lnTo>
                    <a:pt x="3" y="298"/>
                  </a:lnTo>
                  <a:lnTo>
                    <a:pt x="1" y="283"/>
                  </a:lnTo>
                  <a:lnTo>
                    <a:pt x="0" y="267"/>
                  </a:lnTo>
                  <a:lnTo>
                    <a:pt x="0" y="252"/>
                  </a:lnTo>
                  <a:lnTo>
                    <a:pt x="0" y="237"/>
                  </a:lnTo>
                  <a:lnTo>
                    <a:pt x="1" y="222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8" y="178"/>
                  </a:lnTo>
                  <a:lnTo>
                    <a:pt x="13" y="164"/>
                  </a:lnTo>
                  <a:lnTo>
                    <a:pt x="18" y="151"/>
                  </a:lnTo>
                  <a:lnTo>
                    <a:pt x="24" y="137"/>
                  </a:lnTo>
                  <a:lnTo>
                    <a:pt x="30" y="124"/>
                  </a:lnTo>
                  <a:lnTo>
                    <a:pt x="38" y="112"/>
                  </a:lnTo>
                  <a:lnTo>
                    <a:pt x="45" y="100"/>
                  </a:lnTo>
                  <a:close/>
                  <a:moveTo>
                    <a:pt x="394" y="334"/>
                  </a:moveTo>
                  <a:lnTo>
                    <a:pt x="386" y="319"/>
                  </a:lnTo>
                  <a:lnTo>
                    <a:pt x="379" y="304"/>
                  </a:lnTo>
                  <a:lnTo>
                    <a:pt x="371" y="289"/>
                  </a:lnTo>
                  <a:lnTo>
                    <a:pt x="364" y="274"/>
                  </a:lnTo>
                  <a:lnTo>
                    <a:pt x="388" y="266"/>
                  </a:lnTo>
                  <a:lnTo>
                    <a:pt x="413" y="259"/>
                  </a:lnTo>
                  <a:lnTo>
                    <a:pt x="438" y="251"/>
                  </a:lnTo>
                  <a:lnTo>
                    <a:pt x="462" y="243"/>
                  </a:lnTo>
                  <a:lnTo>
                    <a:pt x="487" y="236"/>
                  </a:lnTo>
                  <a:lnTo>
                    <a:pt x="512" y="227"/>
                  </a:lnTo>
                  <a:lnTo>
                    <a:pt x="536" y="219"/>
                  </a:lnTo>
                  <a:lnTo>
                    <a:pt x="561" y="211"/>
                  </a:lnTo>
                  <a:lnTo>
                    <a:pt x="568" y="226"/>
                  </a:lnTo>
                  <a:lnTo>
                    <a:pt x="576" y="241"/>
                  </a:lnTo>
                  <a:lnTo>
                    <a:pt x="584" y="255"/>
                  </a:lnTo>
                  <a:lnTo>
                    <a:pt x="591" y="270"/>
                  </a:lnTo>
                  <a:lnTo>
                    <a:pt x="566" y="278"/>
                  </a:lnTo>
                  <a:lnTo>
                    <a:pt x="542" y="286"/>
                  </a:lnTo>
                  <a:lnTo>
                    <a:pt x="517" y="294"/>
                  </a:lnTo>
                  <a:lnTo>
                    <a:pt x="492" y="301"/>
                  </a:lnTo>
                  <a:lnTo>
                    <a:pt x="467" y="310"/>
                  </a:lnTo>
                  <a:lnTo>
                    <a:pt x="443" y="317"/>
                  </a:lnTo>
                  <a:lnTo>
                    <a:pt x="418" y="325"/>
                  </a:lnTo>
                  <a:lnTo>
                    <a:pt x="394" y="334"/>
                  </a:lnTo>
                  <a:close/>
                  <a:moveTo>
                    <a:pt x="354" y="611"/>
                  </a:moveTo>
                  <a:lnTo>
                    <a:pt x="338" y="607"/>
                  </a:lnTo>
                  <a:lnTo>
                    <a:pt x="323" y="604"/>
                  </a:lnTo>
                  <a:lnTo>
                    <a:pt x="308" y="601"/>
                  </a:lnTo>
                  <a:lnTo>
                    <a:pt x="293" y="598"/>
                  </a:lnTo>
                  <a:lnTo>
                    <a:pt x="293" y="570"/>
                  </a:lnTo>
                  <a:lnTo>
                    <a:pt x="293" y="543"/>
                  </a:lnTo>
                  <a:lnTo>
                    <a:pt x="293" y="515"/>
                  </a:lnTo>
                  <a:lnTo>
                    <a:pt x="292" y="487"/>
                  </a:lnTo>
                  <a:lnTo>
                    <a:pt x="292" y="460"/>
                  </a:lnTo>
                  <a:lnTo>
                    <a:pt x="292" y="432"/>
                  </a:lnTo>
                  <a:lnTo>
                    <a:pt x="292" y="405"/>
                  </a:lnTo>
                  <a:lnTo>
                    <a:pt x="292" y="377"/>
                  </a:lnTo>
                  <a:lnTo>
                    <a:pt x="308" y="381"/>
                  </a:lnTo>
                  <a:lnTo>
                    <a:pt x="323" y="384"/>
                  </a:lnTo>
                  <a:lnTo>
                    <a:pt x="338" y="387"/>
                  </a:lnTo>
                  <a:lnTo>
                    <a:pt x="354" y="391"/>
                  </a:lnTo>
                  <a:lnTo>
                    <a:pt x="354" y="418"/>
                  </a:lnTo>
                  <a:lnTo>
                    <a:pt x="354" y="446"/>
                  </a:lnTo>
                  <a:lnTo>
                    <a:pt x="354" y="473"/>
                  </a:lnTo>
                  <a:lnTo>
                    <a:pt x="354" y="501"/>
                  </a:lnTo>
                  <a:lnTo>
                    <a:pt x="354" y="528"/>
                  </a:lnTo>
                  <a:lnTo>
                    <a:pt x="354" y="556"/>
                  </a:lnTo>
                  <a:lnTo>
                    <a:pt x="354" y="583"/>
                  </a:lnTo>
                  <a:lnTo>
                    <a:pt x="354" y="611"/>
                  </a:lnTo>
                  <a:close/>
                  <a:moveTo>
                    <a:pt x="58" y="144"/>
                  </a:moveTo>
                  <a:lnTo>
                    <a:pt x="66" y="133"/>
                  </a:lnTo>
                  <a:lnTo>
                    <a:pt x="74" y="122"/>
                  </a:lnTo>
                  <a:lnTo>
                    <a:pt x="82" y="110"/>
                  </a:lnTo>
                  <a:lnTo>
                    <a:pt x="90" y="100"/>
                  </a:lnTo>
                  <a:lnTo>
                    <a:pt x="114" y="119"/>
                  </a:lnTo>
                  <a:lnTo>
                    <a:pt x="139" y="139"/>
                  </a:lnTo>
                  <a:lnTo>
                    <a:pt x="163" y="158"/>
                  </a:lnTo>
                  <a:lnTo>
                    <a:pt x="187" y="178"/>
                  </a:lnTo>
                  <a:lnTo>
                    <a:pt x="211" y="198"/>
                  </a:lnTo>
                  <a:lnTo>
                    <a:pt x="236" y="217"/>
                  </a:lnTo>
                  <a:lnTo>
                    <a:pt x="260" y="237"/>
                  </a:lnTo>
                  <a:lnTo>
                    <a:pt x="284" y="256"/>
                  </a:lnTo>
                  <a:lnTo>
                    <a:pt x="276" y="267"/>
                  </a:lnTo>
                  <a:lnTo>
                    <a:pt x="269" y="278"/>
                  </a:lnTo>
                  <a:lnTo>
                    <a:pt x="260" y="289"/>
                  </a:lnTo>
                  <a:lnTo>
                    <a:pt x="252" y="300"/>
                  </a:lnTo>
                  <a:lnTo>
                    <a:pt x="228" y="280"/>
                  </a:lnTo>
                  <a:lnTo>
                    <a:pt x="203" y="261"/>
                  </a:lnTo>
                  <a:lnTo>
                    <a:pt x="179" y="241"/>
                  </a:lnTo>
                  <a:lnTo>
                    <a:pt x="155" y="222"/>
                  </a:lnTo>
                  <a:lnTo>
                    <a:pt x="131" y="203"/>
                  </a:lnTo>
                  <a:lnTo>
                    <a:pt x="106" y="183"/>
                  </a:lnTo>
                  <a:lnTo>
                    <a:pt x="82" y="164"/>
                  </a:lnTo>
                  <a:lnTo>
                    <a:pt x="58" y="14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346640" y="4869360"/>
              <a:ext cx="150840" cy="65880"/>
            </a:xfrm>
            <a:custGeom>
              <a:avLst/>
              <a:gdLst/>
              <a:ahLst/>
              <a:rect l="l" t="t" r="r" b="b"/>
              <a:pathLst>
                <a:path w="1115" h="465">
                  <a:moveTo>
                    <a:pt x="0" y="0"/>
                  </a:moveTo>
                  <a:lnTo>
                    <a:pt x="1115" y="248"/>
                  </a:lnTo>
                  <a:lnTo>
                    <a:pt x="1115" y="465"/>
                  </a:lnTo>
                  <a:lnTo>
                    <a:pt x="0" y="2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648680" y="4943880"/>
              <a:ext cx="252360" cy="82800"/>
            </a:xfrm>
            <a:custGeom>
              <a:avLst/>
              <a:gdLst/>
              <a:ahLst/>
              <a:rect l="l" t="t" r="r" b="b"/>
              <a:pathLst>
                <a:path w="1860" h="586">
                  <a:moveTo>
                    <a:pt x="0" y="0"/>
                  </a:moveTo>
                  <a:lnTo>
                    <a:pt x="683" y="168"/>
                  </a:lnTo>
                  <a:lnTo>
                    <a:pt x="683" y="295"/>
                  </a:lnTo>
                  <a:lnTo>
                    <a:pt x="0" y="128"/>
                  </a:lnTo>
                  <a:lnTo>
                    <a:pt x="0" y="0"/>
                  </a:lnTo>
                  <a:close/>
                  <a:moveTo>
                    <a:pt x="895" y="220"/>
                  </a:moveTo>
                  <a:lnTo>
                    <a:pt x="1860" y="459"/>
                  </a:lnTo>
                  <a:lnTo>
                    <a:pt x="1860" y="586"/>
                  </a:lnTo>
                  <a:lnTo>
                    <a:pt x="895" y="348"/>
                  </a:lnTo>
                  <a:lnTo>
                    <a:pt x="895" y="22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965840" y="5023800"/>
              <a:ext cx="129600" cy="48240"/>
            </a:xfrm>
            <a:custGeom>
              <a:avLst/>
              <a:gdLst/>
              <a:ahLst/>
              <a:rect l="l" t="t" r="r" b="b"/>
              <a:pathLst>
                <a:path w="955" h="342">
                  <a:moveTo>
                    <a:pt x="0" y="0"/>
                  </a:moveTo>
                  <a:lnTo>
                    <a:pt x="955" y="216"/>
                  </a:lnTo>
                  <a:lnTo>
                    <a:pt x="955" y="342"/>
                  </a:lnTo>
                  <a:lnTo>
                    <a:pt x="0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932000" y="4993200"/>
              <a:ext cx="10800" cy="279000"/>
            </a:xfrm>
            <a:custGeom>
              <a:avLst/>
              <a:gdLst/>
              <a:ahLst/>
              <a:rect l="l" t="t" r="r" b="b"/>
              <a:pathLst>
                <a:path w="80" h="1961">
                  <a:moveTo>
                    <a:pt x="0" y="0"/>
                  </a:moveTo>
                  <a:lnTo>
                    <a:pt x="80" y="20"/>
                  </a:lnTo>
                  <a:lnTo>
                    <a:pt x="80" y="1961"/>
                  </a:lnTo>
                  <a:lnTo>
                    <a:pt x="0" y="194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932000" y="5302440"/>
              <a:ext cx="10800" cy="409680"/>
            </a:xfrm>
            <a:custGeom>
              <a:avLst/>
              <a:gdLst/>
              <a:ahLst/>
              <a:rect l="l" t="t" r="r" b="b"/>
              <a:pathLst>
                <a:path w="80" h="2876">
                  <a:moveTo>
                    <a:pt x="0" y="0"/>
                  </a:moveTo>
                  <a:lnTo>
                    <a:pt x="80" y="19"/>
                  </a:lnTo>
                  <a:lnTo>
                    <a:pt x="80" y="2876"/>
                  </a:lnTo>
                  <a:lnTo>
                    <a:pt x="0" y="285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465080" y="5189760"/>
              <a:ext cx="10800" cy="409680"/>
            </a:xfrm>
            <a:custGeom>
              <a:avLst/>
              <a:gdLst/>
              <a:ahLst/>
              <a:rect l="l" t="t" r="r" b="b"/>
              <a:pathLst>
                <a:path w="78" h="2876">
                  <a:moveTo>
                    <a:pt x="0" y="0"/>
                  </a:moveTo>
                  <a:lnTo>
                    <a:pt x="78" y="20"/>
                  </a:lnTo>
                  <a:lnTo>
                    <a:pt x="78" y="2876"/>
                  </a:lnTo>
                  <a:lnTo>
                    <a:pt x="0" y="28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291200" y="5159880"/>
              <a:ext cx="107280" cy="61200"/>
            </a:xfrm>
            <a:custGeom>
              <a:avLst/>
              <a:gdLst/>
              <a:ahLst/>
              <a:rect l="l" t="t" r="r" b="b"/>
              <a:pathLst>
                <a:path w="793" h="433">
                  <a:moveTo>
                    <a:pt x="0" y="0"/>
                  </a:moveTo>
                  <a:lnTo>
                    <a:pt x="174" y="42"/>
                  </a:lnTo>
                  <a:lnTo>
                    <a:pt x="174" y="280"/>
                  </a:lnTo>
                  <a:lnTo>
                    <a:pt x="0" y="237"/>
                  </a:lnTo>
                  <a:lnTo>
                    <a:pt x="0" y="0"/>
                  </a:lnTo>
                  <a:close/>
                  <a:moveTo>
                    <a:pt x="303" y="74"/>
                  </a:moveTo>
                  <a:lnTo>
                    <a:pt x="478" y="118"/>
                  </a:lnTo>
                  <a:lnTo>
                    <a:pt x="478" y="355"/>
                  </a:lnTo>
                  <a:lnTo>
                    <a:pt x="303" y="312"/>
                  </a:lnTo>
                  <a:lnTo>
                    <a:pt x="303" y="74"/>
                  </a:lnTo>
                  <a:close/>
                  <a:moveTo>
                    <a:pt x="606" y="149"/>
                  </a:moveTo>
                  <a:lnTo>
                    <a:pt x="793" y="196"/>
                  </a:lnTo>
                  <a:lnTo>
                    <a:pt x="793" y="433"/>
                  </a:lnTo>
                  <a:lnTo>
                    <a:pt x="606" y="387"/>
                  </a:lnTo>
                  <a:lnTo>
                    <a:pt x="606" y="149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496760" y="538056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4"/>
                  </a:lnTo>
                  <a:lnTo>
                    <a:pt x="547" y="196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496760" y="540108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496760" y="5420880"/>
              <a:ext cx="74160" cy="2808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496760" y="544140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496760" y="546192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7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8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7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9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496760" y="5482440"/>
              <a:ext cx="74160" cy="2736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496760" y="550260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496760" y="552312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5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0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79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7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496760" y="5543640"/>
              <a:ext cx="74160" cy="2700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4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3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496760" y="55634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2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8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6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496760" y="558396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3"/>
                  </a:lnTo>
                  <a:lnTo>
                    <a:pt x="547" y="196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968360" y="549396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915" y="228"/>
                  </a:lnTo>
                  <a:lnTo>
                    <a:pt x="915" y="300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968360" y="551448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968360" y="553428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2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968360" y="55548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968360" y="557496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6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7"/>
                  </a:lnTo>
                  <a:lnTo>
                    <a:pt x="571" y="141"/>
                  </a:lnTo>
                  <a:lnTo>
                    <a:pt x="629" y="155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5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299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28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968360" y="559548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9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4"/>
                  </a:lnTo>
                  <a:lnTo>
                    <a:pt x="915" y="283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8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3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968360" y="561528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6"/>
                  </a:lnTo>
                  <a:lnTo>
                    <a:pt x="915" y="264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8360" y="5635440"/>
              <a:ext cx="124200" cy="4320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968360" y="5655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3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968360" y="5676120"/>
              <a:ext cx="124200" cy="4212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68360" y="569628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915" y="227"/>
                  </a:lnTo>
                  <a:lnTo>
                    <a:pt x="915" y="299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451400" y="5105160"/>
              <a:ext cx="36000" cy="47520"/>
            </a:xfrm>
            <a:custGeom>
              <a:avLst/>
              <a:gdLst/>
              <a:ahLst/>
              <a:rect l="l" t="t" r="r" b="b"/>
              <a:pathLst>
                <a:path w="267" h="334">
                  <a:moveTo>
                    <a:pt x="134" y="334"/>
                  </a:moveTo>
                  <a:lnTo>
                    <a:pt x="147" y="333"/>
                  </a:lnTo>
                  <a:lnTo>
                    <a:pt x="160" y="331"/>
                  </a:lnTo>
                  <a:lnTo>
                    <a:pt x="173" y="326"/>
                  </a:lnTo>
                  <a:lnTo>
                    <a:pt x="185" y="321"/>
                  </a:lnTo>
                  <a:lnTo>
                    <a:pt x="197" y="313"/>
                  </a:lnTo>
                  <a:lnTo>
                    <a:pt x="208" y="306"/>
                  </a:lnTo>
                  <a:lnTo>
                    <a:pt x="218" y="296"/>
                  </a:lnTo>
                  <a:lnTo>
                    <a:pt x="227" y="285"/>
                  </a:lnTo>
                  <a:lnTo>
                    <a:pt x="236" y="273"/>
                  </a:lnTo>
                  <a:lnTo>
                    <a:pt x="244" y="260"/>
                  </a:lnTo>
                  <a:lnTo>
                    <a:pt x="250" y="247"/>
                  </a:lnTo>
                  <a:lnTo>
                    <a:pt x="256" y="231"/>
                  </a:lnTo>
                  <a:lnTo>
                    <a:pt x="261" y="216"/>
                  </a:lnTo>
                  <a:lnTo>
                    <a:pt x="264" y="201"/>
                  </a:lnTo>
                  <a:lnTo>
                    <a:pt x="265" y="185"/>
                  </a:lnTo>
                  <a:lnTo>
                    <a:pt x="267" y="167"/>
                  </a:lnTo>
                  <a:lnTo>
                    <a:pt x="265" y="150"/>
                  </a:lnTo>
                  <a:lnTo>
                    <a:pt x="264" y="133"/>
                  </a:lnTo>
                  <a:lnTo>
                    <a:pt x="261" y="117"/>
                  </a:lnTo>
                  <a:lnTo>
                    <a:pt x="256" y="102"/>
                  </a:lnTo>
                  <a:lnTo>
                    <a:pt x="250" y="88"/>
                  </a:lnTo>
                  <a:lnTo>
                    <a:pt x="244" y="73"/>
                  </a:lnTo>
                  <a:lnTo>
                    <a:pt x="236" y="61"/>
                  </a:lnTo>
                  <a:lnTo>
                    <a:pt x="227" y="49"/>
                  </a:lnTo>
                  <a:lnTo>
                    <a:pt x="218" y="39"/>
                  </a:lnTo>
                  <a:lnTo>
                    <a:pt x="208" y="29"/>
                  </a:lnTo>
                  <a:lnTo>
                    <a:pt x="197" y="20"/>
                  </a:lnTo>
                  <a:lnTo>
                    <a:pt x="185" y="13"/>
                  </a:lnTo>
                  <a:lnTo>
                    <a:pt x="173" y="8"/>
                  </a:lnTo>
                  <a:lnTo>
                    <a:pt x="160" y="4"/>
                  </a:lnTo>
                  <a:lnTo>
                    <a:pt x="147" y="1"/>
                  </a:lnTo>
                  <a:lnTo>
                    <a:pt x="134" y="0"/>
                  </a:lnTo>
                  <a:lnTo>
                    <a:pt x="119" y="1"/>
                  </a:lnTo>
                  <a:lnTo>
                    <a:pt x="106" y="4"/>
                  </a:lnTo>
                  <a:lnTo>
                    <a:pt x="93" y="8"/>
                  </a:lnTo>
                  <a:lnTo>
                    <a:pt x="81" y="13"/>
                  </a:lnTo>
                  <a:lnTo>
                    <a:pt x="69" y="20"/>
                  </a:lnTo>
                  <a:lnTo>
                    <a:pt x="58" y="29"/>
                  </a:lnTo>
                  <a:lnTo>
                    <a:pt x="49" y="39"/>
                  </a:lnTo>
                  <a:lnTo>
                    <a:pt x="39" y="49"/>
                  </a:lnTo>
                  <a:lnTo>
                    <a:pt x="30" y="61"/>
                  </a:lnTo>
                  <a:lnTo>
                    <a:pt x="22" y="73"/>
                  </a:lnTo>
                  <a:lnTo>
                    <a:pt x="16" y="88"/>
                  </a:lnTo>
                  <a:lnTo>
                    <a:pt x="10" y="102"/>
                  </a:lnTo>
                  <a:lnTo>
                    <a:pt x="6" y="117"/>
                  </a:lnTo>
                  <a:lnTo>
                    <a:pt x="3" y="133"/>
                  </a:lnTo>
                  <a:lnTo>
                    <a:pt x="1" y="150"/>
                  </a:lnTo>
                  <a:lnTo>
                    <a:pt x="0" y="167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6" y="216"/>
                  </a:lnTo>
                  <a:lnTo>
                    <a:pt x="10" y="231"/>
                  </a:lnTo>
                  <a:lnTo>
                    <a:pt x="16" y="247"/>
                  </a:lnTo>
                  <a:lnTo>
                    <a:pt x="22" y="260"/>
                  </a:lnTo>
                  <a:lnTo>
                    <a:pt x="30" y="273"/>
                  </a:lnTo>
                  <a:lnTo>
                    <a:pt x="39" y="285"/>
                  </a:lnTo>
                  <a:lnTo>
                    <a:pt x="49" y="296"/>
                  </a:lnTo>
                  <a:lnTo>
                    <a:pt x="58" y="306"/>
                  </a:lnTo>
                  <a:lnTo>
                    <a:pt x="69" y="313"/>
                  </a:lnTo>
                  <a:lnTo>
                    <a:pt x="81" y="321"/>
                  </a:lnTo>
                  <a:lnTo>
                    <a:pt x="93" y="326"/>
                  </a:lnTo>
                  <a:lnTo>
                    <a:pt x="106" y="331"/>
                  </a:lnTo>
                  <a:lnTo>
                    <a:pt x="119" y="333"/>
                  </a:lnTo>
                  <a:lnTo>
                    <a:pt x="134" y="334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1" name=""/>
          <p:cNvSpPr/>
          <p:nvPr/>
        </p:nvSpPr>
        <p:spPr>
          <a:xfrm rot="19615800">
            <a:off x="6671160" y="4830480"/>
            <a:ext cx="76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470640" y="486900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rot="20028600">
            <a:off x="6378840" y="5013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REP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rot="19083600">
            <a:off x="7045560" y="458388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6"/>
          <a:stretch/>
        </p:blipFill>
        <p:spPr>
          <a:xfrm>
            <a:off x="879480" y="5259240"/>
            <a:ext cx="1077840" cy="833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grpSp>
        <p:nvGrpSpPr>
          <p:cNvPr id="1206" name=""/>
          <p:cNvGrpSpPr/>
          <p:nvPr/>
        </p:nvGrpSpPr>
        <p:grpSpPr>
          <a:xfrm>
            <a:off x="7047000" y="3114720"/>
            <a:ext cx="1265040" cy="977760"/>
            <a:chOff x="7047000" y="3114720"/>
            <a:chExt cx="1265040" cy="977760"/>
          </a:xfrm>
        </p:grpSpPr>
        <p:pic>
          <p:nvPicPr>
            <p:cNvPr id="1207" name="" descr=""/>
            <p:cNvPicPr/>
            <p:nvPr/>
          </p:nvPicPr>
          <p:blipFill>
            <a:blip r:embed="rId7"/>
            <a:stretch/>
          </p:blipFill>
          <p:spPr>
            <a:xfrm>
              <a:off x="7047000" y="311472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1208" name=""/>
            <p:cNvSpPr/>
            <p:nvPr/>
          </p:nvSpPr>
          <p:spPr>
            <a:xfrm>
              <a:off x="7282440" y="334980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 txBox="1"/>
          <p:nvPr/>
        </p:nvSpPr>
        <p:spPr>
          <a:xfrm>
            <a:off x="2362320" y="5753160"/>
            <a:ext cx="838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, 2</a:t>
            </a: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1981080" y="4457880"/>
            <a:ext cx="106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, 4, 5</a:t>
            </a:r>
            <a:endParaRPr b="0" lang="en-US" sz="24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2362320" y="1371600"/>
            <a:ext cx="304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24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2438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, 8</a:t>
            </a:r>
            <a:endParaRPr b="0" lang="en-US" sz="24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5715000" y="2666880"/>
            <a:ext cx="91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, 10</a:t>
            </a:r>
            <a:endParaRPr b="0" lang="en-US" sz="2400" spc="1" strike="noStrike">
              <a:ln w="0">
                <a:noFill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4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10 Public Health Use C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iversal public health node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16" name="" descr=""/>
          <p:cNvPicPr/>
          <p:nvPr/>
        </p:nvPicPr>
        <p:blipFill>
          <a:blip r:embed="rId1"/>
          <a:stretch/>
        </p:blipFill>
        <p:spPr>
          <a:xfrm>
            <a:off x="338040" y="1308240"/>
            <a:ext cx="8425080" cy="326232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/>
          <p:nvPr/>
        </p:nvSpPr>
        <p:spPr>
          <a:xfrm>
            <a:off x="228600" y="449568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atient Queri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Casualty- 311 Patient Locat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aster Medical 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dated Repor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Health Investig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berculosis All Points Bulletin (APB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14800" y="4648320"/>
            <a:ext cx="4800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onymized Line Lists OR Analytic Queri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Mandated Repor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ndromic Surveil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ral (incl. Influenza) Surveil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x resistance patter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lity Repor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ew RHIO Requirements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distribute analytic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 l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gregation queries (counts, num/den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nymization &amp; Reiden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gation with ability to drill down/ au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Health Query Langu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saging standards for aggregate inform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s can have many potential benefits for public health agen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tration of public health value may help sustain HIEs financi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ment of public heath agencies in the design, governance, and funding of HIEs in their communities is necessary for these goals to be rea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tive Government Role in N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Y City Mayoral EHR initi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27 million for interoperable E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Y State HEAL-NY Bond Gr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53 million to 26 proposed HIEs (9 in NY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 for “Public Health Report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HMH is partner in multiple H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YC Center of Excellence in Public Health Informatics (CD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2317" t="0" r="2993" b="0"/>
          <a:stretch/>
        </p:blipFill>
        <p:spPr>
          <a:xfrm>
            <a:off x="-152280" y="-457200"/>
            <a:ext cx="9372600" cy="88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CIP Roadma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249"/>
              </a:spcBef>
              <a:spcAft>
                <a:spcPts val="4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wide EHR Networ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ure “best of breed” Electronic Health Recor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Public Health/Quality Improvement functiona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pare Network and Hardware Infra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end to Correctional Health and community provide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wide Quality Improvement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itywide automated quality measurement and repor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cision supports and other quality improv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end to other ambulatory EH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wide Health Information Exchange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faces to other systems (e.g., HH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ndromic and Notifiable Disease Repor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itywide Immunization, Lead Registries, and School Heal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dicaid medication his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nkages to RH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9880" y="3886200"/>
            <a:ext cx="1524240" cy="9144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609480"/>
            <a:ext cx="2819520" cy="419112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3733920"/>
            <a:ext cx="2514600" cy="99036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533520"/>
            <a:ext cx="2971800" cy="32004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2971800"/>
            <a:ext cx="838080" cy="6858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2640" y="312408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osi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9320" y="620640"/>
            <a:ext cx="97308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IS/EM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6440" y="990720"/>
            <a:ext cx="100656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arm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3560" y="1371600"/>
            <a:ext cx="103104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b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240" y="1752480"/>
            <a:ext cx="102348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diolog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240" y="2133720"/>
            <a:ext cx="103248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rdiolog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5360" y="2514600"/>
            <a:ext cx="103860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T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8" idx="3"/>
            <a:endCxn id="66" idx="1"/>
          </p:cNvCxnSpPr>
          <p:nvPr/>
        </p:nvCxnSpPr>
        <p:spPr>
          <a:xfrm>
            <a:off x="1203480" y="772920"/>
            <a:ext cx="358920" cy="21992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9" idx="3"/>
            <a:endCxn id="66" idx="1"/>
          </p:cNvCxnSpPr>
          <p:nvPr/>
        </p:nvCxnSpPr>
        <p:spPr>
          <a:xfrm>
            <a:off x="1230120" y="1143000"/>
            <a:ext cx="332280" cy="18295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70" idx="3"/>
            <a:endCxn id="66" idx="1"/>
          </p:cNvCxnSpPr>
          <p:nvPr/>
        </p:nvCxnSpPr>
        <p:spPr>
          <a:xfrm>
            <a:off x="1248840" y="1523880"/>
            <a:ext cx="313560" cy="14486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1" idx="3"/>
            <a:endCxn id="66" idx="1"/>
          </p:cNvCxnSpPr>
          <p:nvPr/>
        </p:nvCxnSpPr>
        <p:spPr>
          <a:xfrm>
            <a:off x="1251000" y="1904760"/>
            <a:ext cx="311760" cy="10674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2" idx="3"/>
            <a:endCxn id="66" idx="1"/>
          </p:cNvCxnSpPr>
          <p:nvPr/>
        </p:nvCxnSpPr>
        <p:spPr>
          <a:xfrm>
            <a:off x="1260360" y="2285640"/>
            <a:ext cx="302400" cy="6865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3" idx="3"/>
            <a:endCxn id="66" idx="1"/>
          </p:cNvCxnSpPr>
          <p:nvPr/>
        </p:nvCxnSpPr>
        <p:spPr>
          <a:xfrm>
            <a:off x="1260360" y="2666520"/>
            <a:ext cx="302400" cy="3056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1447920" y="685800"/>
            <a:ext cx="30456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608760" y="15973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erface Engine/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7632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articipating Membe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both care provider &amp; data sourc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23280" y="685800"/>
            <a:ext cx="1218960" cy="457200"/>
          </a:xfrm>
          <a:prstGeom prst="can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22040" y="0"/>
            <a:ext cx="366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chnical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aw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3657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560" y="373392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YCLIX 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5280" y="3809880"/>
            <a:ext cx="609840" cy="685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280" y="4800600"/>
            <a:ext cx="388620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em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YCLIX Layer can be provided by NYCLIX or internally built according to standar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er sends ADT for all patients registered/admit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quest for NYCLIX information can be initiated by member  via Web or triggered via ADT in member’s 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quest for Member information is initiated by NYCLIX central to each member who has patient in record locato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7160" y="33192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YCLIX Centr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34440" y="1219320"/>
            <a:ext cx="1218960" cy="457200"/>
          </a:xfrm>
          <a:prstGeom prst="can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129528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rticipating Entity &amp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34440" y="1752480"/>
            <a:ext cx="1218960" cy="457200"/>
          </a:xfrm>
          <a:prstGeom prst="can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5440" y="1828800"/>
            <a:ext cx="127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tient matching &amp;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cord Loc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54960" y="2286000"/>
            <a:ext cx="1219320" cy="457200"/>
          </a:xfrm>
          <a:prstGeom prst="can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45600" y="2362320"/>
            <a:ext cx="105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ggregation &amp;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ndardiz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4960" y="2879640"/>
            <a:ext cx="1219320" cy="457200"/>
          </a:xfrm>
          <a:prstGeom prst="can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46320" y="762120"/>
            <a:ext cx="110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curity Mgmt &amp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ccess Contr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96080" y="3352680"/>
            <a:ext cx="758880" cy="106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162920" y="41911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41911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7620120" y="41911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7848720" y="41911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8077320" y="419112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8120" y="1660680"/>
            <a:ext cx="3047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762120"/>
            <a:ext cx="457200" cy="3429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5978880" y="2401200"/>
            <a:ext cx="25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YCLIX Application Lay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1965240"/>
            <a:ext cx="304776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1432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1) All ADT from Me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2286000"/>
            <a:ext cx="3047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048120"/>
            <a:ext cx="3047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352680"/>
            <a:ext cx="312408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752480"/>
            <a:ext cx="22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2) NYCLIX Central Data Reques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2057400"/>
            <a:ext cx="22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3) NYCLIX Data Source Res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6320" y="5938920"/>
            <a:ext cx="604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74560" y="4038480"/>
            <a:ext cx="339120" cy="439560"/>
            <a:chOff x="574560" y="4038480"/>
            <a:chExt cx="339120" cy="439560"/>
          </a:xfrm>
        </p:grpSpPr>
        <p:grpSp>
          <p:nvGrpSpPr>
            <p:cNvPr id="116" name=""/>
            <p:cNvGrpSpPr/>
            <p:nvPr/>
          </p:nvGrpSpPr>
          <p:grpSpPr>
            <a:xfrm>
              <a:off x="574560" y="4038480"/>
              <a:ext cx="339120" cy="439560"/>
              <a:chOff x="574560" y="4038480"/>
              <a:chExt cx="339120" cy="43956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574560" y="4329720"/>
                <a:ext cx="28800" cy="30960"/>
                <a:chOff x="574560" y="4329720"/>
                <a:chExt cx="28800" cy="3096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578160" y="4337640"/>
                  <a:ext cx="25200" cy="23040"/>
                  <a:chOff x="578160" y="4337640"/>
                  <a:chExt cx="25200" cy="2304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578160" y="4337640"/>
                    <a:ext cx="2520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8">
                        <a:moveTo>
                          <a:pt x="0" y="0"/>
                        </a:moveTo>
                        <a:lnTo>
                          <a:pt x="56" y="6"/>
                        </a:lnTo>
                        <a:lnTo>
                          <a:pt x="56" y="14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78160" y="4337640"/>
                    <a:ext cx="2520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8">
                        <a:moveTo>
                          <a:pt x="0" y="0"/>
                        </a:moveTo>
                        <a:lnTo>
                          <a:pt x="56" y="6"/>
                        </a:lnTo>
                        <a:lnTo>
                          <a:pt x="56" y="14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>
                  <a:off x="574560" y="4329720"/>
                  <a:ext cx="6120" cy="2988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95440" y="4038480"/>
                <a:ext cx="318240" cy="439560"/>
                <a:chOff x="595440" y="4038480"/>
                <a:chExt cx="318240" cy="439560"/>
              </a:xfrm>
            </p:grpSpPr>
            <p:grpSp>
              <p:nvGrpSpPr>
                <p:cNvPr id="123" name=""/>
                <p:cNvGrpSpPr/>
                <p:nvPr/>
              </p:nvGrpSpPr>
              <p:grpSpPr>
                <a:xfrm>
                  <a:off x="595440" y="4323240"/>
                  <a:ext cx="83520" cy="78480"/>
                  <a:chOff x="595440" y="4323240"/>
                  <a:chExt cx="83520" cy="78480"/>
                </a:xfrm>
              </p:grpSpPr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606960" y="4323240"/>
                    <a:ext cx="28080" cy="23760"/>
                    <a:chOff x="606960" y="4323240"/>
                    <a:chExt cx="28080" cy="23760"/>
                  </a:xfrm>
                </p:grpSpPr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606960" y="4323240"/>
                      <a:ext cx="2808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18">
                          <a:moveTo>
                            <a:pt x="62" y="18"/>
                          </a:moveTo>
                          <a:lnTo>
                            <a:pt x="43" y="9"/>
                          </a:lnTo>
                          <a:lnTo>
                            <a:pt x="20" y="1"/>
                          </a:lnTo>
                          <a:lnTo>
                            <a:pt x="12" y="0"/>
                          </a:lnTo>
                          <a:lnTo>
                            <a:pt x="6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7"/>
                          </a:lnTo>
                          <a:lnTo>
                            <a:pt x="2" y="9"/>
                          </a:lnTo>
                          <a:lnTo>
                            <a:pt x="6" y="10"/>
                          </a:lnTo>
                          <a:lnTo>
                            <a:pt x="12" y="13"/>
                          </a:lnTo>
                          <a:lnTo>
                            <a:pt x="24" y="18"/>
                          </a:lnTo>
                          <a:lnTo>
                            <a:pt x="62" y="18"/>
                          </a:lnTo>
                          <a:close/>
                        </a:path>
                      </a:pathLst>
                    </a:custGeom>
                    <a:solidFill>
                      <a:srgbClr val="ff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06960" y="4323240"/>
                      <a:ext cx="2808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18">
                          <a:moveTo>
                            <a:pt x="62" y="18"/>
                          </a:moveTo>
                          <a:lnTo>
                            <a:pt x="43" y="9"/>
                          </a:lnTo>
                          <a:lnTo>
                            <a:pt x="20" y="1"/>
                          </a:lnTo>
                          <a:lnTo>
                            <a:pt x="12" y="0"/>
                          </a:lnTo>
                          <a:lnTo>
                            <a:pt x="6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7"/>
                          </a:lnTo>
                          <a:lnTo>
                            <a:pt x="2" y="9"/>
                          </a:lnTo>
                          <a:lnTo>
                            <a:pt x="6" y="10"/>
                          </a:lnTo>
                          <a:lnTo>
                            <a:pt x="12" y="13"/>
                          </a:lnTo>
                          <a:lnTo>
                            <a:pt x="24" y="18"/>
                          </a:lnTo>
                          <a:lnTo>
                            <a:pt x="62" y="18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7" name=""/>
                  <p:cNvGrpSpPr/>
                  <p:nvPr/>
                </p:nvGrpSpPr>
                <p:grpSpPr>
                  <a:xfrm>
                    <a:off x="595440" y="4329720"/>
                    <a:ext cx="83520" cy="72000"/>
                    <a:chOff x="595440" y="4329720"/>
                    <a:chExt cx="83520" cy="72000"/>
                  </a:xfrm>
                </p:grpSpPr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595440" y="4329720"/>
                      <a:ext cx="83520" cy="7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3" h="55">
                          <a:moveTo>
                            <a:pt x="183" y="28"/>
                          </a:moveTo>
                          <a:lnTo>
                            <a:pt x="158" y="25"/>
                          </a:lnTo>
                          <a:lnTo>
                            <a:pt x="134" y="20"/>
                          </a:lnTo>
                          <a:lnTo>
                            <a:pt x="123" y="17"/>
                          </a:lnTo>
                          <a:lnTo>
                            <a:pt x="117" y="14"/>
                          </a:lnTo>
                          <a:lnTo>
                            <a:pt x="105" y="8"/>
                          </a:lnTo>
                          <a:lnTo>
                            <a:pt x="95" y="5"/>
                          </a:lnTo>
                          <a:lnTo>
                            <a:pt x="82" y="3"/>
                          </a:lnTo>
                          <a:lnTo>
                            <a:pt x="62" y="0"/>
                          </a:lnTo>
                          <a:lnTo>
                            <a:pt x="47" y="0"/>
                          </a:lnTo>
                          <a:lnTo>
                            <a:pt x="33" y="0"/>
                          </a:lnTo>
                          <a:lnTo>
                            <a:pt x="17" y="2"/>
                          </a:lnTo>
                          <a:lnTo>
                            <a:pt x="10" y="4"/>
                          </a:lnTo>
                          <a:lnTo>
                            <a:pt x="6" y="5"/>
                          </a:lnTo>
                          <a:lnTo>
                            <a:pt x="6" y="8"/>
                          </a:lnTo>
                          <a:lnTo>
                            <a:pt x="6" y="10"/>
                          </a:lnTo>
                          <a:lnTo>
                            <a:pt x="12" y="13"/>
                          </a:lnTo>
                          <a:lnTo>
                            <a:pt x="29" y="13"/>
                          </a:lnTo>
                          <a:lnTo>
                            <a:pt x="12" y="13"/>
                          </a:lnTo>
                          <a:lnTo>
                            <a:pt x="6" y="13"/>
                          </a:lnTo>
                          <a:lnTo>
                            <a:pt x="2" y="15"/>
                          </a:lnTo>
                          <a:lnTo>
                            <a:pt x="0" y="16"/>
                          </a:lnTo>
                          <a:lnTo>
                            <a:pt x="0" y="19"/>
                          </a:lnTo>
                          <a:lnTo>
                            <a:pt x="2" y="20"/>
                          </a:lnTo>
                          <a:lnTo>
                            <a:pt x="6" y="21"/>
                          </a:lnTo>
                          <a:lnTo>
                            <a:pt x="12" y="23"/>
                          </a:lnTo>
                          <a:lnTo>
                            <a:pt x="23" y="23"/>
                          </a:lnTo>
                          <a:lnTo>
                            <a:pt x="14" y="23"/>
                          </a:lnTo>
                          <a:lnTo>
                            <a:pt x="8" y="24"/>
                          </a:lnTo>
                          <a:lnTo>
                            <a:pt x="4" y="24"/>
                          </a:lnTo>
                          <a:lnTo>
                            <a:pt x="2" y="26"/>
                          </a:lnTo>
                          <a:lnTo>
                            <a:pt x="2" y="29"/>
                          </a:lnTo>
                          <a:lnTo>
                            <a:pt x="6" y="30"/>
                          </a:lnTo>
                          <a:lnTo>
                            <a:pt x="12" y="33"/>
                          </a:lnTo>
                          <a:lnTo>
                            <a:pt x="21" y="34"/>
                          </a:lnTo>
                          <a:lnTo>
                            <a:pt x="16" y="33"/>
                          </a:lnTo>
                          <a:lnTo>
                            <a:pt x="10" y="33"/>
                          </a:lnTo>
                          <a:lnTo>
                            <a:pt x="6" y="33"/>
                          </a:lnTo>
                          <a:lnTo>
                            <a:pt x="6" y="35"/>
                          </a:lnTo>
                          <a:lnTo>
                            <a:pt x="8" y="37"/>
                          </a:lnTo>
                          <a:lnTo>
                            <a:pt x="16" y="39"/>
                          </a:lnTo>
                          <a:lnTo>
                            <a:pt x="23" y="41"/>
                          </a:lnTo>
                          <a:lnTo>
                            <a:pt x="41" y="43"/>
                          </a:lnTo>
                          <a:lnTo>
                            <a:pt x="52" y="43"/>
                          </a:lnTo>
                          <a:lnTo>
                            <a:pt x="68" y="43"/>
                          </a:lnTo>
                          <a:lnTo>
                            <a:pt x="86" y="41"/>
                          </a:lnTo>
                          <a:lnTo>
                            <a:pt x="105" y="43"/>
                          </a:lnTo>
                          <a:lnTo>
                            <a:pt x="124" y="48"/>
                          </a:lnTo>
                          <a:lnTo>
                            <a:pt x="148" y="51"/>
                          </a:lnTo>
                          <a:lnTo>
                            <a:pt x="161" y="55"/>
                          </a:lnTo>
                          <a:lnTo>
                            <a:pt x="183" y="28"/>
                          </a:lnTo>
                          <a:close/>
                        </a:path>
                      </a:pathLst>
                    </a:custGeom>
                    <a:solidFill>
                      <a:srgbClr val="ff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595440" y="4329720"/>
                      <a:ext cx="83520" cy="7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3" h="55">
                          <a:moveTo>
                            <a:pt x="183" y="28"/>
                          </a:moveTo>
                          <a:lnTo>
                            <a:pt x="158" y="25"/>
                          </a:lnTo>
                          <a:lnTo>
                            <a:pt x="134" y="20"/>
                          </a:lnTo>
                          <a:lnTo>
                            <a:pt x="123" y="17"/>
                          </a:lnTo>
                          <a:lnTo>
                            <a:pt x="117" y="14"/>
                          </a:lnTo>
                          <a:lnTo>
                            <a:pt x="105" y="8"/>
                          </a:lnTo>
                          <a:lnTo>
                            <a:pt x="95" y="5"/>
                          </a:lnTo>
                          <a:lnTo>
                            <a:pt x="82" y="3"/>
                          </a:lnTo>
                          <a:lnTo>
                            <a:pt x="62" y="0"/>
                          </a:lnTo>
                          <a:lnTo>
                            <a:pt x="47" y="0"/>
                          </a:lnTo>
                          <a:lnTo>
                            <a:pt x="33" y="0"/>
                          </a:lnTo>
                          <a:lnTo>
                            <a:pt x="17" y="2"/>
                          </a:lnTo>
                          <a:lnTo>
                            <a:pt x="10" y="4"/>
                          </a:lnTo>
                          <a:lnTo>
                            <a:pt x="6" y="5"/>
                          </a:lnTo>
                          <a:lnTo>
                            <a:pt x="6" y="8"/>
                          </a:lnTo>
                          <a:lnTo>
                            <a:pt x="6" y="10"/>
                          </a:lnTo>
                          <a:lnTo>
                            <a:pt x="12" y="13"/>
                          </a:lnTo>
                          <a:lnTo>
                            <a:pt x="29" y="13"/>
                          </a:lnTo>
                          <a:lnTo>
                            <a:pt x="12" y="13"/>
                          </a:lnTo>
                          <a:lnTo>
                            <a:pt x="6" y="13"/>
                          </a:lnTo>
                          <a:lnTo>
                            <a:pt x="2" y="15"/>
                          </a:lnTo>
                          <a:lnTo>
                            <a:pt x="0" y="16"/>
                          </a:lnTo>
                          <a:lnTo>
                            <a:pt x="0" y="19"/>
                          </a:lnTo>
                          <a:lnTo>
                            <a:pt x="2" y="20"/>
                          </a:lnTo>
                          <a:lnTo>
                            <a:pt x="6" y="21"/>
                          </a:lnTo>
                          <a:lnTo>
                            <a:pt x="12" y="23"/>
                          </a:lnTo>
                          <a:lnTo>
                            <a:pt x="23" y="23"/>
                          </a:lnTo>
                          <a:lnTo>
                            <a:pt x="14" y="23"/>
                          </a:lnTo>
                          <a:lnTo>
                            <a:pt x="8" y="24"/>
                          </a:lnTo>
                          <a:lnTo>
                            <a:pt x="4" y="24"/>
                          </a:lnTo>
                          <a:lnTo>
                            <a:pt x="2" y="26"/>
                          </a:lnTo>
                          <a:lnTo>
                            <a:pt x="2" y="29"/>
                          </a:lnTo>
                          <a:lnTo>
                            <a:pt x="6" y="30"/>
                          </a:lnTo>
                          <a:lnTo>
                            <a:pt x="12" y="33"/>
                          </a:lnTo>
                          <a:lnTo>
                            <a:pt x="21" y="34"/>
                          </a:lnTo>
                          <a:lnTo>
                            <a:pt x="16" y="33"/>
                          </a:lnTo>
                          <a:lnTo>
                            <a:pt x="10" y="33"/>
                          </a:lnTo>
                          <a:lnTo>
                            <a:pt x="6" y="33"/>
                          </a:lnTo>
                          <a:lnTo>
                            <a:pt x="6" y="35"/>
                          </a:lnTo>
                          <a:lnTo>
                            <a:pt x="8" y="37"/>
                          </a:lnTo>
                          <a:lnTo>
                            <a:pt x="16" y="39"/>
                          </a:lnTo>
                          <a:lnTo>
                            <a:pt x="23" y="41"/>
                          </a:lnTo>
                          <a:lnTo>
                            <a:pt x="41" y="43"/>
                          </a:lnTo>
                          <a:lnTo>
                            <a:pt x="52" y="43"/>
                          </a:lnTo>
                          <a:lnTo>
                            <a:pt x="68" y="43"/>
                          </a:lnTo>
                          <a:lnTo>
                            <a:pt x="86" y="41"/>
                          </a:lnTo>
                          <a:lnTo>
                            <a:pt x="105" y="43"/>
                          </a:lnTo>
                          <a:lnTo>
                            <a:pt x="124" y="48"/>
                          </a:lnTo>
                          <a:lnTo>
                            <a:pt x="148" y="51"/>
                          </a:lnTo>
                          <a:lnTo>
                            <a:pt x="161" y="55"/>
                          </a:lnTo>
                          <a:lnTo>
                            <a:pt x="183" y="28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724680" y="4205160"/>
                  <a:ext cx="23400" cy="118080"/>
                  <a:chOff x="724680" y="4205160"/>
                  <a:chExt cx="23400" cy="1180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724680" y="4205160"/>
                    <a:ext cx="2340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90">
                        <a:moveTo>
                          <a:pt x="37" y="0"/>
                        </a:moveTo>
                        <a:lnTo>
                          <a:pt x="39" y="7"/>
                        </a:lnTo>
                        <a:lnTo>
                          <a:pt x="43" y="12"/>
                        </a:lnTo>
                        <a:lnTo>
                          <a:pt x="51" y="17"/>
                        </a:lnTo>
                        <a:lnTo>
                          <a:pt x="45" y="19"/>
                        </a:lnTo>
                        <a:lnTo>
                          <a:pt x="39" y="22"/>
                        </a:lnTo>
                        <a:lnTo>
                          <a:pt x="31" y="23"/>
                        </a:lnTo>
                        <a:lnTo>
                          <a:pt x="23" y="24"/>
                        </a:lnTo>
                        <a:lnTo>
                          <a:pt x="29" y="29"/>
                        </a:lnTo>
                        <a:lnTo>
                          <a:pt x="29" y="33"/>
                        </a:lnTo>
                        <a:lnTo>
                          <a:pt x="41" y="43"/>
                        </a:lnTo>
                        <a:lnTo>
                          <a:pt x="21" y="90"/>
                        </a:lnTo>
                        <a:lnTo>
                          <a:pt x="14" y="71"/>
                        </a:lnTo>
                        <a:lnTo>
                          <a:pt x="8" y="59"/>
                        </a:lnTo>
                        <a:lnTo>
                          <a:pt x="6" y="49"/>
                        </a:lnTo>
                        <a:lnTo>
                          <a:pt x="2" y="39"/>
                        </a:lnTo>
                        <a:lnTo>
                          <a:pt x="0" y="31"/>
                        </a:lnTo>
                        <a:lnTo>
                          <a:pt x="0" y="27"/>
                        </a:lnTo>
                        <a:lnTo>
                          <a:pt x="6" y="23"/>
                        </a:lnTo>
                        <a:lnTo>
                          <a:pt x="12" y="21"/>
                        </a:lnTo>
                        <a:lnTo>
                          <a:pt x="16" y="19"/>
                        </a:lnTo>
                        <a:lnTo>
                          <a:pt x="16" y="17"/>
                        </a:lnTo>
                        <a:lnTo>
                          <a:pt x="19" y="10"/>
                        </a:lnTo>
                        <a:lnTo>
                          <a:pt x="27" y="6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724680" y="4205160"/>
                    <a:ext cx="2340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90">
                        <a:moveTo>
                          <a:pt x="37" y="0"/>
                        </a:moveTo>
                        <a:lnTo>
                          <a:pt x="39" y="7"/>
                        </a:lnTo>
                        <a:lnTo>
                          <a:pt x="43" y="12"/>
                        </a:lnTo>
                        <a:lnTo>
                          <a:pt x="51" y="17"/>
                        </a:lnTo>
                        <a:lnTo>
                          <a:pt x="45" y="19"/>
                        </a:lnTo>
                        <a:lnTo>
                          <a:pt x="39" y="22"/>
                        </a:lnTo>
                        <a:lnTo>
                          <a:pt x="31" y="23"/>
                        </a:lnTo>
                        <a:lnTo>
                          <a:pt x="23" y="24"/>
                        </a:lnTo>
                        <a:lnTo>
                          <a:pt x="29" y="29"/>
                        </a:lnTo>
                        <a:lnTo>
                          <a:pt x="29" y="33"/>
                        </a:lnTo>
                        <a:lnTo>
                          <a:pt x="41" y="43"/>
                        </a:lnTo>
                        <a:lnTo>
                          <a:pt x="21" y="90"/>
                        </a:lnTo>
                        <a:lnTo>
                          <a:pt x="14" y="71"/>
                        </a:lnTo>
                        <a:lnTo>
                          <a:pt x="8" y="59"/>
                        </a:lnTo>
                        <a:lnTo>
                          <a:pt x="6" y="49"/>
                        </a:lnTo>
                        <a:lnTo>
                          <a:pt x="2" y="39"/>
                        </a:lnTo>
                        <a:lnTo>
                          <a:pt x="0" y="31"/>
                        </a:lnTo>
                        <a:lnTo>
                          <a:pt x="0" y="27"/>
                        </a:lnTo>
                        <a:lnTo>
                          <a:pt x="6" y="23"/>
                        </a:lnTo>
                        <a:lnTo>
                          <a:pt x="12" y="21"/>
                        </a:lnTo>
                        <a:lnTo>
                          <a:pt x="16" y="19"/>
                        </a:lnTo>
                        <a:lnTo>
                          <a:pt x="16" y="17"/>
                        </a:lnTo>
                        <a:lnTo>
                          <a:pt x="19" y="10"/>
                        </a:lnTo>
                        <a:lnTo>
                          <a:pt x="27" y="6"/>
                        </a:lnTo>
                        <a:lnTo>
                          <a:pt x="37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40880" y="4142160"/>
                  <a:ext cx="59040" cy="100800"/>
                  <a:chOff x="740880" y="4142160"/>
                  <a:chExt cx="59040" cy="10080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740880" y="4142160"/>
                    <a:ext cx="5904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77">
                        <a:moveTo>
                          <a:pt x="107" y="0"/>
                        </a:moveTo>
                        <a:lnTo>
                          <a:pt x="130" y="16"/>
                        </a:lnTo>
                        <a:lnTo>
                          <a:pt x="103" y="23"/>
                        </a:lnTo>
                        <a:lnTo>
                          <a:pt x="78" y="34"/>
                        </a:lnTo>
                        <a:lnTo>
                          <a:pt x="51" y="48"/>
                        </a:lnTo>
                        <a:lnTo>
                          <a:pt x="31" y="64"/>
                        </a:lnTo>
                        <a:lnTo>
                          <a:pt x="21" y="77"/>
                        </a:lnTo>
                        <a:lnTo>
                          <a:pt x="19" y="70"/>
                        </a:lnTo>
                        <a:lnTo>
                          <a:pt x="8" y="58"/>
                        </a:lnTo>
                        <a:lnTo>
                          <a:pt x="2" y="54"/>
                        </a:lnTo>
                        <a:lnTo>
                          <a:pt x="0" y="48"/>
                        </a:lnTo>
                        <a:lnTo>
                          <a:pt x="0" y="46"/>
                        </a:lnTo>
                        <a:lnTo>
                          <a:pt x="16" y="37"/>
                        </a:lnTo>
                        <a:lnTo>
                          <a:pt x="37" y="27"/>
                        </a:lnTo>
                        <a:lnTo>
                          <a:pt x="66" y="16"/>
                        </a:lnTo>
                        <a:lnTo>
                          <a:pt x="107" y="0"/>
                        </a:lnTo>
                        <a:close/>
                      </a:path>
                    </a:pathLst>
                  </a:custGeom>
                  <a:solidFill>
                    <a:srgbClr val="e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40880" y="4142160"/>
                    <a:ext cx="5904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77">
                        <a:moveTo>
                          <a:pt x="107" y="0"/>
                        </a:moveTo>
                        <a:lnTo>
                          <a:pt x="130" y="16"/>
                        </a:lnTo>
                        <a:lnTo>
                          <a:pt x="103" y="23"/>
                        </a:lnTo>
                        <a:lnTo>
                          <a:pt x="78" y="34"/>
                        </a:lnTo>
                        <a:lnTo>
                          <a:pt x="51" y="48"/>
                        </a:lnTo>
                        <a:lnTo>
                          <a:pt x="31" y="64"/>
                        </a:lnTo>
                        <a:lnTo>
                          <a:pt x="21" y="77"/>
                        </a:lnTo>
                        <a:lnTo>
                          <a:pt x="19" y="70"/>
                        </a:lnTo>
                        <a:lnTo>
                          <a:pt x="8" y="58"/>
                        </a:lnTo>
                        <a:lnTo>
                          <a:pt x="2" y="54"/>
                        </a:lnTo>
                        <a:lnTo>
                          <a:pt x="0" y="48"/>
                        </a:lnTo>
                        <a:lnTo>
                          <a:pt x="0" y="46"/>
                        </a:lnTo>
                        <a:lnTo>
                          <a:pt x="16" y="37"/>
                        </a:lnTo>
                        <a:lnTo>
                          <a:pt x="37" y="27"/>
                        </a:lnTo>
                        <a:lnTo>
                          <a:pt x="66" y="16"/>
                        </a:lnTo>
                        <a:lnTo>
                          <a:pt x="107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671040" y="4038480"/>
                  <a:ext cx="124560" cy="170640"/>
                  <a:chOff x="671040" y="4038480"/>
                  <a:chExt cx="124560" cy="17064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671040" y="4038480"/>
                    <a:ext cx="12456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30">
                        <a:moveTo>
                          <a:pt x="59" y="13"/>
                        </a:moveTo>
                        <a:lnTo>
                          <a:pt x="82" y="7"/>
                        </a:lnTo>
                        <a:lnTo>
                          <a:pt x="103" y="3"/>
                        </a:lnTo>
                        <a:lnTo>
                          <a:pt x="127" y="1"/>
                        </a:lnTo>
                        <a:lnTo>
                          <a:pt x="152" y="0"/>
                        </a:lnTo>
                        <a:lnTo>
                          <a:pt x="175" y="1"/>
                        </a:lnTo>
                        <a:lnTo>
                          <a:pt x="199" y="3"/>
                        </a:lnTo>
                        <a:lnTo>
                          <a:pt x="224" y="8"/>
                        </a:lnTo>
                        <a:lnTo>
                          <a:pt x="251" y="18"/>
                        </a:lnTo>
                        <a:lnTo>
                          <a:pt x="265" y="30"/>
                        </a:lnTo>
                        <a:lnTo>
                          <a:pt x="273" y="38"/>
                        </a:lnTo>
                        <a:lnTo>
                          <a:pt x="275" y="48"/>
                        </a:lnTo>
                        <a:lnTo>
                          <a:pt x="269" y="57"/>
                        </a:lnTo>
                        <a:lnTo>
                          <a:pt x="261" y="63"/>
                        </a:lnTo>
                        <a:lnTo>
                          <a:pt x="261" y="69"/>
                        </a:lnTo>
                        <a:lnTo>
                          <a:pt x="263" y="79"/>
                        </a:lnTo>
                        <a:lnTo>
                          <a:pt x="263" y="83"/>
                        </a:lnTo>
                        <a:lnTo>
                          <a:pt x="224" y="95"/>
                        </a:lnTo>
                        <a:lnTo>
                          <a:pt x="183" y="109"/>
                        </a:lnTo>
                        <a:lnTo>
                          <a:pt x="152" y="126"/>
                        </a:lnTo>
                        <a:lnTo>
                          <a:pt x="146" y="128"/>
                        </a:lnTo>
                        <a:lnTo>
                          <a:pt x="138" y="129"/>
                        </a:lnTo>
                        <a:lnTo>
                          <a:pt x="127" y="130"/>
                        </a:lnTo>
                        <a:lnTo>
                          <a:pt x="115" y="128"/>
                        </a:lnTo>
                        <a:lnTo>
                          <a:pt x="105" y="129"/>
                        </a:lnTo>
                        <a:lnTo>
                          <a:pt x="96" y="130"/>
                        </a:lnTo>
                        <a:lnTo>
                          <a:pt x="88" y="130"/>
                        </a:lnTo>
                        <a:lnTo>
                          <a:pt x="80" y="129"/>
                        </a:lnTo>
                        <a:lnTo>
                          <a:pt x="74" y="128"/>
                        </a:lnTo>
                        <a:lnTo>
                          <a:pt x="70" y="127"/>
                        </a:lnTo>
                        <a:lnTo>
                          <a:pt x="68" y="125"/>
                        </a:lnTo>
                        <a:lnTo>
                          <a:pt x="68" y="120"/>
                        </a:lnTo>
                        <a:lnTo>
                          <a:pt x="70" y="115"/>
                        </a:lnTo>
                        <a:lnTo>
                          <a:pt x="64" y="115"/>
                        </a:lnTo>
                        <a:lnTo>
                          <a:pt x="59" y="114"/>
                        </a:lnTo>
                        <a:lnTo>
                          <a:pt x="61" y="112"/>
                        </a:lnTo>
                        <a:lnTo>
                          <a:pt x="63" y="108"/>
                        </a:lnTo>
                        <a:lnTo>
                          <a:pt x="53" y="108"/>
                        </a:lnTo>
                        <a:lnTo>
                          <a:pt x="47" y="107"/>
                        </a:lnTo>
                        <a:lnTo>
                          <a:pt x="45" y="105"/>
                        </a:lnTo>
                        <a:lnTo>
                          <a:pt x="47" y="99"/>
                        </a:lnTo>
                        <a:lnTo>
                          <a:pt x="35" y="102"/>
                        </a:lnTo>
                        <a:lnTo>
                          <a:pt x="28" y="102"/>
                        </a:lnTo>
                        <a:lnTo>
                          <a:pt x="22" y="102"/>
                        </a:lnTo>
                        <a:lnTo>
                          <a:pt x="14" y="100"/>
                        </a:lnTo>
                        <a:lnTo>
                          <a:pt x="12" y="97"/>
                        </a:lnTo>
                        <a:lnTo>
                          <a:pt x="14" y="91"/>
                        </a:lnTo>
                        <a:lnTo>
                          <a:pt x="20" y="84"/>
                        </a:lnTo>
                        <a:lnTo>
                          <a:pt x="24" y="76"/>
                        </a:lnTo>
                        <a:lnTo>
                          <a:pt x="22" y="73"/>
                        </a:lnTo>
                        <a:lnTo>
                          <a:pt x="16" y="72"/>
                        </a:lnTo>
                        <a:lnTo>
                          <a:pt x="10" y="72"/>
                        </a:lnTo>
                        <a:lnTo>
                          <a:pt x="6" y="69"/>
                        </a:lnTo>
                        <a:lnTo>
                          <a:pt x="2" y="63"/>
                        </a:lnTo>
                        <a:lnTo>
                          <a:pt x="0" y="58"/>
                        </a:lnTo>
                        <a:lnTo>
                          <a:pt x="0" y="51"/>
                        </a:lnTo>
                        <a:lnTo>
                          <a:pt x="0" y="43"/>
                        </a:lnTo>
                        <a:lnTo>
                          <a:pt x="2" y="37"/>
                        </a:lnTo>
                        <a:lnTo>
                          <a:pt x="12" y="33"/>
                        </a:lnTo>
                        <a:lnTo>
                          <a:pt x="22" y="28"/>
                        </a:lnTo>
                        <a:lnTo>
                          <a:pt x="41" y="20"/>
                        </a:lnTo>
                        <a:lnTo>
                          <a:pt x="59" y="13"/>
                        </a:lnTo>
                        <a:close/>
                      </a:path>
                    </a:pathLst>
                  </a:custGeom>
                  <a:solidFill>
                    <a:srgbClr val="ff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671040" y="4038480"/>
                    <a:ext cx="12456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30">
                        <a:moveTo>
                          <a:pt x="59" y="13"/>
                        </a:moveTo>
                        <a:lnTo>
                          <a:pt x="82" y="7"/>
                        </a:lnTo>
                        <a:lnTo>
                          <a:pt x="103" y="3"/>
                        </a:lnTo>
                        <a:lnTo>
                          <a:pt x="127" y="1"/>
                        </a:lnTo>
                        <a:lnTo>
                          <a:pt x="152" y="0"/>
                        </a:lnTo>
                        <a:lnTo>
                          <a:pt x="175" y="1"/>
                        </a:lnTo>
                        <a:lnTo>
                          <a:pt x="199" y="3"/>
                        </a:lnTo>
                        <a:lnTo>
                          <a:pt x="224" y="8"/>
                        </a:lnTo>
                        <a:lnTo>
                          <a:pt x="251" y="18"/>
                        </a:lnTo>
                        <a:lnTo>
                          <a:pt x="265" y="30"/>
                        </a:lnTo>
                        <a:lnTo>
                          <a:pt x="273" y="38"/>
                        </a:lnTo>
                        <a:lnTo>
                          <a:pt x="275" y="48"/>
                        </a:lnTo>
                        <a:lnTo>
                          <a:pt x="269" y="57"/>
                        </a:lnTo>
                        <a:lnTo>
                          <a:pt x="261" y="63"/>
                        </a:lnTo>
                        <a:lnTo>
                          <a:pt x="261" y="69"/>
                        </a:lnTo>
                        <a:lnTo>
                          <a:pt x="263" y="79"/>
                        </a:lnTo>
                        <a:lnTo>
                          <a:pt x="263" y="83"/>
                        </a:lnTo>
                        <a:lnTo>
                          <a:pt x="224" y="95"/>
                        </a:lnTo>
                        <a:lnTo>
                          <a:pt x="183" y="109"/>
                        </a:lnTo>
                        <a:lnTo>
                          <a:pt x="152" y="126"/>
                        </a:lnTo>
                        <a:lnTo>
                          <a:pt x="146" y="128"/>
                        </a:lnTo>
                        <a:lnTo>
                          <a:pt x="138" y="129"/>
                        </a:lnTo>
                        <a:lnTo>
                          <a:pt x="127" y="130"/>
                        </a:lnTo>
                        <a:lnTo>
                          <a:pt x="115" y="128"/>
                        </a:lnTo>
                        <a:lnTo>
                          <a:pt x="105" y="129"/>
                        </a:lnTo>
                        <a:lnTo>
                          <a:pt x="96" y="130"/>
                        </a:lnTo>
                        <a:lnTo>
                          <a:pt x="88" y="130"/>
                        </a:lnTo>
                        <a:lnTo>
                          <a:pt x="80" y="129"/>
                        </a:lnTo>
                        <a:lnTo>
                          <a:pt x="74" y="128"/>
                        </a:lnTo>
                        <a:lnTo>
                          <a:pt x="70" y="127"/>
                        </a:lnTo>
                        <a:lnTo>
                          <a:pt x="68" y="125"/>
                        </a:lnTo>
                        <a:lnTo>
                          <a:pt x="68" y="120"/>
                        </a:lnTo>
                        <a:lnTo>
                          <a:pt x="70" y="115"/>
                        </a:lnTo>
                        <a:lnTo>
                          <a:pt x="64" y="115"/>
                        </a:lnTo>
                        <a:lnTo>
                          <a:pt x="59" y="114"/>
                        </a:lnTo>
                        <a:lnTo>
                          <a:pt x="61" y="112"/>
                        </a:lnTo>
                        <a:lnTo>
                          <a:pt x="63" y="108"/>
                        </a:lnTo>
                        <a:lnTo>
                          <a:pt x="53" y="108"/>
                        </a:lnTo>
                        <a:lnTo>
                          <a:pt x="47" y="107"/>
                        </a:lnTo>
                        <a:lnTo>
                          <a:pt x="45" y="105"/>
                        </a:lnTo>
                        <a:lnTo>
                          <a:pt x="47" y="99"/>
                        </a:lnTo>
                        <a:lnTo>
                          <a:pt x="35" y="102"/>
                        </a:lnTo>
                        <a:lnTo>
                          <a:pt x="28" y="102"/>
                        </a:lnTo>
                        <a:lnTo>
                          <a:pt x="22" y="102"/>
                        </a:lnTo>
                        <a:lnTo>
                          <a:pt x="14" y="100"/>
                        </a:lnTo>
                        <a:lnTo>
                          <a:pt x="12" y="97"/>
                        </a:lnTo>
                        <a:lnTo>
                          <a:pt x="14" y="91"/>
                        </a:lnTo>
                        <a:lnTo>
                          <a:pt x="20" y="84"/>
                        </a:lnTo>
                        <a:lnTo>
                          <a:pt x="24" y="76"/>
                        </a:lnTo>
                        <a:lnTo>
                          <a:pt x="22" y="73"/>
                        </a:lnTo>
                        <a:lnTo>
                          <a:pt x="16" y="72"/>
                        </a:lnTo>
                        <a:lnTo>
                          <a:pt x="10" y="72"/>
                        </a:lnTo>
                        <a:lnTo>
                          <a:pt x="6" y="69"/>
                        </a:lnTo>
                        <a:lnTo>
                          <a:pt x="2" y="63"/>
                        </a:lnTo>
                        <a:lnTo>
                          <a:pt x="0" y="58"/>
                        </a:lnTo>
                        <a:lnTo>
                          <a:pt x="0" y="51"/>
                        </a:lnTo>
                        <a:lnTo>
                          <a:pt x="0" y="43"/>
                        </a:lnTo>
                        <a:lnTo>
                          <a:pt x="2" y="37"/>
                        </a:lnTo>
                        <a:lnTo>
                          <a:pt x="12" y="33"/>
                        </a:lnTo>
                        <a:lnTo>
                          <a:pt x="22" y="28"/>
                        </a:lnTo>
                        <a:lnTo>
                          <a:pt x="41" y="20"/>
                        </a:lnTo>
                        <a:lnTo>
                          <a:pt x="59" y="1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654480" y="4348080"/>
                  <a:ext cx="18000" cy="54720"/>
                  <a:chOff x="654480" y="4348080"/>
                  <a:chExt cx="18000" cy="5472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>
                    <a:off x="654480" y="4348080"/>
                    <a:ext cx="180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2">
                        <a:moveTo>
                          <a:pt x="39" y="2"/>
                        </a:moveTo>
                        <a:lnTo>
                          <a:pt x="10" y="0"/>
                        </a:lnTo>
                        <a:lnTo>
                          <a:pt x="0" y="40"/>
                        </a:lnTo>
                        <a:lnTo>
                          <a:pt x="18" y="42"/>
                        </a:lnTo>
                        <a:lnTo>
                          <a:pt x="41" y="42"/>
                        </a:lnTo>
                        <a:lnTo>
                          <a:pt x="39" y="2"/>
                        </a:lnTo>
                        <a:close/>
                      </a:path>
                    </a:pathLst>
                  </a:custGeom>
                  <a:solidFill>
                    <a:srgbClr val="e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54480" y="4348080"/>
                    <a:ext cx="180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2">
                        <a:moveTo>
                          <a:pt x="39" y="2"/>
                        </a:moveTo>
                        <a:lnTo>
                          <a:pt x="10" y="0"/>
                        </a:lnTo>
                        <a:lnTo>
                          <a:pt x="0" y="40"/>
                        </a:lnTo>
                        <a:lnTo>
                          <a:pt x="18" y="42"/>
                        </a:lnTo>
                        <a:lnTo>
                          <a:pt x="41" y="42"/>
                        </a:lnTo>
                        <a:lnTo>
                          <a:pt x="39" y="2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65280" y="4151520"/>
                  <a:ext cx="248400" cy="326520"/>
                  <a:chOff x="665280" y="4151520"/>
                  <a:chExt cx="248400" cy="3265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665280" y="4151520"/>
                    <a:ext cx="248400" cy="32652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249">
                        <a:moveTo>
                          <a:pt x="295" y="0"/>
                        </a:moveTo>
                        <a:lnTo>
                          <a:pt x="315" y="16"/>
                        </a:lnTo>
                        <a:lnTo>
                          <a:pt x="358" y="30"/>
                        </a:lnTo>
                        <a:lnTo>
                          <a:pt x="375" y="39"/>
                        </a:lnTo>
                        <a:lnTo>
                          <a:pt x="410" y="59"/>
                        </a:lnTo>
                        <a:lnTo>
                          <a:pt x="437" y="78"/>
                        </a:lnTo>
                        <a:lnTo>
                          <a:pt x="466" y="105"/>
                        </a:lnTo>
                        <a:lnTo>
                          <a:pt x="490" y="129"/>
                        </a:lnTo>
                        <a:lnTo>
                          <a:pt x="507" y="155"/>
                        </a:lnTo>
                        <a:lnTo>
                          <a:pt x="523" y="181"/>
                        </a:lnTo>
                        <a:lnTo>
                          <a:pt x="537" y="212"/>
                        </a:lnTo>
                        <a:lnTo>
                          <a:pt x="544" y="249"/>
                        </a:lnTo>
                        <a:lnTo>
                          <a:pt x="118" y="249"/>
                        </a:lnTo>
                        <a:lnTo>
                          <a:pt x="128" y="233"/>
                        </a:lnTo>
                        <a:lnTo>
                          <a:pt x="134" y="222"/>
                        </a:lnTo>
                        <a:lnTo>
                          <a:pt x="130" y="207"/>
                        </a:lnTo>
                        <a:lnTo>
                          <a:pt x="62" y="200"/>
                        </a:lnTo>
                        <a:lnTo>
                          <a:pt x="0" y="198"/>
                        </a:lnTo>
                        <a:lnTo>
                          <a:pt x="5" y="183"/>
                        </a:lnTo>
                        <a:lnTo>
                          <a:pt x="11" y="161"/>
                        </a:lnTo>
                        <a:lnTo>
                          <a:pt x="11" y="149"/>
                        </a:lnTo>
                        <a:lnTo>
                          <a:pt x="60" y="153"/>
                        </a:lnTo>
                        <a:lnTo>
                          <a:pt x="83" y="154"/>
                        </a:lnTo>
                        <a:lnTo>
                          <a:pt x="109" y="156"/>
                        </a:lnTo>
                        <a:lnTo>
                          <a:pt x="122" y="157"/>
                        </a:lnTo>
                        <a:lnTo>
                          <a:pt x="140" y="135"/>
                        </a:lnTo>
                        <a:lnTo>
                          <a:pt x="149" y="110"/>
                        </a:lnTo>
                        <a:lnTo>
                          <a:pt x="161" y="88"/>
                        </a:lnTo>
                        <a:lnTo>
                          <a:pt x="171" y="75"/>
                        </a:lnTo>
                        <a:lnTo>
                          <a:pt x="179" y="68"/>
                        </a:lnTo>
                        <a:lnTo>
                          <a:pt x="186" y="58"/>
                        </a:lnTo>
                        <a:lnTo>
                          <a:pt x="202" y="44"/>
                        </a:lnTo>
                        <a:lnTo>
                          <a:pt x="210" y="38"/>
                        </a:lnTo>
                        <a:lnTo>
                          <a:pt x="219" y="31"/>
                        </a:lnTo>
                        <a:lnTo>
                          <a:pt x="231" y="24"/>
                        </a:lnTo>
                        <a:lnTo>
                          <a:pt x="249" y="16"/>
                        </a:lnTo>
                        <a:lnTo>
                          <a:pt x="272" y="8"/>
                        </a:lnTo>
                        <a:lnTo>
                          <a:pt x="29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665280" y="4151520"/>
                    <a:ext cx="248400" cy="32652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249">
                        <a:moveTo>
                          <a:pt x="295" y="0"/>
                        </a:moveTo>
                        <a:lnTo>
                          <a:pt x="315" y="16"/>
                        </a:lnTo>
                        <a:lnTo>
                          <a:pt x="358" y="30"/>
                        </a:lnTo>
                        <a:lnTo>
                          <a:pt x="375" y="39"/>
                        </a:lnTo>
                        <a:lnTo>
                          <a:pt x="410" y="59"/>
                        </a:lnTo>
                        <a:lnTo>
                          <a:pt x="437" y="78"/>
                        </a:lnTo>
                        <a:lnTo>
                          <a:pt x="466" y="105"/>
                        </a:lnTo>
                        <a:lnTo>
                          <a:pt x="490" y="129"/>
                        </a:lnTo>
                        <a:lnTo>
                          <a:pt x="507" y="155"/>
                        </a:lnTo>
                        <a:lnTo>
                          <a:pt x="523" y="181"/>
                        </a:lnTo>
                        <a:lnTo>
                          <a:pt x="537" y="212"/>
                        </a:lnTo>
                        <a:lnTo>
                          <a:pt x="544" y="249"/>
                        </a:lnTo>
                        <a:lnTo>
                          <a:pt x="118" y="249"/>
                        </a:lnTo>
                        <a:lnTo>
                          <a:pt x="128" y="233"/>
                        </a:lnTo>
                        <a:lnTo>
                          <a:pt x="134" y="222"/>
                        </a:lnTo>
                        <a:lnTo>
                          <a:pt x="130" y="207"/>
                        </a:lnTo>
                        <a:lnTo>
                          <a:pt x="62" y="200"/>
                        </a:lnTo>
                        <a:lnTo>
                          <a:pt x="0" y="198"/>
                        </a:lnTo>
                        <a:lnTo>
                          <a:pt x="5" y="183"/>
                        </a:lnTo>
                        <a:lnTo>
                          <a:pt x="11" y="161"/>
                        </a:lnTo>
                        <a:lnTo>
                          <a:pt x="11" y="149"/>
                        </a:lnTo>
                        <a:lnTo>
                          <a:pt x="60" y="153"/>
                        </a:lnTo>
                        <a:lnTo>
                          <a:pt x="83" y="154"/>
                        </a:lnTo>
                        <a:lnTo>
                          <a:pt x="109" y="156"/>
                        </a:lnTo>
                        <a:lnTo>
                          <a:pt x="122" y="157"/>
                        </a:lnTo>
                        <a:lnTo>
                          <a:pt x="140" y="135"/>
                        </a:lnTo>
                        <a:lnTo>
                          <a:pt x="149" y="110"/>
                        </a:lnTo>
                        <a:lnTo>
                          <a:pt x="161" y="88"/>
                        </a:lnTo>
                        <a:lnTo>
                          <a:pt x="171" y="75"/>
                        </a:lnTo>
                        <a:lnTo>
                          <a:pt x="179" y="68"/>
                        </a:lnTo>
                        <a:lnTo>
                          <a:pt x="186" y="58"/>
                        </a:lnTo>
                        <a:lnTo>
                          <a:pt x="202" y="44"/>
                        </a:lnTo>
                        <a:lnTo>
                          <a:pt x="210" y="38"/>
                        </a:lnTo>
                        <a:lnTo>
                          <a:pt x="219" y="31"/>
                        </a:lnTo>
                        <a:lnTo>
                          <a:pt x="231" y="24"/>
                        </a:lnTo>
                        <a:lnTo>
                          <a:pt x="249" y="16"/>
                        </a:lnTo>
                        <a:lnTo>
                          <a:pt x="272" y="8"/>
                        </a:lnTo>
                        <a:lnTo>
                          <a:pt x="295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20000" y="4058280"/>
                  <a:ext cx="75600" cy="62640"/>
                  <a:chOff x="720000" y="4058280"/>
                  <a:chExt cx="75600" cy="6264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720000" y="4058280"/>
                    <a:ext cx="7560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48">
                        <a:moveTo>
                          <a:pt x="129" y="0"/>
                        </a:moveTo>
                        <a:lnTo>
                          <a:pt x="125" y="1"/>
                        </a:lnTo>
                        <a:lnTo>
                          <a:pt x="119" y="2"/>
                        </a:lnTo>
                        <a:lnTo>
                          <a:pt x="113" y="3"/>
                        </a:lnTo>
                        <a:lnTo>
                          <a:pt x="105" y="5"/>
                        </a:lnTo>
                        <a:lnTo>
                          <a:pt x="98" y="7"/>
                        </a:lnTo>
                        <a:lnTo>
                          <a:pt x="84" y="10"/>
                        </a:lnTo>
                        <a:lnTo>
                          <a:pt x="70" y="13"/>
                        </a:lnTo>
                        <a:lnTo>
                          <a:pt x="49" y="17"/>
                        </a:lnTo>
                        <a:lnTo>
                          <a:pt x="29" y="19"/>
                        </a:lnTo>
                        <a:lnTo>
                          <a:pt x="14" y="20"/>
                        </a:lnTo>
                        <a:lnTo>
                          <a:pt x="6" y="26"/>
                        </a:lnTo>
                        <a:lnTo>
                          <a:pt x="2" y="31"/>
                        </a:lnTo>
                        <a:lnTo>
                          <a:pt x="0" y="37"/>
                        </a:lnTo>
                        <a:lnTo>
                          <a:pt x="4" y="42"/>
                        </a:lnTo>
                        <a:lnTo>
                          <a:pt x="12" y="47"/>
                        </a:lnTo>
                        <a:lnTo>
                          <a:pt x="37" y="43"/>
                        </a:lnTo>
                        <a:lnTo>
                          <a:pt x="39" y="37"/>
                        </a:lnTo>
                        <a:lnTo>
                          <a:pt x="47" y="32"/>
                        </a:lnTo>
                        <a:lnTo>
                          <a:pt x="57" y="31"/>
                        </a:lnTo>
                        <a:lnTo>
                          <a:pt x="63" y="30"/>
                        </a:lnTo>
                        <a:lnTo>
                          <a:pt x="74" y="30"/>
                        </a:lnTo>
                        <a:lnTo>
                          <a:pt x="84" y="32"/>
                        </a:lnTo>
                        <a:lnTo>
                          <a:pt x="94" y="37"/>
                        </a:lnTo>
                        <a:lnTo>
                          <a:pt x="98" y="41"/>
                        </a:lnTo>
                        <a:lnTo>
                          <a:pt x="107" y="46"/>
                        </a:lnTo>
                        <a:lnTo>
                          <a:pt x="117" y="47"/>
                        </a:lnTo>
                        <a:lnTo>
                          <a:pt x="131" y="48"/>
                        </a:lnTo>
                        <a:lnTo>
                          <a:pt x="144" y="48"/>
                        </a:lnTo>
                        <a:lnTo>
                          <a:pt x="152" y="48"/>
                        </a:lnTo>
                        <a:lnTo>
                          <a:pt x="154" y="48"/>
                        </a:lnTo>
                        <a:lnTo>
                          <a:pt x="158" y="44"/>
                        </a:lnTo>
                        <a:lnTo>
                          <a:pt x="164" y="40"/>
                        </a:lnTo>
                        <a:lnTo>
                          <a:pt x="168" y="34"/>
                        </a:lnTo>
                        <a:lnTo>
                          <a:pt x="168" y="29"/>
                        </a:lnTo>
                        <a:lnTo>
                          <a:pt x="168" y="25"/>
                        </a:lnTo>
                        <a:lnTo>
                          <a:pt x="160" y="18"/>
                        </a:lnTo>
                        <a:lnTo>
                          <a:pt x="152" y="12"/>
                        </a:lnTo>
                        <a:lnTo>
                          <a:pt x="144" y="6"/>
                        </a:lnTo>
                        <a:lnTo>
                          <a:pt x="129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720000" y="4058280"/>
                    <a:ext cx="7560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48">
                        <a:moveTo>
                          <a:pt x="129" y="0"/>
                        </a:moveTo>
                        <a:lnTo>
                          <a:pt x="125" y="1"/>
                        </a:lnTo>
                        <a:lnTo>
                          <a:pt x="119" y="2"/>
                        </a:lnTo>
                        <a:lnTo>
                          <a:pt x="113" y="3"/>
                        </a:lnTo>
                        <a:lnTo>
                          <a:pt x="105" y="5"/>
                        </a:lnTo>
                        <a:lnTo>
                          <a:pt x="98" y="7"/>
                        </a:lnTo>
                        <a:lnTo>
                          <a:pt x="84" y="10"/>
                        </a:lnTo>
                        <a:lnTo>
                          <a:pt x="70" y="13"/>
                        </a:lnTo>
                        <a:lnTo>
                          <a:pt x="49" y="17"/>
                        </a:lnTo>
                        <a:lnTo>
                          <a:pt x="29" y="19"/>
                        </a:lnTo>
                        <a:lnTo>
                          <a:pt x="14" y="20"/>
                        </a:lnTo>
                        <a:lnTo>
                          <a:pt x="6" y="26"/>
                        </a:lnTo>
                        <a:lnTo>
                          <a:pt x="2" y="31"/>
                        </a:lnTo>
                        <a:lnTo>
                          <a:pt x="0" y="37"/>
                        </a:lnTo>
                        <a:lnTo>
                          <a:pt x="4" y="42"/>
                        </a:lnTo>
                        <a:lnTo>
                          <a:pt x="12" y="47"/>
                        </a:lnTo>
                        <a:lnTo>
                          <a:pt x="37" y="43"/>
                        </a:lnTo>
                        <a:lnTo>
                          <a:pt x="39" y="37"/>
                        </a:lnTo>
                        <a:lnTo>
                          <a:pt x="47" y="32"/>
                        </a:lnTo>
                        <a:lnTo>
                          <a:pt x="57" y="31"/>
                        </a:lnTo>
                        <a:lnTo>
                          <a:pt x="63" y="30"/>
                        </a:lnTo>
                        <a:lnTo>
                          <a:pt x="74" y="30"/>
                        </a:lnTo>
                        <a:lnTo>
                          <a:pt x="84" y="32"/>
                        </a:lnTo>
                        <a:lnTo>
                          <a:pt x="94" y="37"/>
                        </a:lnTo>
                        <a:lnTo>
                          <a:pt x="98" y="41"/>
                        </a:lnTo>
                        <a:lnTo>
                          <a:pt x="107" y="46"/>
                        </a:lnTo>
                        <a:lnTo>
                          <a:pt x="117" y="47"/>
                        </a:lnTo>
                        <a:lnTo>
                          <a:pt x="131" y="48"/>
                        </a:lnTo>
                        <a:lnTo>
                          <a:pt x="144" y="48"/>
                        </a:lnTo>
                        <a:lnTo>
                          <a:pt x="152" y="48"/>
                        </a:lnTo>
                        <a:lnTo>
                          <a:pt x="154" y="48"/>
                        </a:lnTo>
                        <a:lnTo>
                          <a:pt x="158" y="44"/>
                        </a:lnTo>
                        <a:lnTo>
                          <a:pt x="164" y="40"/>
                        </a:lnTo>
                        <a:lnTo>
                          <a:pt x="168" y="34"/>
                        </a:lnTo>
                        <a:lnTo>
                          <a:pt x="168" y="29"/>
                        </a:lnTo>
                        <a:lnTo>
                          <a:pt x="168" y="25"/>
                        </a:lnTo>
                        <a:lnTo>
                          <a:pt x="160" y="18"/>
                        </a:lnTo>
                        <a:lnTo>
                          <a:pt x="152" y="12"/>
                        </a:lnTo>
                        <a:lnTo>
                          <a:pt x="144" y="6"/>
                        </a:lnTo>
                        <a:lnTo>
                          <a:pt x="129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8" name=""/>
              <p:cNvGrpSpPr/>
              <p:nvPr/>
            </p:nvGrpSpPr>
            <p:grpSpPr>
              <a:xfrm>
                <a:off x="640800" y="4109400"/>
                <a:ext cx="114840" cy="238320"/>
                <a:chOff x="640800" y="4109400"/>
                <a:chExt cx="114840" cy="2383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40800" y="4110480"/>
                  <a:ext cx="114840" cy="237240"/>
                </a:xfrm>
                <a:custGeom>
                  <a:avLst/>
                  <a:gdLst/>
                  <a:ahLst/>
                  <a:rect l="l" t="t" r="r" b="b"/>
                  <a:pathLst>
                    <a:path w="251" h="181">
                      <a:moveTo>
                        <a:pt x="251" y="0"/>
                      </a:moveTo>
                      <a:lnTo>
                        <a:pt x="241" y="13"/>
                      </a:lnTo>
                      <a:lnTo>
                        <a:pt x="236" y="28"/>
                      </a:lnTo>
                      <a:lnTo>
                        <a:pt x="230" y="41"/>
                      </a:lnTo>
                      <a:lnTo>
                        <a:pt x="222" y="54"/>
                      </a:lnTo>
                      <a:lnTo>
                        <a:pt x="214" y="67"/>
                      </a:lnTo>
                      <a:lnTo>
                        <a:pt x="195" y="82"/>
                      </a:lnTo>
                      <a:lnTo>
                        <a:pt x="183" y="92"/>
                      </a:lnTo>
                      <a:lnTo>
                        <a:pt x="171" y="104"/>
                      </a:lnTo>
                      <a:lnTo>
                        <a:pt x="166" y="114"/>
                      </a:lnTo>
                      <a:lnTo>
                        <a:pt x="160" y="124"/>
                      </a:lnTo>
                      <a:lnTo>
                        <a:pt x="152" y="137"/>
                      </a:lnTo>
                      <a:lnTo>
                        <a:pt x="148" y="149"/>
                      </a:lnTo>
                      <a:lnTo>
                        <a:pt x="142" y="162"/>
                      </a:lnTo>
                      <a:lnTo>
                        <a:pt x="136" y="171"/>
                      </a:lnTo>
                      <a:lnTo>
                        <a:pt x="134" y="174"/>
                      </a:lnTo>
                      <a:lnTo>
                        <a:pt x="127" y="179"/>
                      </a:lnTo>
                      <a:lnTo>
                        <a:pt x="107" y="181"/>
                      </a:lnTo>
                      <a:lnTo>
                        <a:pt x="119" y="180"/>
                      </a:lnTo>
                      <a:lnTo>
                        <a:pt x="97" y="180"/>
                      </a:lnTo>
                      <a:lnTo>
                        <a:pt x="90" y="179"/>
                      </a:lnTo>
                      <a:lnTo>
                        <a:pt x="80" y="174"/>
                      </a:lnTo>
                      <a:lnTo>
                        <a:pt x="70" y="170"/>
                      </a:lnTo>
                      <a:lnTo>
                        <a:pt x="55" y="167"/>
                      </a:lnTo>
                      <a:lnTo>
                        <a:pt x="39" y="166"/>
                      </a:lnTo>
                      <a:lnTo>
                        <a:pt x="25" y="169"/>
                      </a:lnTo>
                      <a:lnTo>
                        <a:pt x="0" y="173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53840" y="4109400"/>
                  <a:ext cx="1800" cy="216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715680" y="4209120"/>
                <a:ext cx="13320" cy="4968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1" y="0"/>
                    </a:moveTo>
                    <a:lnTo>
                      <a:pt x="23" y="12"/>
                    </a:lnTo>
                    <a:lnTo>
                      <a:pt x="15" y="23"/>
                    </a:lnTo>
                    <a:lnTo>
                      <a:pt x="0" y="38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24680" y="4422960"/>
              <a:ext cx="70920" cy="23760"/>
            </a:xfrm>
            <a:custGeom>
              <a:avLst/>
              <a:gdLst/>
              <a:ahLst/>
              <a:rect l="l" t="t" r="r" b="b"/>
              <a:pathLst>
                <a:path w="158" h="18">
                  <a:moveTo>
                    <a:pt x="0" y="0"/>
                  </a:moveTo>
                  <a:lnTo>
                    <a:pt x="39" y="10"/>
                  </a:lnTo>
                  <a:lnTo>
                    <a:pt x="93" y="18"/>
                  </a:lnTo>
                  <a:lnTo>
                    <a:pt x="158" y="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360360" y="4114800"/>
            <a:ext cx="366840" cy="380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629400" y="2590920"/>
            <a:ext cx="30492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838080"/>
            <a:ext cx="304920" cy="152424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6019920" y="1447200"/>
            <a:ext cx="15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erface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6020280" y="3199680"/>
            <a:ext cx="152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251460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re Provider Transa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81280" y="114300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Data Source Transa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6360" y="4510080"/>
            <a:ext cx="78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YCLIX Web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876920"/>
            <a:ext cx="388620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e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YCLIX Central acts a clearing house for all requests and routes transactions based on participation level, patient matching, and record locator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T transaction from members comprise data supporting record locator and patient matching services.  No clinical data is sto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urity management and access controls govern who has access to wh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3000" y="2971800"/>
            <a:ext cx="81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udit Trai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533520"/>
            <a:ext cx="228600" cy="41907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4114800"/>
            <a:ext cx="457200" cy="30492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NYCLIX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90920" y="533520"/>
            <a:ext cx="4572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2666880" y="762120"/>
            <a:ext cx="387360" cy="4190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"/>
          <a:stretch/>
        </p:blipFill>
        <p:spPr>
          <a:xfrm>
            <a:off x="2666880" y="2590920"/>
            <a:ext cx="381240" cy="384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28800" y="4038480"/>
            <a:ext cx="19051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1"/>
          <a:stretch/>
        </p:blipFill>
        <p:spPr>
          <a:xfrm>
            <a:off x="4038480" y="3962520"/>
            <a:ext cx="609840" cy="685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19720" y="4267080"/>
            <a:ext cx="457200" cy="45720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Public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Healt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2438280"/>
            <a:ext cx="3812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2438280"/>
            <a:ext cx="0" cy="1447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828440" y="3886200"/>
            <a:ext cx="304920" cy="76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4440" y="4419720"/>
            <a:ext cx="134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</a:rPr>
              <a:t>NYCLIX Data Repositor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</a:rPr>
              <a:t>NYCLIX Audit &amp;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281952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1) NYCLIX Care Provider Reques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3124080"/>
            <a:ext cx="22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4) NYCLIX Central Res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47242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5335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53352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2514600"/>
            <a:ext cx="2286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2895480"/>
            <a:ext cx="228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6089760" y="762120"/>
            <a:ext cx="387360" cy="41907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>
            <a:off x="6019920" y="2666880"/>
            <a:ext cx="4572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586320" y="7005600"/>
            <a:ext cx="604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952880"/>
            <a:ext cx="1676160" cy="914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886200" y="3048120"/>
            <a:ext cx="1523880" cy="914400"/>
            <a:chOff x="3886200" y="3048120"/>
            <a:chExt cx="1523880" cy="914400"/>
          </a:xfrm>
        </p:grpSpPr>
        <p:sp>
          <p:nvSpPr>
            <p:cNvPr id="187" name=""/>
            <p:cNvSpPr/>
            <p:nvPr/>
          </p:nvSpPr>
          <p:spPr>
            <a:xfrm>
              <a:off x="3886200" y="3048120"/>
              <a:ext cx="1523880" cy="9144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4038480" y="3124440"/>
              <a:ext cx="6094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419360" y="3429360"/>
              <a:ext cx="457200" cy="457200"/>
            </a:xfrm>
            <a:prstGeom prst="can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Public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Health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899520" y="26668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ub H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52280" y="457200"/>
            <a:ext cx="3810240" cy="2209680"/>
            <a:chOff x="152280" y="457200"/>
            <a:chExt cx="3810240" cy="2209680"/>
          </a:xfrm>
        </p:grpSpPr>
        <p:sp>
          <p:nvSpPr>
            <p:cNvPr id="192" name=""/>
            <p:cNvSpPr/>
            <p:nvPr/>
          </p:nvSpPr>
          <p:spPr>
            <a:xfrm>
              <a:off x="152280" y="457200"/>
              <a:ext cx="3810240" cy="2209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00200" y="1828800"/>
              <a:ext cx="838080" cy="68580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99840" y="2057400"/>
              <a:ext cx="91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66680" y="762120"/>
              <a:ext cx="45720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ab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3520" y="762120"/>
              <a:ext cx="45720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harm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00200" y="762120"/>
              <a:ext cx="45720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AC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33720" y="762120"/>
              <a:ext cx="45720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ard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66880" y="762120"/>
              <a:ext cx="45720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D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00400" y="762120"/>
              <a:ext cx="45720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M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" y="1219320"/>
              <a:ext cx="33526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terface Engine/ AP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28600" y="4419720"/>
            <a:ext cx="3809880" cy="220968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4800600"/>
            <a:ext cx="838080" cy="6858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5800" y="502920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osi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har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C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d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D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M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5638680"/>
            <a:ext cx="33526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face Engine/ A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3124080"/>
            <a:ext cx="22100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HIO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(MPI, Audit, Authentication, etc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981080" y="396216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39625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98108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1600200"/>
            <a:ext cx="914400" cy="1447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124080" y="3962520"/>
            <a:ext cx="762120" cy="16761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0" y="4952880"/>
            <a:ext cx="1676520" cy="914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105520" y="457200"/>
            <a:ext cx="3809880" cy="2209680"/>
            <a:chOff x="5105520" y="457200"/>
            <a:chExt cx="3809880" cy="2209680"/>
          </a:xfrm>
        </p:grpSpPr>
        <p:sp>
          <p:nvSpPr>
            <p:cNvPr id="221" name=""/>
            <p:cNvSpPr/>
            <p:nvPr/>
          </p:nvSpPr>
          <p:spPr>
            <a:xfrm>
              <a:off x="5105520" y="457200"/>
              <a:ext cx="3809880" cy="2209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53080" y="1828800"/>
              <a:ext cx="837720" cy="68580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52360" y="2057400"/>
              <a:ext cx="91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19560" y="762120"/>
              <a:ext cx="45684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ab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86400" y="762120"/>
              <a:ext cx="45684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harm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53080" y="762120"/>
              <a:ext cx="45684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AC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86600" y="762120"/>
              <a:ext cx="45684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ard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19760" y="762120"/>
              <a:ext cx="45684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D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53280" y="762120"/>
              <a:ext cx="45684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M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10080" y="1219320"/>
              <a:ext cx="335232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terface Engine/ AP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181480" y="4419720"/>
            <a:ext cx="3810240" cy="220968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29400" y="4800600"/>
            <a:ext cx="838080" cy="6858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29040" y="502920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osi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588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har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2940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C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d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9608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D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2960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M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5638680"/>
            <a:ext cx="33526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face Engine/ A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124080"/>
            <a:ext cx="22096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HIO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(MPI, Audit, Authentication, etc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934320" y="396216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10280" y="39625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93432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410080" y="3962520"/>
            <a:ext cx="914400" cy="16761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409720" y="1600200"/>
            <a:ext cx="685800" cy="1447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2438280"/>
            <a:ext cx="1295280" cy="6098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590920" y="3962520"/>
            <a:ext cx="1218960" cy="838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5562360" y="4114800"/>
            <a:ext cx="990360" cy="838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486400" y="2514600"/>
            <a:ext cx="990720" cy="5335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6720" y="3505320"/>
            <a:ext cx="6094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86400" y="3505320"/>
            <a:ext cx="4572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0"/>
            <a:ext cx="0" cy="65530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ior Conceptual Framewor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verage infrastructure developed for RHIOs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 burden of public health repor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s-based messaging to population quality wareho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mographic (age group, zip, gender, “hashed ID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ounter data (Chief complaint, disch. dx, disp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 list (Diabetes, C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al exam (measured temperature, B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s (mammo, colonoscopy, immuniz., eye exa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 Results (A1C, lipids, viral testing results, l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nical Preventive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lity Benchmar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fection Disease and Outbreak Surveill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880" y="1143000"/>
            <a:ext cx="8382240" cy="1528920"/>
          </a:xfrm>
          <a:prstGeom prst="rect">
            <a:avLst/>
          </a:prstGeom>
          <a:gradFill rotWithShape="0">
            <a:gsLst>
              <a:gs pos="0">
                <a:srgbClr val="dad8ca"/>
              </a:gs>
              <a:gs pos="50000">
                <a:srgbClr val="bf61a5"/>
              </a:gs>
              <a:gs pos="100000">
                <a:srgbClr val="dad8c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2670120"/>
            <a:ext cx="8382240" cy="1690920"/>
          </a:xfrm>
          <a:prstGeom prst="rect">
            <a:avLst/>
          </a:prstGeom>
          <a:gradFill rotWithShape="0">
            <a:gsLst>
              <a:gs pos="0">
                <a:srgbClr val="dad8ca"/>
              </a:gs>
              <a:gs pos="50000">
                <a:srgbClr val="9de212"/>
              </a:gs>
              <a:gs pos="100000">
                <a:srgbClr val="dad8c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44320" y="2651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f79d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517920" y="3106800"/>
            <a:ext cx="1076400" cy="365040"/>
            <a:chOff x="3517920" y="3106800"/>
            <a:chExt cx="1076400" cy="365040"/>
          </a:xfrm>
        </p:grpSpPr>
        <p:sp>
          <p:nvSpPr>
            <p:cNvPr id="261" name=""/>
            <p:cNvSpPr/>
            <p:nvPr/>
          </p:nvSpPr>
          <p:spPr>
            <a:xfrm>
              <a:off x="3843000" y="3114000"/>
              <a:ext cx="73332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3517920" y="3106800"/>
              <a:ext cx="1076400" cy="365040"/>
              <a:chOff x="3517920" y="3106800"/>
              <a:chExt cx="1076400" cy="365040"/>
            </a:xfrm>
          </p:grpSpPr>
          <p:sp>
            <p:nvSpPr>
              <p:cNvPr id="263" name=""/>
              <p:cNvSpPr/>
              <p:nvPr/>
            </p:nvSpPr>
            <p:spPr>
              <a:xfrm>
                <a:off x="3828960" y="310680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1859" y="0"/>
                    </a:moveTo>
                    <a:lnTo>
                      <a:pt x="11172" y="0"/>
                    </a:lnTo>
                    <a:lnTo>
                      <a:pt x="9313" y="5108"/>
                    </a:lnTo>
                    <a:lnTo>
                      <a:pt x="0" y="5108"/>
                    </a:lnTo>
                    <a:lnTo>
                      <a:pt x="1859" y="0"/>
                    </a:lnTo>
                    <a:close/>
                    <a:moveTo>
                      <a:pt x="2396" y="351"/>
                    </a:moveTo>
                    <a:lnTo>
                      <a:pt x="5553" y="2686"/>
                    </a:lnTo>
                    <a:lnTo>
                      <a:pt x="10409" y="351"/>
                    </a:lnTo>
                    <a:lnTo>
                      <a:pt x="2396" y="351"/>
                    </a:lnTo>
                    <a:close/>
                    <a:moveTo>
                      <a:pt x="10618" y="560"/>
                    </a:moveTo>
                    <a:lnTo>
                      <a:pt x="5503" y="3019"/>
                    </a:lnTo>
                    <a:lnTo>
                      <a:pt x="5416" y="3060"/>
                    </a:lnTo>
                    <a:lnTo>
                      <a:pt x="5360" y="3019"/>
                    </a:lnTo>
                    <a:lnTo>
                      <a:pt x="2012" y="543"/>
                    </a:lnTo>
                    <a:lnTo>
                      <a:pt x="477" y="4757"/>
                    </a:lnTo>
                    <a:lnTo>
                      <a:pt x="9091" y="4757"/>
                    </a:lnTo>
                    <a:lnTo>
                      <a:pt x="10618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24480" y="311148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1"/>
                    </a:moveTo>
                    <a:lnTo>
                      <a:pt x="4273" y="715"/>
                    </a:lnTo>
                    <a:lnTo>
                      <a:pt x="4532" y="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2880" y="317196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1"/>
                    </a:moveTo>
                    <a:lnTo>
                      <a:pt x="267" y="365"/>
                    </a:lnTo>
                    <a:lnTo>
                      <a:pt x="534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1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4" y="621"/>
                    </a:lnTo>
                    <a:lnTo>
                      <a:pt x="3472" y="645"/>
                    </a:lnTo>
                    <a:lnTo>
                      <a:pt x="3739" y="668"/>
                    </a:lnTo>
                    <a:lnTo>
                      <a:pt x="4005" y="692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6" y="625"/>
                    </a:lnTo>
                    <a:lnTo>
                      <a:pt x="4322" y="581"/>
                    </a:lnTo>
                    <a:lnTo>
                      <a:pt x="4337" y="536"/>
                    </a:lnTo>
                    <a:lnTo>
                      <a:pt x="4354" y="491"/>
                    </a:lnTo>
                    <a:lnTo>
                      <a:pt x="4370" y="446"/>
                    </a:lnTo>
                    <a:lnTo>
                      <a:pt x="4386" y="401"/>
                    </a:lnTo>
                    <a:lnTo>
                      <a:pt x="4402" y="358"/>
                    </a:lnTo>
                    <a:lnTo>
                      <a:pt x="4419" y="313"/>
                    </a:lnTo>
                    <a:lnTo>
                      <a:pt x="4435" y="268"/>
                    </a:lnTo>
                    <a:lnTo>
                      <a:pt x="4451" y="223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7" y="44"/>
                    </a:lnTo>
                    <a:lnTo>
                      <a:pt x="4533" y="0"/>
                    </a:lnTo>
                    <a:lnTo>
                      <a:pt x="4250" y="22"/>
                    </a:lnTo>
                    <a:lnTo>
                      <a:pt x="3967" y="43"/>
                    </a:lnTo>
                    <a:lnTo>
                      <a:pt x="3683" y="64"/>
                    </a:lnTo>
                    <a:lnTo>
                      <a:pt x="3400" y="86"/>
                    </a:lnTo>
                    <a:lnTo>
                      <a:pt x="3117" y="107"/>
                    </a:lnTo>
                    <a:lnTo>
                      <a:pt x="2834" y="129"/>
                    </a:lnTo>
                    <a:lnTo>
                      <a:pt x="2549" y="149"/>
                    </a:lnTo>
                    <a:lnTo>
                      <a:pt x="2266" y="170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581280" y="323316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0" y="342"/>
                    </a:moveTo>
                    <a:lnTo>
                      <a:pt x="266" y="365"/>
                    </a:lnTo>
                    <a:lnTo>
                      <a:pt x="533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4" y="459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1"/>
                    </a:lnTo>
                    <a:lnTo>
                      <a:pt x="2670" y="575"/>
                    </a:lnTo>
                    <a:lnTo>
                      <a:pt x="2937" y="598"/>
                    </a:lnTo>
                    <a:lnTo>
                      <a:pt x="3204" y="622"/>
                    </a:lnTo>
                    <a:lnTo>
                      <a:pt x="3471" y="645"/>
                    </a:lnTo>
                    <a:lnTo>
                      <a:pt x="3738" y="668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4" y="491"/>
                    </a:lnTo>
                    <a:lnTo>
                      <a:pt x="4369" y="446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8" y="313"/>
                    </a:lnTo>
                    <a:lnTo>
                      <a:pt x="4435" y="268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89"/>
                    </a:lnTo>
                    <a:lnTo>
                      <a:pt x="4516" y="44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2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6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560400" y="3294360"/>
                <a:ext cx="310680" cy="5040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0" y="342"/>
                    </a:moveTo>
                    <a:lnTo>
                      <a:pt x="267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1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2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5" y="622"/>
                    </a:lnTo>
                    <a:lnTo>
                      <a:pt x="3472" y="645"/>
                    </a:lnTo>
                    <a:lnTo>
                      <a:pt x="3739" y="669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1"/>
                    </a:lnTo>
                    <a:lnTo>
                      <a:pt x="4306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5" y="491"/>
                    </a:lnTo>
                    <a:lnTo>
                      <a:pt x="4371" y="447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9" y="313"/>
                    </a:lnTo>
                    <a:lnTo>
                      <a:pt x="4435" y="269"/>
                    </a:lnTo>
                    <a:lnTo>
                      <a:pt x="4451" y="224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6" y="45"/>
                    </a:lnTo>
                    <a:lnTo>
                      <a:pt x="4533" y="0"/>
                    </a:lnTo>
                    <a:lnTo>
                      <a:pt x="4250" y="21"/>
                    </a:lnTo>
                    <a:lnTo>
                      <a:pt x="3967" y="42"/>
                    </a:lnTo>
                    <a:lnTo>
                      <a:pt x="3683" y="64"/>
                    </a:lnTo>
                    <a:lnTo>
                      <a:pt x="3400" y="85"/>
                    </a:lnTo>
                    <a:lnTo>
                      <a:pt x="3117" y="107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539160" y="335520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2"/>
                    </a:moveTo>
                    <a:lnTo>
                      <a:pt x="266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6"/>
                    </a:lnTo>
                    <a:lnTo>
                      <a:pt x="1334" y="458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2"/>
                    </a:lnTo>
                    <a:lnTo>
                      <a:pt x="2670" y="575"/>
                    </a:lnTo>
                    <a:lnTo>
                      <a:pt x="2937" y="599"/>
                    </a:lnTo>
                    <a:lnTo>
                      <a:pt x="3205" y="622"/>
                    </a:lnTo>
                    <a:lnTo>
                      <a:pt x="3471" y="645"/>
                    </a:lnTo>
                    <a:lnTo>
                      <a:pt x="3738" y="669"/>
                    </a:lnTo>
                    <a:lnTo>
                      <a:pt x="4005" y="691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1" y="581"/>
                    </a:lnTo>
                    <a:lnTo>
                      <a:pt x="4338" y="536"/>
                    </a:lnTo>
                    <a:lnTo>
                      <a:pt x="4354" y="492"/>
                    </a:lnTo>
                    <a:lnTo>
                      <a:pt x="4370" y="447"/>
                    </a:lnTo>
                    <a:lnTo>
                      <a:pt x="4387" y="402"/>
                    </a:lnTo>
                    <a:lnTo>
                      <a:pt x="4403" y="357"/>
                    </a:lnTo>
                    <a:lnTo>
                      <a:pt x="4418" y="313"/>
                    </a:lnTo>
                    <a:lnTo>
                      <a:pt x="4434" y="269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90"/>
                    </a:lnTo>
                    <a:lnTo>
                      <a:pt x="4516" y="45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3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7"/>
                    </a:lnTo>
                    <a:lnTo>
                      <a:pt x="2833" y="128"/>
                    </a:lnTo>
                    <a:lnTo>
                      <a:pt x="2549" y="150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7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1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517920" y="341604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2"/>
                    </a:moveTo>
                    <a:lnTo>
                      <a:pt x="4273" y="715"/>
                    </a:lnTo>
                    <a:lnTo>
                      <a:pt x="4533" y="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4334040" y="3186000"/>
            <a:ext cx="1075680" cy="365400"/>
            <a:chOff x="4334040" y="3186000"/>
            <a:chExt cx="1075680" cy="365400"/>
          </a:xfrm>
        </p:grpSpPr>
        <p:sp>
          <p:nvSpPr>
            <p:cNvPr id="271" name=""/>
            <p:cNvSpPr/>
            <p:nvPr/>
          </p:nvSpPr>
          <p:spPr>
            <a:xfrm flipH="1">
              <a:off x="4348440" y="3196440"/>
              <a:ext cx="732960" cy="34452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4334040" y="3186000"/>
              <a:ext cx="1075680" cy="365400"/>
              <a:chOff x="4334040" y="3186000"/>
              <a:chExt cx="1075680" cy="365400"/>
            </a:xfrm>
          </p:grpSpPr>
          <p:sp>
            <p:nvSpPr>
              <p:cNvPr id="273" name=""/>
              <p:cNvSpPr/>
              <p:nvPr/>
            </p:nvSpPr>
            <p:spPr>
              <a:xfrm>
                <a:off x="4334040" y="3186000"/>
                <a:ext cx="765360" cy="36540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9313" y="0"/>
                    </a:moveTo>
                    <a:lnTo>
                      <a:pt x="0" y="0"/>
                    </a:lnTo>
                    <a:lnTo>
                      <a:pt x="1858" y="5108"/>
                    </a:lnTo>
                    <a:lnTo>
                      <a:pt x="11172" y="5108"/>
                    </a:lnTo>
                    <a:lnTo>
                      <a:pt x="9313" y="0"/>
                    </a:lnTo>
                    <a:close/>
                    <a:moveTo>
                      <a:pt x="8776" y="351"/>
                    </a:moveTo>
                    <a:lnTo>
                      <a:pt x="5619" y="2686"/>
                    </a:lnTo>
                    <a:lnTo>
                      <a:pt x="763" y="351"/>
                    </a:lnTo>
                    <a:lnTo>
                      <a:pt x="8776" y="351"/>
                    </a:lnTo>
                    <a:close/>
                    <a:moveTo>
                      <a:pt x="554" y="560"/>
                    </a:moveTo>
                    <a:lnTo>
                      <a:pt x="5669" y="3019"/>
                    </a:lnTo>
                    <a:lnTo>
                      <a:pt x="5756" y="3061"/>
                    </a:lnTo>
                    <a:lnTo>
                      <a:pt x="5812" y="3019"/>
                    </a:lnTo>
                    <a:lnTo>
                      <a:pt x="9160" y="543"/>
                    </a:lnTo>
                    <a:lnTo>
                      <a:pt x="10695" y="4757"/>
                    </a:lnTo>
                    <a:lnTo>
                      <a:pt x="2081" y="4757"/>
                    </a:lnTo>
                    <a:lnTo>
                      <a:pt x="554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993560" y="3190320"/>
                <a:ext cx="30996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259" y="715"/>
                    </a:lnTo>
                    <a:lnTo>
                      <a:pt x="0" y="0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014800" y="325152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1"/>
                    </a:moveTo>
                    <a:lnTo>
                      <a:pt x="4266" y="365"/>
                    </a:lnTo>
                    <a:lnTo>
                      <a:pt x="3999" y="388"/>
                    </a:lnTo>
                    <a:lnTo>
                      <a:pt x="3732" y="412"/>
                    </a:lnTo>
                    <a:lnTo>
                      <a:pt x="3465" y="435"/>
                    </a:lnTo>
                    <a:lnTo>
                      <a:pt x="3198" y="458"/>
                    </a:lnTo>
                    <a:lnTo>
                      <a:pt x="2930" y="482"/>
                    </a:lnTo>
                    <a:lnTo>
                      <a:pt x="2664" y="505"/>
                    </a:lnTo>
                    <a:lnTo>
                      <a:pt x="2397" y="529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6" y="598"/>
                    </a:lnTo>
                    <a:lnTo>
                      <a:pt x="1329" y="621"/>
                    </a:lnTo>
                    <a:lnTo>
                      <a:pt x="1061" y="645"/>
                    </a:lnTo>
                    <a:lnTo>
                      <a:pt x="794" y="668"/>
                    </a:lnTo>
                    <a:lnTo>
                      <a:pt x="528" y="692"/>
                    </a:lnTo>
                    <a:lnTo>
                      <a:pt x="260" y="715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1"/>
                    </a:lnTo>
                    <a:lnTo>
                      <a:pt x="195" y="536"/>
                    </a:lnTo>
                    <a:lnTo>
                      <a:pt x="179" y="491"/>
                    </a:lnTo>
                    <a:lnTo>
                      <a:pt x="163" y="447"/>
                    </a:lnTo>
                    <a:lnTo>
                      <a:pt x="147" y="402"/>
                    </a:lnTo>
                    <a:lnTo>
                      <a:pt x="131" y="358"/>
                    </a:lnTo>
                    <a:lnTo>
                      <a:pt x="114" y="313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3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2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6"/>
                    </a:lnTo>
                    <a:lnTo>
                      <a:pt x="1416" y="107"/>
                    </a:lnTo>
                    <a:lnTo>
                      <a:pt x="1699" y="129"/>
                    </a:lnTo>
                    <a:lnTo>
                      <a:pt x="1984" y="150"/>
                    </a:lnTo>
                    <a:lnTo>
                      <a:pt x="2267" y="171"/>
                    </a:lnTo>
                    <a:lnTo>
                      <a:pt x="2550" y="193"/>
                    </a:lnTo>
                    <a:lnTo>
                      <a:pt x="2834" y="214"/>
                    </a:lnTo>
                    <a:lnTo>
                      <a:pt x="3117" y="236"/>
                    </a:lnTo>
                    <a:lnTo>
                      <a:pt x="3400" y="257"/>
                    </a:lnTo>
                    <a:lnTo>
                      <a:pt x="3683" y="278"/>
                    </a:lnTo>
                    <a:lnTo>
                      <a:pt x="3967" y="300"/>
                    </a:lnTo>
                    <a:lnTo>
                      <a:pt x="4250" y="321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036040" y="331272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4532" y="341"/>
                    </a:moveTo>
                    <a:lnTo>
                      <a:pt x="4266" y="364"/>
                    </a:lnTo>
                    <a:lnTo>
                      <a:pt x="3999" y="387"/>
                    </a:lnTo>
                    <a:lnTo>
                      <a:pt x="3731" y="411"/>
                    </a:lnTo>
                    <a:lnTo>
                      <a:pt x="3464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0"/>
                    </a:lnTo>
                    <a:lnTo>
                      <a:pt x="1862" y="574"/>
                    </a:lnTo>
                    <a:lnTo>
                      <a:pt x="1595" y="597"/>
                    </a:lnTo>
                    <a:lnTo>
                      <a:pt x="1327" y="621"/>
                    </a:lnTo>
                    <a:lnTo>
                      <a:pt x="1061" y="644"/>
                    </a:lnTo>
                    <a:lnTo>
                      <a:pt x="794" y="667"/>
                    </a:lnTo>
                    <a:lnTo>
                      <a:pt x="527" y="691"/>
                    </a:lnTo>
                    <a:lnTo>
                      <a:pt x="259" y="714"/>
                    </a:lnTo>
                    <a:lnTo>
                      <a:pt x="243" y="669"/>
                    </a:lnTo>
                    <a:lnTo>
                      <a:pt x="227" y="625"/>
                    </a:lnTo>
                    <a:lnTo>
                      <a:pt x="210" y="580"/>
                    </a:lnTo>
                    <a:lnTo>
                      <a:pt x="194" y="535"/>
                    </a:lnTo>
                    <a:lnTo>
                      <a:pt x="178" y="490"/>
                    </a:lnTo>
                    <a:lnTo>
                      <a:pt x="162" y="445"/>
                    </a:lnTo>
                    <a:lnTo>
                      <a:pt x="146" y="402"/>
                    </a:lnTo>
                    <a:lnTo>
                      <a:pt x="130" y="357"/>
                    </a:lnTo>
                    <a:lnTo>
                      <a:pt x="114" y="312"/>
                    </a:lnTo>
                    <a:lnTo>
                      <a:pt x="97" y="267"/>
                    </a:lnTo>
                    <a:lnTo>
                      <a:pt x="81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2" y="88"/>
                    </a:lnTo>
                    <a:lnTo>
                      <a:pt x="16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2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6"/>
                    </a:lnTo>
                    <a:lnTo>
                      <a:pt x="1699" y="128"/>
                    </a:lnTo>
                    <a:lnTo>
                      <a:pt x="1983" y="149"/>
                    </a:lnTo>
                    <a:lnTo>
                      <a:pt x="2266" y="170"/>
                    </a:lnTo>
                    <a:lnTo>
                      <a:pt x="2549" y="192"/>
                    </a:lnTo>
                    <a:lnTo>
                      <a:pt x="2832" y="212"/>
                    </a:lnTo>
                    <a:lnTo>
                      <a:pt x="3116" y="234"/>
                    </a:lnTo>
                    <a:lnTo>
                      <a:pt x="3399" y="255"/>
                    </a:lnTo>
                    <a:lnTo>
                      <a:pt x="3682" y="276"/>
                    </a:lnTo>
                    <a:lnTo>
                      <a:pt x="3966" y="298"/>
                    </a:lnTo>
                    <a:lnTo>
                      <a:pt x="4249" y="319"/>
                    </a:lnTo>
                    <a:lnTo>
                      <a:pt x="4532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57280" y="337356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4533" y="341"/>
                    </a:moveTo>
                    <a:lnTo>
                      <a:pt x="4266" y="364"/>
                    </a:lnTo>
                    <a:lnTo>
                      <a:pt x="3998" y="388"/>
                    </a:lnTo>
                    <a:lnTo>
                      <a:pt x="3732" y="411"/>
                    </a:lnTo>
                    <a:lnTo>
                      <a:pt x="3465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4" y="505"/>
                    </a:lnTo>
                    <a:lnTo>
                      <a:pt x="2397" y="527"/>
                    </a:lnTo>
                    <a:lnTo>
                      <a:pt x="2129" y="551"/>
                    </a:lnTo>
                    <a:lnTo>
                      <a:pt x="1862" y="574"/>
                    </a:lnTo>
                    <a:lnTo>
                      <a:pt x="1596" y="597"/>
                    </a:lnTo>
                    <a:lnTo>
                      <a:pt x="1328" y="621"/>
                    </a:lnTo>
                    <a:lnTo>
                      <a:pt x="1061" y="644"/>
                    </a:lnTo>
                    <a:lnTo>
                      <a:pt x="794" y="668"/>
                    </a:lnTo>
                    <a:lnTo>
                      <a:pt x="528" y="691"/>
                    </a:lnTo>
                    <a:lnTo>
                      <a:pt x="260" y="714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0"/>
                    </a:lnTo>
                    <a:lnTo>
                      <a:pt x="195" y="535"/>
                    </a:lnTo>
                    <a:lnTo>
                      <a:pt x="178" y="490"/>
                    </a:lnTo>
                    <a:lnTo>
                      <a:pt x="162" y="446"/>
                    </a:lnTo>
                    <a:lnTo>
                      <a:pt x="146" y="401"/>
                    </a:lnTo>
                    <a:lnTo>
                      <a:pt x="131" y="357"/>
                    </a:lnTo>
                    <a:lnTo>
                      <a:pt x="114" y="312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3" y="88"/>
                    </a:lnTo>
                    <a:lnTo>
                      <a:pt x="17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1"/>
                    </a:lnTo>
                    <a:lnTo>
                      <a:pt x="850" y="63"/>
                    </a:lnTo>
                    <a:lnTo>
                      <a:pt x="1133" y="84"/>
                    </a:lnTo>
                    <a:lnTo>
                      <a:pt x="1416" y="106"/>
                    </a:lnTo>
                    <a:lnTo>
                      <a:pt x="1700" y="127"/>
                    </a:lnTo>
                    <a:lnTo>
                      <a:pt x="1984" y="148"/>
                    </a:lnTo>
                    <a:lnTo>
                      <a:pt x="2267" y="170"/>
                    </a:lnTo>
                    <a:lnTo>
                      <a:pt x="2550" y="191"/>
                    </a:lnTo>
                    <a:lnTo>
                      <a:pt x="2833" y="213"/>
                    </a:lnTo>
                    <a:lnTo>
                      <a:pt x="3117" y="234"/>
                    </a:lnTo>
                    <a:lnTo>
                      <a:pt x="3400" y="255"/>
                    </a:lnTo>
                    <a:lnTo>
                      <a:pt x="3683" y="277"/>
                    </a:lnTo>
                    <a:lnTo>
                      <a:pt x="3967" y="298"/>
                    </a:lnTo>
                    <a:lnTo>
                      <a:pt x="4250" y="319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078520" y="343476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4266" y="365"/>
                    </a:lnTo>
                    <a:lnTo>
                      <a:pt x="3998" y="389"/>
                    </a:lnTo>
                    <a:lnTo>
                      <a:pt x="3731" y="412"/>
                    </a:lnTo>
                    <a:lnTo>
                      <a:pt x="3464" y="436"/>
                    </a:lnTo>
                    <a:lnTo>
                      <a:pt x="3198" y="459"/>
                    </a:lnTo>
                    <a:lnTo>
                      <a:pt x="2930" y="483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5" y="599"/>
                    </a:lnTo>
                    <a:lnTo>
                      <a:pt x="1327" y="622"/>
                    </a:lnTo>
                    <a:lnTo>
                      <a:pt x="1061" y="645"/>
                    </a:lnTo>
                    <a:lnTo>
                      <a:pt x="794" y="669"/>
                    </a:lnTo>
                    <a:lnTo>
                      <a:pt x="527" y="692"/>
                    </a:lnTo>
                    <a:lnTo>
                      <a:pt x="259" y="715"/>
                    </a:lnTo>
                    <a:lnTo>
                      <a:pt x="243" y="671"/>
                    </a:lnTo>
                    <a:lnTo>
                      <a:pt x="227" y="626"/>
                    </a:lnTo>
                    <a:lnTo>
                      <a:pt x="211" y="581"/>
                    </a:lnTo>
                    <a:lnTo>
                      <a:pt x="194" y="536"/>
                    </a:lnTo>
                    <a:lnTo>
                      <a:pt x="178" y="492"/>
                    </a:lnTo>
                    <a:lnTo>
                      <a:pt x="162" y="447"/>
                    </a:lnTo>
                    <a:lnTo>
                      <a:pt x="145" y="402"/>
                    </a:lnTo>
                    <a:lnTo>
                      <a:pt x="129" y="357"/>
                    </a:lnTo>
                    <a:lnTo>
                      <a:pt x="113" y="314"/>
                    </a:lnTo>
                    <a:lnTo>
                      <a:pt x="98" y="269"/>
                    </a:lnTo>
                    <a:lnTo>
                      <a:pt x="81" y="224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2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7"/>
                    </a:lnTo>
                    <a:lnTo>
                      <a:pt x="1699" y="128"/>
                    </a:lnTo>
                    <a:lnTo>
                      <a:pt x="1983" y="150"/>
                    </a:lnTo>
                    <a:lnTo>
                      <a:pt x="2266" y="171"/>
                    </a:lnTo>
                    <a:lnTo>
                      <a:pt x="2549" y="192"/>
                    </a:lnTo>
                    <a:lnTo>
                      <a:pt x="2832" y="214"/>
                    </a:lnTo>
                    <a:lnTo>
                      <a:pt x="3116" y="235"/>
                    </a:lnTo>
                    <a:lnTo>
                      <a:pt x="3399" y="256"/>
                    </a:lnTo>
                    <a:lnTo>
                      <a:pt x="3682" y="278"/>
                    </a:lnTo>
                    <a:lnTo>
                      <a:pt x="3965" y="299"/>
                    </a:lnTo>
                    <a:lnTo>
                      <a:pt x="4249" y="321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099400" y="349560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2"/>
                    </a:moveTo>
                    <a:lnTo>
                      <a:pt x="260" y="715"/>
                    </a:lnTo>
                    <a:lnTo>
                      <a:pt x="0" y="0"/>
                    </a:lnTo>
                    <a:lnTo>
                      <a:pt x="4533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" name=""/>
          <p:cNvSpPr/>
          <p:nvPr/>
        </p:nvSpPr>
        <p:spPr>
          <a:xfrm>
            <a:off x="4053600" y="3538440"/>
            <a:ext cx="82692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Mess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Trans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94120" y="1720080"/>
            <a:ext cx="6996960" cy="3805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" y="8994"/>
                </a:moveTo>
                <a:arcTo wR="10800" hR="10800" stAng="-10222562" swAng="2218990"/>
                <a:lnTo>
                  <a:pt x="10800" y="10800"/>
                </a:lnTo>
                <a:close/>
              </a:path>
              <a:path fill="none" w="21600" h="21600">
                <a:moveTo>
                  <a:pt x="152" y="8994"/>
                </a:moveTo>
                <a:arcTo wR="10800" hR="10800" stAng="-10222562" swAng="2218990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30760" y="1818000"/>
            <a:ext cx="6618600" cy="366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435" y="2278"/>
                </a:moveTo>
                <a:arcTo wR="10800" hR="10800" stAng="-3125804" swAng="2515549"/>
                <a:lnTo>
                  <a:pt x="10800" y="10800"/>
                </a:lnTo>
                <a:close/>
              </a:path>
              <a:path fill="none" w="21600" h="21600">
                <a:moveTo>
                  <a:pt x="17435" y="2278"/>
                </a:moveTo>
                <a:arcTo wR="10800" hR="10800" stAng="-3125804" swAng="2515549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04280" y="1793880"/>
            <a:ext cx="6951240" cy="370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4" y="7128"/>
                </a:moveTo>
                <a:arcTo wR="10800" hR="10800" stAng="-9607279" swAng="1997849"/>
                <a:lnTo>
                  <a:pt x="10800" y="10800"/>
                </a:lnTo>
                <a:close/>
              </a:path>
              <a:path fill="none" w="21600" h="21600">
                <a:moveTo>
                  <a:pt x="644" y="7128"/>
                </a:moveTo>
                <a:arcTo wR="10800" hR="10800" stAng="-9607279" swAng="1997849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87640" y="3354120"/>
            <a:ext cx="6476040" cy="116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55" y="534"/>
                </a:moveTo>
                <a:arcTo wR="10800" hR="10800" stAng="-4314229" swAng="2495760"/>
                <a:lnTo>
                  <a:pt x="10800" y="10800"/>
                </a:lnTo>
                <a:close/>
              </a:path>
              <a:path fill="none" w="21600" h="21600">
                <a:moveTo>
                  <a:pt x="14155" y="534"/>
                </a:moveTo>
                <a:arcTo wR="10800" hR="10800" stAng="-4314229" swAng="2495760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21427800">
            <a:off x="716760" y="3403080"/>
            <a:ext cx="6469920" cy="100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15" y="2017"/>
                </a:moveTo>
                <a:arcTo wR="10800" hR="10800" stAng="-7535328" swAng="1793837"/>
                <a:lnTo>
                  <a:pt x="10800" y="10800"/>
                </a:lnTo>
                <a:close/>
              </a:path>
              <a:path fill="none" w="21600" h="21600">
                <a:moveTo>
                  <a:pt x="4515" y="2017"/>
                </a:moveTo>
                <a:arcTo wR="10800" hR="10800" stAng="-7535328" swAng="179383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373400" y="3305160"/>
            <a:ext cx="6597360" cy="965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65" y="715"/>
                </a:moveTo>
                <a:arcTo wR="10800" hR="10800" stAng="-4141735" swAng="2545105"/>
                <a:lnTo>
                  <a:pt x="10800" y="10800"/>
                </a:lnTo>
                <a:close/>
              </a:path>
              <a:path fill="none" w="21600" h="21600">
                <a:moveTo>
                  <a:pt x="14665" y="715"/>
                </a:moveTo>
                <a:arcTo wR="10800" hR="10800" stAng="-4141735" swAng="2545105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3000" y="1106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abcf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195800" y="1512720"/>
            <a:ext cx="581040" cy="858960"/>
            <a:chOff x="4195800" y="1512720"/>
            <a:chExt cx="581040" cy="858960"/>
          </a:xfrm>
        </p:grpSpPr>
        <p:sp>
          <p:nvSpPr>
            <p:cNvPr id="289" name=""/>
            <p:cNvSpPr/>
            <p:nvPr/>
          </p:nvSpPr>
          <p:spPr>
            <a:xfrm>
              <a:off x="4195800" y="1512720"/>
              <a:ext cx="581040" cy="858960"/>
            </a:xfrm>
            <a:custGeom>
              <a:avLst/>
              <a:gdLst/>
              <a:ahLst/>
              <a:rect l="l" t="t" r="r" b="b"/>
              <a:pathLst>
                <a:path w="11550" h="16335">
                  <a:moveTo>
                    <a:pt x="2457" y="36"/>
                  </a:moveTo>
                  <a:lnTo>
                    <a:pt x="11550" y="2030"/>
                  </a:lnTo>
                  <a:lnTo>
                    <a:pt x="11550" y="15073"/>
                  </a:lnTo>
                  <a:lnTo>
                    <a:pt x="9463" y="14616"/>
                  </a:lnTo>
                  <a:lnTo>
                    <a:pt x="9463" y="16335"/>
                  </a:lnTo>
                  <a:lnTo>
                    <a:pt x="295" y="14325"/>
                  </a:lnTo>
                  <a:lnTo>
                    <a:pt x="295" y="14322"/>
                  </a:lnTo>
                  <a:lnTo>
                    <a:pt x="267" y="14312"/>
                  </a:lnTo>
                  <a:lnTo>
                    <a:pt x="236" y="14300"/>
                  </a:lnTo>
                  <a:lnTo>
                    <a:pt x="202" y="14286"/>
                  </a:lnTo>
                  <a:lnTo>
                    <a:pt x="164" y="14270"/>
                  </a:lnTo>
                  <a:lnTo>
                    <a:pt x="149" y="14261"/>
                  </a:lnTo>
                  <a:lnTo>
                    <a:pt x="135" y="14253"/>
                  </a:lnTo>
                  <a:lnTo>
                    <a:pt x="121" y="14244"/>
                  </a:lnTo>
                  <a:lnTo>
                    <a:pt x="108" y="14235"/>
                  </a:lnTo>
                  <a:lnTo>
                    <a:pt x="97" y="14225"/>
                  </a:lnTo>
                  <a:lnTo>
                    <a:pt x="86" y="14215"/>
                  </a:lnTo>
                  <a:lnTo>
                    <a:pt x="77" y="14204"/>
                  </a:lnTo>
                  <a:lnTo>
                    <a:pt x="67" y="14194"/>
                  </a:lnTo>
                  <a:lnTo>
                    <a:pt x="58" y="14184"/>
                  </a:lnTo>
                  <a:lnTo>
                    <a:pt x="51" y="14173"/>
                  </a:lnTo>
                  <a:lnTo>
                    <a:pt x="44" y="14161"/>
                  </a:lnTo>
                  <a:lnTo>
                    <a:pt x="38" y="14151"/>
                  </a:lnTo>
                  <a:lnTo>
                    <a:pt x="27" y="14129"/>
                  </a:lnTo>
                  <a:lnTo>
                    <a:pt x="18" y="14108"/>
                  </a:lnTo>
                  <a:lnTo>
                    <a:pt x="12" y="14088"/>
                  </a:lnTo>
                  <a:lnTo>
                    <a:pt x="7" y="14069"/>
                  </a:lnTo>
                  <a:lnTo>
                    <a:pt x="4" y="14051"/>
                  </a:lnTo>
                  <a:lnTo>
                    <a:pt x="2" y="14037"/>
                  </a:lnTo>
                  <a:lnTo>
                    <a:pt x="0" y="14015"/>
                  </a:lnTo>
                  <a:lnTo>
                    <a:pt x="0" y="14007"/>
                  </a:lnTo>
                  <a:lnTo>
                    <a:pt x="2" y="14005"/>
                  </a:lnTo>
                  <a:lnTo>
                    <a:pt x="2" y="1402"/>
                  </a:lnTo>
                  <a:lnTo>
                    <a:pt x="2" y="1393"/>
                  </a:lnTo>
                  <a:lnTo>
                    <a:pt x="2" y="1384"/>
                  </a:lnTo>
                  <a:lnTo>
                    <a:pt x="2" y="1381"/>
                  </a:lnTo>
                  <a:lnTo>
                    <a:pt x="2" y="1381"/>
                  </a:lnTo>
                  <a:lnTo>
                    <a:pt x="5" y="1356"/>
                  </a:lnTo>
                  <a:lnTo>
                    <a:pt x="9" y="1329"/>
                  </a:lnTo>
                  <a:lnTo>
                    <a:pt x="16" y="1302"/>
                  </a:lnTo>
                  <a:lnTo>
                    <a:pt x="27" y="1273"/>
                  </a:lnTo>
                  <a:lnTo>
                    <a:pt x="38" y="1245"/>
                  </a:lnTo>
                  <a:lnTo>
                    <a:pt x="52" y="1215"/>
                  </a:lnTo>
                  <a:lnTo>
                    <a:pt x="68" y="1184"/>
                  </a:lnTo>
                  <a:lnTo>
                    <a:pt x="87" y="1154"/>
                  </a:lnTo>
                  <a:lnTo>
                    <a:pt x="108" y="1122"/>
                  </a:lnTo>
                  <a:lnTo>
                    <a:pt x="131" y="1090"/>
                  </a:lnTo>
                  <a:lnTo>
                    <a:pt x="155" y="1058"/>
                  </a:lnTo>
                  <a:lnTo>
                    <a:pt x="182" y="1025"/>
                  </a:lnTo>
                  <a:lnTo>
                    <a:pt x="210" y="992"/>
                  </a:lnTo>
                  <a:lnTo>
                    <a:pt x="241" y="959"/>
                  </a:lnTo>
                  <a:lnTo>
                    <a:pt x="273" y="925"/>
                  </a:lnTo>
                  <a:lnTo>
                    <a:pt x="307" y="891"/>
                  </a:lnTo>
                  <a:lnTo>
                    <a:pt x="343" y="858"/>
                  </a:lnTo>
                  <a:lnTo>
                    <a:pt x="381" y="823"/>
                  </a:lnTo>
                  <a:lnTo>
                    <a:pt x="420" y="789"/>
                  </a:lnTo>
                  <a:lnTo>
                    <a:pt x="460" y="754"/>
                  </a:lnTo>
                  <a:lnTo>
                    <a:pt x="503" y="721"/>
                  </a:lnTo>
                  <a:lnTo>
                    <a:pt x="547" y="686"/>
                  </a:lnTo>
                  <a:lnTo>
                    <a:pt x="593" y="652"/>
                  </a:lnTo>
                  <a:lnTo>
                    <a:pt x="640" y="619"/>
                  </a:lnTo>
                  <a:lnTo>
                    <a:pt x="688" y="585"/>
                  </a:lnTo>
                  <a:lnTo>
                    <a:pt x="738" y="551"/>
                  </a:lnTo>
                  <a:lnTo>
                    <a:pt x="789" y="519"/>
                  </a:lnTo>
                  <a:lnTo>
                    <a:pt x="841" y="486"/>
                  </a:lnTo>
                  <a:lnTo>
                    <a:pt x="895" y="453"/>
                  </a:lnTo>
                  <a:lnTo>
                    <a:pt x="951" y="422"/>
                  </a:lnTo>
                  <a:lnTo>
                    <a:pt x="1006" y="391"/>
                  </a:lnTo>
                  <a:lnTo>
                    <a:pt x="1063" y="360"/>
                  </a:lnTo>
                  <a:lnTo>
                    <a:pt x="1117" y="332"/>
                  </a:lnTo>
                  <a:lnTo>
                    <a:pt x="1171" y="305"/>
                  </a:lnTo>
                  <a:lnTo>
                    <a:pt x="1224" y="279"/>
                  </a:lnTo>
                  <a:lnTo>
                    <a:pt x="1278" y="254"/>
                  </a:lnTo>
                  <a:lnTo>
                    <a:pt x="1331" y="231"/>
                  </a:lnTo>
                  <a:lnTo>
                    <a:pt x="1383" y="208"/>
                  </a:lnTo>
                  <a:lnTo>
                    <a:pt x="1435" y="187"/>
                  </a:lnTo>
                  <a:lnTo>
                    <a:pt x="1488" y="166"/>
                  </a:lnTo>
                  <a:lnTo>
                    <a:pt x="1540" y="147"/>
                  </a:lnTo>
                  <a:lnTo>
                    <a:pt x="1590" y="129"/>
                  </a:lnTo>
                  <a:lnTo>
                    <a:pt x="1640" y="112"/>
                  </a:lnTo>
                  <a:lnTo>
                    <a:pt x="1690" y="96"/>
                  </a:lnTo>
                  <a:lnTo>
                    <a:pt x="1739" y="82"/>
                  </a:lnTo>
                  <a:lnTo>
                    <a:pt x="1787" y="68"/>
                  </a:lnTo>
                  <a:lnTo>
                    <a:pt x="1834" y="56"/>
                  </a:lnTo>
                  <a:lnTo>
                    <a:pt x="1880" y="45"/>
                  </a:lnTo>
                  <a:lnTo>
                    <a:pt x="1926" y="35"/>
                  </a:lnTo>
                  <a:lnTo>
                    <a:pt x="1969" y="27"/>
                  </a:lnTo>
                  <a:lnTo>
                    <a:pt x="2013" y="19"/>
                  </a:lnTo>
                  <a:lnTo>
                    <a:pt x="2055" y="13"/>
                  </a:lnTo>
                  <a:lnTo>
                    <a:pt x="2096" y="8"/>
                  </a:lnTo>
                  <a:lnTo>
                    <a:pt x="2136" y="4"/>
                  </a:lnTo>
                  <a:lnTo>
                    <a:pt x="2175" y="1"/>
                  </a:lnTo>
                  <a:lnTo>
                    <a:pt x="2212" y="0"/>
                  </a:lnTo>
                  <a:lnTo>
                    <a:pt x="2248" y="0"/>
                  </a:lnTo>
                  <a:lnTo>
                    <a:pt x="2283" y="1"/>
                  </a:lnTo>
                  <a:lnTo>
                    <a:pt x="2316" y="4"/>
                  </a:lnTo>
                  <a:lnTo>
                    <a:pt x="2347" y="7"/>
                  </a:lnTo>
                  <a:lnTo>
                    <a:pt x="2378" y="12"/>
                  </a:lnTo>
                  <a:lnTo>
                    <a:pt x="2405" y="18"/>
                  </a:lnTo>
                  <a:lnTo>
                    <a:pt x="2433" y="27"/>
                  </a:lnTo>
                  <a:lnTo>
                    <a:pt x="2457" y="36"/>
                  </a:lnTo>
                  <a:close/>
                  <a:moveTo>
                    <a:pt x="2383" y="1711"/>
                  </a:moveTo>
                  <a:lnTo>
                    <a:pt x="2383" y="215"/>
                  </a:lnTo>
                  <a:lnTo>
                    <a:pt x="2372" y="214"/>
                  </a:lnTo>
                  <a:lnTo>
                    <a:pt x="2360" y="213"/>
                  </a:lnTo>
                  <a:lnTo>
                    <a:pt x="2338" y="212"/>
                  </a:lnTo>
                  <a:lnTo>
                    <a:pt x="2316" y="212"/>
                  </a:lnTo>
                  <a:lnTo>
                    <a:pt x="2291" y="213"/>
                  </a:lnTo>
                  <a:lnTo>
                    <a:pt x="2265" y="215"/>
                  </a:lnTo>
                  <a:lnTo>
                    <a:pt x="2238" y="218"/>
                  </a:lnTo>
                  <a:lnTo>
                    <a:pt x="2210" y="222"/>
                  </a:lnTo>
                  <a:lnTo>
                    <a:pt x="2181" y="227"/>
                  </a:lnTo>
                  <a:lnTo>
                    <a:pt x="2150" y="232"/>
                  </a:lnTo>
                  <a:lnTo>
                    <a:pt x="2118" y="238"/>
                  </a:lnTo>
                  <a:lnTo>
                    <a:pt x="2086" y="245"/>
                  </a:lnTo>
                  <a:lnTo>
                    <a:pt x="2051" y="253"/>
                  </a:lnTo>
                  <a:lnTo>
                    <a:pt x="2016" y="262"/>
                  </a:lnTo>
                  <a:lnTo>
                    <a:pt x="1981" y="272"/>
                  </a:lnTo>
                  <a:lnTo>
                    <a:pt x="1944" y="283"/>
                  </a:lnTo>
                  <a:lnTo>
                    <a:pt x="1906" y="294"/>
                  </a:lnTo>
                  <a:lnTo>
                    <a:pt x="1867" y="306"/>
                  </a:lnTo>
                  <a:lnTo>
                    <a:pt x="1827" y="320"/>
                  </a:lnTo>
                  <a:lnTo>
                    <a:pt x="1788" y="334"/>
                  </a:lnTo>
                  <a:lnTo>
                    <a:pt x="1747" y="349"/>
                  </a:lnTo>
                  <a:lnTo>
                    <a:pt x="1704" y="364"/>
                  </a:lnTo>
                  <a:lnTo>
                    <a:pt x="1662" y="381"/>
                  </a:lnTo>
                  <a:lnTo>
                    <a:pt x="1618" y="399"/>
                  </a:lnTo>
                  <a:lnTo>
                    <a:pt x="1574" y="418"/>
                  </a:lnTo>
                  <a:lnTo>
                    <a:pt x="1529" y="436"/>
                  </a:lnTo>
                  <a:lnTo>
                    <a:pt x="1484" y="456"/>
                  </a:lnTo>
                  <a:lnTo>
                    <a:pt x="1439" y="477"/>
                  </a:lnTo>
                  <a:lnTo>
                    <a:pt x="1393" y="499"/>
                  </a:lnTo>
                  <a:lnTo>
                    <a:pt x="1346" y="522"/>
                  </a:lnTo>
                  <a:lnTo>
                    <a:pt x="1299" y="545"/>
                  </a:lnTo>
                  <a:lnTo>
                    <a:pt x="1251" y="570"/>
                  </a:lnTo>
                  <a:lnTo>
                    <a:pt x="1203" y="594"/>
                  </a:lnTo>
                  <a:lnTo>
                    <a:pt x="1154" y="620"/>
                  </a:lnTo>
                  <a:lnTo>
                    <a:pt x="1104" y="663"/>
                  </a:lnTo>
                  <a:lnTo>
                    <a:pt x="1054" y="703"/>
                  </a:lnTo>
                  <a:lnTo>
                    <a:pt x="1005" y="743"/>
                  </a:lnTo>
                  <a:lnTo>
                    <a:pt x="956" y="782"/>
                  </a:lnTo>
                  <a:lnTo>
                    <a:pt x="908" y="820"/>
                  </a:lnTo>
                  <a:lnTo>
                    <a:pt x="861" y="858"/>
                  </a:lnTo>
                  <a:lnTo>
                    <a:pt x="814" y="895"/>
                  </a:lnTo>
                  <a:lnTo>
                    <a:pt x="768" y="934"/>
                  </a:lnTo>
                  <a:lnTo>
                    <a:pt x="723" y="973"/>
                  </a:lnTo>
                  <a:lnTo>
                    <a:pt x="678" y="1012"/>
                  </a:lnTo>
                  <a:lnTo>
                    <a:pt x="634" y="1053"/>
                  </a:lnTo>
                  <a:lnTo>
                    <a:pt x="591" y="1094"/>
                  </a:lnTo>
                  <a:lnTo>
                    <a:pt x="548" y="1137"/>
                  </a:lnTo>
                  <a:lnTo>
                    <a:pt x="506" y="1182"/>
                  </a:lnTo>
                  <a:lnTo>
                    <a:pt x="466" y="1230"/>
                  </a:lnTo>
                  <a:lnTo>
                    <a:pt x="425" y="1279"/>
                  </a:lnTo>
                  <a:lnTo>
                    <a:pt x="434" y="1280"/>
                  </a:lnTo>
                  <a:lnTo>
                    <a:pt x="460" y="1285"/>
                  </a:lnTo>
                  <a:lnTo>
                    <a:pt x="505" y="1295"/>
                  </a:lnTo>
                  <a:lnTo>
                    <a:pt x="567" y="1308"/>
                  </a:lnTo>
                  <a:lnTo>
                    <a:pt x="644" y="1325"/>
                  </a:lnTo>
                  <a:lnTo>
                    <a:pt x="737" y="1345"/>
                  </a:lnTo>
                  <a:lnTo>
                    <a:pt x="845" y="1369"/>
                  </a:lnTo>
                  <a:lnTo>
                    <a:pt x="968" y="1396"/>
                  </a:lnTo>
                  <a:lnTo>
                    <a:pt x="1104" y="1426"/>
                  </a:lnTo>
                  <a:lnTo>
                    <a:pt x="1253" y="1459"/>
                  </a:lnTo>
                  <a:lnTo>
                    <a:pt x="1414" y="1495"/>
                  </a:lnTo>
                  <a:lnTo>
                    <a:pt x="1587" y="1533"/>
                  </a:lnTo>
                  <a:lnTo>
                    <a:pt x="1770" y="1574"/>
                  </a:lnTo>
                  <a:lnTo>
                    <a:pt x="1965" y="1618"/>
                  </a:lnTo>
                  <a:lnTo>
                    <a:pt x="2170" y="1663"/>
                  </a:lnTo>
                  <a:lnTo>
                    <a:pt x="2383" y="17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11640" y="1522080"/>
              <a:ext cx="552960" cy="838440"/>
            </a:xfrm>
            <a:custGeom>
              <a:avLst/>
              <a:gdLst/>
              <a:ahLst/>
              <a:rect l="l" t="t" r="r" b="b"/>
              <a:pathLst>
                <a:path w="10995" h="15972">
                  <a:moveTo>
                    <a:pt x="0" y="1150"/>
                  </a:moveTo>
                  <a:lnTo>
                    <a:pt x="4" y="1144"/>
                  </a:lnTo>
                  <a:lnTo>
                    <a:pt x="20" y="1128"/>
                  </a:lnTo>
                  <a:lnTo>
                    <a:pt x="43" y="1102"/>
                  </a:lnTo>
                  <a:lnTo>
                    <a:pt x="77" y="1067"/>
                  </a:lnTo>
                  <a:lnTo>
                    <a:pt x="118" y="1025"/>
                  </a:lnTo>
                  <a:lnTo>
                    <a:pt x="167" y="976"/>
                  </a:lnTo>
                  <a:lnTo>
                    <a:pt x="224" y="921"/>
                  </a:lnTo>
                  <a:lnTo>
                    <a:pt x="287" y="862"/>
                  </a:lnTo>
                  <a:lnTo>
                    <a:pt x="358" y="800"/>
                  </a:lnTo>
                  <a:lnTo>
                    <a:pt x="433" y="735"/>
                  </a:lnTo>
                  <a:lnTo>
                    <a:pt x="474" y="701"/>
                  </a:lnTo>
                  <a:lnTo>
                    <a:pt x="516" y="667"/>
                  </a:lnTo>
                  <a:lnTo>
                    <a:pt x="559" y="633"/>
                  </a:lnTo>
                  <a:lnTo>
                    <a:pt x="603" y="600"/>
                  </a:lnTo>
                  <a:lnTo>
                    <a:pt x="648" y="566"/>
                  </a:lnTo>
                  <a:lnTo>
                    <a:pt x="695" y="532"/>
                  </a:lnTo>
                  <a:lnTo>
                    <a:pt x="742" y="499"/>
                  </a:lnTo>
                  <a:lnTo>
                    <a:pt x="791" y="466"/>
                  </a:lnTo>
                  <a:lnTo>
                    <a:pt x="840" y="434"/>
                  </a:lnTo>
                  <a:lnTo>
                    <a:pt x="891" y="403"/>
                  </a:lnTo>
                  <a:lnTo>
                    <a:pt x="942" y="372"/>
                  </a:lnTo>
                  <a:lnTo>
                    <a:pt x="994" y="342"/>
                  </a:lnTo>
                  <a:lnTo>
                    <a:pt x="1046" y="314"/>
                  </a:lnTo>
                  <a:lnTo>
                    <a:pt x="1098" y="287"/>
                  </a:lnTo>
                  <a:lnTo>
                    <a:pt x="1150" y="262"/>
                  </a:lnTo>
                  <a:lnTo>
                    <a:pt x="1201" y="238"/>
                  </a:lnTo>
                  <a:lnTo>
                    <a:pt x="1252" y="216"/>
                  </a:lnTo>
                  <a:lnTo>
                    <a:pt x="1302" y="195"/>
                  </a:lnTo>
                  <a:lnTo>
                    <a:pt x="1351" y="176"/>
                  </a:lnTo>
                  <a:lnTo>
                    <a:pt x="1399" y="158"/>
                  </a:lnTo>
                  <a:lnTo>
                    <a:pt x="1447" y="141"/>
                  </a:lnTo>
                  <a:lnTo>
                    <a:pt x="1494" y="125"/>
                  </a:lnTo>
                  <a:lnTo>
                    <a:pt x="1539" y="111"/>
                  </a:lnTo>
                  <a:lnTo>
                    <a:pt x="1584" y="97"/>
                  </a:lnTo>
                  <a:lnTo>
                    <a:pt x="1627" y="85"/>
                  </a:lnTo>
                  <a:lnTo>
                    <a:pt x="1668" y="74"/>
                  </a:lnTo>
                  <a:lnTo>
                    <a:pt x="1708" y="64"/>
                  </a:lnTo>
                  <a:lnTo>
                    <a:pt x="1747" y="55"/>
                  </a:lnTo>
                  <a:lnTo>
                    <a:pt x="1820" y="39"/>
                  </a:lnTo>
                  <a:lnTo>
                    <a:pt x="1884" y="27"/>
                  </a:lnTo>
                  <a:lnTo>
                    <a:pt x="1941" y="18"/>
                  </a:lnTo>
                  <a:lnTo>
                    <a:pt x="1989" y="11"/>
                  </a:lnTo>
                  <a:lnTo>
                    <a:pt x="2028" y="6"/>
                  </a:lnTo>
                  <a:lnTo>
                    <a:pt x="2057" y="2"/>
                  </a:lnTo>
                  <a:lnTo>
                    <a:pt x="2075" y="1"/>
                  </a:lnTo>
                  <a:lnTo>
                    <a:pt x="2081" y="0"/>
                  </a:lnTo>
                  <a:lnTo>
                    <a:pt x="10995" y="2050"/>
                  </a:lnTo>
                  <a:lnTo>
                    <a:pt x="10995" y="14835"/>
                  </a:lnTo>
                  <a:lnTo>
                    <a:pt x="10896" y="14879"/>
                  </a:lnTo>
                  <a:lnTo>
                    <a:pt x="10702" y="15011"/>
                  </a:lnTo>
                  <a:lnTo>
                    <a:pt x="10590" y="14991"/>
                  </a:lnTo>
                  <a:lnTo>
                    <a:pt x="10671" y="15073"/>
                  </a:lnTo>
                  <a:lnTo>
                    <a:pt x="10192" y="15409"/>
                  </a:lnTo>
                  <a:lnTo>
                    <a:pt x="10059" y="15399"/>
                  </a:lnTo>
                  <a:lnTo>
                    <a:pt x="10096" y="15456"/>
                  </a:lnTo>
                  <a:lnTo>
                    <a:pt x="9976" y="15548"/>
                  </a:lnTo>
                  <a:lnTo>
                    <a:pt x="9875" y="15542"/>
                  </a:lnTo>
                  <a:lnTo>
                    <a:pt x="9906" y="15593"/>
                  </a:lnTo>
                  <a:lnTo>
                    <a:pt x="9316" y="15972"/>
                  </a:lnTo>
                  <a:lnTo>
                    <a:pt x="9150" y="15938"/>
                  </a:lnTo>
                  <a:lnTo>
                    <a:pt x="9150" y="3126"/>
                  </a:lnTo>
                  <a:lnTo>
                    <a:pt x="0" y="11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282920" y="1738800"/>
              <a:ext cx="294840" cy="391680"/>
              <a:chOff x="4282920" y="1738800"/>
              <a:chExt cx="294840" cy="391680"/>
            </a:xfrm>
          </p:grpSpPr>
          <p:sp>
            <p:nvSpPr>
              <p:cNvPr id="292" name=""/>
              <p:cNvSpPr/>
              <p:nvPr/>
            </p:nvSpPr>
            <p:spPr>
              <a:xfrm>
                <a:off x="4435560" y="2059200"/>
                <a:ext cx="25200" cy="24840"/>
              </a:xfrm>
              <a:custGeom>
                <a:avLst/>
                <a:gdLst/>
                <a:ahLst/>
                <a:rect l="l" t="t" r="r" b="b"/>
                <a:pathLst>
                  <a:path w="488" h="499">
                    <a:moveTo>
                      <a:pt x="0" y="0"/>
                    </a:moveTo>
                    <a:lnTo>
                      <a:pt x="16" y="13"/>
                    </a:lnTo>
                    <a:lnTo>
                      <a:pt x="30" y="27"/>
                    </a:lnTo>
                    <a:lnTo>
                      <a:pt x="39" y="34"/>
                    </a:lnTo>
                    <a:lnTo>
                      <a:pt x="48" y="42"/>
                    </a:lnTo>
                    <a:lnTo>
                      <a:pt x="56" y="49"/>
                    </a:lnTo>
                    <a:lnTo>
                      <a:pt x="66" y="57"/>
                    </a:lnTo>
                    <a:lnTo>
                      <a:pt x="75" y="65"/>
                    </a:lnTo>
                    <a:lnTo>
                      <a:pt x="84" y="74"/>
                    </a:lnTo>
                    <a:lnTo>
                      <a:pt x="92" y="81"/>
                    </a:lnTo>
                    <a:lnTo>
                      <a:pt x="101" y="89"/>
                    </a:lnTo>
                    <a:lnTo>
                      <a:pt x="113" y="98"/>
                    </a:lnTo>
                    <a:lnTo>
                      <a:pt x="123" y="107"/>
                    </a:lnTo>
                    <a:lnTo>
                      <a:pt x="133" y="117"/>
                    </a:lnTo>
                    <a:lnTo>
                      <a:pt x="144" y="125"/>
                    </a:lnTo>
                    <a:lnTo>
                      <a:pt x="153" y="135"/>
                    </a:lnTo>
                    <a:lnTo>
                      <a:pt x="164" y="144"/>
                    </a:lnTo>
                    <a:lnTo>
                      <a:pt x="174" y="153"/>
                    </a:lnTo>
                    <a:lnTo>
                      <a:pt x="184" y="162"/>
                    </a:lnTo>
                    <a:lnTo>
                      <a:pt x="194" y="173"/>
                    </a:lnTo>
                    <a:lnTo>
                      <a:pt x="205" y="182"/>
                    </a:lnTo>
                    <a:lnTo>
                      <a:pt x="216" y="192"/>
                    </a:lnTo>
                    <a:lnTo>
                      <a:pt x="227" y="201"/>
                    </a:lnTo>
                    <a:lnTo>
                      <a:pt x="237" y="210"/>
                    </a:lnTo>
                    <a:lnTo>
                      <a:pt x="248" y="220"/>
                    </a:lnTo>
                    <a:lnTo>
                      <a:pt x="259" y="230"/>
                    </a:lnTo>
                    <a:lnTo>
                      <a:pt x="269" y="239"/>
                    </a:lnTo>
                    <a:lnTo>
                      <a:pt x="279" y="248"/>
                    </a:lnTo>
                    <a:lnTo>
                      <a:pt x="289" y="258"/>
                    </a:lnTo>
                    <a:lnTo>
                      <a:pt x="299" y="269"/>
                    </a:lnTo>
                    <a:lnTo>
                      <a:pt x="309" y="279"/>
                    </a:lnTo>
                    <a:lnTo>
                      <a:pt x="319" y="288"/>
                    </a:lnTo>
                    <a:lnTo>
                      <a:pt x="329" y="298"/>
                    </a:lnTo>
                    <a:lnTo>
                      <a:pt x="339" y="307"/>
                    </a:lnTo>
                    <a:lnTo>
                      <a:pt x="348" y="318"/>
                    </a:lnTo>
                    <a:lnTo>
                      <a:pt x="358" y="326"/>
                    </a:lnTo>
                    <a:lnTo>
                      <a:pt x="367" y="335"/>
                    </a:lnTo>
                    <a:lnTo>
                      <a:pt x="375" y="343"/>
                    </a:lnTo>
                    <a:lnTo>
                      <a:pt x="384" y="352"/>
                    </a:lnTo>
                    <a:lnTo>
                      <a:pt x="392" y="361"/>
                    </a:lnTo>
                    <a:lnTo>
                      <a:pt x="400" y="370"/>
                    </a:lnTo>
                    <a:lnTo>
                      <a:pt x="409" y="379"/>
                    </a:lnTo>
                    <a:lnTo>
                      <a:pt x="416" y="388"/>
                    </a:lnTo>
                    <a:lnTo>
                      <a:pt x="429" y="402"/>
                    </a:lnTo>
                    <a:lnTo>
                      <a:pt x="442" y="418"/>
                    </a:lnTo>
                    <a:lnTo>
                      <a:pt x="453" y="431"/>
                    </a:lnTo>
                    <a:lnTo>
                      <a:pt x="464" y="445"/>
                    </a:lnTo>
                    <a:lnTo>
                      <a:pt x="472" y="455"/>
                    </a:lnTo>
                    <a:lnTo>
                      <a:pt x="480" y="467"/>
                    </a:lnTo>
                    <a:lnTo>
                      <a:pt x="484" y="476"/>
                    </a:lnTo>
                    <a:lnTo>
                      <a:pt x="488" y="485"/>
                    </a:lnTo>
                    <a:lnTo>
                      <a:pt x="488" y="491"/>
                    </a:lnTo>
                    <a:lnTo>
                      <a:pt x="488" y="497"/>
                    </a:lnTo>
                    <a:lnTo>
                      <a:pt x="485" y="498"/>
                    </a:lnTo>
                    <a:lnTo>
                      <a:pt x="482" y="499"/>
                    </a:lnTo>
                    <a:lnTo>
                      <a:pt x="476" y="499"/>
                    </a:lnTo>
                    <a:lnTo>
                      <a:pt x="470" y="498"/>
                    </a:lnTo>
                    <a:lnTo>
                      <a:pt x="462" y="496"/>
                    </a:lnTo>
                    <a:lnTo>
                      <a:pt x="455" y="493"/>
                    </a:lnTo>
                    <a:lnTo>
                      <a:pt x="444" y="489"/>
                    </a:lnTo>
                    <a:lnTo>
                      <a:pt x="434" y="484"/>
                    </a:lnTo>
                    <a:lnTo>
                      <a:pt x="422" y="479"/>
                    </a:lnTo>
                    <a:lnTo>
                      <a:pt x="411" y="473"/>
                    </a:lnTo>
                    <a:lnTo>
                      <a:pt x="396" y="465"/>
                    </a:lnTo>
                    <a:lnTo>
                      <a:pt x="382" y="456"/>
                    </a:lnTo>
                    <a:lnTo>
                      <a:pt x="374" y="452"/>
                    </a:lnTo>
                    <a:lnTo>
                      <a:pt x="367" y="448"/>
                    </a:lnTo>
                    <a:lnTo>
                      <a:pt x="359" y="443"/>
                    </a:lnTo>
                    <a:lnTo>
                      <a:pt x="350" y="439"/>
                    </a:lnTo>
                    <a:lnTo>
                      <a:pt x="342" y="434"/>
                    </a:lnTo>
                    <a:lnTo>
                      <a:pt x="333" y="429"/>
                    </a:lnTo>
                    <a:lnTo>
                      <a:pt x="325" y="424"/>
                    </a:lnTo>
                    <a:lnTo>
                      <a:pt x="317" y="419"/>
                    </a:lnTo>
                    <a:lnTo>
                      <a:pt x="308" y="414"/>
                    </a:lnTo>
                    <a:lnTo>
                      <a:pt x="298" y="407"/>
                    </a:lnTo>
                    <a:lnTo>
                      <a:pt x="290" y="402"/>
                    </a:lnTo>
                    <a:lnTo>
                      <a:pt x="281" y="396"/>
                    </a:lnTo>
                    <a:lnTo>
                      <a:pt x="272" y="390"/>
                    </a:lnTo>
                    <a:lnTo>
                      <a:pt x="262" y="384"/>
                    </a:lnTo>
                    <a:lnTo>
                      <a:pt x="252" y="378"/>
                    </a:lnTo>
                    <a:lnTo>
                      <a:pt x="243" y="371"/>
                    </a:lnTo>
                    <a:lnTo>
                      <a:pt x="233" y="365"/>
                    </a:lnTo>
                    <a:lnTo>
                      <a:pt x="223" y="358"/>
                    </a:lnTo>
                    <a:lnTo>
                      <a:pt x="214" y="352"/>
                    </a:lnTo>
                    <a:lnTo>
                      <a:pt x="203" y="346"/>
                    </a:lnTo>
                    <a:lnTo>
                      <a:pt x="193" y="340"/>
                    </a:lnTo>
                    <a:lnTo>
                      <a:pt x="183" y="334"/>
                    </a:lnTo>
                    <a:lnTo>
                      <a:pt x="174" y="327"/>
                    </a:lnTo>
                    <a:lnTo>
                      <a:pt x="164" y="321"/>
                    </a:lnTo>
                    <a:lnTo>
                      <a:pt x="153" y="314"/>
                    </a:lnTo>
                    <a:lnTo>
                      <a:pt x="143" y="306"/>
                    </a:lnTo>
                    <a:lnTo>
                      <a:pt x="134" y="300"/>
                    </a:lnTo>
                    <a:lnTo>
                      <a:pt x="124" y="293"/>
                    </a:lnTo>
                    <a:lnTo>
                      <a:pt x="114" y="286"/>
                    </a:lnTo>
                    <a:lnTo>
                      <a:pt x="103" y="280"/>
                    </a:lnTo>
                    <a:lnTo>
                      <a:pt x="92" y="273"/>
                    </a:lnTo>
                    <a:lnTo>
                      <a:pt x="82" y="266"/>
                    </a:lnTo>
                    <a:lnTo>
                      <a:pt x="72" y="259"/>
                    </a:lnTo>
                    <a:lnTo>
                      <a:pt x="60" y="252"/>
                    </a:lnTo>
                    <a:lnTo>
                      <a:pt x="50" y="246"/>
                    </a:lnTo>
                    <a:lnTo>
                      <a:pt x="40" y="239"/>
                    </a:lnTo>
                    <a:lnTo>
                      <a:pt x="30" y="233"/>
                    </a:lnTo>
                    <a:lnTo>
                      <a:pt x="20" y="226"/>
                    </a:lnTo>
                    <a:lnTo>
                      <a:pt x="10" y="219"/>
                    </a:lnTo>
                    <a:lnTo>
                      <a:pt x="0" y="212"/>
                    </a:lnTo>
                    <a:lnTo>
                      <a:pt x="0" y="186"/>
                    </a:lnTo>
                    <a:lnTo>
                      <a:pt x="0" y="159"/>
                    </a:lnTo>
                    <a:lnTo>
                      <a:pt x="0" y="134"/>
                    </a:lnTo>
                    <a:lnTo>
                      <a:pt x="0" y="107"/>
                    </a:lnTo>
                    <a:lnTo>
                      <a:pt x="0" y="81"/>
                    </a:lnTo>
                    <a:lnTo>
                      <a:pt x="0" y="54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282920" y="1748160"/>
                <a:ext cx="294840" cy="101880"/>
              </a:xfrm>
              <a:custGeom>
                <a:avLst/>
                <a:gdLst/>
                <a:ahLst/>
                <a:rect l="l" t="t" r="r" b="b"/>
                <a:pathLst>
                  <a:path w="5855" h="1948">
                    <a:moveTo>
                      <a:pt x="2796" y="1633"/>
                    </a:moveTo>
                    <a:lnTo>
                      <a:pt x="2796" y="1633"/>
                    </a:lnTo>
                    <a:lnTo>
                      <a:pt x="2795" y="1633"/>
                    </a:lnTo>
                    <a:lnTo>
                      <a:pt x="2792" y="1634"/>
                    </a:lnTo>
                    <a:lnTo>
                      <a:pt x="2789" y="1635"/>
                    </a:lnTo>
                    <a:lnTo>
                      <a:pt x="2783" y="1635"/>
                    </a:lnTo>
                    <a:lnTo>
                      <a:pt x="2777" y="1635"/>
                    </a:lnTo>
                    <a:lnTo>
                      <a:pt x="2769" y="1636"/>
                    </a:lnTo>
                    <a:lnTo>
                      <a:pt x="2763" y="1637"/>
                    </a:lnTo>
                    <a:lnTo>
                      <a:pt x="2753" y="1638"/>
                    </a:lnTo>
                    <a:lnTo>
                      <a:pt x="2743" y="1639"/>
                    </a:lnTo>
                    <a:lnTo>
                      <a:pt x="2731" y="1639"/>
                    </a:lnTo>
                    <a:lnTo>
                      <a:pt x="2719" y="1639"/>
                    </a:lnTo>
                    <a:lnTo>
                      <a:pt x="2704" y="1639"/>
                    </a:lnTo>
                    <a:lnTo>
                      <a:pt x="2689" y="1638"/>
                    </a:lnTo>
                    <a:lnTo>
                      <a:pt x="2681" y="1638"/>
                    </a:lnTo>
                    <a:lnTo>
                      <a:pt x="2672" y="1637"/>
                    </a:lnTo>
                    <a:lnTo>
                      <a:pt x="2665" y="1637"/>
                    </a:lnTo>
                    <a:lnTo>
                      <a:pt x="2657" y="1636"/>
                    </a:lnTo>
                    <a:lnTo>
                      <a:pt x="2647" y="1636"/>
                    </a:lnTo>
                    <a:lnTo>
                      <a:pt x="2637" y="1636"/>
                    </a:lnTo>
                    <a:lnTo>
                      <a:pt x="2626" y="1635"/>
                    </a:lnTo>
                    <a:lnTo>
                      <a:pt x="2617" y="1635"/>
                    </a:lnTo>
                    <a:lnTo>
                      <a:pt x="2606" y="1634"/>
                    </a:lnTo>
                    <a:lnTo>
                      <a:pt x="2595" y="1633"/>
                    </a:lnTo>
                    <a:lnTo>
                      <a:pt x="2585" y="1632"/>
                    </a:lnTo>
                    <a:lnTo>
                      <a:pt x="2573" y="1631"/>
                    </a:lnTo>
                    <a:lnTo>
                      <a:pt x="2562" y="1630"/>
                    </a:lnTo>
                    <a:lnTo>
                      <a:pt x="2550" y="1627"/>
                    </a:lnTo>
                    <a:lnTo>
                      <a:pt x="2538" y="1626"/>
                    </a:lnTo>
                    <a:lnTo>
                      <a:pt x="2525" y="1625"/>
                    </a:lnTo>
                    <a:lnTo>
                      <a:pt x="2512" y="1623"/>
                    </a:lnTo>
                    <a:lnTo>
                      <a:pt x="2498" y="1621"/>
                    </a:lnTo>
                    <a:lnTo>
                      <a:pt x="2484" y="1619"/>
                    </a:lnTo>
                    <a:lnTo>
                      <a:pt x="2470" y="1617"/>
                    </a:lnTo>
                    <a:lnTo>
                      <a:pt x="2455" y="1616"/>
                    </a:lnTo>
                    <a:lnTo>
                      <a:pt x="2441" y="1614"/>
                    </a:lnTo>
                    <a:lnTo>
                      <a:pt x="2425" y="1612"/>
                    </a:lnTo>
                    <a:lnTo>
                      <a:pt x="2410" y="1610"/>
                    </a:lnTo>
                    <a:lnTo>
                      <a:pt x="2395" y="1607"/>
                    </a:lnTo>
                    <a:lnTo>
                      <a:pt x="2378" y="1604"/>
                    </a:lnTo>
                    <a:lnTo>
                      <a:pt x="2362" y="1600"/>
                    </a:lnTo>
                    <a:lnTo>
                      <a:pt x="2347" y="1597"/>
                    </a:lnTo>
                    <a:lnTo>
                      <a:pt x="2328" y="1594"/>
                    </a:lnTo>
                    <a:lnTo>
                      <a:pt x="2311" y="1591"/>
                    </a:lnTo>
                    <a:lnTo>
                      <a:pt x="2293" y="1588"/>
                    </a:lnTo>
                    <a:lnTo>
                      <a:pt x="2275" y="1585"/>
                    </a:lnTo>
                    <a:lnTo>
                      <a:pt x="2256" y="1580"/>
                    </a:lnTo>
                    <a:lnTo>
                      <a:pt x="2238" y="1575"/>
                    </a:lnTo>
                    <a:lnTo>
                      <a:pt x="2218" y="1571"/>
                    </a:lnTo>
                    <a:lnTo>
                      <a:pt x="2200" y="1566"/>
                    </a:lnTo>
                    <a:lnTo>
                      <a:pt x="2180" y="1561"/>
                    </a:lnTo>
                    <a:lnTo>
                      <a:pt x="2161" y="1555"/>
                    </a:lnTo>
                    <a:lnTo>
                      <a:pt x="2143" y="1550"/>
                    </a:lnTo>
                    <a:lnTo>
                      <a:pt x="2123" y="1544"/>
                    </a:lnTo>
                    <a:lnTo>
                      <a:pt x="2106" y="1538"/>
                    </a:lnTo>
                    <a:lnTo>
                      <a:pt x="2088" y="1532"/>
                    </a:lnTo>
                    <a:lnTo>
                      <a:pt x="2072" y="1525"/>
                    </a:lnTo>
                    <a:lnTo>
                      <a:pt x="2055" y="1519"/>
                    </a:lnTo>
                    <a:lnTo>
                      <a:pt x="2038" y="1512"/>
                    </a:lnTo>
                    <a:lnTo>
                      <a:pt x="2023" y="1504"/>
                    </a:lnTo>
                    <a:lnTo>
                      <a:pt x="2008" y="1497"/>
                    </a:lnTo>
                    <a:lnTo>
                      <a:pt x="1991" y="1489"/>
                    </a:lnTo>
                    <a:lnTo>
                      <a:pt x="1978" y="1482"/>
                    </a:lnTo>
                    <a:lnTo>
                      <a:pt x="1965" y="1473"/>
                    </a:lnTo>
                    <a:lnTo>
                      <a:pt x="1952" y="1466"/>
                    </a:lnTo>
                    <a:lnTo>
                      <a:pt x="1938" y="1458"/>
                    </a:lnTo>
                    <a:lnTo>
                      <a:pt x="1925" y="1449"/>
                    </a:lnTo>
                    <a:lnTo>
                      <a:pt x="1913" y="1440"/>
                    </a:lnTo>
                    <a:lnTo>
                      <a:pt x="1901" y="1430"/>
                    </a:lnTo>
                    <a:lnTo>
                      <a:pt x="1888" y="1422"/>
                    </a:lnTo>
                    <a:lnTo>
                      <a:pt x="1877" y="1414"/>
                    </a:lnTo>
                    <a:lnTo>
                      <a:pt x="1866" y="1405"/>
                    </a:lnTo>
                    <a:lnTo>
                      <a:pt x="1856" y="1397"/>
                    </a:lnTo>
                    <a:lnTo>
                      <a:pt x="1844" y="1388"/>
                    </a:lnTo>
                    <a:lnTo>
                      <a:pt x="1835" y="1378"/>
                    </a:lnTo>
                    <a:lnTo>
                      <a:pt x="1826" y="1369"/>
                    </a:lnTo>
                    <a:lnTo>
                      <a:pt x="1816" y="1360"/>
                    </a:lnTo>
                    <a:lnTo>
                      <a:pt x="1807" y="1351"/>
                    </a:lnTo>
                    <a:lnTo>
                      <a:pt x="1799" y="1342"/>
                    </a:lnTo>
                    <a:lnTo>
                      <a:pt x="1791" y="1332"/>
                    </a:lnTo>
                    <a:lnTo>
                      <a:pt x="1783" y="1324"/>
                    </a:lnTo>
                    <a:lnTo>
                      <a:pt x="1775" y="1315"/>
                    </a:lnTo>
                    <a:lnTo>
                      <a:pt x="1768" y="1306"/>
                    </a:lnTo>
                    <a:lnTo>
                      <a:pt x="1761" y="1298"/>
                    </a:lnTo>
                    <a:lnTo>
                      <a:pt x="1754" y="1290"/>
                    </a:lnTo>
                    <a:lnTo>
                      <a:pt x="1747" y="1280"/>
                    </a:lnTo>
                    <a:lnTo>
                      <a:pt x="1741" y="1272"/>
                    </a:lnTo>
                    <a:lnTo>
                      <a:pt x="1736" y="1264"/>
                    </a:lnTo>
                    <a:lnTo>
                      <a:pt x="1731" y="1256"/>
                    </a:lnTo>
                    <a:lnTo>
                      <a:pt x="1725" y="1247"/>
                    </a:lnTo>
                    <a:lnTo>
                      <a:pt x="1716" y="1233"/>
                    </a:lnTo>
                    <a:lnTo>
                      <a:pt x="1708" y="1219"/>
                    </a:lnTo>
                    <a:lnTo>
                      <a:pt x="1700" y="1205"/>
                    </a:lnTo>
                    <a:lnTo>
                      <a:pt x="1693" y="1191"/>
                    </a:lnTo>
                    <a:lnTo>
                      <a:pt x="1687" y="1180"/>
                    </a:lnTo>
                    <a:lnTo>
                      <a:pt x="1681" y="1170"/>
                    </a:lnTo>
                    <a:lnTo>
                      <a:pt x="1678" y="1161"/>
                    </a:lnTo>
                    <a:lnTo>
                      <a:pt x="1676" y="1153"/>
                    </a:lnTo>
                    <a:lnTo>
                      <a:pt x="1673" y="1149"/>
                    </a:lnTo>
                    <a:lnTo>
                      <a:pt x="1672" y="1144"/>
                    </a:lnTo>
                    <a:lnTo>
                      <a:pt x="1671" y="1142"/>
                    </a:lnTo>
                    <a:lnTo>
                      <a:pt x="1670" y="1138"/>
                    </a:lnTo>
                    <a:lnTo>
                      <a:pt x="1669" y="1139"/>
                    </a:lnTo>
                    <a:lnTo>
                      <a:pt x="1668" y="1141"/>
                    </a:lnTo>
                    <a:lnTo>
                      <a:pt x="1665" y="1143"/>
                    </a:lnTo>
                    <a:lnTo>
                      <a:pt x="1664" y="1144"/>
                    </a:lnTo>
                    <a:lnTo>
                      <a:pt x="1661" y="1146"/>
                    </a:lnTo>
                    <a:lnTo>
                      <a:pt x="1658" y="1148"/>
                    </a:lnTo>
                    <a:lnTo>
                      <a:pt x="1653" y="1151"/>
                    </a:lnTo>
                    <a:lnTo>
                      <a:pt x="1647" y="1154"/>
                    </a:lnTo>
                    <a:lnTo>
                      <a:pt x="1641" y="1158"/>
                    </a:lnTo>
                    <a:lnTo>
                      <a:pt x="1636" y="1162"/>
                    </a:lnTo>
                    <a:lnTo>
                      <a:pt x="1628" y="1165"/>
                    </a:lnTo>
                    <a:lnTo>
                      <a:pt x="1621" y="1168"/>
                    </a:lnTo>
                    <a:lnTo>
                      <a:pt x="1612" y="1172"/>
                    </a:lnTo>
                    <a:lnTo>
                      <a:pt x="1604" y="1175"/>
                    </a:lnTo>
                    <a:lnTo>
                      <a:pt x="1593" y="1179"/>
                    </a:lnTo>
                    <a:lnTo>
                      <a:pt x="1583" y="1182"/>
                    </a:lnTo>
                    <a:lnTo>
                      <a:pt x="1572" y="1186"/>
                    </a:lnTo>
                    <a:lnTo>
                      <a:pt x="1562" y="1191"/>
                    </a:lnTo>
                    <a:lnTo>
                      <a:pt x="1549" y="1194"/>
                    </a:lnTo>
                    <a:lnTo>
                      <a:pt x="1537" y="1197"/>
                    </a:lnTo>
                    <a:lnTo>
                      <a:pt x="1524" y="1199"/>
                    </a:lnTo>
                    <a:lnTo>
                      <a:pt x="1510" y="1200"/>
                    </a:lnTo>
                    <a:lnTo>
                      <a:pt x="1495" y="1202"/>
                    </a:lnTo>
                    <a:lnTo>
                      <a:pt x="1480" y="1203"/>
                    </a:lnTo>
                    <a:lnTo>
                      <a:pt x="1472" y="1204"/>
                    </a:lnTo>
                    <a:lnTo>
                      <a:pt x="1464" y="1204"/>
                    </a:lnTo>
                    <a:lnTo>
                      <a:pt x="1455" y="1204"/>
                    </a:lnTo>
                    <a:lnTo>
                      <a:pt x="1448" y="1204"/>
                    </a:lnTo>
                    <a:lnTo>
                      <a:pt x="1439" y="1203"/>
                    </a:lnTo>
                    <a:lnTo>
                      <a:pt x="1431" y="1203"/>
                    </a:lnTo>
                    <a:lnTo>
                      <a:pt x="1422" y="1203"/>
                    </a:lnTo>
                    <a:lnTo>
                      <a:pt x="1414" y="1202"/>
                    </a:lnTo>
                    <a:lnTo>
                      <a:pt x="1404" y="1201"/>
                    </a:lnTo>
                    <a:lnTo>
                      <a:pt x="1395" y="1200"/>
                    </a:lnTo>
                    <a:lnTo>
                      <a:pt x="1386" y="1198"/>
                    </a:lnTo>
                    <a:lnTo>
                      <a:pt x="1377" y="1197"/>
                    </a:lnTo>
                    <a:lnTo>
                      <a:pt x="1367" y="1195"/>
                    </a:lnTo>
                    <a:lnTo>
                      <a:pt x="1357" y="1192"/>
                    </a:lnTo>
                    <a:lnTo>
                      <a:pt x="1347" y="1190"/>
                    </a:lnTo>
                    <a:lnTo>
                      <a:pt x="1338" y="1187"/>
                    </a:lnTo>
                    <a:lnTo>
                      <a:pt x="1324" y="1183"/>
                    </a:lnTo>
                    <a:lnTo>
                      <a:pt x="1309" y="1179"/>
                    </a:lnTo>
                    <a:lnTo>
                      <a:pt x="1295" y="1174"/>
                    </a:lnTo>
                    <a:lnTo>
                      <a:pt x="1281" y="1170"/>
                    </a:lnTo>
                    <a:lnTo>
                      <a:pt x="1268" y="1164"/>
                    </a:lnTo>
                    <a:lnTo>
                      <a:pt x="1255" y="1158"/>
                    </a:lnTo>
                    <a:lnTo>
                      <a:pt x="1243" y="1152"/>
                    </a:lnTo>
                    <a:lnTo>
                      <a:pt x="1231" y="1146"/>
                    </a:lnTo>
                    <a:lnTo>
                      <a:pt x="1220" y="1138"/>
                    </a:lnTo>
                    <a:lnTo>
                      <a:pt x="1207" y="1132"/>
                    </a:lnTo>
                    <a:lnTo>
                      <a:pt x="1196" y="1125"/>
                    </a:lnTo>
                    <a:lnTo>
                      <a:pt x="1185" y="1119"/>
                    </a:lnTo>
                    <a:lnTo>
                      <a:pt x="1175" y="1112"/>
                    </a:lnTo>
                    <a:lnTo>
                      <a:pt x="1164" y="1104"/>
                    </a:lnTo>
                    <a:lnTo>
                      <a:pt x="1155" y="1097"/>
                    </a:lnTo>
                    <a:lnTo>
                      <a:pt x="1145" y="1089"/>
                    </a:lnTo>
                    <a:lnTo>
                      <a:pt x="1137" y="1081"/>
                    </a:lnTo>
                    <a:lnTo>
                      <a:pt x="1128" y="1074"/>
                    </a:lnTo>
                    <a:lnTo>
                      <a:pt x="1120" y="1067"/>
                    </a:lnTo>
                    <a:lnTo>
                      <a:pt x="1111" y="1059"/>
                    </a:lnTo>
                    <a:lnTo>
                      <a:pt x="1103" y="1051"/>
                    </a:lnTo>
                    <a:lnTo>
                      <a:pt x="1096" y="1043"/>
                    </a:lnTo>
                    <a:lnTo>
                      <a:pt x="1089" y="1034"/>
                    </a:lnTo>
                    <a:lnTo>
                      <a:pt x="1082" y="1026"/>
                    </a:lnTo>
                    <a:lnTo>
                      <a:pt x="1075" y="1018"/>
                    </a:lnTo>
                    <a:lnTo>
                      <a:pt x="1069" y="1009"/>
                    </a:lnTo>
                    <a:lnTo>
                      <a:pt x="1061" y="1001"/>
                    </a:lnTo>
                    <a:lnTo>
                      <a:pt x="1055" y="992"/>
                    </a:lnTo>
                    <a:lnTo>
                      <a:pt x="1050" y="984"/>
                    </a:lnTo>
                    <a:lnTo>
                      <a:pt x="1044" y="975"/>
                    </a:lnTo>
                    <a:lnTo>
                      <a:pt x="1039" y="967"/>
                    </a:lnTo>
                    <a:lnTo>
                      <a:pt x="1033" y="959"/>
                    </a:lnTo>
                    <a:lnTo>
                      <a:pt x="1030" y="951"/>
                    </a:lnTo>
                    <a:lnTo>
                      <a:pt x="1026" y="942"/>
                    </a:lnTo>
                    <a:lnTo>
                      <a:pt x="1022" y="934"/>
                    </a:lnTo>
                    <a:lnTo>
                      <a:pt x="1017" y="926"/>
                    </a:lnTo>
                    <a:lnTo>
                      <a:pt x="1014" y="919"/>
                    </a:lnTo>
                    <a:lnTo>
                      <a:pt x="1010" y="911"/>
                    </a:lnTo>
                    <a:lnTo>
                      <a:pt x="1007" y="903"/>
                    </a:lnTo>
                    <a:lnTo>
                      <a:pt x="1003" y="894"/>
                    </a:lnTo>
                    <a:lnTo>
                      <a:pt x="997" y="881"/>
                    </a:lnTo>
                    <a:lnTo>
                      <a:pt x="992" y="868"/>
                    </a:lnTo>
                    <a:lnTo>
                      <a:pt x="988" y="856"/>
                    </a:lnTo>
                    <a:lnTo>
                      <a:pt x="984" y="842"/>
                    </a:lnTo>
                    <a:lnTo>
                      <a:pt x="981" y="832"/>
                    </a:lnTo>
                    <a:lnTo>
                      <a:pt x="978" y="822"/>
                    </a:lnTo>
                    <a:lnTo>
                      <a:pt x="976" y="814"/>
                    </a:lnTo>
                    <a:lnTo>
                      <a:pt x="974" y="806"/>
                    </a:lnTo>
                    <a:lnTo>
                      <a:pt x="973" y="802"/>
                    </a:lnTo>
                    <a:lnTo>
                      <a:pt x="972" y="796"/>
                    </a:lnTo>
                    <a:lnTo>
                      <a:pt x="972" y="795"/>
                    </a:lnTo>
                    <a:lnTo>
                      <a:pt x="972" y="793"/>
                    </a:lnTo>
                    <a:lnTo>
                      <a:pt x="971" y="793"/>
                    </a:lnTo>
                    <a:lnTo>
                      <a:pt x="969" y="794"/>
                    </a:lnTo>
                    <a:lnTo>
                      <a:pt x="964" y="795"/>
                    </a:lnTo>
                    <a:lnTo>
                      <a:pt x="959" y="796"/>
                    </a:lnTo>
                    <a:lnTo>
                      <a:pt x="952" y="797"/>
                    </a:lnTo>
                    <a:lnTo>
                      <a:pt x="945" y="798"/>
                    </a:lnTo>
                    <a:lnTo>
                      <a:pt x="935" y="800"/>
                    </a:lnTo>
                    <a:lnTo>
                      <a:pt x="926" y="801"/>
                    </a:lnTo>
                    <a:lnTo>
                      <a:pt x="911" y="801"/>
                    </a:lnTo>
                    <a:lnTo>
                      <a:pt x="897" y="800"/>
                    </a:lnTo>
                    <a:lnTo>
                      <a:pt x="889" y="798"/>
                    </a:lnTo>
                    <a:lnTo>
                      <a:pt x="881" y="797"/>
                    </a:lnTo>
                    <a:lnTo>
                      <a:pt x="871" y="796"/>
                    </a:lnTo>
                    <a:lnTo>
                      <a:pt x="863" y="795"/>
                    </a:lnTo>
                    <a:lnTo>
                      <a:pt x="853" y="792"/>
                    </a:lnTo>
                    <a:lnTo>
                      <a:pt x="843" y="790"/>
                    </a:lnTo>
                    <a:lnTo>
                      <a:pt x="832" y="787"/>
                    </a:lnTo>
                    <a:lnTo>
                      <a:pt x="821" y="785"/>
                    </a:lnTo>
                    <a:lnTo>
                      <a:pt x="809" y="782"/>
                    </a:lnTo>
                    <a:lnTo>
                      <a:pt x="797" y="779"/>
                    </a:lnTo>
                    <a:lnTo>
                      <a:pt x="784" y="775"/>
                    </a:lnTo>
                    <a:lnTo>
                      <a:pt x="771" y="772"/>
                    </a:lnTo>
                    <a:lnTo>
                      <a:pt x="749" y="762"/>
                    </a:lnTo>
                    <a:lnTo>
                      <a:pt x="727" y="752"/>
                    </a:lnTo>
                    <a:lnTo>
                      <a:pt x="704" y="741"/>
                    </a:lnTo>
                    <a:lnTo>
                      <a:pt x="682" y="730"/>
                    </a:lnTo>
                    <a:lnTo>
                      <a:pt x="666" y="719"/>
                    </a:lnTo>
                    <a:lnTo>
                      <a:pt x="651" y="707"/>
                    </a:lnTo>
                    <a:lnTo>
                      <a:pt x="636" y="694"/>
                    </a:lnTo>
                    <a:lnTo>
                      <a:pt x="620" y="681"/>
                    </a:lnTo>
                    <a:lnTo>
                      <a:pt x="610" y="668"/>
                    </a:lnTo>
                    <a:lnTo>
                      <a:pt x="599" y="655"/>
                    </a:lnTo>
                    <a:lnTo>
                      <a:pt x="589" y="640"/>
                    </a:lnTo>
                    <a:lnTo>
                      <a:pt x="578" y="627"/>
                    </a:lnTo>
                    <a:lnTo>
                      <a:pt x="571" y="613"/>
                    </a:lnTo>
                    <a:lnTo>
                      <a:pt x="565" y="598"/>
                    </a:lnTo>
                    <a:lnTo>
                      <a:pt x="558" y="585"/>
                    </a:lnTo>
                    <a:lnTo>
                      <a:pt x="552" y="571"/>
                    </a:lnTo>
                    <a:lnTo>
                      <a:pt x="549" y="558"/>
                    </a:lnTo>
                    <a:lnTo>
                      <a:pt x="546" y="545"/>
                    </a:lnTo>
                    <a:lnTo>
                      <a:pt x="543" y="532"/>
                    </a:lnTo>
                    <a:lnTo>
                      <a:pt x="541" y="519"/>
                    </a:lnTo>
                    <a:lnTo>
                      <a:pt x="540" y="509"/>
                    </a:lnTo>
                    <a:lnTo>
                      <a:pt x="539" y="498"/>
                    </a:lnTo>
                    <a:lnTo>
                      <a:pt x="539" y="488"/>
                    </a:lnTo>
                    <a:lnTo>
                      <a:pt x="538" y="478"/>
                    </a:lnTo>
                    <a:lnTo>
                      <a:pt x="538" y="464"/>
                    </a:lnTo>
                    <a:lnTo>
                      <a:pt x="538" y="448"/>
                    </a:lnTo>
                    <a:lnTo>
                      <a:pt x="539" y="444"/>
                    </a:lnTo>
                    <a:lnTo>
                      <a:pt x="541" y="439"/>
                    </a:lnTo>
                    <a:lnTo>
                      <a:pt x="538" y="440"/>
                    </a:lnTo>
                    <a:lnTo>
                      <a:pt x="537" y="440"/>
                    </a:lnTo>
                    <a:lnTo>
                      <a:pt x="530" y="440"/>
                    </a:lnTo>
                    <a:lnTo>
                      <a:pt x="526" y="440"/>
                    </a:lnTo>
                    <a:lnTo>
                      <a:pt x="517" y="441"/>
                    </a:lnTo>
                    <a:lnTo>
                      <a:pt x="508" y="441"/>
                    </a:lnTo>
                    <a:lnTo>
                      <a:pt x="497" y="441"/>
                    </a:lnTo>
                    <a:lnTo>
                      <a:pt x="487" y="440"/>
                    </a:lnTo>
                    <a:lnTo>
                      <a:pt x="471" y="440"/>
                    </a:lnTo>
                    <a:lnTo>
                      <a:pt x="457" y="439"/>
                    </a:lnTo>
                    <a:lnTo>
                      <a:pt x="448" y="438"/>
                    </a:lnTo>
                    <a:lnTo>
                      <a:pt x="439" y="437"/>
                    </a:lnTo>
                    <a:lnTo>
                      <a:pt x="429" y="436"/>
                    </a:lnTo>
                    <a:lnTo>
                      <a:pt x="421" y="435"/>
                    </a:lnTo>
                    <a:lnTo>
                      <a:pt x="410" y="433"/>
                    </a:lnTo>
                    <a:lnTo>
                      <a:pt x="399" y="431"/>
                    </a:lnTo>
                    <a:lnTo>
                      <a:pt x="389" y="429"/>
                    </a:lnTo>
                    <a:lnTo>
                      <a:pt x="378" y="427"/>
                    </a:lnTo>
                    <a:lnTo>
                      <a:pt x="366" y="424"/>
                    </a:lnTo>
                    <a:lnTo>
                      <a:pt x="354" y="420"/>
                    </a:lnTo>
                    <a:lnTo>
                      <a:pt x="343" y="417"/>
                    </a:lnTo>
                    <a:lnTo>
                      <a:pt x="330" y="414"/>
                    </a:lnTo>
                    <a:lnTo>
                      <a:pt x="316" y="409"/>
                    </a:lnTo>
                    <a:lnTo>
                      <a:pt x="303" y="404"/>
                    </a:lnTo>
                    <a:lnTo>
                      <a:pt x="289" y="399"/>
                    </a:lnTo>
                    <a:lnTo>
                      <a:pt x="275" y="394"/>
                    </a:lnTo>
                    <a:lnTo>
                      <a:pt x="262" y="388"/>
                    </a:lnTo>
                    <a:lnTo>
                      <a:pt x="250" y="382"/>
                    </a:lnTo>
                    <a:lnTo>
                      <a:pt x="238" y="375"/>
                    </a:lnTo>
                    <a:lnTo>
                      <a:pt x="226" y="369"/>
                    </a:lnTo>
                    <a:lnTo>
                      <a:pt x="216" y="362"/>
                    </a:lnTo>
                    <a:lnTo>
                      <a:pt x="206" y="354"/>
                    </a:lnTo>
                    <a:lnTo>
                      <a:pt x="195" y="347"/>
                    </a:lnTo>
                    <a:lnTo>
                      <a:pt x="184" y="341"/>
                    </a:lnTo>
                    <a:lnTo>
                      <a:pt x="175" y="333"/>
                    </a:lnTo>
                    <a:lnTo>
                      <a:pt x="166" y="325"/>
                    </a:lnTo>
                    <a:lnTo>
                      <a:pt x="156" y="318"/>
                    </a:lnTo>
                    <a:lnTo>
                      <a:pt x="147" y="309"/>
                    </a:lnTo>
                    <a:lnTo>
                      <a:pt x="138" y="301"/>
                    </a:lnTo>
                    <a:lnTo>
                      <a:pt x="130" y="294"/>
                    </a:lnTo>
                    <a:lnTo>
                      <a:pt x="122" y="286"/>
                    </a:lnTo>
                    <a:lnTo>
                      <a:pt x="115" y="278"/>
                    </a:lnTo>
                    <a:lnTo>
                      <a:pt x="108" y="270"/>
                    </a:lnTo>
                    <a:lnTo>
                      <a:pt x="102" y="260"/>
                    </a:lnTo>
                    <a:lnTo>
                      <a:pt x="95" y="252"/>
                    </a:lnTo>
                    <a:lnTo>
                      <a:pt x="88" y="243"/>
                    </a:lnTo>
                    <a:lnTo>
                      <a:pt x="82" y="235"/>
                    </a:lnTo>
                    <a:lnTo>
                      <a:pt x="77" y="226"/>
                    </a:lnTo>
                    <a:lnTo>
                      <a:pt x="72" y="217"/>
                    </a:lnTo>
                    <a:lnTo>
                      <a:pt x="67" y="207"/>
                    </a:lnTo>
                    <a:lnTo>
                      <a:pt x="62" y="199"/>
                    </a:lnTo>
                    <a:lnTo>
                      <a:pt x="57" y="191"/>
                    </a:lnTo>
                    <a:lnTo>
                      <a:pt x="53" y="182"/>
                    </a:lnTo>
                    <a:lnTo>
                      <a:pt x="49" y="174"/>
                    </a:lnTo>
                    <a:lnTo>
                      <a:pt x="45" y="164"/>
                    </a:lnTo>
                    <a:lnTo>
                      <a:pt x="40" y="156"/>
                    </a:lnTo>
                    <a:lnTo>
                      <a:pt x="36" y="148"/>
                    </a:lnTo>
                    <a:lnTo>
                      <a:pt x="32" y="140"/>
                    </a:lnTo>
                    <a:lnTo>
                      <a:pt x="29" y="132"/>
                    </a:lnTo>
                    <a:lnTo>
                      <a:pt x="26" y="123"/>
                    </a:lnTo>
                    <a:lnTo>
                      <a:pt x="23" y="114"/>
                    </a:lnTo>
                    <a:lnTo>
                      <a:pt x="21" y="106"/>
                    </a:lnTo>
                    <a:lnTo>
                      <a:pt x="17" y="92"/>
                    </a:lnTo>
                    <a:lnTo>
                      <a:pt x="13" y="78"/>
                    </a:lnTo>
                    <a:lnTo>
                      <a:pt x="10" y="65"/>
                    </a:lnTo>
                    <a:lnTo>
                      <a:pt x="7" y="53"/>
                    </a:lnTo>
                    <a:lnTo>
                      <a:pt x="5" y="42"/>
                    </a:lnTo>
                    <a:lnTo>
                      <a:pt x="3" y="32"/>
                    </a:lnTo>
                    <a:lnTo>
                      <a:pt x="2" y="24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7" y="2"/>
                    </a:lnTo>
                    <a:lnTo>
                      <a:pt x="17" y="4"/>
                    </a:lnTo>
                    <a:lnTo>
                      <a:pt x="27" y="6"/>
                    </a:lnTo>
                    <a:lnTo>
                      <a:pt x="35" y="8"/>
                    </a:lnTo>
                    <a:lnTo>
                      <a:pt x="43" y="10"/>
                    </a:lnTo>
                    <a:lnTo>
                      <a:pt x="52" y="12"/>
                    </a:lnTo>
                    <a:lnTo>
                      <a:pt x="61" y="14"/>
                    </a:lnTo>
                    <a:lnTo>
                      <a:pt x="72" y="17"/>
                    </a:lnTo>
                    <a:lnTo>
                      <a:pt x="83" y="21"/>
                    </a:lnTo>
                    <a:lnTo>
                      <a:pt x="95" y="23"/>
                    </a:lnTo>
                    <a:lnTo>
                      <a:pt x="107" y="26"/>
                    </a:lnTo>
                    <a:lnTo>
                      <a:pt x="120" y="29"/>
                    </a:lnTo>
                    <a:lnTo>
                      <a:pt x="134" y="32"/>
                    </a:lnTo>
                    <a:lnTo>
                      <a:pt x="149" y="36"/>
                    </a:lnTo>
                    <a:lnTo>
                      <a:pt x="163" y="39"/>
                    </a:lnTo>
                    <a:lnTo>
                      <a:pt x="179" y="43"/>
                    </a:lnTo>
                    <a:lnTo>
                      <a:pt x="197" y="47"/>
                    </a:lnTo>
                    <a:lnTo>
                      <a:pt x="213" y="51"/>
                    </a:lnTo>
                    <a:lnTo>
                      <a:pt x="230" y="55"/>
                    </a:lnTo>
                    <a:lnTo>
                      <a:pt x="250" y="59"/>
                    </a:lnTo>
                    <a:lnTo>
                      <a:pt x="268" y="64"/>
                    </a:lnTo>
                    <a:lnTo>
                      <a:pt x="288" y="69"/>
                    </a:lnTo>
                    <a:lnTo>
                      <a:pt x="307" y="74"/>
                    </a:lnTo>
                    <a:lnTo>
                      <a:pt x="327" y="78"/>
                    </a:lnTo>
                    <a:lnTo>
                      <a:pt x="348" y="83"/>
                    </a:lnTo>
                    <a:lnTo>
                      <a:pt x="369" y="87"/>
                    </a:lnTo>
                    <a:lnTo>
                      <a:pt x="391" y="92"/>
                    </a:lnTo>
                    <a:lnTo>
                      <a:pt x="413" y="96"/>
                    </a:lnTo>
                    <a:lnTo>
                      <a:pt x="437" y="101"/>
                    </a:lnTo>
                    <a:lnTo>
                      <a:pt x="459" y="106"/>
                    </a:lnTo>
                    <a:lnTo>
                      <a:pt x="483" y="111"/>
                    </a:lnTo>
                    <a:lnTo>
                      <a:pt x="507" y="117"/>
                    </a:lnTo>
                    <a:lnTo>
                      <a:pt x="532" y="122"/>
                    </a:lnTo>
                    <a:lnTo>
                      <a:pt x="556" y="127"/>
                    </a:lnTo>
                    <a:lnTo>
                      <a:pt x="581" y="132"/>
                    </a:lnTo>
                    <a:lnTo>
                      <a:pt x="606" y="138"/>
                    </a:lnTo>
                    <a:lnTo>
                      <a:pt x="632" y="144"/>
                    </a:lnTo>
                    <a:lnTo>
                      <a:pt x="658" y="149"/>
                    </a:lnTo>
                    <a:lnTo>
                      <a:pt x="684" y="155"/>
                    </a:lnTo>
                    <a:lnTo>
                      <a:pt x="711" y="160"/>
                    </a:lnTo>
                    <a:lnTo>
                      <a:pt x="739" y="166"/>
                    </a:lnTo>
                    <a:lnTo>
                      <a:pt x="766" y="172"/>
                    </a:lnTo>
                    <a:lnTo>
                      <a:pt x="794" y="177"/>
                    </a:lnTo>
                    <a:lnTo>
                      <a:pt x="821" y="183"/>
                    </a:lnTo>
                    <a:lnTo>
                      <a:pt x="850" y="188"/>
                    </a:lnTo>
                    <a:lnTo>
                      <a:pt x="878" y="194"/>
                    </a:lnTo>
                    <a:lnTo>
                      <a:pt x="906" y="199"/>
                    </a:lnTo>
                    <a:lnTo>
                      <a:pt x="935" y="205"/>
                    </a:lnTo>
                    <a:lnTo>
                      <a:pt x="963" y="210"/>
                    </a:lnTo>
                    <a:lnTo>
                      <a:pt x="993" y="216"/>
                    </a:lnTo>
                    <a:lnTo>
                      <a:pt x="1022" y="221"/>
                    </a:lnTo>
                    <a:lnTo>
                      <a:pt x="1050" y="227"/>
                    </a:lnTo>
                    <a:lnTo>
                      <a:pt x="1080" y="232"/>
                    </a:lnTo>
                    <a:lnTo>
                      <a:pt x="1109" y="238"/>
                    </a:lnTo>
                    <a:lnTo>
                      <a:pt x="1139" y="243"/>
                    </a:lnTo>
                    <a:lnTo>
                      <a:pt x="1169" y="248"/>
                    </a:lnTo>
                    <a:lnTo>
                      <a:pt x="1199" y="253"/>
                    </a:lnTo>
                    <a:lnTo>
                      <a:pt x="1229" y="258"/>
                    </a:lnTo>
                    <a:lnTo>
                      <a:pt x="1258" y="264"/>
                    </a:lnTo>
                    <a:lnTo>
                      <a:pt x="1289" y="268"/>
                    </a:lnTo>
                    <a:lnTo>
                      <a:pt x="1320" y="273"/>
                    </a:lnTo>
                    <a:lnTo>
                      <a:pt x="1350" y="277"/>
                    </a:lnTo>
                    <a:lnTo>
                      <a:pt x="1381" y="282"/>
                    </a:lnTo>
                    <a:lnTo>
                      <a:pt x="1406" y="285"/>
                    </a:lnTo>
                    <a:lnTo>
                      <a:pt x="1433" y="288"/>
                    </a:lnTo>
                    <a:lnTo>
                      <a:pt x="1460" y="292"/>
                    </a:lnTo>
                    <a:lnTo>
                      <a:pt x="1486" y="295"/>
                    </a:lnTo>
                    <a:lnTo>
                      <a:pt x="1510" y="296"/>
                    </a:lnTo>
                    <a:lnTo>
                      <a:pt x="1533" y="298"/>
                    </a:lnTo>
                    <a:lnTo>
                      <a:pt x="1557" y="299"/>
                    </a:lnTo>
                    <a:lnTo>
                      <a:pt x="1580" y="301"/>
                    </a:lnTo>
                    <a:lnTo>
                      <a:pt x="1600" y="302"/>
                    </a:lnTo>
                    <a:lnTo>
                      <a:pt x="1621" y="303"/>
                    </a:lnTo>
                    <a:lnTo>
                      <a:pt x="1641" y="303"/>
                    </a:lnTo>
                    <a:lnTo>
                      <a:pt x="1662" y="304"/>
                    </a:lnTo>
                    <a:lnTo>
                      <a:pt x="1679" y="304"/>
                    </a:lnTo>
                    <a:lnTo>
                      <a:pt x="1697" y="304"/>
                    </a:lnTo>
                    <a:lnTo>
                      <a:pt x="1715" y="305"/>
                    </a:lnTo>
                    <a:lnTo>
                      <a:pt x="1733" y="304"/>
                    </a:lnTo>
                    <a:lnTo>
                      <a:pt x="1748" y="304"/>
                    </a:lnTo>
                    <a:lnTo>
                      <a:pt x="1764" y="303"/>
                    </a:lnTo>
                    <a:lnTo>
                      <a:pt x="1779" y="302"/>
                    </a:lnTo>
                    <a:lnTo>
                      <a:pt x="1795" y="301"/>
                    </a:lnTo>
                    <a:lnTo>
                      <a:pt x="1809" y="300"/>
                    </a:lnTo>
                    <a:lnTo>
                      <a:pt x="1823" y="299"/>
                    </a:lnTo>
                    <a:lnTo>
                      <a:pt x="1836" y="298"/>
                    </a:lnTo>
                    <a:lnTo>
                      <a:pt x="1851" y="297"/>
                    </a:lnTo>
                    <a:lnTo>
                      <a:pt x="1863" y="295"/>
                    </a:lnTo>
                    <a:lnTo>
                      <a:pt x="1875" y="293"/>
                    </a:lnTo>
                    <a:lnTo>
                      <a:pt x="1888" y="291"/>
                    </a:lnTo>
                    <a:lnTo>
                      <a:pt x="1901" y="289"/>
                    </a:lnTo>
                    <a:lnTo>
                      <a:pt x="1912" y="287"/>
                    </a:lnTo>
                    <a:lnTo>
                      <a:pt x="1923" y="286"/>
                    </a:lnTo>
                    <a:lnTo>
                      <a:pt x="1934" y="284"/>
                    </a:lnTo>
                    <a:lnTo>
                      <a:pt x="1945" y="283"/>
                    </a:lnTo>
                    <a:lnTo>
                      <a:pt x="1955" y="281"/>
                    </a:lnTo>
                    <a:lnTo>
                      <a:pt x="1965" y="280"/>
                    </a:lnTo>
                    <a:lnTo>
                      <a:pt x="1975" y="278"/>
                    </a:lnTo>
                    <a:lnTo>
                      <a:pt x="1984" y="277"/>
                    </a:lnTo>
                    <a:lnTo>
                      <a:pt x="1995" y="275"/>
                    </a:lnTo>
                    <a:lnTo>
                      <a:pt x="2004" y="273"/>
                    </a:lnTo>
                    <a:lnTo>
                      <a:pt x="2013" y="271"/>
                    </a:lnTo>
                    <a:lnTo>
                      <a:pt x="2022" y="269"/>
                    </a:lnTo>
                    <a:lnTo>
                      <a:pt x="2031" y="268"/>
                    </a:lnTo>
                    <a:lnTo>
                      <a:pt x="2039" y="267"/>
                    </a:lnTo>
                    <a:lnTo>
                      <a:pt x="2049" y="265"/>
                    </a:lnTo>
                    <a:lnTo>
                      <a:pt x="2058" y="264"/>
                    </a:lnTo>
                    <a:lnTo>
                      <a:pt x="2067" y="264"/>
                    </a:lnTo>
                    <a:lnTo>
                      <a:pt x="2077" y="264"/>
                    </a:lnTo>
                    <a:lnTo>
                      <a:pt x="2086" y="263"/>
                    </a:lnTo>
                    <a:lnTo>
                      <a:pt x="2096" y="263"/>
                    </a:lnTo>
                    <a:lnTo>
                      <a:pt x="2106" y="264"/>
                    </a:lnTo>
                    <a:lnTo>
                      <a:pt x="2116" y="264"/>
                    </a:lnTo>
                    <a:lnTo>
                      <a:pt x="2126" y="264"/>
                    </a:lnTo>
                    <a:lnTo>
                      <a:pt x="2135" y="264"/>
                    </a:lnTo>
                    <a:lnTo>
                      <a:pt x="2146" y="265"/>
                    </a:lnTo>
                    <a:lnTo>
                      <a:pt x="2157" y="266"/>
                    </a:lnTo>
                    <a:lnTo>
                      <a:pt x="2167" y="267"/>
                    </a:lnTo>
                    <a:lnTo>
                      <a:pt x="2177" y="268"/>
                    </a:lnTo>
                    <a:lnTo>
                      <a:pt x="2189" y="270"/>
                    </a:lnTo>
                    <a:lnTo>
                      <a:pt x="2201" y="272"/>
                    </a:lnTo>
                    <a:lnTo>
                      <a:pt x="2212" y="274"/>
                    </a:lnTo>
                    <a:lnTo>
                      <a:pt x="2223" y="277"/>
                    </a:lnTo>
                    <a:lnTo>
                      <a:pt x="2245" y="283"/>
                    </a:lnTo>
                    <a:lnTo>
                      <a:pt x="2266" y="290"/>
                    </a:lnTo>
                    <a:lnTo>
                      <a:pt x="2288" y="296"/>
                    </a:lnTo>
                    <a:lnTo>
                      <a:pt x="2309" y="302"/>
                    </a:lnTo>
                    <a:lnTo>
                      <a:pt x="2324" y="309"/>
                    </a:lnTo>
                    <a:lnTo>
                      <a:pt x="2340" y="317"/>
                    </a:lnTo>
                    <a:lnTo>
                      <a:pt x="2355" y="324"/>
                    </a:lnTo>
                    <a:lnTo>
                      <a:pt x="2370" y="330"/>
                    </a:lnTo>
                    <a:lnTo>
                      <a:pt x="2381" y="338"/>
                    </a:lnTo>
                    <a:lnTo>
                      <a:pt x="2393" y="346"/>
                    </a:lnTo>
                    <a:lnTo>
                      <a:pt x="2404" y="354"/>
                    </a:lnTo>
                    <a:lnTo>
                      <a:pt x="2414" y="363"/>
                    </a:lnTo>
                    <a:lnTo>
                      <a:pt x="2422" y="371"/>
                    </a:lnTo>
                    <a:lnTo>
                      <a:pt x="2429" y="379"/>
                    </a:lnTo>
                    <a:lnTo>
                      <a:pt x="2437" y="387"/>
                    </a:lnTo>
                    <a:lnTo>
                      <a:pt x="2445" y="395"/>
                    </a:lnTo>
                    <a:lnTo>
                      <a:pt x="2449" y="404"/>
                    </a:lnTo>
                    <a:lnTo>
                      <a:pt x="2454" y="414"/>
                    </a:lnTo>
                    <a:lnTo>
                      <a:pt x="2459" y="422"/>
                    </a:lnTo>
                    <a:lnTo>
                      <a:pt x="2464" y="431"/>
                    </a:lnTo>
                    <a:lnTo>
                      <a:pt x="2467" y="439"/>
                    </a:lnTo>
                    <a:lnTo>
                      <a:pt x="2470" y="448"/>
                    </a:lnTo>
                    <a:lnTo>
                      <a:pt x="2473" y="456"/>
                    </a:lnTo>
                    <a:lnTo>
                      <a:pt x="2476" y="466"/>
                    </a:lnTo>
                    <a:lnTo>
                      <a:pt x="2478" y="474"/>
                    </a:lnTo>
                    <a:lnTo>
                      <a:pt x="2480" y="482"/>
                    </a:lnTo>
                    <a:lnTo>
                      <a:pt x="2484" y="490"/>
                    </a:lnTo>
                    <a:lnTo>
                      <a:pt x="2486" y="497"/>
                    </a:lnTo>
                    <a:lnTo>
                      <a:pt x="2489" y="507"/>
                    </a:lnTo>
                    <a:lnTo>
                      <a:pt x="2492" y="515"/>
                    </a:lnTo>
                    <a:lnTo>
                      <a:pt x="2495" y="523"/>
                    </a:lnTo>
                    <a:lnTo>
                      <a:pt x="2498" y="531"/>
                    </a:lnTo>
                    <a:lnTo>
                      <a:pt x="2502" y="539"/>
                    </a:lnTo>
                    <a:lnTo>
                      <a:pt x="2505" y="546"/>
                    </a:lnTo>
                    <a:lnTo>
                      <a:pt x="2508" y="554"/>
                    </a:lnTo>
                    <a:lnTo>
                      <a:pt x="2512" y="562"/>
                    </a:lnTo>
                    <a:lnTo>
                      <a:pt x="2519" y="576"/>
                    </a:lnTo>
                    <a:lnTo>
                      <a:pt x="2527" y="590"/>
                    </a:lnTo>
                    <a:lnTo>
                      <a:pt x="2537" y="603"/>
                    </a:lnTo>
                    <a:lnTo>
                      <a:pt x="2546" y="616"/>
                    </a:lnTo>
                    <a:lnTo>
                      <a:pt x="2555" y="628"/>
                    </a:lnTo>
                    <a:lnTo>
                      <a:pt x="2565" y="639"/>
                    </a:lnTo>
                    <a:lnTo>
                      <a:pt x="2576" y="649"/>
                    </a:lnTo>
                    <a:lnTo>
                      <a:pt x="2588" y="659"/>
                    </a:lnTo>
                    <a:lnTo>
                      <a:pt x="2599" y="667"/>
                    </a:lnTo>
                    <a:lnTo>
                      <a:pt x="2611" y="674"/>
                    </a:lnTo>
                    <a:lnTo>
                      <a:pt x="2625" y="682"/>
                    </a:lnTo>
                    <a:lnTo>
                      <a:pt x="2640" y="689"/>
                    </a:lnTo>
                    <a:lnTo>
                      <a:pt x="2647" y="691"/>
                    </a:lnTo>
                    <a:lnTo>
                      <a:pt x="2655" y="694"/>
                    </a:lnTo>
                    <a:lnTo>
                      <a:pt x="2663" y="696"/>
                    </a:lnTo>
                    <a:lnTo>
                      <a:pt x="2671" y="698"/>
                    </a:lnTo>
                    <a:lnTo>
                      <a:pt x="2686" y="702"/>
                    </a:lnTo>
                    <a:lnTo>
                      <a:pt x="2701" y="704"/>
                    </a:lnTo>
                    <a:lnTo>
                      <a:pt x="2713" y="706"/>
                    </a:lnTo>
                    <a:lnTo>
                      <a:pt x="2727" y="708"/>
                    </a:lnTo>
                    <a:lnTo>
                      <a:pt x="2738" y="709"/>
                    </a:lnTo>
                    <a:lnTo>
                      <a:pt x="2749" y="709"/>
                    </a:lnTo>
                    <a:lnTo>
                      <a:pt x="2758" y="709"/>
                    </a:lnTo>
                    <a:lnTo>
                      <a:pt x="2766" y="708"/>
                    </a:lnTo>
                    <a:lnTo>
                      <a:pt x="2774" y="707"/>
                    </a:lnTo>
                    <a:lnTo>
                      <a:pt x="2781" y="707"/>
                    </a:lnTo>
                    <a:lnTo>
                      <a:pt x="2785" y="706"/>
                    </a:lnTo>
                    <a:lnTo>
                      <a:pt x="2789" y="705"/>
                    </a:lnTo>
                    <a:lnTo>
                      <a:pt x="2792" y="704"/>
                    </a:lnTo>
                    <a:lnTo>
                      <a:pt x="2795" y="704"/>
                    </a:lnTo>
                    <a:lnTo>
                      <a:pt x="2796" y="704"/>
                    </a:lnTo>
                    <a:lnTo>
                      <a:pt x="2796" y="703"/>
                    </a:lnTo>
                    <a:lnTo>
                      <a:pt x="2831" y="711"/>
                    </a:lnTo>
                    <a:lnTo>
                      <a:pt x="2864" y="719"/>
                    </a:lnTo>
                    <a:lnTo>
                      <a:pt x="2898" y="727"/>
                    </a:lnTo>
                    <a:lnTo>
                      <a:pt x="2933" y="735"/>
                    </a:lnTo>
                    <a:lnTo>
                      <a:pt x="2966" y="743"/>
                    </a:lnTo>
                    <a:lnTo>
                      <a:pt x="3001" y="752"/>
                    </a:lnTo>
                    <a:lnTo>
                      <a:pt x="3035" y="760"/>
                    </a:lnTo>
                    <a:lnTo>
                      <a:pt x="3070" y="768"/>
                    </a:lnTo>
                    <a:lnTo>
                      <a:pt x="3071" y="769"/>
                    </a:lnTo>
                    <a:lnTo>
                      <a:pt x="3071" y="770"/>
                    </a:lnTo>
                    <a:lnTo>
                      <a:pt x="3074" y="772"/>
                    </a:lnTo>
                    <a:lnTo>
                      <a:pt x="3078" y="774"/>
                    </a:lnTo>
                    <a:lnTo>
                      <a:pt x="3081" y="777"/>
                    </a:lnTo>
                    <a:lnTo>
                      <a:pt x="3085" y="779"/>
                    </a:lnTo>
                    <a:lnTo>
                      <a:pt x="3092" y="783"/>
                    </a:lnTo>
                    <a:lnTo>
                      <a:pt x="3099" y="787"/>
                    </a:lnTo>
                    <a:lnTo>
                      <a:pt x="3108" y="792"/>
                    </a:lnTo>
                    <a:lnTo>
                      <a:pt x="3118" y="797"/>
                    </a:lnTo>
                    <a:lnTo>
                      <a:pt x="3128" y="802"/>
                    </a:lnTo>
                    <a:lnTo>
                      <a:pt x="3139" y="806"/>
                    </a:lnTo>
                    <a:lnTo>
                      <a:pt x="3151" y="810"/>
                    </a:lnTo>
                    <a:lnTo>
                      <a:pt x="3165" y="815"/>
                    </a:lnTo>
                    <a:lnTo>
                      <a:pt x="3180" y="819"/>
                    </a:lnTo>
                    <a:lnTo>
                      <a:pt x="3194" y="824"/>
                    </a:lnTo>
                    <a:lnTo>
                      <a:pt x="3209" y="826"/>
                    </a:lnTo>
                    <a:lnTo>
                      <a:pt x="3225" y="828"/>
                    </a:lnTo>
                    <a:lnTo>
                      <a:pt x="3238" y="828"/>
                    </a:lnTo>
                    <a:lnTo>
                      <a:pt x="3252" y="827"/>
                    </a:lnTo>
                    <a:lnTo>
                      <a:pt x="3265" y="825"/>
                    </a:lnTo>
                    <a:lnTo>
                      <a:pt x="3277" y="823"/>
                    </a:lnTo>
                    <a:lnTo>
                      <a:pt x="3287" y="819"/>
                    </a:lnTo>
                    <a:lnTo>
                      <a:pt x="3298" y="814"/>
                    </a:lnTo>
                    <a:lnTo>
                      <a:pt x="3307" y="808"/>
                    </a:lnTo>
                    <a:lnTo>
                      <a:pt x="3318" y="801"/>
                    </a:lnTo>
                    <a:lnTo>
                      <a:pt x="3327" y="791"/>
                    </a:lnTo>
                    <a:lnTo>
                      <a:pt x="3336" y="783"/>
                    </a:lnTo>
                    <a:lnTo>
                      <a:pt x="3343" y="772"/>
                    </a:lnTo>
                    <a:lnTo>
                      <a:pt x="3351" y="762"/>
                    </a:lnTo>
                    <a:lnTo>
                      <a:pt x="3359" y="749"/>
                    </a:lnTo>
                    <a:lnTo>
                      <a:pt x="3365" y="737"/>
                    </a:lnTo>
                    <a:lnTo>
                      <a:pt x="3371" y="724"/>
                    </a:lnTo>
                    <a:lnTo>
                      <a:pt x="3377" y="710"/>
                    </a:lnTo>
                    <a:lnTo>
                      <a:pt x="3382" y="696"/>
                    </a:lnTo>
                    <a:lnTo>
                      <a:pt x="3387" y="682"/>
                    </a:lnTo>
                    <a:lnTo>
                      <a:pt x="3393" y="668"/>
                    </a:lnTo>
                    <a:lnTo>
                      <a:pt x="3399" y="654"/>
                    </a:lnTo>
                    <a:lnTo>
                      <a:pt x="3409" y="640"/>
                    </a:lnTo>
                    <a:lnTo>
                      <a:pt x="3419" y="627"/>
                    </a:lnTo>
                    <a:lnTo>
                      <a:pt x="3433" y="618"/>
                    </a:lnTo>
                    <a:lnTo>
                      <a:pt x="3447" y="608"/>
                    </a:lnTo>
                    <a:lnTo>
                      <a:pt x="3458" y="606"/>
                    </a:lnTo>
                    <a:lnTo>
                      <a:pt x="3469" y="602"/>
                    </a:lnTo>
                    <a:lnTo>
                      <a:pt x="3480" y="599"/>
                    </a:lnTo>
                    <a:lnTo>
                      <a:pt x="3491" y="596"/>
                    </a:lnTo>
                    <a:lnTo>
                      <a:pt x="3507" y="597"/>
                    </a:lnTo>
                    <a:lnTo>
                      <a:pt x="3523" y="598"/>
                    </a:lnTo>
                    <a:lnTo>
                      <a:pt x="3538" y="598"/>
                    </a:lnTo>
                    <a:lnTo>
                      <a:pt x="3555" y="599"/>
                    </a:lnTo>
                    <a:lnTo>
                      <a:pt x="3576" y="602"/>
                    </a:lnTo>
                    <a:lnTo>
                      <a:pt x="3597" y="607"/>
                    </a:lnTo>
                    <a:lnTo>
                      <a:pt x="3619" y="610"/>
                    </a:lnTo>
                    <a:lnTo>
                      <a:pt x="3640" y="614"/>
                    </a:lnTo>
                    <a:lnTo>
                      <a:pt x="3652" y="617"/>
                    </a:lnTo>
                    <a:lnTo>
                      <a:pt x="3663" y="620"/>
                    </a:lnTo>
                    <a:lnTo>
                      <a:pt x="3674" y="623"/>
                    </a:lnTo>
                    <a:lnTo>
                      <a:pt x="3686" y="627"/>
                    </a:lnTo>
                    <a:lnTo>
                      <a:pt x="3696" y="631"/>
                    </a:lnTo>
                    <a:lnTo>
                      <a:pt x="3707" y="634"/>
                    </a:lnTo>
                    <a:lnTo>
                      <a:pt x="3717" y="638"/>
                    </a:lnTo>
                    <a:lnTo>
                      <a:pt x="3727" y="642"/>
                    </a:lnTo>
                    <a:lnTo>
                      <a:pt x="3736" y="646"/>
                    </a:lnTo>
                    <a:lnTo>
                      <a:pt x="3746" y="651"/>
                    </a:lnTo>
                    <a:lnTo>
                      <a:pt x="3757" y="656"/>
                    </a:lnTo>
                    <a:lnTo>
                      <a:pt x="3767" y="660"/>
                    </a:lnTo>
                    <a:lnTo>
                      <a:pt x="3776" y="665"/>
                    </a:lnTo>
                    <a:lnTo>
                      <a:pt x="3785" y="670"/>
                    </a:lnTo>
                    <a:lnTo>
                      <a:pt x="3795" y="674"/>
                    </a:lnTo>
                    <a:lnTo>
                      <a:pt x="3805" y="679"/>
                    </a:lnTo>
                    <a:lnTo>
                      <a:pt x="3814" y="684"/>
                    </a:lnTo>
                    <a:lnTo>
                      <a:pt x="3822" y="690"/>
                    </a:lnTo>
                    <a:lnTo>
                      <a:pt x="3831" y="695"/>
                    </a:lnTo>
                    <a:lnTo>
                      <a:pt x="3840" y="702"/>
                    </a:lnTo>
                    <a:lnTo>
                      <a:pt x="3850" y="708"/>
                    </a:lnTo>
                    <a:lnTo>
                      <a:pt x="3859" y="714"/>
                    </a:lnTo>
                    <a:lnTo>
                      <a:pt x="3868" y="720"/>
                    </a:lnTo>
                    <a:lnTo>
                      <a:pt x="3878" y="727"/>
                    </a:lnTo>
                    <a:lnTo>
                      <a:pt x="3887" y="733"/>
                    </a:lnTo>
                    <a:lnTo>
                      <a:pt x="3898" y="739"/>
                    </a:lnTo>
                    <a:lnTo>
                      <a:pt x="3908" y="745"/>
                    </a:lnTo>
                    <a:lnTo>
                      <a:pt x="3918" y="752"/>
                    </a:lnTo>
                    <a:lnTo>
                      <a:pt x="3929" y="759"/>
                    </a:lnTo>
                    <a:lnTo>
                      <a:pt x="3940" y="766"/>
                    </a:lnTo>
                    <a:lnTo>
                      <a:pt x="3953" y="772"/>
                    </a:lnTo>
                    <a:lnTo>
                      <a:pt x="3964" y="779"/>
                    </a:lnTo>
                    <a:lnTo>
                      <a:pt x="3976" y="787"/>
                    </a:lnTo>
                    <a:lnTo>
                      <a:pt x="3987" y="794"/>
                    </a:lnTo>
                    <a:lnTo>
                      <a:pt x="4000" y="803"/>
                    </a:lnTo>
                    <a:lnTo>
                      <a:pt x="4012" y="811"/>
                    </a:lnTo>
                    <a:lnTo>
                      <a:pt x="4025" y="818"/>
                    </a:lnTo>
                    <a:lnTo>
                      <a:pt x="4039" y="826"/>
                    </a:lnTo>
                    <a:lnTo>
                      <a:pt x="4053" y="833"/>
                    </a:lnTo>
                    <a:lnTo>
                      <a:pt x="4067" y="841"/>
                    </a:lnTo>
                    <a:lnTo>
                      <a:pt x="4082" y="850"/>
                    </a:lnTo>
                    <a:lnTo>
                      <a:pt x="4098" y="858"/>
                    </a:lnTo>
                    <a:lnTo>
                      <a:pt x="4113" y="866"/>
                    </a:lnTo>
                    <a:lnTo>
                      <a:pt x="4128" y="874"/>
                    </a:lnTo>
                    <a:lnTo>
                      <a:pt x="4147" y="882"/>
                    </a:lnTo>
                    <a:lnTo>
                      <a:pt x="4164" y="890"/>
                    </a:lnTo>
                    <a:lnTo>
                      <a:pt x="4182" y="900"/>
                    </a:lnTo>
                    <a:lnTo>
                      <a:pt x="4200" y="908"/>
                    </a:lnTo>
                    <a:lnTo>
                      <a:pt x="4220" y="916"/>
                    </a:lnTo>
                    <a:lnTo>
                      <a:pt x="4241" y="925"/>
                    </a:lnTo>
                    <a:lnTo>
                      <a:pt x="4261" y="934"/>
                    </a:lnTo>
                    <a:lnTo>
                      <a:pt x="4281" y="942"/>
                    </a:lnTo>
                    <a:lnTo>
                      <a:pt x="4305" y="953"/>
                    </a:lnTo>
                    <a:lnTo>
                      <a:pt x="4328" y="962"/>
                    </a:lnTo>
                    <a:lnTo>
                      <a:pt x="4352" y="971"/>
                    </a:lnTo>
                    <a:lnTo>
                      <a:pt x="4375" y="980"/>
                    </a:lnTo>
                    <a:lnTo>
                      <a:pt x="4401" y="990"/>
                    </a:lnTo>
                    <a:lnTo>
                      <a:pt x="4427" y="1000"/>
                    </a:lnTo>
                    <a:lnTo>
                      <a:pt x="4454" y="1009"/>
                    </a:lnTo>
                    <a:lnTo>
                      <a:pt x="4480" y="1018"/>
                    </a:lnTo>
                    <a:lnTo>
                      <a:pt x="4510" y="1027"/>
                    </a:lnTo>
                    <a:lnTo>
                      <a:pt x="4541" y="1037"/>
                    </a:lnTo>
                    <a:lnTo>
                      <a:pt x="4571" y="1048"/>
                    </a:lnTo>
                    <a:lnTo>
                      <a:pt x="4602" y="1057"/>
                    </a:lnTo>
                    <a:lnTo>
                      <a:pt x="4632" y="1066"/>
                    </a:lnTo>
                    <a:lnTo>
                      <a:pt x="4661" y="1075"/>
                    </a:lnTo>
                    <a:lnTo>
                      <a:pt x="4691" y="1084"/>
                    </a:lnTo>
                    <a:lnTo>
                      <a:pt x="4720" y="1094"/>
                    </a:lnTo>
                    <a:lnTo>
                      <a:pt x="4750" y="1102"/>
                    </a:lnTo>
                    <a:lnTo>
                      <a:pt x="4779" y="1110"/>
                    </a:lnTo>
                    <a:lnTo>
                      <a:pt x="4808" y="1119"/>
                    </a:lnTo>
                    <a:lnTo>
                      <a:pt x="4838" y="1127"/>
                    </a:lnTo>
                    <a:lnTo>
                      <a:pt x="4866" y="1135"/>
                    </a:lnTo>
                    <a:lnTo>
                      <a:pt x="4895" y="1144"/>
                    </a:lnTo>
                    <a:lnTo>
                      <a:pt x="4924" y="1152"/>
                    </a:lnTo>
                    <a:lnTo>
                      <a:pt x="4952" y="1160"/>
                    </a:lnTo>
                    <a:lnTo>
                      <a:pt x="4980" y="1168"/>
                    </a:lnTo>
                    <a:lnTo>
                      <a:pt x="5008" y="1175"/>
                    </a:lnTo>
                    <a:lnTo>
                      <a:pt x="5036" y="1183"/>
                    </a:lnTo>
                    <a:lnTo>
                      <a:pt x="5065" y="1191"/>
                    </a:lnTo>
                    <a:lnTo>
                      <a:pt x="5091" y="1198"/>
                    </a:lnTo>
                    <a:lnTo>
                      <a:pt x="5119" y="1206"/>
                    </a:lnTo>
                    <a:lnTo>
                      <a:pt x="5146" y="1213"/>
                    </a:lnTo>
                    <a:lnTo>
                      <a:pt x="5173" y="1221"/>
                    </a:lnTo>
                    <a:lnTo>
                      <a:pt x="5198" y="1227"/>
                    </a:lnTo>
                    <a:lnTo>
                      <a:pt x="5225" y="1233"/>
                    </a:lnTo>
                    <a:lnTo>
                      <a:pt x="5250" y="1241"/>
                    </a:lnTo>
                    <a:lnTo>
                      <a:pt x="5276" y="1247"/>
                    </a:lnTo>
                    <a:lnTo>
                      <a:pt x="5300" y="1253"/>
                    </a:lnTo>
                    <a:lnTo>
                      <a:pt x="5325" y="1259"/>
                    </a:lnTo>
                    <a:lnTo>
                      <a:pt x="5348" y="1266"/>
                    </a:lnTo>
                    <a:lnTo>
                      <a:pt x="5374" y="1272"/>
                    </a:lnTo>
                    <a:lnTo>
                      <a:pt x="5396" y="1278"/>
                    </a:lnTo>
                    <a:lnTo>
                      <a:pt x="5419" y="1283"/>
                    </a:lnTo>
                    <a:lnTo>
                      <a:pt x="5442" y="1290"/>
                    </a:lnTo>
                    <a:lnTo>
                      <a:pt x="5465" y="1296"/>
                    </a:lnTo>
                    <a:lnTo>
                      <a:pt x="5485" y="1301"/>
                    </a:lnTo>
                    <a:lnTo>
                      <a:pt x="5507" y="1307"/>
                    </a:lnTo>
                    <a:lnTo>
                      <a:pt x="5527" y="1312"/>
                    </a:lnTo>
                    <a:lnTo>
                      <a:pt x="5548" y="1317"/>
                    </a:lnTo>
                    <a:lnTo>
                      <a:pt x="5567" y="1321"/>
                    </a:lnTo>
                    <a:lnTo>
                      <a:pt x="5586" y="1326"/>
                    </a:lnTo>
                    <a:lnTo>
                      <a:pt x="5605" y="1330"/>
                    </a:lnTo>
                    <a:lnTo>
                      <a:pt x="5623" y="1334"/>
                    </a:lnTo>
                    <a:lnTo>
                      <a:pt x="5640" y="1339"/>
                    </a:lnTo>
                    <a:lnTo>
                      <a:pt x="5658" y="1343"/>
                    </a:lnTo>
                    <a:lnTo>
                      <a:pt x="5674" y="1347"/>
                    </a:lnTo>
                    <a:lnTo>
                      <a:pt x="5691" y="1351"/>
                    </a:lnTo>
                    <a:lnTo>
                      <a:pt x="5705" y="1354"/>
                    </a:lnTo>
                    <a:lnTo>
                      <a:pt x="5719" y="1358"/>
                    </a:lnTo>
                    <a:lnTo>
                      <a:pt x="5733" y="1361"/>
                    </a:lnTo>
                    <a:lnTo>
                      <a:pt x="5747" y="1364"/>
                    </a:lnTo>
                    <a:lnTo>
                      <a:pt x="5759" y="1367"/>
                    </a:lnTo>
                    <a:lnTo>
                      <a:pt x="5770" y="1369"/>
                    </a:lnTo>
                    <a:lnTo>
                      <a:pt x="5781" y="1372"/>
                    </a:lnTo>
                    <a:lnTo>
                      <a:pt x="5792" y="1375"/>
                    </a:lnTo>
                    <a:lnTo>
                      <a:pt x="5801" y="1377"/>
                    </a:lnTo>
                    <a:lnTo>
                      <a:pt x="5810" y="1379"/>
                    </a:lnTo>
                    <a:lnTo>
                      <a:pt x="5818" y="1381"/>
                    </a:lnTo>
                    <a:lnTo>
                      <a:pt x="5826" y="1383"/>
                    </a:lnTo>
                    <a:lnTo>
                      <a:pt x="5836" y="1386"/>
                    </a:lnTo>
                    <a:lnTo>
                      <a:pt x="5847" y="1388"/>
                    </a:lnTo>
                    <a:lnTo>
                      <a:pt x="5851" y="1389"/>
                    </a:lnTo>
                    <a:lnTo>
                      <a:pt x="5855" y="1390"/>
                    </a:lnTo>
                    <a:lnTo>
                      <a:pt x="5855" y="1392"/>
                    </a:lnTo>
                    <a:lnTo>
                      <a:pt x="5855" y="1394"/>
                    </a:lnTo>
                    <a:lnTo>
                      <a:pt x="5853" y="1399"/>
                    </a:lnTo>
                    <a:lnTo>
                      <a:pt x="5851" y="1403"/>
                    </a:lnTo>
                    <a:lnTo>
                      <a:pt x="5849" y="1411"/>
                    </a:lnTo>
                    <a:lnTo>
                      <a:pt x="5847" y="1418"/>
                    </a:lnTo>
                    <a:lnTo>
                      <a:pt x="5842" y="1427"/>
                    </a:lnTo>
                    <a:lnTo>
                      <a:pt x="5838" y="1437"/>
                    </a:lnTo>
                    <a:lnTo>
                      <a:pt x="5833" y="1449"/>
                    </a:lnTo>
                    <a:lnTo>
                      <a:pt x="5828" y="1460"/>
                    </a:lnTo>
                    <a:lnTo>
                      <a:pt x="5822" y="1472"/>
                    </a:lnTo>
                    <a:lnTo>
                      <a:pt x="5817" y="1484"/>
                    </a:lnTo>
                    <a:lnTo>
                      <a:pt x="5809" y="1497"/>
                    </a:lnTo>
                    <a:lnTo>
                      <a:pt x="5801" y="1509"/>
                    </a:lnTo>
                    <a:lnTo>
                      <a:pt x="5791" y="1522"/>
                    </a:lnTo>
                    <a:lnTo>
                      <a:pt x="5782" y="1536"/>
                    </a:lnTo>
                    <a:lnTo>
                      <a:pt x="5770" y="1548"/>
                    </a:lnTo>
                    <a:lnTo>
                      <a:pt x="5759" y="1560"/>
                    </a:lnTo>
                    <a:lnTo>
                      <a:pt x="5745" y="1572"/>
                    </a:lnTo>
                    <a:lnTo>
                      <a:pt x="5733" y="1584"/>
                    </a:lnTo>
                    <a:lnTo>
                      <a:pt x="5725" y="1590"/>
                    </a:lnTo>
                    <a:lnTo>
                      <a:pt x="5717" y="1595"/>
                    </a:lnTo>
                    <a:lnTo>
                      <a:pt x="5709" y="1599"/>
                    </a:lnTo>
                    <a:lnTo>
                      <a:pt x="5702" y="1604"/>
                    </a:lnTo>
                    <a:lnTo>
                      <a:pt x="5692" y="1608"/>
                    </a:lnTo>
                    <a:lnTo>
                      <a:pt x="5684" y="1612"/>
                    </a:lnTo>
                    <a:lnTo>
                      <a:pt x="5676" y="1616"/>
                    </a:lnTo>
                    <a:lnTo>
                      <a:pt x="5667" y="1620"/>
                    </a:lnTo>
                    <a:lnTo>
                      <a:pt x="5657" y="1623"/>
                    </a:lnTo>
                    <a:lnTo>
                      <a:pt x="5646" y="1626"/>
                    </a:lnTo>
                    <a:lnTo>
                      <a:pt x="5636" y="1630"/>
                    </a:lnTo>
                    <a:lnTo>
                      <a:pt x="5626" y="1633"/>
                    </a:lnTo>
                    <a:lnTo>
                      <a:pt x="5615" y="1635"/>
                    </a:lnTo>
                    <a:lnTo>
                      <a:pt x="5604" y="1636"/>
                    </a:lnTo>
                    <a:lnTo>
                      <a:pt x="5592" y="1637"/>
                    </a:lnTo>
                    <a:lnTo>
                      <a:pt x="5582" y="1639"/>
                    </a:lnTo>
                    <a:lnTo>
                      <a:pt x="5570" y="1638"/>
                    </a:lnTo>
                    <a:lnTo>
                      <a:pt x="5558" y="1638"/>
                    </a:lnTo>
                    <a:lnTo>
                      <a:pt x="5545" y="1637"/>
                    </a:lnTo>
                    <a:lnTo>
                      <a:pt x="5533" y="1637"/>
                    </a:lnTo>
                    <a:lnTo>
                      <a:pt x="5519" y="1635"/>
                    </a:lnTo>
                    <a:lnTo>
                      <a:pt x="5505" y="1632"/>
                    </a:lnTo>
                    <a:lnTo>
                      <a:pt x="5490" y="1630"/>
                    </a:lnTo>
                    <a:lnTo>
                      <a:pt x="5477" y="1627"/>
                    </a:lnTo>
                    <a:lnTo>
                      <a:pt x="5466" y="1625"/>
                    </a:lnTo>
                    <a:lnTo>
                      <a:pt x="5456" y="1622"/>
                    </a:lnTo>
                    <a:lnTo>
                      <a:pt x="5444" y="1620"/>
                    </a:lnTo>
                    <a:lnTo>
                      <a:pt x="5433" y="1617"/>
                    </a:lnTo>
                    <a:lnTo>
                      <a:pt x="5424" y="1614"/>
                    </a:lnTo>
                    <a:lnTo>
                      <a:pt x="5414" y="1611"/>
                    </a:lnTo>
                    <a:lnTo>
                      <a:pt x="5404" y="1609"/>
                    </a:lnTo>
                    <a:lnTo>
                      <a:pt x="5395" y="1606"/>
                    </a:lnTo>
                    <a:lnTo>
                      <a:pt x="5381" y="1601"/>
                    </a:lnTo>
                    <a:lnTo>
                      <a:pt x="5368" y="1596"/>
                    </a:lnTo>
                    <a:lnTo>
                      <a:pt x="5357" y="1591"/>
                    </a:lnTo>
                    <a:lnTo>
                      <a:pt x="5345" y="1586"/>
                    </a:lnTo>
                    <a:lnTo>
                      <a:pt x="5338" y="1584"/>
                    </a:lnTo>
                    <a:lnTo>
                      <a:pt x="5332" y="1582"/>
                    </a:lnTo>
                    <a:lnTo>
                      <a:pt x="5327" y="1578"/>
                    </a:lnTo>
                    <a:lnTo>
                      <a:pt x="5322" y="1574"/>
                    </a:lnTo>
                    <a:lnTo>
                      <a:pt x="5319" y="1573"/>
                    </a:lnTo>
                    <a:lnTo>
                      <a:pt x="5316" y="1571"/>
                    </a:lnTo>
                    <a:lnTo>
                      <a:pt x="5315" y="1571"/>
                    </a:lnTo>
                    <a:lnTo>
                      <a:pt x="5314" y="1571"/>
                    </a:lnTo>
                    <a:lnTo>
                      <a:pt x="5315" y="1577"/>
                    </a:lnTo>
                    <a:lnTo>
                      <a:pt x="5316" y="1584"/>
                    </a:lnTo>
                    <a:lnTo>
                      <a:pt x="5316" y="1598"/>
                    </a:lnTo>
                    <a:lnTo>
                      <a:pt x="5316" y="1611"/>
                    </a:lnTo>
                    <a:lnTo>
                      <a:pt x="5315" y="1622"/>
                    </a:lnTo>
                    <a:lnTo>
                      <a:pt x="5314" y="1633"/>
                    </a:lnTo>
                    <a:lnTo>
                      <a:pt x="5313" y="1644"/>
                    </a:lnTo>
                    <a:lnTo>
                      <a:pt x="5312" y="1655"/>
                    </a:lnTo>
                    <a:lnTo>
                      <a:pt x="5309" y="1666"/>
                    </a:lnTo>
                    <a:lnTo>
                      <a:pt x="5305" y="1678"/>
                    </a:lnTo>
                    <a:lnTo>
                      <a:pt x="5302" y="1689"/>
                    </a:lnTo>
                    <a:lnTo>
                      <a:pt x="5298" y="1699"/>
                    </a:lnTo>
                    <a:lnTo>
                      <a:pt x="5292" y="1711"/>
                    </a:lnTo>
                    <a:lnTo>
                      <a:pt x="5286" y="1723"/>
                    </a:lnTo>
                    <a:lnTo>
                      <a:pt x="5280" y="1735"/>
                    </a:lnTo>
                    <a:lnTo>
                      <a:pt x="5275" y="1746"/>
                    </a:lnTo>
                    <a:lnTo>
                      <a:pt x="5264" y="1756"/>
                    </a:lnTo>
                    <a:lnTo>
                      <a:pt x="5252" y="1765"/>
                    </a:lnTo>
                    <a:lnTo>
                      <a:pt x="5241" y="1773"/>
                    </a:lnTo>
                    <a:lnTo>
                      <a:pt x="5231" y="1783"/>
                    </a:lnTo>
                    <a:lnTo>
                      <a:pt x="5215" y="1789"/>
                    </a:lnTo>
                    <a:lnTo>
                      <a:pt x="5198" y="1794"/>
                    </a:lnTo>
                    <a:lnTo>
                      <a:pt x="5183" y="1799"/>
                    </a:lnTo>
                    <a:lnTo>
                      <a:pt x="5168" y="1804"/>
                    </a:lnTo>
                    <a:lnTo>
                      <a:pt x="5145" y="1805"/>
                    </a:lnTo>
                    <a:lnTo>
                      <a:pt x="5124" y="1805"/>
                    </a:lnTo>
                    <a:lnTo>
                      <a:pt x="5101" y="1805"/>
                    </a:lnTo>
                    <a:lnTo>
                      <a:pt x="5080" y="1805"/>
                    </a:lnTo>
                    <a:lnTo>
                      <a:pt x="5067" y="1803"/>
                    </a:lnTo>
                    <a:lnTo>
                      <a:pt x="5053" y="1801"/>
                    </a:lnTo>
                    <a:lnTo>
                      <a:pt x="5039" y="1799"/>
                    </a:lnTo>
                    <a:lnTo>
                      <a:pt x="5026" y="1797"/>
                    </a:lnTo>
                    <a:lnTo>
                      <a:pt x="5016" y="1794"/>
                    </a:lnTo>
                    <a:lnTo>
                      <a:pt x="5004" y="1791"/>
                    </a:lnTo>
                    <a:lnTo>
                      <a:pt x="4993" y="1788"/>
                    </a:lnTo>
                    <a:lnTo>
                      <a:pt x="4982" y="1785"/>
                    </a:lnTo>
                    <a:lnTo>
                      <a:pt x="4974" y="1782"/>
                    </a:lnTo>
                    <a:lnTo>
                      <a:pt x="4965" y="1778"/>
                    </a:lnTo>
                    <a:lnTo>
                      <a:pt x="4957" y="1775"/>
                    </a:lnTo>
                    <a:lnTo>
                      <a:pt x="4949" y="1770"/>
                    </a:lnTo>
                    <a:lnTo>
                      <a:pt x="4937" y="1763"/>
                    </a:lnTo>
                    <a:lnTo>
                      <a:pt x="4926" y="1755"/>
                    </a:lnTo>
                    <a:lnTo>
                      <a:pt x="4916" y="1749"/>
                    </a:lnTo>
                    <a:lnTo>
                      <a:pt x="4907" y="1743"/>
                    </a:lnTo>
                    <a:lnTo>
                      <a:pt x="4901" y="1737"/>
                    </a:lnTo>
                    <a:lnTo>
                      <a:pt x="4896" y="1730"/>
                    </a:lnTo>
                    <a:lnTo>
                      <a:pt x="4892" y="1727"/>
                    </a:lnTo>
                    <a:lnTo>
                      <a:pt x="4890" y="1722"/>
                    </a:lnTo>
                    <a:lnTo>
                      <a:pt x="4888" y="1721"/>
                    </a:lnTo>
                    <a:lnTo>
                      <a:pt x="4888" y="1720"/>
                    </a:lnTo>
                    <a:lnTo>
                      <a:pt x="4888" y="1722"/>
                    </a:lnTo>
                    <a:lnTo>
                      <a:pt x="4888" y="1723"/>
                    </a:lnTo>
                    <a:lnTo>
                      <a:pt x="4887" y="1729"/>
                    </a:lnTo>
                    <a:lnTo>
                      <a:pt x="4886" y="1732"/>
                    </a:lnTo>
                    <a:lnTo>
                      <a:pt x="4884" y="1739"/>
                    </a:lnTo>
                    <a:lnTo>
                      <a:pt x="4882" y="1745"/>
                    </a:lnTo>
                    <a:lnTo>
                      <a:pt x="4879" y="1754"/>
                    </a:lnTo>
                    <a:lnTo>
                      <a:pt x="4876" y="1763"/>
                    </a:lnTo>
                    <a:lnTo>
                      <a:pt x="4872" y="1773"/>
                    </a:lnTo>
                    <a:lnTo>
                      <a:pt x="4867" y="1784"/>
                    </a:lnTo>
                    <a:lnTo>
                      <a:pt x="4861" y="1794"/>
                    </a:lnTo>
                    <a:lnTo>
                      <a:pt x="4856" y="1805"/>
                    </a:lnTo>
                    <a:lnTo>
                      <a:pt x="4849" y="1817"/>
                    </a:lnTo>
                    <a:lnTo>
                      <a:pt x="4842" y="1830"/>
                    </a:lnTo>
                    <a:lnTo>
                      <a:pt x="4834" y="1841"/>
                    </a:lnTo>
                    <a:lnTo>
                      <a:pt x="4826" y="1852"/>
                    </a:lnTo>
                    <a:lnTo>
                      <a:pt x="4814" y="1863"/>
                    </a:lnTo>
                    <a:lnTo>
                      <a:pt x="4804" y="1875"/>
                    </a:lnTo>
                    <a:lnTo>
                      <a:pt x="4791" y="1886"/>
                    </a:lnTo>
                    <a:lnTo>
                      <a:pt x="4778" y="1897"/>
                    </a:lnTo>
                    <a:lnTo>
                      <a:pt x="4763" y="1906"/>
                    </a:lnTo>
                    <a:lnTo>
                      <a:pt x="4748" y="1916"/>
                    </a:lnTo>
                    <a:lnTo>
                      <a:pt x="4740" y="1921"/>
                    </a:lnTo>
                    <a:lnTo>
                      <a:pt x="4731" y="1924"/>
                    </a:lnTo>
                    <a:lnTo>
                      <a:pt x="4723" y="1928"/>
                    </a:lnTo>
                    <a:lnTo>
                      <a:pt x="4714" y="1932"/>
                    </a:lnTo>
                    <a:lnTo>
                      <a:pt x="4704" y="1935"/>
                    </a:lnTo>
                    <a:lnTo>
                      <a:pt x="4695" y="1937"/>
                    </a:lnTo>
                    <a:lnTo>
                      <a:pt x="4685" y="1940"/>
                    </a:lnTo>
                    <a:lnTo>
                      <a:pt x="4675" y="1942"/>
                    </a:lnTo>
                    <a:lnTo>
                      <a:pt x="4663" y="1944"/>
                    </a:lnTo>
                    <a:lnTo>
                      <a:pt x="4652" y="1946"/>
                    </a:lnTo>
                    <a:lnTo>
                      <a:pt x="4641" y="1947"/>
                    </a:lnTo>
                    <a:lnTo>
                      <a:pt x="4630" y="1948"/>
                    </a:lnTo>
                    <a:lnTo>
                      <a:pt x="4616" y="1948"/>
                    </a:lnTo>
                    <a:lnTo>
                      <a:pt x="4603" y="1948"/>
                    </a:lnTo>
                    <a:lnTo>
                      <a:pt x="4591" y="1948"/>
                    </a:lnTo>
                    <a:lnTo>
                      <a:pt x="4578" y="1948"/>
                    </a:lnTo>
                    <a:lnTo>
                      <a:pt x="4563" y="1946"/>
                    </a:lnTo>
                    <a:lnTo>
                      <a:pt x="4549" y="1944"/>
                    </a:lnTo>
                    <a:lnTo>
                      <a:pt x="4535" y="1942"/>
                    </a:lnTo>
                    <a:lnTo>
                      <a:pt x="4520" y="1940"/>
                    </a:lnTo>
                    <a:lnTo>
                      <a:pt x="4509" y="1938"/>
                    </a:lnTo>
                    <a:lnTo>
                      <a:pt x="4498" y="1935"/>
                    </a:lnTo>
                    <a:lnTo>
                      <a:pt x="4488" y="1933"/>
                    </a:lnTo>
                    <a:lnTo>
                      <a:pt x="4476" y="1930"/>
                    </a:lnTo>
                    <a:lnTo>
                      <a:pt x="4466" y="1927"/>
                    </a:lnTo>
                    <a:lnTo>
                      <a:pt x="4456" y="1924"/>
                    </a:lnTo>
                    <a:lnTo>
                      <a:pt x="4445" y="1921"/>
                    </a:lnTo>
                    <a:lnTo>
                      <a:pt x="4435" y="1917"/>
                    </a:lnTo>
                    <a:lnTo>
                      <a:pt x="4425" y="1914"/>
                    </a:lnTo>
                    <a:lnTo>
                      <a:pt x="4416" y="1911"/>
                    </a:lnTo>
                    <a:lnTo>
                      <a:pt x="4406" y="1908"/>
                    </a:lnTo>
                    <a:lnTo>
                      <a:pt x="4397" y="1905"/>
                    </a:lnTo>
                    <a:lnTo>
                      <a:pt x="4388" y="1901"/>
                    </a:lnTo>
                    <a:lnTo>
                      <a:pt x="4378" y="1897"/>
                    </a:lnTo>
                    <a:lnTo>
                      <a:pt x="4370" y="1893"/>
                    </a:lnTo>
                    <a:lnTo>
                      <a:pt x="4361" y="1888"/>
                    </a:lnTo>
                    <a:lnTo>
                      <a:pt x="4353" y="1885"/>
                    </a:lnTo>
                    <a:lnTo>
                      <a:pt x="4345" y="1881"/>
                    </a:lnTo>
                    <a:lnTo>
                      <a:pt x="4336" y="1877"/>
                    </a:lnTo>
                    <a:lnTo>
                      <a:pt x="4327" y="1873"/>
                    </a:lnTo>
                    <a:lnTo>
                      <a:pt x="4313" y="1864"/>
                    </a:lnTo>
                    <a:lnTo>
                      <a:pt x="4298" y="1855"/>
                    </a:lnTo>
                    <a:lnTo>
                      <a:pt x="4285" y="1847"/>
                    </a:lnTo>
                    <a:lnTo>
                      <a:pt x="4271" y="1838"/>
                    </a:lnTo>
                    <a:lnTo>
                      <a:pt x="4259" y="1830"/>
                    </a:lnTo>
                    <a:lnTo>
                      <a:pt x="4248" y="1821"/>
                    </a:lnTo>
                    <a:lnTo>
                      <a:pt x="4237" y="1813"/>
                    </a:lnTo>
                    <a:lnTo>
                      <a:pt x="4225" y="1804"/>
                    </a:lnTo>
                    <a:lnTo>
                      <a:pt x="4217" y="1797"/>
                    </a:lnTo>
                    <a:lnTo>
                      <a:pt x="4208" y="1788"/>
                    </a:lnTo>
                    <a:lnTo>
                      <a:pt x="4200" y="1782"/>
                    </a:lnTo>
                    <a:lnTo>
                      <a:pt x="4192" y="1773"/>
                    </a:lnTo>
                    <a:lnTo>
                      <a:pt x="4185" y="1767"/>
                    </a:lnTo>
                    <a:lnTo>
                      <a:pt x="4179" y="1761"/>
                    </a:lnTo>
                    <a:lnTo>
                      <a:pt x="4173" y="1756"/>
                    </a:lnTo>
                    <a:lnTo>
                      <a:pt x="4169" y="1750"/>
                    </a:lnTo>
                    <a:lnTo>
                      <a:pt x="4166" y="1747"/>
                    </a:lnTo>
                    <a:lnTo>
                      <a:pt x="4163" y="1743"/>
                    </a:lnTo>
                    <a:lnTo>
                      <a:pt x="4161" y="1741"/>
                    </a:lnTo>
                    <a:lnTo>
                      <a:pt x="4159" y="1739"/>
                    </a:lnTo>
                    <a:lnTo>
                      <a:pt x="4158" y="1737"/>
                    </a:lnTo>
                    <a:lnTo>
                      <a:pt x="4157" y="1736"/>
                    </a:lnTo>
                    <a:lnTo>
                      <a:pt x="4157" y="1738"/>
                    </a:lnTo>
                    <a:lnTo>
                      <a:pt x="4157" y="1740"/>
                    </a:lnTo>
                    <a:lnTo>
                      <a:pt x="4155" y="1743"/>
                    </a:lnTo>
                    <a:lnTo>
                      <a:pt x="4153" y="1747"/>
                    </a:lnTo>
                    <a:lnTo>
                      <a:pt x="4150" y="1753"/>
                    </a:lnTo>
                    <a:lnTo>
                      <a:pt x="4147" y="1759"/>
                    </a:lnTo>
                    <a:lnTo>
                      <a:pt x="4143" y="1768"/>
                    </a:lnTo>
                    <a:lnTo>
                      <a:pt x="4140" y="1778"/>
                    </a:lnTo>
                    <a:lnTo>
                      <a:pt x="4133" y="1788"/>
                    </a:lnTo>
                    <a:lnTo>
                      <a:pt x="4126" y="1797"/>
                    </a:lnTo>
                    <a:lnTo>
                      <a:pt x="4120" y="1807"/>
                    </a:lnTo>
                    <a:lnTo>
                      <a:pt x="4113" y="1817"/>
                    </a:lnTo>
                    <a:lnTo>
                      <a:pt x="4103" y="1829"/>
                    </a:lnTo>
                    <a:lnTo>
                      <a:pt x="4094" y="1839"/>
                    </a:lnTo>
                    <a:lnTo>
                      <a:pt x="4081" y="1851"/>
                    </a:lnTo>
                    <a:lnTo>
                      <a:pt x="4069" y="1862"/>
                    </a:lnTo>
                    <a:lnTo>
                      <a:pt x="4055" y="1873"/>
                    </a:lnTo>
                    <a:lnTo>
                      <a:pt x="4039" y="1883"/>
                    </a:lnTo>
                    <a:lnTo>
                      <a:pt x="4031" y="1888"/>
                    </a:lnTo>
                    <a:lnTo>
                      <a:pt x="4022" y="1892"/>
                    </a:lnTo>
                    <a:lnTo>
                      <a:pt x="4014" y="1897"/>
                    </a:lnTo>
                    <a:lnTo>
                      <a:pt x="4006" y="1901"/>
                    </a:lnTo>
                    <a:lnTo>
                      <a:pt x="3996" y="1905"/>
                    </a:lnTo>
                    <a:lnTo>
                      <a:pt x="3985" y="1908"/>
                    </a:lnTo>
                    <a:lnTo>
                      <a:pt x="3975" y="1912"/>
                    </a:lnTo>
                    <a:lnTo>
                      <a:pt x="3966" y="1915"/>
                    </a:lnTo>
                    <a:lnTo>
                      <a:pt x="3955" y="1918"/>
                    </a:lnTo>
                    <a:lnTo>
                      <a:pt x="3942" y="1922"/>
                    </a:lnTo>
                    <a:lnTo>
                      <a:pt x="3931" y="1925"/>
                    </a:lnTo>
                    <a:lnTo>
                      <a:pt x="3920" y="1927"/>
                    </a:lnTo>
                    <a:lnTo>
                      <a:pt x="3907" y="1929"/>
                    </a:lnTo>
                    <a:lnTo>
                      <a:pt x="3892" y="1931"/>
                    </a:lnTo>
                    <a:lnTo>
                      <a:pt x="3879" y="1933"/>
                    </a:lnTo>
                    <a:lnTo>
                      <a:pt x="3866" y="1935"/>
                    </a:lnTo>
                    <a:lnTo>
                      <a:pt x="3852" y="1935"/>
                    </a:lnTo>
                    <a:lnTo>
                      <a:pt x="3837" y="1934"/>
                    </a:lnTo>
                    <a:lnTo>
                      <a:pt x="3822" y="1934"/>
                    </a:lnTo>
                    <a:lnTo>
                      <a:pt x="3807" y="1934"/>
                    </a:lnTo>
                    <a:lnTo>
                      <a:pt x="3790" y="1932"/>
                    </a:lnTo>
                    <a:lnTo>
                      <a:pt x="3773" y="1931"/>
                    </a:lnTo>
                    <a:lnTo>
                      <a:pt x="3757" y="1929"/>
                    </a:lnTo>
                    <a:lnTo>
                      <a:pt x="3739" y="1927"/>
                    </a:lnTo>
                    <a:lnTo>
                      <a:pt x="3721" y="1923"/>
                    </a:lnTo>
                    <a:lnTo>
                      <a:pt x="3702" y="1919"/>
                    </a:lnTo>
                    <a:lnTo>
                      <a:pt x="3682" y="1916"/>
                    </a:lnTo>
                    <a:lnTo>
                      <a:pt x="3664" y="1912"/>
                    </a:lnTo>
                    <a:lnTo>
                      <a:pt x="3644" y="1908"/>
                    </a:lnTo>
                    <a:lnTo>
                      <a:pt x="3626" y="1904"/>
                    </a:lnTo>
                    <a:lnTo>
                      <a:pt x="3607" y="1899"/>
                    </a:lnTo>
                    <a:lnTo>
                      <a:pt x="3588" y="1895"/>
                    </a:lnTo>
                    <a:lnTo>
                      <a:pt x="3571" y="1890"/>
                    </a:lnTo>
                    <a:lnTo>
                      <a:pt x="3552" y="1885"/>
                    </a:lnTo>
                    <a:lnTo>
                      <a:pt x="3535" y="1879"/>
                    </a:lnTo>
                    <a:lnTo>
                      <a:pt x="3519" y="1874"/>
                    </a:lnTo>
                    <a:lnTo>
                      <a:pt x="3501" y="1869"/>
                    </a:lnTo>
                    <a:lnTo>
                      <a:pt x="3485" y="1865"/>
                    </a:lnTo>
                    <a:lnTo>
                      <a:pt x="3469" y="1861"/>
                    </a:lnTo>
                    <a:lnTo>
                      <a:pt x="3452" y="1857"/>
                    </a:lnTo>
                    <a:lnTo>
                      <a:pt x="3438" y="1852"/>
                    </a:lnTo>
                    <a:lnTo>
                      <a:pt x="3423" y="1846"/>
                    </a:lnTo>
                    <a:lnTo>
                      <a:pt x="3408" y="1841"/>
                    </a:lnTo>
                    <a:lnTo>
                      <a:pt x="3393" y="1836"/>
                    </a:lnTo>
                    <a:lnTo>
                      <a:pt x="3380" y="1832"/>
                    </a:lnTo>
                    <a:lnTo>
                      <a:pt x="3367" y="1827"/>
                    </a:lnTo>
                    <a:lnTo>
                      <a:pt x="3353" y="1822"/>
                    </a:lnTo>
                    <a:lnTo>
                      <a:pt x="3340" y="1817"/>
                    </a:lnTo>
                    <a:lnTo>
                      <a:pt x="3328" y="1813"/>
                    </a:lnTo>
                    <a:lnTo>
                      <a:pt x="3316" y="1809"/>
                    </a:lnTo>
                    <a:lnTo>
                      <a:pt x="3304" y="1805"/>
                    </a:lnTo>
                    <a:lnTo>
                      <a:pt x="3292" y="1800"/>
                    </a:lnTo>
                    <a:lnTo>
                      <a:pt x="3281" y="1796"/>
                    </a:lnTo>
                    <a:lnTo>
                      <a:pt x="3271" y="1792"/>
                    </a:lnTo>
                    <a:lnTo>
                      <a:pt x="3259" y="1788"/>
                    </a:lnTo>
                    <a:lnTo>
                      <a:pt x="3248" y="1784"/>
                    </a:lnTo>
                    <a:lnTo>
                      <a:pt x="3238" y="1780"/>
                    </a:lnTo>
                    <a:lnTo>
                      <a:pt x="3228" y="1776"/>
                    </a:lnTo>
                    <a:lnTo>
                      <a:pt x="3219" y="1770"/>
                    </a:lnTo>
                    <a:lnTo>
                      <a:pt x="3208" y="1766"/>
                    </a:lnTo>
                    <a:lnTo>
                      <a:pt x="3200" y="1763"/>
                    </a:lnTo>
                    <a:lnTo>
                      <a:pt x="3191" y="1759"/>
                    </a:lnTo>
                    <a:lnTo>
                      <a:pt x="3183" y="1756"/>
                    </a:lnTo>
                    <a:lnTo>
                      <a:pt x="3175" y="1752"/>
                    </a:lnTo>
                    <a:lnTo>
                      <a:pt x="3160" y="1746"/>
                    </a:lnTo>
                    <a:lnTo>
                      <a:pt x="3147" y="1740"/>
                    </a:lnTo>
                    <a:lnTo>
                      <a:pt x="3135" y="1734"/>
                    </a:lnTo>
                    <a:lnTo>
                      <a:pt x="3123" y="1729"/>
                    </a:lnTo>
                    <a:lnTo>
                      <a:pt x="3112" y="1723"/>
                    </a:lnTo>
                    <a:lnTo>
                      <a:pt x="3103" y="1717"/>
                    </a:lnTo>
                    <a:lnTo>
                      <a:pt x="3096" y="1713"/>
                    </a:lnTo>
                    <a:lnTo>
                      <a:pt x="3089" y="1708"/>
                    </a:lnTo>
                    <a:lnTo>
                      <a:pt x="3083" y="1706"/>
                    </a:lnTo>
                    <a:lnTo>
                      <a:pt x="3078" y="1703"/>
                    </a:lnTo>
                    <a:lnTo>
                      <a:pt x="3074" y="1701"/>
                    </a:lnTo>
                    <a:lnTo>
                      <a:pt x="3071" y="1698"/>
                    </a:lnTo>
                    <a:lnTo>
                      <a:pt x="3071" y="1698"/>
                    </a:lnTo>
                    <a:lnTo>
                      <a:pt x="3070" y="1698"/>
                    </a:lnTo>
                    <a:lnTo>
                      <a:pt x="3035" y="1690"/>
                    </a:lnTo>
                    <a:lnTo>
                      <a:pt x="3001" y="1682"/>
                    </a:lnTo>
                    <a:lnTo>
                      <a:pt x="2966" y="1673"/>
                    </a:lnTo>
                    <a:lnTo>
                      <a:pt x="2933" y="1665"/>
                    </a:lnTo>
                    <a:lnTo>
                      <a:pt x="2898" y="1657"/>
                    </a:lnTo>
                    <a:lnTo>
                      <a:pt x="2864" y="1649"/>
                    </a:lnTo>
                    <a:lnTo>
                      <a:pt x="2831" y="1641"/>
                    </a:lnTo>
                    <a:lnTo>
                      <a:pt x="2796" y="1633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355280" y="1816200"/>
                <a:ext cx="68040" cy="78840"/>
              </a:xfrm>
              <a:custGeom>
                <a:avLst/>
                <a:gdLst/>
                <a:ahLst/>
                <a:rect l="l" t="t" r="r" b="b"/>
                <a:pathLst>
                  <a:path w="1344" h="1480">
                    <a:moveTo>
                      <a:pt x="1344" y="1480"/>
                    </a:moveTo>
                    <a:lnTo>
                      <a:pt x="1335" y="1478"/>
                    </a:lnTo>
                    <a:lnTo>
                      <a:pt x="1327" y="1475"/>
                    </a:lnTo>
                    <a:lnTo>
                      <a:pt x="1317" y="1471"/>
                    </a:lnTo>
                    <a:lnTo>
                      <a:pt x="1306" y="1468"/>
                    </a:lnTo>
                    <a:lnTo>
                      <a:pt x="1296" y="1466"/>
                    </a:lnTo>
                    <a:lnTo>
                      <a:pt x="1287" y="1463"/>
                    </a:lnTo>
                    <a:lnTo>
                      <a:pt x="1277" y="1460"/>
                    </a:lnTo>
                    <a:lnTo>
                      <a:pt x="1267" y="1457"/>
                    </a:lnTo>
                    <a:lnTo>
                      <a:pt x="1256" y="1453"/>
                    </a:lnTo>
                    <a:lnTo>
                      <a:pt x="1247" y="1449"/>
                    </a:lnTo>
                    <a:lnTo>
                      <a:pt x="1236" y="1446"/>
                    </a:lnTo>
                    <a:lnTo>
                      <a:pt x="1225" y="1442"/>
                    </a:lnTo>
                    <a:lnTo>
                      <a:pt x="1215" y="1440"/>
                    </a:lnTo>
                    <a:lnTo>
                      <a:pt x="1205" y="1438"/>
                    </a:lnTo>
                    <a:lnTo>
                      <a:pt x="1194" y="1434"/>
                    </a:lnTo>
                    <a:lnTo>
                      <a:pt x="1183" y="1430"/>
                    </a:lnTo>
                    <a:lnTo>
                      <a:pt x="1156" y="1422"/>
                    </a:lnTo>
                    <a:lnTo>
                      <a:pt x="1130" y="1414"/>
                    </a:lnTo>
                    <a:lnTo>
                      <a:pt x="1102" y="1405"/>
                    </a:lnTo>
                    <a:lnTo>
                      <a:pt x="1076" y="1395"/>
                    </a:lnTo>
                    <a:lnTo>
                      <a:pt x="1049" y="1384"/>
                    </a:lnTo>
                    <a:lnTo>
                      <a:pt x="1022" y="1374"/>
                    </a:lnTo>
                    <a:lnTo>
                      <a:pt x="995" y="1363"/>
                    </a:lnTo>
                    <a:lnTo>
                      <a:pt x="969" y="1351"/>
                    </a:lnTo>
                    <a:lnTo>
                      <a:pt x="941" y="1339"/>
                    </a:lnTo>
                    <a:lnTo>
                      <a:pt x="914" y="1326"/>
                    </a:lnTo>
                    <a:lnTo>
                      <a:pt x="888" y="1313"/>
                    </a:lnTo>
                    <a:lnTo>
                      <a:pt x="861" y="1300"/>
                    </a:lnTo>
                    <a:lnTo>
                      <a:pt x="835" y="1287"/>
                    </a:lnTo>
                    <a:lnTo>
                      <a:pt x="809" y="1273"/>
                    </a:lnTo>
                    <a:lnTo>
                      <a:pt x="784" y="1260"/>
                    </a:lnTo>
                    <a:lnTo>
                      <a:pt x="757" y="1245"/>
                    </a:lnTo>
                    <a:lnTo>
                      <a:pt x="732" y="1230"/>
                    </a:lnTo>
                    <a:lnTo>
                      <a:pt x="706" y="1215"/>
                    </a:lnTo>
                    <a:lnTo>
                      <a:pt x="682" y="1199"/>
                    </a:lnTo>
                    <a:lnTo>
                      <a:pt x="656" y="1184"/>
                    </a:lnTo>
                    <a:lnTo>
                      <a:pt x="631" y="1168"/>
                    </a:lnTo>
                    <a:lnTo>
                      <a:pt x="605" y="1150"/>
                    </a:lnTo>
                    <a:lnTo>
                      <a:pt x="581" y="1134"/>
                    </a:lnTo>
                    <a:lnTo>
                      <a:pt x="556" y="1118"/>
                    </a:lnTo>
                    <a:lnTo>
                      <a:pt x="533" y="1101"/>
                    </a:lnTo>
                    <a:lnTo>
                      <a:pt x="510" y="1085"/>
                    </a:lnTo>
                    <a:lnTo>
                      <a:pt x="487" y="1068"/>
                    </a:lnTo>
                    <a:lnTo>
                      <a:pt x="464" y="1050"/>
                    </a:lnTo>
                    <a:lnTo>
                      <a:pt x="442" y="1033"/>
                    </a:lnTo>
                    <a:lnTo>
                      <a:pt x="420" y="1015"/>
                    </a:lnTo>
                    <a:lnTo>
                      <a:pt x="399" y="996"/>
                    </a:lnTo>
                    <a:lnTo>
                      <a:pt x="376" y="978"/>
                    </a:lnTo>
                    <a:lnTo>
                      <a:pt x="357" y="959"/>
                    </a:lnTo>
                    <a:lnTo>
                      <a:pt x="337" y="940"/>
                    </a:lnTo>
                    <a:lnTo>
                      <a:pt x="317" y="922"/>
                    </a:lnTo>
                    <a:lnTo>
                      <a:pt x="297" y="902"/>
                    </a:lnTo>
                    <a:lnTo>
                      <a:pt x="278" y="883"/>
                    </a:lnTo>
                    <a:lnTo>
                      <a:pt x="260" y="863"/>
                    </a:lnTo>
                    <a:lnTo>
                      <a:pt x="242" y="844"/>
                    </a:lnTo>
                    <a:lnTo>
                      <a:pt x="223" y="825"/>
                    </a:lnTo>
                    <a:lnTo>
                      <a:pt x="207" y="805"/>
                    </a:lnTo>
                    <a:lnTo>
                      <a:pt x="191" y="786"/>
                    </a:lnTo>
                    <a:lnTo>
                      <a:pt x="175" y="766"/>
                    </a:lnTo>
                    <a:lnTo>
                      <a:pt x="159" y="747"/>
                    </a:lnTo>
                    <a:lnTo>
                      <a:pt x="145" y="728"/>
                    </a:lnTo>
                    <a:lnTo>
                      <a:pt x="131" y="708"/>
                    </a:lnTo>
                    <a:lnTo>
                      <a:pt x="117" y="688"/>
                    </a:lnTo>
                    <a:lnTo>
                      <a:pt x="104" y="667"/>
                    </a:lnTo>
                    <a:lnTo>
                      <a:pt x="93" y="648"/>
                    </a:lnTo>
                    <a:lnTo>
                      <a:pt x="81" y="629"/>
                    </a:lnTo>
                    <a:lnTo>
                      <a:pt x="70" y="608"/>
                    </a:lnTo>
                    <a:lnTo>
                      <a:pt x="60" y="589"/>
                    </a:lnTo>
                    <a:lnTo>
                      <a:pt x="52" y="569"/>
                    </a:lnTo>
                    <a:lnTo>
                      <a:pt x="44" y="550"/>
                    </a:lnTo>
                    <a:lnTo>
                      <a:pt x="35" y="531"/>
                    </a:lnTo>
                    <a:lnTo>
                      <a:pt x="28" y="510"/>
                    </a:lnTo>
                    <a:lnTo>
                      <a:pt x="22" y="491"/>
                    </a:lnTo>
                    <a:lnTo>
                      <a:pt x="18" y="472"/>
                    </a:lnTo>
                    <a:lnTo>
                      <a:pt x="13" y="453"/>
                    </a:lnTo>
                    <a:lnTo>
                      <a:pt x="8" y="434"/>
                    </a:lnTo>
                    <a:lnTo>
                      <a:pt x="6" y="415"/>
                    </a:lnTo>
                    <a:lnTo>
                      <a:pt x="4" y="396"/>
                    </a:lnTo>
                    <a:lnTo>
                      <a:pt x="2" y="377"/>
                    </a:lnTo>
                    <a:lnTo>
                      <a:pt x="0" y="359"/>
                    </a:lnTo>
                    <a:lnTo>
                      <a:pt x="1" y="338"/>
                    </a:lnTo>
                    <a:lnTo>
                      <a:pt x="3" y="315"/>
                    </a:lnTo>
                    <a:lnTo>
                      <a:pt x="5" y="294"/>
                    </a:lnTo>
                    <a:lnTo>
                      <a:pt x="6" y="271"/>
                    </a:lnTo>
                    <a:lnTo>
                      <a:pt x="11" y="254"/>
                    </a:lnTo>
                    <a:lnTo>
                      <a:pt x="16" y="236"/>
                    </a:lnTo>
                    <a:lnTo>
                      <a:pt x="21" y="218"/>
                    </a:lnTo>
                    <a:lnTo>
                      <a:pt x="26" y="200"/>
                    </a:lnTo>
                    <a:lnTo>
                      <a:pt x="34" y="186"/>
                    </a:lnTo>
                    <a:lnTo>
                      <a:pt x="41" y="171"/>
                    </a:lnTo>
                    <a:lnTo>
                      <a:pt x="50" y="156"/>
                    </a:lnTo>
                    <a:lnTo>
                      <a:pt x="58" y="142"/>
                    </a:lnTo>
                    <a:lnTo>
                      <a:pt x="67" y="129"/>
                    </a:lnTo>
                    <a:lnTo>
                      <a:pt x="77" y="118"/>
                    </a:lnTo>
                    <a:lnTo>
                      <a:pt x="87" y="106"/>
                    </a:lnTo>
                    <a:lnTo>
                      <a:pt x="98" y="94"/>
                    </a:lnTo>
                    <a:lnTo>
                      <a:pt x="110" y="85"/>
                    </a:lnTo>
                    <a:lnTo>
                      <a:pt x="122" y="76"/>
                    </a:lnTo>
                    <a:lnTo>
                      <a:pt x="134" y="67"/>
                    </a:lnTo>
                    <a:lnTo>
                      <a:pt x="148" y="58"/>
                    </a:lnTo>
                    <a:lnTo>
                      <a:pt x="161" y="51"/>
                    </a:lnTo>
                    <a:lnTo>
                      <a:pt x="175" y="45"/>
                    </a:lnTo>
                    <a:lnTo>
                      <a:pt x="190" y="37"/>
                    </a:lnTo>
                    <a:lnTo>
                      <a:pt x="204" y="31"/>
                    </a:lnTo>
                    <a:lnTo>
                      <a:pt x="218" y="26"/>
                    </a:lnTo>
                    <a:lnTo>
                      <a:pt x="233" y="22"/>
                    </a:lnTo>
                    <a:lnTo>
                      <a:pt x="248" y="18"/>
                    </a:lnTo>
                    <a:lnTo>
                      <a:pt x="263" y="13"/>
                    </a:lnTo>
                    <a:lnTo>
                      <a:pt x="279" y="11"/>
                    </a:lnTo>
                    <a:lnTo>
                      <a:pt x="296" y="8"/>
                    </a:lnTo>
                    <a:lnTo>
                      <a:pt x="312" y="6"/>
                    </a:lnTo>
                    <a:lnTo>
                      <a:pt x="328" y="4"/>
                    </a:lnTo>
                    <a:lnTo>
                      <a:pt x="345" y="3"/>
                    </a:lnTo>
                    <a:lnTo>
                      <a:pt x="361" y="2"/>
                    </a:lnTo>
                    <a:lnTo>
                      <a:pt x="377" y="1"/>
                    </a:lnTo>
                    <a:lnTo>
                      <a:pt x="395" y="0"/>
                    </a:lnTo>
                    <a:lnTo>
                      <a:pt x="411" y="0"/>
                    </a:lnTo>
                    <a:lnTo>
                      <a:pt x="428" y="1"/>
                    </a:lnTo>
                    <a:lnTo>
                      <a:pt x="445" y="1"/>
                    </a:lnTo>
                    <a:lnTo>
                      <a:pt x="462" y="1"/>
                    </a:lnTo>
                    <a:lnTo>
                      <a:pt x="479" y="3"/>
                    </a:lnTo>
                    <a:lnTo>
                      <a:pt x="496" y="5"/>
                    </a:lnTo>
                    <a:lnTo>
                      <a:pt x="513" y="6"/>
                    </a:lnTo>
                    <a:lnTo>
                      <a:pt x="531" y="8"/>
                    </a:lnTo>
                    <a:lnTo>
                      <a:pt x="546" y="10"/>
                    </a:lnTo>
                    <a:lnTo>
                      <a:pt x="562" y="12"/>
                    </a:lnTo>
                    <a:lnTo>
                      <a:pt x="579" y="15"/>
                    </a:lnTo>
                    <a:lnTo>
                      <a:pt x="594" y="17"/>
                    </a:lnTo>
                    <a:lnTo>
                      <a:pt x="609" y="19"/>
                    </a:lnTo>
                    <a:lnTo>
                      <a:pt x="623" y="21"/>
                    </a:lnTo>
                    <a:lnTo>
                      <a:pt x="639" y="24"/>
                    </a:lnTo>
                    <a:lnTo>
                      <a:pt x="654" y="26"/>
                    </a:lnTo>
                    <a:lnTo>
                      <a:pt x="667" y="29"/>
                    </a:lnTo>
                    <a:lnTo>
                      <a:pt x="682" y="32"/>
                    </a:lnTo>
                    <a:lnTo>
                      <a:pt x="695" y="35"/>
                    </a:lnTo>
                    <a:lnTo>
                      <a:pt x="709" y="37"/>
                    </a:lnTo>
                    <a:lnTo>
                      <a:pt x="721" y="41"/>
                    </a:lnTo>
                    <a:lnTo>
                      <a:pt x="733" y="44"/>
                    </a:lnTo>
                    <a:lnTo>
                      <a:pt x="745" y="47"/>
                    </a:lnTo>
                    <a:lnTo>
                      <a:pt x="757" y="50"/>
                    </a:lnTo>
                    <a:lnTo>
                      <a:pt x="767" y="52"/>
                    </a:lnTo>
                    <a:lnTo>
                      <a:pt x="777" y="54"/>
                    </a:lnTo>
                    <a:lnTo>
                      <a:pt x="787" y="56"/>
                    </a:lnTo>
                    <a:lnTo>
                      <a:pt x="797" y="59"/>
                    </a:lnTo>
                    <a:lnTo>
                      <a:pt x="810" y="62"/>
                    </a:lnTo>
                    <a:lnTo>
                      <a:pt x="824" y="66"/>
                    </a:lnTo>
                    <a:lnTo>
                      <a:pt x="838" y="69"/>
                    </a:lnTo>
                    <a:lnTo>
                      <a:pt x="851" y="73"/>
                    </a:lnTo>
                    <a:lnTo>
                      <a:pt x="863" y="78"/>
                    </a:lnTo>
                    <a:lnTo>
                      <a:pt x="876" y="84"/>
                    </a:lnTo>
                    <a:lnTo>
                      <a:pt x="888" y="90"/>
                    </a:lnTo>
                    <a:lnTo>
                      <a:pt x="901" y="96"/>
                    </a:lnTo>
                    <a:lnTo>
                      <a:pt x="912" y="102"/>
                    </a:lnTo>
                    <a:lnTo>
                      <a:pt x="924" y="108"/>
                    </a:lnTo>
                    <a:lnTo>
                      <a:pt x="935" y="114"/>
                    </a:lnTo>
                    <a:lnTo>
                      <a:pt x="946" y="120"/>
                    </a:lnTo>
                    <a:lnTo>
                      <a:pt x="956" y="127"/>
                    </a:lnTo>
                    <a:lnTo>
                      <a:pt x="966" y="133"/>
                    </a:lnTo>
                    <a:lnTo>
                      <a:pt x="977" y="141"/>
                    </a:lnTo>
                    <a:lnTo>
                      <a:pt x="986" y="148"/>
                    </a:lnTo>
                    <a:lnTo>
                      <a:pt x="996" y="155"/>
                    </a:lnTo>
                    <a:lnTo>
                      <a:pt x="1005" y="162"/>
                    </a:lnTo>
                    <a:lnTo>
                      <a:pt x="1014" y="169"/>
                    </a:lnTo>
                    <a:lnTo>
                      <a:pt x="1025" y="176"/>
                    </a:lnTo>
                    <a:lnTo>
                      <a:pt x="1033" y="186"/>
                    </a:lnTo>
                    <a:lnTo>
                      <a:pt x="1041" y="194"/>
                    </a:lnTo>
                    <a:lnTo>
                      <a:pt x="1049" y="203"/>
                    </a:lnTo>
                    <a:lnTo>
                      <a:pt x="1057" y="211"/>
                    </a:lnTo>
                    <a:lnTo>
                      <a:pt x="1066" y="219"/>
                    </a:lnTo>
                    <a:lnTo>
                      <a:pt x="1073" y="228"/>
                    </a:lnTo>
                    <a:lnTo>
                      <a:pt x="1080" y="238"/>
                    </a:lnTo>
                    <a:lnTo>
                      <a:pt x="1088" y="246"/>
                    </a:lnTo>
                    <a:lnTo>
                      <a:pt x="1094" y="255"/>
                    </a:lnTo>
                    <a:lnTo>
                      <a:pt x="1100" y="264"/>
                    </a:lnTo>
                    <a:lnTo>
                      <a:pt x="1106" y="273"/>
                    </a:lnTo>
                    <a:lnTo>
                      <a:pt x="1113" y="281"/>
                    </a:lnTo>
                    <a:lnTo>
                      <a:pt x="1119" y="292"/>
                    </a:lnTo>
                    <a:lnTo>
                      <a:pt x="1125" y="301"/>
                    </a:lnTo>
                    <a:lnTo>
                      <a:pt x="1130" y="310"/>
                    </a:lnTo>
                    <a:lnTo>
                      <a:pt x="1136" y="319"/>
                    </a:lnTo>
                    <a:lnTo>
                      <a:pt x="1140" y="328"/>
                    </a:lnTo>
                    <a:lnTo>
                      <a:pt x="1144" y="338"/>
                    </a:lnTo>
                    <a:lnTo>
                      <a:pt x="1149" y="347"/>
                    </a:lnTo>
                    <a:lnTo>
                      <a:pt x="1153" y="356"/>
                    </a:lnTo>
                    <a:lnTo>
                      <a:pt x="1156" y="365"/>
                    </a:lnTo>
                    <a:lnTo>
                      <a:pt x="1160" y="374"/>
                    </a:lnTo>
                    <a:lnTo>
                      <a:pt x="1164" y="384"/>
                    </a:lnTo>
                    <a:lnTo>
                      <a:pt x="1168" y="393"/>
                    </a:lnTo>
                    <a:lnTo>
                      <a:pt x="1171" y="403"/>
                    </a:lnTo>
                    <a:lnTo>
                      <a:pt x="1174" y="412"/>
                    </a:lnTo>
                    <a:lnTo>
                      <a:pt x="1177" y="421"/>
                    </a:lnTo>
                    <a:lnTo>
                      <a:pt x="1180" y="431"/>
                    </a:lnTo>
                    <a:lnTo>
                      <a:pt x="1182" y="439"/>
                    </a:lnTo>
                    <a:lnTo>
                      <a:pt x="1184" y="448"/>
                    </a:lnTo>
                    <a:lnTo>
                      <a:pt x="1187" y="456"/>
                    </a:lnTo>
                    <a:lnTo>
                      <a:pt x="1189" y="465"/>
                    </a:lnTo>
                    <a:lnTo>
                      <a:pt x="1190" y="473"/>
                    </a:lnTo>
                    <a:lnTo>
                      <a:pt x="1191" y="482"/>
                    </a:lnTo>
                    <a:lnTo>
                      <a:pt x="1192" y="490"/>
                    </a:lnTo>
                    <a:lnTo>
                      <a:pt x="1193" y="498"/>
                    </a:lnTo>
                    <a:lnTo>
                      <a:pt x="1194" y="512"/>
                    </a:lnTo>
                    <a:lnTo>
                      <a:pt x="1195" y="527"/>
                    </a:lnTo>
                    <a:lnTo>
                      <a:pt x="1195" y="541"/>
                    </a:lnTo>
                    <a:lnTo>
                      <a:pt x="1195" y="555"/>
                    </a:lnTo>
                    <a:lnTo>
                      <a:pt x="1193" y="568"/>
                    </a:lnTo>
                    <a:lnTo>
                      <a:pt x="1191" y="583"/>
                    </a:lnTo>
                    <a:lnTo>
                      <a:pt x="1185" y="593"/>
                    </a:lnTo>
                    <a:lnTo>
                      <a:pt x="1180" y="603"/>
                    </a:lnTo>
                    <a:lnTo>
                      <a:pt x="1171" y="613"/>
                    </a:lnTo>
                    <a:lnTo>
                      <a:pt x="1161" y="622"/>
                    </a:lnTo>
                    <a:lnTo>
                      <a:pt x="1147" y="630"/>
                    </a:lnTo>
                    <a:lnTo>
                      <a:pt x="1133" y="637"/>
                    </a:lnTo>
                    <a:lnTo>
                      <a:pt x="1124" y="639"/>
                    </a:lnTo>
                    <a:lnTo>
                      <a:pt x="1115" y="641"/>
                    </a:lnTo>
                    <a:lnTo>
                      <a:pt x="1105" y="642"/>
                    </a:lnTo>
                    <a:lnTo>
                      <a:pt x="1096" y="644"/>
                    </a:lnTo>
                    <a:lnTo>
                      <a:pt x="1084" y="645"/>
                    </a:lnTo>
                    <a:lnTo>
                      <a:pt x="1072" y="646"/>
                    </a:lnTo>
                    <a:lnTo>
                      <a:pt x="1059" y="646"/>
                    </a:lnTo>
                    <a:lnTo>
                      <a:pt x="1048" y="647"/>
                    </a:lnTo>
                    <a:lnTo>
                      <a:pt x="1033" y="645"/>
                    </a:lnTo>
                    <a:lnTo>
                      <a:pt x="1018" y="644"/>
                    </a:lnTo>
                    <a:lnTo>
                      <a:pt x="1001" y="642"/>
                    </a:lnTo>
                    <a:lnTo>
                      <a:pt x="986" y="641"/>
                    </a:lnTo>
                    <a:lnTo>
                      <a:pt x="966" y="637"/>
                    </a:lnTo>
                    <a:lnTo>
                      <a:pt x="947" y="633"/>
                    </a:lnTo>
                    <a:lnTo>
                      <a:pt x="928" y="628"/>
                    </a:lnTo>
                    <a:lnTo>
                      <a:pt x="908" y="624"/>
                    </a:lnTo>
                    <a:lnTo>
                      <a:pt x="898" y="621"/>
                    </a:lnTo>
                    <a:lnTo>
                      <a:pt x="888" y="618"/>
                    </a:lnTo>
                    <a:lnTo>
                      <a:pt x="879" y="615"/>
                    </a:lnTo>
                    <a:lnTo>
                      <a:pt x="868" y="612"/>
                    </a:lnTo>
                    <a:lnTo>
                      <a:pt x="859" y="610"/>
                    </a:lnTo>
                    <a:lnTo>
                      <a:pt x="850" y="607"/>
                    </a:lnTo>
                    <a:lnTo>
                      <a:pt x="842" y="605"/>
                    </a:lnTo>
                    <a:lnTo>
                      <a:pt x="833" y="602"/>
                    </a:lnTo>
                    <a:lnTo>
                      <a:pt x="825" y="599"/>
                    </a:lnTo>
                    <a:lnTo>
                      <a:pt x="817" y="596"/>
                    </a:lnTo>
                    <a:lnTo>
                      <a:pt x="809" y="592"/>
                    </a:lnTo>
                    <a:lnTo>
                      <a:pt x="801" y="589"/>
                    </a:lnTo>
                    <a:lnTo>
                      <a:pt x="787" y="582"/>
                    </a:lnTo>
                    <a:lnTo>
                      <a:pt x="771" y="573"/>
                    </a:lnTo>
                    <a:lnTo>
                      <a:pt x="758" y="566"/>
                    </a:lnTo>
                    <a:lnTo>
                      <a:pt x="746" y="559"/>
                    </a:lnTo>
                    <a:lnTo>
                      <a:pt x="734" y="551"/>
                    </a:lnTo>
                    <a:lnTo>
                      <a:pt x="721" y="544"/>
                    </a:lnTo>
                    <a:lnTo>
                      <a:pt x="710" y="536"/>
                    </a:lnTo>
                    <a:lnTo>
                      <a:pt x="699" y="527"/>
                    </a:lnTo>
                    <a:lnTo>
                      <a:pt x="689" y="518"/>
                    </a:lnTo>
                    <a:lnTo>
                      <a:pt x="680" y="509"/>
                    </a:lnTo>
                    <a:lnTo>
                      <a:pt x="670" y="501"/>
                    </a:lnTo>
                    <a:lnTo>
                      <a:pt x="662" y="493"/>
                    </a:lnTo>
                    <a:lnTo>
                      <a:pt x="653" y="484"/>
                    </a:lnTo>
                    <a:lnTo>
                      <a:pt x="644" y="474"/>
                    </a:lnTo>
                    <a:lnTo>
                      <a:pt x="635" y="465"/>
                    </a:lnTo>
                    <a:lnTo>
                      <a:pt x="626" y="456"/>
                    </a:lnTo>
                    <a:lnTo>
                      <a:pt x="618" y="448"/>
                    </a:lnTo>
                    <a:lnTo>
                      <a:pt x="610" y="439"/>
                    </a:lnTo>
                    <a:lnTo>
                      <a:pt x="601" y="431"/>
                    </a:lnTo>
                    <a:lnTo>
                      <a:pt x="592" y="422"/>
                    </a:lnTo>
                    <a:lnTo>
                      <a:pt x="583" y="414"/>
                    </a:lnTo>
                    <a:lnTo>
                      <a:pt x="573" y="406"/>
                    </a:lnTo>
                    <a:lnTo>
                      <a:pt x="564" y="398"/>
                    </a:lnTo>
                    <a:lnTo>
                      <a:pt x="556" y="390"/>
                    </a:lnTo>
                    <a:lnTo>
                      <a:pt x="546" y="382"/>
                    </a:lnTo>
                    <a:lnTo>
                      <a:pt x="536" y="373"/>
                    </a:lnTo>
                    <a:lnTo>
                      <a:pt x="527" y="368"/>
                    </a:lnTo>
                    <a:lnTo>
                      <a:pt x="519" y="364"/>
                    </a:lnTo>
                    <a:lnTo>
                      <a:pt x="510" y="359"/>
                    </a:lnTo>
                    <a:lnTo>
                      <a:pt x="502" y="355"/>
                    </a:lnTo>
                    <a:lnTo>
                      <a:pt x="494" y="353"/>
                    </a:lnTo>
                    <a:lnTo>
                      <a:pt x="487" y="350"/>
                    </a:lnTo>
                    <a:lnTo>
                      <a:pt x="478" y="348"/>
                    </a:lnTo>
                    <a:lnTo>
                      <a:pt x="470" y="346"/>
                    </a:lnTo>
                    <a:lnTo>
                      <a:pt x="462" y="346"/>
                    </a:lnTo>
                    <a:lnTo>
                      <a:pt x="454" y="346"/>
                    </a:lnTo>
                    <a:lnTo>
                      <a:pt x="446" y="346"/>
                    </a:lnTo>
                    <a:lnTo>
                      <a:pt x="439" y="346"/>
                    </a:lnTo>
                    <a:lnTo>
                      <a:pt x="425" y="351"/>
                    </a:lnTo>
                    <a:lnTo>
                      <a:pt x="412" y="356"/>
                    </a:lnTo>
                    <a:lnTo>
                      <a:pt x="402" y="364"/>
                    </a:lnTo>
                    <a:lnTo>
                      <a:pt x="393" y="373"/>
                    </a:lnTo>
                    <a:lnTo>
                      <a:pt x="388" y="388"/>
                    </a:lnTo>
                    <a:lnTo>
                      <a:pt x="382" y="401"/>
                    </a:lnTo>
                    <a:lnTo>
                      <a:pt x="382" y="410"/>
                    </a:lnTo>
                    <a:lnTo>
                      <a:pt x="382" y="418"/>
                    </a:lnTo>
                    <a:lnTo>
                      <a:pt x="382" y="426"/>
                    </a:lnTo>
                    <a:lnTo>
                      <a:pt x="382" y="436"/>
                    </a:lnTo>
                    <a:lnTo>
                      <a:pt x="387" y="446"/>
                    </a:lnTo>
                    <a:lnTo>
                      <a:pt x="391" y="457"/>
                    </a:lnTo>
                    <a:lnTo>
                      <a:pt x="395" y="468"/>
                    </a:lnTo>
                    <a:lnTo>
                      <a:pt x="399" y="480"/>
                    </a:lnTo>
                    <a:lnTo>
                      <a:pt x="406" y="493"/>
                    </a:lnTo>
                    <a:lnTo>
                      <a:pt x="414" y="507"/>
                    </a:lnTo>
                    <a:lnTo>
                      <a:pt x="421" y="514"/>
                    </a:lnTo>
                    <a:lnTo>
                      <a:pt x="427" y="522"/>
                    </a:lnTo>
                    <a:lnTo>
                      <a:pt x="434" y="530"/>
                    </a:lnTo>
                    <a:lnTo>
                      <a:pt x="441" y="538"/>
                    </a:lnTo>
                    <a:lnTo>
                      <a:pt x="449" y="546"/>
                    </a:lnTo>
                    <a:lnTo>
                      <a:pt x="456" y="554"/>
                    </a:lnTo>
                    <a:lnTo>
                      <a:pt x="464" y="561"/>
                    </a:lnTo>
                    <a:lnTo>
                      <a:pt x="472" y="569"/>
                    </a:lnTo>
                    <a:lnTo>
                      <a:pt x="482" y="578"/>
                    </a:lnTo>
                    <a:lnTo>
                      <a:pt x="491" y="587"/>
                    </a:lnTo>
                    <a:lnTo>
                      <a:pt x="501" y="596"/>
                    </a:lnTo>
                    <a:lnTo>
                      <a:pt x="510" y="604"/>
                    </a:lnTo>
                    <a:lnTo>
                      <a:pt x="521" y="613"/>
                    </a:lnTo>
                    <a:lnTo>
                      <a:pt x="534" y="622"/>
                    </a:lnTo>
                    <a:lnTo>
                      <a:pt x="545" y="633"/>
                    </a:lnTo>
                    <a:lnTo>
                      <a:pt x="556" y="642"/>
                    </a:lnTo>
                    <a:lnTo>
                      <a:pt x="568" y="651"/>
                    </a:lnTo>
                    <a:lnTo>
                      <a:pt x="582" y="660"/>
                    </a:lnTo>
                    <a:lnTo>
                      <a:pt x="595" y="669"/>
                    </a:lnTo>
                    <a:lnTo>
                      <a:pt x="608" y="678"/>
                    </a:lnTo>
                    <a:lnTo>
                      <a:pt x="621" y="688"/>
                    </a:lnTo>
                    <a:lnTo>
                      <a:pt x="636" y="698"/>
                    </a:lnTo>
                    <a:lnTo>
                      <a:pt x="650" y="707"/>
                    </a:lnTo>
                    <a:lnTo>
                      <a:pt x="663" y="717"/>
                    </a:lnTo>
                    <a:lnTo>
                      <a:pt x="679" y="727"/>
                    </a:lnTo>
                    <a:lnTo>
                      <a:pt x="695" y="736"/>
                    </a:lnTo>
                    <a:lnTo>
                      <a:pt x="710" y="745"/>
                    </a:lnTo>
                    <a:lnTo>
                      <a:pt x="726" y="754"/>
                    </a:lnTo>
                    <a:lnTo>
                      <a:pt x="743" y="764"/>
                    </a:lnTo>
                    <a:lnTo>
                      <a:pt x="759" y="775"/>
                    </a:lnTo>
                    <a:lnTo>
                      <a:pt x="776" y="784"/>
                    </a:lnTo>
                    <a:lnTo>
                      <a:pt x="793" y="794"/>
                    </a:lnTo>
                    <a:lnTo>
                      <a:pt x="810" y="803"/>
                    </a:lnTo>
                    <a:lnTo>
                      <a:pt x="828" y="813"/>
                    </a:lnTo>
                    <a:lnTo>
                      <a:pt x="845" y="823"/>
                    </a:lnTo>
                    <a:lnTo>
                      <a:pt x="862" y="833"/>
                    </a:lnTo>
                    <a:lnTo>
                      <a:pt x="881" y="842"/>
                    </a:lnTo>
                    <a:lnTo>
                      <a:pt x="900" y="850"/>
                    </a:lnTo>
                    <a:lnTo>
                      <a:pt x="918" y="859"/>
                    </a:lnTo>
                    <a:lnTo>
                      <a:pt x="937" y="869"/>
                    </a:lnTo>
                    <a:lnTo>
                      <a:pt x="956" y="878"/>
                    </a:lnTo>
                    <a:lnTo>
                      <a:pt x="976" y="887"/>
                    </a:lnTo>
                    <a:lnTo>
                      <a:pt x="995" y="896"/>
                    </a:lnTo>
                    <a:lnTo>
                      <a:pt x="1014" y="905"/>
                    </a:lnTo>
                    <a:lnTo>
                      <a:pt x="1034" y="913"/>
                    </a:lnTo>
                    <a:lnTo>
                      <a:pt x="1054" y="923"/>
                    </a:lnTo>
                    <a:lnTo>
                      <a:pt x="1074" y="931"/>
                    </a:lnTo>
                    <a:lnTo>
                      <a:pt x="1093" y="939"/>
                    </a:lnTo>
                    <a:lnTo>
                      <a:pt x="1113" y="947"/>
                    </a:lnTo>
                    <a:lnTo>
                      <a:pt x="1134" y="955"/>
                    </a:lnTo>
                    <a:lnTo>
                      <a:pt x="1154" y="963"/>
                    </a:lnTo>
                    <a:lnTo>
                      <a:pt x="1176" y="971"/>
                    </a:lnTo>
                    <a:lnTo>
                      <a:pt x="1196" y="979"/>
                    </a:lnTo>
                    <a:lnTo>
                      <a:pt x="1217" y="986"/>
                    </a:lnTo>
                    <a:lnTo>
                      <a:pt x="1238" y="994"/>
                    </a:lnTo>
                    <a:lnTo>
                      <a:pt x="1259" y="1001"/>
                    </a:lnTo>
                    <a:lnTo>
                      <a:pt x="1280" y="1007"/>
                    </a:lnTo>
                    <a:lnTo>
                      <a:pt x="1301" y="1015"/>
                    </a:lnTo>
                    <a:lnTo>
                      <a:pt x="1323" y="1021"/>
                    </a:lnTo>
                    <a:lnTo>
                      <a:pt x="1344" y="1027"/>
                    </a:lnTo>
                    <a:lnTo>
                      <a:pt x="1344" y="1084"/>
                    </a:lnTo>
                    <a:lnTo>
                      <a:pt x="1344" y="1140"/>
                    </a:lnTo>
                    <a:lnTo>
                      <a:pt x="1344" y="1197"/>
                    </a:lnTo>
                    <a:lnTo>
                      <a:pt x="1344" y="1253"/>
                    </a:lnTo>
                    <a:lnTo>
                      <a:pt x="1344" y="1311"/>
                    </a:lnTo>
                    <a:lnTo>
                      <a:pt x="1344" y="1367"/>
                    </a:lnTo>
                    <a:lnTo>
                      <a:pt x="1344" y="1424"/>
                    </a:lnTo>
                    <a:lnTo>
                      <a:pt x="1344" y="148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16120" y="189036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165" h="111">
                    <a:moveTo>
                      <a:pt x="2" y="61"/>
                    </a:moveTo>
                    <a:lnTo>
                      <a:pt x="1" y="61"/>
                    </a:lnTo>
                    <a:lnTo>
                      <a:pt x="0" y="61"/>
                    </a:lnTo>
                    <a:lnTo>
                      <a:pt x="12" y="65"/>
                    </a:lnTo>
                    <a:lnTo>
                      <a:pt x="24" y="68"/>
                    </a:lnTo>
                    <a:lnTo>
                      <a:pt x="34" y="70"/>
                    </a:lnTo>
                    <a:lnTo>
                      <a:pt x="44" y="73"/>
                    </a:lnTo>
                    <a:lnTo>
                      <a:pt x="54" y="76"/>
                    </a:lnTo>
                    <a:lnTo>
                      <a:pt x="64" y="79"/>
                    </a:lnTo>
                    <a:lnTo>
                      <a:pt x="73" y="83"/>
                    </a:lnTo>
                    <a:lnTo>
                      <a:pt x="84" y="86"/>
                    </a:lnTo>
                    <a:lnTo>
                      <a:pt x="95" y="90"/>
                    </a:lnTo>
                    <a:lnTo>
                      <a:pt x="106" y="93"/>
                    </a:lnTo>
                    <a:lnTo>
                      <a:pt x="115" y="95"/>
                    </a:lnTo>
                    <a:lnTo>
                      <a:pt x="125" y="97"/>
                    </a:lnTo>
                    <a:lnTo>
                      <a:pt x="135" y="100"/>
                    </a:lnTo>
                    <a:lnTo>
                      <a:pt x="144" y="105"/>
                    </a:lnTo>
                    <a:lnTo>
                      <a:pt x="153" y="108"/>
                    </a:lnTo>
                    <a:lnTo>
                      <a:pt x="161" y="111"/>
                    </a:lnTo>
                    <a:lnTo>
                      <a:pt x="162" y="95"/>
                    </a:lnTo>
                    <a:lnTo>
                      <a:pt x="163" y="81"/>
                    </a:lnTo>
                    <a:lnTo>
                      <a:pt x="164" y="66"/>
                    </a:lnTo>
                    <a:lnTo>
                      <a:pt x="165" y="51"/>
                    </a:lnTo>
                    <a:lnTo>
                      <a:pt x="157" y="47"/>
                    </a:lnTo>
                    <a:lnTo>
                      <a:pt x="148" y="44"/>
                    </a:lnTo>
                    <a:lnTo>
                      <a:pt x="137" y="41"/>
                    </a:lnTo>
                    <a:lnTo>
                      <a:pt x="125" y="37"/>
                    </a:lnTo>
                    <a:lnTo>
                      <a:pt x="115" y="35"/>
                    </a:lnTo>
                    <a:lnTo>
                      <a:pt x="106" y="32"/>
                    </a:lnTo>
                    <a:lnTo>
                      <a:pt x="97" y="30"/>
                    </a:lnTo>
                    <a:lnTo>
                      <a:pt x="88" y="27"/>
                    </a:lnTo>
                    <a:lnTo>
                      <a:pt x="77" y="23"/>
                    </a:lnTo>
                    <a:lnTo>
                      <a:pt x="68" y="20"/>
                    </a:lnTo>
                    <a:lnTo>
                      <a:pt x="56" y="16"/>
                    </a:lnTo>
                    <a:lnTo>
                      <a:pt x="44" y="12"/>
                    </a:lnTo>
                    <a:lnTo>
                      <a:pt x="34" y="10"/>
                    </a:lnTo>
                    <a:lnTo>
                      <a:pt x="24" y="8"/>
                    </a:lnTo>
                    <a:lnTo>
                      <a:pt x="14" y="5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6"/>
                    </a:lnTo>
                    <a:lnTo>
                      <a:pt x="2" y="31"/>
                    </a:lnTo>
                    <a:lnTo>
                      <a:pt x="2" y="46"/>
                    </a:lnTo>
                    <a:lnTo>
                      <a:pt x="2" y="61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80480" y="1836360"/>
                <a:ext cx="122760" cy="114480"/>
              </a:xfrm>
              <a:custGeom>
                <a:avLst/>
                <a:gdLst/>
                <a:ahLst/>
                <a:rect l="l" t="t" r="r" b="b"/>
                <a:pathLst>
                  <a:path w="2434" h="2183">
                    <a:moveTo>
                      <a:pt x="1639" y="14"/>
                    </a:moveTo>
                    <a:lnTo>
                      <a:pt x="1649" y="16"/>
                    </a:lnTo>
                    <a:lnTo>
                      <a:pt x="1659" y="18"/>
                    </a:lnTo>
                    <a:lnTo>
                      <a:pt x="1669" y="20"/>
                    </a:lnTo>
                    <a:lnTo>
                      <a:pt x="1679" y="23"/>
                    </a:lnTo>
                    <a:lnTo>
                      <a:pt x="1691" y="26"/>
                    </a:lnTo>
                    <a:lnTo>
                      <a:pt x="1703" y="28"/>
                    </a:lnTo>
                    <a:lnTo>
                      <a:pt x="1715" y="31"/>
                    </a:lnTo>
                    <a:lnTo>
                      <a:pt x="1727" y="34"/>
                    </a:lnTo>
                    <a:lnTo>
                      <a:pt x="1740" y="37"/>
                    </a:lnTo>
                    <a:lnTo>
                      <a:pt x="1754" y="41"/>
                    </a:lnTo>
                    <a:lnTo>
                      <a:pt x="1767" y="45"/>
                    </a:lnTo>
                    <a:lnTo>
                      <a:pt x="1780" y="48"/>
                    </a:lnTo>
                    <a:lnTo>
                      <a:pt x="1795" y="53"/>
                    </a:lnTo>
                    <a:lnTo>
                      <a:pt x="1811" y="59"/>
                    </a:lnTo>
                    <a:lnTo>
                      <a:pt x="1827" y="63"/>
                    </a:lnTo>
                    <a:lnTo>
                      <a:pt x="1842" y="67"/>
                    </a:lnTo>
                    <a:lnTo>
                      <a:pt x="1858" y="73"/>
                    </a:lnTo>
                    <a:lnTo>
                      <a:pt x="1873" y="78"/>
                    </a:lnTo>
                    <a:lnTo>
                      <a:pt x="1889" y="83"/>
                    </a:lnTo>
                    <a:lnTo>
                      <a:pt x="1906" y="88"/>
                    </a:lnTo>
                    <a:lnTo>
                      <a:pt x="1921" y="94"/>
                    </a:lnTo>
                    <a:lnTo>
                      <a:pt x="1937" y="100"/>
                    </a:lnTo>
                    <a:lnTo>
                      <a:pt x="1954" y="108"/>
                    </a:lnTo>
                    <a:lnTo>
                      <a:pt x="1971" y="114"/>
                    </a:lnTo>
                    <a:lnTo>
                      <a:pt x="1987" y="121"/>
                    </a:lnTo>
                    <a:lnTo>
                      <a:pt x="2005" y="129"/>
                    </a:lnTo>
                    <a:lnTo>
                      <a:pt x="2022" y="136"/>
                    </a:lnTo>
                    <a:lnTo>
                      <a:pt x="2038" y="143"/>
                    </a:lnTo>
                    <a:lnTo>
                      <a:pt x="2056" y="152"/>
                    </a:lnTo>
                    <a:lnTo>
                      <a:pt x="2072" y="162"/>
                    </a:lnTo>
                    <a:lnTo>
                      <a:pt x="2090" y="171"/>
                    </a:lnTo>
                    <a:lnTo>
                      <a:pt x="2106" y="179"/>
                    </a:lnTo>
                    <a:lnTo>
                      <a:pt x="2122" y="190"/>
                    </a:lnTo>
                    <a:lnTo>
                      <a:pt x="2137" y="200"/>
                    </a:lnTo>
                    <a:lnTo>
                      <a:pt x="2154" y="211"/>
                    </a:lnTo>
                    <a:lnTo>
                      <a:pt x="2170" y="221"/>
                    </a:lnTo>
                    <a:lnTo>
                      <a:pt x="2185" y="233"/>
                    </a:lnTo>
                    <a:lnTo>
                      <a:pt x="2201" y="244"/>
                    </a:lnTo>
                    <a:lnTo>
                      <a:pt x="2216" y="257"/>
                    </a:lnTo>
                    <a:lnTo>
                      <a:pt x="2232" y="268"/>
                    </a:lnTo>
                    <a:lnTo>
                      <a:pt x="2246" y="281"/>
                    </a:lnTo>
                    <a:lnTo>
                      <a:pt x="2259" y="294"/>
                    </a:lnTo>
                    <a:lnTo>
                      <a:pt x="2273" y="308"/>
                    </a:lnTo>
                    <a:lnTo>
                      <a:pt x="2287" y="321"/>
                    </a:lnTo>
                    <a:lnTo>
                      <a:pt x="2300" y="335"/>
                    </a:lnTo>
                    <a:lnTo>
                      <a:pt x="2312" y="350"/>
                    </a:lnTo>
                    <a:lnTo>
                      <a:pt x="2324" y="364"/>
                    </a:lnTo>
                    <a:lnTo>
                      <a:pt x="2337" y="378"/>
                    </a:lnTo>
                    <a:lnTo>
                      <a:pt x="2347" y="395"/>
                    </a:lnTo>
                    <a:lnTo>
                      <a:pt x="2356" y="413"/>
                    </a:lnTo>
                    <a:lnTo>
                      <a:pt x="2366" y="430"/>
                    </a:lnTo>
                    <a:lnTo>
                      <a:pt x="2376" y="447"/>
                    </a:lnTo>
                    <a:lnTo>
                      <a:pt x="2385" y="466"/>
                    </a:lnTo>
                    <a:lnTo>
                      <a:pt x="2393" y="484"/>
                    </a:lnTo>
                    <a:lnTo>
                      <a:pt x="2400" y="503"/>
                    </a:lnTo>
                    <a:lnTo>
                      <a:pt x="2408" y="521"/>
                    </a:lnTo>
                    <a:lnTo>
                      <a:pt x="2413" y="540"/>
                    </a:lnTo>
                    <a:lnTo>
                      <a:pt x="2418" y="561"/>
                    </a:lnTo>
                    <a:lnTo>
                      <a:pt x="2423" y="581"/>
                    </a:lnTo>
                    <a:lnTo>
                      <a:pt x="2428" y="602"/>
                    </a:lnTo>
                    <a:lnTo>
                      <a:pt x="2429" y="624"/>
                    </a:lnTo>
                    <a:lnTo>
                      <a:pt x="2431" y="647"/>
                    </a:lnTo>
                    <a:lnTo>
                      <a:pt x="2433" y="669"/>
                    </a:lnTo>
                    <a:lnTo>
                      <a:pt x="2434" y="692"/>
                    </a:lnTo>
                    <a:lnTo>
                      <a:pt x="2432" y="709"/>
                    </a:lnTo>
                    <a:lnTo>
                      <a:pt x="2429" y="726"/>
                    </a:lnTo>
                    <a:lnTo>
                      <a:pt x="2428" y="745"/>
                    </a:lnTo>
                    <a:lnTo>
                      <a:pt x="2426" y="762"/>
                    </a:lnTo>
                    <a:lnTo>
                      <a:pt x="2421" y="778"/>
                    </a:lnTo>
                    <a:lnTo>
                      <a:pt x="2416" y="796"/>
                    </a:lnTo>
                    <a:lnTo>
                      <a:pt x="2411" y="813"/>
                    </a:lnTo>
                    <a:lnTo>
                      <a:pt x="2406" y="830"/>
                    </a:lnTo>
                    <a:lnTo>
                      <a:pt x="2398" y="846"/>
                    </a:lnTo>
                    <a:lnTo>
                      <a:pt x="2390" y="860"/>
                    </a:lnTo>
                    <a:lnTo>
                      <a:pt x="2383" y="875"/>
                    </a:lnTo>
                    <a:lnTo>
                      <a:pt x="2374" y="891"/>
                    </a:lnTo>
                    <a:lnTo>
                      <a:pt x="2363" y="905"/>
                    </a:lnTo>
                    <a:lnTo>
                      <a:pt x="2352" y="919"/>
                    </a:lnTo>
                    <a:lnTo>
                      <a:pt x="2342" y="935"/>
                    </a:lnTo>
                    <a:lnTo>
                      <a:pt x="2330" y="949"/>
                    </a:lnTo>
                    <a:lnTo>
                      <a:pt x="2316" y="962"/>
                    </a:lnTo>
                    <a:lnTo>
                      <a:pt x="2303" y="975"/>
                    </a:lnTo>
                    <a:lnTo>
                      <a:pt x="2289" y="989"/>
                    </a:lnTo>
                    <a:lnTo>
                      <a:pt x="2275" y="1002"/>
                    </a:lnTo>
                    <a:lnTo>
                      <a:pt x="2259" y="1013"/>
                    </a:lnTo>
                    <a:lnTo>
                      <a:pt x="2244" y="1025"/>
                    </a:lnTo>
                    <a:lnTo>
                      <a:pt x="2228" y="1038"/>
                    </a:lnTo>
                    <a:lnTo>
                      <a:pt x="2212" y="1049"/>
                    </a:lnTo>
                    <a:lnTo>
                      <a:pt x="2194" y="1060"/>
                    </a:lnTo>
                    <a:lnTo>
                      <a:pt x="2175" y="1070"/>
                    </a:lnTo>
                    <a:lnTo>
                      <a:pt x="2157" y="1082"/>
                    </a:lnTo>
                    <a:lnTo>
                      <a:pt x="2139" y="1092"/>
                    </a:lnTo>
                    <a:lnTo>
                      <a:pt x="2118" y="1102"/>
                    </a:lnTo>
                    <a:lnTo>
                      <a:pt x="2099" y="1111"/>
                    </a:lnTo>
                    <a:lnTo>
                      <a:pt x="2078" y="1120"/>
                    </a:lnTo>
                    <a:lnTo>
                      <a:pt x="2059" y="1130"/>
                    </a:lnTo>
                    <a:lnTo>
                      <a:pt x="2036" y="1138"/>
                    </a:lnTo>
                    <a:lnTo>
                      <a:pt x="2015" y="1146"/>
                    </a:lnTo>
                    <a:lnTo>
                      <a:pt x="1993" y="1153"/>
                    </a:lnTo>
                    <a:lnTo>
                      <a:pt x="1971" y="1161"/>
                    </a:lnTo>
                    <a:lnTo>
                      <a:pt x="1948" y="1167"/>
                    </a:lnTo>
                    <a:lnTo>
                      <a:pt x="1924" y="1174"/>
                    </a:lnTo>
                    <a:lnTo>
                      <a:pt x="1901" y="1181"/>
                    </a:lnTo>
                    <a:lnTo>
                      <a:pt x="1878" y="1187"/>
                    </a:lnTo>
                    <a:lnTo>
                      <a:pt x="1854" y="1192"/>
                    </a:lnTo>
                    <a:lnTo>
                      <a:pt x="1829" y="1197"/>
                    </a:lnTo>
                    <a:lnTo>
                      <a:pt x="1805" y="1202"/>
                    </a:lnTo>
                    <a:lnTo>
                      <a:pt x="1780" y="1207"/>
                    </a:lnTo>
                    <a:lnTo>
                      <a:pt x="1755" y="1210"/>
                    </a:lnTo>
                    <a:lnTo>
                      <a:pt x="1730" y="1212"/>
                    </a:lnTo>
                    <a:lnTo>
                      <a:pt x="1705" y="1215"/>
                    </a:lnTo>
                    <a:lnTo>
                      <a:pt x="1679" y="1218"/>
                    </a:lnTo>
                    <a:lnTo>
                      <a:pt x="1654" y="1220"/>
                    </a:lnTo>
                    <a:lnTo>
                      <a:pt x="1627" y="1222"/>
                    </a:lnTo>
                    <a:lnTo>
                      <a:pt x="1601" y="1224"/>
                    </a:lnTo>
                    <a:lnTo>
                      <a:pt x="1576" y="1227"/>
                    </a:lnTo>
                    <a:lnTo>
                      <a:pt x="1549" y="1227"/>
                    </a:lnTo>
                    <a:lnTo>
                      <a:pt x="1523" y="1227"/>
                    </a:lnTo>
                    <a:lnTo>
                      <a:pt x="1496" y="1227"/>
                    </a:lnTo>
                    <a:lnTo>
                      <a:pt x="1471" y="1227"/>
                    </a:lnTo>
                    <a:lnTo>
                      <a:pt x="1443" y="1224"/>
                    </a:lnTo>
                    <a:lnTo>
                      <a:pt x="1417" y="1222"/>
                    </a:lnTo>
                    <a:lnTo>
                      <a:pt x="1390" y="1220"/>
                    </a:lnTo>
                    <a:lnTo>
                      <a:pt x="1363" y="1218"/>
                    </a:lnTo>
                    <a:lnTo>
                      <a:pt x="1336" y="1215"/>
                    </a:lnTo>
                    <a:lnTo>
                      <a:pt x="1310" y="1211"/>
                    </a:lnTo>
                    <a:lnTo>
                      <a:pt x="1283" y="1207"/>
                    </a:lnTo>
                    <a:lnTo>
                      <a:pt x="1255" y="1203"/>
                    </a:lnTo>
                    <a:lnTo>
                      <a:pt x="1231" y="1199"/>
                    </a:lnTo>
                    <a:lnTo>
                      <a:pt x="1205" y="1196"/>
                    </a:lnTo>
                    <a:lnTo>
                      <a:pt x="1180" y="1192"/>
                    </a:lnTo>
                    <a:lnTo>
                      <a:pt x="1154" y="1188"/>
                    </a:lnTo>
                    <a:lnTo>
                      <a:pt x="1131" y="1184"/>
                    </a:lnTo>
                    <a:lnTo>
                      <a:pt x="1107" y="1181"/>
                    </a:lnTo>
                    <a:lnTo>
                      <a:pt x="1084" y="1177"/>
                    </a:lnTo>
                    <a:lnTo>
                      <a:pt x="1060" y="1173"/>
                    </a:lnTo>
                    <a:lnTo>
                      <a:pt x="1039" y="1171"/>
                    </a:lnTo>
                    <a:lnTo>
                      <a:pt x="1019" y="1168"/>
                    </a:lnTo>
                    <a:lnTo>
                      <a:pt x="998" y="1165"/>
                    </a:lnTo>
                    <a:lnTo>
                      <a:pt x="977" y="1163"/>
                    </a:lnTo>
                    <a:lnTo>
                      <a:pt x="958" y="1161"/>
                    </a:lnTo>
                    <a:lnTo>
                      <a:pt x="940" y="1159"/>
                    </a:lnTo>
                    <a:lnTo>
                      <a:pt x="922" y="1158"/>
                    </a:lnTo>
                    <a:lnTo>
                      <a:pt x="903" y="1156"/>
                    </a:lnTo>
                    <a:lnTo>
                      <a:pt x="887" y="1154"/>
                    </a:lnTo>
                    <a:lnTo>
                      <a:pt x="870" y="1153"/>
                    </a:lnTo>
                    <a:lnTo>
                      <a:pt x="854" y="1152"/>
                    </a:lnTo>
                    <a:lnTo>
                      <a:pt x="838" y="1150"/>
                    </a:lnTo>
                    <a:lnTo>
                      <a:pt x="824" y="1150"/>
                    </a:lnTo>
                    <a:lnTo>
                      <a:pt x="809" y="1151"/>
                    </a:lnTo>
                    <a:lnTo>
                      <a:pt x="794" y="1151"/>
                    </a:lnTo>
                    <a:lnTo>
                      <a:pt x="780" y="1151"/>
                    </a:lnTo>
                    <a:lnTo>
                      <a:pt x="767" y="1151"/>
                    </a:lnTo>
                    <a:lnTo>
                      <a:pt x="755" y="1152"/>
                    </a:lnTo>
                    <a:lnTo>
                      <a:pt x="742" y="1152"/>
                    </a:lnTo>
                    <a:lnTo>
                      <a:pt x="730" y="1153"/>
                    </a:lnTo>
                    <a:lnTo>
                      <a:pt x="719" y="1154"/>
                    </a:lnTo>
                    <a:lnTo>
                      <a:pt x="708" y="1155"/>
                    </a:lnTo>
                    <a:lnTo>
                      <a:pt x="697" y="1156"/>
                    </a:lnTo>
                    <a:lnTo>
                      <a:pt x="686" y="1157"/>
                    </a:lnTo>
                    <a:lnTo>
                      <a:pt x="677" y="1159"/>
                    </a:lnTo>
                    <a:lnTo>
                      <a:pt x="668" y="1161"/>
                    </a:lnTo>
                    <a:lnTo>
                      <a:pt x="659" y="1164"/>
                    </a:lnTo>
                    <a:lnTo>
                      <a:pt x="650" y="1166"/>
                    </a:lnTo>
                    <a:lnTo>
                      <a:pt x="636" y="1171"/>
                    </a:lnTo>
                    <a:lnTo>
                      <a:pt x="620" y="1177"/>
                    </a:lnTo>
                    <a:lnTo>
                      <a:pt x="608" y="1185"/>
                    </a:lnTo>
                    <a:lnTo>
                      <a:pt x="597" y="1192"/>
                    </a:lnTo>
                    <a:lnTo>
                      <a:pt x="587" y="1200"/>
                    </a:lnTo>
                    <a:lnTo>
                      <a:pt x="576" y="1209"/>
                    </a:lnTo>
                    <a:lnTo>
                      <a:pt x="569" y="1219"/>
                    </a:lnTo>
                    <a:lnTo>
                      <a:pt x="563" y="1230"/>
                    </a:lnTo>
                    <a:lnTo>
                      <a:pt x="558" y="1242"/>
                    </a:lnTo>
                    <a:lnTo>
                      <a:pt x="553" y="1254"/>
                    </a:lnTo>
                    <a:lnTo>
                      <a:pt x="551" y="1268"/>
                    </a:lnTo>
                    <a:lnTo>
                      <a:pt x="549" y="1284"/>
                    </a:lnTo>
                    <a:lnTo>
                      <a:pt x="548" y="1298"/>
                    </a:lnTo>
                    <a:lnTo>
                      <a:pt x="547" y="1312"/>
                    </a:lnTo>
                    <a:lnTo>
                      <a:pt x="551" y="1337"/>
                    </a:lnTo>
                    <a:lnTo>
                      <a:pt x="554" y="1361"/>
                    </a:lnTo>
                    <a:lnTo>
                      <a:pt x="557" y="1385"/>
                    </a:lnTo>
                    <a:lnTo>
                      <a:pt x="561" y="1408"/>
                    </a:lnTo>
                    <a:lnTo>
                      <a:pt x="569" y="1430"/>
                    </a:lnTo>
                    <a:lnTo>
                      <a:pt x="577" y="1450"/>
                    </a:lnTo>
                    <a:lnTo>
                      <a:pt x="586" y="1471"/>
                    </a:lnTo>
                    <a:lnTo>
                      <a:pt x="595" y="1491"/>
                    </a:lnTo>
                    <a:lnTo>
                      <a:pt x="607" y="1508"/>
                    </a:lnTo>
                    <a:lnTo>
                      <a:pt x="619" y="1526"/>
                    </a:lnTo>
                    <a:lnTo>
                      <a:pt x="632" y="1543"/>
                    </a:lnTo>
                    <a:lnTo>
                      <a:pt x="645" y="1560"/>
                    </a:lnTo>
                    <a:lnTo>
                      <a:pt x="659" y="1576"/>
                    </a:lnTo>
                    <a:lnTo>
                      <a:pt x="673" y="1591"/>
                    </a:lnTo>
                    <a:lnTo>
                      <a:pt x="688" y="1606"/>
                    </a:lnTo>
                    <a:lnTo>
                      <a:pt x="702" y="1621"/>
                    </a:lnTo>
                    <a:lnTo>
                      <a:pt x="716" y="1632"/>
                    </a:lnTo>
                    <a:lnTo>
                      <a:pt x="731" y="1644"/>
                    </a:lnTo>
                    <a:lnTo>
                      <a:pt x="745" y="1655"/>
                    </a:lnTo>
                    <a:lnTo>
                      <a:pt x="760" y="1667"/>
                    </a:lnTo>
                    <a:lnTo>
                      <a:pt x="772" y="1675"/>
                    </a:lnTo>
                    <a:lnTo>
                      <a:pt x="785" y="1682"/>
                    </a:lnTo>
                    <a:lnTo>
                      <a:pt x="797" y="1690"/>
                    </a:lnTo>
                    <a:lnTo>
                      <a:pt x="809" y="1698"/>
                    </a:lnTo>
                    <a:lnTo>
                      <a:pt x="818" y="1703"/>
                    </a:lnTo>
                    <a:lnTo>
                      <a:pt x="827" y="1708"/>
                    </a:lnTo>
                    <a:lnTo>
                      <a:pt x="835" y="1713"/>
                    </a:lnTo>
                    <a:lnTo>
                      <a:pt x="844" y="1719"/>
                    </a:lnTo>
                    <a:lnTo>
                      <a:pt x="851" y="1723"/>
                    </a:lnTo>
                    <a:lnTo>
                      <a:pt x="857" y="1726"/>
                    </a:lnTo>
                    <a:lnTo>
                      <a:pt x="859" y="1783"/>
                    </a:lnTo>
                    <a:lnTo>
                      <a:pt x="861" y="1840"/>
                    </a:lnTo>
                    <a:lnTo>
                      <a:pt x="863" y="1897"/>
                    </a:lnTo>
                    <a:lnTo>
                      <a:pt x="865" y="1954"/>
                    </a:lnTo>
                    <a:lnTo>
                      <a:pt x="867" y="2012"/>
                    </a:lnTo>
                    <a:lnTo>
                      <a:pt x="869" y="2069"/>
                    </a:lnTo>
                    <a:lnTo>
                      <a:pt x="872" y="2126"/>
                    </a:lnTo>
                    <a:lnTo>
                      <a:pt x="874" y="2183"/>
                    </a:lnTo>
                    <a:lnTo>
                      <a:pt x="868" y="2182"/>
                    </a:lnTo>
                    <a:lnTo>
                      <a:pt x="863" y="2180"/>
                    </a:lnTo>
                    <a:lnTo>
                      <a:pt x="849" y="2173"/>
                    </a:lnTo>
                    <a:lnTo>
                      <a:pt x="836" y="2165"/>
                    </a:lnTo>
                    <a:lnTo>
                      <a:pt x="825" y="2160"/>
                    </a:lnTo>
                    <a:lnTo>
                      <a:pt x="814" y="2156"/>
                    </a:lnTo>
                    <a:lnTo>
                      <a:pt x="804" y="2149"/>
                    </a:lnTo>
                    <a:lnTo>
                      <a:pt x="794" y="2144"/>
                    </a:lnTo>
                    <a:lnTo>
                      <a:pt x="780" y="2137"/>
                    </a:lnTo>
                    <a:lnTo>
                      <a:pt x="765" y="2129"/>
                    </a:lnTo>
                    <a:lnTo>
                      <a:pt x="752" y="2122"/>
                    </a:lnTo>
                    <a:lnTo>
                      <a:pt x="738" y="2114"/>
                    </a:lnTo>
                    <a:lnTo>
                      <a:pt x="721" y="2105"/>
                    </a:lnTo>
                    <a:lnTo>
                      <a:pt x="705" y="2095"/>
                    </a:lnTo>
                    <a:lnTo>
                      <a:pt x="689" y="2085"/>
                    </a:lnTo>
                    <a:lnTo>
                      <a:pt x="672" y="2076"/>
                    </a:lnTo>
                    <a:lnTo>
                      <a:pt x="655" y="2066"/>
                    </a:lnTo>
                    <a:lnTo>
                      <a:pt x="637" y="2054"/>
                    </a:lnTo>
                    <a:lnTo>
                      <a:pt x="618" y="2044"/>
                    </a:lnTo>
                    <a:lnTo>
                      <a:pt x="601" y="2033"/>
                    </a:lnTo>
                    <a:lnTo>
                      <a:pt x="581" y="2020"/>
                    </a:lnTo>
                    <a:lnTo>
                      <a:pt x="560" y="2007"/>
                    </a:lnTo>
                    <a:lnTo>
                      <a:pt x="541" y="1993"/>
                    </a:lnTo>
                    <a:lnTo>
                      <a:pt x="521" y="1981"/>
                    </a:lnTo>
                    <a:lnTo>
                      <a:pt x="501" y="1967"/>
                    </a:lnTo>
                    <a:lnTo>
                      <a:pt x="480" y="1952"/>
                    </a:lnTo>
                    <a:lnTo>
                      <a:pt x="461" y="1938"/>
                    </a:lnTo>
                    <a:lnTo>
                      <a:pt x="442" y="1923"/>
                    </a:lnTo>
                    <a:lnTo>
                      <a:pt x="420" y="1907"/>
                    </a:lnTo>
                    <a:lnTo>
                      <a:pt x="400" y="1892"/>
                    </a:lnTo>
                    <a:lnTo>
                      <a:pt x="379" y="1876"/>
                    </a:lnTo>
                    <a:lnTo>
                      <a:pt x="359" y="1859"/>
                    </a:lnTo>
                    <a:lnTo>
                      <a:pt x="340" y="1843"/>
                    </a:lnTo>
                    <a:lnTo>
                      <a:pt x="320" y="1826"/>
                    </a:lnTo>
                    <a:lnTo>
                      <a:pt x="301" y="1809"/>
                    </a:lnTo>
                    <a:lnTo>
                      <a:pt x="281" y="1792"/>
                    </a:lnTo>
                    <a:lnTo>
                      <a:pt x="263" y="1774"/>
                    </a:lnTo>
                    <a:lnTo>
                      <a:pt x="244" y="1754"/>
                    </a:lnTo>
                    <a:lnTo>
                      <a:pt x="225" y="1736"/>
                    </a:lnTo>
                    <a:lnTo>
                      <a:pt x="206" y="1718"/>
                    </a:lnTo>
                    <a:lnTo>
                      <a:pt x="190" y="1697"/>
                    </a:lnTo>
                    <a:lnTo>
                      <a:pt x="173" y="1678"/>
                    </a:lnTo>
                    <a:lnTo>
                      <a:pt x="157" y="1657"/>
                    </a:lnTo>
                    <a:lnTo>
                      <a:pt x="141" y="1638"/>
                    </a:lnTo>
                    <a:lnTo>
                      <a:pt x="126" y="1618"/>
                    </a:lnTo>
                    <a:lnTo>
                      <a:pt x="112" y="1597"/>
                    </a:lnTo>
                    <a:lnTo>
                      <a:pt x="99" y="1577"/>
                    </a:lnTo>
                    <a:lnTo>
                      <a:pt x="84" y="1556"/>
                    </a:lnTo>
                    <a:lnTo>
                      <a:pt x="74" y="1534"/>
                    </a:lnTo>
                    <a:lnTo>
                      <a:pt x="63" y="1512"/>
                    </a:lnTo>
                    <a:lnTo>
                      <a:pt x="52" y="1491"/>
                    </a:lnTo>
                    <a:lnTo>
                      <a:pt x="40" y="1469"/>
                    </a:lnTo>
                    <a:lnTo>
                      <a:pt x="33" y="1446"/>
                    </a:lnTo>
                    <a:lnTo>
                      <a:pt x="26" y="1424"/>
                    </a:lnTo>
                    <a:lnTo>
                      <a:pt x="18" y="1400"/>
                    </a:lnTo>
                    <a:lnTo>
                      <a:pt x="11" y="1378"/>
                    </a:lnTo>
                    <a:lnTo>
                      <a:pt x="8" y="1354"/>
                    </a:lnTo>
                    <a:lnTo>
                      <a:pt x="5" y="1331"/>
                    </a:lnTo>
                    <a:lnTo>
                      <a:pt x="2" y="1308"/>
                    </a:lnTo>
                    <a:lnTo>
                      <a:pt x="0" y="1285"/>
                    </a:lnTo>
                    <a:lnTo>
                      <a:pt x="1" y="1261"/>
                    </a:lnTo>
                    <a:lnTo>
                      <a:pt x="1" y="1239"/>
                    </a:lnTo>
                    <a:lnTo>
                      <a:pt x="2" y="1216"/>
                    </a:lnTo>
                    <a:lnTo>
                      <a:pt x="4" y="1193"/>
                    </a:lnTo>
                    <a:lnTo>
                      <a:pt x="7" y="1172"/>
                    </a:lnTo>
                    <a:lnTo>
                      <a:pt x="10" y="1151"/>
                    </a:lnTo>
                    <a:lnTo>
                      <a:pt x="13" y="1131"/>
                    </a:lnTo>
                    <a:lnTo>
                      <a:pt x="17" y="1109"/>
                    </a:lnTo>
                    <a:lnTo>
                      <a:pt x="23" y="1091"/>
                    </a:lnTo>
                    <a:lnTo>
                      <a:pt x="30" y="1071"/>
                    </a:lnTo>
                    <a:lnTo>
                      <a:pt x="36" y="1053"/>
                    </a:lnTo>
                    <a:lnTo>
                      <a:pt x="44" y="1034"/>
                    </a:lnTo>
                    <a:lnTo>
                      <a:pt x="52" y="1016"/>
                    </a:lnTo>
                    <a:lnTo>
                      <a:pt x="61" y="999"/>
                    </a:lnTo>
                    <a:lnTo>
                      <a:pt x="70" y="981"/>
                    </a:lnTo>
                    <a:lnTo>
                      <a:pt x="79" y="964"/>
                    </a:lnTo>
                    <a:lnTo>
                      <a:pt x="89" y="948"/>
                    </a:lnTo>
                    <a:lnTo>
                      <a:pt x="101" y="932"/>
                    </a:lnTo>
                    <a:lnTo>
                      <a:pt x="112" y="917"/>
                    </a:lnTo>
                    <a:lnTo>
                      <a:pt x="123" y="901"/>
                    </a:lnTo>
                    <a:lnTo>
                      <a:pt x="136" y="888"/>
                    </a:lnTo>
                    <a:lnTo>
                      <a:pt x="150" y="874"/>
                    </a:lnTo>
                    <a:lnTo>
                      <a:pt x="163" y="861"/>
                    </a:lnTo>
                    <a:lnTo>
                      <a:pt x="176" y="847"/>
                    </a:lnTo>
                    <a:lnTo>
                      <a:pt x="192" y="835"/>
                    </a:lnTo>
                    <a:lnTo>
                      <a:pt x="207" y="823"/>
                    </a:lnTo>
                    <a:lnTo>
                      <a:pt x="221" y="811"/>
                    </a:lnTo>
                    <a:lnTo>
                      <a:pt x="236" y="800"/>
                    </a:lnTo>
                    <a:lnTo>
                      <a:pt x="253" y="790"/>
                    </a:lnTo>
                    <a:lnTo>
                      <a:pt x="270" y="779"/>
                    </a:lnTo>
                    <a:lnTo>
                      <a:pt x="288" y="770"/>
                    </a:lnTo>
                    <a:lnTo>
                      <a:pt x="304" y="759"/>
                    </a:lnTo>
                    <a:lnTo>
                      <a:pt x="322" y="752"/>
                    </a:lnTo>
                    <a:lnTo>
                      <a:pt x="340" y="744"/>
                    </a:lnTo>
                    <a:lnTo>
                      <a:pt x="358" y="734"/>
                    </a:lnTo>
                    <a:lnTo>
                      <a:pt x="375" y="726"/>
                    </a:lnTo>
                    <a:lnTo>
                      <a:pt x="395" y="720"/>
                    </a:lnTo>
                    <a:lnTo>
                      <a:pt x="414" y="714"/>
                    </a:lnTo>
                    <a:lnTo>
                      <a:pt x="434" y="708"/>
                    </a:lnTo>
                    <a:lnTo>
                      <a:pt x="454" y="702"/>
                    </a:lnTo>
                    <a:lnTo>
                      <a:pt x="474" y="698"/>
                    </a:lnTo>
                    <a:lnTo>
                      <a:pt x="496" y="693"/>
                    </a:lnTo>
                    <a:lnTo>
                      <a:pt x="516" y="688"/>
                    </a:lnTo>
                    <a:lnTo>
                      <a:pt x="538" y="684"/>
                    </a:lnTo>
                    <a:lnTo>
                      <a:pt x="558" y="681"/>
                    </a:lnTo>
                    <a:lnTo>
                      <a:pt x="579" y="678"/>
                    </a:lnTo>
                    <a:lnTo>
                      <a:pt x="600" y="675"/>
                    </a:lnTo>
                    <a:lnTo>
                      <a:pt x="620" y="671"/>
                    </a:lnTo>
                    <a:lnTo>
                      <a:pt x="643" y="671"/>
                    </a:lnTo>
                    <a:lnTo>
                      <a:pt x="665" y="670"/>
                    </a:lnTo>
                    <a:lnTo>
                      <a:pt x="688" y="670"/>
                    </a:lnTo>
                    <a:lnTo>
                      <a:pt x="710" y="669"/>
                    </a:lnTo>
                    <a:lnTo>
                      <a:pt x="733" y="669"/>
                    </a:lnTo>
                    <a:lnTo>
                      <a:pt x="755" y="670"/>
                    </a:lnTo>
                    <a:lnTo>
                      <a:pt x="778" y="671"/>
                    </a:lnTo>
                    <a:lnTo>
                      <a:pt x="800" y="671"/>
                    </a:lnTo>
                    <a:lnTo>
                      <a:pt x="823" y="674"/>
                    </a:lnTo>
                    <a:lnTo>
                      <a:pt x="845" y="677"/>
                    </a:lnTo>
                    <a:lnTo>
                      <a:pt x="866" y="680"/>
                    </a:lnTo>
                    <a:lnTo>
                      <a:pt x="889" y="682"/>
                    </a:lnTo>
                    <a:lnTo>
                      <a:pt x="912" y="687"/>
                    </a:lnTo>
                    <a:lnTo>
                      <a:pt x="935" y="692"/>
                    </a:lnTo>
                    <a:lnTo>
                      <a:pt x="958" y="697"/>
                    </a:lnTo>
                    <a:lnTo>
                      <a:pt x="982" y="701"/>
                    </a:lnTo>
                    <a:lnTo>
                      <a:pt x="1004" y="706"/>
                    </a:lnTo>
                    <a:lnTo>
                      <a:pt x="1027" y="710"/>
                    </a:lnTo>
                    <a:lnTo>
                      <a:pt x="1050" y="715"/>
                    </a:lnTo>
                    <a:lnTo>
                      <a:pt x="1073" y="720"/>
                    </a:lnTo>
                    <a:lnTo>
                      <a:pt x="1095" y="724"/>
                    </a:lnTo>
                    <a:lnTo>
                      <a:pt x="1118" y="728"/>
                    </a:lnTo>
                    <a:lnTo>
                      <a:pt x="1140" y="731"/>
                    </a:lnTo>
                    <a:lnTo>
                      <a:pt x="1162" y="735"/>
                    </a:lnTo>
                    <a:lnTo>
                      <a:pt x="1185" y="738"/>
                    </a:lnTo>
                    <a:lnTo>
                      <a:pt x="1207" y="741"/>
                    </a:lnTo>
                    <a:lnTo>
                      <a:pt x="1230" y="744"/>
                    </a:lnTo>
                    <a:lnTo>
                      <a:pt x="1251" y="746"/>
                    </a:lnTo>
                    <a:lnTo>
                      <a:pt x="1274" y="748"/>
                    </a:lnTo>
                    <a:lnTo>
                      <a:pt x="1295" y="750"/>
                    </a:lnTo>
                    <a:lnTo>
                      <a:pt x="1317" y="751"/>
                    </a:lnTo>
                    <a:lnTo>
                      <a:pt x="1339" y="753"/>
                    </a:lnTo>
                    <a:lnTo>
                      <a:pt x="1361" y="753"/>
                    </a:lnTo>
                    <a:lnTo>
                      <a:pt x="1383" y="754"/>
                    </a:lnTo>
                    <a:lnTo>
                      <a:pt x="1404" y="755"/>
                    </a:lnTo>
                    <a:lnTo>
                      <a:pt x="1427" y="755"/>
                    </a:lnTo>
                    <a:lnTo>
                      <a:pt x="1447" y="756"/>
                    </a:lnTo>
                    <a:lnTo>
                      <a:pt x="1467" y="756"/>
                    </a:lnTo>
                    <a:lnTo>
                      <a:pt x="1487" y="756"/>
                    </a:lnTo>
                    <a:lnTo>
                      <a:pt x="1508" y="757"/>
                    </a:lnTo>
                    <a:lnTo>
                      <a:pt x="1527" y="756"/>
                    </a:lnTo>
                    <a:lnTo>
                      <a:pt x="1547" y="755"/>
                    </a:lnTo>
                    <a:lnTo>
                      <a:pt x="1567" y="754"/>
                    </a:lnTo>
                    <a:lnTo>
                      <a:pt x="1587" y="753"/>
                    </a:lnTo>
                    <a:lnTo>
                      <a:pt x="1607" y="752"/>
                    </a:lnTo>
                    <a:lnTo>
                      <a:pt x="1625" y="750"/>
                    </a:lnTo>
                    <a:lnTo>
                      <a:pt x="1644" y="749"/>
                    </a:lnTo>
                    <a:lnTo>
                      <a:pt x="1663" y="747"/>
                    </a:lnTo>
                    <a:lnTo>
                      <a:pt x="1681" y="745"/>
                    </a:lnTo>
                    <a:lnTo>
                      <a:pt x="1698" y="743"/>
                    </a:lnTo>
                    <a:lnTo>
                      <a:pt x="1717" y="742"/>
                    </a:lnTo>
                    <a:lnTo>
                      <a:pt x="1735" y="740"/>
                    </a:lnTo>
                    <a:lnTo>
                      <a:pt x="1751" y="736"/>
                    </a:lnTo>
                    <a:lnTo>
                      <a:pt x="1767" y="734"/>
                    </a:lnTo>
                    <a:lnTo>
                      <a:pt x="1782" y="731"/>
                    </a:lnTo>
                    <a:lnTo>
                      <a:pt x="1799" y="728"/>
                    </a:lnTo>
                    <a:lnTo>
                      <a:pt x="1813" y="725"/>
                    </a:lnTo>
                    <a:lnTo>
                      <a:pt x="1828" y="721"/>
                    </a:lnTo>
                    <a:lnTo>
                      <a:pt x="1842" y="718"/>
                    </a:lnTo>
                    <a:lnTo>
                      <a:pt x="1858" y="715"/>
                    </a:lnTo>
                    <a:lnTo>
                      <a:pt x="1871" y="711"/>
                    </a:lnTo>
                    <a:lnTo>
                      <a:pt x="1883" y="707"/>
                    </a:lnTo>
                    <a:lnTo>
                      <a:pt x="1897" y="703"/>
                    </a:lnTo>
                    <a:lnTo>
                      <a:pt x="1910" y="698"/>
                    </a:lnTo>
                    <a:lnTo>
                      <a:pt x="1921" y="695"/>
                    </a:lnTo>
                    <a:lnTo>
                      <a:pt x="1932" y="691"/>
                    </a:lnTo>
                    <a:lnTo>
                      <a:pt x="1942" y="686"/>
                    </a:lnTo>
                    <a:lnTo>
                      <a:pt x="1954" y="682"/>
                    </a:lnTo>
                    <a:lnTo>
                      <a:pt x="1963" y="677"/>
                    </a:lnTo>
                    <a:lnTo>
                      <a:pt x="1972" y="672"/>
                    </a:lnTo>
                    <a:lnTo>
                      <a:pt x="1981" y="668"/>
                    </a:lnTo>
                    <a:lnTo>
                      <a:pt x="1990" y="663"/>
                    </a:lnTo>
                    <a:lnTo>
                      <a:pt x="2005" y="653"/>
                    </a:lnTo>
                    <a:lnTo>
                      <a:pt x="2019" y="644"/>
                    </a:lnTo>
                    <a:lnTo>
                      <a:pt x="2027" y="632"/>
                    </a:lnTo>
                    <a:lnTo>
                      <a:pt x="2036" y="621"/>
                    </a:lnTo>
                    <a:lnTo>
                      <a:pt x="2039" y="614"/>
                    </a:lnTo>
                    <a:lnTo>
                      <a:pt x="2044" y="606"/>
                    </a:lnTo>
                    <a:lnTo>
                      <a:pt x="2047" y="599"/>
                    </a:lnTo>
                    <a:lnTo>
                      <a:pt x="2051" y="590"/>
                    </a:lnTo>
                    <a:lnTo>
                      <a:pt x="2051" y="582"/>
                    </a:lnTo>
                    <a:lnTo>
                      <a:pt x="2052" y="575"/>
                    </a:lnTo>
                    <a:lnTo>
                      <a:pt x="2052" y="567"/>
                    </a:lnTo>
                    <a:lnTo>
                      <a:pt x="2053" y="559"/>
                    </a:lnTo>
                    <a:lnTo>
                      <a:pt x="2050" y="545"/>
                    </a:lnTo>
                    <a:lnTo>
                      <a:pt x="2047" y="529"/>
                    </a:lnTo>
                    <a:lnTo>
                      <a:pt x="2038" y="516"/>
                    </a:lnTo>
                    <a:lnTo>
                      <a:pt x="2030" y="502"/>
                    </a:lnTo>
                    <a:lnTo>
                      <a:pt x="2018" y="490"/>
                    </a:lnTo>
                    <a:lnTo>
                      <a:pt x="2007" y="479"/>
                    </a:lnTo>
                    <a:lnTo>
                      <a:pt x="1991" y="471"/>
                    </a:lnTo>
                    <a:lnTo>
                      <a:pt x="1976" y="463"/>
                    </a:lnTo>
                    <a:lnTo>
                      <a:pt x="1968" y="460"/>
                    </a:lnTo>
                    <a:lnTo>
                      <a:pt x="1959" y="457"/>
                    </a:lnTo>
                    <a:lnTo>
                      <a:pt x="1950" y="455"/>
                    </a:lnTo>
                    <a:lnTo>
                      <a:pt x="1941" y="452"/>
                    </a:lnTo>
                    <a:lnTo>
                      <a:pt x="1930" y="452"/>
                    </a:lnTo>
                    <a:lnTo>
                      <a:pt x="1920" y="452"/>
                    </a:lnTo>
                    <a:lnTo>
                      <a:pt x="1910" y="451"/>
                    </a:lnTo>
                    <a:lnTo>
                      <a:pt x="1900" y="451"/>
                    </a:lnTo>
                    <a:lnTo>
                      <a:pt x="1888" y="452"/>
                    </a:lnTo>
                    <a:lnTo>
                      <a:pt x="1878" y="454"/>
                    </a:lnTo>
                    <a:lnTo>
                      <a:pt x="1868" y="456"/>
                    </a:lnTo>
                    <a:lnTo>
                      <a:pt x="1858" y="458"/>
                    </a:lnTo>
                    <a:lnTo>
                      <a:pt x="1849" y="463"/>
                    </a:lnTo>
                    <a:lnTo>
                      <a:pt x="1840" y="466"/>
                    </a:lnTo>
                    <a:lnTo>
                      <a:pt x="1831" y="470"/>
                    </a:lnTo>
                    <a:lnTo>
                      <a:pt x="1822" y="474"/>
                    </a:lnTo>
                    <a:lnTo>
                      <a:pt x="1814" y="479"/>
                    </a:lnTo>
                    <a:lnTo>
                      <a:pt x="1807" y="482"/>
                    </a:lnTo>
                    <a:lnTo>
                      <a:pt x="1798" y="488"/>
                    </a:lnTo>
                    <a:lnTo>
                      <a:pt x="1788" y="492"/>
                    </a:lnTo>
                    <a:lnTo>
                      <a:pt x="1779" y="498"/>
                    </a:lnTo>
                    <a:lnTo>
                      <a:pt x="1771" y="503"/>
                    </a:lnTo>
                    <a:lnTo>
                      <a:pt x="1761" y="507"/>
                    </a:lnTo>
                    <a:lnTo>
                      <a:pt x="1753" y="512"/>
                    </a:lnTo>
                    <a:lnTo>
                      <a:pt x="1742" y="517"/>
                    </a:lnTo>
                    <a:lnTo>
                      <a:pt x="1732" y="521"/>
                    </a:lnTo>
                    <a:lnTo>
                      <a:pt x="1722" y="525"/>
                    </a:lnTo>
                    <a:lnTo>
                      <a:pt x="1713" y="528"/>
                    </a:lnTo>
                    <a:lnTo>
                      <a:pt x="1701" y="532"/>
                    </a:lnTo>
                    <a:lnTo>
                      <a:pt x="1689" y="535"/>
                    </a:lnTo>
                    <a:lnTo>
                      <a:pt x="1676" y="537"/>
                    </a:lnTo>
                    <a:lnTo>
                      <a:pt x="1663" y="539"/>
                    </a:lnTo>
                    <a:lnTo>
                      <a:pt x="1648" y="540"/>
                    </a:lnTo>
                    <a:lnTo>
                      <a:pt x="1635" y="540"/>
                    </a:lnTo>
                    <a:lnTo>
                      <a:pt x="1627" y="540"/>
                    </a:lnTo>
                    <a:lnTo>
                      <a:pt x="1618" y="539"/>
                    </a:lnTo>
                    <a:lnTo>
                      <a:pt x="1610" y="539"/>
                    </a:lnTo>
                    <a:lnTo>
                      <a:pt x="1601" y="538"/>
                    </a:lnTo>
                    <a:lnTo>
                      <a:pt x="1592" y="537"/>
                    </a:lnTo>
                    <a:lnTo>
                      <a:pt x="1583" y="536"/>
                    </a:lnTo>
                    <a:lnTo>
                      <a:pt x="1574" y="535"/>
                    </a:lnTo>
                    <a:lnTo>
                      <a:pt x="1566" y="534"/>
                    </a:lnTo>
                    <a:lnTo>
                      <a:pt x="1556" y="532"/>
                    </a:lnTo>
                    <a:lnTo>
                      <a:pt x="1545" y="530"/>
                    </a:lnTo>
                    <a:lnTo>
                      <a:pt x="1535" y="528"/>
                    </a:lnTo>
                    <a:lnTo>
                      <a:pt x="1526" y="527"/>
                    </a:lnTo>
                    <a:lnTo>
                      <a:pt x="1507" y="522"/>
                    </a:lnTo>
                    <a:lnTo>
                      <a:pt x="1488" y="517"/>
                    </a:lnTo>
                    <a:lnTo>
                      <a:pt x="1470" y="512"/>
                    </a:lnTo>
                    <a:lnTo>
                      <a:pt x="1450" y="507"/>
                    </a:lnTo>
                    <a:lnTo>
                      <a:pt x="1435" y="501"/>
                    </a:lnTo>
                    <a:lnTo>
                      <a:pt x="1420" y="494"/>
                    </a:lnTo>
                    <a:lnTo>
                      <a:pt x="1404" y="488"/>
                    </a:lnTo>
                    <a:lnTo>
                      <a:pt x="1389" y="482"/>
                    </a:lnTo>
                    <a:lnTo>
                      <a:pt x="1377" y="477"/>
                    </a:lnTo>
                    <a:lnTo>
                      <a:pt x="1365" y="471"/>
                    </a:lnTo>
                    <a:lnTo>
                      <a:pt x="1353" y="465"/>
                    </a:lnTo>
                    <a:lnTo>
                      <a:pt x="1341" y="459"/>
                    </a:lnTo>
                    <a:lnTo>
                      <a:pt x="1332" y="453"/>
                    </a:lnTo>
                    <a:lnTo>
                      <a:pt x="1323" y="445"/>
                    </a:lnTo>
                    <a:lnTo>
                      <a:pt x="1315" y="439"/>
                    </a:lnTo>
                    <a:lnTo>
                      <a:pt x="1305" y="432"/>
                    </a:lnTo>
                    <a:lnTo>
                      <a:pt x="1291" y="419"/>
                    </a:lnTo>
                    <a:lnTo>
                      <a:pt x="1278" y="406"/>
                    </a:lnTo>
                    <a:lnTo>
                      <a:pt x="1269" y="391"/>
                    </a:lnTo>
                    <a:lnTo>
                      <a:pt x="1259" y="377"/>
                    </a:lnTo>
                    <a:lnTo>
                      <a:pt x="1253" y="364"/>
                    </a:lnTo>
                    <a:lnTo>
                      <a:pt x="1247" y="351"/>
                    </a:lnTo>
                    <a:lnTo>
                      <a:pt x="1245" y="336"/>
                    </a:lnTo>
                    <a:lnTo>
                      <a:pt x="1243" y="321"/>
                    </a:lnTo>
                    <a:lnTo>
                      <a:pt x="1243" y="308"/>
                    </a:lnTo>
                    <a:lnTo>
                      <a:pt x="1242" y="292"/>
                    </a:lnTo>
                    <a:lnTo>
                      <a:pt x="1243" y="279"/>
                    </a:lnTo>
                    <a:lnTo>
                      <a:pt x="1243" y="266"/>
                    </a:lnTo>
                    <a:lnTo>
                      <a:pt x="1245" y="258"/>
                    </a:lnTo>
                    <a:lnTo>
                      <a:pt x="1246" y="249"/>
                    </a:lnTo>
                    <a:lnTo>
                      <a:pt x="1248" y="242"/>
                    </a:lnTo>
                    <a:lnTo>
                      <a:pt x="1249" y="234"/>
                    </a:lnTo>
                    <a:lnTo>
                      <a:pt x="1253" y="219"/>
                    </a:lnTo>
                    <a:lnTo>
                      <a:pt x="1257" y="204"/>
                    </a:lnTo>
                    <a:lnTo>
                      <a:pt x="1260" y="196"/>
                    </a:lnTo>
                    <a:lnTo>
                      <a:pt x="1264" y="188"/>
                    </a:lnTo>
                    <a:lnTo>
                      <a:pt x="1267" y="180"/>
                    </a:lnTo>
                    <a:lnTo>
                      <a:pt x="1270" y="172"/>
                    </a:lnTo>
                    <a:lnTo>
                      <a:pt x="1277" y="158"/>
                    </a:lnTo>
                    <a:lnTo>
                      <a:pt x="1286" y="142"/>
                    </a:lnTo>
                    <a:lnTo>
                      <a:pt x="1294" y="129"/>
                    </a:lnTo>
                    <a:lnTo>
                      <a:pt x="1303" y="114"/>
                    </a:lnTo>
                    <a:lnTo>
                      <a:pt x="1315" y="100"/>
                    </a:lnTo>
                    <a:lnTo>
                      <a:pt x="1326" y="87"/>
                    </a:lnTo>
                    <a:lnTo>
                      <a:pt x="1338" y="76"/>
                    </a:lnTo>
                    <a:lnTo>
                      <a:pt x="1351" y="64"/>
                    </a:lnTo>
                    <a:lnTo>
                      <a:pt x="1367" y="53"/>
                    </a:lnTo>
                    <a:lnTo>
                      <a:pt x="1381" y="42"/>
                    </a:lnTo>
                    <a:lnTo>
                      <a:pt x="1389" y="38"/>
                    </a:lnTo>
                    <a:lnTo>
                      <a:pt x="1397" y="33"/>
                    </a:lnTo>
                    <a:lnTo>
                      <a:pt x="1404" y="29"/>
                    </a:lnTo>
                    <a:lnTo>
                      <a:pt x="1413" y="24"/>
                    </a:lnTo>
                    <a:lnTo>
                      <a:pt x="1422" y="21"/>
                    </a:lnTo>
                    <a:lnTo>
                      <a:pt x="1431" y="18"/>
                    </a:lnTo>
                    <a:lnTo>
                      <a:pt x="1441" y="16"/>
                    </a:lnTo>
                    <a:lnTo>
                      <a:pt x="1450" y="13"/>
                    </a:lnTo>
                    <a:lnTo>
                      <a:pt x="1461" y="11"/>
                    </a:lnTo>
                    <a:lnTo>
                      <a:pt x="1471" y="9"/>
                    </a:lnTo>
                    <a:lnTo>
                      <a:pt x="1481" y="6"/>
                    </a:lnTo>
                    <a:lnTo>
                      <a:pt x="1492" y="4"/>
                    </a:lnTo>
                    <a:lnTo>
                      <a:pt x="1502" y="3"/>
                    </a:lnTo>
                    <a:lnTo>
                      <a:pt x="1514" y="2"/>
                    </a:lnTo>
                    <a:lnTo>
                      <a:pt x="1525" y="1"/>
                    </a:lnTo>
                    <a:lnTo>
                      <a:pt x="1536" y="0"/>
                    </a:lnTo>
                    <a:lnTo>
                      <a:pt x="1548" y="1"/>
                    </a:lnTo>
                    <a:lnTo>
                      <a:pt x="1561" y="2"/>
                    </a:lnTo>
                    <a:lnTo>
                      <a:pt x="1573" y="2"/>
                    </a:lnTo>
                    <a:lnTo>
                      <a:pt x="1585" y="2"/>
                    </a:lnTo>
                    <a:lnTo>
                      <a:pt x="1598" y="5"/>
                    </a:lnTo>
                    <a:lnTo>
                      <a:pt x="1613" y="8"/>
                    </a:lnTo>
                    <a:lnTo>
                      <a:pt x="1626" y="11"/>
                    </a:lnTo>
                    <a:lnTo>
                      <a:pt x="1639" y="14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88040" y="1898280"/>
                <a:ext cx="90360" cy="100800"/>
              </a:xfrm>
              <a:custGeom>
                <a:avLst/>
                <a:gdLst/>
                <a:ahLst/>
                <a:rect l="l" t="t" r="r" b="b"/>
                <a:pathLst>
                  <a:path w="1801" h="1905">
                    <a:moveTo>
                      <a:pt x="957" y="0"/>
                    </a:moveTo>
                    <a:lnTo>
                      <a:pt x="963" y="3"/>
                    </a:lnTo>
                    <a:lnTo>
                      <a:pt x="970" y="5"/>
                    </a:lnTo>
                    <a:lnTo>
                      <a:pt x="978" y="10"/>
                    </a:lnTo>
                    <a:lnTo>
                      <a:pt x="986" y="14"/>
                    </a:lnTo>
                    <a:lnTo>
                      <a:pt x="994" y="18"/>
                    </a:lnTo>
                    <a:lnTo>
                      <a:pt x="1003" y="22"/>
                    </a:lnTo>
                    <a:lnTo>
                      <a:pt x="1016" y="29"/>
                    </a:lnTo>
                    <a:lnTo>
                      <a:pt x="1027" y="35"/>
                    </a:lnTo>
                    <a:lnTo>
                      <a:pt x="1039" y="42"/>
                    </a:lnTo>
                    <a:lnTo>
                      <a:pt x="1050" y="48"/>
                    </a:lnTo>
                    <a:lnTo>
                      <a:pt x="1065" y="58"/>
                    </a:lnTo>
                    <a:lnTo>
                      <a:pt x="1079" y="68"/>
                    </a:lnTo>
                    <a:lnTo>
                      <a:pt x="1093" y="77"/>
                    </a:lnTo>
                    <a:lnTo>
                      <a:pt x="1106" y="88"/>
                    </a:lnTo>
                    <a:lnTo>
                      <a:pt x="1120" y="100"/>
                    </a:lnTo>
                    <a:lnTo>
                      <a:pt x="1133" y="111"/>
                    </a:lnTo>
                    <a:lnTo>
                      <a:pt x="1146" y="122"/>
                    </a:lnTo>
                    <a:lnTo>
                      <a:pt x="1161" y="134"/>
                    </a:lnTo>
                    <a:lnTo>
                      <a:pt x="1172" y="149"/>
                    </a:lnTo>
                    <a:lnTo>
                      <a:pt x="1184" y="163"/>
                    </a:lnTo>
                    <a:lnTo>
                      <a:pt x="1196" y="177"/>
                    </a:lnTo>
                    <a:lnTo>
                      <a:pt x="1208" y="192"/>
                    </a:lnTo>
                    <a:lnTo>
                      <a:pt x="1217" y="208"/>
                    </a:lnTo>
                    <a:lnTo>
                      <a:pt x="1225" y="224"/>
                    </a:lnTo>
                    <a:lnTo>
                      <a:pt x="1233" y="242"/>
                    </a:lnTo>
                    <a:lnTo>
                      <a:pt x="1242" y="258"/>
                    </a:lnTo>
                    <a:lnTo>
                      <a:pt x="1245" y="276"/>
                    </a:lnTo>
                    <a:lnTo>
                      <a:pt x="1247" y="296"/>
                    </a:lnTo>
                    <a:lnTo>
                      <a:pt x="1250" y="314"/>
                    </a:lnTo>
                    <a:lnTo>
                      <a:pt x="1253" y="333"/>
                    </a:lnTo>
                    <a:lnTo>
                      <a:pt x="1252" y="342"/>
                    </a:lnTo>
                    <a:lnTo>
                      <a:pt x="1251" y="351"/>
                    </a:lnTo>
                    <a:lnTo>
                      <a:pt x="1250" y="361"/>
                    </a:lnTo>
                    <a:lnTo>
                      <a:pt x="1249" y="370"/>
                    </a:lnTo>
                    <a:lnTo>
                      <a:pt x="1247" y="378"/>
                    </a:lnTo>
                    <a:lnTo>
                      <a:pt x="1245" y="388"/>
                    </a:lnTo>
                    <a:lnTo>
                      <a:pt x="1244" y="397"/>
                    </a:lnTo>
                    <a:lnTo>
                      <a:pt x="1242" y="406"/>
                    </a:lnTo>
                    <a:lnTo>
                      <a:pt x="1234" y="421"/>
                    </a:lnTo>
                    <a:lnTo>
                      <a:pt x="1226" y="437"/>
                    </a:lnTo>
                    <a:lnTo>
                      <a:pt x="1216" y="451"/>
                    </a:lnTo>
                    <a:lnTo>
                      <a:pt x="1206" y="464"/>
                    </a:lnTo>
                    <a:lnTo>
                      <a:pt x="1194" y="476"/>
                    </a:lnTo>
                    <a:lnTo>
                      <a:pt x="1182" y="489"/>
                    </a:lnTo>
                    <a:lnTo>
                      <a:pt x="1169" y="499"/>
                    </a:lnTo>
                    <a:lnTo>
                      <a:pt x="1154" y="510"/>
                    </a:lnTo>
                    <a:lnTo>
                      <a:pt x="1146" y="515"/>
                    </a:lnTo>
                    <a:lnTo>
                      <a:pt x="1138" y="520"/>
                    </a:lnTo>
                    <a:lnTo>
                      <a:pt x="1131" y="525"/>
                    </a:lnTo>
                    <a:lnTo>
                      <a:pt x="1123" y="531"/>
                    </a:lnTo>
                    <a:lnTo>
                      <a:pt x="1114" y="535"/>
                    </a:lnTo>
                    <a:lnTo>
                      <a:pt x="1105" y="539"/>
                    </a:lnTo>
                    <a:lnTo>
                      <a:pt x="1097" y="543"/>
                    </a:lnTo>
                    <a:lnTo>
                      <a:pt x="1089" y="547"/>
                    </a:lnTo>
                    <a:lnTo>
                      <a:pt x="1080" y="550"/>
                    </a:lnTo>
                    <a:lnTo>
                      <a:pt x="1071" y="554"/>
                    </a:lnTo>
                    <a:lnTo>
                      <a:pt x="1061" y="557"/>
                    </a:lnTo>
                    <a:lnTo>
                      <a:pt x="1053" y="560"/>
                    </a:lnTo>
                    <a:lnTo>
                      <a:pt x="1043" y="564"/>
                    </a:lnTo>
                    <a:lnTo>
                      <a:pt x="1034" y="567"/>
                    </a:lnTo>
                    <a:lnTo>
                      <a:pt x="1025" y="570"/>
                    </a:lnTo>
                    <a:lnTo>
                      <a:pt x="1015" y="573"/>
                    </a:lnTo>
                    <a:lnTo>
                      <a:pt x="1005" y="576"/>
                    </a:lnTo>
                    <a:lnTo>
                      <a:pt x="996" y="579"/>
                    </a:lnTo>
                    <a:lnTo>
                      <a:pt x="987" y="581"/>
                    </a:lnTo>
                    <a:lnTo>
                      <a:pt x="978" y="583"/>
                    </a:lnTo>
                    <a:lnTo>
                      <a:pt x="968" y="586"/>
                    </a:lnTo>
                    <a:lnTo>
                      <a:pt x="957" y="588"/>
                    </a:lnTo>
                    <a:lnTo>
                      <a:pt x="947" y="590"/>
                    </a:lnTo>
                    <a:lnTo>
                      <a:pt x="938" y="592"/>
                    </a:lnTo>
                    <a:lnTo>
                      <a:pt x="928" y="593"/>
                    </a:lnTo>
                    <a:lnTo>
                      <a:pt x="919" y="595"/>
                    </a:lnTo>
                    <a:lnTo>
                      <a:pt x="909" y="596"/>
                    </a:lnTo>
                    <a:lnTo>
                      <a:pt x="899" y="597"/>
                    </a:lnTo>
                    <a:lnTo>
                      <a:pt x="890" y="598"/>
                    </a:lnTo>
                    <a:lnTo>
                      <a:pt x="881" y="600"/>
                    </a:lnTo>
                    <a:lnTo>
                      <a:pt x="871" y="601"/>
                    </a:lnTo>
                    <a:lnTo>
                      <a:pt x="861" y="602"/>
                    </a:lnTo>
                    <a:lnTo>
                      <a:pt x="852" y="603"/>
                    </a:lnTo>
                    <a:lnTo>
                      <a:pt x="843" y="604"/>
                    </a:lnTo>
                    <a:lnTo>
                      <a:pt x="833" y="604"/>
                    </a:lnTo>
                    <a:lnTo>
                      <a:pt x="824" y="605"/>
                    </a:lnTo>
                    <a:lnTo>
                      <a:pt x="815" y="606"/>
                    </a:lnTo>
                    <a:lnTo>
                      <a:pt x="807" y="606"/>
                    </a:lnTo>
                    <a:lnTo>
                      <a:pt x="798" y="606"/>
                    </a:lnTo>
                    <a:lnTo>
                      <a:pt x="790" y="607"/>
                    </a:lnTo>
                    <a:lnTo>
                      <a:pt x="781" y="608"/>
                    </a:lnTo>
                    <a:lnTo>
                      <a:pt x="772" y="609"/>
                    </a:lnTo>
                    <a:lnTo>
                      <a:pt x="762" y="610"/>
                    </a:lnTo>
                    <a:lnTo>
                      <a:pt x="752" y="611"/>
                    </a:lnTo>
                    <a:lnTo>
                      <a:pt x="741" y="611"/>
                    </a:lnTo>
                    <a:lnTo>
                      <a:pt x="729" y="612"/>
                    </a:lnTo>
                    <a:lnTo>
                      <a:pt x="716" y="612"/>
                    </a:lnTo>
                    <a:lnTo>
                      <a:pt x="704" y="613"/>
                    </a:lnTo>
                    <a:lnTo>
                      <a:pt x="691" y="614"/>
                    </a:lnTo>
                    <a:lnTo>
                      <a:pt x="678" y="616"/>
                    </a:lnTo>
                    <a:lnTo>
                      <a:pt x="664" y="618"/>
                    </a:lnTo>
                    <a:lnTo>
                      <a:pt x="651" y="620"/>
                    </a:lnTo>
                    <a:lnTo>
                      <a:pt x="636" y="622"/>
                    </a:lnTo>
                    <a:lnTo>
                      <a:pt x="620" y="625"/>
                    </a:lnTo>
                    <a:lnTo>
                      <a:pt x="606" y="627"/>
                    </a:lnTo>
                    <a:lnTo>
                      <a:pt x="591" y="629"/>
                    </a:lnTo>
                    <a:lnTo>
                      <a:pt x="574" y="632"/>
                    </a:lnTo>
                    <a:lnTo>
                      <a:pt x="559" y="636"/>
                    </a:lnTo>
                    <a:lnTo>
                      <a:pt x="543" y="639"/>
                    </a:lnTo>
                    <a:lnTo>
                      <a:pt x="528" y="642"/>
                    </a:lnTo>
                    <a:lnTo>
                      <a:pt x="510" y="646"/>
                    </a:lnTo>
                    <a:lnTo>
                      <a:pt x="493" y="650"/>
                    </a:lnTo>
                    <a:lnTo>
                      <a:pt x="476" y="654"/>
                    </a:lnTo>
                    <a:lnTo>
                      <a:pt x="460" y="658"/>
                    </a:lnTo>
                    <a:lnTo>
                      <a:pt x="443" y="663"/>
                    </a:lnTo>
                    <a:lnTo>
                      <a:pt x="426" y="668"/>
                    </a:lnTo>
                    <a:lnTo>
                      <a:pt x="410" y="674"/>
                    </a:lnTo>
                    <a:lnTo>
                      <a:pt x="394" y="679"/>
                    </a:lnTo>
                    <a:lnTo>
                      <a:pt x="377" y="685"/>
                    </a:lnTo>
                    <a:lnTo>
                      <a:pt x="360" y="691"/>
                    </a:lnTo>
                    <a:lnTo>
                      <a:pt x="343" y="697"/>
                    </a:lnTo>
                    <a:lnTo>
                      <a:pt x="326" y="703"/>
                    </a:lnTo>
                    <a:lnTo>
                      <a:pt x="310" y="710"/>
                    </a:lnTo>
                    <a:lnTo>
                      <a:pt x="294" y="717"/>
                    </a:lnTo>
                    <a:lnTo>
                      <a:pt x="277" y="726"/>
                    </a:lnTo>
                    <a:lnTo>
                      <a:pt x="262" y="733"/>
                    </a:lnTo>
                    <a:lnTo>
                      <a:pt x="247" y="742"/>
                    </a:lnTo>
                    <a:lnTo>
                      <a:pt x="232" y="751"/>
                    </a:lnTo>
                    <a:lnTo>
                      <a:pt x="217" y="759"/>
                    </a:lnTo>
                    <a:lnTo>
                      <a:pt x="202" y="768"/>
                    </a:lnTo>
                    <a:lnTo>
                      <a:pt x="189" y="779"/>
                    </a:lnTo>
                    <a:lnTo>
                      <a:pt x="174" y="790"/>
                    </a:lnTo>
                    <a:lnTo>
                      <a:pt x="160" y="800"/>
                    </a:lnTo>
                    <a:lnTo>
                      <a:pt x="147" y="810"/>
                    </a:lnTo>
                    <a:lnTo>
                      <a:pt x="133" y="822"/>
                    </a:lnTo>
                    <a:lnTo>
                      <a:pt x="121" y="833"/>
                    </a:lnTo>
                    <a:lnTo>
                      <a:pt x="109" y="845"/>
                    </a:lnTo>
                    <a:lnTo>
                      <a:pt x="97" y="856"/>
                    </a:lnTo>
                    <a:lnTo>
                      <a:pt x="86" y="871"/>
                    </a:lnTo>
                    <a:lnTo>
                      <a:pt x="76" y="884"/>
                    </a:lnTo>
                    <a:lnTo>
                      <a:pt x="67" y="898"/>
                    </a:lnTo>
                    <a:lnTo>
                      <a:pt x="57" y="911"/>
                    </a:lnTo>
                    <a:lnTo>
                      <a:pt x="49" y="927"/>
                    </a:lnTo>
                    <a:lnTo>
                      <a:pt x="42" y="942"/>
                    </a:lnTo>
                    <a:lnTo>
                      <a:pt x="33" y="957"/>
                    </a:lnTo>
                    <a:lnTo>
                      <a:pt x="25" y="973"/>
                    </a:lnTo>
                    <a:lnTo>
                      <a:pt x="20" y="991"/>
                    </a:lnTo>
                    <a:lnTo>
                      <a:pt x="15" y="1008"/>
                    </a:lnTo>
                    <a:lnTo>
                      <a:pt x="10" y="1026"/>
                    </a:lnTo>
                    <a:lnTo>
                      <a:pt x="6" y="1043"/>
                    </a:lnTo>
                    <a:lnTo>
                      <a:pt x="4" y="1063"/>
                    </a:lnTo>
                    <a:lnTo>
                      <a:pt x="3" y="1082"/>
                    </a:lnTo>
                    <a:lnTo>
                      <a:pt x="1" y="1100"/>
                    </a:lnTo>
                    <a:lnTo>
                      <a:pt x="0" y="1120"/>
                    </a:lnTo>
                    <a:lnTo>
                      <a:pt x="2" y="1140"/>
                    </a:lnTo>
                    <a:lnTo>
                      <a:pt x="3" y="1159"/>
                    </a:lnTo>
                    <a:lnTo>
                      <a:pt x="5" y="1180"/>
                    </a:lnTo>
                    <a:lnTo>
                      <a:pt x="7" y="1200"/>
                    </a:lnTo>
                    <a:lnTo>
                      <a:pt x="13" y="1220"/>
                    </a:lnTo>
                    <a:lnTo>
                      <a:pt x="19" y="1239"/>
                    </a:lnTo>
                    <a:lnTo>
                      <a:pt x="25" y="1259"/>
                    </a:lnTo>
                    <a:lnTo>
                      <a:pt x="31" y="1278"/>
                    </a:lnTo>
                    <a:lnTo>
                      <a:pt x="40" y="1297"/>
                    </a:lnTo>
                    <a:lnTo>
                      <a:pt x="49" y="1316"/>
                    </a:lnTo>
                    <a:lnTo>
                      <a:pt x="58" y="1334"/>
                    </a:lnTo>
                    <a:lnTo>
                      <a:pt x="67" y="1352"/>
                    </a:lnTo>
                    <a:lnTo>
                      <a:pt x="78" y="1371"/>
                    </a:lnTo>
                    <a:lnTo>
                      <a:pt x="90" y="1389"/>
                    </a:lnTo>
                    <a:lnTo>
                      <a:pt x="101" y="1408"/>
                    </a:lnTo>
                    <a:lnTo>
                      <a:pt x="113" y="1426"/>
                    </a:lnTo>
                    <a:lnTo>
                      <a:pt x="126" y="1443"/>
                    </a:lnTo>
                    <a:lnTo>
                      <a:pt x="140" y="1460"/>
                    </a:lnTo>
                    <a:lnTo>
                      <a:pt x="153" y="1477"/>
                    </a:lnTo>
                    <a:lnTo>
                      <a:pt x="166" y="1493"/>
                    </a:lnTo>
                    <a:lnTo>
                      <a:pt x="181" y="1510"/>
                    </a:lnTo>
                    <a:lnTo>
                      <a:pt x="198" y="1526"/>
                    </a:lnTo>
                    <a:lnTo>
                      <a:pt x="213" y="1542"/>
                    </a:lnTo>
                    <a:lnTo>
                      <a:pt x="228" y="1558"/>
                    </a:lnTo>
                    <a:lnTo>
                      <a:pt x="245" y="1573"/>
                    </a:lnTo>
                    <a:lnTo>
                      <a:pt x="261" y="1589"/>
                    </a:lnTo>
                    <a:lnTo>
                      <a:pt x="277" y="1605"/>
                    </a:lnTo>
                    <a:lnTo>
                      <a:pt x="294" y="1620"/>
                    </a:lnTo>
                    <a:lnTo>
                      <a:pt x="311" y="1633"/>
                    </a:lnTo>
                    <a:lnTo>
                      <a:pt x="327" y="1648"/>
                    </a:lnTo>
                    <a:lnTo>
                      <a:pt x="345" y="1662"/>
                    </a:lnTo>
                    <a:lnTo>
                      <a:pt x="362" y="1675"/>
                    </a:lnTo>
                    <a:lnTo>
                      <a:pt x="378" y="1688"/>
                    </a:lnTo>
                    <a:lnTo>
                      <a:pt x="396" y="1701"/>
                    </a:lnTo>
                    <a:lnTo>
                      <a:pt x="413" y="1714"/>
                    </a:lnTo>
                    <a:lnTo>
                      <a:pt x="430" y="1726"/>
                    </a:lnTo>
                    <a:lnTo>
                      <a:pt x="446" y="1737"/>
                    </a:lnTo>
                    <a:lnTo>
                      <a:pt x="462" y="1749"/>
                    </a:lnTo>
                    <a:lnTo>
                      <a:pt x="479" y="1760"/>
                    </a:lnTo>
                    <a:lnTo>
                      <a:pt x="496" y="1771"/>
                    </a:lnTo>
                    <a:lnTo>
                      <a:pt x="511" y="1781"/>
                    </a:lnTo>
                    <a:lnTo>
                      <a:pt x="526" y="1790"/>
                    </a:lnTo>
                    <a:lnTo>
                      <a:pt x="542" y="1800"/>
                    </a:lnTo>
                    <a:lnTo>
                      <a:pt x="557" y="1809"/>
                    </a:lnTo>
                    <a:lnTo>
                      <a:pt x="570" y="1817"/>
                    </a:lnTo>
                    <a:lnTo>
                      <a:pt x="584" y="1825"/>
                    </a:lnTo>
                    <a:lnTo>
                      <a:pt x="597" y="1834"/>
                    </a:lnTo>
                    <a:lnTo>
                      <a:pt x="611" y="1843"/>
                    </a:lnTo>
                    <a:lnTo>
                      <a:pt x="622" y="1849"/>
                    </a:lnTo>
                    <a:lnTo>
                      <a:pt x="634" y="1856"/>
                    </a:lnTo>
                    <a:lnTo>
                      <a:pt x="645" y="1863"/>
                    </a:lnTo>
                    <a:lnTo>
                      <a:pt x="656" y="1869"/>
                    </a:lnTo>
                    <a:lnTo>
                      <a:pt x="665" y="1874"/>
                    </a:lnTo>
                    <a:lnTo>
                      <a:pt x="675" y="1879"/>
                    </a:lnTo>
                    <a:lnTo>
                      <a:pt x="684" y="1884"/>
                    </a:lnTo>
                    <a:lnTo>
                      <a:pt x="693" y="1889"/>
                    </a:lnTo>
                    <a:lnTo>
                      <a:pt x="704" y="1896"/>
                    </a:lnTo>
                    <a:lnTo>
                      <a:pt x="716" y="1901"/>
                    </a:lnTo>
                    <a:lnTo>
                      <a:pt x="720" y="1903"/>
                    </a:lnTo>
                    <a:lnTo>
                      <a:pt x="725" y="1905"/>
                    </a:lnTo>
                    <a:lnTo>
                      <a:pt x="723" y="1853"/>
                    </a:lnTo>
                    <a:lnTo>
                      <a:pt x="720" y="1801"/>
                    </a:lnTo>
                    <a:lnTo>
                      <a:pt x="719" y="1748"/>
                    </a:lnTo>
                    <a:lnTo>
                      <a:pt x="717" y="1695"/>
                    </a:lnTo>
                    <a:lnTo>
                      <a:pt x="715" y="1643"/>
                    </a:lnTo>
                    <a:lnTo>
                      <a:pt x="714" y="1590"/>
                    </a:lnTo>
                    <a:lnTo>
                      <a:pt x="712" y="1538"/>
                    </a:lnTo>
                    <a:lnTo>
                      <a:pt x="710" y="1486"/>
                    </a:lnTo>
                    <a:lnTo>
                      <a:pt x="706" y="1484"/>
                    </a:lnTo>
                    <a:lnTo>
                      <a:pt x="703" y="1482"/>
                    </a:lnTo>
                    <a:lnTo>
                      <a:pt x="691" y="1475"/>
                    </a:lnTo>
                    <a:lnTo>
                      <a:pt x="679" y="1468"/>
                    </a:lnTo>
                    <a:lnTo>
                      <a:pt x="670" y="1463"/>
                    </a:lnTo>
                    <a:lnTo>
                      <a:pt x="662" y="1458"/>
                    </a:lnTo>
                    <a:lnTo>
                      <a:pt x="654" y="1453"/>
                    </a:lnTo>
                    <a:lnTo>
                      <a:pt x="647" y="1447"/>
                    </a:lnTo>
                    <a:lnTo>
                      <a:pt x="638" y="1439"/>
                    </a:lnTo>
                    <a:lnTo>
                      <a:pt x="629" y="1432"/>
                    </a:lnTo>
                    <a:lnTo>
                      <a:pt x="619" y="1424"/>
                    </a:lnTo>
                    <a:lnTo>
                      <a:pt x="611" y="1417"/>
                    </a:lnTo>
                    <a:lnTo>
                      <a:pt x="601" y="1407"/>
                    </a:lnTo>
                    <a:lnTo>
                      <a:pt x="592" y="1396"/>
                    </a:lnTo>
                    <a:lnTo>
                      <a:pt x="583" y="1387"/>
                    </a:lnTo>
                    <a:lnTo>
                      <a:pt x="573" y="1377"/>
                    </a:lnTo>
                    <a:lnTo>
                      <a:pt x="565" y="1366"/>
                    </a:lnTo>
                    <a:lnTo>
                      <a:pt x="557" y="1354"/>
                    </a:lnTo>
                    <a:lnTo>
                      <a:pt x="549" y="1342"/>
                    </a:lnTo>
                    <a:lnTo>
                      <a:pt x="541" y="1331"/>
                    </a:lnTo>
                    <a:lnTo>
                      <a:pt x="535" y="1318"/>
                    </a:lnTo>
                    <a:lnTo>
                      <a:pt x="529" y="1303"/>
                    </a:lnTo>
                    <a:lnTo>
                      <a:pt x="523" y="1290"/>
                    </a:lnTo>
                    <a:lnTo>
                      <a:pt x="517" y="1276"/>
                    </a:lnTo>
                    <a:lnTo>
                      <a:pt x="515" y="1261"/>
                    </a:lnTo>
                    <a:lnTo>
                      <a:pt x="513" y="1244"/>
                    </a:lnTo>
                    <a:lnTo>
                      <a:pt x="511" y="1229"/>
                    </a:lnTo>
                    <a:lnTo>
                      <a:pt x="509" y="1214"/>
                    </a:lnTo>
                    <a:lnTo>
                      <a:pt x="509" y="1206"/>
                    </a:lnTo>
                    <a:lnTo>
                      <a:pt x="509" y="1199"/>
                    </a:lnTo>
                    <a:lnTo>
                      <a:pt x="510" y="1193"/>
                    </a:lnTo>
                    <a:lnTo>
                      <a:pt x="511" y="1186"/>
                    </a:lnTo>
                    <a:lnTo>
                      <a:pt x="513" y="1178"/>
                    </a:lnTo>
                    <a:lnTo>
                      <a:pt x="515" y="1171"/>
                    </a:lnTo>
                    <a:lnTo>
                      <a:pt x="518" y="1165"/>
                    </a:lnTo>
                    <a:lnTo>
                      <a:pt x="521" y="1158"/>
                    </a:lnTo>
                    <a:lnTo>
                      <a:pt x="525" y="1151"/>
                    </a:lnTo>
                    <a:lnTo>
                      <a:pt x="530" y="1143"/>
                    </a:lnTo>
                    <a:lnTo>
                      <a:pt x="535" y="1137"/>
                    </a:lnTo>
                    <a:lnTo>
                      <a:pt x="541" y="1131"/>
                    </a:lnTo>
                    <a:lnTo>
                      <a:pt x="548" y="1125"/>
                    </a:lnTo>
                    <a:lnTo>
                      <a:pt x="555" y="1118"/>
                    </a:lnTo>
                    <a:lnTo>
                      <a:pt x="565" y="1112"/>
                    </a:lnTo>
                    <a:lnTo>
                      <a:pt x="576" y="1106"/>
                    </a:lnTo>
                    <a:lnTo>
                      <a:pt x="587" y="1100"/>
                    </a:lnTo>
                    <a:lnTo>
                      <a:pt x="599" y="1095"/>
                    </a:lnTo>
                    <a:lnTo>
                      <a:pt x="612" y="1089"/>
                    </a:lnTo>
                    <a:lnTo>
                      <a:pt x="627" y="1084"/>
                    </a:lnTo>
                    <a:lnTo>
                      <a:pt x="635" y="1081"/>
                    </a:lnTo>
                    <a:lnTo>
                      <a:pt x="643" y="1079"/>
                    </a:lnTo>
                    <a:lnTo>
                      <a:pt x="651" y="1076"/>
                    </a:lnTo>
                    <a:lnTo>
                      <a:pt x="659" y="1073"/>
                    </a:lnTo>
                    <a:lnTo>
                      <a:pt x="668" y="1071"/>
                    </a:lnTo>
                    <a:lnTo>
                      <a:pt x="679" y="1069"/>
                    </a:lnTo>
                    <a:lnTo>
                      <a:pt x="689" y="1067"/>
                    </a:lnTo>
                    <a:lnTo>
                      <a:pt x="699" y="1065"/>
                    </a:lnTo>
                    <a:lnTo>
                      <a:pt x="710" y="1063"/>
                    </a:lnTo>
                    <a:lnTo>
                      <a:pt x="721" y="1060"/>
                    </a:lnTo>
                    <a:lnTo>
                      <a:pt x="733" y="1058"/>
                    </a:lnTo>
                    <a:lnTo>
                      <a:pt x="744" y="1057"/>
                    </a:lnTo>
                    <a:lnTo>
                      <a:pt x="756" y="1054"/>
                    </a:lnTo>
                    <a:lnTo>
                      <a:pt x="769" y="1052"/>
                    </a:lnTo>
                    <a:lnTo>
                      <a:pt x="782" y="1050"/>
                    </a:lnTo>
                    <a:lnTo>
                      <a:pt x="794" y="1048"/>
                    </a:lnTo>
                    <a:lnTo>
                      <a:pt x="809" y="1047"/>
                    </a:lnTo>
                    <a:lnTo>
                      <a:pt x="824" y="1046"/>
                    </a:lnTo>
                    <a:lnTo>
                      <a:pt x="839" y="1045"/>
                    </a:lnTo>
                    <a:lnTo>
                      <a:pt x="854" y="1045"/>
                    </a:lnTo>
                    <a:lnTo>
                      <a:pt x="871" y="1043"/>
                    </a:lnTo>
                    <a:lnTo>
                      <a:pt x="887" y="1042"/>
                    </a:lnTo>
                    <a:lnTo>
                      <a:pt x="903" y="1041"/>
                    </a:lnTo>
                    <a:lnTo>
                      <a:pt x="920" y="1040"/>
                    </a:lnTo>
                    <a:lnTo>
                      <a:pt x="937" y="1038"/>
                    </a:lnTo>
                    <a:lnTo>
                      <a:pt x="955" y="1037"/>
                    </a:lnTo>
                    <a:lnTo>
                      <a:pt x="973" y="1036"/>
                    </a:lnTo>
                    <a:lnTo>
                      <a:pt x="991" y="1034"/>
                    </a:lnTo>
                    <a:lnTo>
                      <a:pt x="1009" y="1033"/>
                    </a:lnTo>
                    <a:lnTo>
                      <a:pt x="1028" y="1032"/>
                    </a:lnTo>
                    <a:lnTo>
                      <a:pt x="1046" y="1031"/>
                    </a:lnTo>
                    <a:lnTo>
                      <a:pt x="1065" y="1029"/>
                    </a:lnTo>
                    <a:lnTo>
                      <a:pt x="1083" y="1028"/>
                    </a:lnTo>
                    <a:lnTo>
                      <a:pt x="1101" y="1025"/>
                    </a:lnTo>
                    <a:lnTo>
                      <a:pt x="1120" y="1023"/>
                    </a:lnTo>
                    <a:lnTo>
                      <a:pt x="1138" y="1021"/>
                    </a:lnTo>
                    <a:lnTo>
                      <a:pt x="1157" y="1019"/>
                    </a:lnTo>
                    <a:lnTo>
                      <a:pt x="1176" y="1016"/>
                    </a:lnTo>
                    <a:lnTo>
                      <a:pt x="1195" y="1013"/>
                    </a:lnTo>
                    <a:lnTo>
                      <a:pt x="1214" y="1010"/>
                    </a:lnTo>
                    <a:lnTo>
                      <a:pt x="1233" y="1007"/>
                    </a:lnTo>
                    <a:lnTo>
                      <a:pt x="1251" y="1003"/>
                    </a:lnTo>
                    <a:lnTo>
                      <a:pt x="1271" y="999"/>
                    </a:lnTo>
                    <a:lnTo>
                      <a:pt x="1289" y="996"/>
                    </a:lnTo>
                    <a:lnTo>
                      <a:pt x="1308" y="991"/>
                    </a:lnTo>
                    <a:lnTo>
                      <a:pt x="1326" y="987"/>
                    </a:lnTo>
                    <a:lnTo>
                      <a:pt x="1343" y="983"/>
                    </a:lnTo>
                    <a:lnTo>
                      <a:pt x="1362" y="979"/>
                    </a:lnTo>
                    <a:lnTo>
                      <a:pt x="1379" y="974"/>
                    </a:lnTo>
                    <a:lnTo>
                      <a:pt x="1397" y="969"/>
                    </a:lnTo>
                    <a:lnTo>
                      <a:pt x="1415" y="962"/>
                    </a:lnTo>
                    <a:lnTo>
                      <a:pt x="1433" y="957"/>
                    </a:lnTo>
                    <a:lnTo>
                      <a:pt x="1449" y="951"/>
                    </a:lnTo>
                    <a:lnTo>
                      <a:pt x="1467" y="944"/>
                    </a:lnTo>
                    <a:lnTo>
                      <a:pt x="1484" y="938"/>
                    </a:lnTo>
                    <a:lnTo>
                      <a:pt x="1500" y="932"/>
                    </a:lnTo>
                    <a:lnTo>
                      <a:pt x="1517" y="924"/>
                    </a:lnTo>
                    <a:lnTo>
                      <a:pt x="1532" y="917"/>
                    </a:lnTo>
                    <a:lnTo>
                      <a:pt x="1547" y="908"/>
                    </a:lnTo>
                    <a:lnTo>
                      <a:pt x="1563" y="901"/>
                    </a:lnTo>
                    <a:lnTo>
                      <a:pt x="1577" y="893"/>
                    </a:lnTo>
                    <a:lnTo>
                      <a:pt x="1591" y="884"/>
                    </a:lnTo>
                    <a:lnTo>
                      <a:pt x="1606" y="876"/>
                    </a:lnTo>
                    <a:lnTo>
                      <a:pt x="1620" y="866"/>
                    </a:lnTo>
                    <a:lnTo>
                      <a:pt x="1632" y="857"/>
                    </a:lnTo>
                    <a:lnTo>
                      <a:pt x="1645" y="847"/>
                    </a:lnTo>
                    <a:lnTo>
                      <a:pt x="1659" y="837"/>
                    </a:lnTo>
                    <a:lnTo>
                      <a:pt x="1671" y="827"/>
                    </a:lnTo>
                    <a:lnTo>
                      <a:pt x="1682" y="815"/>
                    </a:lnTo>
                    <a:lnTo>
                      <a:pt x="1693" y="803"/>
                    </a:lnTo>
                    <a:lnTo>
                      <a:pt x="1705" y="791"/>
                    </a:lnTo>
                    <a:lnTo>
                      <a:pt x="1715" y="779"/>
                    </a:lnTo>
                    <a:lnTo>
                      <a:pt x="1724" y="765"/>
                    </a:lnTo>
                    <a:lnTo>
                      <a:pt x="1733" y="753"/>
                    </a:lnTo>
                    <a:lnTo>
                      <a:pt x="1741" y="740"/>
                    </a:lnTo>
                    <a:lnTo>
                      <a:pt x="1751" y="728"/>
                    </a:lnTo>
                    <a:lnTo>
                      <a:pt x="1758" y="712"/>
                    </a:lnTo>
                    <a:lnTo>
                      <a:pt x="1765" y="698"/>
                    </a:lnTo>
                    <a:lnTo>
                      <a:pt x="1771" y="684"/>
                    </a:lnTo>
                    <a:lnTo>
                      <a:pt x="1778" y="668"/>
                    </a:lnTo>
                    <a:lnTo>
                      <a:pt x="1782" y="652"/>
                    </a:lnTo>
                    <a:lnTo>
                      <a:pt x="1786" y="636"/>
                    </a:lnTo>
                    <a:lnTo>
                      <a:pt x="1790" y="619"/>
                    </a:lnTo>
                    <a:lnTo>
                      <a:pt x="1795" y="603"/>
                    </a:lnTo>
                    <a:lnTo>
                      <a:pt x="1797" y="585"/>
                    </a:lnTo>
                    <a:lnTo>
                      <a:pt x="1798" y="566"/>
                    </a:lnTo>
                    <a:lnTo>
                      <a:pt x="1799" y="548"/>
                    </a:lnTo>
                    <a:lnTo>
                      <a:pt x="1801" y="530"/>
                    </a:lnTo>
                    <a:lnTo>
                      <a:pt x="1800" y="511"/>
                    </a:lnTo>
                    <a:lnTo>
                      <a:pt x="1799" y="492"/>
                    </a:lnTo>
                    <a:lnTo>
                      <a:pt x="1798" y="473"/>
                    </a:lnTo>
                    <a:lnTo>
                      <a:pt x="1797" y="454"/>
                    </a:lnTo>
                    <a:lnTo>
                      <a:pt x="1795" y="437"/>
                    </a:lnTo>
                    <a:lnTo>
                      <a:pt x="1791" y="418"/>
                    </a:lnTo>
                    <a:lnTo>
                      <a:pt x="1789" y="401"/>
                    </a:lnTo>
                    <a:lnTo>
                      <a:pt x="1786" y="383"/>
                    </a:lnTo>
                    <a:lnTo>
                      <a:pt x="1783" y="366"/>
                    </a:lnTo>
                    <a:lnTo>
                      <a:pt x="1779" y="349"/>
                    </a:lnTo>
                    <a:lnTo>
                      <a:pt x="1776" y="333"/>
                    </a:lnTo>
                    <a:lnTo>
                      <a:pt x="1773" y="315"/>
                    </a:lnTo>
                    <a:lnTo>
                      <a:pt x="1767" y="299"/>
                    </a:lnTo>
                    <a:lnTo>
                      <a:pt x="1762" y="283"/>
                    </a:lnTo>
                    <a:lnTo>
                      <a:pt x="1757" y="266"/>
                    </a:lnTo>
                    <a:lnTo>
                      <a:pt x="1751" y="250"/>
                    </a:lnTo>
                    <a:lnTo>
                      <a:pt x="1744" y="235"/>
                    </a:lnTo>
                    <a:lnTo>
                      <a:pt x="1738" y="218"/>
                    </a:lnTo>
                    <a:lnTo>
                      <a:pt x="1731" y="203"/>
                    </a:lnTo>
                    <a:lnTo>
                      <a:pt x="1725" y="187"/>
                    </a:lnTo>
                    <a:lnTo>
                      <a:pt x="1718" y="171"/>
                    </a:lnTo>
                    <a:lnTo>
                      <a:pt x="1710" y="157"/>
                    </a:lnTo>
                    <a:lnTo>
                      <a:pt x="1703" y="142"/>
                    </a:lnTo>
                    <a:lnTo>
                      <a:pt x="1695" y="126"/>
                    </a:lnTo>
                    <a:lnTo>
                      <a:pt x="1686" y="112"/>
                    </a:lnTo>
                    <a:lnTo>
                      <a:pt x="1678" y="98"/>
                    </a:lnTo>
                    <a:lnTo>
                      <a:pt x="1670" y="84"/>
                    </a:lnTo>
                    <a:lnTo>
                      <a:pt x="1662" y="70"/>
                    </a:lnTo>
                    <a:lnTo>
                      <a:pt x="1652" y="57"/>
                    </a:lnTo>
                    <a:lnTo>
                      <a:pt x="1642" y="44"/>
                    </a:lnTo>
                    <a:lnTo>
                      <a:pt x="1632" y="30"/>
                    </a:lnTo>
                    <a:lnTo>
                      <a:pt x="1623" y="17"/>
                    </a:lnTo>
                    <a:lnTo>
                      <a:pt x="1620" y="17"/>
                    </a:lnTo>
                    <a:lnTo>
                      <a:pt x="1618" y="17"/>
                    </a:lnTo>
                    <a:lnTo>
                      <a:pt x="1609" y="19"/>
                    </a:lnTo>
                    <a:lnTo>
                      <a:pt x="1600" y="21"/>
                    </a:lnTo>
                    <a:lnTo>
                      <a:pt x="1585" y="24"/>
                    </a:lnTo>
                    <a:lnTo>
                      <a:pt x="1570" y="26"/>
                    </a:lnTo>
                    <a:lnTo>
                      <a:pt x="1561" y="27"/>
                    </a:lnTo>
                    <a:lnTo>
                      <a:pt x="1552" y="28"/>
                    </a:lnTo>
                    <a:lnTo>
                      <a:pt x="1542" y="28"/>
                    </a:lnTo>
                    <a:lnTo>
                      <a:pt x="1534" y="29"/>
                    </a:lnTo>
                    <a:lnTo>
                      <a:pt x="1522" y="31"/>
                    </a:lnTo>
                    <a:lnTo>
                      <a:pt x="1511" y="32"/>
                    </a:lnTo>
                    <a:lnTo>
                      <a:pt x="1499" y="33"/>
                    </a:lnTo>
                    <a:lnTo>
                      <a:pt x="1488" y="34"/>
                    </a:lnTo>
                    <a:lnTo>
                      <a:pt x="1475" y="35"/>
                    </a:lnTo>
                    <a:lnTo>
                      <a:pt x="1463" y="36"/>
                    </a:lnTo>
                    <a:lnTo>
                      <a:pt x="1450" y="36"/>
                    </a:lnTo>
                    <a:lnTo>
                      <a:pt x="1438" y="37"/>
                    </a:lnTo>
                    <a:lnTo>
                      <a:pt x="1425" y="37"/>
                    </a:lnTo>
                    <a:lnTo>
                      <a:pt x="1411" y="39"/>
                    </a:lnTo>
                    <a:lnTo>
                      <a:pt x="1397" y="39"/>
                    </a:lnTo>
                    <a:lnTo>
                      <a:pt x="1384" y="39"/>
                    </a:lnTo>
                    <a:lnTo>
                      <a:pt x="1370" y="39"/>
                    </a:lnTo>
                    <a:lnTo>
                      <a:pt x="1356" y="39"/>
                    </a:lnTo>
                    <a:lnTo>
                      <a:pt x="1341" y="37"/>
                    </a:lnTo>
                    <a:lnTo>
                      <a:pt x="1328" y="37"/>
                    </a:lnTo>
                    <a:lnTo>
                      <a:pt x="1319" y="36"/>
                    </a:lnTo>
                    <a:lnTo>
                      <a:pt x="1311" y="36"/>
                    </a:lnTo>
                    <a:lnTo>
                      <a:pt x="1302" y="35"/>
                    </a:lnTo>
                    <a:lnTo>
                      <a:pt x="1293" y="35"/>
                    </a:lnTo>
                    <a:lnTo>
                      <a:pt x="1285" y="34"/>
                    </a:lnTo>
                    <a:lnTo>
                      <a:pt x="1277" y="33"/>
                    </a:lnTo>
                    <a:lnTo>
                      <a:pt x="1268" y="32"/>
                    </a:lnTo>
                    <a:lnTo>
                      <a:pt x="1260" y="31"/>
                    </a:lnTo>
                    <a:lnTo>
                      <a:pt x="1251" y="30"/>
                    </a:lnTo>
                    <a:lnTo>
                      <a:pt x="1244" y="30"/>
                    </a:lnTo>
                    <a:lnTo>
                      <a:pt x="1236" y="30"/>
                    </a:lnTo>
                    <a:lnTo>
                      <a:pt x="1228" y="29"/>
                    </a:lnTo>
                    <a:lnTo>
                      <a:pt x="1220" y="28"/>
                    </a:lnTo>
                    <a:lnTo>
                      <a:pt x="1211" y="27"/>
                    </a:lnTo>
                    <a:lnTo>
                      <a:pt x="1202" y="26"/>
                    </a:lnTo>
                    <a:lnTo>
                      <a:pt x="1194" y="26"/>
                    </a:lnTo>
                    <a:lnTo>
                      <a:pt x="1186" y="25"/>
                    </a:lnTo>
                    <a:lnTo>
                      <a:pt x="1178" y="24"/>
                    </a:lnTo>
                    <a:lnTo>
                      <a:pt x="1171" y="23"/>
                    </a:lnTo>
                    <a:lnTo>
                      <a:pt x="1163" y="22"/>
                    </a:lnTo>
                    <a:lnTo>
                      <a:pt x="1147" y="22"/>
                    </a:lnTo>
                    <a:lnTo>
                      <a:pt x="1133" y="21"/>
                    </a:lnTo>
                    <a:lnTo>
                      <a:pt x="1118" y="19"/>
                    </a:lnTo>
                    <a:lnTo>
                      <a:pt x="1102" y="16"/>
                    </a:lnTo>
                    <a:lnTo>
                      <a:pt x="1090" y="15"/>
                    </a:lnTo>
                    <a:lnTo>
                      <a:pt x="1077" y="14"/>
                    </a:lnTo>
                    <a:lnTo>
                      <a:pt x="1064" y="13"/>
                    </a:lnTo>
                    <a:lnTo>
                      <a:pt x="1050" y="12"/>
                    </a:lnTo>
                    <a:lnTo>
                      <a:pt x="1039" y="11"/>
                    </a:lnTo>
                    <a:lnTo>
                      <a:pt x="1027" y="8"/>
                    </a:lnTo>
                    <a:lnTo>
                      <a:pt x="1017" y="7"/>
                    </a:lnTo>
                    <a:lnTo>
                      <a:pt x="1007" y="6"/>
                    </a:lnTo>
                    <a:lnTo>
                      <a:pt x="999" y="5"/>
                    </a:lnTo>
                    <a:lnTo>
                      <a:pt x="991" y="4"/>
                    </a:lnTo>
                    <a:lnTo>
                      <a:pt x="984" y="4"/>
                    </a:lnTo>
                    <a:lnTo>
                      <a:pt x="978" y="3"/>
                    </a:lnTo>
                    <a:lnTo>
                      <a:pt x="972" y="3"/>
                    </a:lnTo>
                    <a:lnTo>
                      <a:pt x="966" y="2"/>
                    </a:lnTo>
                    <a:lnTo>
                      <a:pt x="962" y="1"/>
                    </a:lnTo>
                    <a:lnTo>
                      <a:pt x="959" y="1"/>
                    </a:lnTo>
                    <a:lnTo>
                      <a:pt x="958" y="0"/>
                    </a:lnTo>
                    <a:lnTo>
                      <a:pt x="957" y="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98480" y="1949400"/>
                <a:ext cx="70920" cy="84960"/>
              </a:xfrm>
              <a:custGeom>
                <a:avLst/>
                <a:gdLst/>
                <a:ahLst/>
                <a:rect l="l" t="t" r="r" b="b"/>
                <a:pathLst>
                  <a:path w="1421" h="1621">
                    <a:moveTo>
                      <a:pt x="752" y="62"/>
                    </a:moveTo>
                    <a:lnTo>
                      <a:pt x="753" y="81"/>
                    </a:lnTo>
                    <a:lnTo>
                      <a:pt x="755" y="100"/>
                    </a:lnTo>
                    <a:lnTo>
                      <a:pt x="756" y="119"/>
                    </a:lnTo>
                    <a:lnTo>
                      <a:pt x="758" y="138"/>
                    </a:lnTo>
                    <a:lnTo>
                      <a:pt x="763" y="142"/>
                    </a:lnTo>
                    <a:lnTo>
                      <a:pt x="769" y="146"/>
                    </a:lnTo>
                    <a:lnTo>
                      <a:pt x="780" y="156"/>
                    </a:lnTo>
                    <a:lnTo>
                      <a:pt x="792" y="165"/>
                    </a:lnTo>
                    <a:lnTo>
                      <a:pt x="800" y="173"/>
                    </a:lnTo>
                    <a:lnTo>
                      <a:pt x="808" y="180"/>
                    </a:lnTo>
                    <a:lnTo>
                      <a:pt x="818" y="189"/>
                    </a:lnTo>
                    <a:lnTo>
                      <a:pt x="826" y="196"/>
                    </a:lnTo>
                    <a:lnTo>
                      <a:pt x="836" y="206"/>
                    </a:lnTo>
                    <a:lnTo>
                      <a:pt x="847" y="216"/>
                    </a:lnTo>
                    <a:lnTo>
                      <a:pt x="857" y="226"/>
                    </a:lnTo>
                    <a:lnTo>
                      <a:pt x="868" y="237"/>
                    </a:lnTo>
                    <a:lnTo>
                      <a:pt x="878" y="248"/>
                    </a:lnTo>
                    <a:lnTo>
                      <a:pt x="888" y="260"/>
                    </a:lnTo>
                    <a:lnTo>
                      <a:pt x="898" y="271"/>
                    </a:lnTo>
                    <a:lnTo>
                      <a:pt x="907" y="283"/>
                    </a:lnTo>
                    <a:lnTo>
                      <a:pt x="917" y="295"/>
                    </a:lnTo>
                    <a:lnTo>
                      <a:pt x="925" y="306"/>
                    </a:lnTo>
                    <a:lnTo>
                      <a:pt x="933" y="318"/>
                    </a:lnTo>
                    <a:lnTo>
                      <a:pt x="941" y="331"/>
                    </a:lnTo>
                    <a:lnTo>
                      <a:pt x="947" y="343"/>
                    </a:lnTo>
                    <a:lnTo>
                      <a:pt x="953" y="355"/>
                    </a:lnTo>
                    <a:lnTo>
                      <a:pt x="959" y="368"/>
                    </a:lnTo>
                    <a:lnTo>
                      <a:pt x="966" y="380"/>
                    </a:lnTo>
                    <a:lnTo>
                      <a:pt x="968" y="392"/>
                    </a:lnTo>
                    <a:lnTo>
                      <a:pt x="970" y="404"/>
                    </a:lnTo>
                    <a:lnTo>
                      <a:pt x="973" y="416"/>
                    </a:lnTo>
                    <a:lnTo>
                      <a:pt x="975" y="429"/>
                    </a:lnTo>
                    <a:lnTo>
                      <a:pt x="975" y="440"/>
                    </a:lnTo>
                    <a:lnTo>
                      <a:pt x="974" y="451"/>
                    </a:lnTo>
                    <a:lnTo>
                      <a:pt x="971" y="461"/>
                    </a:lnTo>
                    <a:lnTo>
                      <a:pt x="968" y="470"/>
                    </a:lnTo>
                    <a:lnTo>
                      <a:pt x="963" y="480"/>
                    </a:lnTo>
                    <a:lnTo>
                      <a:pt x="957" y="489"/>
                    </a:lnTo>
                    <a:lnTo>
                      <a:pt x="951" y="497"/>
                    </a:lnTo>
                    <a:lnTo>
                      <a:pt x="945" y="506"/>
                    </a:lnTo>
                    <a:lnTo>
                      <a:pt x="937" y="513"/>
                    </a:lnTo>
                    <a:lnTo>
                      <a:pt x="928" y="520"/>
                    </a:lnTo>
                    <a:lnTo>
                      <a:pt x="919" y="528"/>
                    </a:lnTo>
                    <a:lnTo>
                      <a:pt x="909" y="534"/>
                    </a:lnTo>
                    <a:lnTo>
                      <a:pt x="897" y="539"/>
                    </a:lnTo>
                    <a:lnTo>
                      <a:pt x="886" y="544"/>
                    </a:lnTo>
                    <a:lnTo>
                      <a:pt x="874" y="550"/>
                    </a:lnTo>
                    <a:lnTo>
                      <a:pt x="861" y="555"/>
                    </a:lnTo>
                    <a:lnTo>
                      <a:pt x="847" y="560"/>
                    </a:lnTo>
                    <a:lnTo>
                      <a:pt x="834" y="564"/>
                    </a:lnTo>
                    <a:lnTo>
                      <a:pt x="820" y="567"/>
                    </a:lnTo>
                    <a:lnTo>
                      <a:pt x="804" y="572"/>
                    </a:lnTo>
                    <a:lnTo>
                      <a:pt x="795" y="573"/>
                    </a:lnTo>
                    <a:lnTo>
                      <a:pt x="787" y="575"/>
                    </a:lnTo>
                    <a:lnTo>
                      <a:pt x="779" y="576"/>
                    </a:lnTo>
                    <a:lnTo>
                      <a:pt x="771" y="578"/>
                    </a:lnTo>
                    <a:lnTo>
                      <a:pt x="761" y="579"/>
                    </a:lnTo>
                    <a:lnTo>
                      <a:pt x="753" y="581"/>
                    </a:lnTo>
                    <a:lnTo>
                      <a:pt x="745" y="582"/>
                    </a:lnTo>
                    <a:lnTo>
                      <a:pt x="736" y="584"/>
                    </a:lnTo>
                    <a:lnTo>
                      <a:pt x="727" y="585"/>
                    </a:lnTo>
                    <a:lnTo>
                      <a:pt x="719" y="587"/>
                    </a:lnTo>
                    <a:lnTo>
                      <a:pt x="709" y="588"/>
                    </a:lnTo>
                    <a:lnTo>
                      <a:pt x="700" y="589"/>
                    </a:lnTo>
                    <a:lnTo>
                      <a:pt x="691" y="590"/>
                    </a:lnTo>
                    <a:lnTo>
                      <a:pt x="682" y="591"/>
                    </a:lnTo>
                    <a:lnTo>
                      <a:pt x="672" y="592"/>
                    </a:lnTo>
                    <a:lnTo>
                      <a:pt x="662" y="592"/>
                    </a:lnTo>
                    <a:lnTo>
                      <a:pt x="652" y="594"/>
                    </a:lnTo>
                    <a:lnTo>
                      <a:pt x="643" y="595"/>
                    </a:lnTo>
                    <a:lnTo>
                      <a:pt x="633" y="596"/>
                    </a:lnTo>
                    <a:lnTo>
                      <a:pt x="624" y="597"/>
                    </a:lnTo>
                    <a:lnTo>
                      <a:pt x="613" y="598"/>
                    </a:lnTo>
                    <a:lnTo>
                      <a:pt x="603" y="599"/>
                    </a:lnTo>
                    <a:lnTo>
                      <a:pt x="593" y="599"/>
                    </a:lnTo>
                    <a:lnTo>
                      <a:pt x="584" y="600"/>
                    </a:lnTo>
                    <a:lnTo>
                      <a:pt x="573" y="601"/>
                    </a:lnTo>
                    <a:lnTo>
                      <a:pt x="562" y="602"/>
                    </a:lnTo>
                    <a:lnTo>
                      <a:pt x="552" y="603"/>
                    </a:lnTo>
                    <a:lnTo>
                      <a:pt x="541" y="604"/>
                    </a:lnTo>
                    <a:lnTo>
                      <a:pt x="530" y="605"/>
                    </a:lnTo>
                    <a:lnTo>
                      <a:pt x="518" y="606"/>
                    </a:lnTo>
                    <a:lnTo>
                      <a:pt x="507" y="607"/>
                    </a:lnTo>
                    <a:lnTo>
                      <a:pt x="496" y="607"/>
                    </a:lnTo>
                    <a:lnTo>
                      <a:pt x="484" y="608"/>
                    </a:lnTo>
                    <a:lnTo>
                      <a:pt x="471" y="610"/>
                    </a:lnTo>
                    <a:lnTo>
                      <a:pt x="459" y="611"/>
                    </a:lnTo>
                    <a:lnTo>
                      <a:pt x="448" y="612"/>
                    </a:lnTo>
                    <a:lnTo>
                      <a:pt x="436" y="614"/>
                    </a:lnTo>
                    <a:lnTo>
                      <a:pt x="423" y="616"/>
                    </a:lnTo>
                    <a:lnTo>
                      <a:pt x="412" y="617"/>
                    </a:lnTo>
                    <a:lnTo>
                      <a:pt x="400" y="619"/>
                    </a:lnTo>
                    <a:lnTo>
                      <a:pt x="388" y="622"/>
                    </a:lnTo>
                    <a:lnTo>
                      <a:pt x="375" y="624"/>
                    </a:lnTo>
                    <a:lnTo>
                      <a:pt x="364" y="626"/>
                    </a:lnTo>
                    <a:lnTo>
                      <a:pt x="352" y="629"/>
                    </a:lnTo>
                    <a:lnTo>
                      <a:pt x="340" y="632"/>
                    </a:lnTo>
                    <a:lnTo>
                      <a:pt x="327" y="635"/>
                    </a:lnTo>
                    <a:lnTo>
                      <a:pt x="314" y="638"/>
                    </a:lnTo>
                    <a:lnTo>
                      <a:pt x="302" y="641"/>
                    </a:lnTo>
                    <a:lnTo>
                      <a:pt x="291" y="645"/>
                    </a:lnTo>
                    <a:lnTo>
                      <a:pt x="280" y="649"/>
                    </a:lnTo>
                    <a:lnTo>
                      <a:pt x="268" y="654"/>
                    </a:lnTo>
                    <a:lnTo>
                      <a:pt x="257" y="658"/>
                    </a:lnTo>
                    <a:lnTo>
                      <a:pt x="245" y="663"/>
                    </a:lnTo>
                    <a:lnTo>
                      <a:pt x="234" y="667"/>
                    </a:lnTo>
                    <a:lnTo>
                      <a:pt x="222" y="673"/>
                    </a:lnTo>
                    <a:lnTo>
                      <a:pt x="211" y="678"/>
                    </a:lnTo>
                    <a:lnTo>
                      <a:pt x="200" y="684"/>
                    </a:lnTo>
                    <a:lnTo>
                      <a:pt x="189" y="691"/>
                    </a:lnTo>
                    <a:lnTo>
                      <a:pt x="178" y="697"/>
                    </a:lnTo>
                    <a:lnTo>
                      <a:pt x="167" y="703"/>
                    </a:lnTo>
                    <a:lnTo>
                      <a:pt x="157" y="711"/>
                    </a:lnTo>
                    <a:lnTo>
                      <a:pt x="147" y="719"/>
                    </a:lnTo>
                    <a:lnTo>
                      <a:pt x="137" y="727"/>
                    </a:lnTo>
                    <a:lnTo>
                      <a:pt x="126" y="735"/>
                    </a:lnTo>
                    <a:lnTo>
                      <a:pt x="117" y="744"/>
                    </a:lnTo>
                    <a:lnTo>
                      <a:pt x="109" y="753"/>
                    </a:lnTo>
                    <a:lnTo>
                      <a:pt x="100" y="763"/>
                    </a:lnTo>
                    <a:lnTo>
                      <a:pt x="91" y="773"/>
                    </a:lnTo>
                    <a:lnTo>
                      <a:pt x="83" y="783"/>
                    </a:lnTo>
                    <a:lnTo>
                      <a:pt x="75" y="794"/>
                    </a:lnTo>
                    <a:lnTo>
                      <a:pt x="67" y="804"/>
                    </a:lnTo>
                    <a:lnTo>
                      <a:pt x="59" y="814"/>
                    </a:lnTo>
                    <a:lnTo>
                      <a:pt x="53" y="828"/>
                    </a:lnTo>
                    <a:lnTo>
                      <a:pt x="47" y="841"/>
                    </a:lnTo>
                    <a:lnTo>
                      <a:pt x="42" y="854"/>
                    </a:lnTo>
                    <a:lnTo>
                      <a:pt x="36" y="868"/>
                    </a:lnTo>
                    <a:lnTo>
                      <a:pt x="30" y="882"/>
                    </a:lnTo>
                    <a:lnTo>
                      <a:pt x="25" y="896"/>
                    </a:lnTo>
                    <a:lnTo>
                      <a:pt x="20" y="910"/>
                    </a:lnTo>
                    <a:lnTo>
                      <a:pt x="15" y="926"/>
                    </a:lnTo>
                    <a:lnTo>
                      <a:pt x="12" y="943"/>
                    </a:lnTo>
                    <a:lnTo>
                      <a:pt x="9" y="960"/>
                    </a:lnTo>
                    <a:lnTo>
                      <a:pt x="6" y="977"/>
                    </a:lnTo>
                    <a:lnTo>
                      <a:pt x="3" y="994"/>
                    </a:lnTo>
                    <a:lnTo>
                      <a:pt x="2" y="1014"/>
                    </a:lnTo>
                    <a:lnTo>
                      <a:pt x="2" y="1033"/>
                    </a:lnTo>
                    <a:lnTo>
                      <a:pt x="1" y="1052"/>
                    </a:lnTo>
                    <a:lnTo>
                      <a:pt x="0" y="1072"/>
                    </a:lnTo>
                    <a:lnTo>
                      <a:pt x="1" y="1086"/>
                    </a:lnTo>
                    <a:lnTo>
                      <a:pt x="3" y="1101"/>
                    </a:lnTo>
                    <a:lnTo>
                      <a:pt x="4" y="1117"/>
                    </a:lnTo>
                    <a:lnTo>
                      <a:pt x="6" y="1131"/>
                    </a:lnTo>
                    <a:lnTo>
                      <a:pt x="10" y="1146"/>
                    </a:lnTo>
                    <a:lnTo>
                      <a:pt x="13" y="1161"/>
                    </a:lnTo>
                    <a:lnTo>
                      <a:pt x="17" y="1175"/>
                    </a:lnTo>
                    <a:lnTo>
                      <a:pt x="21" y="1189"/>
                    </a:lnTo>
                    <a:lnTo>
                      <a:pt x="27" y="1203"/>
                    </a:lnTo>
                    <a:lnTo>
                      <a:pt x="34" y="1217"/>
                    </a:lnTo>
                    <a:lnTo>
                      <a:pt x="41" y="1230"/>
                    </a:lnTo>
                    <a:lnTo>
                      <a:pt x="47" y="1243"/>
                    </a:lnTo>
                    <a:lnTo>
                      <a:pt x="56" y="1257"/>
                    </a:lnTo>
                    <a:lnTo>
                      <a:pt x="64" y="1269"/>
                    </a:lnTo>
                    <a:lnTo>
                      <a:pt x="72" y="1282"/>
                    </a:lnTo>
                    <a:lnTo>
                      <a:pt x="81" y="1294"/>
                    </a:lnTo>
                    <a:lnTo>
                      <a:pt x="91" y="1307"/>
                    </a:lnTo>
                    <a:lnTo>
                      <a:pt x="101" y="1319"/>
                    </a:lnTo>
                    <a:lnTo>
                      <a:pt x="111" y="1331"/>
                    </a:lnTo>
                    <a:lnTo>
                      <a:pt x="121" y="1343"/>
                    </a:lnTo>
                    <a:lnTo>
                      <a:pt x="132" y="1355"/>
                    </a:lnTo>
                    <a:lnTo>
                      <a:pt x="144" y="1366"/>
                    </a:lnTo>
                    <a:lnTo>
                      <a:pt x="155" y="1377"/>
                    </a:lnTo>
                    <a:lnTo>
                      <a:pt x="166" y="1388"/>
                    </a:lnTo>
                    <a:lnTo>
                      <a:pt x="178" y="1399"/>
                    </a:lnTo>
                    <a:lnTo>
                      <a:pt x="191" y="1410"/>
                    </a:lnTo>
                    <a:lnTo>
                      <a:pt x="203" y="1421"/>
                    </a:lnTo>
                    <a:lnTo>
                      <a:pt x="215" y="1431"/>
                    </a:lnTo>
                    <a:lnTo>
                      <a:pt x="227" y="1441"/>
                    </a:lnTo>
                    <a:lnTo>
                      <a:pt x="240" y="1451"/>
                    </a:lnTo>
                    <a:lnTo>
                      <a:pt x="252" y="1461"/>
                    </a:lnTo>
                    <a:lnTo>
                      <a:pt x="265" y="1470"/>
                    </a:lnTo>
                    <a:lnTo>
                      <a:pt x="276" y="1478"/>
                    </a:lnTo>
                    <a:lnTo>
                      <a:pt x="289" y="1486"/>
                    </a:lnTo>
                    <a:lnTo>
                      <a:pt x="301" y="1494"/>
                    </a:lnTo>
                    <a:lnTo>
                      <a:pt x="312" y="1503"/>
                    </a:lnTo>
                    <a:lnTo>
                      <a:pt x="324" y="1511"/>
                    </a:lnTo>
                    <a:lnTo>
                      <a:pt x="336" y="1518"/>
                    </a:lnTo>
                    <a:lnTo>
                      <a:pt x="348" y="1526"/>
                    </a:lnTo>
                    <a:lnTo>
                      <a:pt x="360" y="1534"/>
                    </a:lnTo>
                    <a:lnTo>
                      <a:pt x="371" y="1540"/>
                    </a:lnTo>
                    <a:lnTo>
                      <a:pt x="384" y="1547"/>
                    </a:lnTo>
                    <a:lnTo>
                      <a:pt x="395" y="1553"/>
                    </a:lnTo>
                    <a:lnTo>
                      <a:pt x="406" y="1559"/>
                    </a:lnTo>
                    <a:lnTo>
                      <a:pt x="415" y="1565"/>
                    </a:lnTo>
                    <a:lnTo>
                      <a:pt x="426" y="1571"/>
                    </a:lnTo>
                    <a:lnTo>
                      <a:pt x="436" y="1577"/>
                    </a:lnTo>
                    <a:lnTo>
                      <a:pt x="446" y="1582"/>
                    </a:lnTo>
                    <a:lnTo>
                      <a:pt x="454" y="1586"/>
                    </a:lnTo>
                    <a:lnTo>
                      <a:pt x="462" y="1590"/>
                    </a:lnTo>
                    <a:lnTo>
                      <a:pt x="471" y="1594"/>
                    </a:lnTo>
                    <a:lnTo>
                      <a:pt x="480" y="1599"/>
                    </a:lnTo>
                    <a:lnTo>
                      <a:pt x="493" y="1606"/>
                    </a:lnTo>
                    <a:lnTo>
                      <a:pt x="505" y="1612"/>
                    </a:lnTo>
                    <a:lnTo>
                      <a:pt x="513" y="1615"/>
                    </a:lnTo>
                    <a:lnTo>
                      <a:pt x="521" y="1618"/>
                    </a:lnTo>
                    <a:lnTo>
                      <a:pt x="525" y="1620"/>
                    </a:lnTo>
                    <a:lnTo>
                      <a:pt x="528" y="1621"/>
                    </a:lnTo>
                    <a:lnTo>
                      <a:pt x="528" y="1584"/>
                    </a:lnTo>
                    <a:lnTo>
                      <a:pt x="528" y="1548"/>
                    </a:lnTo>
                    <a:lnTo>
                      <a:pt x="528" y="1511"/>
                    </a:lnTo>
                    <a:lnTo>
                      <a:pt x="528" y="1474"/>
                    </a:lnTo>
                    <a:lnTo>
                      <a:pt x="528" y="1437"/>
                    </a:lnTo>
                    <a:lnTo>
                      <a:pt x="528" y="1401"/>
                    </a:lnTo>
                    <a:lnTo>
                      <a:pt x="528" y="1363"/>
                    </a:lnTo>
                    <a:lnTo>
                      <a:pt x="528" y="1326"/>
                    </a:lnTo>
                    <a:lnTo>
                      <a:pt x="525" y="1324"/>
                    </a:lnTo>
                    <a:lnTo>
                      <a:pt x="521" y="1323"/>
                    </a:lnTo>
                    <a:lnTo>
                      <a:pt x="514" y="1319"/>
                    </a:lnTo>
                    <a:lnTo>
                      <a:pt x="507" y="1314"/>
                    </a:lnTo>
                    <a:lnTo>
                      <a:pt x="496" y="1306"/>
                    </a:lnTo>
                    <a:lnTo>
                      <a:pt x="486" y="1296"/>
                    </a:lnTo>
                    <a:lnTo>
                      <a:pt x="475" y="1285"/>
                    </a:lnTo>
                    <a:lnTo>
                      <a:pt x="464" y="1273"/>
                    </a:lnTo>
                    <a:lnTo>
                      <a:pt x="452" y="1259"/>
                    </a:lnTo>
                    <a:lnTo>
                      <a:pt x="440" y="1243"/>
                    </a:lnTo>
                    <a:lnTo>
                      <a:pt x="435" y="1234"/>
                    </a:lnTo>
                    <a:lnTo>
                      <a:pt x="429" y="1225"/>
                    </a:lnTo>
                    <a:lnTo>
                      <a:pt x="423" y="1216"/>
                    </a:lnTo>
                    <a:lnTo>
                      <a:pt x="417" y="1206"/>
                    </a:lnTo>
                    <a:lnTo>
                      <a:pt x="414" y="1195"/>
                    </a:lnTo>
                    <a:lnTo>
                      <a:pt x="411" y="1185"/>
                    </a:lnTo>
                    <a:lnTo>
                      <a:pt x="407" y="1175"/>
                    </a:lnTo>
                    <a:lnTo>
                      <a:pt x="404" y="1165"/>
                    </a:lnTo>
                    <a:lnTo>
                      <a:pt x="402" y="1152"/>
                    </a:lnTo>
                    <a:lnTo>
                      <a:pt x="401" y="1140"/>
                    </a:lnTo>
                    <a:lnTo>
                      <a:pt x="399" y="1128"/>
                    </a:lnTo>
                    <a:lnTo>
                      <a:pt x="398" y="1115"/>
                    </a:lnTo>
                    <a:lnTo>
                      <a:pt x="400" y="1105"/>
                    </a:lnTo>
                    <a:lnTo>
                      <a:pt x="402" y="1095"/>
                    </a:lnTo>
                    <a:lnTo>
                      <a:pt x="406" y="1086"/>
                    </a:lnTo>
                    <a:lnTo>
                      <a:pt x="410" y="1078"/>
                    </a:lnTo>
                    <a:lnTo>
                      <a:pt x="417" y="1070"/>
                    </a:lnTo>
                    <a:lnTo>
                      <a:pt x="424" y="1063"/>
                    </a:lnTo>
                    <a:lnTo>
                      <a:pt x="434" y="1056"/>
                    </a:lnTo>
                    <a:lnTo>
                      <a:pt x="444" y="1049"/>
                    </a:lnTo>
                    <a:lnTo>
                      <a:pt x="455" y="1043"/>
                    </a:lnTo>
                    <a:lnTo>
                      <a:pt x="467" y="1037"/>
                    </a:lnTo>
                    <a:lnTo>
                      <a:pt x="482" y="1033"/>
                    </a:lnTo>
                    <a:lnTo>
                      <a:pt x="496" y="1028"/>
                    </a:lnTo>
                    <a:lnTo>
                      <a:pt x="510" y="1024"/>
                    </a:lnTo>
                    <a:lnTo>
                      <a:pt x="526" y="1019"/>
                    </a:lnTo>
                    <a:lnTo>
                      <a:pt x="534" y="1018"/>
                    </a:lnTo>
                    <a:lnTo>
                      <a:pt x="542" y="1016"/>
                    </a:lnTo>
                    <a:lnTo>
                      <a:pt x="551" y="1015"/>
                    </a:lnTo>
                    <a:lnTo>
                      <a:pt x="559" y="1013"/>
                    </a:lnTo>
                    <a:lnTo>
                      <a:pt x="568" y="1011"/>
                    </a:lnTo>
                    <a:lnTo>
                      <a:pt x="577" y="1008"/>
                    </a:lnTo>
                    <a:lnTo>
                      <a:pt x="586" y="1007"/>
                    </a:lnTo>
                    <a:lnTo>
                      <a:pt x="595" y="1005"/>
                    </a:lnTo>
                    <a:lnTo>
                      <a:pt x="604" y="1004"/>
                    </a:lnTo>
                    <a:lnTo>
                      <a:pt x="614" y="1002"/>
                    </a:lnTo>
                    <a:lnTo>
                      <a:pt x="624" y="1001"/>
                    </a:lnTo>
                    <a:lnTo>
                      <a:pt x="634" y="1000"/>
                    </a:lnTo>
                    <a:lnTo>
                      <a:pt x="643" y="999"/>
                    </a:lnTo>
                    <a:lnTo>
                      <a:pt x="653" y="997"/>
                    </a:lnTo>
                    <a:lnTo>
                      <a:pt x="662" y="996"/>
                    </a:lnTo>
                    <a:lnTo>
                      <a:pt x="673" y="995"/>
                    </a:lnTo>
                    <a:lnTo>
                      <a:pt x="682" y="994"/>
                    </a:lnTo>
                    <a:lnTo>
                      <a:pt x="692" y="993"/>
                    </a:lnTo>
                    <a:lnTo>
                      <a:pt x="702" y="991"/>
                    </a:lnTo>
                    <a:lnTo>
                      <a:pt x="712" y="990"/>
                    </a:lnTo>
                    <a:lnTo>
                      <a:pt x="722" y="990"/>
                    </a:lnTo>
                    <a:lnTo>
                      <a:pt x="732" y="989"/>
                    </a:lnTo>
                    <a:lnTo>
                      <a:pt x="742" y="988"/>
                    </a:lnTo>
                    <a:lnTo>
                      <a:pt x="752" y="987"/>
                    </a:lnTo>
                    <a:lnTo>
                      <a:pt x="761" y="986"/>
                    </a:lnTo>
                    <a:lnTo>
                      <a:pt x="772" y="985"/>
                    </a:lnTo>
                    <a:lnTo>
                      <a:pt x="782" y="984"/>
                    </a:lnTo>
                    <a:lnTo>
                      <a:pt x="792" y="983"/>
                    </a:lnTo>
                    <a:lnTo>
                      <a:pt x="801" y="982"/>
                    </a:lnTo>
                    <a:lnTo>
                      <a:pt x="811" y="982"/>
                    </a:lnTo>
                    <a:lnTo>
                      <a:pt x="822" y="981"/>
                    </a:lnTo>
                    <a:lnTo>
                      <a:pt x="832" y="980"/>
                    </a:lnTo>
                    <a:lnTo>
                      <a:pt x="841" y="979"/>
                    </a:lnTo>
                    <a:lnTo>
                      <a:pt x="850" y="978"/>
                    </a:lnTo>
                    <a:lnTo>
                      <a:pt x="860" y="977"/>
                    </a:lnTo>
                    <a:lnTo>
                      <a:pt x="870" y="975"/>
                    </a:lnTo>
                    <a:lnTo>
                      <a:pt x="879" y="974"/>
                    </a:lnTo>
                    <a:lnTo>
                      <a:pt x="889" y="974"/>
                    </a:lnTo>
                    <a:lnTo>
                      <a:pt x="898" y="973"/>
                    </a:lnTo>
                    <a:lnTo>
                      <a:pt x="907" y="972"/>
                    </a:lnTo>
                    <a:lnTo>
                      <a:pt x="918" y="971"/>
                    </a:lnTo>
                    <a:lnTo>
                      <a:pt x="929" y="970"/>
                    </a:lnTo>
                    <a:lnTo>
                      <a:pt x="939" y="969"/>
                    </a:lnTo>
                    <a:lnTo>
                      <a:pt x="949" y="968"/>
                    </a:lnTo>
                    <a:lnTo>
                      <a:pt x="960" y="966"/>
                    </a:lnTo>
                    <a:lnTo>
                      <a:pt x="972" y="965"/>
                    </a:lnTo>
                    <a:lnTo>
                      <a:pt x="982" y="964"/>
                    </a:lnTo>
                    <a:lnTo>
                      <a:pt x="993" y="962"/>
                    </a:lnTo>
                    <a:lnTo>
                      <a:pt x="1004" y="960"/>
                    </a:lnTo>
                    <a:lnTo>
                      <a:pt x="1017" y="958"/>
                    </a:lnTo>
                    <a:lnTo>
                      <a:pt x="1028" y="957"/>
                    </a:lnTo>
                    <a:lnTo>
                      <a:pt x="1039" y="956"/>
                    </a:lnTo>
                    <a:lnTo>
                      <a:pt x="1050" y="954"/>
                    </a:lnTo>
                    <a:lnTo>
                      <a:pt x="1062" y="952"/>
                    </a:lnTo>
                    <a:lnTo>
                      <a:pt x="1073" y="950"/>
                    </a:lnTo>
                    <a:lnTo>
                      <a:pt x="1085" y="948"/>
                    </a:lnTo>
                    <a:lnTo>
                      <a:pt x="1096" y="946"/>
                    </a:lnTo>
                    <a:lnTo>
                      <a:pt x="1108" y="943"/>
                    </a:lnTo>
                    <a:lnTo>
                      <a:pt x="1119" y="940"/>
                    </a:lnTo>
                    <a:lnTo>
                      <a:pt x="1130" y="938"/>
                    </a:lnTo>
                    <a:lnTo>
                      <a:pt x="1142" y="934"/>
                    </a:lnTo>
                    <a:lnTo>
                      <a:pt x="1153" y="931"/>
                    </a:lnTo>
                    <a:lnTo>
                      <a:pt x="1165" y="927"/>
                    </a:lnTo>
                    <a:lnTo>
                      <a:pt x="1176" y="924"/>
                    </a:lnTo>
                    <a:lnTo>
                      <a:pt x="1187" y="919"/>
                    </a:lnTo>
                    <a:lnTo>
                      <a:pt x="1198" y="915"/>
                    </a:lnTo>
                    <a:lnTo>
                      <a:pt x="1209" y="909"/>
                    </a:lnTo>
                    <a:lnTo>
                      <a:pt x="1220" y="904"/>
                    </a:lnTo>
                    <a:lnTo>
                      <a:pt x="1230" y="898"/>
                    </a:lnTo>
                    <a:lnTo>
                      <a:pt x="1239" y="893"/>
                    </a:lnTo>
                    <a:lnTo>
                      <a:pt x="1249" y="887"/>
                    </a:lnTo>
                    <a:lnTo>
                      <a:pt x="1260" y="882"/>
                    </a:lnTo>
                    <a:lnTo>
                      <a:pt x="1269" y="874"/>
                    </a:lnTo>
                    <a:lnTo>
                      <a:pt x="1279" y="867"/>
                    </a:lnTo>
                    <a:lnTo>
                      <a:pt x="1288" y="859"/>
                    </a:lnTo>
                    <a:lnTo>
                      <a:pt x="1297" y="852"/>
                    </a:lnTo>
                    <a:lnTo>
                      <a:pt x="1307" y="844"/>
                    </a:lnTo>
                    <a:lnTo>
                      <a:pt x="1316" y="835"/>
                    </a:lnTo>
                    <a:lnTo>
                      <a:pt x="1324" y="827"/>
                    </a:lnTo>
                    <a:lnTo>
                      <a:pt x="1333" y="819"/>
                    </a:lnTo>
                    <a:lnTo>
                      <a:pt x="1341" y="808"/>
                    </a:lnTo>
                    <a:lnTo>
                      <a:pt x="1348" y="798"/>
                    </a:lnTo>
                    <a:lnTo>
                      <a:pt x="1356" y="787"/>
                    </a:lnTo>
                    <a:lnTo>
                      <a:pt x="1364" y="777"/>
                    </a:lnTo>
                    <a:lnTo>
                      <a:pt x="1369" y="764"/>
                    </a:lnTo>
                    <a:lnTo>
                      <a:pt x="1375" y="751"/>
                    </a:lnTo>
                    <a:lnTo>
                      <a:pt x="1381" y="739"/>
                    </a:lnTo>
                    <a:lnTo>
                      <a:pt x="1387" y="727"/>
                    </a:lnTo>
                    <a:lnTo>
                      <a:pt x="1391" y="712"/>
                    </a:lnTo>
                    <a:lnTo>
                      <a:pt x="1396" y="698"/>
                    </a:lnTo>
                    <a:lnTo>
                      <a:pt x="1401" y="685"/>
                    </a:lnTo>
                    <a:lnTo>
                      <a:pt x="1405" y="671"/>
                    </a:lnTo>
                    <a:lnTo>
                      <a:pt x="1408" y="653"/>
                    </a:lnTo>
                    <a:lnTo>
                      <a:pt x="1411" y="637"/>
                    </a:lnTo>
                    <a:lnTo>
                      <a:pt x="1414" y="619"/>
                    </a:lnTo>
                    <a:lnTo>
                      <a:pt x="1417" y="602"/>
                    </a:lnTo>
                    <a:lnTo>
                      <a:pt x="1418" y="584"/>
                    </a:lnTo>
                    <a:lnTo>
                      <a:pt x="1419" y="564"/>
                    </a:lnTo>
                    <a:lnTo>
                      <a:pt x="1420" y="546"/>
                    </a:lnTo>
                    <a:lnTo>
                      <a:pt x="1421" y="528"/>
                    </a:lnTo>
                    <a:lnTo>
                      <a:pt x="1420" y="508"/>
                    </a:lnTo>
                    <a:lnTo>
                      <a:pt x="1418" y="490"/>
                    </a:lnTo>
                    <a:lnTo>
                      <a:pt x="1417" y="470"/>
                    </a:lnTo>
                    <a:lnTo>
                      <a:pt x="1415" y="451"/>
                    </a:lnTo>
                    <a:lnTo>
                      <a:pt x="1411" y="433"/>
                    </a:lnTo>
                    <a:lnTo>
                      <a:pt x="1407" y="414"/>
                    </a:lnTo>
                    <a:lnTo>
                      <a:pt x="1404" y="396"/>
                    </a:lnTo>
                    <a:lnTo>
                      <a:pt x="1399" y="378"/>
                    </a:lnTo>
                    <a:lnTo>
                      <a:pt x="1393" y="359"/>
                    </a:lnTo>
                    <a:lnTo>
                      <a:pt x="1387" y="341"/>
                    </a:lnTo>
                    <a:lnTo>
                      <a:pt x="1381" y="323"/>
                    </a:lnTo>
                    <a:lnTo>
                      <a:pt x="1375" y="305"/>
                    </a:lnTo>
                    <a:lnTo>
                      <a:pt x="1367" y="288"/>
                    </a:lnTo>
                    <a:lnTo>
                      <a:pt x="1360" y="271"/>
                    </a:lnTo>
                    <a:lnTo>
                      <a:pt x="1352" y="254"/>
                    </a:lnTo>
                    <a:lnTo>
                      <a:pt x="1343" y="237"/>
                    </a:lnTo>
                    <a:lnTo>
                      <a:pt x="1333" y="221"/>
                    </a:lnTo>
                    <a:lnTo>
                      <a:pt x="1323" y="205"/>
                    </a:lnTo>
                    <a:lnTo>
                      <a:pt x="1314" y="190"/>
                    </a:lnTo>
                    <a:lnTo>
                      <a:pt x="1304" y="173"/>
                    </a:lnTo>
                    <a:lnTo>
                      <a:pt x="1292" y="158"/>
                    </a:lnTo>
                    <a:lnTo>
                      <a:pt x="1282" y="143"/>
                    </a:lnTo>
                    <a:lnTo>
                      <a:pt x="1271" y="126"/>
                    </a:lnTo>
                    <a:lnTo>
                      <a:pt x="1260" y="111"/>
                    </a:lnTo>
                    <a:lnTo>
                      <a:pt x="1248" y="97"/>
                    </a:lnTo>
                    <a:lnTo>
                      <a:pt x="1236" y="82"/>
                    </a:lnTo>
                    <a:lnTo>
                      <a:pt x="1224" y="68"/>
                    </a:lnTo>
                    <a:lnTo>
                      <a:pt x="1213" y="54"/>
                    </a:lnTo>
                    <a:lnTo>
                      <a:pt x="1199" y="41"/>
                    </a:lnTo>
                    <a:lnTo>
                      <a:pt x="1186" y="26"/>
                    </a:lnTo>
                    <a:lnTo>
                      <a:pt x="1173" y="13"/>
                    </a:lnTo>
                    <a:lnTo>
                      <a:pt x="1161" y="0"/>
                    </a:lnTo>
                    <a:lnTo>
                      <a:pt x="1158" y="0"/>
                    </a:lnTo>
                    <a:lnTo>
                      <a:pt x="1154" y="0"/>
                    </a:lnTo>
                    <a:lnTo>
                      <a:pt x="1147" y="3"/>
                    </a:lnTo>
                    <a:lnTo>
                      <a:pt x="1140" y="5"/>
                    </a:lnTo>
                    <a:lnTo>
                      <a:pt x="1129" y="7"/>
                    </a:lnTo>
                    <a:lnTo>
                      <a:pt x="1119" y="9"/>
                    </a:lnTo>
                    <a:lnTo>
                      <a:pt x="1105" y="13"/>
                    </a:lnTo>
                    <a:lnTo>
                      <a:pt x="1093" y="16"/>
                    </a:lnTo>
                    <a:lnTo>
                      <a:pt x="1085" y="17"/>
                    </a:lnTo>
                    <a:lnTo>
                      <a:pt x="1077" y="19"/>
                    </a:lnTo>
                    <a:lnTo>
                      <a:pt x="1069" y="21"/>
                    </a:lnTo>
                    <a:lnTo>
                      <a:pt x="1061" y="22"/>
                    </a:lnTo>
                    <a:lnTo>
                      <a:pt x="1052" y="24"/>
                    </a:lnTo>
                    <a:lnTo>
                      <a:pt x="1044" y="26"/>
                    </a:lnTo>
                    <a:lnTo>
                      <a:pt x="1036" y="28"/>
                    </a:lnTo>
                    <a:lnTo>
                      <a:pt x="1027" y="30"/>
                    </a:lnTo>
                    <a:lnTo>
                      <a:pt x="1018" y="31"/>
                    </a:lnTo>
                    <a:lnTo>
                      <a:pt x="1008" y="33"/>
                    </a:lnTo>
                    <a:lnTo>
                      <a:pt x="1000" y="34"/>
                    </a:lnTo>
                    <a:lnTo>
                      <a:pt x="991" y="36"/>
                    </a:lnTo>
                    <a:lnTo>
                      <a:pt x="983" y="38"/>
                    </a:lnTo>
                    <a:lnTo>
                      <a:pt x="975" y="39"/>
                    </a:lnTo>
                    <a:lnTo>
                      <a:pt x="966" y="39"/>
                    </a:lnTo>
                    <a:lnTo>
                      <a:pt x="957" y="40"/>
                    </a:lnTo>
                    <a:lnTo>
                      <a:pt x="949" y="41"/>
                    </a:lnTo>
                    <a:lnTo>
                      <a:pt x="940" y="42"/>
                    </a:lnTo>
                    <a:lnTo>
                      <a:pt x="932" y="43"/>
                    </a:lnTo>
                    <a:lnTo>
                      <a:pt x="924" y="44"/>
                    </a:lnTo>
                    <a:lnTo>
                      <a:pt x="915" y="45"/>
                    </a:lnTo>
                    <a:lnTo>
                      <a:pt x="905" y="46"/>
                    </a:lnTo>
                    <a:lnTo>
                      <a:pt x="897" y="47"/>
                    </a:lnTo>
                    <a:lnTo>
                      <a:pt x="888" y="48"/>
                    </a:lnTo>
                    <a:lnTo>
                      <a:pt x="879" y="49"/>
                    </a:lnTo>
                    <a:lnTo>
                      <a:pt x="871" y="50"/>
                    </a:lnTo>
                    <a:lnTo>
                      <a:pt x="862" y="51"/>
                    </a:lnTo>
                    <a:lnTo>
                      <a:pt x="854" y="52"/>
                    </a:lnTo>
                    <a:lnTo>
                      <a:pt x="846" y="53"/>
                    </a:lnTo>
                    <a:lnTo>
                      <a:pt x="838" y="53"/>
                    </a:lnTo>
                    <a:lnTo>
                      <a:pt x="830" y="54"/>
                    </a:lnTo>
                    <a:lnTo>
                      <a:pt x="822" y="54"/>
                    </a:lnTo>
                    <a:lnTo>
                      <a:pt x="807" y="56"/>
                    </a:lnTo>
                    <a:lnTo>
                      <a:pt x="794" y="58"/>
                    </a:lnTo>
                    <a:lnTo>
                      <a:pt x="783" y="59"/>
                    </a:lnTo>
                    <a:lnTo>
                      <a:pt x="772" y="60"/>
                    </a:lnTo>
                    <a:lnTo>
                      <a:pt x="765" y="61"/>
                    </a:lnTo>
                    <a:lnTo>
                      <a:pt x="758" y="62"/>
                    </a:lnTo>
                    <a:lnTo>
                      <a:pt x="755" y="62"/>
                    </a:lnTo>
                    <a:lnTo>
                      <a:pt x="752" y="62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404240" y="1999080"/>
                <a:ext cx="53280" cy="64800"/>
              </a:xfrm>
              <a:custGeom>
                <a:avLst/>
                <a:gdLst/>
                <a:ahLst/>
                <a:rect l="l" t="t" r="r" b="b"/>
                <a:pathLst>
                  <a:path w="1093" h="1229">
                    <a:moveTo>
                      <a:pt x="653" y="45"/>
                    </a:moveTo>
                    <a:lnTo>
                      <a:pt x="655" y="69"/>
                    </a:lnTo>
                    <a:lnTo>
                      <a:pt x="657" y="94"/>
                    </a:lnTo>
                    <a:lnTo>
                      <a:pt x="659" y="118"/>
                    </a:lnTo>
                    <a:lnTo>
                      <a:pt x="661" y="143"/>
                    </a:lnTo>
                    <a:lnTo>
                      <a:pt x="664" y="145"/>
                    </a:lnTo>
                    <a:lnTo>
                      <a:pt x="668" y="147"/>
                    </a:lnTo>
                    <a:lnTo>
                      <a:pt x="675" y="156"/>
                    </a:lnTo>
                    <a:lnTo>
                      <a:pt x="681" y="164"/>
                    </a:lnTo>
                    <a:lnTo>
                      <a:pt x="684" y="174"/>
                    </a:lnTo>
                    <a:lnTo>
                      <a:pt x="687" y="182"/>
                    </a:lnTo>
                    <a:lnTo>
                      <a:pt x="690" y="191"/>
                    </a:lnTo>
                    <a:lnTo>
                      <a:pt x="693" y="199"/>
                    </a:lnTo>
                    <a:lnTo>
                      <a:pt x="694" y="214"/>
                    </a:lnTo>
                    <a:lnTo>
                      <a:pt x="695" y="231"/>
                    </a:lnTo>
                    <a:lnTo>
                      <a:pt x="696" y="246"/>
                    </a:lnTo>
                    <a:lnTo>
                      <a:pt x="697" y="262"/>
                    </a:lnTo>
                    <a:lnTo>
                      <a:pt x="694" y="271"/>
                    </a:lnTo>
                    <a:lnTo>
                      <a:pt x="691" y="279"/>
                    </a:lnTo>
                    <a:lnTo>
                      <a:pt x="686" y="286"/>
                    </a:lnTo>
                    <a:lnTo>
                      <a:pt x="681" y="293"/>
                    </a:lnTo>
                    <a:lnTo>
                      <a:pt x="672" y="299"/>
                    </a:lnTo>
                    <a:lnTo>
                      <a:pt x="663" y="306"/>
                    </a:lnTo>
                    <a:lnTo>
                      <a:pt x="653" y="315"/>
                    </a:lnTo>
                    <a:lnTo>
                      <a:pt x="643" y="322"/>
                    </a:lnTo>
                    <a:lnTo>
                      <a:pt x="631" y="328"/>
                    </a:lnTo>
                    <a:lnTo>
                      <a:pt x="620" y="334"/>
                    </a:lnTo>
                    <a:lnTo>
                      <a:pt x="606" y="340"/>
                    </a:lnTo>
                    <a:lnTo>
                      <a:pt x="593" y="344"/>
                    </a:lnTo>
                    <a:lnTo>
                      <a:pt x="581" y="349"/>
                    </a:lnTo>
                    <a:lnTo>
                      <a:pt x="567" y="354"/>
                    </a:lnTo>
                    <a:lnTo>
                      <a:pt x="554" y="359"/>
                    </a:lnTo>
                    <a:lnTo>
                      <a:pt x="542" y="365"/>
                    </a:lnTo>
                    <a:lnTo>
                      <a:pt x="533" y="367"/>
                    </a:lnTo>
                    <a:lnTo>
                      <a:pt x="525" y="369"/>
                    </a:lnTo>
                    <a:lnTo>
                      <a:pt x="511" y="371"/>
                    </a:lnTo>
                    <a:lnTo>
                      <a:pt x="498" y="372"/>
                    </a:lnTo>
                    <a:lnTo>
                      <a:pt x="490" y="374"/>
                    </a:lnTo>
                    <a:lnTo>
                      <a:pt x="482" y="376"/>
                    </a:lnTo>
                    <a:lnTo>
                      <a:pt x="475" y="377"/>
                    </a:lnTo>
                    <a:lnTo>
                      <a:pt x="466" y="379"/>
                    </a:lnTo>
                    <a:lnTo>
                      <a:pt x="456" y="380"/>
                    </a:lnTo>
                    <a:lnTo>
                      <a:pt x="447" y="382"/>
                    </a:lnTo>
                    <a:lnTo>
                      <a:pt x="438" y="383"/>
                    </a:lnTo>
                    <a:lnTo>
                      <a:pt x="429" y="384"/>
                    </a:lnTo>
                    <a:lnTo>
                      <a:pt x="417" y="386"/>
                    </a:lnTo>
                    <a:lnTo>
                      <a:pt x="406" y="388"/>
                    </a:lnTo>
                    <a:lnTo>
                      <a:pt x="396" y="390"/>
                    </a:lnTo>
                    <a:lnTo>
                      <a:pt x="385" y="392"/>
                    </a:lnTo>
                    <a:lnTo>
                      <a:pt x="373" y="394"/>
                    </a:lnTo>
                    <a:lnTo>
                      <a:pt x="363" y="397"/>
                    </a:lnTo>
                    <a:lnTo>
                      <a:pt x="352" y="399"/>
                    </a:lnTo>
                    <a:lnTo>
                      <a:pt x="341" y="401"/>
                    </a:lnTo>
                    <a:lnTo>
                      <a:pt x="329" y="405"/>
                    </a:lnTo>
                    <a:lnTo>
                      <a:pt x="316" y="408"/>
                    </a:lnTo>
                    <a:lnTo>
                      <a:pt x="305" y="412"/>
                    </a:lnTo>
                    <a:lnTo>
                      <a:pt x="293" y="415"/>
                    </a:lnTo>
                    <a:lnTo>
                      <a:pt x="282" y="418"/>
                    </a:lnTo>
                    <a:lnTo>
                      <a:pt x="269" y="421"/>
                    </a:lnTo>
                    <a:lnTo>
                      <a:pt x="257" y="425"/>
                    </a:lnTo>
                    <a:lnTo>
                      <a:pt x="246" y="428"/>
                    </a:lnTo>
                    <a:lnTo>
                      <a:pt x="234" y="432"/>
                    </a:lnTo>
                    <a:lnTo>
                      <a:pt x="221" y="436"/>
                    </a:lnTo>
                    <a:lnTo>
                      <a:pt x="209" y="440"/>
                    </a:lnTo>
                    <a:lnTo>
                      <a:pt x="198" y="444"/>
                    </a:lnTo>
                    <a:lnTo>
                      <a:pt x="187" y="449"/>
                    </a:lnTo>
                    <a:lnTo>
                      <a:pt x="175" y="454"/>
                    </a:lnTo>
                    <a:lnTo>
                      <a:pt x="164" y="459"/>
                    </a:lnTo>
                    <a:lnTo>
                      <a:pt x="154" y="465"/>
                    </a:lnTo>
                    <a:lnTo>
                      <a:pt x="143" y="470"/>
                    </a:lnTo>
                    <a:lnTo>
                      <a:pt x="133" y="476"/>
                    </a:lnTo>
                    <a:lnTo>
                      <a:pt x="122" y="481"/>
                    </a:lnTo>
                    <a:lnTo>
                      <a:pt x="112" y="487"/>
                    </a:lnTo>
                    <a:lnTo>
                      <a:pt x="103" y="493"/>
                    </a:lnTo>
                    <a:lnTo>
                      <a:pt x="94" y="500"/>
                    </a:lnTo>
                    <a:lnTo>
                      <a:pt x="86" y="506"/>
                    </a:lnTo>
                    <a:lnTo>
                      <a:pt x="76" y="513"/>
                    </a:lnTo>
                    <a:lnTo>
                      <a:pt x="68" y="520"/>
                    </a:lnTo>
                    <a:lnTo>
                      <a:pt x="59" y="527"/>
                    </a:lnTo>
                    <a:lnTo>
                      <a:pt x="52" y="534"/>
                    </a:lnTo>
                    <a:lnTo>
                      <a:pt x="44" y="541"/>
                    </a:lnTo>
                    <a:lnTo>
                      <a:pt x="38" y="549"/>
                    </a:lnTo>
                    <a:lnTo>
                      <a:pt x="31" y="559"/>
                    </a:lnTo>
                    <a:lnTo>
                      <a:pt x="25" y="567"/>
                    </a:lnTo>
                    <a:lnTo>
                      <a:pt x="20" y="576"/>
                    </a:lnTo>
                    <a:lnTo>
                      <a:pt x="16" y="585"/>
                    </a:lnTo>
                    <a:lnTo>
                      <a:pt x="13" y="594"/>
                    </a:lnTo>
                    <a:lnTo>
                      <a:pt x="10" y="603"/>
                    </a:lnTo>
                    <a:lnTo>
                      <a:pt x="6" y="613"/>
                    </a:lnTo>
                    <a:lnTo>
                      <a:pt x="5" y="624"/>
                    </a:lnTo>
                    <a:lnTo>
                      <a:pt x="3" y="634"/>
                    </a:lnTo>
                    <a:lnTo>
                      <a:pt x="2" y="645"/>
                    </a:lnTo>
                    <a:lnTo>
                      <a:pt x="0" y="657"/>
                    </a:lnTo>
                    <a:lnTo>
                      <a:pt x="1" y="668"/>
                    </a:lnTo>
                    <a:lnTo>
                      <a:pt x="2" y="679"/>
                    </a:lnTo>
                    <a:lnTo>
                      <a:pt x="3" y="690"/>
                    </a:lnTo>
                    <a:lnTo>
                      <a:pt x="4" y="700"/>
                    </a:lnTo>
                    <a:lnTo>
                      <a:pt x="7" y="713"/>
                    </a:lnTo>
                    <a:lnTo>
                      <a:pt x="11" y="725"/>
                    </a:lnTo>
                    <a:lnTo>
                      <a:pt x="14" y="736"/>
                    </a:lnTo>
                    <a:lnTo>
                      <a:pt x="18" y="748"/>
                    </a:lnTo>
                    <a:lnTo>
                      <a:pt x="23" y="761"/>
                    </a:lnTo>
                    <a:lnTo>
                      <a:pt x="28" y="773"/>
                    </a:lnTo>
                    <a:lnTo>
                      <a:pt x="35" y="785"/>
                    </a:lnTo>
                    <a:lnTo>
                      <a:pt x="40" y="798"/>
                    </a:lnTo>
                    <a:lnTo>
                      <a:pt x="47" y="811"/>
                    </a:lnTo>
                    <a:lnTo>
                      <a:pt x="54" y="823"/>
                    </a:lnTo>
                    <a:lnTo>
                      <a:pt x="60" y="834"/>
                    </a:lnTo>
                    <a:lnTo>
                      <a:pt x="67" y="846"/>
                    </a:lnTo>
                    <a:lnTo>
                      <a:pt x="75" y="859"/>
                    </a:lnTo>
                    <a:lnTo>
                      <a:pt x="84" y="870"/>
                    </a:lnTo>
                    <a:lnTo>
                      <a:pt x="92" y="882"/>
                    </a:lnTo>
                    <a:lnTo>
                      <a:pt x="100" y="894"/>
                    </a:lnTo>
                    <a:lnTo>
                      <a:pt x="109" y="907"/>
                    </a:lnTo>
                    <a:lnTo>
                      <a:pt x="118" y="919"/>
                    </a:lnTo>
                    <a:lnTo>
                      <a:pt x="127" y="930"/>
                    </a:lnTo>
                    <a:lnTo>
                      <a:pt x="136" y="942"/>
                    </a:lnTo>
                    <a:lnTo>
                      <a:pt x="145" y="955"/>
                    </a:lnTo>
                    <a:lnTo>
                      <a:pt x="155" y="966"/>
                    </a:lnTo>
                    <a:lnTo>
                      <a:pt x="164" y="977"/>
                    </a:lnTo>
                    <a:lnTo>
                      <a:pt x="173" y="988"/>
                    </a:lnTo>
                    <a:lnTo>
                      <a:pt x="184" y="999"/>
                    </a:lnTo>
                    <a:lnTo>
                      <a:pt x="195" y="1010"/>
                    </a:lnTo>
                    <a:lnTo>
                      <a:pt x="205" y="1021"/>
                    </a:lnTo>
                    <a:lnTo>
                      <a:pt x="215" y="1032"/>
                    </a:lnTo>
                    <a:lnTo>
                      <a:pt x="225" y="1042"/>
                    </a:lnTo>
                    <a:lnTo>
                      <a:pt x="236" y="1054"/>
                    </a:lnTo>
                    <a:lnTo>
                      <a:pt x="246" y="1064"/>
                    </a:lnTo>
                    <a:lnTo>
                      <a:pt x="255" y="1074"/>
                    </a:lnTo>
                    <a:lnTo>
                      <a:pt x="265" y="1083"/>
                    </a:lnTo>
                    <a:lnTo>
                      <a:pt x="274" y="1092"/>
                    </a:lnTo>
                    <a:lnTo>
                      <a:pt x="284" y="1102"/>
                    </a:lnTo>
                    <a:lnTo>
                      <a:pt x="293" y="1111"/>
                    </a:lnTo>
                    <a:lnTo>
                      <a:pt x="302" y="1119"/>
                    </a:lnTo>
                    <a:lnTo>
                      <a:pt x="310" y="1127"/>
                    </a:lnTo>
                    <a:lnTo>
                      <a:pt x="319" y="1135"/>
                    </a:lnTo>
                    <a:lnTo>
                      <a:pt x="329" y="1144"/>
                    </a:lnTo>
                    <a:lnTo>
                      <a:pt x="337" y="1151"/>
                    </a:lnTo>
                    <a:lnTo>
                      <a:pt x="345" y="1159"/>
                    </a:lnTo>
                    <a:lnTo>
                      <a:pt x="353" y="1166"/>
                    </a:lnTo>
                    <a:lnTo>
                      <a:pt x="361" y="1173"/>
                    </a:lnTo>
                    <a:lnTo>
                      <a:pt x="374" y="1185"/>
                    </a:lnTo>
                    <a:lnTo>
                      <a:pt x="389" y="1198"/>
                    </a:lnTo>
                    <a:lnTo>
                      <a:pt x="399" y="1207"/>
                    </a:lnTo>
                    <a:lnTo>
                      <a:pt x="410" y="1215"/>
                    </a:lnTo>
                    <a:lnTo>
                      <a:pt x="417" y="1221"/>
                    </a:lnTo>
                    <a:lnTo>
                      <a:pt x="425" y="1226"/>
                    </a:lnTo>
                    <a:lnTo>
                      <a:pt x="427" y="1228"/>
                    </a:lnTo>
                    <a:lnTo>
                      <a:pt x="429" y="1229"/>
                    </a:lnTo>
                    <a:lnTo>
                      <a:pt x="429" y="1190"/>
                    </a:lnTo>
                    <a:lnTo>
                      <a:pt x="429" y="1153"/>
                    </a:lnTo>
                    <a:lnTo>
                      <a:pt x="429" y="1114"/>
                    </a:lnTo>
                    <a:lnTo>
                      <a:pt x="429" y="1076"/>
                    </a:lnTo>
                    <a:lnTo>
                      <a:pt x="429" y="1037"/>
                    </a:lnTo>
                    <a:lnTo>
                      <a:pt x="429" y="1000"/>
                    </a:lnTo>
                    <a:lnTo>
                      <a:pt x="429" y="961"/>
                    </a:lnTo>
                    <a:lnTo>
                      <a:pt x="429" y="922"/>
                    </a:lnTo>
                    <a:lnTo>
                      <a:pt x="427" y="919"/>
                    </a:lnTo>
                    <a:lnTo>
                      <a:pt x="425" y="916"/>
                    </a:lnTo>
                    <a:lnTo>
                      <a:pt x="419" y="906"/>
                    </a:lnTo>
                    <a:lnTo>
                      <a:pt x="414" y="895"/>
                    </a:lnTo>
                    <a:lnTo>
                      <a:pt x="411" y="887"/>
                    </a:lnTo>
                    <a:lnTo>
                      <a:pt x="408" y="879"/>
                    </a:lnTo>
                    <a:lnTo>
                      <a:pt x="405" y="871"/>
                    </a:lnTo>
                    <a:lnTo>
                      <a:pt x="402" y="863"/>
                    </a:lnTo>
                    <a:lnTo>
                      <a:pt x="401" y="852"/>
                    </a:lnTo>
                    <a:lnTo>
                      <a:pt x="400" y="841"/>
                    </a:lnTo>
                    <a:lnTo>
                      <a:pt x="399" y="830"/>
                    </a:lnTo>
                    <a:lnTo>
                      <a:pt x="398" y="819"/>
                    </a:lnTo>
                    <a:lnTo>
                      <a:pt x="401" y="810"/>
                    </a:lnTo>
                    <a:lnTo>
                      <a:pt x="405" y="800"/>
                    </a:lnTo>
                    <a:lnTo>
                      <a:pt x="412" y="793"/>
                    </a:lnTo>
                    <a:lnTo>
                      <a:pt x="420" y="786"/>
                    </a:lnTo>
                    <a:lnTo>
                      <a:pt x="434" y="784"/>
                    </a:lnTo>
                    <a:lnTo>
                      <a:pt x="446" y="780"/>
                    </a:lnTo>
                    <a:lnTo>
                      <a:pt x="454" y="780"/>
                    </a:lnTo>
                    <a:lnTo>
                      <a:pt x="462" y="779"/>
                    </a:lnTo>
                    <a:lnTo>
                      <a:pt x="470" y="778"/>
                    </a:lnTo>
                    <a:lnTo>
                      <a:pt x="478" y="777"/>
                    </a:lnTo>
                    <a:lnTo>
                      <a:pt x="487" y="777"/>
                    </a:lnTo>
                    <a:lnTo>
                      <a:pt x="496" y="776"/>
                    </a:lnTo>
                    <a:lnTo>
                      <a:pt x="505" y="775"/>
                    </a:lnTo>
                    <a:lnTo>
                      <a:pt x="514" y="774"/>
                    </a:lnTo>
                    <a:lnTo>
                      <a:pt x="525" y="774"/>
                    </a:lnTo>
                    <a:lnTo>
                      <a:pt x="535" y="773"/>
                    </a:lnTo>
                    <a:lnTo>
                      <a:pt x="545" y="773"/>
                    </a:lnTo>
                    <a:lnTo>
                      <a:pt x="556" y="772"/>
                    </a:lnTo>
                    <a:lnTo>
                      <a:pt x="566" y="770"/>
                    </a:lnTo>
                    <a:lnTo>
                      <a:pt x="577" y="769"/>
                    </a:lnTo>
                    <a:lnTo>
                      <a:pt x="587" y="767"/>
                    </a:lnTo>
                    <a:lnTo>
                      <a:pt x="597" y="765"/>
                    </a:lnTo>
                    <a:lnTo>
                      <a:pt x="608" y="763"/>
                    </a:lnTo>
                    <a:lnTo>
                      <a:pt x="620" y="761"/>
                    </a:lnTo>
                    <a:lnTo>
                      <a:pt x="631" y="758"/>
                    </a:lnTo>
                    <a:lnTo>
                      <a:pt x="641" y="756"/>
                    </a:lnTo>
                    <a:lnTo>
                      <a:pt x="653" y="753"/>
                    </a:lnTo>
                    <a:lnTo>
                      <a:pt x="665" y="749"/>
                    </a:lnTo>
                    <a:lnTo>
                      <a:pt x="679" y="747"/>
                    </a:lnTo>
                    <a:lnTo>
                      <a:pt x="693" y="745"/>
                    </a:lnTo>
                    <a:lnTo>
                      <a:pt x="701" y="744"/>
                    </a:lnTo>
                    <a:lnTo>
                      <a:pt x="708" y="743"/>
                    </a:lnTo>
                    <a:lnTo>
                      <a:pt x="717" y="742"/>
                    </a:lnTo>
                    <a:lnTo>
                      <a:pt x="725" y="740"/>
                    </a:lnTo>
                    <a:lnTo>
                      <a:pt x="734" y="739"/>
                    </a:lnTo>
                    <a:lnTo>
                      <a:pt x="742" y="739"/>
                    </a:lnTo>
                    <a:lnTo>
                      <a:pt x="750" y="738"/>
                    </a:lnTo>
                    <a:lnTo>
                      <a:pt x="759" y="736"/>
                    </a:lnTo>
                    <a:lnTo>
                      <a:pt x="768" y="735"/>
                    </a:lnTo>
                    <a:lnTo>
                      <a:pt x="777" y="733"/>
                    </a:lnTo>
                    <a:lnTo>
                      <a:pt x="786" y="731"/>
                    </a:lnTo>
                    <a:lnTo>
                      <a:pt x="795" y="729"/>
                    </a:lnTo>
                    <a:lnTo>
                      <a:pt x="804" y="728"/>
                    </a:lnTo>
                    <a:lnTo>
                      <a:pt x="813" y="726"/>
                    </a:lnTo>
                    <a:lnTo>
                      <a:pt x="823" y="724"/>
                    </a:lnTo>
                    <a:lnTo>
                      <a:pt x="832" y="722"/>
                    </a:lnTo>
                    <a:lnTo>
                      <a:pt x="842" y="719"/>
                    </a:lnTo>
                    <a:lnTo>
                      <a:pt x="852" y="716"/>
                    </a:lnTo>
                    <a:lnTo>
                      <a:pt x="863" y="714"/>
                    </a:lnTo>
                    <a:lnTo>
                      <a:pt x="872" y="711"/>
                    </a:lnTo>
                    <a:lnTo>
                      <a:pt x="882" y="708"/>
                    </a:lnTo>
                    <a:lnTo>
                      <a:pt x="891" y="703"/>
                    </a:lnTo>
                    <a:lnTo>
                      <a:pt x="900" y="699"/>
                    </a:lnTo>
                    <a:lnTo>
                      <a:pt x="910" y="696"/>
                    </a:lnTo>
                    <a:lnTo>
                      <a:pt x="919" y="691"/>
                    </a:lnTo>
                    <a:lnTo>
                      <a:pt x="928" y="686"/>
                    </a:lnTo>
                    <a:lnTo>
                      <a:pt x="937" y="681"/>
                    </a:lnTo>
                    <a:lnTo>
                      <a:pt x="946" y="676"/>
                    </a:lnTo>
                    <a:lnTo>
                      <a:pt x="954" y="670"/>
                    </a:lnTo>
                    <a:lnTo>
                      <a:pt x="963" y="664"/>
                    </a:lnTo>
                    <a:lnTo>
                      <a:pt x="971" y="658"/>
                    </a:lnTo>
                    <a:lnTo>
                      <a:pt x="980" y="651"/>
                    </a:lnTo>
                    <a:lnTo>
                      <a:pt x="988" y="643"/>
                    </a:lnTo>
                    <a:lnTo>
                      <a:pt x="995" y="635"/>
                    </a:lnTo>
                    <a:lnTo>
                      <a:pt x="1003" y="627"/>
                    </a:lnTo>
                    <a:lnTo>
                      <a:pt x="1012" y="619"/>
                    </a:lnTo>
                    <a:lnTo>
                      <a:pt x="1018" y="610"/>
                    </a:lnTo>
                    <a:lnTo>
                      <a:pt x="1024" y="600"/>
                    </a:lnTo>
                    <a:lnTo>
                      <a:pt x="1031" y="590"/>
                    </a:lnTo>
                    <a:lnTo>
                      <a:pt x="1037" y="581"/>
                    </a:lnTo>
                    <a:lnTo>
                      <a:pt x="1043" y="570"/>
                    </a:lnTo>
                    <a:lnTo>
                      <a:pt x="1049" y="558"/>
                    </a:lnTo>
                    <a:lnTo>
                      <a:pt x="1055" y="546"/>
                    </a:lnTo>
                    <a:lnTo>
                      <a:pt x="1062" y="534"/>
                    </a:lnTo>
                    <a:lnTo>
                      <a:pt x="1066" y="521"/>
                    </a:lnTo>
                    <a:lnTo>
                      <a:pt x="1070" y="506"/>
                    </a:lnTo>
                    <a:lnTo>
                      <a:pt x="1075" y="492"/>
                    </a:lnTo>
                    <a:lnTo>
                      <a:pt x="1079" y="478"/>
                    </a:lnTo>
                    <a:lnTo>
                      <a:pt x="1082" y="462"/>
                    </a:lnTo>
                    <a:lnTo>
                      <a:pt x="1084" y="445"/>
                    </a:lnTo>
                    <a:lnTo>
                      <a:pt x="1087" y="429"/>
                    </a:lnTo>
                    <a:lnTo>
                      <a:pt x="1089" y="413"/>
                    </a:lnTo>
                    <a:lnTo>
                      <a:pt x="1090" y="393"/>
                    </a:lnTo>
                    <a:lnTo>
                      <a:pt x="1091" y="375"/>
                    </a:lnTo>
                    <a:lnTo>
                      <a:pt x="1092" y="355"/>
                    </a:lnTo>
                    <a:lnTo>
                      <a:pt x="1093" y="337"/>
                    </a:lnTo>
                    <a:lnTo>
                      <a:pt x="1092" y="325"/>
                    </a:lnTo>
                    <a:lnTo>
                      <a:pt x="1092" y="312"/>
                    </a:lnTo>
                    <a:lnTo>
                      <a:pt x="1091" y="301"/>
                    </a:lnTo>
                    <a:lnTo>
                      <a:pt x="1091" y="289"/>
                    </a:lnTo>
                    <a:lnTo>
                      <a:pt x="1089" y="277"/>
                    </a:lnTo>
                    <a:lnTo>
                      <a:pt x="1088" y="266"/>
                    </a:lnTo>
                    <a:lnTo>
                      <a:pt x="1086" y="253"/>
                    </a:lnTo>
                    <a:lnTo>
                      <a:pt x="1085" y="241"/>
                    </a:lnTo>
                    <a:lnTo>
                      <a:pt x="1083" y="230"/>
                    </a:lnTo>
                    <a:lnTo>
                      <a:pt x="1081" y="218"/>
                    </a:lnTo>
                    <a:lnTo>
                      <a:pt x="1079" y="206"/>
                    </a:lnTo>
                    <a:lnTo>
                      <a:pt x="1077" y="195"/>
                    </a:lnTo>
                    <a:lnTo>
                      <a:pt x="1074" y="184"/>
                    </a:lnTo>
                    <a:lnTo>
                      <a:pt x="1071" y="174"/>
                    </a:lnTo>
                    <a:lnTo>
                      <a:pt x="1068" y="163"/>
                    </a:lnTo>
                    <a:lnTo>
                      <a:pt x="1066" y="152"/>
                    </a:lnTo>
                    <a:lnTo>
                      <a:pt x="1062" y="142"/>
                    </a:lnTo>
                    <a:lnTo>
                      <a:pt x="1058" y="132"/>
                    </a:lnTo>
                    <a:lnTo>
                      <a:pt x="1053" y="121"/>
                    </a:lnTo>
                    <a:lnTo>
                      <a:pt x="1049" y="110"/>
                    </a:lnTo>
                    <a:lnTo>
                      <a:pt x="1045" y="100"/>
                    </a:lnTo>
                    <a:lnTo>
                      <a:pt x="1041" y="91"/>
                    </a:lnTo>
                    <a:lnTo>
                      <a:pt x="1038" y="82"/>
                    </a:lnTo>
                    <a:lnTo>
                      <a:pt x="1034" y="72"/>
                    </a:lnTo>
                    <a:lnTo>
                      <a:pt x="1029" y="62"/>
                    </a:lnTo>
                    <a:lnTo>
                      <a:pt x="1024" y="54"/>
                    </a:lnTo>
                    <a:lnTo>
                      <a:pt x="1019" y="45"/>
                    </a:lnTo>
                    <a:lnTo>
                      <a:pt x="1014" y="35"/>
                    </a:lnTo>
                    <a:lnTo>
                      <a:pt x="1009" y="27"/>
                    </a:lnTo>
                    <a:lnTo>
                      <a:pt x="1002" y="17"/>
                    </a:lnTo>
                    <a:lnTo>
                      <a:pt x="997" y="9"/>
                    </a:lnTo>
                    <a:lnTo>
                      <a:pt x="991" y="0"/>
                    </a:lnTo>
                    <a:lnTo>
                      <a:pt x="989" y="1"/>
                    </a:lnTo>
                    <a:lnTo>
                      <a:pt x="987" y="1"/>
                    </a:lnTo>
                    <a:lnTo>
                      <a:pt x="982" y="2"/>
                    </a:lnTo>
                    <a:lnTo>
                      <a:pt x="978" y="3"/>
                    </a:lnTo>
                    <a:lnTo>
                      <a:pt x="970" y="5"/>
                    </a:lnTo>
                    <a:lnTo>
                      <a:pt x="962" y="7"/>
                    </a:lnTo>
                    <a:lnTo>
                      <a:pt x="950" y="10"/>
                    </a:lnTo>
                    <a:lnTo>
                      <a:pt x="940" y="12"/>
                    </a:lnTo>
                    <a:lnTo>
                      <a:pt x="927" y="15"/>
                    </a:lnTo>
                    <a:lnTo>
                      <a:pt x="915" y="17"/>
                    </a:lnTo>
                    <a:lnTo>
                      <a:pt x="900" y="20"/>
                    </a:lnTo>
                    <a:lnTo>
                      <a:pt x="886" y="22"/>
                    </a:lnTo>
                    <a:lnTo>
                      <a:pt x="872" y="25"/>
                    </a:lnTo>
                    <a:lnTo>
                      <a:pt x="856" y="27"/>
                    </a:lnTo>
                    <a:lnTo>
                      <a:pt x="841" y="29"/>
                    </a:lnTo>
                    <a:lnTo>
                      <a:pt x="827" y="30"/>
                    </a:lnTo>
                    <a:lnTo>
                      <a:pt x="811" y="32"/>
                    </a:lnTo>
                    <a:lnTo>
                      <a:pt x="796" y="33"/>
                    </a:lnTo>
                    <a:lnTo>
                      <a:pt x="782" y="34"/>
                    </a:lnTo>
                    <a:lnTo>
                      <a:pt x="767" y="34"/>
                    </a:lnTo>
                    <a:lnTo>
                      <a:pt x="752" y="36"/>
                    </a:lnTo>
                    <a:lnTo>
                      <a:pt x="737" y="37"/>
                    </a:lnTo>
                    <a:lnTo>
                      <a:pt x="724" y="38"/>
                    </a:lnTo>
                    <a:lnTo>
                      <a:pt x="711" y="39"/>
                    </a:lnTo>
                    <a:lnTo>
                      <a:pt x="699" y="40"/>
                    </a:lnTo>
                    <a:lnTo>
                      <a:pt x="687" y="41"/>
                    </a:lnTo>
                    <a:lnTo>
                      <a:pt x="679" y="43"/>
                    </a:lnTo>
                    <a:lnTo>
                      <a:pt x="670" y="43"/>
                    </a:lnTo>
                    <a:lnTo>
                      <a:pt x="663" y="44"/>
                    </a:lnTo>
                    <a:lnTo>
                      <a:pt x="657" y="44"/>
                    </a:lnTo>
                    <a:lnTo>
                      <a:pt x="655" y="45"/>
                    </a:lnTo>
                    <a:lnTo>
                      <a:pt x="653" y="45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98480" y="2036160"/>
                <a:ext cx="57600" cy="35280"/>
              </a:xfrm>
              <a:custGeom>
                <a:avLst/>
                <a:gdLst/>
                <a:ahLst/>
                <a:rect l="l" t="t" r="r" b="b"/>
                <a:pathLst>
                  <a:path w="1138" h="693">
                    <a:moveTo>
                      <a:pt x="727" y="83"/>
                    </a:moveTo>
                    <a:lnTo>
                      <a:pt x="727" y="108"/>
                    </a:lnTo>
                    <a:lnTo>
                      <a:pt x="727" y="133"/>
                    </a:lnTo>
                    <a:lnTo>
                      <a:pt x="727" y="158"/>
                    </a:lnTo>
                    <a:lnTo>
                      <a:pt x="727" y="183"/>
                    </a:lnTo>
                    <a:lnTo>
                      <a:pt x="728" y="185"/>
                    </a:lnTo>
                    <a:lnTo>
                      <a:pt x="729" y="188"/>
                    </a:lnTo>
                    <a:lnTo>
                      <a:pt x="732" y="196"/>
                    </a:lnTo>
                    <a:lnTo>
                      <a:pt x="735" y="203"/>
                    </a:lnTo>
                    <a:lnTo>
                      <a:pt x="737" y="213"/>
                    </a:lnTo>
                    <a:lnTo>
                      <a:pt x="739" y="225"/>
                    </a:lnTo>
                    <a:lnTo>
                      <a:pt x="740" y="236"/>
                    </a:lnTo>
                    <a:lnTo>
                      <a:pt x="741" y="246"/>
                    </a:lnTo>
                    <a:lnTo>
                      <a:pt x="739" y="253"/>
                    </a:lnTo>
                    <a:lnTo>
                      <a:pt x="737" y="259"/>
                    </a:lnTo>
                    <a:lnTo>
                      <a:pt x="730" y="268"/>
                    </a:lnTo>
                    <a:lnTo>
                      <a:pt x="723" y="275"/>
                    </a:lnTo>
                    <a:lnTo>
                      <a:pt x="712" y="285"/>
                    </a:lnTo>
                    <a:lnTo>
                      <a:pt x="702" y="294"/>
                    </a:lnTo>
                    <a:lnTo>
                      <a:pt x="687" y="304"/>
                    </a:lnTo>
                    <a:lnTo>
                      <a:pt x="673" y="314"/>
                    </a:lnTo>
                    <a:lnTo>
                      <a:pt x="664" y="319"/>
                    </a:lnTo>
                    <a:lnTo>
                      <a:pt x="656" y="324"/>
                    </a:lnTo>
                    <a:lnTo>
                      <a:pt x="647" y="329"/>
                    </a:lnTo>
                    <a:lnTo>
                      <a:pt x="637" y="333"/>
                    </a:lnTo>
                    <a:lnTo>
                      <a:pt x="627" y="339"/>
                    </a:lnTo>
                    <a:lnTo>
                      <a:pt x="616" y="343"/>
                    </a:lnTo>
                    <a:lnTo>
                      <a:pt x="605" y="348"/>
                    </a:lnTo>
                    <a:lnTo>
                      <a:pt x="593" y="353"/>
                    </a:lnTo>
                    <a:lnTo>
                      <a:pt x="582" y="359"/>
                    </a:lnTo>
                    <a:lnTo>
                      <a:pt x="570" y="365"/>
                    </a:lnTo>
                    <a:lnTo>
                      <a:pt x="559" y="371"/>
                    </a:lnTo>
                    <a:lnTo>
                      <a:pt x="546" y="376"/>
                    </a:lnTo>
                    <a:lnTo>
                      <a:pt x="533" y="381"/>
                    </a:lnTo>
                    <a:lnTo>
                      <a:pt x="519" y="386"/>
                    </a:lnTo>
                    <a:lnTo>
                      <a:pt x="506" y="391"/>
                    </a:lnTo>
                    <a:lnTo>
                      <a:pt x="492" y="396"/>
                    </a:lnTo>
                    <a:lnTo>
                      <a:pt x="478" y="402"/>
                    </a:lnTo>
                    <a:lnTo>
                      <a:pt x="463" y="407"/>
                    </a:lnTo>
                    <a:lnTo>
                      <a:pt x="454" y="411"/>
                    </a:lnTo>
                    <a:lnTo>
                      <a:pt x="444" y="415"/>
                    </a:lnTo>
                    <a:lnTo>
                      <a:pt x="436" y="418"/>
                    </a:lnTo>
                    <a:lnTo>
                      <a:pt x="427" y="422"/>
                    </a:lnTo>
                    <a:lnTo>
                      <a:pt x="417" y="425"/>
                    </a:lnTo>
                    <a:lnTo>
                      <a:pt x="408" y="429"/>
                    </a:lnTo>
                    <a:lnTo>
                      <a:pt x="398" y="433"/>
                    </a:lnTo>
                    <a:lnTo>
                      <a:pt x="389" y="436"/>
                    </a:lnTo>
                    <a:lnTo>
                      <a:pt x="379" y="441"/>
                    </a:lnTo>
                    <a:lnTo>
                      <a:pt x="369" y="445"/>
                    </a:lnTo>
                    <a:lnTo>
                      <a:pt x="359" y="449"/>
                    </a:lnTo>
                    <a:lnTo>
                      <a:pt x="349" y="453"/>
                    </a:lnTo>
                    <a:lnTo>
                      <a:pt x="338" y="459"/>
                    </a:lnTo>
                    <a:lnTo>
                      <a:pt x="328" y="464"/>
                    </a:lnTo>
                    <a:lnTo>
                      <a:pt x="318" y="469"/>
                    </a:lnTo>
                    <a:lnTo>
                      <a:pt x="308" y="474"/>
                    </a:lnTo>
                    <a:lnTo>
                      <a:pt x="297" y="479"/>
                    </a:lnTo>
                    <a:lnTo>
                      <a:pt x="286" y="484"/>
                    </a:lnTo>
                    <a:lnTo>
                      <a:pt x="276" y="489"/>
                    </a:lnTo>
                    <a:lnTo>
                      <a:pt x="266" y="494"/>
                    </a:lnTo>
                    <a:lnTo>
                      <a:pt x="254" y="499"/>
                    </a:lnTo>
                    <a:lnTo>
                      <a:pt x="244" y="504"/>
                    </a:lnTo>
                    <a:lnTo>
                      <a:pt x="234" y="510"/>
                    </a:lnTo>
                    <a:lnTo>
                      <a:pt x="224" y="515"/>
                    </a:lnTo>
                    <a:lnTo>
                      <a:pt x="214" y="520"/>
                    </a:lnTo>
                    <a:lnTo>
                      <a:pt x="202" y="525"/>
                    </a:lnTo>
                    <a:lnTo>
                      <a:pt x="192" y="530"/>
                    </a:lnTo>
                    <a:lnTo>
                      <a:pt x="182" y="535"/>
                    </a:lnTo>
                    <a:lnTo>
                      <a:pt x="172" y="540"/>
                    </a:lnTo>
                    <a:lnTo>
                      <a:pt x="162" y="545"/>
                    </a:lnTo>
                    <a:lnTo>
                      <a:pt x="151" y="551"/>
                    </a:lnTo>
                    <a:lnTo>
                      <a:pt x="142" y="557"/>
                    </a:lnTo>
                    <a:lnTo>
                      <a:pt x="133" y="562"/>
                    </a:lnTo>
                    <a:lnTo>
                      <a:pt x="124" y="567"/>
                    </a:lnTo>
                    <a:lnTo>
                      <a:pt x="115" y="573"/>
                    </a:lnTo>
                    <a:lnTo>
                      <a:pt x="106" y="578"/>
                    </a:lnTo>
                    <a:lnTo>
                      <a:pt x="98" y="583"/>
                    </a:lnTo>
                    <a:lnTo>
                      <a:pt x="90" y="588"/>
                    </a:lnTo>
                    <a:lnTo>
                      <a:pt x="82" y="593"/>
                    </a:lnTo>
                    <a:lnTo>
                      <a:pt x="74" y="598"/>
                    </a:lnTo>
                    <a:lnTo>
                      <a:pt x="59" y="609"/>
                    </a:lnTo>
                    <a:lnTo>
                      <a:pt x="46" y="618"/>
                    </a:lnTo>
                    <a:lnTo>
                      <a:pt x="35" y="627"/>
                    </a:lnTo>
                    <a:lnTo>
                      <a:pt x="24" y="635"/>
                    </a:lnTo>
                    <a:lnTo>
                      <a:pt x="17" y="643"/>
                    </a:lnTo>
                    <a:lnTo>
                      <a:pt x="8" y="651"/>
                    </a:lnTo>
                    <a:lnTo>
                      <a:pt x="4" y="659"/>
                    </a:lnTo>
                    <a:lnTo>
                      <a:pt x="0" y="666"/>
                    </a:lnTo>
                    <a:lnTo>
                      <a:pt x="0" y="672"/>
                    </a:lnTo>
                    <a:lnTo>
                      <a:pt x="0" y="677"/>
                    </a:lnTo>
                    <a:lnTo>
                      <a:pt x="4" y="682"/>
                    </a:lnTo>
                    <a:lnTo>
                      <a:pt x="10" y="686"/>
                    </a:lnTo>
                    <a:lnTo>
                      <a:pt x="22" y="688"/>
                    </a:lnTo>
                    <a:lnTo>
                      <a:pt x="34" y="691"/>
                    </a:lnTo>
                    <a:lnTo>
                      <a:pt x="42" y="692"/>
                    </a:lnTo>
                    <a:lnTo>
                      <a:pt x="50" y="692"/>
                    </a:lnTo>
                    <a:lnTo>
                      <a:pt x="58" y="692"/>
                    </a:lnTo>
                    <a:lnTo>
                      <a:pt x="67" y="693"/>
                    </a:lnTo>
                    <a:lnTo>
                      <a:pt x="76" y="693"/>
                    </a:lnTo>
                    <a:lnTo>
                      <a:pt x="86" y="693"/>
                    </a:lnTo>
                    <a:lnTo>
                      <a:pt x="96" y="693"/>
                    </a:lnTo>
                    <a:lnTo>
                      <a:pt x="106" y="692"/>
                    </a:lnTo>
                    <a:lnTo>
                      <a:pt x="118" y="692"/>
                    </a:lnTo>
                    <a:lnTo>
                      <a:pt x="130" y="691"/>
                    </a:lnTo>
                    <a:lnTo>
                      <a:pt x="141" y="690"/>
                    </a:lnTo>
                    <a:lnTo>
                      <a:pt x="153" y="689"/>
                    </a:lnTo>
                    <a:lnTo>
                      <a:pt x="167" y="688"/>
                    </a:lnTo>
                    <a:lnTo>
                      <a:pt x="179" y="686"/>
                    </a:lnTo>
                    <a:lnTo>
                      <a:pt x="192" y="685"/>
                    </a:lnTo>
                    <a:lnTo>
                      <a:pt x="205" y="683"/>
                    </a:lnTo>
                    <a:lnTo>
                      <a:pt x="220" y="682"/>
                    </a:lnTo>
                    <a:lnTo>
                      <a:pt x="235" y="680"/>
                    </a:lnTo>
                    <a:lnTo>
                      <a:pt x="249" y="679"/>
                    </a:lnTo>
                    <a:lnTo>
                      <a:pt x="264" y="677"/>
                    </a:lnTo>
                    <a:lnTo>
                      <a:pt x="279" y="675"/>
                    </a:lnTo>
                    <a:lnTo>
                      <a:pt x="293" y="673"/>
                    </a:lnTo>
                    <a:lnTo>
                      <a:pt x="309" y="671"/>
                    </a:lnTo>
                    <a:lnTo>
                      <a:pt x="323" y="669"/>
                    </a:lnTo>
                    <a:lnTo>
                      <a:pt x="338" y="667"/>
                    </a:lnTo>
                    <a:lnTo>
                      <a:pt x="355" y="664"/>
                    </a:lnTo>
                    <a:lnTo>
                      <a:pt x="370" y="662"/>
                    </a:lnTo>
                    <a:lnTo>
                      <a:pt x="385" y="659"/>
                    </a:lnTo>
                    <a:lnTo>
                      <a:pt x="399" y="657"/>
                    </a:lnTo>
                    <a:lnTo>
                      <a:pt x="415" y="654"/>
                    </a:lnTo>
                    <a:lnTo>
                      <a:pt x="430" y="651"/>
                    </a:lnTo>
                    <a:lnTo>
                      <a:pt x="444" y="648"/>
                    </a:lnTo>
                    <a:lnTo>
                      <a:pt x="460" y="645"/>
                    </a:lnTo>
                    <a:lnTo>
                      <a:pt x="474" y="642"/>
                    </a:lnTo>
                    <a:lnTo>
                      <a:pt x="489" y="639"/>
                    </a:lnTo>
                    <a:lnTo>
                      <a:pt x="505" y="636"/>
                    </a:lnTo>
                    <a:lnTo>
                      <a:pt x="519" y="634"/>
                    </a:lnTo>
                    <a:lnTo>
                      <a:pt x="533" y="631"/>
                    </a:lnTo>
                    <a:lnTo>
                      <a:pt x="547" y="629"/>
                    </a:lnTo>
                    <a:lnTo>
                      <a:pt x="562" y="626"/>
                    </a:lnTo>
                    <a:lnTo>
                      <a:pt x="575" y="623"/>
                    </a:lnTo>
                    <a:lnTo>
                      <a:pt x="587" y="621"/>
                    </a:lnTo>
                    <a:lnTo>
                      <a:pt x="601" y="618"/>
                    </a:lnTo>
                    <a:lnTo>
                      <a:pt x="614" y="616"/>
                    </a:lnTo>
                    <a:lnTo>
                      <a:pt x="625" y="614"/>
                    </a:lnTo>
                    <a:lnTo>
                      <a:pt x="636" y="611"/>
                    </a:lnTo>
                    <a:lnTo>
                      <a:pt x="648" y="609"/>
                    </a:lnTo>
                    <a:lnTo>
                      <a:pt x="660" y="607"/>
                    </a:lnTo>
                    <a:lnTo>
                      <a:pt x="669" y="603"/>
                    </a:lnTo>
                    <a:lnTo>
                      <a:pt x="679" y="600"/>
                    </a:lnTo>
                    <a:lnTo>
                      <a:pt x="689" y="598"/>
                    </a:lnTo>
                    <a:lnTo>
                      <a:pt x="700" y="595"/>
                    </a:lnTo>
                    <a:lnTo>
                      <a:pt x="714" y="592"/>
                    </a:lnTo>
                    <a:lnTo>
                      <a:pt x="729" y="588"/>
                    </a:lnTo>
                    <a:lnTo>
                      <a:pt x="744" y="585"/>
                    </a:lnTo>
                    <a:lnTo>
                      <a:pt x="757" y="581"/>
                    </a:lnTo>
                    <a:lnTo>
                      <a:pt x="771" y="578"/>
                    </a:lnTo>
                    <a:lnTo>
                      <a:pt x="785" y="574"/>
                    </a:lnTo>
                    <a:lnTo>
                      <a:pt x="794" y="571"/>
                    </a:lnTo>
                    <a:lnTo>
                      <a:pt x="801" y="569"/>
                    </a:lnTo>
                    <a:lnTo>
                      <a:pt x="809" y="566"/>
                    </a:lnTo>
                    <a:lnTo>
                      <a:pt x="817" y="563"/>
                    </a:lnTo>
                    <a:lnTo>
                      <a:pt x="825" y="560"/>
                    </a:lnTo>
                    <a:lnTo>
                      <a:pt x="833" y="558"/>
                    </a:lnTo>
                    <a:lnTo>
                      <a:pt x="843" y="554"/>
                    </a:lnTo>
                    <a:lnTo>
                      <a:pt x="851" y="552"/>
                    </a:lnTo>
                    <a:lnTo>
                      <a:pt x="859" y="548"/>
                    </a:lnTo>
                    <a:lnTo>
                      <a:pt x="868" y="545"/>
                    </a:lnTo>
                    <a:lnTo>
                      <a:pt x="876" y="541"/>
                    </a:lnTo>
                    <a:lnTo>
                      <a:pt x="884" y="538"/>
                    </a:lnTo>
                    <a:lnTo>
                      <a:pt x="893" y="535"/>
                    </a:lnTo>
                    <a:lnTo>
                      <a:pt x="901" y="531"/>
                    </a:lnTo>
                    <a:lnTo>
                      <a:pt x="909" y="528"/>
                    </a:lnTo>
                    <a:lnTo>
                      <a:pt x="916" y="524"/>
                    </a:lnTo>
                    <a:lnTo>
                      <a:pt x="925" y="520"/>
                    </a:lnTo>
                    <a:lnTo>
                      <a:pt x="933" y="516"/>
                    </a:lnTo>
                    <a:lnTo>
                      <a:pt x="942" y="512"/>
                    </a:lnTo>
                    <a:lnTo>
                      <a:pt x="951" y="508"/>
                    </a:lnTo>
                    <a:lnTo>
                      <a:pt x="958" y="502"/>
                    </a:lnTo>
                    <a:lnTo>
                      <a:pt x="966" y="497"/>
                    </a:lnTo>
                    <a:lnTo>
                      <a:pt x="974" y="492"/>
                    </a:lnTo>
                    <a:lnTo>
                      <a:pt x="982" y="488"/>
                    </a:lnTo>
                    <a:lnTo>
                      <a:pt x="990" y="483"/>
                    </a:lnTo>
                    <a:lnTo>
                      <a:pt x="998" y="478"/>
                    </a:lnTo>
                    <a:lnTo>
                      <a:pt x="1006" y="473"/>
                    </a:lnTo>
                    <a:lnTo>
                      <a:pt x="1014" y="468"/>
                    </a:lnTo>
                    <a:lnTo>
                      <a:pt x="1027" y="455"/>
                    </a:lnTo>
                    <a:lnTo>
                      <a:pt x="1042" y="443"/>
                    </a:lnTo>
                    <a:lnTo>
                      <a:pt x="1055" y="431"/>
                    </a:lnTo>
                    <a:lnTo>
                      <a:pt x="1067" y="418"/>
                    </a:lnTo>
                    <a:lnTo>
                      <a:pt x="1078" y="403"/>
                    </a:lnTo>
                    <a:lnTo>
                      <a:pt x="1090" y="388"/>
                    </a:lnTo>
                    <a:lnTo>
                      <a:pt x="1095" y="380"/>
                    </a:lnTo>
                    <a:lnTo>
                      <a:pt x="1100" y="372"/>
                    </a:lnTo>
                    <a:lnTo>
                      <a:pt x="1105" y="364"/>
                    </a:lnTo>
                    <a:lnTo>
                      <a:pt x="1110" y="355"/>
                    </a:lnTo>
                    <a:lnTo>
                      <a:pt x="1113" y="346"/>
                    </a:lnTo>
                    <a:lnTo>
                      <a:pt x="1116" y="338"/>
                    </a:lnTo>
                    <a:lnTo>
                      <a:pt x="1119" y="329"/>
                    </a:lnTo>
                    <a:lnTo>
                      <a:pt x="1123" y="320"/>
                    </a:lnTo>
                    <a:lnTo>
                      <a:pt x="1125" y="310"/>
                    </a:lnTo>
                    <a:lnTo>
                      <a:pt x="1128" y="301"/>
                    </a:lnTo>
                    <a:lnTo>
                      <a:pt x="1130" y="292"/>
                    </a:lnTo>
                    <a:lnTo>
                      <a:pt x="1134" y="282"/>
                    </a:lnTo>
                    <a:lnTo>
                      <a:pt x="1135" y="272"/>
                    </a:lnTo>
                    <a:lnTo>
                      <a:pt x="1135" y="260"/>
                    </a:lnTo>
                    <a:lnTo>
                      <a:pt x="1136" y="250"/>
                    </a:lnTo>
                    <a:lnTo>
                      <a:pt x="1138" y="239"/>
                    </a:lnTo>
                    <a:lnTo>
                      <a:pt x="1137" y="231"/>
                    </a:lnTo>
                    <a:lnTo>
                      <a:pt x="1137" y="223"/>
                    </a:lnTo>
                    <a:lnTo>
                      <a:pt x="1136" y="215"/>
                    </a:lnTo>
                    <a:lnTo>
                      <a:pt x="1136" y="206"/>
                    </a:lnTo>
                    <a:lnTo>
                      <a:pt x="1134" y="198"/>
                    </a:lnTo>
                    <a:lnTo>
                      <a:pt x="1132" y="191"/>
                    </a:lnTo>
                    <a:lnTo>
                      <a:pt x="1130" y="183"/>
                    </a:lnTo>
                    <a:lnTo>
                      <a:pt x="1129" y="175"/>
                    </a:lnTo>
                    <a:lnTo>
                      <a:pt x="1126" y="168"/>
                    </a:lnTo>
                    <a:lnTo>
                      <a:pt x="1123" y="159"/>
                    </a:lnTo>
                    <a:lnTo>
                      <a:pt x="1120" y="151"/>
                    </a:lnTo>
                    <a:lnTo>
                      <a:pt x="1117" y="144"/>
                    </a:lnTo>
                    <a:lnTo>
                      <a:pt x="1114" y="136"/>
                    </a:lnTo>
                    <a:lnTo>
                      <a:pt x="1110" y="128"/>
                    </a:lnTo>
                    <a:lnTo>
                      <a:pt x="1107" y="121"/>
                    </a:lnTo>
                    <a:lnTo>
                      <a:pt x="1103" y="112"/>
                    </a:lnTo>
                    <a:lnTo>
                      <a:pt x="1095" y="98"/>
                    </a:lnTo>
                    <a:lnTo>
                      <a:pt x="1086" y="84"/>
                    </a:lnTo>
                    <a:lnTo>
                      <a:pt x="1075" y="71"/>
                    </a:lnTo>
                    <a:lnTo>
                      <a:pt x="1066" y="55"/>
                    </a:lnTo>
                    <a:lnTo>
                      <a:pt x="1054" y="40"/>
                    </a:lnTo>
                    <a:lnTo>
                      <a:pt x="1042" y="26"/>
                    </a:lnTo>
                    <a:lnTo>
                      <a:pt x="1029" y="12"/>
                    </a:lnTo>
                    <a:lnTo>
                      <a:pt x="1018" y="0"/>
                    </a:lnTo>
                    <a:lnTo>
                      <a:pt x="1016" y="0"/>
                    </a:lnTo>
                    <a:lnTo>
                      <a:pt x="1014" y="1"/>
                    </a:lnTo>
                    <a:lnTo>
                      <a:pt x="1009" y="2"/>
                    </a:lnTo>
                    <a:lnTo>
                      <a:pt x="1004" y="3"/>
                    </a:lnTo>
                    <a:lnTo>
                      <a:pt x="998" y="5"/>
                    </a:lnTo>
                    <a:lnTo>
                      <a:pt x="991" y="7"/>
                    </a:lnTo>
                    <a:lnTo>
                      <a:pt x="980" y="10"/>
                    </a:lnTo>
                    <a:lnTo>
                      <a:pt x="970" y="13"/>
                    </a:lnTo>
                    <a:lnTo>
                      <a:pt x="959" y="16"/>
                    </a:lnTo>
                    <a:lnTo>
                      <a:pt x="948" y="20"/>
                    </a:lnTo>
                    <a:lnTo>
                      <a:pt x="936" y="25"/>
                    </a:lnTo>
                    <a:lnTo>
                      <a:pt x="924" y="29"/>
                    </a:lnTo>
                    <a:lnTo>
                      <a:pt x="912" y="33"/>
                    </a:lnTo>
                    <a:lnTo>
                      <a:pt x="899" y="37"/>
                    </a:lnTo>
                    <a:lnTo>
                      <a:pt x="885" y="41"/>
                    </a:lnTo>
                    <a:lnTo>
                      <a:pt x="872" y="45"/>
                    </a:lnTo>
                    <a:lnTo>
                      <a:pt x="860" y="48"/>
                    </a:lnTo>
                    <a:lnTo>
                      <a:pt x="847" y="52"/>
                    </a:lnTo>
                    <a:lnTo>
                      <a:pt x="833" y="56"/>
                    </a:lnTo>
                    <a:lnTo>
                      <a:pt x="821" y="60"/>
                    </a:lnTo>
                    <a:lnTo>
                      <a:pt x="809" y="64"/>
                    </a:lnTo>
                    <a:lnTo>
                      <a:pt x="797" y="68"/>
                    </a:lnTo>
                    <a:lnTo>
                      <a:pt x="784" y="70"/>
                    </a:lnTo>
                    <a:lnTo>
                      <a:pt x="773" y="72"/>
                    </a:lnTo>
                    <a:lnTo>
                      <a:pt x="764" y="75"/>
                    </a:lnTo>
                    <a:lnTo>
                      <a:pt x="756" y="77"/>
                    </a:lnTo>
                    <a:lnTo>
                      <a:pt x="747" y="79"/>
                    </a:lnTo>
                    <a:lnTo>
                      <a:pt x="739" y="80"/>
                    </a:lnTo>
                    <a:lnTo>
                      <a:pt x="735" y="81"/>
                    </a:lnTo>
                    <a:lnTo>
                      <a:pt x="731" y="82"/>
                    </a:lnTo>
                    <a:lnTo>
                      <a:pt x="729" y="83"/>
                    </a:lnTo>
                    <a:lnTo>
                      <a:pt x="727" y="83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411800" y="1738800"/>
                <a:ext cx="38160" cy="40320"/>
              </a:xfrm>
              <a:custGeom>
                <a:avLst/>
                <a:gdLst/>
                <a:ahLst/>
                <a:rect l="l" t="t" r="r" b="b"/>
                <a:pathLst>
                  <a:path w="739" h="766">
                    <a:moveTo>
                      <a:pt x="371" y="757"/>
                    </a:moveTo>
                    <a:lnTo>
                      <a:pt x="380" y="758"/>
                    </a:lnTo>
                    <a:lnTo>
                      <a:pt x="389" y="760"/>
                    </a:lnTo>
                    <a:lnTo>
                      <a:pt x="399" y="762"/>
                    </a:lnTo>
                    <a:lnTo>
                      <a:pt x="409" y="763"/>
                    </a:lnTo>
                    <a:lnTo>
                      <a:pt x="418" y="764"/>
                    </a:lnTo>
                    <a:lnTo>
                      <a:pt x="426" y="765"/>
                    </a:lnTo>
                    <a:lnTo>
                      <a:pt x="435" y="765"/>
                    </a:lnTo>
                    <a:lnTo>
                      <a:pt x="445" y="766"/>
                    </a:lnTo>
                    <a:lnTo>
                      <a:pt x="454" y="766"/>
                    </a:lnTo>
                    <a:lnTo>
                      <a:pt x="462" y="766"/>
                    </a:lnTo>
                    <a:lnTo>
                      <a:pt x="471" y="766"/>
                    </a:lnTo>
                    <a:lnTo>
                      <a:pt x="480" y="766"/>
                    </a:lnTo>
                    <a:lnTo>
                      <a:pt x="488" y="765"/>
                    </a:lnTo>
                    <a:lnTo>
                      <a:pt x="497" y="763"/>
                    </a:lnTo>
                    <a:lnTo>
                      <a:pt x="506" y="762"/>
                    </a:lnTo>
                    <a:lnTo>
                      <a:pt x="514" y="760"/>
                    </a:lnTo>
                    <a:lnTo>
                      <a:pt x="522" y="759"/>
                    </a:lnTo>
                    <a:lnTo>
                      <a:pt x="530" y="757"/>
                    </a:lnTo>
                    <a:lnTo>
                      <a:pt x="537" y="756"/>
                    </a:lnTo>
                    <a:lnTo>
                      <a:pt x="546" y="754"/>
                    </a:lnTo>
                    <a:lnTo>
                      <a:pt x="561" y="747"/>
                    </a:lnTo>
                    <a:lnTo>
                      <a:pt x="575" y="741"/>
                    </a:lnTo>
                    <a:lnTo>
                      <a:pt x="591" y="734"/>
                    </a:lnTo>
                    <a:lnTo>
                      <a:pt x="606" y="728"/>
                    </a:lnTo>
                    <a:lnTo>
                      <a:pt x="619" y="719"/>
                    </a:lnTo>
                    <a:lnTo>
                      <a:pt x="631" y="710"/>
                    </a:lnTo>
                    <a:lnTo>
                      <a:pt x="644" y="699"/>
                    </a:lnTo>
                    <a:lnTo>
                      <a:pt x="655" y="687"/>
                    </a:lnTo>
                    <a:lnTo>
                      <a:pt x="665" y="676"/>
                    </a:lnTo>
                    <a:lnTo>
                      <a:pt x="675" y="664"/>
                    </a:lnTo>
                    <a:lnTo>
                      <a:pt x="684" y="652"/>
                    </a:lnTo>
                    <a:lnTo>
                      <a:pt x="695" y="638"/>
                    </a:lnTo>
                    <a:lnTo>
                      <a:pt x="702" y="624"/>
                    </a:lnTo>
                    <a:lnTo>
                      <a:pt x="709" y="610"/>
                    </a:lnTo>
                    <a:lnTo>
                      <a:pt x="713" y="602"/>
                    </a:lnTo>
                    <a:lnTo>
                      <a:pt x="716" y="594"/>
                    </a:lnTo>
                    <a:lnTo>
                      <a:pt x="719" y="585"/>
                    </a:lnTo>
                    <a:lnTo>
                      <a:pt x="723" y="577"/>
                    </a:lnTo>
                    <a:lnTo>
                      <a:pt x="725" y="569"/>
                    </a:lnTo>
                    <a:lnTo>
                      <a:pt x="727" y="561"/>
                    </a:lnTo>
                    <a:lnTo>
                      <a:pt x="729" y="553"/>
                    </a:lnTo>
                    <a:lnTo>
                      <a:pt x="731" y="544"/>
                    </a:lnTo>
                    <a:lnTo>
                      <a:pt x="732" y="535"/>
                    </a:lnTo>
                    <a:lnTo>
                      <a:pt x="735" y="526"/>
                    </a:lnTo>
                    <a:lnTo>
                      <a:pt x="736" y="517"/>
                    </a:lnTo>
                    <a:lnTo>
                      <a:pt x="738" y="508"/>
                    </a:lnTo>
                    <a:lnTo>
                      <a:pt x="738" y="498"/>
                    </a:lnTo>
                    <a:lnTo>
                      <a:pt x="739" y="488"/>
                    </a:lnTo>
                    <a:lnTo>
                      <a:pt x="739" y="479"/>
                    </a:lnTo>
                    <a:lnTo>
                      <a:pt x="739" y="469"/>
                    </a:lnTo>
                    <a:lnTo>
                      <a:pt x="739" y="460"/>
                    </a:lnTo>
                    <a:lnTo>
                      <a:pt x="739" y="450"/>
                    </a:lnTo>
                    <a:lnTo>
                      <a:pt x="738" y="440"/>
                    </a:lnTo>
                    <a:lnTo>
                      <a:pt x="738" y="430"/>
                    </a:lnTo>
                    <a:lnTo>
                      <a:pt x="736" y="421"/>
                    </a:lnTo>
                    <a:lnTo>
                      <a:pt x="735" y="412"/>
                    </a:lnTo>
                    <a:lnTo>
                      <a:pt x="732" y="403"/>
                    </a:lnTo>
                    <a:lnTo>
                      <a:pt x="731" y="393"/>
                    </a:lnTo>
                    <a:lnTo>
                      <a:pt x="729" y="384"/>
                    </a:lnTo>
                    <a:lnTo>
                      <a:pt x="727" y="374"/>
                    </a:lnTo>
                    <a:lnTo>
                      <a:pt x="725" y="365"/>
                    </a:lnTo>
                    <a:lnTo>
                      <a:pt x="723" y="355"/>
                    </a:lnTo>
                    <a:lnTo>
                      <a:pt x="719" y="345"/>
                    </a:lnTo>
                    <a:lnTo>
                      <a:pt x="716" y="336"/>
                    </a:lnTo>
                    <a:lnTo>
                      <a:pt x="713" y="327"/>
                    </a:lnTo>
                    <a:lnTo>
                      <a:pt x="709" y="318"/>
                    </a:lnTo>
                    <a:lnTo>
                      <a:pt x="706" y="309"/>
                    </a:lnTo>
                    <a:lnTo>
                      <a:pt x="702" y="299"/>
                    </a:lnTo>
                    <a:lnTo>
                      <a:pt x="699" y="291"/>
                    </a:lnTo>
                    <a:lnTo>
                      <a:pt x="695" y="282"/>
                    </a:lnTo>
                    <a:lnTo>
                      <a:pt x="690" y="274"/>
                    </a:lnTo>
                    <a:lnTo>
                      <a:pt x="684" y="265"/>
                    </a:lnTo>
                    <a:lnTo>
                      <a:pt x="680" y="257"/>
                    </a:lnTo>
                    <a:lnTo>
                      <a:pt x="675" y="247"/>
                    </a:lnTo>
                    <a:lnTo>
                      <a:pt x="670" y="239"/>
                    </a:lnTo>
                    <a:lnTo>
                      <a:pt x="665" y="230"/>
                    </a:lnTo>
                    <a:lnTo>
                      <a:pt x="660" y="221"/>
                    </a:lnTo>
                    <a:lnTo>
                      <a:pt x="655" y="212"/>
                    </a:lnTo>
                    <a:lnTo>
                      <a:pt x="649" y="205"/>
                    </a:lnTo>
                    <a:lnTo>
                      <a:pt x="644" y="196"/>
                    </a:lnTo>
                    <a:lnTo>
                      <a:pt x="638" y="188"/>
                    </a:lnTo>
                    <a:lnTo>
                      <a:pt x="631" y="180"/>
                    </a:lnTo>
                    <a:lnTo>
                      <a:pt x="619" y="166"/>
                    </a:lnTo>
                    <a:lnTo>
                      <a:pt x="606" y="150"/>
                    </a:lnTo>
                    <a:lnTo>
                      <a:pt x="591" y="137"/>
                    </a:lnTo>
                    <a:lnTo>
                      <a:pt x="575" y="123"/>
                    </a:lnTo>
                    <a:lnTo>
                      <a:pt x="561" y="110"/>
                    </a:lnTo>
                    <a:lnTo>
                      <a:pt x="546" y="96"/>
                    </a:lnTo>
                    <a:lnTo>
                      <a:pt x="537" y="91"/>
                    </a:lnTo>
                    <a:lnTo>
                      <a:pt x="530" y="85"/>
                    </a:lnTo>
                    <a:lnTo>
                      <a:pt x="522" y="80"/>
                    </a:lnTo>
                    <a:lnTo>
                      <a:pt x="514" y="74"/>
                    </a:lnTo>
                    <a:lnTo>
                      <a:pt x="506" y="69"/>
                    </a:lnTo>
                    <a:lnTo>
                      <a:pt x="497" y="64"/>
                    </a:lnTo>
                    <a:lnTo>
                      <a:pt x="488" y="58"/>
                    </a:lnTo>
                    <a:lnTo>
                      <a:pt x="480" y="52"/>
                    </a:lnTo>
                    <a:lnTo>
                      <a:pt x="471" y="48"/>
                    </a:lnTo>
                    <a:lnTo>
                      <a:pt x="462" y="44"/>
                    </a:lnTo>
                    <a:lnTo>
                      <a:pt x="454" y="40"/>
                    </a:lnTo>
                    <a:lnTo>
                      <a:pt x="445" y="35"/>
                    </a:lnTo>
                    <a:lnTo>
                      <a:pt x="435" y="32"/>
                    </a:lnTo>
                    <a:lnTo>
                      <a:pt x="426" y="28"/>
                    </a:lnTo>
                    <a:lnTo>
                      <a:pt x="418" y="25"/>
                    </a:lnTo>
                    <a:lnTo>
                      <a:pt x="409" y="21"/>
                    </a:lnTo>
                    <a:lnTo>
                      <a:pt x="399" y="18"/>
                    </a:lnTo>
                    <a:lnTo>
                      <a:pt x="389" y="15"/>
                    </a:lnTo>
                    <a:lnTo>
                      <a:pt x="380" y="12"/>
                    </a:lnTo>
                    <a:lnTo>
                      <a:pt x="371" y="9"/>
                    </a:lnTo>
                    <a:lnTo>
                      <a:pt x="361" y="7"/>
                    </a:lnTo>
                    <a:lnTo>
                      <a:pt x="352" y="6"/>
                    </a:lnTo>
                    <a:lnTo>
                      <a:pt x="342" y="4"/>
                    </a:lnTo>
                    <a:lnTo>
                      <a:pt x="333" y="3"/>
                    </a:lnTo>
                    <a:lnTo>
                      <a:pt x="323" y="2"/>
                    </a:lnTo>
                    <a:lnTo>
                      <a:pt x="314" y="1"/>
                    </a:lnTo>
                    <a:lnTo>
                      <a:pt x="305" y="0"/>
                    </a:lnTo>
                    <a:lnTo>
                      <a:pt x="296" y="0"/>
                    </a:lnTo>
                    <a:lnTo>
                      <a:pt x="286" y="0"/>
                    </a:lnTo>
                    <a:lnTo>
                      <a:pt x="278" y="0"/>
                    </a:lnTo>
                    <a:lnTo>
                      <a:pt x="270" y="0"/>
                    </a:lnTo>
                    <a:lnTo>
                      <a:pt x="261" y="0"/>
                    </a:lnTo>
                    <a:lnTo>
                      <a:pt x="252" y="1"/>
                    </a:lnTo>
                    <a:lnTo>
                      <a:pt x="243" y="3"/>
                    </a:lnTo>
                    <a:lnTo>
                      <a:pt x="234" y="4"/>
                    </a:lnTo>
                    <a:lnTo>
                      <a:pt x="225" y="5"/>
                    </a:lnTo>
                    <a:lnTo>
                      <a:pt x="218" y="7"/>
                    </a:lnTo>
                    <a:lnTo>
                      <a:pt x="210" y="10"/>
                    </a:lnTo>
                    <a:lnTo>
                      <a:pt x="202" y="11"/>
                    </a:lnTo>
                    <a:lnTo>
                      <a:pt x="193" y="13"/>
                    </a:lnTo>
                    <a:lnTo>
                      <a:pt x="179" y="19"/>
                    </a:lnTo>
                    <a:lnTo>
                      <a:pt x="164" y="25"/>
                    </a:lnTo>
                    <a:lnTo>
                      <a:pt x="150" y="32"/>
                    </a:lnTo>
                    <a:lnTo>
                      <a:pt x="136" y="39"/>
                    </a:lnTo>
                    <a:lnTo>
                      <a:pt x="122" y="47"/>
                    </a:lnTo>
                    <a:lnTo>
                      <a:pt x="109" y="56"/>
                    </a:lnTo>
                    <a:lnTo>
                      <a:pt x="96" y="67"/>
                    </a:lnTo>
                    <a:lnTo>
                      <a:pt x="84" y="77"/>
                    </a:lnTo>
                    <a:lnTo>
                      <a:pt x="74" y="89"/>
                    </a:lnTo>
                    <a:lnTo>
                      <a:pt x="65" y="102"/>
                    </a:lnTo>
                    <a:lnTo>
                      <a:pt x="55" y="115"/>
                    </a:lnTo>
                    <a:lnTo>
                      <a:pt x="44" y="128"/>
                    </a:lnTo>
                    <a:lnTo>
                      <a:pt x="37" y="142"/>
                    </a:lnTo>
                    <a:lnTo>
                      <a:pt x="30" y="157"/>
                    </a:lnTo>
                    <a:lnTo>
                      <a:pt x="27" y="164"/>
                    </a:lnTo>
                    <a:lnTo>
                      <a:pt x="24" y="172"/>
                    </a:lnTo>
                    <a:lnTo>
                      <a:pt x="20" y="180"/>
                    </a:lnTo>
                    <a:lnTo>
                      <a:pt x="17" y="187"/>
                    </a:lnTo>
                    <a:lnTo>
                      <a:pt x="15" y="196"/>
                    </a:lnTo>
                    <a:lnTo>
                      <a:pt x="13" y="205"/>
                    </a:lnTo>
                    <a:lnTo>
                      <a:pt x="11" y="214"/>
                    </a:lnTo>
                    <a:lnTo>
                      <a:pt x="9" y="222"/>
                    </a:lnTo>
                    <a:lnTo>
                      <a:pt x="7" y="230"/>
                    </a:lnTo>
                    <a:lnTo>
                      <a:pt x="6" y="239"/>
                    </a:lnTo>
                    <a:lnTo>
                      <a:pt x="4" y="247"/>
                    </a:lnTo>
                    <a:lnTo>
                      <a:pt x="2" y="257"/>
                    </a:lnTo>
                    <a:lnTo>
                      <a:pt x="1" y="266"/>
                    </a:lnTo>
                    <a:lnTo>
                      <a:pt x="1" y="275"/>
                    </a:lnTo>
                    <a:lnTo>
                      <a:pt x="1" y="284"/>
                    </a:lnTo>
                    <a:lnTo>
                      <a:pt x="0" y="293"/>
                    </a:lnTo>
                    <a:lnTo>
                      <a:pt x="1" y="304"/>
                    </a:lnTo>
                    <a:lnTo>
                      <a:pt x="1" y="314"/>
                    </a:lnTo>
                    <a:lnTo>
                      <a:pt x="1" y="323"/>
                    </a:lnTo>
                    <a:lnTo>
                      <a:pt x="2" y="333"/>
                    </a:lnTo>
                    <a:lnTo>
                      <a:pt x="4" y="342"/>
                    </a:lnTo>
                    <a:lnTo>
                      <a:pt x="6" y="353"/>
                    </a:lnTo>
                    <a:lnTo>
                      <a:pt x="7" y="363"/>
                    </a:lnTo>
                    <a:lnTo>
                      <a:pt x="9" y="373"/>
                    </a:lnTo>
                    <a:lnTo>
                      <a:pt x="11" y="382"/>
                    </a:lnTo>
                    <a:lnTo>
                      <a:pt x="13" y="390"/>
                    </a:lnTo>
                    <a:lnTo>
                      <a:pt x="15" y="400"/>
                    </a:lnTo>
                    <a:lnTo>
                      <a:pt x="17" y="409"/>
                    </a:lnTo>
                    <a:lnTo>
                      <a:pt x="20" y="418"/>
                    </a:lnTo>
                    <a:lnTo>
                      <a:pt x="24" y="428"/>
                    </a:lnTo>
                    <a:lnTo>
                      <a:pt x="27" y="438"/>
                    </a:lnTo>
                    <a:lnTo>
                      <a:pt x="30" y="448"/>
                    </a:lnTo>
                    <a:lnTo>
                      <a:pt x="34" y="457"/>
                    </a:lnTo>
                    <a:lnTo>
                      <a:pt x="37" y="466"/>
                    </a:lnTo>
                    <a:lnTo>
                      <a:pt x="41" y="474"/>
                    </a:lnTo>
                    <a:lnTo>
                      <a:pt x="44" y="483"/>
                    </a:lnTo>
                    <a:lnTo>
                      <a:pt x="49" y="492"/>
                    </a:lnTo>
                    <a:lnTo>
                      <a:pt x="55" y="501"/>
                    </a:lnTo>
                    <a:lnTo>
                      <a:pt x="60" y="510"/>
                    </a:lnTo>
                    <a:lnTo>
                      <a:pt x="65" y="518"/>
                    </a:lnTo>
                    <a:lnTo>
                      <a:pt x="69" y="527"/>
                    </a:lnTo>
                    <a:lnTo>
                      <a:pt x="74" y="535"/>
                    </a:lnTo>
                    <a:lnTo>
                      <a:pt x="79" y="542"/>
                    </a:lnTo>
                    <a:lnTo>
                      <a:pt x="84" y="551"/>
                    </a:lnTo>
                    <a:lnTo>
                      <a:pt x="90" y="560"/>
                    </a:lnTo>
                    <a:lnTo>
                      <a:pt x="96" y="568"/>
                    </a:lnTo>
                    <a:lnTo>
                      <a:pt x="103" y="576"/>
                    </a:lnTo>
                    <a:lnTo>
                      <a:pt x="109" y="584"/>
                    </a:lnTo>
                    <a:lnTo>
                      <a:pt x="115" y="592"/>
                    </a:lnTo>
                    <a:lnTo>
                      <a:pt x="122" y="601"/>
                    </a:lnTo>
                    <a:lnTo>
                      <a:pt x="129" y="608"/>
                    </a:lnTo>
                    <a:lnTo>
                      <a:pt x="136" y="616"/>
                    </a:lnTo>
                    <a:lnTo>
                      <a:pt x="150" y="629"/>
                    </a:lnTo>
                    <a:lnTo>
                      <a:pt x="164" y="641"/>
                    </a:lnTo>
                    <a:lnTo>
                      <a:pt x="179" y="656"/>
                    </a:lnTo>
                    <a:lnTo>
                      <a:pt x="193" y="669"/>
                    </a:lnTo>
                    <a:lnTo>
                      <a:pt x="202" y="675"/>
                    </a:lnTo>
                    <a:lnTo>
                      <a:pt x="210" y="680"/>
                    </a:lnTo>
                    <a:lnTo>
                      <a:pt x="218" y="685"/>
                    </a:lnTo>
                    <a:lnTo>
                      <a:pt x="225" y="690"/>
                    </a:lnTo>
                    <a:lnTo>
                      <a:pt x="234" y="697"/>
                    </a:lnTo>
                    <a:lnTo>
                      <a:pt x="243" y="703"/>
                    </a:lnTo>
                    <a:lnTo>
                      <a:pt x="252" y="708"/>
                    </a:lnTo>
                    <a:lnTo>
                      <a:pt x="261" y="714"/>
                    </a:lnTo>
                    <a:lnTo>
                      <a:pt x="270" y="718"/>
                    </a:lnTo>
                    <a:lnTo>
                      <a:pt x="278" y="722"/>
                    </a:lnTo>
                    <a:lnTo>
                      <a:pt x="286" y="726"/>
                    </a:lnTo>
                    <a:lnTo>
                      <a:pt x="296" y="729"/>
                    </a:lnTo>
                    <a:lnTo>
                      <a:pt x="305" y="733"/>
                    </a:lnTo>
                    <a:lnTo>
                      <a:pt x="314" y="737"/>
                    </a:lnTo>
                    <a:lnTo>
                      <a:pt x="323" y="742"/>
                    </a:lnTo>
                    <a:lnTo>
                      <a:pt x="333" y="745"/>
                    </a:lnTo>
                    <a:lnTo>
                      <a:pt x="342" y="748"/>
                    </a:lnTo>
                    <a:lnTo>
                      <a:pt x="352" y="751"/>
                    </a:lnTo>
                    <a:lnTo>
                      <a:pt x="361" y="754"/>
                    </a:lnTo>
                    <a:lnTo>
                      <a:pt x="371" y="757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23680" y="1772640"/>
                <a:ext cx="12960" cy="357840"/>
              </a:xfrm>
              <a:custGeom>
                <a:avLst/>
                <a:gdLst/>
                <a:ahLst/>
                <a:rect l="l" t="t" r="r" b="b"/>
                <a:pathLst>
                  <a:path w="274" h="6801">
                    <a:moveTo>
                      <a:pt x="31" y="6518"/>
                    </a:moveTo>
                    <a:lnTo>
                      <a:pt x="31" y="6531"/>
                    </a:lnTo>
                    <a:lnTo>
                      <a:pt x="32" y="6543"/>
                    </a:lnTo>
                    <a:lnTo>
                      <a:pt x="32" y="6555"/>
                    </a:lnTo>
                    <a:lnTo>
                      <a:pt x="33" y="6567"/>
                    </a:lnTo>
                    <a:lnTo>
                      <a:pt x="35" y="6580"/>
                    </a:lnTo>
                    <a:lnTo>
                      <a:pt x="36" y="6592"/>
                    </a:lnTo>
                    <a:lnTo>
                      <a:pt x="38" y="6604"/>
                    </a:lnTo>
                    <a:lnTo>
                      <a:pt x="40" y="6618"/>
                    </a:lnTo>
                    <a:lnTo>
                      <a:pt x="43" y="6629"/>
                    </a:lnTo>
                    <a:lnTo>
                      <a:pt x="45" y="6641"/>
                    </a:lnTo>
                    <a:lnTo>
                      <a:pt x="48" y="6652"/>
                    </a:lnTo>
                    <a:lnTo>
                      <a:pt x="50" y="6664"/>
                    </a:lnTo>
                    <a:lnTo>
                      <a:pt x="54" y="6674"/>
                    </a:lnTo>
                    <a:lnTo>
                      <a:pt x="57" y="6684"/>
                    </a:lnTo>
                    <a:lnTo>
                      <a:pt x="60" y="6694"/>
                    </a:lnTo>
                    <a:lnTo>
                      <a:pt x="64" y="6704"/>
                    </a:lnTo>
                    <a:lnTo>
                      <a:pt x="68" y="6715"/>
                    </a:lnTo>
                    <a:lnTo>
                      <a:pt x="73" y="6723"/>
                    </a:lnTo>
                    <a:lnTo>
                      <a:pt x="78" y="6732"/>
                    </a:lnTo>
                    <a:lnTo>
                      <a:pt x="83" y="6741"/>
                    </a:lnTo>
                    <a:lnTo>
                      <a:pt x="91" y="6755"/>
                    </a:lnTo>
                    <a:lnTo>
                      <a:pt x="100" y="6770"/>
                    </a:lnTo>
                    <a:lnTo>
                      <a:pt x="111" y="6780"/>
                    </a:lnTo>
                    <a:lnTo>
                      <a:pt x="122" y="6790"/>
                    </a:lnTo>
                    <a:lnTo>
                      <a:pt x="134" y="6796"/>
                    </a:lnTo>
                    <a:lnTo>
                      <a:pt x="146" y="6801"/>
                    </a:lnTo>
                    <a:lnTo>
                      <a:pt x="156" y="6801"/>
                    </a:lnTo>
                    <a:lnTo>
                      <a:pt x="167" y="6801"/>
                    </a:lnTo>
                    <a:lnTo>
                      <a:pt x="179" y="6796"/>
                    </a:lnTo>
                    <a:lnTo>
                      <a:pt x="190" y="6790"/>
                    </a:lnTo>
                    <a:lnTo>
                      <a:pt x="199" y="6781"/>
                    </a:lnTo>
                    <a:lnTo>
                      <a:pt x="209" y="6771"/>
                    </a:lnTo>
                    <a:lnTo>
                      <a:pt x="217" y="6756"/>
                    </a:lnTo>
                    <a:lnTo>
                      <a:pt x="226" y="6742"/>
                    </a:lnTo>
                    <a:lnTo>
                      <a:pt x="229" y="6734"/>
                    </a:lnTo>
                    <a:lnTo>
                      <a:pt x="233" y="6725"/>
                    </a:lnTo>
                    <a:lnTo>
                      <a:pt x="236" y="6717"/>
                    </a:lnTo>
                    <a:lnTo>
                      <a:pt x="239" y="6707"/>
                    </a:lnTo>
                    <a:lnTo>
                      <a:pt x="242" y="6697"/>
                    </a:lnTo>
                    <a:lnTo>
                      <a:pt x="244" y="6687"/>
                    </a:lnTo>
                    <a:lnTo>
                      <a:pt x="247" y="6677"/>
                    </a:lnTo>
                    <a:lnTo>
                      <a:pt x="249" y="6666"/>
                    </a:lnTo>
                    <a:lnTo>
                      <a:pt x="251" y="6654"/>
                    </a:lnTo>
                    <a:lnTo>
                      <a:pt x="253" y="6643"/>
                    </a:lnTo>
                    <a:lnTo>
                      <a:pt x="255" y="6631"/>
                    </a:lnTo>
                    <a:lnTo>
                      <a:pt x="257" y="6620"/>
                    </a:lnTo>
                    <a:lnTo>
                      <a:pt x="258" y="6607"/>
                    </a:lnTo>
                    <a:lnTo>
                      <a:pt x="258" y="6595"/>
                    </a:lnTo>
                    <a:lnTo>
                      <a:pt x="258" y="6584"/>
                    </a:lnTo>
                    <a:lnTo>
                      <a:pt x="259" y="6572"/>
                    </a:lnTo>
                    <a:lnTo>
                      <a:pt x="259" y="6505"/>
                    </a:lnTo>
                    <a:lnTo>
                      <a:pt x="259" y="6439"/>
                    </a:lnTo>
                    <a:lnTo>
                      <a:pt x="259" y="6373"/>
                    </a:lnTo>
                    <a:lnTo>
                      <a:pt x="259" y="6305"/>
                    </a:lnTo>
                    <a:lnTo>
                      <a:pt x="259" y="6239"/>
                    </a:lnTo>
                    <a:lnTo>
                      <a:pt x="260" y="6172"/>
                    </a:lnTo>
                    <a:lnTo>
                      <a:pt x="260" y="6106"/>
                    </a:lnTo>
                    <a:lnTo>
                      <a:pt x="260" y="6040"/>
                    </a:lnTo>
                    <a:lnTo>
                      <a:pt x="260" y="5973"/>
                    </a:lnTo>
                    <a:lnTo>
                      <a:pt x="260" y="5907"/>
                    </a:lnTo>
                    <a:lnTo>
                      <a:pt x="260" y="5841"/>
                    </a:lnTo>
                    <a:lnTo>
                      <a:pt x="260" y="5773"/>
                    </a:lnTo>
                    <a:lnTo>
                      <a:pt x="261" y="5707"/>
                    </a:lnTo>
                    <a:lnTo>
                      <a:pt x="261" y="5641"/>
                    </a:lnTo>
                    <a:lnTo>
                      <a:pt x="261" y="5574"/>
                    </a:lnTo>
                    <a:lnTo>
                      <a:pt x="261" y="5507"/>
                    </a:lnTo>
                    <a:lnTo>
                      <a:pt x="261" y="5437"/>
                    </a:lnTo>
                    <a:lnTo>
                      <a:pt x="261" y="5368"/>
                    </a:lnTo>
                    <a:lnTo>
                      <a:pt x="262" y="5298"/>
                    </a:lnTo>
                    <a:lnTo>
                      <a:pt x="262" y="5228"/>
                    </a:lnTo>
                    <a:lnTo>
                      <a:pt x="262" y="5159"/>
                    </a:lnTo>
                    <a:lnTo>
                      <a:pt x="262" y="5088"/>
                    </a:lnTo>
                    <a:lnTo>
                      <a:pt x="262" y="5019"/>
                    </a:lnTo>
                    <a:lnTo>
                      <a:pt x="262" y="4949"/>
                    </a:lnTo>
                    <a:lnTo>
                      <a:pt x="263" y="4879"/>
                    </a:lnTo>
                    <a:lnTo>
                      <a:pt x="263" y="4810"/>
                    </a:lnTo>
                    <a:lnTo>
                      <a:pt x="263" y="4740"/>
                    </a:lnTo>
                    <a:lnTo>
                      <a:pt x="263" y="4671"/>
                    </a:lnTo>
                    <a:lnTo>
                      <a:pt x="263" y="4600"/>
                    </a:lnTo>
                    <a:lnTo>
                      <a:pt x="263" y="4531"/>
                    </a:lnTo>
                    <a:lnTo>
                      <a:pt x="263" y="4461"/>
                    </a:lnTo>
                    <a:lnTo>
                      <a:pt x="264" y="4392"/>
                    </a:lnTo>
                    <a:lnTo>
                      <a:pt x="264" y="4323"/>
                    </a:lnTo>
                    <a:lnTo>
                      <a:pt x="264" y="4252"/>
                    </a:lnTo>
                    <a:lnTo>
                      <a:pt x="264" y="4183"/>
                    </a:lnTo>
                    <a:lnTo>
                      <a:pt x="264" y="4113"/>
                    </a:lnTo>
                    <a:lnTo>
                      <a:pt x="264" y="4043"/>
                    </a:lnTo>
                    <a:lnTo>
                      <a:pt x="265" y="3973"/>
                    </a:lnTo>
                    <a:lnTo>
                      <a:pt x="265" y="3904"/>
                    </a:lnTo>
                    <a:lnTo>
                      <a:pt x="265" y="3834"/>
                    </a:lnTo>
                    <a:lnTo>
                      <a:pt x="265" y="3764"/>
                    </a:lnTo>
                    <a:lnTo>
                      <a:pt x="265" y="3695"/>
                    </a:lnTo>
                    <a:lnTo>
                      <a:pt x="266" y="3624"/>
                    </a:lnTo>
                    <a:lnTo>
                      <a:pt x="266" y="3555"/>
                    </a:lnTo>
                    <a:lnTo>
                      <a:pt x="266" y="3485"/>
                    </a:lnTo>
                    <a:lnTo>
                      <a:pt x="266" y="3415"/>
                    </a:lnTo>
                    <a:lnTo>
                      <a:pt x="267" y="3346"/>
                    </a:lnTo>
                    <a:lnTo>
                      <a:pt x="267" y="3275"/>
                    </a:lnTo>
                    <a:lnTo>
                      <a:pt x="267" y="3207"/>
                    </a:lnTo>
                    <a:lnTo>
                      <a:pt x="267" y="3137"/>
                    </a:lnTo>
                    <a:lnTo>
                      <a:pt x="267" y="3068"/>
                    </a:lnTo>
                    <a:lnTo>
                      <a:pt x="267" y="2999"/>
                    </a:lnTo>
                    <a:lnTo>
                      <a:pt x="267" y="2930"/>
                    </a:lnTo>
                    <a:lnTo>
                      <a:pt x="268" y="2862"/>
                    </a:lnTo>
                    <a:lnTo>
                      <a:pt x="268" y="2792"/>
                    </a:lnTo>
                    <a:lnTo>
                      <a:pt x="268" y="2724"/>
                    </a:lnTo>
                    <a:lnTo>
                      <a:pt x="268" y="2654"/>
                    </a:lnTo>
                    <a:lnTo>
                      <a:pt x="268" y="2586"/>
                    </a:lnTo>
                    <a:lnTo>
                      <a:pt x="268" y="2517"/>
                    </a:lnTo>
                    <a:lnTo>
                      <a:pt x="268" y="2447"/>
                    </a:lnTo>
                    <a:lnTo>
                      <a:pt x="268" y="2379"/>
                    </a:lnTo>
                    <a:lnTo>
                      <a:pt x="268" y="2309"/>
                    </a:lnTo>
                    <a:lnTo>
                      <a:pt x="270" y="2241"/>
                    </a:lnTo>
                    <a:lnTo>
                      <a:pt x="270" y="2171"/>
                    </a:lnTo>
                    <a:lnTo>
                      <a:pt x="270" y="2102"/>
                    </a:lnTo>
                    <a:lnTo>
                      <a:pt x="270" y="2034"/>
                    </a:lnTo>
                    <a:lnTo>
                      <a:pt x="270" y="1964"/>
                    </a:lnTo>
                    <a:lnTo>
                      <a:pt x="270" y="1895"/>
                    </a:lnTo>
                    <a:lnTo>
                      <a:pt x="270" y="1826"/>
                    </a:lnTo>
                    <a:lnTo>
                      <a:pt x="270" y="1757"/>
                    </a:lnTo>
                    <a:lnTo>
                      <a:pt x="270" y="1688"/>
                    </a:lnTo>
                    <a:lnTo>
                      <a:pt x="271" y="1618"/>
                    </a:lnTo>
                    <a:lnTo>
                      <a:pt x="271" y="1550"/>
                    </a:lnTo>
                    <a:lnTo>
                      <a:pt x="271" y="1480"/>
                    </a:lnTo>
                    <a:lnTo>
                      <a:pt x="271" y="1411"/>
                    </a:lnTo>
                    <a:lnTo>
                      <a:pt x="271" y="1341"/>
                    </a:lnTo>
                    <a:lnTo>
                      <a:pt x="271" y="1273"/>
                    </a:lnTo>
                    <a:lnTo>
                      <a:pt x="272" y="1204"/>
                    </a:lnTo>
                    <a:lnTo>
                      <a:pt x="272" y="1134"/>
                    </a:lnTo>
                    <a:lnTo>
                      <a:pt x="272" y="1065"/>
                    </a:lnTo>
                    <a:lnTo>
                      <a:pt x="272" y="1002"/>
                    </a:lnTo>
                    <a:lnTo>
                      <a:pt x="272" y="940"/>
                    </a:lnTo>
                    <a:lnTo>
                      <a:pt x="272" y="878"/>
                    </a:lnTo>
                    <a:lnTo>
                      <a:pt x="272" y="816"/>
                    </a:lnTo>
                    <a:lnTo>
                      <a:pt x="272" y="753"/>
                    </a:lnTo>
                    <a:lnTo>
                      <a:pt x="273" y="691"/>
                    </a:lnTo>
                    <a:lnTo>
                      <a:pt x="273" y="629"/>
                    </a:lnTo>
                    <a:lnTo>
                      <a:pt x="273" y="566"/>
                    </a:lnTo>
                    <a:lnTo>
                      <a:pt x="273" y="503"/>
                    </a:lnTo>
                    <a:lnTo>
                      <a:pt x="273" y="441"/>
                    </a:lnTo>
                    <a:lnTo>
                      <a:pt x="273" y="379"/>
                    </a:lnTo>
                    <a:lnTo>
                      <a:pt x="273" y="316"/>
                    </a:lnTo>
                    <a:lnTo>
                      <a:pt x="273" y="253"/>
                    </a:lnTo>
                    <a:lnTo>
                      <a:pt x="273" y="191"/>
                    </a:lnTo>
                    <a:lnTo>
                      <a:pt x="274" y="129"/>
                    </a:lnTo>
                    <a:lnTo>
                      <a:pt x="274" y="66"/>
                    </a:lnTo>
                    <a:lnTo>
                      <a:pt x="239" y="58"/>
                    </a:lnTo>
                    <a:lnTo>
                      <a:pt x="205" y="50"/>
                    </a:lnTo>
                    <a:lnTo>
                      <a:pt x="170" y="41"/>
                    </a:lnTo>
                    <a:lnTo>
                      <a:pt x="137" y="33"/>
                    </a:lnTo>
                    <a:lnTo>
                      <a:pt x="102" y="24"/>
                    </a:lnTo>
                    <a:lnTo>
                      <a:pt x="68" y="16"/>
                    </a:lnTo>
                    <a:lnTo>
                      <a:pt x="35" y="8"/>
                    </a:lnTo>
                    <a:lnTo>
                      <a:pt x="0" y="0"/>
                    </a:lnTo>
                    <a:lnTo>
                      <a:pt x="1" y="63"/>
                    </a:lnTo>
                    <a:lnTo>
                      <a:pt x="1" y="125"/>
                    </a:lnTo>
                    <a:lnTo>
                      <a:pt x="1" y="189"/>
                    </a:lnTo>
                    <a:lnTo>
                      <a:pt x="1" y="251"/>
                    </a:lnTo>
                    <a:lnTo>
                      <a:pt x="1" y="313"/>
                    </a:lnTo>
                    <a:lnTo>
                      <a:pt x="2" y="377"/>
                    </a:lnTo>
                    <a:lnTo>
                      <a:pt x="2" y="439"/>
                    </a:lnTo>
                    <a:lnTo>
                      <a:pt x="2" y="501"/>
                    </a:lnTo>
                    <a:lnTo>
                      <a:pt x="2" y="563"/>
                    </a:lnTo>
                    <a:lnTo>
                      <a:pt x="3" y="627"/>
                    </a:lnTo>
                    <a:lnTo>
                      <a:pt x="3" y="689"/>
                    </a:lnTo>
                    <a:lnTo>
                      <a:pt x="3" y="751"/>
                    </a:lnTo>
                    <a:lnTo>
                      <a:pt x="3" y="815"/>
                    </a:lnTo>
                    <a:lnTo>
                      <a:pt x="4" y="877"/>
                    </a:lnTo>
                    <a:lnTo>
                      <a:pt x="4" y="939"/>
                    </a:lnTo>
                    <a:lnTo>
                      <a:pt x="4" y="1001"/>
                    </a:lnTo>
                    <a:lnTo>
                      <a:pt x="5" y="1071"/>
                    </a:lnTo>
                    <a:lnTo>
                      <a:pt x="5" y="1140"/>
                    </a:lnTo>
                    <a:lnTo>
                      <a:pt x="5" y="1210"/>
                    </a:lnTo>
                    <a:lnTo>
                      <a:pt x="6" y="1279"/>
                    </a:lnTo>
                    <a:lnTo>
                      <a:pt x="6" y="1349"/>
                    </a:lnTo>
                    <a:lnTo>
                      <a:pt x="7" y="1418"/>
                    </a:lnTo>
                    <a:lnTo>
                      <a:pt x="7" y="1487"/>
                    </a:lnTo>
                    <a:lnTo>
                      <a:pt x="7" y="1557"/>
                    </a:lnTo>
                    <a:lnTo>
                      <a:pt x="8" y="1626"/>
                    </a:lnTo>
                    <a:lnTo>
                      <a:pt x="8" y="1695"/>
                    </a:lnTo>
                    <a:lnTo>
                      <a:pt x="8" y="1764"/>
                    </a:lnTo>
                    <a:lnTo>
                      <a:pt x="9" y="1834"/>
                    </a:lnTo>
                    <a:lnTo>
                      <a:pt x="9" y="1903"/>
                    </a:lnTo>
                    <a:lnTo>
                      <a:pt x="9" y="1972"/>
                    </a:lnTo>
                    <a:lnTo>
                      <a:pt x="10" y="2042"/>
                    </a:lnTo>
                    <a:lnTo>
                      <a:pt x="10" y="2110"/>
                    </a:lnTo>
                    <a:lnTo>
                      <a:pt x="10" y="2180"/>
                    </a:lnTo>
                    <a:lnTo>
                      <a:pt x="11" y="2249"/>
                    </a:lnTo>
                    <a:lnTo>
                      <a:pt x="11" y="2317"/>
                    </a:lnTo>
                    <a:lnTo>
                      <a:pt x="12" y="2387"/>
                    </a:lnTo>
                    <a:lnTo>
                      <a:pt x="12" y="2455"/>
                    </a:lnTo>
                    <a:lnTo>
                      <a:pt x="12" y="2525"/>
                    </a:lnTo>
                    <a:lnTo>
                      <a:pt x="13" y="2594"/>
                    </a:lnTo>
                    <a:lnTo>
                      <a:pt x="13" y="2664"/>
                    </a:lnTo>
                    <a:lnTo>
                      <a:pt x="13" y="2732"/>
                    </a:lnTo>
                    <a:lnTo>
                      <a:pt x="14" y="2801"/>
                    </a:lnTo>
                    <a:lnTo>
                      <a:pt x="14" y="2871"/>
                    </a:lnTo>
                    <a:lnTo>
                      <a:pt x="15" y="2939"/>
                    </a:lnTo>
                    <a:lnTo>
                      <a:pt x="15" y="3009"/>
                    </a:lnTo>
                    <a:lnTo>
                      <a:pt x="16" y="3078"/>
                    </a:lnTo>
                    <a:lnTo>
                      <a:pt x="16" y="3147"/>
                    </a:lnTo>
                    <a:lnTo>
                      <a:pt x="16" y="3216"/>
                    </a:lnTo>
                    <a:lnTo>
                      <a:pt x="17" y="3286"/>
                    </a:lnTo>
                    <a:lnTo>
                      <a:pt x="17" y="3357"/>
                    </a:lnTo>
                    <a:lnTo>
                      <a:pt x="17" y="3426"/>
                    </a:lnTo>
                    <a:lnTo>
                      <a:pt x="17" y="3497"/>
                    </a:lnTo>
                    <a:lnTo>
                      <a:pt x="18" y="3566"/>
                    </a:lnTo>
                    <a:lnTo>
                      <a:pt x="18" y="3636"/>
                    </a:lnTo>
                    <a:lnTo>
                      <a:pt x="18" y="3706"/>
                    </a:lnTo>
                    <a:lnTo>
                      <a:pt x="19" y="3776"/>
                    </a:lnTo>
                    <a:lnTo>
                      <a:pt x="19" y="3846"/>
                    </a:lnTo>
                    <a:lnTo>
                      <a:pt x="19" y="3916"/>
                    </a:lnTo>
                    <a:lnTo>
                      <a:pt x="20" y="3986"/>
                    </a:lnTo>
                    <a:lnTo>
                      <a:pt x="20" y="4056"/>
                    </a:lnTo>
                    <a:lnTo>
                      <a:pt x="20" y="4126"/>
                    </a:lnTo>
                    <a:lnTo>
                      <a:pt x="21" y="4195"/>
                    </a:lnTo>
                    <a:lnTo>
                      <a:pt x="21" y="4265"/>
                    </a:lnTo>
                    <a:lnTo>
                      <a:pt x="21" y="4335"/>
                    </a:lnTo>
                    <a:lnTo>
                      <a:pt x="21" y="4404"/>
                    </a:lnTo>
                    <a:lnTo>
                      <a:pt x="22" y="4475"/>
                    </a:lnTo>
                    <a:lnTo>
                      <a:pt x="22" y="4544"/>
                    </a:lnTo>
                    <a:lnTo>
                      <a:pt x="22" y="4614"/>
                    </a:lnTo>
                    <a:lnTo>
                      <a:pt x="22" y="4684"/>
                    </a:lnTo>
                    <a:lnTo>
                      <a:pt x="23" y="4753"/>
                    </a:lnTo>
                    <a:lnTo>
                      <a:pt x="23" y="4823"/>
                    </a:lnTo>
                    <a:lnTo>
                      <a:pt x="23" y="4893"/>
                    </a:lnTo>
                    <a:lnTo>
                      <a:pt x="24" y="4963"/>
                    </a:lnTo>
                    <a:lnTo>
                      <a:pt x="24" y="5033"/>
                    </a:lnTo>
                    <a:lnTo>
                      <a:pt x="24" y="5103"/>
                    </a:lnTo>
                    <a:lnTo>
                      <a:pt x="25" y="5173"/>
                    </a:lnTo>
                    <a:lnTo>
                      <a:pt x="25" y="5242"/>
                    </a:lnTo>
                    <a:lnTo>
                      <a:pt x="27" y="5313"/>
                    </a:lnTo>
                    <a:lnTo>
                      <a:pt x="27" y="5382"/>
                    </a:lnTo>
                    <a:lnTo>
                      <a:pt x="27" y="5453"/>
                    </a:lnTo>
                    <a:lnTo>
                      <a:pt x="27" y="5519"/>
                    </a:lnTo>
                    <a:lnTo>
                      <a:pt x="28" y="5585"/>
                    </a:lnTo>
                    <a:lnTo>
                      <a:pt x="28" y="5653"/>
                    </a:lnTo>
                    <a:lnTo>
                      <a:pt x="28" y="5719"/>
                    </a:lnTo>
                    <a:lnTo>
                      <a:pt x="28" y="5786"/>
                    </a:lnTo>
                    <a:lnTo>
                      <a:pt x="29" y="5853"/>
                    </a:lnTo>
                    <a:lnTo>
                      <a:pt x="29" y="5919"/>
                    </a:lnTo>
                    <a:lnTo>
                      <a:pt x="29" y="5986"/>
                    </a:lnTo>
                    <a:lnTo>
                      <a:pt x="29" y="6052"/>
                    </a:lnTo>
                    <a:lnTo>
                      <a:pt x="29" y="6119"/>
                    </a:lnTo>
                    <a:lnTo>
                      <a:pt x="30" y="6186"/>
                    </a:lnTo>
                    <a:lnTo>
                      <a:pt x="30" y="6252"/>
                    </a:lnTo>
                    <a:lnTo>
                      <a:pt x="30" y="6318"/>
                    </a:lnTo>
                    <a:lnTo>
                      <a:pt x="30" y="6385"/>
                    </a:lnTo>
                    <a:lnTo>
                      <a:pt x="30" y="6451"/>
                    </a:lnTo>
                    <a:lnTo>
                      <a:pt x="31" y="6518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3935520" y="2389320"/>
            <a:ext cx="11318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atient Ind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4720" y="1795320"/>
            <a:ext cx="150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vider asks if there are records for his/her pati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25760" y="2166840"/>
            <a:ext cx="128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dex sends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ocation of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ny reco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43280" y="2192400"/>
            <a:ext cx="428400" cy="1440"/>
          </a:xfrm>
          <a:custGeom>
            <a:avLst/>
            <a:gdLst/>
            <a:ahLst/>
            <a:rect l="l" t="t" r="r" b="b"/>
            <a:pathLst>
              <a:path w="270" h="1">
                <a:moveTo>
                  <a:pt x="0" y="0"/>
                </a:moveTo>
                <a:lnTo>
                  <a:pt x="27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95680" y="2138400"/>
            <a:ext cx="166680" cy="239760"/>
          </a:xfrm>
          <a:custGeom>
            <a:avLst/>
            <a:gdLst/>
            <a:ahLst/>
            <a:rect l="l" t="t" r="r" b="b"/>
            <a:pathLst>
              <a:path w="321" h="93">
                <a:moveTo>
                  <a:pt x="0" y="0"/>
                </a:moveTo>
                <a:lnTo>
                  <a:pt x="0" y="93"/>
                </a:lnTo>
                <a:lnTo>
                  <a:pt x="321" y="9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51280" y="1742040"/>
            <a:ext cx="6994080" cy="369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24" y="2555"/>
                </a:moveTo>
                <a:arcTo wR="10800" hR="10800" stAng="-7814136" swAng="1777837"/>
                <a:lnTo>
                  <a:pt x="10800" y="10800"/>
                </a:lnTo>
                <a:close/>
              </a:path>
              <a:path fill="none" w="21600" h="21600">
                <a:moveTo>
                  <a:pt x="3824" y="2555"/>
                </a:moveTo>
                <a:arcTo wR="10800" hR="10800" stAng="-7814136" swAng="177783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46520" y="1832040"/>
            <a:ext cx="7441200" cy="357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28" y="1609"/>
                </a:moveTo>
                <a:arcTo wR="10800" hR="10800" stAng="-7300773" swAng="1375128"/>
                <a:lnTo>
                  <a:pt x="10800" y="10800"/>
                </a:lnTo>
                <a:close/>
              </a:path>
              <a:path fill="none" w="21600" h="21600">
                <a:moveTo>
                  <a:pt x="5128" y="1609"/>
                </a:moveTo>
                <a:arcTo wR="10800" hR="10800" stAng="-7300773" swAng="1375128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33520" y="2131920"/>
            <a:ext cx="112680" cy="11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38440" y="2100240"/>
            <a:ext cx="11268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45240" y="1370160"/>
            <a:ext cx="111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ource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nds index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38880" y="2101680"/>
            <a:ext cx="112680" cy="11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00440" y="1796400"/>
            <a:ext cx="6771240" cy="36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5" y="88"/>
                </a:moveTo>
                <a:arcTo wR="10800" hR="10800" stAng="-4961270" swAng="1729707"/>
                <a:lnTo>
                  <a:pt x="10800" y="10800"/>
                </a:lnTo>
                <a:close/>
              </a:path>
              <a:path fill="none" w="21600" h="21600">
                <a:moveTo>
                  <a:pt x="12175" y="88"/>
                </a:moveTo>
                <a:arcTo wR="10800" hR="10800" stAng="-4961270" swAng="172970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2025600">
            <a:off x="6692040" y="2193480"/>
            <a:ext cx="87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61a5"/>
                </a:solidFill>
                <a:latin typeface="Arial"/>
              </a:rPr>
              <a:t>LOC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50920" y="3819600"/>
            <a:ext cx="13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vider asks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 and receives reco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93800" y="3344760"/>
            <a:ext cx="11304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60840" y="3425760"/>
            <a:ext cx="112680" cy="11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46360" y="3421080"/>
            <a:ext cx="171360" cy="258840"/>
          </a:xfrm>
          <a:custGeom>
            <a:avLst/>
            <a:gdLst/>
            <a:ahLst/>
            <a:rect l="l" t="t" r="r" b="b"/>
            <a:pathLst>
              <a:path w="108" h="150">
                <a:moveTo>
                  <a:pt x="0" y="0"/>
                </a:moveTo>
                <a:lnTo>
                  <a:pt x="0" y="150"/>
                </a:lnTo>
                <a:lnTo>
                  <a:pt x="108" y="150"/>
                </a:lnTo>
                <a:lnTo>
                  <a:pt x="108" y="6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32040" y="3679920"/>
            <a:ext cx="0" cy="135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30840" y="3711600"/>
            <a:ext cx="100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cords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e sent to Provid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30880" y="3475080"/>
            <a:ext cx="0" cy="244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75440" y="339084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388200" y="1870200"/>
            <a:ext cx="0" cy="27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65000" y="3097080"/>
            <a:ext cx="1265400" cy="978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a820a"/>
            </a:outerShdw>
          </a:effectLst>
        </p:spPr>
      </p:pic>
      <p:sp>
        <p:nvSpPr>
          <p:cNvPr id="326" name=""/>
          <p:cNvSpPr/>
          <p:nvPr/>
        </p:nvSpPr>
        <p:spPr>
          <a:xfrm>
            <a:off x="924480" y="3276720"/>
            <a:ext cx="89388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Individ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rovid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4295880"/>
            <a:ext cx="8382240" cy="1955520"/>
          </a:xfrm>
          <a:prstGeom prst="rect">
            <a:avLst/>
          </a:prstGeom>
          <a:gradFill rotWithShape="0">
            <a:gsLst>
              <a:gs pos="0">
                <a:srgbClr val="dad8ca"/>
              </a:gs>
              <a:gs pos="50000">
                <a:srgbClr val="11c7f9"/>
              </a:gs>
              <a:gs pos="100000">
                <a:srgbClr val="dad8c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4398840" y="3832200"/>
            <a:ext cx="3378240" cy="1636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1100160" y="4910040"/>
            <a:ext cx="3300480" cy="1013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330" name=""/>
          <p:cNvSpPr/>
          <p:nvPr/>
        </p:nvSpPr>
        <p:spPr>
          <a:xfrm>
            <a:off x="4062960" y="42894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e7fc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2360" y="6338880"/>
            <a:ext cx="785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: © 2004 The Markle Foundation   Graphic adapted from Tom Benthin original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3975120" y="4741920"/>
            <a:ext cx="1028160" cy="1069920"/>
            <a:chOff x="3975120" y="4741920"/>
            <a:chExt cx="1028160" cy="1069920"/>
          </a:xfrm>
        </p:grpSpPr>
        <p:sp>
          <p:nvSpPr>
            <p:cNvPr id="333" name=""/>
            <p:cNvSpPr/>
            <p:nvPr/>
          </p:nvSpPr>
          <p:spPr>
            <a:xfrm>
              <a:off x="4288680" y="5594760"/>
              <a:ext cx="63360" cy="91440"/>
            </a:xfrm>
            <a:custGeom>
              <a:avLst/>
              <a:gdLst/>
              <a:ahLst/>
              <a:rect l="l" t="t" r="r" b="b"/>
              <a:pathLst>
                <a:path w="469" h="644">
                  <a:moveTo>
                    <a:pt x="81" y="644"/>
                  </a:moveTo>
                  <a:lnTo>
                    <a:pt x="0" y="474"/>
                  </a:lnTo>
                  <a:lnTo>
                    <a:pt x="85" y="137"/>
                  </a:lnTo>
                  <a:lnTo>
                    <a:pt x="469" y="0"/>
                  </a:lnTo>
                  <a:lnTo>
                    <a:pt x="469" y="417"/>
                  </a:lnTo>
                  <a:lnTo>
                    <a:pt x="81" y="6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90600" y="5573880"/>
              <a:ext cx="309240" cy="112680"/>
            </a:xfrm>
            <a:custGeom>
              <a:avLst/>
              <a:gdLst/>
              <a:ahLst/>
              <a:rect l="l" t="t" r="r" b="b"/>
              <a:pathLst>
                <a:path w="2280" h="791">
                  <a:moveTo>
                    <a:pt x="0" y="0"/>
                  </a:moveTo>
                  <a:lnTo>
                    <a:pt x="0" y="284"/>
                  </a:lnTo>
                  <a:lnTo>
                    <a:pt x="2280" y="791"/>
                  </a:lnTo>
                  <a:lnTo>
                    <a:pt x="228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19320" y="5657040"/>
              <a:ext cx="171360" cy="154800"/>
            </a:xfrm>
            <a:custGeom>
              <a:avLst/>
              <a:gdLst/>
              <a:ahLst/>
              <a:rect l="l" t="t" r="r" b="b"/>
              <a:pathLst>
                <a:path w="1264" h="1086">
                  <a:moveTo>
                    <a:pt x="81" y="1086"/>
                  </a:moveTo>
                  <a:lnTo>
                    <a:pt x="0" y="915"/>
                  </a:lnTo>
                  <a:lnTo>
                    <a:pt x="85" y="580"/>
                  </a:lnTo>
                  <a:lnTo>
                    <a:pt x="1264" y="0"/>
                  </a:lnTo>
                  <a:lnTo>
                    <a:pt x="1264" y="417"/>
                  </a:lnTo>
                  <a:lnTo>
                    <a:pt x="81" y="10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33680" y="5652360"/>
              <a:ext cx="496440" cy="159480"/>
            </a:xfrm>
            <a:custGeom>
              <a:avLst/>
              <a:gdLst/>
              <a:ahLst/>
              <a:rect l="l" t="t" r="r" b="b"/>
              <a:pathLst>
                <a:path w="3663" h="1122">
                  <a:moveTo>
                    <a:pt x="0" y="0"/>
                  </a:moveTo>
                  <a:lnTo>
                    <a:pt x="0" y="284"/>
                  </a:lnTo>
                  <a:lnTo>
                    <a:pt x="3663" y="1122"/>
                  </a:lnTo>
                  <a:lnTo>
                    <a:pt x="3663" y="7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78960" y="5121720"/>
              <a:ext cx="194760" cy="534960"/>
            </a:xfrm>
            <a:custGeom>
              <a:avLst/>
              <a:gdLst/>
              <a:ahLst/>
              <a:rect l="l" t="t" r="r" b="b"/>
              <a:pathLst>
                <a:path w="1438" h="3756">
                  <a:moveTo>
                    <a:pt x="111" y="3756"/>
                  </a:moveTo>
                  <a:lnTo>
                    <a:pt x="0" y="2991"/>
                  </a:lnTo>
                  <a:lnTo>
                    <a:pt x="83" y="618"/>
                  </a:lnTo>
                  <a:lnTo>
                    <a:pt x="1438" y="0"/>
                  </a:lnTo>
                  <a:lnTo>
                    <a:pt x="1438" y="3005"/>
                  </a:lnTo>
                  <a:lnTo>
                    <a:pt x="111" y="3756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975120" y="5151240"/>
              <a:ext cx="319680" cy="505440"/>
            </a:xfrm>
            <a:custGeom>
              <a:avLst/>
              <a:gdLst/>
              <a:ahLst/>
              <a:rect l="l" t="t" r="r" b="b"/>
              <a:pathLst>
                <a:path w="589" h="887">
                  <a:moveTo>
                    <a:pt x="589" y="887"/>
                  </a:moveTo>
                  <a:lnTo>
                    <a:pt x="0" y="751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6"/>
                  </a:lnTo>
                  <a:lnTo>
                    <a:pt x="589" y="887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75840" y="505224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4">
                  <a:moveTo>
                    <a:pt x="0" y="695"/>
                  </a:moveTo>
                  <a:lnTo>
                    <a:pt x="1304" y="0"/>
                  </a:lnTo>
                  <a:lnTo>
                    <a:pt x="3671" y="491"/>
                  </a:lnTo>
                  <a:lnTo>
                    <a:pt x="2343" y="1244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08160" y="5248440"/>
              <a:ext cx="195120" cy="532800"/>
            </a:xfrm>
            <a:custGeom>
              <a:avLst/>
              <a:gdLst/>
              <a:ahLst/>
              <a:rect l="l" t="t" r="r" b="b"/>
              <a:pathLst>
                <a:path w="1440" h="3739">
                  <a:moveTo>
                    <a:pt x="111" y="3739"/>
                  </a:moveTo>
                  <a:lnTo>
                    <a:pt x="0" y="2974"/>
                  </a:lnTo>
                  <a:lnTo>
                    <a:pt x="84" y="619"/>
                  </a:lnTo>
                  <a:lnTo>
                    <a:pt x="1440" y="0"/>
                  </a:lnTo>
                  <a:lnTo>
                    <a:pt x="1440" y="2988"/>
                  </a:lnTo>
                  <a:lnTo>
                    <a:pt x="111" y="3739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13520" y="5232240"/>
              <a:ext cx="510120" cy="548640"/>
            </a:xfrm>
            <a:custGeom>
              <a:avLst/>
              <a:gdLst/>
              <a:ahLst/>
              <a:rect l="l" t="t" r="r" b="b"/>
              <a:pathLst>
                <a:path w="940" h="963">
                  <a:moveTo>
                    <a:pt x="940" y="963"/>
                  </a:moveTo>
                  <a:lnTo>
                    <a:pt x="0" y="749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90"/>
                  </a:lnTo>
                  <a:lnTo>
                    <a:pt x="940" y="96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14600" y="512964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5">
                  <a:moveTo>
                    <a:pt x="0" y="722"/>
                  </a:moveTo>
                  <a:lnTo>
                    <a:pt x="1332" y="0"/>
                  </a:lnTo>
                  <a:lnTo>
                    <a:pt x="5075" y="824"/>
                  </a:lnTo>
                  <a:lnTo>
                    <a:pt x="3762" y="1585"/>
                  </a:lnTo>
                  <a:lnTo>
                    <a:pt x="0" y="722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78960" y="4811040"/>
              <a:ext cx="194760" cy="401760"/>
            </a:xfrm>
            <a:custGeom>
              <a:avLst/>
              <a:gdLst/>
              <a:ahLst/>
              <a:rect l="l" t="t" r="r" b="b"/>
              <a:pathLst>
                <a:path w="1438" h="2822">
                  <a:moveTo>
                    <a:pt x="111" y="2822"/>
                  </a:moveTo>
                  <a:lnTo>
                    <a:pt x="0" y="2057"/>
                  </a:lnTo>
                  <a:lnTo>
                    <a:pt x="83" y="619"/>
                  </a:lnTo>
                  <a:lnTo>
                    <a:pt x="1438" y="0"/>
                  </a:lnTo>
                  <a:lnTo>
                    <a:pt x="1438" y="2072"/>
                  </a:lnTo>
                  <a:lnTo>
                    <a:pt x="111" y="2822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75120" y="4840920"/>
              <a:ext cx="319680" cy="371880"/>
            </a:xfrm>
            <a:custGeom>
              <a:avLst/>
              <a:gdLst/>
              <a:ahLst/>
              <a:rect l="l" t="t" r="r" b="b"/>
              <a:pathLst>
                <a:path w="589" h="653">
                  <a:moveTo>
                    <a:pt x="589" y="653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2"/>
                  </a:lnTo>
                  <a:lnTo>
                    <a:pt x="589" y="65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75840" y="474192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3">
                  <a:moveTo>
                    <a:pt x="0" y="693"/>
                  </a:moveTo>
                  <a:lnTo>
                    <a:pt x="1304" y="0"/>
                  </a:lnTo>
                  <a:lnTo>
                    <a:pt x="3671" y="490"/>
                  </a:lnTo>
                  <a:lnTo>
                    <a:pt x="2343" y="124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08160" y="4937760"/>
              <a:ext cx="195120" cy="402120"/>
            </a:xfrm>
            <a:custGeom>
              <a:avLst/>
              <a:gdLst/>
              <a:ahLst/>
              <a:rect l="l" t="t" r="r" b="b"/>
              <a:pathLst>
                <a:path w="1440" h="2823">
                  <a:moveTo>
                    <a:pt x="111" y="2823"/>
                  </a:moveTo>
                  <a:lnTo>
                    <a:pt x="0" y="2058"/>
                  </a:lnTo>
                  <a:lnTo>
                    <a:pt x="84" y="618"/>
                  </a:lnTo>
                  <a:lnTo>
                    <a:pt x="1440" y="0"/>
                  </a:lnTo>
                  <a:lnTo>
                    <a:pt x="1440" y="2072"/>
                  </a:lnTo>
                  <a:lnTo>
                    <a:pt x="111" y="2823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13520" y="4921920"/>
              <a:ext cx="510120" cy="416880"/>
            </a:xfrm>
            <a:custGeom>
              <a:avLst/>
              <a:gdLst/>
              <a:ahLst/>
              <a:rect l="l" t="t" r="r" b="b"/>
              <a:pathLst>
                <a:path w="940" h="732">
                  <a:moveTo>
                    <a:pt x="940" y="732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89"/>
                  </a:lnTo>
                  <a:lnTo>
                    <a:pt x="940" y="732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14600" y="481932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3">
                  <a:moveTo>
                    <a:pt x="0" y="721"/>
                  </a:moveTo>
                  <a:lnTo>
                    <a:pt x="1332" y="0"/>
                  </a:lnTo>
                  <a:lnTo>
                    <a:pt x="5075" y="823"/>
                  </a:lnTo>
                  <a:lnTo>
                    <a:pt x="3762" y="1583"/>
                  </a:lnTo>
                  <a:lnTo>
                    <a:pt x="0" y="721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62120" y="5085720"/>
              <a:ext cx="214920" cy="168120"/>
            </a:xfrm>
            <a:custGeom>
              <a:avLst/>
              <a:gdLst/>
              <a:ahLst/>
              <a:rect l="l" t="t" r="r" b="b"/>
              <a:pathLst>
                <a:path w="1582" h="1178">
                  <a:moveTo>
                    <a:pt x="0" y="0"/>
                  </a:moveTo>
                  <a:lnTo>
                    <a:pt x="98" y="21"/>
                  </a:lnTo>
                  <a:lnTo>
                    <a:pt x="196" y="42"/>
                  </a:lnTo>
                  <a:lnTo>
                    <a:pt x="294" y="63"/>
                  </a:lnTo>
                  <a:lnTo>
                    <a:pt x="393" y="86"/>
                  </a:lnTo>
                  <a:lnTo>
                    <a:pt x="491" y="108"/>
                  </a:lnTo>
                  <a:lnTo>
                    <a:pt x="589" y="130"/>
                  </a:lnTo>
                  <a:lnTo>
                    <a:pt x="688" y="151"/>
                  </a:lnTo>
                  <a:lnTo>
                    <a:pt x="786" y="174"/>
                  </a:lnTo>
                  <a:lnTo>
                    <a:pt x="884" y="196"/>
                  </a:lnTo>
                  <a:lnTo>
                    <a:pt x="984" y="219"/>
                  </a:lnTo>
                  <a:lnTo>
                    <a:pt x="1082" y="241"/>
                  </a:lnTo>
                  <a:lnTo>
                    <a:pt x="1181" y="263"/>
                  </a:lnTo>
                  <a:lnTo>
                    <a:pt x="1279" y="284"/>
                  </a:lnTo>
                  <a:lnTo>
                    <a:pt x="1378" y="306"/>
                  </a:lnTo>
                  <a:lnTo>
                    <a:pt x="1476" y="328"/>
                  </a:lnTo>
                  <a:lnTo>
                    <a:pt x="1575" y="349"/>
                  </a:lnTo>
                  <a:lnTo>
                    <a:pt x="1575" y="401"/>
                  </a:lnTo>
                  <a:lnTo>
                    <a:pt x="1575" y="452"/>
                  </a:lnTo>
                  <a:lnTo>
                    <a:pt x="1576" y="504"/>
                  </a:lnTo>
                  <a:lnTo>
                    <a:pt x="1576" y="556"/>
                  </a:lnTo>
                  <a:lnTo>
                    <a:pt x="1576" y="608"/>
                  </a:lnTo>
                  <a:lnTo>
                    <a:pt x="1578" y="660"/>
                  </a:lnTo>
                  <a:lnTo>
                    <a:pt x="1578" y="712"/>
                  </a:lnTo>
                  <a:lnTo>
                    <a:pt x="1579" y="764"/>
                  </a:lnTo>
                  <a:lnTo>
                    <a:pt x="1579" y="815"/>
                  </a:lnTo>
                  <a:lnTo>
                    <a:pt x="1579" y="867"/>
                  </a:lnTo>
                  <a:lnTo>
                    <a:pt x="1580" y="919"/>
                  </a:lnTo>
                  <a:lnTo>
                    <a:pt x="1580" y="971"/>
                  </a:lnTo>
                  <a:lnTo>
                    <a:pt x="1580" y="1023"/>
                  </a:lnTo>
                  <a:lnTo>
                    <a:pt x="1581" y="1074"/>
                  </a:lnTo>
                  <a:lnTo>
                    <a:pt x="1581" y="1127"/>
                  </a:lnTo>
                  <a:lnTo>
                    <a:pt x="1582" y="1178"/>
                  </a:lnTo>
                  <a:lnTo>
                    <a:pt x="1483" y="1157"/>
                  </a:lnTo>
                  <a:lnTo>
                    <a:pt x="1384" y="1135"/>
                  </a:lnTo>
                  <a:lnTo>
                    <a:pt x="1285" y="1114"/>
                  </a:lnTo>
                  <a:lnTo>
                    <a:pt x="1186" y="1092"/>
                  </a:lnTo>
                  <a:lnTo>
                    <a:pt x="1088" y="1069"/>
                  </a:lnTo>
                  <a:lnTo>
                    <a:pt x="989" y="1047"/>
                  </a:lnTo>
                  <a:lnTo>
                    <a:pt x="890" y="1024"/>
                  </a:lnTo>
                  <a:lnTo>
                    <a:pt x="792" y="1002"/>
                  </a:lnTo>
                  <a:lnTo>
                    <a:pt x="693" y="980"/>
                  </a:lnTo>
                  <a:lnTo>
                    <a:pt x="595" y="958"/>
                  </a:lnTo>
                  <a:lnTo>
                    <a:pt x="496" y="935"/>
                  </a:lnTo>
                  <a:lnTo>
                    <a:pt x="397" y="913"/>
                  </a:lnTo>
                  <a:lnTo>
                    <a:pt x="299" y="891"/>
                  </a:lnTo>
                  <a:lnTo>
                    <a:pt x="200" y="870"/>
                  </a:lnTo>
                  <a:lnTo>
                    <a:pt x="102" y="848"/>
                  </a:lnTo>
                  <a:lnTo>
                    <a:pt x="3" y="827"/>
                  </a:lnTo>
                  <a:lnTo>
                    <a:pt x="3" y="775"/>
                  </a:lnTo>
                  <a:lnTo>
                    <a:pt x="3" y="724"/>
                  </a:lnTo>
                  <a:lnTo>
                    <a:pt x="3" y="671"/>
                  </a:lnTo>
                  <a:lnTo>
                    <a:pt x="2" y="620"/>
                  </a:lnTo>
                  <a:lnTo>
                    <a:pt x="2" y="568"/>
                  </a:lnTo>
                  <a:lnTo>
                    <a:pt x="2" y="516"/>
                  </a:lnTo>
                  <a:lnTo>
                    <a:pt x="2" y="465"/>
                  </a:lnTo>
                  <a:lnTo>
                    <a:pt x="2" y="413"/>
                  </a:lnTo>
                  <a:lnTo>
                    <a:pt x="1" y="362"/>
                  </a:lnTo>
                  <a:lnTo>
                    <a:pt x="1" y="309"/>
                  </a:lnTo>
                  <a:lnTo>
                    <a:pt x="1" y="258"/>
                  </a:lnTo>
                  <a:lnTo>
                    <a:pt x="1" y="206"/>
                  </a:lnTo>
                  <a:lnTo>
                    <a:pt x="0" y="155"/>
                  </a:lnTo>
                  <a:lnTo>
                    <a:pt x="0" y="103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75080" y="5113800"/>
              <a:ext cx="87120" cy="91440"/>
            </a:xfrm>
            <a:custGeom>
              <a:avLst/>
              <a:gdLst/>
              <a:ahLst/>
              <a:rect l="l" t="t" r="r" b="b"/>
              <a:pathLst>
                <a:path w="646" h="644">
                  <a:moveTo>
                    <a:pt x="321" y="8"/>
                  </a:moveTo>
                  <a:lnTo>
                    <a:pt x="337" y="12"/>
                  </a:lnTo>
                  <a:lnTo>
                    <a:pt x="353" y="16"/>
                  </a:lnTo>
                  <a:lnTo>
                    <a:pt x="370" y="22"/>
                  </a:lnTo>
                  <a:lnTo>
                    <a:pt x="385" y="28"/>
                  </a:lnTo>
                  <a:lnTo>
                    <a:pt x="401" y="35"/>
                  </a:lnTo>
                  <a:lnTo>
                    <a:pt x="416" y="43"/>
                  </a:lnTo>
                  <a:lnTo>
                    <a:pt x="432" y="50"/>
                  </a:lnTo>
                  <a:lnTo>
                    <a:pt x="446" y="59"/>
                  </a:lnTo>
                  <a:lnTo>
                    <a:pt x="460" y="69"/>
                  </a:lnTo>
                  <a:lnTo>
                    <a:pt x="474" y="78"/>
                  </a:lnTo>
                  <a:lnTo>
                    <a:pt x="488" y="89"/>
                  </a:lnTo>
                  <a:lnTo>
                    <a:pt x="501" y="100"/>
                  </a:lnTo>
                  <a:lnTo>
                    <a:pt x="515" y="111"/>
                  </a:lnTo>
                  <a:lnTo>
                    <a:pt x="527" y="123"/>
                  </a:lnTo>
                  <a:lnTo>
                    <a:pt x="539" y="136"/>
                  </a:lnTo>
                  <a:lnTo>
                    <a:pt x="549" y="149"/>
                  </a:lnTo>
                  <a:lnTo>
                    <a:pt x="560" y="162"/>
                  </a:lnTo>
                  <a:lnTo>
                    <a:pt x="571" y="175"/>
                  </a:lnTo>
                  <a:lnTo>
                    <a:pt x="581" y="190"/>
                  </a:lnTo>
                  <a:lnTo>
                    <a:pt x="590" y="204"/>
                  </a:lnTo>
                  <a:lnTo>
                    <a:pt x="598" y="218"/>
                  </a:lnTo>
                  <a:lnTo>
                    <a:pt x="606" y="233"/>
                  </a:lnTo>
                  <a:lnTo>
                    <a:pt x="614" y="248"/>
                  </a:lnTo>
                  <a:lnTo>
                    <a:pt x="620" y="264"/>
                  </a:lnTo>
                  <a:lnTo>
                    <a:pt x="626" y="279"/>
                  </a:lnTo>
                  <a:lnTo>
                    <a:pt x="631" y="295"/>
                  </a:lnTo>
                  <a:lnTo>
                    <a:pt x="636" y="311"/>
                  </a:lnTo>
                  <a:lnTo>
                    <a:pt x="640" y="327"/>
                  </a:lnTo>
                  <a:lnTo>
                    <a:pt x="643" y="342"/>
                  </a:lnTo>
                  <a:lnTo>
                    <a:pt x="645" y="359"/>
                  </a:lnTo>
                  <a:lnTo>
                    <a:pt x="646" y="375"/>
                  </a:lnTo>
                  <a:lnTo>
                    <a:pt x="646" y="391"/>
                  </a:lnTo>
                  <a:lnTo>
                    <a:pt x="646" y="408"/>
                  </a:lnTo>
                  <a:lnTo>
                    <a:pt x="645" y="423"/>
                  </a:lnTo>
                  <a:lnTo>
                    <a:pt x="643" y="438"/>
                  </a:lnTo>
                  <a:lnTo>
                    <a:pt x="641" y="453"/>
                  </a:lnTo>
                  <a:lnTo>
                    <a:pt x="637" y="468"/>
                  </a:lnTo>
                  <a:lnTo>
                    <a:pt x="632" y="482"/>
                  </a:lnTo>
                  <a:lnTo>
                    <a:pt x="628" y="495"/>
                  </a:lnTo>
                  <a:lnTo>
                    <a:pt x="621" y="508"/>
                  </a:lnTo>
                  <a:lnTo>
                    <a:pt x="615" y="521"/>
                  </a:lnTo>
                  <a:lnTo>
                    <a:pt x="608" y="533"/>
                  </a:lnTo>
                  <a:lnTo>
                    <a:pt x="601" y="544"/>
                  </a:lnTo>
                  <a:lnTo>
                    <a:pt x="592" y="556"/>
                  </a:lnTo>
                  <a:lnTo>
                    <a:pt x="583" y="566"/>
                  </a:lnTo>
                  <a:lnTo>
                    <a:pt x="573" y="575"/>
                  </a:lnTo>
                  <a:lnTo>
                    <a:pt x="564" y="585"/>
                  </a:lnTo>
                  <a:lnTo>
                    <a:pt x="553" y="594"/>
                  </a:lnTo>
                  <a:lnTo>
                    <a:pt x="541" y="602"/>
                  </a:lnTo>
                  <a:lnTo>
                    <a:pt x="530" y="609"/>
                  </a:lnTo>
                  <a:lnTo>
                    <a:pt x="517" y="616"/>
                  </a:lnTo>
                  <a:lnTo>
                    <a:pt x="505" y="622"/>
                  </a:lnTo>
                  <a:lnTo>
                    <a:pt x="492" y="627"/>
                  </a:lnTo>
                  <a:lnTo>
                    <a:pt x="477" y="632"/>
                  </a:lnTo>
                  <a:lnTo>
                    <a:pt x="464" y="635"/>
                  </a:lnTo>
                  <a:lnTo>
                    <a:pt x="449" y="639"/>
                  </a:lnTo>
                  <a:lnTo>
                    <a:pt x="435" y="642"/>
                  </a:lnTo>
                  <a:lnTo>
                    <a:pt x="420" y="643"/>
                  </a:lnTo>
                  <a:lnTo>
                    <a:pt x="404" y="644"/>
                  </a:lnTo>
                  <a:lnTo>
                    <a:pt x="389" y="644"/>
                  </a:lnTo>
                  <a:lnTo>
                    <a:pt x="373" y="644"/>
                  </a:lnTo>
                  <a:lnTo>
                    <a:pt x="357" y="643"/>
                  </a:lnTo>
                  <a:lnTo>
                    <a:pt x="340" y="640"/>
                  </a:lnTo>
                  <a:lnTo>
                    <a:pt x="324" y="637"/>
                  </a:lnTo>
                  <a:lnTo>
                    <a:pt x="307" y="633"/>
                  </a:lnTo>
                  <a:lnTo>
                    <a:pt x="291" y="629"/>
                  </a:lnTo>
                  <a:lnTo>
                    <a:pt x="275" y="623"/>
                  </a:lnTo>
                  <a:lnTo>
                    <a:pt x="258" y="617"/>
                  </a:lnTo>
                  <a:lnTo>
                    <a:pt x="243" y="610"/>
                  </a:lnTo>
                  <a:lnTo>
                    <a:pt x="228" y="603"/>
                  </a:lnTo>
                  <a:lnTo>
                    <a:pt x="213" y="594"/>
                  </a:lnTo>
                  <a:lnTo>
                    <a:pt x="199" y="585"/>
                  </a:lnTo>
                  <a:lnTo>
                    <a:pt x="184" y="575"/>
                  </a:lnTo>
                  <a:lnTo>
                    <a:pt x="170" y="566"/>
                  </a:lnTo>
                  <a:lnTo>
                    <a:pt x="156" y="556"/>
                  </a:lnTo>
                  <a:lnTo>
                    <a:pt x="143" y="545"/>
                  </a:lnTo>
                  <a:lnTo>
                    <a:pt x="131" y="533"/>
                  </a:lnTo>
                  <a:lnTo>
                    <a:pt x="118" y="521"/>
                  </a:lnTo>
                  <a:lnTo>
                    <a:pt x="107" y="509"/>
                  </a:lnTo>
                  <a:lnTo>
                    <a:pt x="95" y="496"/>
                  </a:lnTo>
                  <a:lnTo>
                    <a:pt x="85" y="483"/>
                  </a:lnTo>
                  <a:lnTo>
                    <a:pt x="74" y="469"/>
                  </a:lnTo>
                  <a:lnTo>
                    <a:pt x="64" y="454"/>
                  </a:lnTo>
                  <a:lnTo>
                    <a:pt x="56" y="440"/>
                  </a:lnTo>
                  <a:lnTo>
                    <a:pt x="47" y="426"/>
                  </a:lnTo>
                  <a:lnTo>
                    <a:pt x="39" y="411"/>
                  </a:lnTo>
                  <a:lnTo>
                    <a:pt x="32" y="396"/>
                  </a:lnTo>
                  <a:lnTo>
                    <a:pt x="25" y="380"/>
                  </a:lnTo>
                  <a:lnTo>
                    <a:pt x="20" y="365"/>
                  </a:lnTo>
                  <a:lnTo>
                    <a:pt x="14" y="350"/>
                  </a:lnTo>
                  <a:lnTo>
                    <a:pt x="10" y="333"/>
                  </a:lnTo>
                  <a:lnTo>
                    <a:pt x="7" y="318"/>
                  </a:lnTo>
                  <a:lnTo>
                    <a:pt x="3" y="302"/>
                  </a:lnTo>
                  <a:lnTo>
                    <a:pt x="1" y="286"/>
                  </a:lnTo>
                  <a:lnTo>
                    <a:pt x="0" y="269"/>
                  </a:lnTo>
                  <a:lnTo>
                    <a:pt x="0" y="253"/>
                  </a:lnTo>
                  <a:lnTo>
                    <a:pt x="0" y="238"/>
                  </a:lnTo>
                  <a:lnTo>
                    <a:pt x="1" y="221"/>
                  </a:lnTo>
                  <a:lnTo>
                    <a:pt x="3" y="206"/>
                  </a:lnTo>
                  <a:lnTo>
                    <a:pt x="6" y="192"/>
                  </a:lnTo>
                  <a:lnTo>
                    <a:pt x="10" y="177"/>
                  </a:lnTo>
                  <a:lnTo>
                    <a:pt x="14" y="163"/>
                  </a:lnTo>
                  <a:lnTo>
                    <a:pt x="19" y="149"/>
                  </a:lnTo>
                  <a:lnTo>
                    <a:pt x="24" y="136"/>
                  </a:lnTo>
                  <a:lnTo>
                    <a:pt x="31" y="124"/>
                  </a:lnTo>
                  <a:lnTo>
                    <a:pt x="38" y="112"/>
                  </a:lnTo>
                  <a:lnTo>
                    <a:pt x="46" y="100"/>
                  </a:lnTo>
                  <a:lnTo>
                    <a:pt x="54" y="89"/>
                  </a:lnTo>
                  <a:lnTo>
                    <a:pt x="63" y="80"/>
                  </a:lnTo>
                  <a:lnTo>
                    <a:pt x="72" y="70"/>
                  </a:lnTo>
                  <a:lnTo>
                    <a:pt x="82" y="60"/>
                  </a:lnTo>
                  <a:lnTo>
                    <a:pt x="93" y="51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9"/>
                  </a:lnTo>
                  <a:lnTo>
                    <a:pt x="141" y="23"/>
                  </a:lnTo>
                  <a:lnTo>
                    <a:pt x="154" y="17"/>
                  </a:lnTo>
                  <a:lnTo>
                    <a:pt x="167" y="13"/>
                  </a:lnTo>
                  <a:lnTo>
                    <a:pt x="181" y="9"/>
                  </a:lnTo>
                  <a:lnTo>
                    <a:pt x="195" y="5"/>
                  </a:lnTo>
                  <a:lnTo>
                    <a:pt x="209" y="3"/>
                  </a:lnTo>
                  <a:lnTo>
                    <a:pt x="225" y="1"/>
                  </a:lnTo>
                  <a:lnTo>
                    <a:pt x="240" y="1"/>
                  </a:lnTo>
                  <a:lnTo>
                    <a:pt x="255" y="0"/>
                  </a:lnTo>
                  <a:lnTo>
                    <a:pt x="272" y="1"/>
                  </a:lnTo>
                  <a:lnTo>
                    <a:pt x="288" y="2"/>
                  </a:lnTo>
                  <a:lnTo>
                    <a:pt x="304" y="4"/>
                  </a:lnTo>
                  <a:lnTo>
                    <a:pt x="321" y="8"/>
                  </a:lnTo>
                  <a:close/>
                  <a:moveTo>
                    <a:pt x="363" y="388"/>
                  </a:moveTo>
                  <a:lnTo>
                    <a:pt x="371" y="376"/>
                  </a:lnTo>
                  <a:lnTo>
                    <a:pt x="378" y="365"/>
                  </a:lnTo>
                  <a:lnTo>
                    <a:pt x="385" y="354"/>
                  </a:lnTo>
                  <a:lnTo>
                    <a:pt x="392" y="342"/>
                  </a:lnTo>
                  <a:lnTo>
                    <a:pt x="418" y="361"/>
                  </a:lnTo>
                  <a:lnTo>
                    <a:pt x="442" y="380"/>
                  </a:lnTo>
                  <a:lnTo>
                    <a:pt x="467" y="399"/>
                  </a:lnTo>
                  <a:lnTo>
                    <a:pt x="492" y="418"/>
                  </a:lnTo>
                  <a:lnTo>
                    <a:pt x="516" y="437"/>
                  </a:lnTo>
                  <a:lnTo>
                    <a:pt x="541" y="456"/>
                  </a:lnTo>
                  <a:lnTo>
                    <a:pt x="566" y="475"/>
                  </a:lnTo>
                  <a:lnTo>
                    <a:pt x="591" y="494"/>
                  </a:lnTo>
                  <a:lnTo>
                    <a:pt x="583" y="505"/>
                  </a:lnTo>
                  <a:lnTo>
                    <a:pt x="576" y="515"/>
                  </a:lnTo>
                  <a:lnTo>
                    <a:pt x="568" y="527"/>
                  </a:lnTo>
                  <a:lnTo>
                    <a:pt x="561" y="538"/>
                  </a:lnTo>
                  <a:lnTo>
                    <a:pt x="536" y="520"/>
                  </a:lnTo>
                  <a:lnTo>
                    <a:pt x="511" y="501"/>
                  </a:lnTo>
                  <a:lnTo>
                    <a:pt x="486" y="482"/>
                  </a:lnTo>
                  <a:lnTo>
                    <a:pt x="462" y="463"/>
                  </a:lnTo>
                  <a:lnTo>
                    <a:pt x="437" y="445"/>
                  </a:lnTo>
                  <a:lnTo>
                    <a:pt x="412" y="425"/>
                  </a:lnTo>
                  <a:lnTo>
                    <a:pt x="388" y="406"/>
                  </a:lnTo>
                  <a:lnTo>
                    <a:pt x="363" y="388"/>
                  </a:lnTo>
                  <a:close/>
                  <a:moveTo>
                    <a:pt x="92" y="444"/>
                  </a:moveTo>
                  <a:lnTo>
                    <a:pt x="83" y="429"/>
                  </a:lnTo>
                  <a:lnTo>
                    <a:pt x="75" y="415"/>
                  </a:lnTo>
                  <a:lnTo>
                    <a:pt x="68" y="401"/>
                  </a:lnTo>
                  <a:lnTo>
                    <a:pt x="59" y="387"/>
                  </a:lnTo>
                  <a:lnTo>
                    <a:pt x="84" y="378"/>
                  </a:lnTo>
                  <a:lnTo>
                    <a:pt x="108" y="368"/>
                  </a:lnTo>
                  <a:lnTo>
                    <a:pt x="132" y="360"/>
                  </a:lnTo>
                  <a:lnTo>
                    <a:pt x="156" y="351"/>
                  </a:lnTo>
                  <a:lnTo>
                    <a:pt x="180" y="341"/>
                  </a:lnTo>
                  <a:lnTo>
                    <a:pt x="204" y="332"/>
                  </a:lnTo>
                  <a:lnTo>
                    <a:pt x="228" y="323"/>
                  </a:lnTo>
                  <a:lnTo>
                    <a:pt x="252" y="314"/>
                  </a:lnTo>
                  <a:lnTo>
                    <a:pt x="260" y="328"/>
                  </a:lnTo>
                  <a:lnTo>
                    <a:pt x="268" y="343"/>
                  </a:lnTo>
                  <a:lnTo>
                    <a:pt x="276" y="357"/>
                  </a:lnTo>
                  <a:lnTo>
                    <a:pt x="285" y="372"/>
                  </a:lnTo>
                  <a:lnTo>
                    <a:pt x="260" y="380"/>
                  </a:lnTo>
                  <a:lnTo>
                    <a:pt x="236" y="390"/>
                  </a:lnTo>
                  <a:lnTo>
                    <a:pt x="212" y="399"/>
                  </a:lnTo>
                  <a:lnTo>
                    <a:pt x="188" y="408"/>
                  </a:lnTo>
                  <a:lnTo>
                    <a:pt x="164" y="417"/>
                  </a:lnTo>
                  <a:lnTo>
                    <a:pt x="140" y="426"/>
                  </a:lnTo>
                  <a:lnTo>
                    <a:pt x="116" y="435"/>
                  </a:lnTo>
                  <a:lnTo>
                    <a:pt x="92" y="444"/>
                  </a:lnTo>
                  <a:close/>
                  <a:moveTo>
                    <a:pt x="290" y="34"/>
                  </a:moveTo>
                  <a:lnTo>
                    <a:pt x="305" y="37"/>
                  </a:lnTo>
                  <a:lnTo>
                    <a:pt x="321" y="40"/>
                  </a:lnTo>
                  <a:lnTo>
                    <a:pt x="337" y="44"/>
                  </a:lnTo>
                  <a:lnTo>
                    <a:pt x="352" y="47"/>
                  </a:lnTo>
                  <a:lnTo>
                    <a:pt x="352" y="75"/>
                  </a:lnTo>
                  <a:lnTo>
                    <a:pt x="352" y="102"/>
                  </a:lnTo>
                  <a:lnTo>
                    <a:pt x="352" y="130"/>
                  </a:lnTo>
                  <a:lnTo>
                    <a:pt x="352" y="157"/>
                  </a:lnTo>
                  <a:lnTo>
                    <a:pt x="353" y="185"/>
                  </a:lnTo>
                  <a:lnTo>
                    <a:pt x="353" y="213"/>
                  </a:lnTo>
                  <a:lnTo>
                    <a:pt x="353" y="240"/>
                  </a:lnTo>
                  <a:lnTo>
                    <a:pt x="353" y="267"/>
                  </a:lnTo>
                  <a:lnTo>
                    <a:pt x="338" y="264"/>
                  </a:lnTo>
                  <a:lnTo>
                    <a:pt x="322" y="260"/>
                  </a:lnTo>
                  <a:lnTo>
                    <a:pt x="306" y="257"/>
                  </a:lnTo>
                  <a:lnTo>
                    <a:pt x="291" y="254"/>
                  </a:lnTo>
                  <a:lnTo>
                    <a:pt x="291" y="227"/>
                  </a:lnTo>
                  <a:lnTo>
                    <a:pt x="291" y="199"/>
                  </a:lnTo>
                  <a:lnTo>
                    <a:pt x="290" y="171"/>
                  </a:lnTo>
                  <a:lnTo>
                    <a:pt x="290" y="144"/>
                  </a:lnTo>
                  <a:lnTo>
                    <a:pt x="290" y="117"/>
                  </a:lnTo>
                  <a:lnTo>
                    <a:pt x="290" y="89"/>
                  </a:lnTo>
                  <a:lnTo>
                    <a:pt x="290" y="61"/>
                  </a:lnTo>
                  <a:lnTo>
                    <a:pt x="290" y="3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77680" y="5137200"/>
              <a:ext cx="87840" cy="91440"/>
            </a:xfrm>
            <a:custGeom>
              <a:avLst/>
              <a:gdLst/>
              <a:ahLst/>
              <a:rect l="l" t="t" r="r" b="b"/>
              <a:pathLst>
                <a:path w="647" h="644">
                  <a:moveTo>
                    <a:pt x="45" y="100"/>
                  </a:moveTo>
                  <a:lnTo>
                    <a:pt x="55" y="88"/>
                  </a:lnTo>
                  <a:lnTo>
                    <a:pt x="64" y="77"/>
                  </a:lnTo>
                  <a:lnTo>
                    <a:pt x="75" y="67"/>
                  </a:lnTo>
                  <a:lnTo>
                    <a:pt x="85" y="57"/>
                  </a:lnTo>
                  <a:lnTo>
                    <a:pt x="97" y="48"/>
                  </a:lnTo>
                  <a:lnTo>
                    <a:pt x="107" y="41"/>
                  </a:lnTo>
                  <a:lnTo>
                    <a:pt x="119" y="33"/>
                  </a:lnTo>
                  <a:lnTo>
                    <a:pt x="133" y="27"/>
                  </a:lnTo>
                  <a:lnTo>
                    <a:pt x="146" y="21"/>
                  </a:lnTo>
                  <a:lnTo>
                    <a:pt x="159" y="16"/>
                  </a:lnTo>
                  <a:lnTo>
                    <a:pt x="173" y="11"/>
                  </a:lnTo>
                  <a:lnTo>
                    <a:pt x="186" y="8"/>
                  </a:lnTo>
                  <a:lnTo>
                    <a:pt x="201" y="5"/>
                  </a:lnTo>
                  <a:lnTo>
                    <a:pt x="215" y="3"/>
                  </a:lnTo>
                  <a:lnTo>
                    <a:pt x="229" y="1"/>
                  </a:lnTo>
                  <a:lnTo>
                    <a:pt x="245" y="0"/>
                  </a:lnTo>
                  <a:lnTo>
                    <a:pt x="260" y="0"/>
                  </a:lnTo>
                  <a:lnTo>
                    <a:pt x="275" y="1"/>
                  </a:lnTo>
                  <a:lnTo>
                    <a:pt x="291" y="4"/>
                  </a:lnTo>
                  <a:lnTo>
                    <a:pt x="307" y="6"/>
                  </a:lnTo>
                  <a:lnTo>
                    <a:pt x="322" y="8"/>
                  </a:lnTo>
                  <a:lnTo>
                    <a:pt x="337" y="12"/>
                  </a:lnTo>
                  <a:lnTo>
                    <a:pt x="354" y="17"/>
                  </a:lnTo>
                  <a:lnTo>
                    <a:pt x="369" y="22"/>
                  </a:lnTo>
                  <a:lnTo>
                    <a:pt x="384" y="28"/>
                  </a:lnTo>
                  <a:lnTo>
                    <a:pt x="400" y="34"/>
                  </a:lnTo>
                  <a:lnTo>
                    <a:pt x="415" y="42"/>
                  </a:lnTo>
                  <a:lnTo>
                    <a:pt x="431" y="51"/>
                  </a:lnTo>
                  <a:lnTo>
                    <a:pt x="445" y="59"/>
                  </a:lnTo>
                  <a:lnTo>
                    <a:pt x="461" y="69"/>
                  </a:lnTo>
                  <a:lnTo>
                    <a:pt x="476" y="79"/>
                  </a:lnTo>
                  <a:lnTo>
                    <a:pt x="490" y="90"/>
                  </a:lnTo>
                  <a:lnTo>
                    <a:pt x="504" y="102"/>
                  </a:lnTo>
                  <a:lnTo>
                    <a:pt x="517" y="114"/>
                  </a:lnTo>
                  <a:lnTo>
                    <a:pt x="530" y="127"/>
                  </a:lnTo>
                  <a:lnTo>
                    <a:pt x="542" y="140"/>
                  </a:lnTo>
                  <a:lnTo>
                    <a:pt x="554" y="153"/>
                  </a:lnTo>
                  <a:lnTo>
                    <a:pt x="565" y="167"/>
                  </a:lnTo>
                  <a:lnTo>
                    <a:pt x="575" y="181"/>
                  </a:lnTo>
                  <a:lnTo>
                    <a:pt x="585" y="195"/>
                  </a:lnTo>
                  <a:lnTo>
                    <a:pt x="593" y="210"/>
                  </a:lnTo>
                  <a:lnTo>
                    <a:pt x="602" y="224"/>
                  </a:lnTo>
                  <a:lnTo>
                    <a:pt x="609" y="239"/>
                  </a:lnTo>
                  <a:lnTo>
                    <a:pt x="616" y="254"/>
                  </a:lnTo>
                  <a:lnTo>
                    <a:pt x="623" y="270"/>
                  </a:lnTo>
                  <a:lnTo>
                    <a:pt x="628" y="285"/>
                  </a:lnTo>
                  <a:lnTo>
                    <a:pt x="633" y="300"/>
                  </a:lnTo>
                  <a:lnTo>
                    <a:pt x="637" y="315"/>
                  </a:lnTo>
                  <a:lnTo>
                    <a:pt x="640" y="332"/>
                  </a:lnTo>
                  <a:lnTo>
                    <a:pt x="643" y="347"/>
                  </a:lnTo>
                  <a:lnTo>
                    <a:pt x="645" y="362"/>
                  </a:lnTo>
                  <a:lnTo>
                    <a:pt x="646" y="377"/>
                  </a:lnTo>
                  <a:lnTo>
                    <a:pt x="647" y="393"/>
                  </a:lnTo>
                  <a:lnTo>
                    <a:pt x="646" y="408"/>
                  </a:lnTo>
                  <a:lnTo>
                    <a:pt x="645" y="422"/>
                  </a:lnTo>
                  <a:lnTo>
                    <a:pt x="644" y="437"/>
                  </a:lnTo>
                  <a:lnTo>
                    <a:pt x="640" y="452"/>
                  </a:lnTo>
                  <a:lnTo>
                    <a:pt x="637" y="467"/>
                  </a:lnTo>
                  <a:lnTo>
                    <a:pt x="634" y="480"/>
                  </a:lnTo>
                  <a:lnTo>
                    <a:pt x="628" y="494"/>
                  </a:lnTo>
                  <a:lnTo>
                    <a:pt x="623" y="507"/>
                  </a:lnTo>
                  <a:lnTo>
                    <a:pt x="616" y="520"/>
                  </a:lnTo>
                  <a:lnTo>
                    <a:pt x="609" y="533"/>
                  </a:lnTo>
                  <a:lnTo>
                    <a:pt x="600" y="545"/>
                  </a:lnTo>
                  <a:lnTo>
                    <a:pt x="591" y="557"/>
                  </a:lnTo>
                  <a:lnTo>
                    <a:pt x="583" y="568"/>
                  </a:lnTo>
                  <a:lnTo>
                    <a:pt x="572" y="578"/>
                  </a:lnTo>
                  <a:lnTo>
                    <a:pt x="561" y="588"/>
                  </a:lnTo>
                  <a:lnTo>
                    <a:pt x="550" y="596"/>
                  </a:lnTo>
                  <a:lnTo>
                    <a:pt x="538" y="604"/>
                  </a:lnTo>
                  <a:lnTo>
                    <a:pt x="526" y="612"/>
                  </a:lnTo>
                  <a:lnTo>
                    <a:pt x="514" y="618"/>
                  </a:lnTo>
                  <a:lnTo>
                    <a:pt x="501" y="624"/>
                  </a:lnTo>
                  <a:lnTo>
                    <a:pt x="488" y="629"/>
                  </a:lnTo>
                  <a:lnTo>
                    <a:pt x="474" y="634"/>
                  </a:lnTo>
                  <a:lnTo>
                    <a:pt x="459" y="637"/>
                  </a:lnTo>
                  <a:lnTo>
                    <a:pt x="445" y="640"/>
                  </a:lnTo>
                  <a:lnTo>
                    <a:pt x="431" y="642"/>
                  </a:lnTo>
                  <a:lnTo>
                    <a:pt x="416" y="643"/>
                  </a:lnTo>
                  <a:lnTo>
                    <a:pt x="401" y="644"/>
                  </a:lnTo>
                  <a:lnTo>
                    <a:pt x="385" y="644"/>
                  </a:lnTo>
                  <a:lnTo>
                    <a:pt x="370" y="643"/>
                  </a:lnTo>
                  <a:lnTo>
                    <a:pt x="355" y="642"/>
                  </a:lnTo>
                  <a:lnTo>
                    <a:pt x="340" y="639"/>
                  </a:lnTo>
                  <a:lnTo>
                    <a:pt x="323" y="637"/>
                  </a:lnTo>
                  <a:lnTo>
                    <a:pt x="308" y="632"/>
                  </a:lnTo>
                  <a:lnTo>
                    <a:pt x="292" y="628"/>
                  </a:lnTo>
                  <a:lnTo>
                    <a:pt x="276" y="623"/>
                  </a:lnTo>
                  <a:lnTo>
                    <a:pt x="261" y="617"/>
                  </a:lnTo>
                  <a:lnTo>
                    <a:pt x="245" y="611"/>
                  </a:lnTo>
                  <a:lnTo>
                    <a:pt x="229" y="603"/>
                  </a:lnTo>
                  <a:lnTo>
                    <a:pt x="214" y="594"/>
                  </a:lnTo>
                  <a:lnTo>
                    <a:pt x="199" y="586"/>
                  </a:lnTo>
                  <a:lnTo>
                    <a:pt x="185" y="576"/>
                  </a:lnTo>
                  <a:lnTo>
                    <a:pt x="170" y="566"/>
                  </a:lnTo>
                  <a:lnTo>
                    <a:pt x="155" y="554"/>
                  </a:lnTo>
                  <a:lnTo>
                    <a:pt x="141" y="543"/>
                  </a:lnTo>
                  <a:lnTo>
                    <a:pt x="128" y="530"/>
                  </a:lnTo>
                  <a:lnTo>
                    <a:pt x="115" y="518"/>
                  </a:lnTo>
                  <a:lnTo>
                    <a:pt x="103" y="505"/>
                  </a:lnTo>
                  <a:lnTo>
                    <a:pt x="91" y="492"/>
                  </a:lnTo>
                  <a:lnTo>
                    <a:pt x="80" y="478"/>
                  </a:lnTo>
                  <a:lnTo>
                    <a:pt x="70" y="464"/>
                  </a:lnTo>
                  <a:lnTo>
                    <a:pt x="61" y="449"/>
                  </a:lnTo>
                  <a:lnTo>
                    <a:pt x="52" y="435"/>
                  </a:lnTo>
                  <a:lnTo>
                    <a:pt x="43" y="420"/>
                  </a:lnTo>
                  <a:lnTo>
                    <a:pt x="36" y="405"/>
                  </a:lnTo>
                  <a:lnTo>
                    <a:pt x="29" y="391"/>
                  </a:lnTo>
                  <a:lnTo>
                    <a:pt x="22" y="375"/>
                  </a:lnTo>
                  <a:lnTo>
                    <a:pt x="17" y="360"/>
                  </a:lnTo>
                  <a:lnTo>
                    <a:pt x="13" y="344"/>
                  </a:lnTo>
                  <a:lnTo>
                    <a:pt x="8" y="328"/>
                  </a:lnTo>
                  <a:lnTo>
                    <a:pt x="5" y="313"/>
                  </a:lnTo>
                  <a:lnTo>
                    <a:pt x="3" y="298"/>
                  </a:lnTo>
                  <a:lnTo>
                    <a:pt x="1" y="283"/>
                  </a:lnTo>
                  <a:lnTo>
                    <a:pt x="0" y="267"/>
                  </a:lnTo>
                  <a:lnTo>
                    <a:pt x="0" y="252"/>
                  </a:lnTo>
                  <a:lnTo>
                    <a:pt x="0" y="237"/>
                  </a:lnTo>
                  <a:lnTo>
                    <a:pt x="1" y="222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8" y="178"/>
                  </a:lnTo>
                  <a:lnTo>
                    <a:pt x="13" y="164"/>
                  </a:lnTo>
                  <a:lnTo>
                    <a:pt x="18" y="151"/>
                  </a:lnTo>
                  <a:lnTo>
                    <a:pt x="24" y="137"/>
                  </a:lnTo>
                  <a:lnTo>
                    <a:pt x="30" y="124"/>
                  </a:lnTo>
                  <a:lnTo>
                    <a:pt x="38" y="112"/>
                  </a:lnTo>
                  <a:lnTo>
                    <a:pt x="45" y="100"/>
                  </a:lnTo>
                  <a:close/>
                  <a:moveTo>
                    <a:pt x="394" y="334"/>
                  </a:moveTo>
                  <a:lnTo>
                    <a:pt x="386" y="319"/>
                  </a:lnTo>
                  <a:lnTo>
                    <a:pt x="379" y="304"/>
                  </a:lnTo>
                  <a:lnTo>
                    <a:pt x="371" y="289"/>
                  </a:lnTo>
                  <a:lnTo>
                    <a:pt x="364" y="274"/>
                  </a:lnTo>
                  <a:lnTo>
                    <a:pt x="388" y="266"/>
                  </a:lnTo>
                  <a:lnTo>
                    <a:pt x="413" y="259"/>
                  </a:lnTo>
                  <a:lnTo>
                    <a:pt x="438" y="251"/>
                  </a:lnTo>
                  <a:lnTo>
                    <a:pt x="462" y="243"/>
                  </a:lnTo>
                  <a:lnTo>
                    <a:pt x="487" y="236"/>
                  </a:lnTo>
                  <a:lnTo>
                    <a:pt x="512" y="227"/>
                  </a:lnTo>
                  <a:lnTo>
                    <a:pt x="536" y="219"/>
                  </a:lnTo>
                  <a:lnTo>
                    <a:pt x="561" y="211"/>
                  </a:lnTo>
                  <a:lnTo>
                    <a:pt x="568" y="226"/>
                  </a:lnTo>
                  <a:lnTo>
                    <a:pt x="576" y="241"/>
                  </a:lnTo>
                  <a:lnTo>
                    <a:pt x="584" y="255"/>
                  </a:lnTo>
                  <a:lnTo>
                    <a:pt x="591" y="270"/>
                  </a:lnTo>
                  <a:lnTo>
                    <a:pt x="566" y="278"/>
                  </a:lnTo>
                  <a:lnTo>
                    <a:pt x="542" y="286"/>
                  </a:lnTo>
                  <a:lnTo>
                    <a:pt x="517" y="294"/>
                  </a:lnTo>
                  <a:lnTo>
                    <a:pt x="492" y="301"/>
                  </a:lnTo>
                  <a:lnTo>
                    <a:pt x="467" y="310"/>
                  </a:lnTo>
                  <a:lnTo>
                    <a:pt x="443" y="317"/>
                  </a:lnTo>
                  <a:lnTo>
                    <a:pt x="418" y="325"/>
                  </a:lnTo>
                  <a:lnTo>
                    <a:pt x="394" y="334"/>
                  </a:lnTo>
                  <a:close/>
                  <a:moveTo>
                    <a:pt x="354" y="611"/>
                  </a:moveTo>
                  <a:lnTo>
                    <a:pt x="338" y="607"/>
                  </a:lnTo>
                  <a:lnTo>
                    <a:pt x="323" y="604"/>
                  </a:lnTo>
                  <a:lnTo>
                    <a:pt x="308" y="601"/>
                  </a:lnTo>
                  <a:lnTo>
                    <a:pt x="293" y="598"/>
                  </a:lnTo>
                  <a:lnTo>
                    <a:pt x="293" y="570"/>
                  </a:lnTo>
                  <a:lnTo>
                    <a:pt x="293" y="543"/>
                  </a:lnTo>
                  <a:lnTo>
                    <a:pt x="293" y="515"/>
                  </a:lnTo>
                  <a:lnTo>
                    <a:pt x="292" y="487"/>
                  </a:lnTo>
                  <a:lnTo>
                    <a:pt x="292" y="460"/>
                  </a:lnTo>
                  <a:lnTo>
                    <a:pt x="292" y="432"/>
                  </a:lnTo>
                  <a:lnTo>
                    <a:pt x="292" y="405"/>
                  </a:lnTo>
                  <a:lnTo>
                    <a:pt x="292" y="377"/>
                  </a:lnTo>
                  <a:lnTo>
                    <a:pt x="308" y="381"/>
                  </a:lnTo>
                  <a:lnTo>
                    <a:pt x="323" y="384"/>
                  </a:lnTo>
                  <a:lnTo>
                    <a:pt x="338" y="387"/>
                  </a:lnTo>
                  <a:lnTo>
                    <a:pt x="354" y="391"/>
                  </a:lnTo>
                  <a:lnTo>
                    <a:pt x="354" y="418"/>
                  </a:lnTo>
                  <a:lnTo>
                    <a:pt x="354" y="446"/>
                  </a:lnTo>
                  <a:lnTo>
                    <a:pt x="354" y="473"/>
                  </a:lnTo>
                  <a:lnTo>
                    <a:pt x="354" y="501"/>
                  </a:lnTo>
                  <a:lnTo>
                    <a:pt x="354" y="528"/>
                  </a:lnTo>
                  <a:lnTo>
                    <a:pt x="354" y="556"/>
                  </a:lnTo>
                  <a:lnTo>
                    <a:pt x="354" y="583"/>
                  </a:lnTo>
                  <a:lnTo>
                    <a:pt x="354" y="611"/>
                  </a:lnTo>
                  <a:close/>
                  <a:moveTo>
                    <a:pt x="58" y="144"/>
                  </a:moveTo>
                  <a:lnTo>
                    <a:pt x="66" y="133"/>
                  </a:lnTo>
                  <a:lnTo>
                    <a:pt x="74" y="122"/>
                  </a:lnTo>
                  <a:lnTo>
                    <a:pt x="82" y="110"/>
                  </a:lnTo>
                  <a:lnTo>
                    <a:pt x="90" y="100"/>
                  </a:lnTo>
                  <a:lnTo>
                    <a:pt x="114" y="119"/>
                  </a:lnTo>
                  <a:lnTo>
                    <a:pt x="139" y="139"/>
                  </a:lnTo>
                  <a:lnTo>
                    <a:pt x="163" y="158"/>
                  </a:lnTo>
                  <a:lnTo>
                    <a:pt x="187" y="178"/>
                  </a:lnTo>
                  <a:lnTo>
                    <a:pt x="211" y="198"/>
                  </a:lnTo>
                  <a:lnTo>
                    <a:pt x="236" y="217"/>
                  </a:lnTo>
                  <a:lnTo>
                    <a:pt x="260" y="237"/>
                  </a:lnTo>
                  <a:lnTo>
                    <a:pt x="284" y="256"/>
                  </a:lnTo>
                  <a:lnTo>
                    <a:pt x="276" y="267"/>
                  </a:lnTo>
                  <a:lnTo>
                    <a:pt x="269" y="278"/>
                  </a:lnTo>
                  <a:lnTo>
                    <a:pt x="260" y="289"/>
                  </a:lnTo>
                  <a:lnTo>
                    <a:pt x="252" y="300"/>
                  </a:lnTo>
                  <a:lnTo>
                    <a:pt x="228" y="280"/>
                  </a:lnTo>
                  <a:lnTo>
                    <a:pt x="203" y="261"/>
                  </a:lnTo>
                  <a:lnTo>
                    <a:pt x="179" y="241"/>
                  </a:lnTo>
                  <a:lnTo>
                    <a:pt x="155" y="222"/>
                  </a:lnTo>
                  <a:lnTo>
                    <a:pt x="131" y="203"/>
                  </a:lnTo>
                  <a:lnTo>
                    <a:pt x="106" y="183"/>
                  </a:lnTo>
                  <a:lnTo>
                    <a:pt x="82" y="164"/>
                  </a:lnTo>
                  <a:lnTo>
                    <a:pt x="58" y="14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54680" y="4887000"/>
              <a:ext cx="150840" cy="65880"/>
            </a:xfrm>
            <a:custGeom>
              <a:avLst/>
              <a:gdLst/>
              <a:ahLst/>
              <a:rect l="l" t="t" r="r" b="b"/>
              <a:pathLst>
                <a:path w="1115" h="465">
                  <a:moveTo>
                    <a:pt x="0" y="0"/>
                  </a:moveTo>
                  <a:lnTo>
                    <a:pt x="1115" y="248"/>
                  </a:lnTo>
                  <a:lnTo>
                    <a:pt x="1115" y="465"/>
                  </a:lnTo>
                  <a:lnTo>
                    <a:pt x="0" y="2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56720" y="4961520"/>
              <a:ext cx="252360" cy="82800"/>
            </a:xfrm>
            <a:custGeom>
              <a:avLst/>
              <a:gdLst/>
              <a:ahLst/>
              <a:rect l="l" t="t" r="r" b="b"/>
              <a:pathLst>
                <a:path w="1860" h="586">
                  <a:moveTo>
                    <a:pt x="0" y="0"/>
                  </a:moveTo>
                  <a:lnTo>
                    <a:pt x="683" y="168"/>
                  </a:lnTo>
                  <a:lnTo>
                    <a:pt x="683" y="295"/>
                  </a:lnTo>
                  <a:lnTo>
                    <a:pt x="0" y="128"/>
                  </a:lnTo>
                  <a:lnTo>
                    <a:pt x="0" y="0"/>
                  </a:lnTo>
                  <a:close/>
                  <a:moveTo>
                    <a:pt x="895" y="220"/>
                  </a:moveTo>
                  <a:lnTo>
                    <a:pt x="1860" y="459"/>
                  </a:lnTo>
                  <a:lnTo>
                    <a:pt x="1860" y="586"/>
                  </a:lnTo>
                  <a:lnTo>
                    <a:pt x="895" y="348"/>
                  </a:lnTo>
                  <a:lnTo>
                    <a:pt x="895" y="22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73520" y="5041440"/>
              <a:ext cx="129600" cy="48240"/>
            </a:xfrm>
            <a:custGeom>
              <a:avLst/>
              <a:gdLst/>
              <a:ahLst/>
              <a:rect l="l" t="t" r="r" b="b"/>
              <a:pathLst>
                <a:path w="955" h="342">
                  <a:moveTo>
                    <a:pt x="0" y="0"/>
                  </a:moveTo>
                  <a:lnTo>
                    <a:pt x="955" y="216"/>
                  </a:lnTo>
                  <a:lnTo>
                    <a:pt x="955" y="342"/>
                  </a:lnTo>
                  <a:lnTo>
                    <a:pt x="0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40040" y="5010840"/>
              <a:ext cx="10800" cy="279000"/>
            </a:xfrm>
            <a:custGeom>
              <a:avLst/>
              <a:gdLst/>
              <a:ahLst/>
              <a:rect l="l" t="t" r="r" b="b"/>
              <a:pathLst>
                <a:path w="80" h="1961">
                  <a:moveTo>
                    <a:pt x="0" y="0"/>
                  </a:moveTo>
                  <a:lnTo>
                    <a:pt x="80" y="20"/>
                  </a:lnTo>
                  <a:lnTo>
                    <a:pt x="80" y="1961"/>
                  </a:lnTo>
                  <a:lnTo>
                    <a:pt x="0" y="194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40040" y="5320080"/>
              <a:ext cx="10800" cy="409680"/>
            </a:xfrm>
            <a:custGeom>
              <a:avLst/>
              <a:gdLst/>
              <a:ahLst/>
              <a:rect l="l" t="t" r="r" b="b"/>
              <a:pathLst>
                <a:path w="80" h="2876">
                  <a:moveTo>
                    <a:pt x="0" y="0"/>
                  </a:moveTo>
                  <a:lnTo>
                    <a:pt x="80" y="19"/>
                  </a:lnTo>
                  <a:lnTo>
                    <a:pt x="80" y="2876"/>
                  </a:lnTo>
                  <a:lnTo>
                    <a:pt x="0" y="285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73120" y="5207400"/>
              <a:ext cx="10800" cy="409680"/>
            </a:xfrm>
            <a:custGeom>
              <a:avLst/>
              <a:gdLst/>
              <a:ahLst/>
              <a:rect l="l" t="t" r="r" b="b"/>
              <a:pathLst>
                <a:path w="78" h="2876">
                  <a:moveTo>
                    <a:pt x="0" y="0"/>
                  </a:moveTo>
                  <a:lnTo>
                    <a:pt x="78" y="20"/>
                  </a:lnTo>
                  <a:lnTo>
                    <a:pt x="78" y="2876"/>
                  </a:lnTo>
                  <a:lnTo>
                    <a:pt x="0" y="28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99240" y="5177520"/>
              <a:ext cx="107280" cy="61200"/>
            </a:xfrm>
            <a:custGeom>
              <a:avLst/>
              <a:gdLst/>
              <a:ahLst/>
              <a:rect l="l" t="t" r="r" b="b"/>
              <a:pathLst>
                <a:path w="793" h="433">
                  <a:moveTo>
                    <a:pt x="0" y="0"/>
                  </a:moveTo>
                  <a:lnTo>
                    <a:pt x="174" y="42"/>
                  </a:lnTo>
                  <a:lnTo>
                    <a:pt x="174" y="280"/>
                  </a:lnTo>
                  <a:lnTo>
                    <a:pt x="0" y="237"/>
                  </a:lnTo>
                  <a:lnTo>
                    <a:pt x="0" y="0"/>
                  </a:lnTo>
                  <a:close/>
                  <a:moveTo>
                    <a:pt x="303" y="74"/>
                  </a:moveTo>
                  <a:lnTo>
                    <a:pt x="478" y="118"/>
                  </a:lnTo>
                  <a:lnTo>
                    <a:pt x="478" y="355"/>
                  </a:lnTo>
                  <a:lnTo>
                    <a:pt x="303" y="312"/>
                  </a:lnTo>
                  <a:lnTo>
                    <a:pt x="303" y="74"/>
                  </a:lnTo>
                  <a:close/>
                  <a:moveTo>
                    <a:pt x="606" y="149"/>
                  </a:moveTo>
                  <a:lnTo>
                    <a:pt x="793" y="196"/>
                  </a:lnTo>
                  <a:lnTo>
                    <a:pt x="793" y="433"/>
                  </a:lnTo>
                  <a:lnTo>
                    <a:pt x="606" y="387"/>
                  </a:lnTo>
                  <a:lnTo>
                    <a:pt x="606" y="149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04440" y="539820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4"/>
                  </a:lnTo>
                  <a:lnTo>
                    <a:pt x="547" y="196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04440" y="541872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04440" y="5438520"/>
              <a:ext cx="74160" cy="2808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04440" y="54590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04440" y="54795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7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8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7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9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04440" y="5500080"/>
              <a:ext cx="74160" cy="2736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04440" y="55202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04440" y="55407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5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0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79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7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04440" y="5561280"/>
              <a:ext cx="74160" cy="2700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4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3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04440" y="558108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2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8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6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04440" y="560160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3"/>
                  </a:lnTo>
                  <a:lnTo>
                    <a:pt x="547" y="196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676400" y="5511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915" y="228"/>
                  </a:lnTo>
                  <a:lnTo>
                    <a:pt x="915" y="300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76400" y="55321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76400" y="5551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2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76400" y="557244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676400" y="5592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6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7"/>
                  </a:lnTo>
                  <a:lnTo>
                    <a:pt x="571" y="141"/>
                  </a:lnTo>
                  <a:lnTo>
                    <a:pt x="629" y="155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5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299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28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76400" y="56131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9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4"/>
                  </a:lnTo>
                  <a:lnTo>
                    <a:pt x="915" y="283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8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3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76400" y="5632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6"/>
                  </a:lnTo>
                  <a:lnTo>
                    <a:pt x="915" y="264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76400" y="5653080"/>
              <a:ext cx="124200" cy="4320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76400" y="567324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3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76400" y="5693760"/>
              <a:ext cx="124200" cy="4212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76400" y="5713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915" y="227"/>
                  </a:lnTo>
                  <a:lnTo>
                    <a:pt x="915" y="299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59440" y="5122800"/>
              <a:ext cx="36000" cy="47520"/>
            </a:xfrm>
            <a:custGeom>
              <a:avLst/>
              <a:gdLst/>
              <a:ahLst/>
              <a:rect l="l" t="t" r="r" b="b"/>
              <a:pathLst>
                <a:path w="267" h="334">
                  <a:moveTo>
                    <a:pt x="134" y="334"/>
                  </a:moveTo>
                  <a:lnTo>
                    <a:pt x="147" y="333"/>
                  </a:lnTo>
                  <a:lnTo>
                    <a:pt x="160" y="331"/>
                  </a:lnTo>
                  <a:lnTo>
                    <a:pt x="173" y="326"/>
                  </a:lnTo>
                  <a:lnTo>
                    <a:pt x="185" y="321"/>
                  </a:lnTo>
                  <a:lnTo>
                    <a:pt x="197" y="313"/>
                  </a:lnTo>
                  <a:lnTo>
                    <a:pt x="208" y="306"/>
                  </a:lnTo>
                  <a:lnTo>
                    <a:pt x="218" y="296"/>
                  </a:lnTo>
                  <a:lnTo>
                    <a:pt x="227" y="285"/>
                  </a:lnTo>
                  <a:lnTo>
                    <a:pt x="236" y="273"/>
                  </a:lnTo>
                  <a:lnTo>
                    <a:pt x="244" y="260"/>
                  </a:lnTo>
                  <a:lnTo>
                    <a:pt x="250" y="247"/>
                  </a:lnTo>
                  <a:lnTo>
                    <a:pt x="256" y="231"/>
                  </a:lnTo>
                  <a:lnTo>
                    <a:pt x="261" y="216"/>
                  </a:lnTo>
                  <a:lnTo>
                    <a:pt x="264" y="201"/>
                  </a:lnTo>
                  <a:lnTo>
                    <a:pt x="265" y="185"/>
                  </a:lnTo>
                  <a:lnTo>
                    <a:pt x="267" y="167"/>
                  </a:lnTo>
                  <a:lnTo>
                    <a:pt x="265" y="150"/>
                  </a:lnTo>
                  <a:lnTo>
                    <a:pt x="264" y="133"/>
                  </a:lnTo>
                  <a:lnTo>
                    <a:pt x="261" y="117"/>
                  </a:lnTo>
                  <a:lnTo>
                    <a:pt x="256" y="102"/>
                  </a:lnTo>
                  <a:lnTo>
                    <a:pt x="250" y="88"/>
                  </a:lnTo>
                  <a:lnTo>
                    <a:pt x="244" y="73"/>
                  </a:lnTo>
                  <a:lnTo>
                    <a:pt x="236" y="61"/>
                  </a:lnTo>
                  <a:lnTo>
                    <a:pt x="227" y="49"/>
                  </a:lnTo>
                  <a:lnTo>
                    <a:pt x="218" y="39"/>
                  </a:lnTo>
                  <a:lnTo>
                    <a:pt x="208" y="29"/>
                  </a:lnTo>
                  <a:lnTo>
                    <a:pt x="197" y="20"/>
                  </a:lnTo>
                  <a:lnTo>
                    <a:pt x="185" y="13"/>
                  </a:lnTo>
                  <a:lnTo>
                    <a:pt x="173" y="8"/>
                  </a:lnTo>
                  <a:lnTo>
                    <a:pt x="160" y="4"/>
                  </a:lnTo>
                  <a:lnTo>
                    <a:pt x="147" y="1"/>
                  </a:lnTo>
                  <a:lnTo>
                    <a:pt x="134" y="0"/>
                  </a:lnTo>
                  <a:lnTo>
                    <a:pt x="119" y="1"/>
                  </a:lnTo>
                  <a:lnTo>
                    <a:pt x="106" y="4"/>
                  </a:lnTo>
                  <a:lnTo>
                    <a:pt x="93" y="8"/>
                  </a:lnTo>
                  <a:lnTo>
                    <a:pt x="81" y="13"/>
                  </a:lnTo>
                  <a:lnTo>
                    <a:pt x="69" y="20"/>
                  </a:lnTo>
                  <a:lnTo>
                    <a:pt x="58" y="29"/>
                  </a:lnTo>
                  <a:lnTo>
                    <a:pt x="49" y="39"/>
                  </a:lnTo>
                  <a:lnTo>
                    <a:pt x="39" y="49"/>
                  </a:lnTo>
                  <a:lnTo>
                    <a:pt x="30" y="61"/>
                  </a:lnTo>
                  <a:lnTo>
                    <a:pt x="22" y="73"/>
                  </a:lnTo>
                  <a:lnTo>
                    <a:pt x="16" y="88"/>
                  </a:lnTo>
                  <a:lnTo>
                    <a:pt x="10" y="102"/>
                  </a:lnTo>
                  <a:lnTo>
                    <a:pt x="6" y="117"/>
                  </a:lnTo>
                  <a:lnTo>
                    <a:pt x="3" y="133"/>
                  </a:lnTo>
                  <a:lnTo>
                    <a:pt x="1" y="150"/>
                  </a:lnTo>
                  <a:lnTo>
                    <a:pt x="0" y="167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6" y="216"/>
                  </a:lnTo>
                  <a:lnTo>
                    <a:pt x="10" y="231"/>
                  </a:lnTo>
                  <a:lnTo>
                    <a:pt x="16" y="247"/>
                  </a:lnTo>
                  <a:lnTo>
                    <a:pt x="22" y="260"/>
                  </a:lnTo>
                  <a:lnTo>
                    <a:pt x="30" y="273"/>
                  </a:lnTo>
                  <a:lnTo>
                    <a:pt x="39" y="285"/>
                  </a:lnTo>
                  <a:lnTo>
                    <a:pt x="49" y="296"/>
                  </a:lnTo>
                  <a:lnTo>
                    <a:pt x="58" y="306"/>
                  </a:lnTo>
                  <a:lnTo>
                    <a:pt x="69" y="313"/>
                  </a:lnTo>
                  <a:lnTo>
                    <a:pt x="81" y="321"/>
                  </a:lnTo>
                  <a:lnTo>
                    <a:pt x="93" y="326"/>
                  </a:lnTo>
                  <a:lnTo>
                    <a:pt x="106" y="331"/>
                  </a:lnTo>
                  <a:lnTo>
                    <a:pt x="119" y="333"/>
                  </a:lnTo>
                  <a:lnTo>
                    <a:pt x="134" y="334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2436480" y="4525920"/>
            <a:ext cx="1031040" cy="42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9007e"/>
                </a:solidFill>
                <a:latin typeface="Arial"/>
              </a:rPr>
              <a:t>De-Identified</a:t>
            </a:r>
            <a:br>
              <a:rPr sz="1100"/>
            </a:br>
            <a:r>
              <a:rPr b="1" lang="en-US" sz="1100" spc="-1" strike="noStrike">
                <a:solidFill>
                  <a:srgbClr val="09007e"/>
                </a:solidFill>
                <a:latin typeface="Arial"/>
              </a:rPr>
              <a:t>Da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21200" y="5784840"/>
            <a:ext cx="90000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19615800">
            <a:off x="6671160" y="4830480"/>
            <a:ext cx="76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70640" y="486900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4330800"/>
            <a:ext cx="12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ource may push data for repor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10160" y="4589640"/>
            <a:ext cx="119160" cy="293400"/>
          </a:xfrm>
          <a:custGeom>
            <a:avLst/>
            <a:gdLst/>
            <a:ahLst/>
            <a:rect l="l" t="t" r="r" b="b"/>
            <a:pathLst>
              <a:path w="75" h="186">
                <a:moveTo>
                  <a:pt x="0" y="0"/>
                </a:moveTo>
                <a:lnTo>
                  <a:pt x="75" y="0"/>
                </a:lnTo>
                <a:lnTo>
                  <a:pt x="75" y="18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20028600">
            <a:off x="6378840" y="5013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REP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9083600">
            <a:off x="7045560" y="458388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879480" y="5259240"/>
            <a:ext cx="1077840" cy="833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391" name=""/>
          <p:cNvSpPr/>
          <p:nvPr/>
        </p:nvSpPr>
        <p:spPr>
          <a:xfrm>
            <a:off x="1071000" y="5451480"/>
            <a:ext cx="64692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ealth Information Exchan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047000" y="3114720"/>
            <a:ext cx="1265040" cy="977760"/>
            <a:chOff x="7047000" y="3114720"/>
            <a:chExt cx="1265040" cy="977760"/>
          </a:xfrm>
        </p:grpSpPr>
        <p:pic>
          <p:nvPicPr>
            <p:cNvPr id="394" name="" descr=""/>
            <p:cNvPicPr/>
            <p:nvPr/>
          </p:nvPicPr>
          <p:blipFill>
            <a:blip r:embed="rId5"/>
            <a:stretch/>
          </p:blipFill>
          <p:spPr>
            <a:xfrm>
              <a:off x="7047000" y="311472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395" name=""/>
            <p:cNvSpPr/>
            <p:nvPr/>
          </p:nvSpPr>
          <p:spPr>
            <a:xfrm>
              <a:off x="7282440" y="334980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23:12:05Z</dcterms:created>
  <dc:creator>akarpati</dc:creator>
  <dc:description/>
  <dc:language>en-US</dc:language>
  <cp:lastModifiedBy>User</cp:lastModifiedBy>
  <dcterms:modified xsi:type="dcterms:W3CDTF">2007-09-27T18:59:16Z</dcterms:modified>
  <cp:revision>378</cp:revision>
  <dc:subject/>
  <dc:title>Emergency Department-Based Syndromic Surveillance in New York City  September-November 2001</dc:title>
</cp:coreProperties>
</file>