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34001-430B-4F20-BF09-8F0D6047C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66EEF-C7EF-4C65-8469-8ADFB80CE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BF7B9-EDF5-4860-9C53-9B414BFEE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2EE24-3DAA-4B74-B8E1-2D098EC36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7569A-0583-4E46-B7FB-282A232FE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53359-36C9-4B5C-9E01-6FE28B6E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0E7FF-3897-4325-AC7C-8263D473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BA3B2-1964-4A8E-9833-574BB7324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1CDE0-82FD-45F4-82F7-E40962EFA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7FCE-FB82-41B7-9006-225380992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EAFB-6852-4F1C-ABD2-9CC3FF8EE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58139-31EB-4EFC-8F7E-D4FBDD277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B740-0B99-433F-86A5-05A0C624F8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lewin.com/" TargetMode="External"/><Relationship Id="rId2" Type="http://schemas.openxmlformats.org/officeDocument/2006/relationships/hyperlink" Target="http://www.nbch.org/" TargetMode="External"/><Relationship Id="rId3" Type="http://schemas.openxmlformats.org/officeDocument/2006/relationships/hyperlink" Target="mailto:j.mortimer@earthlink.net"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nbch.org/chvc/index.cf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Diabetes Care in Communiti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742840"/>
            <a:ext cx="6400800" cy="2895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ve Partners:</a:t>
            </a: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 Sponsor</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win Group – </a:t>
            </a:r>
            <a:r>
              <a:rPr b="0" lang="en-US" sz="1600" spc="-1" strike="noStrike" u="sng">
                <a:solidFill>
                  <a:srgbClr val="009999"/>
                </a:solidFill>
                <a:uFillTx/>
                <a:latin typeface="Arial"/>
                <a:hlinkClick r:id="rId1"/>
              </a:rPr>
              <a:t>www.lewin.com</a:t>
            </a:r>
            <a:r>
              <a:rPr b="0" lang="en-US" sz="1600" spc="-1" strike="noStrike" u="sng">
                <a:solidFill>
                  <a:srgbClr val="000000"/>
                </a:solidFill>
                <a:uFillTx/>
                <a:latin typeface="Arial"/>
              </a:rPr>
              <a:t>  </a:t>
            </a:r>
            <a:endParaRPr b="0" lang="en-US" sz="16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Business Coalition on Health</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www.nbch.org</a:t>
            </a:r>
            <a:r>
              <a:rPr b="0" lang="en-US" sz="1600" spc="-1" strike="noStrike" u="sng">
                <a:solidFill>
                  <a:srgbClr val="000000"/>
                </a:solidFill>
                <a:uFillTx/>
                <a:latin typeface="Arial"/>
              </a:rPr>
              <a:t>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r:</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mes Mortimer – Project Consultant</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j.mortimer@earthlink.net</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ing Experience and Tools on National Leve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CH Education and Research Committee (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of members’ diabetes and QI initi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based model for local action: “Community Health Value Collabora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among AHRQ, Lewin, sites for development of Diabetes Calculator to assist employers and health plans in estimating the impact on costs and productivity of improved diabetes care perform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Institute for Healthcare Improvement (IHI) on plan for spreading knowledge and experience to more si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of Community Health Value Collaborative Minisite to make experience, tools and information available to purchasers and the public </a:t>
            </a:r>
            <a:r>
              <a:rPr b="0" lang="en-US" sz="2000" spc="-1" strike="noStrike" u="sng">
                <a:solidFill>
                  <a:srgbClr val="009999"/>
                </a:solidFill>
                <a:uFillTx/>
                <a:latin typeface="Arial"/>
                <a:hlinkClick r:id="rId1"/>
              </a:rPr>
              <a:t>www.nbch.org/chvc/index.cfm</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896080" y="68400"/>
            <a:ext cx="2800080" cy="4257360"/>
          </a:xfrm>
          <a:custGeom>
            <a:avLst/>
            <a:gdLst>
              <a:gd name="textAreaLeft" fmla="*/ 136440 w 2800080"/>
              <a:gd name="textAreaRight" fmla="*/ 2663640 w 2800080"/>
              <a:gd name="textAreaTop" fmla="*/ 136440 h 4257360"/>
              <a:gd name="textAreaBottom" fmla="*/ 4120920 h 4257360"/>
            </a:gdLst>
            <a:ahLst/>
            <a:rect l="textAreaLeft" t="textAreaTop" r="textAreaRight" b="textAreaBottom"/>
            <a:pathLst>
              <a:path w="21600" h="32840">
                <a:moveTo>
                  <a:pt x="3600" y="0"/>
                </a:moveTo>
                <a:arcTo wR="3600" hR="3600" stAng="16200000" swAng="-5400000"/>
                <a:lnTo>
                  <a:pt x="0" y="29240"/>
                </a:lnTo>
                <a:arcTo wR="3600" hR="3600" stAng="10800000" swAng="-5400000"/>
                <a:lnTo>
                  <a:pt x="18000" y="32840"/>
                </a:lnTo>
                <a:arcTo wR="3600" hR="3600" stAng="5400000" swAng="-5400000"/>
                <a:lnTo>
                  <a:pt x="21600" y="3600"/>
                </a:lnTo>
                <a:arcTo wR="3600" hR="3600" stAng="0" swAng="-5400000"/>
                <a:close/>
              </a:path>
            </a:pathLst>
          </a:custGeom>
          <a:solidFill>
            <a:srgbClr val="c0c0c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7200" y="49320"/>
            <a:ext cx="5143680" cy="4248000"/>
          </a:xfrm>
          <a:prstGeom prst="rect">
            <a:avLst/>
          </a:prstGeom>
          <a:solidFill>
            <a:srgbClr val="b3bad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1000"/>
            </a:br>
            <a:r>
              <a:rPr b="0" i="1" lang="en-US" sz="1000" spc="-1" strike="noStrike">
                <a:solidFill>
                  <a:srgbClr val="000000"/>
                </a:solidFill>
                <a:latin typeface="Times New Roman"/>
                <a:ea typeface="Times New Roman"/>
              </a:rPr>
              <a:t>This model was funded by Agency for Healthcare Research and Quality (AHRQ) and developed by the researchers at The Lewin Group, Inc.</a:t>
            </a:r>
            <a:br>
              <a:rPr sz="1000"/>
            </a:br>
            <a:r>
              <a:rPr b="0" i="1" lang="en-US" sz="1000" spc="-1" strike="noStrike">
                <a:solidFill>
                  <a:srgbClr val="000000"/>
                </a:solidFill>
                <a:latin typeface="Times New Roman"/>
                <a:ea typeface="Times New Roman"/>
              </a:rPr>
              <a:t>under AHRQ contract No. 290-04-0011.  Copyright 2006 by AHRQ</a:t>
            </a:r>
            <a:br>
              <a:rPr sz="1000"/>
            </a:br>
            <a:br>
              <a:rPr sz="1000"/>
            </a:br>
            <a:r>
              <a:rPr b="0" i="1" lang="en-US" sz="1000" spc="-1" strike="noStrike">
                <a:solidFill>
                  <a:srgbClr val="000000"/>
                </a:solidFill>
                <a:latin typeface="Times New Roman"/>
                <a:ea typeface="Times New Roman"/>
              </a:rPr>
              <a:t>AHRQ makes the model available under the following conditions:</a:t>
            </a:r>
            <a:br>
              <a:rPr sz="1000"/>
            </a:br>
            <a:r>
              <a:rPr b="0" i="1" lang="en-US" sz="1000" spc="-1" strike="noStrike">
                <a:solidFill>
                  <a:srgbClr val="000000"/>
                </a:solidFill>
                <a:latin typeface="Times New Roman"/>
                <a:ea typeface="Times New Roman"/>
              </a:rPr>
              <a:t>The model may be downloaded for specific individual applications by organizations and for personal use, providing the copyright notice is included.  The model or any modifications or adaptations of the model many to not be reproduced, sold, or used for commercial purposes without the specific permission of the copyright holder.</a:t>
            </a:r>
            <a:br>
              <a:rPr sz="900"/>
            </a:br>
            <a:endParaRPr b="0" lang="en-US" sz="1000" spc="-1" strike="noStrike">
              <a:solidFill>
                <a:srgbClr val="000000"/>
              </a:solidFill>
              <a:latin typeface="Arial"/>
            </a:endParaRPr>
          </a:p>
        </p:txBody>
      </p:sp>
      <p:grpSp>
        <p:nvGrpSpPr>
          <p:cNvPr id="61" name=""/>
          <p:cNvGrpSpPr/>
          <p:nvPr/>
        </p:nvGrpSpPr>
        <p:grpSpPr>
          <a:xfrm>
            <a:off x="6095880" y="1278000"/>
            <a:ext cx="2377800" cy="634680"/>
            <a:chOff x="6095880" y="1278000"/>
            <a:chExt cx="2377800" cy="634680"/>
          </a:xfrm>
        </p:grpSpPr>
        <p:grpSp>
          <p:nvGrpSpPr>
            <p:cNvPr id="62" name=""/>
            <p:cNvGrpSpPr/>
            <p:nvPr/>
          </p:nvGrpSpPr>
          <p:grpSpPr>
            <a:xfrm>
              <a:off x="6095880" y="1278000"/>
              <a:ext cx="2377800" cy="634680"/>
              <a:chOff x="6095880" y="1278000"/>
              <a:chExt cx="2377800" cy="634680"/>
            </a:xfrm>
          </p:grpSpPr>
          <p:sp>
            <p:nvSpPr>
              <p:cNvPr id="63" name=""/>
              <p:cNvSpPr/>
              <p:nvPr/>
            </p:nvSpPr>
            <p:spPr>
              <a:xfrm>
                <a:off x="6095880" y="1278000"/>
                <a:ext cx="2377800" cy="63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56560" y="12780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5" name="calculator" descr=""/>
            <p:cNvPicPr/>
            <p:nvPr/>
          </p:nvPicPr>
          <p:blipFill>
            <a:blip r:embed="rId1"/>
            <a:stretch/>
          </p:blipFill>
          <p:spPr>
            <a:xfrm>
              <a:off x="6268320" y="1325160"/>
              <a:ext cx="446400" cy="531000"/>
            </a:xfrm>
            <a:prstGeom prst="rect">
              <a:avLst/>
            </a:prstGeom>
            <a:ln w="0">
              <a:noFill/>
            </a:ln>
          </p:spPr>
        </p:pic>
        <p:sp>
          <p:nvSpPr>
            <p:cNvPr id="66" name=""/>
            <p:cNvSpPr/>
            <p:nvPr/>
          </p:nvSpPr>
          <p:spPr>
            <a:xfrm>
              <a:off x="6943680" y="1449720"/>
              <a:ext cx="1369800" cy="27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 Run Scenario</a:t>
              </a:r>
              <a:endParaRPr b="0" lang="en-US" sz="1400" spc="-1" strike="noStrike">
                <a:solidFill>
                  <a:srgbClr val="000000"/>
                </a:solidFill>
                <a:latin typeface="Arial"/>
              </a:endParaRPr>
            </a:p>
          </p:txBody>
        </p:sp>
      </p:grpSp>
      <p:grpSp>
        <p:nvGrpSpPr>
          <p:cNvPr id="67" name=""/>
          <p:cNvGrpSpPr/>
          <p:nvPr/>
        </p:nvGrpSpPr>
        <p:grpSpPr>
          <a:xfrm>
            <a:off x="6086520" y="3240000"/>
            <a:ext cx="2377440" cy="636120"/>
            <a:chOff x="6086520" y="3240000"/>
            <a:chExt cx="2377440" cy="636120"/>
          </a:xfrm>
        </p:grpSpPr>
        <p:grpSp>
          <p:nvGrpSpPr>
            <p:cNvPr id="68" name=""/>
            <p:cNvGrpSpPr/>
            <p:nvPr/>
          </p:nvGrpSpPr>
          <p:grpSpPr>
            <a:xfrm>
              <a:off x="6086520" y="3240000"/>
              <a:ext cx="2377440" cy="634680"/>
              <a:chOff x="6086520" y="3240000"/>
              <a:chExt cx="2377440" cy="634680"/>
            </a:xfrm>
          </p:grpSpPr>
          <p:sp>
            <p:nvSpPr>
              <p:cNvPr id="69" name=""/>
              <p:cNvSpPr/>
              <p:nvPr/>
            </p:nvSpPr>
            <p:spPr>
              <a:xfrm>
                <a:off x="6086520" y="3240000"/>
                <a:ext cx="2377440" cy="63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903360" y="3306600"/>
                <a:ext cx="148284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 View  </a:t>
                </a:r>
                <a:br>
                  <a:rPr sz="1400"/>
                </a:br>
                <a:r>
                  <a:rPr b="1" lang="en-US" sz="1400" spc="-1" strike="noStrike">
                    <a:solidFill>
                      <a:srgbClr val="000000"/>
                    </a:solidFill>
                    <a:latin typeface="Times New Roman"/>
                    <a:ea typeface="Times New Roman"/>
                  </a:rPr>
                  <a:t>   Additional Data</a:t>
                </a:r>
                <a:endParaRPr b="0" lang="en-US" sz="1400" spc="-1" strike="noStrike">
                  <a:solidFill>
                    <a:srgbClr val="000000"/>
                  </a:solidFill>
                  <a:latin typeface="Arial"/>
                </a:endParaRPr>
              </a:p>
            </p:txBody>
          </p:sp>
          <p:pic>
            <p:nvPicPr>
              <p:cNvPr id="71" name="open_book4" descr=""/>
              <p:cNvPicPr/>
              <p:nvPr/>
            </p:nvPicPr>
            <p:blipFill>
              <a:blip r:embed="rId2"/>
              <a:srcRect l="15000" t="45025" r="15000" b="0"/>
              <a:stretch/>
            </p:blipFill>
            <p:spPr>
              <a:xfrm>
                <a:off x="6096960" y="3362400"/>
                <a:ext cx="749880" cy="389160"/>
              </a:xfrm>
              <a:prstGeom prst="rect">
                <a:avLst/>
              </a:prstGeom>
              <a:ln w="0">
                <a:noFill/>
              </a:ln>
            </p:spPr>
          </p:pic>
        </p:grpSp>
        <p:sp>
          <p:nvSpPr>
            <p:cNvPr id="72" name=""/>
            <p:cNvSpPr/>
            <p:nvPr/>
          </p:nvSpPr>
          <p:spPr>
            <a:xfrm>
              <a:off x="6848640" y="3250440"/>
              <a:ext cx="0" cy="62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2028960" y="1297080"/>
            <a:ext cx="1990440" cy="92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a Version 2.0</a:t>
            </a:r>
            <a:br>
              <a:rPr sz="1800"/>
            </a:br>
            <a:br>
              <a:rPr sz="1800"/>
            </a:br>
            <a:r>
              <a:rPr b="1" lang="en-US" sz="1800" spc="-1" strike="noStrike">
                <a:solidFill>
                  <a:srgbClr val="000000"/>
                </a:solidFill>
                <a:latin typeface="Arial"/>
              </a:rPr>
              <a:t>January 2007</a:t>
            </a:r>
            <a:endParaRPr b="0" lang="en-US" sz="1800" spc="-1" strike="noStrike">
              <a:solidFill>
                <a:srgbClr val="000000"/>
              </a:solidFill>
              <a:latin typeface="Arial"/>
            </a:endParaRPr>
          </a:p>
        </p:txBody>
      </p:sp>
      <p:grpSp>
        <p:nvGrpSpPr>
          <p:cNvPr id="74" name=""/>
          <p:cNvGrpSpPr/>
          <p:nvPr/>
        </p:nvGrpSpPr>
        <p:grpSpPr>
          <a:xfrm>
            <a:off x="6086520" y="2268360"/>
            <a:ext cx="2377440" cy="634680"/>
            <a:chOff x="6086520" y="2268360"/>
            <a:chExt cx="2377440" cy="634680"/>
          </a:xfrm>
        </p:grpSpPr>
        <p:grpSp>
          <p:nvGrpSpPr>
            <p:cNvPr id="75" name=""/>
            <p:cNvGrpSpPr/>
            <p:nvPr/>
          </p:nvGrpSpPr>
          <p:grpSpPr>
            <a:xfrm>
              <a:off x="6086520" y="2268360"/>
              <a:ext cx="2377440" cy="634680"/>
              <a:chOff x="6086520" y="2268360"/>
              <a:chExt cx="2377440" cy="634680"/>
            </a:xfrm>
          </p:grpSpPr>
          <p:sp>
            <p:nvSpPr>
              <p:cNvPr id="76" name=""/>
              <p:cNvSpPr/>
              <p:nvPr/>
            </p:nvSpPr>
            <p:spPr>
              <a:xfrm>
                <a:off x="6086520" y="2268360"/>
                <a:ext cx="2377440" cy="63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56560" y="2268360"/>
                <a:ext cx="0" cy="62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
            <p:cNvSpPr/>
            <p:nvPr/>
          </p:nvSpPr>
          <p:spPr>
            <a:xfrm>
              <a:off x="6913080" y="2458080"/>
              <a:ext cx="1295280" cy="27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View Results</a:t>
              </a:r>
              <a:endParaRPr b="0" lang="en-US" sz="1400" spc="-1" strike="noStrike">
                <a:solidFill>
                  <a:srgbClr val="000000"/>
                </a:solidFill>
                <a:latin typeface="Arial"/>
              </a:endParaRPr>
            </a:p>
          </p:txBody>
        </p:sp>
        <p:pic>
          <p:nvPicPr>
            <p:cNvPr id="79" name="diabetes_pic" descr=""/>
            <p:cNvPicPr/>
            <p:nvPr/>
          </p:nvPicPr>
          <p:blipFill>
            <a:blip r:embed="rId3"/>
            <a:stretch/>
          </p:blipFill>
          <p:spPr>
            <a:xfrm>
              <a:off x="6189840" y="2285280"/>
              <a:ext cx="656280" cy="571680"/>
            </a:xfrm>
            <a:prstGeom prst="rect">
              <a:avLst/>
            </a:prstGeom>
            <a:ln w="0">
              <a:noFill/>
            </a:ln>
          </p:spPr>
        </p:pic>
      </p:grpSp>
      <p:sp>
        <p:nvSpPr>
          <p:cNvPr id="80" name=""/>
          <p:cNvSpPr/>
          <p:nvPr/>
        </p:nvSpPr>
        <p:spPr>
          <a:xfrm>
            <a:off x="5934240" y="401760"/>
            <a:ext cx="27144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betes Calculator</a:t>
            </a:r>
            <a:endParaRPr b="0" lang="en-US" sz="2000" spc="-1" strike="noStrike">
              <a:solidFill>
                <a:srgbClr val="000000"/>
              </a:solidFill>
              <a:latin typeface="Arial"/>
            </a:endParaRPr>
          </a:p>
        </p:txBody>
      </p:sp>
      <p:sp>
        <p:nvSpPr>
          <p:cNvPr id="81" name=""/>
          <p:cNvSpPr/>
          <p:nvPr/>
        </p:nvSpPr>
        <p:spPr>
          <a:xfrm>
            <a:off x="5905440" y="1001880"/>
            <a:ext cx="278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95360" y="334800"/>
            <a:ext cx="50767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HRQ Diabetes Cost Calculator for Employers</a:t>
            </a:r>
            <a:endParaRPr b="0" lang="en-US" sz="2000" spc="-1" strike="noStrike">
              <a:solidFill>
                <a:srgbClr val="000000"/>
              </a:solidFill>
              <a:latin typeface="Arial"/>
            </a:endParaRPr>
          </a:p>
        </p:txBody>
      </p:sp>
      <p:sp>
        <p:nvSpPr>
          <p:cNvPr id="83" name=""/>
          <p:cNvSpPr/>
          <p:nvPr/>
        </p:nvSpPr>
        <p:spPr>
          <a:xfrm>
            <a:off x="0" y="-2523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84" name=""/>
          <p:cNvGraphicFramePr/>
          <p:nvPr/>
        </p:nvGraphicFramePr>
        <p:xfrm>
          <a:off x="0" y="-252360"/>
          <a:ext cx="9144000" cy="7469280"/>
        </p:xfrm>
        <a:graphic>
          <a:graphicData uri="http://schemas.openxmlformats.org/drawingml/2006/table">
            <a:tbl>
              <a:tblPr/>
              <a:tblGrid>
                <a:gridCol w="609480"/>
                <a:gridCol w="609840"/>
                <a:gridCol w="609480"/>
                <a:gridCol w="609480"/>
                <a:gridCol w="609840"/>
                <a:gridCol w="609480"/>
                <a:gridCol w="609480"/>
                <a:gridCol w="609840"/>
                <a:gridCol w="609480"/>
                <a:gridCol w="609480"/>
                <a:gridCol w="609840"/>
                <a:gridCol w="609480"/>
                <a:gridCol w="609480"/>
                <a:gridCol w="609840"/>
                <a:gridCol w="60948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30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85" name=""/>
          <p:cNvGraphicFramePr/>
          <p:nvPr/>
        </p:nvGraphicFramePr>
        <p:xfrm>
          <a:off x="9360" y="-7920"/>
          <a:ext cx="600120" cy="243000"/>
        </p:xfrm>
        <a:graphic>
          <a:graphicData uri="http://schemas.openxmlformats.org/drawingml/2006/table">
            <a:tbl>
              <a:tblPr/>
              <a:tblGrid>
                <a:gridCol w="60012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86" name="" descr=""/>
          <p:cNvPicPr/>
          <p:nvPr/>
        </p:nvPicPr>
        <p:blipFill>
          <a:blip r:embed="rId4"/>
          <a:stretch/>
        </p:blipFill>
        <p:spPr>
          <a:xfrm>
            <a:off x="457200" y="4576680"/>
            <a:ext cx="3657600" cy="95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838080" y="-38088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ve we learn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is good “tracer condition” to use in figuring our how to improve care for chronic illness at the communi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purchasers can play a stimulating and supporting role for providers.  They can also directly implement improved patient/consumer information and payment policy chang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lay an essential role in identifying productive projects worth the effort of multiple stakehold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ata are needed to support new processes of care, new payment policies, and evaluation of resul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RQ plays an important role in improving the credibility of local initiatives, guiding work with research-based information and in developing practical tools for use by multiple stakehol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HRQ National Healthcare Quality Report - 2006</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2000 to 2003, the number of adults with diagnosed diabetes age 40 and older who received an HbA1c test, a retinal exam, and a foot exam increased from 41.2% to 47.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 NHQR page 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Goa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prevention and care for 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costs of avoidable complic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health care purchasers in community level initia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and develop ways AHRQ can assist local groups in this wor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S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timore/DC – MidAtlantic Business Group on Heal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roit – Greater Detroit Area Health Counci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phis – Memphis Business Group on Heal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nent Pro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roit: Introduce Treatment Algorithm for Diabetics with High Blood Pres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phis: Spread of “Advanced Medical Home” model and alignment of payment poli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timore/DC: Improvement of Health Plan Disease Management using eValue8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oit:</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e ROI from local teamwork effo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 improvements in care with evidence-based guideli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Rod Hayward, U of M, on team suggests improved blood pressure care for diabetics reduces risk for heart disea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Jerry Yee, HFHS, Leads team and drafts algorith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David Atkins, AHRQ, corroborates strategy and collaborates on algorithm development and communication pla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Mark Sawka, Oakland Southfield Physicians Group, leads test of algorithm with primary care physicia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ck Slingerland and Paul Miner, Novartis, support independent evaluation of test with data collected and compiled by MPRO, Michigan QI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sult: better care coordination between primary care physicians and special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09480" y="304920"/>
            <a:ext cx="1051560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3000" y="0"/>
            <a:ext cx="115063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phis</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follow-through care for diabet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ominant solo-practice physicians find Chronic Care Model difficult to impl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James Bailey, U of T – Memphis champions use of Advanced Medical Home model (AMH) with case managers and MDs at Medplex clini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GH convenes primary care MDs and Medicaid - TLC Healthplan to explore implementation barriers and revised payment polic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lans draft metrics to measure AMH implementation and performanc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sult: better care coordination spreads in climate of favorable payment 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timore/DC</a:t>
            </a:r>
            <a:endParaRPr b="0" lang="en-US" sz="2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mented health system approached by employers working with health plans to improve care delivery perform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Value8 data from NBCH to measure health plan performance including disease management details – Dennis Scanlon PhD, Penn State, assi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rs ask for diabetes ROI calculator to convince senior management of merits of diabetes care improv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variation in performance among four plans with Lewin Group assist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e plans with AHRQ and Lewin Group experts to discuss data and consider strategies for performance improv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rs include disease management performance improvement goals in benefit contra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GH provides feedback to NBCH for improvement of eValue8 too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Result: Improved disease management performance through data-driven competition among health pla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1:24:22Z</dcterms:created>
  <dc:creator>Jim Mortimer</dc:creator>
  <dc:description/>
  <dc:language>en-US</dc:language>
  <cp:lastModifiedBy>Jim Mortimer</cp:lastModifiedBy>
  <dcterms:modified xsi:type="dcterms:W3CDTF">2007-09-17T20:22:38Z</dcterms:modified>
  <cp:revision>11</cp:revision>
  <dc:subject/>
  <dc:title>Improving Diabetes Care in Communities</dc:title>
</cp:coreProperties>
</file>