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media/image6.jpeg" ContentType="image/jpeg"/>
  <Override PartName="/ppt/media/image7.jpeg" ContentType="image/jpe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BB69E7-F53F-4E49-870F-2CA539CADB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113B69-0F67-4573-B4AA-76D19E3464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AB9A54-D7AE-47F6-A04C-D2E773419D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99712E-2395-4B94-8AF3-7B1D853036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81AF7C-83D5-4CB5-97CA-4784D1EC9A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914163-F5F8-43DA-8DF7-AA4A2626C0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B4DB2F-0204-49EE-B456-B212703A49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63CDC2-B36A-4B57-9670-B9CC4F001B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5A64CA-7F43-4EE2-BA23-BDEA41EFC7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CA8566-1102-4702-8F06-8F93082602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AE4FC6-3BBA-461A-9E32-A7E5F515C3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2C6418-30F8-4388-BA99-5305C5E7FA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717988-D992-4B8C-B7A7-FC9C6E253F6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lewin.com/" TargetMode="External"/><Relationship Id="rId2" Type="http://schemas.openxmlformats.org/officeDocument/2006/relationships/hyperlink" Target="http://www.nbch.org/" TargetMode="External"/><Relationship Id="rId3" Type="http://schemas.openxmlformats.org/officeDocument/2006/relationships/hyperlink" Target="mailto:j.mortimer@earthlink.net" TargetMode="External"/><Relationship Id="rId4"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hyperlink" Target="http://www.nbch.org/chvc/index.cfm"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6.jpe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0666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mproving Diabetes Care in Communities</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2742840"/>
            <a:ext cx="6400800" cy="2895480"/>
          </a:xfrm>
          <a:prstGeom prst="rect">
            <a:avLst/>
          </a:prstGeom>
          <a:noFill/>
          <a:ln w="0">
            <a:noFill/>
          </a:ln>
        </p:spPr>
        <p:txBody>
          <a:bodyPr lIns="90000" rIns="90000" tIns="46800" bIns="46800" anchor="t">
            <a:noAutofit/>
          </a:bodyPr>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itiative Partners:</a:t>
            </a:r>
            <a:endParaRPr b="0" lang="en-US" sz="32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HRQ – Sponsor</a:t>
            </a:r>
            <a:endParaRPr b="0" lang="en-US" sz="2400" spc="-1" strike="noStrike">
              <a:solidFill>
                <a:srgbClr val="000000"/>
              </a:solidFill>
              <a:latin typeface="Arial"/>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ewin Group – </a:t>
            </a:r>
            <a:r>
              <a:rPr b="0" lang="en-US" sz="1600" spc="-1" strike="noStrike" u="sng">
                <a:solidFill>
                  <a:srgbClr val="009999"/>
                </a:solidFill>
                <a:uFillTx/>
                <a:latin typeface="Arial"/>
                <a:hlinkClick r:id="rId1"/>
              </a:rPr>
              <a:t>www.lewin.com</a:t>
            </a:r>
            <a:r>
              <a:rPr b="0" lang="en-US" sz="1600" spc="-1" strike="noStrike" u="sng">
                <a:solidFill>
                  <a:srgbClr val="000000"/>
                </a:solidFill>
                <a:uFillTx/>
                <a:latin typeface="Arial"/>
              </a:rPr>
              <a:t>  </a:t>
            </a:r>
            <a:endParaRPr b="0" lang="en-US" sz="16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tional Business Coalition on Health</a:t>
            </a:r>
            <a:endParaRPr b="0" lang="en-US" sz="2400" spc="-1" strike="noStrike">
              <a:solidFill>
                <a:srgbClr val="000000"/>
              </a:solidFill>
              <a:latin typeface="Arial"/>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hlinkClick r:id="rId2"/>
              </a:rPr>
              <a:t>www.nbch.org</a:t>
            </a:r>
            <a:r>
              <a:rPr b="0" lang="en-US" sz="1600" spc="-1" strike="noStrike" u="sng">
                <a:solidFill>
                  <a:srgbClr val="000000"/>
                </a:solidFill>
                <a:uFillTx/>
                <a:latin typeface="Arial"/>
              </a:rPr>
              <a:t> </a:t>
            </a:r>
            <a:endParaRPr b="0" lang="en-US" sz="1600" spc="-1" strike="noStrike">
              <a:solidFill>
                <a:srgbClr val="000000"/>
              </a:solidFill>
              <a:latin typeface="Arial"/>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esenter:</a:t>
            </a:r>
            <a:endParaRPr b="0" lang="en-US" sz="1600" spc="-1" strike="noStrike">
              <a:solidFill>
                <a:srgbClr val="000000"/>
              </a:solidFill>
              <a:latin typeface="Arial"/>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mes Mortimer – Project Consultant</a:t>
            </a:r>
            <a:endParaRPr b="0" lang="en-US" sz="1600" spc="-1" strike="noStrike">
              <a:solidFill>
                <a:srgbClr val="000000"/>
              </a:solidFill>
              <a:latin typeface="Arial"/>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hlinkClick r:id="rId3"/>
              </a:rPr>
              <a:t>j.mortimer@earthlink.net</a:t>
            </a:r>
            <a:r>
              <a:rPr b="0" lang="en-US" sz="1600" spc="-1" strike="noStrike" u="sng">
                <a:solidFill>
                  <a:srgbClr val="000000"/>
                </a:solidFill>
                <a:uFillTx/>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mproving Diabetes Care in Communities</a:t>
            </a:r>
            <a:endParaRPr b="0" lang="en-US" sz="40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iling Experience and Tools on National Level</a:t>
            </a:r>
            <a:endParaRPr b="0" lang="en-US" sz="2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BCH Education and Research Committee (EAR)</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rvey of members’ diabetes and QI initiative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erience-based model for local action: “Community Health Value Collaborativ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llaboration among AHRQ, Lewin, sites for development of Diabetes Calculator to assist employers and health plans in estimating the impact on costs and productivity of improved diabetes care performanc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llaborate with Institute for Healthcare Improvement (IHI) on plan for spreading knowledge and experience to more site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truction of Community Health Value Collaborative Minisite to make experience, tools and information available to purchasers and the public </a:t>
            </a:r>
            <a:r>
              <a:rPr b="0" lang="en-US" sz="2000" spc="-1" strike="noStrike" u="sng">
                <a:solidFill>
                  <a:srgbClr val="009999"/>
                </a:solidFill>
                <a:uFillTx/>
                <a:latin typeface="Arial"/>
                <a:hlinkClick r:id="rId1"/>
              </a:rPr>
              <a:t>www.nbch.org/chvc/index.cfm</a:t>
            </a:r>
            <a:r>
              <a:rPr b="0" lang="en-US" sz="2000" spc="-1" strike="noStrike" u="sng">
                <a:solidFill>
                  <a:srgbClr val="000000"/>
                </a:solidFill>
                <a:uFillTx/>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5896080" y="68400"/>
            <a:ext cx="2800080" cy="4257360"/>
          </a:xfrm>
          <a:custGeom>
            <a:avLst/>
            <a:gdLst>
              <a:gd name="textAreaLeft" fmla="*/ 136440 w 2800080"/>
              <a:gd name="textAreaRight" fmla="*/ 2663640 w 2800080"/>
              <a:gd name="textAreaTop" fmla="*/ 136440 h 4257360"/>
              <a:gd name="textAreaBottom" fmla="*/ 4120920 h 4257360"/>
            </a:gdLst>
            <a:ahLst/>
            <a:rect l="textAreaLeft" t="textAreaTop" r="textAreaRight" b="textAreaBottom"/>
            <a:pathLst>
              <a:path w="21600" h="32840">
                <a:moveTo>
                  <a:pt x="3600" y="0"/>
                </a:moveTo>
                <a:arcTo wR="3600" hR="3600" stAng="16200000" swAng="-5400000"/>
                <a:lnTo>
                  <a:pt x="0" y="29240"/>
                </a:lnTo>
                <a:arcTo wR="3600" hR="3600" stAng="10800000" swAng="-5400000"/>
                <a:lnTo>
                  <a:pt x="18000" y="32840"/>
                </a:lnTo>
                <a:arcTo wR="3600" hR="3600" stAng="5400000" swAng="-5400000"/>
                <a:lnTo>
                  <a:pt x="21600" y="3600"/>
                </a:lnTo>
                <a:arcTo wR="3600" hR="3600" stAng="0" swAng="-5400000"/>
                <a:close/>
              </a:path>
            </a:pathLst>
          </a:custGeom>
          <a:solidFill>
            <a:srgbClr val="c0c0c0"/>
          </a:solidFill>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457200" y="49320"/>
            <a:ext cx="5143680" cy="4248000"/>
          </a:xfrm>
          <a:prstGeom prst="rect">
            <a:avLst/>
          </a:prstGeom>
          <a:solidFill>
            <a:srgbClr val="b3bad5"/>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br>
              <a:rPr sz="2400"/>
            </a:br>
            <a:br>
              <a:rPr sz="2400"/>
            </a:br>
            <a:br>
              <a:rPr sz="2400"/>
            </a:br>
            <a:br>
              <a:rPr sz="2400"/>
            </a:br>
            <a:br>
              <a:rPr sz="1000"/>
            </a:br>
            <a:r>
              <a:rPr b="0" i="1" lang="en-US" sz="1000" spc="-1" strike="noStrike">
                <a:solidFill>
                  <a:srgbClr val="000000"/>
                </a:solidFill>
                <a:latin typeface="Times New Roman"/>
                <a:ea typeface="Times New Roman"/>
              </a:rPr>
              <a:t>This model was funded by Agency for Healthcare Research and Quality (AHRQ) and developed by the researchers at The Lewin Group, Inc.</a:t>
            </a:r>
            <a:br>
              <a:rPr sz="1000"/>
            </a:br>
            <a:r>
              <a:rPr b="0" i="1" lang="en-US" sz="1000" spc="-1" strike="noStrike">
                <a:solidFill>
                  <a:srgbClr val="000000"/>
                </a:solidFill>
                <a:latin typeface="Times New Roman"/>
                <a:ea typeface="Times New Roman"/>
              </a:rPr>
              <a:t>under AHRQ contract No. 290-04-0011.  Copyright 2006 by AHRQ</a:t>
            </a:r>
            <a:br>
              <a:rPr sz="1000"/>
            </a:br>
            <a:br>
              <a:rPr sz="1000"/>
            </a:br>
            <a:r>
              <a:rPr b="0" i="1" lang="en-US" sz="1000" spc="-1" strike="noStrike">
                <a:solidFill>
                  <a:srgbClr val="000000"/>
                </a:solidFill>
                <a:latin typeface="Times New Roman"/>
                <a:ea typeface="Times New Roman"/>
              </a:rPr>
              <a:t>AHRQ makes the model available under the following conditions:</a:t>
            </a:r>
            <a:br>
              <a:rPr sz="1000"/>
            </a:br>
            <a:r>
              <a:rPr b="0" i="1" lang="en-US" sz="1000" spc="-1" strike="noStrike">
                <a:solidFill>
                  <a:srgbClr val="000000"/>
                </a:solidFill>
                <a:latin typeface="Times New Roman"/>
                <a:ea typeface="Times New Roman"/>
              </a:rPr>
              <a:t>The model may be downloaded for specific individual applications by organizations and for personal use, providing the copyright notice is included.  The model or any modifications or adaptations of the model many to not be reproduced, sold, or used for commercial purposes without the specific permission of the copyright holder.</a:t>
            </a:r>
            <a:br>
              <a:rPr sz="900"/>
            </a:br>
            <a:endParaRPr b="0" lang="en-US" sz="1000" spc="-1" strike="noStrike">
              <a:solidFill>
                <a:srgbClr val="000000"/>
              </a:solidFill>
              <a:latin typeface="Arial"/>
            </a:endParaRPr>
          </a:p>
        </p:txBody>
      </p:sp>
      <p:grpSp>
        <p:nvGrpSpPr>
          <p:cNvPr id="61" name=""/>
          <p:cNvGrpSpPr/>
          <p:nvPr/>
        </p:nvGrpSpPr>
        <p:grpSpPr>
          <a:xfrm>
            <a:off x="6095880" y="1278000"/>
            <a:ext cx="2377800" cy="634680"/>
            <a:chOff x="6095880" y="1278000"/>
            <a:chExt cx="2377800" cy="634680"/>
          </a:xfrm>
        </p:grpSpPr>
        <p:grpSp>
          <p:nvGrpSpPr>
            <p:cNvPr id="62" name=""/>
            <p:cNvGrpSpPr/>
            <p:nvPr/>
          </p:nvGrpSpPr>
          <p:grpSpPr>
            <a:xfrm>
              <a:off x="6095880" y="1278000"/>
              <a:ext cx="2377800" cy="634680"/>
              <a:chOff x="6095880" y="1278000"/>
              <a:chExt cx="2377800" cy="634680"/>
            </a:xfrm>
          </p:grpSpPr>
          <p:sp>
            <p:nvSpPr>
              <p:cNvPr id="63" name=""/>
              <p:cNvSpPr/>
              <p:nvPr/>
            </p:nvSpPr>
            <p:spPr>
              <a:xfrm>
                <a:off x="6095880" y="1278000"/>
                <a:ext cx="2377800" cy="6346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6856560" y="1278000"/>
                <a:ext cx="0" cy="623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65" name="calculator" descr=""/>
            <p:cNvPicPr/>
            <p:nvPr/>
          </p:nvPicPr>
          <p:blipFill>
            <a:blip r:embed="rId1"/>
            <a:stretch/>
          </p:blipFill>
          <p:spPr>
            <a:xfrm>
              <a:off x="6268320" y="1325160"/>
              <a:ext cx="446400" cy="531000"/>
            </a:xfrm>
            <a:prstGeom prst="rect">
              <a:avLst/>
            </a:prstGeom>
            <a:ln w="0">
              <a:noFill/>
            </a:ln>
          </p:spPr>
        </p:pic>
        <p:sp>
          <p:nvSpPr>
            <p:cNvPr id="66" name=""/>
            <p:cNvSpPr/>
            <p:nvPr/>
          </p:nvSpPr>
          <p:spPr>
            <a:xfrm>
              <a:off x="6943680" y="1449720"/>
              <a:ext cx="1369800" cy="27504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 Run Scenario</a:t>
              </a:r>
              <a:endParaRPr b="0" lang="en-US" sz="1400" spc="-1" strike="noStrike">
                <a:solidFill>
                  <a:srgbClr val="000000"/>
                </a:solidFill>
                <a:latin typeface="Arial"/>
              </a:endParaRPr>
            </a:p>
          </p:txBody>
        </p:sp>
      </p:grpSp>
      <p:grpSp>
        <p:nvGrpSpPr>
          <p:cNvPr id="67" name=""/>
          <p:cNvGrpSpPr/>
          <p:nvPr/>
        </p:nvGrpSpPr>
        <p:grpSpPr>
          <a:xfrm>
            <a:off x="6086520" y="3240000"/>
            <a:ext cx="2377440" cy="636120"/>
            <a:chOff x="6086520" y="3240000"/>
            <a:chExt cx="2377440" cy="636120"/>
          </a:xfrm>
        </p:grpSpPr>
        <p:grpSp>
          <p:nvGrpSpPr>
            <p:cNvPr id="68" name=""/>
            <p:cNvGrpSpPr/>
            <p:nvPr/>
          </p:nvGrpSpPr>
          <p:grpSpPr>
            <a:xfrm>
              <a:off x="6086520" y="3240000"/>
              <a:ext cx="2377440" cy="634680"/>
              <a:chOff x="6086520" y="3240000"/>
              <a:chExt cx="2377440" cy="634680"/>
            </a:xfrm>
          </p:grpSpPr>
          <p:sp>
            <p:nvSpPr>
              <p:cNvPr id="69" name=""/>
              <p:cNvSpPr/>
              <p:nvPr/>
            </p:nvSpPr>
            <p:spPr>
              <a:xfrm>
                <a:off x="6086520" y="3240000"/>
                <a:ext cx="2377440" cy="6346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6903360" y="3306600"/>
                <a:ext cx="1482840" cy="47304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3: View  </a:t>
                </a:r>
                <a:br>
                  <a:rPr sz="1400"/>
                </a:br>
                <a:r>
                  <a:rPr b="1" lang="en-US" sz="1400" spc="-1" strike="noStrike">
                    <a:solidFill>
                      <a:srgbClr val="000000"/>
                    </a:solidFill>
                    <a:latin typeface="Times New Roman"/>
                    <a:ea typeface="Times New Roman"/>
                  </a:rPr>
                  <a:t>   Additional Data</a:t>
                </a:r>
                <a:endParaRPr b="0" lang="en-US" sz="1400" spc="-1" strike="noStrike">
                  <a:solidFill>
                    <a:srgbClr val="000000"/>
                  </a:solidFill>
                  <a:latin typeface="Arial"/>
                </a:endParaRPr>
              </a:p>
            </p:txBody>
          </p:sp>
          <p:pic>
            <p:nvPicPr>
              <p:cNvPr id="71" name="open_book4" descr=""/>
              <p:cNvPicPr/>
              <p:nvPr/>
            </p:nvPicPr>
            <p:blipFill>
              <a:blip r:embed="rId2"/>
              <a:srcRect l="15000" t="45025" r="15000" b="0"/>
              <a:stretch/>
            </p:blipFill>
            <p:spPr>
              <a:xfrm>
                <a:off x="6096960" y="3362400"/>
                <a:ext cx="749880" cy="389160"/>
              </a:xfrm>
              <a:prstGeom prst="rect">
                <a:avLst/>
              </a:prstGeom>
              <a:ln w="0">
                <a:noFill/>
              </a:ln>
            </p:spPr>
          </p:pic>
        </p:grpSp>
        <p:sp>
          <p:nvSpPr>
            <p:cNvPr id="72" name=""/>
            <p:cNvSpPr/>
            <p:nvPr/>
          </p:nvSpPr>
          <p:spPr>
            <a:xfrm>
              <a:off x="6848640" y="3250440"/>
              <a:ext cx="0" cy="625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3" name=""/>
          <p:cNvSpPr/>
          <p:nvPr/>
        </p:nvSpPr>
        <p:spPr>
          <a:xfrm>
            <a:off x="2028960" y="1297080"/>
            <a:ext cx="1990440" cy="923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a Version 2.0</a:t>
            </a:r>
            <a:br>
              <a:rPr sz="1800"/>
            </a:br>
            <a:br>
              <a:rPr sz="1800"/>
            </a:br>
            <a:r>
              <a:rPr b="1" lang="en-US" sz="1800" spc="-1" strike="noStrike">
                <a:solidFill>
                  <a:srgbClr val="000000"/>
                </a:solidFill>
                <a:latin typeface="Arial"/>
              </a:rPr>
              <a:t>January 2007</a:t>
            </a:r>
            <a:endParaRPr b="0" lang="en-US" sz="1800" spc="-1" strike="noStrike">
              <a:solidFill>
                <a:srgbClr val="000000"/>
              </a:solidFill>
              <a:latin typeface="Arial"/>
            </a:endParaRPr>
          </a:p>
        </p:txBody>
      </p:sp>
      <p:grpSp>
        <p:nvGrpSpPr>
          <p:cNvPr id="74" name=""/>
          <p:cNvGrpSpPr/>
          <p:nvPr/>
        </p:nvGrpSpPr>
        <p:grpSpPr>
          <a:xfrm>
            <a:off x="6086520" y="2268360"/>
            <a:ext cx="2377440" cy="634680"/>
            <a:chOff x="6086520" y="2268360"/>
            <a:chExt cx="2377440" cy="634680"/>
          </a:xfrm>
        </p:grpSpPr>
        <p:grpSp>
          <p:nvGrpSpPr>
            <p:cNvPr id="75" name=""/>
            <p:cNvGrpSpPr/>
            <p:nvPr/>
          </p:nvGrpSpPr>
          <p:grpSpPr>
            <a:xfrm>
              <a:off x="6086520" y="2268360"/>
              <a:ext cx="2377440" cy="634680"/>
              <a:chOff x="6086520" y="2268360"/>
              <a:chExt cx="2377440" cy="634680"/>
            </a:xfrm>
          </p:grpSpPr>
          <p:sp>
            <p:nvSpPr>
              <p:cNvPr id="76" name=""/>
              <p:cNvSpPr/>
              <p:nvPr/>
            </p:nvSpPr>
            <p:spPr>
              <a:xfrm>
                <a:off x="6086520" y="2268360"/>
                <a:ext cx="2377440" cy="6346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6856560" y="2268360"/>
                <a:ext cx="0" cy="62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8" name=""/>
            <p:cNvSpPr/>
            <p:nvPr/>
          </p:nvSpPr>
          <p:spPr>
            <a:xfrm>
              <a:off x="6913080" y="2458080"/>
              <a:ext cx="1295280" cy="2761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2: View Results</a:t>
              </a:r>
              <a:endParaRPr b="0" lang="en-US" sz="1400" spc="-1" strike="noStrike">
                <a:solidFill>
                  <a:srgbClr val="000000"/>
                </a:solidFill>
                <a:latin typeface="Arial"/>
              </a:endParaRPr>
            </a:p>
          </p:txBody>
        </p:sp>
        <p:pic>
          <p:nvPicPr>
            <p:cNvPr id="79" name="diabetes_pic" descr=""/>
            <p:cNvPicPr/>
            <p:nvPr/>
          </p:nvPicPr>
          <p:blipFill>
            <a:blip r:embed="rId3"/>
            <a:stretch/>
          </p:blipFill>
          <p:spPr>
            <a:xfrm>
              <a:off x="6189840" y="2285280"/>
              <a:ext cx="656280" cy="571680"/>
            </a:xfrm>
            <a:prstGeom prst="rect">
              <a:avLst/>
            </a:prstGeom>
            <a:ln w="0">
              <a:noFill/>
            </a:ln>
          </p:spPr>
        </p:pic>
      </p:grpSp>
      <p:sp>
        <p:nvSpPr>
          <p:cNvPr id="80" name=""/>
          <p:cNvSpPr/>
          <p:nvPr/>
        </p:nvSpPr>
        <p:spPr>
          <a:xfrm>
            <a:off x="5934240" y="401760"/>
            <a:ext cx="271440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abetes Calculator</a:t>
            </a:r>
            <a:endParaRPr b="0" lang="en-US" sz="2000" spc="-1" strike="noStrike">
              <a:solidFill>
                <a:srgbClr val="000000"/>
              </a:solidFill>
              <a:latin typeface="Arial"/>
            </a:endParaRPr>
          </a:p>
        </p:txBody>
      </p:sp>
      <p:sp>
        <p:nvSpPr>
          <p:cNvPr id="81" name=""/>
          <p:cNvSpPr/>
          <p:nvPr/>
        </p:nvSpPr>
        <p:spPr>
          <a:xfrm>
            <a:off x="5905440" y="1001880"/>
            <a:ext cx="27813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495360" y="334800"/>
            <a:ext cx="5076720" cy="733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HRQ Diabetes Cost Calculator for Employers</a:t>
            </a:r>
            <a:endParaRPr b="0" lang="en-US" sz="2000" spc="-1" strike="noStrike">
              <a:solidFill>
                <a:srgbClr val="000000"/>
              </a:solidFill>
              <a:latin typeface="Arial"/>
            </a:endParaRPr>
          </a:p>
        </p:txBody>
      </p:sp>
      <p:sp>
        <p:nvSpPr>
          <p:cNvPr id="83" name=""/>
          <p:cNvSpPr/>
          <p:nvPr/>
        </p:nvSpPr>
        <p:spPr>
          <a:xfrm>
            <a:off x="0" y="-252360"/>
            <a:ext cx="914400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graphicFrame>
        <p:nvGraphicFramePr>
          <p:cNvPr id="84" name=""/>
          <p:cNvGraphicFramePr/>
          <p:nvPr/>
        </p:nvGraphicFramePr>
        <p:xfrm>
          <a:off x="0" y="-252360"/>
          <a:ext cx="9144000" cy="7469280"/>
        </p:xfrm>
        <a:graphic>
          <a:graphicData uri="http://schemas.openxmlformats.org/drawingml/2006/table">
            <a:tbl>
              <a:tblPr/>
              <a:tblGrid>
                <a:gridCol w="609480"/>
                <a:gridCol w="609840"/>
                <a:gridCol w="609480"/>
                <a:gridCol w="609480"/>
                <a:gridCol w="609840"/>
                <a:gridCol w="609480"/>
                <a:gridCol w="609480"/>
                <a:gridCol w="609840"/>
                <a:gridCol w="609480"/>
                <a:gridCol w="609480"/>
                <a:gridCol w="609840"/>
                <a:gridCol w="609480"/>
                <a:gridCol w="609480"/>
                <a:gridCol w="609840"/>
                <a:gridCol w="609480"/>
              </a:tblGrid>
              <a:tr h="2462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r>
              <a:tr h="2462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r>
              <a:tr h="2462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r>
              <a:tr h="2462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r>
              <a:tr h="2462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r>
              <a:tr h="2462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r>
              <a:tr h="2462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r>
              <a:tr h="2462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r>
              <a:tr h="2462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r>
              <a:tr h="2462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r>
              <a:tr h="2462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r>
              <a:tr h="2462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r>
              <a:tr h="2462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r>
              <a:tr h="2462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r>
              <a:tr h="3002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r>
              <a:tr h="2462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r>
              <a:tr h="2462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r>
              <a:tr h="2462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r>
              <a:tr h="2462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r>
              <a:tr h="2462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r>
              <a:tr h="2462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r>
              <a:tr h="2462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r>
              <a:tr h="2462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r>
              <a:tr h="2462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r>
              <a:tr h="2462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r>
              <a:tr h="2462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r>
              <a:tr h="2462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r>
              <a:tr h="2462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r>
            </a:tbl>
          </a:graphicData>
        </a:graphic>
      </p:graphicFrame>
      <p:graphicFrame>
        <p:nvGraphicFramePr>
          <p:cNvPr id="85" name=""/>
          <p:cNvGraphicFramePr/>
          <p:nvPr/>
        </p:nvGraphicFramePr>
        <p:xfrm>
          <a:off x="9360" y="-7920"/>
          <a:ext cx="600120" cy="243000"/>
        </p:xfrm>
        <a:graphic>
          <a:graphicData uri="http://schemas.openxmlformats.org/drawingml/2006/table">
            <a:tbl>
              <a:tblPr/>
              <a:tblGrid>
                <a:gridCol w="600120"/>
              </a:tblGrid>
              <a:tr h="2462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b" marL="90000" marR="90000">
                    <a:lnL>
                      <a:noFill/>
                    </a:lnL>
                    <a:lnR>
                      <a:noFill/>
                    </a:lnR>
                    <a:lnT>
                      <a:noFill/>
                    </a:lnT>
                    <a:lnB>
                      <a:noFill/>
                    </a:lnB>
                    <a:noFill/>
                  </a:tcPr>
                </a:tc>
              </a:tr>
            </a:tbl>
          </a:graphicData>
        </a:graphic>
      </p:graphicFrame>
      <p:pic>
        <p:nvPicPr>
          <p:cNvPr id="86" name="" descr=""/>
          <p:cNvPicPr/>
          <p:nvPr/>
        </p:nvPicPr>
        <p:blipFill>
          <a:blip r:embed="rId4"/>
          <a:stretch/>
        </p:blipFill>
        <p:spPr>
          <a:xfrm>
            <a:off x="457200" y="4576680"/>
            <a:ext cx="3657600" cy="9572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 name="" descr=""/>
          <p:cNvPicPr/>
          <p:nvPr/>
        </p:nvPicPr>
        <p:blipFill>
          <a:blip r:embed="rId1"/>
          <a:stretch/>
        </p:blipFill>
        <p:spPr>
          <a:xfrm>
            <a:off x="838080" y="-380880"/>
            <a:ext cx="7772400" cy="100584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mproving Diabetes Care in Communities</a:t>
            </a:r>
            <a:endParaRPr b="0" lang="en-US" sz="4000" spc="-1" strike="noStrike">
              <a:solidFill>
                <a:srgbClr val="000000"/>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have we learned?</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abetes is good “tracer condition” to use in figuring our how to improve care for chronic illness at the community level</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alth care purchasers can play a stimulating and supporting role for providers.  They can also directly implement improved patient/consumer information and payment policy change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a play an essential role in identifying productive projects worth the effort of multiple stakeholder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w data are needed to support new processes of care, new payment policies, and evaluation of resul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HRQ plays an important role in improving the credibility of local initiatives, guiding work with research-based information and in developing practical tools for use by multiple stakeholder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mproving Diabetes Care in Communities</a:t>
            </a:r>
            <a:endParaRPr b="0" lang="en-US" sz="4000" spc="-1" strike="noStrike">
              <a:solidFill>
                <a:srgbClr val="000000"/>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QUESTION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HRQ National Healthcare Quality Report - 2006</a:t>
            </a:r>
            <a:endParaRPr b="0" lang="en-US" sz="40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From 2000 to 2003, the number of adults with diagnosed diabetes age 40 and older who received an HbA1c test, a retinal exam, and a foot exam increased from 41.2% to 47.8%”</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6 NHQR page 4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mproving Diabetes Care in Communities</a:t>
            </a:r>
            <a:endParaRPr b="0" lang="en-US" sz="40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itiative Goal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rove prevention and care for diabet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uce costs of avoidable complic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volve health care purchasers in community level initiativ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re and develop ways AHRQ can assist local groups in this work</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ilot Site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ltimore/DC – MidAtlantic Business Group on Health</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troit – Greater Detroit Area Health Council</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phis – Memphis Business Group on Health</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mproving Diabetes Care in Communities</a:t>
            </a:r>
            <a:endParaRPr b="0" lang="en-US" sz="40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minent Project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troit: Introduce Treatment Algorithm for Diabetics with High Blood Pressur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mphis: Spread of “Advanced Medical Home” model and alignment of payment polic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ltimore/DC: Improvement of Health Plan Disease Management using eValue8 dat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mproving Diabetes Care in Communities</a:t>
            </a:r>
            <a:endParaRPr b="0" lang="en-US" sz="40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troit:</a:t>
            </a:r>
            <a:endParaRPr b="0" lang="en-US" sz="28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ximize ROI from local teamwork effort</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rive improvements in care with evidence-based guideline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r. Rod Hayward, U of M, on team suggests improved blood pressure care for diabetics reduces risk for heart disease.</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r. Jerry Yee, HFHS, Leads team and drafts algorithm</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r. David Atkins, AHRQ, corroborates strategy and collaborates on algorithm development and communication plan</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r. Mark Sawka, Oakland Southfield Physicians Group, leads test of algorithm with primary care physician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ack Slingerland and Paul Miner, Novartis, support independent evaluation of test with data collected and compiled by MPRO, Michigan QIO</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ected result: better care coordination between primary care physicians and specialis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609480" y="304920"/>
            <a:ext cx="10515600" cy="63244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1143000" y="0"/>
            <a:ext cx="11506320" cy="6858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mproving Diabetes Care in Communities</a:t>
            </a:r>
            <a:endParaRPr b="0" lang="en-US" sz="40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emphis</a:t>
            </a:r>
            <a:endParaRPr b="0" lang="en-US" sz="28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rove follow-through care for diabetic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dominant solo-practice physicians find Chronic Care Model difficult to implement</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r. James Bailey, U of T – Memphis champions use of Advanced Medical Home model (AMH) with case managers and MDs at Medplex clinic.</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BGH convenes primary care MDs and Medicaid - TLC Healthplan to explore implementation barriers and revised payment policy</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alth plans draft metrics to measure AMH implementation and performance</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ected result: better care coordination spreads in climate of favorable payment polic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mproving Diabetes Care in Communities</a:t>
            </a:r>
            <a:endParaRPr b="0" lang="en-US" sz="40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altimore/DC</a:t>
            </a:r>
            <a:endParaRPr b="0" lang="en-US" sz="2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agmented health system approached by employers working with health plans to improve care delivery performance</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eValue8 data from NBCH to measure health plan performance including disease management details – Dennis Scanlon PhD, Penn State, assists</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mployers ask for diabetes ROI calculator to convince senior management of merits of diabetes care improvement</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d variation in performance among four plans with Lewin Group assistance</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vene plans with AHRQ and Lewin Group experts to discuss data and consider strategies for performance improvement</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mployers include disease management performance improvement goals in benefit contracts</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BGH provides feedback to NBCH for improvement of eValue8 tool</a:t>
            </a: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ected Result: Improved disease management performance through data-driven competition among health plans</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12T11:24:22Z</dcterms:created>
  <dc:creator>Jim Mortimer</dc:creator>
  <dc:description/>
  <dc:language>en-US</dc:language>
  <cp:lastModifiedBy>Jim Mortimer</cp:lastModifiedBy>
  <dcterms:modified xsi:type="dcterms:W3CDTF">2007-09-17T20:22:38Z</dcterms:modified>
  <cp:revision>11</cp:revision>
  <dc:subject/>
  <dc:title>Improving Diabetes Care in Communities</dc:title>
</cp:coreProperties>
</file>