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6C6C-B0D3-4512-9609-C4DC181EE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ong time policymakers in Washington were saying that HIPAA was off the tab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SU examp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nded in 1971 and initially worked on women’s workplace equity issues.  But over time, we expanded our priorities and today, we use advocacy and education to address our top priorities of improving health care quality, promoting fairness in the workplace and advancing policies that help women and met balance work and family.  Many of you know us as the organization that led the effort to enact the FMLA.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roving health care quality is a top priority for our organization  -- and we have launched the Americans for Quality Health Care project (funded by RWJ) in order to engage more consumer advocacy organizations on health care quality issues.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we are a consumer advocacy organization – and we have experience in recruiting and engaging consumer advocacy organizations on an issue, so we understand the benefits and the challenges from two different sides of the question.</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arted working on health IT issues as a natural outgrowth of our efforts to improve the quality of our health care system.  (se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s show that patients are concerned that movement to electronic records will result in greater risk to patient priv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ar of the Stolen Laptop.”  The general public is aware of all of these – and many are very wary of a system that they think can instantly make their sensitive medical information more vulnerable than it is today in a paper-based system.  (This may not in fact be true – paper is not necessarily more secure – but perception may be more importan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se of e-health won’t be realized unless we put patients first and ensure adequate privacy and security standards are built in from the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initially set out to do thi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his to evaluate system desig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s for e-health data exchange must protect the integrity, security, privacy and confidentiality of an individual’s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able safeguards developed at front end &amp; just follow the information as it is accessed or transfer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in a timely manner if breach or privacy viol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ingful legal and financial remedies to address any security breaches or privacy viol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privacy standards that restrict the use and disclosure of personally identifiable health information should apply to all entities engaged in H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The governance and administration of e-health networks should be transparent and publicly accountable</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bodies, accountable to the public, should oversee electronic health information sha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should have equal footing with other stakehold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ime and time again – HIPAA already provides everything we need; or HIPAA is completely insuffici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375FD-356D-47A3-9CB0-546226937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E71EF-9BFC-44C2-8C99-C1EDBD630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8B091-C9FC-4BB4-AA29-5CA568EBE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2C17D-0467-489C-AE23-BB8AE4A96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109AF3-4107-4627-AFEA-F072C5CA4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60B06-62AB-44BD-9C2A-3583EE1B7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028A7-5590-4705-9C91-3FBFF3268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7A944-7511-4983-9C1F-EF0C9A82C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26637-CE63-4726-9D89-DE0210C0C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9682F-79A2-466B-B6D7-81582B4D8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85F9A-4240-4596-9A30-1A8236E03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F99E9-C941-4B49-825F-4316050EA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8D6D9-2488-45DA-9821-B401D1EFB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31AA2-4158-42D2-8F92-0A9EB9A8F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F918C-AAAD-4DB1-9C8E-2EF6E819C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0AEBC-0D20-47FA-B487-5BA32420F8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8E959-2E9C-49F0-BCA5-FE16AD46A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38850-B80D-4A52-9575-D1EF69542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FA066-0A6D-493D-9B34-0335F87C7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32FF3-AD4D-4285-A00A-90D32C5CC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C2F34-1868-406B-B6EE-2280F679E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8C01D-CBEF-477E-A384-4FF41D8E4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8E04D-9193-4202-A6CB-10672400E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3C430-B60A-44A1-A4B3-66BDED395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E73CF-21D0-46C5-9B0C-670BF46CBE6A}"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2360-10F0-400A-9E13-DB8FE2C1A983}"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ationalpartnership.org/default.aspx?tabname=Home" TargetMode="External"/><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ationalpartnership.org/default.aspx?tabname=Home" TargetMode="External"/><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avigating Privacy and Security</a:t>
            </a:r>
            <a:br>
              <a:rPr sz="2800"/>
            </a:br>
            <a:r>
              <a:rPr b="1" lang="en-US" sz="2800" spc="-1" strike="noStrike">
                <a:solidFill>
                  <a:srgbClr val="000000"/>
                </a:solidFill>
                <a:latin typeface="Verdana"/>
              </a:rPr>
              <a:t>Issues for HIE: A Consumer Perspective</a:t>
            </a:r>
            <a:endParaRPr b="0" lang="en-US" sz="2800" spc="-1" strike="noStrike">
              <a:solidFill>
                <a:srgbClr val="000000"/>
              </a:solidFill>
              <a:latin typeface="Verdana"/>
            </a:endParaRPr>
          </a:p>
        </p:txBody>
      </p:sp>
      <p:sp>
        <p:nvSpPr>
          <p:cNvPr id="92" name=""/>
          <p:cNvSpPr txBox="1"/>
          <p:nvPr/>
        </p:nvSpPr>
        <p:spPr>
          <a:xfrm>
            <a:off x="4642920" y="2590920"/>
            <a:ext cx="3924360" cy="1218960"/>
          </a:xfrm>
          <a:prstGeom prst="rect">
            <a:avLst/>
          </a:prstGeom>
          <a:noFill/>
          <a:ln w="0">
            <a:noFill/>
          </a:ln>
        </p:spPr>
        <p:txBody>
          <a:bodyPr lIns="90000" rIns="90000" tIns="46800" bIns="46800" anchor="t">
            <a:normAutofit fontScale="79000"/>
          </a:bodyPr>
          <a:p>
            <a:pPr marL="370800" indent="-370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ven McGraw</a:t>
            </a:r>
            <a:endParaRPr b="0" lang="en-US" sz="2100" spc="-1" strike="noStrike">
              <a:solidFill>
                <a:srgbClr val="000000"/>
              </a:solidFill>
              <a:latin typeface="Verdana"/>
            </a:endParaRPr>
          </a:p>
          <a:p>
            <a:pPr marL="370800" indent="-370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Chief Operating Officer</a:t>
            </a:r>
            <a:endParaRPr b="0" lang="en-US" sz="2100" spc="-1" strike="noStrike">
              <a:solidFill>
                <a:srgbClr val="000000"/>
              </a:solidFill>
              <a:latin typeface="Verdana"/>
            </a:endParaRPr>
          </a:p>
          <a:p>
            <a:pPr marL="370800" indent="-370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National Partnership for Women &amp; Families</a:t>
            </a:r>
            <a:endParaRPr b="0" lang="en-US" sz="2100" spc="-1" strike="noStrike">
              <a:solidFill>
                <a:srgbClr val="000000"/>
              </a:solidFill>
              <a:latin typeface="Verdana"/>
            </a:endParaRPr>
          </a:p>
          <a:p>
            <a:pPr marL="370800" indent="-370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93" name=""/>
          <p:cNvSpPr txBox="1"/>
          <p:nvPr/>
        </p:nvSpPr>
        <p:spPr>
          <a:xfrm>
            <a:off x="4642920" y="3962160"/>
            <a:ext cx="3924360" cy="2057400"/>
          </a:xfrm>
          <a:prstGeom prst="rect">
            <a:avLst/>
          </a:prstGeom>
          <a:noFill/>
          <a:ln w="0">
            <a:noFill/>
          </a:ln>
        </p:spPr>
        <p:txBody>
          <a:bodyPr lIns="90000" rIns="90000" tIns="46800" bIns="46800" anchor="t">
            <a:normAutofit/>
          </a:bodyPr>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ww.nationalpartnership.org</a:t>
            </a:r>
            <a:endParaRPr b="0" lang="en-US" sz="1600" spc="-1" strike="noStrike">
              <a:solidFill>
                <a:srgbClr val="000000"/>
              </a:solidFill>
              <a:latin typeface="Verdana"/>
            </a:endParaRPr>
          </a:p>
          <a:p>
            <a:pPr marL="469800" indent="-469800">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94" name="" descr=""/>
          <p:cNvPicPr/>
          <p:nvPr/>
        </p:nvPicPr>
        <p:blipFill>
          <a:blip r:embed="rId2"/>
          <a:stretch/>
        </p:blipFill>
        <p:spPr>
          <a:xfrm>
            <a:off x="1447920" y="2819520"/>
            <a:ext cx="2190600" cy="2133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94"/>
                                        </p:tgtEl>
                                        <p:attrNameLst>
                                          <p:attrName>ppt_x</p:attrName>
                                        </p:attrNameLst>
                                      </p:cBhvr>
                                      <p:tavLst>
                                        <p:tav tm="0">
                                          <p:val>
                                            <p:strVal val="#ppt_x"/>
                                          </p:val>
                                        </p:tav>
                                        <p:tav tm="100000">
                                          <p:val>
                                            <p:strVal val="#ppt_x"/>
                                          </p:val>
                                        </p:tav>
                                      </p:tavLst>
                                    </p:anim>
                                    <p:anim calcmode="lin" valueType="num">
                                      <p:cBhvr additive="base">
                                        <p:cTn id="7" dur="500"/>
                                        <p:tgtEl>
                                          <p:spTgt spid="94"/>
                                        </p:tgtEl>
                                        <p:attrNameLst>
                                          <p:attrName>ppt_y</p:attrName>
                                        </p:attrNameLst>
                                      </p:cBhvr>
                                      <p:tavLst>
                                        <p:tav tm="0">
                                          <p:val>
                                            <p:strVal val="#ppt_y"/>
                                          </p:val>
                                        </p:tav>
                                        <p:tav tm="100000">
                                          <p:val>
                                            <p:strVal val="1+#ppt_h/2"/>
                                          </p:val>
                                        </p:tav>
                                      </p:tavLst>
                                    </p:anim>
                                    <p:set>
                                      <p:cBhvr>
                                        <p:cTn id="8" dur="1" fill="hold">
                                          <p:stCondLst>
                                            <p:cond delay="4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acing the HIPAA Challenge</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ptions:</a:t>
            </a:r>
            <a:endParaRPr b="0" lang="en-US" sz="3000" spc="-1" strike="noStrike">
              <a:solidFill>
                <a:srgbClr val="000000"/>
              </a:solidFill>
              <a:latin typeface="Verdana"/>
            </a:endParaRPr>
          </a:p>
          <a:p>
            <a:pPr lvl="1" marL="907920" indent="-4363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over</a:t>
            </a:r>
            <a:endParaRPr b="0" lang="en-US" sz="2600" spc="-1" strike="noStrike">
              <a:solidFill>
                <a:srgbClr val="000000"/>
              </a:solidFill>
              <a:latin typeface="Verdana"/>
            </a:endParaRPr>
          </a:p>
          <a:p>
            <a:pPr lvl="1" marL="907920" indent="-4363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 nothing – current law will suffice</a:t>
            </a:r>
            <a:endParaRPr b="0" lang="en-US" sz="2600" spc="-1" strike="noStrike">
              <a:solidFill>
                <a:srgbClr val="000000"/>
              </a:solidFill>
              <a:latin typeface="Verdana"/>
            </a:endParaRPr>
          </a:p>
          <a:p>
            <a:pPr lvl="1" marL="907920" indent="-4363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larify - &amp; modify if necessary </a:t>
            </a:r>
            <a:r>
              <a:rPr b="0" lang="en-US" sz="2600" spc="-1" strike="noStrike">
                <a:solidFill>
                  <a:srgbClr val="000000"/>
                </a:solidFill>
                <a:latin typeface="Verdana"/>
              </a:rPr>
              <a:t>(federal response)</a:t>
            </a:r>
            <a:endParaRPr b="0" lang="en-US" sz="2600" spc="-1" strike="noStrike">
              <a:solidFill>
                <a:srgbClr val="000000"/>
              </a:solidFill>
              <a:latin typeface="Verdana"/>
            </a:endParaRPr>
          </a:p>
          <a:p>
            <a:pPr lvl="1" marL="907920" indent="-4363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s still have the option to adopt more stringent standards vs. single standard</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HIC CPS Workgroup</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ring 2007: recommended to AHIC that HIPAA “covered entities” include all engaged in HIE (rejection of business associate model)</a:t>
            </a:r>
            <a:endParaRPr b="0" lang="en-US" sz="3000" spc="-1" strike="noStrike">
              <a:solidFill>
                <a:srgbClr val="000000"/>
              </a:solidFill>
              <a:latin typeface="Verdana"/>
            </a:endParaRPr>
          </a:p>
          <a:p>
            <a:pPr marL="469800" indent="-469800">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steps:</a:t>
            </a:r>
            <a:endParaRPr b="0" lang="en-US" sz="3000" spc="-1" strike="noStrike">
              <a:solidFill>
                <a:srgbClr val="000000"/>
              </a:solidFill>
              <a:latin typeface="Verdana"/>
            </a:endParaRPr>
          </a:p>
          <a:p>
            <a:pPr lvl="1" marL="907920" indent="-4363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uld all HIPAA requirements apply to all HIE entities equally?</a:t>
            </a:r>
            <a:r>
              <a:rPr b="0" lang="en-US" sz="2600" spc="-1" strike="noStrike">
                <a:solidFill>
                  <a:srgbClr val="000000"/>
                </a:solidFill>
                <a:latin typeface="Verdana"/>
              </a:rPr>
              <a:t>	</a:t>
            </a:r>
            <a:endParaRPr b="0" lang="en-US" sz="2600" spc="-1" strike="noStrike">
              <a:solidFill>
                <a:srgbClr val="000000"/>
              </a:solidFill>
              <a:latin typeface="Verdana"/>
            </a:endParaRPr>
          </a:p>
          <a:p>
            <a:pPr lvl="1" marL="907920" indent="-4363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 we need </a:t>
            </a:r>
            <a:r>
              <a:rPr b="0" lang="en-US" sz="2600" spc="-1" strike="noStrike" u="sng">
                <a:solidFill>
                  <a:srgbClr val="000000"/>
                </a:solidFill>
                <a:uFillTx/>
                <a:latin typeface="Verdana"/>
              </a:rPr>
              <a:t>more</a:t>
            </a:r>
            <a:r>
              <a:rPr b="0" lang="en-US" sz="2600" spc="-1" strike="noStrike">
                <a:solidFill>
                  <a:srgbClr val="000000"/>
                </a:solidFill>
                <a:latin typeface="Verdana"/>
              </a:rPr>
              <a:t> than HIPAA in some circumstan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olve Consumer Advocates in Health IT Discussions</a:t>
            </a:r>
            <a:endParaRPr b="0" lang="en-US" sz="34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umer advocates should be part of the difficult discussions – particularly with respect to setting policies for privacy and security.  </a:t>
            </a:r>
            <a:endParaRPr b="0" lang="en-US" sz="2600" spc="-1" strike="noStrike">
              <a:solidFill>
                <a:srgbClr val="000000"/>
              </a:solidFill>
              <a:latin typeface="Verdana"/>
            </a:endParaRPr>
          </a:p>
          <a:p>
            <a:pPr marL="469800" indent="-469800">
              <a:spcBef>
                <a:spcPts val="649"/>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umer advocates can mobilize their constituencies and provide the “push” needed to get systems implemented.  </a:t>
            </a:r>
            <a:endParaRPr b="0" lang="en-US" sz="2600" spc="-1" strike="noStrike">
              <a:solidFill>
                <a:srgbClr val="000000"/>
              </a:solidFill>
              <a:latin typeface="Verdana"/>
            </a:endParaRPr>
          </a:p>
          <a:p>
            <a:pPr marL="469800" indent="-469800">
              <a:spcBef>
                <a:spcPts val="649"/>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t including consumers in the discussion could jeopardize success of the project.</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 descr="National Partnership for Women &amp; Families">
            <a:hlinkClick r:id="rId2"/>
          </p:cNvPr>
          <p:cNvPicPr/>
          <p:nvPr/>
        </p:nvPicPr>
        <p:blipFill>
          <a:blip r:embed="rId3"/>
          <a:stretch/>
        </p:blipFill>
        <p:spPr>
          <a:xfrm>
            <a:off x="2819520" y="1981080"/>
            <a:ext cx="3600360" cy="100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nonprofit, nonpartisan consumer advocacy organization in Washington, DC</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Our Priorities:</a:t>
            </a:r>
            <a:endParaRPr b="0" lang="en-US" sz="2600" spc="-1" strike="noStrike">
              <a:solidFill>
                <a:srgbClr val="000000"/>
              </a:solidFill>
              <a:latin typeface="Verdana"/>
            </a:endParaRPr>
          </a:p>
          <a:p>
            <a:pPr marL="469800" indent="-469800">
              <a:spcBef>
                <a:spcPts val="649"/>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rove health care quality – Americans for Quality Health Care project</a:t>
            </a:r>
            <a:endParaRPr b="0" lang="en-US" sz="2600" spc="-1" strike="noStrike">
              <a:solidFill>
                <a:srgbClr val="000000"/>
              </a:solidFill>
              <a:latin typeface="Verdana"/>
            </a:endParaRPr>
          </a:p>
          <a:p>
            <a:pPr marL="469800" indent="-469800">
              <a:spcBef>
                <a:spcPts val="649"/>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mote fairness in the workplace</a:t>
            </a:r>
            <a:endParaRPr b="0" lang="en-US" sz="2600" spc="-1" strike="noStrike">
              <a:solidFill>
                <a:srgbClr val="000000"/>
              </a:solidFill>
              <a:latin typeface="Verdana"/>
            </a:endParaRPr>
          </a:p>
          <a:p>
            <a:pPr marL="469800" indent="-469800">
              <a:spcBef>
                <a:spcPts val="649"/>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vance policies that help women and men meet the dual demands of work and family. </a:t>
            </a:r>
            <a:endParaRPr b="0" lang="en-US" sz="2600" spc="-1" strike="noStrike">
              <a:solidFill>
                <a:srgbClr val="000000"/>
              </a:solidFill>
              <a:latin typeface="Verdana"/>
            </a:endParaRPr>
          </a:p>
        </p:txBody>
      </p:sp>
      <p:pic>
        <p:nvPicPr>
          <p:cNvPr id="96" name="" descr="National Partnership for Women &amp; Families">
            <a:hlinkClick r:id="rId2"/>
          </p:cNvPr>
          <p:cNvPicPr/>
          <p:nvPr/>
        </p:nvPicPr>
        <p:blipFill>
          <a:blip r:embed="rId3"/>
          <a:stretch/>
        </p:blipFill>
        <p:spPr>
          <a:xfrm>
            <a:off x="2774880" y="407880"/>
            <a:ext cx="3600360" cy="100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ur interest in Health IT and HIE</a:t>
            </a:r>
            <a:endParaRPr b="0" lang="en-US" sz="34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alth IT and electronic health information exchange hold great promise for realizing dramatic improvements in quality by helping to </a:t>
            </a:r>
            <a:endParaRPr b="0" lang="en-US" sz="30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duce medical errors</a:t>
            </a:r>
            <a:endParaRPr b="0" lang="en-US" sz="26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sure care is more evidence-based</a:t>
            </a:r>
            <a:endParaRPr b="0" lang="en-US" sz="26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patients more involved in their own care</a:t>
            </a:r>
            <a:endParaRPr b="0" lang="en-US" sz="26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cilitate measurement and public reporting of provider performa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ur involvement</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chair of AHIC Confidentiality, Privacy and Security Workgroup</a:t>
            </a:r>
            <a:endParaRPr b="0" lang="en-US" sz="3000" spc="-1" strike="noStrike">
              <a:solidFill>
                <a:srgbClr val="000000"/>
              </a:solidFill>
              <a:latin typeface="Verdana"/>
            </a:endParaRPr>
          </a:p>
          <a:p>
            <a:pPr marL="469800" indent="-469800">
              <a:lnSpc>
                <a:spcPct val="90000"/>
              </a:lnSpc>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mber, AHIC Personalized Healthcare Workgroup</a:t>
            </a:r>
            <a:endParaRPr b="0" lang="en-US" sz="3000" spc="-1" strike="noStrike">
              <a:solidFill>
                <a:srgbClr val="000000"/>
              </a:solidFill>
              <a:latin typeface="Verdana"/>
            </a:endParaRPr>
          </a:p>
          <a:p>
            <a:pPr marL="469800" indent="-469800">
              <a:lnSpc>
                <a:spcPct val="90000"/>
              </a:lnSpc>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mber, HITSP</a:t>
            </a:r>
            <a:endParaRPr b="0" lang="en-US" sz="3000" spc="-1" strike="noStrike">
              <a:solidFill>
                <a:srgbClr val="000000"/>
              </a:solidFill>
              <a:latin typeface="Verdana"/>
            </a:endParaRPr>
          </a:p>
          <a:p>
            <a:pPr marL="469800" indent="-469800">
              <a:lnSpc>
                <a:spcPct val="90000"/>
              </a:lnSpc>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W:  Grant from the Markle Foundation to engage consumer advocacy organizations in state HIT/HIE efforts &amp; provide them with technical assistan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rriers to Rapid Implementation</a:t>
            </a:r>
            <a:endParaRPr b="0" lang="en-US" sz="34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850"/>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onsumer/patient concerns about privacy and security.</a:t>
            </a:r>
            <a:endParaRPr b="0" lang="en-US" sz="34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believe movement to electronic records will result in greater risk to patient privacy.</a:t>
            </a:r>
            <a:endParaRPr b="0" lang="en-US" sz="26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rvey data shows that the public has </a:t>
            </a:r>
            <a:r>
              <a:rPr b="0" lang="en-US" sz="2600" spc="-1" strike="noStrike" u="sng">
                <a:solidFill>
                  <a:srgbClr val="000000"/>
                </a:solidFill>
                <a:uFillTx/>
                <a:latin typeface="Verdana"/>
              </a:rPr>
              <a:t>significant</a:t>
            </a:r>
            <a:r>
              <a:rPr b="0" lang="en-US" sz="2600" spc="-1" strike="noStrike">
                <a:solidFill>
                  <a:srgbClr val="000000"/>
                </a:solidFill>
                <a:latin typeface="Verdana"/>
              </a:rPr>
              <a:t> privacy concerns</a:t>
            </a:r>
            <a:endParaRPr b="0" lang="en-US" sz="26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mise of e-health won’t be realized unless we ensure adequate privacy and security standards are built in from the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stablishing E-Health Networks Presents Enormous Challenges</a:t>
            </a:r>
            <a:endParaRPr b="0" lang="en-US" sz="34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coming public distrust</a:t>
            </a:r>
            <a:endParaRPr b="0" lang="en-US" sz="3000" spc="-1" strike="noStrike">
              <a:solidFill>
                <a:srgbClr val="000000"/>
              </a:solidFill>
              <a:latin typeface="Verdana"/>
            </a:endParaRPr>
          </a:p>
          <a:p>
            <a:pPr marL="469800" indent="-469800">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nding a sustainable business model and/or securing sufficient financial resources </a:t>
            </a:r>
            <a:endParaRPr b="0" lang="en-US" sz="3000" spc="-1" strike="noStrike">
              <a:solidFill>
                <a:srgbClr val="000000"/>
              </a:solidFill>
              <a:latin typeface="Verdana"/>
            </a:endParaRPr>
          </a:p>
          <a:p>
            <a:pPr marL="469800" indent="-469800">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roperability </a:t>
            </a:r>
            <a:endParaRPr b="0" lang="en-US" sz="3000" spc="-1" strike="noStrike">
              <a:solidFill>
                <a:srgbClr val="000000"/>
              </a:solidFill>
              <a:latin typeface="Verdana"/>
            </a:endParaRPr>
          </a:p>
          <a:p>
            <a:pPr marL="469800" indent="-469800">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gal/policy uncertainties – HIPAA, state law variatio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National Consumer Principles</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dividuals should have a means of direct, secure access to e-health information.</a:t>
            </a:r>
            <a:endParaRPr b="0" lang="en-US" sz="3000" spc="-1" strike="noStrike">
              <a:solidFill>
                <a:srgbClr val="000000"/>
              </a:solidFill>
              <a:latin typeface="Verdana"/>
            </a:endParaRPr>
          </a:p>
          <a:p>
            <a:pPr marL="469800" indent="-469800">
              <a:lnSpc>
                <a:spcPct val="90000"/>
              </a:lnSpc>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dividuals should know how their e-health information may be used and who has access to it.</a:t>
            </a:r>
            <a:endParaRPr b="0" lang="en-US" sz="3000" spc="-1" strike="noStrike">
              <a:solidFill>
                <a:srgbClr val="000000"/>
              </a:solidFill>
              <a:latin typeface="Verdana"/>
            </a:endParaRPr>
          </a:p>
          <a:p>
            <a:pPr marL="469800" indent="-469800">
              <a:lnSpc>
                <a:spcPct val="90000"/>
              </a:lnSpc>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dividuals should have control over whether and how their information is shar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ational Consumer Principles (cont.)</a:t>
            </a:r>
            <a:endParaRPr b="0" lang="en-US" sz="34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ystems for e-health data exchange must protect the integrity, security, privacy and confidentiality of an individual’s information.</a:t>
            </a:r>
            <a:endParaRPr b="0" lang="en-US" sz="3000" spc="-1" strike="noStrike">
              <a:solidFill>
                <a:srgbClr val="000000"/>
              </a:solidFill>
              <a:latin typeface="Verdana"/>
            </a:endParaRPr>
          </a:p>
          <a:p>
            <a:pPr marL="469800" indent="-469800">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vernance and administration of e-health networks should be transparent and publicly accountabl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o, what about HIPAA?</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usion about scope is widespread</a:t>
            </a:r>
            <a:endParaRPr b="0" lang="en-US" sz="30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o many use HIPAA as excuse for not sharing health information</a:t>
            </a:r>
            <a:endParaRPr b="0" lang="en-US" sz="26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the same time, many believe it is insufficient to protect privacy</a:t>
            </a:r>
            <a:endParaRPr b="0" lang="en-US" sz="26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a policy vacuum, fears about insufficient privacy protection take center stage – little room for public debate about risks of not moving forw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6T16:42:40Z</dcterms:created>
  <dc:creator>nalon</dc:creator>
  <dc:description/>
  <dc:language>en-US</dc:language>
  <cp:lastModifiedBy>Access Av</cp:lastModifiedBy>
  <dcterms:modified xsi:type="dcterms:W3CDTF">2007-09-27T12:46:26Z</dcterms:modified>
  <cp:revision>106</cp:revision>
  <dc:subject/>
  <dc:title>Consumer Perspective on Quality Performance Measurement</dc:title>
</cp:coreProperties>
</file>