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79607-35B3-4B07-8786-B75740EC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F2C5-ACD0-4023-B869-402658A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714FA-1B06-4039-885C-61DE1DB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2FDCC-F14D-4EF0-99AD-081A483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B3A21-1FD6-4372-AA98-EDECFAF7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6D15-D617-4170-886F-BF11749F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8A1F3-A2DD-4596-97E0-CDD0CAE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F629E-025C-4E84-99A5-257CB9F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3AFE8-4E53-41A9-9525-CB3FEE9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7A787-C867-487A-8122-0C0F26FF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6B363-4891-45D1-8E5C-95D0B948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765C4-43F3-481C-B17F-D6912FED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93348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1E9-9BE4-47F9-BD7A-D85C4499D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spcBef>
                <a:spcPts val="60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vhahealthfoundation.org/vhahf/default.asp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healthtech.org/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83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Car Driving on Railroad Tracks"/>
          <p:cNvPicPr/>
          <p:nvPr/>
        </p:nvPicPr>
        <p:blipFill>
          <a:blip r:embed="rId1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3c9"/>
                </a:solidFill>
                <a:latin typeface="Arial"/>
              </a:rPr>
              <a:t>Cross Country Road Trip: </a:t>
            </a:r>
            <a:br>
              <a:rPr sz="2800"/>
            </a:br>
            <a:r>
              <a:rPr b="1" lang="en-US" sz="2800" spc="-1" strike="noStrike">
                <a:solidFill>
                  <a:srgbClr val="3583c9"/>
                </a:solidFill>
                <a:latin typeface="Arial"/>
              </a:rPr>
              <a:t>KP’s </a:t>
            </a:r>
            <a:br>
              <a:rPr sz="2800"/>
            </a:br>
            <a:r>
              <a:rPr b="1" lang="en-US" sz="2800" spc="-1" strike="noStrike">
                <a:solidFill>
                  <a:srgbClr val="3583c9"/>
                </a:solidFill>
                <a:latin typeface="Arial"/>
              </a:rPr>
              <a:t>Adventures in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Chris McCarthy, MPH, 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ptember 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2800440"/>
            <a:ext cx="914400" cy="304560"/>
          </a:xfrm>
          <a:prstGeom prst="rect">
            <a:avLst/>
          </a:prstGeom>
          <a:solidFill>
            <a:srgbClr val="e5e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6f6f"/>
                </a:solidFill>
                <a:latin typeface="Arial"/>
              </a:rPr>
              <a:t>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novation Consult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une 2003, Kaiser Permanente put together a small, inter-departmental team to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ssess and 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DEO innovation methodolog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nuary 2006, this “borrowed” group officially becomes the consul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ti Zuber, 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 McCarthy, Specia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Heisler, Specia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4495680"/>
            <a:ext cx="110808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495680"/>
            <a:ext cx="121896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495680"/>
            <a:ext cx="121932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952880"/>
            <a:ext cx="1828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952880"/>
            <a:ext cx="1828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495680"/>
            <a:ext cx="167652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5486400"/>
            <a:ext cx="350532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Plan &amp;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715000"/>
            <a:ext cx="350532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943600"/>
            <a:ext cx="35053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172200"/>
            <a:ext cx="3505320" cy="228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5562720"/>
            <a:ext cx="3505320" cy="761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novation Consult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00880"/>
            <a:ext cx="1828800" cy="419040"/>
          </a:xfrm>
          <a:custGeom>
            <a:avLst/>
            <a:gdLst/>
            <a:ahLst/>
            <a:rect l="l" t="t" r="r" b="b"/>
            <a:pathLst>
              <a:path w="1152" h="264">
                <a:moveTo>
                  <a:pt x="0" y="24"/>
                </a:moveTo>
                <a:cubicBezTo>
                  <a:pt x="144" y="12"/>
                  <a:pt x="288" y="0"/>
                  <a:pt x="384" y="24"/>
                </a:cubicBezTo>
                <a:cubicBezTo>
                  <a:pt x="480" y="48"/>
                  <a:pt x="504" y="128"/>
                  <a:pt x="576" y="168"/>
                </a:cubicBezTo>
                <a:cubicBezTo>
                  <a:pt x="648" y="208"/>
                  <a:pt x="744" y="264"/>
                  <a:pt x="816" y="264"/>
                </a:cubicBezTo>
                <a:cubicBezTo>
                  <a:pt x="888" y="264"/>
                  <a:pt x="952" y="176"/>
                  <a:pt x="1008" y="168"/>
                </a:cubicBezTo>
                <a:cubicBezTo>
                  <a:pt x="1064" y="160"/>
                  <a:pt x="1128" y="208"/>
                  <a:pt x="1152" y="216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842080"/>
            <a:ext cx="1828800" cy="291960"/>
          </a:xfrm>
          <a:custGeom>
            <a:avLst/>
            <a:gdLst/>
            <a:ahLst/>
            <a:rect l="l" t="t" r="r" b="b"/>
            <a:pathLst>
              <a:path w="1152" h="184">
                <a:moveTo>
                  <a:pt x="0" y="16"/>
                </a:moveTo>
                <a:cubicBezTo>
                  <a:pt x="88" y="76"/>
                  <a:pt x="176" y="136"/>
                  <a:pt x="288" y="160"/>
                </a:cubicBezTo>
                <a:cubicBezTo>
                  <a:pt x="400" y="184"/>
                  <a:pt x="592" y="184"/>
                  <a:pt x="672" y="160"/>
                </a:cubicBezTo>
                <a:cubicBezTo>
                  <a:pt x="752" y="136"/>
                  <a:pt x="704" y="32"/>
                  <a:pt x="768" y="16"/>
                </a:cubicBezTo>
                <a:cubicBezTo>
                  <a:pt x="832" y="0"/>
                  <a:pt x="992" y="56"/>
                  <a:pt x="1056" y="64"/>
                </a:cubicBezTo>
                <a:cubicBezTo>
                  <a:pt x="1120" y="72"/>
                  <a:pt x="1136" y="64"/>
                  <a:pt x="1152" y="64"/>
                </a:cubicBezTo>
              </a:path>
            </a:pathLst>
          </a:custGeom>
          <a:noFill/>
          <a:ln w="38160">
            <a:solidFill>
              <a:srgbClr val="3583c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5854680"/>
            <a:ext cx="1828800" cy="469800"/>
          </a:xfrm>
          <a:custGeom>
            <a:avLst/>
            <a:gdLst/>
            <a:ahLst/>
            <a:rect l="l" t="t" r="r" b="b"/>
            <a:pathLst>
              <a:path w="1152" h="296">
                <a:moveTo>
                  <a:pt x="0" y="296"/>
                </a:moveTo>
                <a:cubicBezTo>
                  <a:pt x="148" y="284"/>
                  <a:pt x="296" y="272"/>
                  <a:pt x="384" y="248"/>
                </a:cubicBezTo>
                <a:cubicBezTo>
                  <a:pt x="472" y="224"/>
                  <a:pt x="456" y="192"/>
                  <a:pt x="528" y="152"/>
                </a:cubicBezTo>
                <a:cubicBezTo>
                  <a:pt x="600" y="112"/>
                  <a:pt x="728" y="16"/>
                  <a:pt x="816" y="8"/>
                </a:cubicBezTo>
                <a:cubicBezTo>
                  <a:pt x="904" y="0"/>
                  <a:pt x="1000" y="88"/>
                  <a:pt x="1056" y="104"/>
                </a:cubicBezTo>
                <a:cubicBezTo>
                  <a:pt x="1112" y="120"/>
                  <a:pt x="1132" y="112"/>
                  <a:pt x="1152" y="104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6400800"/>
            <a:ext cx="35053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dney R Garfield Health Care Innovation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2971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rfield Center is a simulated care delivery environment for testing new ideas and desig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ed in San Leandro, CA near Oakland air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experience from KP’s first mock up facility in Anaheim,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for all KP regions, jointly funded by National Facilities Services &amp; KP-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33920" y="1527120"/>
            <a:ext cx="5105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3321" r="0" b="0"/>
          <a:stretch/>
        </p:blipFill>
        <p:spPr>
          <a:xfrm>
            <a:off x="0" y="-17136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89720" y="3733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71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5324400"/>
          <a:ext cx="8915400" cy="1346400"/>
        </p:xfrm>
        <a:graphic>
          <a:graphicData uri="http://schemas.openxmlformats.org/drawingml/2006/table">
            <a:tbl>
              <a:tblPr/>
              <a:tblGrid>
                <a:gridCol w="2819520"/>
                <a:gridCol w="3108240"/>
                <a:gridCol w="2987640"/>
              </a:tblGrid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Main Entrance / Lobb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Meeting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Large Conference Ro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KP-IT/Biomed Technology Lab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Med/Surg &amp; Special Needs Patient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Inpatient Unit Co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Rapid Prototyping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Shipping &amp; Recei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Telecom Equipment Room (TE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Labor, Delivery, Recovery/Postpartum (LDR/LDRPP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- Operating Room (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Emergency Department (ED) Trea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Future OR Equipment Showro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- Home 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High Reliability Organization (HRO) Simu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Outpatient Set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– Conference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– Critical Care &amp; Negative Pressure Isolation Patient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– Innovation Consultancy Work Spa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709040" y="48164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3800" y="37400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3733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28120" y="29685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86720" y="29624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9840" y="26067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4844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60920" y="5493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19520" y="54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65640" y="853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24240" y="84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41400" y="853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84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94240" y="26067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41400" y="27590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0036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27200" y="35971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2920" y="3581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67240" y="38228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54640" y="3807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17920" y="47401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724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3240" y="43275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30640" y="4311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9960" y="461340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7000" y="4597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26708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0320" y="4257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6641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468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09800" y="4282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6400" y="34448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Garfield Cent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42000" y="48927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4876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7760" y="91440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1117800" y="210888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27080" y="414324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ain Ent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356000"/>
            <a:ext cx="1526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04120" y="1996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7244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novation Learning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Innovation Learning Network is to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ster 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methods and application of innovation/diffusion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gnite the transfer of id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provid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pport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ter-organizational collab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2514600"/>
            <a:ext cx="228600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VHA Health Foundation">
            <a:hlinkClick r:id="rId2"/>
          </p:cNvPr>
          <p:cNvPicPr/>
          <p:nvPr/>
        </p:nvPicPr>
        <p:blipFill>
          <a:blip r:embed="rId3"/>
          <a:srcRect l="0" t="22638" r="0" b="0"/>
          <a:stretch/>
        </p:blipFill>
        <p:spPr>
          <a:xfrm>
            <a:off x="5867280" y="5105520"/>
            <a:ext cx="1652760" cy="544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4"/>
          </p:cNvPr>
          <p:cNvPicPr/>
          <p:nvPr/>
        </p:nvPicPr>
        <p:blipFill>
          <a:blip r:embed="rId5"/>
          <a:srcRect l="39475" t="0" r="0" b="1512"/>
          <a:stretch/>
        </p:blipFill>
        <p:spPr>
          <a:xfrm>
            <a:off x="533520" y="5943600"/>
            <a:ext cx="131436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9802" t="5407" r="1960" b="6319"/>
          <a:stretch/>
        </p:blipFill>
        <p:spPr>
          <a:xfrm>
            <a:off x="2743200" y="3733920"/>
            <a:ext cx="1944720" cy="60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457200" y="3657600"/>
            <a:ext cx="1658880" cy="838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77518" b="10968"/>
          <a:stretch/>
        </p:blipFill>
        <p:spPr>
          <a:xfrm>
            <a:off x="6858000" y="4038480"/>
            <a:ext cx="1716120" cy="73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3851" t="0" r="11535" b="0"/>
          <a:stretch/>
        </p:blipFill>
        <p:spPr>
          <a:xfrm>
            <a:off x="5562720" y="3124080"/>
            <a:ext cx="2001600" cy="59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11117" r="56330" b="18784"/>
          <a:stretch/>
        </p:blipFill>
        <p:spPr>
          <a:xfrm>
            <a:off x="2895480" y="2895480"/>
            <a:ext cx="2230560" cy="393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27053" b="0"/>
          <a:stretch/>
        </p:blipFill>
        <p:spPr>
          <a:xfrm>
            <a:off x="2666880" y="5562720"/>
            <a:ext cx="2511720" cy="422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tretch/>
        </p:blipFill>
        <p:spPr>
          <a:xfrm>
            <a:off x="6019920" y="6019920"/>
            <a:ext cx="2862000" cy="293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914400" y="4800600"/>
            <a:ext cx="1577880" cy="565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4495680" y="4343400"/>
            <a:ext cx="19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One Slide Case Study:  Medication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371600"/>
            <a:ext cx="91440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2011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01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01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eld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2011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52760" y="2011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2011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2395440"/>
            <a:ext cx="2286000" cy="1719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rot="5400000">
            <a:off x="3885840" y="2057400"/>
            <a:ext cx="685800" cy="1447560"/>
          </a:xfrm>
          <a:custGeom>
            <a:avLst/>
            <a:gdLst>
              <a:gd name="textAreaLeft" fmla="*/ 0 w 685800"/>
              <a:gd name="textAreaRight" fmla="*/ 247680 w 6858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419720"/>
            <a:ext cx="2514600" cy="2133360"/>
          </a:xfrm>
          <a:prstGeom prst="borderCallout2">
            <a:avLst>
              <a:gd name="adj1" fmla="val 18750"/>
              <a:gd name="adj2" fmla="val -8333"/>
              <a:gd name="adj3" fmla="val 5356"/>
              <a:gd name="adj4" fmla="val 103407"/>
              <a:gd name="adj5" fmla="val -60712"/>
              <a:gd name="adj6" fmla="val 103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up with </a:t>
            </a: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over 400 ide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Administration and/or Family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cr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428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9224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80060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447920"/>
            <a:ext cx="9144000" cy="3045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NOVATION CONSUL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24040" y="4495680"/>
            <a:ext cx="2286000" cy="304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FIELD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743040" cy="990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791320" y="2514600"/>
            <a:ext cx="32763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. Los Ang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2819520"/>
            <a:ext cx="32763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y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124080"/>
            <a:ext cx="12952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. Sacr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105520" y="3794040"/>
            <a:ext cx="647676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33:36Z</dcterms:created>
  <dc:creator>Adrienne C Smith</dc:creator>
  <dc:description/>
  <dc:language>en-US</dc:language>
  <cp:lastModifiedBy>MCCARTCH</cp:lastModifiedBy>
  <dcterms:modified xsi:type="dcterms:W3CDTF">2007-09-14T02:37:41Z</dcterms:modified>
  <cp:revision>101</cp:revision>
  <dc:subject/>
  <dc:title>KP Innovation Case Studies</dc:title>
</cp:coreProperties>
</file>