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7C45D-9CA7-46F8-8594-A4ED3CB6D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386532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442E-8D92-433D-983F-011569F68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116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A73A-DA34-4A00-995D-0B2F5068A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0288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6312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0288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6312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3DCD-C018-4C32-85E9-8F2534C578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A2738-9B96-4C0E-9320-A11A51C4B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43000" y="16761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9C220-C92E-4B52-BA6F-B686AEC8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A9E69-2EA6-4218-BACE-2ED1813C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6C9B5-4623-4679-A0C3-6B87101E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3C5B9-321C-4DD1-AEAD-F11FF92C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614240" y="352440"/>
            <a:ext cx="707868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E1F10-4738-47CE-8BDF-4E945FBF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ABE93-AC31-4EAB-A484-64B9E0F1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16761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6081E-A5AC-4C6D-A78B-B511DDF07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116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1D59D-A4F1-4844-A16E-97ABF818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D7646-2A60-433D-A940-3C54B04A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43000" y="386532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536B4-D4BE-4EB5-97D3-04D5ECDB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7116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CE429-6606-4489-814B-9CFA54F5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0288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63120" y="167616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4300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0288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63120" y="3865320"/>
            <a:ext cx="23425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49553-54A7-495F-9D8C-15A92A47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79363-A9AD-4F4B-8779-DEC943D01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C388-120C-441B-8D78-36903C3F0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3B5F-3357-44E9-8542-4F96D487D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14240" y="352440"/>
            <a:ext cx="707868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3697-095C-47AE-86CE-8BDE8DB7D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B837-164E-4F23-9964-2E75442B5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1160" y="386532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7EB0-C1A1-4570-848E-8FB1A566A5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1160" y="1676160"/>
            <a:ext cx="3550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3865320"/>
            <a:ext cx="7275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8BAF-BA4A-4519-8A04-0CEA99515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4280" y="536400"/>
            <a:ext cx="438120" cy="474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3720" y="121608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66680" y="106668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6680" y="885960"/>
            <a:ext cx="56052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85800"/>
            <a:ext cx="31680" cy="10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1219320"/>
            <a:ext cx="822672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43000" y="16761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8FFE-1414-4F8B-8DB0-D99955210D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533520" y="6019920"/>
            <a:ext cx="39114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457200" y="2362320"/>
            <a:ext cx="8686440" cy="1052280"/>
            <a:chOff x="457200" y="2362320"/>
            <a:chExt cx="8686440" cy="1052280"/>
          </a:xfrm>
        </p:grpSpPr>
        <p:grpSp>
          <p:nvGrpSpPr>
            <p:cNvPr id="48" name=""/>
            <p:cNvGrpSpPr/>
            <p:nvPr/>
          </p:nvGrpSpPr>
          <p:grpSpPr>
            <a:xfrm>
              <a:off x="737280" y="2469960"/>
              <a:ext cx="685800" cy="474480"/>
              <a:chOff x="737280" y="2469960"/>
              <a:chExt cx="685800" cy="474480"/>
            </a:xfrm>
          </p:grpSpPr>
          <p:sp>
            <p:nvSpPr>
              <p:cNvPr id="49" name=""/>
              <p:cNvSpPr/>
              <p:nvPr/>
            </p:nvSpPr>
            <p:spPr>
              <a:xfrm>
                <a:off x="737280" y="2469960"/>
                <a:ext cx="421920" cy="47448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106640" y="2469960"/>
                <a:ext cx="3164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856440" y="2892240"/>
              <a:ext cx="711000" cy="474480"/>
              <a:chOff x="856440" y="2892240"/>
              <a:chExt cx="711000" cy="474480"/>
            </a:xfrm>
          </p:grpSpPr>
          <p:sp>
            <p:nvSpPr>
              <p:cNvPr id="52" name=""/>
              <p:cNvSpPr/>
              <p:nvPr/>
            </p:nvSpPr>
            <p:spPr>
              <a:xfrm>
                <a:off x="856440" y="2892240"/>
                <a:ext cx="406440" cy="474480"/>
              </a:xfrm>
              <a:prstGeom prst="rect">
                <a:avLst/>
              </a:prstGeom>
              <a:gradFill rotWithShape="0">
                <a:gsLst>
                  <a:gs pos="0">
                    <a:srgbClr val="ecf35b"/>
                  </a:gs>
                  <a:gs pos="100000">
                    <a:srgbClr val="ecf35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11760" y="2892240"/>
                <a:ext cx="35568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f3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457200" y="2819160"/>
              <a:ext cx="540360" cy="42192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69200" y="2362320"/>
              <a:ext cx="3024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761760" y="3183480"/>
              <a:ext cx="83818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920" y="1828800"/>
            <a:ext cx="73152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9D76-07F5-47E8-9DD1-95194984916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600200"/>
            <a:ext cx="73152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Population Health:  A Sustainability Strategy for a Disease Registry?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90360" y="350532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HRQ 2007 Annual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tember 27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anor Littman RN MS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 Improvement Partnership of Santa Cruz Cou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Project History 2004 - 2005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1536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Project History 2006 - 200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Lessons Learned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trust requires neutral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proposition before gover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g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of Care Registry built on certifying “provider relationship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legal basis for building community-wide regis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o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Rs =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int of Car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Lessons Learned: Technology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275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of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ing multiple sources of data (C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ing multiple sourc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ient matching (MP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ng internal tool for community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ositive Outco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Health back on bus -- 2006 InfoLinks Project (RWJF)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er?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Lessons Learned: Value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761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king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Reports for individual providers (turf wa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Community Database for Population Heal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ty Patient Look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Reports with Bench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Reports for Pay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of Care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-3477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 Management To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from October 2006 Business Case Survey (n=1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Population Health Moves Up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275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ta Cruz County Health Services Agency willing and accepted as neutral public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3680" indent="-463680">
              <a:spcBef>
                <a:spcPts val="14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in community with commitment to collaboration to improve health sta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5640" indent="-447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nty, HIP, Foundations $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5640" indent="-447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pitals funded Community Assessment Survey x 10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Tahoma"/>
              </a:rPr>
              <a:t>Benefits of Population Health Focus</a:t>
            </a:r>
            <a:endParaRPr b="0" lang="en-US" sz="32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275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Rs are friends not f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3680" indent="-4636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mographics (language, residenc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5640" indent="-447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Ineq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3680" indent="-4636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of care (smoking, weight, B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25640" indent="-447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pre-morbid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25640" indent="-447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 pre-diabe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3680" indent="-4636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Public Health and Clinical C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275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ning Community Disease Regis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(Population health 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ting public health &amp; clinical c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Diligence on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ine Value Propos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lot Project – demonstrate &amp; eval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EMR adoption before community-wide implementation (60%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EMRs in community health centers and small private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hicken or Egg?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re a value proposition for a disease registry as a first step to health information exchang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 the value proposition for health information exchange that includes a disease regist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391520" y="4038480"/>
            <a:ext cx="14349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048120" y="1371600"/>
          <a:ext cx="3784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3784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354680" y="609480"/>
            <a:ext cx="511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www.chroniccarenetwork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Outline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anta Cruz 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novation &amp; Collabo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ion: Community-wide Diabetes Regis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His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pulation Health is Value Pro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nic Disease Registry and/or Health Information Exchang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2581560" cy="3504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76520" y="3200400"/>
            <a:ext cx="423720" cy="276120"/>
          </a:xfrm>
          <a:prstGeom prst="star5">
            <a:avLst/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1752480"/>
            <a:ext cx="419076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California C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5-miles S. San Franc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65,000 resid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 – Silicon Valley B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th – Agricultur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o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ess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nov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abo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Santa Cruz County, 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2581560" cy="3504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6520" y="3200400"/>
            <a:ext cx="423720" cy="276120"/>
          </a:xfrm>
          <a:prstGeom prst="star5">
            <a:avLst/>
          </a:prstGeom>
          <a:solidFill>
            <a:srgbClr val="9fca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Fragmented </a:t>
            </a:r>
            <a:r>
              <a:rPr b="0" lang="en-US" sz="2800" spc="-1" strike="noStrike" u="sng">
                <a:solidFill>
                  <a:srgbClr val="515f7b"/>
                </a:solidFill>
                <a:uFillTx/>
                <a:latin typeface="Tahoma"/>
              </a:rPr>
              <a:t>Private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 Health Care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676520"/>
            <a:ext cx="5181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130680">
              <a:lnSpc>
                <a:spcPct val="80000"/>
              </a:lnSpc>
              <a:spcBef>
                <a:spcPts val="601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private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W/Dominican – 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tter Maternity &amp; Surg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sonville – for pro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130680">
              <a:lnSpc>
                <a:spcPct val="80000"/>
              </a:lnSpc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peting medical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Medical Group – I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tter/Santa Cruz Medical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22248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minican Medical Foundation (July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88620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1676520"/>
            <a:ext cx="731520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515f7b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5 IPA partnered with Axolotl Clinical 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15f7b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web-bas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ansion private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15f7b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4 County clinics including mental heal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515f7b"/>
              </a:buClr>
              <a:buSzPct val="75000"/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5 Community Health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6094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Innovation: Clinical 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105520" y="3429000"/>
            <a:ext cx="3429000" cy="2914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67080" y="3429000"/>
            <a:ext cx="336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3733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Health Information Exchange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Innovation:  EMR Adoption (40%)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practices (20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ican Hospital Cerner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ta Cruz Medical Foundation Epic (200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nty Clinics Epic (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1afb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hrew Public Health off IT bu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2503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ollaboration: HIP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8288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lth Improvement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ed in 2003 (CAP gr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porat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-private collaboration of health care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ground issues in competitiv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mplis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lthy Kids (98% children Santa Cruz Coun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Connect (Frequent ED Users 54%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15f7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bet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OM Invitation (Jan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Vision – January 2004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1506600" cy="2133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14600" y="1627920"/>
            <a:ext cx="624852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current IPA diabetes point of care registry to ALL 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point of care registry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ep EM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community-wid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tandard of care consistent across the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 diabetes population in the aggre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7560" y="1447920"/>
            <a:ext cx="81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 on strong history of collaboration and innov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0840" y="426708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 Wells Shoem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61722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15f7b"/>
                </a:solidFill>
                <a:latin typeface="Tahoma"/>
              </a:rPr>
              <a:t>Name of handshake collabora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5000" y="5486400"/>
            <a:ext cx="88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HRQ Grant: Santa Cruz County, CA Diabetes Mellitus Registry (DMR), 2004-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14240" y="352440"/>
            <a:ext cx="707868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Reality - September 2007</a:t>
            </a:r>
            <a:endParaRPr b="0" lang="en-US" sz="3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22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7:45:28Z</dcterms:created>
  <dc:creator>Suzanne Mann</dc:creator>
  <dc:description/>
  <dc:language>en-US</dc:language>
  <cp:lastModifiedBy>User</cp:lastModifiedBy>
  <dcterms:modified xsi:type="dcterms:W3CDTF">2007-09-27T18:58:40Z</dcterms:modified>
  <cp:revision>202</cp:revision>
  <dc:subject/>
  <dc:title>Introduce ourselves, Cabrillo and our expertise</dc:title>
</cp:coreProperties>
</file>