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E200-AB09-49A2-AFD2-DB2D9DEC2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275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3865320"/>
            <a:ext cx="7275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A378-B580-410F-9433-2211B942D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386532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1160" y="386532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90BE-5786-4EA2-91A5-67A2B5E21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02880" y="167616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3120" y="167616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386532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02880" y="386532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63120" y="386532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2EC9-8286-458D-81A7-13BE7C179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FA3DF-46E0-4347-AEA6-568A443D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43000" y="1676160"/>
            <a:ext cx="7275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12658-A2C1-408E-87B3-0B1D56DD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275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E4422-3B99-47F3-B1D6-3EAB9BEF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48929-E582-4419-A25F-E4A3E680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E1272-8010-4D52-8C76-E3A72E3D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614240" y="352440"/>
            <a:ext cx="707868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B820A-C44F-4622-A051-FA46C4EE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86532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082F7-F0AD-48B6-AA6E-0E75423E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676160"/>
            <a:ext cx="7275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7C6B-8A77-464B-B0DE-C16D60FD4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1160" y="386532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C33D5-36F1-4977-871D-BDD225BE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3865320"/>
            <a:ext cx="7275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77022-04C2-42CD-A7EB-F4DE74A1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275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43000" y="3865320"/>
            <a:ext cx="7275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7EA78-2304-4D95-A521-36F30049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43000" y="386532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71160" y="386532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1B61D-25E7-49BF-B108-FE36F311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02880" y="167616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63120" y="167616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43000" y="386532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02880" y="386532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63120" y="386532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BECC8-5CED-487C-BE4D-1183B4C6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275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D3E3-0AAD-4B9F-9B1F-77937427E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CFDA-687C-4700-B425-09606B727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90D1-5594-49BD-84A7-96781A370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614240" y="352440"/>
            <a:ext cx="707868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8BFB-3673-43C9-AD40-A4B8B320E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386532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9F45-1DEE-486D-9E1C-797BC77E4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1160" y="386532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BD38-34CE-4059-8B7F-D8444F6F2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3865320"/>
            <a:ext cx="7275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0DD4-134F-485B-A6E0-38EDCE4D7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4280" y="536400"/>
            <a:ext cx="438120" cy="474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3720" y="121608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66680" y="10666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6680" y="885960"/>
            <a:ext cx="56052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68580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1219320"/>
            <a:ext cx="82267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43000" y="1676160"/>
            <a:ext cx="7275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B42E-07C9-4E51-9BBF-562CA732B9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533520" y="6019920"/>
            <a:ext cx="39114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2320"/>
            <a:ext cx="8686440" cy="1052280"/>
            <a:chOff x="457200" y="2362320"/>
            <a:chExt cx="8686440" cy="1052280"/>
          </a:xfrm>
        </p:grpSpPr>
        <p:grpSp>
          <p:nvGrpSpPr>
            <p:cNvPr id="48" name=""/>
            <p:cNvGrpSpPr/>
            <p:nvPr/>
          </p:nvGrpSpPr>
          <p:grpSpPr>
            <a:xfrm>
              <a:off x="737280" y="2469960"/>
              <a:ext cx="685800" cy="474480"/>
              <a:chOff x="737280" y="2469960"/>
              <a:chExt cx="685800" cy="474480"/>
            </a:xfrm>
          </p:grpSpPr>
          <p:sp>
            <p:nvSpPr>
              <p:cNvPr id="49" name=""/>
              <p:cNvSpPr/>
              <p:nvPr/>
            </p:nvSpPr>
            <p:spPr>
              <a:xfrm>
                <a:off x="737280" y="2469960"/>
                <a:ext cx="421920" cy="47448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106640" y="2469960"/>
                <a:ext cx="3164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856440" y="2892240"/>
              <a:ext cx="711000" cy="474480"/>
              <a:chOff x="856440" y="2892240"/>
              <a:chExt cx="711000" cy="474480"/>
            </a:xfrm>
          </p:grpSpPr>
          <p:sp>
            <p:nvSpPr>
              <p:cNvPr id="52" name=""/>
              <p:cNvSpPr/>
              <p:nvPr/>
            </p:nvSpPr>
            <p:spPr>
              <a:xfrm>
                <a:off x="856440" y="2892240"/>
                <a:ext cx="406440" cy="474480"/>
              </a:xfrm>
              <a:prstGeom prst="rect">
                <a:avLst/>
              </a:prstGeom>
              <a:gradFill rotWithShape="0">
                <a:gsLst>
                  <a:gs pos="0">
                    <a:srgbClr val="ecf35b"/>
                  </a:gs>
                  <a:gs pos="100000">
                    <a:srgbClr val="ecf3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11760" y="2892240"/>
                <a:ext cx="35568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f3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457200" y="2819160"/>
              <a:ext cx="540360" cy="4219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69200" y="2362320"/>
              <a:ext cx="3024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761760" y="3183480"/>
              <a:ext cx="83818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3152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6A98-C6F1-4CF8-9DB9-95794AE6EAE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3152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Population Health:  A Sustainability Strategy for a Disease Registry?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360" y="350532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HRQ 2007 Annual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tember 27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anor Littman RN MS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 Improvement Partnership of Santa Cruz Coun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Project History 2004 - 2005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1536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Project History 2006 - 200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9246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Lessons Learned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trust requires neutral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proposition before gover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g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of Care Registry built on certifying “provider relationship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legal basis for building community-wide regis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o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Rs =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oint of C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Lessons Learned: Technology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275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of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ing multiple sources of data (C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ing multiple sourc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 matching (MP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ng internal tool for community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ositive Outco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Health back on bus -- 2006 InfoLinks Project (RWJF)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iver?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Lessons Learned: Value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king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 Reports for individual providers (turf wa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</a:rPr>
              <a:t>Community Database for Population Heal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ty Patient Look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Reports with Benchma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Reports for Pay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of Care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 Management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from October 2006 Business Case Survey (n=1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Population Health Moves Up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275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ta Cruz County Health Services Agency willing and accepted as neutral public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3680" indent="-463680">
              <a:spcBef>
                <a:spcPts val="14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in community with commitment to collaboration to improve health stat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5640" indent="-447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y, HIP, Foundations $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5640" indent="-447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pitals funded Community Assessment Survey x 10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Tahoma"/>
              </a:rPr>
              <a:t>Benefits of Population Health Focus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275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Rs are friends not f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3680" indent="-463680"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graphics (language, residenc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5640" indent="-447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Ineq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3680" indent="-463680"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of care (smoking, weight, B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5640" indent="-447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pre-morbid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5640" indent="-447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 pre-diabe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3680" indent="-463680"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Public Health and Clinical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275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ning Community Disease Regi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(Population health 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ing public health &amp; clinical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Diligence on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ine Value Propos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lot Project – demonstrate &amp; eval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EMR adoption before community-wide implementation (60%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EMRs in community health centers and small private 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Chicken or Egg?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re a value proposition for a disease registry as a first step to health information exchang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value proposition for health information exchange that includes a disease regist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391520" y="4038480"/>
            <a:ext cx="14349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048120" y="1371600"/>
          <a:ext cx="3784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71600"/>
                    <a:ext cx="3784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354680" y="609480"/>
            <a:ext cx="51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www.chroniccarenetwork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anta Cruz S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novation &amp; Collabo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ion: Community-wide Diabetes Regis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pulation Health is Value Pro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nic Disease Registry and/or Health Information Exchang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2581560" cy="3504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76520" y="3200400"/>
            <a:ext cx="423720" cy="276120"/>
          </a:xfrm>
          <a:prstGeom prst="star5">
            <a:avLst/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1752480"/>
            <a:ext cx="41907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California 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5-miles S. San Franc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65,000 resi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 – Silicon Valley B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th – Agricult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o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ess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no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Santa Cruz County, 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2581560" cy="3504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6520" y="3200400"/>
            <a:ext cx="423720" cy="276120"/>
          </a:xfrm>
          <a:prstGeom prst="star5">
            <a:avLst/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Fragmented </a:t>
            </a:r>
            <a:r>
              <a:rPr b="0" lang="en-US" sz="2800" spc="-1" strike="noStrike" u="sng">
                <a:solidFill>
                  <a:srgbClr val="515f7b"/>
                </a:solidFill>
                <a:uFillTx/>
                <a:latin typeface="Tahoma"/>
              </a:rPr>
              <a:t>Private</a:t>
            </a: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 Health Care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676520"/>
            <a:ext cx="5181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13068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private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224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W/Dominican – 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224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tter Maternity &amp;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224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sonville – for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224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22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130680">
              <a:lnSpc>
                <a:spcPct val="80000"/>
              </a:lnSpc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peting medica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224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ians Medical Group – 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224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tter/Santa Cruz Medical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224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inican Medical Foundation (July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88620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1676520"/>
            <a:ext cx="7315200" cy="22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515f7b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5 IPA partnered with Axolotl Clinical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515f7b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web-bas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ansion private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515f7b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4 County clinics including mental heal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515f7b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5 Community Health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Innovation: Clinical Mess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105520" y="3429000"/>
            <a:ext cx="3429000" cy="2914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67080" y="3429000"/>
            <a:ext cx="336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733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Health Information Exchang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Innovation:  EMR Adoption (40%)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practices (20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ican Hospital Cerner (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ta Cruz Medical Foundation Epic (200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ty Clinics Epic (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hrew Public Health off IT bu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2503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Collaboration: HIP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8288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 Improvement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15f7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nded in 2003 (CAP gr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15f7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porat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15f7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-private collaboration of health care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15f7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ground issues in competitiv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mpl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15f7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y Kids (98% children Santa Cruz Coun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15f7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Connect (Frequent ED Users 54%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15f7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bet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OM Invitation (Jan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Vision – January 2004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1506600" cy="2133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14600" y="1627920"/>
            <a:ext cx="624852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current IPA diabetes point of care registry to ALL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point of care registr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ep E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community-wide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tandard of care consistent across the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k diabetes population in the aggre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7560" y="1447920"/>
            <a:ext cx="81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on strong history of collaboration and innov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0840" y="42670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 Wells Shoem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61722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15f7b"/>
                </a:solidFill>
                <a:latin typeface="Tahoma"/>
              </a:rPr>
              <a:t>Name of handshake collabor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5000" y="5486400"/>
            <a:ext cx="88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HRQ Grant: Santa Cruz County, CA Diabetes Mellitus Registry (DMR), 2004-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Reality - September 200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22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7:45:28Z</dcterms:created>
  <dc:creator>Suzanne Mann</dc:creator>
  <dc:description/>
  <dc:language>en-US</dc:language>
  <cp:lastModifiedBy>User</cp:lastModifiedBy>
  <dcterms:modified xsi:type="dcterms:W3CDTF">2007-09-27T18:58:40Z</dcterms:modified>
  <cp:revision>202</cp:revision>
  <dc:subject/>
  <dc:title>Introduce ourselves, Cabrillo and our expertise</dc:title>
</cp:coreProperties>
</file>