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62160" y="-36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40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7480" cy="122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00612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62160" y="900612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FEFAC6-2AE4-4D99-9CC5-30F13FCD7983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962160" y="900612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CB7CAC-83D1-4F51-80F0-330E76ADFEC5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900612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-36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160" y="-36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962160" y="900612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D09F77-A65A-4572-88F4-F881D8824170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00612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-36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62160" y="-36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58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 The extent to which physicians use medication history at baseline varied by software product us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148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 The extent to which physicians use medication history at baseline varied by software product used.  Vendor C 61% ALWAYS viewed med history, vs. only 15% of Vendor D. This is likely a function of ease of access – we will be trying to link characteristics of the software to these data to understand how technology can be integrated to help docs us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dor E had only one respondent.  So – be le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3600" y="3352680"/>
            <a:ext cx="2730600" cy="177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20319" t="0" r="12992" b="0"/>
          <a:stretch/>
        </p:blipFill>
        <p:spPr>
          <a:xfrm>
            <a:off x="4572000" y="285840"/>
            <a:ext cx="4133880" cy="3082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99960"/>
            <a:ext cx="36576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aximizing the Effectiveness of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-Prescribing Between Physicians and Community Pharmacies: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mplementation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28600"/>
            <a:ext cx="4064040" cy="0"/>
          </a:xfrm>
          <a:prstGeom prst="line">
            <a:avLst/>
          </a:prstGeom>
          <a:ln w="38160">
            <a:solidFill>
              <a:srgbClr val="fdbf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600200"/>
            <a:ext cx="3962520" cy="0"/>
          </a:xfrm>
          <a:prstGeom prst="line">
            <a:avLst/>
          </a:prstGeom>
          <a:ln w="38160">
            <a:solidFill>
              <a:srgbClr val="fdbf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5105520"/>
            <a:ext cx="2133720" cy="120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572000" y="2857680"/>
            <a:ext cx="3352680" cy="49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7960" y="5772240"/>
            <a:ext cx="51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HRQ 2007 Confer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ptember 27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276720" y="3352680"/>
            <a:ext cx="268128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3070080" cy="17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cipal Investigato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Kate Lapane, P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Manag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Ken Whittemore, M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-Investigator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atherine Dubé, Ed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ike Rupp, P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erri Jackson, P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33520" y="1389240"/>
          <a:ext cx="760392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89240"/>
                    <a:ext cx="76039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efulness of patient’s medication history provided through your e-prescribing software in reconciling the active medication list?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d history – missed opportunities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ay not be displayed optim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mostly if there is a problem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ll back down to learn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harness the power of med history and train clinicians to use data prospectively to prevent medication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t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ceptions regarding frequency of discussion with clinici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2590920"/>
          <a:ext cx="464832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46483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371600" y="2057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057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ccuracy of Medication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95680" y="2614680"/>
          <a:ext cx="4648320" cy="31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614680"/>
                    <a:ext cx="46483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ERT FATIGUE……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2438280"/>
          <a:ext cx="457200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457200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 rot="16200000">
            <a:off x="-1240920" y="3450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ian Software 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343400" y="2438280"/>
          <a:ext cx="4572000" cy="30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438280"/>
                    <a:ext cx="457200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143000" y="19810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OSE CHEC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4000" y="198108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RUG-DRUG INTERA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armacy perspectiv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57680" y="2319480"/>
            <a:ext cx="4297320" cy="430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85800" y="611280"/>
          <a:ext cx="7772400" cy="54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1280"/>
                    <a:ext cx="777240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743200" y="52578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armacy chain organiz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Respondents from 276 stores with minimum e-Rx activity (5 per day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6629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UPP, JACKSO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armacy perspectiv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69960" y="1981080"/>
            <a:ext cx="600228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560" y="6308640"/>
            <a:ext cx="23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PP M, JACKSON 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952880"/>
            <a:ext cx="6019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armacist percep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15400" cy="487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3560" y="6308640"/>
            <a:ext cx="23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PP M, JACKSON 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800600"/>
            <a:ext cx="708660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riation in how e-RX processe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hains drop e-Rx into the store fill 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rint e-RX and then process (phasing out, short term transition iss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uto populate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s of e-RX available on som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hains treat e-Rx with lower response urgency th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s waiting in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ians on the ph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xes on the pr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chains grant e-RX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ighe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l 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dication history for pharmacists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not available to pharmac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hain w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tor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haring across pharma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905120"/>
            <a:ext cx="19810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133720" y="1905120"/>
            <a:ext cx="182880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124080"/>
            <a:ext cx="2971800" cy="19814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124080"/>
            <a:ext cx="2971800" cy="19051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276720"/>
            <a:ext cx="2133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interoperability of the standards; certification processes and pilot te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20040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implementation of the standards from multiple perspectives using mixed-method approa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541680" y="877680"/>
            <a:ext cx="1447560" cy="8531280"/>
          </a:xfrm>
          <a:custGeom>
            <a:avLst/>
            <a:gdLst>
              <a:gd name="textAreaLeft" fmla="*/ 0 w 1447560"/>
              <a:gd name="textAreaRight" fmla="*/ 522720 w 1447560"/>
              <a:gd name="textAreaTop" fmla="*/ 222480 h 8531280"/>
              <a:gd name="textAreaBottom" fmla="*/ 8308800 h 853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791320"/>
            <a:ext cx="9144000" cy="685800"/>
          </a:xfrm>
          <a:prstGeom prst="rect">
            <a:avLst/>
          </a:prstGeom>
          <a:solidFill>
            <a:srgbClr val="88db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86728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8640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EADTH: geography, e-prescribing technologies, practice settings, persp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6 states, 6 vendors, ~275 docs in ~88 practices , 276 retail pharmacy stores, ~1100 pati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523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 OF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2514600"/>
            <a:ext cx="4876920" cy="2819520"/>
          </a:xfrm>
          <a:prstGeom prst="ellipse">
            <a:avLst/>
          </a:prstGeom>
          <a:noFill/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tient Persp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271680" cy="412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es E-Rx offer potential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368600" cy="4003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riatric patient perspective on e-Rx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2438280"/>
          <a:ext cx="419112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41911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181480" y="2438280"/>
            <a:ext cx="3962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otes of caution Q&amp;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hen do you expect your Rx to be read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1911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Paper RX helps me remember to pick up my RX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32767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8% IMMEDIATEL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7% - 74% agree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riatric patient perspectiv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match in per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ians think that discussions are occurring more frequently than patients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 history and formulary/benefi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to increase the frequency of medication 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in quality of discussions un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opportunities for improve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ing the patient in th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han optimal use of functi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build it to make them c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should c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ag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rmacists – med history at point of dispens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ians – using med history in pract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– tools for th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bliograph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Quilliam, Dore. Roadblock on the Health IT Superhighway: E-prescribing and the Controlled Substances Act. J Opioid Management 2007; 3(4):xxx-xx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Dube C, Schneider K, Quilliam BJ. Patient Perceptions Regarding E-prescriptions: Is the Geriatric Patient Ready? J Am Geriatr Soc. 2007 Aug;55(8):1254-9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be C, Lapane KL, Rosen R. The business case for e-prescribing (in prep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ldman R, Dube C, Lapane KL. The status of electronic processing of refills (in prep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Waring ME, Schneider KL, Quilliam BJ, Dube C. A mixed-method Study Of The Value Of Drug Alerts At Point Of E-Prescribing In Primary Care  (in revision, JGI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be C, Lapane KL. Medication history at the point of prescribing: changing clinical practice (in prep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Dube C, Schneider K, Quilliam BJ. (Mis)Perceptions of Patients and Providers Regarding Medication Issues, In revision, Am J Managed C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Waring ME, Dube C, Schneider KL, Whittemore K. E-prescribing as an agent of patient safety: A mixed-method study. (under review AHRQ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pp M, Jackson T. Pharmacy personnel attitudes towards e-prescribing. (in prep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ckson T, Rupp M. Medication therapy interventions on e-prescriptions. (in preparation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Waring ME. Medicare Part D implementation: Lessons learned (in prep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erspecti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80120" y="2362320"/>
            <a:ext cx="296388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273024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048120" y="2362320"/>
            <a:ext cx="332100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valuation Strategi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0857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xed-metho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metho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analyses (on-site observation) – physician practice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6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rs (physicians and other prescribers, pharmacists and pharmacy tech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6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umentation of interventions (pharma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nician persp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97160" y="1676520"/>
            <a:ext cx="462600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ust because a practice has e-Rx capabilities….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clinicians within the practice e-r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understanding of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clinicians use e-rx with a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with all pre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ions (scheduled dru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functionalities of e-R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equency of reviewing patient PBM med histo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19320" y="1752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rot="16200000">
            <a:off x="174600" y="3755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ian Software 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-clinician use of review of medication histo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2133720"/>
          <a:ext cx="4114800" cy="27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411480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838080" y="504180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sers of two vendors reported significant use of functionality among non-clinicia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62520" y="2133720"/>
          <a:ext cx="5105160" cy="27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33720"/>
                    <a:ext cx="51051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09480" y="16765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view patient medication histor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16765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requency of use of functionalit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504180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f workflow structured to permit it, non-clinicians use functionality frequentl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59760" y="3336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902400" y="3336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tion in frequency of updating medication list with pati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1879560"/>
          <a:ext cx="666756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79560"/>
                    <a:ext cx="666756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rot="16200000">
            <a:off x="174960" y="3831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ian Software 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7:54:55Z</dcterms:created>
  <dc:creator>Suzanne Vogel</dc:creator>
  <dc:description/>
  <dc:language>en-US</dc:language>
  <cp:lastModifiedBy>User</cp:lastModifiedBy>
  <cp:lastPrinted>2001-08-17T18:11:52Z</cp:lastPrinted>
  <dcterms:modified xsi:type="dcterms:W3CDTF">2007-09-27T21:06:04Z</dcterms:modified>
  <cp:revision>450</cp:revision>
  <dc:subject/>
  <dc:title>Pain Management among Nursing Home Residents with Arthritis  </dc:title>
</cp:coreProperties>
</file>