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1.wmf" ContentType="image/x-wmf"/>
  <Override PartName="/ppt/media/image10.wmf" ContentType="image/x-wmf"/>
  <Override PartName="/ppt/media/image4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9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29040" cy="275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962160" y="-360"/>
            <a:ext cx="3028680" cy="275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76120" y="696960"/>
            <a:ext cx="46400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31680" y="4408200"/>
            <a:ext cx="5127480" cy="122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006120"/>
            <a:ext cx="3029040" cy="275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962160" y="9006120"/>
            <a:ext cx="3028680" cy="275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009A6FF-FD63-4260-BE87-DD0051EBA792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962160" y="9006120"/>
            <a:ext cx="3028680" cy="275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A7878E2-C3A5-4D60-8CC0-96536DAF499C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9006120"/>
            <a:ext cx="3029040" cy="275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-360"/>
            <a:ext cx="3029040" cy="275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160" y="-360"/>
            <a:ext cx="3028680" cy="275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962160" y="9006120"/>
            <a:ext cx="3028680" cy="275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4AAA8FB-311B-4881-8E58-A37BC4D88B45}" type="slidenum">
              <a:rPr b="1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9006120"/>
            <a:ext cx="3029040" cy="275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-360"/>
            <a:ext cx="3029040" cy="275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962160" y="-360"/>
            <a:ext cx="3028680" cy="275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58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  The extent to which physicians use medication history at baseline varied by software product use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148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  The extent to which physicians use medication history at baseline varied by software product used.  Vendor C 61% ALWAYS viewed med history, vs. only 15% of Vendor D. This is likely a function of ease of access – we will be trying to link characteristics of the software to these data to understand how technology can be integrated to help docs us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dor E had only one respondent.  So – be le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943600" y="3352680"/>
            <a:ext cx="2730600" cy="1771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20319" t="0" r="12992" b="0"/>
          <a:stretch/>
        </p:blipFill>
        <p:spPr>
          <a:xfrm>
            <a:off x="4572000" y="285840"/>
            <a:ext cx="4133880" cy="3082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99960"/>
            <a:ext cx="36576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Maximizing the Effectiveness of 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-Prescribing Between Physicians and Community Pharmacies: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mplementation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960" y="228600"/>
            <a:ext cx="4064040" cy="0"/>
          </a:xfrm>
          <a:prstGeom prst="line">
            <a:avLst/>
          </a:prstGeom>
          <a:ln w="38160">
            <a:solidFill>
              <a:srgbClr val="fdbf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7960" y="1600200"/>
            <a:ext cx="3962520" cy="0"/>
          </a:xfrm>
          <a:prstGeom prst="line">
            <a:avLst/>
          </a:prstGeom>
          <a:ln w="38160">
            <a:solidFill>
              <a:srgbClr val="fdbf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943600" y="5105520"/>
            <a:ext cx="2133720" cy="1206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572000" y="2857680"/>
            <a:ext cx="3352680" cy="492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7960" y="5772240"/>
            <a:ext cx="51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HRQ 2007 Confere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ptember 27,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276720" y="3352680"/>
            <a:ext cx="2681280" cy="2057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3070080" cy="17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ncipal Investigator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Kate Lapane, Ph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ject Manager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Ken Whittemore, MB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-Investigator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Catherine Dubé, Ed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Mike Rupp, Ph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Terri Jackson, Ph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533520" y="1389240"/>
          <a:ext cx="7603920" cy="54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89240"/>
                    <a:ext cx="7603920" cy="54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sefulness of patient’s medication history provided through your e-prescribing software in reconciling the active medication list?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ed history – missed opportunities?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ay not be displayed optim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mostly if there is a problem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ll back down to learn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to harness the power of med history and train clinicians to use data prospectively to prevent medication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t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erceptions regarding frequency of discussion with clinici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2590920"/>
          <a:ext cx="4648320" cy="31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90920"/>
                    <a:ext cx="464832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371600" y="20574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Adh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20574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Accuracy of Medication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495680" y="2614680"/>
          <a:ext cx="4648320" cy="31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614680"/>
                    <a:ext cx="464832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ERT FATIGUE……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2438280"/>
          <a:ext cx="4572000" cy="30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457200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 rot="16200000">
            <a:off x="-1240920" y="345060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hysician Software Ven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343400" y="2438280"/>
          <a:ext cx="4572000" cy="304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2438280"/>
                    <a:ext cx="457200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1143000" y="19810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DOSE CHEC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4000" y="198108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RUG-DRUG INTERA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harmacy perspectiv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57680" y="2319480"/>
            <a:ext cx="4297320" cy="43099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85800" y="611280"/>
          <a:ext cx="7772400" cy="54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11280"/>
                    <a:ext cx="7772400" cy="54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2743200" y="52578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armacy chain organiz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62164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Respondents from 276 stores with minimum e-Rx activity (5 per day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6629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UPP, JACKSON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harmacy perspectiv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69960" y="1981080"/>
            <a:ext cx="6002280" cy="4114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73560" y="6308640"/>
            <a:ext cx="236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UPP M, JACKSON 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952880"/>
            <a:ext cx="6019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harmacist perception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115400" cy="4878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73560" y="6308640"/>
            <a:ext cx="236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UPP M, JACKSON 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800600"/>
            <a:ext cx="7086600" cy="144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riation in how e-RX processe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chains drop e-Rx into the store fill que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print e-RX and then process (phasing out, short term transition iss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uto populate fie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es of e-RX available on some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chains treat e-Rx with lower response urgency tha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ers waiting in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ians on the ph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xes on the pri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chains grant e-RX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ighes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l prio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edication history for pharmacists?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ly not available to pharmac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chain wi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store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sharing across pharma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905120"/>
            <a:ext cx="19810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133720" y="1905120"/>
            <a:ext cx="182880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124080"/>
            <a:ext cx="2971800" cy="198144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124080"/>
            <a:ext cx="2971800" cy="19051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3276720"/>
            <a:ext cx="2133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st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interoperability of the standards; certification processes and pilot tes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320040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f the implementation of the standards from multiple perspectives using mixed-method approa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3541680" y="877680"/>
            <a:ext cx="1447560" cy="8531280"/>
          </a:xfrm>
          <a:custGeom>
            <a:avLst/>
            <a:gdLst>
              <a:gd name="textAreaLeft" fmla="*/ 0 w 1447560"/>
              <a:gd name="textAreaRight" fmla="*/ 522720 w 1447560"/>
              <a:gd name="textAreaTop" fmla="*/ 222480 h 8531280"/>
              <a:gd name="textAreaBottom" fmla="*/ 8308800 h 853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791320"/>
            <a:ext cx="9144000" cy="685800"/>
          </a:xfrm>
          <a:prstGeom prst="rect">
            <a:avLst/>
          </a:prstGeom>
          <a:solidFill>
            <a:srgbClr val="88dbe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5867280"/>
            <a:ext cx="647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48640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READTH: geography, e-prescribing technologies, practice settings, perspect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6 states, 6 vendors, ~275 docs in ~88 practices , 276 retail pharmacy stores, ~1100 pati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1523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S OF THE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2514600"/>
            <a:ext cx="4876920" cy="2819520"/>
          </a:xfrm>
          <a:prstGeom prst="ellipse">
            <a:avLst/>
          </a:prstGeom>
          <a:noFill/>
          <a:ln w="763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tient Perspectiv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271680" cy="4129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oes E-Rx offer potential?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368600" cy="4003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riatric patient perspective on e-Rx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2438280"/>
          <a:ext cx="4191120" cy="33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38280"/>
                    <a:ext cx="419112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181480" y="2438280"/>
            <a:ext cx="3962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Notes of caution Q&amp;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hen do you expect your Rx to be ready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419112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Paper RX helps me remember to pick up my RX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327672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8% IMMEDIATELY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48006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7% - 74% agree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riatric patient perspectiv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match in perce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cians think that discussions are occurring more frequently than patients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 history and formulary/benefi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ential to increase the frequency of medication discu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in quality of discussions unkn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sed opportunities for improvem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aging the patient in th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than optimal use of function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we build it to make them co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eneration iss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should co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gag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rmacists – med history at point of dispens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ians – using med history in pract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s – tools for th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ibliograph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pane KL, Quilliam, Dore. Roadblock on the Health IT Superhighway: E-prescribing and the Controlled Substances Act. J Opioid Management 2007; 3(4):xxx-xxx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pane KL, Dube C, Schneider K, Quilliam BJ. Patient Perceptions Regarding E-prescriptions: Is the Geriatric Patient Ready? J Am Geriatr Soc. 2007 Aug;55(8):1254-9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be C, Lapane KL, Rosen R. The business case for e-prescribing (in prep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oldman R, Dube C, Lapane KL. The status of electronic processing of refills (in prep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pane KL, Waring ME, Schneider KL, Quilliam BJ, Dube C. A mixed-method Study Of The Value Of Drug Alerts At Point Of E-Prescribing In Primary Care  (in revision, JGI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be C, Lapane KL. Medication history at the point of prescribing: changing clinical practice (in prep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pane KL, Dube C, Schneider K, Quilliam BJ. (Mis)Perceptions of Patients and Providers Regarding Medication Issues, In revision, Am J Managed Ca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pane KL, Waring ME, Dube C, Schneider KL, Whittemore K. E-prescribing as an agent of patient safety: A mixed-method study. (under review AHRQ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upp M, Jackson T. Pharmacy personnel attitudes towards e-prescribing. (in prep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ackson T, Rupp M. Medication therapy interventions on e-prescriptions. (in preparation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pane KL, Waring ME. Medicare Part D implementation: Lessons learned (in prep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Perspectiv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80120" y="2362320"/>
            <a:ext cx="2963880" cy="2971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2730240" cy="2743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048120" y="2362320"/>
            <a:ext cx="3321000" cy="4190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valuation Strategies: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0857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xed-metho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ative metho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6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6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analyses (on-site observation) – physician practice on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6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it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6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lnSpc>
                <a:spcPct val="6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viders (physicians and other prescribers, pharmacists and pharmacy tech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lnSpc>
                <a:spcPct val="6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ti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6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umentation of interventions (pharmac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nician perspectiv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97160" y="1676520"/>
            <a:ext cx="4626000" cy="46479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ust because a practice has e-Rx capabilities….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l clinicians within the practice e-r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 of understanding of 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l clinicians use e-rx with all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with all pre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ions (scheduled dru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l functionalities of e-R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requency of reviewing patient PBM med histo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219320" y="1752480"/>
          <a:ext cx="662940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662940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 rot="16200000">
            <a:off x="174600" y="37555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hysician Software Ven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-clinician use of review of medication histo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2766960"/>
          <a:ext cx="380988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66960"/>
                    <a:ext cx="380988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0" y="2133720"/>
          <a:ext cx="4114800" cy="27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133720"/>
                    <a:ext cx="4114800" cy="27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838080" y="5041800"/>
            <a:ext cx="32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Users of two vendors reported significant use of functionality among non-clinician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962520" y="2133720"/>
          <a:ext cx="5105160" cy="27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2133720"/>
                    <a:ext cx="510516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609480" y="167652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Review patient medication history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167652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requency of use of functionality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5041800"/>
            <a:ext cx="32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f workflow structured to permit it, non-clinicians use functionality frequentl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-59760" y="33364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Ven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3902400" y="33364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Ven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66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ariation in frequency of updating medication list with patie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19320" y="1879560"/>
          <a:ext cx="666756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79560"/>
                    <a:ext cx="666756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 rot="16200000">
            <a:off x="174960" y="383148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hysician Software Ven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17:54:55Z</dcterms:created>
  <dc:creator>Suzanne Vogel</dc:creator>
  <dc:description/>
  <dc:language>en-US</dc:language>
  <cp:lastModifiedBy>User</cp:lastModifiedBy>
  <cp:lastPrinted>2001-08-17T18:11:52Z</cp:lastPrinted>
  <dcterms:modified xsi:type="dcterms:W3CDTF">2007-09-27T21:06:04Z</dcterms:modified>
  <cp:revision>450</cp:revision>
  <dc:subject/>
  <dc:title>Pain Management among Nursing Home Residents with Arthritis  </dc:title>
</cp:coreProperties>
</file>